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60E-D99E-4ECF-81EA-42588406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3B1-39E2-49D1-ABF8-7D83ADBC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2C3-5267-44BC-A113-EB6151BF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648-7F89-4F27-B7B7-DB6275A8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B72-B235-4648-80EA-0C61407A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005-E626-4D19-BD59-7BE43D34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342-AD1A-43FF-9DEA-45B45349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76A-81E0-4226-BC85-316343A2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229600" cy="6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416-E69E-4527-8AFB-643FA9D5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6E6-09F1-470B-8368-14DF426C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F895-0C20-44E3-B8E0-4ADC3585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595-2E6D-43E4-8D2B-3716DDA6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EE28-CE63-4EB1-B467-A204D52DE42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75438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592200"/>
            <a:ext cx="7543800" cy="287280"/>
          </a:xfrm>
          <a:prstGeom prst="rect">
            <a:avLst/>
          </a:prstGeom>
          <a:solidFill>
            <a:srgbClr val="007f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TRANSPORTE DE </a:t>
            </a: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HIDROCARBUROS LÍQUIDOS  Y</a:t>
            </a: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 GASODUCTOS DE CAPTACIÓN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89000"/>
            <a:ext cx="0" cy="19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649440" cy="649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84360" y="522936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ICIEMBR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08000" y="2133720"/>
            <a:ext cx="0" cy="12240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 -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6624720" cy="4402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5661000"/>
            <a:ext cx="756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Zona descarga camiones en Área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Crudo proveniente de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08000" y="2133720"/>
            <a:ext cx="0" cy="12240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6751440" cy="4488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 -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5661000"/>
            <a:ext cx="756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Zona descarga camiones en Área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Crudo proveniente de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65360" y="907920"/>
            <a:ext cx="4065840" cy="5950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56000" y="2421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4720" y="43578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5080" y="1197000"/>
            <a:ext cx="328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Arial"/>
              </a:rPr>
              <a:t>Remito Transporte de Cr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7f71"/>
                </a:solidFill>
                <a:latin typeface="Arial"/>
              </a:rPr>
              <a:t>por Cam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7f71"/>
                </a:solidFill>
                <a:latin typeface="Arial"/>
              </a:rPr>
              <a:t>Area El Chi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7f71"/>
                </a:solidFill>
                <a:latin typeface="Arial"/>
              </a:rPr>
              <a:t>a Planta Ñacatimb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08000" y="2133720"/>
            <a:ext cx="0" cy="12240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 -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5734080"/>
            <a:ext cx="777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Tanques de almacenamiento en Área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Crudo proveniente de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33640" y="1143000"/>
            <a:ext cx="6876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2421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3578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8360" y="1413000"/>
            <a:ext cx="7093080" cy="43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Verificación Cam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Verificación técnica actuali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Documentación completa (habilitaciones, seguros) tanto del vehículo como conductor – Control mens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Verificación Tanqu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Control de estado para prevenir pérdidas – Control sema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s El Chivil -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56000" y="2421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43578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1413000"/>
            <a:ext cx="709308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f71"/>
                </a:solidFill>
                <a:latin typeface="Verdana"/>
              </a:rPr>
              <a:t>Relación operativa y comercial con los Transportist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lación flu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cumentada a través de notas y mensajes electrón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s El Chivil -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2421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43578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4360" y="1413000"/>
            <a:ext cx="7092720" cy="43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Sistema de Gestión Ambient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Plan de contingencia (en etapa de actualización – adaptación a Res SEN 24/0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e contemplan casos específicos como incendios y der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Involucrados autoridades, gerente regional y responsable de producción del ya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Cursos de capacitación de personal propio y contrat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Simulaciones de campo y de au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La capacitación, los simulacros y sus registros quedan asentados en la planilla de verificación del plan de conting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08000" y="2133720"/>
            <a:ext cx="0" cy="12240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57340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f71"/>
                </a:solidFill>
                <a:latin typeface="Verdana"/>
              </a:rPr>
              <a:t>Puente de Medición de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33640" y="1143000"/>
            <a:ext cx="6876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08000" y="2133720"/>
            <a:ext cx="0" cy="12240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57340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f71"/>
                </a:solidFill>
                <a:latin typeface="Verdana"/>
              </a:rPr>
              <a:t>Vista Pl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33640" y="1143000"/>
            <a:ext cx="6876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4000" y="2060640"/>
            <a:ext cx="590400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Área Ñacatimb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Departamento General San Mar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Provincia de S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2133720"/>
            <a:ext cx="0" cy="12240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028000" y="549360"/>
            <a:ext cx="6494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557360"/>
            <a:ext cx="7093080" cy="34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Condens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e entrega en Planta Ñacatimbay (progresiva km 4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e bombea a Refinería Campo Durán, Punto de Recepción (progresiva km 6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Bombeo por Oleoducto Colector Balbuena-Campo Durán, propiedad empresa Refin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2421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43578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557360"/>
            <a:ext cx="709308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Gasoductos de capt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No ex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El gas se entrega al gasoducto de Refinor que pasa por el límite de la Planta de Tra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2421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43578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8000" y="2133720"/>
            <a:ext cx="0" cy="12240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57340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f71"/>
                </a:solidFill>
                <a:latin typeface="Verdana"/>
              </a:rPr>
              <a:t>Sistema de bombeo a Oleoducto Balbuena- Campo Du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987640" y="1052640"/>
            <a:ext cx="3062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243640" cy="5877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1125360"/>
            <a:ext cx="576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Oleoducto Balbuena – Campo Du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7f71"/>
                </a:solidFill>
                <a:latin typeface="Verdana"/>
              </a:rPr>
              <a:t>REF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24000" y="2060640"/>
            <a:ext cx="590400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Área El Ch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Departamento Ramón 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Provincia de Form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2133720"/>
            <a:ext cx="0" cy="12240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028000" y="549360"/>
            <a:ext cx="6494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7280" y="1557360"/>
            <a:ext cx="7093080" cy="42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Antecedentes (transporte por tren - década 199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Transporte crudo por oleoducto de 4” de diámetro y 17,7 km de longitud a tanque de 1000 m3 de capacidad ubicado en Palmar L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Luego bombeo a localidad de Ing. Juar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esde allí transporte en tren por ramal C25 a la localidad de Agua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El ramal C25 del ferrocarril fue cancelado por razones de 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2421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84720" y="43578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28000" y="2620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280" y="1557360"/>
            <a:ext cx="709308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Transporte actual (vía terrestre – camiones tanque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Los camiones son cargados en Batería El Ch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Los camiones son precintados. Los remitos son rubricados por personal de CGC (despacho y recepción) y representante del transportis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El crudo es  transportado a Planta Ñacatimbay, donde se almace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2421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84720" y="43578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8:44:08Z</dcterms:created>
  <dc:creator>Pablo Chiara</dc:creator>
  <dc:description/>
  <dc:language>en-US</dc:language>
  <cp:lastModifiedBy>Administrador</cp:lastModifiedBy>
  <dcterms:modified xsi:type="dcterms:W3CDTF">2005-12-19T19:30:15Z</dcterms:modified>
  <cp:revision>13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