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DDF8-3E7C-40D9-A086-0FE1A08EB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280" y="57996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DAA4-D938-4396-9565-51BC968A2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57996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F8D7-42CD-47FD-8CDE-3E02CB44D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280" y="57996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842B-8C31-4412-AE8A-FDFE131BD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57996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26CB-CF26-44EB-8465-A7789B68F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57996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D4A2-924E-4551-B9FF-7776B05C1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57996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5F18-B399-4E92-A7D7-3B99FBEC8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57996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377B-D85B-404D-9421-6EB64DD16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9280" y="691920"/>
            <a:ext cx="8229600" cy="6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8A7A-ED63-4DE2-8CB3-9CDA9115F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57996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A2D4-166F-4710-8C7E-7374251F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9280" y="57996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6D9A-44A3-489D-97E6-71A97ED2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280" y="57996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90DB-6D08-41C9-9179-31AECEC8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22960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4F5D8-9681-4FA4-A44F-16BAC60F2C3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304920"/>
            <a:ext cx="7543800" cy="28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592200"/>
            <a:ext cx="7543800" cy="287280"/>
          </a:xfrm>
          <a:prstGeom prst="rect">
            <a:avLst/>
          </a:prstGeom>
          <a:solidFill>
            <a:srgbClr val="007f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7f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s-AR" sz="2400" spc="-1" strike="noStrike">
                <a:solidFill>
                  <a:srgbClr val="ffffff"/>
                </a:solidFill>
                <a:latin typeface="Verdana"/>
              </a:rPr>
              <a:t>TRANSPORTE DE </a:t>
            </a:r>
            <a:br>
              <a:rPr sz="2400"/>
            </a:br>
            <a:r>
              <a:rPr b="1" lang="es-AR" sz="2400" spc="-1" strike="noStrike">
                <a:solidFill>
                  <a:srgbClr val="ffffff"/>
                </a:solidFill>
                <a:latin typeface="Verdana"/>
              </a:rPr>
              <a:t>HIDROCARBUROS LÍQUIDOS  Y</a:t>
            </a:r>
            <a:br>
              <a:rPr sz="2400"/>
            </a:br>
            <a:r>
              <a:rPr b="1" lang="es-AR" sz="2400" spc="-1" strike="noStrike">
                <a:solidFill>
                  <a:srgbClr val="ffffff"/>
                </a:solidFill>
                <a:latin typeface="Verdana"/>
              </a:rPr>
              <a:t> GASODUCTOS DE CAPTACIÓN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1989000"/>
            <a:ext cx="0" cy="1944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028000" y="476280"/>
            <a:ext cx="649440" cy="649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484360" y="522936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DICIEMBRE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908000" y="2133720"/>
            <a:ext cx="0" cy="12240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8028000" y="260280"/>
            <a:ext cx="649440" cy="6494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24000" y="54936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Verdana"/>
              </a:rPr>
              <a:t>Área El Chivil - Ñacatimb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187280" y="1268280"/>
            <a:ext cx="6624720" cy="44024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826920" y="5661000"/>
            <a:ext cx="756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7f71"/>
                </a:solidFill>
                <a:latin typeface="Verdana"/>
              </a:rPr>
              <a:t>Zona descarga camiones en Área Ñacatimb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7f71"/>
                </a:solidFill>
                <a:latin typeface="Verdana"/>
              </a:rPr>
              <a:t>Crudo proveniente de El Chiv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908000" y="2133720"/>
            <a:ext cx="0" cy="12240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028000" y="260280"/>
            <a:ext cx="649440" cy="6494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6751440" cy="44881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24000" y="54936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Verdana"/>
              </a:rPr>
              <a:t>Área El Chivil - Ñacatimb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26920" y="5661000"/>
            <a:ext cx="756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7f71"/>
                </a:solidFill>
                <a:latin typeface="Verdana"/>
              </a:rPr>
              <a:t>Zona descarga camiones en Área Ñacatimb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7f71"/>
                </a:solidFill>
                <a:latin typeface="Verdana"/>
              </a:rPr>
              <a:t>Crudo proveniente de El Chiv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465360" y="907920"/>
            <a:ext cx="4065840" cy="5950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24000" y="54936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Verdana"/>
              </a:rPr>
              <a:t>Área El Chiv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56000" y="2421000"/>
            <a:ext cx="29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84720" y="4357800"/>
            <a:ext cx="453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8028000" y="260280"/>
            <a:ext cx="649440" cy="6494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25080" y="1197000"/>
            <a:ext cx="3280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7f71"/>
                </a:solidFill>
                <a:latin typeface="Arial"/>
              </a:rPr>
              <a:t>Remito Transporte de Cru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7f71"/>
                </a:solidFill>
                <a:latin typeface="Arial"/>
              </a:rPr>
              <a:t>por Cam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7f71"/>
                </a:solidFill>
                <a:latin typeface="Arial"/>
              </a:rPr>
              <a:t>Area El Chivi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7f71"/>
                </a:solidFill>
                <a:latin typeface="Arial"/>
              </a:rPr>
              <a:t>a Planta Ñacatimb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908000" y="2133720"/>
            <a:ext cx="0" cy="12240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028000" y="260280"/>
            <a:ext cx="649440" cy="6494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24000" y="54936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Verdana"/>
              </a:rPr>
              <a:t>Área El Chivil - Ñacatimb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26920" y="5734080"/>
            <a:ext cx="7777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7f71"/>
                </a:solidFill>
                <a:latin typeface="Verdana"/>
              </a:rPr>
              <a:t>Tanques de almacenamiento en Área Ñacatimb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7f71"/>
                </a:solidFill>
                <a:latin typeface="Verdana"/>
              </a:rPr>
              <a:t>Crudo proveniente de El Chiv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133640" y="1143000"/>
            <a:ext cx="68767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4000" y="54936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Verdana"/>
              </a:rPr>
              <a:t>Área El Chiv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56000" y="2421000"/>
            <a:ext cx="29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84720" y="4357800"/>
            <a:ext cx="453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028000" y="260280"/>
            <a:ext cx="649440" cy="6494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68360" y="1413000"/>
            <a:ext cx="7093080" cy="43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7f71"/>
                </a:solidFill>
                <a:latin typeface="Verdana"/>
              </a:rPr>
              <a:t>Verificación Camion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7f71"/>
              </a:buClr>
              <a:buFont typeface="Wingdings 3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Verificación técnica actualiz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7f71"/>
              </a:buClr>
              <a:buFont typeface="Wingdings 3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7f71"/>
              </a:buClr>
              <a:buFont typeface="Wingdings 3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Verdana"/>
              </a:rPr>
              <a:t>Documentación completa (habilitaciones, seguros) tanto del vehículo como conductor – Control mens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7f71"/>
              </a:buClr>
              <a:buFont typeface="Wingdings 3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7f71"/>
              </a:buClr>
              <a:buFont typeface="Wingdings 3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7f71"/>
              </a:buClr>
              <a:buFont typeface="Wingdings 3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7f71"/>
                </a:solidFill>
                <a:latin typeface="Verdana"/>
              </a:rPr>
              <a:t>Verificación Tanqu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7f71"/>
              </a:buClr>
              <a:buFont typeface="Wingdings 3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Verdana"/>
              </a:rPr>
              <a:t>Control de estado para prevenir pérdidas – Control sema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24000" y="54936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Verdana"/>
              </a:rPr>
              <a:t>Áreas El Chivil - Ñacatimb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356000" y="2421000"/>
            <a:ext cx="29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284720" y="4357800"/>
            <a:ext cx="453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028000" y="260280"/>
            <a:ext cx="649440" cy="6494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68360" y="1413000"/>
            <a:ext cx="7093080" cy="17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f71"/>
                </a:solidFill>
                <a:latin typeface="Verdana"/>
              </a:rPr>
              <a:t>Relación operativa y comercial con los Transportista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7f71"/>
              </a:buClr>
              <a:buFont typeface="Wingdings 3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elación flu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7f71"/>
              </a:buClr>
              <a:buFont typeface="Wingdings 3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7f71"/>
              </a:buClr>
              <a:buFont typeface="Wingdings 3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ocumentada a través de notas y mensajes electrón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24000" y="54936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Verdana"/>
              </a:rPr>
              <a:t>Áreas El Chivil - Ñacatimb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56000" y="2421000"/>
            <a:ext cx="29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84720" y="4357800"/>
            <a:ext cx="453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8028000" y="260280"/>
            <a:ext cx="649440" cy="6494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84360" y="1413000"/>
            <a:ext cx="7092720" cy="43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7f71"/>
                </a:solidFill>
                <a:latin typeface="Verdana"/>
              </a:rPr>
              <a:t>Sistema de Gestión Ambiental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7f71"/>
              </a:buClr>
              <a:buFont typeface="Wingdings 3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Plan de contingencia (en etapa de actualización – adaptación a Res SEN 24/04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7f71"/>
              </a:buClr>
              <a:buFont typeface="Wingdings 3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7f71"/>
              </a:buClr>
              <a:buFont typeface="Wingdings 3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Se contemplan casos específicos como incendios y derra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7f71"/>
              </a:buClr>
              <a:buFont typeface="Wingdings 3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Involucrados autoridades, gerente regional y responsable de producción del yaci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7f71"/>
              </a:buClr>
              <a:buFont typeface="Wingdings 3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Verdana"/>
              </a:rPr>
              <a:t>Cursos de capacitación de personal propio y contratis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7f71"/>
              </a:buClr>
              <a:buFont typeface="Wingdings 3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Verdana"/>
              </a:rPr>
              <a:t>Simulaciones de campo y de au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7f71"/>
              </a:buClr>
              <a:buFont typeface="Wingdings 3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7f71"/>
              </a:buClr>
              <a:buFont typeface="Wingdings 3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La capacitación, los simulacros y sus registros quedan asentados en la planilla de verificación del plan de continge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908000" y="2133720"/>
            <a:ext cx="0" cy="12240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028000" y="260280"/>
            <a:ext cx="649440" cy="6494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24000" y="54936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Verdana"/>
              </a:rPr>
              <a:t>Área El Chiv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26920" y="5734080"/>
            <a:ext cx="756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f71"/>
                </a:solidFill>
                <a:latin typeface="Verdana"/>
              </a:rPr>
              <a:t>Puente de Medición de 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133640" y="1143000"/>
            <a:ext cx="68767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908000" y="2133720"/>
            <a:ext cx="0" cy="12240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8028000" y="260280"/>
            <a:ext cx="649440" cy="6494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24000" y="54936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Verdana"/>
              </a:rPr>
              <a:t>Área El Chiv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26920" y="5734080"/>
            <a:ext cx="756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f71"/>
                </a:solidFill>
                <a:latin typeface="Verdana"/>
              </a:rPr>
              <a:t>Vista Pla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133640" y="1143000"/>
            <a:ext cx="68767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7f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24000" y="2060640"/>
            <a:ext cx="5904000" cy="23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Verdana"/>
              </a:rPr>
              <a:t>Área Ñacatimb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Verdana"/>
              </a:rPr>
              <a:t>Departamento General San Martí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Verdana"/>
              </a:rPr>
              <a:t>Provincia de Sal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2133720"/>
            <a:ext cx="0" cy="12240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028000" y="549360"/>
            <a:ext cx="649440" cy="64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4000" y="54936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Verdana"/>
              </a:rPr>
              <a:t>Área Ñacatimb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557360"/>
            <a:ext cx="7093080" cy="34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7f71"/>
              </a:buClr>
              <a:buFont typeface="Wingdings 3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7f71"/>
                </a:solidFill>
                <a:latin typeface="Verdana"/>
              </a:rPr>
              <a:t>Condensad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7f71"/>
              </a:buClr>
              <a:buFont typeface="Wingdings 3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Se entrega en Planta Ñacatimbay (progresiva km 4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7f71"/>
              </a:buClr>
              <a:buFont typeface="Wingdings 3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7f71"/>
              </a:buClr>
              <a:buFont typeface="Wingdings 3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Se bombea a Refinería Campo Durán, Punto de Recepción (progresiva km 60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7f71"/>
              </a:buClr>
              <a:buFont typeface="Wingdings 3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7f71"/>
              </a:buClr>
              <a:buFont typeface="Wingdings 3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Bombeo por Oleoducto Colector Balbuena-Campo Durán, propiedad empresa Refin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356000" y="2421000"/>
            <a:ext cx="29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84720" y="4357800"/>
            <a:ext cx="453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028000" y="260280"/>
            <a:ext cx="64944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54936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Verdana"/>
              </a:rPr>
              <a:t>Área Ñacatimb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1557360"/>
            <a:ext cx="7093080" cy="26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7f71"/>
              </a:buClr>
              <a:buFont typeface="Wingdings 3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7f71"/>
                </a:solidFill>
                <a:latin typeface="Verdana"/>
              </a:rPr>
              <a:t>Gasoductos de capta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7f71"/>
              </a:buClr>
              <a:buFont typeface="Wingdings 3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No exis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7f71"/>
              </a:buClr>
              <a:buFont typeface="Wingdings 3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7f71"/>
              </a:buClr>
              <a:buFont typeface="Wingdings 3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7f71"/>
              </a:buClr>
              <a:buFont typeface="Wingdings 3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El gas se entrega al gasoducto de Refinor que pasa por el límite de la Planta de Trata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356000" y="2421000"/>
            <a:ext cx="29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84720" y="4357800"/>
            <a:ext cx="453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028000" y="260280"/>
            <a:ext cx="64944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08000" y="2133720"/>
            <a:ext cx="0" cy="12240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028000" y="260280"/>
            <a:ext cx="649440" cy="649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24000" y="54936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Verdana"/>
              </a:rPr>
              <a:t>Área Ñacatimb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26920" y="5734080"/>
            <a:ext cx="756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f71"/>
                </a:solidFill>
                <a:latin typeface="Verdana"/>
              </a:rPr>
              <a:t>Sistema de bombeo a Oleoducto Balbuena- Campo Dur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987640" y="1052640"/>
            <a:ext cx="30621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243640" cy="5877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24000" y="54936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Verdana"/>
              </a:rPr>
              <a:t>Área Ñacatimb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028000" y="260280"/>
            <a:ext cx="649440" cy="649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95280" y="1125360"/>
            <a:ext cx="5761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7f71"/>
                </a:solidFill>
                <a:latin typeface="Verdana"/>
              </a:rPr>
              <a:t>Oleoducto Balbuena – Campo Dur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7f71"/>
                </a:solidFill>
                <a:latin typeface="Verdana"/>
              </a:rPr>
              <a:t>REFIN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7f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124000" y="2060640"/>
            <a:ext cx="5904000" cy="23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Verdana"/>
              </a:rPr>
              <a:t>Área El Chi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Verdana"/>
              </a:rPr>
              <a:t>Departamento Ramón L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Verdana"/>
              </a:rPr>
              <a:t>Provincia de Form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908000" y="2133720"/>
            <a:ext cx="0" cy="12240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028000" y="549360"/>
            <a:ext cx="649440" cy="64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24000" y="54936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Verdana"/>
              </a:rPr>
              <a:t>Área El Chiv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87280" y="1557360"/>
            <a:ext cx="7093080" cy="42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7f71"/>
                </a:solidFill>
                <a:latin typeface="Verdana"/>
              </a:rPr>
              <a:t>Antecedentes (transporte por tren - década 1990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7f71"/>
              </a:buClr>
              <a:buFont typeface="Wingdings 3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Transporte crudo por oleoducto de 4” de diámetro y 17,7 km de longitud a tanque de 1000 m3 de capacidad ubicado en Palmar Lar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7f71"/>
              </a:buClr>
              <a:buFont typeface="Wingdings 3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7f71"/>
              </a:buClr>
              <a:buFont typeface="Wingdings 3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Luego bombeo a localidad de Ing. Juare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7f71"/>
              </a:buClr>
              <a:buFont typeface="Wingdings 3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7f71"/>
              </a:buClr>
              <a:buFont typeface="Wingdings 3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Desde allí transporte en tren por ramal C25 a la localidad de Aguar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7f71"/>
              </a:buClr>
              <a:buFont typeface="Wingdings 3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7f71"/>
              </a:buClr>
              <a:buFont typeface="Wingdings 3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El ramal C25 del ferrocarril fue cancelado por razones de infraestruc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356000" y="2421000"/>
            <a:ext cx="29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84720" y="4357800"/>
            <a:ext cx="453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028000" y="26208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24000" y="54936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Verdana"/>
              </a:rPr>
              <a:t>Área El Chiv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7280" y="1557360"/>
            <a:ext cx="7093080" cy="39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7f71"/>
                </a:solidFill>
                <a:latin typeface="Verdana"/>
              </a:rPr>
              <a:t>Transporte actual (vía terrestre – camiones tanque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7f71"/>
              </a:buClr>
              <a:buFont typeface="Wingdings 3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Los camiones son cargados en Batería El Chiv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7f71"/>
              </a:buClr>
              <a:buFont typeface="Wingdings 3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7f71"/>
              </a:buClr>
              <a:buFont typeface="Wingdings 3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Verdana"/>
              </a:rPr>
              <a:t>Los camiones son precintados. Los remitos son rubricados por personal de CGC (despacho y recepción) y representante del transportist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7f71"/>
              </a:buClr>
              <a:buFont typeface="Wingdings 3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7f71"/>
              </a:buClr>
              <a:buFont typeface="Wingdings 3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Verdana"/>
              </a:rPr>
              <a:t>El crudo es  transportado a Planta Ñacatimbay, donde se almace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56000" y="2421000"/>
            <a:ext cx="29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284720" y="4357800"/>
            <a:ext cx="453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028000" y="26028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18:44:08Z</dcterms:created>
  <dc:creator>Pablo Chiara</dc:creator>
  <dc:description/>
  <dc:language>en-US</dc:language>
  <cp:lastModifiedBy>Administrador</cp:lastModifiedBy>
  <dcterms:modified xsi:type="dcterms:W3CDTF">2005-12-19T19:30:15Z</dcterms:modified>
  <cp:revision>137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