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284-744A-419A-98C3-81202379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595-E699-4A63-ABED-C47C89E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D2A-5F41-43B7-BD60-54694A62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728-0922-49B3-ACB0-1DC3A87A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0AD-74C2-4696-9877-930A5F36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786D-21F1-479C-8631-C7BB32AE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347B-684A-4ED6-A8DA-DF6779C4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CA21-377D-49D9-B39F-BEBA5A1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AE6E-4434-4769-AAA9-589EAB37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46B7-7A23-43FB-951F-5940C9E7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3F7F-899F-47F9-8AA2-095190CB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2FD-143F-42CE-A2D1-D668860C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0FFF-CFE7-4CBE-9486-012B596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2129-AB6C-4755-BEB1-3FC2067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DA6D-17CD-457D-823B-FB5672F7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2A07-817B-4E4E-BA80-E54A6255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BC1F-98C6-480E-863F-FF622758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28F-06A8-4743-97A2-60B195B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ED7-A653-4921-A3C4-7C1C0409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105-AC04-4A13-BBFA-24AED1C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0DD-06DD-47E5-BFF6-E5F9E34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3E8-0D35-4D61-8857-0E80F4B2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2F8-9AFF-4F0B-958B-FB6CF329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E33-C897-4FCA-AA7A-8DDE690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E9ED-3952-4FE2-B751-467138A5968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9FC-22E2-4385-8C21-1FDCB4257F9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655164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Yacimiento  KM 8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omodoro Rivadavia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cia. de Chu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6560" y="4581360"/>
            <a:ext cx="66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:  CRI Holding Inc. Suc.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Yacimiento KM 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ción media:  30 m3/d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Punto de Transferenc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que de 160 m3, propiedad del Yacimiento Km 8, ubicado en Playa de Tanques Km 9 perteneciente a Repsol Y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es bombeado de esa Playa a la Terminal de TERMAP en Caleta Córdo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7:33Z</dcterms:created>
  <dc:creator>xsundblad</dc:creator>
  <dc:description/>
  <dc:language>en-US</dc:language>
  <cp:lastModifiedBy>xsundblad</cp:lastModifiedBy>
  <dcterms:modified xsi:type="dcterms:W3CDTF">2005-12-29T12:32:16Z</dcterms:modified>
  <cp:revision>7</cp:revision>
  <dc:subject/>
  <dc:title>Yacimiento  KM 8</dc:title>
</cp:coreProperties>
</file>