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B5B-CC90-4F16-AF1C-D3F44D0E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9D5-1714-4975-8DC4-14976D7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C12-2B81-4FDD-8BE1-235F265D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EE8-3716-432B-99C5-7414CC3C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D358-6276-4A21-99A9-87B5F924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90E3-6B21-41A1-8F4C-3E2C00C5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7E4-17A8-40AC-9F6E-EC55412E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497C-8077-4749-8B72-C9562D1C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FD7D-0E07-4F78-B931-615E8F22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CCFF-851E-4BF8-BF1D-1E2DE4A2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1AB8-415D-4C5B-ACC4-8F72C3D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8C9-04A6-4F66-8495-1E66E9EE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69E5-0618-4848-994A-5BD03399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D7D0-3486-4917-95B5-601F6C1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FAD5-820D-40E5-B9D4-E68587F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8724-D3BB-462B-A511-CF85D57B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DFC-9419-451E-A8A5-7EDA375E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AC4-990E-4043-97B3-D067074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EA5-9248-43E3-AF35-11BBBABA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4C4-0553-4AE5-9AC4-6172C365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1AE-6B74-4F10-8050-42657270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DE1-4485-4801-91BE-A0EE2FF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947-A4A6-416C-A940-C51F6BB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1EF-979A-46F1-970D-A7176CB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1B75-9F19-41AE-B9F6-4CEFE5DA624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EA28-73B5-4862-AEFD-1714E8D2C42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655164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Yacimiento  KM 8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92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Comodoro Rivadavia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Pcia. de Chu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6560" y="4581360"/>
            <a:ext cx="6697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:  CRI Holding Inc. Suc.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Yacimiento KM 8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ción media:  30 m3/d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Punto de Transferenc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que de 160 m3, propiedad del Yacimiento Km 8, ubicado en Playa de Tanques Km 9 perteneciente a Repsol Y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es bombeado de esa Playa a la Terminal de TERMAP en Caleta Córdo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7:33Z</dcterms:created>
  <dc:creator>xsundblad</dc:creator>
  <dc:description/>
  <dc:language>en-US</dc:language>
  <cp:lastModifiedBy>xsundblad</cp:lastModifiedBy>
  <dcterms:modified xsi:type="dcterms:W3CDTF">2005-12-29T12:32:16Z</dcterms:modified>
  <cp:revision>7</cp:revision>
  <dc:subject/>
  <dc:title>Yacimiento  KM 8</dc:title>
</cp:coreProperties>
</file>