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F0A-5604-44C3-9DB0-C23597B0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743-1A08-4B5B-AB44-8C4E2B42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AD6-82AA-4761-A9B9-F4958E4C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B18-866E-473C-A827-71410A79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E741-676F-43F6-9419-C85A04DE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249F-8A1A-4675-862A-7DFFB53E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DC48-6FA3-404A-B0E0-9EA41957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B89F-20F0-46B2-996F-5E7C24A8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66DE-16DF-4702-8650-7F4E3323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08EC-D4ED-418A-9C01-2067794A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6DF8-C83E-4775-9026-33EF27F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0AA-9F21-43A1-911C-00733C29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2B38-4606-4AF4-815B-5093ACBE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BFEF-12A7-4ACF-9A89-2E6A4084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A192-35F0-4647-85E2-E0FB2522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B67C-8451-47CC-80A3-6CCAEF5D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8F90-98C7-4A67-B70E-449F3535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506-CF63-4085-AFFE-F02368DD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303-E11A-4DBF-8F62-A3D3022C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E76-A0D9-4041-B05D-28074F1B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193-05EC-46BD-A29F-5FD37575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7CC-BA05-4088-A11E-D701DBF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D93-C329-4998-BF21-10456DB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27A-6DA2-4135-8115-155D1D38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5330-6A13-4480-A6B0-68A62BB2EE7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389-553F-4B5B-9E25-4657C70C2EF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777564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Yacimiento 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ALBERTO y DON ERNESTO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Comodoro Rivadavia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Pcia. de Chu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4581360"/>
            <a:ext cx="554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dor:  Central Patagonia S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Yacimiento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ALBERTO &amp; DON ERNEST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ción media:  30 m3/d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Punto de Transferenc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pción crudo por medición de Tanque/s (2) de entrega, de 160 y 80 m3 respectivamente, propiedad de Central Patagonia, ubicados en Batería Don Ern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de ese punto es bombeado a la Playa de Tanques Km 9 de Repsol Y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de esa Planta es enviado a la Planta de Almacenaje TERMAP en Caleta Córdo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6:37:33Z</dcterms:created>
  <dc:creator>xsundblad</dc:creator>
  <dc:description/>
  <dc:language>en-US</dc:language>
  <cp:lastModifiedBy>xsundblad</cp:lastModifiedBy>
  <dcterms:modified xsi:type="dcterms:W3CDTF">2005-12-29T12:31:57Z</dcterms:modified>
  <cp:revision>8</cp:revision>
  <dc:subject/>
  <dc:title>Yacimiento  KM 8</dc:title>
</cp:coreProperties>
</file>