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51E-26B0-4F45-84C1-A7C037F0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819-A28D-4AC0-A9D1-2B4AEA0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A2F-AAE1-4A45-827C-EA7B29ED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76D-B058-4556-AE9E-9F704300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C490-32C7-4164-8428-2F2C5A92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95C-3707-45BC-9E2A-EF2C8914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2CA0-0165-48E1-8EC9-77433F9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5C96-47DD-4D48-93C1-51CCE2F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854-08A2-4C39-9B53-3408559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86E-18B1-4E3E-9534-F35CAD47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AF37-B0EE-4A88-B385-800D1BC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D9A-C5EC-4EEC-9F6E-4965EE9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0835-D4C1-4ED4-8030-69B62EB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3DD5-847C-429B-B7F2-5709E7DF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620-A646-4767-AEB3-E34D52A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81A-C57A-417D-926F-DF1FED19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7504-C433-4946-9600-12F1B8BB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82E-EA51-4E88-B47B-4806D557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CF9-8C73-473C-BB28-04744BE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C1F-DDEC-45A7-BACA-6CABA80E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CFE-F877-4041-8256-106784A6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39D-AD9E-4CD0-8130-9FDD50A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A4F-A030-487A-9495-5CBD3A6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263-D690-479B-8A02-7CB8D0F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FB7-254C-4F95-8725-D2715FC344B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3EC7-BCB1-4436-92FC-23D61830D1F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77564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Yacimiento 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ALBERTO y DON ERNEST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omodoro Rivadavia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Chu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4581360"/>
            <a:ext cx="554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entral Patagonia S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Yacimiento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LBERTO &amp; DON ERNEST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ción media:  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Punto de Transferenc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ción crudo por medición de Tanque/s (2) de entrega, de 160 y 80 m3 respectivamente, propiedad de Central Patagonia, ubicados en Batería Don Ern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de ese punto es bombeado a la Playa de Tanques Km 9 de Repsol Y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de esa Planta es enviado a la Planta de Almacenaje TERMAP en Caleta Córd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1:57Z</dcterms:modified>
  <cp:revision>8</cp:revision>
  <dc:subject/>
  <dc:title>Yacimiento  KM 8</dc:title>
</cp:coreProperties>
</file>