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30B-7B4A-4256-A37E-8D1201C91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tes go her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67F0-5A4F-4EB9-A7BC-F2A863CA7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396324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4A93-A35E-4038-AD41-EB63DFA0F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936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A007-053D-4A35-B2D3-7D3BFF363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9468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232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9468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232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84A6-A352-4166-B294-5B939DBBD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7D02-A2C2-4C60-B80B-8C36D78CA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396324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0246-984B-4DF5-9314-45E7A5EDB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D727-23DB-48CE-AE18-5E1DB0766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8594-E2A0-4B33-B5EC-C95FD4A34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D9FE-B298-43CF-BA1B-362846BE4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CDE5-7F2E-4F42-913C-9C09BE188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936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02D9-3EC5-4EA2-8A93-65CB3D01F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44FA-7B65-4832-AF34-C547ABC1B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848720" y="6533640"/>
            <a:ext cx="121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8080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9C11-5875-4EAC-ADAA-4D11D467F13E}" type="slidenum">
              <a:rPr b="0" lang="en-US" sz="800" spc="-1" strike="noStrike">
                <a:solidFill>
                  <a:srgbClr val="080808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dd9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1" marL="395280" indent="-280800">
              <a:lnSpc>
                <a:spcPct val="120000"/>
              </a:lnSpc>
              <a:spcAft>
                <a:spcPts val="1375"/>
              </a:spcAft>
              <a:buClr>
                <a:srgbClr val="f46d1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20000"/>
              </a:lnSpc>
              <a:spcAft>
                <a:spcPts val="1375"/>
              </a:spcAft>
              <a:buClr>
                <a:srgbClr val="0050aa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3" marL="1374840" indent="-292320">
              <a:lnSpc>
                <a:spcPct val="120000"/>
              </a:lnSpc>
              <a:spcAft>
                <a:spcPts val="1375"/>
              </a:spcAft>
              <a:buClr>
                <a:srgbClr val="6ea20a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4" marL="1832040" indent="-292320">
              <a:lnSpc>
                <a:spcPct val="120000"/>
              </a:lnSpc>
              <a:spcAft>
                <a:spcPts val="1375"/>
              </a:spcAft>
              <a:buClr>
                <a:srgbClr val="8e7e75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5" marL="1832040" indent="-292320">
              <a:lnSpc>
                <a:spcPct val="120000"/>
              </a:lnSpc>
              <a:spcAft>
                <a:spcPts val="1375"/>
              </a:spcAft>
              <a:buClr>
                <a:srgbClr val="080808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6" marL="1832040" indent="-292320">
              <a:lnSpc>
                <a:spcPct val="120000"/>
              </a:lnSpc>
              <a:spcAft>
                <a:spcPts val="1375"/>
              </a:spcAft>
              <a:buClr>
                <a:srgbClr val="080808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431200" y="228600"/>
            <a:ext cx="4842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62120" y="1295280"/>
            <a:ext cx="152280" cy="5257800"/>
          </a:xfrm>
          <a:prstGeom prst="rect">
            <a:avLst/>
          </a:prstGeom>
          <a:solidFill>
            <a:srgbClr val="d4c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295280"/>
            <a:ext cx="76320" cy="5257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95280"/>
            <a:ext cx="609480" cy="5257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65340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DOC ID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760" y="6581880"/>
            <a:ext cx="93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© Chevron 2005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15000" y="1600200"/>
            <a:ext cx="2362320" cy="20574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600200"/>
            <a:ext cx="4876920" cy="2057400"/>
          </a:xfrm>
          <a:prstGeom prst="rect">
            <a:avLst/>
          </a:prstGeom>
          <a:solidFill>
            <a:srgbClr val="005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1600200"/>
            <a:ext cx="838080" cy="2057400"/>
          </a:xfrm>
          <a:prstGeom prst="rect">
            <a:avLst/>
          </a:prstGeom>
          <a:solidFill>
            <a:srgbClr val="0050a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600200"/>
            <a:ext cx="76320" cy="2057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600200"/>
            <a:ext cx="609480" cy="20574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4600" y="355680"/>
            <a:ext cx="850680" cy="939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153280" y="1600200"/>
            <a:ext cx="990720" cy="2057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65340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DOC ID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60" y="6581880"/>
            <a:ext cx="93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© Chevron 2005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80808"/>
                </a:solidFill>
                <a:latin typeface="Verdana"/>
              </a:rPr>
              <a:t>Click to edit the outline text format</a:t>
            </a: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lvl="1" marL="114480" indent="0" algn="ctr">
              <a:lnSpc>
                <a:spcPct val="12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2" marL="573120" algn="ctr">
              <a:lnSpc>
                <a:spcPct val="120000"/>
              </a:lnSpc>
              <a:spcAft>
                <a:spcPts val="1250"/>
              </a:spcAft>
              <a:buClr>
                <a:srgbClr val="0050aa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3" marL="1082520" algn="ctr">
              <a:lnSpc>
                <a:spcPct val="120000"/>
              </a:lnSpc>
              <a:spcAft>
                <a:spcPts val="1250"/>
              </a:spcAft>
              <a:buClr>
                <a:srgbClr val="6ea20a"/>
              </a:buClr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4" marL="1539720" algn="ctr">
              <a:lnSpc>
                <a:spcPct val="120000"/>
              </a:lnSpc>
              <a:spcAft>
                <a:spcPts val="1250"/>
              </a:spcAft>
              <a:buClr>
                <a:srgbClr val="8e7e75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5" marL="1539720">
              <a:spcBef>
                <a:spcPts val="499"/>
              </a:spcBef>
              <a:buClr>
                <a:srgbClr val="080808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6" marL="1539720">
              <a:spcBef>
                <a:spcPts val="499"/>
              </a:spcBef>
              <a:buClr>
                <a:srgbClr val="080808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Transporte de Hidrocarburos y Gasoductos de Captació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360" y="3841560"/>
            <a:ext cx="7086600" cy="27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Pozo Curanched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La producción del pozo es transportada y alistada en tanques calibrados bajo normas 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en la Planta Puesto Hernández, y entrega a OLDELVAL PHz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la distancia de transporte es de 110 kms.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oda la operación del pozo es monitoreado y telecomandada directamente de Coordinación El Trapial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a través del sistema Scada , de dónde se efectúa la carga y controla caudales.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Las operaciones de carga y descarga en Yacimiento se realizan cumpliendo el PO de Seg. y Control de volumen.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odos sus operaciones de entrega estan formalizado mediante el PO 037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Plan de contingencia ante  un derrame de crudo 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181480" y="4572000"/>
            <a:ext cx="259092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Yacimiento El Sauce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4876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30680" y="510552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EL SAUCE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4876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5029200"/>
            <a:ext cx="3812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10720" y="5105520"/>
            <a:ext cx="76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MEDANITO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943600" y="4724280"/>
            <a:ext cx="456840" cy="187560"/>
            <a:chOff x="5943600" y="4724280"/>
            <a:chExt cx="456840" cy="187560"/>
          </a:xfrm>
        </p:grpSpPr>
        <p:sp>
          <p:nvSpPr>
            <p:cNvPr id="180" name=""/>
            <p:cNvSpPr/>
            <p:nvPr/>
          </p:nvSpPr>
          <p:spPr>
            <a:xfrm rot="16200000">
              <a:off x="6273720" y="4712040"/>
              <a:ext cx="114480" cy="138960"/>
            </a:xfrm>
            <a:prstGeom prst="can">
              <a:avLst>
                <a:gd name="adj" fmla="val 25000"/>
              </a:avLst>
            </a:prstGeom>
            <a:solidFill>
              <a:srgbClr val="009dd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6062400" y="4611960"/>
              <a:ext cx="109440" cy="347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62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1560" y="4835520"/>
              <a:ext cx="6912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92360" y="4835520"/>
              <a:ext cx="6912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13680" y="4835520"/>
              <a:ext cx="6948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095880" y="5410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bcdd1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74760" y="5638680"/>
            <a:ext cx="9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VENTA A PYME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5334120"/>
            <a:ext cx="152280" cy="152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05040" y="5394960"/>
            <a:ext cx="507600" cy="214200"/>
            <a:chOff x="5405040" y="5394960"/>
            <a:chExt cx="507600" cy="214200"/>
          </a:xfrm>
        </p:grpSpPr>
        <p:sp>
          <p:nvSpPr>
            <p:cNvPr id="189" name=""/>
            <p:cNvSpPr/>
            <p:nvPr/>
          </p:nvSpPr>
          <p:spPr>
            <a:xfrm rot="15990000">
              <a:off x="5775480" y="5380200"/>
              <a:ext cx="114480" cy="152640"/>
            </a:xfrm>
            <a:prstGeom prst="can">
              <a:avLst>
                <a:gd name="adj" fmla="val 25000"/>
              </a:avLst>
            </a:prstGeom>
            <a:solidFill>
              <a:srgbClr val="009dd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5990000">
              <a:off x="5544000" y="5284080"/>
              <a:ext cx="109440" cy="381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62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1390000">
              <a:off x="5477400" y="5530320"/>
              <a:ext cx="7596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390000">
              <a:off x="5686560" y="5517360"/>
              <a:ext cx="7596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1390000">
              <a:off x="5819400" y="550944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238880" y="4876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71760" y="510552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OLDELVAN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CHALLACO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5029200"/>
            <a:ext cx="381240" cy="0"/>
          </a:xfrm>
          <a:prstGeom prst="line">
            <a:avLst/>
          </a:prstGeom>
          <a:ln cap="rnd" w="324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36400" y="1195560"/>
            <a:ext cx="656028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del Yacimiento El Sauce es alistada en tanques calibrados bajo normas y transportad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or camiones a la Planta de entrada de MEDANITO SA, quien alista y entrega a OLDELVAL CHALLAC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distancia de transporte es de 100 km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operaciones son controlada por operadores durante las 24 hora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s operaciones de carga y descarga en Yacimiento se realizan cumpliendo el PO de Seg. y Control de volumen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odos sus operaciones de entrega estan formalizado mediante el PO 037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 un derrame de crudo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19920" y="2209680"/>
            <a:ext cx="2971800" cy="2743200"/>
          </a:xfrm>
          <a:prstGeom prst="re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Cuenca Austral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134760" y="251460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erro Norte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02440" y="2971800"/>
            <a:ext cx="72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onvent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94360" y="3429000"/>
            <a:ext cx="105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ampo Bremen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29080" y="380988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y Aike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1920" y="4267080"/>
            <a:ext cx="6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Océan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07480" y="4724280"/>
            <a:ext cx="73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horrillo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362320"/>
            <a:ext cx="0" cy="2514600"/>
          </a:xfrm>
          <a:prstGeom prst="line">
            <a:avLst/>
          </a:prstGeom>
          <a:ln cap="rnd" w="936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3645000"/>
            <a:ext cx="609480" cy="0"/>
          </a:xfrm>
          <a:prstGeom prst="line">
            <a:avLst/>
          </a:prstGeom>
          <a:ln cap="rnd" w="936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49280" y="35812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unta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oyol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162920" y="3416040"/>
            <a:ext cx="501120" cy="187200"/>
            <a:chOff x="7162920" y="3416040"/>
            <a:chExt cx="501120" cy="187200"/>
          </a:xfrm>
        </p:grpSpPr>
        <p:sp>
          <p:nvSpPr>
            <p:cNvPr id="210" name=""/>
            <p:cNvSpPr/>
            <p:nvPr/>
          </p:nvSpPr>
          <p:spPr>
            <a:xfrm rot="16200000">
              <a:off x="7530840" y="3396960"/>
              <a:ext cx="114120" cy="152280"/>
            </a:xfrm>
            <a:prstGeom prst="can">
              <a:avLst>
                <a:gd name="adj" fmla="val 25000"/>
              </a:avLst>
            </a:prstGeom>
            <a:solidFill>
              <a:srgbClr val="009dd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7298640" y="3286080"/>
              <a:ext cx="109080" cy="38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62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26280" y="3527280"/>
              <a:ext cx="7560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35800" y="3527280"/>
              <a:ext cx="7560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69000" y="352728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14400" y="1295280"/>
            <a:ext cx="548640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todos los Yacimientos de la Cuenca Austral él petróleo es transportad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or camiones en condiciones de venta, son alistados en tanques 2 (dos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 160 m3 de capacidad, calibrado bajo normas, y bombeado hacia l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ta de PETROBRAS de Punta LOYOLA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s operaciones de carga y descarga en Yacimiento se realizan cumpliend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él  PO  de Seg.y control de volumen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odas las entregas de petróleo listo para la venta se ajustan al  PO CA 037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3352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58200" y="3352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93960" y="3581280"/>
            <a:ext cx="77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etrobra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3505320"/>
            <a:ext cx="3045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2286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27432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3200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3581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4038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4495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897360"/>
            <a:ext cx="5334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  Monitoreo Ambiental  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 un derrame de crudo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09600" y="3505320"/>
            <a:ext cx="58363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TRANSPORTE POR GASODUCTO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90720" y="1233360"/>
            <a:ext cx="814860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de gas en Loma Negra es acondicionado por sistema de deshidratación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or absorción y comprimida a 40 psi e inyectada a 1000 Psi y flasheada en un separador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 líquidos a 9 kms de distancia e inyectada al gasoducto NEUBA II. En el PM 402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odas las entregas de gas se ajustan al PO RNN 044 (LOMA NEGRA) y PO de control y volumen de Ga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(LA YESERA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operación del gasoducto cómo así también él ducto multifasico de la Yesera es monitoreada a través del Sistema Scad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sde la Sala de control de Producción, dónde se pueden monitorear parámetros de presión, temperatura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compresores, caudales, presión y temperatura de la Yesera en el Separador instalado en Loma Negra., y todo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os parámetros de mediciones en él PM 402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una fuga de GAS NATURAL (cap.4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SGS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4800600"/>
            <a:ext cx="1676160" cy="1219320"/>
          </a:xfrm>
          <a:prstGeom prst="rect">
            <a:avLst/>
          </a:prstGeom>
          <a:solidFill>
            <a:srgbClr val="bfe9f5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 </a:t>
            </a: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Loma Negra – La Yesera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50292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30520" y="5257800"/>
            <a:ext cx="88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OMA NEGRA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53280" y="50292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46720" y="5181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NEUBA II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T.G.S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5105520"/>
            <a:ext cx="381240" cy="0"/>
          </a:xfrm>
          <a:prstGeom prst="line">
            <a:avLst/>
          </a:prstGeom>
          <a:ln cap="rnd" w="324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55627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17280" y="5791320"/>
            <a:ext cx="73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A YESERA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238880" y="5181480"/>
            <a:ext cx="0" cy="533520"/>
          </a:xfrm>
          <a:prstGeom prst="line">
            <a:avLst/>
          </a:prstGeom>
          <a:ln w="936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5181480"/>
            <a:ext cx="2286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5715000"/>
            <a:ext cx="152640" cy="763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09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LAS BASE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5105520"/>
            <a:ext cx="1905120" cy="761760"/>
          </a:xfrm>
          <a:prstGeom prst="rect">
            <a:avLst/>
          </a:prstGeom>
          <a:solidFill>
            <a:srgbClr val="bfe9f5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5334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533412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5410080"/>
            <a:ext cx="380880" cy="0"/>
          </a:xfrm>
          <a:prstGeom prst="line">
            <a:avLst/>
          </a:prstGeom>
          <a:ln cap="rnd" w="324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43120" y="5562720"/>
            <a:ext cx="72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AS BASES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1880" y="533412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58640" y="5105520"/>
            <a:ext cx="76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MEDANITO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09000" y="548640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MAINQUE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6320" y="1295280"/>
            <a:ext cx="6459480" cy="50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de gas en Las Bases es acondicionado a través de una Planta de Dew point (deshidratación por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unto de rocío) inyectada a 800 Psi a los gasoductos Medanito-Mainque a 37 kms de distancia, En el PM 42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odas las entrega de gas se ajustan al POCNQ 044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operación del gasoducto se monitorea desde la sala de control por sistema SCADA, presión, temperatura y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audales durante las 24 hora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una fuga de GAS NATUR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aaf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SGS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4400" spc="-1" strike="noStrike" baseline="8000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0280" y="4267080"/>
            <a:ext cx="1981440" cy="1981440"/>
          </a:xfrm>
          <a:prstGeom prst="rect">
            <a:avLst/>
          </a:prstGeom>
          <a:solidFill>
            <a:srgbClr val="bfe9f5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Cuenca Austral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4197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25120" y="464832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erro Norte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0292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61040" y="5257800"/>
            <a:ext cx="105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ampo Bremen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67480" y="5638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66960" y="5867280"/>
            <a:ext cx="64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Océan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4724280"/>
            <a:ext cx="228600" cy="228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58200" y="556272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83160" y="4952880"/>
            <a:ext cx="57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G GSM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89280" y="571500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amuzzi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53280" y="4572000"/>
            <a:ext cx="0" cy="6094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72400" y="4572000"/>
            <a:ext cx="3808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53280" y="4876920"/>
            <a:ext cx="152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5715000"/>
            <a:ext cx="4572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3160" y="1295280"/>
            <a:ext cx="606348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de gas de los Yacimientos de Cuenca Austral se comprimen hacia 2 (dos)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gasoductos: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a).- GASODUCTO GENERAL SAN MARTIN – En los PM 16 y 21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b).- GASODUCTO OCEANO – PM 98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oda la producción de GAS es tratada por el sistema de deshidratación por absorción, se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omprime y se inyecta al Gasoducto GSM 950 Psi., la operación se ajusta al POCA04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aaafb4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una fuga de GAS NATURAL (cap.3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aaf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baseline="8000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POSGS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aaf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baseline="8000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-9360"/>
            <a:ext cx="71629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" descr="Chevron Hallmark"/>
          <p:cNvPicPr/>
          <p:nvPr/>
        </p:nvPicPr>
        <p:blipFill>
          <a:blip r:embed="rId1"/>
          <a:stretch/>
        </p:blipFill>
        <p:spPr>
          <a:xfrm>
            <a:off x="4343400" y="2819520"/>
            <a:ext cx="1141560" cy="1218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305920" y="15228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OPERACIONES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1676520"/>
            <a:ext cx="6934320" cy="4724280"/>
            <a:chOff x="1143000" y="1676520"/>
            <a:chExt cx="6934320" cy="4724280"/>
          </a:xfrm>
        </p:grpSpPr>
        <p:sp>
          <p:nvSpPr>
            <p:cNvPr id="103" name=""/>
            <p:cNvSpPr/>
            <p:nvPr/>
          </p:nvSpPr>
          <p:spPr>
            <a:xfrm>
              <a:off x="1143000" y="167652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3000" y="220968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266688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320040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373392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3000" y="426708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43000" y="480060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3000" y="533412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586728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3000" y="640080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00040" y="91440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80808"/>
                </a:solidFill>
                <a:uFillTx/>
                <a:latin typeface="Verdana"/>
              </a:rPr>
              <a:t>CUENCA NEUQUINA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s El Trapial y Curamched       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Confluencia sur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El Limite (Operada por Repsol YPF)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 </a:t>
            </a: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EL SAUCE – Yacimiento El Sauce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Loma Negra                                                 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Las Bases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Estancia Vieja –Puesto Prado-Puesto Flores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La Yesera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80808"/>
                </a:solidFill>
                <a:uFillTx/>
                <a:latin typeface="Verdana"/>
              </a:rPr>
              <a:t>CUENCA AUSTRA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CHORRILLOS – Yacimiento Chorrillos-Convento-Cerro Norte-Campo Molino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OCEANO –Yacimiento Océano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 </a:t>
            </a: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BREMEN – Yacimiento Campo Bremen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 </a:t>
            </a: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MOY AIKE – Yacimiento Moy Aike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208764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2057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9dd9"/>
                </a:solidFill>
                <a:latin typeface="Verdana"/>
              </a:rPr>
              <a:t>Descripción de los sistemas de transportes que se utilizan</a:t>
            </a:r>
            <a:endParaRPr b="1" lang="en-US" sz="1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4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 u="sng">
                <a:solidFill>
                  <a:srgbClr val="080808"/>
                </a:solidFill>
                <a:uFillTx/>
                <a:latin typeface="Verdana"/>
              </a:rPr>
              <a:t>TRANSPORTE DE PETROLEO</a:t>
            </a:r>
            <a:endParaRPr b="0" lang="en-US" sz="13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En la Cuenca Neuquina se encuentran instalados 4 (Cuatro Oleoductos + 1 ducto multifasico):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Oleoducto de 10” x 23,7 kms-Trapial-Curanched transfiere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LVAL PHz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–Puerto Rosales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                                                      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Trapial-Curanched transfiere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TASA PH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–Puerto San Antonio Chile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437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Oleoducto de 6” x 12,188 Kms- Confluencia Sur  transfiere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AGUA DE CARRIZO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(</a:t>
            </a:r>
            <a:r>
              <a:rPr b="0" lang="es-AR" sz="700" spc="-1" strike="noStrike">
                <a:solidFill>
                  <a:srgbClr val="080808"/>
                </a:solidFill>
                <a:latin typeface="Verdana"/>
              </a:rPr>
              <a:t>Repsol YPF-L.de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700" spc="-1" strike="noStrike">
                <a:solidFill>
                  <a:srgbClr val="080808"/>
                </a:solidFill>
                <a:latin typeface="Verdana"/>
              </a:rPr>
              <a:t>Cuyo)</a:t>
            </a:r>
            <a:endParaRPr b="0" lang="en-US" sz="7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Oleoducto de 8” x 21,300 Kms-Loma Negra transfiere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LVAL ALLEN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-Puerto Rosales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Oleoducto de 8” x 42,083 kms-Estancia Vieja transfiere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LVAL ALLEN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-</a:t>
            </a:r>
            <a:r>
              <a:rPr b="0" lang="es-AR" sz="1000" spc="-1" strike="noStrike">
                <a:solidFill>
                  <a:srgbClr val="080808"/>
                </a:solidFill>
                <a:latin typeface="Verdana"/>
              </a:rPr>
              <a:t>Puerto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Rosales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Ducto multifásico de 6” x 32,849 Kms – La Yesera transfiere a LOMA NEGRA-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VAL ALLEN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-P.Rosales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El pozo Curanched transporta su producción en camiones hasta la Planta Puesto Hernandez, y se entreg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a </a:t>
            </a:r>
            <a:r>
              <a:rPr b="0" lang="es-AR" sz="1200" spc="-1" strike="noStrike">
                <a:solidFill>
                  <a:srgbClr val="080808"/>
                </a:solidFill>
                <a:latin typeface="Verdana"/>
              </a:rPr>
              <a:t>OLDELVAL PHZ</a:t>
            </a:r>
            <a:endParaRPr b="0" lang="en-US" sz="12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El Yacimiento El Sauce entrega por camiones  a través de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MEDANITO S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,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en un trayecto de 100 kms de distancia.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MEDANITO SA entrega la producción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LVAL CHALLACO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Las Bases entrega por camiones (condensado) en LOMA NEGRA , alistado tratado y bombeado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LVA ALLEN</a:t>
            </a:r>
            <a:endParaRPr b="0" lang="en-US" sz="11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Todos los Yacimientos de la Cuenca Austral entregan petróleo a través de Camiones que son recepcionado por</a:t>
            </a:r>
            <a:endParaRPr b="0" lang="en-US" sz="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CSJ en Punta Loyola y Entregado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PETROBRAS.</a:t>
            </a:r>
            <a:endParaRPr b="0" lang="en-US" sz="11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u="sng">
                <a:solidFill>
                  <a:srgbClr val="080808"/>
                </a:solidFill>
                <a:uFillTx/>
                <a:latin typeface="Verdana"/>
              </a:rPr>
              <a:t>TRANSPORTE DE GAS</a:t>
            </a:r>
            <a:endParaRPr b="0" lang="en-US" sz="12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En la Cuenca Neuquina se encuentran instalados 2 (Dos Gasoductos)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Gasoducto 6” x 9 kms – Loma Negra (PM 402) a GASODUCTO Neuba II- Alistado por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GS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Gasoducto 8” x 36 Kms – Las Bases (PM 423) a GASODUCTOS MAINQUE-CERVANTES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GS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En la Cuenca Austral se encuentran instalados  3 (Tres Gasoductos)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Gasoducto 8” x 38 Kms - CAMPO BREMEN (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PM 16) a GASODUCTO Gral. SAN MARTIN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GS 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Gasoducto 8” x 0,7 Kms –CERRO NORTE( PM 21) a GASODUCTO Gral. SAN MARTIN -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GS 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Gasoducto 8” x 31 Kms - OCEANO – CHIMEN AIKE (PM 98) -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Camuzzi</a:t>
            </a:r>
            <a:endParaRPr b="0" lang="en-US" sz="11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SISTEMA GESTION AMBIENTAL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038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Chevron cuenta con un sistema de gestión integral, que va más allá de un sistema de gestión meramente ambiental, que cubre: Medio Ambiente, Salud, Seguridad, Eficiencia y Confiabilidad. Se trata del sistema denominado Excelencia Operativa. Es un proyecto corporativo, que es llevado adelante por Chevron Corporation en todas las operaciones del mundo.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Los objetivos corporativos del sistema de gestión son: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lograr un sitio de trabajo sin lesiones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Eliminar los derrames y accidentes ambientales, identificar y mitigar los riesgos ambientales claves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Promover un sitio de trabajo saludable y mitigar los riesgos significativos para la salud.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Operar sin accidentes con confiabilidad en los elementos de buen éxito que lideran la industria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Maximizar la eficiencia en el uso de los recursos y activos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523520" y="5537160"/>
            <a:ext cx="6675840" cy="955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Las operaciones de la Cuenca Neuquina están certificadas bajo ISO 14001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y van migrando hacia la certificación de Excelencia Operacional.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133360" y="3352680"/>
            <a:ext cx="5715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TRANSPORTE POR OLEODUCTO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867280" y="3048120"/>
            <a:ext cx="3124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85200" y="1828800"/>
            <a:ext cx="609552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total de Huantraico (Trapial-Curanched) es recepcionad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la Planta de Tratamiento de crudo del Trapial- se acondiciona y bombea 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lanta de recepción y medición de Puesto Hernández cumpliendo con el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37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l bombeo es monitoreado durante las 24 hs. desde la sala de controles de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oordinación mediante el sistema Scada de telemedición, Presiones, Caudales,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operación de las válvulas de bloqueo y bombas de despacho.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35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ambién se cuenta con comunicación telefónica y radio VHF entre cabecera y Terminal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Acciones habituales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: Pasaje de scrapper de copa dos veces por semana,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Inyección de inhibidor de corrosión + Bactericida (Producto Dual)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hequeo parámetros físicos (T  y  P)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 un derrame de crudo (cap.3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s operativos de cierre oleoducto por Alerta meteorológico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3600360"/>
            <a:ext cx="914400" cy="1800"/>
          </a:xfrm>
          <a:prstGeom prst="line">
            <a:avLst/>
          </a:prstGeom>
          <a:ln cap="rnd" w="936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9dd9"/>
                </a:solidFill>
                <a:uFillTx/>
                <a:latin typeface="Verdana"/>
              </a:rPr>
              <a:t>El Trapial - Curanched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218240" y="1258920"/>
            <a:ext cx="474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3448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63560" y="3676680"/>
            <a:ext cx="750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Arial Narrow"/>
              </a:rPr>
              <a:t> 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PTC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EL TRAPIAL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705720" y="3524040"/>
            <a:ext cx="380520" cy="187200"/>
            <a:chOff x="6705720" y="3524040"/>
            <a:chExt cx="380520" cy="187200"/>
          </a:xfrm>
        </p:grpSpPr>
        <p:sp>
          <p:nvSpPr>
            <p:cNvPr id="130" name=""/>
            <p:cNvSpPr/>
            <p:nvPr/>
          </p:nvSpPr>
          <p:spPr>
            <a:xfrm rot="16200000">
              <a:off x="6971400" y="3523320"/>
              <a:ext cx="114120" cy="115560"/>
            </a:xfrm>
            <a:prstGeom prst="can">
              <a:avLst>
                <a:gd name="adj" fmla="val 25000"/>
              </a:avLst>
            </a:prstGeom>
            <a:solidFill>
              <a:srgbClr val="009dd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6795720" y="3440160"/>
              <a:ext cx="109080" cy="28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62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53960" y="3635280"/>
              <a:ext cx="5760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3080" y="3635280"/>
              <a:ext cx="5760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4240" y="3635280"/>
              <a:ext cx="5760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172200" y="3448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04000" y="3753000"/>
            <a:ext cx="83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CURAMCHED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3600360"/>
            <a:ext cx="152280" cy="18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32194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81560" y="30765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OLDEVAL PH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PTO ROSALES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40960" y="38098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OTASA PH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CHILE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43600" y="5029200"/>
            <a:ext cx="3048120" cy="152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Confluencia Sur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064560" y="563868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CONFLUENCIA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5410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5410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59720" y="563868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SITIO 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MEDICION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 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CSJ 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562720"/>
            <a:ext cx="3049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5562720"/>
            <a:ext cx="2286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0" y="533412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PLANTA REBOMBEO 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REPSOL YPF 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AGUAS DE CARRIZO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1520" y="1258920"/>
            <a:ext cx="609552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total de Confluencia es recepcionada en la Plant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 tratamiento y bombeado hasta la Planta de re-bombeo de Repsol YPF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Aguas de Carrizo.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 </a:t>
            </a:r>
            <a:r>
              <a:rPr b="1" lang="es-AR" sz="1200" spc="-1" strike="noStrike" u="sng" baseline="8000">
                <a:solidFill>
                  <a:srgbClr val="080808"/>
                </a:solidFill>
                <a:uFillTx/>
                <a:latin typeface="Verdana"/>
              </a:rPr>
              <a:t>PO CNF 037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El bombeo es monitoreado durante las 24 hs. desde la sala de controles de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producción mediante el sistema Scada de telemedición, Presiones, Caudales,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operación de las válvulas de bloqueo y bombas de despacho. </a:t>
            </a:r>
            <a:r>
              <a:rPr b="1" lang="es-AR" sz="1200" spc="-1" strike="noStrike" u="sng" baseline="8000">
                <a:solidFill>
                  <a:srgbClr val="080808"/>
                </a:solidFill>
                <a:uFillTx/>
                <a:latin typeface="Verdana"/>
              </a:rPr>
              <a:t>PO CNF 006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También se cuenta con comunicación telefónica y radio VHF entre cabecera y Terminal.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u="sng" baseline="8000">
                <a:solidFill>
                  <a:srgbClr val="080808"/>
                </a:solidFill>
                <a:uFillTx/>
                <a:latin typeface="Verdana"/>
              </a:rPr>
              <a:t>Acciones habituales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: Pasaje de scrapper de copa dos veces por semana.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 un derrame de crudo (cap.3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s operativos de cierre oleoducto por Alerta meteorológico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629400" y="5257800"/>
            <a:ext cx="22860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Loma Negra-La Yesera-Las Bases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295280"/>
            <a:ext cx="70102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el Yacimiento Loma Negra se recepciona la producción propia, la proveniente de La Yesera a travé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 un ducto multifásico y por camiones de Las Bases.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aaf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aaf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l bombeo es monitoreado durante las 24 hs. desde la sala de controles de producción mediante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él sistema Scada de telemedición, Presiones, Caudales,operación de las válvuas de bloqueo y bomba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 despacho. PO RNN 037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ambién se cuenta con comunicación telefónica y radio VHF entre cabecera y terminal. PO O06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Yesera produce con sus 3 (tres) pozos surgentes directamente al ducto multifásico y es separad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Loma Negra, dónde se alista su petróleo., es tambien monitoreado del sistema Scada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de petróleo de Las Bases es transportado en camiones a Loma Negra dónde se mide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y se acondiciona en tanque de 160 m3 calibrado luego se bombea mezclado a Oldelval Allen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5410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943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5638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64280" y="5943600"/>
            <a:ext cx="8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Arial Narrow"/>
              </a:rPr>
              <a:t>    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PTC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OMA NEGRA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60080" y="6172200"/>
            <a:ext cx="73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A YESERA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85920" y="5638680"/>
            <a:ext cx="72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AS BASES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238880" y="5866920"/>
            <a:ext cx="990720" cy="228600"/>
          </a:xfrm>
          <a:prstGeom prst="line">
            <a:avLst/>
          </a:prstGeom>
          <a:ln cap="rnd" w="32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5562720"/>
            <a:ext cx="990720" cy="228600"/>
          </a:xfrm>
          <a:prstGeom prst="line">
            <a:avLst/>
          </a:prstGeom>
          <a:ln cap="rnd" w="324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398000" y="5339880"/>
            <a:ext cx="511560" cy="327960"/>
            <a:chOff x="7398000" y="5339880"/>
            <a:chExt cx="511560" cy="327960"/>
          </a:xfrm>
        </p:grpSpPr>
        <p:sp>
          <p:nvSpPr>
            <p:cNvPr id="163" name=""/>
            <p:cNvSpPr/>
            <p:nvPr/>
          </p:nvSpPr>
          <p:spPr>
            <a:xfrm rot="17340600">
              <a:off x="7761240" y="5450040"/>
              <a:ext cx="114480" cy="152280"/>
            </a:xfrm>
            <a:prstGeom prst="can">
              <a:avLst>
                <a:gd name="adj" fmla="val 25000"/>
              </a:avLst>
            </a:prstGeom>
            <a:solidFill>
              <a:srgbClr val="009dd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340600">
              <a:off x="7540920" y="5262840"/>
              <a:ext cx="109440" cy="38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62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140600">
              <a:off x="7444440" y="5469480"/>
              <a:ext cx="7560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140600">
              <a:off x="7642800" y="5537880"/>
              <a:ext cx="7560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40600">
              <a:off x="7768440" y="5581080"/>
              <a:ext cx="7596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33160" y="3443400"/>
            <a:ext cx="606348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 un derrame de crudo (cap.3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s operativos de cierre oleoducto por Alerta meteorológico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SGS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19400" y="3429000"/>
            <a:ext cx="53258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TRANSPORTE POR CAMION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23:00:01Z</dcterms:created>
  <dc:creator>ccdo</dc:creator>
  <dc:description/>
  <cp:keywords/>
  <dc:language>en-US</dc:language>
  <cp:lastModifiedBy>Morales, Orlando - ohmo on BR13250030</cp:lastModifiedBy>
  <cp:lastPrinted>2005-05-04T22:13:25Z</cp:lastPrinted>
  <dcterms:modified xsi:type="dcterms:W3CDTF">2005-12-21T11:46:51Z</dcterms:modified>
  <cp:revision>136</cp:revision>
  <dc:subject/>
  <dc:title>PowerPoint User’s Guide</dc:title>
</cp:coreProperties>
</file>