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C88-FD74-4ECD-829E-49DA339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867-7CEA-43F2-901E-968D269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7C5-E05D-41EE-B9A6-B2324E5F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677-B04C-4D71-BD2F-71F8C3BA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B1C-C10F-44E0-9CB0-5A489CED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946-CCC3-4BC0-A6F6-FC2E5F4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A85-E04A-4987-B156-DB611D15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1C6-3AF6-45A9-95AB-2650B6C8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7B3-0169-4771-A901-634F0A2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003-DC29-436D-9FD7-9CEDEDDB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6ED-3456-4CE6-BAD7-4720315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C4B-8EA0-4326-B898-C5E0F4C7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698-AD90-4EDA-9300-82D5D092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Transporte Hidrocarburos Líquidos</a:t>
            </a:r>
            <a:br>
              <a:rPr sz="3600"/>
            </a:br>
            <a:br>
              <a:rPr sz="3600"/>
            </a:br>
            <a:r>
              <a:rPr b="0" i="1" lang="en-US" sz="4400" spc="-1" strike="noStrike">
                <a:solidFill>
                  <a:srgbClr val="3333cc"/>
                </a:solidFill>
                <a:latin typeface="Arial"/>
              </a:rPr>
              <a:t>Bloque: Estancia La Escond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dor Colhué Huapi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lhue" descr=""/>
          <p:cNvPicPr/>
          <p:nvPr/>
        </p:nvPicPr>
        <p:blipFill>
          <a:blip r:embed="rId2"/>
          <a:stretch/>
        </p:blipFill>
        <p:spPr>
          <a:xfrm>
            <a:off x="3381480" y="4727520"/>
            <a:ext cx="23335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stema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34880" y="969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8610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Punto de Entrega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Batería Cerro Tortugas II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Pan American Energy LL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Entrega mediante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Oleoducto Propio (4,25 k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Arial"/>
              </a:rPr>
              <a:t>Punto de Medición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Planta de Tratamiento Ea La Escond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 American Energy incorpora nuestra producción (en especificación) a la producción bruta de dicha batería y se envía con la misma a la Planta de Trat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 American Energy reintegra crudo en especifiación en Caleta Córdo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leo" descr=""/>
          <p:cNvPicPr/>
          <p:nvPr/>
        </p:nvPicPr>
        <p:blipFill>
          <a:blip r:embed="rId2"/>
          <a:stretch/>
        </p:blipFill>
        <p:spPr>
          <a:xfrm>
            <a:off x="0" y="762120"/>
            <a:ext cx="1040436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LEO2" descr=""/>
          <p:cNvPicPr/>
          <p:nvPr/>
        </p:nvPicPr>
        <p:blipFill>
          <a:blip r:embed="rId2"/>
          <a:stretch/>
        </p:blipFill>
        <p:spPr>
          <a:xfrm>
            <a:off x="1535040" y="228600"/>
            <a:ext cx="6161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9920" y="2514600"/>
            <a:ext cx="723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oleoducto lleva 8 años en operación, sin ningún inci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cuentra sobredimensionado para el caudal transpor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ervicio de transporte ofrecido por Pan American Energy 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do conf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lación Operativa y Comercial con el Transporti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3980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relación se inició en 1997, mediante Acta-Acuerdo por 5 añ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misma estableció un descuento por tratamiento/pérdidas por evaporación y un costo de trasnpor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nvenio no ha sido renov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ervicio se sigue brindando satisfactoriam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cularidad: el transportista es socio de la 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 muy buena disposición para solucionar problemas operativ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762120"/>
            <a:ext cx="67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stema de Gestión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33720"/>
            <a:ext cx="8397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tiene un programa de mantenimiento preventivo focalizado en la protección contra los mayores riesgos potenciales: corrosión externa y erosión del terre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siguen las recomendaciones del Manual de Operación y Mantenimiento del Oleoduc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disponen de los elementos necesarios para contener eventuales derr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7600" y="838080"/>
            <a:ext cx="54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tuaciones Particula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133720"/>
            <a:ext cx="8397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han existido obstáculos al transporte, salvo problemas importantes en la Playa de Tanques de Caleta Córdov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tales casos, se ha limitado el caudal bombeado, y en algunos casos, se lo ha suspend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coordinan las condiciones operativas más convenientes para facilitar el reinicio del bomb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15:51:23Z</dcterms:created>
  <dc:creator>Federico H</dc:creator>
  <dc:description/>
  <dc:language>en-US</dc:language>
  <cp:lastModifiedBy>Alberto Dorado</cp:lastModifiedBy>
  <cp:lastPrinted>2005-12-06T13:25:37Z</cp:lastPrinted>
  <dcterms:modified xsi:type="dcterms:W3CDTF">2005-12-06T14:23:37Z</dcterms:modified>
  <cp:revision>15</cp:revision>
  <dc:subject/>
  <dc:title>Bloque: Estancia La Escondida</dc:title>
</cp:coreProperties>
</file>