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B4A6-6824-4453-9B27-E2240936D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4CEC-078A-435C-8EA5-AF43CB4F0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1248-86E4-4AD2-90B4-B01F0AC11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900D-1E8B-4724-8FCF-B7EFFC183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7255-83A4-4AB3-B467-FB36A4250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033E-CF22-4D04-8401-2A91311CE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A105-A04C-4781-8F95-F9530EF2A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062D-6E2C-4015-B044-39B9392F3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6B1D-F0F3-4DA6-8CFA-0E37E7FB9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5CDD-BAE2-4761-A771-D76F5262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339D-17AF-465F-A657-9F5ED4E5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3453-EBD8-4270-BA00-863158C3C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01DDF-9041-472A-8591-522D42D5C2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1447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cc"/>
                </a:solidFill>
                <a:latin typeface="Arial"/>
              </a:rPr>
              <a:t>Transporte Hidrocarburos Líquidos</a:t>
            </a:r>
            <a:br>
              <a:rPr sz="3600"/>
            </a:br>
            <a:br>
              <a:rPr sz="3600"/>
            </a:br>
            <a:r>
              <a:rPr b="0" i="1" lang="en-US" sz="4400" spc="-1" strike="noStrike">
                <a:solidFill>
                  <a:srgbClr val="3333cc"/>
                </a:solidFill>
                <a:latin typeface="Arial"/>
              </a:rPr>
              <a:t>Bloque: Estancia La Escondi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perador Colhué Huapi S.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colhue" descr=""/>
          <p:cNvPicPr/>
          <p:nvPr/>
        </p:nvPicPr>
        <p:blipFill>
          <a:blip r:embed="rId2"/>
          <a:stretch/>
        </p:blipFill>
        <p:spPr>
          <a:xfrm>
            <a:off x="3381480" y="4727520"/>
            <a:ext cx="233352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istema de Transpor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34880" y="9698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447920"/>
            <a:ext cx="861048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 u="sng">
                <a:solidFill>
                  <a:srgbClr val="000000"/>
                </a:solidFill>
                <a:uFillTx/>
                <a:latin typeface="Arial"/>
              </a:rPr>
              <a:t>Punto de Entrega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Batería Cerro Tortugas II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(Pan American Energy LLC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 u="sng">
                <a:solidFill>
                  <a:srgbClr val="000000"/>
                </a:solidFill>
                <a:uFillTx/>
                <a:latin typeface="Arial"/>
              </a:rPr>
              <a:t>Entrega mediante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Oleoducto Propio (4,25 km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 u="sng">
                <a:solidFill>
                  <a:srgbClr val="000000"/>
                </a:solidFill>
                <a:uFillTx/>
                <a:latin typeface="Arial"/>
              </a:rPr>
              <a:t>Punto de Medición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Planta de Tratamiento Ea La Escondid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n American Energy incorpora nuestra producción (en especificación) a la producción bruta de dicha batería y se envía con la misma a la Planta de Tratami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n American Energy reintegra crudo en especifiación en Caleta Córdo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oleo" descr=""/>
          <p:cNvPicPr/>
          <p:nvPr/>
        </p:nvPicPr>
        <p:blipFill>
          <a:blip r:embed="rId2"/>
          <a:stretch/>
        </p:blipFill>
        <p:spPr>
          <a:xfrm>
            <a:off x="0" y="762120"/>
            <a:ext cx="10404360" cy="50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OLEO2" descr=""/>
          <p:cNvPicPr/>
          <p:nvPr/>
        </p:nvPicPr>
        <p:blipFill>
          <a:blip r:embed="rId2"/>
          <a:stretch/>
        </p:blipFill>
        <p:spPr>
          <a:xfrm>
            <a:off x="1535040" y="228600"/>
            <a:ext cx="616104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79920" y="2514600"/>
            <a:ext cx="72324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oleoducto lleva 8 años en operación, sin ningún incid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encuentra sobredimensionado para el caudal transport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servicio de transporte ofrecido por Pan American Energy 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do confia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Relación Operativa y Comercial con el Transportis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81080"/>
            <a:ext cx="8398080" cy="43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La relación se inició en 1997, mediante Acta-Acuerdo por 5 año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La misma estableció un descuento por tratamiento/pérdidas por evaporación y un costo de trasnport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l Convenio no ha sido renovad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l servicio se sigue brindando satisfactoriament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articularidad: el transportista es socio de la UT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xiste muy buena disposición para solucionar problemas operativ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145160" y="762120"/>
            <a:ext cx="675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istema de Gestión Ambient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2133720"/>
            <a:ext cx="839772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e tiene un programa de mantenimiento preventivo focalizado en la protección contra los mayores riesgos potenciales: corrosión externa y erosión del terreno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e siguen las recomendaciones del Manual de Operación y Mantenimiento del Oleoduct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e disponen de los elementos necesarios para contener eventuales derram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677600" y="838080"/>
            <a:ext cx="54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ituaciones Particula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2133720"/>
            <a:ext cx="8397720" cy="29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No han existido obstáculos al transporte, salvo problemas importantes en la Playa de Tanques de Caleta Córdova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n tales casos, se ha limitado el caudal bombeado, y en algunos casos, se lo ha suspendid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e coordinan las condiciones operativas más convenientes para facilitar el reinicio del bombe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6T15:51:23Z</dcterms:created>
  <dc:creator>Federico H</dc:creator>
  <dc:description/>
  <dc:language>en-US</dc:language>
  <cp:lastModifiedBy>Alberto Dorado</cp:lastModifiedBy>
  <cp:lastPrinted>2005-12-06T13:25:37Z</cp:lastPrinted>
  <dcterms:modified xsi:type="dcterms:W3CDTF">2005-12-06T14:23:37Z</dcterms:modified>
  <cp:revision>15</cp:revision>
  <dc:subject/>
  <dc:title>Bloque: Estancia La Escondida</dc:title>
</cp:coreProperties>
</file>