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media/type.wav" ContentType="audio/x-wav"/>
  <Override PartName="/ppt/media/push.wav" ContentType="audio/x-wav"/>
  <Override PartName="/ppt/media/suction.wav" ContentType="audio/x-wav"/>
  <Override PartName="/ppt/media/drumroll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FF5-D151-4824-ABC1-9681235B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ED5-17BD-4662-989E-2C24A9E0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302-15B2-4EB3-8004-7C866715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346-54D1-48FA-8E68-542FD976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68FC-5D67-47FB-92FC-72A9DB59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90F7D-9ECE-41E7-B70A-95E1CD8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C2E1E-0F07-4B7B-ACB3-A7625D71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0EAD1-EAD0-4DAA-901B-92507CCF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A491B-1E9B-4895-BA1A-F2AA1BF9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5DF2D-B163-443E-BF8E-5E4F67C3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115B7-2FC9-4E88-87BC-5114863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538-4DE3-4BFE-AA3C-67BA3CBD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F0506-50EB-4C00-956D-63AF0E8A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26F47-48A0-4B63-843F-ECCCD20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ABA54-8AC3-4061-8595-76FF097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096EC-19EA-48CE-843B-9A1E6C31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24AEE-C3FC-4A0F-B726-2B341501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ECD-6BA8-44FD-9C5F-9778E953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BDC-9D97-4550-B8BB-FCB9C575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E8B-3024-45D9-B195-6B69BDF9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F6E-00A3-489F-9502-D1880E0B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F89-F05D-430D-9156-69DE1923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6DF-FCF4-4541-840B-56023C5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70E-4D82-46E8-8DD5-489062E9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ACC1-3B8D-4C51-ACB3-C203FE020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D9EA-AD18-4477-939C-83E96E1C8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ffff"/>
                </a:solidFill>
                <a:uFillTx/>
                <a:latin typeface="Tahoma"/>
              </a:rPr>
              <a:t>EhrenCap S.A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Las Heras III - Caleta Oliv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push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Oleoducto Público (operador: Repsol- YPF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suction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4400" spc="-1" strike="noStrike" u="sng">
                <a:solidFill>
                  <a:srgbClr val="ffffff"/>
                </a:solidFill>
                <a:uFillTx/>
                <a:latin typeface="Tahoma"/>
              </a:rPr>
              <a:t>Situaciones Particulares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drumroll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El transporte por camión desde Sierra del Carril se dificulta sobremanera por la falta de mantenimiento de la RN-26, desde Río Mayo hasta Las Her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laser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Transporte de Hidrocarburos Líqui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Descripción del Sistema de Transpor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Sierra del Carril – Pampa Verdú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Petróleo parcialmente deshidratado, por camió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type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s-MX" sz="4400" spc="-1" strike="noStrike" u="sng">
                <a:solidFill>
                  <a:srgbClr val="ffffff"/>
                </a:solidFill>
                <a:uFillTx/>
                <a:latin typeface="Tahoma"/>
              </a:rPr>
              <a:t>Pampa Verdú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Deshidratación del Crud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type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Pampa Verdún  - Estación de                    Bombeo Repsol Las Heras III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etróleo deshidratado por cam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8:22:47Z</dcterms:created>
  <dc:creator>Jorge Ehrenhaus</dc:creator>
  <dc:description/>
  <dc:language>en-US</dc:language>
  <cp:lastModifiedBy>Jorge Ehrenhaus</cp:lastModifiedBy>
  <dcterms:modified xsi:type="dcterms:W3CDTF">2005-12-20T04:24:26Z</dcterms:modified>
  <cp:revision>8</cp:revision>
  <dc:subject/>
  <dc:title>Diapositiva 1</dc:title>
</cp:coreProperties>
</file>