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media/type.wav" ContentType="audio/x-wav"/>
  <Override PartName="/ppt/media/push.wav" ContentType="audio/x-wav"/>
  <Override PartName="/ppt/media/suction.wav" ContentType="audio/x-wav"/>
  <Override PartName="/ppt/media/drumroll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9C2-D903-4D26-A949-D1F42520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098-7BCB-4C23-81ED-B1F58A6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028-9E56-4A15-8C5B-C271C62F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AFF-BD4F-421E-B9F2-8644E82D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E49AF-B839-4714-B1CF-ABA540B8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A3C71-2D03-48C3-955B-FBE2B12D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B7A8D-8139-4147-93A5-6CD7688B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2CC21-B7E7-4153-9E96-699B3C7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9D17-A3E7-406A-B070-D16AAD2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8B00-C6D4-429D-8011-4912DDD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F8AA6-0858-4449-927B-1C4D418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7C7-3CF2-48EF-8195-3CB58963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5AA2-C7DF-4956-81B8-C5DC678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12DBA-FCF1-4312-B678-37FC803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AAAF6-A66E-4F09-9E83-5A0B0F71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B9871-4CB7-46F6-BA79-457BDE95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E6BA2-C2ED-4F09-A2CA-EA11E4B4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41C-E10F-46D7-88A5-0578DDA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FCE-6CD2-4CF2-9D82-DA222BC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8B1-22B7-4D81-9C4C-44A88AFE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5CF-B4AC-47A1-AAA6-E1131C5A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472-4810-4222-BAC0-CCDA1036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4D8-43AD-42B3-8777-20A4DBF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24E-7C44-484E-9459-4533EF3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C319-980A-405C-8FB1-31FCD81E2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5E32-C625-4614-94D0-7BC214447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ffff"/>
                </a:solidFill>
                <a:uFillTx/>
                <a:latin typeface="Tahoma"/>
              </a:rPr>
              <a:t>EhrenCap S.A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Las Heras III - Caleta Oliv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push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Oleoducto Público (operador: Repsol- YPF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suction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4400" spc="-1" strike="noStrike" u="sng">
                <a:solidFill>
                  <a:srgbClr val="ffffff"/>
                </a:solidFill>
                <a:uFillTx/>
                <a:latin typeface="Tahoma"/>
              </a:rPr>
              <a:t>Situaciones Particulares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drumroll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l transporte por camión desde Sierra del Carril se dificulta sobremanera por la falta de mantenimiento de la RN-26, desde Río Mayo hasta Las Hera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laser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Transporte de Hidrocarburos Líqui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Descripción del Sistema de Transpor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Sierra del Carril – Pampa Verdú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etróleo parcialmente deshidratado, por cam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typ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s-MX" sz="4400" spc="-1" strike="noStrike" u="sng">
                <a:solidFill>
                  <a:srgbClr val="ffffff"/>
                </a:solidFill>
                <a:uFillTx/>
                <a:latin typeface="Tahoma"/>
              </a:rPr>
              <a:t>Pampa Verdú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Deshidratación del Crud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type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ffffff"/>
                </a:solidFill>
                <a:uFillTx/>
                <a:latin typeface="Tahoma"/>
              </a:rPr>
              <a:t>Pampa Verdún  - Estación de                    Bombeo Repsol Las Heras III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  <p:sndAc>
      <p:stSnd>
        <p:snd r:embed="rId2" name="camera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Petróleo deshidratado por cam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8:22:47Z</dcterms:created>
  <dc:creator>Jorge Ehrenhaus</dc:creator>
  <dc:description/>
  <dc:language>en-US</dc:language>
  <cp:lastModifiedBy>Jorge Ehrenhaus</cp:lastModifiedBy>
  <dcterms:modified xsi:type="dcterms:W3CDTF">2005-12-20T04:24:26Z</dcterms:modified>
  <cp:revision>8</cp:revision>
  <dc:subject/>
  <dc:title>Diapositiva 1</dc:title>
</cp:coreProperties>
</file>