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AAD-FF13-42CF-9ACE-B92449C0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18A-A54B-4C0C-A9A2-55C6A02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3E2-6787-49EE-A332-6CAC33C0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8C0-DCC8-4DDB-91D5-FF9B826F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BE1-2398-4BAC-A593-64678461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F8C-B5E6-4240-BBA6-D9719B9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1E0-E8F4-43E4-BA3E-50AC62E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515-7E31-4204-937C-55B621D3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16A-6161-48AF-A41F-1E53E694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427-7C2C-472A-9638-5D657BF8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187-448E-4783-9DBE-2F3E4A8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BB7-6035-4DD9-B78D-89DD001B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B67B-9C20-4A83-AA0D-2618E21C5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ción del sistema de entrega en el Yac. El Vina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en Oil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170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b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44560" y="836640"/>
            <a:ext cx="7399080" cy="5410080"/>
            <a:chOff x="844560" y="836640"/>
            <a:chExt cx="7399080" cy="5410080"/>
          </a:xfrm>
        </p:grpSpPr>
        <p:graphicFrame>
          <p:nvGraphicFramePr>
            <p:cNvPr id="45" name=""/>
            <p:cNvGraphicFramePr/>
            <p:nvPr/>
          </p:nvGraphicFramePr>
          <p:xfrm>
            <a:off x="844560" y="841320"/>
            <a:ext cx="7391160" cy="538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4560" y="841320"/>
                      <a:ext cx="739116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>
              <a:off x="852480" y="836640"/>
              <a:ext cx="739116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41680" y="5011560"/>
              <a:ext cx="762120" cy="68580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480" y="192"/>
                  </a:lnTo>
                  <a:lnTo>
                    <a:pt x="480" y="432"/>
                  </a:lnTo>
                  <a:lnTo>
                    <a:pt x="0" y="4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549360"/>
          <a:ext cx="7848360" cy="55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784836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843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roducción y la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zos en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sto Clímaco (PCL-1): Total: 85m3/d Aguas: 76m3/d Crudos: 9m3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Vinalar Norte (Evn-3):  Total: 50m3/d Aguas: 39m3/d  Crudos: 11m3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 Producción :135m3/d  Agua 115m3/d  Crudos: 20m3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)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a Aguar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dición de las ventas de crudos es por Volumen según contrato con Refinor S.A. en 15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: Octubre de 2005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30m3 en Bateria (Temperatura Natu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15.927m3 en Aguaray (Temp. en 15ºC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64320" y="1294560"/>
            <a:ext cx="8084520" cy="5393160"/>
            <a:chOff x="364320" y="1294560"/>
            <a:chExt cx="8084520" cy="5393160"/>
          </a:xfrm>
        </p:grpSpPr>
        <p:sp>
          <p:nvSpPr>
            <p:cNvPr id="54" name=""/>
            <p:cNvSpPr/>
            <p:nvPr/>
          </p:nvSpPr>
          <p:spPr>
            <a:xfrm>
              <a:off x="2590920" y="1295280"/>
              <a:ext cx="1066680" cy="106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00200" y="3124080"/>
              <a:ext cx="1066680" cy="1067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15000" y="2971800"/>
              <a:ext cx="457200" cy="457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2971800"/>
              <a:ext cx="457200" cy="4572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4343400"/>
              <a:ext cx="121932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486400"/>
              <a:ext cx="411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43600" y="3429000"/>
              <a:ext cx="0" cy="205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5638680" y="2895480"/>
              <a:ext cx="15264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38680" y="182880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657240" y="1828800"/>
              <a:ext cx="198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6781680" y="2895480"/>
              <a:ext cx="15264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81680" y="2057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4572000" y="205740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733920" y="2057400"/>
              <a:ext cx="8380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6880" y="3657600"/>
              <a:ext cx="106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24080" y="2362320"/>
              <a:ext cx="0" cy="251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3657600"/>
              <a:ext cx="0" cy="2438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4191120"/>
              <a:ext cx="0" cy="1752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720" y="4495680"/>
              <a:ext cx="6858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4876920"/>
              <a:ext cx="990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2520" y="1828800"/>
              <a:ext cx="0" cy="3276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819160" y="5105520"/>
              <a:ext cx="1143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20880" y="1584360"/>
              <a:ext cx="93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Tanque Nue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160 M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9080" y="3413160"/>
              <a:ext cx="83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Tanque N° 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160 M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40480" y="3048120"/>
              <a:ext cx="64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Sep.N°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83480" y="3048120"/>
              <a:ext cx="64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Sep.N°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486040" y="243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864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86400" y="281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082600" y="4254480"/>
              <a:ext cx="76320" cy="75960"/>
              <a:chOff x="2082600" y="4254480"/>
              <a:chExt cx="76320" cy="75960"/>
            </a:xfrm>
          </p:grpSpPr>
          <p:sp>
            <p:nvSpPr>
              <p:cNvPr id="84" name=""/>
              <p:cNvSpPr/>
              <p:nvPr/>
            </p:nvSpPr>
            <p:spPr>
              <a:xfrm>
                <a:off x="2082960" y="425448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82960" y="42544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082600" y="42544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133720" y="46483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438280" y="4495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209680" y="4457880"/>
              <a:ext cx="76320" cy="75960"/>
              <a:chOff x="2209680" y="4457880"/>
              <a:chExt cx="76320" cy="75960"/>
            </a:xfrm>
          </p:grpSpPr>
          <p:sp>
            <p:nvSpPr>
              <p:cNvPr id="90" name=""/>
              <p:cNvSpPr/>
              <p:nvPr/>
            </p:nvSpPr>
            <p:spPr>
              <a:xfrm>
                <a:off x="2209680" y="445788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209680" y="445788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209680" y="445788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2222280" y="4610160"/>
              <a:ext cx="76320" cy="75960"/>
              <a:chOff x="2222280" y="4610160"/>
              <a:chExt cx="76320" cy="75960"/>
            </a:xfrm>
          </p:grpSpPr>
          <p:sp>
            <p:nvSpPr>
              <p:cNvPr id="94" name=""/>
              <p:cNvSpPr/>
              <p:nvPr/>
            </p:nvSpPr>
            <p:spPr>
              <a:xfrm>
                <a:off x="2222640" y="461016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22640" y="461016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2222280" y="461016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514480" y="5416560"/>
              <a:ext cx="152640" cy="132840"/>
              <a:chOff x="5514480" y="5416560"/>
              <a:chExt cx="152640" cy="132840"/>
            </a:xfrm>
          </p:grpSpPr>
          <p:sp>
            <p:nvSpPr>
              <p:cNvPr id="98" name=""/>
              <p:cNvSpPr/>
              <p:nvPr/>
            </p:nvSpPr>
            <p:spPr>
              <a:xfrm>
                <a:off x="5514840" y="5416560"/>
                <a:ext cx="152280" cy="1328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514840" y="5416560"/>
                <a:ext cx="15228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514480" y="5416560"/>
                <a:ext cx="15228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666520" y="3581280"/>
              <a:ext cx="152640" cy="133200"/>
              <a:chOff x="2666520" y="3581280"/>
              <a:chExt cx="152640" cy="133200"/>
            </a:xfrm>
          </p:grpSpPr>
          <p:sp>
            <p:nvSpPr>
              <p:cNvPr id="102" name=""/>
              <p:cNvSpPr/>
              <p:nvPr/>
            </p:nvSpPr>
            <p:spPr>
              <a:xfrm>
                <a:off x="2666880" y="3581280"/>
                <a:ext cx="152280" cy="13320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66880" y="3581280"/>
                <a:ext cx="152280" cy="133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666520" y="3581280"/>
                <a:ext cx="152280" cy="133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743200" y="4191120"/>
              <a:ext cx="151920" cy="132840"/>
              <a:chOff x="2743200" y="4191120"/>
              <a:chExt cx="151920" cy="132840"/>
            </a:xfrm>
          </p:grpSpPr>
          <p:sp>
            <p:nvSpPr>
              <p:cNvPr id="106" name=""/>
              <p:cNvSpPr/>
              <p:nvPr/>
            </p:nvSpPr>
            <p:spPr>
              <a:xfrm>
                <a:off x="2743200" y="4191120"/>
                <a:ext cx="151920" cy="1328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43200" y="419112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743200" y="419112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733920" y="1762200"/>
              <a:ext cx="151920" cy="132840"/>
              <a:chOff x="3733920" y="1762200"/>
              <a:chExt cx="151920" cy="132840"/>
            </a:xfrm>
          </p:grpSpPr>
          <p:sp>
            <p:nvSpPr>
              <p:cNvPr id="110" name=""/>
              <p:cNvSpPr/>
              <p:nvPr/>
            </p:nvSpPr>
            <p:spPr>
              <a:xfrm>
                <a:off x="3733920" y="1762200"/>
                <a:ext cx="151920" cy="1328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920" y="176220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733920" y="176220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48120" y="2409840"/>
              <a:ext cx="151920" cy="132840"/>
              <a:chOff x="3048120" y="2409840"/>
              <a:chExt cx="151920" cy="13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3048120" y="2409840"/>
                <a:ext cx="151920" cy="13284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8120" y="240984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048120" y="2409840"/>
                <a:ext cx="151920" cy="132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600520" y="2733840"/>
              <a:ext cx="76320" cy="75960"/>
              <a:chOff x="5600520" y="2733840"/>
              <a:chExt cx="76320" cy="75960"/>
            </a:xfrm>
          </p:grpSpPr>
          <p:sp>
            <p:nvSpPr>
              <p:cNvPr id="118" name=""/>
              <p:cNvSpPr/>
              <p:nvPr/>
            </p:nvSpPr>
            <p:spPr>
              <a:xfrm>
                <a:off x="5600880" y="27338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00880" y="27338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600520" y="27338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600520" y="2590920"/>
              <a:ext cx="76320" cy="75960"/>
              <a:chOff x="5600520" y="2590920"/>
              <a:chExt cx="76320" cy="75960"/>
            </a:xfrm>
          </p:grpSpPr>
          <p:sp>
            <p:nvSpPr>
              <p:cNvPr id="122" name=""/>
              <p:cNvSpPr/>
              <p:nvPr/>
            </p:nvSpPr>
            <p:spPr>
              <a:xfrm>
                <a:off x="5600880" y="259092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600880" y="259092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5600520" y="259092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600520" y="2476440"/>
              <a:ext cx="76320" cy="75960"/>
              <a:chOff x="5600520" y="2476440"/>
              <a:chExt cx="76320" cy="75960"/>
            </a:xfrm>
          </p:grpSpPr>
          <p:sp>
            <p:nvSpPr>
              <p:cNvPr id="126" name=""/>
              <p:cNvSpPr/>
              <p:nvPr/>
            </p:nvSpPr>
            <p:spPr>
              <a:xfrm>
                <a:off x="5600880" y="24764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00880" y="24764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600520" y="24764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448240" y="2495520"/>
              <a:ext cx="76320" cy="75960"/>
              <a:chOff x="5448240" y="2495520"/>
              <a:chExt cx="76320" cy="75960"/>
            </a:xfrm>
          </p:grpSpPr>
          <p:sp>
            <p:nvSpPr>
              <p:cNvPr id="130" name=""/>
              <p:cNvSpPr/>
              <p:nvPr/>
            </p:nvSpPr>
            <p:spPr>
              <a:xfrm>
                <a:off x="5448240" y="24955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48240" y="2495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5448240" y="2495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172200" y="320040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400800" y="2437920"/>
              <a:ext cx="0" cy="762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248520" y="259056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520" y="2590920"/>
              <a:ext cx="152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352920" y="2629080"/>
              <a:ext cx="76320" cy="75960"/>
              <a:chOff x="6352920" y="2629080"/>
              <a:chExt cx="76320" cy="75960"/>
            </a:xfrm>
          </p:grpSpPr>
          <p:sp>
            <p:nvSpPr>
              <p:cNvPr id="138" name=""/>
              <p:cNvSpPr/>
              <p:nvPr/>
            </p:nvSpPr>
            <p:spPr>
              <a:xfrm>
                <a:off x="6353280" y="262908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353280" y="26290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6352920" y="26290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362640" y="2819520"/>
              <a:ext cx="76320" cy="75960"/>
              <a:chOff x="6362640" y="2819520"/>
              <a:chExt cx="76320" cy="75960"/>
            </a:xfrm>
          </p:grpSpPr>
          <p:sp>
            <p:nvSpPr>
              <p:cNvPr id="142" name=""/>
              <p:cNvSpPr/>
              <p:nvPr/>
            </p:nvSpPr>
            <p:spPr>
              <a:xfrm>
                <a:off x="6362640" y="28195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62640" y="2819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362640" y="2819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352920" y="3029040"/>
              <a:ext cx="76320" cy="75960"/>
              <a:chOff x="6352920" y="3029040"/>
              <a:chExt cx="76320" cy="75960"/>
            </a:xfrm>
          </p:grpSpPr>
          <p:sp>
            <p:nvSpPr>
              <p:cNvPr id="146" name=""/>
              <p:cNvSpPr/>
              <p:nvPr/>
            </p:nvSpPr>
            <p:spPr>
              <a:xfrm>
                <a:off x="6353280" y="30290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53280" y="3029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6352920" y="3029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200640" y="2752560"/>
              <a:ext cx="76320" cy="75960"/>
              <a:chOff x="6200640" y="2752560"/>
              <a:chExt cx="76320" cy="75960"/>
            </a:xfrm>
          </p:grpSpPr>
          <p:sp>
            <p:nvSpPr>
              <p:cNvPr id="150" name=""/>
              <p:cNvSpPr/>
              <p:nvPr/>
            </p:nvSpPr>
            <p:spPr>
              <a:xfrm>
                <a:off x="6200640" y="275256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00640" y="275256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6200640" y="275256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400800" y="2438280"/>
              <a:ext cx="9144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629040" y="2505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9400" y="2505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29400" y="2886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743520" y="2800440"/>
              <a:ext cx="76320" cy="75960"/>
              <a:chOff x="6743520" y="2800440"/>
              <a:chExt cx="76320" cy="75960"/>
            </a:xfrm>
          </p:grpSpPr>
          <p:sp>
            <p:nvSpPr>
              <p:cNvPr id="158" name=""/>
              <p:cNvSpPr/>
              <p:nvPr/>
            </p:nvSpPr>
            <p:spPr>
              <a:xfrm>
                <a:off x="6743880" y="28004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43880" y="28004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6743520" y="28004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743520" y="2657520"/>
              <a:ext cx="76320" cy="75960"/>
              <a:chOff x="6743520" y="2657520"/>
              <a:chExt cx="76320" cy="75960"/>
            </a:xfrm>
          </p:grpSpPr>
          <p:sp>
            <p:nvSpPr>
              <p:cNvPr id="162" name=""/>
              <p:cNvSpPr/>
              <p:nvPr/>
            </p:nvSpPr>
            <p:spPr>
              <a:xfrm>
                <a:off x="6743880" y="265752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43880" y="265752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6743520" y="265752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743520" y="2543040"/>
              <a:ext cx="76320" cy="75960"/>
              <a:chOff x="6743520" y="2543040"/>
              <a:chExt cx="76320" cy="75960"/>
            </a:xfrm>
          </p:grpSpPr>
          <p:sp>
            <p:nvSpPr>
              <p:cNvPr id="166" name=""/>
              <p:cNvSpPr/>
              <p:nvPr/>
            </p:nvSpPr>
            <p:spPr>
              <a:xfrm>
                <a:off x="6743880" y="25430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743880" y="2543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743520" y="2543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591240" y="2562120"/>
              <a:ext cx="76320" cy="75960"/>
              <a:chOff x="6591240" y="2562120"/>
              <a:chExt cx="76320" cy="75960"/>
            </a:xfrm>
          </p:grpSpPr>
          <p:sp>
            <p:nvSpPr>
              <p:cNvPr id="170" name=""/>
              <p:cNvSpPr/>
              <p:nvPr/>
            </p:nvSpPr>
            <p:spPr>
              <a:xfrm>
                <a:off x="6591240" y="25621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91240" y="25621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591240" y="25621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7315200" y="320040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543800" y="2437920"/>
              <a:ext cx="0" cy="762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391520" y="2590560"/>
              <a:ext cx="0" cy="609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2590920"/>
              <a:ext cx="152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495920" y="2629080"/>
              <a:ext cx="76320" cy="75960"/>
              <a:chOff x="7495920" y="2629080"/>
              <a:chExt cx="76320" cy="75960"/>
            </a:xfrm>
          </p:grpSpPr>
          <p:sp>
            <p:nvSpPr>
              <p:cNvPr id="178" name=""/>
              <p:cNvSpPr/>
              <p:nvPr/>
            </p:nvSpPr>
            <p:spPr>
              <a:xfrm>
                <a:off x="7496280" y="262908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96280" y="26290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495920" y="262908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505640" y="2819520"/>
              <a:ext cx="76320" cy="75960"/>
              <a:chOff x="7505640" y="2819520"/>
              <a:chExt cx="76320" cy="75960"/>
            </a:xfrm>
          </p:grpSpPr>
          <p:sp>
            <p:nvSpPr>
              <p:cNvPr id="182" name=""/>
              <p:cNvSpPr/>
              <p:nvPr/>
            </p:nvSpPr>
            <p:spPr>
              <a:xfrm>
                <a:off x="7505640" y="28195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05640" y="2819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7505640" y="28195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495920" y="3029040"/>
              <a:ext cx="76320" cy="75960"/>
              <a:chOff x="7495920" y="3029040"/>
              <a:chExt cx="76320" cy="75960"/>
            </a:xfrm>
          </p:grpSpPr>
          <p:sp>
            <p:nvSpPr>
              <p:cNvPr id="186" name=""/>
              <p:cNvSpPr/>
              <p:nvPr/>
            </p:nvSpPr>
            <p:spPr>
              <a:xfrm>
                <a:off x="7496280" y="3029040"/>
                <a:ext cx="7596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496280" y="3029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7495920" y="3029040"/>
                <a:ext cx="7596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343640" y="2629080"/>
              <a:ext cx="76320" cy="75960"/>
              <a:chOff x="7343640" y="2629080"/>
              <a:chExt cx="76320" cy="75960"/>
            </a:xfrm>
          </p:grpSpPr>
          <p:sp>
            <p:nvSpPr>
              <p:cNvPr id="190" name=""/>
              <p:cNvSpPr/>
              <p:nvPr/>
            </p:nvSpPr>
            <p:spPr>
              <a:xfrm>
                <a:off x="7343640" y="262908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43640" y="262908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7343640" y="262908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flipH="1">
              <a:off x="7162920" y="2743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086600" y="2437920"/>
              <a:ext cx="763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543800" y="1752120"/>
              <a:ext cx="838080" cy="68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315200" y="1752120"/>
              <a:ext cx="838080" cy="68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7086600" y="2590920"/>
              <a:ext cx="76320" cy="75960"/>
              <a:chOff x="7086600" y="2590920"/>
              <a:chExt cx="76320" cy="75960"/>
            </a:xfrm>
          </p:grpSpPr>
          <p:sp>
            <p:nvSpPr>
              <p:cNvPr id="198" name=""/>
              <p:cNvSpPr/>
              <p:nvPr/>
            </p:nvSpPr>
            <p:spPr>
              <a:xfrm>
                <a:off x="7086600" y="2590920"/>
                <a:ext cx="76320" cy="7596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086600" y="25909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7086600" y="2590920"/>
                <a:ext cx="7632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 flipV="1">
              <a:off x="7077240" y="3647880"/>
              <a:ext cx="137160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86600" y="3429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509800">
              <a:off x="308880" y="4641480"/>
              <a:ext cx="107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De Pozo PCL-5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3480" y="452448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991120" y="358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8520" y="1447920"/>
              <a:ext cx="100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gua y Petrol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028840" y="1752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15000" y="2437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8520" y="3276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58880" y="32608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95920" y="1752480"/>
              <a:ext cx="100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gua y Petrol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400440" y="1981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29600" y="3276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9960" y="32608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164600">
              <a:off x="7392960" y="3962520"/>
              <a:ext cx="98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De Pozo PCL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7819560" y="383832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38480" y="213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7196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7040" y="3767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7040" y="5791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4804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738160" y="34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247480" y="44006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361960" y="4800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200040" y="5024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848720" y="16761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474200">
              <a:off x="7482240" y="1507680"/>
              <a:ext cx="81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 quem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620120" y="22856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366400">
              <a:off x="1656360" y="614592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 Oleodu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366400">
              <a:off x="2709360" y="6037920"/>
              <a:ext cx="735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A Tan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000" spc="-1" strike="noStrike">
                  <a:solidFill>
                    <a:srgbClr val="000000"/>
                  </a:solidFill>
                  <a:latin typeface="Times New Roman"/>
                </a:rPr>
                <a:t>Cuadr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82160" y="417600"/>
            <a:ext cx="32241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Times New Roman"/>
              </a:rPr>
              <a:t>DIAGRAMA BATERIA PUESTO CLIMA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Times New Roman"/>
              </a:rPr>
              <a:t>PRODUCCION DE DOS POZ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077320" y="2139840"/>
            <a:ext cx="0" cy="83664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2063880"/>
            <a:ext cx="106668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8080"/>
              </a:gs>
              <a:gs pos="50000">
                <a:srgbClr val="c6c6c6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5337000"/>
            <a:ext cx="762120" cy="760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770040"/>
            <a:ext cx="1219320" cy="12175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346640"/>
            <a:ext cx="60984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4195800"/>
            <a:ext cx="838440" cy="834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05920" y="2900520"/>
            <a:ext cx="0" cy="45720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48520" y="2900520"/>
            <a:ext cx="205740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2597040"/>
            <a:ext cx="190512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2368440"/>
            <a:ext cx="0" cy="22860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749680"/>
            <a:ext cx="708660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8076960" y="2976480"/>
            <a:ext cx="22860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695720" y="2139840"/>
            <a:ext cx="38124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696080" y="1379520"/>
            <a:ext cx="0" cy="76032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924680" y="2139840"/>
            <a:ext cx="0" cy="60984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33920" y="130320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455840"/>
            <a:ext cx="0" cy="114120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028840" y="2521080"/>
            <a:ext cx="68580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2521080"/>
            <a:ext cx="0" cy="7596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597040"/>
            <a:ext cx="0" cy="30348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1911240"/>
            <a:ext cx="0" cy="6858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48320" y="1758960"/>
            <a:ext cx="0" cy="8380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0000" y="2216160"/>
            <a:ext cx="0" cy="533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1911240"/>
            <a:ext cx="2514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758960"/>
            <a:ext cx="2514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216160"/>
            <a:ext cx="228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495680" y="2292480"/>
            <a:ext cx="152640" cy="4572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647960" y="2292480"/>
            <a:ext cx="152280" cy="4572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105160" y="2482920"/>
            <a:ext cx="76320" cy="75960"/>
            <a:chOff x="5105160" y="2482920"/>
            <a:chExt cx="76320" cy="75960"/>
          </a:xfrm>
        </p:grpSpPr>
        <p:sp>
          <p:nvSpPr>
            <p:cNvPr id="262" name=""/>
            <p:cNvSpPr/>
            <p:nvPr/>
          </p:nvSpPr>
          <p:spPr>
            <a:xfrm>
              <a:off x="5105520" y="248292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24829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105160" y="24829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10080" y="2863800"/>
            <a:ext cx="76320" cy="75960"/>
            <a:chOff x="5410080" y="2863800"/>
            <a:chExt cx="76320" cy="75960"/>
          </a:xfrm>
        </p:grpSpPr>
        <p:sp>
          <p:nvSpPr>
            <p:cNvPr id="266" name=""/>
            <p:cNvSpPr/>
            <p:nvPr/>
          </p:nvSpPr>
          <p:spPr>
            <a:xfrm>
              <a:off x="5410080" y="28638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2863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410080" y="2863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419360" y="2708280"/>
            <a:ext cx="76320" cy="75960"/>
            <a:chOff x="4419360" y="2708280"/>
            <a:chExt cx="76320" cy="75960"/>
          </a:xfrm>
        </p:grpSpPr>
        <p:sp>
          <p:nvSpPr>
            <p:cNvPr id="270" name=""/>
            <p:cNvSpPr/>
            <p:nvPr/>
          </p:nvSpPr>
          <p:spPr>
            <a:xfrm>
              <a:off x="4419720" y="270828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27082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419360" y="27082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378320" y="2444760"/>
            <a:ext cx="76320" cy="75960"/>
            <a:chOff x="4378320" y="2444760"/>
            <a:chExt cx="76320" cy="75960"/>
          </a:xfrm>
        </p:grpSpPr>
        <p:sp>
          <p:nvSpPr>
            <p:cNvPr id="274" name=""/>
            <p:cNvSpPr/>
            <p:nvPr/>
          </p:nvSpPr>
          <p:spPr>
            <a:xfrm>
              <a:off x="4378320" y="24447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78320" y="2444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78320" y="2444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248520" y="2216160"/>
            <a:ext cx="0" cy="68436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2216160"/>
            <a:ext cx="15264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213240" y="2511360"/>
            <a:ext cx="76320" cy="75960"/>
            <a:chOff x="6213240" y="2511360"/>
            <a:chExt cx="76320" cy="75960"/>
          </a:xfrm>
        </p:grpSpPr>
        <p:sp>
          <p:nvSpPr>
            <p:cNvPr id="280" name=""/>
            <p:cNvSpPr/>
            <p:nvPr/>
          </p:nvSpPr>
          <p:spPr>
            <a:xfrm>
              <a:off x="6213600" y="251136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13600" y="2511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213240" y="2511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943600" y="4041720"/>
            <a:ext cx="762120" cy="7621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76920" y="2597040"/>
            <a:ext cx="0" cy="15264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35520" y="2647800"/>
            <a:ext cx="76320" cy="75960"/>
            <a:chOff x="4835520" y="2647800"/>
            <a:chExt cx="76320" cy="75960"/>
          </a:xfrm>
        </p:grpSpPr>
        <p:sp>
          <p:nvSpPr>
            <p:cNvPr id="286" name=""/>
            <p:cNvSpPr/>
            <p:nvPr/>
          </p:nvSpPr>
          <p:spPr>
            <a:xfrm>
              <a:off x="4835520" y="26478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5520" y="2647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835520" y="2647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59200" y="2463840"/>
            <a:ext cx="76320" cy="75960"/>
            <a:chOff x="4759200" y="2463840"/>
            <a:chExt cx="76320" cy="75960"/>
          </a:xfrm>
        </p:grpSpPr>
        <p:sp>
          <p:nvSpPr>
            <p:cNvPr id="290" name=""/>
            <p:cNvSpPr/>
            <p:nvPr/>
          </p:nvSpPr>
          <p:spPr>
            <a:xfrm>
              <a:off x="4759200" y="246384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59200" y="246384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759200" y="246384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606920" y="2470320"/>
            <a:ext cx="76320" cy="75960"/>
            <a:chOff x="4606920" y="2470320"/>
            <a:chExt cx="76320" cy="75960"/>
          </a:xfrm>
        </p:grpSpPr>
        <p:sp>
          <p:nvSpPr>
            <p:cNvPr id="294" name=""/>
            <p:cNvSpPr/>
            <p:nvPr/>
          </p:nvSpPr>
          <p:spPr>
            <a:xfrm>
              <a:off x="4606920" y="24703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06920" y="24703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606920" y="24703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32120" y="2641680"/>
            <a:ext cx="76320" cy="75960"/>
            <a:chOff x="4632120" y="2641680"/>
            <a:chExt cx="76320" cy="75960"/>
          </a:xfrm>
        </p:grpSpPr>
        <p:sp>
          <p:nvSpPr>
            <p:cNvPr id="298" name=""/>
            <p:cNvSpPr/>
            <p:nvPr/>
          </p:nvSpPr>
          <p:spPr>
            <a:xfrm>
              <a:off x="4632480" y="264168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32480" y="2641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632120" y="2641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 flipH="1">
            <a:off x="3048120" y="1379520"/>
            <a:ext cx="761760" cy="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8120" y="1608120"/>
            <a:ext cx="0" cy="114156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00400" y="1987560"/>
            <a:ext cx="0" cy="6094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1987560"/>
            <a:ext cx="0" cy="4572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047760" y="2597040"/>
            <a:ext cx="1522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200400" y="2444760"/>
            <a:ext cx="763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895480" y="2521080"/>
            <a:ext cx="15264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2521080"/>
            <a:ext cx="0" cy="22860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162240" y="2292480"/>
            <a:ext cx="76320" cy="75960"/>
            <a:chOff x="3162240" y="2292480"/>
            <a:chExt cx="76320" cy="75960"/>
          </a:xfrm>
        </p:grpSpPr>
        <p:sp>
          <p:nvSpPr>
            <p:cNvPr id="310" name=""/>
            <p:cNvSpPr/>
            <p:nvPr/>
          </p:nvSpPr>
          <p:spPr>
            <a:xfrm>
              <a:off x="3162240" y="22924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62240" y="2292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162240" y="2292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38560" y="2216160"/>
            <a:ext cx="76320" cy="75960"/>
            <a:chOff x="3238560" y="2216160"/>
            <a:chExt cx="76320" cy="75960"/>
          </a:xfrm>
        </p:grpSpPr>
        <p:sp>
          <p:nvSpPr>
            <p:cNvPr id="314" name=""/>
            <p:cNvSpPr/>
            <p:nvPr/>
          </p:nvSpPr>
          <p:spPr>
            <a:xfrm>
              <a:off x="3238560" y="22161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38560" y="22161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38560" y="22161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009960" y="2635200"/>
            <a:ext cx="76320" cy="75960"/>
            <a:chOff x="3009960" y="2635200"/>
            <a:chExt cx="76320" cy="75960"/>
          </a:xfrm>
        </p:grpSpPr>
        <p:sp>
          <p:nvSpPr>
            <p:cNvPr id="318" name=""/>
            <p:cNvSpPr/>
            <p:nvPr/>
          </p:nvSpPr>
          <p:spPr>
            <a:xfrm>
              <a:off x="3009960" y="26352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09960" y="26352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3009960" y="26352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09960" y="2816280"/>
            <a:ext cx="76320" cy="75960"/>
            <a:chOff x="3009960" y="2816280"/>
            <a:chExt cx="76320" cy="75960"/>
          </a:xfrm>
        </p:grpSpPr>
        <p:sp>
          <p:nvSpPr>
            <p:cNvPr id="322" name=""/>
            <p:cNvSpPr/>
            <p:nvPr/>
          </p:nvSpPr>
          <p:spPr>
            <a:xfrm>
              <a:off x="3009960" y="28162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09960" y="28162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009960" y="28162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3640" y="2482920"/>
            <a:ext cx="76320" cy="75960"/>
            <a:chOff x="2933640" y="2482920"/>
            <a:chExt cx="76320" cy="75960"/>
          </a:xfrm>
        </p:grpSpPr>
        <p:sp>
          <p:nvSpPr>
            <p:cNvPr id="326" name=""/>
            <p:cNvSpPr/>
            <p:nvPr/>
          </p:nvSpPr>
          <p:spPr>
            <a:xfrm>
              <a:off x="2933640" y="24829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3640" y="24829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933640" y="24829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904840" y="2711520"/>
            <a:ext cx="76320" cy="75960"/>
            <a:chOff x="2904840" y="2711520"/>
            <a:chExt cx="76320" cy="75960"/>
          </a:xfrm>
        </p:grpSpPr>
        <p:sp>
          <p:nvSpPr>
            <p:cNvPr id="330" name=""/>
            <p:cNvSpPr/>
            <p:nvPr/>
          </p:nvSpPr>
          <p:spPr>
            <a:xfrm>
              <a:off x="2905200" y="271152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05200" y="27115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904840" y="27115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009960" y="2063880"/>
            <a:ext cx="76320" cy="75960"/>
            <a:chOff x="3009960" y="2063880"/>
            <a:chExt cx="76320" cy="75960"/>
          </a:xfrm>
        </p:grpSpPr>
        <p:sp>
          <p:nvSpPr>
            <p:cNvPr id="334" name=""/>
            <p:cNvSpPr/>
            <p:nvPr/>
          </p:nvSpPr>
          <p:spPr>
            <a:xfrm>
              <a:off x="3009960" y="20638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09960" y="20638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009960" y="20638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048120" y="3130560"/>
            <a:ext cx="12189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1608120"/>
            <a:ext cx="0" cy="19018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3510000"/>
            <a:ext cx="1371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38680" y="3510000"/>
            <a:ext cx="0" cy="22064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638680" y="4422600"/>
            <a:ext cx="3049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5716440"/>
            <a:ext cx="3049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4803840"/>
            <a:ext cx="0" cy="5331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09680" y="5184720"/>
            <a:ext cx="51055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77120" y="4803840"/>
            <a:ext cx="152280" cy="3808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629400" y="5184720"/>
            <a:ext cx="228600" cy="3031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361960" y="2292480"/>
            <a:ext cx="6858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62320" y="2292480"/>
            <a:ext cx="0" cy="27381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66880" y="4803840"/>
            <a:ext cx="0" cy="760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666880" y="4651200"/>
            <a:ext cx="304920" cy="1526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4727520"/>
            <a:ext cx="0" cy="8366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514600" y="4574880"/>
            <a:ext cx="152280" cy="152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30640"/>
            <a:ext cx="3045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4803840"/>
            <a:ext cx="1522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4575240"/>
            <a:ext cx="0" cy="6094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19320" y="4575240"/>
            <a:ext cx="9903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324160" y="4851360"/>
            <a:ext cx="76320" cy="75960"/>
            <a:chOff x="2324160" y="4851360"/>
            <a:chExt cx="76320" cy="75960"/>
          </a:xfrm>
        </p:grpSpPr>
        <p:sp>
          <p:nvSpPr>
            <p:cNvPr id="358" name=""/>
            <p:cNvSpPr/>
            <p:nvPr/>
          </p:nvSpPr>
          <p:spPr>
            <a:xfrm>
              <a:off x="2324160" y="48513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24160" y="48513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2324160" y="48513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209680" y="4983120"/>
            <a:ext cx="1526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47840" y="4946760"/>
            <a:ext cx="76320" cy="75960"/>
            <a:chOff x="2247840" y="4946760"/>
            <a:chExt cx="76320" cy="75960"/>
          </a:xfrm>
        </p:grpSpPr>
        <p:sp>
          <p:nvSpPr>
            <p:cNvPr id="363" name=""/>
            <p:cNvSpPr/>
            <p:nvPr/>
          </p:nvSpPr>
          <p:spPr>
            <a:xfrm>
              <a:off x="2247840" y="49467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47840" y="4946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47840" y="4946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628720" y="5070600"/>
            <a:ext cx="76320" cy="75960"/>
            <a:chOff x="2628720" y="5070600"/>
            <a:chExt cx="76320" cy="75960"/>
          </a:xfrm>
        </p:grpSpPr>
        <p:sp>
          <p:nvSpPr>
            <p:cNvPr id="367" name=""/>
            <p:cNvSpPr/>
            <p:nvPr/>
          </p:nvSpPr>
          <p:spPr>
            <a:xfrm>
              <a:off x="2629080" y="507060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29080" y="507060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2628720" y="507060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43040" y="4994280"/>
            <a:ext cx="76320" cy="75960"/>
            <a:chOff x="2543040" y="4994280"/>
            <a:chExt cx="76320" cy="75960"/>
          </a:xfrm>
        </p:grpSpPr>
        <p:sp>
          <p:nvSpPr>
            <p:cNvPr id="371" name=""/>
            <p:cNvSpPr/>
            <p:nvPr/>
          </p:nvSpPr>
          <p:spPr>
            <a:xfrm>
              <a:off x="2543040" y="49942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43040" y="49942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543040" y="49942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628720" y="4908600"/>
            <a:ext cx="76320" cy="74520"/>
            <a:chOff x="2628720" y="4908600"/>
            <a:chExt cx="76320" cy="74520"/>
          </a:xfrm>
        </p:grpSpPr>
        <p:sp>
          <p:nvSpPr>
            <p:cNvPr id="375" name=""/>
            <p:cNvSpPr/>
            <p:nvPr/>
          </p:nvSpPr>
          <p:spPr>
            <a:xfrm>
              <a:off x="2629080" y="4908600"/>
              <a:ext cx="7596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29080" y="4908600"/>
              <a:ext cx="7596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628720" y="4908600"/>
              <a:ext cx="7596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476440" y="4879800"/>
            <a:ext cx="76320" cy="75960"/>
            <a:chOff x="2476440" y="4879800"/>
            <a:chExt cx="76320" cy="75960"/>
          </a:xfrm>
        </p:grpSpPr>
        <p:sp>
          <p:nvSpPr>
            <p:cNvPr id="379" name=""/>
            <p:cNvSpPr/>
            <p:nvPr/>
          </p:nvSpPr>
          <p:spPr>
            <a:xfrm>
              <a:off x="2476440" y="48798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76440" y="4879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476440" y="4879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400120" y="4765680"/>
            <a:ext cx="76320" cy="75960"/>
            <a:chOff x="2400120" y="4765680"/>
            <a:chExt cx="76320" cy="75960"/>
          </a:xfrm>
        </p:grpSpPr>
        <p:sp>
          <p:nvSpPr>
            <p:cNvPr id="383" name=""/>
            <p:cNvSpPr/>
            <p:nvPr/>
          </p:nvSpPr>
          <p:spPr>
            <a:xfrm>
              <a:off x="2400480" y="476568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00480" y="4765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400120" y="4765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085840" y="4537080"/>
            <a:ext cx="76320" cy="75960"/>
            <a:chOff x="2085840" y="4537080"/>
            <a:chExt cx="76320" cy="75960"/>
          </a:xfrm>
        </p:grpSpPr>
        <p:sp>
          <p:nvSpPr>
            <p:cNvPr id="387" name=""/>
            <p:cNvSpPr/>
            <p:nvPr/>
          </p:nvSpPr>
          <p:spPr>
            <a:xfrm>
              <a:off x="2085840" y="45370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85840" y="453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2085840" y="453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600200" y="4537080"/>
            <a:ext cx="76320" cy="75960"/>
            <a:chOff x="1600200" y="4537080"/>
            <a:chExt cx="76320" cy="75960"/>
          </a:xfrm>
        </p:grpSpPr>
        <p:sp>
          <p:nvSpPr>
            <p:cNvPr id="391" name=""/>
            <p:cNvSpPr/>
            <p:nvPr/>
          </p:nvSpPr>
          <p:spPr>
            <a:xfrm>
              <a:off x="1600200" y="45370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00200" y="453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600200" y="453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905120" y="4575240"/>
            <a:ext cx="0" cy="20541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5564160"/>
            <a:ext cx="0" cy="10652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866960" y="6478560"/>
            <a:ext cx="76320" cy="74520"/>
            <a:chOff x="1866960" y="6478560"/>
            <a:chExt cx="76320" cy="74520"/>
          </a:xfrm>
        </p:grpSpPr>
        <p:sp>
          <p:nvSpPr>
            <p:cNvPr id="397" name=""/>
            <p:cNvSpPr/>
            <p:nvPr/>
          </p:nvSpPr>
          <p:spPr>
            <a:xfrm>
              <a:off x="1866960" y="6478560"/>
              <a:ext cx="7632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66960" y="647856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866960" y="647856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942920" y="6478560"/>
            <a:ext cx="76320" cy="74520"/>
            <a:chOff x="1942920" y="6478560"/>
            <a:chExt cx="76320" cy="74520"/>
          </a:xfrm>
        </p:grpSpPr>
        <p:sp>
          <p:nvSpPr>
            <p:cNvPr id="401" name=""/>
            <p:cNvSpPr/>
            <p:nvPr/>
          </p:nvSpPr>
          <p:spPr>
            <a:xfrm>
              <a:off x="1943280" y="6478560"/>
              <a:ext cx="7596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43280" y="6478560"/>
              <a:ext cx="7596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942920" y="6478560"/>
              <a:ext cx="7596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905120" y="6021360"/>
            <a:ext cx="304560" cy="152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263000">
            <a:off x="2171520" y="6154200"/>
            <a:ext cx="3045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81080" y="6249960"/>
            <a:ext cx="152640" cy="76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133720" y="6173640"/>
            <a:ext cx="75960" cy="1526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095560" y="6097680"/>
            <a:ext cx="76320" cy="75960"/>
            <a:chOff x="2095560" y="6097680"/>
            <a:chExt cx="76320" cy="75960"/>
          </a:xfrm>
        </p:grpSpPr>
        <p:sp>
          <p:nvSpPr>
            <p:cNvPr id="409" name=""/>
            <p:cNvSpPr/>
            <p:nvPr/>
          </p:nvSpPr>
          <p:spPr>
            <a:xfrm>
              <a:off x="2095560" y="60976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95560" y="60976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095560" y="60976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028600" y="6259680"/>
            <a:ext cx="76320" cy="75960"/>
            <a:chOff x="2028600" y="6259680"/>
            <a:chExt cx="76320" cy="75960"/>
          </a:xfrm>
        </p:grpSpPr>
        <p:sp>
          <p:nvSpPr>
            <p:cNvPr id="413" name=""/>
            <p:cNvSpPr/>
            <p:nvPr/>
          </p:nvSpPr>
          <p:spPr>
            <a:xfrm>
              <a:off x="2028960" y="625968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28960" y="6259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028600" y="6259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981080" y="5668920"/>
            <a:ext cx="228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5745240"/>
            <a:ext cx="228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057400" y="5630760"/>
            <a:ext cx="76320" cy="75960"/>
            <a:chOff x="2057400" y="5630760"/>
            <a:chExt cx="76320" cy="75960"/>
          </a:xfrm>
        </p:grpSpPr>
        <p:sp>
          <p:nvSpPr>
            <p:cNvPr id="419" name=""/>
            <p:cNvSpPr/>
            <p:nvPr/>
          </p:nvSpPr>
          <p:spPr>
            <a:xfrm>
              <a:off x="2057400" y="56307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57400" y="5630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2057400" y="56307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124000" y="5707080"/>
            <a:ext cx="76320" cy="75960"/>
            <a:chOff x="2124000" y="5707080"/>
            <a:chExt cx="76320" cy="75960"/>
          </a:xfrm>
        </p:grpSpPr>
        <p:sp>
          <p:nvSpPr>
            <p:cNvPr id="423" name=""/>
            <p:cNvSpPr/>
            <p:nvPr/>
          </p:nvSpPr>
          <p:spPr>
            <a:xfrm>
              <a:off x="2124000" y="57070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24000" y="570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124000" y="57070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1447920" y="6002280"/>
            <a:ext cx="5331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752480" y="5964120"/>
            <a:ext cx="76320" cy="75960"/>
            <a:chOff x="1752480" y="5964120"/>
            <a:chExt cx="76320" cy="75960"/>
          </a:xfrm>
        </p:grpSpPr>
        <p:sp>
          <p:nvSpPr>
            <p:cNvPr id="428" name=""/>
            <p:cNvSpPr/>
            <p:nvPr/>
          </p:nvSpPr>
          <p:spPr>
            <a:xfrm>
              <a:off x="1752480" y="59641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52480" y="59641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752480" y="59641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V="1">
            <a:off x="1447920" y="5783040"/>
            <a:ext cx="0" cy="2286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218960" y="5792760"/>
            <a:ext cx="22860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990360" y="5792760"/>
            <a:ext cx="228600" cy="152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19000" y="6068880"/>
            <a:ext cx="457200" cy="150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5945040"/>
            <a:ext cx="0" cy="76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8280" y="614520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0560" y="6219720"/>
            <a:ext cx="428760" cy="10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38240" y="6297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6297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42840" y="6297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781600" y="4384800"/>
            <a:ext cx="76320" cy="75960"/>
            <a:chOff x="5781600" y="4384800"/>
            <a:chExt cx="76320" cy="75960"/>
          </a:xfrm>
        </p:grpSpPr>
        <p:sp>
          <p:nvSpPr>
            <p:cNvPr id="442" name=""/>
            <p:cNvSpPr/>
            <p:nvPr/>
          </p:nvSpPr>
          <p:spPr>
            <a:xfrm>
              <a:off x="5781600" y="43848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81600" y="4384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5781600" y="43848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790960" y="5678640"/>
            <a:ext cx="76320" cy="75960"/>
            <a:chOff x="5790960" y="5678640"/>
            <a:chExt cx="76320" cy="75960"/>
          </a:xfrm>
        </p:grpSpPr>
        <p:sp>
          <p:nvSpPr>
            <p:cNvPr id="446" name=""/>
            <p:cNvSpPr/>
            <p:nvPr/>
          </p:nvSpPr>
          <p:spPr>
            <a:xfrm>
              <a:off x="5791320" y="56786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91320" y="5678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790960" y="5678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10360" y="4889520"/>
            <a:ext cx="76320" cy="75960"/>
            <a:chOff x="6210360" y="4889520"/>
            <a:chExt cx="76320" cy="75960"/>
          </a:xfrm>
        </p:grpSpPr>
        <p:sp>
          <p:nvSpPr>
            <p:cNvPr id="450" name=""/>
            <p:cNvSpPr/>
            <p:nvPr/>
          </p:nvSpPr>
          <p:spPr>
            <a:xfrm>
              <a:off x="6210360" y="48895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10360" y="48895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210360" y="48895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476760" y="4879800"/>
            <a:ext cx="76320" cy="75960"/>
            <a:chOff x="6476760" y="4879800"/>
            <a:chExt cx="76320" cy="75960"/>
          </a:xfrm>
        </p:grpSpPr>
        <p:sp>
          <p:nvSpPr>
            <p:cNvPr id="454" name=""/>
            <p:cNvSpPr/>
            <p:nvPr/>
          </p:nvSpPr>
          <p:spPr>
            <a:xfrm>
              <a:off x="6477120" y="487980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77120" y="487980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476760" y="487980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648480" y="5384880"/>
            <a:ext cx="76320" cy="74520"/>
            <a:chOff x="6648480" y="5384880"/>
            <a:chExt cx="76320" cy="74520"/>
          </a:xfrm>
        </p:grpSpPr>
        <p:sp>
          <p:nvSpPr>
            <p:cNvPr id="458" name=""/>
            <p:cNvSpPr/>
            <p:nvPr/>
          </p:nvSpPr>
          <p:spPr>
            <a:xfrm>
              <a:off x="6648480" y="5384880"/>
              <a:ext cx="7632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48480" y="538488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648480" y="538488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6934320" y="2216160"/>
            <a:ext cx="0" cy="3195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705720" y="5411520"/>
            <a:ext cx="228600" cy="2286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6734160" y="5535720"/>
            <a:ext cx="76320" cy="75960"/>
            <a:chOff x="6734160" y="5535720"/>
            <a:chExt cx="76320" cy="75960"/>
          </a:xfrm>
        </p:grpSpPr>
        <p:sp>
          <p:nvSpPr>
            <p:cNvPr id="464" name=""/>
            <p:cNvSpPr/>
            <p:nvPr/>
          </p:nvSpPr>
          <p:spPr>
            <a:xfrm>
              <a:off x="6734160" y="55357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34160" y="55357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734160" y="55357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6629040" y="3814920"/>
            <a:ext cx="304920" cy="380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654600" y="4076640"/>
            <a:ext cx="76320" cy="75960"/>
            <a:chOff x="6654600" y="4076640"/>
            <a:chExt cx="76320" cy="75960"/>
          </a:xfrm>
        </p:grpSpPr>
        <p:sp>
          <p:nvSpPr>
            <p:cNvPr id="469" name=""/>
            <p:cNvSpPr/>
            <p:nvPr/>
          </p:nvSpPr>
          <p:spPr>
            <a:xfrm>
              <a:off x="6654960" y="40766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4960" y="4076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654600" y="4076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7620120" y="4575240"/>
            <a:ext cx="1522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315200" y="4791240"/>
            <a:ext cx="343080" cy="79200"/>
          </a:xfrm>
          <a:custGeom>
            <a:avLst/>
            <a:gdLst/>
            <a:ahLst/>
            <a:rect l="l" t="t" r="r" b="b"/>
            <a:pathLst>
              <a:path w="216" h="50">
                <a:moveTo>
                  <a:pt x="0" y="2"/>
                </a:moveTo>
                <a:cubicBezTo>
                  <a:pt x="8" y="26"/>
                  <a:pt x="15" y="36"/>
                  <a:pt x="36" y="50"/>
                </a:cubicBezTo>
                <a:cubicBezTo>
                  <a:pt x="50" y="45"/>
                  <a:pt x="66" y="46"/>
                  <a:pt x="78" y="38"/>
                </a:cubicBezTo>
                <a:cubicBezTo>
                  <a:pt x="96" y="26"/>
                  <a:pt x="99" y="4"/>
                  <a:pt x="126" y="2"/>
                </a:cubicBezTo>
                <a:cubicBezTo>
                  <a:pt x="156" y="0"/>
                  <a:pt x="186" y="2"/>
                  <a:pt x="216" y="2"/>
                </a:cubicBezTo>
              </a:path>
            </a:pathLst>
          </a:custGeom>
          <a:noFill/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05840" y="4813200"/>
            <a:ext cx="533160" cy="513000"/>
          </a:xfrm>
          <a:custGeom>
            <a:avLst/>
            <a:gdLst/>
            <a:ahLst/>
            <a:rect l="l" t="t" r="r" b="b"/>
            <a:pathLst>
              <a:path w="336" h="324">
                <a:moveTo>
                  <a:pt x="0" y="240"/>
                </a:moveTo>
                <a:cubicBezTo>
                  <a:pt x="23" y="255"/>
                  <a:pt x="21" y="270"/>
                  <a:pt x="42" y="288"/>
                </a:cubicBezTo>
                <a:cubicBezTo>
                  <a:pt x="68" y="310"/>
                  <a:pt x="106" y="313"/>
                  <a:pt x="138" y="324"/>
                </a:cubicBezTo>
                <a:cubicBezTo>
                  <a:pt x="148" y="322"/>
                  <a:pt x="160" y="324"/>
                  <a:pt x="168" y="318"/>
                </a:cubicBezTo>
                <a:cubicBezTo>
                  <a:pt x="187" y="305"/>
                  <a:pt x="173" y="235"/>
                  <a:pt x="216" y="228"/>
                </a:cubicBezTo>
                <a:cubicBezTo>
                  <a:pt x="248" y="223"/>
                  <a:pt x="280" y="224"/>
                  <a:pt x="312" y="222"/>
                </a:cubicBezTo>
                <a:cubicBezTo>
                  <a:pt x="336" y="151"/>
                  <a:pt x="299" y="160"/>
                  <a:pt x="258" y="132"/>
                </a:cubicBezTo>
                <a:cubicBezTo>
                  <a:pt x="225" y="82"/>
                  <a:pt x="246" y="121"/>
                  <a:pt x="246" y="0"/>
                </a:cubicBezTo>
              </a:path>
            </a:pathLst>
          </a:custGeom>
          <a:noFill/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77040" y="3130560"/>
            <a:ext cx="76320" cy="74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91520" y="3357720"/>
            <a:ext cx="15228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15200" y="3164040"/>
            <a:ext cx="181080" cy="222120"/>
          </a:xfrm>
          <a:custGeom>
            <a:avLst/>
            <a:gdLst/>
            <a:ahLst/>
            <a:rect l="l" t="t" r="r" b="b"/>
            <a:pathLst>
              <a:path w="114" h="140">
                <a:moveTo>
                  <a:pt x="0" y="2"/>
                </a:moveTo>
                <a:cubicBezTo>
                  <a:pt x="26" y="4"/>
                  <a:pt x="53" y="0"/>
                  <a:pt x="78" y="8"/>
                </a:cubicBezTo>
                <a:cubicBezTo>
                  <a:pt x="84" y="10"/>
                  <a:pt x="72" y="20"/>
                  <a:pt x="72" y="26"/>
                </a:cubicBezTo>
                <a:cubicBezTo>
                  <a:pt x="72" y="32"/>
                  <a:pt x="74" y="39"/>
                  <a:pt x="78" y="44"/>
                </a:cubicBezTo>
                <a:cubicBezTo>
                  <a:pt x="86" y="55"/>
                  <a:pt x="102" y="58"/>
                  <a:pt x="114" y="62"/>
                </a:cubicBezTo>
                <a:cubicBezTo>
                  <a:pt x="82" y="110"/>
                  <a:pt x="84" y="65"/>
                  <a:pt x="84" y="1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20120" y="34336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77200" y="3386160"/>
            <a:ext cx="209520" cy="57240"/>
          </a:xfrm>
          <a:custGeom>
            <a:avLst/>
            <a:gdLst/>
            <a:ahLst/>
            <a:rect l="l" t="t" r="r" b="b"/>
            <a:pathLst>
              <a:path w="132" h="36">
                <a:moveTo>
                  <a:pt x="132" y="36"/>
                </a:moveTo>
                <a:cubicBezTo>
                  <a:pt x="124" y="12"/>
                  <a:pt x="114" y="8"/>
                  <a:pt x="90" y="0"/>
                </a:cubicBezTo>
                <a:cubicBezTo>
                  <a:pt x="60" y="10"/>
                  <a:pt x="31" y="24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301464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309096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05920" y="3166920"/>
            <a:ext cx="457200" cy="0"/>
          </a:xfrm>
          <a:prstGeom prst="line">
            <a:avLst/>
          </a:prstGeom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305920" y="324324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05920" y="339552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264520" y="2976480"/>
            <a:ext cx="76320" cy="75960"/>
            <a:chOff x="8264520" y="2976480"/>
            <a:chExt cx="76320" cy="75960"/>
          </a:xfrm>
        </p:grpSpPr>
        <p:sp>
          <p:nvSpPr>
            <p:cNvPr id="486" name=""/>
            <p:cNvSpPr/>
            <p:nvPr/>
          </p:nvSpPr>
          <p:spPr>
            <a:xfrm>
              <a:off x="8264520" y="29764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264520" y="2976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8264520" y="2976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8270640" y="3056040"/>
            <a:ext cx="76320" cy="75960"/>
            <a:chOff x="8270640" y="3056040"/>
            <a:chExt cx="76320" cy="75960"/>
          </a:xfrm>
        </p:grpSpPr>
        <p:sp>
          <p:nvSpPr>
            <p:cNvPr id="490" name=""/>
            <p:cNvSpPr/>
            <p:nvPr/>
          </p:nvSpPr>
          <p:spPr>
            <a:xfrm>
              <a:off x="8271000" y="30560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71000" y="30560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8270640" y="30560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8264520" y="3130560"/>
            <a:ext cx="76320" cy="74520"/>
            <a:chOff x="8264520" y="3130560"/>
            <a:chExt cx="76320" cy="74520"/>
          </a:xfrm>
        </p:grpSpPr>
        <p:sp>
          <p:nvSpPr>
            <p:cNvPr id="494" name=""/>
            <p:cNvSpPr/>
            <p:nvPr/>
          </p:nvSpPr>
          <p:spPr>
            <a:xfrm>
              <a:off x="8264520" y="3130560"/>
              <a:ext cx="76320" cy="7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64520" y="313056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8264520" y="3130560"/>
              <a:ext cx="7632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8270640" y="3265560"/>
            <a:ext cx="76320" cy="75960"/>
            <a:chOff x="8270640" y="3265560"/>
            <a:chExt cx="76320" cy="75960"/>
          </a:xfrm>
        </p:grpSpPr>
        <p:sp>
          <p:nvSpPr>
            <p:cNvPr id="498" name=""/>
            <p:cNvSpPr/>
            <p:nvPr/>
          </p:nvSpPr>
          <p:spPr>
            <a:xfrm>
              <a:off x="8271000" y="326556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71000" y="32655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8270640" y="32655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8270640" y="3357720"/>
            <a:ext cx="76320" cy="75960"/>
            <a:chOff x="8270640" y="3357720"/>
            <a:chExt cx="76320" cy="75960"/>
          </a:xfrm>
        </p:grpSpPr>
        <p:sp>
          <p:nvSpPr>
            <p:cNvPr id="502" name=""/>
            <p:cNvSpPr/>
            <p:nvPr/>
          </p:nvSpPr>
          <p:spPr>
            <a:xfrm>
              <a:off x="8271000" y="335772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271000" y="33577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8270640" y="335772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8397720" y="2976480"/>
            <a:ext cx="76320" cy="75960"/>
            <a:chOff x="8397720" y="2976480"/>
            <a:chExt cx="76320" cy="75960"/>
          </a:xfrm>
        </p:grpSpPr>
        <p:sp>
          <p:nvSpPr>
            <p:cNvPr id="506" name=""/>
            <p:cNvSpPr/>
            <p:nvPr/>
          </p:nvSpPr>
          <p:spPr>
            <a:xfrm>
              <a:off x="8397720" y="29764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97720" y="2976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397720" y="29764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8404200" y="3125880"/>
            <a:ext cx="76320" cy="75960"/>
            <a:chOff x="8404200" y="3125880"/>
            <a:chExt cx="76320" cy="75960"/>
          </a:xfrm>
        </p:grpSpPr>
        <p:sp>
          <p:nvSpPr>
            <p:cNvPr id="510" name=""/>
            <p:cNvSpPr/>
            <p:nvPr/>
          </p:nvSpPr>
          <p:spPr>
            <a:xfrm>
              <a:off x="8404200" y="31258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04200" y="31258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8404200" y="31258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7086600" y="390600"/>
            <a:ext cx="304920" cy="37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62920" y="542880"/>
            <a:ext cx="0" cy="12160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7048440" y="1722600"/>
            <a:ext cx="76320" cy="75960"/>
            <a:chOff x="7048440" y="1722600"/>
            <a:chExt cx="76320" cy="75960"/>
          </a:xfrm>
        </p:grpSpPr>
        <p:sp>
          <p:nvSpPr>
            <p:cNvPr id="516" name=""/>
            <p:cNvSpPr/>
            <p:nvPr/>
          </p:nvSpPr>
          <p:spPr>
            <a:xfrm>
              <a:off x="7048440" y="17226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48440" y="17226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7048440" y="17226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 flipH="1">
            <a:off x="6934320" y="2063880"/>
            <a:ext cx="3808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19920" y="617400"/>
            <a:ext cx="914400" cy="1598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934320" y="1758960"/>
            <a:ext cx="0" cy="3049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67080" y="1608120"/>
            <a:ext cx="28958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6933960" y="1568520"/>
            <a:ext cx="76320" cy="77400"/>
            <a:chOff x="6933960" y="1568520"/>
            <a:chExt cx="76320" cy="77400"/>
          </a:xfrm>
        </p:grpSpPr>
        <p:sp>
          <p:nvSpPr>
            <p:cNvPr id="524" name=""/>
            <p:cNvSpPr/>
            <p:nvPr/>
          </p:nvSpPr>
          <p:spPr>
            <a:xfrm>
              <a:off x="6934320" y="1568520"/>
              <a:ext cx="75960" cy="7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1568520"/>
              <a:ext cx="7596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933960" y="1568520"/>
              <a:ext cx="7596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7277040" y="1949400"/>
            <a:ext cx="76320" cy="75960"/>
            <a:chOff x="7277040" y="1949400"/>
            <a:chExt cx="76320" cy="75960"/>
          </a:xfrm>
        </p:grpSpPr>
        <p:sp>
          <p:nvSpPr>
            <p:cNvPr id="528" name=""/>
            <p:cNvSpPr/>
            <p:nvPr/>
          </p:nvSpPr>
          <p:spPr>
            <a:xfrm>
              <a:off x="7277040" y="19494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77040" y="19494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7277040" y="19494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896160" y="1969920"/>
            <a:ext cx="76320" cy="74880"/>
            <a:chOff x="6896160" y="1969920"/>
            <a:chExt cx="76320" cy="74880"/>
          </a:xfrm>
        </p:grpSpPr>
        <p:sp>
          <p:nvSpPr>
            <p:cNvPr id="532" name=""/>
            <p:cNvSpPr/>
            <p:nvPr/>
          </p:nvSpPr>
          <p:spPr>
            <a:xfrm>
              <a:off x="6896160" y="1969920"/>
              <a:ext cx="76320" cy="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96160" y="1969920"/>
              <a:ext cx="7632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896160" y="1969920"/>
              <a:ext cx="7632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3886200" y="1379520"/>
            <a:ext cx="3809880" cy="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7772400" y="2101680"/>
            <a:ext cx="76320" cy="75960"/>
            <a:chOff x="7772400" y="2101680"/>
            <a:chExt cx="76320" cy="75960"/>
          </a:xfrm>
        </p:grpSpPr>
        <p:sp>
          <p:nvSpPr>
            <p:cNvPr id="537" name=""/>
            <p:cNvSpPr/>
            <p:nvPr/>
          </p:nvSpPr>
          <p:spPr>
            <a:xfrm>
              <a:off x="7772400" y="210168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72400" y="21016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772400" y="210168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886520" y="2368440"/>
            <a:ext cx="76320" cy="75960"/>
            <a:chOff x="7886520" y="2368440"/>
            <a:chExt cx="76320" cy="75960"/>
          </a:xfrm>
        </p:grpSpPr>
        <p:sp>
          <p:nvSpPr>
            <p:cNvPr id="541" name=""/>
            <p:cNvSpPr/>
            <p:nvPr/>
          </p:nvSpPr>
          <p:spPr>
            <a:xfrm>
              <a:off x="7886880" y="236844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86880" y="23684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886520" y="23684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05120" y="1303200"/>
            <a:ext cx="533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0" y="1265400"/>
            <a:ext cx="76320" cy="75960"/>
            <a:chOff x="2286000" y="1265400"/>
            <a:chExt cx="76320" cy="75960"/>
          </a:xfrm>
        </p:grpSpPr>
        <p:sp>
          <p:nvSpPr>
            <p:cNvPr id="546" name=""/>
            <p:cNvSpPr/>
            <p:nvPr/>
          </p:nvSpPr>
          <p:spPr>
            <a:xfrm>
              <a:off x="2286000" y="12654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2654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286000" y="12654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28800" y="4118040"/>
            <a:ext cx="0" cy="175104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95320" y="1041480"/>
            <a:ext cx="76428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100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17760" y="4375080"/>
            <a:ext cx="612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8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7760" y="5668920"/>
            <a:ext cx="612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8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38160" y="4603680"/>
            <a:ext cx="612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4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91760" y="4527720"/>
            <a:ext cx="687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K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320 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4118040"/>
            <a:ext cx="10666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4118040"/>
            <a:ext cx="0" cy="2286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28800" y="5869080"/>
            <a:ext cx="1522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790640" y="5716440"/>
            <a:ext cx="76320" cy="75960"/>
            <a:chOff x="1790640" y="5716440"/>
            <a:chExt cx="76320" cy="75960"/>
          </a:xfrm>
        </p:grpSpPr>
        <p:sp>
          <p:nvSpPr>
            <p:cNvPr id="559" name=""/>
            <p:cNvSpPr/>
            <p:nvPr/>
          </p:nvSpPr>
          <p:spPr>
            <a:xfrm>
              <a:off x="1790640" y="571644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90640" y="571644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790640" y="571644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676160" y="4081320"/>
            <a:ext cx="76320" cy="74880"/>
            <a:chOff x="1676160" y="4081320"/>
            <a:chExt cx="76320" cy="74880"/>
          </a:xfrm>
        </p:grpSpPr>
        <p:sp>
          <p:nvSpPr>
            <p:cNvPr id="563" name=""/>
            <p:cNvSpPr/>
            <p:nvPr/>
          </p:nvSpPr>
          <p:spPr>
            <a:xfrm>
              <a:off x="1676520" y="4081320"/>
              <a:ext cx="75960" cy="7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676520" y="4081320"/>
              <a:ext cx="7596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676160" y="4081320"/>
              <a:ext cx="7596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4952880" y="2900520"/>
            <a:ext cx="129564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714920" y="2554200"/>
            <a:ext cx="76320" cy="75960"/>
            <a:chOff x="4714920" y="2554200"/>
            <a:chExt cx="76320" cy="75960"/>
          </a:xfrm>
        </p:grpSpPr>
        <p:sp>
          <p:nvSpPr>
            <p:cNvPr id="568" name=""/>
            <p:cNvSpPr/>
            <p:nvPr/>
          </p:nvSpPr>
          <p:spPr>
            <a:xfrm>
              <a:off x="4714920" y="255420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14920" y="25542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4714920" y="255420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048120" y="2749680"/>
            <a:ext cx="0" cy="3808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2749680"/>
            <a:ext cx="0" cy="1596960"/>
          </a:xfrm>
          <a:prstGeom prst="line">
            <a:avLst/>
          </a:prstGeom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103360" y="2596680"/>
            <a:ext cx="81000" cy="75960"/>
            <a:chOff x="5103360" y="2596680"/>
            <a:chExt cx="81000" cy="75960"/>
          </a:xfrm>
        </p:grpSpPr>
        <p:sp>
          <p:nvSpPr>
            <p:cNvPr id="574" name=""/>
            <p:cNvSpPr/>
            <p:nvPr/>
          </p:nvSpPr>
          <p:spPr>
            <a:xfrm flipV="1">
              <a:off x="5146560" y="2596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0800000">
              <a:off x="5103360" y="2644200"/>
              <a:ext cx="81000" cy="2844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3" y="18"/>
                  </a:moveTo>
                  <a:lnTo>
                    <a:pt x="51" y="18"/>
                  </a:lnTo>
                  <a:cubicBezTo>
                    <a:pt x="45" y="10"/>
                    <a:pt x="41" y="4"/>
                    <a:pt x="30" y="2"/>
                  </a:cubicBezTo>
                  <a:cubicBezTo>
                    <a:pt x="18" y="3"/>
                    <a:pt x="10" y="0"/>
                    <a:pt x="3" y="9"/>
                  </a:cubicBezTo>
                  <a:cubicBezTo>
                    <a:pt x="2" y="17"/>
                    <a:pt x="0" y="15"/>
                    <a:pt x="3" y="1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77040" y="4637160"/>
            <a:ext cx="76320" cy="75960"/>
            <a:chOff x="7277040" y="4637160"/>
            <a:chExt cx="76320" cy="75960"/>
          </a:xfrm>
        </p:grpSpPr>
        <p:sp>
          <p:nvSpPr>
            <p:cNvPr id="577" name=""/>
            <p:cNvSpPr/>
            <p:nvPr/>
          </p:nvSpPr>
          <p:spPr>
            <a:xfrm>
              <a:off x="7277040" y="463716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77040" y="46371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277040" y="463716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7310160" y="5202360"/>
            <a:ext cx="76320" cy="75960"/>
            <a:chOff x="7310160" y="5202360"/>
            <a:chExt cx="76320" cy="75960"/>
          </a:xfrm>
        </p:grpSpPr>
        <p:sp>
          <p:nvSpPr>
            <p:cNvPr id="581" name=""/>
            <p:cNvSpPr/>
            <p:nvPr/>
          </p:nvSpPr>
          <p:spPr>
            <a:xfrm>
              <a:off x="7310520" y="5202360"/>
              <a:ext cx="759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10520" y="5202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310160" y="5202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324560" y="4822920"/>
            <a:ext cx="76320" cy="75960"/>
            <a:chOff x="7324560" y="4822920"/>
            <a:chExt cx="76320" cy="75960"/>
          </a:xfrm>
        </p:grpSpPr>
        <p:sp>
          <p:nvSpPr>
            <p:cNvPr id="585" name=""/>
            <p:cNvSpPr/>
            <p:nvPr/>
          </p:nvSpPr>
          <p:spPr>
            <a:xfrm>
              <a:off x="7324560" y="4822920"/>
              <a:ext cx="7632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24560" y="48229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324560" y="482292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676520" y="162000"/>
            <a:ext cx="4572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28800" y="16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16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057400" y="314280"/>
            <a:ext cx="3962520" cy="303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456840" y="85320"/>
            <a:ext cx="1219320" cy="1522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1303200"/>
            <a:ext cx="0" cy="32720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28800" y="4118040"/>
            <a:ext cx="76212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90920" y="408132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376040" y="638280"/>
            <a:ext cx="85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Calent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409520" y="3583080"/>
            <a:ext cx="1232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Bomba inyect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Desemulsion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804080" y="4519440"/>
            <a:ext cx="10584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Bomba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ratami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etro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257800" y="201132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7800" y="201780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72200" y="2017800"/>
            <a:ext cx="0" cy="426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52880" y="2440080"/>
            <a:ext cx="1219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19782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952880" y="1973160"/>
            <a:ext cx="914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867280" y="162000"/>
            <a:ext cx="609840" cy="1816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315200" y="542880"/>
            <a:ext cx="0" cy="4260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144800">
            <a:off x="6467040" y="0"/>
            <a:ext cx="76320" cy="162000"/>
          </a:xfrm>
          <a:custGeom>
            <a:avLst/>
            <a:gdLst/>
            <a:ahLst/>
            <a:rect l="l" t="t" r="r" b="b"/>
            <a:pathLst>
              <a:path w="96" h="121">
                <a:moveTo>
                  <a:pt x="0" y="115"/>
                </a:moveTo>
                <a:lnTo>
                  <a:pt x="96" y="115"/>
                </a:lnTo>
                <a:cubicBezTo>
                  <a:pt x="95" y="107"/>
                  <a:pt x="92" y="102"/>
                  <a:pt x="87" y="96"/>
                </a:cubicBezTo>
                <a:cubicBezTo>
                  <a:pt x="85" y="86"/>
                  <a:pt x="84" y="77"/>
                  <a:pt x="78" y="69"/>
                </a:cubicBezTo>
                <a:cubicBezTo>
                  <a:pt x="77" y="63"/>
                  <a:pt x="75" y="57"/>
                  <a:pt x="72" y="51"/>
                </a:cubicBezTo>
                <a:cubicBezTo>
                  <a:pt x="70" y="31"/>
                  <a:pt x="60" y="16"/>
                  <a:pt x="48" y="0"/>
                </a:cubicBezTo>
                <a:cubicBezTo>
                  <a:pt x="47" y="7"/>
                  <a:pt x="42" y="12"/>
                  <a:pt x="39" y="19"/>
                </a:cubicBezTo>
                <a:cubicBezTo>
                  <a:pt x="38" y="25"/>
                  <a:pt x="36" y="31"/>
                  <a:pt x="33" y="37"/>
                </a:cubicBezTo>
                <a:cubicBezTo>
                  <a:pt x="31" y="45"/>
                  <a:pt x="32" y="46"/>
                  <a:pt x="24" y="45"/>
                </a:cubicBezTo>
                <a:cubicBezTo>
                  <a:pt x="23" y="51"/>
                  <a:pt x="23" y="55"/>
                  <a:pt x="26" y="61"/>
                </a:cubicBezTo>
                <a:cubicBezTo>
                  <a:pt x="23" y="73"/>
                  <a:pt x="19" y="74"/>
                  <a:pt x="23" y="87"/>
                </a:cubicBezTo>
                <a:cubicBezTo>
                  <a:pt x="20" y="93"/>
                  <a:pt x="17" y="96"/>
                  <a:pt x="12" y="99"/>
                </a:cubicBezTo>
                <a:cubicBezTo>
                  <a:pt x="11" y="107"/>
                  <a:pt x="10" y="121"/>
                  <a:pt x="0" y="115"/>
                </a:cubicBez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05920" y="88920"/>
            <a:ext cx="410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29360" y="434880"/>
            <a:ext cx="848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icina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2895120" y="390600"/>
            <a:ext cx="228600" cy="379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470000" y="5459400"/>
            <a:ext cx="1018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REFER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2920" y="5792760"/>
            <a:ext cx="457200" cy="0"/>
          </a:xfrm>
          <a:prstGeom prst="line">
            <a:avLst/>
          </a:prstGeom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162920" y="5945040"/>
            <a:ext cx="457200" cy="0"/>
          </a:xfrm>
          <a:prstGeom prst="line">
            <a:avLst/>
          </a:prstGeom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162920" y="6097680"/>
            <a:ext cx="457200" cy="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6249960"/>
            <a:ext cx="45720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620120" y="5705640"/>
            <a:ext cx="15238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gas,petroleo,ag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agua petrol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petrol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ag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162920" y="6402240"/>
            <a:ext cx="4572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93080" y="3129120"/>
            <a:ext cx="707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Col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522280" y="2936880"/>
            <a:ext cx="965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ozo EVN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521920" y="3097080"/>
            <a:ext cx="881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De PCL-x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73160" y="182520"/>
            <a:ext cx="2105280" cy="578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BATERIA VINA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Golden Oil 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9360"/>
            <a:ext cx="9144000" cy="6848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istema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Inter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resa: Rafa &amp; Ra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 Transporta entre Puesto Climaco a Batería Vinalar total de 24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a Refiner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resa: K &amp; M 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a desde Batería Vinalar a Descargadero Aguaray (Descargadero de Refinor) total de 250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098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mit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392360" cy="56167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4924440" y="907920"/>
            <a:ext cx="36799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3:42:42Z</dcterms:created>
  <dc:creator>.</dc:creator>
  <dc:description/>
  <dc:language>en-US</dc:language>
  <cp:lastModifiedBy>--</cp:lastModifiedBy>
  <dcterms:modified xsi:type="dcterms:W3CDTF">2005-12-27T14:54:28Z</dcterms:modified>
  <cp:revision>18</cp:revision>
  <dc:subject/>
  <dc:title>Presentacion de la sistema de entrega en Yac. El Vinalar</dc:title>
</cp:coreProperties>
</file>