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A633A-3208-415B-98DB-C5D355D06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280D-12D1-4D98-8DDA-E7BC3654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DDB73-FF55-4CAE-8DCF-356A7520A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1132F-4E6A-4092-8D31-BBE695C8C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96B05-2F29-49AB-A31A-9F900DC1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FE4C5-BCDA-4308-9FE4-F155D6B36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FCCC-F4C2-4827-8548-5F6B4B41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AB8C-FDD9-4BB9-BF5A-CAC79CB6D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9CFC-0277-4E71-A910-624C022C9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6BBD-2BA8-4235-9B6F-5D9C6E7E4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F2E2-F5DF-4BB3-96CA-470AC84F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A8AF-7F62-426E-987D-DC592247C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2512-2629-4A94-87DC-E8B52B9F0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9"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ACOPIO Y DESPACHO </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Desde dicha PTC el crudo en especificación es transportado en camión a nuestra Planta de Acopio y Despacho “Challacó”.</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sta Planta tiene una capacidad de almacenaje de 432 m3.</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Planta se recibe:</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Norte;</a:t>
            </a:r>
            <a:endParaRPr b="0" lang="en-US" sz="2400" spc="-1" strike="noStrike">
              <a:solidFill>
                <a:srgbClr val="000000"/>
              </a:solidFill>
              <a:latin typeface="Times New Roman"/>
            </a:endParaRPr>
          </a:p>
          <a:p>
            <a:pPr lvl="1" marL="727920" indent="-280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producción propia del yacimiento Cutral Co;</a:t>
            </a:r>
            <a:endParaRPr b="0" lang="en-US" sz="2000" spc="-1" strike="noStrike">
              <a:solidFill>
                <a:srgbClr val="000000"/>
              </a:solidFill>
              <a:latin typeface="Times New Roman"/>
            </a:endParaRPr>
          </a:p>
          <a:p>
            <a:pPr lvl="1" marL="727920" indent="-280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producción industrial de condensado de gas natural proveniente de la Planta Compresora “El Medanito”, ubicada en las cercanías de la localidad de Catriel (RN) y</a:t>
            </a:r>
            <a:endParaRPr b="0" lang="en-US" sz="2000" spc="-1" strike="noStrike">
              <a:solidFill>
                <a:srgbClr val="000000"/>
              </a:solidFill>
              <a:latin typeface="Times New Roman"/>
            </a:endParaRPr>
          </a:p>
          <a:p>
            <a:pPr lvl="1" marL="727920" indent="-280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producción de crudo del yacimiento “El Sauce” de CHEVRON.</a:t>
            </a:r>
            <a:endParaRPr b="0" lang="en-US" sz="2000" spc="-1" strike="noStrike">
              <a:solidFill>
                <a:srgbClr val="000000"/>
              </a:solidFill>
              <a:latin typeface="Times New Roman"/>
            </a:endParaRPr>
          </a:p>
        </p:txBody>
      </p:sp>
      <p:sp>
        <p:nvSpPr>
          <p:cNvPr id="70"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72"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IST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Dicha Planta de Acopio y Despacho de “Challacó” se encuentra vinculada directamente con la red  de OLDELVAL, haciéndose directamente el trasvase a dicha red, para su transporte hasta Puerto Rosales.</a:t>
            </a:r>
            <a:endParaRPr b="0" lang="en-US" sz="2400" spc="-1" strike="noStrike">
              <a:solidFill>
                <a:srgbClr val="000000"/>
              </a:solidFill>
              <a:latin typeface="Times New Roman"/>
            </a:endParaRPr>
          </a:p>
        </p:txBody>
      </p:sp>
      <p:sp>
        <p:nvSpPr>
          <p:cNvPr id="73"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75"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gasolina natural obtenida durante el proceso industrial es almacenada y despachada en camiones tanque desde  la Planta de “El Medanito” a la Planta de Acopio y Despacho “Challacó”.</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MEDICIÓN DE LA PRODUCCIÓN:</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 gasolina es registrada en Medanito por un medidor másico, y en Challacó por cinta y pilón (altura de tanques). </a:t>
            </a:r>
            <a:endParaRPr b="0" lang="en-US" sz="2400" spc="-1" strike="noStrike">
              <a:solidFill>
                <a:srgbClr val="000000"/>
              </a:solidFill>
              <a:latin typeface="Times New Roman"/>
            </a:endParaRPr>
          </a:p>
        </p:txBody>
      </p:sp>
      <p:sp>
        <p:nvSpPr>
          <p:cNvPr id="76"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3 GASOLINA ELABORADA EN LA PLANTA “EL MEDAN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78"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 cantidad total entregada a OLDELVAL en ambos puntos es devuelta por ésta Compañía en Puerto Rosales al cliente de nuestra empresa (ESSO).</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 relación operativa y comercial con OLDELVAL está sujeta a las “CONDICIONES Y PROCEDIMIENTOS PARA LA PRESTACIÓN DEL SERVICIO DE TRANSPORTE DE PETROLEO CRUDO” (DOC. C-001/CP 01), a las cuales MEDANITO S.A. se adhirió oportunamente.</a:t>
            </a:r>
            <a:endParaRPr b="0" lang="en-US" sz="2400" spc="-1" strike="noStrike">
              <a:solidFill>
                <a:srgbClr val="000000"/>
              </a:solidFill>
              <a:latin typeface="Times New Roman"/>
            </a:endParaRPr>
          </a:p>
        </p:txBody>
      </p:sp>
      <p:sp>
        <p:nvSpPr>
          <p:cNvPr id="79"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4  DESTINO DEL PRODUCTO ENTREG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81"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s tarifas aplicadas para cada uno de los tramos resultantes, son las informadas por OLDELVAL, las cuales han sido inferiores – hasta la fecha – a las indicadas en la Resolución Nº 5/2004 emitida por la Autoridad de Aplicación.</a:t>
            </a:r>
            <a:endParaRPr b="0" lang="en-US" sz="2400" spc="-1" strike="noStrike">
              <a:solidFill>
                <a:srgbClr val="000000"/>
              </a:solidFill>
              <a:latin typeface="Times New Roman"/>
            </a:endParaRPr>
          </a:p>
        </p:txBody>
      </p:sp>
      <p:sp>
        <p:nvSpPr>
          <p:cNvPr id="82"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5  TARIF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84"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Narrow"/>
              </a:rPr>
              <a:t>A continuación se pueden ver los oleoductos que opera OLDELVAL y mediante los cuales presta su servicio de transporte de petróleo. Medanito ingresa al mencionado sistema por dos cabeceras: PTC Puesto Hernández y PAD Challacó.</a:t>
            </a:r>
            <a:endParaRPr b="0" lang="en-US" sz="1600" spc="-1" strike="noStrike">
              <a:solidFill>
                <a:srgbClr val="000000"/>
              </a:solidFill>
              <a:latin typeface="Times New Roman"/>
            </a:endParaRPr>
          </a:p>
        </p:txBody>
      </p:sp>
      <p:sp>
        <p:nvSpPr>
          <p:cNvPr id="85"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6  DIAGRAMA OLDELVAL</a:t>
            </a:r>
            <a:endParaRPr b="0" lang="en-US" sz="2400" spc="-1" strike="noStrike">
              <a:solidFill>
                <a:srgbClr val="000000"/>
              </a:solidFill>
              <a:latin typeface="Times New Roman"/>
            </a:endParaRPr>
          </a:p>
        </p:txBody>
      </p:sp>
      <p:pic>
        <p:nvPicPr>
          <p:cNvPr id="86" name="Carlos%20Celeste" descr=""/>
          <p:cNvPicPr/>
          <p:nvPr/>
        </p:nvPicPr>
        <p:blipFill>
          <a:blip r:embed="rId1"/>
          <a:srcRect l="0" t="0" r="0" b="7253"/>
          <a:stretch/>
        </p:blipFill>
        <p:spPr>
          <a:xfrm>
            <a:off x="380880" y="2362320"/>
            <a:ext cx="769644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8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7  RESUMEN TRANSPORTE CARRETERO</a:t>
            </a:r>
            <a:endParaRPr b="0" lang="en-US" sz="2400" spc="-1" strike="noStrike">
              <a:solidFill>
                <a:srgbClr val="000000"/>
              </a:solidFill>
              <a:latin typeface="Times New Roman"/>
            </a:endParaRPr>
          </a:p>
        </p:txBody>
      </p:sp>
      <p:sp>
        <p:nvSpPr>
          <p:cNvPr id="89"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7000"/>
          </a:bodyPr>
          <a:p>
            <a:pPr marL="517320" indent="-51732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El transporte carretero se realiza por medio de una empresa que pone a disposiciòn permanente unidades de transporte de petróleo cuyo recorrido básico es:</a:t>
            </a:r>
            <a:endParaRPr b="0" lang="en-US" sz="2000" spc="-1" strike="noStrike">
              <a:solidFill>
                <a:srgbClr val="000000"/>
              </a:solidFill>
              <a:latin typeface="Times New Roman"/>
            </a:endParaRPr>
          </a:p>
          <a:p>
            <a:pPr lvl="1" marL="1015920" indent="-276840" algn="just">
              <a:lnSpc>
                <a:spcPct val="90000"/>
              </a:lnSpc>
              <a:spcBef>
                <a:spcPts val="400"/>
              </a:spcBef>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Narrow"/>
              </a:rPr>
              <a:t>La unidad con asiento en Rincón de los Sauces transporta petróleo fuera de especificación del Área Aguada Chivato, desde la Batería o pozos hasta la Planta de Tratamiento de Crudo ubicada en Puesto Hernández .</a:t>
            </a:r>
            <a:endParaRPr b="0" lang="en-US" sz="1600" spc="-1" strike="noStrike">
              <a:solidFill>
                <a:srgbClr val="000000"/>
              </a:solidFill>
              <a:latin typeface="Times New Roman"/>
            </a:endParaRPr>
          </a:p>
          <a:p>
            <a:pPr lvl="1" marL="1015920" indent="-276840" algn="just">
              <a:lnSpc>
                <a:spcPct val="90000"/>
              </a:lnSpc>
              <a:spcBef>
                <a:spcPts val="400"/>
              </a:spcBef>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Narrow"/>
              </a:rPr>
              <a:t>La unidad con asiento en Cutral Có transporta: </a:t>
            </a:r>
            <a:endParaRPr b="0" lang="en-US" sz="1600" spc="-1" strike="noStrike">
              <a:solidFill>
                <a:srgbClr val="000000"/>
              </a:solidFill>
              <a:latin typeface="Times New Roman"/>
            </a:endParaRPr>
          </a:p>
          <a:p>
            <a:pPr lvl="2" marL="1570680" indent="-369360" algn="just">
              <a:lnSpc>
                <a:spcPct val="90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Narrow"/>
              </a:rPr>
              <a:t>petróleo tratado desde el yacimiento hasta la Planta de Despacho de Challacó. </a:t>
            </a:r>
            <a:endParaRPr b="0" lang="en-US" sz="1400" spc="-1" strike="noStrike">
              <a:solidFill>
                <a:srgbClr val="000000"/>
              </a:solidFill>
              <a:latin typeface="Times New Roman"/>
            </a:endParaRPr>
          </a:p>
          <a:p>
            <a:pPr lvl="2" marL="1570680" indent="-369360" algn="just">
              <a:lnSpc>
                <a:spcPct val="90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Narrow"/>
              </a:rPr>
              <a:t>petróleo fuera de especificación desde los pozos que no poseen lineas de conducción hasta el manifold de entrada en la Planta de Tratamiento de Cutral Có y</a:t>
            </a:r>
            <a:endParaRPr b="0" lang="en-US" sz="1400" spc="-1" strike="noStrike">
              <a:solidFill>
                <a:srgbClr val="000000"/>
              </a:solidFill>
              <a:latin typeface="Times New Roman"/>
            </a:endParaRPr>
          </a:p>
          <a:p>
            <a:pPr lvl="2" marL="1570680" indent="-369360" algn="just">
              <a:lnSpc>
                <a:spcPct val="90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Arial Narrow"/>
              </a:rPr>
              <a:t>gasolina natural desde la Planta “El Medanito” hasta la Planta de Despacho Challacó.</a:t>
            </a:r>
            <a:endParaRPr b="0" lang="en-US" sz="1400" spc="-1" strike="noStrike">
              <a:solidFill>
                <a:srgbClr val="000000"/>
              </a:solidFill>
              <a:latin typeface="Times New Roman"/>
            </a:endParaRPr>
          </a:p>
          <a:p>
            <a:pPr lvl="1" marL="101592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7320" indent="-51732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Todo el movimiento de producto esta debidamente registrado en remitos, guías, certificados de recepción o despacho según corresponda</a:t>
            </a:r>
            <a:endParaRPr b="0" lang="en-US" sz="2000" spc="-1" strike="noStrike">
              <a:solidFill>
                <a:srgbClr val="000000"/>
              </a:solidFill>
              <a:latin typeface="Times New Roman"/>
            </a:endParaRPr>
          </a:p>
          <a:p>
            <a:pPr marL="517320" indent="-51732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Narrow"/>
              </a:rPr>
              <a:t>La unidad de transporte y su conductor cumplen con todas las exigencias impuestas por la normativa vig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
        <p:nvSpPr>
          <p:cNvPr id="91"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La empresa produce Gas natural de sus áreas Aguada del Chivato (2.1) y Cutral-Co Norte (2.2).</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 gas ácido (+ de 4 ppm de H2S) de las áreas (2.3) Medanito Sudeste, 25 de Mayo, Bajo del Piche, El Medanito, Barranca de los Loros, operados por terceros.</a:t>
            </a:r>
            <a:endParaRPr b="0" lang="en-US" sz="2400" spc="-1" strike="noStrike">
              <a:solidFill>
                <a:srgbClr val="000000"/>
              </a:solidFill>
              <a:latin typeface="Times New Roman"/>
            </a:endParaRPr>
          </a:p>
        </p:txBody>
      </p:sp>
      <p:sp>
        <p:nvSpPr>
          <p:cNvPr id="92"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GAS NATU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93"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Ubicación geográfica</a:t>
            </a:r>
            <a:endParaRPr b="0" lang="en-US" sz="2400" spc="-1" strike="noStrike">
              <a:solidFill>
                <a:srgbClr val="000000"/>
              </a:solidFill>
              <a:latin typeface="Times New Roman"/>
            </a:endParaRPr>
          </a:p>
        </p:txBody>
      </p:sp>
      <p:graphicFrame>
        <p:nvGraphicFramePr>
          <p:cNvPr id="94" name=""/>
          <p:cNvGraphicFramePr/>
          <p:nvPr/>
        </p:nvGraphicFramePr>
        <p:xfrm>
          <a:off x="2666880" y="1123920"/>
          <a:ext cx="4959360" cy="5353200"/>
        </p:xfrm>
        <a:graphic>
          <a:graphicData uri="http://schemas.openxmlformats.org/presentationml/2006/ole">
            <p:oleObj progId="PowerPoint.Show.12" r:id="rId1" spid="">
              <p:embed/>
              <p:pic>
                <p:nvPicPr>
                  <p:cNvPr id="95" name="" descr=""/>
                  <p:cNvPicPr/>
                  <p:nvPr/>
                </p:nvPicPr>
                <p:blipFill>
                  <a:blip r:embed="rId2"/>
                  <a:stretch/>
                </p:blipFill>
                <p:spPr>
                  <a:xfrm>
                    <a:off x="2666880" y="1123920"/>
                    <a:ext cx="4959360" cy="5353200"/>
                  </a:xfrm>
                  <a:prstGeom prst="rect">
                    <a:avLst/>
                  </a:prstGeom>
                  <a:ln w="12600">
                    <a:solidFill>
                      <a:srgbClr val="000000"/>
                    </a:solidFill>
                    <a:miter/>
                  </a:ln>
                </p:spPr>
              </p:pic>
            </p:oleObj>
          </a:graphicData>
        </a:graphic>
      </p:graphicFrame>
      <p:sp>
        <p:nvSpPr>
          <p:cNvPr id="9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CIÓN: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l yacimiento es transportada dentro del área por una red de gasoductos de captación desde los pozos productores (ACH 7, 17 y 18), se le quitan los hidrocarburos líquidos en varios separadores y es deshidratada. La actual producción media  anual es de 40 mil m3/día de ga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1  PRODUCCIÓN de AGUADA DEL CHIVATO</a:t>
            </a:r>
            <a:endParaRPr b="0" lang="en-US" sz="2400" spc="-1" strike="noStrike">
              <a:solidFill>
                <a:srgbClr val="000000"/>
              </a:solidFill>
              <a:latin typeface="Times New Roman"/>
            </a:endParaRPr>
          </a:p>
        </p:txBody>
      </p:sp>
      <p:sp>
        <p:nvSpPr>
          <p:cNvPr id="99"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NTENIDO</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HIDROCARBUROS LÍQUIDOS</a:t>
            </a: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HIDROCARBUROS GASEOSOS</a:t>
            </a: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GRADO DE VINCULACIÓN EXISTENTE CON LA GESTIÓN COMERCIAL QUE SE APLICA PARA LA COMERCIALIZACIÓN DEL GAS OBTENIDO.</a:t>
            </a:r>
            <a:endParaRPr b="0" lang="en-US" sz="2400" spc="-1" strike="noStrike">
              <a:solidFill>
                <a:srgbClr val="000000"/>
              </a:solidFill>
              <a:latin typeface="Times New Roman"/>
            </a:endParaRPr>
          </a:p>
          <a:p>
            <a:pPr marL="609480" indent="-609480" algn="just">
              <a:lnSpc>
                <a:spcPct val="100000"/>
              </a:lnSpc>
              <a:spcBef>
                <a:spcPts val="601"/>
              </a:spcBef>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SISTEMA DE GESTIÓN AMBIENTAL APLICADO</a:t>
            </a: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Batería aledaña a la ruta provincial 5, se concentra la producción, y desde allí se evacua mediante 2 gasoductos paralelos para el abastecimiento de la localidad de Rincón de los Sauces para su posterior distribución por parte de HIDENESA. Se encuentra instalado un puente de medición AGA 3 con brida portaplaca con placa orificio con registrador Foxboro de 3 variables – presión estática, presión diferencial y tempetarura. La localidad se encuentra aislada de la red troncal de gasoductos.</a:t>
            </a:r>
            <a:endParaRPr b="0" lang="en-US" sz="2400" spc="-1" strike="noStrike">
              <a:solidFill>
                <a:srgbClr val="000000"/>
              </a:solidFill>
              <a:latin typeface="Times New Roman"/>
            </a:endParaRPr>
          </a:p>
        </p:txBody>
      </p:sp>
      <p:sp>
        <p:nvSpPr>
          <p:cNvPr id="10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1  PRODUCCIÓN de AGUADA DEL CHIVATO</a:t>
            </a:r>
            <a:endParaRPr b="0" lang="en-US" sz="2400" spc="-1" strike="noStrike">
              <a:solidFill>
                <a:srgbClr val="000000"/>
              </a:solidFill>
              <a:latin typeface="Times New Roman"/>
            </a:endParaRPr>
          </a:p>
        </p:txBody>
      </p:sp>
      <p:sp>
        <p:nvSpPr>
          <p:cNvPr id="102"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Mapa red de gasoductos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de captación: </a:t>
            </a:r>
            <a:endParaRPr b="0" lang="en-US" sz="2000" spc="-1" strike="noStrike">
              <a:solidFill>
                <a:srgbClr val="000000"/>
              </a:solidFill>
              <a:latin typeface="Times New Roman"/>
            </a:endParaRPr>
          </a:p>
        </p:txBody>
      </p:sp>
      <p:sp>
        <p:nvSpPr>
          <p:cNvPr id="104"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1  PRODUCCIÓN de AGUADA DEL CHIVATO</a:t>
            </a:r>
            <a:endParaRPr b="0" lang="en-US" sz="2400" spc="-1" strike="noStrike">
              <a:solidFill>
                <a:srgbClr val="000000"/>
              </a:solidFill>
              <a:latin typeface="Times New Roman"/>
            </a:endParaRPr>
          </a:p>
        </p:txBody>
      </p:sp>
      <p:sp>
        <p:nvSpPr>
          <p:cNvPr id="105"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8120" y="1371600"/>
            <a:ext cx="5486400" cy="514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CIÓN: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l yacimiento es transportada dentro del área por una red de gasoductos de captación, desde los pozos productores CCO 93 y El Molino X1. La actual producción media anual es de 47 mil m3/ día de gas. </a:t>
            </a:r>
            <a:endParaRPr b="0" lang="en-US" sz="2400" spc="-1" strike="noStrike">
              <a:solidFill>
                <a:srgbClr val="000000"/>
              </a:solidFill>
              <a:latin typeface="Times New Roman"/>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l gas se transporta desde el yacimiento a la Planta de Compresión y Acondicionamiento “Plaza Huincul” de TGS, en la que se lo coloca en condición comercial. Dicho operador carga el gas en la red troncal de gasoductos en el PM 360. (Computador de caudal Daniel Ultra 3000)</a:t>
            </a:r>
            <a:endParaRPr b="0" lang="en-US" sz="2400" spc="-1" strike="noStrike">
              <a:solidFill>
                <a:srgbClr val="000000"/>
              </a:solidFill>
              <a:latin typeface="Times New Roman"/>
            </a:endParaRPr>
          </a:p>
        </p:txBody>
      </p:sp>
      <p:sp>
        <p:nvSpPr>
          <p:cNvPr id="10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2  PRODUCCIÓN de CUTRAL CO NORTE</a:t>
            </a:r>
            <a:endParaRPr b="0" lang="en-US" sz="2400" spc="-1" strike="noStrike">
              <a:solidFill>
                <a:srgbClr val="000000"/>
              </a:solidFill>
              <a:latin typeface="Times New Roman"/>
            </a:endParaRPr>
          </a:p>
        </p:txBody>
      </p:sp>
      <p:sp>
        <p:nvSpPr>
          <p:cNvPr id="109"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Mapa red d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Gasoductos</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de captación: </a:t>
            </a:r>
            <a:endParaRPr b="0" lang="en-US" sz="2000" spc="-1" strike="noStrike">
              <a:solidFill>
                <a:srgbClr val="000000"/>
              </a:solidFill>
              <a:latin typeface="Times New Roman"/>
            </a:endParaRPr>
          </a:p>
        </p:txBody>
      </p:sp>
      <p:sp>
        <p:nvSpPr>
          <p:cNvPr id="11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2.2  PRODUCCIÓN de CUTRAL CO NORTE</a:t>
            </a:r>
            <a:endParaRPr b="0" lang="en-US" sz="2400" spc="-1" strike="noStrike">
              <a:solidFill>
                <a:srgbClr val="000000"/>
              </a:solidFill>
              <a:latin typeface="Times New Roman"/>
            </a:endParaRPr>
          </a:p>
        </p:txBody>
      </p:sp>
      <p:sp>
        <p:nvSpPr>
          <p:cNvPr id="112"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2057400" y="1523880"/>
            <a:ext cx="6858000" cy="454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LA CONCESIÓN: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MEDANITO S.A. es concesionaria de captación del gas ácido de los yacimientos aledaños a la Planta “EL Medanito”, mediante la Resolución SEN 417/94 y sus normas antecedentes desde el 17/04/91, por la cual tiene la obligación de recibir el gas contaminado con ácido sulfhídrico, conducirlo, tratarlo a su costo y colocarlo en especificación de transporte en un todo de acuerdo a la Resolución 622/98.</a:t>
            </a:r>
            <a:endParaRPr b="0" lang="en-US" sz="2400" spc="-1" strike="noStrike">
              <a:solidFill>
                <a:srgbClr val="000000"/>
              </a:solidFill>
              <a:latin typeface="Times New Roman"/>
            </a:endParaRPr>
          </a:p>
        </p:txBody>
      </p:sp>
      <p:sp>
        <p:nvSpPr>
          <p:cNvPr id="115"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PTACIÓN: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La producción del yacimiento es captada en baja presión por una red de gasoductos de captación en su mayor parte de 24 pulgadas, mezclado con el gas dulce pertenecientes a los mismos productore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ENDULZADO: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El ácido sulfhídrico es removido mediante productos específicos (sulfatreat) en 2 Plantas que integran 14 torres en total y el gas ingresa a la planta Compresora sin contaminante.</a:t>
            </a:r>
            <a:endParaRPr b="0" lang="en-US" sz="2400" spc="-1" strike="noStrike">
              <a:solidFill>
                <a:srgbClr val="000000"/>
              </a:solidFill>
              <a:latin typeface="Times New Roman"/>
            </a:endParaRPr>
          </a:p>
        </p:txBody>
      </p:sp>
      <p:sp>
        <p:nvSpPr>
          <p:cNvPr id="118"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Mapa red d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gasoductos de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Narrow"/>
              </a:rPr>
              <a:t>captación: </a:t>
            </a:r>
            <a:endParaRPr b="0" lang="en-US" sz="2000" spc="-1" strike="noStrike">
              <a:solidFill>
                <a:srgbClr val="000000"/>
              </a:solidFill>
              <a:latin typeface="Times New Roman"/>
            </a:endParaRPr>
          </a:p>
        </p:txBody>
      </p:sp>
      <p:sp>
        <p:nvSpPr>
          <p:cNvPr id="121"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
        <p:nvSpPr>
          <p:cNvPr id="122"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3" name="" descr=""/>
          <p:cNvPicPr/>
          <p:nvPr/>
        </p:nvPicPr>
        <p:blipFill>
          <a:blip r:embed="rId1"/>
          <a:stretch/>
        </p:blipFill>
        <p:spPr>
          <a:xfrm>
            <a:off x="3124080" y="1371600"/>
            <a:ext cx="5334120" cy="5210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OMPRESIÓN Y ACONDICIONAMIENTO: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	</a:t>
            </a:r>
            <a:r>
              <a:rPr b="0" lang="es-AR" sz="2400" spc="-1" strike="noStrike">
                <a:solidFill>
                  <a:srgbClr val="ffffff"/>
                </a:solidFill>
                <a:latin typeface="Arial Narrow"/>
              </a:rPr>
              <a:t>En la Planta de Compresión y Acondicionamiento “El Medanito”, se efectuá el ajuste del punto de rocío de los hidrocarburos y la deshidratación del gas, y se lo comprime a 60 kilos. </a:t>
            </a:r>
            <a:r>
              <a:rPr b="0" lang="es-AR" sz="2400" spc="-1" strike="noStrike">
                <a:solidFill>
                  <a:srgbClr val="ffffff"/>
                </a:solidFill>
                <a:latin typeface="Arial Narrow"/>
              </a:rPr>
              <a:t>	</a:t>
            </a:r>
            <a:r>
              <a:rPr b="0" lang="es-AR" sz="2400" spc="-1" strike="noStrike">
                <a:solidFill>
                  <a:srgbClr val="ffffff"/>
                </a:solidFill>
                <a:latin typeface="Arial Narrow"/>
              </a:rPr>
              <a:t>Una vez colocado el gas en condición comercial se lo entrega a la red de gasoductos trocales de TGS en PM 92 y PM 39. En el PM 92 TGS cuenta con un computador de caudales modelo Ultra 3000 marca Daniel y con un cromatógrafo on line. En el PM 39 (abastecimiento de YPF a Oldelval) se encuentra instalado un puente de medición AGA 3 con brida portaplaca con placa orificio con registrador Foxboro de 3 variables – presión estática, presión diferencial y tempetarura.</a:t>
            </a:r>
            <a:endParaRPr b="0" lang="en-US" sz="2400" spc="-1" strike="noStrike">
              <a:solidFill>
                <a:srgbClr val="000000"/>
              </a:solidFill>
              <a:latin typeface="Times New Roman"/>
            </a:endParaRPr>
          </a:p>
        </p:txBody>
      </p:sp>
      <p:sp>
        <p:nvSpPr>
          <p:cNvPr id="125" name=""/>
          <p:cNvSpPr/>
          <p:nvPr/>
        </p:nvSpPr>
        <p:spPr>
          <a:xfrm>
            <a:off x="0" y="800280"/>
            <a:ext cx="7788240" cy="91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Narrow"/>
              </a:rPr>
              <a:t>2.3  CAPTACIÓN DE GAS CONTAMINADO DE LOS YACIMIENTOS ALEDAÑOS A LA PLANTA “EL MEDANIT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PlaceHolder 2"/>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2. </a:t>
            </a:r>
            <a:r>
              <a:rPr b="1" lang="es-AR" sz="2400" spc="-1" strike="noStrike">
                <a:solidFill>
                  <a:srgbClr val="ffffff"/>
                </a:solidFill>
                <a:latin typeface="Arial"/>
              </a:rPr>
              <a:t>	</a:t>
            </a:r>
            <a:r>
              <a:rPr b="1" lang="es-AR" sz="2400" spc="-1" strike="noStrike">
                <a:solidFill>
                  <a:srgbClr val="ffffff"/>
                </a:solidFill>
                <a:latin typeface="Arial"/>
              </a:rPr>
              <a:t>HIDROCARBUROS GASE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La producción del gas en el Área de Rincón de los Sauces tiene el mismo perfil que el de consumo de la localidad homónima ya que esta es una población aislada de los sistemas de transportes.</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El resto del gas (producido en Área Cutral Co y tratado en la Planta “El Medanito”), es comercializado mediante contratos a términ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El 100 % de la disponiblidad de gas es comercializado en el MERCADO NACIONAL.</a:t>
            </a:r>
            <a:endParaRPr b="0" lang="en-US" sz="2400" spc="-1" strike="noStrike">
              <a:solidFill>
                <a:srgbClr val="000000"/>
              </a:solidFill>
              <a:latin typeface="Times New Roman"/>
            </a:endParaRPr>
          </a:p>
        </p:txBody>
      </p:sp>
      <p:sp>
        <p:nvSpPr>
          <p:cNvPr id="128" name="PlaceHolder 2"/>
          <p:cNvSpPr>
            <a:spLocks noGrp="1"/>
          </p:cNvSpPr>
          <p:nvPr>
            <p:ph type="title"/>
          </p:nvPr>
        </p:nvSpPr>
        <p:spPr>
          <a:xfrm>
            <a:off x="-360" y="3780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3. </a:t>
            </a:r>
            <a:r>
              <a:rPr b="1" lang="es-AR" sz="1800" spc="-1" strike="noStrike">
                <a:solidFill>
                  <a:srgbClr val="ffffff"/>
                </a:solidFill>
                <a:latin typeface="Arial"/>
              </a:rPr>
              <a:t>	</a:t>
            </a:r>
            <a:r>
              <a:rPr b="1" lang="es-ES" sz="1800" spc="-1" strike="noStrike">
                <a:solidFill>
                  <a:srgbClr val="ffffff"/>
                </a:solidFill>
                <a:latin typeface="Arial"/>
              </a:rPr>
              <a:t>GRADO DE VINCULACIÓN EXISTENTE CON LA GESTIÓN COMERCIAL QUE SE APLICA PARA LA COMERCIALIZACIÓN DEL GAS OBTENI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1371600"/>
            <a:ext cx="7315200" cy="4648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Medanito S.A. efectúa los estudios de impacto ambiental en cada uno de los proyectos que realiza, los que son aprobados por la autoridad de aplicación, dando cumplimiento a las normas dictadas al efecto, sean estas emanadas por la Nación y/o las provincias en las cuales se realizan operaciones.</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Medanito S.A. cuenta con un plan de Contingencias , de Seguridad, Salud y Medio Ambiente y se han contratado estudios de Diagnóstico Ambiental a empresas especializadas, para monitorear la situación real de sus operaciones.</a:t>
            </a:r>
            <a:endParaRPr b="0" lang="en-US" sz="2400" spc="-1" strike="noStrike">
              <a:solidFill>
                <a:srgbClr val="000000"/>
              </a:solidFill>
              <a:latin typeface="Times New Roman"/>
            </a:endParaRPr>
          </a:p>
          <a:p>
            <a:pPr marL="343080" indent="-343080" algn="just">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Los Estudios de Impacto ambiental son presentados a las respectivas autoridades provinciales de aplicación.</a:t>
            </a:r>
            <a:endParaRPr b="0" lang="en-US" sz="2200" spc="-1" strike="noStrike">
              <a:solidFill>
                <a:srgbClr val="000000"/>
              </a:solidFill>
              <a:latin typeface="Times New Roman"/>
            </a:endParaRPr>
          </a:p>
        </p:txBody>
      </p:sp>
      <p:sp>
        <p:nvSpPr>
          <p:cNvPr id="130" name="PlaceHolder 2"/>
          <p:cNvSpPr>
            <a:spLocks noGrp="1"/>
          </p:cNvSpPr>
          <p:nvPr>
            <p:ph type="title"/>
          </p:nvPr>
        </p:nvSpPr>
        <p:spPr>
          <a:xfrm>
            <a:off x="-360" y="37800"/>
            <a:ext cx="7620120" cy="762120"/>
          </a:xfrm>
          <a:prstGeom prst="rect">
            <a:avLst/>
          </a:prstGeom>
          <a:noFill/>
          <a:ln w="0">
            <a:noFill/>
          </a:ln>
        </p:spPr>
        <p:txBody>
          <a:bodyPr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4. </a:t>
            </a:r>
            <a:r>
              <a:rPr b="1" lang="es-AR" sz="2400" spc="-1" strike="noStrike">
                <a:solidFill>
                  <a:srgbClr val="ffffff"/>
                </a:solidFill>
                <a:latin typeface="Arial"/>
              </a:rPr>
              <a:t>	</a:t>
            </a:r>
            <a:r>
              <a:rPr b="1" lang="es-ES" sz="2400" spc="-1" strike="noStrike">
                <a:solidFill>
                  <a:srgbClr val="ffffff"/>
                </a:solidFill>
                <a:latin typeface="Arial"/>
              </a:rPr>
              <a:t>SISTEMA DE GESTIÓN AMBIENTAL APLI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Narrow"/>
              </a:rPr>
              <a:t>Petróleo</a:t>
            </a:r>
            <a:r>
              <a:rPr b="0" lang="es-AR" sz="2400" spc="-1" strike="noStrike">
                <a:solidFill>
                  <a:srgbClr val="ffffff"/>
                </a:solidFill>
                <a:latin typeface="Arial Narrow"/>
              </a:rPr>
              <a:t> de sus áreas (1.1) Aguada del Chivato ( 4 pozos) y (1.2) Cutral-Co Norte (7 pozo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ffffff"/>
                </a:solidFill>
                <a:uFillTx/>
                <a:latin typeface="Arial Narrow"/>
              </a:rPr>
              <a:t>Gasolina natural</a:t>
            </a:r>
            <a:r>
              <a:rPr b="0" lang="es-AR" sz="2400" spc="-1" strike="noStrike">
                <a:solidFill>
                  <a:srgbClr val="ffffff"/>
                </a:solidFill>
                <a:latin typeface="Arial Narrow"/>
              </a:rPr>
              <a:t> en su (1.3) Planta “El Medanito” de compresión y acondicionamiento de gas natural proveniente de yacimientos aledaños (Medanito Sudeste, 25 de Mayo, Bajo del Piche, El Medanito, Jagüel de los Machos, El Santiagueño y Rinconada - Puesto Morales)   operados por terceros.</a:t>
            </a:r>
            <a:endParaRPr b="0" lang="en-US" sz="2400" spc="-1" strike="noStrike">
              <a:solidFill>
                <a:srgbClr val="000000"/>
              </a:solidFill>
              <a:latin typeface="Times New Roman"/>
            </a:endParaRPr>
          </a:p>
        </p:txBody>
      </p:sp>
      <p:sp>
        <p:nvSpPr>
          <p:cNvPr id="49" name=""/>
          <p:cNvSpPr/>
          <p:nvPr/>
        </p:nvSpPr>
        <p:spPr>
          <a:xfrm>
            <a:off x="0" y="800280"/>
            <a:ext cx="778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La empresa produ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371240"/>
            <a:ext cx="7467480" cy="487692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En el caso de la Provincia de Neuquen, por ejemplo, con fecha 4 de julio del cte. Año, la Dirección de Medio Ambiente y Desarrollo Sustentable aprobó el “Plan de Saneamiento y Gestión Ambiental” presentado por la empresa, el que ya fue ejecutado integramente en sus Etapas 1 y 2, estando previsto desarrollar la etapa 3 a partir del año próximo.</a:t>
            </a:r>
            <a:endParaRPr b="0" lang="en-US" sz="2200" spc="-1" strike="noStrike">
              <a:solidFill>
                <a:srgbClr val="000000"/>
              </a:solidFill>
              <a:latin typeface="Times New Roman"/>
            </a:endParaRPr>
          </a:p>
          <a:p>
            <a:pPr marL="343080" indent="-343080" algn="just">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Además, se está bajo el control de las respectivas Direcciones Provinciales de Hidrocarburos y del COIRCO (Comité Intergubernamental de la Cuenca del río Colorado).</a:t>
            </a:r>
            <a:endParaRPr b="0" lang="en-US" sz="2200" spc="-1" strike="noStrike">
              <a:solidFill>
                <a:srgbClr val="000000"/>
              </a:solidFill>
              <a:latin typeface="Times New Roman"/>
            </a:endParaRPr>
          </a:p>
          <a:p>
            <a:pPr marL="343080" indent="-343080" algn="just">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Narrow"/>
              </a:rPr>
              <a:t>Respecto de la Planta “El Medanito” se efectúan los informes anuales requeridos por las autoridades nacionales para mantener activa la habilitación de la misma, los que también son realizados por consultoras en este caso nacionales.</a:t>
            </a:r>
            <a:endParaRPr b="0" lang="en-US" sz="2200" spc="-1" strike="noStrike">
              <a:solidFill>
                <a:srgbClr val="000000"/>
              </a:solidFill>
              <a:latin typeface="Times New Roman"/>
            </a:endParaRPr>
          </a:p>
        </p:txBody>
      </p:sp>
      <p:sp>
        <p:nvSpPr>
          <p:cNvPr id="132" name="PlaceHolder 2"/>
          <p:cNvSpPr>
            <a:spLocks noGrp="1"/>
          </p:cNvSpPr>
          <p:nvPr>
            <p:ph type="title"/>
          </p:nvPr>
        </p:nvSpPr>
        <p:spPr>
          <a:xfrm>
            <a:off x="-360" y="37800"/>
            <a:ext cx="7620120" cy="762120"/>
          </a:xfrm>
          <a:prstGeom prst="rect">
            <a:avLst/>
          </a:prstGeom>
          <a:noFill/>
          <a:ln w="0">
            <a:noFill/>
          </a:ln>
        </p:spPr>
        <p:txBody>
          <a:bodyPr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4. </a:t>
            </a:r>
            <a:r>
              <a:rPr b="1" lang="es-AR" sz="2400" spc="-1" strike="noStrike">
                <a:solidFill>
                  <a:srgbClr val="ffffff"/>
                </a:solidFill>
                <a:latin typeface="Arial"/>
              </a:rPr>
              <a:t>	</a:t>
            </a:r>
            <a:r>
              <a:rPr b="1" lang="es-ES" sz="2400" spc="-1" strike="noStrike">
                <a:solidFill>
                  <a:srgbClr val="ffffff"/>
                </a:solidFill>
                <a:latin typeface="Arial"/>
              </a:rPr>
              <a:t>SISTEMA DE GESTIÓN AMBIENTAL APLICADO</a:t>
            </a:r>
            <a:endParaRPr b="0" lang="en-US" sz="2400" spc="-1" strike="noStrike">
              <a:solidFill>
                <a:srgbClr val="000000"/>
              </a:solidFill>
              <a:latin typeface="Times New Roman"/>
            </a:endParaRPr>
          </a:p>
        </p:txBody>
      </p:sp>
      <p:sp>
        <p:nvSpPr>
          <p:cNvPr id="133" name=""/>
          <p:cNvSpPr/>
          <p:nvPr/>
        </p:nvSpPr>
        <p:spPr>
          <a:xfrm>
            <a:off x="0" y="800280"/>
            <a:ext cx="7788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5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Ubicación geográfica</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533520" y="1447920"/>
            <a:ext cx="7553160" cy="458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54"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INTERN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l pozo ACH 11 es enviada por una línea de conducción a la Batería ACH-1 (Ruta Prov. Nq. N° 5). Desde allí el petróleo es transportado en camiones tanque hasta nuestra Planta de Tratamiento de Crudo (PTC) Puesto Hernández (ex planta “Cañadón Amarillo), distante a unos 45 Km. del yacimiento.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el caso de los pozos ACH 3, 12 y 18 la producción se acopia en tanques en las locaciones de cada pozo y desde allí se transporta a la mencionada PTC Puesto Hernández.</a:t>
            </a:r>
            <a:endParaRPr b="0" lang="en-US" sz="2400" spc="-1" strike="noStrike">
              <a:solidFill>
                <a:srgbClr val="000000"/>
              </a:solidFill>
              <a:latin typeface="Times New Roman"/>
            </a:endParaRPr>
          </a:p>
        </p:txBody>
      </p:sp>
      <p:sp>
        <p:nvSpPr>
          <p:cNvPr id="55"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1  AREA AGUADA DEL CHIVAT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57"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ACONDICIONAMIENTO DEL CRUD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mencionada Planta, se efectúa la desalinización y deshidratación del petróleo y su acopio hasta la carga. La Planta tiene una capacidad de procesamiento de 300 m3/día, la que se utiliza en un 12% (36 m3/día de petróle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capacidad de almacenaje de producto en especificación es de 2 tanques de 1020 m3/ cada un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Uno de los tanques de dicha Planta se utiliza para almacenar y despachar condensado propiedad de ESSO, proveninente del yacimiento Sierra Chata.</a:t>
            </a:r>
            <a:endParaRPr b="0" lang="en-US" sz="2400" spc="-1" strike="noStrike">
              <a:solidFill>
                <a:srgbClr val="000000"/>
              </a:solidFill>
              <a:latin typeface="Times New Roman"/>
            </a:endParaRPr>
          </a:p>
        </p:txBody>
      </p:sp>
      <p:sp>
        <p:nvSpPr>
          <p:cNvPr id="58"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1  AREA AGUADA DEL CHIVATO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0"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2000"/>
          </a:bodyPr>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MEDICIÓN:</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medición del producto entregado se realiza con la metodología de altura de tanque, el cual está debidamente calibrado. Los instrumentos utilizados cuentan con las certificaciones pertinentes. </a:t>
            </a:r>
            <a:endParaRPr b="0" lang="en-US" sz="2400" spc="-1" strike="noStrike">
              <a:solidFill>
                <a:srgbClr val="000000"/>
              </a:solidFill>
              <a:latin typeface="Times New Roman"/>
            </a:endParaRPr>
          </a:p>
          <a:p>
            <a:pPr marL="315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CARGA AL TRANSPORTISTA:</a:t>
            </a:r>
            <a:endParaRPr b="0" lang="en-US" sz="2400" spc="-1" strike="noStrike">
              <a:solidFill>
                <a:srgbClr val="000000"/>
              </a:solidFill>
              <a:latin typeface="Times New Roman"/>
            </a:endParaRPr>
          </a:p>
          <a:p>
            <a:pPr marL="315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Desde los tanques de nuestra PTC (producto en especificación) se trasvasa directamente a la Planta de Almacenaje de OLDELVAL de Puesto Hernández, Compañía que efectúa el traslado a Puerto Rosales.</a:t>
            </a:r>
            <a:endParaRPr b="0" lang="en-US" sz="2400" spc="-1" strike="noStrike">
              <a:solidFill>
                <a:srgbClr val="000000"/>
              </a:solidFill>
              <a:latin typeface="Times New Roman"/>
            </a:endParaRPr>
          </a:p>
        </p:txBody>
      </p:sp>
      <p:sp>
        <p:nvSpPr>
          <p:cNvPr id="61"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1  AREA AGUADA DEL CHIVATO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3"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TRANSPORTE INTERN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de los pozos CCO 40, 48, 62, 87 y 95 es enviada por líneas de conducción directamente a nuestra Planta de Tratamiento de Crudo (PTC) Cutral Co, ubicada en la misma áre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l resto de los pozos Puesto Barros Nos. 26 y 31  cuentan con tanques de acopio, desde donde se transporta a la PTC Cutral Co.</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producción actual media de petróleo es de 8 m3/día.</a:t>
            </a:r>
            <a:endParaRPr b="0" lang="en-US" sz="2400" spc="-1" strike="noStrike">
              <a:solidFill>
                <a:srgbClr val="000000"/>
              </a:solidFill>
              <a:latin typeface="Times New Roman"/>
            </a:endParaRPr>
          </a:p>
        </p:txBody>
      </p:sp>
      <p:sp>
        <p:nvSpPr>
          <p:cNvPr id="64"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cc"/>
            </a:gs>
            <a:gs pos="100000">
              <a:srgbClr val="00cc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6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 </a:t>
            </a:r>
            <a:r>
              <a:rPr b="1" lang="es-AR" sz="2400" spc="-1" strike="noStrike">
                <a:solidFill>
                  <a:srgbClr val="ffffff"/>
                </a:solidFill>
                <a:latin typeface="Arial"/>
              </a:rPr>
              <a:t>	</a:t>
            </a:r>
            <a:r>
              <a:rPr b="1" lang="es-AR" sz="2400" spc="-1" strike="noStrike">
                <a:solidFill>
                  <a:srgbClr val="ffffff"/>
                </a:solidFill>
                <a:latin typeface="Arial"/>
              </a:rPr>
              <a:t>HIDROCARBUROS LÍQUIDOS</a:t>
            </a:r>
            <a:endParaRPr b="0" lang="en-US" sz="2400" spc="-1" strike="noStrike">
              <a:solidFill>
                <a:srgbClr val="000000"/>
              </a:solidFill>
              <a:latin typeface="Times New Roman"/>
            </a:endParaRPr>
          </a:p>
        </p:txBody>
      </p:sp>
      <p:sp>
        <p:nvSpPr>
          <p:cNvPr id="66" name="PlaceHolder 2"/>
          <p:cNvSpPr>
            <a:spLocks noGrp="1"/>
          </p:cNvSpPr>
          <p:nvPr>
            <p:ph/>
          </p:nvPr>
        </p:nvSpPr>
        <p:spPr>
          <a:xfrm>
            <a:off x="228600" y="1371600"/>
            <a:ext cx="7315200" cy="41148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ACONDICIONAMIENTO DEL CRUDO:</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En la PTC “Cutral Co” ubicada en la misma área, que tiene una capacidad de hasta 200 m3/día, se efectúa la desalinización y deshidratación del petróleo, y se acopio hasta su carga a la PAD “Challacó” distante a unos 35 kilómetros del yacimiento. </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Narrow"/>
              </a:rPr>
              <a:t>MEDICIÓN:</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Narrow"/>
              </a:rPr>
              <a:t>	</a:t>
            </a:r>
            <a:r>
              <a:rPr b="0" lang="es-AR" sz="2400" spc="-1" strike="noStrike">
                <a:solidFill>
                  <a:srgbClr val="ffffff"/>
                </a:solidFill>
                <a:latin typeface="Arial Narrow"/>
              </a:rPr>
              <a:t>La medición del producto entregado se realiza con la metodología de altura de tanque, el cual está debidamente calibrado. Los instrumentos utilizados cuentan con las certificaciones pertinentes. </a:t>
            </a:r>
            <a:endParaRPr b="0" lang="en-US" sz="2400" spc="-1" strike="noStrike">
              <a:solidFill>
                <a:srgbClr val="000000"/>
              </a:solidFill>
              <a:latin typeface="Times New Roman"/>
            </a:endParaRPr>
          </a:p>
        </p:txBody>
      </p:sp>
      <p:sp>
        <p:nvSpPr>
          <p:cNvPr id="67" name=""/>
          <p:cNvSpPr/>
          <p:nvPr/>
        </p:nvSpPr>
        <p:spPr>
          <a:xfrm>
            <a:off x="0" y="800280"/>
            <a:ext cx="778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Narrow"/>
              </a:rPr>
              <a:t>1.2  ÁREA CUTRAL CO NORTE - continu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20:07:55Z</dcterms:created>
  <dc:creator>Maria Paula Landoni</dc:creator>
  <dc:description/>
  <dc:language>en-US</dc:language>
  <cp:lastModifiedBy>caceleste</cp:lastModifiedBy>
  <dcterms:modified xsi:type="dcterms:W3CDTF">2005-12-20T18:50:51Z</dcterms:modified>
  <cp:revision>124</cp:revision>
  <dc:subject/>
  <dc:title>Presentación de PowerPoint</dc:title>
</cp:coreProperties>
</file>