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8.jpeg" ContentType="image/jpeg"/>
  <Override PartName="/ppt/media/image30.png" ContentType="image/pn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1.jpeg" ContentType="image/jpeg"/>
  <Override PartName="/ppt/media/image33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AB9824-206D-42AD-A3B1-BBD1DF7E856B}" type="slidenum"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rramienta sistemática 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grada, que permite mejorar continuamente la seguridad en la operación d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las lineas de Petroleo y 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Cada uno de los programas está compuesto por acciones que combinan el registro y análisis de datos, la reparación, el reemplazo y el mantenimiento de ac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Monitoreo: Con el objetivo de lograr una máxima confiabilidad en los registros, caracterizar la agresividad del medio, evaluar la eficiencia del sistema de protección catódica y optimizar recursos, las mediciones se llevan a cabo en estaciones de protección anticorrosivo (EPA), instaladas en los manifold de producción e inyección, en oleoductos, gasoductos y acue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Externa: Potenciales: ON, OFF y de corrosión. • Velocidad de corrosión instantán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•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iente de protección catód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Interna: Velocidad de corrosión instantánea (sensores electroquímic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elocidad de corrosión promedio (cupones – sensores electrorresistiv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elocidad de corrosión localizada (cupon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ncentración de especies químicas agresivas (análisis fisicoquímic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ncentración de gases disueltos (cromatografí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Identificación de mecanismos corrosivos (productos de corrosió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ariables operativas (temperatura, presión y caud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Inspec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Comprende la medición, registro, procesamiento y realimentación de todos los parámetros directamente relacionados con los mecanismos de corrosión externa e interna que afectan la integridad de los activos en servicio (Incluye ténicas de inspeccion por END, Ultrasonido, ILI, Onda longuitudin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Mitiga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 Corrosión Externa: Comprende el Programa de Reconversión de Protección Catódica y el Programa de Reparación de Revestimiento ( previa inspección por CIS – DCV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Interna: Comprende el Programa de Dosificación de Productos Químicos. (Este programa está conducido y gestionado en conjunto con proveedores preferenciales de PAE, y su control se lleva a cabo por medio del programa de monitoreo de corrosión intern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nalisi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ablecer riesgo relativo (cualitativo) o absoluto (cuantitativo) de líneas,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pos y tanques en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visión del Programa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La revisión del programa involucra la verificación del cumplimiento de los objetivos definidos en la estrategia y un análisis de eficiencia del proceso de implementación de la Gestión de Integr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visión de Estrategia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a revisión estratégica tiene como objetivo asegurar la consistencia y factibilidad de la Gestión de Integridad, en función de la evolución en los objetivos de negocios de PA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or esta razón, se lleva a cabo anualmente e involucra al Team Líder del Grupo de Inetgridad, a los líderes de los otros sectores y a la Ge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n American Energy ha certificado su Sistema de Gestión Ambiental bajo ISO 14001 en todas los yacimientos  que opera.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PAE certificó por Unidades de Gestión, comenzó a fines del 2001 y finalizó con Golfo San Jorge en Marzo del 2002. En aquel momento se certificaba la ISO 14001/199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urante fines del 2001 y comienzos del 2002, las áreas operadas: Unidad de Gestión Neuquén, Unidad de Gestión Acambuco, Unidad de Gestión Tierra del Fuego y por último Unidad de Gestión Golfo San Jorge certificaron la norma, obteniendo la re-certificación durante el 2004 y 2005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certificando la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ISO 14000/2004</a:t>
            </a:r>
            <a:r>
              <a:rPr b="0" lang="es-AR" sz="1200" spc="-1" strike="noStrike">
                <a:solidFill>
                  <a:srgbClr val="000000"/>
                </a:solidFill>
                <a:latin typeface="MS Sans Serif"/>
              </a:rPr>
              <a:t> (hay una pequeña diferencia)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alcance de la misma cubre todas las operaciones llevadas a cabo por la compañía en sus actividades de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ente certificador es TÜV Rheinland Group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y el alcance de la misma abarca todas las actividades que llevamos a cabo en nuestras operaciones bajo la concesión que tenemos en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n American Energy ha certificado su Sistema de Gestión Ambiental bajo ISO 14001 en todas los yacimientos  que op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urante fines del 2001 y comienzos del 2002, las áreas operadas: Unidad de Gestión Neuquén, Unidad de Gestión Acambuco, Unidad de Gestión Tierra del Fuego y por último Unidad de Gestión Golfo San Jorge certificaron la norma, obteniendo la re-certificación durante el 2004 y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alcance de la misma cubre todas las operaciones llevadas a cabo por la compañía en sus actividades de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ente certificador es TÜV Rheinl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B7D1-E684-40C2-BA4C-BB0DD544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A661-9C09-41B8-A386-65D6A8E8E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95BD-9B19-48D0-B6E4-DD97B2908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43BD-F98C-4879-8710-F91CC0D4A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4B7B-0534-4FB2-BC80-DBCDB36DF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FCBF-795A-4024-97BD-0661E9052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0976-95C9-46B3-A063-A65948216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BAD8-EF21-4585-B43B-46CD5715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4876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DAFF-FF87-4A74-9783-0280E5D71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AC77-682E-4C69-A4B9-18338BE1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66C2-A5F3-41C1-8A7C-FCA0DC07D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7EA4-3FBF-49D9-9C20-A5C7CD45E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0FA-73A8-4E65-8CBD-610FB2445D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" Target="slide14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37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" Target="slide9.xml"/><Relationship Id="rId12" Type="http://schemas.openxmlformats.org/officeDocument/2006/relationships/image" Target="../media/image10.jpeg"/><Relationship Id="rId13" Type="http://schemas.openxmlformats.org/officeDocument/2006/relationships/slide" Target="slide7.xml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7790040" y="4998600"/>
            <a:ext cx="228600" cy="127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69120" y="2209680"/>
            <a:ext cx="44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97640" y="2133360"/>
            <a:ext cx="307800" cy="17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360" y="2895480"/>
            <a:ext cx="87631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808080"/>
                </a:solidFill>
                <a:latin typeface="Times New Roman"/>
              </a:rPr>
              <a:t>Transporte de Hidrocarburos Líquidos y Gasoductos de Captació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095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21/12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d1705"/>
                </a:solidFill>
                <a:latin typeface="Times New Roman"/>
              </a:rPr>
              <a:t>Pan American Energy LLC</a:t>
            </a:r>
            <a:endParaRPr b="0" lang="en-US" sz="3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06360" y="4272120"/>
            <a:ext cx="1711440" cy="145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23120" y="4272120"/>
            <a:ext cx="1501560" cy="148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35160" y="4267080"/>
            <a:ext cx="1594080" cy="146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48040" y="4272120"/>
            <a:ext cx="1555920" cy="148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DF-Instalaciones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800600" cy="534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1960" y="228600"/>
            <a:ext cx="25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er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 rot="16200000">
            <a:off x="85089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532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42884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Informació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3040" y="228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518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686040" cy="2371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16002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asoductos Principales San Sebastián (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46716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44956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. Oleod. y Poliductos  Principales de 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812772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1050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600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Gasoductos Zona N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3467160" cy="20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rot="5400000">
            <a:off x="8660520" y="819000"/>
            <a:ext cx="15264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10508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3040" y="228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9754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58492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9600" y="1050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leoductos Principales T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4251240"/>
            <a:ext cx="4781520" cy="2378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66680" y="1897200"/>
            <a:ext cx="3944880" cy="1911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387684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Venta de T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168640"/>
            <a:ext cx="8191440" cy="38512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3641760" y="1066680"/>
            <a:ext cx="23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 rot="16200000">
            <a:off x="858528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-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LA-Instalaciones" descr=""/>
          <p:cNvPicPr/>
          <p:nvPr/>
        </p:nvPicPr>
        <p:blipFill>
          <a:blip r:embed="rId2"/>
          <a:stretch/>
        </p:blipFill>
        <p:spPr>
          <a:xfrm>
            <a:off x="457200" y="1222200"/>
            <a:ext cx="8001000" cy="540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2680" y="2286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QN – Lindero Atravesa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 rot="16200000">
            <a:off x="87375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914400" y="539100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Gas Pip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77224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Oil Pip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2320" y="228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QN – L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7360" y="-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14600" y="1523880"/>
          <a:ext cx="6553080" cy="53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523880"/>
                    <a:ext cx="655308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96920" y="1523880"/>
            <a:ext cx="2317680" cy="5248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8661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eeeb2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NQ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05140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050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1960" y="22860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QN –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4784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0" y="1514520"/>
          <a:ext cx="644832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514520"/>
                    <a:ext cx="6448320" cy="4962600"/>
                  </a:xfrm>
                  <a:prstGeom prst="rect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68120" y="1523880"/>
            <a:ext cx="204156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5" action="ppaction://hlinksldjump"/>
          </p:cNvPr>
          <p:cNvSpPr/>
          <p:nvPr/>
        </p:nvSpPr>
        <p:spPr>
          <a:xfrm rot="16200000">
            <a:off x="8661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eeeb2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NQ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 rot="16200000">
            <a:off x="805140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1050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320" y="76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J Infraestructura de 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5280"/>
            <a:ext cx="8458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uctos Principa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345 Km de líneas de producción y capt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exportación de petróleo y gas, inyección de agua y distribución de petróleo y g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 Principal ( Ant. Funes Cerro Dragón – Caleta Córdoba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mo 12” : 59,37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5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mo 14”: 70,106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6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7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952880" y="3676680"/>
            <a:ext cx="1571760" cy="2924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685800" y="3848040"/>
            <a:ext cx="3705120" cy="2400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rot="5400000">
            <a:off x="8660880" y="894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1127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805176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1127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781680" y="3686040"/>
            <a:ext cx="154332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320" y="152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 – Mapa de Ole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41060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1127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715000"/>
            <a:ext cx="12189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371600"/>
            <a:ext cx="8029440" cy="5433840"/>
            <a:chOff x="533520" y="1371600"/>
            <a:chExt cx="8029440" cy="5433840"/>
          </a:xfrm>
        </p:grpSpPr>
        <p:pic>
          <p:nvPicPr>
            <p:cNvPr id="177" name="cd-oil" descr=""/>
            <p:cNvPicPr/>
            <p:nvPr/>
          </p:nvPicPr>
          <p:blipFill>
            <a:blip r:embed="rId2"/>
            <a:stretch/>
          </p:blipFill>
          <p:spPr>
            <a:xfrm>
              <a:off x="533520" y="1371600"/>
              <a:ext cx="8029440" cy="5433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295280" y="1777320"/>
              <a:ext cx="213372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181480" y="5634000"/>
              <a:ext cx="129564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33520" y="136224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 flipH="1" rot="5400000">
            <a:off x="8660880" y="894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1127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 rot="16200000">
            <a:off x="812808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1127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280" y="1371600"/>
            <a:ext cx="8961480" cy="54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J -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Gas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8400960" y="894600"/>
            <a:ext cx="152280" cy="190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1127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d-gas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7755120" cy="5791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2065320" cy="213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05120" y="1523880"/>
            <a:ext cx="2743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362240"/>
            <a:ext cx="8458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ipeli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5715000"/>
            <a:ext cx="12189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3400" y="228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440" y="1717560"/>
            <a:ext cx="78202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escripción del Sistema de Transporte de Liquidos y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istema de Integridad y Confiabilidad de Gas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inculación con la Gestión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istema de Gest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0958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 de Integridad y Confiabilidad de Gasoduct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371600"/>
            <a:ext cx="883944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ducir el potencial de ocurrencia de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ntener condiciones seguras de operación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venir la contamin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Trabajar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el programa de inspección basada en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Monitore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Ex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Inte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Inspecció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dición, registro, procesamiento y realimentación de corrosión externa e inte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Mitigació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Externa: Reconversión de Protección Catódica y Reparación de Revest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Interna: Dosificación de Product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 de Integridad y Confiabilidad de 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asoduct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440" y="1344600"/>
            <a:ext cx="8839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álisis de Riesg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blecer riesgo de líneas,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quipos y tanques en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yectar el riesgo en el tiempo en función de distintos escenarios po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ormular y corregir los programas de inspección, monitoreo y mi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valuar el impacto del riesgo en la operación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écnico, operativo y económic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5306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de Transporte 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Lindero Atrav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Neuqu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Petrobras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Pozo LA 85 - Centenario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Oldelval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Centenario – Puerto Rosales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2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Piedra Clavada – Koluel Kai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Cañadón 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YPF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Yacimientos – Terminal Cale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l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3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Acam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Macu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Camión Yacimiento – Agua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: Piquirenda - Refi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95680" y="150984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de Almacenaje 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erro Dragón – Piedra Clavada –  Koluel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Ka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Escalante y Cañadón 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Termap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Caleta Olivia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(Cañadón Seco) y Caleta Córdova (Esca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2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indero Atravesado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Meda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YPF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Centen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Oiltanking Ebytem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Puerto Ro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indero Atrav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T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nta: General Cer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Cerro Dra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Colhue Huapi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Tramo: Cerro Dragón – Caleta Córd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ALMACENAJE – RECEPCION – BOMB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UTE Lago Fu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: 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 y Cargadero: Cruz del S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ALMACENAJE – RECEPCION – BOMB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UTE Lago Fu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: 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960" y="7632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581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609480" y="2579040"/>
            <a:ext cx="44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33280" y="1676520"/>
          <a:ext cx="1720800" cy="32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676520"/>
                    <a:ext cx="1720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086600" y="1676520"/>
          <a:ext cx="1790640" cy="157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1676520"/>
                    <a:ext cx="17906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257560" y="1676520"/>
          <a:ext cx="1693800" cy="3886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7560" y="1676520"/>
                    <a:ext cx="1693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038480" y="1682640"/>
          <a:ext cx="2752920" cy="239256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38480" y="1682640"/>
                    <a:ext cx="275292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5687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Gestión Ambiental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609480" y="2579040"/>
            <a:ext cx="44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360" y="1482840"/>
            <a:ext cx="8839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o Norma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tificado TÜV Rheinland Group certif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1/2002 Certificación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4/2005 Re-cer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alcance de la certificación abarca todas las operaciones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 PA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s actividades de exploración y producción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hidrocarb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1929600" y="3344760"/>
            <a:ext cx="2354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Tierra del Fu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2044800" y="2727360"/>
            <a:ext cx="212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Acambu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2063880" y="3962520"/>
            <a:ext cx="20826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Neuqué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1936440" y="2109960"/>
            <a:ext cx="2337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Golfo San Jo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4480" y="2286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s O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uencaGSJ%20-%20PPT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09680" y="4800600"/>
            <a:ext cx="83844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" name="CuencaNO-PPT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24080" y="4800600"/>
            <a:ext cx="91440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CuencaAustral%20-%20UTE%20TDF%20-%20PPT" descr=""/>
          <p:cNvPicPr/>
          <p:nvPr/>
        </p:nvPicPr>
        <p:blipFill>
          <a:blip r:embed="rId10"/>
          <a:stretch/>
        </p:blipFill>
        <p:spPr>
          <a:xfrm>
            <a:off x="2209680" y="5375160"/>
            <a:ext cx="838440" cy="50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CuencaNeuquina%20-%20PPT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124080" y="5376960"/>
            <a:ext cx="914400" cy="49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2468520" y="599292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terac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5815080" y="1295280"/>
            <a:ext cx="2948040" cy="5334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uencaGSJ%20-%20PPT" descr=""/>
          <p:cNvPicPr/>
          <p:nvPr/>
        </p:nvPicPr>
        <p:blipFill>
          <a:blip r:embed="rId2"/>
          <a:stretch/>
        </p:blipFill>
        <p:spPr>
          <a:xfrm>
            <a:off x="380880" y="1373040"/>
            <a:ext cx="8305920" cy="525636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4267080" y="312408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lf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 rot="16200000">
            <a:off x="8448840" y="80460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01160" y="10033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5" action="ppaction://hlinksldjump"/>
          </p:cNvPr>
          <p:cNvSpPr/>
          <p:nvPr/>
        </p:nvSpPr>
        <p:spPr>
          <a:xfrm>
            <a:off x="5105520" y="48769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6" action="ppaction://hlinksldjump"/>
          </p:cNvPr>
          <p:cNvSpPr/>
          <p:nvPr/>
        </p:nvSpPr>
        <p:spPr>
          <a:xfrm>
            <a:off x="4724280" y="4572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D-Instalaciones" descr=""/>
          <p:cNvPicPr/>
          <p:nvPr/>
        </p:nvPicPr>
        <p:blipFill>
          <a:blip r:embed="rId2"/>
          <a:stretch/>
        </p:blipFill>
        <p:spPr>
          <a:xfrm>
            <a:off x="609480" y="1378080"/>
            <a:ext cx="7934400" cy="540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3040" y="2286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Cerro Dra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 rot="16200000">
            <a:off x="812772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86880" y="1017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 rot="16200000">
            <a:off x="766584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8180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rot="5400000">
            <a:off x="8681400" y="813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91600" y="1036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A-Instalaciones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8001000" cy="5406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2680" y="22860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Piedra C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C-Instalaciones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800100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5" action="ppaction://hlinksldjump"/>
          </p:cNvPr>
          <p:cNvSpPr/>
          <p:nvPr/>
        </p:nvSpPr>
        <p:spPr>
          <a:xfrm rot="16200000">
            <a:off x="8666280" y="7617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1880" y="1017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K-instalaciones" descr=""/>
          <p:cNvPicPr/>
          <p:nvPr/>
        </p:nvPicPr>
        <p:blipFill>
          <a:blip r:embed="rId2"/>
          <a:stretch/>
        </p:blipFill>
        <p:spPr>
          <a:xfrm>
            <a:off x="304920" y="1328760"/>
            <a:ext cx="8153280" cy="53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1600" y="22860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Koluel Ka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 rot="16200000">
            <a:off x="862308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53440" y="1042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uencaNO-PPT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5519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3760" y="228600"/>
            <a:ext cx="17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mbu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4381560" y="3657600"/>
            <a:ext cx="190440" cy="30492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 rot="16200000">
            <a:off x="850896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112716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uencaNeuquina%20-%20PPT" descr=""/>
          <p:cNvPicPr/>
          <p:nvPr/>
        </p:nvPicPr>
        <p:blipFill>
          <a:blip r:embed="rId2"/>
          <a:stretch/>
        </p:blipFill>
        <p:spPr>
          <a:xfrm>
            <a:off x="2147760" y="1143000"/>
            <a:ext cx="4786560" cy="561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3400" y="228600"/>
            <a:ext cx="14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uq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4572000" y="5029200"/>
            <a:ext cx="533520" cy="3808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 rot="16200000">
            <a:off x="85089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40:00Z</dcterms:created>
  <dc:creator>Martin Lucas</dc:creator>
  <dc:description/>
  <dc:language>en-US</dc:language>
  <cp:lastModifiedBy>Sistemas</cp:lastModifiedBy>
  <cp:lastPrinted>2004-09-23T17:27:22Z</cp:lastPrinted>
  <dcterms:modified xsi:type="dcterms:W3CDTF">2005-12-20T20:35:56Z</dcterms:modified>
  <cp:revision>488</cp:revision>
  <dc:subject/>
  <dc:title>Sin título de diapositiva</dc:title>
</cp:coreProperties>
</file>