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35.wmf" ContentType="image/x-wmf"/>
  <Override PartName="/ppt/media/image15.jpeg" ContentType="image/jpeg"/>
  <Override PartName="/ppt/media/image8.jpeg" ContentType="image/jpeg"/>
  <Override PartName="/ppt/media/image30.png" ContentType="image/png"/>
  <Override PartName="/ppt/media/image5.png" ContentType="image/png"/>
  <Override PartName="/ppt/media/image10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1.jpeg" ContentType="image/jpeg"/>
  <Override PartName="/ppt/media/image33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 baseline="30000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F5EBF0-FC46-468A-BF3F-712CFBE12E93}" type="slidenum">
              <a:rPr b="0" lang="es-ES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rramienta sistemática e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grada, que permite mejorar continuamente la seguridad en la operación de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las lineas de Petroleo y G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Implementación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: Cada uno de los programas está compuesto por acciones que combinan el registro y análisis de datos, la reparación, el reemplazo y el mantenimiento de activ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Programa de Monitoreo: Con el objetivo de lograr una máxima confiabilidad en los registros, caracterizar la agresividad del medio, evaluar la eficiencia del sistema de protección catódica y optimizar recursos, las mediciones se llevan a cabo en estaciones de protección anticorrosivo (EPA), instaladas en los manifold de producción e inyección, en oleoductos, gasoductos y acue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rrosión Externa: Potenciales: ON, OFF y de corrosión. • Velocidad de corrosión instantáne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•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rriente de protección catód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rrosión Interna: Velocidad de corrosión instantánea (sensores electroquímico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Velocidad de corrosión promedio (cupones – sensores electrorresistivo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Velocidad de corrosión localizada (cupon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ncentración de especies químicas agresivas (análisis fisicoquímic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ncentración de gases disueltos (cromatografí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Identificación de mecanismos corrosivos (productos de corrosió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Variables operativas (temperatura, presión y caud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Programa de Inspección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: Comprende la medición, registro, procesamiento y realimentación de todos los parámetros directamente relacionados con los mecanismos de corrosión externa e interna que afectan la integridad de los activos en servicio (Incluye ténicas de inspeccion por END, Ultrasonido, ILI, Onda longuitudin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Programa de Mitigación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:  Corrosión Externa: Comprende el Programa de Reconversión de Protección Catódica y el Programa de Reparación de Revestimiento ( previa inspección por CIS – DCVG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  <a:ea typeface="Arial"/>
              </a:rPr>
              <a:t>Corrosión Interna: Comprende el Programa de Dosificación de Productos Químicos. (Este programa está conducido y gestionado en conjunto con proveedores preferenciales de PAE, y su control se lleva a cabo por medio del programa de monitoreo de corrosión intern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nalisis de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ablecer riesgo relativo (cualitativo) o absoluto (cuantitativo) de líneas,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quipos y tanques en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evisión del Programa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La revisión del programa involucra la verificación del cumplimiento de los objetivos definidos en la estrategia y un análisis de eficiencia del proceso de implementación de la Gestión de Integr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evisión de Estrategia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La revisión estratégica tiene como objetivo asegurar la consistencia y factibilidad de la Gestión de Integridad, en función de la evolución en los objetivos de negocios de PA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or esta razón, se lleva a cabo anualmente e involucra al Team Líder del Grupo de Inetgridad, a los líderes de los otros sectores y a la Ger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an American Energy ha certificado su Sistema de Gestión Ambiental bajo ISO 14001 en todas los yacimientos  que opera. </a:t>
            </a:r>
            <a:r>
              <a:rPr b="0" lang="es-ES" sz="1200" spc="-1" strike="noStrike">
                <a:solidFill>
                  <a:srgbClr val="000000"/>
                </a:solidFill>
                <a:latin typeface="MS Sans Serif"/>
              </a:rPr>
              <a:t>PAE certificó por Unidades de Gestión, comenzó a fines del 2001 y finalizó con Golfo San Jorge en Marzo del 2002. En aquel momento se certificaba la ISO 14001/199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urante fines del 2001 y comienzos del 2002, las áreas operadas: Unidad de Gestión Neuquén, Unidad de Gestión Acambuco, Unidad de Gestión Tierra del Fuego y por último Unidad de Gestión Golfo San Jorge certificaron la norma, obteniendo la re-certificación durante el 2004 y 2005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certificando la </a:t>
            </a:r>
            <a:r>
              <a:rPr b="0" lang="es-ES" sz="1200" spc="-1" strike="noStrike">
                <a:solidFill>
                  <a:srgbClr val="000000"/>
                </a:solidFill>
                <a:latin typeface="MS Sans Serif"/>
              </a:rPr>
              <a:t>ISO 14000/2004</a:t>
            </a:r>
            <a:r>
              <a:rPr b="0" lang="es-AR" sz="1200" spc="-1" strike="noStrike">
                <a:solidFill>
                  <a:srgbClr val="000000"/>
                </a:solidFill>
                <a:latin typeface="MS Sans Serif"/>
              </a:rPr>
              <a:t> (hay una pequeña diferencia)</a:t>
            </a:r>
            <a:r>
              <a:rPr b="0" lang="es-ES" sz="1200" spc="-1" strike="noStrike">
                <a:solidFill>
                  <a:srgbClr val="000000"/>
                </a:solidFill>
                <a:latin typeface="MS Sans Serif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alcance de la misma cubre todas las operaciones llevadas a cabo por la compañía en sus actividades de exploración y producción de hidrocarbu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ente certificador es TÜV Rheinland Group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MS Sans Serif"/>
              </a:rPr>
              <a:t>y el alcance de la misma abarca todas las actividades que llevamos a cabo en nuestras operaciones bajo la concesión que tenemos en exploración y producción de hidrocarbu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an American Energy ha certificado su Sistema de Gestión Ambiental bajo ISO 14001 en todas los yacimientos  que op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urante fines del 2001 y comienzos del 2002, las áreas operadas: Unidad de Gestión Neuquén, Unidad de Gestión Acambuco, Unidad de Gestión Tierra del Fuego y por último Unidad de Gestión Golfo San Jorge certificaron la norma, obteniendo la re-certificación durante el 2004 y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alcance de la misma cubre todas las operaciones llevadas a cabo por la compañía en sus actividades de exploración y producción de hidrocarbu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ente certificador es TÜV Rheinl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FF89-D3DE-4E3C-AE6C-1D906E9C0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715E-4083-479C-94BA-920CFAFD4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EF56-E92E-4F6B-AE44-F0D285FB6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00EA-6E30-40B8-80AA-B3265769D6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9BCD-0073-49EE-90F8-1CAFD19C08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28F2-5EAA-40FE-8D22-20083986C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A625-EDE8-437E-A6C8-2FE1473ED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BFB4-23DF-45C3-97BD-E61D40349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4876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929D-F4EA-416D-8C11-A466C544B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B240-D6CB-474D-B5AB-916C36E06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FD56-3198-4FF7-98BC-471FCCB4A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43640"/>
            <a:ext cx="4876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EC6C-A8EB-4389-81B7-E36143FC9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2793-C7D7-4B57-A668-EDE7EFC0AA9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3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" Target="slide14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37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6.xml"/><Relationship Id="rId6" Type="http://schemas.openxmlformats.org/officeDocument/2006/relationships/slide" Target="slide4.xml"/><Relationship Id="rId7" Type="http://schemas.openxmlformats.org/officeDocument/2006/relationships/image" Target="../media/image7.jpeg"/><Relationship Id="rId8" Type="http://schemas.openxmlformats.org/officeDocument/2006/relationships/slide" Target="slide8.xml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" Target="slide9.xml"/><Relationship Id="rId12" Type="http://schemas.openxmlformats.org/officeDocument/2006/relationships/image" Target="../media/image10.jpeg"/><Relationship Id="rId13" Type="http://schemas.openxmlformats.org/officeDocument/2006/relationships/slide" Target="slide7.xml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1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4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7790040" y="4998600"/>
            <a:ext cx="228600" cy="127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69120" y="2209680"/>
            <a:ext cx="44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8680" rIns="5868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497640" y="2133360"/>
            <a:ext cx="307800" cy="17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1360" y="2895480"/>
            <a:ext cx="87631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500" spc="-1" strike="noStrike">
                <a:solidFill>
                  <a:srgbClr val="808080"/>
                </a:solidFill>
                <a:latin typeface="Times New Roman"/>
              </a:rPr>
              <a:t>Transporte de Hidrocarburos Líquidos y Gasoductos de Captació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6095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imes New Roman"/>
              </a:rPr>
              <a:t>21/12/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d1705"/>
                </a:solidFill>
                <a:latin typeface="Times New Roman"/>
              </a:rPr>
              <a:t>Pan American Energy LLC</a:t>
            </a:r>
            <a:endParaRPr b="0" lang="en-US" sz="3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06360" y="4272120"/>
            <a:ext cx="1711440" cy="145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23120" y="4272120"/>
            <a:ext cx="1501560" cy="148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035160" y="4267080"/>
            <a:ext cx="1594080" cy="146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748040" y="4272120"/>
            <a:ext cx="1555920" cy="1485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DF-Instalaciones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4800600" cy="534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1960" y="228600"/>
            <a:ext cx="25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ier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 rot="16200000">
            <a:off x="8508960" y="74268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153280" y="974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428840"/>
            <a:ext cx="2133720" cy="307080"/>
          </a:xfrm>
          <a:prstGeom prst="rect">
            <a:avLst/>
          </a:prstGeom>
          <a:solidFill>
            <a:srgbClr val="fefbe2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ff"/>
                </a:solidFill>
                <a:latin typeface="Arial"/>
              </a:rPr>
              <a:t>Información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3040" y="228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751824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10508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686040" cy="2371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" y="16002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asoductos Principales San Sebastián (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346716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44956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st. Oleod. y Poliductos  Principales de 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812772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2400" y="1050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160020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stema de Gasoductos Zona N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800600" y="1905120"/>
            <a:ext cx="3467160" cy="200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rot="5400000">
            <a:off x="8660520" y="819000"/>
            <a:ext cx="152640" cy="190440"/>
          </a:xfrm>
          <a:prstGeom prst="triangle">
            <a:avLst>
              <a:gd name="adj" fmla="val 49995"/>
            </a:avLst>
          </a:prstGeom>
          <a:solidFill>
            <a:srgbClr val="da592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10508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3040" y="228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797544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10508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858492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29600" y="1050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42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leoductos Principales T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66680" y="4251240"/>
            <a:ext cx="4781520" cy="2378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066680" y="1897200"/>
            <a:ext cx="3944880" cy="1911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66680" y="3876840"/>
            <a:ext cx="42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stema de Venta de T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2168640"/>
            <a:ext cx="8191440" cy="38512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1" name=""/>
          <p:cNvSpPr/>
          <p:nvPr/>
        </p:nvSpPr>
        <p:spPr>
          <a:xfrm>
            <a:off x="3641760" y="1066680"/>
            <a:ext cx="23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2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 rot="16200000">
            <a:off x="8585280" y="74268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29600" y="974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7360" y="-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LA-Instalaciones" descr=""/>
          <p:cNvPicPr/>
          <p:nvPr/>
        </p:nvPicPr>
        <p:blipFill>
          <a:blip r:embed="rId2"/>
          <a:stretch/>
        </p:blipFill>
        <p:spPr>
          <a:xfrm>
            <a:off x="457200" y="1222200"/>
            <a:ext cx="8001000" cy="5407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2680" y="2286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QN – Lindero Atravesa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 rot="16200000">
            <a:off x="8737560" y="74268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974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914400" y="5391000"/>
            <a:ext cx="2133720" cy="307080"/>
          </a:xfrm>
          <a:prstGeom prst="rect">
            <a:avLst/>
          </a:prstGeom>
          <a:solidFill>
            <a:srgbClr val="fefbe2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ff"/>
                </a:solidFill>
                <a:latin typeface="Arial"/>
              </a:rPr>
              <a:t>Gas Pipe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772240"/>
            <a:ext cx="2133720" cy="307080"/>
          </a:xfrm>
          <a:prstGeom prst="rect">
            <a:avLst/>
          </a:prstGeom>
          <a:solidFill>
            <a:srgbClr val="fefbe2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ff"/>
                </a:solidFill>
                <a:latin typeface="Arial"/>
              </a:rPr>
              <a:t>Oil Pipe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2320" y="2286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QN – LA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57360" y="-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14600" y="1523880"/>
          <a:ext cx="6553080" cy="532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523880"/>
                    <a:ext cx="655308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96920" y="1523880"/>
            <a:ext cx="2317680" cy="5248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6200000">
            <a:off x="866124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eeeb2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10508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NQ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805140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1050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1960" y="228600"/>
            <a:ext cx="29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QN – LA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etró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4784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0" y="1514520"/>
          <a:ext cx="644832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514520"/>
                    <a:ext cx="6448320" cy="4962600"/>
                  </a:xfrm>
                  <a:prstGeom prst="rect">
                    <a:avLst/>
                  </a:prstGeom>
                  <a:ln w="9360">
                    <a:solidFill>
                      <a:srgbClr val="333333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68120" y="1523880"/>
            <a:ext cx="2041560" cy="305748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rId5" action="ppaction://hlinksldjump"/>
          </p:cNvPr>
          <p:cNvSpPr/>
          <p:nvPr/>
        </p:nvSpPr>
        <p:spPr>
          <a:xfrm rot="16200000">
            <a:off x="866124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eeeb2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10508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NQ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6" action="ppaction://hlinksldjump"/>
          </p:cNvPr>
          <p:cNvSpPr/>
          <p:nvPr/>
        </p:nvSpPr>
        <p:spPr>
          <a:xfrm rot="16200000">
            <a:off x="8051400" y="81900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1050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320" y="76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SJ Infraestructura de 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95280"/>
            <a:ext cx="845820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uctos Principa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345 Km de líneas de producción y capt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exportación de petróleo y gas, inyección de agua y distribución de petróleo y g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leoducto Principal ( Ant. Funes Cerro Dragón – Caleta Córdoba)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4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ramo 12” : 59,370 K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5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ramo 14”: 70,106 K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6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7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leoduc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4952880" y="3676680"/>
            <a:ext cx="1571760" cy="2924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685800" y="3848040"/>
            <a:ext cx="3705120" cy="2400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H="1" rot="5400000">
            <a:off x="8660880" y="894960"/>
            <a:ext cx="152280" cy="190440"/>
          </a:xfrm>
          <a:prstGeom prst="triangle">
            <a:avLst>
              <a:gd name="adj" fmla="val 49995"/>
            </a:avLst>
          </a:prstGeom>
          <a:solidFill>
            <a:srgbClr val="da592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5920" y="11271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8051760" y="89496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1127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6781680" y="3686040"/>
            <a:ext cx="1543320" cy="30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320" y="152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 – Mapa de Ole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7410600" y="89496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cc00"/>
              </a:gs>
              <a:gs pos="100000">
                <a:srgbClr val="dba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11271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5715000"/>
            <a:ext cx="12189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1371600"/>
            <a:ext cx="8029440" cy="5433840"/>
            <a:chOff x="533520" y="1371600"/>
            <a:chExt cx="8029440" cy="5433840"/>
          </a:xfrm>
        </p:grpSpPr>
        <p:pic>
          <p:nvPicPr>
            <p:cNvPr id="177" name="cd-oil" descr=""/>
            <p:cNvPicPr/>
            <p:nvPr/>
          </p:nvPicPr>
          <p:blipFill>
            <a:blip r:embed="rId2"/>
            <a:stretch/>
          </p:blipFill>
          <p:spPr>
            <a:xfrm>
              <a:off x="533520" y="1371600"/>
              <a:ext cx="8029440" cy="5433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1295280" y="1777320"/>
              <a:ext cx="2133720" cy="17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181480" y="5634000"/>
              <a:ext cx="1295640" cy="101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33520" y="136224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4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leoduc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 flipH="1" rot="5400000">
            <a:off x="8660880" y="894960"/>
            <a:ext cx="152280" cy="190440"/>
          </a:xfrm>
          <a:prstGeom prst="triangle">
            <a:avLst>
              <a:gd name="adj" fmla="val 49995"/>
            </a:avLst>
          </a:prstGeom>
          <a:solidFill>
            <a:srgbClr val="da592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11271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 rot="16200000">
            <a:off x="8128080" y="89496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1127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2280" y="1371600"/>
            <a:ext cx="8961480" cy="54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76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SJ -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fraestructu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Gas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8400960" y="894600"/>
            <a:ext cx="152280" cy="1908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cc00"/>
              </a:gs>
              <a:gs pos="100000">
                <a:srgbClr val="dba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7320" y="11271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C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cd-gas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7755120" cy="5791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2065320" cy="2133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05120" y="1523880"/>
            <a:ext cx="2743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1362240"/>
            <a:ext cx="8458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ipeli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204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00000"/>
              </a:lnSpc>
              <a:spcBef>
                <a:spcPts val="176"/>
              </a:spcBef>
              <a:buSzPct val="102950"/>
              <a:buBlip>
                <a:blip r:embed="rId4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asoduc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5715000"/>
            <a:ext cx="12189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3400" y="228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440" y="1717560"/>
            <a:ext cx="78202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Descripción del Sistema de Transporte de Liquidos y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Sistema de Integridad y Confiabilidad de Gas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Vinculación con la Gestión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Sistema de Gestión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09588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stema de Integridad y Confiabilidad de Gasoducto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371600"/>
            <a:ext cx="883944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ducir el potencial de ocurrencia de 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antener condiciones seguras de operación en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evenir la contaminación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Trabajar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n el programa de inspección basada en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a de Monitoreo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rrosión Ex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rrosión Inter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a de Inspección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dición, registro, procesamiento y realimentación de corrosión externa e inter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grama de Mitigación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rrosión Externa: Reconversión de Protección Catódica y Reparación de Revest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orrosión Interna: Dosificación de Productos Quí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stema de Integridad y Confiabilidad de </a:t>
            </a: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asoducto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9440" y="1344600"/>
            <a:ext cx="8839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nálisis de Riesgo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ablecer riesgo de líneas,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quipos y tanques en serv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yectar el riesgo en el tiempo en función de distintos escenarios po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ormular y corregir los programas de inspección, monitoreo y mi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valuar el impacto del riesgo en la operación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écnico, operativo y económico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55306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Vinculación con la gestión comercial</a:t>
            </a: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íquido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de Transporte Cru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) Areas: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Lindero Atrav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rudo: Neuqu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Petrobras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ramos: Pozo LA 85 - Centenario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Oldelval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ramos: Centenario – Puerto Rosales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2) Areas: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Piedra Clavada – Koluel Kai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rudo: Cañadón Se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YPF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ramos: Yacimientos – Terminal Cale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Ol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3) Areas: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Acambu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rudo: Macu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ramos: Camión Yacimiento – Agua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Tramo: Piquirenda - Refi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495680" y="150984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de Almacenaje Cru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) Areas: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erro Dragón – Piedra Clavada –  Koluel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Ka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rudo: Escalante y Cañadón Se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Termap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laya de tanques: Caleta Olivia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(Cañadón Seco) y Caleta Córdova (Esca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2) Areas: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Lindero Atravesado</a:t>
            </a: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rudo: Medan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YPF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laya de tanques: Centen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Oiltanking Ebytem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laya de tanques: Puerto Ro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L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imes New Roman"/>
              </a:rPr>
              <a:t>1) Areas: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Lindero Atrave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ompañía: T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lanta: General Cer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51920" y="1371240"/>
            <a:ext cx="6705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CRU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RVICIO DE 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Area: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Cerro Drag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Compañía: Colhue Huapi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Tramo: Cerro Dragón – Caleta Córd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RVICIO DE ALMACENAJE – RECEPCION – BOMB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Area:</a:t>
            </a: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San Sebastiá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Compañía: UTE Lago Fu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Planta: San Sebastiá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Planta y Cargadero: Cruz del S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Times New Roman"/>
              </a:rPr>
              <a:t>L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RVICIO DE ALMACENAJE – RECEPCION – BOMB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AR" sz="1400" spc="-1" strike="noStrike" u="sng">
                <a:solidFill>
                  <a:srgbClr val="000000"/>
                </a:solidFill>
                <a:uFillTx/>
                <a:latin typeface="Times New Roman"/>
              </a:rPr>
              <a:t>Area:</a:t>
            </a: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San Sebastiá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Compañía: UTE Lago Fu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Planta: San Sebastiá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960" y="7632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Vinculación con la gestión comercial</a:t>
            </a:r>
            <a:br>
              <a:rPr sz="2400"/>
            </a:b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íq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55818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nculación con la gestión Comercial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609480" y="2579040"/>
            <a:ext cx="441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33280" y="1676520"/>
          <a:ext cx="1720800" cy="320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676520"/>
                    <a:ext cx="1720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086600" y="1676520"/>
          <a:ext cx="1790640" cy="1573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1676520"/>
                    <a:ext cx="17906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257560" y="1676520"/>
          <a:ext cx="1693800" cy="38862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57560" y="1676520"/>
                    <a:ext cx="16938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038480" y="1682640"/>
          <a:ext cx="2752920" cy="239256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38480" y="1682640"/>
                    <a:ext cx="275292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456876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de Gestión Ambiental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609480" y="2579040"/>
            <a:ext cx="441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0360" y="1482840"/>
            <a:ext cx="8839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jo Norma ISO 1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ertificado TÜV Rheinland Group certific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1/2002 Certificación ISO 14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4/2005 Re-cert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alcance de la certificación abarca todas las operaciones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 PA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s actividades de exploración y producción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hidrocarb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1929600" y="3344760"/>
            <a:ext cx="23540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Tierra del Fue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2044800" y="2727360"/>
            <a:ext cx="2122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Acambu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4" action="ppaction://hlinksldjump"/>
          </p:cNvPr>
          <p:cNvSpPr/>
          <p:nvPr/>
        </p:nvSpPr>
        <p:spPr>
          <a:xfrm>
            <a:off x="2063880" y="3962520"/>
            <a:ext cx="20826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Neuqué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1936440" y="2109960"/>
            <a:ext cx="23371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Golfo San Jor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4480" y="2286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s Op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uencaGSJ%20-%20PPT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09680" y="4800600"/>
            <a:ext cx="838440" cy="53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4" name="CuencaNO-PPT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24080" y="4800600"/>
            <a:ext cx="914400" cy="533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" name="CuencaAustral%20-%20UTE%20TDF%20-%20PPT" descr=""/>
          <p:cNvPicPr/>
          <p:nvPr/>
        </p:nvPicPr>
        <p:blipFill>
          <a:blip r:embed="rId10"/>
          <a:stretch/>
        </p:blipFill>
        <p:spPr>
          <a:xfrm>
            <a:off x="2209680" y="5375160"/>
            <a:ext cx="838440" cy="50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6" name="CuencaNeuquina%20-%20PPT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124080" y="5376960"/>
            <a:ext cx="914400" cy="490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" name="">
            <a:hlinkClick r:id="rId13" action="ppaction://hlinksldjump"/>
          </p:cNvPr>
          <p:cNvSpPr/>
          <p:nvPr/>
        </p:nvSpPr>
        <p:spPr>
          <a:xfrm>
            <a:off x="2468520" y="5992920"/>
            <a:ext cx="1417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Interac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5815080" y="1295280"/>
            <a:ext cx="2948040" cy="5334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uencaGSJ%20-%20PPT" descr=""/>
          <p:cNvPicPr/>
          <p:nvPr/>
        </p:nvPicPr>
        <p:blipFill>
          <a:blip r:embed="rId2"/>
          <a:stretch/>
        </p:blipFill>
        <p:spPr>
          <a:xfrm>
            <a:off x="380880" y="1373040"/>
            <a:ext cx="8305920" cy="525636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4267080" y="3124080"/>
            <a:ext cx="114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2860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lf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o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 rot="16200000">
            <a:off x="8448840" y="80460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01160" y="10033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5" action="ppaction://hlinksldjump"/>
          </p:cNvPr>
          <p:cNvSpPr/>
          <p:nvPr/>
        </p:nvSpPr>
        <p:spPr>
          <a:xfrm>
            <a:off x="5105520" y="4876920"/>
            <a:ext cx="533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6" action="ppaction://hlinksldjump"/>
          </p:cNvPr>
          <p:cNvSpPr/>
          <p:nvPr/>
        </p:nvSpPr>
        <p:spPr>
          <a:xfrm>
            <a:off x="4724280" y="4572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D-Instalaciones" descr=""/>
          <p:cNvPicPr/>
          <p:nvPr/>
        </p:nvPicPr>
        <p:blipFill>
          <a:blip r:embed="rId2"/>
          <a:stretch/>
        </p:blipFill>
        <p:spPr>
          <a:xfrm>
            <a:off x="609480" y="1378080"/>
            <a:ext cx="7934400" cy="540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3040" y="22860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SJ – Cerro Dra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 rot="16200000">
            <a:off x="8127720" y="79992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86880" y="1017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4" action="ppaction://hlinksldjump"/>
          </p:cNvPr>
          <p:cNvSpPr/>
          <p:nvPr/>
        </p:nvSpPr>
        <p:spPr>
          <a:xfrm rot="16200000">
            <a:off x="7665840" y="79992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81800" y="974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rot="5400000">
            <a:off x="8681400" y="813960"/>
            <a:ext cx="152280" cy="190440"/>
          </a:xfrm>
          <a:prstGeom prst="triangle">
            <a:avLst>
              <a:gd name="adj" fmla="val 49995"/>
            </a:avLst>
          </a:prstGeom>
          <a:solidFill>
            <a:srgbClr val="da5926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91600" y="1036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LA-Instalaciones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8001000" cy="5406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2680" y="22860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SJ – Piedra Cla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C-Instalaciones" descr=""/>
          <p:cNvPicPr/>
          <p:nvPr/>
        </p:nvPicPr>
        <p:blipFill>
          <a:blip r:embed="rId4"/>
          <a:stretch/>
        </p:blipFill>
        <p:spPr>
          <a:xfrm>
            <a:off x="533520" y="1219320"/>
            <a:ext cx="8001000" cy="5410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5" action="ppaction://hlinksldjump"/>
          </p:cNvPr>
          <p:cNvSpPr/>
          <p:nvPr/>
        </p:nvSpPr>
        <p:spPr>
          <a:xfrm rot="16200000">
            <a:off x="8666280" y="76176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1880" y="1017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KK-instalaciones" descr=""/>
          <p:cNvPicPr/>
          <p:nvPr/>
        </p:nvPicPr>
        <p:blipFill>
          <a:blip r:embed="rId2"/>
          <a:stretch/>
        </p:blipFill>
        <p:spPr>
          <a:xfrm>
            <a:off x="304920" y="1328760"/>
            <a:ext cx="8153280" cy="5376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1600" y="22860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SJ – Koluel Ka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 rot="16200000">
            <a:off x="8623080" y="799920"/>
            <a:ext cx="15264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3cccc"/>
              </a:gs>
              <a:gs pos="100000">
                <a:srgbClr val="2bafa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53440" y="10429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uencaNO-PPT" descr=""/>
          <p:cNvPicPr/>
          <p:nvPr/>
        </p:nvPicPr>
        <p:blipFill>
          <a:blip r:embed="rId2"/>
          <a:stretch/>
        </p:blipFill>
        <p:spPr>
          <a:xfrm>
            <a:off x="1981080" y="1143000"/>
            <a:ext cx="5181840" cy="5519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3760" y="228600"/>
            <a:ext cx="17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ambu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4381560" y="3657600"/>
            <a:ext cx="190440" cy="30492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 rot="16200000">
            <a:off x="8508960" y="89496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53280" y="112716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uencaNeuquina%20-%20PPT" descr=""/>
          <p:cNvPicPr/>
          <p:nvPr/>
        </p:nvPicPr>
        <p:blipFill>
          <a:blip r:embed="rId2"/>
          <a:stretch/>
        </p:blipFill>
        <p:spPr>
          <a:xfrm>
            <a:off x="2147760" y="1143000"/>
            <a:ext cx="4786560" cy="5618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3400" y="228600"/>
            <a:ext cx="14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euqu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4572000" y="5029200"/>
            <a:ext cx="533520" cy="38088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 rot="16200000">
            <a:off x="8508960" y="742680"/>
            <a:ext cx="152280" cy="1904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a8a8ec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9748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Back to Men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2:40:00Z</dcterms:created>
  <dc:creator>Martin Lucas</dc:creator>
  <dc:description/>
  <dc:language>en-US</dc:language>
  <cp:lastModifiedBy>Sistemas</cp:lastModifiedBy>
  <cp:lastPrinted>2004-09-23T17:27:22Z</cp:lastPrinted>
  <dcterms:modified xsi:type="dcterms:W3CDTF">2005-12-20T20:35:56Z</dcterms:modified>
  <cp:revision>488</cp:revision>
  <dc:subject/>
  <dc:title>Sin título de diapositiva</dc:title>
</cp:coreProperties>
</file>