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7220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9144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rcRect l="0" t="0" r="12167" b="14098"/>
          <a:stretch/>
        </p:blipFill>
        <p:spPr>
          <a:xfrm>
            <a:off x="6318360" y="6261120"/>
            <a:ext cx="2749320" cy="541440"/>
          </a:xfrm>
          <a:prstGeom prst="rect">
            <a:avLst/>
          </a:prstGeom>
          <a:ln w="0">
            <a:noFill/>
          </a:ln>
        </p:spPr>
      </p:pic>
      <p:sp>
        <p:nvSpPr>
          <p:cNvPr id="3" name=""/>
          <p:cNvSpPr/>
          <p:nvPr/>
        </p:nvSpPr>
        <p:spPr>
          <a:xfrm>
            <a:off x="72360" y="6324480"/>
            <a:ext cx="543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Transporte de Hidrocarburos Líquidos y Gasoductos de Captació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60480"/>
            <a:ext cx="9144000" cy="825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ETRÓLEOS SUDAMERICANOS S.A – NECON S.A, 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
          <p:cNvSpPr/>
          <p:nvPr/>
        </p:nvSpPr>
        <p:spPr>
          <a:xfrm>
            <a:off x="0" y="2270160"/>
            <a:ext cx="9144000" cy="247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Transporte de Hidrocarburos Líquidos y Gasoductos de Captaci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ciembre 200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1371600"/>
            <a:ext cx="8915400" cy="45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RELACION OPERATIVA Y COMERCIAL CON LOS TRANSPORTISTAS</a:t>
            </a:r>
            <a:endParaRPr b="0" lang="en-US" sz="12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relación comercial con los transportistas se rige mediante procedimientos que se establecen entre las part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REAS CENTRO ESTE Y LOMA MONTOSA OES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Petróle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La unidad operativa Centro Este-Loma Montosa Oeste entrega el crudo en condiciones de venta, medido a través de una Unidad LACT, a oleoducto de entrada a Planta Catriel Oeste de Repsol-YPF S.A., inmediatamente aledaña a Planta de Tratamiento de Crudo de la U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Repsol-YPF S.A. transporta el crudo por oleoducto propio hasta El Medanito, lugar donde se emite el certificado de recepción y se lo transfiere a Oldelval S.A., concesionario de transpor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G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Gas seco en condiciones comerciales se inyecta en Punto de entrega PM 74 (Punto de Medición 74) de Gasoducto Troncal Centro Oeste de Transportadora de Gas del Norte (TGN), concesionario de transpor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322280"/>
            <a:ext cx="8381880" cy="322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REA CAIMANCIT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Petróle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El crudo en condiciones de venta se entrega en Playa de Tanques de Despacho (Cabecera) a la firma KyM S.A, quienes tranpsortan el crudo mediante camiones tanque hasta la refinería que posee REFINOR S.A en Aguaray, donde se emite el certificado de recepción.</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G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Gas seco en condiciones comerciales se inyecta en Punto de entrega PM 46 (Punto de Medición 46) de Gasoducto Troncal Campo Durán de Transportadora de Gas del Norte (TGN), concesionario de transpor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LPG</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El Propano-Butano en condiciones comerciales se entrega en Playa de Tanques de Despacho (Cabecera) a la firma Fraccionadora Santiagueña de Gas S.A, quienes tranpsortan el producto mediante camiones tanque a instalaciones propias.</a:t>
            </a:r>
            <a:endParaRPr b="0" lang="en-US" sz="1100" spc="-1" strike="noStrike">
              <a:solidFill>
                <a:srgbClr val="000000"/>
              </a:solidFill>
              <a:latin typeface="Times New Roman"/>
            </a:endParaRPr>
          </a:p>
        </p:txBody>
      </p:sp>
      <p:sp>
        <p:nvSpPr>
          <p:cNvPr id="67"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1219320"/>
            <a:ext cx="8915400" cy="475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SISTEMA DE GESTION AMBIENTAL APLICADO</a:t>
            </a:r>
            <a:endParaRPr b="0" lang="en-US" sz="12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acuerdo a lo estipulado mediante Res. SE 105/92 y Res. SE 25/04, se realiza en cada concesión de Explotación un monitoreo anual de las instalaciones de producción de hidrocarburos (MAOyT), que incluye ductos de interconexión (oleoductos y gasoductos)  acueductos), tanto de producto bruto como de hidrocarburos en condiciones comercial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da unidad operativa cuenta además con un Plan de Contingencias, que tiene por objeto prever situaciones anómalas y accidentales que puedan comprometer la integridad física de personas, bienes de terceros o de la Compañía y provocar posibles daños ambientales en las áreas de operacion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documento se estructuró en base a la Res. Se N° 342/93 y comprende Planes de Respuesta específicos para Incendio y/o Explosión, Derrames, Emisiones a la Atmósfera, etc.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l detectarse un incidente contaminante se pone en marcha el Plan de Contingencias en las Fases de Evaluación e Inicio de Acción y Control de Contingencias, para recuperar las condiciones ambientales preexistentes. Se procede a informar a la Secretaría de Energía de la Nación en cumplimiento de lo estipulado en Res. SE 24/04 y Anexo II - Res. SE Nº 342/93. Se reportan las planillas de incidentes correspondientes ante la autoridad de aplicación nacional y provinciales, tanto en la condición preliminar con el incidente bajo control, como el reporte final de incidentes una vez aplicadas las tareas de remediación y restituidas las condiciones ambientale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ando la contingencia corresponda a aventamientos accidentales de gas, que resulten como consecuencia de averías en plantas o equipos, se cumple además con lo establecido en la Resolución SE N° 143/98, remitiéndose la correspondiente Planilla AP.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1066680"/>
            <a:ext cx="8915400" cy="110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caso de proyectarse construir nuevos oleoductos, gasoductos, poliductos e instalaciones complementarias, se somete las características técnicas del proyecto ante la autoridad de aplicación, a los efectos de cumplimentar con lo estipulado por Disp. SE 19/04 y en caso de resultar necesario realizar los consecuentes estudio ambientales previos a la construcción, puesta en marcha y operación de los mismos.</a:t>
            </a:r>
            <a:endParaRPr b="0" lang="en-US" sz="1100" spc="-1" strike="noStrike">
              <a:solidFill>
                <a:srgbClr val="000000"/>
              </a:solidFill>
              <a:latin typeface="Times New Roman"/>
            </a:endParaRPr>
          </a:p>
        </p:txBody>
      </p:sp>
      <p:sp>
        <p:nvSpPr>
          <p:cNvPr id="71" name=""/>
          <p:cNvSpPr/>
          <p:nvPr/>
        </p:nvSpPr>
        <p:spPr>
          <a:xfrm>
            <a:off x="228600" y="3048120"/>
            <a:ext cx="89154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 SITUACIONES PARTICULARES QUE OBSTACULICEN DERECHOS Y OBLIGACIONES COMO CARGADOR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ólo cabe mencionar en este apartado, los frecuentes cortes de rutas que tienen lugar en la Ruta Nac. N° 34, obstaculizando las entregas de crudo y LPG que se realizan desde Playa de Tanques de Despacho (Cabecera) del Area Caimancito.</a:t>
            </a:r>
            <a:endParaRPr b="0" lang="en-US" sz="1100" spc="-1" strike="noStrike">
              <a:solidFill>
                <a:srgbClr val="000000"/>
              </a:solidFill>
              <a:latin typeface="Times New Roman"/>
            </a:endParaRPr>
          </a:p>
        </p:txBody>
      </p:sp>
      <p:sp>
        <p:nvSpPr>
          <p:cNvPr id="72"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0" y="175248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Black"/>
              </a:rPr>
              <a:t>CONCESIONES DE EXPLOTACIÓ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Black"/>
              </a:rPr>
              <a:t>PETRÓLEOS SUDAMERICANOS S.A – NECON S.A UTE</a:t>
            </a:r>
            <a:endParaRPr b="0" lang="en-US" sz="1600" spc="-1" strike="noStrike">
              <a:solidFill>
                <a:srgbClr val="000000"/>
              </a:solidFill>
              <a:latin typeface="Times New Roman"/>
            </a:endParaRPr>
          </a:p>
        </p:txBody>
      </p:sp>
      <p:sp>
        <p:nvSpPr>
          <p:cNvPr id="43" name=""/>
          <p:cNvSpPr/>
          <p:nvPr/>
        </p:nvSpPr>
        <p:spPr>
          <a:xfrm>
            <a:off x="2133720" y="3581280"/>
            <a:ext cx="472428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NQ-6 CENTROES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NQ-39 LOMA MONTOSA OES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NQ-3 CAIMANCITO</a:t>
            </a:r>
            <a:endParaRPr b="0" lang="en-US" sz="1400" spc="-1" strike="noStrike">
              <a:solidFill>
                <a:srgbClr val="000000"/>
              </a:solidFill>
              <a:latin typeface="Times New Roman"/>
            </a:endParaRPr>
          </a:p>
        </p:txBody>
      </p:sp>
      <p:sp>
        <p:nvSpPr>
          <p:cNvPr id="44" name=""/>
          <p:cNvSpPr/>
          <p:nvPr/>
        </p:nvSpPr>
        <p:spPr>
          <a:xfrm>
            <a:off x="2057400" y="3429000"/>
            <a:ext cx="4952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2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0" y="1143000"/>
            <a:ext cx="9144000" cy="53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 DESCRIPCION DEL SISTEMA DE TRANSPORTE UTILIZA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sistema utilizado en nuestras concesiones de explotación son ductos internos que no revisten el carácter de Concesiones de Transporte y conducen producto pretratado o en condiciones de venta hasta los puntos de carga de los transportist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REAS CENTRO ESTE Y LOMA MONTOSA OES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áreas Centro Este y Loma Montosa Oeste constituyen una única unidad operativa, por lo que se analizarán en su conjunt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Petróle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total producido de petróleo pretratado de la Concesión de Explotación Centro Este, conjuntamente con el petróleo pretratado de la Concesión de Explotación Loma Montosa Oeste es bombeado desde la Batería Centro Este a través de un único oleoducto troncal hasta la Planta de Tratamiento de Crudo situada en Catriel Oeste (unos 35 Km. al NNO de la ciudad de Catriel, Prov. Río Negr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llí el crudo es acondicionado a especificación de venta.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empresa que toma en custodia la carga es Repsol-YPF S.A. (previo paso por una Unidad LACT), cuyas instalaciones se encuentran inmediatamente aledañas a las nuestra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8"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143000"/>
            <a:ext cx="86104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leoducto troncal que une la Batería Centro Este con la Planta de Tratamiento Catriel Oeste alcanza una longitud de 7.5 km, distancia que recorreadosado al camino  consolidado de tierra que une dichas locaciones. Se trata de una cañería de acero de 6" de diámetro que puede operar con una presión máxima de 50 kg/cm2.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corre un tramo sub-aéreo montado sobre soportes (3,900 mts) y otro soterrado (3,600 mts). Tramo aéreo con cañería desnuda, tramo soterrado fue puesto en servicio en el año 1997 por la UTE y posee revestimiento anticorrosivo exterior. En el cruce con un camino interno de área, éste viaja enterrado y encamisado.</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régimen de operación es adecuado al fluido transportado, no hay sobrepresiones a la cañería disminuyendo el riesgo de roturas. Está señalizado correctamente y existe documentación de su tendid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fluído transportado es crudo pretratado en la Batería Centro Este, con no más de 10 % de agua. Este fluído tiene características incrustantes y no corrosivas, lo que ha prevenido hasta la fecha la formación de ambiente corrosivo dentro del ducto. Como procedimiento operativo se colocan cupones de corrosión para llevar una medición de la corrosión intern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te cualquier inconveniente operativo, bombas de despacho a oleoducto en Batería Centro Este cuentan con válvulas de seguridad que recirculan a tanques ante sobrepresión del sistema. Además, personal de la UTE recorre la pista de oleoducto con periodicidad de 2 veces al día y hay un operador permanente en Planta Catriel Oeste que realiza lecturas cada 2 hs del volumen de recepción, por lo que cualquier inconveniente operativo sería rápidamente detectad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0"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8600" y="1143000"/>
            <a:ext cx="8610480" cy="17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G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gas destinado a la venta se conduce a la Planta Compresora Centro Este, lugar donde se lo comprime y deshidrata, resultando el gas seco en condiciones comerciale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lo conduce luego a través de un gasoducto soterrado de 6” de diámetro y 14,5 Km. de longitud que puede operar con una presión máxima de 60 kg/cm2, hasta el gasoducto Centro Oeste de Transportadora de Gas del Norte (TGN), ingresando al mismo en el denominado PM74, en las vecindades de la progresiva 99 de dicho ducto. </a:t>
            </a:r>
            <a:endParaRPr b="0" lang="en-US" sz="1100" spc="-1" strike="noStrike">
              <a:solidFill>
                <a:srgbClr val="000000"/>
              </a:solidFill>
              <a:latin typeface="Times New Roman"/>
            </a:endParaRPr>
          </a:p>
        </p:txBody>
      </p:sp>
      <p:sp>
        <p:nvSpPr>
          <p:cNvPr id="53" name=""/>
          <p:cNvSpPr/>
          <p:nvPr/>
        </p:nvSpPr>
        <p:spPr>
          <a:xfrm>
            <a:off x="228600" y="3200400"/>
            <a:ext cx="8458200" cy="22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trata de una cañería de acero con revestimiento exterior anticorrosivo y protección catódica mediante ánodos de sacrificio. Se monitorea corrosión, se realizan regularmente campañas de medición de potenciales caño - terren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te cualquier inconveniente operativo, se cuenta con sistemas de seguridad que incluyen al menos 3 instanci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o de Compresores ante sobrepresiones en ingreso a los mismos.</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álvulas de seguridad en cada uno de los Compresores.</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álvula de alivio previo ingreso al sistema.</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143000"/>
            <a:ext cx="9144000" cy="43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REA CAIMANCIT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Petróle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Todo el petróleo producido en el Area se concentra en las instalaciones de Batería/ Planta Tratamiento de Crudo (comparten un mismo predio), donde el crudo es acondicionado a especificación de venta. El crudo tratado es transportado por un único oleoducto troncal hasta una Playa de Tanques de Despacho (Cabecera), ubicada sobre la Ruta Nac. Nº 34 a unos 30 Km al N de la localidad Libertador Gral. San Martín, Prov. de Jujuy. De allí se transporta mediante camiones tanque hasta la Refinería que REFINOR S.A posee en Aguaray, Prov. de Salt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e oleoducto troncal aprovecha la diferencia de cota existente entre locaciones Batería/Planta de Tratamiento y Cabecera, es decir, se transporta por gravedad, sin utilización de bombas de despach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trata de cañería soldada de 8 5/8" pulgadas, acero, 9.5 mm de espesor con revestimiento asfáltico anticorrosivo exterior. Máxima presión operativa de 15 kg/cm2. Realiza un recorrido de aproximadamente 5.5 km desde Batería/Planta de Tratamiento hasta Planta Cabecera, la mayor parte de su recorrido en forma soterrada, con un corto tramo superficial. En cruce de la Ruta Nac. No 34 viaja encamisado y con las cabeceras debidamente protegida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regímenes de operación son adecuados a los fluidos que transporta, debido al transporte por gravedad no hay posibilidad de sobrepresiones a la cañería disminuyendo el riesgo de roturas. Hay válvulas de bloqueo al comienzo de su recorrido y en ingreso a Cabecera. Se realizan recorridos periódicos para detectar eventuales pérdidas, manteniendo una picada habilitada a tal efecto.</a:t>
            </a:r>
            <a:endParaRPr b="0" lang="en-US" sz="1100" spc="-1" strike="noStrike">
              <a:solidFill>
                <a:srgbClr val="000000"/>
              </a:solidFill>
              <a:latin typeface="Times New Roman"/>
            </a:endParaRPr>
          </a:p>
        </p:txBody>
      </p:sp>
      <p:sp>
        <p:nvSpPr>
          <p:cNvPr id="56"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295280"/>
            <a:ext cx="8686800" cy="27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fluído transportado es crudo en especificación de venta, deshidratado y desalado. Las características del fluído transportado han prevenido hasta la fecha la formación de ambiente corrosivo dentro del ducto, que se mantiene en condiciones operativ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Planta Cabecera el crudo en especificación de venta es almacenado en un Tk de 10.000 m3 de capacidad, con suficiente capacidad ociosa ante cualquier inconveniente en el despacho de camion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crudo almacenado es bombeado a un cargadero de camiones ubicado inmediatamente aledaño a la playa de tanques, dentro de las instalaciones de Planta. Las cargas en camiones se realizan siempre en presencia de personal de la UTE.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Cargadero posee una amplia base de hormigón provista de canaletas colectoras de eventuales derrames y sumidero con descarga a una pileta API de locación. Se encuentra protegido bajo una estructura techada, con protección de cableado a tierra. Protección contra incendios en dicha zona está compuesta por red fija de hidrantes de 3" de diámetro, generadores de espuma con escopetas espumígenas y una dotación de extinguidores manuales de polvo químico.</a:t>
            </a:r>
            <a:endParaRPr b="0" lang="en-US" sz="1100" spc="-1" strike="noStrike">
              <a:solidFill>
                <a:srgbClr val="000000"/>
              </a:solidFill>
              <a:latin typeface="Times New Roman"/>
            </a:endParaRPr>
          </a:p>
        </p:txBody>
      </p:sp>
      <p:sp>
        <p:nvSpPr>
          <p:cNvPr id="58"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143000"/>
            <a:ext cx="8686800" cy="27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G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gas producido va a la Planta Compresora y Tratamiento de Gas ubicada en predio colindante con Batería/Planta Tratamiento de Crudo, lugar donde se lo comprime y deshidrata, dejando al gas seco en condiciones comerciales. Es transportado por medio de un gasoducto hasta la Playa de Tanques de Despacho (Cabecera), donde se conecta con el gasoducto troncal de Campo Durán de Transportadora de Gas del Norte (TGN), ingresando al mismo en el denominado PM 46.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aliza un recorrido soterrado de aproximadamente 6,5 Km, respetando la traza de una picada y línea eléctrica ya existentes al momento de su tendid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trata de cañería de acero de 3'' de diámetro, tiene revestimiento anticorrosivo y posee protección catódica mediante ánodos de sacrificio. En el cruce de Ruta Nac. No. 34 viaja encamisado y las cabeceras debidamente protegidas. Se realizan campañas periódicas de medición de potenciales.</a:t>
            </a:r>
            <a:endParaRPr b="0" lang="en-US" sz="1100" spc="-1" strike="noStrike">
              <a:solidFill>
                <a:srgbClr val="000000"/>
              </a:solidFill>
              <a:latin typeface="Times New Roman"/>
            </a:endParaRPr>
          </a:p>
        </p:txBody>
      </p:sp>
      <p:sp>
        <p:nvSpPr>
          <p:cNvPr id="60" name=""/>
          <p:cNvSpPr/>
          <p:nvPr/>
        </p:nvSpPr>
        <p:spPr>
          <a:xfrm>
            <a:off x="228600" y="4038480"/>
            <a:ext cx="8305920" cy="153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te cualquier inconveniente operativo, se cuenta con sistemas de seguridad que incluyen al menos 3 instancia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o de Compresor en Planta Compresora y Tratamiento de Gas por alta presión de descarga.</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álvula de alivio previo ingreso al sistema, a la salida de Planta</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álvula de seguridad de separador de líquidos en puente de medición previo al ingreso en gasoducto troncal (Planta Cabecer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1"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1219320"/>
            <a:ext cx="8915400" cy="41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u="sng">
                <a:solidFill>
                  <a:srgbClr val="000000"/>
                </a:solidFill>
                <a:uFillTx/>
                <a:latin typeface="Arial"/>
              </a:rPr>
              <a:t>LPG</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demás del acondicionamiento del gas a condiciones comerciales, en Planta Compresora y Tratamiento de Gas se obtienen cortes de propano-butano. Se transportan hasta la Playa de Tanques de Despacho (Cabecera), por medio de un propanoducto de 3" de diámetro, que realiza un recorrido paralelo al gasoducto, aprovechando la misma picada. Al igual que para el gasoducto, la cañería está revestida externamente, posee protección catódica mediante ánodos de sacrificio y el cruce de Ruta Nac. No. 34 lo realiza con caño camisa y las cabeceras debidamente protegidas.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instalaciones correspondientes al despacho y cargadero de propano-butano en Playa de Tanques de Despacho (Cabecera) están ubicadas sobre uno de los esquineros del predio. Hay 1 tanque de almacenaje horizontal de 68 m3 de capacidad que recibe la producción bombeada por propanoducto desde la Planta de Compresión y Tratamiento de Gas. Ante inconvenientes operativos, hay tres válvulas de seguridad por alta presión y una reguladora de presión conectada a un mechero ubicado a escasos metros de distancia.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operaciones de carga a camiones tanque se efectúan mediante una bomba eléctrica, que transporta el propano - butano por un ducto desde el tanque hasta el cargadero, recorriendo unos 25 mts. Las cargas en camiones se realizan siempre en presencia de personal de la UT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Toda la instalación de cargadero está protegida por una estructura techada con su correspondiente puesta a tierra, y protección reforzada de la manga de descarga, para evitar accidentes con los camiones. Como protección ante siniestros, hay una boca de hidrante cercana a la locación y extinguidores manuales de polvo químico.</a:t>
            </a:r>
            <a:endParaRPr b="0" lang="en-US" sz="1100" spc="-1" strike="noStrike">
              <a:solidFill>
                <a:srgbClr val="000000"/>
              </a:solidFill>
              <a:latin typeface="Times New Roman"/>
            </a:endParaRPr>
          </a:p>
        </p:txBody>
      </p:sp>
      <p:sp>
        <p:nvSpPr>
          <p:cNvPr id="63" name=""/>
          <p:cNvSpPr/>
          <p:nvPr/>
        </p:nvSpPr>
        <p:spPr>
          <a:xfrm>
            <a:off x="304920" y="228600"/>
            <a:ext cx="82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S CENTRO ESTE- LOMA MONTOSA OESTE- CAIMANC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21:10:38Z</dcterms:created>
  <dc:creator>Leandro Carbone</dc:creator>
  <dc:description/>
  <dc:language>en-US</dc:language>
  <cp:lastModifiedBy>shurtado</cp:lastModifiedBy>
  <dcterms:modified xsi:type="dcterms:W3CDTF">2005-12-19T14:50:26Z</dcterms:modified>
  <cp:revision>154</cp:revision>
  <dc:subject/>
  <dc:title>Presentación de PowerPoint</dc:title>
</cp:coreProperties>
</file>