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2320" y="-22320"/>
            <a:ext cx="9188640" cy="690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971640" y="1268280"/>
            <a:ext cx="733896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s-ES_tradnl" sz="6600" spc="-1" strike="noStrike">
                <a:solidFill>
                  <a:srgbClr val="ff3300"/>
                </a:solidFill>
                <a:latin typeface="Times New Roman"/>
              </a:rPr>
              <a:t>Yacimien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s-ES_tradnl" sz="6600" spc="-1" strike="noStrike">
                <a:solidFill>
                  <a:srgbClr val="ff3300"/>
                </a:solidFill>
                <a:latin typeface="Times New Roman"/>
              </a:rPr>
              <a:t>Palmar Larg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42920" y="3965400"/>
            <a:ext cx="756144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Times New Roman"/>
              </a:rPr>
              <a:t>Jornadas sobre Transporte de Hidrocarburos Líq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Times New Roman"/>
              </a:rPr>
              <a:t>y Gasoductos de Cap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Times New Roman"/>
              </a:rPr>
              <a:t>Diciembr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7480" y="85716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3333cc"/>
                </a:solidFill>
                <a:uFillTx/>
                <a:latin typeface="Times New Roman"/>
              </a:rPr>
              <a:t>Transporte de Hidrocarburos Líq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4464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cripción del sistem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El petróleo producido en el yacimiento, una vez tratado y en especificación,  es bombeado a través de un </a:t>
            </a:r>
            <a:r>
              <a:rPr b="1" i="1" lang="es-AR" sz="1800" spc="-1" strike="noStrike">
                <a:solidFill>
                  <a:srgbClr val="000000"/>
                </a:solidFill>
                <a:latin typeface="Times New Roman"/>
              </a:rPr>
              <a:t>oleoducto</a:t>
            </a: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 desde Palmar Largo hasta el Cargadero de Ingeniero Jua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Allí es almacenado y posteriormente entregado en partes proporcionales a los socios de la UTE Palmar Largo, de la cual Pluspetrol es oper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El 70% de la producción  es transportado por  cuenta de Pluspetrol hasta la Planta de descarga de Refinor distante a 330 km del Cargadero Juarez. Dicho transporte se efectúa en </a:t>
            </a:r>
            <a:r>
              <a:rPr b="1" i="1" lang="es-AR" sz="1800" spc="-1" strike="noStrike">
                <a:solidFill>
                  <a:srgbClr val="000000"/>
                </a:solidFill>
                <a:latin typeface="Times New Roman"/>
              </a:rPr>
              <a:t>camiones tanques</a:t>
            </a: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ción Operativa con Cargadores y/o Transportistas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El Oleoducto es operado por Pluspetrol. Mientras que para el transporte en camiones tanques se contrata a empresas transportistas, quienes efectúan el mismo de acuerdo a  pautas establecidas por Pluspe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33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179280" y="5445000"/>
          <a:ext cx="6048360" cy="86544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1.-Oleoducto P. Largo - Cargadero Ing. Juar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2.-Tpte. Camiones Tanques Cdro. Juarez – Planta Refin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572000" y="5661000"/>
            <a:ext cx="43164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53080" y="6165720"/>
            <a:ext cx="4316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4530" t="4241" r="10804" b="4453"/>
          <a:stretch/>
        </p:blipFill>
        <p:spPr>
          <a:xfrm>
            <a:off x="5424480" y="222120"/>
            <a:ext cx="3500280" cy="2702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01080" y="1341360"/>
            <a:ext cx="900000" cy="1366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3070080"/>
          <a:ext cx="8713440" cy="3672000"/>
        </p:xfrm>
        <a:graphic>
          <a:graphicData uri="http://schemas.openxmlformats.org/drawingml/2006/table">
            <a:tbl>
              <a:tblPr/>
              <a:tblGrid>
                <a:gridCol w="3659400"/>
                <a:gridCol w="2534400"/>
                <a:gridCol w="1047240"/>
                <a:gridCol w="1472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abecera de Bomb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ac.P.Lar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ecepción y Almacen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arg. Juár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Diámetro Du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6“/8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Extens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90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Caudal bombeo a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350 m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3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Presión bomb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20 kg/cm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Prote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Revestido y soter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Antigü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20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Contro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Recorre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329480" y="1197000"/>
            <a:ext cx="3148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Ole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almar Largo -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840" y="1197000"/>
            <a:ext cx="45871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Transporte en Camiones Tan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2450" t="0" r="9865" b="4095"/>
          <a:stretch/>
        </p:blipFill>
        <p:spPr>
          <a:xfrm>
            <a:off x="5402160" y="-1440"/>
            <a:ext cx="3468960" cy="270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08000" y="2060640"/>
          <a:ext cx="8640720" cy="4779720"/>
        </p:xfrm>
        <a:graphic>
          <a:graphicData uri="http://schemas.openxmlformats.org/drawingml/2006/table">
            <a:tbl>
              <a:tblPr/>
              <a:tblGrid>
                <a:gridCol w="3881520"/>
                <a:gridCol w="4217760"/>
                <a:gridCol w="271440"/>
                <a:gridCol w="270000"/>
              </a:tblGrid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Punto de carg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Cargadero Ing. Juare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Punto descar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Planta descarga Refinor - Agua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Tra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Ext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330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Camino asfaltado en buen es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Camino de tierra (enrripiado por zo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Transportis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Empresas contratadas actu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Camiones tanques afec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Plan de Conting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A partir de 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Revisado y actualizado en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Contro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Punto Despacho (Cargadero Juare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Documentación vehículo y chof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Habilitación Tpte. Cargas Peligro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Estado gral del vehículo y tanq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Accesorios seguridad (matafuegos, EPP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En 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Velocidades máxi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Alco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Frecuencia de car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Situaciones particulares que obstaculicen derechos y oblig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Bloqueos de ruta por conflictos soci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7:12:40Z</dcterms:created>
  <dc:creator>MCastro</dc:creator>
  <dc:description/>
  <dc:language>en-US</dc:language>
  <cp:lastModifiedBy>PLUSPETROL S.A.</cp:lastModifiedBy>
  <dcterms:modified xsi:type="dcterms:W3CDTF">2005-12-16T19:02:35Z</dcterms:modified>
  <cp:revision>61</cp:revision>
  <dc:subject/>
  <dc:title>No Slide Title</dc:title>
</cp:coreProperties>
</file>