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2BA-4110-40B3-B988-59BB6277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6C39-B3F9-4C6D-AEAE-B448CB6E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838A-96F6-48FE-AD71-ECC47D7D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702-33C5-415F-BCD1-A1871416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14B8-337C-4DA0-B1A2-5DAB4DF6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A0F-4A65-4D9E-85F8-0DA2A208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37E-A21F-4FA5-8F96-9C3246AF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FC3D-851D-47CA-8BE6-EBBC45C7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62C2-3D6F-48CC-B84B-E4687C10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EA1-3637-4D5A-97A2-D624EA2C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16F-E8D2-451A-825D-BB8A3C7D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3FF2-B94F-4928-89F7-1E16AE7F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9D24-C868-4C5B-B488-11153C121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MG001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7057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RRO MOLLAR OEST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B9CB-6E07-4BE1-B052-BDE56714D7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g00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58200" cy="3683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175248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Cuenca:    Neuquina Submendo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Provincia: Mend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Empresa Operadora :       Tecnicagua S.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Empresa Concesionaria: Tecnicagua S.A. %1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Producción:  Petróleo API -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45720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Concesión de Explo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CERRO MOLLAR OESTE – CNQ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RRO MOLLAR OEST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20E8-A982-43AA-8782-54D8A64D10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UBICACIÓN 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MG003" descr=""/>
          <p:cNvPicPr/>
          <p:nvPr/>
        </p:nvPicPr>
        <p:blipFill>
          <a:blip r:embed="rId1"/>
          <a:stretch/>
        </p:blipFill>
        <p:spPr>
          <a:xfrm>
            <a:off x="4495680" y="1143000"/>
            <a:ext cx="3743280" cy="1673280"/>
          </a:xfrm>
          <a:prstGeom prst="rect">
            <a:avLst/>
          </a:prstGeom>
          <a:ln w="0">
            <a:noFill/>
          </a:ln>
        </p:spPr>
      </p:pic>
      <p:pic>
        <p:nvPicPr>
          <p:cNvPr id="50" name="IMG005" descr=""/>
          <p:cNvPicPr/>
          <p:nvPr/>
        </p:nvPicPr>
        <p:blipFill>
          <a:blip r:embed="rId2"/>
          <a:stretch/>
        </p:blipFill>
        <p:spPr>
          <a:xfrm>
            <a:off x="6172200" y="3276720"/>
            <a:ext cx="184932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img006" descr=""/>
          <p:cNvPicPr/>
          <p:nvPr/>
        </p:nvPicPr>
        <p:blipFill>
          <a:blip r:embed="rId3"/>
          <a:stretch/>
        </p:blipFill>
        <p:spPr>
          <a:xfrm>
            <a:off x="914400" y="990720"/>
            <a:ext cx="3429000" cy="506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RRO MOLLAR OEST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065-2F8B-40F1-AF2D-C009814947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YACIMIENTOS EN EL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img011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462720" cy="313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RRO MOLLAR OEST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6D90-2643-4E56-8410-A42BA60852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YACIMIENTOS EN EL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1219320"/>
            <a:ext cx="7315200" cy="36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18 pozos perforados en el blo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 Rounded MT Bold"/>
              </a:rPr>
              <a:t>Yacimiento Cerro Mollar Oeste ( Petróleo )</a:t>
            </a:r>
            <a:r>
              <a:rPr b="0" lang="es-ES_tradnl" sz="2400" spc="-1" strike="noStrike">
                <a:solidFill>
                  <a:srgbClr val="3333cc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Formación: Diamante y Huitrín ( 500/600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YPF.Md.NCMO-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66"/>
                </a:solidFill>
                <a:latin typeface="Arial Rounded MT Bold"/>
              </a:rPr>
              <a:t>2.6  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/día</a:t>
            </a:r>
            <a:r>
              <a:rPr b="0" lang="es-ES_tradnl" sz="2400" spc="-1" strike="noStrike">
                <a:solidFill>
                  <a:srgbClr val="00cc66"/>
                </a:solidFill>
                <a:latin typeface="Arial Rounded MT Bol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ES_tradnl" sz="2400" spc="-1" strike="noStrike">
                <a:solidFill>
                  <a:srgbClr val="ff3300"/>
                </a:solidFill>
                <a:latin typeface="Arial Rounded MT Bold"/>
              </a:rPr>
              <a:t>0 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/día             </a:t>
            </a:r>
            <a:r>
              <a:rPr b="0" lang="es-ES_tradnl" sz="2400" spc="-1" strike="noStrike">
                <a:solidFill>
                  <a:srgbClr val="3333cc"/>
                </a:solidFill>
                <a:latin typeface="Arial Rounded MT Bold"/>
              </a:rPr>
              <a:t>95.5 % 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 Rounded MT Bold"/>
              </a:rPr>
              <a:t>Cerro Horqueta  ( Cerrado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Rounded MT Bold"/>
              </a:rPr>
              <a:t>Producción  de Octubre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RRO MOLLAR OEST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E21-D1F1-427C-AB62-6F941E4B71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DISTRIBUCIÓN DE 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YCMO-3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77400" cy="54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RRO MOLLAR OEST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A8A8-C10A-4F91-9C93-E725B24EB3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MG016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4897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380880"/>
            <a:ext cx="609840" cy="609840"/>
          </a:xfrm>
          <a:prstGeom prst="diamond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380880"/>
            <a:ext cx="114300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457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457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2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RRO MOLLAR OEST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2AD-35B3-494D-9F7D-4B2B3AEAEE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PLANTA EN CIUDAD DE MALAR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IMG013" descr=""/>
          <p:cNvPicPr/>
          <p:nvPr/>
        </p:nvPicPr>
        <p:blipFill>
          <a:blip r:embed="rId1"/>
          <a:stretch/>
        </p:blipFill>
        <p:spPr>
          <a:xfrm>
            <a:off x="6753240" y="1066680"/>
            <a:ext cx="2390760" cy="4780080"/>
          </a:xfrm>
          <a:prstGeom prst="rect">
            <a:avLst/>
          </a:prstGeom>
          <a:ln w="0">
            <a:noFill/>
          </a:ln>
        </p:spPr>
      </p:pic>
      <p:pic>
        <p:nvPicPr>
          <p:cNvPr id="71" name="IMG012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6095880" cy="498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RRO MOLLAR OEST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11B-660E-43ED-B236-FECD485BD1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FIN DE LA PRESEN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img00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58200" cy="3683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175248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Tecnicagua Sociedad Anó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Rodríguez Peña 2255, Godoy Cruz Mend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Info@tecnicagu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Gracia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RRO MOLLAR OEST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0F0B-BC98-4DC3-B644-A0D9A23DE8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7:54:49Z</dcterms:created>
  <dc:creator>Geo_WS</dc:creator>
  <dc:description/>
  <dc:language>en-US</dc:language>
  <cp:lastModifiedBy>Oficina BA.</cp:lastModifiedBy>
  <dcterms:modified xsi:type="dcterms:W3CDTF">2005-12-29T13:44:32Z</dcterms:modified>
  <cp:revision>20</cp:revision>
  <dc:subject/>
  <dc:title>Presentación de PowerPoint</dc:title>
</cp:coreProperties>
</file>