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F44-F61A-4960-900F-17BE260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52B-FE16-426D-9C2B-C821D4D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A21-59DE-4F57-A40E-7E643428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E81-8EA8-4C21-89EF-252E1304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1B5-4999-45F9-B147-D6BD4A5A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995-DBF0-4DA4-AF1D-F25E46C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FB9-2E5B-48D9-847A-C853F1E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BC1-1F2C-4533-98BD-361F57E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603-14CB-4C13-9071-5841A59A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C8F-FF3E-4254-B240-57CB837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F38-7E84-4E86-B023-13CEB8D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9EB-CF3A-4687-9D97-DB64037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C63-45D3-412F-ABC1-6515519D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600-497B-4B1F-9A3E-62EE5D9F0C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uenca:    Neuquina Submendo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vincia: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Operadora :       Tecnicagua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Concesionaria: Tecnicagua S.A. %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ducción:  Petróleo API -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oncesión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ERRO MOLLAR OESTE – CNQ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9FF-D746-4F8F-8C51-E15770710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UBICAC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3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743280" cy="1673280"/>
          </a:xfrm>
          <a:prstGeom prst="rect">
            <a:avLst/>
          </a:prstGeom>
          <a:ln w="0">
            <a:noFill/>
          </a:ln>
        </p:spPr>
      </p:pic>
      <p:pic>
        <p:nvPicPr>
          <p:cNvPr id="50" name="IMG005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18493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img006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3429000" cy="50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D84-368C-4B57-9FD9-BDF58AAB0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g01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62720" cy="31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3F2-482F-4ADE-874F-DA4AF848C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219320"/>
            <a:ext cx="731520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18 pozos perforados en 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Yacimiento Cerro Mollar Oeste ( Petróleo )</a:t>
            </a: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Formación: Diamante y Huitrín ( 500/600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YPF.Md.NCMO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66"/>
                </a:solidFill>
                <a:latin typeface="Arial Rounded MT Bold"/>
              </a:rPr>
              <a:t>2.6 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/día</a:t>
            </a:r>
            <a:r>
              <a:rPr b="0" lang="es-ES_tradnl" sz="2400" spc="-1" strike="noStrike">
                <a:solidFill>
                  <a:srgbClr val="00cc66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ff3300"/>
                </a:solidFill>
                <a:latin typeface="Arial Rounded MT Bold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/día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95.5 % 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Cerro Horqueta  ( Cerrad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Rounded MT Bold"/>
              </a:rPr>
              <a:t>Producción  de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EB3-881B-424B-B19C-797D95391F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YCMO-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77400" cy="54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74A-2895-47F3-A099-61BCAA398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G016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80880"/>
            <a:ext cx="609840" cy="6098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380880"/>
            <a:ext cx="11430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57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87B-B9EE-4D5C-B3FB-A04F03E912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LANTA EN CIUDAD DE MALAR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MG013" descr=""/>
          <p:cNvPicPr/>
          <p:nvPr/>
        </p:nvPicPr>
        <p:blipFill>
          <a:blip r:embed="rId1"/>
          <a:stretch/>
        </p:blipFill>
        <p:spPr>
          <a:xfrm>
            <a:off x="6753240" y="1066680"/>
            <a:ext cx="2390760" cy="4780080"/>
          </a:xfrm>
          <a:prstGeom prst="rect">
            <a:avLst/>
          </a:prstGeom>
          <a:ln w="0">
            <a:noFill/>
          </a:ln>
        </p:spPr>
      </p:pic>
      <p:pic>
        <p:nvPicPr>
          <p:cNvPr id="71" name="IMG012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609588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A66-631A-4BF4-BDA6-C069581B11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FIN DE LA 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Tecnicagua 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Rodríguez Peña 2255, Godoy Cruz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Info@tecnicagu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AA0-9DD2-4C0F-81AA-FEE734735E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54:49Z</dcterms:created>
  <dc:creator>Geo_WS</dc:creator>
  <dc:description/>
  <dc:language>en-US</dc:language>
  <cp:lastModifiedBy>Oficina BA.</cp:lastModifiedBy>
  <dcterms:modified xsi:type="dcterms:W3CDTF">2005-12-29T13:44:32Z</dcterms:modified>
  <cp:revision>20</cp:revision>
  <dc:subject/>
  <dc:title>Presentación de PowerPoint</dc:title>
</cp:coreProperties>
</file>