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0220-2A1A-44C5-848D-94AD1A5E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E57E-5C3A-494C-8539-2D0C1CF0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51CC-2F96-4802-B7B1-45FEF034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A8A3-DAAB-4889-AD6F-613B79F1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EA07-4BC0-4831-A571-04DCD75E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C81F-E8B8-4916-A8C7-5111B817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0F3-28AD-491C-BCA7-33D7B43C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D16-06D9-48A6-94CA-D59498F9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150-5038-4C47-B8C2-37467DC3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31C0-D73F-411B-B1F3-C20AC05E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67C9-CFC2-45A7-B917-44608CE3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B47-4135-4990-BB1D-3ECFE747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C7EE-29B0-4AE6-A4D8-3FF9ED2B884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MG001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7057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ESTO ROJ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3CDF-B464-4003-B774-2E273CB575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IMG015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405400" cy="5562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38080" y="380880"/>
            <a:ext cx="609840" cy="609840"/>
          </a:xfrm>
          <a:prstGeom prst="diamond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380880"/>
            <a:ext cx="114300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57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457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2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ESTO ROJ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BA69-6AA3-4A2E-8ED9-0CD3B360AE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PLANTA EN CIUDAD DE MALAR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IMG01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6096240" cy="4983120"/>
          </a:xfrm>
          <a:prstGeom prst="rect">
            <a:avLst/>
          </a:prstGeom>
          <a:ln w="0">
            <a:noFill/>
          </a:ln>
        </p:spPr>
      </p:pic>
      <p:pic>
        <p:nvPicPr>
          <p:cNvPr id="91" name="IMG014" descr=""/>
          <p:cNvPicPr/>
          <p:nvPr/>
        </p:nvPicPr>
        <p:blipFill>
          <a:blip r:embed="rId2"/>
          <a:stretch/>
        </p:blipFill>
        <p:spPr>
          <a:xfrm>
            <a:off x="6627960" y="914400"/>
            <a:ext cx="251604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ESTO ROJ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BEAB-5077-463A-9015-562FDACCBA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FIN DE LA PRESENT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img00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458200" cy="3683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066680" y="175248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Tecnicagua Sociedad Anó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Rodríguez Peña 2255, Godoy Cruz Mendo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Info@tecnicagu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Gracia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ESTO ROJ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0561-E1D3-48A4-849D-928C5A8DF7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g00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458200" cy="3683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1752480"/>
            <a:ext cx="7315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Cuenca:    Neuquina Submendo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Provincia: Mendo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Empresa Operadora :       Tecnicagua S.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Empresa Concesionaria: Petrolera del Sur 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Producción:  Petróleo API–24    y  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45720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Concesión de Explo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PUESTO ROJAS – CNQ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ESTO ROJ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F0CA-F54F-4892-8CD7-A2F786E0C8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UBICACIÓN 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mg007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3403440" cy="5029200"/>
          </a:xfrm>
          <a:prstGeom prst="rect">
            <a:avLst/>
          </a:prstGeom>
          <a:ln w="0">
            <a:noFill/>
          </a:ln>
        </p:spPr>
      </p:pic>
      <p:pic>
        <p:nvPicPr>
          <p:cNvPr id="50" name="IMG005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158616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IMG009" descr=""/>
          <p:cNvPicPr/>
          <p:nvPr/>
        </p:nvPicPr>
        <p:blipFill>
          <a:blip r:embed="rId3"/>
          <a:stretch/>
        </p:blipFill>
        <p:spPr>
          <a:xfrm>
            <a:off x="4876920" y="762120"/>
            <a:ext cx="4038480" cy="258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ESTO ROJ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8AC7-B09B-4B07-AA5B-6F290136C9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YACIMIENTOS EN EL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IMG010" descr=""/>
          <p:cNvPicPr/>
          <p:nvPr/>
        </p:nvPicPr>
        <p:blipFill>
          <a:blip r:embed="rId1"/>
          <a:stretch/>
        </p:blipFill>
        <p:spPr>
          <a:xfrm>
            <a:off x="2743200" y="838080"/>
            <a:ext cx="3333600" cy="523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ESTO ROJ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F409-38D2-42CF-992F-B56094805A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YACIMIENTOS EN EL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762120"/>
            <a:ext cx="7315200" cy="54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19 pozos perforados en el blo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Yacimiento Cerro Mollar  ( Petróleo y Gas )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ormación: Agrio Chachao y Vaca Muerta ( 1400/3000m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CM-11    </a:t>
            </a:r>
            <a:r>
              <a:rPr b="1" lang="es-ES_tradnl" sz="2000" spc="-1" strike="noStrike">
                <a:solidFill>
                  <a:srgbClr val="00cc99"/>
                </a:solidFill>
                <a:latin typeface="Arial"/>
              </a:rPr>
              <a:t>3.6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365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  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80.5%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CM-21      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0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275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   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0%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CM-27      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0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145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   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0%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CM-32   </a:t>
            </a:r>
            <a:r>
              <a:rPr b="1" lang="es-ES_tradnl" sz="2000" spc="-1" strike="noStrike">
                <a:solidFill>
                  <a:srgbClr val="00cc99"/>
                </a:solidFill>
                <a:latin typeface="Arial"/>
              </a:rPr>
              <a:t>3.1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527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81.5%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CM-33      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0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514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   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0%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CM-34   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2.4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235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75.9%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CM-36      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0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    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65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   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0%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CM-38      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0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2021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   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0%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ducción: Octubre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ESTO ROJ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BC5A-BB75-4158-9B7B-8DC8D3D6EF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YACIMIENTOS EN EL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990720"/>
            <a:ext cx="7315200" cy="51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Yacimiento Puesto Rojas  ( Petróleo y Gas )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ormación: Agrio Chachao y Vaca Muerta ( 1400/3000m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PR-6         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0 m</a:t>
            </a:r>
            <a:r>
              <a:rPr b="1" lang="es-ES_tradnl" sz="2000" spc="-1" strike="noStrike" baseline="30000">
                <a:solidFill>
                  <a:srgbClr val="00cc66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/día  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4320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0%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PR-34       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0 m</a:t>
            </a:r>
            <a:r>
              <a:rPr b="1" lang="es-ES_tradnl" sz="2000" spc="-1" strike="noStrike" baseline="30000">
                <a:solidFill>
                  <a:srgbClr val="00cc66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/día  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3774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0%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PR-45    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2.5 m</a:t>
            </a:r>
            <a:r>
              <a:rPr b="1" lang="es-ES_tradnl" sz="2000" spc="-1" strike="noStrike" baseline="30000">
                <a:solidFill>
                  <a:srgbClr val="00cc66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/día    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143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92.3%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PR-54  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16.1 m</a:t>
            </a:r>
            <a:r>
              <a:rPr b="1" lang="es-ES_tradnl" sz="2000" spc="-1" strike="noStrike" baseline="30000">
                <a:solidFill>
                  <a:srgbClr val="00cc66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/día  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1020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25.7%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PR-55      </a:t>
            </a:r>
            <a:r>
              <a:rPr b="1" lang="es-ES_tradnl" sz="2000" spc="-1" strike="noStrike">
                <a:solidFill>
                  <a:srgbClr val="00cc99"/>
                </a:solidFill>
                <a:latin typeface="Arial"/>
              </a:rPr>
              <a:t>0 m</a:t>
            </a:r>
            <a:r>
              <a:rPr b="1" lang="es-ES_tradnl" sz="2000" spc="-1" strike="noStrike" baseline="30000">
                <a:solidFill>
                  <a:srgbClr val="00cc99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cc99"/>
                </a:solidFill>
                <a:latin typeface="Arial"/>
              </a:rPr>
              <a:t>/día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0%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PR-57      </a:t>
            </a:r>
            <a:r>
              <a:rPr b="1" lang="es-ES_tradnl" sz="2000" spc="-1" strike="noStrike">
                <a:solidFill>
                  <a:srgbClr val="00cc99"/>
                </a:solidFill>
                <a:latin typeface="Arial"/>
              </a:rPr>
              <a:t>0 m</a:t>
            </a:r>
            <a:r>
              <a:rPr b="1" lang="es-ES_tradnl" sz="2000" spc="-1" strike="noStrike" baseline="30000">
                <a:solidFill>
                  <a:srgbClr val="00cc99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cc99"/>
                </a:solidFill>
                <a:latin typeface="Arial"/>
              </a:rPr>
              <a:t>/día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0%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Yacimiento Cerro Pencal   ( Cerrado )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Yacimiento Puesto Adobe ( Cerrado )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ducción Octubre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ESTO ROJ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0F38-F982-4149-AE4D-6C9093B82E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228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DISTRIBUCION DE INSTALA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IMG010-b" descr=""/>
          <p:cNvPicPr/>
          <p:nvPr/>
        </p:nvPicPr>
        <p:blipFill>
          <a:blip r:embed="rId1"/>
          <a:stretch/>
        </p:blipFill>
        <p:spPr>
          <a:xfrm>
            <a:off x="6705720" y="2971800"/>
            <a:ext cx="2073240" cy="3257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77120" y="914400"/>
            <a:ext cx="2361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YA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UESTO RO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685800"/>
            <a:ext cx="2362320" cy="1523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YPR05-2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5078160" cy="548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ESTO ROJ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CD37-CB90-4DCC-924F-96F4960E4E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G010-c" descr=""/>
          <p:cNvPicPr/>
          <p:nvPr/>
        </p:nvPicPr>
        <p:blipFill>
          <a:blip r:embed="rId1"/>
          <a:stretch/>
        </p:blipFill>
        <p:spPr>
          <a:xfrm>
            <a:off x="6705720" y="2895480"/>
            <a:ext cx="2084400" cy="3276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228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DISTRIBUCION DE INSTALA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914400"/>
            <a:ext cx="2361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YA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CERRO MOL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685800"/>
            <a:ext cx="2362320" cy="1523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YCM-3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481788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ESTO ROJ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8ACE-A999-49E7-8CEB-00D4FA6A5B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G010-d" descr=""/>
          <p:cNvPicPr/>
          <p:nvPr/>
        </p:nvPicPr>
        <p:blipFill>
          <a:blip r:embed="rId1"/>
          <a:stretch/>
        </p:blipFill>
        <p:spPr>
          <a:xfrm>
            <a:off x="6781680" y="2895480"/>
            <a:ext cx="2102040" cy="3305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28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DISTRIBUCION DE INSTALA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914400"/>
            <a:ext cx="2361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YA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UESTO AD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685800"/>
            <a:ext cx="2362320" cy="1523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YCP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5486400" cy="391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ESTO ROJ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2EFC-788F-4314-8BC2-36DCDA6BD1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7:54:49Z</dcterms:created>
  <dc:creator>Geo_WS</dc:creator>
  <dc:description/>
  <dc:language>en-US</dc:language>
  <cp:lastModifiedBy>Oficina BA.</cp:lastModifiedBy>
  <dcterms:modified xsi:type="dcterms:W3CDTF">2005-12-20T19:02:28Z</dcterms:modified>
  <cp:revision>23</cp:revision>
  <dc:subject/>
  <dc:title>Presentación de PowerPoint</dc:title>
</cp:coreProperties>
</file>