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EEA-32B8-47EC-B9D6-4D67BB0D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F60-D511-40AC-B3A6-37BD7A5F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320-5FCA-47C3-803F-4C7E9494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1FB-94CC-46EE-B135-B5B45A3C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5C9-8545-4004-9C34-56CC2311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B29-65D2-4939-B914-64ED8BBC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75F-D27A-42CA-AD61-042EBE2B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631F-A6D4-40D0-A469-621267B4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34C-FF52-4386-A7D7-99716D22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E5F-2649-4D3C-B20F-663725D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1B7-16ED-49B7-82AE-4A241B46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721-6C5B-479B-99F4-BCAB25D7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CF98-6DE2-494F-A5C8-FB00E73084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G001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27C-F89D-45FF-89E8-8644E636C1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G015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405400" cy="556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38080" y="380880"/>
            <a:ext cx="609840" cy="609840"/>
          </a:xfrm>
          <a:prstGeom prst="diamond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80880"/>
            <a:ext cx="11430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57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57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B58-8F5B-46AF-8540-B8C0C8CB01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PLANTA EN CIUDAD DE MALAR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MG01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6096240" cy="4983120"/>
          </a:xfrm>
          <a:prstGeom prst="rect">
            <a:avLst/>
          </a:prstGeom>
          <a:ln w="0">
            <a:noFill/>
          </a:ln>
        </p:spPr>
      </p:pic>
      <p:pic>
        <p:nvPicPr>
          <p:cNvPr id="91" name="IMG014" descr=""/>
          <p:cNvPicPr/>
          <p:nvPr/>
        </p:nvPicPr>
        <p:blipFill>
          <a:blip r:embed="rId2"/>
          <a:stretch/>
        </p:blipFill>
        <p:spPr>
          <a:xfrm>
            <a:off x="6627960" y="914400"/>
            <a:ext cx="251604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6A3-E901-42A3-80B3-A75426FA37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FIN DE LA PRESEN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img00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3683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17524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Tecnicagua Sociedad Anó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Rodríguez Peña 2255, Godoy Cruz Mend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Info@tecnicagu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Graci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F51-384E-4B4B-B5DC-2B9B2E7B87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g00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368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752480"/>
            <a:ext cx="731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Cuenca:    Neuquina Submendo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Provincia: Mend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mpresa Operadora :       Tecnicagua S.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Empresa Concesionaria: Petrolera del Sur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Producción:  Petróleo API–24    y  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572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Concesión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PUESTO ROJAS – CNQ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06B-D0F9-4EBD-82C2-CB8395C83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UBICACIÓN 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g007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403440" cy="5029200"/>
          </a:xfrm>
          <a:prstGeom prst="rect">
            <a:avLst/>
          </a:prstGeom>
          <a:ln w="0">
            <a:noFill/>
          </a:ln>
        </p:spPr>
      </p:pic>
      <p:pic>
        <p:nvPicPr>
          <p:cNvPr id="50" name="IMG005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58616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IMG009" descr=""/>
          <p:cNvPicPr/>
          <p:nvPr/>
        </p:nvPicPr>
        <p:blipFill>
          <a:blip r:embed="rId3"/>
          <a:stretch/>
        </p:blipFill>
        <p:spPr>
          <a:xfrm>
            <a:off x="4876920" y="76212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B8A-3D5D-421B-B2BF-61FBFB7A44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YACIMIENTOS EN E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G010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3333600" cy="523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211-5EA1-4771-AB2E-25911D5364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YACIMIENTOS EN E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762120"/>
            <a:ext cx="7315200" cy="54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19 pozos perforados en el bl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Yacimiento Cerro Mollar  ( Petróleo y Gas 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mación: Agrio Chachao y Vaca Muerta ( 1400/3000m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11    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3.6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365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80.5%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21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275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27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145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32   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3.1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527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81.5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33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514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34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2.4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235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75.9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36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65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CM-38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2021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ducción: Octubre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4A0-578F-481D-98BF-15DEC32081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YACIMIENTOS EN EL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990720"/>
            <a:ext cx="731520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Yacimiento Puesto Rojas  ( Petróleo y Gas 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mación: Agrio Chachao y Vaca Muerta ( 1400/3000m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6   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m</a:t>
            </a:r>
            <a:r>
              <a:rPr b="1" lang="es-ES_tradnl" sz="2000" spc="-1" strike="noStrike" baseline="30000">
                <a:solidFill>
                  <a:srgbClr val="00cc66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/día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4320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34   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0 m</a:t>
            </a:r>
            <a:r>
              <a:rPr b="1" lang="es-ES_tradnl" sz="2000" spc="-1" strike="noStrike" baseline="30000">
                <a:solidFill>
                  <a:srgbClr val="00cc66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/día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3774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45  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2.5 m</a:t>
            </a:r>
            <a:r>
              <a:rPr b="1" lang="es-ES_tradnl" sz="2000" spc="-1" strike="noStrike" baseline="30000">
                <a:solidFill>
                  <a:srgbClr val="00cc66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/día 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143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92.3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54  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16.1 m</a:t>
            </a:r>
            <a:r>
              <a:rPr b="1" lang="es-ES_tradnl" sz="2000" spc="-1" strike="noStrike" baseline="30000">
                <a:solidFill>
                  <a:srgbClr val="00cc66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66"/>
                </a:solidFill>
                <a:latin typeface="Arial"/>
              </a:rPr>
              <a:t>/día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1020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25.7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55      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0 m</a:t>
            </a:r>
            <a:r>
              <a:rPr b="1" lang="es-ES_tradnl" sz="2000" spc="-1" strike="noStrike" baseline="30000">
                <a:solidFill>
                  <a:srgbClr val="00cc99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PF.Md.NPR-57      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0 m</a:t>
            </a:r>
            <a:r>
              <a:rPr b="1" lang="es-ES_tradnl" sz="2000" spc="-1" strike="noStrike" baseline="30000">
                <a:solidFill>
                  <a:srgbClr val="00cc99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cc99"/>
                </a:solidFill>
                <a:latin typeface="Arial"/>
              </a:rPr>
              <a:t>/dí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/día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0%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gua</a:t>
            </a:r>
            <a:r>
              <a:rPr b="0" lang="es-ES_tradnl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Yacimiento Cerro Pencal   ( Cerrado 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Yacimiento Puesto Adobe ( Cerrado )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ducción Octubre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09B-B8B0-4C63-9CC3-895E1F0018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DISTRIBUCION DE INSTAL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G010-b" descr=""/>
          <p:cNvPicPr/>
          <p:nvPr/>
        </p:nvPicPr>
        <p:blipFill>
          <a:blip r:embed="rId1"/>
          <a:stretch/>
        </p:blipFill>
        <p:spPr>
          <a:xfrm>
            <a:off x="6705720" y="2971800"/>
            <a:ext cx="2073240" cy="325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77120" y="91440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YA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UESTO RO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685800"/>
            <a:ext cx="2362320" cy="1523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YPR05-2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5078160" cy="548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466-939B-435E-A616-CA1A855E22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G010-c" descr=""/>
          <p:cNvPicPr/>
          <p:nvPr/>
        </p:nvPicPr>
        <p:blipFill>
          <a:blip r:embed="rId1"/>
          <a:stretch/>
        </p:blipFill>
        <p:spPr>
          <a:xfrm>
            <a:off x="6705720" y="2895480"/>
            <a:ext cx="2084400" cy="3276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DISTRIBUCION DE INSTAL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91440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YA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ERRO MOL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685800"/>
            <a:ext cx="2362320" cy="1523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YCM-3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481788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ACF-2BA3-4598-8FBB-DF01D82757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G010-d" descr=""/>
          <p:cNvPicPr/>
          <p:nvPr/>
        </p:nvPicPr>
        <p:blipFill>
          <a:blip r:embed="rId1"/>
          <a:stretch/>
        </p:blipFill>
        <p:spPr>
          <a:xfrm>
            <a:off x="6781680" y="2895480"/>
            <a:ext cx="2102040" cy="3305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 Rounded MT Bold"/>
              </a:rPr>
              <a:t>DISTRIBUCION DE INSTAL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914400"/>
            <a:ext cx="2361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YA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UESTO AD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685800"/>
            <a:ext cx="2362320" cy="1523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YCP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5486400" cy="391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ESTO ROJ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5AC-40E0-4D3C-B49C-4F4F014239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7:54:49Z</dcterms:created>
  <dc:creator>Geo_WS</dc:creator>
  <dc:description/>
  <dc:language>en-US</dc:language>
  <cp:lastModifiedBy>Oficina BA.</cp:lastModifiedBy>
  <dcterms:modified xsi:type="dcterms:W3CDTF">2005-12-20T19:02:28Z</dcterms:modified>
  <cp:revision>23</cp:revision>
  <dc:subject/>
  <dc:title>Presentación de PowerPoint</dc:title>
</cp:coreProperties>
</file>