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A4BB-DDA0-47A6-80ED-685FB6725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63D8-BB81-419C-BCC3-1BF2676C2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6971-8A54-4AFC-BC51-AE8424D77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0609-BB2C-4C8F-8459-BA383EA02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3355-86FB-4C91-8406-A542DDC0C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2EDD-B838-4108-9F9B-76B270084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022B-5B9F-409A-9093-903348FB5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89E9-339F-4D78-B2A1-0C24F8156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666880" y="-360"/>
            <a:ext cx="6477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BF8D-207C-4CB8-AD8F-2798B420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FCE8-15CD-4D02-83C9-88458DC0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68E1-012D-4CBD-86A9-5E17119C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D087-2B3E-433F-BDAD-395EAF28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68431-9B30-452B-B338-15316DB3B7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Tecpetrol_Color_RGB" descr=""/>
          <p:cNvPicPr/>
          <p:nvPr/>
        </p:nvPicPr>
        <p:blipFill>
          <a:blip r:embed="rId2"/>
          <a:stretch/>
        </p:blipFill>
        <p:spPr>
          <a:xfrm>
            <a:off x="0" y="0"/>
            <a:ext cx="1828800" cy="6652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6858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44280">
            <a:solidFill>
              <a:srgbClr val="0f84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533520"/>
            <a:ext cx="8534520" cy="63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79cb"/>
                </a:solidFill>
                <a:latin typeface="Times New Roman"/>
              </a:rPr>
              <a:t>SISTEMA DE GESTIÓN AMBIEN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8d54"/>
                </a:solidFill>
                <a:latin typeface="Times New Roman"/>
              </a:rPr>
              <a:t>Oleoductos y gasoduc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79cb"/>
                </a:solidFill>
                <a:latin typeface="Arial"/>
              </a:rPr>
              <a:t>Transporte de Hidrocarburos Líquidos y Gasoductos de Cap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79cb"/>
                </a:solidFill>
                <a:latin typeface="Arial"/>
              </a:rPr>
              <a:t>21/12/05 - Sec. de Energí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Tecpetrol_Color_RGB" descr=""/>
          <p:cNvPicPr/>
          <p:nvPr/>
        </p:nvPicPr>
        <p:blipFill>
          <a:blip r:embed="rId1"/>
          <a:stretch/>
        </p:blipFill>
        <p:spPr>
          <a:xfrm>
            <a:off x="0" y="0"/>
            <a:ext cx="2666880" cy="9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79cb"/>
                </a:solidFill>
                <a:latin typeface="Times New Roman"/>
              </a:rPr>
              <a:t>Sistema de Gestión Ambi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8d54"/>
                </a:solidFill>
                <a:latin typeface="Arial"/>
              </a:rPr>
              <a:t>Marco Leg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Resolución SE 105/9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Resolución Enargas 186/95 (Proy. NAG 153) (Gasod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Disposición SSC 56/97 (Oleod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Disposición SSC 19/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8d54"/>
                </a:solidFill>
                <a:latin typeface="Arial"/>
              </a:rPr>
              <a:t>Consideración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gestión ambiental de la construcción y operación de los ductos está incluída en el Sistema de Gestión Ambiental global de la empre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2305080" y="1666800"/>
            <a:ext cx="4510080" cy="4387680"/>
            <a:chOff x="2305080" y="1666800"/>
            <a:chExt cx="4510080" cy="4387680"/>
          </a:xfrm>
        </p:grpSpPr>
        <p:sp>
          <p:nvSpPr>
            <p:cNvPr id="50" name=""/>
            <p:cNvSpPr/>
            <p:nvPr/>
          </p:nvSpPr>
          <p:spPr>
            <a:xfrm>
              <a:off x="4896000" y="1666800"/>
              <a:ext cx="1901520" cy="1900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305080" y="1704960"/>
              <a:ext cx="1901880" cy="1900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320920" y="4154400"/>
              <a:ext cx="1901880" cy="1900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913280" y="4147920"/>
              <a:ext cx="1901880" cy="19004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2503440" y="3549600"/>
            <a:ext cx="446256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50960" y="2419200"/>
            <a:ext cx="13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Polí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22440" y="4867200"/>
            <a:ext cx="16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Sist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684680" y="2368440"/>
            <a:ext cx="2255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Arial"/>
              </a:rPr>
              <a:t>Organiz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3680" y="4618080"/>
            <a:ext cx="197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Prácticas Oper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770280"/>
            <a:ext cx="2593800" cy="31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Identificación de Aspectos Ambient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Estudios de Impacto Ambien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Monitore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Seguridad por lín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Liderazgo/Compromi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Auditorí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Investig. Accid. / Sist. S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Administr. Riesg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Planes  Mejo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Manejo del Camb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923160" y="1371600"/>
            <a:ext cx="241452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Comités S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Reuniones S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Departamento S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Inducción/Entrenam.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Form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Grupos ad ho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966000" y="3643200"/>
            <a:ext cx="2178000" cy="32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Procedimientos y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Evaluación y Control de Impactos Ambient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Respuestas a Emergencias (Planes de Contingenci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Orden y Limpiez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Permisos de Trabaj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A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Bloqueo/Etique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Operaciones simultáne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2440" y="1752480"/>
            <a:ext cx="196200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Accionis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Soc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Emple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Comun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Clientes / Proveed</a:t>
            </a:r>
            <a:r>
              <a:rPr b="1" lang="es-AR" sz="14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66880" y="0"/>
            <a:ext cx="6477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79cb"/>
                </a:solidFill>
                <a:latin typeface="Times New Roman"/>
              </a:rPr>
              <a:t>Sistema de Gestión Ambi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79cb"/>
                </a:solidFill>
                <a:latin typeface="Times New Roman"/>
              </a:rPr>
              <a:t>Sistema de Gestión Ambi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8d54"/>
                </a:solidFill>
                <a:latin typeface="Arial"/>
              </a:rPr>
              <a:t>1) Plan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s la base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IA prev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Análisis exhaustivo de las altern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Criterios ambientales para la selección de la traz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Utilizar picadas ya exist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Evitar cruces de áreas sensibles y cuerpos de agu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Evitar impactos so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Lograr la máxima estabilidad, seguridad y confiabilidad del du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79cb"/>
                </a:solidFill>
                <a:latin typeface="Times New Roman"/>
              </a:rPr>
              <a:t>Sistema de Gestión Ambi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8d54"/>
                </a:solidFill>
                <a:latin typeface="Arial"/>
              </a:rPr>
              <a:t>2) Prácticas oper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Princip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Minimizar el ancho del DDV (Derecho de Ví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Minimizar el tiempo de apertura de za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Respetar los horizontes edáficos (preservación del top-soi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Control de ero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Preveer los cruces de fau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Gestión integral de residu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79cb"/>
                </a:solidFill>
                <a:latin typeface="Times New Roman"/>
              </a:rPr>
              <a:t>Sistema de Gestión Ambi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8d54"/>
                </a:solidFill>
                <a:latin typeface="Arial"/>
              </a:rPr>
              <a:t>3) Monitor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Durante la construcción (permane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Durante la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Se verifica que las medidas de protección ambiental establecidas en el EIA sean cumpl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8d54"/>
                </a:solidFill>
                <a:latin typeface="Arial"/>
              </a:rPr>
              <a:t>4) Restauración Ambien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Control de erosión defini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scarificado del DD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Revegetación (natural o asisti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31920" indent="-17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Viveros propios con especies autócto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13:41:41Z</dcterms:created>
  <dc:creator>TECPMG</dc:creator>
  <dc:description/>
  <dc:language>en-US</dc:language>
  <cp:lastModifiedBy>TECSAF</cp:lastModifiedBy>
  <dcterms:modified xsi:type="dcterms:W3CDTF">2005-12-15T19:07:51Z</dcterms:modified>
  <cp:revision>66</cp:revision>
  <dc:subject/>
  <dc:title>PowerPoint Presentation</dc:title>
</cp:coreProperties>
</file>