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FEAE-05E6-4752-B6D4-B85C03CC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8E6-CEA2-40D6-81F9-13A51DA1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3F62-0D54-4386-817D-1C250163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9342-936D-4D4F-B3AC-3328CB5F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B100-EC74-4DAD-AF79-D487E93A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C199-860C-48DE-939B-B299D893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A572-5358-4F12-ADE9-AB4230EE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12E5-57DE-4405-BACC-4D379085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6880" y="-360"/>
            <a:ext cx="6477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3D08-9F53-4692-AD55-BF253056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11B9-18C5-4087-8F9B-622BE59B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EF85-A872-4720-9D10-32F21EC1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BF0-33B4-4190-B75E-656C8FD9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0D33-55D9-4A0C-86D5-18FCF617E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Tecpetrol_Color_RGB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665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858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44280">
            <a:solidFill>
              <a:srgbClr val="0f84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533520"/>
            <a:ext cx="8534520" cy="63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79cb"/>
                </a:solidFill>
                <a:latin typeface="Times New Roman"/>
              </a:rPr>
              <a:t>SISTEMA DE GESTIÓN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8d54"/>
                </a:solidFill>
                <a:latin typeface="Times New Roman"/>
              </a:rPr>
              <a:t>Oleoductos y gas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79cb"/>
                </a:solidFill>
                <a:latin typeface="Arial"/>
              </a:rPr>
              <a:t>Transporte de Hidrocarburos Líquidos y Gasoductos de Cap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79cb"/>
                </a:solidFill>
                <a:latin typeface="Arial"/>
              </a:rPr>
              <a:t>21/12/05 - Sec. de Ener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ecpetrol_Color_RGB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79cb"/>
                </a:solidFill>
                <a:latin typeface="Times New Roman"/>
              </a:rPr>
              <a:t>Sistema de Gestión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8d54"/>
                </a:solidFill>
                <a:latin typeface="Arial"/>
              </a:rPr>
              <a:t>Marco Leg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solución SE 105/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solución Enargas 186/95 (Proy. NAG 153) (Gaso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sposición SSC 56/97 (Oleo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sposición SSC 19/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8d54"/>
                </a:solidFill>
                <a:latin typeface="Arial"/>
              </a:rPr>
              <a:t>Consideración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gestión ambiental de la construcción y operación de los ductos está incluída en el Sistema de Gestión Ambiental global de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305080" y="1666800"/>
            <a:ext cx="4510080" cy="4387680"/>
            <a:chOff x="2305080" y="1666800"/>
            <a:chExt cx="4510080" cy="4387680"/>
          </a:xfrm>
        </p:grpSpPr>
        <p:sp>
          <p:nvSpPr>
            <p:cNvPr id="50" name=""/>
            <p:cNvSpPr/>
            <p:nvPr/>
          </p:nvSpPr>
          <p:spPr>
            <a:xfrm>
              <a:off x="4896000" y="1666800"/>
              <a:ext cx="1901520" cy="19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05080" y="1704960"/>
              <a:ext cx="1901880" cy="19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20920" y="4154400"/>
              <a:ext cx="1901880" cy="19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13280" y="4147920"/>
              <a:ext cx="1901880" cy="1900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503440" y="3549600"/>
            <a:ext cx="44625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50960" y="2419200"/>
            <a:ext cx="13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22440" y="4867200"/>
            <a:ext cx="16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84680" y="2368440"/>
            <a:ext cx="225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3680" y="4618080"/>
            <a:ext cx="197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rácticas Oper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770280"/>
            <a:ext cx="259380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Identificación de Aspectos Ambien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Estudios de Impacto Ambie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Monitore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Seguridad por lí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Liderazgo/Compromi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Auditorí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Investig. Accid. / Sist. 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Administr. Riesg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Planes  Mej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Manejo del Camb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23160" y="1371600"/>
            <a:ext cx="24145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omités 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Reuniones 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Departamento 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Inducción/Entrenam.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Grupos ad h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66000" y="3643200"/>
            <a:ext cx="2178000" cy="32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Procedimientos y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Evaluación y Control de Impactos Ambien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Respuestas a Emergencias (Planes de Contingenc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Orden y Limpie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Permisos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Bloqueo/Etiqu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Operaciones simultáne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2440" y="1752480"/>
            <a:ext cx="196200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So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Emple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omun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lientes / Proveed</a:t>
            </a:r>
            <a:r>
              <a:rPr b="1" lang="es-AR" sz="1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0"/>
            <a:ext cx="6477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79cb"/>
                </a:solidFill>
                <a:latin typeface="Times New Roman"/>
              </a:rPr>
              <a:t>Sistema de Gestión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79cb"/>
                </a:solidFill>
                <a:latin typeface="Times New Roman"/>
              </a:rPr>
              <a:t>Sistema de Gestión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8d54"/>
                </a:solidFill>
                <a:latin typeface="Arial"/>
              </a:rPr>
              <a:t>1) Plan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 la base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IA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nálisis exhaustivo de las 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riterios ambientales para la selección de la traz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Utilizar picadas ya exist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vitar cruces de áreas sensibles y cuerpos de ag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vitar impactos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ograr la máxima estabilidad, seguridad y confiabilidad del 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79cb"/>
                </a:solidFill>
                <a:latin typeface="Times New Roman"/>
              </a:rPr>
              <a:t>Sistema de Gestión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8d54"/>
                </a:solidFill>
                <a:latin typeface="Arial"/>
              </a:rPr>
              <a:t>2) Prácticas oper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Princip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inimizar el ancho del DDV (Derecho de V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inimizar el tiempo de apertura de z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spetar los horizontes edáficos (preservación del top-so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trol de ero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reveer los cruces de fa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Gestión integral de res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79cb"/>
                </a:solidFill>
                <a:latin typeface="Times New Roman"/>
              </a:rPr>
              <a:t>Sistema de Gestión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8d54"/>
                </a:solidFill>
                <a:latin typeface="Arial"/>
              </a:rPr>
              <a:t>3) Monito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urante la construcción (perman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urante la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e verifica que las medidas de protección ambiental establecidas en el EIA sean cumpl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8d54"/>
                </a:solidFill>
                <a:latin typeface="Arial"/>
              </a:rPr>
              <a:t>4) Restauración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trol de erosión defin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carificado del DD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vegetación (natural o asisti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31920" indent="-17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Viveros propios con especies autócto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3:41:41Z</dcterms:created>
  <dc:creator>TECPMG</dc:creator>
  <dc:description/>
  <dc:language>en-US</dc:language>
  <cp:lastModifiedBy>TECSAF</cp:lastModifiedBy>
  <dcterms:modified xsi:type="dcterms:W3CDTF">2005-12-15T19:07:51Z</dcterms:modified>
  <cp:revision>66</cp:revision>
  <dc:subject/>
  <dc:title>PowerPoint Presentation</dc:title>
</cp:coreProperties>
</file>