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jpeg" ContentType="image/jpeg"/>
  <Override PartName="/ppt/media/image6.png" ContentType="image/png"/>
  <Override PartName="/ppt/media/image7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63D2-7035-47FB-9A1B-88B7ADF02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FC6D-B9B4-47EF-BD54-5FFE481B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6283-7E41-4F9C-B8A3-9F2C16C26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0444-7AE7-43AB-A666-E56951635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8248-F179-4B69-9D64-E53725CF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653F-BD3F-4D0F-A98C-5C3F37BE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B8B1-61F9-4841-BCF5-89F5B6DE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39B2-FFBA-4B3D-9817-F1C3CEEC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EAF9-954F-4A2D-A666-150D7C4B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F780-BD5B-4D1C-B5B6-E9CBF052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EB3F-469E-4557-9E8E-0F540C8C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197D-E26A-41AE-AC5F-A2CFD776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769D-1D66-4089-B460-5C2E4D30E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ecpetrol.ot/menu.asp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hyperlink" Target="http://www.tecpetrol.ot/menu.asp" TargetMode="External"/><Relationship Id="rId4" Type="http://schemas.openxmlformats.org/officeDocument/2006/relationships/image" Target="../media/image1.png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ecpetrol.ot/menu.asp" TargetMode="External"/><Relationship Id="rId2" Type="http://schemas.openxmlformats.org/officeDocument/2006/relationships/image" Target="../media/image1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3.wmf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ecpetrol.ot/menu.asp" TargetMode="External"/><Relationship Id="rId2" Type="http://schemas.openxmlformats.org/officeDocument/2006/relationships/image" Target="../media/image1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ecpetrol.ot/menu.asp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5280" y="1066320"/>
            <a:ext cx="6553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Arial"/>
              </a:rPr>
              <a:t>SISTEMAS DE  GASODUCT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logo_tecpetrol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28600"/>
            <a:ext cx="1676520" cy="577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204560" y="5257800"/>
            <a:ext cx="746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ransporte de Hidrocarburos Líquidos y Gasoductos de Cap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21/12/05 - Sec. de Ener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00200" y="4572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RACTERISTICAS DE GASODUCTOS OPERADOS POR TECPETROL S.A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04920" y="2286000"/>
          <a:ext cx="8553240" cy="347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0"/>
                    <a:ext cx="8553240" cy="34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217080" y="1565280"/>
            <a:ext cx="26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 u="sng">
                <a:solidFill>
                  <a:srgbClr val="ffff00"/>
                </a:solidFill>
                <a:uFillTx/>
                <a:latin typeface="Times New Roman"/>
              </a:rPr>
              <a:t>UTE AGUARAGÜ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logo_tecpetrol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228600"/>
            <a:ext cx="1676520" cy="577800"/>
          </a:xfrm>
          <a:prstGeom prst="rect">
            <a:avLst/>
          </a:prstGeom>
          <a:ln w="0">
            <a:noFill/>
          </a:ln>
        </p:spPr>
      </p:pic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8077320" y="61722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5" action="ppaction://hlinksldjump"/>
          </p:cNvPr>
          <p:cNvSpPr/>
          <p:nvPr/>
        </p:nvSpPr>
        <p:spPr>
          <a:xfrm>
            <a:off x="371880" y="5931000"/>
            <a:ext cx="129924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666699"/>
                </a:solidFill>
                <a:latin typeface="Times New Roman"/>
              </a:rPr>
              <a:t>Esqu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45840" y="5931000"/>
            <a:ext cx="87552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666699"/>
                </a:solidFill>
                <a:latin typeface="Times New Roman"/>
              </a:rPr>
              <a:t>Pl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00200" y="4572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RACTERISTICAS GASODUCTOS OPERADOS POR TECPETROL S.A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7440" y="156528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 u="sng">
                <a:solidFill>
                  <a:srgbClr val="ffff00"/>
                </a:solidFill>
                <a:uFillTx/>
                <a:latin typeface="Times New Roman"/>
              </a:rPr>
              <a:t>CUENCA NEU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logo_tecpetrol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28600"/>
            <a:ext cx="1676520" cy="57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114480" y="2433600"/>
          <a:ext cx="8915400" cy="1990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480" y="2433600"/>
                    <a:ext cx="8915400" cy="19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>
            <a:hlinkClick r:id="" action="ppaction://hlinkshowjump?jump=nextslide"/>
          </p:cNvPr>
          <p:cNvSpPr/>
          <p:nvPr/>
        </p:nvSpPr>
        <p:spPr>
          <a:xfrm>
            <a:off x="8077320" y="61722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5" action="ppaction://hlinksldjump"/>
          </p:cNvPr>
          <p:cNvSpPr/>
          <p:nvPr/>
        </p:nvSpPr>
        <p:spPr>
          <a:xfrm>
            <a:off x="371880" y="5931000"/>
            <a:ext cx="129924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666699"/>
                </a:solidFill>
                <a:latin typeface="Times New Roman"/>
              </a:rPr>
              <a:t>Esqu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45840" y="5931000"/>
            <a:ext cx="87552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666699"/>
                </a:solidFill>
                <a:latin typeface="Times New Roman"/>
              </a:rPr>
              <a:t>Pl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00200" y="4572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RACTERISTICAS GASODUCTOS OPERADOS POR TECPETROL S.A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8160" y="156528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 u="sng">
                <a:solidFill>
                  <a:srgbClr val="ffff00"/>
                </a:solidFill>
                <a:uFillTx/>
                <a:latin typeface="Times New Roman"/>
              </a:rPr>
              <a:t>UTE EL TORD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logo_tecpetrol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28600"/>
            <a:ext cx="1676520" cy="57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90360" y="2438280"/>
          <a:ext cx="8963280" cy="1495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360" y="2438280"/>
                    <a:ext cx="896328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8077320" y="61722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1880" y="5931000"/>
            <a:ext cx="129924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666699"/>
                </a:solidFill>
                <a:latin typeface="Times New Roman"/>
              </a:rPr>
              <a:t>Esqu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45840" y="5931000"/>
            <a:ext cx="87552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666699"/>
                </a:solidFill>
                <a:latin typeface="Times New Roman"/>
              </a:rPr>
              <a:t>Pl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ff00"/>
                </a:solidFill>
                <a:latin typeface="Times New Roman"/>
              </a:rPr>
              <a:t>General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ffff00"/>
                </a:solidFill>
                <a:latin typeface="Times New Roman"/>
              </a:rPr>
              <a:t>Manual de Operación y Mantenimien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ffff00"/>
                </a:solidFill>
                <a:latin typeface="Times New Roman"/>
              </a:rPr>
              <a:t>Plan de Contingenci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Reglamentación Aplicad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Ley 17.31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Ley 24.0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logo_tecpetrol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28600"/>
            <a:ext cx="16765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Tecpetrol_Color_RGB" descr=""/>
          <p:cNvPicPr/>
          <p:nvPr/>
        </p:nvPicPr>
        <p:blipFill>
          <a:blip r:embed="rId1"/>
          <a:srcRect l="12582" t="15040" r="14828" b="21213"/>
          <a:stretch/>
        </p:blipFill>
        <p:spPr>
          <a:xfrm>
            <a:off x="152280" y="457200"/>
            <a:ext cx="1828800" cy="5842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TE AGUARAGÜE (SALT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DIANOR%20TECPE%20(II)" descr=""/>
          <p:cNvPicPr/>
          <p:nvPr/>
        </p:nvPicPr>
        <p:blipFill>
          <a:blip r:embed="rId2"/>
          <a:stretch/>
        </p:blipFill>
        <p:spPr>
          <a:xfrm>
            <a:off x="762120" y="1066680"/>
            <a:ext cx="7845480" cy="5631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8077320" y="61722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Tecpetrol_Color_RGB" descr=""/>
          <p:cNvPicPr/>
          <p:nvPr/>
        </p:nvPicPr>
        <p:blipFill>
          <a:blip r:embed="rId1"/>
          <a:srcRect l="12582" t="15040" r="14828" b="21213"/>
          <a:stretch/>
        </p:blipFill>
        <p:spPr>
          <a:xfrm>
            <a:off x="152280" y="457200"/>
            <a:ext cx="1828800" cy="584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1219320" y="838080"/>
          <a:ext cx="6283080" cy="5807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838080"/>
                    <a:ext cx="6283080" cy="580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YACIMIENTO AGUA SALADA (NEUQUEN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" action="ppaction://hlinkshowjump?jump=nextslide"/>
          </p:cNvPr>
          <p:cNvSpPr/>
          <p:nvPr/>
        </p:nvSpPr>
        <p:spPr>
          <a:xfrm>
            <a:off x="8077320" y="61722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Tecpetrol_Color_RGB" descr=""/>
          <p:cNvPicPr/>
          <p:nvPr/>
        </p:nvPicPr>
        <p:blipFill>
          <a:blip r:embed="rId1"/>
          <a:srcRect l="12582" t="15040" r="14828" b="21213"/>
          <a:stretch/>
        </p:blipFill>
        <p:spPr>
          <a:xfrm>
            <a:off x="152280" y="457200"/>
            <a:ext cx="1828800" cy="5842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ACIMIENTO LOS BASTOS (NEUQU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077320" y="61722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Los%20Bastos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637704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ecpetrol_Color_RGB" descr=""/>
          <p:cNvPicPr/>
          <p:nvPr/>
        </p:nvPicPr>
        <p:blipFill>
          <a:blip r:embed="rId1"/>
          <a:srcRect l="12582" t="15040" r="14828" b="21213"/>
          <a:stretch/>
        </p:blipFill>
        <p:spPr>
          <a:xfrm>
            <a:off x="152280" y="457200"/>
            <a:ext cx="1828800" cy="5842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ACIMIENTO EL TORDILLO (CHUB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077320" y="61722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6699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90440" y="1523880"/>
            <a:ext cx="8948520" cy="4528440"/>
            <a:chOff x="190440" y="1523880"/>
            <a:chExt cx="8948520" cy="4528440"/>
          </a:xfrm>
        </p:grpSpPr>
        <p:sp>
          <p:nvSpPr>
            <p:cNvPr id="88" name=""/>
            <p:cNvSpPr/>
            <p:nvPr/>
          </p:nvSpPr>
          <p:spPr>
            <a:xfrm>
              <a:off x="190440" y="2286000"/>
              <a:ext cx="8420040" cy="3619440"/>
            </a:xfrm>
            <a:custGeom>
              <a:avLst/>
              <a:gdLst/>
              <a:ahLst/>
              <a:rect l="l" t="t" r="r" b="b"/>
              <a:pathLst>
                <a:path w="5424" h="2352">
                  <a:moveTo>
                    <a:pt x="0" y="384"/>
                  </a:moveTo>
                  <a:lnTo>
                    <a:pt x="336" y="384"/>
                  </a:lnTo>
                  <a:lnTo>
                    <a:pt x="1008" y="0"/>
                  </a:lnTo>
                  <a:lnTo>
                    <a:pt x="3360" y="336"/>
                  </a:lnTo>
                  <a:lnTo>
                    <a:pt x="4272" y="144"/>
                  </a:lnTo>
                  <a:lnTo>
                    <a:pt x="4896" y="144"/>
                  </a:lnTo>
                  <a:lnTo>
                    <a:pt x="4992" y="192"/>
                  </a:lnTo>
                  <a:lnTo>
                    <a:pt x="5424" y="144"/>
                  </a:lnTo>
                  <a:lnTo>
                    <a:pt x="5424" y="768"/>
                  </a:lnTo>
                  <a:lnTo>
                    <a:pt x="4752" y="768"/>
                  </a:lnTo>
                  <a:lnTo>
                    <a:pt x="3024" y="2352"/>
                  </a:lnTo>
                  <a:lnTo>
                    <a:pt x="1632" y="2352"/>
                  </a:lnTo>
                  <a:lnTo>
                    <a:pt x="0" y="384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1486080" y="2590920"/>
              <a:ext cx="7619040" cy="2851920"/>
              <a:chOff x="1486080" y="2590920"/>
              <a:chExt cx="7619040" cy="2851920"/>
            </a:xfrm>
          </p:grpSpPr>
          <p:sp>
            <p:nvSpPr>
              <p:cNvPr id="90" name=""/>
              <p:cNvSpPr/>
              <p:nvPr/>
            </p:nvSpPr>
            <p:spPr>
              <a:xfrm flipH="1" flipV="1">
                <a:off x="3754440" y="2666520"/>
                <a:ext cx="75600" cy="304920"/>
              </a:xfrm>
              <a:prstGeom prst="line">
                <a:avLst/>
              </a:prstGeom>
              <a:ln w="2232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486080" y="2590920"/>
                <a:ext cx="1145880" cy="457200"/>
              </a:xfrm>
              <a:custGeom>
                <a:avLst/>
                <a:gdLst/>
                <a:ahLst/>
                <a:rect l="l" t="t" r="r" b="b"/>
                <a:pathLst>
                  <a:path w="782" h="288">
                    <a:moveTo>
                      <a:pt x="782" y="264"/>
                    </a:moveTo>
                    <a:lnTo>
                      <a:pt x="624" y="0"/>
                    </a:lnTo>
                    <a:lnTo>
                      <a:pt x="432" y="0"/>
                    </a:lnTo>
                    <a:lnTo>
                      <a:pt x="240" y="96"/>
                    </a:lnTo>
                    <a:lnTo>
                      <a:pt x="144" y="240"/>
                    </a:lnTo>
                    <a:lnTo>
                      <a:pt x="0" y="288"/>
                    </a:lnTo>
                  </a:path>
                </a:pathLst>
              </a:custGeom>
              <a:noFill/>
              <a:ln w="223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541600" y="3124080"/>
                <a:ext cx="69480" cy="381240"/>
              </a:xfrm>
              <a:prstGeom prst="line">
                <a:avLst/>
              </a:prstGeom>
              <a:ln w="2232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3103560" y="2819520"/>
                <a:ext cx="70920" cy="457200"/>
              </a:xfrm>
              <a:prstGeom prst="line">
                <a:avLst/>
              </a:prstGeom>
              <a:ln w="2232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373200" y="3276720"/>
                <a:ext cx="425160" cy="664920"/>
              </a:xfrm>
              <a:custGeom>
                <a:avLst/>
                <a:gdLst/>
                <a:ahLst/>
                <a:rect l="l" t="t" r="r" b="b"/>
                <a:pathLst>
                  <a:path w="290" h="419">
                    <a:moveTo>
                      <a:pt x="50" y="0"/>
                    </a:moveTo>
                    <a:cubicBezTo>
                      <a:pt x="47" y="17"/>
                      <a:pt x="44" y="33"/>
                      <a:pt x="42" y="50"/>
                    </a:cubicBezTo>
                    <a:cubicBezTo>
                      <a:pt x="38" y="83"/>
                      <a:pt x="38" y="116"/>
                      <a:pt x="34" y="149"/>
                    </a:cubicBezTo>
                    <a:cubicBezTo>
                      <a:pt x="26" y="212"/>
                      <a:pt x="0" y="258"/>
                      <a:pt x="0" y="323"/>
                    </a:cubicBezTo>
                    <a:lnTo>
                      <a:pt x="98" y="371"/>
                    </a:lnTo>
                    <a:lnTo>
                      <a:pt x="290" y="419"/>
                    </a:lnTo>
                  </a:path>
                </a:pathLst>
              </a:custGeom>
              <a:noFill/>
              <a:ln w="223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3754440" y="2971800"/>
                <a:ext cx="70920" cy="457200"/>
              </a:xfrm>
              <a:prstGeom prst="line">
                <a:avLst/>
              </a:prstGeom>
              <a:ln w="2232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>
                <a:off x="6497640" y="2819160"/>
                <a:ext cx="380520" cy="152280"/>
              </a:xfrm>
              <a:prstGeom prst="line">
                <a:avLst/>
              </a:prstGeom>
              <a:ln w="2232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6421320" y="2971800"/>
                <a:ext cx="71280" cy="457200"/>
              </a:xfrm>
              <a:prstGeom prst="line">
                <a:avLst/>
              </a:prstGeom>
              <a:ln w="2232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4668840" y="3504960"/>
                <a:ext cx="147240" cy="685800"/>
              </a:xfrm>
              <a:prstGeom prst="line">
                <a:avLst/>
              </a:prstGeom>
              <a:ln w="2232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592520" y="4191120"/>
                <a:ext cx="425160" cy="664920"/>
              </a:xfrm>
              <a:custGeom>
                <a:avLst/>
                <a:gdLst/>
                <a:ahLst/>
                <a:rect l="l" t="t" r="r" b="b"/>
                <a:pathLst>
                  <a:path w="290" h="419">
                    <a:moveTo>
                      <a:pt x="50" y="0"/>
                    </a:moveTo>
                    <a:cubicBezTo>
                      <a:pt x="47" y="17"/>
                      <a:pt x="44" y="33"/>
                      <a:pt x="42" y="50"/>
                    </a:cubicBezTo>
                    <a:cubicBezTo>
                      <a:pt x="38" y="83"/>
                      <a:pt x="38" y="116"/>
                      <a:pt x="34" y="149"/>
                    </a:cubicBezTo>
                    <a:cubicBezTo>
                      <a:pt x="26" y="212"/>
                      <a:pt x="0" y="258"/>
                      <a:pt x="0" y="323"/>
                    </a:cubicBezTo>
                    <a:lnTo>
                      <a:pt x="98" y="371"/>
                    </a:lnTo>
                    <a:lnTo>
                      <a:pt x="290" y="419"/>
                    </a:lnTo>
                  </a:path>
                </a:pathLst>
              </a:custGeom>
              <a:noFill/>
              <a:ln w="223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6057720" y="5105520"/>
                <a:ext cx="3047400" cy="337320"/>
                <a:chOff x="6057720" y="5105520"/>
                <a:chExt cx="3047400" cy="3373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6057720" y="5334120"/>
                  <a:ext cx="380880" cy="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6438600" y="5105520"/>
                  <a:ext cx="2666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Gas de baterías (sin tratar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" name=""/>
            <p:cNvGrpSpPr/>
            <p:nvPr/>
          </p:nvGrpSpPr>
          <p:grpSpPr>
            <a:xfrm>
              <a:off x="2459160" y="2895480"/>
              <a:ext cx="6645960" cy="2851920"/>
              <a:chOff x="2459160" y="2895480"/>
              <a:chExt cx="6645960" cy="2851920"/>
            </a:xfrm>
          </p:grpSpPr>
          <p:sp>
            <p:nvSpPr>
              <p:cNvPr id="104" name=""/>
              <p:cNvSpPr/>
              <p:nvPr/>
            </p:nvSpPr>
            <p:spPr>
              <a:xfrm>
                <a:off x="5374080" y="3124080"/>
                <a:ext cx="54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cc00"/>
                    </a:solidFill>
                    <a:latin typeface="Arial"/>
                  </a:rPr>
                  <a:t>10”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164400" y="2895480"/>
                <a:ext cx="54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cc00"/>
                    </a:solidFill>
                    <a:latin typeface="Arial"/>
                  </a:rPr>
                  <a:t>10”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457520" y="3429000"/>
                <a:ext cx="2057040" cy="77760"/>
              </a:xfrm>
              <a:custGeom>
                <a:avLst/>
                <a:gdLst/>
                <a:ahLst/>
                <a:rect l="l" t="t" r="r" b="b"/>
                <a:pathLst>
                  <a:path w="1387" h="48">
                    <a:moveTo>
                      <a:pt x="1387" y="0"/>
                    </a:moveTo>
                    <a:lnTo>
                      <a:pt x="859" y="0"/>
                    </a:lnTo>
                    <a:lnTo>
                      <a:pt x="475" y="48"/>
                    </a:lnTo>
                    <a:lnTo>
                      <a:pt x="0" y="48"/>
                    </a:lnTo>
                  </a:path>
                </a:pathLst>
              </a:custGeom>
              <a:noFill/>
              <a:ln w="381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459160" y="2971800"/>
                <a:ext cx="2033280" cy="549360"/>
              </a:xfrm>
              <a:custGeom>
                <a:avLst/>
                <a:gdLst/>
                <a:ahLst/>
                <a:rect l="l" t="t" r="r" b="b"/>
                <a:pathLst>
                  <a:path w="1387" h="346">
                    <a:moveTo>
                      <a:pt x="1387" y="346"/>
                    </a:moveTo>
                    <a:lnTo>
                      <a:pt x="1152" y="336"/>
                    </a:lnTo>
                    <a:lnTo>
                      <a:pt x="960" y="288"/>
                    </a:lnTo>
                    <a:lnTo>
                      <a:pt x="720" y="192"/>
                    </a:lnTo>
                    <a:lnTo>
                      <a:pt x="432" y="192"/>
                    </a:lnTo>
                    <a:lnTo>
                      <a:pt x="144" y="0"/>
                    </a:lnTo>
                    <a:lnTo>
                      <a:pt x="0" y="96"/>
                    </a:lnTo>
                  </a:path>
                </a:pathLst>
              </a:custGeom>
              <a:noFill/>
              <a:ln w="381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228920" y="4038480"/>
                <a:ext cx="1142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808080"/>
                    </a:solidFill>
                    <a:latin typeface="Arial"/>
                  </a:rPr>
                  <a:t>Planta Hanov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438440" y="3657600"/>
                <a:ext cx="279360" cy="3049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586040" y="3512160"/>
                <a:ext cx="24840" cy="2210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" name=""/>
              <p:cNvGrpSpPr/>
              <p:nvPr/>
            </p:nvGrpSpPr>
            <p:grpSpPr>
              <a:xfrm>
                <a:off x="6057720" y="5410080"/>
                <a:ext cx="3047400" cy="337320"/>
                <a:chOff x="6057720" y="5410080"/>
                <a:chExt cx="3047400" cy="33732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057720" y="5638680"/>
                  <a:ext cx="380880" cy="0"/>
                </a:xfrm>
                <a:prstGeom prst="line">
                  <a:avLst/>
                </a:prstGeom>
                <a:ln w="255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6438600" y="5410080"/>
                  <a:ext cx="2666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Gasoducto Tronc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4" name=""/>
            <p:cNvSpPr/>
            <p:nvPr/>
          </p:nvSpPr>
          <p:spPr>
            <a:xfrm>
              <a:off x="3606120" y="1776240"/>
              <a:ext cx="231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Gasoducto Venta TG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37800" y="3681360"/>
              <a:ext cx="1901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Gasoducto Vent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Comodo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49840" y="2209680"/>
              <a:ext cx="42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8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153280" y="3505320"/>
              <a:ext cx="304920" cy="228600"/>
            </a:xfrm>
            <a:prstGeom prst="ellipse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96080" y="3048120"/>
              <a:ext cx="838440" cy="307080"/>
            </a:xfrm>
            <a:prstGeom prst="rect">
              <a:avLst/>
            </a:prstGeom>
            <a:noFill/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PM-2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67120" y="1523880"/>
              <a:ext cx="304560" cy="228600"/>
            </a:xfrm>
            <a:prstGeom prst="ellipse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79560" y="1523880"/>
              <a:ext cx="785880" cy="307080"/>
            </a:xfrm>
            <a:prstGeom prst="rect">
              <a:avLst/>
            </a:prstGeom>
            <a:noFill/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PM-38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19480" y="1676520"/>
              <a:ext cx="1265040" cy="1981080"/>
            </a:xfrm>
            <a:custGeom>
              <a:avLst/>
              <a:gdLst/>
              <a:ahLst/>
              <a:rect l="l" t="t" r="r" b="b"/>
              <a:pathLst>
                <a:path w="864" h="1248">
                  <a:moveTo>
                    <a:pt x="864" y="1248"/>
                  </a:moveTo>
                  <a:lnTo>
                    <a:pt x="528" y="864"/>
                  </a:lnTo>
                  <a:lnTo>
                    <a:pt x="432" y="576"/>
                  </a:lnTo>
                  <a:lnTo>
                    <a:pt x="384" y="336"/>
                  </a:lnTo>
                  <a:lnTo>
                    <a:pt x="240" y="144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667400" y="3657600"/>
              <a:ext cx="2031840" cy="76320"/>
            </a:xfrm>
            <a:custGeom>
              <a:avLst/>
              <a:gdLst/>
              <a:ahLst/>
              <a:rect l="l" t="t" r="r" b="b"/>
              <a:pathLst>
                <a:path w="1387" h="48">
                  <a:moveTo>
                    <a:pt x="1387" y="0"/>
                  </a:moveTo>
                  <a:lnTo>
                    <a:pt x="859" y="0"/>
                  </a:lnTo>
                  <a:lnTo>
                    <a:pt x="475" y="48"/>
                  </a:lnTo>
                  <a:lnTo>
                    <a:pt x="0" y="48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99240" y="3733920"/>
              <a:ext cx="42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4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3956040" y="3226320"/>
              <a:ext cx="193680" cy="13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525400" y="3282480"/>
              <a:ext cx="1573920" cy="825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97280" y="4417920"/>
              <a:ext cx="90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MG Su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230520" y="3782880"/>
              <a:ext cx="1070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M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La Peti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6819840" y="3581280"/>
              <a:ext cx="1333440" cy="76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35240" y="4038480"/>
              <a:ext cx="334800" cy="266760"/>
            </a:xfrm>
            <a:prstGeom prst="sun">
              <a:avLst>
                <a:gd name="adj" fmla="val 25000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91240" y="3505320"/>
              <a:ext cx="335160" cy="266760"/>
            </a:xfrm>
            <a:prstGeom prst="sun">
              <a:avLst>
                <a:gd name="adj" fmla="val 25000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08520" y="3429000"/>
              <a:ext cx="335160" cy="266760"/>
            </a:xfrm>
            <a:prstGeom prst="sun">
              <a:avLst>
                <a:gd name="adj" fmla="val 25000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95760" y="3429000"/>
              <a:ext cx="334800" cy="266760"/>
            </a:xfrm>
            <a:prstGeom prst="sun">
              <a:avLst>
                <a:gd name="adj" fmla="val 25000"/>
              </a:avLst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6058080" y="5715000"/>
              <a:ext cx="3047400" cy="337320"/>
              <a:chOff x="6058080" y="5715000"/>
              <a:chExt cx="3047400" cy="337320"/>
            </a:xfrm>
          </p:grpSpPr>
          <p:sp>
            <p:nvSpPr>
              <p:cNvPr id="134" name=""/>
              <p:cNvSpPr/>
              <p:nvPr/>
            </p:nvSpPr>
            <p:spPr>
              <a:xfrm>
                <a:off x="6058080" y="5943600"/>
                <a:ext cx="380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438960" y="5715000"/>
                <a:ext cx="266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Gas Tratad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3344040" y="3808440"/>
              <a:ext cx="109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MG Nor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422960" y="3124080"/>
              <a:ext cx="78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MG 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4952880" y="3123720"/>
              <a:ext cx="60984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4876560" y="2666880"/>
              <a:ext cx="75960" cy="45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24280" y="2514600"/>
              <a:ext cx="304920" cy="228600"/>
            </a:xfrm>
            <a:prstGeom prst="ellipse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32320" y="2133720"/>
              <a:ext cx="785880" cy="307080"/>
            </a:xfrm>
            <a:prstGeom prst="rect">
              <a:avLst/>
            </a:prstGeom>
            <a:noFill/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PM-2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31000" y="2819520"/>
              <a:ext cx="42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4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17:21:53Z</dcterms:created>
  <dc:creator>TECGAA</dc:creator>
  <dc:description/>
  <dc:language>en-US</dc:language>
  <cp:lastModifiedBy>TECGAA</cp:lastModifiedBy>
  <dcterms:modified xsi:type="dcterms:W3CDTF">2005-12-16T18:25:44Z</dcterms:modified>
  <cp:revision>22</cp:revision>
  <dc:subject/>
  <dc:title>CARACTERISTICAS GASDOUCTOS OPERADOS POR TECPETROL S.A. </dc:title>
</cp:coreProperties>
</file>