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ACD-133B-4F6B-B119-6426C622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D504-E10C-400F-AAFB-834F2048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FB5-85E8-45E9-9DCE-3AC4FC6A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393-05EB-4982-A88A-23C46162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A12-187B-4D20-B06E-4F91244E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9E5-FB66-4D6D-A93A-22604475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7A8-CA22-44AB-9490-5C03EE9A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6DA-1A9A-435D-BF61-A60124AE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FD3-6EB2-4708-8247-B9F4A9F3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C24-24A6-48E6-97E5-E7D3EB10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D7E-D35F-4AC5-9267-804DCABE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2F5-CDA4-4ABE-9633-18BB6858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4B3A-2275-4E6F-BF85-50D273555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cpetrol.ot/menu.asp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hyperlink" Target="http://www.tecpetrol.ot/menu.asp" TargetMode="External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cpetrol.ot/menu.asp" TargetMode="External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cpetrol.ot/menu.asp" TargetMode="External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ecpetrol.ot/menu.asp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SISTEMAS DE  GASODUC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ogo_tecpetro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676520" cy="577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04560" y="5257800"/>
            <a:ext cx="746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e de Hidrocarburos Líquidos y Gasoductos de Cap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1/12/05 - Sec.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RACTERISTICAS DE GASODUCTOS OPERADOS POR TECPETROL S.A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04920" y="2286000"/>
          <a:ext cx="8553240" cy="34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855324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17080" y="156528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 u="sng">
                <a:solidFill>
                  <a:srgbClr val="ffff00"/>
                </a:solidFill>
                <a:uFillTx/>
                <a:latin typeface="Times New Roman"/>
              </a:rPr>
              <a:t>UTE AGUARAGÜ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_tecpetrol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28600"/>
            <a:ext cx="1676520" cy="57780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077320" y="6172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371880" y="5931000"/>
            <a:ext cx="12992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6699"/>
                </a:solidFill>
                <a:latin typeface="Times New Roman"/>
              </a:rPr>
              <a:t>Esqu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5840" y="5931000"/>
            <a:ext cx="8755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6699"/>
                </a:solidFill>
                <a:latin typeface="Times New Roman"/>
              </a:rPr>
              <a:t>P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RACTERISTICAS GASODUCTOS OPERADOS POR TECPETROL S.A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440" y="156528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 u="sng">
                <a:solidFill>
                  <a:srgbClr val="ffff00"/>
                </a:solidFill>
                <a:uFillTx/>
                <a:latin typeface="Times New Roman"/>
              </a:rPr>
              <a:t>CUENCA NEU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_tecpetro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676520" cy="57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114480" y="2433600"/>
          <a:ext cx="8915400" cy="1990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480" y="2433600"/>
                    <a:ext cx="891540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077320" y="6172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371880" y="5931000"/>
            <a:ext cx="12992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6699"/>
                </a:solidFill>
                <a:latin typeface="Times New Roman"/>
              </a:rPr>
              <a:t>Esqu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45840" y="5931000"/>
            <a:ext cx="8755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6699"/>
                </a:solidFill>
                <a:latin typeface="Times New Roman"/>
              </a:rPr>
              <a:t>P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RACTERISTICAS GASODUCTOS OPERADOS POR TECPETROL S.A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8160" y="15652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 u="sng">
                <a:solidFill>
                  <a:srgbClr val="ffff00"/>
                </a:solidFill>
                <a:uFillTx/>
                <a:latin typeface="Times New Roman"/>
              </a:rPr>
              <a:t>UTE EL TORD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logo_tecpetro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676520" cy="57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90360" y="2438280"/>
          <a:ext cx="8963280" cy="1495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2438280"/>
                    <a:ext cx="89632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077320" y="6172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1880" y="5931000"/>
            <a:ext cx="12992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6699"/>
                </a:solidFill>
                <a:latin typeface="Times New Roman"/>
              </a:rPr>
              <a:t>Esqu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45840" y="5931000"/>
            <a:ext cx="8755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6699"/>
                </a:solidFill>
                <a:latin typeface="Times New Roman"/>
              </a:rPr>
              <a:t>P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00"/>
                </a:solidFill>
                <a:latin typeface="Times New Roman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ff00"/>
                </a:solidFill>
                <a:latin typeface="Times New Roman"/>
              </a:rPr>
              <a:t>Manual de Operación y Mantenimi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ff00"/>
                </a:solidFill>
                <a:latin typeface="Times New Roman"/>
              </a:rPr>
              <a:t>Plan de Contingenc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eglamentación Aplicad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Ley 17.31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Ley 24.0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_tecpetro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6765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ecpetrol_Color_RGB" descr=""/>
          <p:cNvPicPr/>
          <p:nvPr/>
        </p:nvPicPr>
        <p:blipFill>
          <a:blip r:embed="rId1"/>
          <a:srcRect l="12582" t="15040" r="14828" b="21213"/>
          <a:stretch/>
        </p:blipFill>
        <p:spPr>
          <a:xfrm>
            <a:off x="152280" y="457200"/>
            <a:ext cx="1828800" cy="584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TE AGUARAGÜE (SAL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IANOR%20TECPE%20(II)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845480" cy="563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077320" y="6172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ecpetrol_Color_RGB" descr=""/>
          <p:cNvPicPr/>
          <p:nvPr/>
        </p:nvPicPr>
        <p:blipFill>
          <a:blip r:embed="rId1"/>
          <a:srcRect l="12582" t="15040" r="14828" b="21213"/>
          <a:stretch/>
        </p:blipFill>
        <p:spPr>
          <a:xfrm>
            <a:off x="152280" y="457200"/>
            <a:ext cx="1828800" cy="58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1219320" y="838080"/>
          <a:ext cx="6283080" cy="580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838080"/>
                    <a:ext cx="628308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YACIMIENTO AGUA SALADA (NEUQUE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077320" y="6172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ecpetrol_Color_RGB" descr=""/>
          <p:cNvPicPr/>
          <p:nvPr/>
        </p:nvPicPr>
        <p:blipFill>
          <a:blip r:embed="rId1"/>
          <a:srcRect l="12582" t="15040" r="14828" b="21213"/>
          <a:stretch/>
        </p:blipFill>
        <p:spPr>
          <a:xfrm>
            <a:off x="152280" y="457200"/>
            <a:ext cx="1828800" cy="584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ACIMIENTO LOS BASTOS (NEUQU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77320" y="6172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Los%20Bastos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770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cpetrol_Color_RGB" descr=""/>
          <p:cNvPicPr/>
          <p:nvPr/>
        </p:nvPicPr>
        <p:blipFill>
          <a:blip r:embed="rId1"/>
          <a:srcRect l="12582" t="15040" r="14828" b="21213"/>
          <a:stretch/>
        </p:blipFill>
        <p:spPr>
          <a:xfrm>
            <a:off x="152280" y="457200"/>
            <a:ext cx="1828800" cy="584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ACIMIENTO EL TORDILLO (CHUB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6172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0440" y="1523880"/>
            <a:ext cx="8948520" cy="4528440"/>
            <a:chOff x="190440" y="1523880"/>
            <a:chExt cx="8948520" cy="4528440"/>
          </a:xfrm>
        </p:grpSpPr>
        <p:sp>
          <p:nvSpPr>
            <p:cNvPr id="88" name=""/>
            <p:cNvSpPr/>
            <p:nvPr/>
          </p:nvSpPr>
          <p:spPr>
            <a:xfrm>
              <a:off x="190440" y="2286000"/>
              <a:ext cx="8420040" cy="3619440"/>
            </a:xfrm>
            <a:custGeom>
              <a:avLst/>
              <a:gdLst/>
              <a:ahLst/>
              <a:rect l="l" t="t" r="r" b="b"/>
              <a:pathLst>
                <a:path w="5424" h="2352">
                  <a:moveTo>
                    <a:pt x="0" y="384"/>
                  </a:moveTo>
                  <a:lnTo>
                    <a:pt x="336" y="384"/>
                  </a:lnTo>
                  <a:lnTo>
                    <a:pt x="1008" y="0"/>
                  </a:lnTo>
                  <a:lnTo>
                    <a:pt x="3360" y="336"/>
                  </a:lnTo>
                  <a:lnTo>
                    <a:pt x="4272" y="144"/>
                  </a:lnTo>
                  <a:lnTo>
                    <a:pt x="4896" y="144"/>
                  </a:lnTo>
                  <a:lnTo>
                    <a:pt x="4992" y="192"/>
                  </a:lnTo>
                  <a:lnTo>
                    <a:pt x="5424" y="144"/>
                  </a:lnTo>
                  <a:lnTo>
                    <a:pt x="5424" y="768"/>
                  </a:lnTo>
                  <a:lnTo>
                    <a:pt x="4752" y="768"/>
                  </a:lnTo>
                  <a:lnTo>
                    <a:pt x="3024" y="2352"/>
                  </a:lnTo>
                  <a:lnTo>
                    <a:pt x="1632" y="2352"/>
                  </a:lnTo>
                  <a:lnTo>
                    <a:pt x="0" y="384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486080" y="2590920"/>
              <a:ext cx="7619040" cy="2851920"/>
              <a:chOff x="1486080" y="2590920"/>
              <a:chExt cx="7619040" cy="2851920"/>
            </a:xfrm>
          </p:grpSpPr>
          <p:sp>
            <p:nvSpPr>
              <p:cNvPr id="90" name=""/>
              <p:cNvSpPr/>
              <p:nvPr/>
            </p:nvSpPr>
            <p:spPr>
              <a:xfrm flipH="1" flipV="1">
                <a:off x="3754440" y="2666520"/>
                <a:ext cx="75600" cy="304920"/>
              </a:xfrm>
              <a:prstGeom prst="line">
                <a:avLst/>
              </a:prstGeom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86080" y="2590920"/>
                <a:ext cx="1145880" cy="457200"/>
              </a:xfrm>
              <a:custGeom>
                <a:avLst/>
                <a:gdLst/>
                <a:ahLst/>
                <a:rect l="l" t="t" r="r" b="b"/>
                <a:pathLst>
                  <a:path w="782" h="288">
                    <a:moveTo>
                      <a:pt x="782" y="264"/>
                    </a:moveTo>
                    <a:lnTo>
                      <a:pt x="624" y="0"/>
                    </a:lnTo>
                    <a:lnTo>
                      <a:pt x="432" y="0"/>
                    </a:lnTo>
                    <a:lnTo>
                      <a:pt x="240" y="96"/>
                    </a:lnTo>
                    <a:lnTo>
                      <a:pt x="144" y="240"/>
                    </a:lnTo>
                    <a:lnTo>
                      <a:pt x="0" y="288"/>
                    </a:lnTo>
                  </a:path>
                </a:pathLst>
              </a:custGeom>
              <a:noFill/>
              <a:ln w="223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541600" y="3124080"/>
                <a:ext cx="69480" cy="381240"/>
              </a:xfrm>
              <a:prstGeom prst="line">
                <a:avLst/>
              </a:prstGeom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103560" y="2819520"/>
                <a:ext cx="70920" cy="457200"/>
              </a:xfrm>
              <a:prstGeom prst="line">
                <a:avLst/>
              </a:prstGeom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373200" y="3276720"/>
                <a:ext cx="425160" cy="664920"/>
              </a:xfrm>
              <a:custGeom>
                <a:avLst/>
                <a:gdLst/>
                <a:ahLst/>
                <a:rect l="l" t="t" r="r" b="b"/>
                <a:pathLst>
                  <a:path w="290" h="419">
                    <a:moveTo>
                      <a:pt x="50" y="0"/>
                    </a:moveTo>
                    <a:cubicBezTo>
                      <a:pt x="47" y="17"/>
                      <a:pt x="44" y="33"/>
                      <a:pt x="42" y="50"/>
                    </a:cubicBezTo>
                    <a:cubicBezTo>
                      <a:pt x="38" y="83"/>
                      <a:pt x="38" y="116"/>
                      <a:pt x="34" y="149"/>
                    </a:cubicBezTo>
                    <a:cubicBezTo>
                      <a:pt x="26" y="212"/>
                      <a:pt x="0" y="258"/>
                      <a:pt x="0" y="323"/>
                    </a:cubicBezTo>
                    <a:lnTo>
                      <a:pt x="98" y="371"/>
                    </a:lnTo>
                    <a:lnTo>
                      <a:pt x="290" y="419"/>
                    </a:lnTo>
                  </a:path>
                </a:pathLst>
              </a:custGeom>
              <a:noFill/>
              <a:ln w="223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3754440" y="2971800"/>
                <a:ext cx="70920" cy="457200"/>
              </a:xfrm>
              <a:prstGeom prst="line">
                <a:avLst/>
              </a:prstGeom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497640" y="2819160"/>
                <a:ext cx="380520" cy="152280"/>
              </a:xfrm>
              <a:prstGeom prst="line">
                <a:avLst/>
              </a:prstGeom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6421320" y="2971800"/>
                <a:ext cx="71280" cy="457200"/>
              </a:xfrm>
              <a:prstGeom prst="line">
                <a:avLst/>
              </a:prstGeom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4668840" y="3504960"/>
                <a:ext cx="147240" cy="685800"/>
              </a:xfrm>
              <a:prstGeom prst="line">
                <a:avLst/>
              </a:prstGeom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92520" y="4191120"/>
                <a:ext cx="425160" cy="664920"/>
              </a:xfrm>
              <a:custGeom>
                <a:avLst/>
                <a:gdLst/>
                <a:ahLst/>
                <a:rect l="l" t="t" r="r" b="b"/>
                <a:pathLst>
                  <a:path w="290" h="419">
                    <a:moveTo>
                      <a:pt x="50" y="0"/>
                    </a:moveTo>
                    <a:cubicBezTo>
                      <a:pt x="47" y="17"/>
                      <a:pt x="44" y="33"/>
                      <a:pt x="42" y="50"/>
                    </a:cubicBezTo>
                    <a:cubicBezTo>
                      <a:pt x="38" y="83"/>
                      <a:pt x="38" y="116"/>
                      <a:pt x="34" y="149"/>
                    </a:cubicBezTo>
                    <a:cubicBezTo>
                      <a:pt x="26" y="212"/>
                      <a:pt x="0" y="258"/>
                      <a:pt x="0" y="323"/>
                    </a:cubicBezTo>
                    <a:lnTo>
                      <a:pt x="98" y="371"/>
                    </a:lnTo>
                    <a:lnTo>
                      <a:pt x="290" y="419"/>
                    </a:lnTo>
                  </a:path>
                </a:pathLst>
              </a:custGeom>
              <a:noFill/>
              <a:ln w="223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6057720" y="5105520"/>
                <a:ext cx="3047400" cy="337320"/>
                <a:chOff x="6057720" y="5105520"/>
                <a:chExt cx="3047400" cy="3373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057720" y="5334120"/>
                  <a:ext cx="38088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438600" y="5105520"/>
                  <a:ext cx="2666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Gas de baterías (sin tratar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" name=""/>
            <p:cNvGrpSpPr/>
            <p:nvPr/>
          </p:nvGrpSpPr>
          <p:grpSpPr>
            <a:xfrm>
              <a:off x="2459160" y="2895480"/>
              <a:ext cx="6645960" cy="2851920"/>
              <a:chOff x="2459160" y="2895480"/>
              <a:chExt cx="6645960" cy="2851920"/>
            </a:xfrm>
          </p:grpSpPr>
          <p:sp>
            <p:nvSpPr>
              <p:cNvPr id="104" name=""/>
              <p:cNvSpPr/>
              <p:nvPr/>
            </p:nvSpPr>
            <p:spPr>
              <a:xfrm>
                <a:off x="5374080" y="3124080"/>
                <a:ext cx="5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cc00"/>
                    </a:solidFill>
                    <a:latin typeface="Arial"/>
                  </a:rPr>
                  <a:t>10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64400" y="2895480"/>
                <a:ext cx="5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cc00"/>
                    </a:solidFill>
                    <a:latin typeface="Arial"/>
                  </a:rPr>
                  <a:t>10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457520" y="3429000"/>
                <a:ext cx="2057040" cy="77760"/>
              </a:xfrm>
              <a:custGeom>
                <a:avLst/>
                <a:gdLst/>
                <a:ahLst/>
                <a:rect l="l" t="t" r="r" b="b"/>
                <a:pathLst>
                  <a:path w="1387" h="48">
                    <a:moveTo>
                      <a:pt x="1387" y="0"/>
                    </a:moveTo>
                    <a:lnTo>
                      <a:pt x="859" y="0"/>
                    </a:lnTo>
                    <a:lnTo>
                      <a:pt x="475" y="48"/>
                    </a:lnTo>
                    <a:lnTo>
                      <a:pt x="0" y="48"/>
                    </a:lnTo>
                  </a:path>
                </a:pathLst>
              </a:custGeom>
              <a:noFill/>
              <a:ln w="381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59160" y="2971800"/>
                <a:ext cx="2033280" cy="549360"/>
              </a:xfrm>
              <a:custGeom>
                <a:avLst/>
                <a:gdLst/>
                <a:ahLst/>
                <a:rect l="l" t="t" r="r" b="b"/>
                <a:pathLst>
                  <a:path w="1387" h="346">
                    <a:moveTo>
                      <a:pt x="1387" y="346"/>
                    </a:moveTo>
                    <a:lnTo>
                      <a:pt x="1152" y="336"/>
                    </a:lnTo>
                    <a:lnTo>
                      <a:pt x="960" y="288"/>
                    </a:lnTo>
                    <a:lnTo>
                      <a:pt x="720" y="192"/>
                    </a:lnTo>
                    <a:lnTo>
                      <a:pt x="432" y="192"/>
                    </a:lnTo>
                    <a:lnTo>
                      <a:pt x="144" y="0"/>
                    </a:lnTo>
                    <a:lnTo>
                      <a:pt x="0" y="96"/>
                    </a:lnTo>
                  </a:path>
                </a:pathLst>
              </a:custGeom>
              <a:noFill/>
              <a:ln w="381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28920" y="4038480"/>
                <a:ext cx="114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Planta Hano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38440" y="3657600"/>
                <a:ext cx="279360" cy="304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586040" y="3512160"/>
                <a:ext cx="24840" cy="2210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6057720" y="5410080"/>
                <a:ext cx="3047400" cy="337320"/>
                <a:chOff x="6057720" y="5410080"/>
                <a:chExt cx="3047400" cy="3373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57720" y="5638680"/>
                  <a:ext cx="380880" cy="0"/>
                </a:xfrm>
                <a:prstGeom prst="line">
                  <a:avLst/>
                </a:prstGeom>
                <a:ln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438600" y="5410080"/>
                  <a:ext cx="2666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Gasoducto Tronc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3606120" y="1776240"/>
              <a:ext cx="23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Gasoducto Venta T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7800" y="3681360"/>
              <a:ext cx="1901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Gasoducto Vent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Comodo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9840" y="220968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8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53280" y="3505320"/>
              <a:ext cx="304920" cy="22860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3048120"/>
              <a:ext cx="838440" cy="307080"/>
            </a:xfrm>
            <a:prstGeom prst="rect">
              <a:avLst/>
            </a:pr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M-2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67120" y="1523880"/>
              <a:ext cx="304560" cy="22860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79560" y="1523880"/>
              <a:ext cx="785880" cy="307080"/>
            </a:xfrm>
            <a:prstGeom prst="rect">
              <a:avLst/>
            </a:pr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M-3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19480" y="1676520"/>
              <a:ext cx="1265040" cy="1981080"/>
            </a:xfrm>
            <a:custGeom>
              <a:avLst/>
              <a:gdLst/>
              <a:ahLst/>
              <a:rect l="l" t="t" r="r" b="b"/>
              <a:pathLst>
                <a:path w="864" h="1248">
                  <a:moveTo>
                    <a:pt x="864" y="1248"/>
                  </a:moveTo>
                  <a:lnTo>
                    <a:pt x="528" y="864"/>
                  </a:lnTo>
                  <a:lnTo>
                    <a:pt x="432" y="576"/>
                  </a:lnTo>
                  <a:lnTo>
                    <a:pt x="384" y="336"/>
                  </a:lnTo>
                  <a:lnTo>
                    <a:pt x="240" y="144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67400" y="3657600"/>
              <a:ext cx="2031840" cy="76320"/>
            </a:xfrm>
            <a:custGeom>
              <a:avLst/>
              <a:gdLst/>
              <a:ahLst/>
              <a:rect l="l" t="t" r="r" b="b"/>
              <a:pathLst>
                <a:path w="1387" h="48">
                  <a:moveTo>
                    <a:pt x="1387" y="0"/>
                  </a:moveTo>
                  <a:lnTo>
                    <a:pt x="859" y="0"/>
                  </a:lnTo>
                  <a:lnTo>
                    <a:pt x="475" y="48"/>
                  </a:lnTo>
                  <a:lnTo>
                    <a:pt x="0" y="4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99240" y="373392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4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956040" y="3226320"/>
              <a:ext cx="193680" cy="13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525400" y="3282480"/>
              <a:ext cx="1573920" cy="825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97280" y="441792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MG S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30520" y="3782880"/>
              <a:ext cx="107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M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a Pet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819840" y="3581280"/>
              <a:ext cx="1333440" cy="76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35240" y="4038480"/>
              <a:ext cx="334800" cy="26676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91240" y="3505320"/>
              <a:ext cx="335160" cy="26676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08520" y="3429000"/>
              <a:ext cx="335160" cy="26676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5760" y="3429000"/>
              <a:ext cx="334800" cy="26676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058080" y="5715000"/>
              <a:ext cx="3047400" cy="337320"/>
              <a:chOff x="6058080" y="5715000"/>
              <a:chExt cx="3047400" cy="337320"/>
            </a:xfrm>
          </p:grpSpPr>
          <p:sp>
            <p:nvSpPr>
              <p:cNvPr id="134" name=""/>
              <p:cNvSpPr/>
              <p:nvPr/>
            </p:nvSpPr>
            <p:spPr>
              <a:xfrm>
                <a:off x="6058080" y="594360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438960" y="5715000"/>
                <a:ext cx="266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Gas Trata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344040" y="380844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MG Nor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22960" y="312408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MG 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952880" y="3123720"/>
              <a:ext cx="60984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876560" y="2666880"/>
              <a:ext cx="7596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2514600"/>
              <a:ext cx="304920" cy="22860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32320" y="2133720"/>
              <a:ext cx="785880" cy="307080"/>
            </a:xfrm>
            <a:prstGeom prst="rect">
              <a:avLst/>
            </a:pr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M-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31000" y="281952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4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7:21:53Z</dcterms:created>
  <dc:creator>TECGAA</dc:creator>
  <dc:description/>
  <dc:language>en-US</dc:language>
  <cp:lastModifiedBy>TECGAA</cp:lastModifiedBy>
  <dcterms:modified xsi:type="dcterms:W3CDTF">2005-12-16T18:25:44Z</dcterms:modified>
  <cp:revision>22</cp:revision>
  <dc:subject/>
  <dc:title>CARACTERISTICAS GASDOUCTOS OPERADOS POR TECPETROL S.A. </dc:title>
</cp:coreProperties>
</file>