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03A2-5F0C-47B9-BC56-5C68A383F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5DD6-DDC7-4F3C-86DD-99F39D6D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44B5-6FE7-4EB6-839D-31D9E0868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CF30-64EE-442B-9CF2-2F2F9AA33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F99F-99C0-4907-8779-CF3E1EC0B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A0C6-7E66-44FD-ACC4-64D51E13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05BA-C808-4BF0-BB1E-10761BAA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9B01-7C8D-4BA8-A7D9-E1B7818E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803E-D059-4978-99EA-33E7F202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F7D1-3C7E-48A2-B8A1-BC80F0DD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8521-5805-4328-9AE3-D9DA5B0E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2A3D-06EA-402B-9A4C-4D1B9ED7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E251-1916-41E4-8A04-42299792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8178-F82E-4325-B254-1041848B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EEF5-8D88-4E20-9AE2-E5644F37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418A-431B-4F78-8C28-FD49CB1CE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CF43-E4D9-4BDE-81C2-4DA9F1396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1810-E97B-465F-A032-13244CFE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B50E-0CD8-4163-B952-43C41A71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28EB-3C62-4848-BCE4-75E17799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F579-8D11-46D2-B9EE-4C3C46BF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1DE4-117B-49F3-8D67-DF33A4EF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FC0B-AC50-47C4-A436-EE51A5DD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9225-03F6-4562-81EF-6BB0666C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3" name="URBBANND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1B76-4C9B-4810-B52A-42F84E61BC4E}" type="slidenum"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48" name="URBBANND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1156-B9C2-4E7F-A848-EA0676B0C3B2}" type="slidenum"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ecpetrol_Color_RGB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362320" y="533520"/>
            <a:ext cx="4419360" cy="1371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2362320"/>
            <a:ext cx="8305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eae8e2"/>
                </a:solidFill>
                <a:latin typeface="Times New Roman"/>
              </a:rPr>
              <a:t>TRANSPORTE</a:t>
            </a:r>
            <a:endParaRPr b="0" lang="en-US" sz="40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eae8e2"/>
                </a:solidFill>
                <a:latin typeface="Times New Roman"/>
              </a:rPr>
              <a:t>DE </a:t>
            </a:r>
            <a:endParaRPr b="0" lang="en-US" sz="40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eae8e2"/>
                </a:solidFill>
                <a:latin typeface="Times New Roman"/>
              </a:rPr>
              <a:t>HIDROCARBUROS LÍQUIDOS</a:t>
            </a:r>
            <a:endParaRPr b="0" lang="en-US" sz="40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dbc03"/>
                </a:solidFill>
                <a:latin typeface="Impact"/>
              </a:rPr>
              <a:t>FICHA TECNICA N° 3:  OLEODUCTOS ZONA NEUQUINA</a:t>
            </a:r>
            <a:endParaRPr b="0" lang="en-US" sz="3000" spc="-1" strike="noStrike">
              <a:solidFill>
                <a:srgbClr val="fdbc03"/>
              </a:solidFill>
              <a:latin typeface="Impact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52280" y="1905120"/>
          <a:ext cx="8839440" cy="2286000"/>
        </p:xfrm>
        <a:graphic>
          <a:graphicData uri="http://schemas.openxmlformats.org/drawingml/2006/table">
            <a:tbl>
              <a:tblPr/>
              <a:tblGrid>
                <a:gridCol w="2090880"/>
                <a:gridCol w="804960"/>
                <a:gridCol w="838080"/>
                <a:gridCol w="838080"/>
                <a:gridCol w="914400"/>
                <a:gridCol w="914400"/>
                <a:gridCol w="838440"/>
                <a:gridCol w="761760"/>
                <a:gridCol w="838440"/>
              </a:tblGrid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6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Oleoducto</a:t>
                      </a:r>
                      <a:endParaRPr b="0" lang="en-US" sz="26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Long (m)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Ønom  (pulg)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Espesor (mm)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P.Oper (kg/cm2)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P.Adm </a:t>
                      </a:r>
                      <a:r>
                        <a:rPr b="0" lang="en-US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(kg/cm2)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Material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Q Máx (m</a:t>
                      </a:r>
                      <a:r>
                        <a:rPr b="0" lang="es-AR" sz="1700" spc="-1" strike="noStrike" baseline="30000">
                          <a:solidFill>
                            <a:srgbClr val="eae8e2"/>
                          </a:solidFill>
                          <a:latin typeface="Arial Narrow"/>
                        </a:rPr>
                        <a:t>3</a:t>
                      </a: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/h)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Bombas</a:t>
                      </a:r>
                      <a:endParaRPr b="0" lang="en-US" sz="16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Los Bastos- Aguada Toledo</a:t>
                      </a:r>
                      <a:endParaRPr b="0" lang="en-US" sz="22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1300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4´´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-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33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5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-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4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La Jarilla- </a:t>
                      </a:r>
                      <a:endParaRPr b="0" lang="en-US" sz="22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La Escondida*</a:t>
                      </a:r>
                      <a:endParaRPr b="0" lang="en-US" sz="22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1650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3´´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3.6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5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7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API 5L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Gr B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2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7" name="Tecpetrol_Color_RGB" descr=""/>
          <p:cNvPicPr/>
          <p:nvPr/>
        </p:nvPicPr>
        <p:blipFill>
          <a:blip r:embed="rId1"/>
          <a:stretch/>
        </p:blipFill>
        <p:spPr>
          <a:xfrm>
            <a:off x="8001000" y="6324480"/>
            <a:ext cx="990720" cy="3081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0" y="632448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eae8e2"/>
                </a:solidFill>
                <a:latin typeface="Times New Roman"/>
              </a:rPr>
              <a:t>* En construcción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457200" y="533520"/>
            <a:ext cx="312408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Times New Roman"/>
              </a:rPr>
              <a:t>CONTROL Y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81280" y="1066680"/>
            <a:ext cx="1981440" cy="0"/>
          </a:xfrm>
          <a:prstGeom prst="line">
            <a:avLst/>
          </a:prstGeom>
          <a:ln w="9360">
            <a:solidFill>
              <a:srgbClr val="eae8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638680" y="533520"/>
            <a:ext cx="289584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Times New Roman"/>
              </a:rPr>
              <a:t>CONFIABILIDAD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1828800"/>
            <a:ext cx="75438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eae8e2"/>
                </a:solidFill>
                <a:latin typeface="Times New Roman"/>
              </a:rPr>
              <a:t>Monitoreos en PLC con sistema SCADA (Zona Golfo San Jorge, La Jarilla-La Escondida)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eae8e2"/>
                </a:solidFill>
                <a:latin typeface="Times New Roman"/>
              </a:rPr>
              <a:t>Scrapper inteligente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eae8e2"/>
                </a:solidFill>
                <a:latin typeface="Times New Roman"/>
              </a:rPr>
              <a:t>Protección catódica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eae8e2"/>
                </a:solidFill>
                <a:latin typeface="Times New Roman"/>
              </a:rPr>
              <a:t>Galvánica (ET-El Trebol, J.Segundo-Interconexión, Pto Quiroga-ET)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eae8e2"/>
                </a:solidFill>
                <a:latin typeface="Times New Roman"/>
              </a:rPr>
              <a:t>Corriente impresa (ET-CC, CHN-Balbuena, La Jarilla-La Escondida)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eae8e2"/>
                </a:solidFill>
                <a:latin typeface="Times New Roman"/>
              </a:rPr>
              <a:t>Revestimientos (Polietileno tricapa)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eae8e2"/>
                </a:solidFill>
                <a:latin typeface="Times New Roman"/>
              </a:rPr>
              <a:t>Inspecciones externas, recorridas periódicas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303" name="Tecpetrol_Color_RGB" descr=""/>
          <p:cNvPicPr/>
          <p:nvPr/>
        </p:nvPicPr>
        <p:blipFill>
          <a:blip r:embed="rId1"/>
          <a:stretch/>
        </p:blipFill>
        <p:spPr>
          <a:xfrm>
            <a:off x="8153280" y="6400800"/>
            <a:ext cx="99072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dbc03"/>
                </a:solidFill>
                <a:latin typeface="Impact"/>
              </a:rPr>
              <a:t>RELACIÓN OPERATIVA-COMERCIAL:ZONA SAN JORGE</a:t>
            </a:r>
            <a:endParaRPr b="0" lang="en-US" sz="3000" spc="-1" strike="noStrike">
              <a:solidFill>
                <a:srgbClr val="fdbc03"/>
              </a:solidFill>
              <a:latin typeface="Impact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52280" y="1219320"/>
          <a:ext cx="8458200" cy="4230720"/>
        </p:xfrm>
        <a:graphic>
          <a:graphicData uri="http://schemas.openxmlformats.org/drawingml/2006/table">
            <a:tbl>
              <a:tblPr/>
              <a:tblGrid>
                <a:gridCol w="2362320"/>
                <a:gridCol w="304920"/>
                <a:gridCol w="304560"/>
                <a:gridCol w="228600"/>
                <a:gridCol w="762120"/>
                <a:gridCol w="304920"/>
                <a:gridCol w="304560"/>
                <a:gridCol w="304920"/>
                <a:gridCol w="762120"/>
                <a:gridCol w="1371600"/>
                <a:gridCol w="1447560"/>
              </a:tblGrid>
              <a:tr h="1072440">
                <a:tc rowSpan="2">
                  <a:txBody>
                    <a:bodyPr lIns="0" rIns="247680" tIns="304920" bIns="30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R="24768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El Tordillo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La Tapera-Pto Quiroga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José Segundo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Bella 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Vista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95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Tecpetrol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PESA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EDC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YPF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Tecpetrol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PESA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EDC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YPF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Dapetrol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Vintage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9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El Tordillo-Caleta Córdova</a:t>
                      </a:r>
                      <a:endParaRPr b="0" lang="en-US" sz="19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Propio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Propio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0.485U$S/m3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0.15%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0.791U$S/m3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0.15%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9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El Tordillo-El Trébol</a:t>
                      </a:r>
                      <a:endParaRPr b="0" lang="en-US" sz="19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Propio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Propio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-</a:t>
                      </a:r>
                      <a:endParaRPr b="0" lang="en-US" sz="1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-</a:t>
                      </a:r>
                      <a:endParaRPr b="0" lang="en-US" sz="1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9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Bella Vista-</a:t>
                      </a:r>
                      <a:endParaRPr b="0" lang="en-US" sz="19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9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Interconexión ET/CC</a:t>
                      </a:r>
                      <a:endParaRPr b="0" lang="en-US" sz="19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-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-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-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-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-</a:t>
                      </a:r>
                      <a:endParaRPr b="0" lang="en-US" sz="1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0.25 U$S/m3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0.15%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"/>
          <p:cNvSpPr/>
          <p:nvPr/>
        </p:nvSpPr>
        <p:spPr>
          <a:xfrm>
            <a:off x="1295280" y="1676520"/>
            <a:ext cx="99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200" spc="-1" strike="noStrike">
                <a:solidFill>
                  <a:srgbClr val="eae8e2"/>
                </a:solidFill>
                <a:latin typeface="Arial Narrow"/>
              </a:rPr>
              <a:t>Área</a:t>
            </a: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2280" y="2590920"/>
            <a:ext cx="144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200" spc="-1" strike="noStrike">
                <a:solidFill>
                  <a:srgbClr val="eae8e2"/>
                </a:solidFill>
                <a:latin typeface="Arial Narrow"/>
              </a:rPr>
              <a:t>Oleoducto</a:t>
            </a: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308" name="Tecpetrol_Color_RGB" descr=""/>
          <p:cNvPicPr/>
          <p:nvPr/>
        </p:nvPicPr>
        <p:blipFill>
          <a:blip r:embed="rId1"/>
          <a:stretch/>
        </p:blipFill>
        <p:spPr>
          <a:xfrm>
            <a:off x="8001000" y="6400800"/>
            <a:ext cx="99072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dbc03"/>
                </a:solidFill>
                <a:latin typeface="Impact"/>
              </a:rPr>
              <a:t>RELACIÓN OPERATIVA-COMERCIAL: ZONA NEUQUINA</a:t>
            </a:r>
            <a:endParaRPr b="0" lang="en-US" sz="3000" spc="-1" strike="noStrike">
              <a:solidFill>
                <a:srgbClr val="fdbc03"/>
              </a:solidFill>
              <a:latin typeface="Impact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914400" y="1371600"/>
          <a:ext cx="7315200" cy="3838680"/>
        </p:xfrm>
        <a:graphic>
          <a:graphicData uri="http://schemas.openxmlformats.org/drawingml/2006/table">
            <a:tbl>
              <a:tblPr/>
              <a:tblGrid>
                <a:gridCol w="1066680"/>
                <a:gridCol w="2087640"/>
                <a:gridCol w="2084400"/>
                <a:gridCol w="2076480"/>
              </a:tblGrid>
              <a:tr h="1135440">
                <a:tc gridSpan="2">
                  <a:txBody>
                    <a:bodyPr lIns="0" rIns="247680" tIns="304920" bIns="304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R="24768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Agua Salada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Los Bastos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834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Oldelval</a:t>
                      </a:r>
                      <a:endParaRPr b="0" lang="en-US" sz="22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La Escondida-   </a:t>
                      </a:r>
                      <a:endParaRPr b="0" lang="en-US" sz="22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Pto Rosales</a:t>
                      </a:r>
                      <a:endParaRPr b="0" lang="en-US" sz="22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3.474 U$S/m3 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0.05%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-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76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Salida Challacó- Pto Rosales</a:t>
                      </a:r>
                      <a:endParaRPr b="0" lang="en-US" sz="22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-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3.552 U$S/m3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0.05%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YPF</a:t>
                      </a:r>
                      <a:endParaRPr b="0" lang="en-US" sz="22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Aguada Toledo- Salida Challacó</a:t>
                      </a:r>
                      <a:endParaRPr b="0" lang="en-US" sz="22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-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2.50% Transporte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2.20% Tratamiento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0.17% Merma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1" name=""/>
          <p:cNvSpPr/>
          <p:nvPr/>
        </p:nvSpPr>
        <p:spPr>
          <a:xfrm>
            <a:off x="2514600" y="1447920"/>
            <a:ext cx="99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eae8e2"/>
                </a:solidFill>
                <a:latin typeface="Arial Narrow"/>
              </a:rPr>
              <a:t>Área</a:t>
            </a: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190512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eae8e2"/>
                </a:solidFill>
                <a:latin typeface="Arial Narrow"/>
              </a:rPr>
              <a:t>Oleoducto</a:t>
            </a: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313" name="Tecpetrol_Color_RGB" descr=""/>
          <p:cNvPicPr/>
          <p:nvPr/>
        </p:nvPicPr>
        <p:blipFill>
          <a:blip r:embed="rId1"/>
          <a:stretch/>
        </p:blipFill>
        <p:spPr>
          <a:xfrm>
            <a:off x="8001000" y="6324480"/>
            <a:ext cx="99072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dbc03"/>
                </a:solidFill>
                <a:latin typeface="Impact"/>
              </a:rPr>
              <a:t>AGENDA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eae8e2"/>
                </a:solidFill>
                <a:latin typeface="Arial Narrow"/>
              </a:rPr>
              <a:t>Esquema de las área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371600" indent="-457200">
              <a:spcBef>
                <a:spcPts val="601"/>
              </a:spcBef>
              <a:buClr>
                <a:srgbClr val="eae8e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Cuenca Golfo San Jorge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2" marL="1371600" indent="-457200">
              <a:spcBef>
                <a:spcPts val="601"/>
              </a:spcBef>
              <a:buClr>
                <a:srgbClr val="eae8e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Cuenca Neuquina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2" marL="1371600" indent="-457200">
              <a:spcBef>
                <a:spcPts val="601"/>
              </a:spcBef>
              <a:buClr>
                <a:srgbClr val="eae8e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Cuenca Noroeste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chas técnicas de los oleoducto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cciones de control y mantenimiento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elaciones operativo-comerciale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93" name="Tecpetrol_Color_RGB" descr=""/>
          <p:cNvPicPr/>
          <p:nvPr/>
        </p:nvPicPr>
        <p:blipFill>
          <a:blip r:embed="rId1"/>
          <a:stretch/>
        </p:blipFill>
        <p:spPr>
          <a:xfrm>
            <a:off x="8001000" y="6324480"/>
            <a:ext cx="99072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23880" y="838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dbc03"/>
                </a:solidFill>
                <a:latin typeface="Impact"/>
              </a:rPr>
              <a:t>CUENCA SAN JORG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6" name=""/>
          <p:cNvSpPr/>
          <p:nvPr/>
        </p:nvSpPr>
        <p:spPr>
          <a:xfrm>
            <a:off x="2362320" y="4724280"/>
            <a:ext cx="21333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b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imes New Roman"/>
              </a:rPr>
              <a:t>EL TORDILLO</a:t>
            </a: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1676520"/>
            <a:ext cx="2133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b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imes New Roman"/>
              </a:rPr>
              <a:t>Caleta Córdova</a:t>
            </a: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2895480"/>
            <a:ext cx="2133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b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imes New Roman"/>
              </a:rPr>
              <a:t>JOSÉ SEGUNDO</a:t>
            </a: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38280" y="2286000"/>
            <a:ext cx="2438640" cy="4572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eae8e2"/>
                </a:solidFill>
                <a:latin typeface="Times New Roman"/>
              </a:rPr>
              <a:t>Oleoducto 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eae8e2"/>
                </a:solidFill>
                <a:latin typeface="Times New Roman"/>
              </a:rPr>
              <a:t>El Tordillo-Caleta Córdova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2286000"/>
            <a:ext cx="228600" cy="228600"/>
          </a:xfrm>
          <a:prstGeom prst="rect">
            <a:avLst/>
          </a:prstGeom>
          <a:solidFill>
            <a:srgbClr val="000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3124080"/>
            <a:ext cx="1143000" cy="3812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U. LACT</a:t>
            </a:r>
            <a:r>
              <a:rPr b="0" lang="es-AR" sz="1800" spc="-1" strike="noStrike">
                <a:solidFill>
                  <a:srgbClr val="eae8e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3352680"/>
            <a:ext cx="1143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b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El Trébol</a:t>
            </a:r>
            <a:endParaRPr b="0" lang="en-US" sz="20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5943600"/>
            <a:ext cx="2133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b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imes New Roman"/>
              </a:rPr>
              <a:t>LA TAPERA- </a:t>
            </a: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imes New Roman"/>
              </a:rPr>
              <a:t>PTO QUIROGA</a:t>
            </a: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429000" y="5257440"/>
            <a:ext cx="0" cy="68580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2133720" y="3809880"/>
            <a:ext cx="304560" cy="91440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191120" y="2209320"/>
            <a:ext cx="1904760" cy="251460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3886200"/>
            <a:ext cx="2286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3886200"/>
            <a:ext cx="1143000" cy="2286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U. LACT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38480" y="5334120"/>
            <a:ext cx="1143000" cy="152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eae8e2"/>
                </a:solidFill>
                <a:latin typeface="Times New Roman"/>
              </a:rPr>
              <a:t>Entrega por Tanques 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2590920"/>
            <a:ext cx="1143000" cy="152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eae8e2"/>
                </a:solidFill>
                <a:latin typeface="Times New Roman"/>
              </a:rPr>
              <a:t>Entrega por Tanques 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3124080"/>
            <a:ext cx="1143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b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Vintage</a:t>
            </a:r>
            <a:endParaRPr b="0" lang="en-US" sz="20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4190760" y="3429000"/>
            <a:ext cx="609480" cy="45720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19720" y="3581280"/>
            <a:ext cx="228600" cy="228600"/>
          </a:xfrm>
          <a:prstGeom prst="rect">
            <a:avLst/>
          </a:prstGeom>
          <a:solidFill>
            <a:srgbClr val="000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1981080"/>
            <a:ext cx="914400" cy="30492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U. LACT</a:t>
            </a:r>
            <a:r>
              <a:rPr b="0" lang="es-AR" sz="1800" spc="-1" strike="noStrike">
                <a:solidFill>
                  <a:srgbClr val="eae8e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495680"/>
            <a:ext cx="1143000" cy="2286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eae8e2"/>
                </a:solidFill>
                <a:latin typeface="Times New Roman"/>
              </a:rPr>
              <a:t>Entrega por Tanques 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15000" y="3657600"/>
            <a:ext cx="1905120" cy="4572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eae8e2"/>
                </a:solidFill>
                <a:latin typeface="Times New Roman"/>
              </a:rPr>
              <a:t>Oleoducto 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eae8e2"/>
                </a:solidFill>
                <a:latin typeface="Times New Roman"/>
              </a:rPr>
              <a:t>José Segundo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5562720" y="2895120"/>
            <a:ext cx="838080" cy="38124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4495680"/>
            <a:ext cx="1905120" cy="4572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eae8e2"/>
                </a:solidFill>
                <a:latin typeface="Times New Roman"/>
              </a:rPr>
              <a:t>Oleoducto 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eae8e2"/>
                </a:solidFill>
                <a:latin typeface="Times New Roman"/>
              </a:rPr>
              <a:t>El Tordillo-El Trébol: 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4495680"/>
            <a:ext cx="228600" cy="228600"/>
          </a:xfrm>
          <a:prstGeom prst="flowChartMagneticDisk">
            <a:avLst/>
          </a:prstGeom>
          <a:solidFill>
            <a:srgbClr val="100c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3124080"/>
            <a:ext cx="228600" cy="228600"/>
          </a:xfrm>
          <a:prstGeom prst="flowChartMagneticDisk">
            <a:avLst/>
          </a:prstGeom>
          <a:solidFill>
            <a:srgbClr val="100c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5334120"/>
            <a:ext cx="228600" cy="228600"/>
          </a:xfrm>
          <a:prstGeom prst="flowChartMagneticDisk">
            <a:avLst/>
          </a:prstGeom>
          <a:solidFill>
            <a:srgbClr val="100c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162920" y="1371240"/>
            <a:ext cx="380880" cy="30492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123" name="TN00333_" descr=""/>
          <p:cNvPicPr/>
          <p:nvPr/>
        </p:nvPicPr>
        <p:blipFill>
          <a:blip r:embed="rId1"/>
          <a:stretch/>
        </p:blipFill>
        <p:spPr>
          <a:xfrm>
            <a:off x="7391520" y="762120"/>
            <a:ext cx="554040" cy="768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048120" y="3809880"/>
            <a:ext cx="1447560" cy="30492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Oleoducto 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Vintage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5486400"/>
            <a:ext cx="914400" cy="30492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Oleoducto 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La Tapera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126" name="Tecpetrol_Color_RGB" descr=""/>
          <p:cNvPicPr/>
          <p:nvPr/>
        </p:nvPicPr>
        <p:blipFill>
          <a:blip r:embed="rId2"/>
          <a:stretch/>
        </p:blipFill>
        <p:spPr>
          <a:xfrm>
            <a:off x="8001000" y="6324480"/>
            <a:ext cx="99072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3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dbc03"/>
                </a:solidFill>
                <a:latin typeface="Impact"/>
              </a:rPr>
              <a:t>DETALLE: EL TORDILLO Y JOSE SEGUNDO</a:t>
            </a:r>
            <a:endParaRPr b="0" lang="en-US" sz="40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90920" y="1371600"/>
            <a:ext cx="297180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b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imes New Roman"/>
              </a:rPr>
              <a:t>EL TORDILLO</a:t>
            </a: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2286000"/>
            <a:ext cx="381240" cy="380880"/>
          </a:xfrm>
          <a:prstGeom prst="flowChartMagneticDisk">
            <a:avLst/>
          </a:prstGeom>
          <a:solidFill>
            <a:srgbClr val="100c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2286000"/>
            <a:ext cx="533520" cy="457200"/>
          </a:xfrm>
          <a:prstGeom prst="flowChartMagneticDisk">
            <a:avLst/>
          </a:prstGeom>
          <a:solidFill>
            <a:srgbClr val="100c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2286000"/>
            <a:ext cx="533520" cy="457200"/>
          </a:xfrm>
          <a:prstGeom prst="flowChartMagneticDisk">
            <a:avLst/>
          </a:prstGeom>
          <a:solidFill>
            <a:srgbClr val="100c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1523880"/>
            <a:ext cx="419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95480" y="1752480"/>
            <a:ext cx="114300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eae8e2"/>
                </a:solidFill>
                <a:latin typeface="Times New Roman"/>
              </a:rPr>
              <a:t>Pta. </a:t>
            </a:r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eae8e2"/>
                </a:solidFill>
                <a:latin typeface="Times New Roman"/>
              </a:rPr>
              <a:t>Tratamiento 1</a:t>
            </a:r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1752480"/>
            <a:ext cx="68580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eae8e2"/>
                </a:solidFill>
                <a:latin typeface="Times New Roman"/>
              </a:rPr>
              <a:t>Pta </a:t>
            </a:r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eae8e2"/>
                </a:solidFill>
                <a:latin typeface="Times New Roman"/>
              </a:rPr>
              <a:t>Tratam. 2</a:t>
            </a:r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19810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600200"/>
            <a:ext cx="1143000" cy="7632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De Baterías El Tordillo</a:t>
            </a:r>
            <a:r>
              <a:rPr b="0" lang="es-AR" sz="1800" spc="-1" strike="noStrike">
                <a:solidFill>
                  <a:srgbClr val="eae8e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2133720"/>
            <a:ext cx="1143000" cy="759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De La Tapera-Puesto Quirorga</a:t>
            </a:r>
            <a:r>
              <a:rPr b="0" lang="es-AR" sz="1800" spc="-1" strike="noStrike">
                <a:solidFill>
                  <a:srgbClr val="eae8e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Entrega por tanques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28954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483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25909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578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2666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1676520" y="2742840"/>
            <a:ext cx="914400" cy="152280"/>
          </a:xfrm>
          <a:prstGeom prst="line">
            <a:avLst/>
          </a:prstGeom>
          <a:ln w="9360">
            <a:solidFill>
              <a:srgbClr val="eae8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562720" y="2133720"/>
            <a:ext cx="2590560" cy="761760"/>
          </a:xfrm>
          <a:prstGeom prst="line">
            <a:avLst/>
          </a:prstGeom>
          <a:ln w="9360">
            <a:solidFill>
              <a:srgbClr val="eae8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2971800"/>
            <a:ext cx="914400" cy="152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eae8e2"/>
                </a:solidFill>
                <a:latin typeface="Times New Roman"/>
              </a:rPr>
              <a:t>A U. LACT El Trébol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0120" y="2514600"/>
            <a:ext cx="914400" cy="152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eae8e2"/>
                </a:solidFill>
                <a:latin typeface="Times New Roman"/>
              </a:rPr>
              <a:t>A U. LACT 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eae8e2"/>
                </a:solidFill>
                <a:latin typeface="Times New Roman"/>
              </a:rPr>
              <a:t>Caleta Córdova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2133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19520" y="4343400"/>
            <a:ext cx="25146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b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OSE SEGUNDO</a:t>
            </a: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52680" y="5257800"/>
            <a:ext cx="381240" cy="304920"/>
          </a:xfrm>
          <a:prstGeom prst="flowChartMagneticDisk">
            <a:avLst/>
          </a:prstGeom>
          <a:solidFill>
            <a:srgbClr val="100c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3400" y="5105520"/>
            <a:ext cx="533520" cy="457200"/>
          </a:xfrm>
          <a:prstGeom prst="flowChartMagneticDisk">
            <a:avLst/>
          </a:prstGeom>
          <a:solidFill>
            <a:srgbClr val="100c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05320" y="4495680"/>
            <a:ext cx="114300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eae8e2"/>
                </a:solidFill>
                <a:latin typeface="Times New Roman"/>
              </a:rPr>
              <a:t>Pta. </a:t>
            </a:r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eae8e2"/>
                </a:solidFill>
                <a:latin typeface="Times New Roman"/>
              </a:rPr>
              <a:t>Tratamiento </a:t>
            </a:r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457200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4800600"/>
            <a:ext cx="1143000" cy="7632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De Baterías José Segundo</a:t>
            </a:r>
            <a:r>
              <a:rPr b="0" lang="es-AR" sz="1800" spc="-1" strike="noStrike">
                <a:solidFill>
                  <a:srgbClr val="eae8e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812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29000" y="56386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33920" y="54100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5288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54100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5562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5867280"/>
            <a:ext cx="914400" cy="2286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Bomba Despacho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91520" y="5181480"/>
            <a:ext cx="914400" cy="152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eae8e2"/>
                </a:solidFill>
                <a:latin typeface="Times New Roman"/>
              </a:rPr>
              <a:t>A Oleoducto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eae8e2"/>
                </a:solidFill>
                <a:latin typeface="Times New Roman"/>
              </a:rPr>
              <a:t>El Tordillo – Caleta Córdova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86400" y="5638680"/>
            <a:ext cx="2666880" cy="0"/>
          </a:xfrm>
          <a:prstGeom prst="line">
            <a:avLst/>
          </a:prstGeom>
          <a:ln w="9360">
            <a:solidFill>
              <a:srgbClr val="eae8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19520" y="50292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360 m</a:t>
            </a:r>
            <a:r>
              <a:rPr b="0" lang="es-AR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24280" y="49528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480 m</a:t>
            </a:r>
            <a:r>
              <a:rPr b="0" lang="es-AR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76720" y="28954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10000 m</a:t>
            </a:r>
            <a:r>
              <a:rPr b="0" lang="es-AR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19720" y="2286000"/>
            <a:ext cx="380880" cy="380880"/>
          </a:xfrm>
          <a:prstGeom prst="flowChartMagneticDisk">
            <a:avLst/>
          </a:prstGeom>
          <a:solidFill>
            <a:srgbClr val="100c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28954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10000 m</a:t>
            </a:r>
            <a:r>
              <a:rPr b="0" lang="es-AR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38480" y="28954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3000 m</a:t>
            </a:r>
            <a:r>
              <a:rPr b="0" lang="es-AR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28954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3000 m</a:t>
            </a:r>
            <a:r>
              <a:rPr b="0" lang="es-AR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2743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657600" y="25909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0040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48320" y="2743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1676520"/>
            <a:ext cx="914400" cy="152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eae8e2"/>
                </a:solidFill>
                <a:latin typeface="Times New Roman"/>
              </a:rPr>
              <a:t>Oleoducto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eae8e2"/>
                </a:solidFill>
                <a:latin typeface="Times New Roman"/>
              </a:rPr>
              <a:t>El Tordillo – Caleta Córdova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76920" y="2743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29000" y="2666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67080" y="2666880"/>
            <a:ext cx="2286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Bomba</a:t>
            </a:r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95480" y="2743200"/>
            <a:ext cx="228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Bomba</a:t>
            </a:r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187" name="Tecpetrol_Color_RGB" descr=""/>
          <p:cNvPicPr/>
          <p:nvPr/>
        </p:nvPicPr>
        <p:blipFill>
          <a:blip r:embed="rId1"/>
          <a:stretch/>
        </p:blipFill>
        <p:spPr>
          <a:xfrm>
            <a:off x="8001000" y="6324480"/>
            <a:ext cx="990720" cy="3081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514600" y="2819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7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29520" bIns="295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dbc03"/>
                </a:solidFill>
                <a:latin typeface="Impact"/>
              </a:rPr>
              <a:t>CUENCA NEUQUINA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0" name=""/>
          <p:cNvSpPr/>
          <p:nvPr/>
        </p:nvSpPr>
        <p:spPr>
          <a:xfrm>
            <a:off x="3352680" y="1295280"/>
            <a:ext cx="19814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b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AGUA SALADA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33920" y="1447920"/>
            <a:ext cx="228600" cy="228600"/>
          </a:xfrm>
          <a:prstGeom prst="flowChartMagneticDisk">
            <a:avLst/>
          </a:prstGeom>
          <a:solidFill>
            <a:srgbClr val="100c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0" y="1371600"/>
            <a:ext cx="457200" cy="380880"/>
          </a:xfrm>
          <a:prstGeom prst="flowChartMagneticDisk">
            <a:avLst/>
          </a:prstGeom>
          <a:solidFill>
            <a:srgbClr val="100c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57600" y="990720"/>
            <a:ext cx="5335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Times New Roman"/>
              </a:rPr>
              <a:t>160 m</a:t>
            </a:r>
            <a:r>
              <a:rPr b="0" lang="es-AR" sz="16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95680" y="990720"/>
            <a:ext cx="5335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Times New Roman"/>
              </a:rPr>
              <a:t>500 m</a:t>
            </a:r>
            <a:r>
              <a:rPr b="0" lang="es-AR" sz="16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9720" y="2209680"/>
            <a:ext cx="0" cy="1295640"/>
          </a:xfrm>
          <a:prstGeom prst="line">
            <a:avLst/>
          </a:prstGeom>
          <a:ln w="9360">
            <a:solidFill>
              <a:srgbClr val="eae8e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67080" y="3505320"/>
            <a:ext cx="304920" cy="228600"/>
          </a:xfrm>
          <a:prstGeom prst="flowChartMagneticDisk">
            <a:avLst/>
          </a:prstGeom>
          <a:solidFill>
            <a:srgbClr val="100c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3733920"/>
            <a:ext cx="0" cy="38088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3400" y="3962520"/>
            <a:ext cx="152280" cy="152280"/>
          </a:xfrm>
          <a:prstGeom prst="rect">
            <a:avLst/>
          </a:prstGeom>
          <a:solidFill>
            <a:srgbClr val="000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4114800"/>
            <a:ext cx="0" cy="152388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5638680"/>
            <a:ext cx="7238880" cy="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7696080" y="4952520"/>
            <a:ext cx="0" cy="68580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2514600"/>
            <a:ext cx="1143000" cy="2286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eae8e2"/>
                </a:solidFill>
                <a:latin typeface="Times New Roman"/>
              </a:rPr>
              <a:t>Camiones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eae8e2"/>
                </a:solidFill>
                <a:latin typeface="Times New Roman"/>
              </a:rPr>
              <a:t>19Km 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95680" y="2209680"/>
            <a:ext cx="0" cy="1295640"/>
          </a:xfrm>
          <a:prstGeom prst="line">
            <a:avLst/>
          </a:prstGeom>
          <a:ln w="9360">
            <a:solidFill>
              <a:srgbClr val="eae8e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2438280"/>
            <a:ext cx="1066680" cy="6858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eae8e2"/>
                </a:solidFill>
                <a:latin typeface="Times New Roman"/>
              </a:rPr>
              <a:t>Oleoducto en construcción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eae8e2"/>
                </a:solidFill>
                <a:latin typeface="Times New Roman"/>
              </a:rPr>
              <a:t>La Jarilla-La Escondida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3962520"/>
            <a:ext cx="914400" cy="152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U. LACT 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La Escondida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76520" y="1371600"/>
            <a:ext cx="1143000" cy="2286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eae8e2"/>
                </a:solidFill>
                <a:latin typeface="Times New Roman"/>
              </a:rPr>
              <a:t>Camiones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eae8e2"/>
                </a:solidFill>
                <a:latin typeface="Times New Roman"/>
              </a:rPr>
              <a:t>35Km 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219320" y="1828800"/>
            <a:ext cx="2133360" cy="0"/>
          </a:xfrm>
          <a:prstGeom prst="line">
            <a:avLst/>
          </a:prstGeom>
          <a:ln w="9360">
            <a:solidFill>
              <a:srgbClr val="eae8e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1752480"/>
            <a:ext cx="228600" cy="228600"/>
          </a:xfrm>
          <a:prstGeom prst="flowChartMagneticDisk">
            <a:avLst/>
          </a:prstGeom>
          <a:solidFill>
            <a:srgbClr val="100c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828800"/>
            <a:ext cx="533520" cy="152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eae8e2"/>
                </a:solidFill>
                <a:latin typeface="Times New Roman"/>
              </a:rPr>
              <a:t>160 m</a:t>
            </a:r>
            <a:r>
              <a:rPr b="0" lang="es-AR" sz="1600" spc="-1" strike="noStrike" baseline="30000">
                <a:solidFill>
                  <a:srgbClr val="eae8e2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1600200"/>
            <a:ext cx="914400" cy="152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El Santiagueño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371600" y="1142640"/>
            <a:ext cx="152280" cy="609480"/>
          </a:xfrm>
          <a:prstGeom prst="line">
            <a:avLst/>
          </a:prstGeom>
          <a:ln w="9360">
            <a:solidFill>
              <a:srgbClr val="eae8e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1295280"/>
            <a:ext cx="914400" cy="152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A El Medanito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00600" y="2286000"/>
            <a:ext cx="1143000" cy="152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Entrega por Tanques</a:t>
            </a:r>
            <a:r>
              <a:rPr b="0" lang="es-AR" sz="1800" spc="-1" strike="noStrike">
                <a:solidFill>
                  <a:srgbClr val="eae8e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24280" y="3505320"/>
            <a:ext cx="533520" cy="152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eae8e2"/>
                </a:solidFill>
                <a:latin typeface="Times New Roman"/>
              </a:rPr>
              <a:t>160 m</a:t>
            </a:r>
            <a:r>
              <a:rPr b="0" lang="es-AR" sz="1600" spc="-1" strike="noStrike" baseline="30000">
                <a:solidFill>
                  <a:srgbClr val="eae8e2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71600" y="3352680"/>
            <a:ext cx="14479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b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S BASTOS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76520" y="3505320"/>
            <a:ext cx="228600" cy="152280"/>
          </a:xfrm>
          <a:prstGeom prst="flowChartMagneticDisk">
            <a:avLst/>
          </a:prstGeom>
          <a:solidFill>
            <a:srgbClr val="100c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3429000"/>
            <a:ext cx="228600" cy="228600"/>
          </a:xfrm>
          <a:prstGeom prst="flowChartMagneticDisk">
            <a:avLst/>
          </a:prstGeom>
          <a:solidFill>
            <a:srgbClr val="100c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3124080"/>
            <a:ext cx="533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Times New Roman"/>
              </a:rPr>
              <a:t>80 m</a:t>
            </a:r>
            <a:r>
              <a:rPr b="0" lang="es-AR" sz="16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3124080"/>
            <a:ext cx="533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Times New Roman"/>
              </a:rPr>
              <a:t>160 m</a:t>
            </a:r>
            <a:r>
              <a:rPr b="0" lang="es-AR" sz="16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447920" y="2819160"/>
            <a:ext cx="0" cy="53316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457200" y="2819520"/>
            <a:ext cx="990720" cy="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2819520"/>
            <a:ext cx="0" cy="281916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2743200"/>
            <a:ext cx="152280" cy="152280"/>
          </a:xfrm>
          <a:prstGeom prst="rect">
            <a:avLst/>
          </a:prstGeom>
          <a:solidFill>
            <a:srgbClr val="000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2438280"/>
            <a:ext cx="914400" cy="152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U. LACT 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Aguada Toledo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47920" y="4114800"/>
            <a:ext cx="1066680" cy="6858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eae8e2"/>
                </a:solidFill>
                <a:latin typeface="Times New Roman"/>
              </a:rPr>
              <a:t>Oleoducto Los Bastos-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eae8e2"/>
                </a:solidFill>
                <a:latin typeface="Times New Roman"/>
              </a:rPr>
              <a:t>Aguada Toledo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5029200"/>
            <a:ext cx="457200" cy="22860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4648320"/>
            <a:ext cx="152640" cy="457200"/>
          </a:xfrm>
          <a:prstGeom prst="flowChartMagneticDisk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90720" y="5105520"/>
            <a:ext cx="914400" cy="3045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Planta Tratamiento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YPF-Plaza Huincul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5562720"/>
            <a:ext cx="152280" cy="152280"/>
          </a:xfrm>
          <a:prstGeom prst="rect">
            <a:avLst/>
          </a:prstGeom>
          <a:solidFill>
            <a:srgbClr val="000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5791320"/>
            <a:ext cx="914400" cy="152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Challacó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34320" y="4419720"/>
            <a:ext cx="15238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EBYTEM</a:t>
            </a:r>
            <a:endParaRPr b="0" lang="en-US" sz="20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5715000"/>
            <a:ext cx="1066680" cy="6858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eae8e2"/>
                </a:solidFill>
                <a:latin typeface="Times New Roman"/>
              </a:rPr>
              <a:t>OLDELVAL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233" name="Tecpetrol_Color_RGB" descr=""/>
          <p:cNvPicPr/>
          <p:nvPr/>
        </p:nvPicPr>
        <p:blipFill>
          <a:blip r:embed="rId1"/>
          <a:stretch/>
        </p:blipFill>
        <p:spPr>
          <a:xfrm>
            <a:off x="8001000" y="6324480"/>
            <a:ext cx="99072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dbc03"/>
                </a:solidFill>
                <a:latin typeface="Impact"/>
              </a:rPr>
              <a:t>CUENCA NOROEST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5486400"/>
            <a:ext cx="1752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b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Chango Norte-</a:t>
            </a:r>
            <a:endParaRPr b="0" lang="en-US" sz="20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La Porcelana</a:t>
            </a:r>
            <a:endParaRPr b="0" lang="en-US" sz="20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81080" y="4191120"/>
            <a:ext cx="1295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b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Tranquitas</a:t>
            </a:r>
            <a:endParaRPr b="0" lang="en-US" sz="20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0" y="327672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b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Aguaragüe</a:t>
            </a:r>
            <a:endParaRPr b="0" lang="en-US" sz="20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0" y="266688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b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Lomitas</a:t>
            </a:r>
            <a:endParaRPr b="0" lang="en-US" sz="20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934320" y="1219320"/>
            <a:ext cx="16002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b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Campo Durán</a:t>
            </a:r>
            <a:endParaRPr b="0" lang="en-US" sz="20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76920" y="1828800"/>
            <a:ext cx="1295280" cy="457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b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REFINOR</a:t>
            </a:r>
            <a:endParaRPr b="0" lang="en-US" sz="20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2362320"/>
            <a:ext cx="0" cy="266688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514600" y="5181120"/>
            <a:ext cx="2209680" cy="68580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4419720"/>
            <a:ext cx="1523880" cy="68580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24280" y="4952880"/>
            <a:ext cx="228600" cy="228600"/>
          </a:xfrm>
          <a:prstGeom prst="flowChartMagneticDisk">
            <a:avLst/>
          </a:prstGeom>
          <a:solidFill>
            <a:srgbClr val="100c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95680" y="5334120"/>
            <a:ext cx="914400" cy="152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Planta Balbuena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952880" y="5029200"/>
            <a:ext cx="609840" cy="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57800" y="4952880"/>
            <a:ext cx="152280" cy="152640"/>
          </a:xfrm>
          <a:prstGeom prst="rect">
            <a:avLst/>
          </a:prstGeom>
          <a:solidFill>
            <a:srgbClr val="000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4876920"/>
            <a:ext cx="914400" cy="3045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U. LACT</a:t>
            </a:r>
            <a:r>
              <a:rPr b="0" lang="es-AR" sz="1800" spc="-1" strike="noStrike">
                <a:solidFill>
                  <a:srgbClr val="eae8e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Tranquitas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81280" y="2895480"/>
            <a:ext cx="1981440" cy="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57800" y="2819520"/>
            <a:ext cx="152280" cy="152280"/>
          </a:xfrm>
          <a:prstGeom prst="rect">
            <a:avLst/>
          </a:prstGeom>
          <a:solidFill>
            <a:srgbClr val="000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638680" y="2743200"/>
            <a:ext cx="914400" cy="30492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U. LACT</a:t>
            </a:r>
            <a:r>
              <a:rPr b="0" lang="es-AR" sz="1800" spc="-1" strike="noStrike">
                <a:solidFill>
                  <a:srgbClr val="eae8e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Lomitas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1828800" y="3505320"/>
            <a:ext cx="457200" cy="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1828800" y="2971800"/>
            <a:ext cx="0" cy="53352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28800" y="2971800"/>
            <a:ext cx="457200" cy="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057400" y="3352680"/>
            <a:ext cx="228600" cy="228600"/>
          </a:xfrm>
          <a:prstGeom prst="flowChartMagneticDisk">
            <a:avLst/>
          </a:prstGeom>
          <a:solidFill>
            <a:srgbClr val="100c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438280" y="3809880"/>
            <a:ext cx="914400" cy="152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Entrega por Tanques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96080" y="1752480"/>
            <a:ext cx="0" cy="30492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72200" y="2057400"/>
            <a:ext cx="1523880" cy="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1981080"/>
            <a:ext cx="152280" cy="152640"/>
          </a:xfrm>
          <a:prstGeom prst="rect">
            <a:avLst/>
          </a:prstGeom>
          <a:solidFill>
            <a:srgbClr val="000b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1371600"/>
            <a:ext cx="914400" cy="30492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U. LACT</a:t>
            </a:r>
            <a:r>
              <a:rPr b="0" lang="es-AR" sz="1800" spc="-1" strike="noStrike">
                <a:solidFill>
                  <a:srgbClr val="eae8e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Campo Durán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52680" y="5867280"/>
            <a:ext cx="762120" cy="2286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Oleoducto Chango Norte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62520" y="4267080"/>
            <a:ext cx="761760" cy="2286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Oleoducto Tranquitas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480" y="3048120"/>
            <a:ext cx="762120" cy="2286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Oleoducto Lomitas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238880" y="2209680"/>
            <a:ext cx="762120" cy="2286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Oleoducto Campo Durán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265" name="Tecpetrol_Color_RGB" descr=""/>
          <p:cNvPicPr/>
          <p:nvPr/>
        </p:nvPicPr>
        <p:blipFill>
          <a:blip r:embed="rId1"/>
          <a:stretch/>
        </p:blipFill>
        <p:spPr>
          <a:xfrm>
            <a:off x="8001000" y="6324480"/>
            <a:ext cx="990720" cy="3081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447920" y="6095880"/>
            <a:ext cx="228600" cy="228600"/>
          </a:xfrm>
          <a:prstGeom prst="flowChartMagneticDisk">
            <a:avLst/>
          </a:prstGeom>
          <a:solidFill>
            <a:srgbClr val="100c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76520" y="6172200"/>
            <a:ext cx="838080" cy="152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7100m3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0" y="4648320"/>
            <a:ext cx="228600" cy="228600"/>
          </a:xfrm>
          <a:prstGeom prst="flowChartMagneticDisk">
            <a:avLst/>
          </a:prstGeom>
          <a:solidFill>
            <a:srgbClr val="100c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666880" y="4800600"/>
            <a:ext cx="533520" cy="7632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480m3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47920" y="3657600"/>
            <a:ext cx="533160" cy="7632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320m3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19520" y="2438280"/>
            <a:ext cx="228600" cy="228600"/>
          </a:xfrm>
          <a:prstGeom prst="flowChartMagneticDisk">
            <a:avLst/>
          </a:prstGeom>
          <a:solidFill>
            <a:srgbClr val="100c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133720" y="2438280"/>
            <a:ext cx="533160" cy="7632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800m3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0120" y="990720"/>
            <a:ext cx="228600" cy="228600"/>
          </a:xfrm>
          <a:prstGeom prst="flowChartMagneticDisk">
            <a:avLst/>
          </a:prstGeom>
          <a:solidFill>
            <a:srgbClr val="100c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848720" y="83808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eae8e2"/>
                </a:solidFill>
                <a:latin typeface="Times New Roman"/>
              </a:rPr>
              <a:t>5780m3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dbc03"/>
                </a:solidFill>
                <a:latin typeface="Impact"/>
              </a:rPr>
              <a:t>CUENCA MENDOCINA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6" name=""/>
          <p:cNvSpPr/>
          <p:nvPr/>
        </p:nvSpPr>
        <p:spPr>
          <a:xfrm>
            <a:off x="2895480" y="4876920"/>
            <a:ext cx="21337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b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imes New Roman"/>
              </a:rPr>
              <a:t>ATUEL NORTE</a:t>
            </a: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91120" y="4952880"/>
            <a:ext cx="685800" cy="457200"/>
          </a:xfrm>
          <a:prstGeom prst="flowChartMagneticDisk">
            <a:avLst/>
          </a:prstGeom>
          <a:solidFill>
            <a:srgbClr val="100c00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572000" y="3580920"/>
            <a:ext cx="0" cy="1295640"/>
          </a:xfrm>
          <a:prstGeom prst="line">
            <a:avLst/>
          </a:prstGeom>
          <a:ln w="9360">
            <a:solidFill>
              <a:srgbClr val="eae8e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715000" y="5029200"/>
            <a:ext cx="914400" cy="152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eae8e2"/>
                </a:solidFill>
                <a:latin typeface="Times New Roman"/>
              </a:rPr>
              <a:t>Entrega por Tanques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00400" y="3886200"/>
            <a:ext cx="1143000" cy="2286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eae8e2"/>
                </a:solidFill>
                <a:latin typeface="Times New Roman"/>
              </a:rPr>
              <a:t>Camiones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eae8e2"/>
                </a:solidFill>
                <a:latin typeface="Times New Roman"/>
              </a:rPr>
              <a:t> </a:t>
            </a:r>
            <a:r>
              <a:rPr b="0" lang="es-AR" sz="1800" spc="-1" strike="noStrike">
                <a:solidFill>
                  <a:srgbClr val="eae8e2"/>
                </a:solidFill>
                <a:latin typeface="Times New Roman"/>
              </a:rPr>
              <a:t>60 Km 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114800" y="3352680"/>
            <a:ext cx="1143000" cy="228600"/>
          </a:xfrm>
          <a:prstGeom prst="rect">
            <a:avLst/>
          </a:prstGeom>
          <a:solidFill>
            <a:srgbClr val="5f5f5f"/>
          </a:solidFill>
          <a:ln w="3240">
            <a:solidFill>
              <a:srgbClr val="000b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eae8e2"/>
                </a:solidFill>
                <a:latin typeface="Times New Roman"/>
              </a:rPr>
              <a:t>Malargüe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86200" y="4648320"/>
            <a:ext cx="533520" cy="152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eae8e2"/>
                </a:solidFill>
                <a:latin typeface="Times New Roman"/>
              </a:rPr>
              <a:t>160 m</a:t>
            </a:r>
            <a:r>
              <a:rPr b="0" lang="es-AR" sz="1600" spc="-1" strike="noStrike" baseline="30000">
                <a:solidFill>
                  <a:srgbClr val="eae8e2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4572000" y="2209320"/>
            <a:ext cx="0" cy="1143000"/>
          </a:xfrm>
          <a:prstGeom prst="line">
            <a:avLst/>
          </a:prstGeom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9880" y="1676520"/>
            <a:ext cx="16002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LUJÁN DE 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CUYO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00400" y="2666880"/>
            <a:ext cx="1143000" cy="2286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eae8e2"/>
                </a:solidFill>
                <a:latin typeface="Times New Roman"/>
              </a:rPr>
              <a:t>Oleoducto YPF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286" name="Tecpetrol_Color_RGB" descr=""/>
          <p:cNvPicPr/>
          <p:nvPr/>
        </p:nvPicPr>
        <p:blipFill>
          <a:blip r:embed="rId1"/>
          <a:stretch/>
        </p:blipFill>
        <p:spPr>
          <a:xfrm>
            <a:off x="8001000" y="6324480"/>
            <a:ext cx="99072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dbc03"/>
                </a:solidFill>
                <a:latin typeface="Impact"/>
              </a:rPr>
              <a:t>FICHA TECNICA N° 1:  OLEODUCTOS ZONA SAN JORGE</a:t>
            </a:r>
            <a:endParaRPr b="0" lang="en-US" sz="3000" spc="-1" strike="noStrike">
              <a:solidFill>
                <a:srgbClr val="fdbc03"/>
              </a:solidFill>
              <a:latin typeface="Impact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152280" y="1371600"/>
          <a:ext cx="8915400" cy="4646520"/>
        </p:xfrm>
        <a:graphic>
          <a:graphicData uri="http://schemas.openxmlformats.org/drawingml/2006/table">
            <a:tbl>
              <a:tblPr/>
              <a:tblGrid>
                <a:gridCol w="2090880"/>
                <a:gridCol w="804960"/>
                <a:gridCol w="685800"/>
                <a:gridCol w="838080"/>
                <a:gridCol w="914400"/>
                <a:gridCol w="914400"/>
                <a:gridCol w="1066680"/>
                <a:gridCol w="762120"/>
                <a:gridCol w="838080"/>
              </a:tblGrid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6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Oleoducto</a:t>
                      </a:r>
                      <a:endParaRPr b="0" lang="en-US" sz="26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Long (m)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Ønom  (pulg)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Espesor (mm)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P.Oper (kg/cm2)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P.Adm </a:t>
                      </a:r>
                      <a:r>
                        <a:rPr b="0" lang="en-US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(kg/cm2)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Material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Q Máx (m</a:t>
                      </a:r>
                      <a:r>
                        <a:rPr b="0" lang="es-AR" sz="1700" spc="-1" strike="noStrike" baseline="30000">
                          <a:solidFill>
                            <a:srgbClr val="eae8e2"/>
                          </a:solidFill>
                          <a:latin typeface="Arial Narrow"/>
                        </a:rPr>
                        <a:t>3</a:t>
                      </a: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/h)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Bombas</a:t>
                      </a:r>
                      <a:endParaRPr b="0" lang="en-US" sz="16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El Tordillo-Caleta Córdova</a:t>
                      </a:r>
                      <a:endParaRPr b="0" lang="en-US" sz="22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4500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10´´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7.1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55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75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API 5L X-42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23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3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El Tordillo-El Trébol</a:t>
                      </a:r>
                      <a:endParaRPr b="0" lang="en-US" sz="22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5833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10´´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7.1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25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65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API 5L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ASTM A53 GrB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2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3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La Tapera/Pto Quiroga-El Tordillo</a:t>
                      </a:r>
                      <a:endParaRPr b="0" lang="en-US" sz="22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8025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4´´ 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6.02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3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5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API 5L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ASTM A53 GrB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4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-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J.Segundo- Oleoducto ET-CC</a:t>
                      </a:r>
                      <a:endParaRPr b="0" lang="en-US" sz="22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1877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4´´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6.02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2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65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API 5L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ASTM A53 GrB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2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"/>
          <p:cNvSpPr/>
          <p:nvPr/>
        </p:nvSpPr>
        <p:spPr>
          <a:xfrm>
            <a:off x="0" y="54100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4920" y="548640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eae8e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pic>
        <p:nvPicPr>
          <p:cNvPr id="291" name="Tecpetrol_Color_RGB" descr=""/>
          <p:cNvPicPr/>
          <p:nvPr/>
        </p:nvPicPr>
        <p:blipFill>
          <a:blip r:embed="rId1"/>
          <a:stretch/>
        </p:blipFill>
        <p:spPr>
          <a:xfrm>
            <a:off x="8001000" y="6324480"/>
            <a:ext cx="99072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dbc03"/>
                </a:solidFill>
                <a:latin typeface="Impact"/>
              </a:rPr>
              <a:t>FICHA TECNICA N° 2:  OLEODUCTOS ZONA NOROESTE</a:t>
            </a:r>
            <a:endParaRPr b="0" lang="en-US" sz="3000" spc="-1" strike="noStrike">
              <a:solidFill>
                <a:srgbClr val="fdbc03"/>
              </a:solidFill>
              <a:latin typeface="Impact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52280" y="1143000"/>
          <a:ext cx="8839440" cy="4110120"/>
        </p:xfrm>
        <a:graphic>
          <a:graphicData uri="http://schemas.openxmlformats.org/drawingml/2006/table">
            <a:tbl>
              <a:tblPr/>
              <a:tblGrid>
                <a:gridCol w="1981440"/>
                <a:gridCol w="838080"/>
                <a:gridCol w="914400"/>
                <a:gridCol w="838080"/>
                <a:gridCol w="914400"/>
                <a:gridCol w="914400"/>
                <a:gridCol w="838440"/>
                <a:gridCol w="761760"/>
                <a:gridCol w="838440"/>
              </a:tblGrid>
              <a:tr h="89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6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Oleoducto</a:t>
                      </a:r>
                      <a:endParaRPr b="0" lang="en-US" sz="26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Long (m)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Ønom  (pulg)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Espesor (mm)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P.Oper (kg/cm2)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P.Adm </a:t>
                      </a:r>
                      <a:r>
                        <a:rPr b="0" lang="en-US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(kg/cm2)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Material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Q Máx (m</a:t>
                      </a:r>
                      <a:r>
                        <a:rPr b="0" lang="es-AR" sz="1700" spc="-1" strike="noStrike" baseline="30000">
                          <a:solidFill>
                            <a:srgbClr val="eae8e2"/>
                          </a:solidFill>
                          <a:latin typeface="Arial Narrow"/>
                        </a:rPr>
                        <a:t>3</a:t>
                      </a: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/h)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Bombas</a:t>
                      </a:r>
                      <a:endParaRPr b="0" lang="en-US" sz="17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Chango Norte-Balbuena</a:t>
                      </a:r>
                      <a:endParaRPr b="0" lang="en-US" sz="22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5324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6,625´´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5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5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77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API 5L 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 </a:t>
                      </a: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X-42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45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170HP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170HP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Tranquitas-   Balbuena</a:t>
                      </a:r>
                      <a:endParaRPr b="0" lang="en-US" sz="22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846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4 ½ ´´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6.02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4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75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ASTM A53-53 Gr.A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21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75HP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Lomitas-   Colector Refinor</a:t>
                      </a:r>
                      <a:endParaRPr b="0" lang="en-US" sz="22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4106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4 ½ ´´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6.02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17-23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45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API 5L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 </a:t>
                      </a: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X-42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4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125HP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75HP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Campo Durán- Refinor</a:t>
                      </a:r>
                      <a:endParaRPr b="0" lang="en-US" sz="22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253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4 ½ ´´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6.02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5-11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3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API 5L X-42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4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30HP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30HP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4" name="Tecpetrol_Color_RGB" descr=""/>
          <p:cNvPicPr/>
          <p:nvPr/>
        </p:nvPicPr>
        <p:blipFill>
          <a:blip r:embed="rId1"/>
          <a:stretch/>
        </p:blipFill>
        <p:spPr>
          <a:xfrm>
            <a:off x="8001000" y="6324480"/>
            <a:ext cx="99072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CSJL</cp:lastModifiedBy>
  <dcterms:modified xsi:type="dcterms:W3CDTF">2005-12-20T21:29:35Z</dcterms:modified>
  <cp:revision>76</cp:revision>
  <dc:subject/>
  <dc:title>PowerPoint Presentation</dc:title>
</cp:coreProperties>
</file>