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B90-F434-47BD-957D-EF158F8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2D1-3186-4E1F-9550-5E563013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632-EFF3-44E1-9D7D-FD554253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17A-4E47-4FF0-82AB-166E71F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F3CB-D74F-4A40-BCD8-CEDD0CC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F974-7587-4E03-8499-4D050837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25F4-01C5-4360-95E4-C9BD09B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321-E66B-4B77-AFCE-E032FE8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B01B-5070-4205-A560-499A7A4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30B4-73BD-4779-B2E0-55F43E12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73FA-C15F-4FBE-B45D-C0FCF24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B4A-EDBE-4ED1-B507-ED85369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65F0-B9FE-4A24-AF92-11CEA03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C774-A652-4AE8-BDFA-058852E2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7944-B05A-4723-A3EC-E4B1D29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DEF-07A6-42A5-B5AE-3BEC37A6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4C0-CF8B-4CA5-B3A3-E1F8352E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1D5-C80D-4C6B-ADD7-2826FDD5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308-6AEE-44E2-8CE4-DC1B0E0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C89-2E11-4FF6-8CB5-22DD7A5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D0C-9361-4F14-883F-D74AC626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794-EA00-4EE3-AAF8-0484B6D7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2A8-72FD-4911-9597-BD21F6C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366-4D3B-4823-9A24-9D61A82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000-7038-4A18-B05E-6ED2926220C8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50D-C3C9-4B58-B37F-DD203C274CA5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cpetrol_Color_RGB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362320" y="5335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362320"/>
            <a:ext cx="8305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TRANSPORTE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DE 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HIDROCARBUROS LÍQUIDOS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3:  OLEODUCTOS ZONA NEUQUINA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905120"/>
          <a:ext cx="8839440" cy="2286000"/>
        </p:xfrm>
        <a:graphic>
          <a:graphicData uri="http://schemas.openxmlformats.org/drawingml/2006/table">
            <a:tbl>
              <a:tblPr/>
              <a:tblGrid>
                <a:gridCol w="2090880"/>
                <a:gridCol w="804960"/>
                <a:gridCol w="838080"/>
                <a:gridCol w="838080"/>
                <a:gridCol w="914400"/>
                <a:gridCol w="914400"/>
                <a:gridCol w="838440"/>
                <a:gridCol w="761760"/>
                <a:gridCol w="83844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 Bastos- Aguada Toledo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Jarilla- 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Escondida*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65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Gr 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7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63244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* En construcción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533520"/>
            <a:ext cx="31240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CONTROL 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066680"/>
            <a:ext cx="198144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533520"/>
            <a:ext cx="28958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82880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Monitoreos en PLC con sistema SCADA (Zona Golfo San Jorge, La Jarilla-La Escondid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Scrapper inteligent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Protección catódica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Galvánica (ET-El Trebol, J.Segundo-Interconexión, Pto Quiroga-ET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Corriente impresa (ET-CC, CHN-Balbuena, La Jarilla-La Escondid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Revestimientos (Polietileno tricap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Inspecciones externas, recorridas periódica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03" name="Tecpetrol_Color_RGB" descr=""/>
          <p:cNvPicPr/>
          <p:nvPr/>
        </p:nvPicPr>
        <p:blipFill>
          <a:blip r:embed="rId1"/>
          <a:stretch/>
        </p:blipFill>
        <p:spPr>
          <a:xfrm>
            <a:off x="8153280" y="6400800"/>
            <a:ext cx="990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RELACIÓN OPERATIVA-COMERCIAL:ZONA SAN JORG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1219320"/>
          <a:ext cx="8458200" cy="4230720"/>
        </p:xfrm>
        <a:graphic>
          <a:graphicData uri="http://schemas.openxmlformats.org/drawingml/2006/table">
            <a:tbl>
              <a:tblPr/>
              <a:tblGrid>
                <a:gridCol w="2362320"/>
                <a:gridCol w="304920"/>
                <a:gridCol w="304560"/>
                <a:gridCol w="228600"/>
                <a:gridCol w="762120"/>
                <a:gridCol w="304920"/>
                <a:gridCol w="304560"/>
                <a:gridCol w="304920"/>
                <a:gridCol w="762120"/>
                <a:gridCol w="1371600"/>
                <a:gridCol w="1447560"/>
              </a:tblGrid>
              <a:tr h="1072440">
                <a:tc rowSpan="2">
                  <a:txBody>
                    <a:bodyPr lIns="0" rIns="247680" tIns="304920" bIns="30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R="24768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Tapera-Pto Quirog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José Segundo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ella 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Vist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95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ec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ES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DC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ec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ES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DC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a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Vintage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Caleta Córdova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485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791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El Trébol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ella Vista-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Interconexión ET/CC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25 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1295280" y="167652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eae8e2"/>
                </a:solidFill>
                <a:latin typeface="Arial Narrow"/>
              </a:rPr>
              <a:t>Áre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25909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eae8e2"/>
                </a:solidFill>
                <a:latin typeface="Arial Narrow"/>
              </a:rPr>
              <a:t>Oleoduct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08" name="Tecpetrol_Color_RGB" descr=""/>
          <p:cNvPicPr/>
          <p:nvPr/>
        </p:nvPicPr>
        <p:blipFill>
          <a:blip r:embed="rId1"/>
          <a:stretch/>
        </p:blipFill>
        <p:spPr>
          <a:xfrm>
            <a:off x="8001000" y="6400800"/>
            <a:ext cx="990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RELACIÓN OPERATIVA-COMERCIAL: ZONA NEUQUINA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14400" y="1371600"/>
          <a:ext cx="7315200" cy="3838680"/>
        </p:xfrm>
        <a:graphic>
          <a:graphicData uri="http://schemas.openxmlformats.org/drawingml/2006/table">
            <a:tbl>
              <a:tblPr/>
              <a:tblGrid>
                <a:gridCol w="1066680"/>
                <a:gridCol w="2087640"/>
                <a:gridCol w="2084400"/>
                <a:gridCol w="2076480"/>
              </a:tblGrid>
              <a:tr h="1135440">
                <a:tc gridSpan="2">
                  <a:txBody>
                    <a:bodyPr lIns="0" rIns="247680" tIns="304920" bIns="30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R="24768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ua Salada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 Bastos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34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delval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Escondida-   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to Rosales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474 U$S/m3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alida Challacó- Pto Rosales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552 U$S/m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uada Toledo- Salida Challacó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.50% Transporte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.20% Tratamiento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7% Merma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514600" y="144792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eae8e2"/>
                </a:solidFill>
                <a:latin typeface="Arial Narrow"/>
              </a:rPr>
              <a:t>Áre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9051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eae8e2"/>
                </a:solidFill>
                <a:latin typeface="Arial Narrow"/>
              </a:rPr>
              <a:t>Oleoduct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1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8e2"/>
                </a:solidFill>
                <a:latin typeface="Arial Narrow"/>
              </a:rPr>
              <a:t>Esquema de las áre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Golfo San Jorg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Neuquina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Noroest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chas técnicas de los oleoduct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cciones de control y mantenimient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laciones operativo-comerci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SAN JORG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4724280"/>
            <a:ext cx="2133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L TORDILL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16765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Caleta Córdov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9548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JOSÉ SEGUND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286000"/>
            <a:ext cx="243864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l Tordillo-Caleta Córdov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286000"/>
            <a:ext cx="228600" cy="22860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124080"/>
            <a:ext cx="1143000" cy="38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Trébol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59436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LA TAPERA- 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PTO QUIROG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133720" y="3809880"/>
            <a:ext cx="304560" cy="9144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91120" y="2209320"/>
            <a:ext cx="1904760" cy="25146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862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8862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533412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59092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1240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Vintag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90760" y="3429000"/>
            <a:ext cx="609480" cy="4572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581280"/>
            <a:ext cx="228600" cy="22860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98108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49568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657600"/>
            <a:ext cx="190512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José Segund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562720" y="2895120"/>
            <a:ext cx="838080" cy="38124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95680"/>
            <a:ext cx="190512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l Tordillo-El Trébol: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44956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1240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3341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1371240"/>
            <a:ext cx="380880" cy="3049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3" name="TN00333_" descr=""/>
          <p:cNvPicPr/>
          <p:nvPr/>
        </p:nvPicPr>
        <p:blipFill>
          <a:blip r:embed="rId1"/>
          <a:stretch/>
        </p:blipFill>
        <p:spPr>
          <a:xfrm>
            <a:off x="7391520" y="762120"/>
            <a:ext cx="554040" cy="768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3809880"/>
            <a:ext cx="144756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Vintag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4864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a Taper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6" name="Tecpetrol_Color_RGB" descr=""/>
          <p:cNvPicPr/>
          <p:nvPr/>
        </p:nvPicPr>
        <p:blipFill>
          <a:blip r:embed="rId2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dbc03"/>
                </a:solidFill>
                <a:latin typeface="Impact"/>
              </a:rPr>
              <a:t>DETALLE: EL TORDILLO Y JOSE SEGUNDO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371600"/>
            <a:ext cx="29718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L TORDILL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286000"/>
            <a:ext cx="38124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228600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28600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5238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1752480"/>
            <a:ext cx="11430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.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iento 1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7524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. 2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81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114300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Baterías El Tordillo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133720"/>
            <a:ext cx="1143000" cy="759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La Tapera-Puesto Quirorga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2590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676520" y="2742840"/>
            <a:ext cx="914400" cy="1522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62720" y="2133720"/>
            <a:ext cx="2590560" cy="76176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9718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U. LACT El Trébol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25146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U. LACT 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4343400"/>
            <a:ext cx="2514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SE SEGUND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5257800"/>
            <a:ext cx="381240" cy="30492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10552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495680"/>
            <a:ext cx="11430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.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iento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5720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800600"/>
            <a:ext cx="114300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Baterías José Segundo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410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5410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867280"/>
            <a:ext cx="9144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Bomba Despach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51814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Oleoducto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El Tordillo – 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5638680"/>
            <a:ext cx="266688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029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6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48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286000"/>
            <a:ext cx="38088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28954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6765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Oleoducto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El Tordillo – 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6668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Bomba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7432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Bomba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87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146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NEUQUIN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29528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GUA SALAD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14479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371600"/>
            <a:ext cx="45720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990720"/>
            <a:ext cx="533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990720"/>
            <a:ext cx="533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50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220968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505320"/>
            <a:ext cx="30492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9625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114800"/>
            <a:ext cx="0" cy="1523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5638680"/>
            <a:ext cx="723888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696080" y="4952520"/>
            <a:ext cx="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146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19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243828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eoducto en construcció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La Jarilla-La Escondid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39625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a Escondid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13716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35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219320" y="1828800"/>
            <a:ext cx="2133360" cy="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7524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82880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6002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l Santiagueñ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71600" y="1142640"/>
            <a:ext cx="152280" cy="6094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2952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A El Medanit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28600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350532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3526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 BASTO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505320"/>
            <a:ext cx="228600" cy="1522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42900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124080"/>
            <a:ext cx="53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8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53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7920" y="2819160"/>
            <a:ext cx="0" cy="53316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57200" y="2819520"/>
            <a:ext cx="99072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819520"/>
            <a:ext cx="0" cy="281916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74320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4382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Aguada Toled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11480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eoducto Los Bastos-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Aguada Toled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029200"/>
            <a:ext cx="457200" cy="22860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648320"/>
            <a:ext cx="152640" cy="457200"/>
          </a:xfrm>
          <a:prstGeom prst="flowChartMagneticDisk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5105520"/>
            <a:ext cx="914400" cy="304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Planta Tratamient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YPF-Plaza Huincul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55627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57913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Challacó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4419720"/>
            <a:ext cx="1523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BYTEM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71500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DELVAL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NOROE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5486400"/>
            <a:ext cx="1752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hango Norte-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a Porcelana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419112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Tranquitas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32767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guaragü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2666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omitas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12193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ampo Durán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1828800"/>
            <a:ext cx="12952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FINOR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362320"/>
            <a:ext cx="0" cy="2666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14600" y="5181120"/>
            <a:ext cx="220968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419720"/>
            <a:ext cx="152388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49528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3341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Planta Balbuen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4952880"/>
            <a:ext cx="152280" cy="15264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876920"/>
            <a:ext cx="914400" cy="304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Tranqu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2895480"/>
            <a:ext cx="198144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28195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27432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om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828800" y="3505320"/>
            <a:ext cx="4572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28800" y="2971800"/>
            <a:ext cx="0" cy="5335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971800"/>
            <a:ext cx="4572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33526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098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1752480"/>
            <a:ext cx="0" cy="3049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2057400"/>
            <a:ext cx="152388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1981080"/>
            <a:ext cx="152280" cy="15264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3716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Campo Durá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586728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Chango Nort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4267080"/>
            <a:ext cx="76176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Tranqu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304812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Lom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220968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Campo Durá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65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447920" y="60958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6172200"/>
            <a:ext cx="83808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710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6483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4800600"/>
            <a:ext cx="53352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48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657600"/>
            <a:ext cx="53316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32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4382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2438280"/>
            <a:ext cx="53316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80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9907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838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578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MENDOCIN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487692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ATUEL NORTE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952880"/>
            <a:ext cx="68580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0" y="358092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50292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8862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60 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3352680"/>
            <a:ext cx="1143000" cy="228600"/>
          </a:xfrm>
          <a:prstGeom prst="rect">
            <a:avLst/>
          </a:prstGeom>
          <a:solidFill>
            <a:srgbClr val="5f5f5f"/>
          </a:solidFill>
          <a:ln w="324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Malargüe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464832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72000" y="2209320"/>
            <a:ext cx="0" cy="11430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16765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UJÁN DE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UY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66688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YPF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86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1:  OLEODUCTOS ZONA SAN JORG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52280" y="1371600"/>
          <a:ext cx="8915400" cy="4646520"/>
        </p:xfrm>
        <a:graphic>
          <a:graphicData uri="http://schemas.openxmlformats.org/drawingml/2006/table">
            <a:tbl>
              <a:tblPr/>
              <a:tblGrid>
                <a:gridCol w="2090880"/>
                <a:gridCol w="804960"/>
                <a:gridCol w="685800"/>
                <a:gridCol w="838080"/>
                <a:gridCol w="914400"/>
                <a:gridCol w="914400"/>
                <a:gridCol w="1066680"/>
                <a:gridCol w="762120"/>
                <a:gridCol w="83808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Caleta Córdov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0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.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El Trébol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83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0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.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Tapera/Pto Quiroga-El Tordillo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80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J.Segundo- Oleoducto ET-CC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87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0" y="5410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54864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91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2:  OLEODUCTOS ZONA NOROEST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2280" y="1143000"/>
          <a:ext cx="8839440" cy="4110120"/>
        </p:xfrm>
        <a:graphic>
          <a:graphicData uri="http://schemas.openxmlformats.org/drawingml/2006/table">
            <a:tbl>
              <a:tblPr/>
              <a:tblGrid>
                <a:gridCol w="1981440"/>
                <a:gridCol w="838080"/>
                <a:gridCol w="914400"/>
                <a:gridCol w="838080"/>
                <a:gridCol w="914400"/>
                <a:gridCol w="914400"/>
                <a:gridCol w="838440"/>
                <a:gridCol w="761760"/>
                <a:gridCol w="838440"/>
              </a:tblGrid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hango Norte-Balbuen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32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,625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ranquitas-   Balbuen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846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-53 Gr.A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mitas-   Colector Refinor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10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-2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2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ampo Durán- Refinor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5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-1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4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SJL</cp:lastModifiedBy>
  <dcterms:modified xsi:type="dcterms:W3CDTF">2005-12-20T21:29:35Z</dcterms:modified>
  <cp:revision>76</cp:revision>
  <dc:subject/>
  <dc:title>PowerPoint Presentation</dc:title>
</cp:coreProperties>
</file>