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816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268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364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816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268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428760"/>
            <a:ext cx="8512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816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268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364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816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268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428760"/>
            <a:ext cx="8512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1" marL="673200" indent="-190440">
              <a:lnSpc>
                <a:spcPct val="120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2" marL="1127160" indent="-190440">
              <a:lnSpc>
                <a:spcPct val="120000"/>
              </a:lnSpc>
              <a:buClr>
                <a:srgbClr val="fa38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3" marL="1617840" indent="-182880">
              <a:lnSpc>
                <a:spcPct val="120000"/>
              </a:lnSpc>
              <a:buClr>
                <a:srgbClr val="fa380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4" marL="2100240" indent="-195120">
              <a:lnSpc>
                <a:spcPct val="120000"/>
              </a:lnSpc>
              <a:buClr>
                <a:srgbClr val="fa380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5" marL="2100240" indent="-19512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6" marL="2100240" indent="-19512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3120" y="5778360"/>
            <a:ext cx="74952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4200" y="6494040"/>
            <a:ext cx="17528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7377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73771"/>
                </a:solidFill>
                <a:latin typeface="Arial"/>
              </a:rPr>
              <a:t>Diciembre</a:t>
            </a:r>
            <a:r>
              <a:rPr b="0" lang="fr-FR" sz="1200" spc="-1" strike="noStrike">
                <a:solidFill>
                  <a:srgbClr val="073771"/>
                </a:solidFill>
                <a:latin typeface="Arial"/>
              </a:rPr>
              <a:t>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73720"/>
            <a:ext cx="8051760" cy="0"/>
          </a:xfrm>
          <a:prstGeom prst="line">
            <a:avLst/>
          </a:prstGeom>
          <a:ln w="19080">
            <a:solidFill>
              <a:srgbClr val="fa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0" rIns="576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386240" y="6405840"/>
            <a:ext cx="41436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D21-219A-4B09-AB0B-8D10673AA7FF}" type="slidenum">
              <a:rPr b="0" lang="en-US" sz="1200" spc="-1" strike="noStrike">
                <a:solidFill>
                  <a:srgbClr val="07377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4560" y="6288120"/>
            <a:ext cx="521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200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"/>
              </a:rPr>
              <a:t>Total Aus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68600" y="685800"/>
            <a:ext cx="2205000" cy="275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733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4c85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  <a:p>
            <a:pPr lvl="1" marL="457200" indent="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2" marL="914400" indent="22320" algn="ctr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73771"/>
              </a:solidFill>
              <a:latin typeface="Arial"/>
            </a:endParaRPr>
          </a:p>
          <a:p>
            <a:pPr lvl="3" marL="1371600" indent="63360" algn="ctr">
              <a:lnSpc>
                <a:spcPts val="2398"/>
              </a:lnSpc>
              <a:spcBef>
                <a:spcPts val="400"/>
              </a:spcBef>
              <a:buClr>
                <a:srgbClr val="fa3805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4" marL="1828800" indent="76320" algn="ctr">
              <a:lnSpc>
                <a:spcPts val="2398"/>
              </a:lnSpc>
              <a:spcBef>
                <a:spcPts val="400"/>
              </a:spcBef>
              <a:buClr>
                <a:srgbClr val="fa3805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5" marL="1828800" indent="7632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6" marL="1828800" indent="7632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1148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Transporte de Hidrocarburos Líquidos</a:t>
            </a:r>
            <a:br>
              <a:rPr sz="24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 y</a:t>
            </a:r>
            <a:br>
              <a:rPr sz="24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 Gasoductos de Captación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73771"/>
                </a:solidFill>
                <a:latin typeface="Arial"/>
              </a:rPr>
              <a:t>Reunión de Trabajo 21/12/05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4419720"/>
            <a:ext cx="21337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057400"/>
            <a:ext cx="9144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1145880"/>
            <a:ext cx="8512200" cy="18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- San Roque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- Aguada Pichan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a3805"/>
                </a:solidFill>
                <a:latin typeface="Symbol"/>
                <a:ea typeface="Symbol"/>
              </a:rPr>
              <a:t></a:t>
            </a:r>
            <a:r>
              <a:rPr b="1" lang="es-MX" sz="2400" spc="-1" strike="noStrike">
                <a:solidFill>
                  <a:srgbClr val="fa3805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Loma La Lat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88714-DB7B-4602-9F8B-82FD5B368C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San Roque y Aguada Pichan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5B2A-4169-4AA0-9A41-F26419798B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389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B4AF5-2EEE-4BEB-8A60-01F5598D3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38098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34499-049D-4CE8-A0F3-74236521E6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TEMAS A DESARROLLAR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Análisis de Riesgo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lasificación de los pipelin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 para líneas On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 para líneas Off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PR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611B1-66CB-428B-94CC-D2984CE21D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560" y="428760"/>
            <a:ext cx="851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737560" cy="1752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SE REALIZA UNA IDENTIFICACIÓN DE MODOS DE FALLA PREDOMINANTES Y SE EVALUAN LOS RIESGOS ASOCIADOS A CADA LÍNEA</a:t>
            </a:r>
            <a:endParaRPr b="1" lang="en-US" sz="18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DE ACUERDO CON LA EVALUACIÓN DE RIESGOS SE DISEÑA UN PLAN DE INSPECCIÓN PARA CADA LÍNEA</a:t>
            </a:r>
            <a:endParaRPr b="1" lang="en-US" sz="1800" spc="-1" strike="noStrike">
              <a:solidFill>
                <a:srgbClr val="073771"/>
              </a:solidFill>
              <a:latin typeface="Arial"/>
            </a:endParaRPr>
          </a:p>
          <a:p>
            <a:pPr lvl="4" marL="210024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200400"/>
            <a:ext cx="434340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CLASIFICACIÓN DE LAS LÍ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84480" y="4064040"/>
            <a:ext cx="167616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ON S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038480"/>
            <a:ext cx="198108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OFF S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5105520"/>
            <a:ext cx="2362320" cy="677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Líneas Reguladas EN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5105520"/>
            <a:ext cx="2133360" cy="96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Líneas Principales no regu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105520"/>
            <a:ext cx="167616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Flow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408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35812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536480" y="4470480"/>
            <a:ext cx="144756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9960" y="4419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41972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AC11B-7F39-44A7-8C1C-44013907B095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909280" cy="54100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3805"/>
                </a:solidFill>
                <a:latin typeface="Arial"/>
              </a:rPr>
              <a:t>Líneas ON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os modos de falla principales son Corrosión Externa e Interna y en menor medida daños por terceros (líneas dentro de yacimiento no hay actividad industrial ni agrícola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Externa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Cada línea cuenta con un sistema de protección catódica que se monitorea periódicamente (dos tomas anuales de potenciales en mojones kilométricos) y estudios CIS/DCVG en zonas donde es requerido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Elaborado con la asistencia de especialistas de casa Matríz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Corrección de desvíos (disminución de espesor, fallas en revestimiento, etc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Interna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determina la agresividad del producto transportado y se diseña el tratamiento químico apropiado (inhibidores + biocidas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Monitoreo de efectividad mediante cupones, probetas electrorresistivas e incursiones en campo en zonas de probable desarrollo (monitoreo c/Ultrasonidos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idem CE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47731-09E0-4D6D-BD46-93486F3078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737560" cy="53337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as líneas reguladas por ENARGAS siguen los requerimientos de NAG 100 además de la evaluación de riesgos a las que están sujetas (se toma la posición más conservadora)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as flowlines no poseen un plan de intelligent pig y en casos especiales se realizan Pruebas Hidráulicas o puede analizarse una inspección con MFL utilizando herramientas que no requieren trampas de lanzamiento y recepción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3805"/>
                </a:solidFill>
                <a:latin typeface="Arial"/>
              </a:rPr>
              <a:t>Líneas OFF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Además de Corrosión Externa e Interna se agrega el riesgo asociado a las actividades marítimas y erosión del lecho marino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Exter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imilar al caso On Shore, cada línea cuenta con un sistema de protección catódica cuyo monitoreo completo (CIS) se realiza cada 5 años y se realizan tomas de potenciales en zonas accesibles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Elaborado con la asistencia de especialistas de casa Matríz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Inspeccion visual en Risers y toma de potenciales mediante ROV o buzos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F1662-F87E-4A47-9BC3-F4F1502937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832960" cy="50292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Inter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Al igual que en el caso On Shore, se diseña el tratamiento con aditivos en relación a la agresividad del fluído transportado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monitorea la efectividad mediante el uso de cupones y probetas electrorresistivas, a su vez se realizan actividades de inspección con ultrasonidos en risers y zonas accesibles (PLEM)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Pigging (idem CE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años por Terceros y erosion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realiza una inspección de la traza de las Sealines con Side Scan Sonar a los fines de determinar la existencia de objetos contundentes que pudieran desprenderse de navíos que operen en la zona y que hubieren dañado la cañería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Esta inspección permite monitorear la existencia de posibles Free Span y zonas con cañería destapada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De acuerdo con la información obtenida se inspecciona la zona con buzos o ROV y de ser necesario se realiza la remediación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8F440-A42A-4B8C-AA0F-36276CDCE8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37560" cy="46483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PR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(Emergency Pipeline Repair System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TOTAL AUSTRAL cuenta con un Plan de reparación de emergencia para sus líneas Off Shore que entre otras cosas involucra: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Una organización para la respuesta ante la emergencia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Recursos necesarios (Embarcación, buzos, ROV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tock mínimo de reparación (conectores mecánicos, clamps, etc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rocedimientos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Este Plan contempla la reparación de la cañería por detección de zonas cuya integridad se encuentre amenazada (pérdidas de espesor, golpes, abolladuras) o bien por daños asociados con pérdida de  producto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F7431-9B13-4E7A-9A35-89778BDC27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0C216-CD8F-4C6B-970C-E73E12ACB4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6F365-3CFC-4F4C-BF1A-112E37D594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560" y="428760"/>
            <a:ext cx="851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GESTIÓN AMBIENTAL DE SISTEMAS DE FLOW-LINES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469880"/>
            <a:ext cx="8737560" cy="43214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073771"/>
                </a:solidFill>
                <a:uFillTx/>
                <a:latin typeface="Arial"/>
              </a:rPr>
              <a:t>Acciones preventivas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Protección de ducto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nterrado de ductos (0.8 m)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Ruteo establecido por: 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IA del pozo (en </a:t>
            </a: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on-shore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) y 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IA específico (</a:t>
            </a: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off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-shore)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Inspecciones periódica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MAOT anual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Mapas de sensibilidad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EF99-E193-4950-BD3D-AC787691DC07}" type="datetime1">
              <a:rPr lang="en-US"/>
              <a:t>07/31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GESTIÓN AMBIENTAL DE SISTEMAS DE FLOW-LINES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73771"/>
                </a:solidFill>
                <a:uFillTx/>
                <a:latin typeface="Arial"/>
              </a:rPr>
              <a:t>Acciones correctivas: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Planes de contingencia on/off-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cenarios más probables para cada entorno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Tratamiento experimental de tierras empetrolada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4A3F1-E45C-4BA2-9117-FE73C6465A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6320"/>
            <a:ext cx="6705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44880" y="0"/>
            <a:ext cx="5199120" cy="687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2520" y="4648320"/>
            <a:ext cx="7617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962520" y="1142640"/>
            <a:ext cx="6858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28600"/>
            <a:ext cx="396252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lanta Cañadón-Al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Tratamiento de 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Planta TEF  (Extracción de LPG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Plantas LTS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396252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lanta Río Cull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Tratamiento, Almacenamiento y Boya de Carg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Separación y Trat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Trenes de Inyección de Agu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Compresores de Gas Li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Compresores (gas a C. Alf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43A93-97B8-4355-A714-CBBDC02E5E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22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-36360" y="27000"/>
            <a:ext cx="4932360" cy="6858000"/>
            <a:chOff x="-36360" y="27000"/>
            <a:chExt cx="4932360" cy="685800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-36360" y="27000"/>
              <a:ext cx="493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294560" y="6356520"/>
              <a:ext cx="20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RIO CU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03280" y="1557360"/>
            <a:ext cx="1152720" cy="719280"/>
            <a:chOff x="1403280" y="1557360"/>
            <a:chExt cx="1152720" cy="719280"/>
          </a:xfrm>
        </p:grpSpPr>
        <p:grpSp>
          <p:nvGrpSpPr>
            <p:cNvPr id="101" name=""/>
            <p:cNvGrpSpPr/>
            <p:nvPr/>
          </p:nvGrpSpPr>
          <p:grpSpPr>
            <a:xfrm>
              <a:off x="1403280" y="1557360"/>
              <a:ext cx="792360" cy="360360"/>
              <a:chOff x="1403280" y="1557360"/>
              <a:chExt cx="792360" cy="36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1403280" y="1557360"/>
                <a:ext cx="720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74920" y="1589400"/>
                <a:ext cx="72072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Hot O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403280" y="1916280"/>
              <a:ext cx="792360" cy="360360"/>
              <a:chOff x="1403280" y="1916280"/>
              <a:chExt cx="792360" cy="360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403280" y="1916280"/>
                <a:ext cx="720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74920" y="1948320"/>
                <a:ext cx="72072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M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24000" y="1557360"/>
              <a:ext cx="432000" cy="718920"/>
              <a:chOff x="2124000" y="1557360"/>
              <a:chExt cx="432000" cy="718920"/>
            </a:xfrm>
          </p:grpSpPr>
          <p:sp>
            <p:nvSpPr>
              <p:cNvPr id="108" name=""/>
              <p:cNvSpPr/>
              <p:nvPr/>
            </p:nvSpPr>
            <p:spPr>
              <a:xfrm>
                <a:off x="2124000" y="1557360"/>
                <a:ext cx="43200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24000" y="1639800"/>
                <a:ext cx="4320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Stab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908000" y="2133720"/>
              <a:ext cx="360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1628640"/>
              <a:ext cx="360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19280" y="2852640"/>
            <a:ext cx="1512720" cy="2881440"/>
          </a:xfrm>
          <a:prstGeom prst="rect">
            <a:avLst/>
          </a:prstGeom>
          <a:noFill/>
          <a:ln w="38160">
            <a:solidFill>
              <a:srgbClr val="3366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68360" y="757080"/>
            <a:ext cx="2508120" cy="655560"/>
            <a:chOff x="2268360" y="757080"/>
            <a:chExt cx="2508120" cy="655560"/>
          </a:xfrm>
        </p:grpSpPr>
        <p:sp>
          <p:nvSpPr>
            <p:cNvPr id="114" name=""/>
            <p:cNvSpPr/>
            <p:nvPr/>
          </p:nvSpPr>
          <p:spPr>
            <a:xfrm>
              <a:off x="2268360" y="757080"/>
              <a:ext cx="2508120" cy="655560"/>
            </a:xfrm>
            <a:custGeom>
              <a:avLst/>
              <a:gdLst/>
              <a:ahLst/>
              <a:rect l="l" t="t" r="r" b="b"/>
              <a:pathLst>
                <a:path w="1308" h="362">
                  <a:moveTo>
                    <a:pt x="1259" y="0"/>
                  </a:moveTo>
                  <a:cubicBezTo>
                    <a:pt x="1270" y="11"/>
                    <a:pt x="1285" y="19"/>
                    <a:pt x="1292" y="33"/>
                  </a:cubicBezTo>
                  <a:cubicBezTo>
                    <a:pt x="1300" y="49"/>
                    <a:pt x="1308" y="83"/>
                    <a:pt x="1308" y="83"/>
                  </a:cubicBezTo>
                  <a:cubicBezTo>
                    <a:pt x="1288" y="144"/>
                    <a:pt x="1138" y="158"/>
                    <a:pt x="1078" y="173"/>
                  </a:cubicBezTo>
                  <a:cubicBezTo>
                    <a:pt x="974" y="198"/>
                    <a:pt x="871" y="214"/>
                    <a:pt x="765" y="231"/>
                  </a:cubicBezTo>
                  <a:cubicBezTo>
                    <a:pt x="644" y="250"/>
                    <a:pt x="525" y="284"/>
                    <a:pt x="403" y="296"/>
                  </a:cubicBezTo>
                  <a:cubicBezTo>
                    <a:pt x="297" y="319"/>
                    <a:pt x="190" y="331"/>
                    <a:pt x="82" y="346"/>
                  </a:cubicBezTo>
                  <a:cubicBezTo>
                    <a:pt x="60" y="349"/>
                    <a:pt x="24" y="362"/>
                    <a:pt x="0" y="362"/>
                  </a:cubicBezTo>
                </a:path>
              </a:pathLst>
            </a:custGeom>
            <a:noFill/>
            <a:ln w="255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9880" y="1024920"/>
              <a:ext cx="220320" cy="17928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15" y="0"/>
                  </a:moveTo>
                  <a:cubicBezTo>
                    <a:pt x="105" y="40"/>
                    <a:pt x="114" y="53"/>
                    <a:pt x="74" y="66"/>
                  </a:cubicBezTo>
                  <a:cubicBezTo>
                    <a:pt x="54" y="87"/>
                    <a:pt x="31" y="99"/>
                    <a:pt x="0" y="99"/>
                  </a:cubicBezTo>
                </a:path>
              </a:pathLst>
            </a:custGeom>
            <a:noFill/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55640" y="1413000"/>
            <a:ext cx="1368360" cy="1584360"/>
          </a:xfrm>
          <a:custGeom>
            <a:avLst/>
            <a:gdLst/>
            <a:ahLst/>
            <a:rect l="l" t="t" r="r" b="b"/>
            <a:pathLst>
              <a:path w="1225" h="2540">
                <a:moveTo>
                  <a:pt x="1225" y="0"/>
                </a:moveTo>
                <a:lnTo>
                  <a:pt x="1225" y="90"/>
                </a:lnTo>
                <a:lnTo>
                  <a:pt x="363" y="90"/>
                </a:lnTo>
                <a:lnTo>
                  <a:pt x="0" y="2540"/>
                </a:lnTo>
                <a:lnTo>
                  <a:pt x="1225" y="2494"/>
                </a:lnTo>
              </a:path>
            </a:pathLst>
          </a:custGeom>
          <a:noFill/>
          <a:ln w="25560">
            <a:solidFill>
              <a:srgbClr val="003366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51280" y="404640"/>
            <a:ext cx="936360" cy="610920"/>
            <a:chOff x="3851280" y="404640"/>
            <a:chExt cx="936360" cy="610920"/>
          </a:xfrm>
        </p:grpSpPr>
        <p:grpSp>
          <p:nvGrpSpPr>
            <p:cNvPr id="118" name=""/>
            <p:cNvGrpSpPr/>
            <p:nvPr/>
          </p:nvGrpSpPr>
          <p:grpSpPr>
            <a:xfrm>
              <a:off x="3851280" y="620640"/>
              <a:ext cx="215640" cy="394920"/>
              <a:chOff x="3851280" y="620640"/>
              <a:chExt cx="215640" cy="39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3893040" y="659520"/>
                <a:ext cx="17280" cy="291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42"/>
                    </a:moveTo>
                    <a:lnTo>
                      <a:pt x="21" y="27"/>
                    </a:lnTo>
                    <a:lnTo>
                      <a:pt x="15" y="0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89800" y="6580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" y="43"/>
                    </a:moveTo>
                    <a:lnTo>
                      <a:pt x="0" y="43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25" y="29"/>
                    </a:lnTo>
                    <a:lnTo>
                      <a:pt x="26" y="29"/>
                    </a:lnTo>
                    <a:lnTo>
                      <a:pt x="26" y="27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2" y="43"/>
                    </a:lnTo>
                    <a:lnTo>
                      <a:pt x="6" y="44"/>
                    </a:lnTo>
                    <a:lnTo>
                      <a:pt x="20" y="2"/>
                    </a:lnTo>
                    <a:lnTo>
                      <a:pt x="15" y="2"/>
                    </a:lnTo>
                    <a:lnTo>
                      <a:pt x="22" y="29"/>
                    </a:lnTo>
                    <a:lnTo>
                      <a:pt x="22" y="26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2" y="43"/>
                    </a:lnTo>
                    <a:lnTo>
                      <a:pt x="2" y="4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08880" y="669240"/>
                <a:ext cx="19440" cy="33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9"/>
                    </a:moveTo>
                    <a:lnTo>
                      <a:pt x="24" y="29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07440" y="667440"/>
                <a:ext cx="22680" cy="3744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0" y="50"/>
                    </a:moveTo>
                    <a:lnTo>
                      <a:pt x="0" y="53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0" y="50"/>
                    </a:lnTo>
                    <a:lnTo>
                      <a:pt x="4" y="51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89800" y="6580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3" y="41"/>
                    </a:moveTo>
                    <a:lnTo>
                      <a:pt x="3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7"/>
                    </a:lnTo>
                    <a:lnTo>
                      <a:pt x="50" y="46"/>
                    </a:lnTo>
                    <a:lnTo>
                      <a:pt x="49" y="46"/>
                    </a:lnTo>
                    <a:lnTo>
                      <a:pt x="49" y="45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45" y="48"/>
                    </a:lnTo>
                    <a:lnTo>
                      <a:pt x="48" y="44"/>
                    </a:lnTo>
                    <a:lnTo>
                      <a:pt x="3" y="41"/>
                    </a:lnTo>
                    <a:lnTo>
                      <a:pt x="3" y="4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93040" y="685440"/>
                <a:ext cx="40320" cy="352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46"/>
                    </a:moveTo>
                    <a:lnTo>
                      <a:pt x="0" y="49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16080" y="711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2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5" y="11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1560" y="691560"/>
                <a:ext cx="5400" cy="291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4" y="2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39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520" y="6915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27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7520" y="70956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8760" y="6854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5960" y="69012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3" y="2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3" y="39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3720" y="6886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6" y="2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31560" y="6915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3720" y="7077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45960" y="7063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51280" y="931680"/>
                <a:ext cx="215640" cy="83880"/>
              </a:xfrm>
              <a:custGeom>
                <a:avLst/>
                <a:gdLst/>
                <a:ahLst/>
                <a:rect l="l" t="t" r="r" b="b"/>
                <a:pathLst>
                  <a:path w="276" h="121">
                    <a:moveTo>
                      <a:pt x="35" y="76"/>
                    </a:moveTo>
                    <a:lnTo>
                      <a:pt x="0" y="120"/>
                    </a:lnTo>
                    <a:lnTo>
                      <a:pt x="172" y="120"/>
                    </a:lnTo>
                    <a:lnTo>
                      <a:pt x="275" y="22"/>
                    </a:lnTo>
                    <a:lnTo>
                      <a:pt x="242" y="0"/>
                    </a:lnTo>
                    <a:lnTo>
                      <a:pt x="242" y="22"/>
                    </a:lnTo>
                    <a:lnTo>
                      <a:pt x="155" y="99"/>
                    </a:lnTo>
                    <a:lnTo>
                      <a:pt x="35" y="99"/>
                    </a:lnTo>
                    <a:lnTo>
                      <a:pt x="35" y="76"/>
                    </a:lnTo>
                    <a:lnTo>
                      <a:pt x="35" y="7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93040" y="72936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75" y="0"/>
                    </a:moveTo>
                    <a:lnTo>
                      <a:pt x="0" y="76"/>
                    </a:lnTo>
                    <a:lnTo>
                      <a:pt x="90" y="76"/>
                    </a:lnTo>
                    <a:lnTo>
                      <a:pt x="164" y="0"/>
                    </a:ln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9800" y="792360"/>
                <a:ext cx="138600" cy="55080"/>
              </a:xfrm>
              <a:custGeom>
                <a:avLst/>
                <a:gdLst/>
                <a:ahLst/>
                <a:rect l="l" t="t" r="r" b="b"/>
                <a:pathLst>
                  <a:path w="176" h="80">
                    <a:moveTo>
                      <a:pt x="77" y="0"/>
                    </a:moveTo>
                    <a:lnTo>
                      <a:pt x="0" y="79"/>
                    </a:lnTo>
                    <a:lnTo>
                      <a:pt x="98" y="79"/>
                    </a:lnTo>
                    <a:lnTo>
                      <a:pt x="175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84040" y="855720"/>
                <a:ext cx="149400" cy="56520"/>
              </a:xfrm>
              <a:custGeom>
                <a:avLst/>
                <a:gdLst/>
                <a:ahLst/>
                <a:rect l="l" t="t" r="r" b="b"/>
                <a:pathLst>
                  <a:path w="190" h="82">
                    <a:moveTo>
                      <a:pt x="81" y="0"/>
                    </a:moveTo>
                    <a:lnTo>
                      <a:pt x="0" y="81"/>
                    </a:lnTo>
                    <a:lnTo>
                      <a:pt x="109" y="81"/>
                    </a:lnTo>
                    <a:lnTo>
                      <a:pt x="189" y="0"/>
                    </a:lnTo>
                    <a:lnTo>
                      <a:pt x="81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79000" y="918720"/>
                <a:ext cx="159480" cy="6120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84" y="0"/>
                    </a:moveTo>
                    <a:lnTo>
                      <a:pt x="0" y="85"/>
                    </a:lnTo>
                    <a:lnTo>
                      <a:pt x="118" y="85"/>
                    </a:lnTo>
                    <a:lnTo>
                      <a:pt x="202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80440" y="717840"/>
                <a:ext cx="17640" cy="284760"/>
              </a:xfrm>
              <a:custGeom>
                <a:avLst/>
                <a:gdLst/>
                <a:ahLst/>
                <a:rect l="l" t="t" r="r" b="b"/>
                <a:pathLst>
                  <a:path w="23" h="406">
                    <a:moveTo>
                      <a:pt x="19" y="0"/>
                    </a:moveTo>
                    <a:lnTo>
                      <a:pt x="0" y="404"/>
                    </a:lnTo>
                    <a:lnTo>
                      <a:pt x="2" y="40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60000" y="717840"/>
                <a:ext cx="12240" cy="28476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0"/>
                    </a:moveTo>
                    <a:lnTo>
                      <a:pt x="12" y="406"/>
                    </a:lnTo>
                    <a:lnTo>
                      <a:pt x="16" y="4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17600" y="667440"/>
                <a:ext cx="26640" cy="284760"/>
              </a:xfrm>
              <a:custGeom>
                <a:avLst/>
                <a:gdLst/>
                <a:ahLst/>
                <a:rect l="l" t="t" r="r" b="b"/>
                <a:pathLst>
                  <a:path w="33" h="407">
                    <a:moveTo>
                      <a:pt x="0" y="1"/>
                    </a:moveTo>
                    <a:lnTo>
                      <a:pt x="27" y="406"/>
                    </a:lnTo>
                    <a:lnTo>
                      <a:pt x="32" y="405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84040" y="855720"/>
                <a:ext cx="149400" cy="127800"/>
              </a:xfrm>
              <a:custGeom>
                <a:avLst/>
                <a:gdLst/>
                <a:ahLst/>
                <a:rect l="l" t="t" r="r" b="b"/>
                <a:pathLst>
                  <a:path w="191" h="182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7" y="180"/>
                    </a:lnTo>
                    <a:lnTo>
                      <a:pt x="107" y="181"/>
                    </a:lnTo>
                    <a:lnTo>
                      <a:pt x="108" y="181"/>
                    </a:lnTo>
                    <a:lnTo>
                      <a:pt x="108" y="180"/>
                    </a:lnTo>
                    <a:lnTo>
                      <a:pt x="109" y="180"/>
                    </a:lnTo>
                    <a:lnTo>
                      <a:pt x="190" y="2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07" y="179"/>
                    </a:lnTo>
                    <a:lnTo>
                      <a:pt x="108" y="179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7640" y="792360"/>
                <a:ext cx="138600" cy="124200"/>
              </a:xfrm>
              <a:custGeom>
                <a:avLst/>
                <a:gdLst/>
                <a:ahLst/>
                <a:rect l="l" t="t" r="r" b="b"/>
                <a:pathLst>
                  <a:path w="177" h="179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3" y="178"/>
                    </a:lnTo>
                    <a:lnTo>
                      <a:pt x="103" y="178"/>
                    </a:lnTo>
                    <a:lnTo>
                      <a:pt x="104" y="178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02" y="177"/>
                    </a:lnTo>
                    <a:lnTo>
                      <a:pt x="103" y="177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93040" y="729360"/>
                <a:ext cx="129960" cy="116280"/>
              </a:xfrm>
              <a:custGeom>
                <a:avLst/>
                <a:gdLst/>
                <a:ahLst/>
                <a:rect l="l" t="t" r="r" b="b"/>
                <a:pathLst>
                  <a:path w="166" h="165">
                    <a:moveTo>
                      <a:pt x="1" y="72"/>
                    </a:moveTo>
                    <a:lnTo>
                      <a:pt x="0" y="72"/>
                    </a:lnTo>
                    <a:lnTo>
                      <a:pt x="0" y="73"/>
                    </a:lnTo>
                    <a:lnTo>
                      <a:pt x="87" y="163"/>
                    </a:lnTo>
                    <a:lnTo>
                      <a:pt x="87" y="164"/>
                    </a:lnTo>
                    <a:lnTo>
                      <a:pt x="88" y="164"/>
                    </a:lnTo>
                    <a:lnTo>
                      <a:pt x="88" y="163"/>
                    </a:lnTo>
                    <a:lnTo>
                      <a:pt x="89" y="163"/>
                    </a:lnTo>
                    <a:lnTo>
                      <a:pt x="165" y="1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87" y="162"/>
                    </a:lnTo>
                    <a:lnTo>
                      <a:pt x="88" y="162"/>
                    </a:lnTo>
                    <a:lnTo>
                      <a:pt x="1" y="72"/>
                    </a:lnTo>
                    <a:lnTo>
                      <a:pt x="1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98440" y="727200"/>
                <a:ext cx="120960" cy="53280"/>
              </a:xfrm>
              <a:custGeom>
                <a:avLst/>
                <a:gdLst/>
                <a:ahLst/>
                <a:rect l="l" t="t" r="r" b="b"/>
                <a:pathLst>
                  <a:path w="154" h="76">
                    <a:moveTo>
                      <a:pt x="1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80" y="75"/>
                    </a:lnTo>
                    <a:lnTo>
                      <a:pt x="80" y="73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1" y="73"/>
                    </a:lnTo>
                    <a:lnTo>
                      <a:pt x="1" y="7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93040" y="633600"/>
                <a:ext cx="126360" cy="5292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73" y="0"/>
                    </a:moveTo>
                    <a:lnTo>
                      <a:pt x="0" y="75"/>
                    </a:lnTo>
                    <a:lnTo>
                      <a:pt x="87" y="75"/>
                    </a:lnTo>
                    <a:lnTo>
                      <a:pt x="160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89800" y="685440"/>
                <a:ext cx="8640" cy="388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56400" y="683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17600" y="635040"/>
                <a:ext cx="3240" cy="35280"/>
              </a:xfrm>
              <a:custGeom>
                <a:avLst/>
                <a:gdLst/>
                <a:ahLst/>
                <a:rect l="l" t="t" r="r" b="b"/>
                <a:pathLst>
                  <a:path w="5" h="5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80440" y="620640"/>
                <a:ext cx="149400" cy="61560"/>
              </a:xfrm>
              <a:custGeom>
                <a:avLst/>
                <a:gdLst/>
                <a:ahLst/>
                <a:rect l="l" t="t" r="r" b="b"/>
                <a:pathLst>
                  <a:path w="189" h="88">
                    <a:moveTo>
                      <a:pt x="86" y="0"/>
                    </a:moveTo>
                    <a:lnTo>
                      <a:pt x="0" y="87"/>
                    </a:lnTo>
                    <a:lnTo>
                      <a:pt x="102" y="87"/>
                    </a:lnTo>
                    <a:lnTo>
                      <a:pt x="188" y="0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1240" y="66744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0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9" y="76"/>
                    </a:lnTo>
                    <a:lnTo>
                      <a:pt x="89" y="75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62" y="0"/>
                    </a:lnTo>
                    <a:lnTo>
                      <a:pt x="88" y="74"/>
                    </a:lnTo>
                    <a:lnTo>
                      <a:pt x="89" y="74"/>
                    </a:lnTo>
                    <a:lnTo>
                      <a:pt x="0" y="72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3800" y="722520"/>
                <a:ext cx="8640" cy="218520"/>
              </a:xfrm>
              <a:custGeom>
                <a:avLst/>
                <a:gdLst/>
                <a:ahLst/>
                <a:rect l="l" t="t" r="r" b="b"/>
                <a:pathLst>
                  <a:path w="12" h="31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91240" y="701640"/>
                <a:ext cx="7200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5"/>
                    </a:moveTo>
                    <a:lnTo>
                      <a:pt x="91" y="7"/>
                    </a:lnTo>
                    <a:lnTo>
                      <a:pt x="91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56400" y="6512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3" y="79"/>
                    </a:moveTo>
                    <a:lnTo>
                      <a:pt x="81" y="3"/>
                    </a:lnTo>
                    <a:lnTo>
                      <a:pt x="78" y="0"/>
                    </a:lnTo>
                    <a:lnTo>
                      <a:pt x="0" y="76"/>
                    </a:lnTo>
                    <a:lnTo>
                      <a:pt x="3" y="79"/>
                    </a:lnTo>
                    <a:lnTo>
                      <a:pt x="3" y="79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94840" y="667440"/>
                <a:ext cx="126000" cy="6624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0" y="95"/>
                    </a:moveTo>
                    <a:lnTo>
                      <a:pt x="84" y="95"/>
                    </a:lnTo>
                    <a:lnTo>
                      <a:pt x="160" y="21"/>
                    </a:lnTo>
                    <a:lnTo>
                      <a:pt x="156" y="0"/>
                    </a:lnTo>
                    <a:lnTo>
                      <a:pt x="82" y="79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93040" y="664200"/>
                <a:ext cx="129960" cy="70920"/>
              </a:xfrm>
              <a:custGeom>
                <a:avLst/>
                <a:gdLst/>
                <a:ahLst/>
                <a:rect l="l" t="t" r="r" b="b"/>
                <a:pathLst>
                  <a:path w="166" h="102">
                    <a:moveTo>
                      <a:pt x="0" y="101"/>
                    </a:moveTo>
                    <a:lnTo>
                      <a:pt x="87" y="99"/>
                    </a:lnTo>
                    <a:lnTo>
                      <a:pt x="165" y="25"/>
                    </a:lnTo>
                    <a:lnTo>
                      <a:pt x="160" y="0"/>
                    </a:lnTo>
                    <a:lnTo>
                      <a:pt x="83" y="80"/>
                    </a:lnTo>
                    <a:lnTo>
                      <a:pt x="85" y="80"/>
                    </a:lnTo>
                    <a:lnTo>
                      <a:pt x="0" y="78"/>
                    </a:lnTo>
                    <a:lnTo>
                      <a:pt x="0" y="101"/>
                    </a:lnTo>
                    <a:lnTo>
                      <a:pt x="5" y="99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85" y="83"/>
                    </a:lnTo>
                    <a:lnTo>
                      <a:pt x="160" y="5"/>
                    </a:lnTo>
                    <a:lnTo>
                      <a:pt x="156" y="4"/>
                    </a:lnTo>
                    <a:lnTo>
                      <a:pt x="161" y="25"/>
                    </a:lnTo>
                    <a:lnTo>
                      <a:pt x="161" y="22"/>
                    </a:lnTo>
                    <a:lnTo>
                      <a:pt x="85" y="96"/>
                    </a:lnTo>
                    <a:lnTo>
                      <a:pt x="87" y="96"/>
                    </a:lnTo>
                    <a:lnTo>
                      <a:pt x="3" y="96"/>
                    </a:lnTo>
                    <a:lnTo>
                      <a:pt x="5" y="99"/>
                    </a:lnTo>
                    <a:lnTo>
                      <a:pt x="0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72000" y="404640"/>
              <a:ext cx="215640" cy="395280"/>
              <a:chOff x="4572000" y="404640"/>
              <a:chExt cx="215640" cy="395280"/>
            </a:xfrm>
          </p:grpSpPr>
          <p:sp>
            <p:nvSpPr>
              <p:cNvPr id="159" name=""/>
              <p:cNvSpPr/>
              <p:nvPr/>
            </p:nvSpPr>
            <p:spPr>
              <a:xfrm>
                <a:off x="4613760" y="443520"/>
                <a:ext cx="17280" cy="291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42"/>
                    </a:moveTo>
                    <a:lnTo>
                      <a:pt x="21" y="27"/>
                    </a:lnTo>
                    <a:lnTo>
                      <a:pt x="15" y="0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0520" y="4420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" y="43"/>
                    </a:moveTo>
                    <a:lnTo>
                      <a:pt x="0" y="43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25" y="29"/>
                    </a:lnTo>
                    <a:lnTo>
                      <a:pt x="26" y="29"/>
                    </a:lnTo>
                    <a:lnTo>
                      <a:pt x="26" y="27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2" y="43"/>
                    </a:lnTo>
                    <a:lnTo>
                      <a:pt x="6" y="44"/>
                    </a:lnTo>
                    <a:lnTo>
                      <a:pt x="20" y="2"/>
                    </a:lnTo>
                    <a:lnTo>
                      <a:pt x="15" y="2"/>
                    </a:lnTo>
                    <a:lnTo>
                      <a:pt x="22" y="29"/>
                    </a:lnTo>
                    <a:lnTo>
                      <a:pt x="22" y="26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2" y="43"/>
                    </a:lnTo>
                    <a:lnTo>
                      <a:pt x="2" y="4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29600" y="453240"/>
                <a:ext cx="19440" cy="33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9"/>
                    </a:moveTo>
                    <a:lnTo>
                      <a:pt x="24" y="29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28160" y="451440"/>
                <a:ext cx="22680" cy="3744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0" y="50"/>
                    </a:moveTo>
                    <a:lnTo>
                      <a:pt x="0" y="53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0" y="50"/>
                    </a:lnTo>
                    <a:lnTo>
                      <a:pt x="4" y="51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10520" y="4420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3" y="41"/>
                    </a:moveTo>
                    <a:lnTo>
                      <a:pt x="3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7"/>
                    </a:lnTo>
                    <a:lnTo>
                      <a:pt x="50" y="46"/>
                    </a:lnTo>
                    <a:lnTo>
                      <a:pt x="49" y="46"/>
                    </a:lnTo>
                    <a:lnTo>
                      <a:pt x="49" y="45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45" y="48"/>
                    </a:lnTo>
                    <a:lnTo>
                      <a:pt x="48" y="44"/>
                    </a:lnTo>
                    <a:lnTo>
                      <a:pt x="3" y="41"/>
                    </a:lnTo>
                    <a:lnTo>
                      <a:pt x="3" y="4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13760" y="469440"/>
                <a:ext cx="40320" cy="356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46"/>
                    </a:moveTo>
                    <a:lnTo>
                      <a:pt x="0" y="49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36800" y="495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2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5" y="11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52280" y="475920"/>
                <a:ext cx="5400" cy="291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4" y="2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39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38240" y="47592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27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8240" y="49392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59480" y="4694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66680" y="47448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3" y="2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3" y="39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54440" y="4726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6" y="2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52280" y="4759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54440" y="4921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66680" y="4903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0" y="716040"/>
                <a:ext cx="215640" cy="83880"/>
              </a:xfrm>
              <a:custGeom>
                <a:avLst/>
                <a:gdLst/>
                <a:ahLst/>
                <a:rect l="l" t="t" r="r" b="b"/>
                <a:pathLst>
                  <a:path w="276" h="121">
                    <a:moveTo>
                      <a:pt x="35" y="76"/>
                    </a:moveTo>
                    <a:lnTo>
                      <a:pt x="0" y="120"/>
                    </a:lnTo>
                    <a:lnTo>
                      <a:pt x="172" y="120"/>
                    </a:lnTo>
                    <a:lnTo>
                      <a:pt x="275" y="22"/>
                    </a:lnTo>
                    <a:lnTo>
                      <a:pt x="242" y="0"/>
                    </a:lnTo>
                    <a:lnTo>
                      <a:pt x="242" y="22"/>
                    </a:lnTo>
                    <a:lnTo>
                      <a:pt x="155" y="99"/>
                    </a:lnTo>
                    <a:lnTo>
                      <a:pt x="35" y="99"/>
                    </a:lnTo>
                    <a:lnTo>
                      <a:pt x="35" y="76"/>
                    </a:lnTo>
                    <a:lnTo>
                      <a:pt x="35" y="7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13760" y="51336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75" y="0"/>
                    </a:moveTo>
                    <a:lnTo>
                      <a:pt x="0" y="76"/>
                    </a:lnTo>
                    <a:lnTo>
                      <a:pt x="90" y="76"/>
                    </a:lnTo>
                    <a:lnTo>
                      <a:pt x="164" y="0"/>
                    </a:ln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10520" y="576360"/>
                <a:ext cx="138600" cy="55080"/>
              </a:xfrm>
              <a:custGeom>
                <a:avLst/>
                <a:gdLst/>
                <a:ahLst/>
                <a:rect l="l" t="t" r="r" b="b"/>
                <a:pathLst>
                  <a:path w="176" h="80">
                    <a:moveTo>
                      <a:pt x="77" y="0"/>
                    </a:moveTo>
                    <a:lnTo>
                      <a:pt x="0" y="79"/>
                    </a:lnTo>
                    <a:lnTo>
                      <a:pt x="98" y="79"/>
                    </a:lnTo>
                    <a:lnTo>
                      <a:pt x="175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04760" y="639720"/>
                <a:ext cx="149400" cy="56520"/>
              </a:xfrm>
              <a:custGeom>
                <a:avLst/>
                <a:gdLst/>
                <a:ahLst/>
                <a:rect l="l" t="t" r="r" b="b"/>
                <a:pathLst>
                  <a:path w="190" h="82">
                    <a:moveTo>
                      <a:pt x="81" y="0"/>
                    </a:moveTo>
                    <a:lnTo>
                      <a:pt x="0" y="81"/>
                    </a:lnTo>
                    <a:lnTo>
                      <a:pt x="109" y="81"/>
                    </a:lnTo>
                    <a:lnTo>
                      <a:pt x="189" y="0"/>
                    </a:lnTo>
                    <a:lnTo>
                      <a:pt x="81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99720" y="703080"/>
                <a:ext cx="159480" cy="6120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84" y="0"/>
                    </a:moveTo>
                    <a:lnTo>
                      <a:pt x="0" y="85"/>
                    </a:lnTo>
                    <a:lnTo>
                      <a:pt x="118" y="85"/>
                    </a:lnTo>
                    <a:lnTo>
                      <a:pt x="202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1160" y="501840"/>
                <a:ext cx="17640" cy="285120"/>
              </a:xfrm>
              <a:custGeom>
                <a:avLst/>
                <a:gdLst/>
                <a:ahLst/>
                <a:rect l="l" t="t" r="r" b="b"/>
                <a:pathLst>
                  <a:path w="23" h="406">
                    <a:moveTo>
                      <a:pt x="19" y="0"/>
                    </a:moveTo>
                    <a:lnTo>
                      <a:pt x="0" y="404"/>
                    </a:lnTo>
                    <a:lnTo>
                      <a:pt x="2" y="40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80720" y="501840"/>
                <a:ext cx="12240" cy="28512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0"/>
                    </a:moveTo>
                    <a:lnTo>
                      <a:pt x="12" y="406"/>
                    </a:lnTo>
                    <a:lnTo>
                      <a:pt x="16" y="4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38320" y="451440"/>
                <a:ext cx="26640" cy="285120"/>
              </a:xfrm>
              <a:custGeom>
                <a:avLst/>
                <a:gdLst/>
                <a:ahLst/>
                <a:rect l="l" t="t" r="r" b="b"/>
                <a:pathLst>
                  <a:path w="33" h="407">
                    <a:moveTo>
                      <a:pt x="0" y="1"/>
                    </a:moveTo>
                    <a:lnTo>
                      <a:pt x="27" y="406"/>
                    </a:lnTo>
                    <a:lnTo>
                      <a:pt x="32" y="405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04760" y="639720"/>
                <a:ext cx="149400" cy="127800"/>
              </a:xfrm>
              <a:custGeom>
                <a:avLst/>
                <a:gdLst/>
                <a:ahLst/>
                <a:rect l="l" t="t" r="r" b="b"/>
                <a:pathLst>
                  <a:path w="191" h="182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7" y="180"/>
                    </a:lnTo>
                    <a:lnTo>
                      <a:pt x="107" y="181"/>
                    </a:lnTo>
                    <a:lnTo>
                      <a:pt x="108" y="181"/>
                    </a:lnTo>
                    <a:lnTo>
                      <a:pt x="108" y="180"/>
                    </a:lnTo>
                    <a:lnTo>
                      <a:pt x="109" y="180"/>
                    </a:lnTo>
                    <a:lnTo>
                      <a:pt x="190" y="2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07" y="179"/>
                    </a:lnTo>
                    <a:lnTo>
                      <a:pt x="108" y="179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08360" y="576360"/>
                <a:ext cx="138600" cy="124560"/>
              </a:xfrm>
              <a:custGeom>
                <a:avLst/>
                <a:gdLst/>
                <a:ahLst/>
                <a:rect l="l" t="t" r="r" b="b"/>
                <a:pathLst>
                  <a:path w="177" h="179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3" y="178"/>
                    </a:lnTo>
                    <a:lnTo>
                      <a:pt x="103" y="178"/>
                    </a:lnTo>
                    <a:lnTo>
                      <a:pt x="104" y="178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02" y="177"/>
                    </a:lnTo>
                    <a:lnTo>
                      <a:pt x="103" y="177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13760" y="513360"/>
                <a:ext cx="129960" cy="116280"/>
              </a:xfrm>
              <a:custGeom>
                <a:avLst/>
                <a:gdLst/>
                <a:ahLst/>
                <a:rect l="l" t="t" r="r" b="b"/>
                <a:pathLst>
                  <a:path w="166" h="165">
                    <a:moveTo>
                      <a:pt x="1" y="72"/>
                    </a:moveTo>
                    <a:lnTo>
                      <a:pt x="0" y="72"/>
                    </a:lnTo>
                    <a:lnTo>
                      <a:pt x="0" y="73"/>
                    </a:lnTo>
                    <a:lnTo>
                      <a:pt x="87" y="163"/>
                    </a:lnTo>
                    <a:lnTo>
                      <a:pt x="87" y="164"/>
                    </a:lnTo>
                    <a:lnTo>
                      <a:pt x="88" y="164"/>
                    </a:lnTo>
                    <a:lnTo>
                      <a:pt x="88" y="163"/>
                    </a:lnTo>
                    <a:lnTo>
                      <a:pt x="89" y="163"/>
                    </a:lnTo>
                    <a:lnTo>
                      <a:pt x="165" y="1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87" y="162"/>
                    </a:lnTo>
                    <a:lnTo>
                      <a:pt x="88" y="162"/>
                    </a:lnTo>
                    <a:lnTo>
                      <a:pt x="1" y="72"/>
                    </a:lnTo>
                    <a:lnTo>
                      <a:pt x="1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19160" y="511560"/>
                <a:ext cx="120960" cy="53640"/>
              </a:xfrm>
              <a:custGeom>
                <a:avLst/>
                <a:gdLst/>
                <a:ahLst/>
                <a:rect l="l" t="t" r="r" b="b"/>
                <a:pathLst>
                  <a:path w="154" h="76">
                    <a:moveTo>
                      <a:pt x="1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80" y="75"/>
                    </a:lnTo>
                    <a:lnTo>
                      <a:pt x="80" y="73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1" y="73"/>
                    </a:lnTo>
                    <a:lnTo>
                      <a:pt x="1" y="7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13760" y="417600"/>
                <a:ext cx="126360" cy="5328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73" y="0"/>
                    </a:moveTo>
                    <a:lnTo>
                      <a:pt x="0" y="75"/>
                    </a:lnTo>
                    <a:lnTo>
                      <a:pt x="87" y="75"/>
                    </a:lnTo>
                    <a:lnTo>
                      <a:pt x="160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10520" y="469440"/>
                <a:ext cx="8640" cy="388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77120" y="467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38320" y="419040"/>
                <a:ext cx="3240" cy="35640"/>
              </a:xfrm>
              <a:custGeom>
                <a:avLst/>
                <a:gdLst/>
                <a:ahLst/>
                <a:rect l="l" t="t" r="r" b="b"/>
                <a:pathLst>
                  <a:path w="5" h="5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01160" y="404640"/>
                <a:ext cx="149400" cy="61560"/>
              </a:xfrm>
              <a:custGeom>
                <a:avLst/>
                <a:gdLst/>
                <a:ahLst/>
                <a:rect l="l" t="t" r="r" b="b"/>
                <a:pathLst>
                  <a:path w="189" h="88">
                    <a:moveTo>
                      <a:pt x="86" y="0"/>
                    </a:moveTo>
                    <a:lnTo>
                      <a:pt x="0" y="87"/>
                    </a:lnTo>
                    <a:lnTo>
                      <a:pt x="102" y="87"/>
                    </a:lnTo>
                    <a:lnTo>
                      <a:pt x="188" y="0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11960" y="45144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0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9" y="76"/>
                    </a:lnTo>
                    <a:lnTo>
                      <a:pt x="89" y="75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62" y="0"/>
                    </a:lnTo>
                    <a:lnTo>
                      <a:pt x="88" y="74"/>
                    </a:lnTo>
                    <a:lnTo>
                      <a:pt x="89" y="74"/>
                    </a:lnTo>
                    <a:lnTo>
                      <a:pt x="0" y="72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64520" y="506520"/>
                <a:ext cx="8640" cy="218520"/>
              </a:xfrm>
              <a:custGeom>
                <a:avLst/>
                <a:gdLst/>
                <a:ahLst/>
                <a:rect l="l" t="t" r="r" b="b"/>
                <a:pathLst>
                  <a:path w="12" h="31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11960" y="485640"/>
                <a:ext cx="7200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5"/>
                    </a:moveTo>
                    <a:lnTo>
                      <a:pt x="91" y="7"/>
                    </a:lnTo>
                    <a:lnTo>
                      <a:pt x="91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77120" y="4352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3" y="79"/>
                    </a:moveTo>
                    <a:lnTo>
                      <a:pt x="81" y="3"/>
                    </a:lnTo>
                    <a:lnTo>
                      <a:pt x="78" y="0"/>
                    </a:lnTo>
                    <a:lnTo>
                      <a:pt x="0" y="76"/>
                    </a:lnTo>
                    <a:lnTo>
                      <a:pt x="3" y="79"/>
                    </a:lnTo>
                    <a:lnTo>
                      <a:pt x="3" y="79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15560" y="451440"/>
                <a:ext cx="126000" cy="6624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0" y="95"/>
                    </a:moveTo>
                    <a:lnTo>
                      <a:pt x="84" y="95"/>
                    </a:lnTo>
                    <a:lnTo>
                      <a:pt x="160" y="21"/>
                    </a:lnTo>
                    <a:lnTo>
                      <a:pt x="156" y="0"/>
                    </a:lnTo>
                    <a:lnTo>
                      <a:pt x="82" y="79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13760" y="448200"/>
                <a:ext cx="129960" cy="71280"/>
              </a:xfrm>
              <a:custGeom>
                <a:avLst/>
                <a:gdLst/>
                <a:ahLst/>
                <a:rect l="l" t="t" r="r" b="b"/>
                <a:pathLst>
                  <a:path w="166" h="102">
                    <a:moveTo>
                      <a:pt x="0" y="101"/>
                    </a:moveTo>
                    <a:lnTo>
                      <a:pt x="87" y="99"/>
                    </a:lnTo>
                    <a:lnTo>
                      <a:pt x="165" y="25"/>
                    </a:lnTo>
                    <a:lnTo>
                      <a:pt x="160" y="0"/>
                    </a:lnTo>
                    <a:lnTo>
                      <a:pt x="83" y="80"/>
                    </a:lnTo>
                    <a:lnTo>
                      <a:pt x="85" y="80"/>
                    </a:lnTo>
                    <a:lnTo>
                      <a:pt x="0" y="78"/>
                    </a:lnTo>
                    <a:lnTo>
                      <a:pt x="0" y="101"/>
                    </a:lnTo>
                    <a:lnTo>
                      <a:pt x="5" y="99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85" y="83"/>
                    </a:lnTo>
                    <a:lnTo>
                      <a:pt x="160" y="5"/>
                    </a:lnTo>
                    <a:lnTo>
                      <a:pt x="156" y="4"/>
                    </a:lnTo>
                    <a:lnTo>
                      <a:pt x="161" y="25"/>
                    </a:lnTo>
                    <a:lnTo>
                      <a:pt x="161" y="22"/>
                    </a:lnTo>
                    <a:lnTo>
                      <a:pt x="85" y="96"/>
                    </a:lnTo>
                    <a:lnTo>
                      <a:pt x="87" y="96"/>
                    </a:lnTo>
                    <a:lnTo>
                      <a:pt x="3" y="96"/>
                    </a:lnTo>
                    <a:lnTo>
                      <a:pt x="5" y="99"/>
                    </a:lnTo>
                    <a:lnTo>
                      <a:pt x="0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0" y="1052640"/>
            <a:ext cx="2160720" cy="2160360"/>
          </a:xfrm>
          <a:custGeom>
            <a:avLst/>
            <a:gdLst/>
            <a:ahLst/>
            <a:rect l="l" t="t" r="r" b="b"/>
            <a:pathLst>
              <a:path w="1361" h="2858">
                <a:moveTo>
                  <a:pt x="1361" y="2812"/>
                </a:moveTo>
                <a:lnTo>
                  <a:pt x="317" y="2858"/>
                </a:lnTo>
                <a:lnTo>
                  <a:pt x="725" y="2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ccff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00" y="739800"/>
            <a:ext cx="924120" cy="2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To Canad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307600">
            <a:off x="3058920" y="1627200"/>
            <a:ext cx="1439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03280" y="1557360"/>
            <a:ext cx="1152720" cy="719280"/>
            <a:chOff x="1403280" y="1557360"/>
            <a:chExt cx="1152720" cy="719280"/>
          </a:xfrm>
        </p:grpSpPr>
        <p:sp>
          <p:nvSpPr>
            <p:cNvPr id="202" name=""/>
            <p:cNvSpPr/>
            <p:nvPr/>
          </p:nvSpPr>
          <p:spPr>
            <a:xfrm>
              <a:off x="1403280" y="1557360"/>
              <a:ext cx="720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1916280"/>
              <a:ext cx="720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4000" y="1557360"/>
              <a:ext cx="43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68560" y="1267200"/>
            <a:ext cx="1620720" cy="1517040"/>
            <a:chOff x="2968560" y="1267200"/>
            <a:chExt cx="1620720" cy="1517040"/>
          </a:xfrm>
        </p:grpSpPr>
        <p:sp>
          <p:nvSpPr>
            <p:cNvPr id="206" name=""/>
            <p:cNvSpPr/>
            <p:nvPr/>
          </p:nvSpPr>
          <p:spPr>
            <a:xfrm rot="2307600">
              <a:off x="3058920" y="1628640"/>
              <a:ext cx="14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418000">
              <a:off x="3340440" y="1881000"/>
              <a:ext cx="1005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il sto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19280" y="2852640"/>
            <a:ext cx="1512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73771"/>
                </a:solidFill>
                <a:latin typeface="Arial"/>
              </a:rPr>
              <a:t>Slug Cat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268000" y="2276640"/>
            <a:ext cx="71640" cy="57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03280" y="1197000"/>
            <a:ext cx="1728720" cy="792000"/>
            <a:chOff x="1403280" y="1197000"/>
            <a:chExt cx="1728720" cy="792000"/>
          </a:xfrm>
        </p:grpSpPr>
        <p:sp>
          <p:nvSpPr>
            <p:cNvPr id="211" name=""/>
            <p:cNvSpPr/>
            <p:nvPr/>
          </p:nvSpPr>
          <p:spPr>
            <a:xfrm>
              <a:off x="1403280" y="1197000"/>
              <a:ext cx="1081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03280" y="1197000"/>
              <a:ext cx="1081080" cy="360360"/>
              <a:chOff x="1403280" y="1197000"/>
              <a:chExt cx="1081080" cy="360360"/>
            </a:xfrm>
          </p:grpSpPr>
          <p:sp>
            <p:nvSpPr>
              <p:cNvPr id="213" name=""/>
              <p:cNvSpPr/>
              <p:nvPr/>
            </p:nvSpPr>
            <p:spPr>
              <a:xfrm>
                <a:off x="1403280" y="1197000"/>
                <a:ext cx="1081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03640" y="1198440"/>
                <a:ext cx="1008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ab + Co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430360" y="1494000"/>
              <a:ext cx="657360" cy="24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3080" y="1989000"/>
              <a:ext cx="718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332000" y="404640"/>
            <a:ext cx="887400" cy="470520"/>
            <a:chOff x="1332000" y="404640"/>
            <a:chExt cx="887400" cy="470520"/>
          </a:xfrm>
        </p:grpSpPr>
        <p:sp>
          <p:nvSpPr>
            <p:cNvPr id="218" name=""/>
            <p:cNvSpPr/>
            <p:nvPr/>
          </p:nvSpPr>
          <p:spPr>
            <a:xfrm>
              <a:off x="1332000" y="69228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d093f"/>
                  </a:solidFill>
                  <a:latin typeface="Arial"/>
                </a:rPr>
                <a:t>tan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402920" y="404640"/>
              <a:ext cx="816480" cy="244440"/>
              <a:chOff x="1402920" y="404640"/>
              <a:chExt cx="816480" cy="24444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2157480" y="607320"/>
                <a:ext cx="61920" cy="417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106000" y="57420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53" h="85">
                    <a:moveTo>
                      <a:pt x="21" y="85"/>
                    </a:moveTo>
                    <a:lnTo>
                      <a:pt x="153" y="85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1" y="8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7400" y="552240"/>
                <a:ext cx="162000" cy="96840"/>
              </a:xfrm>
              <a:custGeom>
                <a:avLst/>
                <a:gdLst/>
                <a:ahLst/>
                <a:rect l="l" t="t" r="r" b="b"/>
                <a:pathLst>
                  <a:path w="221" h="111">
                    <a:moveTo>
                      <a:pt x="84" y="111"/>
                    </a:moveTo>
                    <a:lnTo>
                      <a:pt x="221" y="111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84" y="11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005920" y="55224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290" h="111">
                    <a:moveTo>
                      <a:pt x="153" y="111"/>
                    </a:moveTo>
                    <a:lnTo>
                      <a:pt x="290" y="111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53" y="111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95516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201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201" y="11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90584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85508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805040" y="552240"/>
                <a:ext cx="247680" cy="96840"/>
              </a:xfrm>
              <a:custGeom>
                <a:avLst/>
                <a:gdLst/>
                <a:ahLst/>
                <a:rect l="l" t="t" r="r" b="b"/>
                <a:pathLst>
                  <a:path w="337" h="111">
                    <a:moveTo>
                      <a:pt x="200" y="111"/>
                    </a:moveTo>
                    <a:lnTo>
                      <a:pt x="337" y="111"/>
                    </a:lnTo>
                    <a:lnTo>
                      <a:pt x="142" y="0"/>
                    </a:lnTo>
                    <a:lnTo>
                      <a:pt x="0" y="0"/>
                    </a:lnTo>
                    <a:lnTo>
                      <a:pt x="200" y="111"/>
                    </a:lnTo>
                    <a:close/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75356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3" h="111">
                    <a:moveTo>
                      <a:pt x="195" y="111"/>
                    </a:moveTo>
                    <a:lnTo>
                      <a:pt x="333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70424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658880" y="552240"/>
                <a:ext cx="239760" cy="96840"/>
              </a:xfrm>
              <a:custGeom>
                <a:avLst/>
                <a:gdLst/>
                <a:ahLst/>
                <a:rect l="l" t="t" r="r" b="b"/>
                <a:pathLst>
                  <a:path w="327" h="111">
                    <a:moveTo>
                      <a:pt x="196" y="111"/>
                    </a:moveTo>
                    <a:lnTo>
                      <a:pt x="327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6" y="111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60740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200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200" y="1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62040" y="552240"/>
                <a:ext cx="239760" cy="96840"/>
              </a:xfrm>
              <a:custGeom>
                <a:avLst/>
                <a:gdLst/>
                <a:ahLst/>
                <a:rect l="l" t="t" r="r" b="b"/>
                <a:pathLst>
                  <a:path w="327" h="111">
                    <a:moveTo>
                      <a:pt x="195" y="111"/>
                    </a:moveTo>
                    <a:lnTo>
                      <a:pt x="327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519200" y="552240"/>
                <a:ext cx="231840" cy="96840"/>
              </a:xfrm>
              <a:custGeom>
                <a:avLst/>
                <a:gdLst/>
                <a:ahLst/>
                <a:rect l="l" t="t" r="r" b="b"/>
                <a:pathLst>
                  <a:path w="316" h="111">
                    <a:moveTo>
                      <a:pt x="195" y="111"/>
                    </a:moveTo>
                    <a:lnTo>
                      <a:pt x="269" y="111"/>
                    </a:lnTo>
                    <a:lnTo>
                      <a:pt x="274" y="106"/>
                    </a:lnTo>
                    <a:lnTo>
                      <a:pt x="316" y="106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476360" y="552240"/>
                <a:ext cx="225360" cy="96840"/>
              </a:xfrm>
              <a:custGeom>
                <a:avLst/>
                <a:gdLst/>
                <a:ahLst/>
                <a:rect l="l" t="t" r="r" b="b"/>
                <a:pathLst>
                  <a:path w="306" h="111">
                    <a:moveTo>
                      <a:pt x="190" y="111"/>
                    </a:moveTo>
                    <a:lnTo>
                      <a:pt x="201" y="111"/>
                    </a:lnTo>
                    <a:lnTo>
                      <a:pt x="211" y="106"/>
                    </a:lnTo>
                    <a:lnTo>
                      <a:pt x="274" y="106"/>
                    </a:lnTo>
                    <a:lnTo>
                      <a:pt x="274" y="100"/>
                    </a:lnTo>
                    <a:lnTo>
                      <a:pt x="306" y="100"/>
                    </a:lnTo>
                    <a:lnTo>
                      <a:pt x="306" y="95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0" y="11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445400" y="552240"/>
                <a:ext cx="204840" cy="96840"/>
              </a:xfrm>
              <a:custGeom>
                <a:avLst/>
                <a:gdLst/>
                <a:ahLst/>
                <a:rect l="l" t="t" r="r" b="b"/>
                <a:pathLst>
                  <a:path w="279" h="111">
                    <a:moveTo>
                      <a:pt x="184" y="111"/>
                    </a:moveTo>
                    <a:lnTo>
                      <a:pt x="195" y="111"/>
                    </a:lnTo>
                    <a:lnTo>
                      <a:pt x="205" y="106"/>
                    </a:lnTo>
                    <a:lnTo>
                      <a:pt x="232" y="106"/>
                    </a:lnTo>
                    <a:lnTo>
                      <a:pt x="237" y="100"/>
                    </a:lnTo>
                    <a:lnTo>
                      <a:pt x="253" y="100"/>
                    </a:lnTo>
                    <a:lnTo>
                      <a:pt x="253" y="95"/>
                    </a:lnTo>
                    <a:lnTo>
                      <a:pt x="269" y="95"/>
                    </a:lnTo>
                    <a:lnTo>
                      <a:pt x="269" y="90"/>
                    </a:lnTo>
                    <a:lnTo>
                      <a:pt x="279" y="90"/>
                    </a:lnTo>
                    <a:lnTo>
                      <a:pt x="279" y="85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84" y="1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430280" y="5522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16" h="100">
                    <a:moveTo>
                      <a:pt x="85" y="100"/>
                    </a:moveTo>
                    <a:lnTo>
                      <a:pt x="90" y="100"/>
                    </a:lnTo>
                    <a:lnTo>
                      <a:pt x="90" y="95"/>
                    </a:lnTo>
                    <a:lnTo>
                      <a:pt x="95" y="95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6" y="90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6" y="74"/>
                    </a:lnTo>
                    <a:lnTo>
                      <a:pt x="116" y="63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5" y="10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422360" y="552240"/>
                <a:ext cx="69840" cy="738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74" y="85"/>
                    </a:moveTo>
                    <a:lnTo>
                      <a:pt x="74" y="85"/>
                    </a:lnTo>
                    <a:lnTo>
                      <a:pt x="79" y="79"/>
                    </a:lnTo>
                    <a:lnTo>
                      <a:pt x="79" y="79"/>
                    </a:lnTo>
                    <a:lnTo>
                      <a:pt x="79" y="74"/>
                    </a:lnTo>
                    <a:lnTo>
                      <a:pt x="84" y="74"/>
                    </a:lnTo>
                    <a:lnTo>
                      <a:pt x="84" y="69"/>
                    </a:lnTo>
                    <a:lnTo>
                      <a:pt x="84" y="63"/>
                    </a:lnTo>
                    <a:lnTo>
                      <a:pt x="90" y="58"/>
                    </a:lnTo>
                    <a:lnTo>
                      <a:pt x="90" y="53"/>
                    </a:lnTo>
                    <a:lnTo>
                      <a:pt x="90" y="53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0" y="37"/>
                    </a:lnTo>
                    <a:lnTo>
                      <a:pt x="95" y="3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74" y="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416960" y="552240"/>
                <a:ext cx="50760" cy="5508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52" y="63"/>
                    </a:moveTo>
                    <a:lnTo>
                      <a:pt x="58" y="58"/>
                    </a:lnTo>
                    <a:lnTo>
                      <a:pt x="58" y="53"/>
                    </a:lnTo>
                    <a:lnTo>
                      <a:pt x="58" y="53"/>
                    </a:lnTo>
                    <a:lnTo>
                      <a:pt x="58" y="48"/>
                    </a:lnTo>
                    <a:lnTo>
                      <a:pt x="63" y="48"/>
                    </a:lnTo>
                    <a:lnTo>
                      <a:pt x="63" y="37"/>
                    </a:lnTo>
                    <a:lnTo>
                      <a:pt x="63" y="37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52" y="6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417680" y="552240"/>
                <a:ext cx="23760" cy="280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27" y="32"/>
                    </a:moveTo>
                    <a:lnTo>
                      <a:pt x="27" y="21"/>
                    </a:lnTo>
                    <a:lnTo>
                      <a:pt x="27" y="21"/>
                    </a:lnTo>
                    <a:lnTo>
                      <a:pt x="27" y="11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402560" y="552240"/>
                <a:ext cx="816120" cy="96840"/>
              </a:xfrm>
              <a:custGeom>
                <a:avLst/>
                <a:gdLst/>
                <a:ahLst/>
                <a:rect l="l" t="t" r="r" b="b"/>
                <a:pathLst>
                  <a:path w="1112" h="111">
                    <a:moveTo>
                      <a:pt x="1107" y="0"/>
                    </a:moveTo>
                    <a:lnTo>
                      <a:pt x="1096" y="26"/>
                    </a:lnTo>
                    <a:lnTo>
                      <a:pt x="1091" y="48"/>
                    </a:lnTo>
                    <a:lnTo>
                      <a:pt x="1081" y="63"/>
                    </a:lnTo>
                    <a:lnTo>
                      <a:pt x="1065" y="79"/>
                    </a:lnTo>
                    <a:lnTo>
                      <a:pt x="1049" y="85"/>
                    </a:lnTo>
                    <a:lnTo>
                      <a:pt x="1023" y="95"/>
                    </a:lnTo>
                    <a:lnTo>
                      <a:pt x="991" y="100"/>
                    </a:lnTo>
                    <a:lnTo>
                      <a:pt x="943" y="106"/>
                    </a:lnTo>
                    <a:lnTo>
                      <a:pt x="896" y="111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107" y="0"/>
                    </a:lnTo>
                    <a:lnTo>
                      <a:pt x="1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152080" y="404640"/>
                <a:ext cx="4680" cy="96840"/>
              </a:xfrm>
              <a:prstGeom prst="rect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152080" y="404640"/>
                <a:ext cx="4680" cy="968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156760" y="404640"/>
                <a:ext cx="3240" cy="9684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156760" y="404640"/>
                <a:ext cx="3240" cy="96840"/>
              </a:xfrm>
              <a:prstGeom prst="rect">
                <a:avLst/>
              </a:pr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164680" y="404640"/>
                <a:ext cx="3240" cy="9684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164680" y="404640"/>
                <a:ext cx="3240" cy="968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167920" y="404640"/>
                <a:ext cx="4680" cy="9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145600" y="40464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37" h="111">
                    <a:moveTo>
                      <a:pt x="32" y="111"/>
                    </a:moveTo>
                    <a:lnTo>
                      <a:pt x="0" y="11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11"/>
                    </a:lnTo>
                    <a:lnTo>
                      <a:pt x="37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017800" y="501480"/>
                <a:ext cx="23760" cy="5040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58"/>
                    </a:moveTo>
                    <a:lnTo>
                      <a:pt x="32" y="58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017080" y="501480"/>
                <a:ext cx="34920" cy="504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58"/>
                    </a:moveTo>
                    <a:lnTo>
                      <a:pt x="31" y="58"/>
                    </a:lnTo>
                    <a:lnTo>
                      <a:pt x="47" y="26"/>
                    </a:lnTo>
                    <a:lnTo>
                      <a:pt x="47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0170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0296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7" y="58"/>
                    </a:lnTo>
                    <a:lnTo>
                      <a:pt x="58" y="0"/>
                    </a:lnTo>
                    <a:lnTo>
                      <a:pt x="27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040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052000" y="501480"/>
                <a:ext cx="34920" cy="504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0" y="58"/>
                    </a:moveTo>
                    <a:lnTo>
                      <a:pt x="21" y="58"/>
                    </a:lnTo>
                    <a:lnTo>
                      <a:pt x="48" y="0"/>
                    </a:lnTo>
                    <a:lnTo>
                      <a:pt x="27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060640" y="501480"/>
                <a:ext cx="39600" cy="5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21" y="58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067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207900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08692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9520" y="50148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110680" y="50148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1" y="58"/>
                    </a:lnTo>
                    <a:lnTo>
                      <a:pt x="58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21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30480" y="50148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0" y="58"/>
                    </a:moveTo>
                    <a:lnTo>
                      <a:pt x="32" y="58"/>
                    </a:lnTo>
                    <a:lnTo>
                      <a:pt x="63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14092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1520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1" y="58"/>
                    </a:lnTo>
                    <a:lnTo>
                      <a:pt x="58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165400" y="50148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21" y="58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21" y="58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175840" y="501480"/>
                <a:ext cx="27000" cy="5040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11" y="58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16" y="0"/>
                    </a:lnTo>
                    <a:lnTo>
                      <a:pt x="37" y="0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183760" y="501480"/>
                <a:ext cx="19080" cy="50400"/>
              </a:xfrm>
              <a:custGeom>
                <a:avLst/>
                <a:gdLst/>
                <a:ahLst/>
                <a:rect l="l" t="t" r="r" b="b"/>
                <a:pathLst>
                  <a:path w="26" h="58">
                    <a:moveTo>
                      <a:pt x="0" y="58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191680" y="501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2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013840" y="501480"/>
                <a:ext cx="189000" cy="50400"/>
              </a:xfrm>
              <a:custGeom>
                <a:avLst/>
                <a:gdLst/>
                <a:ahLst/>
                <a:rect l="l" t="t" r="r" b="b"/>
                <a:pathLst>
                  <a:path w="258" h="58">
                    <a:moveTo>
                      <a:pt x="253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53" y="0"/>
                    </a:lnTo>
                    <a:lnTo>
                      <a:pt x="253" y="58"/>
                    </a:lnTo>
                    <a:lnTo>
                      <a:pt x="258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2124000" y="620640"/>
            <a:ext cx="1152720" cy="792360"/>
          </a:xfrm>
          <a:custGeom>
            <a:avLst/>
            <a:gdLst/>
            <a:ahLst/>
            <a:rect l="l" t="t" r="r" b="b"/>
            <a:pathLst>
              <a:path w="908" h="680">
                <a:moveTo>
                  <a:pt x="908" y="680"/>
                </a:moveTo>
                <a:cubicBezTo>
                  <a:pt x="734" y="464"/>
                  <a:pt x="560" y="249"/>
                  <a:pt x="409" y="136"/>
                </a:cubicBezTo>
                <a:cubicBezTo>
                  <a:pt x="258" y="23"/>
                  <a:pt x="68" y="23"/>
                  <a:pt x="0" y="0"/>
                </a:cubicBezTo>
              </a:path>
            </a:pathLst>
          </a:custGeom>
          <a:noFill/>
          <a:ln w="28440">
            <a:solidFill>
              <a:srgbClr val="339966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EA7DA-59AB-4056-A785-1FE81C8EA53E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802 -0.01226 C 0.0059 -0.00231 0.0526 -0.00624 0.09687 -0.00301 C 0.11909 0.00093 0.14132 0.00601 0.16371 0.00856 C 0.17482 0.01203 0.18646 0.01503 0.19705 0.02012 C 0.20295 0.02752 0.2085 0.03446 0.21302 0.04325 C 0.21423 0.04995 0.21649 0.05689 0.21302 0.06406 C 0.21198 0.06614 0.2092 0.06522 0.20764 0.06637 C 0.19722 0.07331 0.18628 0.07331 0.1743 0.07563 C 0.14583 0.07424 0.12552 0.07262 0.09896 0.06846 C 0.08246 0.06175 0.06684 0.05874 0.04948 0.05689 C 0.04739 0.0562 0.04514 0.05597 0.04271 0.05481 C 0.04045 0.05365 0.03837 0.05134 0.03593 0.05019 C 0.01875 0.04348 0.00034 0.04163 -0.01667 0.03631 C -0.03976 0.02937 -0.00764 0.03932 -0.03073 0.02937 C -0.03993 0.02521 -0.05122 0.02428 -0.06059 0.02243 C -0.07222 0.01758 -0.08195 0.00971 -0.09427 0.00624 C -0.1191 -0.00092 -0.14358 -0.00717 -0.16927 -0.00994 C -0.1967 -0.01619 -0.2257 -0.01873 -0.2533 -0.02151 C -0.25677 -0.02313 -0.26077 -0.02382 -0.26389 -0.0259 C -0.27691 -0.03423 -0.26545 -0.03307 -0.27622 -0.03307 E">
                                      <p:cBhvr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7315200" cy="5216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862600" y="3916440"/>
            <a:ext cx="3117960" cy="26496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862600" y="1096920"/>
            <a:ext cx="3108240" cy="27338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5925960" y="2146320"/>
            <a:ext cx="228132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099" y="18138"/>
                </a:moveTo>
                <a:lnTo>
                  <a:pt x="-722" y="1662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cap="rnd" w="38160">
            <a:solidFill>
              <a:srgbClr val="b2b2b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02200" y="4978440"/>
            <a:ext cx="270360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815" y="1292"/>
                </a:moveTo>
                <a:lnTo>
                  <a:pt x="-609" y="1662"/>
                </a:lnTo>
              </a:path>
              <a:path w="21600" h="21600">
                <a:moveTo>
                  <a:pt x="-609" y="0"/>
                </a:moveTo>
                <a:lnTo>
                  <a:pt x="-609" y="21600"/>
                </a:lnTo>
              </a:path>
            </a:pathLst>
          </a:custGeom>
          <a:noFill/>
          <a:ln cap="rnd" w="38160">
            <a:solidFill>
              <a:srgbClr val="b2b2b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76320" y="304920"/>
            <a:ext cx="6705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Instalaciones en Río C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5D30-12CD-4092-A3E0-FA2F8F2C26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aptación de Gas y Líquidos – Yacimiento Cañadón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924520" y="1063800"/>
            <a:ext cx="3111480" cy="34812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1282680"/>
            <a:ext cx="5683320" cy="4432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38920" y="1052640"/>
            <a:ext cx="2954160" cy="34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45" y="10083"/>
                </a:moveTo>
                <a:lnTo>
                  <a:pt x="-557" y="707"/>
                </a:lnTo>
              </a:path>
              <a:path w="21600" h="21600">
                <a:moveTo>
                  <a:pt x="-557" y="0"/>
                </a:moveTo>
                <a:lnTo>
                  <a:pt x="-557" y="21600"/>
                </a:lnTo>
              </a:path>
            </a:pathLst>
          </a:custGeom>
          <a:noFill/>
          <a:ln w="2844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D7F2-1720-454F-9AFD-082CF70D6A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Gas entregado Yacimiento Cañadón Alf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238880" cy="51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BF3FF-71AE-4685-833A-1A270170AE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6668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7F704-C6D2-4D0B-9D3F-9F2B1A6221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2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Cuenca Neuquina: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San Roque y Aguada Pichan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95620-D1C8-4FA7-8A05-567DF1413F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7:13:35Z</dcterms:created>
  <dc:creator>daniello</dc:creator>
  <dc:description>Juin 2003. TITRE SUR 1 OU 2 LIGNES. Modèle par défaut. A utiliser pour les PRESENTATIONS EXTERNES.</dc:description>
  <dc:language>en-US</dc:language>
  <cp:lastModifiedBy>hillar</cp:lastModifiedBy>
  <cp:lastPrinted>2000-10-10T14:56:26Z</cp:lastPrinted>
  <dcterms:modified xsi:type="dcterms:W3CDTF">2006-01-02T12:43:19Z</dcterms:modified>
  <cp:revision>14</cp:revision>
  <dc:subject>Diaporama Total SA</dc:subject>
  <dc:title>GESTIÓN AMBIENTAL  DE SISTEMAS DE FLOW-LINES</dc:title>
</cp:coreProperties>
</file>