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213-D057-433C-A877-5210AAB9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E0D-5689-446C-9182-6EFCE0E6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48B-CD23-4A6F-B68E-DCC0E984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CE6-F0E8-44A6-B9F3-47B11CA6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FC7-C00A-48C8-92E5-FE90B213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C66-ACC6-4713-9579-9661D8D6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513-B2BB-4CC2-84F8-C8242B9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E3B-7171-4942-86CA-8D5FB355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F5F-755E-4D4E-A410-0DE23D62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BFD-0C45-4ED7-A0A7-AD09F5D7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FCB-AA1C-476E-A0C5-227B974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332-3373-43EE-92F1-1932E77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8022-0C97-4E4F-BDDA-290DD9457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62954"/>
          <a:stretch/>
        </p:blipFill>
        <p:spPr>
          <a:xfrm>
            <a:off x="2133720" y="3276720"/>
            <a:ext cx="548640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04920"/>
            <a:ext cx="3429000" cy="2819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73600" y="304920"/>
            <a:ext cx="350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Transporte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Hidrocarbu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Líquidos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Gasoductos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Myriad Web"/>
              </a:rPr>
              <a:t>Captación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920"/>
            <a:ext cx="8076960" cy="2819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PIEDRA C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rcRect l="59378" t="21878" r="4688" b="16626"/>
          <a:stretch/>
        </p:blipFill>
        <p:spPr>
          <a:xfrm>
            <a:off x="3276720" y="533520"/>
            <a:ext cx="457200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447920" y="2819520"/>
            <a:ext cx="1752480" cy="1143000"/>
            <a:chOff x="1447920" y="2819520"/>
            <a:chExt cx="1752480" cy="1143000"/>
          </a:xfrm>
        </p:grpSpPr>
        <p:sp>
          <p:nvSpPr>
            <p:cNvPr id="159" name=""/>
            <p:cNvSpPr/>
            <p:nvPr/>
          </p:nvSpPr>
          <p:spPr>
            <a:xfrm>
              <a:off x="160020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020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0200" y="350532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56240" y="289584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440" y="31244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81440" y="333720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281952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365796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81440" y="3642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7658B15E-FBBA-4FFE-9770-509A1802751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88EBE974-2B5E-4DC8-8796-37425344647D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111320"/>
            <a:ext cx="60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LAS HERAS / PIEDRA CLAVADA / SUR PIEDRA CLA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66680" y="1414440"/>
          <a:ext cx="5943600" cy="91440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04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LH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7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066680" y="2481120"/>
          <a:ext cx="5943240" cy="1599840"/>
        </p:xfrm>
        <a:graphic>
          <a:graphicData uri="http://schemas.openxmlformats.org/drawingml/2006/table">
            <a:tbl>
              <a:tblPr/>
              <a:tblGrid>
                <a:gridCol w="2319120"/>
                <a:gridCol w="1739520"/>
                <a:gridCol w="1884600"/>
              </a:tblGrid>
              <a:tr h="307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PC-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LH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H-3 a YP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0" t="0" r="5000" b="0"/>
          <a:stretch/>
        </p:blipFill>
        <p:spPr>
          <a:xfrm>
            <a:off x="380880" y="1014480"/>
            <a:ext cx="7696440" cy="4700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83" name="" descr=""/>
            <p:cNvPicPr/>
            <p:nvPr/>
          </p:nvPicPr>
          <p:blipFill>
            <a:blip r:embed="rId3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 rot="16200000">
            <a:off x="7768080" y="51904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AÑADON MI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187" name=""/>
            <p:cNvSpPr/>
            <p:nvPr/>
          </p:nvSpPr>
          <p:spPr>
            <a:xfrm>
              <a:off x="3429000" y="548640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57150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29000" y="594360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5040" y="533412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0240" y="55627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10240" y="57754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609624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0240" y="60804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82788A5E-83B4-40A0-8DDC-925A45D4DBCE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4756AB9F-3156-4A4D-9B42-EA638B8AD652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1113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AÑADÓN MINER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66680" y="1414440"/>
          <a:ext cx="5943600" cy="17128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04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ERIA 403 A PLANTA C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ERIA 403 A PLANTA C.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 C.M. A BATERIA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ERIA 406 A EMP. BAT.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66680" y="3200400"/>
          <a:ext cx="5943600" cy="31748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07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02 A BAT. 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99 A BAT. 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58 A PTA. DE TR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22 A PTA. DE TR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01 A BAT. 9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. 143 A EMPLAME 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AME 303  A BAT 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A C.M. A MEDI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5/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0 m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7768080" y="51904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AÑADON MI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MESETA ESPIN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4"/>
          <a:srcRect l="24420" t="29876" r="18074" b="34459"/>
          <a:stretch/>
        </p:blipFill>
        <p:spPr>
          <a:xfrm>
            <a:off x="685800" y="1257480"/>
            <a:ext cx="7315200" cy="46098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216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57150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9000" y="5943600"/>
              <a:ext cx="3808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84680" y="5334120"/>
              <a:ext cx="1018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5562720"/>
              <a:ext cx="1067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5775480"/>
              <a:ext cx="11430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608004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609588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748B4A6-F4F1-468B-B8B8-FCA032EAB6DC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8D41290-C057-4DC8-A071-86A65795E327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1113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MESETA ESPIN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66680" y="1447920"/>
          <a:ext cx="5943600" cy="1950840"/>
        </p:xfrm>
        <a:graphic>
          <a:graphicData uri="http://schemas.openxmlformats.org/drawingml/2006/table">
            <a:tbl>
              <a:tblPr/>
              <a:tblGrid>
                <a:gridCol w="2362320"/>
                <a:gridCol w="1697040"/>
                <a:gridCol w="1884240"/>
              </a:tblGrid>
              <a:tr h="307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EL CORDÓN A BAT. 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8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EL CORDÓN A BAT. 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77 A BAT. 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77 A PTA. MESETA ESPINO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7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AÑADON SE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rcRect l="3127" t="21071" r="3127" b="15170"/>
          <a:stretch/>
        </p:blipFill>
        <p:spPr>
          <a:xfrm>
            <a:off x="609480" y="1371600"/>
            <a:ext cx="74678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243" name=""/>
            <p:cNvSpPr/>
            <p:nvPr/>
          </p:nvSpPr>
          <p:spPr>
            <a:xfrm>
              <a:off x="3429000" y="548640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9000" y="571500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94360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85040" y="533412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10240" y="55627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10240" y="57754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5320" y="609624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10240" y="60804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6ADF4CA7-7D64-49C0-8D47-E8AED849060E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B581F2DB-F27B-4285-ADBC-F6CCDBDE0441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AÑADÓN S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066680" y="1465200"/>
          <a:ext cx="5943600" cy="323532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131 a BAT. 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601 a GASOD. BAT 2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 104 a GASOD. BAT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 29 a PTA. COMP. PC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3/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8 a GASOD. BAT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 Lineas paralela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129 hasta bat-2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22 hasta PTA. COMP. PC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7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245 a PTA. COMP. PC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CL-4004 a BAT. 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os tramos en ser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1/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7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5DA2C244-0701-449B-BF36-79661EA05078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AÑADÓN S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066680" y="1465200"/>
          <a:ext cx="5943600" cy="27748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131 A EMPALME BAT. 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ODUCTO BATERIA 6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ODUCTO BATERIA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EODUCTO BATERIA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8 A COL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COLECTOR A P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129 A BATERIA 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22 A PLA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ERIA 245 A BATERIA 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EL HUEM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rcRect l="4688" t="21878" r="9376" b="10376"/>
          <a:stretch/>
        </p:blipFill>
        <p:spPr>
          <a:xfrm>
            <a:off x="990720" y="1066680"/>
            <a:ext cx="701028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279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57150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5943600"/>
              <a:ext cx="3808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84680" y="5334120"/>
              <a:ext cx="1018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880" y="5562720"/>
              <a:ext cx="1067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9880" y="5775480"/>
              <a:ext cx="11430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608004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05320" y="609588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A76A4873-9F3E-4904-8855-E357A178458E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600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1.-Descripción del Sistema d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T</a:t>
            </a: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ransporte de Hidrocarb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      </a:t>
            </a:r>
            <a:r>
              <a:rPr b="1" lang="es-MX" sz="2000" spc="-1" strike="noStrike">
                <a:solidFill>
                  <a:srgbClr val="009999"/>
                </a:solidFill>
                <a:latin typeface="Myriad Web"/>
              </a:rPr>
              <a:t>Líquidos y Gaseo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61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ff"/>
                </a:solidFill>
                <a:latin typeface="Myriad Web"/>
              </a:rPr>
              <a:t>2.-Relación Operativa y Comer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610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9933"/>
                </a:solidFill>
                <a:latin typeface="Myriad Web"/>
              </a:rPr>
              <a:t>3.-Condiciones de Confiabilidad y Seguridad de los 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63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Myriad Web"/>
              </a:rPr>
              <a:t>4.-Sistema de Gest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366D6760-9EA8-4A67-B492-143D45CA3D5C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INDICE TEMA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3E51BB38-4ABB-4D49-B8A3-BF7ED74C135A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066680" y="1295280"/>
          <a:ext cx="5943600" cy="516420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58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GAS DULCE 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 a 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ts.191 a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 a MFD-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90 a P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 a 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 a 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 a MFD 1-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MFD-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6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PCB( 1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 1-100 a PCB( 2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5 a MFD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5 a MFD-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89 a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a 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7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990720" y="990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219320" y="1174680"/>
          <a:ext cx="5943600" cy="54212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58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GAS DULCE 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5 a 2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 a 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 a Planta Tr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1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3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1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 a  MFD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1 a EX 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 a 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 a PCC( 1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 a PCC( 2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 a 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3 a 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6 a MFD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D-4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5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 a 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42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rada CS a 3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3 a P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0 m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1006560" y="668988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305920" y="457200"/>
            <a:ext cx="685800" cy="6172200"/>
            <a:chOff x="8305920" y="457200"/>
            <a:chExt cx="685800" cy="617220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305920" y="45720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305920" y="380988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 rot="16200000">
            <a:off x="7920360" y="534132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914400" y="48888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36680" y="670572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11F1160-9C3D-4CA2-8112-6F660DC9576A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990720" y="1052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66680" y="1357200"/>
          <a:ext cx="5943600" cy="260496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GAS ACIDO 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 VINC.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a 2-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a 1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/193 a O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 UGA a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 A VINC.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8 a 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066680" y="4038480"/>
          <a:ext cx="5943600" cy="233856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 (H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 a P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A a P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B a P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C a Curv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vón a Corral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ralito a Bloqu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queo a PMF-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17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D78585C7-24D1-4E7C-BA13-0EF379360EF9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11430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66680" y="1447920"/>
          <a:ext cx="5943600" cy="4643280"/>
        </p:xfrm>
        <a:graphic>
          <a:graphicData uri="http://schemas.openxmlformats.org/drawingml/2006/table">
            <a:tbl>
              <a:tblPr/>
              <a:tblGrid>
                <a:gridCol w="2514600"/>
                <a:gridCol w="154476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68  A BAT. Bat 1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33 A Oleod.Pp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 Y 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133 Oleod. Ppal A BAT. 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Oleod. Ppal A PLAN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40 A BAT. 1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 A BAT. 144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 A BAT. 152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152 A BAT. 16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. A BAT. 153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. A BAT. 6-4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Oleod. Ppal. A BAT. 6-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164 A BAT. 155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5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A BAT. 163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A BAT. 145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TA. A BAT. 16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.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BAT. 19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5/8” Y 8-5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C1A82E7C-D164-4486-9DA7-20DC3754AEC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11430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066680" y="1447920"/>
          <a:ext cx="5943600" cy="15206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Oleod. Ppal A BAT. 3-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.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AT. 1-1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 BAT. 13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eod. Ppal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 BAT. 154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5/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28161" t="3008" r="17644" b="1887"/>
          <a:stretch/>
        </p:blipFill>
        <p:spPr>
          <a:xfrm>
            <a:off x="2971800" y="22860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 rot="16200000">
            <a:off x="7768080" y="51904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PIEDRAS COLO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828800" y="2819520"/>
            <a:ext cx="1752480" cy="1143000"/>
            <a:chOff x="1828800" y="2819520"/>
            <a:chExt cx="1752480" cy="1143000"/>
          </a:xfrm>
        </p:grpSpPr>
        <p:sp>
          <p:nvSpPr>
            <p:cNvPr id="340" name=""/>
            <p:cNvSpPr/>
            <p:nvPr/>
          </p:nvSpPr>
          <p:spPr>
            <a:xfrm>
              <a:off x="1828800" y="281952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8108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8108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505320"/>
              <a:ext cx="38124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37120" y="289548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62320" y="31240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2320" y="333684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57400" y="365760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62320" y="364176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" descr=""/>
          <p:cNvPicPr/>
          <p:nvPr/>
        </p:nvPicPr>
        <p:blipFill>
          <a:blip r:embed="rId4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861DC0D6-18C4-444D-A1C4-ECB5969EEF1D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9879A7C2-320C-4527-8300-437471098D0A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PIEDRAS COLO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066680" y="1447920"/>
          <a:ext cx="5943600" cy="23144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Pta. Trat. A Unid. L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 y 8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1-EI A Bat 03-P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3-PC A PCO-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1-PC A PCO-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02-PC A PCO-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Bat. 04-PC A Pta. Tra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PCO-33 A Pta. Tra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066680" y="3886200"/>
          <a:ext cx="5943600" cy="17222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01-PC A Central Va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ompresor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O-7 A Compresor PCO 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03-PC A Ctral. Va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Bat. 02-PC A Ctral. Vap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rcRect l="0" t="17188" r="1981" b="8561"/>
          <a:stretch/>
        </p:blipFill>
        <p:spPr>
          <a:xfrm>
            <a:off x="838080" y="1447920"/>
            <a:ext cx="7239240" cy="43876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/>
          <p:cNvSpPr/>
          <p:nvPr/>
        </p:nvSpPr>
        <p:spPr>
          <a:xfrm rot="16200000">
            <a:off x="7661520" y="52952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BELLA VISTA O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E9BA59DD-C332-4E07-9C65-65F5278DDF76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76720" y="5257800"/>
            <a:ext cx="1752480" cy="1143000"/>
            <a:chOff x="3276720" y="5257800"/>
            <a:chExt cx="1752480" cy="1143000"/>
          </a:xfrm>
        </p:grpSpPr>
        <p:sp>
          <p:nvSpPr>
            <p:cNvPr id="370" name=""/>
            <p:cNvSpPr/>
            <p:nvPr/>
          </p:nvSpPr>
          <p:spPr>
            <a:xfrm>
              <a:off x="3276720" y="5257800"/>
              <a:ext cx="1752480" cy="114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29000" y="5486400"/>
              <a:ext cx="3808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715000"/>
              <a:ext cx="380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29000" y="5943600"/>
              <a:ext cx="38088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4680" y="5334120"/>
              <a:ext cx="1018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5562720"/>
              <a:ext cx="1067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5775480"/>
              <a:ext cx="11430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9880" y="6080040"/>
              <a:ext cx="1143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05320" y="609588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36DE1402-CB59-4ECA-9ACE-40F50D147035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111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BELLA VISTA O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066680" y="1465200"/>
          <a:ext cx="5943600" cy="7444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ON. FORESTAL A PTA. TR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 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1066680" y="2362320"/>
          <a:ext cx="5943600" cy="153828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PTA DE ENTREGA A UNIDAD LA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DAD LACT A OLEOD. TECPETR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LAC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T. 2 A BAT.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0 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BAT. 1 A 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A DE ENTREG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t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93920" y="3433680"/>
            <a:ext cx="70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66ff"/>
                </a:solidFill>
                <a:latin typeface="Myriad Web"/>
              </a:rPr>
              <a:t>2.-RELACION OPERATIVA Y COMERCIAL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AREAS OPER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479736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NDOZ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EDRAS COLO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447920"/>
            <a:ext cx="3124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LFO SAN JORGE BASI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RO WENCESL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H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ÑADON MI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ETA ESPIN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ÑADON S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HUEM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EDRA CLA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LA VISTA O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64832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73680"/>
            <a:ext cx="30492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5238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733920"/>
            <a:ext cx="30492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05E70B71-8952-46A0-AAB4-ED0A93F83537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5181480" y="228600"/>
            <a:ext cx="1524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457200" y="1447920"/>
            <a:ext cx="52578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SANTA CRUZ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AÑADON SE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.P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RAM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ACIMIENTO – TERMINAL CALETA OLI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0384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nterstate-Regular"/>
              </a:rPr>
              <a:t>SERVICIOS DE TRANSPORTE DE CR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533520"/>
            <a:ext cx="39625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048120"/>
            <a:ext cx="5715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HUBUT S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ESCAL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TECPETROL – PETROBRAS – E.C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RAM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ACIMIENTO – TERMINAL CALETA CÓRD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648320"/>
            <a:ext cx="57150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ENDO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ENDOC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.P.F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RAMO: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YACIMIENTO –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.P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93BC1793-278E-4B77-8452-192D880A732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6478920" y="4111200"/>
            <a:ext cx="44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RELACION OPERATIVA Y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 rot="16200000">
            <a:off x="6478920" y="4111200"/>
            <a:ext cx="44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RELACION OPERATIVA Y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181480" y="228600"/>
            <a:ext cx="1524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920" y="1542960"/>
            <a:ext cx="807696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AREA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SANTA CRUZ NORTE – CHUBUT S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CRUDO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ESCALANTE Y CAÑADON SE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COMPAÑIA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TERMAP S.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00000"/>
                </a:solidFill>
                <a:latin typeface="Myriad Web"/>
              </a:rPr>
              <a:t>PLAYA DE TK’s: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s-MX" sz="1300" spc="-1" strike="noStrike">
                <a:solidFill>
                  <a:srgbClr val="000000"/>
                </a:solidFill>
                <a:latin typeface="Myriad Web"/>
              </a:rPr>
              <a:t>YACIMIENTO –CALETA OLIVIA (CAÑADON SECO) CALETA CORDOVA (ESCALAN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nterstate-Regular"/>
              </a:rPr>
              <a:t>SERVICIOS DE ALMACENAJE DE CR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533520"/>
            <a:ext cx="39625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B66E4292-348B-4323-99D1-1719114269FD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28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 rot="16200000">
            <a:off x="6402600" y="4034880"/>
            <a:ext cx="45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RELACION OPERATIVA Y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181480" y="228600"/>
            <a:ext cx="1524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nterstate-Regular"/>
              </a:rPr>
              <a:t>SERVICIOS DE TRANSPORTE DE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33520"/>
            <a:ext cx="39625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447920"/>
            <a:ext cx="762012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CONCES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EL HUEMUL / CAÑADON MINERALES / CAÑADON SECO / CERRO WENCESLAO / LAS H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ENERGY CONSULTING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ALBAN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CAMUZZI GAS DEL S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T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Myriad Web"/>
              </a:rPr>
              <a:t>DUK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8699B057-A693-4B3F-8C2E-475924FFF64E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5120" y="34336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9933"/>
                </a:solidFill>
                <a:latin typeface="Myriad Web"/>
              </a:rPr>
              <a:t>3.-INTEGRIDAD Y CONFIABILIDAD DE DUCTOS</a:t>
            </a:r>
            <a:r>
              <a:rPr b="0" lang="es-MX" sz="2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51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"/>
          <p:cNvSpPr/>
          <p:nvPr/>
        </p:nvSpPr>
        <p:spPr>
          <a:xfrm rot="16200000">
            <a:off x="6402600" y="4034880"/>
            <a:ext cx="457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INTEGRIDAD Y CONFIABILIDAD DE DU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7772400" y="3200400"/>
            <a:ext cx="304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5029200"/>
            <a:ext cx="1067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391520" y="60958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371600"/>
            <a:ext cx="76201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OBJETIV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ANTENER CONDICIONES SEGURAS 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TRABAJAR CON EL PROGRAMA DE INSPECCIÓN BASADA EN RIES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PREVENIR LA CONTAMINACIÓN AMBIEN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PROGRAMA DE MONITOREO</a:t>
            </a:r>
            <a:r>
              <a:rPr b="0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ORROSIÓN EX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CORROSIÓN IN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Myriad Web"/>
              </a:rPr>
              <a:t>PROGRAMA DE INSPEC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yriad We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Myriad Web"/>
              </a:rPr>
              <a:t>MEDICIÓN, REGISTRO, PROCESAMIENTO DE CORROSIÓN EXTERNA E INTE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6096C029-9E28-43AF-9FE1-C99325CA7F2C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32960" y="343368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Myriad Web"/>
              </a:rPr>
              <a:t>4.-SISTEMA DE GESTIÓN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rcRect l="68901" t="0" r="22610" b="54732"/>
          <a:stretch/>
        </p:blipFill>
        <p:spPr>
          <a:xfrm>
            <a:off x="8153280" y="304920"/>
            <a:ext cx="685800" cy="33526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rcRect l="50949" t="63700" r="40570" b="709"/>
          <a:stretch/>
        </p:blipFill>
        <p:spPr>
          <a:xfrm>
            <a:off x="8153280" y="3657600"/>
            <a:ext cx="685800" cy="28195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85800" y="1447920"/>
            <a:ext cx="69343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Myriad Web"/>
              </a:rPr>
              <a:t>BASES DEL SISTE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Legislación de a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Política de Seguridad y Medio Ambiente Vintage Oil Argentina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Normas y Proced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Myriad Web"/>
              </a:rPr>
              <a:t>Prácticas  Operati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66680" y="3581280"/>
            <a:ext cx="5715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Myriad Web"/>
              </a:rPr>
              <a:t>Legislación de Aplica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olución SEE 105/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olución SEE 342/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posición SSC 56/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olución Enargas 196/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posición SSC 19/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posición SSC 24/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477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BFF37105-C75C-41A7-A44B-3ED505472729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838080" y="1371600"/>
            <a:ext cx="571500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Myriad Web"/>
              </a:rPr>
              <a:t>Política de Seguridad y Medio Ambiente de Vintage Oil Argentina Inc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Establece como prioridad que sus operaciones deben estar orientadas hacia la disminución del Impacto Ambiental en todas sus f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La prevención de los incidentes que puedan afectar el medio Amb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Que el cuidado ambiental es una responsabilidad indelegable de las líneas de mando y una tarea inherente a sus fun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Que debe proveer los medios para capacitar a todo el personal en prácticas seguras enfatizando la prevención de riesg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488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C6A57089-DCAB-4691-9959-D53C4FF6E2D7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493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838080" y="1371600"/>
            <a:ext cx="57150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yriad Web"/>
              </a:rPr>
              <a:t>Normas y Procedimi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Propuesta y registro de mejoras ambien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porte e investigación de todo accidente e inci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anejo de Residuos en todas las fases de la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Para el caso de construcción de nuevos duc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esarrollo del proyecto basada en criterios de minimiz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Estudio ambiental prev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Aplicación de las recomendaciones y plan de protección ambiental en todas las etapas del desarrollo del proy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iseño basado en criterios de seguridad y confiabilidad oper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499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93DAE77-BAC4-4A31-B6EB-7B6BEBC92CE2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504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6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371600"/>
            <a:ext cx="5715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Myriad Web"/>
              </a:rPr>
              <a:t>-Prácticas Opera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Durante la constru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r el ancho de pis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Respetar horizontes edáficos y restituirlos en medida de lo posible en el tap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r tiempo de apertura de exca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ción y control de ero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r la interferencia con fau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Conservación del patrimonio Arqueológ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inimización y gestión racional de residu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yriad Web"/>
              </a:rPr>
              <a:t>Monitoreo durante construcción y oper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510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9D48A239-6149-4D8F-A113-0D67B734D11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0857" t="9099" r="2378" b="6974"/>
          <a:stretch/>
        </p:blipFill>
        <p:spPr>
          <a:xfrm>
            <a:off x="838080" y="644400"/>
            <a:ext cx="7696440" cy="5680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5627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38080" y="5867280"/>
            <a:ext cx="3124080" cy="381240"/>
            <a:chOff x="838080" y="5867280"/>
            <a:chExt cx="3124080" cy="381240"/>
          </a:xfrm>
        </p:grpSpPr>
        <p:sp>
          <p:nvSpPr>
            <p:cNvPr id="79" name=""/>
            <p:cNvSpPr/>
            <p:nvPr/>
          </p:nvSpPr>
          <p:spPr>
            <a:xfrm>
              <a:off x="838080" y="586728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LFO SAN JORGE BAS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867280"/>
              <a:ext cx="2819520" cy="38124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83" name="" descr=""/>
            <p:cNvPicPr/>
            <p:nvPr/>
          </p:nvPicPr>
          <p:blipFill>
            <a:blip r:embed="rId3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UENCA NEUQU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82A6EF9-CBAC-4203-8437-25CF51983AC0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"/>
          <p:cNvSpPr/>
          <p:nvPr/>
        </p:nvSpPr>
        <p:spPr>
          <a:xfrm rot="16200000">
            <a:off x="7310160" y="4727520"/>
            <a:ext cx="29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SISTEMA DE GESTIÓN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838080" y="1371600"/>
            <a:ext cx="5715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Myriad Web"/>
              </a:rPr>
              <a:t>-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Myriad Web"/>
              </a:rPr>
              <a:t>Prácticas Opera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En los conductos exist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Rutina de inspe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 de mantenimiento cató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Rutina de prueba hidráu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es de recambio de ductos y reemplazo de mate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es de limpieza de 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Cambio de purgas de gasoductos y reemplazo de materiales para prevenir pérd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Construcción de barreras en conductos para prevenir afectación de zonas sen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Myriad Web"/>
              </a:rPr>
              <a:t>Plan de construcción de defensas en cruce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419720" y="533520"/>
            <a:ext cx="4114800" cy="380880"/>
            <a:chOff x="4419720" y="533520"/>
            <a:chExt cx="4114800" cy="380880"/>
          </a:xfrm>
        </p:grpSpPr>
        <p:sp>
          <p:nvSpPr>
            <p:cNvPr id="521" name=""/>
            <p:cNvSpPr/>
            <p:nvPr/>
          </p:nvSpPr>
          <p:spPr>
            <a:xfrm>
              <a:off x="4419720" y="533520"/>
              <a:ext cx="411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Interstate-Regular"/>
                </a:rPr>
                <a:t>OLEODUCTOS Y GASODU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76920" y="533520"/>
              <a:ext cx="3200400" cy="3808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48440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C6C33CC4-4579-4A1D-8960-4801E5D6A031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9231" t="13705" r="10966" b="16688"/>
          <a:stretch/>
        </p:blipFill>
        <p:spPr>
          <a:xfrm>
            <a:off x="762120" y="873000"/>
            <a:ext cx="7315200" cy="52992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838080" y="5867280"/>
            <a:ext cx="2666880" cy="380880"/>
            <a:chOff x="838080" y="5867280"/>
            <a:chExt cx="2666880" cy="380880"/>
          </a:xfrm>
        </p:grpSpPr>
        <p:sp>
          <p:nvSpPr>
            <p:cNvPr id="89" name=""/>
            <p:cNvSpPr/>
            <p:nvPr/>
          </p:nvSpPr>
          <p:spPr>
            <a:xfrm>
              <a:off x="838080" y="58672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DOZA - CACHEU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5867280"/>
              <a:ext cx="2514600" cy="380880"/>
            </a:xfrm>
            <a:prstGeom prst="rect">
              <a:avLst/>
            </a:pr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5943600"/>
            <a:ext cx="3733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95" name="" descr=""/>
            <p:cNvPicPr/>
            <p:nvPr/>
          </p:nvPicPr>
          <p:blipFill>
            <a:blip r:embed="rId3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UENCA CUY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2D5DBC9A-1400-449C-A680-39DFBC1EFA09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54732"/>
          <a:stretch/>
        </p:blipFill>
        <p:spPr>
          <a:xfrm>
            <a:off x="765000" y="304920"/>
            <a:ext cx="8069400" cy="281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63700" r="0" b="709"/>
          <a:stretch/>
        </p:blipFill>
        <p:spPr>
          <a:xfrm>
            <a:off x="762120" y="4259160"/>
            <a:ext cx="8076960" cy="221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685800"/>
            <a:ext cx="3657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2616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400" y="3457440"/>
            <a:ext cx="833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9999"/>
                </a:solidFill>
                <a:latin typeface="Myriad Web"/>
              </a:rPr>
              <a:t>1.-SISTEMA DE TRANSPORTE DE HIDROCARBUROS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1066680" y="1068480"/>
            <a:ext cx="350532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CERRO WENCESL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rcRect l="2813" t="21878" r="76566" b="33125"/>
          <a:stretch/>
        </p:blipFill>
        <p:spPr>
          <a:xfrm>
            <a:off x="3200400" y="1295280"/>
            <a:ext cx="27939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447920" y="2819520"/>
            <a:ext cx="1752480" cy="1143000"/>
            <a:chOff x="1447920" y="2819520"/>
            <a:chExt cx="1752480" cy="1143000"/>
          </a:xfrm>
        </p:grpSpPr>
        <p:sp>
          <p:nvSpPr>
            <p:cNvPr id="113" name=""/>
            <p:cNvSpPr/>
            <p:nvPr/>
          </p:nvSpPr>
          <p:spPr>
            <a:xfrm>
              <a:off x="160020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50532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56240" y="289584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440" y="31244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440" y="333720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281952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65796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440" y="3642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FFCE91A9-BA8D-4647-A86D-314E800D85E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 rot="16200000">
            <a:off x="7768080" y="5188680"/>
            <a:ext cx="20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DUCTOS PRINCIP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98AB24A9-F9AD-4919-B57B-A322C861A0B4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Interstate-Regular"/>
              </a:rPr>
              <a:t>CERRO WENCESL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352520"/>
          <a:ext cx="5943600" cy="1684440"/>
        </p:xfrm>
        <a:graphic>
          <a:graphicData uri="http://schemas.openxmlformats.org/drawingml/2006/table">
            <a:tbl>
              <a:tblPr/>
              <a:tblGrid>
                <a:gridCol w="2319480"/>
                <a:gridCol w="1739880"/>
                <a:gridCol w="1884240"/>
              </a:tblGrid>
              <a:tr h="317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LEODUC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AME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-2 a PLANTA DES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W-3 a PLANTA DESH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TA DESH. A YP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m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62954" r="33977" b="0"/>
          <a:stretch/>
        </p:blipFill>
        <p:spPr>
          <a:xfrm>
            <a:off x="762120" y="336600"/>
            <a:ext cx="2511360" cy="654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54280" y="6537240"/>
            <a:ext cx="16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19 DE ENERO DE 2006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153280" y="304920"/>
            <a:ext cx="685800" cy="6172200"/>
            <a:chOff x="8153280" y="304920"/>
            <a:chExt cx="685800" cy="61722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rcRect l="68901" t="0" r="22610" b="54732"/>
            <a:stretch/>
          </p:blipFill>
          <p:spPr>
            <a:xfrm>
              <a:off x="8153280" y="304920"/>
              <a:ext cx="6858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rcRect l="50949" t="63700" r="40570" b="709"/>
            <a:stretch/>
          </p:blipFill>
          <p:spPr>
            <a:xfrm>
              <a:off x="8153280" y="3657600"/>
              <a:ext cx="6858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 rot="16200000">
            <a:off x="7661520" y="529704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Myriad Web"/>
              </a:rPr>
              <a:t>LAS H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rcRect l="42191" t="21878" r="30470" b="17714"/>
          <a:stretch/>
        </p:blipFill>
        <p:spPr>
          <a:xfrm>
            <a:off x="3317760" y="457200"/>
            <a:ext cx="354024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447920" y="2819520"/>
            <a:ext cx="1752480" cy="1143000"/>
            <a:chOff x="1447920" y="2819520"/>
            <a:chExt cx="1752480" cy="1143000"/>
          </a:xfrm>
        </p:grpSpPr>
        <p:sp>
          <p:nvSpPr>
            <p:cNvPr id="140" name=""/>
            <p:cNvSpPr/>
            <p:nvPr/>
          </p:nvSpPr>
          <p:spPr>
            <a:xfrm>
              <a:off x="1600200" y="3048120"/>
              <a:ext cx="3812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3276720"/>
              <a:ext cx="381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505320"/>
              <a:ext cx="3812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56240" y="2895840"/>
              <a:ext cx="101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OLE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440" y="31244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GASODU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81440" y="333720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LIMITES DE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2819520"/>
              <a:ext cx="17524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657960"/>
              <a:ext cx="22860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144" y="0"/>
                  </a:moveTo>
                  <a:lnTo>
                    <a:pt x="0" y="240"/>
                  </a:lnTo>
                  <a:lnTo>
                    <a:pt x="288" y="24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81440" y="3642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Myriad Web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248520" y="5181480"/>
            <a:ext cx="7617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17520" y="6553080"/>
            <a:ext cx="170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- HOJA </a:t>
            </a:r>
            <a:fld id="{125802DE-E55D-4508-88C8-27272014472E}" type="slidenum">
              <a:rPr b="0" lang="es-MX" sz="1000" spc="-1" strike="noStrike">
                <a:solidFill>
                  <a:srgbClr val="000000"/>
                </a:solidFill>
                <a:latin typeface="Myriad Web"/>
              </a:rPr>
              <a:t>&lt;number&gt;</a:t>
            </a:fld>
            <a:r>
              <a:rPr b="0" lang="es-MX" sz="1000" spc="-1" strike="noStrike">
                <a:solidFill>
                  <a:srgbClr val="000000"/>
                </a:solidFill>
                <a:latin typeface="Myriad Web"/>
              </a:rPr>
              <a:t> DE 40 -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3:55:49Z</dcterms:created>
  <dc:creator> </dc:creator>
  <dc:description/>
  <dc:language>en-US</dc:language>
  <cp:lastModifiedBy> </cp:lastModifiedBy>
  <dcterms:modified xsi:type="dcterms:W3CDTF">2006-01-23T12:26:42Z</dcterms:modified>
  <cp:revision>149</cp:revision>
  <dc:subject/>
  <dc:title>Slide 1</dc:title>
</cp:coreProperties>
</file>