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A0A-86E5-47B2-B1AC-787EEEEC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B8F-04F9-415D-A3FC-A0F793AF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AA3-1A3A-46AA-8965-FB7EBB8F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D38-7DA9-42CB-8311-3D759533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919-DC95-4423-935C-DAEF5DE5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5D5-C12E-4DEA-B049-4EB5CD3D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615-E578-45A2-AF0F-095331C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095-1BDA-47D6-9D21-F43B71BE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4BE-A4A8-4D1F-8012-2243A6C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536-6710-474F-82C8-1E731DC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655-EA5A-41DC-92C8-82F9B85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D2A-ABDD-42FA-AB7C-5717AA97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1F5A-7FE4-4510-A798-B8F38D487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62954"/>
          <a:stretch/>
        </p:blipFill>
        <p:spPr>
          <a:xfrm>
            <a:off x="2133720" y="3276720"/>
            <a:ext cx="5486400" cy="94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304920"/>
            <a:ext cx="3429000" cy="2819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73600" y="304920"/>
            <a:ext cx="350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Transporte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Hidrocarbu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Líquidos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Gasoductos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Captación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04920"/>
            <a:ext cx="8076960" cy="281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PIEDRA CLA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rcRect l="59378" t="21878" r="4688" b="16626"/>
          <a:stretch/>
        </p:blipFill>
        <p:spPr>
          <a:xfrm>
            <a:off x="3276720" y="533520"/>
            <a:ext cx="4572000" cy="58672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447920" y="2819520"/>
            <a:ext cx="1752480" cy="1143000"/>
            <a:chOff x="1447920" y="2819520"/>
            <a:chExt cx="1752480" cy="1143000"/>
          </a:xfrm>
        </p:grpSpPr>
        <p:sp>
          <p:nvSpPr>
            <p:cNvPr id="159" name=""/>
            <p:cNvSpPr/>
            <p:nvPr/>
          </p:nvSpPr>
          <p:spPr>
            <a:xfrm>
              <a:off x="1600200" y="30481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0200" y="3276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00200" y="350532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56240" y="289584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1440" y="312444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1440" y="333720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7920" y="281952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365796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440" y="36421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28EE2EBB-736B-44C6-92C0-7E2C4C19B14F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261DCA9B-5115-41D0-83E4-3CB033CB7D62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1113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LAS HERAS / PIEDRA CLAVADA / SUR PIEDRA CLAV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66680" y="1414440"/>
          <a:ext cx="5943600" cy="91440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304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H-3 a LH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7/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066680" y="2481120"/>
          <a:ext cx="5943240" cy="1599840"/>
        </p:xfrm>
        <a:graphic>
          <a:graphicData uri="http://schemas.openxmlformats.org/drawingml/2006/table">
            <a:tbl>
              <a:tblPr/>
              <a:tblGrid>
                <a:gridCol w="2319120"/>
                <a:gridCol w="1739520"/>
                <a:gridCol w="1884600"/>
              </a:tblGrid>
              <a:tr h="307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H-3 a PC-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H-3 a LH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H-3 a YP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5000" b="0"/>
          <a:stretch/>
        </p:blipFill>
        <p:spPr>
          <a:xfrm>
            <a:off x="380880" y="1014480"/>
            <a:ext cx="7696440" cy="4700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 rot="16200000">
            <a:off x="7768080" y="51904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AÑADON MI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187" name=""/>
            <p:cNvSpPr/>
            <p:nvPr/>
          </p:nvSpPr>
          <p:spPr>
            <a:xfrm>
              <a:off x="3429000" y="548640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571500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29000" y="594360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85040" y="533412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0240" y="55627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10240" y="577548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609624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0240" y="60804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42641ADF-FC95-4F50-A3A2-E4CA3FAD3CE7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256C29A4-A150-4A12-BE11-3B7070F12F9B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1113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CAÑADÓN MINER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66680" y="1414440"/>
          <a:ext cx="5943600" cy="171288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304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ERIA 403 A PLANTA C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ERIA 403 A PLANTA C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A C.M. A BATERIA 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ERIA 406 A EMP. BAT. 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066680" y="3200400"/>
          <a:ext cx="5943600" cy="31748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307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02 A BAT. 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99 A BAT. 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58 A PTA. DE TR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22 A PTA. DE TR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01 A BAT. 9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43 A EMPLAME 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AME 303  A BAT 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A C.M. A MEDI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5/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7768080" y="51904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AÑADON MI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MESETA ESPIN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rcRect l="24420" t="29876" r="18074" b="34459"/>
          <a:stretch/>
        </p:blipFill>
        <p:spPr>
          <a:xfrm>
            <a:off x="685800" y="1257480"/>
            <a:ext cx="7315200" cy="460980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216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57150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29000" y="5943600"/>
              <a:ext cx="3808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84680" y="5334120"/>
              <a:ext cx="1018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5562720"/>
              <a:ext cx="1067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5775480"/>
              <a:ext cx="11430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6080040"/>
              <a:ext cx="1143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609588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1C2AD856-7759-4D7A-89C9-DC3E533917AC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DB07525E-D7D1-4144-AD9E-70B07B392480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1113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MESETA ESPIN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066680" y="1447920"/>
          <a:ext cx="5943600" cy="1950840"/>
        </p:xfrm>
        <a:graphic>
          <a:graphicData uri="http://schemas.openxmlformats.org/drawingml/2006/table">
            <a:tbl>
              <a:tblPr/>
              <a:tblGrid>
                <a:gridCol w="2362320"/>
                <a:gridCol w="1697040"/>
                <a:gridCol w="1884240"/>
              </a:tblGrid>
              <a:tr h="307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EL CORDÓN A BAT. 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 Y 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8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EL CORDÓN A BAT. 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77 A BAT. 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 Y 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77 A PTA. MESETA ESPINO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 Y 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7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38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AÑADON SE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rcRect l="3127" t="21071" r="3127" b="15170"/>
          <a:stretch/>
        </p:blipFill>
        <p:spPr>
          <a:xfrm>
            <a:off x="609480" y="1371600"/>
            <a:ext cx="74678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243" name=""/>
            <p:cNvSpPr/>
            <p:nvPr/>
          </p:nvSpPr>
          <p:spPr>
            <a:xfrm>
              <a:off x="3429000" y="548640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571500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594360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85040" y="533412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0240" y="55627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10240" y="577548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05320" y="609624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10240" y="60804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7F7E908C-99B9-4FDC-BEC9-94C5BA8E3BE9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073094A0-1587-4234-9A3D-4EA9F4C29F94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1111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CAÑADÓN S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066680" y="1465200"/>
          <a:ext cx="5943600" cy="323532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131 a BAT. 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601 a GASOD. BAT 2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 104 a GASOD. BAT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 29 a PTA. COMP. PC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3/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8 a GASOD. BAT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 Lineas paralel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129 hasta bat-2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22 hasta PTA. COMP. PC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7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245 a PTA. COMP. PC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CL-4004 a BAT. 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os tramos en seri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1/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7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3F146423-7A38-48CC-A9AA-9E4C97590ED8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111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CAÑADÓN S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066680" y="1465200"/>
          <a:ext cx="5943600" cy="277488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131 A EMPALME BAT. 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EODUCTO BATERIA 6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EODUCTO BATERIA 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EODUCTO BATERIA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ERIA 8 A COL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COLECTOR A PLA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ERIA 129 A BATERIA 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ERIA 22 A PLA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ERIA 245 A BATERIA 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EL HUE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rcRect l="4688" t="21878" r="9376" b="10376"/>
          <a:stretch/>
        </p:blipFill>
        <p:spPr>
          <a:xfrm>
            <a:off x="990720" y="1066680"/>
            <a:ext cx="701028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279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57150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5943600"/>
              <a:ext cx="3808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84680" y="5334120"/>
              <a:ext cx="1018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880" y="5562720"/>
              <a:ext cx="1067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9880" y="5775480"/>
              <a:ext cx="11430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6080040"/>
              <a:ext cx="1143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05320" y="609588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3E84364B-EEE4-4786-BF88-9410E3F68001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600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99"/>
                </a:solidFill>
                <a:latin typeface="Myriad Web"/>
              </a:rPr>
              <a:t>1.-Descripción del Sistema d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T</a:t>
            </a:r>
            <a:r>
              <a:rPr b="1" lang="es-MX" sz="2000" spc="-1" strike="noStrike">
                <a:solidFill>
                  <a:srgbClr val="009999"/>
                </a:solidFill>
                <a:latin typeface="Myriad Web"/>
              </a:rPr>
              <a:t>ransporte de Hidrocarb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99"/>
                </a:solidFill>
                <a:latin typeface="Myriad Web"/>
              </a:rPr>
              <a:t>      </a:t>
            </a:r>
            <a:r>
              <a:rPr b="1" lang="es-MX" sz="2000" spc="-1" strike="noStrike">
                <a:solidFill>
                  <a:srgbClr val="009999"/>
                </a:solidFill>
                <a:latin typeface="Myriad Web"/>
              </a:rPr>
              <a:t>Líquidos y Gaseo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61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ff"/>
                </a:solidFill>
                <a:latin typeface="Myriad Web"/>
              </a:rPr>
              <a:t>2.-Relación Operativa y Comer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610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Myriad Web"/>
              </a:rPr>
              <a:t>3.-Condiciones de Confiabilidad y Seguridad de los 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63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Myriad Web"/>
              </a:rPr>
              <a:t>4.-Sistema de Gest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76449C99-3F07-4A35-BE96-91F2F34A1E9C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INDICE TEMA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E2BA73EC-DD2B-4C33-9B51-4F7AAF9853EB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066680" y="1295280"/>
          <a:ext cx="5943600" cy="516420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588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 (GAS DULCE L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8 a 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5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 a MFD-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 a MFD-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ts.191 a 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 a MFD-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 a MFD-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90 a P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 a 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2 a 1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 a MFD 1-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 1-100 a MFD-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 1-100 a 6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 1-100 a PCB( 1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 1-100 a PCB( 2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5 a MFD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5 a MFD-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89 a 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5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a 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75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990720" y="9907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219320" y="1174680"/>
          <a:ext cx="5943600" cy="54212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58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 (GAS DULCE L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5 a 2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 a 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 a Planta Tr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1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3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1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1 a  MFD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1 a EX 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8 a 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 a PCC( 1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 a PCC( 2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 a 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3 a 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5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6 a MFD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4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5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 a 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42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ada CS a 3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3 a P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1006560" y="668988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8305920" y="457200"/>
            <a:ext cx="685800" cy="6172200"/>
            <a:chOff x="8305920" y="457200"/>
            <a:chExt cx="685800" cy="617220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305920" y="45720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305920" y="380988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 rot="16200000">
            <a:off x="7920360" y="534132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914400" y="48888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636680" y="670572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01965B8E-D6F1-440E-BECF-F0F98A370595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990720" y="10526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66680" y="1357200"/>
          <a:ext cx="5943600" cy="260496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 (GAS ACIDO L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VINC. 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a 2-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a 1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/193 a O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 UGA a 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A VINC. 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8 a 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066680" y="4038480"/>
          <a:ext cx="5943600" cy="233856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 (H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 a P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A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5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B a P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C a Curv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vón a Corral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ralito a Bloqu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oqueo a PMF-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344E494C-C768-4894-B54E-9B96D57EAA5B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11430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66680" y="1447920"/>
          <a:ext cx="5943600" cy="4643280"/>
        </p:xfrm>
        <a:graphic>
          <a:graphicData uri="http://schemas.openxmlformats.org/drawingml/2006/table">
            <a:tbl>
              <a:tblPr/>
              <a:tblGrid>
                <a:gridCol w="2514600"/>
                <a:gridCol w="154476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168  A BAT. Bat 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133 A Oleod.Pp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 Y 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133 Oleod. Ppal A BAT. 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Oleod. Ppal A PLA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140 A BAT. 1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 A BAT. 144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 A BAT. 152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152 A BAT. 16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. A BAT. 153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. A BAT. 6-4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. A BAT. 6-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164 A BAT. 155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5/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A BAT. 163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A BAT. 145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A BAT. 16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od. Ppal.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BAT. 19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5/8” Y 8-5/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92BEEA50-2A6F-43BC-8891-BAC3F1E7F72F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11430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066680" y="1447920"/>
          <a:ext cx="5943600" cy="15206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Oleod. Ppal A BAT. 3-1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od. Ppal.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AT. 1-1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od. Ppal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 BAT. 13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od. Ppal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 BAT. 154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5/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rcRect l="28161" t="3008" r="17644" b="1887"/>
          <a:stretch/>
        </p:blipFill>
        <p:spPr>
          <a:xfrm>
            <a:off x="2971800" y="228600"/>
            <a:ext cx="5105520" cy="6477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"/>
          <p:cNvSpPr/>
          <p:nvPr/>
        </p:nvSpPr>
        <p:spPr>
          <a:xfrm rot="16200000">
            <a:off x="7768080" y="51904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PIEDRAS COLOR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828800" y="2819520"/>
            <a:ext cx="1752480" cy="1143000"/>
            <a:chOff x="1828800" y="2819520"/>
            <a:chExt cx="1752480" cy="1143000"/>
          </a:xfrm>
        </p:grpSpPr>
        <p:sp>
          <p:nvSpPr>
            <p:cNvPr id="340" name=""/>
            <p:cNvSpPr/>
            <p:nvPr/>
          </p:nvSpPr>
          <p:spPr>
            <a:xfrm>
              <a:off x="1828800" y="2819520"/>
              <a:ext cx="1752480" cy="114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81080" y="30481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81080" y="3276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505320"/>
              <a:ext cx="38124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37120" y="289548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62320" y="31240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2320" y="333684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57400" y="365760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62320" y="364176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" descr=""/>
          <p:cNvPicPr/>
          <p:nvPr/>
        </p:nvPicPr>
        <p:blipFill>
          <a:blip r:embed="rId4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D93B3749-5E2D-400B-83AC-9540F73A446F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5B9A3B89-9092-47CD-83C2-8709DE9FF09A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111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PIEDRAS COLO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066680" y="1447920"/>
          <a:ext cx="5943600" cy="23144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Pta. Trat. A Unid. L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 y 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01-EI A Bat 03-P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03-PC A PCO-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01-PC A PCO-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02-PC A PCO-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04-PC A Pta. Tra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PCO-33 A Pta. Tra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066680" y="3886200"/>
          <a:ext cx="5943600" cy="17222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01-PC A Central Va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ompresor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O-7 A Compresor PCO 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03-PC A Ctral. Va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02-PC A Ctral. Va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rcRect l="0" t="17188" r="1981" b="8561"/>
          <a:stretch/>
        </p:blipFill>
        <p:spPr>
          <a:xfrm>
            <a:off x="838080" y="1447920"/>
            <a:ext cx="7239240" cy="4387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"/>
          <p:cNvSpPr/>
          <p:nvPr/>
        </p:nvSpPr>
        <p:spPr>
          <a:xfrm rot="16200000">
            <a:off x="7661520" y="52952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BELLA VISTA O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44CEE3E9-AD78-4AE8-B792-DA011E83A9F2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370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57150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29000" y="5943600"/>
              <a:ext cx="3808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84680" y="5334120"/>
              <a:ext cx="1018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9880" y="5562720"/>
              <a:ext cx="1067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9880" y="5775480"/>
              <a:ext cx="11430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09880" y="6080040"/>
              <a:ext cx="1143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5320" y="609588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11053978-AD69-430C-A608-0B9AC667AB37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90720" y="1111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BELLA VISTA O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066680" y="1465200"/>
          <a:ext cx="5943600" cy="74448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ON. FORESTAL A PTA. TR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1066680" y="2362320"/>
          <a:ext cx="5943600" cy="153828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PTA DE ENTREGA A UNIDAD LA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DAD LACT A OLEOD. TECPETR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LAC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T. 2 A BAT.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1 A </a:t>
                      </a: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A DE ENTREG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990720" y="685800"/>
            <a:ext cx="3657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93920" y="3433680"/>
            <a:ext cx="70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ff"/>
                </a:solidFill>
                <a:latin typeface="Myriad Web"/>
              </a:rPr>
              <a:t>2.-RELACION OPERATIVA Y COMERCIAL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1066680" y="1068480"/>
            <a:ext cx="350532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AREAS OPER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479736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NDOZ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U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EDRAS COLO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447920"/>
            <a:ext cx="3124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OLFO SAN JORGE BASI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RO WENCESL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H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ÑADON MINE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ETA ESPIN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ÑADON S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EDRA CLAV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LA VISTA O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648320"/>
            <a:ext cx="304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2590920"/>
            <a:ext cx="152640" cy="152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873680"/>
            <a:ext cx="30492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523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733920"/>
            <a:ext cx="30492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5581C93D-7724-4759-AEDE-9FF8A54E552F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5181480" y="228600"/>
            <a:ext cx="1524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57200" y="1447920"/>
            <a:ext cx="52578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ARE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SANTA CRUZ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RUD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CAÑADON SE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OMPAÑI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Y.P.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TRAM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YACIMIENTO – TERMINAL CALETA OLI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038480" y="533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nterstate-Regular"/>
              </a:rPr>
              <a:t>SERVICIOS DE TRANSPORTE DE CRU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14800" y="533520"/>
            <a:ext cx="39625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3048120"/>
            <a:ext cx="5715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ARE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CHUBUT S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RUD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ESCAL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OMPAÑI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TECPETROL – PETROBRAS – E.C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TRAM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YACIMIENTO – TERMINAL CALETA CÓRD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648320"/>
            <a:ext cx="57150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ARE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MENDO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RUD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MENDOC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OMPAÑI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.P.F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TRAM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YACIMIENTO –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.P.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14B91C06-35E7-47D9-9B10-082B95DCF24E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6478920" y="4111200"/>
            <a:ext cx="44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RELACION OPERATIVA Y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"/>
          <p:cNvSpPr/>
          <p:nvPr/>
        </p:nvSpPr>
        <p:spPr>
          <a:xfrm rot="16200000">
            <a:off x="6478920" y="4111200"/>
            <a:ext cx="44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RELACION OPERATIVA Y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181480" y="228600"/>
            <a:ext cx="1524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542960"/>
            <a:ext cx="807696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Myriad Web"/>
              </a:rPr>
              <a:t>AREA: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SANTA CRUZ NORTE – CHUBUT S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Myriad Web"/>
              </a:rPr>
              <a:t>CRUDO: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ESCALANTE Y CAÑADON SE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Myriad Web"/>
              </a:rPr>
              <a:t>COMPAÑIA: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TERMAP S.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Myriad Web"/>
              </a:rPr>
              <a:t>PLAYA DE TK’s: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YACIMIENTO –CALETA OLIVIA (CAÑADON SECO) CALETA CORDOVA (ESCALAN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533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nterstate-Regular"/>
              </a:rPr>
              <a:t>SERVICIOS DE ALMACENAJE DE CRU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533520"/>
            <a:ext cx="39625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B45A3780-8E63-40B3-A4F0-9834C9474BD4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28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 rot="16200000">
            <a:off x="6402600" y="4034880"/>
            <a:ext cx="45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RELACION OPERATIVA Y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181480" y="228600"/>
            <a:ext cx="1524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533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nterstate-Regular"/>
              </a:rPr>
              <a:t>SERVICIOS DE TRANSPORTE DE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33520"/>
            <a:ext cx="39625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447920"/>
            <a:ext cx="762012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CONCES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EL HUEMUL / CAÑADON MINERALES / CAÑADON SECO / CERRO WENCESLAO / LAS H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ENERGY CONSULTING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ALBAN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AMUZZI GAS DEL S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T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DUK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5541BAE4-7910-4022-A3DD-301FDA05105B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90720" y="685800"/>
            <a:ext cx="3657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5120" y="34336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33"/>
                </a:solidFill>
                <a:latin typeface="Myriad Web"/>
              </a:rPr>
              <a:t>3.-INTEGRIDAD Y CONFIABILIDAD DE DUCTOS</a:t>
            </a:r>
            <a:r>
              <a:rPr b="0" lang="es-MX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1066680" y="1068480"/>
            <a:ext cx="350532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5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"/>
          <p:cNvSpPr/>
          <p:nvPr/>
        </p:nvSpPr>
        <p:spPr>
          <a:xfrm rot="16200000">
            <a:off x="6402600" y="4034880"/>
            <a:ext cx="45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INTEGRIDAD Y CONFIABILIDAD DE DU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" y="1371600"/>
            <a:ext cx="76201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OBJETIV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MANTENER CONDICIONES SEGURAS 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TRABAJAR CON EL PROGRAMA DE INSPECCIÓN BASADA EN RIES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PREVENIR LA CONTAMINACIÓN AMBIENT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PROGRAMA DE MONITOREO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CORROSIÓN EX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CORROSIÓN IN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PROGRAMA DE INSPEC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MEDICIÓN, REGISTRO, PROCESAMIENTO DE CORROSIÓN EXTERNA E IN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983BA88E-068E-4190-9514-D8AA7350784D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990720" y="685800"/>
            <a:ext cx="3657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32960" y="343368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Myriad Web"/>
              </a:rPr>
              <a:t>4.-SISTEMA DE GESTIÓN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1066680" y="1068480"/>
            <a:ext cx="350532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rcRect l="68901" t="0" r="22610" b="54732"/>
          <a:stretch/>
        </p:blipFill>
        <p:spPr>
          <a:xfrm>
            <a:off x="8153280" y="304920"/>
            <a:ext cx="685800" cy="33526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rcRect l="50949" t="63700" r="40570" b="709"/>
          <a:stretch/>
        </p:blipFill>
        <p:spPr>
          <a:xfrm>
            <a:off x="8153280" y="3657600"/>
            <a:ext cx="685800" cy="28195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85800" y="1447920"/>
            <a:ext cx="69343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Myriad Web"/>
              </a:rPr>
              <a:t>BASES DE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Legislación de a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Política de Seguridad y Medio Ambiente Vintage Oil Argentina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Normas y Procedimi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Prácticas  Operat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66680" y="3581280"/>
            <a:ext cx="57150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Myriad Web"/>
              </a:rPr>
              <a:t>Legislación de Apl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solución SEE 105/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solución SEE 342/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isposición SSC 56/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solución Enargas 196/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isposición SSC 19/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isposición SSC 24/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477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7AE7E9A9-3CF2-4318-B1F6-C251EF9D3BCA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838080" y="1371600"/>
            <a:ext cx="571500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Myriad Web"/>
              </a:rPr>
              <a:t>-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Myriad Web"/>
              </a:rPr>
              <a:t>Política de Seguridad y Medio Ambiente de Vintage Oil Argentina Inc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Establece como prioridad que sus operaciones deben estar orientadas hacia la disminución del Impacto Ambiental en todas sus f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La prevención de los incidentes que puedan afectar el medio Amb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Que el cuidado ambiental es una responsabilidad indelegable de las líneas de mando y una tarea inherente a sus fun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Que debe proveer los medios para capacitar a todo el personal en prácticas seguras enfatizando la prevención de riesg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488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0D1EF9CF-CC6E-4EB9-8FEF-7717F57D3549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838080" y="1371600"/>
            <a:ext cx="5715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yriad Web"/>
              </a:rPr>
              <a:t>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yriad Web"/>
              </a:rPr>
              <a:t>Normas y Procedimi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Propuesta y registro de mejoras ambien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porte e investigación de todo accidente e incid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anejo de Residuos en todas las fases de la ope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Para el caso de construcción de nuevos duc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esarrollo del proyecto basada en criterios de minimiz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Estudio ambiental prev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Aplicación de las recomendaciones y plan de protección ambiental en todas las etapas del desarrollo del proye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iseño basado en criterios de seguridad y confiabilidad opera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499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A61DFDAA-878A-496B-964D-0B9B5C839BDB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504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6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371600"/>
            <a:ext cx="57150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Myriad Web"/>
              </a:rPr>
              <a:t>-Prácticas Opera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urante la constru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r el ancho de pis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spetar horizontes edáficos y restituirlos en medida de lo posible en el tap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r tiempo de apertura de exca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ción y control de ero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r la interferencia con fau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Conservación del patrimonio Arqueológ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ción y gestión racional de residu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onitoreo durante construcción y ope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510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DB6520FD-CFBA-4F9A-990F-6B1B37A49E9B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0857" t="9099" r="2378" b="6974"/>
          <a:stretch/>
        </p:blipFill>
        <p:spPr>
          <a:xfrm>
            <a:off x="838080" y="644400"/>
            <a:ext cx="7696440" cy="5680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5627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8080" y="5867280"/>
            <a:ext cx="3124080" cy="381240"/>
            <a:chOff x="838080" y="5867280"/>
            <a:chExt cx="3124080" cy="381240"/>
          </a:xfrm>
        </p:grpSpPr>
        <p:sp>
          <p:nvSpPr>
            <p:cNvPr id="79" name=""/>
            <p:cNvSpPr/>
            <p:nvPr/>
          </p:nvSpPr>
          <p:spPr>
            <a:xfrm>
              <a:off x="838080" y="5867280"/>
              <a:ext cx="312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LFO SAN JORGE BAS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867280"/>
              <a:ext cx="2819520" cy="38124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83" name="" descr=""/>
            <p:cNvPicPr/>
            <p:nvPr/>
          </p:nvPicPr>
          <p:blipFill>
            <a:blip r:embed="rId3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UENCA NEUQU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6F66962C-1FD9-47DD-94A4-9BBF29747104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838080" y="1371600"/>
            <a:ext cx="5715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Myriad Web"/>
              </a:rPr>
              <a:t>-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Myriad Web"/>
              </a:rPr>
              <a:t>Prácticas Opera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En los conductos exist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Rutina de inspe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Plan de mantenimiento cató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Rutina de prueba hidráu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Planes de recambio de ductos y reemplazo de mate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Planes de limpieza de 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Cambio de purgas de gasoductos y reemplazo de materiales para prevenir pérd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Construcción de barreras en conductos para prevenir afectación de zonas sen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Plan de construcción de defensas en cruce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521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B1F59F1B-C3D0-4082-9871-ED83A28D946F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19231" t="13705" r="10966" b="16688"/>
          <a:stretch/>
        </p:blipFill>
        <p:spPr>
          <a:xfrm>
            <a:off x="762120" y="873000"/>
            <a:ext cx="7315200" cy="52992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838080" y="5867280"/>
            <a:ext cx="2666880" cy="380880"/>
            <a:chOff x="838080" y="5867280"/>
            <a:chExt cx="2666880" cy="380880"/>
          </a:xfrm>
        </p:grpSpPr>
        <p:sp>
          <p:nvSpPr>
            <p:cNvPr id="89" name=""/>
            <p:cNvSpPr/>
            <p:nvPr/>
          </p:nvSpPr>
          <p:spPr>
            <a:xfrm>
              <a:off x="838080" y="58672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DOZA - CACHEU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5867280"/>
              <a:ext cx="2514600" cy="38088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5943600"/>
            <a:ext cx="3733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95" name="" descr=""/>
            <p:cNvPicPr/>
            <p:nvPr/>
          </p:nvPicPr>
          <p:blipFill>
            <a:blip r:embed="rId3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UENCA CUY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124F5766-6757-4806-8046-5618FD560453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685800"/>
            <a:ext cx="3657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400" y="3457440"/>
            <a:ext cx="833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9999"/>
                </a:solidFill>
                <a:latin typeface="Myriad Web"/>
              </a:rPr>
              <a:t>1.-SISTEMA DE TRANSPORTE DE HIDROCARBUROS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1066680" y="1068480"/>
            <a:ext cx="350532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ERRO WENCESL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rcRect l="2813" t="21878" r="76566" b="33125"/>
          <a:stretch/>
        </p:blipFill>
        <p:spPr>
          <a:xfrm>
            <a:off x="3200400" y="1295280"/>
            <a:ext cx="27939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447920" y="2819520"/>
            <a:ext cx="1752480" cy="1143000"/>
            <a:chOff x="1447920" y="2819520"/>
            <a:chExt cx="1752480" cy="1143000"/>
          </a:xfrm>
        </p:grpSpPr>
        <p:sp>
          <p:nvSpPr>
            <p:cNvPr id="113" name=""/>
            <p:cNvSpPr/>
            <p:nvPr/>
          </p:nvSpPr>
          <p:spPr>
            <a:xfrm>
              <a:off x="1600200" y="30481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00200" y="3276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0200" y="350532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56240" y="289584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440" y="312444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440" y="333720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281952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65796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440" y="36421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8F183E4C-3CBD-4F12-84D0-B14A7B1099A1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F0B27596-8B5E-46E0-8610-7C116ADD3CC0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CERRO WENCESL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1352520"/>
          <a:ext cx="5943600" cy="16844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317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-2 a PLANTA DESH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-3 a PLANTA DESH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TA DESH. A YP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LAS H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rcRect l="42191" t="21878" r="30470" b="17714"/>
          <a:stretch/>
        </p:blipFill>
        <p:spPr>
          <a:xfrm>
            <a:off x="3317760" y="457200"/>
            <a:ext cx="3540240" cy="5867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447920" y="2819520"/>
            <a:ext cx="1752480" cy="1143000"/>
            <a:chOff x="1447920" y="2819520"/>
            <a:chExt cx="1752480" cy="1143000"/>
          </a:xfrm>
        </p:grpSpPr>
        <p:sp>
          <p:nvSpPr>
            <p:cNvPr id="140" name=""/>
            <p:cNvSpPr/>
            <p:nvPr/>
          </p:nvSpPr>
          <p:spPr>
            <a:xfrm>
              <a:off x="1600200" y="30481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3276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50532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56240" y="289584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440" y="312444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440" y="333720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7920" y="281952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365796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81440" y="36421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248520" y="5181480"/>
            <a:ext cx="7617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C7BE5A69-0C51-4345-ADF0-169286B789BF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3:55:49Z</dcterms:created>
  <dc:creator> </dc:creator>
  <dc:description/>
  <dc:language>en-US</dc:language>
  <cp:lastModifiedBy> </cp:lastModifiedBy>
  <dcterms:modified xsi:type="dcterms:W3CDTF">2006-01-23T12:26:42Z</dcterms:modified>
  <cp:revision>149</cp:revision>
  <dc:subject/>
  <dc:title>Slide 1</dc:title>
</cp:coreProperties>
</file>