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97B75-78A6-4E57-8BFA-9DCF4E4CF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09257-24BC-499A-A2DD-9A3EEB663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8E5F-5E92-4BF1-A528-0FADBB71B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7A43-7142-482C-9C0C-E17248794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16F81-68E5-4CC3-808A-DFAAB5602B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B7F3-77E0-425C-A458-36F888C400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E4180-6C12-4CAD-91AA-A1F7555C05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26948-1AC2-4217-B8D2-FD2EF8A36E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DDA8D-B4BE-4B92-B268-A3DDE945B5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04480" y="380520"/>
            <a:ext cx="70167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99982-8E0D-4BF9-9BF2-D25834AEBD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F6E2D-469D-4538-BE81-8786C9E8EF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91A1-7C47-4294-B0E9-29654EB09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4D6D6-9CFC-4194-A7BE-3FB095E526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8FC43-2F34-4F06-BD17-C4F8A86D7F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B8A37-1217-4FAF-A9AA-96796EFCC6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7B053-0C8F-4CD3-9887-A732B36C53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CB44D-BF48-4450-AE6F-B2F7C91C79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F7E0-8493-4F62-822B-8DE70E295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C0C8-7D94-43B2-979E-C42AC1644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93C6-87DE-4168-ADDE-CC4B06A6B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04480" y="380520"/>
            <a:ext cx="70167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FB6A-33B8-4FCD-AA11-44B6B8CB0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07B2-16D1-4842-9EA5-051898CF0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DE154-3D34-4784-965F-E9E13AD08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FE3AA-73BE-4628-BFCD-7AD0F78C8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64440" y="0"/>
            <a:ext cx="2641680" cy="1066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7346880" cy="10666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66680"/>
            <a:ext cx="9906120" cy="76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7346880" cy="609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4880"/>
            <a:ext cx="990612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78560"/>
            <a:ext cx="9906120" cy="76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15240" y="6554880"/>
            <a:ext cx="1403280" cy="304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60640" y="658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Arial Black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354560" y="6634080"/>
            <a:ext cx="0" cy="152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sldNum" idx="1"/>
          </p:nvPr>
        </p:nvSpPr>
        <p:spPr>
          <a:xfrm>
            <a:off x="9162720" y="6566040"/>
            <a:ext cx="57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13A1-2381-4AB0-A107-3ED03B64AFF9}" type="slidenum">
              <a:rPr b="0" lang="es-E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583320"/>
            <a:ext cx="420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ddddd"/>
                </a:solidFill>
                <a:latin typeface="Arial Black"/>
              </a:rPr>
              <a:t>Desarrollo – U.E. Loma La L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315720" y="41868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593120" y="254160"/>
            <a:ext cx="2030400" cy="57924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Click to edit the outline text format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Second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Third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Fourth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80808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Fifth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Sixth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Seventh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264440" y="0"/>
            <a:ext cx="2641680" cy="91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346880" cy="930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05040"/>
            <a:ext cx="9906120" cy="75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346880" cy="609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554880"/>
            <a:ext cx="990612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478560"/>
            <a:ext cx="9906120" cy="76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815240" y="6554880"/>
            <a:ext cx="1403280" cy="304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60640" y="658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Arial Black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54560" y="6634080"/>
            <a:ext cx="0" cy="152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Num" idx="2"/>
          </p:nvPr>
        </p:nvSpPr>
        <p:spPr>
          <a:xfrm>
            <a:off x="9162720" y="6566040"/>
            <a:ext cx="57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5AB6-1C11-44A4-ACE0-325E6BAB20B7}" type="slidenum">
              <a:rPr b="0" lang="es-E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583320"/>
            <a:ext cx="420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ddddd"/>
                </a:solidFill>
                <a:latin typeface="Arial Black"/>
              </a:rPr>
              <a:t>Desarrollo – U.E. Loma La L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36080" y="155520"/>
            <a:ext cx="1438200" cy="411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Click to edit the outline text format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Second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Third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Fourth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80808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Fifth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Sixth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Seventh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3.xml"/><Relationship Id="rId5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514680"/>
            <a:ext cx="9906120" cy="2867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077840"/>
            <a:ext cx="9906120" cy="26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405160"/>
            <a:ext cx="8420040" cy="203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 Black"/>
              </a:rPr>
              <a:t>Unidad Económica</a:t>
            </a:r>
            <a:br>
              <a:rPr sz="3600"/>
            </a:br>
            <a:br>
              <a:rPr sz="1600"/>
            </a:br>
            <a:r>
              <a:rPr b="1" lang="es-AR" sz="6000" spc="-1" strike="noStrike">
                <a:solidFill>
                  <a:srgbClr val="ffffff"/>
                </a:solidFill>
                <a:latin typeface="Arial Black"/>
              </a:rPr>
              <a:t>LOMA LA L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 Black"/>
              </a:rPr>
              <a:t>Relaciones con Terceros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732960" y="13446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90000"/>
                </a:solidFill>
                <a:latin typeface="Arial Unicode MS"/>
              </a:rPr>
              <a:t>Entrega de gas a Transportistas / Clientes</a:t>
            </a:r>
            <a:endParaRPr b="1" lang="en-US" sz="2800" spc="-1" strike="noStrike">
              <a:solidFill>
                <a:srgbClr val="ff9900"/>
              </a:solidFill>
              <a:latin typeface="Arial Unicode MS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00"/>
              </a:solidFill>
              <a:latin typeface="Arial Unicode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TGN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TGS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Mega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Central Puerto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00"/>
              </a:solidFill>
              <a:latin typeface="Arial Unicode MS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90000"/>
                </a:solidFill>
                <a:latin typeface="Arial Unicode MS"/>
              </a:rPr>
              <a:t>Recepción de gas:</a:t>
            </a:r>
            <a:endParaRPr b="1" lang="en-US" sz="2800" spc="-1" strike="noStrike">
              <a:solidFill>
                <a:srgbClr val="ff9900"/>
              </a:solidFill>
              <a:latin typeface="Arial Unicode MS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00"/>
              </a:solidFill>
              <a:latin typeface="Arial Unicode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Total Austral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Pluspetrol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Pan American Energy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"/>
          <p:cNvSpPr/>
          <p:nvPr/>
        </p:nvSpPr>
        <p:spPr>
          <a:xfrm>
            <a:off x="693720" y="2336760"/>
            <a:ext cx="6742080" cy="2604960"/>
          </a:xfrm>
          <a:custGeom>
            <a:avLst/>
            <a:gdLst/>
            <a:ahLst/>
            <a:rect l="l" t="t" r="r" b="b"/>
            <a:pathLst>
              <a:path w="4357" h="2010">
                <a:moveTo>
                  <a:pt x="44" y="331"/>
                </a:moveTo>
                <a:lnTo>
                  <a:pt x="45" y="337"/>
                </a:lnTo>
                <a:lnTo>
                  <a:pt x="47" y="344"/>
                </a:lnTo>
                <a:lnTo>
                  <a:pt x="50" y="352"/>
                </a:lnTo>
                <a:lnTo>
                  <a:pt x="57" y="359"/>
                </a:lnTo>
                <a:lnTo>
                  <a:pt x="63" y="366"/>
                </a:lnTo>
                <a:lnTo>
                  <a:pt x="70" y="372"/>
                </a:lnTo>
                <a:lnTo>
                  <a:pt x="76" y="376"/>
                </a:lnTo>
                <a:lnTo>
                  <a:pt x="83" y="377"/>
                </a:lnTo>
                <a:lnTo>
                  <a:pt x="83" y="422"/>
                </a:lnTo>
                <a:lnTo>
                  <a:pt x="99" y="438"/>
                </a:lnTo>
                <a:lnTo>
                  <a:pt x="106" y="439"/>
                </a:lnTo>
                <a:lnTo>
                  <a:pt x="111" y="440"/>
                </a:lnTo>
                <a:lnTo>
                  <a:pt x="116" y="443"/>
                </a:lnTo>
                <a:lnTo>
                  <a:pt x="122" y="447"/>
                </a:lnTo>
                <a:lnTo>
                  <a:pt x="125" y="452"/>
                </a:lnTo>
                <a:lnTo>
                  <a:pt x="128" y="458"/>
                </a:lnTo>
                <a:lnTo>
                  <a:pt x="132" y="464"/>
                </a:lnTo>
                <a:lnTo>
                  <a:pt x="132" y="469"/>
                </a:lnTo>
                <a:lnTo>
                  <a:pt x="179" y="469"/>
                </a:lnTo>
                <a:lnTo>
                  <a:pt x="179" y="453"/>
                </a:lnTo>
                <a:lnTo>
                  <a:pt x="277" y="453"/>
                </a:lnTo>
                <a:lnTo>
                  <a:pt x="277" y="438"/>
                </a:lnTo>
                <a:lnTo>
                  <a:pt x="282" y="435"/>
                </a:lnTo>
                <a:lnTo>
                  <a:pt x="288" y="434"/>
                </a:lnTo>
                <a:lnTo>
                  <a:pt x="294" y="433"/>
                </a:lnTo>
                <a:lnTo>
                  <a:pt x="302" y="433"/>
                </a:lnTo>
                <a:lnTo>
                  <a:pt x="311" y="434"/>
                </a:lnTo>
                <a:lnTo>
                  <a:pt x="321" y="435"/>
                </a:lnTo>
                <a:lnTo>
                  <a:pt x="332" y="436"/>
                </a:lnTo>
                <a:lnTo>
                  <a:pt x="343" y="438"/>
                </a:lnTo>
                <a:lnTo>
                  <a:pt x="353" y="440"/>
                </a:lnTo>
                <a:lnTo>
                  <a:pt x="362" y="441"/>
                </a:lnTo>
                <a:lnTo>
                  <a:pt x="372" y="442"/>
                </a:lnTo>
                <a:lnTo>
                  <a:pt x="381" y="442"/>
                </a:lnTo>
                <a:lnTo>
                  <a:pt x="389" y="442"/>
                </a:lnTo>
                <a:lnTo>
                  <a:pt x="396" y="442"/>
                </a:lnTo>
                <a:lnTo>
                  <a:pt x="402" y="440"/>
                </a:lnTo>
                <a:lnTo>
                  <a:pt x="406" y="438"/>
                </a:lnTo>
                <a:lnTo>
                  <a:pt x="406" y="422"/>
                </a:lnTo>
                <a:lnTo>
                  <a:pt x="438" y="422"/>
                </a:lnTo>
                <a:lnTo>
                  <a:pt x="487" y="377"/>
                </a:lnTo>
                <a:lnTo>
                  <a:pt x="487" y="345"/>
                </a:lnTo>
                <a:lnTo>
                  <a:pt x="503" y="345"/>
                </a:lnTo>
                <a:lnTo>
                  <a:pt x="503" y="315"/>
                </a:lnTo>
                <a:lnTo>
                  <a:pt x="519" y="315"/>
                </a:lnTo>
                <a:lnTo>
                  <a:pt x="526" y="304"/>
                </a:lnTo>
                <a:lnTo>
                  <a:pt x="532" y="292"/>
                </a:lnTo>
                <a:lnTo>
                  <a:pt x="541" y="282"/>
                </a:lnTo>
                <a:lnTo>
                  <a:pt x="551" y="274"/>
                </a:lnTo>
                <a:lnTo>
                  <a:pt x="562" y="265"/>
                </a:lnTo>
                <a:lnTo>
                  <a:pt x="577" y="259"/>
                </a:lnTo>
                <a:lnTo>
                  <a:pt x="595" y="255"/>
                </a:lnTo>
                <a:lnTo>
                  <a:pt x="616" y="254"/>
                </a:lnTo>
                <a:lnTo>
                  <a:pt x="633" y="239"/>
                </a:lnTo>
                <a:lnTo>
                  <a:pt x="633" y="238"/>
                </a:lnTo>
                <a:lnTo>
                  <a:pt x="635" y="234"/>
                </a:lnTo>
                <a:lnTo>
                  <a:pt x="639" y="228"/>
                </a:lnTo>
                <a:lnTo>
                  <a:pt x="641" y="222"/>
                </a:lnTo>
                <a:lnTo>
                  <a:pt x="643" y="214"/>
                </a:lnTo>
                <a:lnTo>
                  <a:pt x="647" y="207"/>
                </a:lnTo>
                <a:lnTo>
                  <a:pt x="648" y="199"/>
                </a:lnTo>
                <a:lnTo>
                  <a:pt x="649" y="192"/>
                </a:lnTo>
                <a:lnTo>
                  <a:pt x="657" y="191"/>
                </a:lnTo>
                <a:lnTo>
                  <a:pt x="667" y="185"/>
                </a:lnTo>
                <a:lnTo>
                  <a:pt x="677" y="178"/>
                </a:lnTo>
                <a:lnTo>
                  <a:pt x="687" y="168"/>
                </a:lnTo>
                <a:lnTo>
                  <a:pt x="699" y="159"/>
                </a:lnTo>
                <a:lnTo>
                  <a:pt x="707" y="149"/>
                </a:lnTo>
                <a:lnTo>
                  <a:pt x="712" y="139"/>
                </a:lnTo>
                <a:lnTo>
                  <a:pt x="713" y="133"/>
                </a:lnTo>
                <a:lnTo>
                  <a:pt x="747" y="133"/>
                </a:lnTo>
                <a:lnTo>
                  <a:pt x="747" y="102"/>
                </a:lnTo>
                <a:lnTo>
                  <a:pt x="763" y="87"/>
                </a:lnTo>
                <a:lnTo>
                  <a:pt x="771" y="86"/>
                </a:lnTo>
                <a:lnTo>
                  <a:pt x="779" y="82"/>
                </a:lnTo>
                <a:lnTo>
                  <a:pt x="790" y="78"/>
                </a:lnTo>
                <a:lnTo>
                  <a:pt x="801" y="71"/>
                </a:lnTo>
                <a:lnTo>
                  <a:pt x="812" y="67"/>
                </a:lnTo>
                <a:lnTo>
                  <a:pt x="821" y="61"/>
                </a:lnTo>
                <a:lnTo>
                  <a:pt x="826" y="58"/>
                </a:lnTo>
                <a:lnTo>
                  <a:pt x="827" y="57"/>
                </a:lnTo>
                <a:lnTo>
                  <a:pt x="843" y="57"/>
                </a:lnTo>
                <a:lnTo>
                  <a:pt x="860" y="87"/>
                </a:lnTo>
                <a:lnTo>
                  <a:pt x="861" y="82"/>
                </a:lnTo>
                <a:lnTo>
                  <a:pt x="865" y="79"/>
                </a:lnTo>
                <a:lnTo>
                  <a:pt x="870" y="75"/>
                </a:lnTo>
                <a:lnTo>
                  <a:pt x="878" y="73"/>
                </a:lnTo>
                <a:lnTo>
                  <a:pt x="886" y="72"/>
                </a:lnTo>
                <a:lnTo>
                  <a:pt x="893" y="71"/>
                </a:lnTo>
                <a:lnTo>
                  <a:pt x="902" y="71"/>
                </a:lnTo>
                <a:lnTo>
                  <a:pt x="908" y="71"/>
                </a:lnTo>
                <a:lnTo>
                  <a:pt x="926" y="57"/>
                </a:lnTo>
                <a:lnTo>
                  <a:pt x="926" y="41"/>
                </a:lnTo>
                <a:lnTo>
                  <a:pt x="941" y="41"/>
                </a:lnTo>
                <a:lnTo>
                  <a:pt x="941" y="26"/>
                </a:lnTo>
                <a:lnTo>
                  <a:pt x="957" y="10"/>
                </a:lnTo>
                <a:lnTo>
                  <a:pt x="990" y="10"/>
                </a:lnTo>
                <a:lnTo>
                  <a:pt x="995" y="8"/>
                </a:lnTo>
                <a:lnTo>
                  <a:pt x="1006" y="5"/>
                </a:lnTo>
                <a:lnTo>
                  <a:pt x="1023" y="4"/>
                </a:lnTo>
                <a:lnTo>
                  <a:pt x="1047" y="2"/>
                </a:lnTo>
                <a:lnTo>
                  <a:pt x="1075" y="1"/>
                </a:lnTo>
                <a:lnTo>
                  <a:pt x="1103" y="0"/>
                </a:lnTo>
                <a:lnTo>
                  <a:pt x="1138" y="0"/>
                </a:lnTo>
                <a:lnTo>
                  <a:pt x="1173" y="0"/>
                </a:lnTo>
                <a:lnTo>
                  <a:pt x="1208" y="0"/>
                </a:lnTo>
                <a:lnTo>
                  <a:pt x="1244" y="0"/>
                </a:lnTo>
                <a:lnTo>
                  <a:pt x="1278" y="1"/>
                </a:lnTo>
                <a:lnTo>
                  <a:pt x="1310" y="2"/>
                </a:lnTo>
                <a:lnTo>
                  <a:pt x="1338" y="4"/>
                </a:lnTo>
                <a:lnTo>
                  <a:pt x="1362" y="5"/>
                </a:lnTo>
                <a:lnTo>
                  <a:pt x="1381" y="8"/>
                </a:lnTo>
                <a:lnTo>
                  <a:pt x="1393" y="10"/>
                </a:lnTo>
                <a:lnTo>
                  <a:pt x="1393" y="26"/>
                </a:lnTo>
                <a:lnTo>
                  <a:pt x="1426" y="26"/>
                </a:lnTo>
                <a:lnTo>
                  <a:pt x="1442" y="41"/>
                </a:lnTo>
                <a:lnTo>
                  <a:pt x="1442" y="57"/>
                </a:lnTo>
                <a:lnTo>
                  <a:pt x="1459" y="57"/>
                </a:lnTo>
                <a:lnTo>
                  <a:pt x="1459" y="71"/>
                </a:lnTo>
                <a:lnTo>
                  <a:pt x="1476" y="71"/>
                </a:lnTo>
                <a:lnTo>
                  <a:pt x="1490" y="87"/>
                </a:lnTo>
                <a:lnTo>
                  <a:pt x="1490" y="96"/>
                </a:lnTo>
                <a:lnTo>
                  <a:pt x="1490" y="105"/>
                </a:lnTo>
                <a:lnTo>
                  <a:pt x="1489" y="114"/>
                </a:lnTo>
                <a:lnTo>
                  <a:pt x="1488" y="124"/>
                </a:lnTo>
                <a:lnTo>
                  <a:pt x="1487" y="133"/>
                </a:lnTo>
                <a:lnTo>
                  <a:pt x="1486" y="144"/>
                </a:lnTo>
                <a:lnTo>
                  <a:pt x="1485" y="153"/>
                </a:lnTo>
                <a:lnTo>
                  <a:pt x="1484" y="163"/>
                </a:lnTo>
                <a:lnTo>
                  <a:pt x="1481" y="172"/>
                </a:lnTo>
                <a:lnTo>
                  <a:pt x="1480" y="183"/>
                </a:lnTo>
                <a:lnTo>
                  <a:pt x="1479" y="192"/>
                </a:lnTo>
                <a:lnTo>
                  <a:pt x="1478" y="202"/>
                </a:lnTo>
                <a:lnTo>
                  <a:pt x="1477" y="212"/>
                </a:lnTo>
                <a:lnTo>
                  <a:pt x="1476" y="221"/>
                </a:lnTo>
                <a:lnTo>
                  <a:pt x="1476" y="230"/>
                </a:lnTo>
                <a:lnTo>
                  <a:pt x="1476" y="239"/>
                </a:lnTo>
                <a:lnTo>
                  <a:pt x="1481" y="241"/>
                </a:lnTo>
                <a:lnTo>
                  <a:pt x="1489" y="249"/>
                </a:lnTo>
                <a:lnTo>
                  <a:pt x="1497" y="259"/>
                </a:lnTo>
                <a:lnTo>
                  <a:pt x="1503" y="272"/>
                </a:lnTo>
                <a:lnTo>
                  <a:pt x="1507" y="284"/>
                </a:lnTo>
                <a:lnTo>
                  <a:pt x="1512" y="297"/>
                </a:lnTo>
                <a:lnTo>
                  <a:pt x="1512" y="307"/>
                </a:lnTo>
                <a:lnTo>
                  <a:pt x="1506" y="315"/>
                </a:lnTo>
                <a:lnTo>
                  <a:pt x="1490" y="315"/>
                </a:lnTo>
                <a:lnTo>
                  <a:pt x="1490" y="377"/>
                </a:lnTo>
                <a:lnTo>
                  <a:pt x="1506" y="377"/>
                </a:lnTo>
                <a:lnTo>
                  <a:pt x="1513" y="389"/>
                </a:lnTo>
                <a:lnTo>
                  <a:pt x="1520" y="402"/>
                </a:lnTo>
                <a:lnTo>
                  <a:pt x="1528" y="415"/>
                </a:lnTo>
                <a:lnTo>
                  <a:pt x="1538" y="427"/>
                </a:lnTo>
                <a:lnTo>
                  <a:pt x="1550" y="438"/>
                </a:lnTo>
                <a:lnTo>
                  <a:pt x="1564" y="446"/>
                </a:lnTo>
                <a:lnTo>
                  <a:pt x="1583" y="452"/>
                </a:lnTo>
                <a:lnTo>
                  <a:pt x="1604" y="453"/>
                </a:lnTo>
                <a:lnTo>
                  <a:pt x="1620" y="469"/>
                </a:lnTo>
                <a:lnTo>
                  <a:pt x="1620" y="483"/>
                </a:lnTo>
                <a:lnTo>
                  <a:pt x="1637" y="499"/>
                </a:lnTo>
                <a:lnTo>
                  <a:pt x="1647" y="499"/>
                </a:lnTo>
                <a:lnTo>
                  <a:pt x="1659" y="500"/>
                </a:lnTo>
                <a:lnTo>
                  <a:pt x="1672" y="501"/>
                </a:lnTo>
                <a:lnTo>
                  <a:pt x="1686" y="503"/>
                </a:lnTo>
                <a:lnTo>
                  <a:pt x="1700" y="505"/>
                </a:lnTo>
                <a:lnTo>
                  <a:pt x="1717" y="507"/>
                </a:lnTo>
                <a:lnTo>
                  <a:pt x="1732" y="509"/>
                </a:lnTo>
                <a:lnTo>
                  <a:pt x="1749" y="511"/>
                </a:lnTo>
                <a:lnTo>
                  <a:pt x="1764" y="513"/>
                </a:lnTo>
                <a:lnTo>
                  <a:pt x="1780" y="516"/>
                </a:lnTo>
                <a:lnTo>
                  <a:pt x="1793" y="517"/>
                </a:lnTo>
                <a:lnTo>
                  <a:pt x="1809" y="517"/>
                </a:lnTo>
                <a:lnTo>
                  <a:pt x="1819" y="518"/>
                </a:lnTo>
                <a:lnTo>
                  <a:pt x="1829" y="517"/>
                </a:lnTo>
                <a:lnTo>
                  <a:pt x="1839" y="516"/>
                </a:lnTo>
                <a:lnTo>
                  <a:pt x="1847" y="513"/>
                </a:lnTo>
                <a:lnTo>
                  <a:pt x="1847" y="499"/>
                </a:lnTo>
                <a:lnTo>
                  <a:pt x="1879" y="499"/>
                </a:lnTo>
                <a:lnTo>
                  <a:pt x="1880" y="490"/>
                </a:lnTo>
                <a:lnTo>
                  <a:pt x="1881" y="485"/>
                </a:lnTo>
                <a:lnTo>
                  <a:pt x="1883" y="484"/>
                </a:lnTo>
                <a:lnTo>
                  <a:pt x="1888" y="484"/>
                </a:lnTo>
                <a:lnTo>
                  <a:pt x="1890" y="484"/>
                </a:lnTo>
                <a:lnTo>
                  <a:pt x="1892" y="482"/>
                </a:lnTo>
                <a:lnTo>
                  <a:pt x="1895" y="478"/>
                </a:lnTo>
                <a:lnTo>
                  <a:pt x="1895" y="469"/>
                </a:lnTo>
                <a:lnTo>
                  <a:pt x="1913" y="469"/>
                </a:lnTo>
                <a:lnTo>
                  <a:pt x="1932" y="469"/>
                </a:lnTo>
                <a:lnTo>
                  <a:pt x="1954" y="470"/>
                </a:lnTo>
                <a:lnTo>
                  <a:pt x="1979" y="470"/>
                </a:lnTo>
                <a:lnTo>
                  <a:pt x="2005" y="471"/>
                </a:lnTo>
                <a:lnTo>
                  <a:pt x="2032" y="471"/>
                </a:lnTo>
                <a:lnTo>
                  <a:pt x="2061" y="471"/>
                </a:lnTo>
                <a:lnTo>
                  <a:pt x="2089" y="470"/>
                </a:lnTo>
                <a:lnTo>
                  <a:pt x="2117" y="469"/>
                </a:lnTo>
                <a:lnTo>
                  <a:pt x="2146" y="467"/>
                </a:lnTo>
                <a:lnTo>
                  <a:pt x="2172" y="465"/>
                </a:lnTo>
                <a:lnTo>
                  <a:pt x="2196" y="460"/>
                </a:lnTo>
                <a:lnTo>
                  <a:pt x="2220" y="456"/>
                </a:lnTo>
                <a:lnTo>
                  <a:pt x="2240" y="451"/>
                </a:lnTo>
                <a:lnTo>
                  <a:pt x="2257" y="444"/>
                </a:lnTo>
                <a:lnTo>
                  <a:pt x="2272" y="436"/>
                </a:lnTo>
                <a:lnTo>
                  <a:pt x="2333" y="391"/>
                </a:lnTo>
                <a:lnTo>
                  <a:pt x="2383" y="458"/>
                </a:lnTo>
                <a:lnTo>
                  <a:pt x="2397" y="407"/>
                </a:lnTo>
                <a:lnTo>
                  <a:pt x="2408" y="415"/>
                </a:lnTo>
                <a:lnTo>
                  <a:pt x="2416" y="428"/>
                </a:lnTo>
                <a:lnTo>
                  <a:pt x="2423" y="443"/>
                </a:lnTo>
                <a:lnTo>
                  <a:pt x="2429" y="459"/>
                </a:lnTo>
                <a:lnTo>
                  <a:pt x="2434" y="474"/>
                </a:lnTo>
                <a:lnTo>
                  <a:pt x="2441" y="487"/>
                </a:lnTo>
                <a:lnTo>
                  <a:pt x="2450" y="496"/>
                </a:lnTo>
                <a:lnTo>
                  <a:pt x="2460" y="499"/>
                </a:lnTo>
                <a:lnTo>
                  <a:pt x="2505" y="539"/>
                </a:lnTo>
                <a:lnTo>
                  <a:pt x="2559" y="550"/>
                </a:lnTo>
                <a:lnTo>
                  <a:pt x="2615" y="539"/>
                </a:lnTo>
                <a:lnTo>
                  <a:pt x="2615" y="591"/>
                </a:lnTo>
                <a:lnTo>
                  <a:pt x="2640" y="544"/>
                </a:lnTo>
                <a:lnTo>
                  <a:pt x="2648" y="582"/>
                </a:lnTo>
                <a:lnTo>
                  <a:pt x="2682" y="582"/>
                </a:lnTo>
                <a:lnTo>
                  <a:pt x="2672" y="636"/>
                </a:lnTo>
                <a:lnTo>
                  <a:pt x="2726" y="613"/>
                </a:lnTo>
                <a:lnTo>
                  <a:pt x="2748" y="645"/>
                </a:lnTo>
                <a:lnTo>
                  <a:pt x="2759" y="645"/>
                </a:lnTo>
                <a:lnTo>
                  <a:pt x="2764" y="647"/>
                </a:lnTo>
                <a:lnTo>
                  <a:pt x="2768" y="648"/>
                </a:lnTo>
                <a:lnTo>
                  <a:pt x="2771" y="649"/>
                </a:lnTo>
                <a:lnTo>
                  <a:pt x="2773" y="652"/>
                </a:lnTo>
                <a:lnTo>
                  <a:pt x="2777" y="653"/>
                </a:lnTo>
                <a:lnTo>
                  <a:pt x="2783" y="654"/>
                </a:lnTo>
                <a:lnTo>
                  <a:pt x="2793" y="655"/>
                </a:lnTo>
                <a:lnTo>
                  <a:pt x="2793" y="664"/>
                </a:lnTo>
                <a:lnTo>
                  <a:pt x="2797" y="668"/>
                </a:lnTo>
                <a:lnTo>
                  <a:pt x="2799" y="670"/>
                </a:lnTo>
                <a:lnTo>
                  <a:pt x="2804" y="671"/>
                </a:lnTo>
                <a:lnTo>
                  <a:pt x="2807" y="672"/>
                </a:lnTo>
                <a:lnTo>
                  <a:pt x="2812" y="673"/>
                </a:lnTo>
                <a:lnTo>
                  <a:pt x="2814" y="677"/>
                </a:lnTo>
                <a:lnTo>
                  <a:pt x="2815" y="686"/>
                </a:lnTo>
                <a:lnTo>
                  <a:pt x="2825" y="686"/>
                </a:lnTo>
                <a:lnTo>
                  <a:pt x="2833" y="684"/>
                </a:lnTo>
                <a:lnTo>
                  <a:pt x="2839" y="679"/>
                </a:lnTo>
                <a:lnTo>
                  <a:pt x="2843" y="676"/>
                </a:lnTo>
                <a:lnTo>
                  <a:pt x="2846" y="672"/>
                </a:lnTo>
                <a:lnTo>
                  <a:pt x="2850" y="668"/>
                </a:lnTo>
                <a:lnTo>
                  <a:pt x="2853" y="665"/>
                </a:lnTo>
                <a:lnTo>
                  <a:pt x="2859" y="665"/>
                </a:lnTo>
                <a:lnTo>
                  <a:pt x="2859" y="660"/>
                </a:lnTo>
                <a:lnTo>
                  <a:pt x="2862" y="655"/>
                </a:lnTo>
                <a:lnTo>
                  <a:pt x="2866" y="652"/>
                </a:lnTo>
                <a:lnTo>
                  <a:pt x="2869" y="649"/>
                </a:lnTo>
                <a:lnTo>
                  <a:pt x="2875" y="647"/>
                </a:lnTo>
                <a:lnTo>
                  <a:pt x="2881" y="646"/>
                </a:lnTo>
                <a:lnTo>
                  <a:pt x="2887" y="645"/>
                </a:lnTo>
                <a:lnTo>
                  <a:pt x="2892" y="645"/>
                </a:lnTo>
                <a:lnTo>
                  <a:pt x="2892" y="633"/>
                </a:lnTo>
                <a:lnTo>
                  <a:pt x="2891" y="620"/>
                </a:lnTo>
                <a:lnTo>
                  <a:pt x="2888" y="608"/>
                </a:lnTo>
                <a:lnTo>
                  <a:pt x="2887" y="597"/>
                </a:lnTo>
                <a:lnTo>
                  <a:pt x="2885" y="586"/>
                </a:lnTo>
                <a:lnTo>
                  <a:pt x="2885" y="576"/>
                </a:lnTo>
                <a:lnTo>
                  <a:pt x="2888" y="567"/>
                </a:lnTo>
                <a:lnTo>
                  <a:pt x="2892" y="560"/>
                </a:lnTo>
                <a:lnTo>
                  <a:pt x="2904" y="508"/>
                </a:lnTo>
                <a:lnTo>
                  <a:pt x="2904" y="507"/>
                </a:lnTo>
                <a:lnTo>
                  <a:pt x="2904" y="503"/>
                </a:lnTo>
                <a:lnTo>
                  <a:pt x="2905" y="496"/>
                </a:lnTo>
                <a:lnTo>
                  <a:pt x="2908" y="488"/>
                </a:lnTo>
                <a:lnTo>
                  <a:pt x="2913" y="481"/>
                </a:lnTo>
                <a:lnTo>
                  <a:pt x="2918" y="474"/>
                </a:lnTo>
                <a:lnTo>
                  <a:pt x="2927" y="469"/>
                </a:lnTo>
                <a:lnTo>
                  <a:pt x="2937" y="468"/>
                </a:lnTo>
                <a:lnTo>
                  <a:pt x="2971" y="458"/>
                </a:lnTo>
                <a:lnTo>
                  <a:pt x="3025" y="458"/>
                </a:lnTo>
                <a:lnTo>
                  <a:pt x="3038" y="436"/>
                </a:lnTo>
                <a:lnTo>
                  <a:pt x="3083" y="427"/>
                </a:lnTo>
                <a:lnTo>
                  <a:pt x="3092" y="416"/>
                </a:lnTo>
                <a:lnTo>
                  <a:pt x="3148" y="416"/>
                </a:lnTo>
                <a:lnTo>
                  <a:pt x="3182" y="394"/>
                </a:lnTo>
                <a:lnTo>
                  <a:pt x="3236" y="436"/>
                </a:lnTo>
                <a:lnTo>
                  <a:pt x="3292" y="436"/>
                </a:lnTo>
                <a:lnTo>
                  <a:pt x="3294" y="438"/>
                </a:lnTo>
                <a:lnTo>
                  <a:pt x="3299" y="439"/>
                </a:lnTo>
                <a:lnTo>
                  <a:pt x="3305" y="440"/>
                </a:lnTo>
                <a:lnTo>
                  <a:pt x="3313" y="442"/>
                </a:lnTo>
                <a:lnTo>
                  <a:pt x="3323" y="443"/>
                </a:lnTo>
                <a:lnTo>
                  <a:pt x="3332" y="443"/>
                </a:lnTo>
                <a:lnTo>
                  <a:pt x="3340" y="441"/>
                </a:lnTo>
                <a:lnTo>
                  <a:pt x="3347" y="436"/>
                </a:lnTo>
                <a:lnTo>
                  <a:pt x="3402" y="416"/>
                </a:lnTo>
                <a:lnTo>
                  <a:pt x="3411" y="411"/>
                </a:lnTo>
                <a:lnTo>
                  <a:pt x="3415" y="411"/>
                </a:lnTo>
                <a:lnTo>
                  <a:pt x="3415" y="413"/>
                </a:lnTo>
                <a:lnTo>
                  <a:pt x="3414" y="416"/>
                </a:lnTo>
                <a:lnTo>
                  <a:pt x="3413" y="418"/>
                </a:lnTo>
                <a:lnTo>
                  <a:pt x="3413" y="420"/>
                </a:lnTo>
                <a:lnTo>
                  <a:pt x="3416" y="419"/>
                </a:lnTo>
                <a:lnTo>
                  <a:pt x="3425" y="416"/>
                </a:lnTo>
                <a:lnTo>
                  <a:pt x="3492" y="427"/>
                </a:lnTo>
                <a:lnTo>
                  <a:pt x="3547" y="416"/>
                </a:lnTo>
                <a:lnTo>
                  <a:pt x="3580" y="416"/>
                </a:lnTo>
                <a:lnTo>
                  <a:pt x="3603" y="405"/>
                </a:lnTo>
                <a:lnTo>
                  <a:pt x="3603" y="420"/>
                </a:lnTo>
                <a:lnTo>
                  <a:pt x="3636" y="416"/>
                </a:lnTo>
                <a:lnTo>
                  <a:pt x="3681" y="427"/>
                </a:lnTo>
                <a:lnTo>
                  <a:pt x="3714" y="458"/>
                </a:lnTo>
                <a:lnTo>
                  <a:pt x="3714" y="464"/>
                </a:lnTo>
                <a:lnTo>
                  <a:pt x="3713" y="460"/>
                </a:lnTo>
                <a:lnTo>
                  <a:pt x="3712" y="452"/>
                </a:lnTo>
                <a:lnTo>
                  <a:pt x="3712" y="440"/>
                </a:lnTo>
                <a:lnTo>
                  <a:pt x="3711" y="428"/>
                </a:lnTo>
                <a:lnTo>
                  <a:pt x="3710" y="419"/>
                </a:lnTo>
                <a:lnTo>
                  <a:pt x="3708" y="417"/>
                </a:lnTo>
                <a:lnTo>
                  <a:pt x="3708" y="422"/>
                </a:lnTo>
                <a:lnTo>
                  <a:pt x="3715" y="423"/>
                </a:lnTo>
                <a:lnTo>
                  <a:pt x="3723" y="426"/>
                </a:lnTo>
                <a:lnTo>
                  <a:pt x="3732" y="428"/>
                </a:lnTo>
                <a:lnTo>
                  <a:pt x="3740" y="430"/>
                </a:lnTo>
                <a:lnTo>
                  <a:pt x="3749" y="432"/>
                </a:lnTo>
                <a:lnTo>
                  <a:pt x="3759" y="435"/>
                </a:lnTo>
                <a:lnTo>
                  <a:pt x="3766" y="438"/>
                </a:lnTo>
                <a:lnTo>
                  <a:pt x="3774" y="438"/>
                </a:lnTo>
                <a:lnTo>
                  <a:pt x="3776" y="448"/>
                </a:lnTo>
                <a:lnTo>
                  <a:pt x="3784" y="456"/>
                </a:lnTo>
                <a:lnTo>
                  <a:pt x="3794" y="461"/>
                </a:lnTo>
                <a:lnTo>
                  <a:pt x="3808" y="465"/>
                </a:lnTo>
                <a:lnTo>
                  <a:pt x="3820" y="467"/>
                </a:lnTo>
                <a:lnTo>
                  <a:pt x="3834" y="468"/>
                </a:lnTo>
                <a:lnTo>
                  <a:pt x="3846" y="469"/>
                </a:lnTo>
                <a:lnTo>
                  <a:pt x="3854" y="469"/>
                </a:lnTo>
                <a:lnTo>
                  <a:pt x="3854" y="483"/>
                </a:lnTo>
                <a:lnTo>
                  <a:pt x="3888" y="483"/>
                </a:lnTo>
                <a:lnTo>
                  <a:pt x="3888" y="499"/>
                </a:lnTo>
                <a:lnTo>
                  <a:pt x="3951" y="499"/>
                </a:lnTo>
                <a:lnTo>
                  <a:pt x="3955" y="508"/>
                </a:lnTo>
                <a:lnTo>
                  <a:pt x="3964" y="516"/>
                </a:lnTo>
                <a:lnTo>
                  <a:pt x="3977" y="523"/>
                </a:lnTo>
                <a:lnTo>
                  <a:pt x="3992" y="529"/>
                </a:lnTo>
                <a:lnTo>
                  <a:pt x="4005" y="535"/>
                </a:lnTo>
                <a:lnTo>
                  <a:pt x="4019" y="541"/>
                </a:lnTo>
                <a:lnTo>
                  <a:pt x="4028" y="549"/>
                </a:lnTo>
                <a:lnTo>
                  <a:pt x="4031" y="560"/>
                </a:lnTo>
                <a:lnTo>
                  <a:pt x="4038" y="560"/>
                </a:lnTo>
                <a:lnTo>
                  <a:pt x="4048" y="562"/>
                </a:lnTo>
                <a:lnTo>
                  <a:pt x="4060" y="565"/>
                </a:lnTo>
                <a:lnTo>
                  <a:pt x="4070" y="569"/>
                </a:lnTo>
                <a:lnTo>
                  <a:pt x="4080" y="573"/>
                </a:lnTo>
                <a:lnTo>
                  <a:pt x="4088" y="578"/>
                </a:lnTo>
                <a:lnTo>
                  <a:pt x="4094" y="584"/>
                </a:lnTo>
                <a:lnTo>
                  <a:pt x="4097" y="589"/>
                </a:lnTo>
                <a:lnTo>
                  <a:pt x="4202" y="468"/>
                </a:lnTo>
                <a:lnTo>
                  <a:pt x="4220" y="452"/>
                </a:lnTo>
                <a:lnTo>
                  <a:pt x="4236" y="436"/>
                </a:lnTo>
                <a:lnTo>
                  <a:pt x="4252" y="421"/>
                </a:lnTo>
                <a:lnTo>
                  <a:pt x="4263" y="407"/>
                </a:lnTo>
                <a:lnTo>
                  <a:pt x="4274" y="393"/>
                </a:lnTo>
                <a:lnTo>
                  <a:pt x="4284" y="380"/>
                </a:lnTo>
                <a:lnTo>
                  <a:pt x="4293" y="368"/>
                </a:lnTo>
                <a:lnTo>
                  <a:pt x="4300" y="356"/>
                </a:lnTo>
                <a:lnTo>
                  <a:pt x="4307" y="348"/>
                </a:lnTo>
                <a:lnTo>
                  <a:pt x="4312" y="339"/>
                </a:lnTo>
                <a:lnTo>
                  <a:pt x="4317" y="332"/>
                </a:lnTo>
                <a:lnTo>
                  <a:pt x="4319" y="328"/>
                </a:lnTo>
                <a:lnTo>
                  <a:pt x="4322" y="325"/>
                </a:lnTo>
                <a:lnTo>
                  <a:pt x="4323" y="325"/>
                </a:lnTo>
                <a:lnTo>
                  <a:pt x="4324" y="327"/>
                </a:lnTo>
                <a:lnTo>
                  <a:pt x="4324" y="331"/>
                </a:lnTo>
                <a:lnTo>
                  <a:pt x="4347" y="353"/>
                </a:lnTo>
                <a:lnTo>
                  <a:pt x="4269" y="488"/>
                </a:lnTo>
                <a:lnTo>
                  <a:pt x="4202" y="560"/>
                </a:lnTo>
                <a:lnTo>
                  <a:pt x="4179" y="634"/>
                </a:lnTo>
                <a:lnTo>
                  <a:pt x="4274" y="651"/>
                </a:lnTo>
                <a:lnTo>
                  <a:pt x="4274" y="666"/>
                </a:lnTo>
                <a:lnTo>
                  <a:pt x="4324" y="666"/>
                </a:lnTo>
                <a:lnTo>
                  <a:pt x="4324" y="681"/>
                </a:lnTo>
                <a:lnTo>
                  <a:pt x="4356" y="681"/>
                </a:lnTo>
                <a:lnTo>
                  <a:pt x="4356" y="696"/>
                </a:lnTo>
                <a:lnTo>
                  <a:pt x="4356" y="709"/>
                </a:lnTo>
                <a:lnTo>
                  <a:pt x="4356" y="722"/>
                </a:lnTo>
                <a:lnTo>
                  <a:pt x="4356" y="735"/>
                </a:lnTo>
                <a:lnTo>
                  <a:pt x="4356" y="747"/>
                </a:lnTo>
                <a:lnTo>
                  <a:pt x="4356" y="758"/>
                </a:lnTo>
                <a:lnTo>
                  <a:pt x="4353" y="769"/>
                </a:lnTo>
                <a:lnTo>
                  <a:pt x="4353" y="781"/>
                </a:lnTo>
                <a:lnTo>
                  <a:pt x="4352" y="792"/>
                </a:lnTo>
                <a:lnTo>
                  <a:pt x="4351" y="804"/>
                </a:lnTo>
                <a:lnTo>
                  <a:pt x="4350" y="816"/>
                </a:lnTo>
                <a:lnTo>
                  <a:pt x="4349" y="828"/>
                </a:lnTo>
                <a:lnTo>
                  <a:pt x="4347" y="840"/>
                </a:lnTo>
                <a:lnTo>
                  <a:pt x="4345" y="852"/>
                </a:lnTo>
                <a:lnTo>
                  <a:pt x="4343" y="866"/>
                </a:lnTo>
                <a:lnTo>
                  <a:pt x="4340" y="880"/>
                </a:lnTo>
                <a:lnTo>
                  <a:pt x="4333" y="899"/>
                </a:lnTo>
                <a:lnTo>
                  <a:pt x="4325" y="919"/>
                </a:lnTo>
                <a:lnTo>
                  <a:pt x="4318" y="937"/>
                </a:lnTo>
                <a:lnTo>
                  <a:pt x="4309" y="956"/>
                </a:lnTo>
                <a:lnTo>
                  <a:pt x="4299" y="974"/>
                </a:lnTo>
                <a:lnTo>
                  <a:pt x="4289" y="992"/>
                </a:lnTo>
                <a:lnTo>
                  <a:pt x="4279" y="1009"/>
                </a:lnTo>
                <a:lnTo>
                  <a:pt x="4267" y="1025"/>
                </a:lnTo>
                <a:lnTo>
                  <a:pt x="4255" y="1041"/>
                </a:lnTo>
                <a:lnTo>
                  <a:pt x="4244" y="1058"/>
                </a:lnTo>
                <a:lnTo>
                  <a:pt x="4230" y="1074"/>
                </a:lnTo>
                <a:lnTo>
                  <a:pt x="4218" y="1090"/>
                </a:lnTo>
                <a:lnTo>
                  <a:pt x="4203" y="1105"/>
                </a:lnTo>
                <a:lnTo>
                  <a:pt x="4191" y="1121"/>
                </a:lnTo>
                <a:lnTo>
                  <a:pt x="4176" y="1136"/>
                </a:lnTo>
                <a:lnTo>
                  <a:pt x="4162" y="1151"/>
                </a:lnTo>
                <a:lnTo>
                  <a:pt x="4148" y="1166"/>
                </a:lnTo>
                <a:lnTo>
                  <a:pt x="4132" y="1180"/>
                </a:lnTo>
                <a:lnTo>
                  <a:pt x="4117" y="1195"/>
                </a:lnTo>
                <a:lnTo>
                  <a:pt x="4103" y="1209"/>
                </a:lnTo>
                <a:lnTo>
                  <a:pt x="4088" y="1225"/>
                </a:lnTo>
                <a:lnTo>
                  <a:pt x="4073" y="1240"/>
                </a:lnTo>
                <a:lnTo>
                  <a:pt x="4058" y="1255"/>
                </a:lnTo>
                <a:lnTo>
                  <a:pt x="4044" y="1270"/>
                </a:lnTo>
                <a:lnTo>
                  <a:pt x="4028" y="1285"/>
                </a:lnTo>
                <a:lnTo>
                  <a:pt x="4013" y="1301"/>
                </a:lnTo>
                <a:lnTo>
                  <a:pt x="4000" y="1317"/>
                </a:lnTo>
                <a:lnTo>
                  <a:pt x="3987" y="1333"/>
                </a:lnTo>
                <a:lnTo>
                  <a:pt x="3974" y="1349"/>
                </a:lnTo>
                <a:lnTo>
                  <a:pt x="3960" y="1366"/>
                </a:lnTo>
                <a:lnTo>
                  <a:pt x="3948" y="1382"/>
                </a:lnTo>
                <a:lnTo>
                  <a:pt x="3935" y="1399"/>
                </a:lnTo>
                <a:lnTo>
                  <a:pt x="3917" y="1399"/>
                </a:lnTo>
                <a:lnTo>
                  <a:pt x="3897" y="1402"/>
                </a:lnTo>
                <a:lnTo>
                  <a:pt x="3878" y="1406"/>
                </a:lnTo>
                <a:lnTo>
                  <a:pt x="3856" y="1411"/>
                </a:lnTo>
                <a:lnTo>
                  <a:pt x="3837" y="1417"/>
                </a:lnTo>
                <a:lnTo>
                  <a:pt x="3816" y="1423"/>
                </a:lnTo>
                <a:lnTo>
                  <a:pt x="3794" y="1431"/>
                </a:lnTo>
                <a:lnTo>
                  <a:pt x="3774" y="1437"/>
                </a:lnTo>
                <a:lnTo>
                  <a:pt x="3753" y="1444"/>
                </a:lnTo>
                <a:lnTo>
                  <a:pt x="3730" y="1451"/>
                </a:lnTo>
                <a:lnTo>
                  <a:pt x="3710" y="1458"/>
                </a:lnTo>
                <a:lnTo>
                  <a:pt x="3689" y="1463"/>
                </a:lnTo>
                <a:lnTo>
                  <a:pt x="3669" y="1469"/>
                </a:lnTo>
                <a:lnTo>
                  <a:pt x="3649" y="1472"/>
                </a:lnTo>
                <a:lnTo>
                  <a:pt x="3630" y="1475"/>
                </a:lnTo>
                <a:lnTo>
                  <a:pt x="3611" y="1475"/>
                </a:lnTo>
                <a:lnTo>
                  <a:pt x="3599" y="1476"/>
                </a:lnTo>
                <a:lnTo>
                  <a:pt x="3583" y="1476"/>
                </a:lnTo>
                <a:lnTo>
                  <a:pt x="3561" y="1477"/>
                </a:lnTo>
                <a:lnTo>
                  <a:pt x="3538" y="1479"/>
                </a:lnTo>
                <a:lnTo>
                  <a:pt x="3509" y="1482"/>
                </a:lnTo>
                <a:lnTo>
                  <a:pt x="3479" y="1484"/>
                </a:lnTo>
                <a:lnTo>
                  <a:pt x="3449" y="1485"/>
                </a:lnTo>
                <a:lnTo>
                  <a:pt x="3416" y="1486"/>
                </a:lnTo>
                <a:lnTo>
                  <a:pt x="3385" y="1488"/>
                </a:lnTo>
                <a:lnTo>
                  <a:pt x="3355" y="1489"/>
                </a:lnTo>
                <a:lnTo>
                  <a:pt x="3324" y="1489"/>
                </a:lnTo>
                <a:lnTo>
                  <a:pt x="3297" y="1488"/>
                </a:lnTo>
                <a:lnTo>
                  <a:pt x="3273" y="1486"/>
                </a:lnTo>
                <a:lnTo>
                  <a:pt x="3253" y="1484"/>
                </a:lnTo>
                <a:lnTo>
                  <a:pt x="3235" y="1481"/>
                </a:lnTo>
                <a:lnTo>
                  <a:pt x="3223" y="1475"/>
                </a:lnTo>
                <a:lnTo>
                  <a:pt x="3223" y="1460"/>
                </a:lnTo>
                <a:lnTo>
                  <a:pt x="3126" y="1460"/>
                </a:lnTo>
                <a:lnTo>
                  <a:pt x="3128" y="1459"/>
                </a:lnTo>
                <a:lnTo>
                  <a:pt x="3129" y="1452"/>
                </a:lnTo>
                <a:lnTo>
                  <a:pt x="3129" y="1444"/>
                </a:lnTo>
                <a:lnTo>
                  <a:pt x="3127" y="1432"/>
                </a:lnTo>
                <a:lnTo>
                  <a:pt x="3125" y="1418"/>
                </a:lnTo>
                <a:lnTo>
                  <a:pt x="3121" y="1402"/>
                </a:lnTo>
                <a:lnTo>
                  <a:pt x="3117" y="1385"/>
                </a:lnTo>
                <a:lnTo>
                  <a:pt x="3112" y="1368"/>
                </a:lnTo>
                <a:lnTo>
                  <a:pt x="3105" y="1350"/>
                </a:lnTo>
                <a:lnTo>
                  <a:pt x="3101" y="1334"/>
                </a:lnTo>
                <a:lnTo>
                  <a:pt x="3093" y="1319"/>
                </a:lnTo>
                <a:lnTo>
                  <a:pt x="3087" y="1305"/>
                </a:lnTo>
                <a:lnTo>
                  <a:pt x="3079" y="1293"/>
                </a:lnTo>
                <a:lnTo>
                  <a:pt x="3074" y="1284"/>
                </a:lnTo>
                <a:lnTo>
                  <a:pt x="3067" y="1278"/>
                </a:lnTo>
                <a:lnTo>
                  <a:pt x="3061" y="1276"/>
                </a:lnTo>
                <a:lnTo>
                  <a:pt x="3061" y="1245"/>
                </a:lnTo>
                <a:lnTo>
                  <a:pt x="3050" y="1245"/>
                </a:lnTo>
                <a:lnTo>
                  <a:pt x="3038" y="1245"/>
                </a:lnTo>
                <a:lnTo>
                  <a:pt x="3022" y="1244"/>
                </a:lnTo>
                <a:lnTo>
                  <a:pt x="3005" y="1243"/>
                </a:lnTo>
                <a:lnTo>
                  <a:pt x="2986" y="1241"/>
                </a:lnTo>
                <a:lnTo>
                  <a:pt x="2966" y="1240"/>
                </a:lnTo>
                <a:lnTo>
                  <a:pt x="2945" y="1238"/>
                </a:lnTo>
                <a:lnTo>
                  <a:pt x="2924" y="1237"/>
                </a:lnTo>
                <a:lnTo>
                  <a:pt x="2902" y="1233"/>
                </a:lnTo>
                <a:lnTo>
                  <a:pt x="2882" y="1231"/>
                </a:lnTo>
                <a:lnTo>
                  <a:pt x="2861" y="1229"/>
                </a:lnTo>
                <a:lnTo>
                  <a:pt x="2842" y="1226"/>
                </a:lnTo>
                <a:lnTo>
                  <a:pt x="2825" y="1224"/>
                </a:lnTo>
                <a:lnTo>
                  <a:pt x="2809" y="1221"/>
                </a:lnTo>
                <a:lnTo>
                  <a:pt x="2797" y="1218"/>
                </a:lnTo>
                <a:lnTo>
                  <a:pt x="2786" y="1216"/>
                </a:lnTo>
                <a:lnTo>
                  <a:pt x="2786" y="1200"/>
                </a:lnTo>
                <a:lnTo>
                  <a:pt x="2703" y="1200"/>
                </a:lnTo>
                <a:lnTo>
                  <a:pt x="2703" y="1191"/>
                </a:lnTo>
                <a:lnTo>
                  <a:pt x="2701" y="1187"/>
                </a:lnTo>
                <a:lnTo>
                  <a:pt x="2699" y="1185"/>
                </a:lnTo>
                <a:lnTo>
                  <a:pt x="2697" y="1185"/>
                </a:lnTo>
                <a:lnTo>
                  <a:pt x="2694" y="1185"/>
                </a:lnTo>
                <a:lnTo>
                  <a:pt x="2692" y="1182"/>
                </a:lnTo>
                <a:lnTo>
                  <a:pt x="2689" y="1178"/>
                </a:lnTo>
                <a:lnTo>
                  <a:pt x="2689" y="1170"/>
                </a:lnTo>
                <a:lnTo>
                  <a:pt x="2683" y="1169"/>
                </a:lnTo>
                <a:lnTo>
                  <a:pt x="2675" y="1168"/>
                </a:lnTo>
                <a:lnTo>
                  <a:pt x="2669" y="1165"/>
                </a:lnTo>
                <a:lnTo>
                  <a:pt x="2664" y="1162"/>
                </a:lnTo>
                <a:lnTo>
                  <a:pt x="2658" y="1160"/>
                </a:lnTo>
                <a:lnTo>
                  <a:pt x="2651" y="1157"/>
                </a:lnTo>
                <a:lnTo>
                  <a:pt x="2646" y="1155"/>
                </a:lnTo>
                <a:lnTo>
                  <a:pt x="2640" y="1155"/>
                </a:lnTo>
                <a:lnTo>
                  <a:pt x="2656" y="1125"/>
                </a:lnTo>
                <a:lnTo>
                  <a:pt x="2672" y="1109"/>
                </a:lnTo>
                <a:lnTo>
                  <a:pt x="2721" y="1109"/>
                </a:lnTo>
                <a:lnTo>
                  <a:pt x="2720" y="1105"/>
                </a:lnTo>
                <a:lnTo>
                  <a:pt x="2716" y="1095"/>
                </a:lnTo>
                <a:lnTo>
                  <a:pt x="2712" y="1079"/>
                </a:lnTo>
                <a:lnTo>
                  <a:pt x="2711" y="1063"/>
                </a:lnTo>
                <a:lnTo>
                  <a:pt x="2710" y="1047"/>
                </a:lnTo>
                <a:lnTo>
                  <a:pt x="2713" y="1032"/>
                </a:lnTo>
                <a:lnTo>
                  <a:pt x="2722" y="1021"/>
                </a:lnTo>
                <a:lnTo>
                  <a:pt x="2737" y="1018"/>
                </a:lnTo>
                <a:lnTo>
                  <a:pt x="2728" y="1018"/>
                </a:lnTo>
                <a:lnTo>
                  <a:pt x="2715" y="1016"/>
                </a:lnTo>
                <a:lnTo>
                  <a:pt x="2699" y="1015"/>
                </a:lnTo>
                <a:lnTo>
                  <a:pt x="2683" y="1013"/>
                </a:lnTo>
                <a:lnTo>
                  <a:pt x="2667" y="1010"/>
                </a:lnTo>
                <a:lnTo>
                  <a:pt x="2654" y="1005"/>
                </a:lnTo>
                <a:lnTo>
                  <a:pt x="2643" y="997"/>
                </a:lnTo>
                <a:lnTo>
                  <a:pt x="2640" y="987"/>
                </a:lnTo>
                <a:lnTo>
                  <a:pt x="2672" y="987"/>
                </a:lnTo>
                <a:lnTo>
                  <a:pt x="2673" y="979"/>
                </a:lnTo>
                <a:lnTo>
                  <a:pt x="2674" y="973"/>
                </a:lnTo>
                <a:lnTo>
                  <a:pt x="2676" y="971"/>
                </a:lnTo>
                <a:lnTo>
                  <a:pt x="2681" y="971"/>
                </a:lnTo>
                <a:lnTo>
                  <a:pt x="2683" y="971"/>
                </a:lnTo>
                <a:lnTo>
                  <a:pt x="2685" y="969"/>
                </a:lnTo>
                <a:lnTo>
                  <a:pt x="2688" y="964"/>
                </a:lnTo>
                <a:lnTo>
                  <a:pt x="2689" y="956"/>
                </a:lnTo>
                <a:lnTo>
                  <a:pt x="2697" y="956"/>
                </a:lnTo>
                <a:lnTo>
                  <a:pt x="2705" y="955"/>
                </a:lnTo>
                <a:lnTo>
                  <a:pt x="2712" y="955"/>
                </a:lnTo>
                <a:lnTo>
                  <a:pt x="2720" y="954"/>
                </a:lnTo>
                <a:lnTo>
                  <a:pt x="2726" y="953"/>
                </a:lnTo>
                <a:lnTo>
                  <a:pt x="2734" y="951"/>
                </a:lnTo>
                <a:lnTo>
                  <a:pt x="2738" y="950"/>
                </a:lnTo>
                <a:lnTo>
                  <a:pt x="2746" y="950"/>
                </a:lnTo>
                <a:lnTo>
                  <a:pt x="2752" y="949"/>
                </a:lnTo>
                <a:lnTo>
                  <a:pt x="2757" y="948"/>
                </a:lnTo>
                <a:lnTo>
                  <a:pt x="2764" y="948"/>
                </a:lnTo>
                <a:lnTo>
                  <a:pt x="2771" y="949"/>
                </a:lnTo>
                <a:lnTo>
                  <a:pt x="2777" y="950"/>
                </a:lnTo>
                <a:lnTo>
                  <a:pt x="2786" y="951"/>
                </a:lnTo>
                <a:lnTo>
                  <a:pt x="2793" y="954"/>
                </a:lnTo>
                <a:lnTo>
                  <a:pt x="2802" y="956"/>
                </a:lnTo>
                <a:lnTo>
                  <a:pt x="2802" y="950"/>
                </a:lnTo>
                <a:lnTo>
                  <a:pt x="2799" y="944"/>
                </a:lnTo>
                <a:lnTo>
                  <a:pt x="2797" y="939"/>
                </a:lnTo>
                <a:lnTo>
                  <a:pt x="2791" y="935"/>
                </a:lnTo>
                <a:lnTo>
                  <a:pt x="2787" y="931"/>
                </a:lnTo>
                <a:lnTo>
                  <a:pt x="2781" y="928"/>
                </a:lnTo>
                <a:lnTo>
                  <a:pt x="2776" y="926"/>
                </a:lnTo>
                <a:lnTo>
                  <a:pt x="2770" y="925"/>
                </a:lnTo>
                <a:lnTo>
                  <a:pt x="2802" y="910"/>
                </a:lnTo>
                <a:lnTo>
                  <a:pt x="2802" y="895"/>
                </a:lnTo>
                <a:lnTo>
                  <a:pt x="2851" y="880"/>
                </a:lnTo>
                <a:lnTo>
                  <a:pt x="2851" y="848"/>
                </a:lnTo>
                <a:lnTo>
                  <a:pt x="2866" y="848"/>
                </a:lnTo>
                <a:lnTo>
                  <a:pt x="2866" y="789"/>
                </a:lnTo>
                <a:lnTo>
                  <a:pt x="2864" y="787"/>
                </a:lnTo>
                <a:lnTo>
                  <a:pt x="2864" y="780"/>
                </a:lnTo>
                <a:lnTo>
                  <a:pt x="2866" y="773"/>
                </a:lnTo>
                <a:lnTo>
                  <a:pt x="2869" y="763"/>
                </a:lnTo>
                <a:lnTo>
                  <a:pt x="2872" y="754"/>
                </a:lnTo>
                <a:lnTo>
                  <a:pt x="2872" y="747"/>
                </a:lnTo>
                <a:lnTo>
                  <a:pt x="2868" y="740"/>
                </a:lnTo>
                <a:lnTo>
                  <a:pt x="2859" y="738"/>
                </a:lnTo>
                <a:lnTo>
                  <a:pt x="2786" y="773"/>
                </a:lnTo>
                <a:lnTo>
                  <a:pt x="2786" y="789"/>
                </a:lnTo>
                <a:lnTo>
                  <a:pt x="2770" y="789"/>
                </a:lnTo>
                <a:lnTo>
                  <a:pt x="2770" y="804"/>
                </a:lnTo>
                <a:lnTo>
                  <a:pt x="2753" y="819"/>
                </a:lnTo>
                <a:lnTo>
                  <a:pt x="2735" y="819"/>
                </a:lnTo>
                <a:lnTo>
                  <a:pt x="2718" y="820"/>
                </a:lnTo>
                <a:lnTo>
                  <a:pt x="2703" y="820"/>
                </a:lnTo>
                <a:lnTo>
                  <a:pt x="2694" y="821"/>
                </a:lnTo>
                <a:lnTo>
                  <a:pt x="2685" y="823"/>
                </a:lnTo>
                <a:lnTo>
                  <a:pt x="2677" y="825"/>
                </a:lnTo>
                <a:lnTo>
                  <a:pt x="2672" y="826"/>
                </a:lnTo>
                <a:lnTo>
                  <a:pt x="2667" y="827"/>
                </a:lnTo>
                <a:lnTo>
                  <a:pt x="2660" y="829"/>
                </a:lnTo>
                <a:lnTo>
                  <a:pt x="2656" y="830"/>
                </a:lnTo>
                <a:lnTo>
                  <a:pt x="2649" y="831"/>
                </a:lnTo>
                <a:lnTo>
                  <a:pt x="2642" y="832"/>
                </a:lnTo>
                <a:lnTo>
                  <a:pt x="2632" y="833"/>
                </a:lnTo>
                <a:lnTo>
                  <a:pt x="2621" y="834"/>
                </a:lnTo>
                <a:lnTo>
                  <a:pt x="2608" y="835"/>
                </a:lnTo>
                <a:lnTo>
                  <a:pt x="2591" y="835"/>
                </a:lnTo>
                <a:lnTo>
                  <a:pt x="2593" y="840"/>
                </a:lnTo>
                <a:lnTo>
                  <a:pt x="2594" y="847"/>
                </a:lnTo>
                <a:lnTo>
                  <a:pt x="2596" y="856"/>
                </a:lnTo>
                <a:lnTo>
                  <a:pt x="2599" y="866"/>
                </a:lnTo>
                <a:lnTo>
                  <a:pt x="2603" y="877"/>
                </a:lnTo>
                <a:lnTo>
                  <a:pt x="2605" y="887"/>
                </a:lnTo>
                <a:lnTo>
                  <a:pt x="2606" y="898"/>
                </a:lnTo>
                <a:lnTo>
                  <a:pt x="2607" y="910"/>
                </a:lnTo>
                <a:lnTo>
                  <a:pt x="2602" y="910"/>
                </a:lnTo>
                <a:lnTo>
                  <a:pt x="2593" y="912"/>
                </a:lnTo>
                <a:lnTo>
                  <a:pt x="2584" y="915"/>
                </a:lnTo>
                <a:lnTo>
                  <a:pt x="2576" y="918"/>
                </a:lnTo>
                <a:lnTo>
                  <a:pt x="2565" y="921"/>
                </a:lnTo>
                <a:lnTo>
                  <a:pt x="2556" y="923"/>
                </a:lnTo>
                <a:lnTo>
                  <a:pt x="2550" y="925"/>
                </a:lnTo>
                <a:lnTo>
                  <a:pt x="2542" y="925"/>
                </a:lnTo>
                <a:lnTo>
                  <a:pt x="2551" y="926"/>
                </a:lnTo>
                <a:lnTo>
                  <a:pt x="2551" y="928"/>
                </a:lnTo>
                <a:lnTo>
                  <a:pt x="2546" y="931"/>
                </a:lnTo>
                <a:lnTo>
                  <a:pt x="2540" y="933"/>
                </a:lnTo>
                <a:lnTo>
                  <a:pt x="2529" y="935"/>
                </a:lnTo>
                <a:lnTo>
                  <a:pt x="2520" y="938"/>
                </a:lnTo>
                <a:lnTo>
                  <a:pt x="2514" y="939"/>
                </a:lnTo>
                <a:lnTo>
                  <a:pt x="2511" y="941"/>
                </a:lnTo>
                <a:lnTo>
                  <a:pt x="2512" y="946"/>
                </a:lnTo>
                <a:lnTo>
                  <a:pt x="2516" y="950"/>
                </a:lnTo>
                <a:lnTo>
                  <a:pt x="2523" y="954"/>
                </a:lnTo>
                <a:lnTo>
                  <a:pt x="2527" y="958"/>
                </a:lnTo>
                <a:lnTo>
                  <a:pt x="2533" y="962"/>
                </a:lnTo>
                <a:lnTo>
                  <a:pt x="2538" y="969"/>
                </a:lnTo>
                <a:lnTo>
                  <a:pt x="2541" y="976"/>
                </a:lnTo>
                <a:lnTo>
                  <a:pt x="2542" y="987"/>
                </a:lnTo>
                <a:lnTo>
                  <a:pt x="2537" y="987"/>
                </a:lnTo>
                <a:lnTo>
                  <a:pt x="2531" y="987"/>
                </a:lnTo>
                <a:lnTo>
                  <a:pt x="2523" y="988"/>
                </a:lnTo>
                <a:lnTo>
                  <a:pt x="2515" y="989"/>
                </a:lnTo>
                <a:lnTo>
                  <a:pt x="2506" y="990"/>
                </a:lnTo>
                <a:lnTo>
                  <a:pt x="2497" y="992"/>
                </a:lnTo>
                <a:lnTo>
                  <a:pt x="2488" y="993"/>
                </a:lnTo>
                <a:lnTo>
                  <a:pt x="2479" y="995"/>
                </a:lnTo>
                <a:lnTo>
                  <a:pt x="2468" y="996"/>
                </a:lnTo>
                <a:lnTo>
                  <a:pt x="2460" y="997"/>
                </a:lnTo>
                <a:lnTo>
                  <a:pt x="2451" y="998"/>
                </a:lnTo>
                <a:lnTo>
                  <a:pt x="2442" y="999"/>
                </a:lnTo>
                <a:lnTo>
                  <a:pt x="2436" y="1000"/>
                </a:lnTo>
                <a:lnTo>
                  <a:pt x="2427" y="1001"/>
                </a:lnTo>
                <a:lnTo>
                  <a:pt x="2421" y="1001"/>
                </a:lnTo>
                <a:lnTo>
                  <a:pt x="2414" y="1001"/>
                </a:lnTo>
                <a:lnTo>
                  <a:pt x="2397" y="1018"/>
                </a:lnTo>
                <a:lnTo>
                  <a:pt x="2397" y="1033"/>
                </a:lnTo>
                <a:lnTo>
                  <a:pt x="2383" y="1047"/>
                </a:lnTo>
                <a:lnTo>
                  <a:pt x="2363" y="1050"/>
                </a:lnTo>
                <a:lnTo>
                  <a:pt x="2355" y="1057"/>
                </a:lnTo>
                <a:lnTo>
                  <a:pt x="2354" y="1066"/>
                </a:lnTo>
                <a:lnTo>
                  <a:pt x="2358" y="1078"/>
                </a:lnTo>
                <a:lnTo>
                  <a:pt x="2365" y="1090"/>
                </a:lnTo>
                <a:lnTo>
                  <a:pt x="2372" y="1100"/>
                </a:lnTo>
                <a:lnTo>
                  <a:pt x="2380" y="1106"/>
                </a:lnTo>
                <a:lnTo>
                  <a:pt x="2383" y="1109"/>
                </a:lnTo>
                <a:lnTo>
                  <a:pt x="2494" y="1109"/>
                </a:lnTo>
                <a:lnTo>
                  <a:pt x="2494" y="1170"/>
                </a:lnTo>
                <a:lnTo>
                  <a:pt x="2430" y="1230"/>
                </a:lnTo>
                <a:lnTo>
                  <a:pt x="2423" y="1230"/>
                </a:lnTo>
                <a:lnTo>
                  <a:pt x="2414" y="1230"/>
                </a:lnTo>
                <a:lnTo>
                  <a:pt x="2403" y="1231"/>
                </a:lnTo>
                <a:lnTo>
                  <a:pt x="2391" y="1233"/>
                </a:lnTo>
                <a:lnTo>
                  <a:pt x="2378" y="1234"/>
                </a:lnTo>
                <a:lnTo>
                  <a:pt x="2365" y="1237"/>
                </a:lnTo>
                <a:lnTo>
                  <a:pt x="2351" y="1239"/>
                </a:lnTo>
                <a:lnTo>
                  <a:pt x="2336" y="1242"/>
                </a:lnTo>
                <a:lnTo>
                  <a:pt x="2324" y="1245"/>
                </a:lnTo>
                <a:lnTo>
                  <a:pt x="2310" y="1247"/>
                </a:lnTo>
                <a:lnTo>
                  <a:pt x="2299" y="1252"/>
                </a:lnTo>
                <a:lnTo>
                  <a:pt x="2290" y="1256"/>
                </a:lnTo>
                <a:lnTo>
                  <a:pt x="2281" y="1260"/>
                </a:lnTo>
                <a:lnTo>
                  <a:pt x="2273" y="1266"/>
                </a:lnTo>
                <a:lnTo>
                  <a:pt x="2270" y="1270"/>
                </a:lnTo>
                <a:lnTo>
                  <a:pt x="2268" y="1276"/>
                </a:lnTo>
                <a:lnTo>
                  <a:pt x="2220" y="1276"/>
                </a:lnTo>
                <a:lnTo>
                  <a:pt x="2220" y="1292"/>
                </a:lnTo>
                <a:lnTo>
                  <a:pt x="2154" y="1322"/>
                </a:lnTo>
                <a:lnTo>
                  <a:pt x="2154" y="1353"/>
                </a:lnTo>
                <a:lnTo>
                  <a:pt x="2139" y="1353"/>
                </a:lnTo>
                <a:lnTo>
                  <a:pt x="2139" y="1383"/>
                </a:lnTo>
                <a:lnTo>
                  <a:pt x="2123" y="1383"/>
                </a:lnTo>
                <a:lnTo>
                  <a:pt x="2123" y="1414"/>
                </a:lnTo>
                <a:lnTo>
                  <a:pt x="2107" y="1414"/>
                </a:lnTo>
                <a:lnTo>
                  <a:pt x="2107" y="1460"/>
                </a:lnTo>
                <a:lnTo>
                  <a:pt x="2089" y="1460"/>
                </a:lnTo>
                <a:lnTo>
                  <a:pt x="2089" y="1505"/>
                </a:lnTo>
                <a:lnTo>
                  <a:pt x="2107" y="1505"/>
                </a:lnTo>
                <a:lnTo>
                  <a:pt x="2107" y="1536"/>
                </a:lnTo>
                <a:lnTo>
                  <a:pt x="2089" y="1536"/>
                </a:lnTo>
                <a:lnTo>
                  <a:pt x="2084" y="1544"/>
                </a:lnTo>
                <a:lnTo>
                  <a:pt x="2079" y="1552"/>
                </a:lnTo>
                <a:lnTo>
                  <a:pt x="2075" y="1560"/>
                </a:lnTo>
                <a:lnTo>
                  <a:pt x="2072" y="1567"/>
                </a:lnTo>
                <a:lnTo>
                  <a:pt x="2070" y="1575"/>
                </a:lnTo>
                <a:lnTo>
                  <a:pt x="2066" y="1581"/>
                </a:lnTo>
                <a:lnTo>
                  <a:pt x="2064" y="1588"/>
                </a:lnTo>
                <a:lnTo>
                  <a:pt x="2061" y="1594"/>
                </a:lnTo>
                <a:lnTo>
                  <a:pt x="2058" y="1601"/>
                </a:lnTo>
                <a:lnTo>
                  <a:pt x="2053" y="1607"/>
                </a:lnTo>
                <a:lnTo>
                  <a:pt x="2049" y="1614"/>
                </a:lnTo>
                <a:lnTo>
                  <a:pt x="2044" y="1619"/>
                </a:lnTo>
                <a:lnTo>
                  <a:pt x="2037" y="1625"/>
                </a:lnTo>
                <a:lnTo>
                  <a:pt x="2030" y="1631"/>
                </a:lnTo>
                <a:lnTo>
                  <a:pt x="2020" y="1637"/>
                </a:lnTo>
                <a:lnTo>
                  <a:pt x="2009" y="1643"/>
                </a:lnTo>
                <a:lnTo>
                  <a:pt x="2009" y="1657"/>
                </a:lnTo>
                <a:lnTo>
                  <a:pt x="1863" y="1657"/>
                </a:lnTo>
                <a:lnTo>
                  <a:pt x="1847" y="1673"/>
                </a:lnTo>
                <a:lnTo>
                  <a:pt x="1847" y="1680"/>
                </a:lnTo>
                <a:lnTo>
                  <a:pt x="1845" y="1686"/>
                </a:lnTo>
                <a:lnTo>
                  <a:pt x="1845" y="1696"/>
                </a:lnTo>
                <a:lnTo>
                  <a:pt x="1844" y="1705"/>
                </a:lnTo>
                <a:lnTo>
                  <a:pt x="1843" y="1716"/>
                </a:lnTo>
                <a:lnTo>
                  <a:pt x="1843" y="1727"/>
                </a:lnTo>
                <a:lnTo>
                  <a:pt x="1842" y="1737"/>
                </a:lnTo>
                <a:lnTo>
                  <a:pt x="1840" y="1749"/>
                </a:lnTo>
                <a:lnTo>
                  <a:pt x="1839" y="1760"/>
                </a:lnTo>
                <a:lnTo>
                  <a:pt x="1839" y="1772"/>
                </a:lnTo>
                <a:lnTo>
                  <a:pt x="1839" y="1783"/>
                </a:lnTo>
                <a:lnTo>
                  <a:pt x="1839" y="1793"/>
                </a:lnTo>
                <a:lnTo>
                  <a:pt x="1840" y="1804"/>
                </a:lnTo>
                <a:lnTo>
                  <a:pt x="1842" y="1812"/>
                </a:lnTo>
                <a:lnTo>
                  <a:pt x="1844" y="1820"/>
                </a:lnTo>
                <a:lnTo>
                  <a:pt x="1847" y="1826"/>
                </a:lnTo>
                <a:lnTo>
                  <a:pt x="1863" y="1826"/>
                </a:lnTo>
                <a:lnTo>
                  <a:pt x="1863" y="1901"/>
                </a:lnTo>
                <a:lnTo>
                  <a:pt x="1604" y="1963"/>
                </a:lnTo>
                <a:lnTo>
                  <a:pt x="1604" y="1978"/>
                </a:lnTo>
                <a:lnTo>
                  <a:pt x="1589" y="1985"/>
                </a:lnTo>
                <a:lnTo>
                  <a:pt x="1569" y="1990"/>
                </a:lnTo>
                <a:lnTo>
                  <a:pt x="1549" y="1992"/>
                </a:lnTo>
                <a:lnTo>
                  <a:pt x="1526" y="1993"/>
                </a:lnTo>
                <a:lnTo>
                  <a:pt x="1503" y="1992"/>
                </a:lnTo>
                <a:lnTo>
                  <a:pt x="1478" y="1990"/>
                </a:lnTo>
                <a:lnTo>
                  <a:pt x="1452" y="1988"/>
                </a:lnTo>
                <a:lnTo>
                  <a:pt x="1426" y="1986"/>
                </a:lnTo>
                <a:lnTo>
                  <a:pt x="1400" y="1984"/>
                </a:lnTo>
                <a:lnTo>
                  <a:pt x="1374" y="1980"/>
                </a:lnTo>
                <a:lnTo>
                  <a:pt x="1350" y="1979"/>
                </a:lnTo>
                <a:lnTo>
                  <a:pt x="1327" y="1978"/>
                </a:lnTo>
                <a:lnTo>
                  <a:pt x="1304" y="1979"/>
                </a:lnTo>
                <a:lnTo>
                  <a:pt x="1283" y="1981"/>
                </a:lnTo>
                <a:lnTo>
                  <a:pt x="1264" y="1986"/>
                </a:lnTo>
                <a:lnTo>
                  <a:pt x="1249" y="1993"/>
                </a:lnTo>
                <a:lnTo>
                  <a:pt x="1249" y="2009"/>
                </a:lnTo>
                <a:lnTo>
                  <a:pt x="1150" y="2009"/>
                </a:lnTo>
                <a:lnTo>
                  <a:pt x="1150" y="1993"/>
                </a:lnTo>
                <a:lnTo>
                  <a:pt x="1119" y="1993"/>
                </a:lnTo>
                <a:lnTo>
                  <a:pt x="1119" y="1978"/>
                </a:lnTo>
                <a:lnTo>
                  <a:pt x="1070" y="1978"/>
                </a:lnTo>
                <a:lnTo>
                  <a:pt x="1069" y="1976"/>
                </a:lnTo>
                <a:lnTo>
                  <a:pt x="1062" y="1971"/>
                </a:lnTo>
                <a:lnTo>
                  <a:pt x="1054" y="1964"/>
                </a:lnTo>
                <a:lnTo>
                  <a:pt x="1044" y="1955"/>
                </a:lnTo>
                <a:lnTo>
                  <a:pt x="1033" y="1947"/>
                </a:lnTo>
                <a:lnTo>
                  <a:pt x="1023" y="1939"/>
                </a:lnTo>
                <a:lnTo>
                  <a:pt x="1013" y="1934"/>
                </a:lnTo>
                <a:lnTo>
                  <a:pt x="1006" y="1932"/>
                </a:lnTo>
                <a:lnTo>
                  <a:pt x="1006" y="1923"/>
                </a:lnTo>
                <a:lnTo>
                  <a:pt x="1004" y="1919"/>
                </a:lnTo>
                <a:lnTo>
                  <a:pt x="1000" y="1917"/>
                </a:lnTo>
                <a:lnTo>
                  <a:pt x="998" y="1916"/>
                </a:lnTo>
                <a:lnTo>
                  <a:pt x="996" y="1916"/>
                </a:lnTo>
                <a:lnTo>
                  <a:pt x="992" y="1914"/>
                </a:lnTo>
                <a:lnTo>
                  <a:pt x="991" y="1910"/>
                </a:lnTo>
                <a:lnTo>
                  <a:pt x="990" y="1901"/>
                </a:lnTo>
                <a:lnTo>
                  <a:pt x="983" y="1901"/>
                </a:lnTo>
                <a:lnTo>
                  <a:pt x="976" y="1901"/>
                </a:lnTo>
                <a:lnTo>
                  <a:pt x="967" y="1900"/>
                </a:lnTo>
                <a:lnTo>
                  <a:pt x="958" y="1899"/>
                </a:lnTo>
                <a:lnTo>
                  <a:pt x="948" y="1897"/>
                </a:lnTo>
                <a:lnTo>
                  <a:pt x="939" y="1896"/>
                </a:lnTo>
                <a:lnTo>
                  <a:pt x="929" y="1894"/>
                </a:lnTo>
                <a:lnTo>
                  <a:pt x="919" y="1892"/>
                </a:lnTo>
                <a:lnTo>
                  <a:pt x="909" y="1889"/>
                </a:lnTo>
                <a:lnTo>
                  <a:pt x="900" y="1887"/>
                </a:lnTo>
                <a:lnTo>
                  <a:pt x="891" y="1885"/>
                </a:lnTo>
                <a:lnTo>
                  <a:pt x="882" y="1882"/>
                </a:lnTo>
                <a:lnTo>
                  <a:pt x="875" y="1879"/>
                </a:lnTo>
                <a:lnTo>
                  <a:pt x="869" y="1877"/>
                </a:lnTo>
                <a:lnTo>
                  <a:pt x="864" y="1874"/>
                </a:lnTo>
                <a:lnTo>
                  <a:pt x="860" y="1872"/>
                </a:lnTo>
                <a:lnTo>
                  <a:pt x="860" y="1856"/>
                </a:lnTo>
                <a:lnTo>
                  <a:pt x="827" y="1856"/>
                </a:lnTo>
                <a:lnTo>
                  <a:pt x="827" y="1842"/>
                </a:lnTo>
                <a:lnTo>
                  <a:pt x="763" y="1842"/>
                </a:lnTo>
                <a:lnTo>
                  <a:pt x="763" y="1826"/>
                </a:lnTo>
                <a:lnTo>
                  <a:pt x="730" y="1826"/>
                </a:lnTo>
                <a:lnTo>
                  <a:pt x="730" y="1810"/>
                </a:lnTo>
                <a:lnTo>
                  <a:pt x="698" y="1810"/>
                </a:lnTo>
                <a:lnTo>
                  <a:pt x="698" y="1795"/>
                </a:lnTo>
                <a:lnTo>
                  <a:pt x="666" y="1795"/>
                </a:lnTo>
                <a:lnTo>
                  <a:pt x="649" y="1781"/>
                </a:lnTo>
                <a:lnTo>
                  <a:pt x="649" y="1765"/>
                </a:lnTo>
                <a:lnTo>
                  <a:pt x="633" y="1765"/>
                </a:lnTo>
                <a:lnTo>
                  <a:pt x="616" y="1749"/>
                </a:lnTo>
                <a:lnTo>
                  <a:pt x="616" y="1719"/>
                </a:lnTo>
                <a:lnTo>
                  <a:pt x="601" y="1719"/>
                </a:lnTo>
                <a:lnTo>
                  <a:pt x="601" y="1673"/>
                </a:lnTo>
                <a:lnTo>
                  <a:pt x="586" y="1673"/>
                </a:lnTo>
                <a:lnTo>
                  <a:pt x="586" y="1612"/>
                </a:lnTo>
                <a:lnTo>
                  <a:pt x="568" y="1612"/>
                </a:lnTo>
                <a:lnTo>
                  <a:pt x="568" y="1604"/>
                </a:lnTo>
                <a:lnTo>
                  <a:pt x="565" y="1593"/>
                </a:lnTo>
                <a:lnTo>
                  <a:pt x="563" y="1580"/>
                </a:lnTo>
                <a:lnTo>
                  <a:pt x="561" y="1566"/>
                </a:lnTo>
                <a:lnTo>
                  <a:pt x="558" y="1551"/>
                </a:lnTo>
                <a:lnTo>
                  <a:pt x="554" y="1538"/>
                </a:lnTo>
                <a:lnTo>
                  <a:pt x="553" y="1528"/>
                </a:lnTo>
                <a:lnTo>
                  <a:pt x="552" y="1520"/>
                </a:lnTo>
                <a:lnTo>
                  <a:pt x="536" y="1520"/>
                </a:lnTo>
                <a:lnTo>
                  <a:pt x="536" y="1512"/>
                </a:lnTo>
                <a:lnTo>
                  <a:pt x="535" y="1502"/>
                </a:lnTo>
                <a:lnTo>
                  <a:pt x="534" y="1490"/>
                </a:lnTo>
                <a:lnTo>
                  <a:pt x="532" y="1477"/>
                </a:lnTo>
                <a:lnTo>
                  <a:pt x="527" y="1464"/>
                </a:lnTo>
                <a:lnTo>
                  <a:pt x="522" y="1454"/>
                </a:lnTo>
                <a:lnTo>
                  <a:pt x="513" y="1447"/>
                </a:lnTo>
                <a:lnTo>
                  <a:pt x="503" y="1445"/>
                </a:lnTo>
                <a:lnTo>
                  <a:pt x="502" y="1432"/>
                </a:lnTo>
                <a:lnTo>
                  <a:pt x="501" y="1415"/>
                </a:lnTo>
                <a:lnTo>
                  <a:pt x="499" y="1398"/>
                </a:lnTo>
                <a:lnTo>
                  <a:pt x="496" y="1378"/>
                </a:lnTo>
                <a:lnTo>
                  <a:pt x="493" y="1356"/>
                </a:lnTo>
                <a:lnTo>
                  <a:pt x="489" y="1333"/>
                </a:lnTo>
                <a:lnTo>
                  <a:pt x="486" y="1309"/>
                </a:lnTo>
                <a:lnTo>
                  <a:pt x="483" y="1285"/>
                </a:lnTo>
                <a:lnTo>
                  <a:pt x="480" y="1263"/>
                </a:lnTo>
                <a:lnTo>
                  <a:pt x="477" y="1239"/>
                </a:lnTo>
                <a:lnTo>
                  <a:pt x="476" y="1217"/>
                </a:lnTo>
                <a:lnTo>
                  <a:pt x="476" y="1196"/>
                </a:lnTo>
                <a:lnTo>
                  <a:pt x="476" y="1178"/>
                </a:lnTo>
                <a:lnTo>
                  <a:pt x="478" y="1163"/>
                </a:lnTo>
                <a:lnTo>
                  <a:pt x="482" y="1150"/>
                </a:lnTo>
                <a:lnTo>
                  <a:pt x="487" y="1139"/>
                </a:lnTo>
                <a:lnTo>
                  <a:pt x="503" y="1139"/>
                </a:lnTo>
                <a:lnTo>
                  <a:pt x="503" y="1109"/>
                </a:lnTo>
                <a:lnTo>
                  <a:pt x="519" y="1109"/>
                </a:lnTo>
                <a:lnTo>
                  <a:pt x="522" y="1102"/>
                </a:lnTo>
                <a:lnTo>
                  <a:pt x="518" y="1090"/>
                </a:lnTo>
                <a:lnTo>
                  <a:pt x="511" y="1078"/>
                </a:lnTo>
                <a:lnTo>
                  <a:pt x="502" y="1065"/>
                </a:lnTo>
                <a:lnTo>
                  <a:pt x="490" y="1053"/>
                </a:lnTo>
                <a:lnTo>
                  <a:pt x="482" y="1042"/>
                </a:lnTo>
                <a:lnTo>
                  <a:pt x="474" y="1036"/>
                </a:lnTo>
                <a:lnTo>
                  <a:pt x="472" y="1033"/>
                </a:lnTo>
                <a:lnTo>
                  <a:pt x="472" y="971"/>
                </a:lnTo>
                <a:lnTo>
                  <a:pt x="454" y="971"/>
                </a:lnTo>
                <a:lnTo>
                  <a:pt x="451" y="967"/>
                </a:lnTo>
                <a:lnTo>
                  <a:pt x="450" y="960"/>
                </a:lnTo>
                <a:lnTo>
                  <a:pt x="449" y="953"/>
                </a:lnTo>
                <a:lnTo>
                  <a:pt x="448" y="943"/>
                </a:lnTo>
                <a:lnTo>
                  <a:pt x="447" y="931"/>
                </a:lnTo>
                <a:lnTo>
                  <a:pt x="447" y="919"/>
                </a:lnTo>
                <a:lnTo>
                  <a:pt x="448" y="906"/>
                </a:lnTo>
                <a:lnTo>
                  <a:pt x="449" y="893"/>
                </a:lnTo>
                <a:lnTo>
                  <a:pt x="449" y="880"/>
                </a:lnTo>
                <a:lnTo>
                  <a:pt x="450" y="866"/>
                </a:lnTo>
                <a:lnTo>
                  <a:pt x="451" y="853"/>
                </a:lnTo>
                <a:lnTo>
                  <a:pt x="452" y="840"/>
                </a:lnTo>
                <a:lnTo>
                  <a:pt x="452" y="830"/>
                </a:lnTo>
                <a:lnTo>
                  <a:pt x="454" y="820"/>
                </a:lnTo>
                <a:lnTo>
                  <a:pt x="454" y="812"/>
                </a:lnTo>
                <a:lnTo>
                  <a:pt x="454" y="804"/>
                </a:lnTo>
                <a:lnTo>
                  <a:pt x="448" y="804"/>
                </a:lnTo>
                <a:lnTo>
                  <a:pt x="440" y="804"/>
                </a:lnTo>
                <a:lnTo>
                  <a:pt x="432" y="805"/>
                </a:lnTo>
                <a:lnTo>
                  <a:pt x="424" y="806"/>
                </a:lnTo>
                <a:lnTo>
                  <a:pt x="417" y="808"/>
                </a:lnTo>
                <a:lnTo>
                  <a:pt x="411" y="810"/>
                </a:lnTo>
                <a:lnTo>
                  <a:pt x="407" y="815"/>
                </a:lnTo>
                <a:lnTo>
                  <a:pt x="406" y="819"/>
                </a:lnTo>
                <a:lnTo>
                  <a:pt x="405" y="814"/>
                </a:lnTo>
                <a:lnTo>
                  <a:pt x="398" y="808"/>
                </a:lnTo>
                <a:lnTo>
                  <a:pt x="389" y="803"/>
                </a:lnTo>
                <a:lnTo>
                  <a:pt x="380" y="799"/>
                </a:lnTo>
                <a:lnTo>
                  <a:pt x="369" y="794"/>
                </a:lnTo>
                <a:lnTo>
                  <a:pt x="359" y="791"/>
                </a:lnTo>
                <a:lnTo>
                  <a:pt x="349" y="789"/>
                </a:lnTo>
                <a:lnTo>
                  <a:pt x="343" y="789"/>
                </a:lnTo>
                <a:lnTo>
                  <a:pt x="336" y="789"/>
                </a:lnTo>
                <a:lnTo>
                  <a:pt x="330" y="791"/>
                </a:lnTo>
                <a:lnTo>
                  <a:pt x="324" y="794"/>
                </a:lnTo>
                <a:lnTo>
                  <a:pt x="318" y="796"/>
                </a:lnTo>
                <a:lnTo>
                  <a:pt x="311" y="800"/>
                </a:lnTo>
                <a:lnTo>
                  <a:pt x="307" y="802"/>
                </a:lnTo>
                <a:lnTo>
                  <a:pt x="300" y="804"/>
                </a:lnTo>
                <a:lnTo>
                  <a:pt x="293" y="804"/>
                </a:lnTo>
                <a:lnTo>
                  <a:pt x="277" y="819"/>
                </a:lnTo>
                <a:lnTo>
                  <a:pt x="277" y="910"/>
                </a:lnTo>
                <a:lnTo>
                  <a:pt x="263" y="925"/>
                </a:lnTo>
                <a:lnTo>
                  <a:pt x="197" y="925"/>
                </a:lnTo>
                <a:lnTo>
                  <a:pt x="197" y="941"/>
                </a:lnTo>
                <a:lnTo>
                  <a:pt x="99" y="941"/>
                </a:lnTo>
                <a:lnTo>
                  <a:pt x="99" y="925"/>
                </a:lnTo>
                <a:lnTo>
                  <a:pt x="18" y="910"/>
                </a:lnTo>
                <a:lnTo>
                  <a:pt x="18" y="864"/>
                </a:lnTo>
                <a:lnTo>
                  <a:pt x="2" y="864"/>
                </a:lnTo>
                <a:lnTo>
                  <a:pt x="1" y="855"/>
                </a:lnTo>
                <a:lnTo>
                  <a:pt x="0" y="845"/>
                </a:lnTo>
                <a:lnTo>
                  <a:pt x="0" y="836"/>
                </a:lnTo>
                <a:lnTo>
                  <a:pt x="1" y="826"/>
                </a:lnTo>
                <a:lnTo>
                  <a:pt x="3" y="816"/>
                </a:lnTo>
                <a:lnTo>
                  <a:pt x="5" y="805"/>
                </a:lnTo>
                <a:lnTo>
                  <a:pt x="9" y="794"/>
                </a:lnTo>
                <a:lnTo>
                  <a:pt x="12" y="783"/>
                </a:lnTo>
                <a:lnTo>
                  <a:pt x="16" y="773"/>
                </a:lnTo>
                <a:lnTo>
                  <a:pt x="20" y="762"/>
                </a:lnTo>
                <a:lnTo>
                  <a:pt x="23" y="752"/>
                </a:lnTo>
                <a:lnTo>
                  <a:pt x="28" y="742"/>
                </a:lnTo>
                <a:lnTo>
                  <a:pt x="30" y="733"/>
                </a:lnTo>
                <a:lnTo>
                  <a:pt x="32" y="726"/>
                </a:lnTo>
                <a:lnTo>
                  <a:pt x="33" y="718"/>
                </a:lnTo>
                <a:lnTo>
                  <a:pt x="35" y="712"/>
                </a:lnTo>
                <a:lnTo>
                  <a:pt x="50" y="697"/>
                </a:lnTo>
                <a:lnTo>
                  <a:pt x="62" y="696"/>
                </a:lnTo>
                <a:lnTo>
                  <a:pt x="72" y="690"/>
                </a:lnTo>
                <a:lnTo>
                  <a:pt x="81" y="683"/>
                </a:lnTo>
                <a:lnTo>
                  <a:pt x="89" y="674"/>
                </a:lnTo>
                <a:lnTo>
                  <a:pt x="97" y="665"/>
                </a:lnTo>
                <a:lnTo>
                  <a:pt x="102" y="659"/>
                </a:lnTo>
                <a:lnTo>
                  <a:pt x="110" y="653"/>
                </a:lnTo>
                <a:lnTo>
                  <a:pt x="115" y="651"/>
                </a:lnTo>
                <a:lnTo>
                  <a:pt x="115" y="620"/>
                </a:lnTo>
                <a:lnTo>
                  <a:pt x="132" y="620"/>
                </a:lnTo>
                <a:lnTo>
                  <a:pt x="135" y="612"/>
                </a:lnTo>
                <a:lnTo>
                  <a:pt x="135" y="602"/>
                </a:lnTo>
                <a:lnTo>
                  <a:pt x="133" y="589"/>
                </a:lnTo>
                <a:lnTo>
                  <a:pt x="127" y="576"/>
                </a:lnTo>
                <a:lnTo>
                  <a:pt x="122" y="564"/>
                </a:lnTo>
                <a:lnTo>
                  <a:pt x="114" y="554"/>
                </a:lnTo>
                <a:lnTo>
                  <a:pt x="107" y="546"/>
                </a:lnTo>
                <a:lnTo>
                  <a:pt x="99" y="544"/>
                </a:lnTo>
                <a:lnTo>
                  <a:pt x="100" y="533"/>
                </a:lnTo>
                <a:lnTo>
                  <a:pt x="102" y="524"/>
                </a:lnTo>
                <a:lnTo>
                  <a:pt x="106" y="516"/>
                </a:lnTo>
                <a:lnTo>
                  <a:pt x="108" y="509"/>
                </a:lnTo>
                <a:lnTo>
                  <a:pt x="110" y="504"/>
                </a:lnTo>
                <a:lnTo>
                  <a:pt x="113" y="501"/>
                </a:lnTo>
                <a:lnTo>
                  <a:pt x="115" y="499"/>
                </a:lnTo>
                <a:lnTo>
                  <a:pt x="115" y="483"/>
                </a:lnTo>
                <a:lnTo>
                  <a:pt x="83" y="469"/>
                </a:lnTo>
                <a:lnTo>
                  <a:pt x="83" y="438"/>
                </a:lnTo>
                <a:lnTo>
                  <a:pt x="50" y="438"/>
                </a:lnTo>
                <a:lnTo>
                  <a:pt x="35" y="422"/>
                </a:lnTo>
                <a:lnTo>
                  <a:pt x="35" y="377"/>
                </a:lnTo>
                <a:lnTo>
                  <a:pt x="18" y="377"/>
                </a:lnTo>
                <a:lnTo>
                  <a:pt x="19" y="371"/>
                </a:lnTo>
                <a:lnTo>
                  <a:pt x="19" y="365"/>
                </a:lnTo>
                <a:lnTo>
                  <a:pt x="21" y="359"/>
                </a:lnTo>
                <a:lnTo>
                  <a:pt x="24" y="354"/>
                </a:lnTo>
                <a:lnTo>
                  <a:pt x="28" y="348"/>
                </a:lnTo>
                <a:lnTo>
                  <a:pt x="32" y="342"/>
                </a:lnTo>
                <a:lnTo>
                  <a:pt x="37" y="337"/>
                </a:lnTo>
                <a:lnTo>
                  <a:pt x="44" y="331"/>
                </a:lnTo>
              </a:path>
            </a:pathLst>
          </a:custGeom>
          <a:solidFill>
            <a:srgbClr val="a8ffff"/>
          </a:solidFill>
          <a:ln cap="rnd" w="1260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31840" y="1065240"/>
            <a:ext cx="7767720" cy="2120760"/>
          </a:xfrm>
          <a:custGeom>
            <a:avLst/>
            <a:gdLst/>
            <a:ahLst/>
            <a:rect l="l" t="t" r="r" b="b"/>
            <a:pathLst>
              <a:path w="5022" h="1635">
                <a:moveTo>
                  <a:pt x="254" y="1464"/>
                </a:moveTo>
                <a:lnTo>
                  <a:pt x="320" y="1349"/>
                </a:lnTo>
                <a:lnTo>
                  <a:pt x="320" y="1339"/>
                </a:lnTo>
                <a:lnTo>
                  <a:pt x="324" y="1331"/>
                </a:lnTo>
                <a:lnTo>
                  <a:pt x="332" y="1324"/>
                </a:lnTo>
                <a:lnTo>
                  <a:pt x="341" y="1319"/>
                </a:lnTo>
                <a:lnTo>
                  <a:pt x="348" y="1315"/>
                </a:lnTo>
                <a:lnTo>
                  <a:pt x="352" y="1309"/>
                </a:lnTo>
                <a:lnTo>
                  <a:pt x="350" y="1304"/>
                </a:lnTo>
                <a:lnTo>
                  <a:pt x="343" y="1297"/>
                </a:lnTo>
                <a:lnTo>
                  <a:pt x="367" y="1251"/>
                </a:lnTo>
                <a:lnTo>
                  <a:pt x="382" y="1213"/>
                </a:lnTo>
                <a:lnTo>
                  <a:pt x="394" y="1179"/>
                </a:lnTo>
                <a:lnTo>
                  <a:pt x="398" y="1151"/>
                </a:lnTo>
                <a:lnTo>
                  <a:pt x="401" y="1127"/>
                </a:lnTo>
                <a:lnTo>
                  <a:pt x="401" y="1108"/>
                </a:lnTo>
                <a:lnTo>
                  <a:pt x="401" y="1090"/>
                </a:lnTo>
                <a:lnTo>
                  <a:pt x="402" y="1075"/>
                </a:lnTo>
                <a:lnTo>
                  <a:pt x="406" y="1063"/>
                </a:lnTo>
                <a:lnTo>
                  <a:pt x="414" y="1050"/>
                </a:lnTo>
                <a:lnTo>
                  <a:pt x="427" y="1038"/>
                </a:lnTo>
                <a:lnTo>
                  <a:pt x="448" y="1026"/>
                </a:lnTo>
                <a:lnTo>
                  <a:pt x="476" y="1012"/>
                </a:lnTo>
                <a:lnTo>
                  <a:pt x="516" y="996"/>
                </a:lnTo>
                <a:lnTo>
                  <a:pt x="567" y="976"/>
                </a:lnTo>
                <a:lnTo>
                  <a:pt x="630" y="955"/>
                </a:lnTo>
                <a:lnTo>
                  <a:pt x="630" y="882"/>
                </a:lnTo>
                <a:lnTo>
                  <a:pt x="632" y="880"/>
                </a:lnTo>
                <a:lnTo>
                  <a:pt x="634" y="879"/>
                </a:lnTo>
                <a:lnTo>
                  <a:pt x="639" y="878"/>
                </a:lnTo>
                <a:lnTo>
                  <a:pt x="645" y="876"/>
                </a:lnTo>
                <a:lnTo>
                  <a:pt x="651" y="873"/>
                </a:lnTo>
                <a:lnTo>
                  <a:pt x="657" y="870"/>
                </a:lnTo>
                <a:lnTo>
                  <a:pt x="666" y="866"/>
                </a:lnTo>
                <a:lnTo>
                  <a:pt x="673" y="861"/>
                </a:lnTo>
                <a:lnTo>
                  <a:pt x="681" y="855"/>
                </a:lnTo>
                <a:lnTo>
                  <a:pt x="688" y="846"/>
                </a:lnTo>
                <a:lnTo>
                  <a:pt x="694" y="837"/>
                </a:lnTo>
                <a:lnTo>
                  <a:pt x="700" y="825"/>
                </a:lnTo>
                <a:lnTo>
                  <a:pt x="704" y="811"/>
                </a:lnTo>
                <a:lnTo>
                  <a:pt x="707" y="793"/>
                </a:lnTo>
                <a:lnTo>
                  <a:pt x="708" y="775"/>
                </a:lnTo>
                <a:lnTo>
                  <a:pt x="707" y="752"/>
                </a:lnTo>
                <a:lnTo>
                  <a:pt x="763" y="693"/>
                </a:lnTo>
                <a:lnTo>
                  <a:pt x="703" y="651"/>
                </a:lnTo>
                <a:lnTo>
                  <a:pt x="712" y="646"/>
                </a:lnTo>
                <a:lnTo>
                  <a:pt x="721" y="641"/>
                </a:lnTo>
                <a:lnTo>
                  <a:pt x="727" y="638"/>
                </a:lnTo>
                <a:lnTo>
                  <a:pt x="735" y="637"/>
                </a:lnTo>
                <a:lnTo>
                  <a:pt x="742" y="635"/>
                </a:lnTo>
                <a:lnTo>
                  <a:pt x="746" y="634"/>
                </a:lnTo>
                <a:lnTo>
                  <a:pt x="752" y="633"/>
                </a:lnTo>
                <a:lnTo>
                  <a:pt x="759" y="633"/>
                </a:lnTo>
                <a:lnTo>
                  <a:pt x="763" y="632"/>
                </a:lnTo>
                <a:lnTo>
                  <a:pt x="769" y="631"/>
                </a:lnTo>
                <a:lnTo>
                  <a:pt x="773" y="629"/>
                </a:lnTo>
                <a:lnTo>
                  <a:pt x="781" y="628"/>
                </a:lnTo>
                <a:lnTo>
                  <a:pt x="787" y="626"/>
                </a:lnTo>
                <a:lnTo>
                  <a:pt x="795" y="623"/>
                </a:lnTo>
                <a:lnTo>
                  <a:pt x="803" y="619"/>
                </a:lnTo>
                <a:lnTo>
                  <a:pt x="813" y="613"/>
                </a:lnTo>
                <a:lnTo>
                  <a:pt x="813" y="603"/>
                </a:lnTo>
                <a:lnTo>
                  <a:pt x="866" y="603"/>
                </a:lnTo>
                <a:lnTo>
                  <a:pt x="867" y="598"/>
                </a:lnTo>
                <a:lnTo>
                  <a:pt x="868" y="595"/>
                </a:lnTo>
                <a:lnTo>
                  <a:pt x="869" y="594"/>
                </a:lnTo>
                <a:lnTo>
                  <a:pt x="872" y="594"/>
                </a:lnTo>
                <a:lnTo>
                  <a:pt x="874" y="594"/>
                </a:lnTo>
                <a:lnTo>
                  <a:pt x="876" y="593"/>
                </a:lnTo>
                <a:lnTo>
                  <a:pt x="876" y="589"/>
                </a:lnTo>
                <a:lnTo>
                  <a:pt x="877" y="584"/>
                </a:lnTo>
                <a:lnTo>
                  <a:pt x="909" y="584"/>
                </a:lnTo>
                <a:lnTo>
                  <a:pt x="909" y="579"/>
                </a:lnTo>
                <a:lnTo>
                  <a:pt x="911" y="575"/>
                </a:lnTo>
                <a:lnTo>
                  <a:pt x="912" y="574"/>
                </a:lnTo>
                <a:lnTo>
                  <a:pt x="915" y="574"/>
                </a:lnTo>
                <a:lnTo>
                  <a:pt x="916" y="574"/>
                </a:lnTo>
                <a:lnTo>
                  <a:pt x="918" y="572"/>
                </a:lnTo>
                <a:lnTo>
                  <a:pt x="919" y="569"/>
                </a:lnTo>
                <a:lnTo>
                  <a:pt x="919" y="563"/>
                </a:lnTo>
                <a:lnTo>
                  <a:pt x="924" y="563"/>
                </a:lnTo>
                <a:lnTo>
                  <a:pt x="928" y="562"/>
                </a:lnTo>
                <a:lnTo>
                  <a:pt x="931" y="560"/>
                </a:lnTo>
                <a:lnTo>
                  <a:pt x="937" y="558"/>
                </a:lnTo>
                <a:lnTo>
                  <a:pt x="940" y="556"/>
                </a:lnTo>
                <a:lnTo>
                  <a:pt x="944" y="555"/>
                </a:lnTo>
                <a:lnTo>
                  <a:pt x="947" y="554"/>
                </a:lnTo>
                <a:lnTo>
                  <a:pt x="952" y="554"/>
                </a:lnTo>
                <a:lnTo>
                  <a:pt x="952" y="533"/>
                </a:lnTo>
                <a:lnTo>
                  <a:pt x="952" y="528"/>
                </a:lnTo>
                <a:lnTo>
                  <a:pt x="955" y="521"/>
                </a:lnTo>
                <a:lnTo>
                  <a:pt x="959" y="512"/>
                </a:lnTo>
                <a:lnTo>
                  <a:pt x="965" y="504"/>
                </a:lnTo>
                <a:lnTo>
                  <a:pt x="971" y="496"/>
                </a:lnTo>
                <a:lnTo>
                  <a:pt x="979" y="489"/>
                </a:lnTo>
                <a:lnTo>
                  <a:pt x="986" y="484"/>
                </a:lnTo>
                <a:lnTo>
                  <a:pt x="995" y="482"/>
                </a:lnTo>
                <a:lnTo>
                  <a:pt x="1005" y="472"/>
                </a:lnTo>
                <a:lnTo>
                  <a:pt x="1016" y="461"/>
                </a:lnTo>
                <a:lnTo>
                  <a:pt x="1016" y="442"/>
                </a:lnTo>
                <a:lnTo>
                  <a:pt x="1017" y="441"/>
                </a:lnTo>
                <a:lnTo>
                  <a:pt x="1021" y="436"/>
                </a:lnTo>
                <a:lnTo>
                  <a:pt x="1025" y="432"/>
                </a:lnTo>
                <a:lnTo>
                  <a:pt x="1032" y="425"/>
                </a:lnTo>
                <a:lnTo>
                  <a:pt x="1038" y="419"/>
                </a:lnTo>
                <a:lnTo>
                  <a:pt x="1043" y="412"/>
                </a:lnTo>
                <a:lnTo>
                  <a:pt x="1047" y="407"/>
                </a:lnTo>
                <a:lnTo>
                  <a:pt x="1048" y="403"/>
                </a:lnTo>
                <a:lnTo>
                  <a:pt x="1059" y="392"/>
                </a:lnTo>
                <a:lnTo>
                  <a:pt x="1091" y="382"/>
                </a:lnTo>
                <a:lnTo>
                  <a:pt x="1091" y="372"/>
                </a:lnTo>
                <a:lnTo>
                  <a:pt x="1100" y="367"/>
                </a:lnTo>
                <a:lnTo>
                  <a:pt x="1110" y="363"/>
                </a:lnTo>
                <a:lnTo>
                  <a:pt x="1120" y="359"/>
                </a:lnTo>
                <a:lnTo>
                  <a:pt x="1130" y="356"/>
                </a:lnTo>
                <a:lnTo>
                  <a:pt x="1143" y="353"/>
                </a:lnTo>
                <a:lnTo>
                  <a:pt x="1156" y="351"/>
                </a:lnTo>
                <a:lnTo>
                  <a:pt x="1169" y="350"/>
                </a:lnTo>
                <a:lnTo>
                  <a:pt x="1182" y="346"/>
                </a:lnTo>
                <a:lnTo>
                  <a:pt x="1197" y="345"/>
                </a:lnTo>
                <a:lnTo>
                  <a:pt x="1210" y="343"/>
                </a:lnTo>
                <a:lnTo>
                  <a:pt x="1224" y="341"/>
                </a:lnTo>
                <a:lnTo>
                  <a:pt x="1238" y="338"/>
                </a:lnTo>
                <a:lnTo>
                  <a:pt x="1250" y="335"/>
                </a:lnTo>
                <a:lnTo>
                  <a:pt x="1260" y="331"/>
                </a:lnTo>
                <a:lnTo>
                  <a:pt x="1272" y="327"/>
                </a:lnTo>
                <a:lnTo>
                  <a:pt x="1282" y="322"/>
                </a:lnTo>
                <a:lnTo>
                  <a:pt x="1282" y="312"/>
                </a:lnTo>
                <a:lnTo>
                  <a:pt x="1303" y="312"/>
                </a:lnTo>
                <a:lnTo>
                  <a:pt x="1303" y="302"/>
                </a:lnTo>
                <a:lnTo>
                  <a:pt x="1311" y="299"/>
                </a:lnTo>
                <a:lnTo>
                  <a:pt x="1321" y="297"/>
                </a:lnTo>
                <a:lnTo>
                  <a:pt x="1332" y="294"/>
                </a:lnTo>
                <a:lnTo>
                  <a:pt x="1344" y="293"/>
                </a:lnTo>
                <a:lnTo>
                  <a:pt x="1356" y="292"/>
                </a:lnTo>
                <a:lnTo>
                  <a:pt x="1369" y="292"/>
                </a:lnTo>
                <a:lnTo>
                  <a:pt x="1380" y="292"/>
                </a:lnTo>
                <a:lnTo>
                  <a:pt x="1393" y="292"/>
                </a:lnTo>
                <a:lnTo>
                  <a:pt x="1406" y="292"/>
                </a:lnTo>
                <a:lnTo>
                  <a:pt x="1418" y="292"/>
                </a:lnTo>
                <a:lnTo>
                  <a:pt x="1429" y="291"/>
                </a:lnTo>
                <a:lnTo>
                  <a:pt x="1440" y="290"/>
                </a:lnTo>
                <a:lnTo>
                  <a:pt x="1450" y="289"/>
                </a:lnTo>
                <a:lnTo>
                  <a:pt x="1460" y="288"/>
                </a:lnTo>
                <a:lnTo>
                  <a:pt x="1467" y="285"/>
                </a:lnTo>
                <a:lnTo>
                  <a:pt x="1475" y="281"/>
                </a:lnTo>
                <a:lnTo>
                  <a:pt x="1475" y="272"/>
                </a:lnTo>
                <a:lnTo>
                  <a:pt x="1496" y="272"/>
                </a:lnTo>
                <a:lnTo>
                  <a:pt x="1496" y="261"/>
                </a:lnTo>
                <a:lnTo>
                  <a:pt x="1528" y="261"/>
                </a:lnTo>
                <a:lnTo>
                  <a:pt x="1528" y="251"/>
                </a:lnTo>
                <a:lnTo>
                  <a:pt x="1538" y="247"/>
                </a:lnTo>
                <a:lnTo>
                  <a:pt x="1548" y="243"/>
                </a:lnTo>
                <a:lnTo>
                  <a:pt x="1558" y="240"/>
                </a:lnTo>
                <a:lnTo>
                  <a:pt x="1571" y="239"/>
                </a:lnTo>
                <a:lnTo>
                  <a:pt x="1582" y="238"/>
                </a:lnTo>
                <a:lnTo>
                  <a:pt x="1596" y="237"/>
                </a:lnTo>
                <a:lnTo>
                  <a:pt x="1609" y="237"/>
                </a:lnTo>
                <a:lnTo>
                  <a:pt x="1624" y="238"/>
                </a:lnTo>
                <a:lnTo>
                  <a:pt x="1639" y="239"/>
                </a:lnTo>
                <a:lnTo>
                  <a:pt x="1653" y="240"/>
                </a:lnTo>
                <a:lnTo>
                  <a:pt x="1669" y="242"/>
                </a:lnTo>
                <a:lnTo>
                  <a:pt x="1684" y="245"/>
                </a:lnTo>
                <a:lnTo>
                  <a:pt x="1700" y="248"/>
                </a:lnTo>
                <a:lnTo>
                  <a:pt x="1715" y="251"/>
                </a:lnTo>
                <a:lnTo>
                  <a:pt x="1732" y="254"/>
                </a:lnTo>
                <a:lnTo>
                  <a:pt x="1749" y="258"/>
                </a:lnTo>
                <a:lnTo>
                  <a:pt x="1764" y="261"/>
                </a:lnTo>
                <a:lnTo>
                  <a:pt x="1781" y="265"/>
                </a:lnTo>
                <a:lnTo>
                  <a:pt x="1798" y="268"/>
                </a:lnTo>
                <a:lnTo>
                  <a:pt x="1814" y="273"/>
                </a:lnTo>
                <a:lnTo>
                  <a:pt x="1830" y="276"/>
                </a:lnTo>
                <a:lnTo>
                  <a:pt x="1844" y="280"/>
                </a:lnTo>
                <a:lnTo>
                  <a:pt x="1861" y="284"/>
                </a:lnTo>
                <a:lnTo>
                  <a:pt x="1876" y="287"/>
                </a:lnTo>
                <a:lnTo>
                  <a:pt x="1889" y="290"/>
                </a:lnTo>
                <a:lnTo>
                  <a:pt x="1904" y="293"/>
                </a:lnTo>
                <a:lnTo>
                  <a:pt x="1918" y="296"/>
                </a:lnTo>
                <a:lnTo>
                  <a:pt x="1931" y="298"/>
                </a:lnTo>
                <a:lnTo>
                  <a:pt x="1944" y="300"/>
                </a:lnTo>
                <a:lnTo>
                  <a:pt x="1956" y="301"/>
                </a:lnTo>
                <a:lnTo>
                  <a:pt x="1966" y="302"/>
                </a:lnTo>
                <a:lnTo>
                  <a:pt x="1976" y="302"/>
                </a:lnTo>
                <a:lnTo>
                  <a:pt x="1988" y="292"/>
                </a:lnTo>
                <a:lnTo>
                  <a:pt x="1988" y="288"/>
                </a:lnTo>
                <a:lnTo>
                  <a:pt x="1992" y="284"/>
                </a:lnTo>
                <a:lnTo>
                  <a:pt x="1996" y="277"/>
                </a:lnTo>
                <a:lnTo>
                  <a:pt x="2000" y="273"/>
                </a:lnTo>
                <a:lnTo>
                  <a:pt x="2006" y="268"/>
                </a:lnTo>
                <a:lnTo>
                  <a:pt x="2010" y="264"/>
                </a:lnTo>
                <a:lnTo>
                  <a:pt x="2015" y="262"/>
                </a:lnTo>
                <a:lnTo>
                  <a:pt x="2020" y="261"/>
                </a:lnTo>
                <a:lnTo>
                  <a:pt x="2020" y="258"/>
                </a:lnTo>
                <a:lnTo>
                  <a:pt x="2022" y="254"/>
                </a:lnTo>
                <a:lnTo>
                  <a:pt x="2023" y="250"/>
                </a:lnTo>
                <a:lnTo>
                  <a:pt x="2025" y="247"/>
                </a:lnTo>
                <a:lnTo>
                  <a:pt x="2027" y="242"/>
                </a:lnTo>
                <a:lnTo>
                  <a:pt x="2028" y="239"/>
                </a:lnTo>
                <a:lnTo>
                  <a:pt x="2031" y="235"/>
                </a:lnTo>
                <a:lnTo>
                  <a:pt x="2031" y="232"/>
                </a:lnTo>
                <a:lnTo>
                  <a:pt x="2041" y="222"/>
                </a:lnTo>
                <a:lnTo>
                  <a:pt x="2052" y="222"/>
                </a:lnTo>
                <a:lnTo>
                  <a:pt x="2052" y="211"/>
                </a:lnTo>
                <a:lnTo>
                  <a:pt x="2063" y="211"/>
                </a:lnTo>
                <a:lnTo>
                  <a:pt x="2063" y="201"/>
                </a:lnTo>
                <a:lnTo>
                  <a:pt x="2073" y="190"/>
                </a:lnTo>
                <a:lnTo>
                  <a:pt x="2243" y="181"/>
                </a:lnTo>
                <a:lnTo>
                  <a:pt x="2317" y="181"/>
                </a:lnTo>
                <a:lnTo>
                  <a:pt x="2317" y="171"/>
                </a:lnTo>
                <a:lnTo>
                  <a:pt x="2372" y="171"/>
                </a:lnTo>
                <a:lnTo>
                  <a:pt x="2374" y="166"/>
                </a:lnTo>
                <a:lnTo>
                  <a:pt x="2382" y="163"/>
                </a:lnTo>
                <a:lnTo>
                  <a:pt x="2392" y="160"/>
                </a:lnTo>
                <a:lnTo>
                  <a:pt x="2405" y="157"/>
                </a:lnTo>
                <a:lnTo>
                  <a:pt x="2418" y="155"/>
                </a:lnTo>
                <a:lnTo>
                  <a:pt x="2430" y="152"/>
                </a:lnTo>
                <a:lnTo>
                  <a:pt x="2441" y="151"/>
                </a:lnTo>
                <a:lnTo>
                  <a:pt x="2447" y="150"/>
                </a:lnTo>
                <a:lnTo>
                  <a:pt x="2447" y="140"/>
                </a:lnTo>
                <a:lnTo>
                  <a:pt x="2452" y="139"/>
                </a:lnTo>
                <a:lnTo>
                  <a:pt x="2461" y="137"/>
                </a:lnTo>
                <a:lnTo>
                  <a:pt x="2473" y="137"/>
                </a:lnTo>
                <a:lnTo>
                  <a:pt x="2487" y="137"/>
                </a:lnTo>
                <a:lnTo>
                  <a:pt x="2502" y="138"/>
                </a:lnTo>
                <a:lnTo>
                  <a:pt x="2519" y="139"/>
                </a:lnTo>
                <a:lnTo>
                  <a:pt x="2537" y="140"/>
                </a:lnTo>
                <a:lnTo>
                  <a:pt x="2555" y="142"/>
                </a:lnTo>
                <a:lnTo>
                  <a:pt x="2573" y="144"/>
                </a:lnTo>
                <a:lnTo>
                  <a:pt x="2592" y="145"/>
                </a:lnTo>
                <a:lnTo>
                  <a:pt x="2609" y="146"/>
                </a:lnTo>
                <a:lnTo>
                  <a:pt x="2625" y="148"/>
                </a:lnTo>
                <a:lnTo>
                  <a:pt x="2639" y="149"/>
                </a:lnTo>
                <a:lnTo>
                  <a:pt x="2654" y="150"/>
                </a:lnTo>
                <a:lnTo>
                  <a:pt x="2663" y="150"/>
                </a:lnTo>
                <a:lnTo>
                  <a:pt x="2671" y="150"/>
                </a:lnTo>
                <a:lnTo>
                  <a:pt x="2672" y="147"/>
                </a:lnTo>
                <a:lnTo>
                  <a:pt x="2677" y="145"/>
                </a:lnTo>
                <a:lnTo>
                  <a:pt x="2682" y="143"/>
                </a:lnTo>
                <a:lnTo>
                  <a:pt x="2688" y="142"/>
                </a:lnTo>
                <a:lnTo>
                  <a:pt x="2696" y="140"/>
                </a:lnTo>
                <a:lnTo>
                  <a:pt x="2702" y="140"/>
                </a:lnTo>
                <a:lnTo>
                  <a:pt x="2709" y="140"/>
                </a:lnTo>
                <a:lnTo>
                  <a:pt x="2714" y="140"/>
                </a:lnTo>
                <a:lnTo>
                  <a:pt x="2714" y="146"/>
                </a:lnTo>
                <a:lnTo>
                  <a:pt x="2715" y="149"/>
                </a:lnTo>
                <a:lnTo>
                  <a:pt x="2716" y="150"/>
                </a:lnTo>
                <a:lnTo>
                  <a:pt x="2720" y="150"/>
                </a:lnTo>
                <a:lnTo>
                  <a:pt x="2722" y="150"/>
                </a:lnTo>
                <a:lnTo>
                  <a:pt x="2723" y="152"/>
                </a:lnTo>
                <a:lnTo>
                  <a:pt x="2724" y="155"/>
                </a:lnTo>
                <a:lnTo>
                  <a:pt x="2724" y="161"/>
                </a:lnTo>
                <a:lnTo>
                  <a:pt x="2738" y="161"/>
                </a:lnTo>
                <a:lnTo>
                  <a:pt x="2754" y="164"/>
                </a:lnTo>
                <a:lnTo>
                  <a:pt x="2774" y="169"/>
                </a:lnTo>
                <a:lnTo>
                  <a:pt x="2794" y="174"/>
                </a:lnTo>
                <a:lnTo>
                  <a:pt x="2816" y="181"/>
                </a:lnTo>
                <a:lnTo>
                  <a:pt x="2839" y="187"/>
                </a:lnTo>
                <a:lnTo>
                  <a:pt x="2863" y="196"/>
                </a:lnTo>
                <a:lnTo>
                  <a:pt x="2888" y="204"/>
                </a:lnTo>
                <a:lnTo>
                  <a:pt x="2911" y="214"/>
                </a:lnTo>
                <a:lnTo>
                  <a:pt x="2933" y="223"/>
                </a:lnTo>
                <a:lnTo>
                  <a:pt x="2956" y="233"/>
                </a:lnTo>
                <a:lnTo>
                  <a:pt x="2975" y="241"/>
                </a:lnTo>
                <a:lnTo>
                  <a:pt x="2994" y="250"/>
                </a:lnTo>
                <a:lnTo>
                  <a:pt x="3010" y="259"/>
                </a:lnTo>
                <a:lnTo>
                  <a:pt x="3023" y="265"/>
                </a:lnTo>
                <a:lnTo>
                  <a:pt x="3034" y="272"/>
                </a:lnTo>
                <a:lnTo>
                  <a:pt x="3034" y="281"/>
                </a:lnTo>
                <a:lnTo>
                  <a:pt x="3054" y="281"/>
                </a:lnTo>
                <a:lnTo>
                  <a:pt x="3055" y="287"/>
                </a:lnTo>
                <a:lnTo>
                  <a:pt x="3061" y="291"/>
                </a:lnTo>
                <a:lnTo>
                  <a:pt x="3065" y="296"/>
                </a:lnTo>
                <a:lnTo>
                  <a:pt x="3073" y="298"/>
                </a:lnTo>
                <a:lnTo>
                  <a:pt x="3083" y="300"/>
                </a:lnTo>
                <a:lnTo>
                  <a:pt x="3092" y="302"/>
                </a:lnTo>
                <a:lnTo>
                  <a:pt x="3105" y="303"/>
                </a:lnTo>
                <a:lnTo>
                  <a:pt x="3116" y="304"/>
                </a:lnTo>
                <a:lnTo>
                  <a:pt x="3129" y="305"/>
                </a:lnTo>
                <a:lnTo>
                  <a:pt x="3141" y="305"/>
                </a:lnTo>
                <a:lnTo>
                  <a:pt x="3152" y="306"/>
                </a:lnTo>
                <a:lnTo>
                  <a:pt x="3163" y="306"/>
                </a:lnTo>
                <a:lnTo>
                  <a:pt x="3174" y="309"/>
                </a:lnTo>
                <a:lnTo>
                  <a:pt x="3182" y="309"/>
                </a:lnTo>
                <a:lnTo>
                  <a:pt x="3188" y="310"/>
                </a:lnTo>
                <a:lnTo>
                  <a:pt x="3193" y="312"/>
                </a:lnTo>
                <a:lnTo>
                  <a:pt x="3193" y="322"/>
                </a:lnTo>
                <a:lnTo>
                  <a:pt x="3201" y="325"/>
                </a:lnTo>
                <a:lnTo>
                  <a:pt x="3206" y="328"/>
                </a:lnTo>
                <a:lnTo>
                  <a:pt x="3214" y="330"/>
                </a:lnTo>
                <a:lnTo>
                  <a:pt x="3221" y="332"/>
                </a:lnTo>
                <a:lnTo>
                  <a:pt x="3229" y="333"/>
                </a:lnTo>
                <a:lnTo>
                  <a:pt x="3236" y="336"/>
                </a:lnTo>
                <a:lnTo>
                  <a:pt x="3244" y="337"/>
                </a:lnTo>
                <a:lnTo>
                  <a:pt x="3252" y="338"/>
                </a:lnTo>
                <a:lnTo>
                  <a:pt x="3260" y="340"/>
                </a:lnTo>
                <a:lnTo>
                  <a:pt x="3267" y="341"/>
                </a:lnTo>
                <a:lnTo>
                  <a:pt x="3273" y="343"/>
                </a:lnTo>
                <a:lnTo>
                  <a:pt x="3280" y="346"/>
                </a:lnTo>
                <a:lnTo>
                  <a:pt x="3286" y="350"/>
                </a:lnTo>
                <a:lnTo>
                  <a:pt x="3292" y="352"/>
                </a:lnTo>
                <a:lnTo>
                  <a:pt x="3297" y="357"/>
                </a:lnTo>
                <a:lnTo>
                  <a:pt x="3301" y="363"/>
                </a:lnTo>
                <a:lnTo>
                  <a:pt x="3312" y="363"/>
                </a:lnTo>
                <a:lnTo>
                  <a:pt x="3315" y="366"/>
                </a:lnTo>
                <a:lnTo>
                  <a:pt x="3321" y="368"/>
                </a:lnTo>
                <a:lnTo>
                  <a:pt x="3324" y="370"/>
                </a:lnTo>
                <a:lnTo>
                  <a:pt x="3327" y="372"/>
                </a:lnTo>
                <a:lnTo>
                  <a:pt x="3332" y="375"/>
                </a:lnTo>
                <a:lnTo>
                  <a:pt x="3335" y="376"/>
                </a:lnTo>
                <a:lnTo>
                  <a:pt x="3340" y="379"/>
                </a:lnTo>
                <a:lnTo>
                  <a:pt x="3344" y="382"/>
                </a:lnTo>
                <a:lnTo>
                  <a:pt x="3344" y="392"/>
                </a:lnTo>
                <a:lnTo>
                  <a:pt x="3376" y="392"/>
                </a:lnTo>
                <a:lnTo>
                  <a:pt x="3376" y="403"/>
                </a:lnTo>
                <a:lnTo>
                  <a:pt x="3378" y="404"/>
                </a:lnTo>
                <a:lnTo>
                  <a:pt x="3384" y="406"/>
                </a:lnTo>
                <a:lnTo>
                  <a:pt x="3388" y="408"/>
                </a:lnTo>
                <a:lnTo>
                  <a:pt x="3396" y="408"/>
                </a:lnTo>
                <a:lnTo>
                  <a:pt x="3403" y="410"/>
                </a:lnTo>
                <a:lnTo>
                  <a:pt x="3412" y="412"/>
                </a:lnTo>
                <a:lnTo>
                  <a:pt x="3422" y="414"/>
                </a:lnTo>
                <a:lnTo>
                  <a:pt x="3430" y="415"/>
                </a:lnTo>
                <a:lnTo>
                  <a:pt x="3440" y="417"/>
                </a:lnTo>
                <a:lnTo>
                  <a:pt x="3450" y="418"/>
                </a:lnTo>
                <a:lnTo>
                  <a:pt x="3458" y="419"/>
                </a:lnTo>
                <a:lnTo>
                  <a:pt x="3467" y="420"/>
                </a:lnTo>
                <a:lnTo>
                  <a:pt x="3476" y="420"/>
                </a:lnTo>
                <a:lnTo>
                  <a:pt x="3482" y="421"/>
                </a:lnTo>
                <a:lnTo>
                  <a:pt x="3489" y="422"/>
                </a:lnTo>
                <a:lnTo>
                  <a:pt x="3493" y="422"/>
                </a:lnTo>
                <a:lnTo>
                  <a:pt x="3495" y="429"/>
                </a:lnTo>
                <a:lnTo>
                  <a:pt x="3498" y="434"/>
                </a:lnTo>
                <a:lnTo>
                  <a:pt x="3504" y="439"/>
                </a:lnTo>
                <a:lnTo>
                  <a:pt x="3509" y="442"/>
                </a:lnTo>
                <a:lnTo>
                  <a:pt x="3515" y="445"/>
                </a:lnTo>
                <a:lnTo>
                  <a:pt x="3521" y="449"/>
                </a:lnTo>
                <a:lnTo>
                  <a:pt x="3523" y="455"/>
                </a:lnTo>
                <a:lnTo>
                  <a:pt x="3526" y="461"/>
                </a:lnTo>
                <a:lnTo>
                  <a:pt x="3536" y="472"/>
                </a:lnTo>
                <a:lnTo>
                  <a:pt x="3546" y="472"/>
                </a:lnTo>
                <a:lnTo>
                  <a:pt x="3558" y="482"/>
                </a:lnTo>
                <a:lnTo>
                  <a:pt x="3558" y="503"/>
                </a:lnTo>
                <a:lnTo>
                  <a:pt x="3566" y="505"/>
                </a:lnTo>
                <a:lnTo>
                  <a:pt x="3570" y="509"/>
                </a:lnTo>
                <a:lnTo>
                  <a:pt x="3575" y="516"/>
                </a:lnTo>
                <a:lnTo>
                  <a:pt x="3579" y="523"/>
                </a:lnTo>
                <a:lnTo>
                  <a:pt x="3583" y="531"/>
                </a:lnTo>
                <a:lnTo>
                  <a:pt x="3587" y="537"/>
                </a:lnTo>
                <a:lnTo>
                  <a:pt x="3593" y="542"/>
                </a:lnTo>
                <a:lnTo>
                  <a:pt x="3600" y="543"/>
                </a:lnTo>
                <a:lnTo>
                  <a:pt x="3601" y="550"/>
                </a:lnTo>
                <a:lnTo>
                  <a:pt x="3602" y="559"/>
                </a:lnTo>
                <a:lnTo>
                  <a:pt x="3604" y="567"/>
                </a:lnTo>
                <a:lnTo>
                  <a:pt x="3606" y="574"/>
                </a:lnTo>
                <a:lnTo>
                  <a:pt x="3609" y="581"/>
                </a:lnTo>
                <a:lnTo>
                  <a:pt x="3610" y="588"/>
                </a:lnTo>
                <a:lnTo>
                  <a:pt x="3611" y="596"/>
                </a:lnTo>
                <a:lnTo>
                  <a:pt x="3611" y="603"/>
                </a:lnTo>
                <a:lnTo>
                  <a:pt x="3613" y="605"/>
                </a:lnTo>
                <a:lnTo>
                  <a:pt x="3619" y="609"/>
                </a:lnTo>
                <a:lnTo>
                  <a:pt x="3624" y="613"/>
                </a:lnTo>
                <a:lnTo>
                  <a:pt x="3633" y="620"/>
                </a:lnTo>
                <a:lnTo>
                  <a:pt x="3639" y="626"/>
                </a:lnTo>
                <a:lnTo>
                  <a:pt x="3647" y="634"/>
                </a:lnTo>
                <a:lnTo>
                  <a:pt x="3652" y="640"/>
                </a:lnTo>
                <a:lnTo>
                  <a:pt x="3653" y="645"/>
                </a:lnTo>
                <a:lnTo>
                  <a:pt x="3661" y="646"/>
                </a:lnTo>
                <a:lnTo>
                  <a:pt x="3672" y="649"/>
                </a:lnTo>
                <a:lnTo>
                  <a:pt x="3687" y="654"/>
                </a:lnTo>
                <a:lnTo>
                  <a:pt x="3700" y="661"/>
                </a:lnTo>
                <a:lnTo>
                  <a:pt x="3715" y="667"/>
                </a:lnTo>
                <a:lnTo>
                  <a:pt x="3727" y="674"/>
                </a:lnTo>
                <a:lnTo>
                  <a:pt x="3736" y="679"/>
                </a:lnTo>
                <a:lnTo>
                  <a:pt x="3740" y="683"/>
                </a:lnTo>
                <a:lnTo>
                  <a:pt x="3744" y="684"/>
                </a:lnTo>
                <a:lnTo>
                  <a:pt x="3751" y="685"/>
                </a:lnTo>
                <a:lnTo>
                  <a:pt x="3758" y="687"/>
                </a:lnTo>
                <a:lnTo>
                  <a:pt x="3764" y="689"/>
                </a:lnTo>
                <a:lnTo>
                  <a:pt x="3770" y="693"/>
                </a:lnTo>
                <a:lnTo>
                  <a:pt x="3776" y="697"/>
                </a:lnTo>
                <a:lnTo>
                  <a:pt x="3779" y="700"/>
                </a:lnTo>
                <a:lnTo>
                  <a:pt x="3780" y="703"/>
                </a:lnTo>
                <a:lnTo>
                  <a:pt x="3789" y="704"/>
                </a:lnTo>
                <a:lnTo>
                  <a:pt x="3799" y="706"/>
                </a:lnTo>
                <a:lnTo>
                  <a:pt x="3807" y="711"/>
                </a:lnTo>
                <a:lnTo>
                  <a:pt x="3819" y="715"/>
                </a:lnTo>
                <a:lnTo>
                  <a:pt x="3829" y="719"/>
                </a:lnTo>
                <a:lnTo>
                  <a:pt x="3839" y="725"/>
                </a:lnTo>
                <a:lnTo>
                  <a:pt x="3847" y="729"/>
                </a:lnTo>
                <a:lnTo>
                  <a:pt x="3856" y="734"/>
                </a:lnTo>
                <a:lnTo>
                  <a:pt x="3856" y="743"/>
                </a:lnTo>
                <a:lnTo>
                  <a:pt x="3861" y="748"/>
                </a:lnTo>
                <a:lnTo>
                  <a:pt x="3868" y="751"/>
                </a:lnTo>
                <a:lnTo>
                  <a:pt x="3877" y="755"/>
                </a:lnTo>
                <a:lnTo>
                  <a:pt x="3887" y="760"/>
                </a:lnTo>
                <a:lnTo>
                  <a:pt x="3896" y="765"/>
                </a:lnTo>
                <a:lnTo>
                  <a:pt x="3903" y="772"/>
                </a:lnTo>
                <a:lnTo>
                  <a:pt x="3907" y="777"/>
                </a:lnTo>
                <a:lnTo>
                  <a:pt x="3909" y="785"/>
                </a:lnTo>
                <a:lnTo>
                  <a:pt x="3914" y="785"/>
                </a:lnTo>
                <a:lnTo>
                  <a:pt x="3919" y="788"/>
                </a:lnTo>
                <a:lnTo>
                  <a:pt x="3924" y="790"/>
                </a:lnTo>
                <a:lnTo>
                  <a:pt x="3932" y="794"/>
                </a:lnTo>
                <a:lnTo>
                  <a:pt x="3937" y="798"/>
                </a:lnTo>
                <a:lnTo>
                  <a:pt x="3943" y="801"/>
                </a:lnTo>
                <a:lnTo>
                  <a:pt x="3947" y="804"/>
                </a:lnTo>
                <a:lnTo>
                  <a:pt x="3952" y="804"/>
                </a:lnTo>
                <a:lnTo>
                  <a:pt x="3953" y="809"/>
                </a:lnTo>
                <a:lnTo>
                  <a:pt x="3955" y="813"/>
                </a:lnTo>
                <a:lnTo>
                  <a:pt x="3956" y="814"/>
                </a:lnTo>
                <a:lnTo>
                  <a:pt x="3958" y="814"/>
                </a:lnTo>
                <a:lnTo>
                  <a:pt x="3960" y="814"/>
                </a:lnTo>
                <a:lnTo>
                  <a:pt x="3962" y="816"/>
                </a:lnTo>
                <a:lnTo>
                  <a:pt x="3962" y="818"/>
                </a:lnTo>
                <a:lnTo>
                  <a:pt x="3963" y="825"/>
                </a:lnTo>
                <a:lnTo>
                  <a:pt x="3970" y="825"/>
                </a:lnTo>
                <a:lnTo>
                  <a:pt x="3978" y="827"/>
                </a:lnTo>
                <a:lnTo>
                  <a:pt x="3988" y="830"/>
                </a:lnTo>
                <a:lnTo>
                  <a:pt x="3999" y="834"/>
                </a:lnTo>
                <a:lnTo>
                  <a:pt x="4012" y="839"/>
                </a:lnTo>
                <a:lnTo>
                  <a:pt x="4025" y="844"/>
                </a:lnTo>
                <a:lnTo>
                  <a:pt x="4039" y="851"/>
                </a:lnTo>
                <a:lnTo>
                  <a:pt x="4053" y="857"/>
                </a:lnTo>
                <a:lnTo>
                  <a:pt x="4065" y="864"/>
                </a:lnTo>
                <a:lnTo>
                  <a:pt x="4079" y="870"/>
                </a:lnTo>
                <a:lnTo>
                  <a:pt x="4091" y="878"/>
                </a:lnTo>
                <a:lnTo>
                  <a:pt x="4102" y="884"/>
                </a:lnTo>
                <a:lnTo>
                  <a:pt x="4112" y="891"/>
                </a:lnTo>
                <a:lnTo>
                  <a:pt x="4121" y="896"/>
                </a:lnTo>
                <a:lnTo>
                  <a:pt x="4128" y="901"/>
                </a:lnTo>
                <a:lnTo>
                  <a:pt x="4134" y="905"/>
                </a:lnTo>
                <a:lnTo>
                  <a:pt x="4134" y="916"/>
                </a:lnTo>
                <a:lnTo>
                  <a:pt x="4165" y="925"/>
                </a:lnTo>
                <a:lnTo>
                  <a:pt x="4167" y="932"/>
                </a:lnTo>
                <a:lnTo>
                  <a:pt x="4168" y="935"/>
                </a:lnTo>
                <a:lnTo>
                  <a:pt x="4169" y="936"/>
                </a:lnTo>
                <a:lnTo>
                  <a:pt x="4171" y="936"/>
                </a:lnTo>
                <a:lnTo>
                  <a:pt x="4172" y="936"/>
                </a:lnTo>
                <a:lnTo>
                  <a:pt x="4176" y="937"/>
                </a:lnTo>
                <a:lnTo>
                  <a:pt x="4176" y="941"/>
                </a:lnTo>
                <a:lnTo>
                  <a:pt x="4177" y="946"/>
                </a:lnTo>
                <a:lnTo>
                  <a:pt x="4181" y="947"/>
                </a:lnTo>
                <a:lnTo>
                  <a:pt x="4189" y="950"/>
                </a:lnTo>
                <a:lnTo>
                  <a:pt x="4198" y="955"/>
                </a:lnTo>
                <a:lnTo>
                  <a:pt x="4207" y="961"/>
                </a:lnTo>
                <a:lnTo>
                  <a:pt x="4216" y="968"/>
                </a:lnTo>
                <a:lnTo>
                  <a:pt x="4223" y="975"/>
                </a:lnTo>
                <a:lnTo>
                  <a:pt x="4229" y="981"/>
                </a:lnTo>
                <a:lnTo>
                  <a:pt x="4231" y="985"/>
                </a:lnTo>
                <a:lnTo>
                  <a:pt x="4251" y="985"/>
                </a:lnTo>
                <a:lnTo>
                  <a:pt x="4255" y="993"/>
                </a:lnTo>
                <a:lnTo>
                  <a:pt x="4260" y="998"/>
                </a:lnTo>
                <a:lnTo>
                  <a:pt x="4269" y="1005"/>
                </a:lnTo>
                <a:lnTo>
                  <a:pt x="4281" y="1009"/>
                </a:lnTo>
                <a:lnTo>
                  <a:pt x="4290" y="1013"/>
                </a:lnTo>
                <a:lnTo>
                  <a:pt x="4301" y="1018"/>
                </a:lnTo>
                <a:lnTo>
                  <a:pt x="4310" y="1022"/>
                </a:lnTo>
                <a:lnTo>
                  <a:pt x="4316" y="1025"/>
                </a:lnTo>
                <a:lnTo>
                  <a:pt x="4316" y="1035"/>
                </a:lnTo>
                <a:lnTo>
                  <a:pt x="4337" y="1035"/>
                </a:lnTo>
                <a:lnTo>
                  <a:pt x="4337" y="1046"/>
                </a:lnTo>
                <a:lnTo>
                  <a:pt x="4359" y="1046"/>
                </a:lnTo>
                <a:lnTo>
                  <a:pt x="4359" y="1056"/>
                </a:lnTo>
                <a:lnTo>
                  <a:pt x="4379" y="1056"/>
                </a:lnTo>
                <a:lnTo>
                  <a:pt x="4380" y="1058"/>
                </a:lnTo>
                <a:lnTo>
                  <a:pt x="4386" y="1060"/>
                </a:lnTo>
                <a:lnTo>
                  <a:pt x="4390" y="1065"/>
                </a:lnTo>
                <a:lnTo>
                  <a:pt x="4398" y="1071"/>
                </a:lnTo>
                <a:lnTo>
                  <a:pt x="4404" y="1076"/>
                </a:lnTo>
                <a:lnTo>
                  <a:pt x="4412" y="1081"/>
                </a:lnTo>
                <a:lnTo>
                  <a:pt x="4419" y="1085"/>
                </a:lnTo>
                <a:lnTo>
                  <a:pt x="4423" y="1086"/>
                </a:lnTo>
                <a:lnTo>
                  <a:pt x="4423" y="1107"/>
                </a:lnTo>
                <a:lnTo>
                  <a:pt x="4428" y="1108"/>
                </a:lnTo>
                <a:lnTo>
                  <a:pt x="4433" y="1110"/>
                </a:lnTo>
                <a:lnTo>
                  <a:pt x="4441" y="1113"/>
                </a:lnTo>
                <a:lnTo>
                  <a:pt x="4449" y="1116"/>
                </a:lnTo>
                <a:lnTo>
                  <a:pt x="4455" y="1121"/>
                </a:lnTo>
                <a:lnTo>
                  <a:pt x="4459" y="1124"/>
                </a:lnTo>
                <a:lnTo>
                  <a:pt x="4465" y="1126"/>
                </a:lnTo>
                <a:lnTo>
                  <a:pt x="4466" y="1126"/>
                </a:lnTo>
                <a:lnTo>
                  <a:pt x="4466" y="1137"/>
                </a:lnTo>
                <a:lnTo>
                  <a:pt x="4498" y="1147"/>
                </a:lnTo>
                <a:lnTo>
                  <a:pt x="4508" y="1156"/>
                </a:lnTo>
                <a:lnTo>
                  <a:pt x="4509" y="1161"/>
                </a:lnTo>
                <a:lnTo>
                  <a:pt x="4510" y="1167"/>
                </a:lnTo>
                <a:lnTo>
                  <a:pt x="4511" y="1174"/>
                </a:lnTo>
                <a:lnTo>
                  <a:pt x="4514" y="1180"/>
                </a:lnTo>
                <a:lnTo>
                  <a:pt x="4518" y="1187"/>
                </a:lnTo>
                <a:lnTo>
                  <a:pt x="4521" y="1192"/>
                </a:lnTo>
                <a:lnTo>
                  <a:pt x="4525" y="1195"/>
                </a:lnTo>
                <a:lnTo>
                  <a:pt x="4529" y="1198"/>
                </a:lnTo>
                <a:lnTo>
                  <a:pt x="4529" y="1217"/>
                </a:lnTo>
                <a:lnTo>
                  <a:pt x="4540" y="1226"/>
                </a:lnTo>
                <a:lnTo>
                  <a:pt x="4551" y="1226"/>
                </a:lnTo>
                <a:lnTo>
                  <a:pt x="4551" y="1236"/>
                </a:lnTo>
                <a:lnTo>
                  <a:pt x="4562" y="1236"/>
                </a:lnTo>
                <a:lnTo>
                  <a:pt x="4562" y="1246"/>
                </a:lnTo>
                <a:lnTo>
                  <a:pt x="4572" y="1246"/>
                </a:lnTo>
                <a:lnTo>
                  <a:pt x="4572" y="1256"/>
                </a:lnTo>
                <a:lnTo>
                  <a:pt x="4583" y="1256"/>
                </a:lnTo>
                <a:lnTo>
                  <a:pt x="4583" y="1267"/>
                </a:lnTo>
                <a:lnTo>
                  <a:pt x="4594" y="1267"/>
                </a:lnTo>
                <a:lnTo>
                  <a:pt x="4603" y="1277"/>
                </a:lnTo>
                <a:lnTo>
                  <a:pt x="4603" y="1296"/>
                </a:lnTo>
                <a:lnTo>
                  <a:pt x="4614" y="1307"/>
                </a:lnTo>
                <a:lnTo>
                  <a:pt x="4622" y="1308"/>
                </a:lnTo>
                <a:lnTo>
                  <a:pt x="4626" y="1310"/>
                </a:lnTo>
                <a:lnTo>
                  <a:pt x="4631" y="1314"/>
                </a:lnTo>
                <a:lnTo>
                  <a:pt x="4633" y="1317"/>
                </a:lnTo>
                <a:lnTo>
                  <a:pt x="4634" y="1321"/>
                </a:lnTo>
                <a:lnTo>
                  <a:pt x="4635" y="1324"/>
                </a:lnTo>
                <a:lnTo>
                  <a:pt x="4635" y="1327"/>
                </a:lnTo>
                <a:lnTo>
                  <a:pt x="4647" y="1327"/>
                </a:lnTo>
                <a:lnTo>
                  <a:pt x="4647" y="1329"/>
                </a:lnTo>
                <a:lnTo>
                  <a:pt x="4650" y="1332"/>
                </a:lnTo>
                <a:lnTo>
                  <a:pt x="4652" y="1337"/>
                </a:lnTo>
                <a:lnTo>
                  <a:pt x="4657" y="1343"/>
                </a:lnTo>
                <a:lnTo>
                  <a:pt x="4661" y="1351"/>
                </a:lnTo>
                <a:lnTo>
                  <a:pt x="4664" y="1357"/>
                </a:lnTo>
                <a:lnTo>
                  <a:pt x="4667" y="1362"/>
                </a:lnTo>
                <a:lnTo>
                  <a:pt x="4667" y="1368"/>
                </a:lnTo>
                <a:lnTo>
                  <a:pt x="4678" y="1378"/>
                </a:lnTo>
                <a:lnTo>
                  <a:pt x="4688" y="1388"/>
                </a:lnTo>
                <a:lnTo>
                  <a:pt x="4710" y="1388"/>
                </a:lnTo>
                <a:lnTo>
                  <a:pt x="4711" y="1392"/>
                </a:lnTo>
                <a:lnTo>
                  <a:pt x="4713" y="1396"/>
                </a:lnTo>
                <a:lnTo>
                  <a:pt x="4717" y="1399"/>
                </a:lnTo>
                <a:lnTo>
                  <a:pt x="4722" y="1403"/>
                </a:lnTo>
                <a:lnTo>
                  <a:pt x="4727" y="1405"/>
                </a:lnTo>
                <a:lnTo>
                  <a:pt x="4733" y="1407"/>
                </a:lnTo>
                <a:lnTo>
                  <a:pt x="4738" y="1408"/>
                </a:lnTo>
                <a:lnTo>
                  <a:pt x="4743" y="1408"/>
                </a:lnTo>
                <a:lnTo>
                  <a:pt x="4743" y="1414"/>
                </a:lnTo>
                <a:lnTo>
                  <a:pt x="4744" y="1417"/>
                </a:lnTo>
                <a:lnTo>
                  <a:pt x="4745" y="1419"/>
                </a:lnTo>
                <a:lnTo>
                  <a:pt x="4748" y="1419"/>
                </a:lnTo>
                <a:lnTo>
                  <a:pt x="4751" y="1419"/>
                </a:lnTo>
                <a:lnTo>
                  <a:pt x="4752" y="1420"/>
                </a:lnTo>
                <a:lnTo>
                  <a:pt x="4753" y="1423"/>
                </a:lnTo>
                <a:lnTo>
                  <a:pt x="4753" y="1429"/>
                </a:lnTo>
                <a:lnTo>
                  <a:pt x="4785" y="1438"/>
                </a:lnTo>
                <a:lnTo>
                  <a:pt x="4785" y="1448"/>
                </a:lnTo>
                <a:lnTo>
                  <a:pt x="4790" y="1452"/>
                </a:lnTo>
                <a:lnTo>
                  <a:pt x="4798" y="1457"/>
                </a:lnTo>
                <a:lnTo>
                  <a:pt x="4807" y="1460"/>
                </a:lnTo>
                <a:lnTo>
                  <a:pt x="4817" y="1464"/>
                </a:lnTo>
                <a:lnTo>
                  <a:pt x="4827" y="1468"/>
                </a:lnTo>
                <a:lnTo>
                  <a:pt x="4836" y="1472"/>
                </a:lnTo>
                <a:lnTo>
                  <a:pt x="4843" y="1475"/>
                </a:lnTo>
                <a:lnTo>
                  <a:pt x="4849" y="1478"/>
                </a:lnTo>
                <a:lnTo>
                  <a:pt x="4849" y="1489"/>
                </a:lnTo>
                <a:lnTo>
                  <a:pt x="4858" y="1493"/>
                </a:lnTo>
                <a:lnTo>
                  <a:pt x="4869" y="1497"/>
                </a:lnTo>
                <a:lnTo>
                  <a:pt x="4880" y="1499"/>
                </a:lnTo>
                <a:lnTo>
                  <a:pt x="4893" y="1502"/>
                </a:lnTo>
                <a:lnTo>
                  <a:pt x="4904" y="1507"/>
                </a:lnTo>
                <a:lnTo>
                  <a:pt x="4914" y="1510"/>
                </a:lnTo>
                <a:lnTo>
                  <a:pt x="4926" y="1514"/>
                </a:lnTo>
                <a:lnTo>
                  <a:pt x="4935" y="1519"/>
                </a:lnTo>
                <a:lnTo>
                  <a:pt x="4935" y="1528"/>
                </a:lnTo>
                <a:lnTo>
                  <a:pt x="4947" y="1537"/>
                </a:lnTo>
                <a:lnTo>
                  <a:pt x="4958" y="1540"/>
                </a:lnTo>
                <a:lnTo>
                  <a:pt x="4965" y="1539"/>
                </a:lnTo>
                <a:lnTo>
                  <a:pt x="4972" y="1535"/>
                </a:lnTo>
                <a:lnTo>
                  <a:pt x="4975" y="1526"/>
                </a:lnTo>
                <a:lnTo>
                  <a:pt x="4978" y="1516"/>
                </a:lnTo>
                <a:lnTo>
                  <a:pt x="4980" y="1502"/>
                </a:lnTo>
                <a:lnTo>
                  <a:pt x="4980" y="1489"/>
                </a:lnTo>
                <a:lnTo>
                  <a:pt x="4980" y="1474"/>
                </a:lnTo>
                <a:lnTo>
                  <a:pt x="4979" y="1458"/>
                </a:lnTo>
                <a:lnTo>
                  <a:pt x="4978" y="1442"/>
                </a:lnTo>
                <a:lnTo>
                  <a:pt x="4977" y="1427"/>
                </a:lnTo>
                <a:lnTo>
                  <a:pt x="4977" y="1414"/>
                </a:lnTo>
                <a:lnTo>
                  <a:pt x="4975" y="1403"/>
                </a:lnTo>
                <a:lnTo>
                  <a:pt x="4977" y="1394"/>
                </a:lnTo>
                <a:lnTo>
                  <a:pt x="4978" y="1388"/>
                </a:lnTo>
                <a:lnTo>
                  <a:pt x="4989" y="1388"/>
                </a:lnTo>
                <a:lnTo>
                  <a:pt x="4989" y="1368"/>
                </a:lnTo>
                <a:lnTo>
                  <a:pt x="4999" y="1357"/>
                </a:lnTo>
                <a:lnTo>
                  <a:pt x="5021" y="1347"/>
                </a:lnTo>
                <a:lnTo>
                  <a:pt x="5016" y="1346"/>
                </a:lnTo>
                <a:lnTo>
                  <a:pt x="5012" y="1345"/>
                </a:lnTo>
                <a:lnTo>
                  <a:pt x="5005" y="1344"/>
                </a:lnTo>
                <a:lnTo>
                  <a:pt x="4999" y="1342"/>
                </a:lnTo>
                <a:lnTo>
                  <a:pt x="4992" y="1341"/>
                </a:lnTo>
                <a:lnTo>
                  <a:pt x="4988" y="1339"/>
                </a:lnTo>
                <a:lnTo>
                  <a:pt x="4983" y="1337"/>
                </a:lnTo>
                <a:lnTo>
                  <a:pt x="4978" y="1337"/>
                </a:lnTo>
                <a:lnTo>
                  <a:pt x="4977" y="1332"/>
                </a:lnTo>
                <a:lnTo>
                  <a:pt x="4977" y="1329"/>
                </a:lnTo>
                <a:lnTo>
                  <a:pt x="4974" y="1327"/>
                </a:lnTo>
                <a:lnTo>
                  <a:pt x="4973" y="1327"/>
                </a:lnTo>
                <a:lnTo>
                  <a:pt x="4971" y="1327"/>
                </a:lnTo>
                <a:lnTo>
                  <a:pt x="4970" y="1326"/>
                </a:lnTo>
                <a:lnTo>
                  <a:pt x="4969" y="1322"/>
                </a:lnTo>
                <a:lnTo>
                  <a:pt x="4966" y="1317"/>
                </a:lnTo>
                <a:lnTo>
                  <a:pt x="4963" y="1317"/>
                </a:lnTo>
                <a:lnTo>
                  <a:pt x="4960" y="1316"/>
                </a:lnTo>
                <a:lnTo>
                  <a:pt x="4956" y="1314"/>
                </a:lnTo>
                <a:lnTo>
                  <a:pt x="4951" y="1313"/>
                </a:lnTo>
                <a:lnTo>
                  <a:pt x="4947" y="1310"/>
                </a:lnTo>
                <a:lnTo>
                  <a:pt x="4944" y="1308"/>
                </a:lnTo>
                <a:lnTo>
                  <a:pt x="4938" y="1308"/>
                </a:lnTo>
                <a:lnTo>
                  <a:pt x="4935" y="1307"/>
                </a:lnTo>
                <a:lnTo>
                  <a:pt x="4935" y="1287"/>
                </a:lnTo>
                <a:lnTo>
                  <a:pt x="4923" y="1287"/>
                </a:lnTo>
                <a:lnTo>
                  <a:pt x="4923" y="1267"/>
                </a:lnTo>
                <a:lnTo>
                  <a:pt x="4919" y="1266"/>
                </a:lnTo>
                <a:lnTo>
                  <a:pt x="4914" y="1265"/>
                </a:lnTo>
                <a:lnTo>
                  <a:pt x="4913" y="1264"/>
                </a:lnTo>
                <a:lnTo>
                  <a:pt x="4913" y="1262"/>
                </a:lnTo>
                <a:lnTo>
                  <a:pt x="4913" y="1259"/>
                </a:lnTo>
                <a:lnTo>
                  <a:pt x="4912" y="1258"/>
                </a:lnTo>
                <a:lnTo>
                  <a:pt x="4909" y="1257"/>
                </a:lnTo>
                <a:lnTo>
                  <a:pt x="4902" y="1256"/>
                </a:lnTo>
                <a:lnTo>
                  <a:pt x="4902" y="1253"/>
                </a:lnTo>
                <a:lnTo>
                  <a:pt x="4901" y="1249"/>
                </a:lnTo>
                <a:lnTo>
                  <a:pt x="4900" y="1245"/>
                </a:lnTo>
                <a:lnTo>
                  <a:pt x="4897" y="1241"/>
                </a:lnTo>
                <a:lnTo>
                  <a:pt x="4895" y="1238"/>
                </a:lnTo>
                <a:lnTo>
                  <a:pt x="4894" y="1233"/>
                </a:lnTo>
                <a:lnTo>
                  <a:pt x="4893" y="1230"/>
                </a:lnTo>
                <a:lnTo>
                  <a:pt x="4893" y="1226"/>
                </a:lnTo>
                <a:lnTo>
                  <a:pt x="4870" y="1226"/>
                </a:lnTo>
                <a:lnTo>
                  <a:pt x="4867" y="1219"/>
                </a:lnTo>
                <a:lnTo>
                  <a:pt x="4858" y="1212"/>
                </a:lnTo>
                <a:lnTo>
                  <a:pt x="4843" y="1204"/>
                </a:lnTo>
                <a:lnTo>
                  <a:pt x="4829" y="1195"/>
                </a:lnTo>
                <a:lnTo>
                  <a:pt x="4813" y="1187"/>
                </a:lnTo>
                <a:lnTo>
                  <a:pt x="4798" y="1178"/>
                </a:lnTo>
                <a:lnTo>
                  <a:pt x="4789" y="1167"/>
                </a:lnTo>
                <a:lnTo>
                  <a:pt x="4785" y="1156"/>
                </a:lnTo>
                <a:lnTo>
                  <a:pt x="4700" y="1147"/>
                </a:lnTo>
                <a:lnTo>
                  <a:pt x="4700" y="1137"/>
                </a:lnTo>
                <a:lnTo>
                  <a:pt x="4678" y="1137"/>
                </a:lnTo>
                <a:lnTo>
                  <a:pt x="4677" y="1133"/>
                </a:lnTo>
                <a:lnTo>
                  <a:pt x="4676" y="1129"/>
                </a:lnTo>
                <a:lnTo>
                  <a:pt x="4674" y="1126"/>
                </a:lnTo>
                <a:lnTo>
                  <a:pt x="4671" y="1123"/>
                </a:lnTo>
                <a:lnTo>
                  <a:pt x="4668" y="1121"/>
                </a:lnTo>
                <a:lnTo>
                  <a:pt x="4665" y="1118"/>
                </a:lnTo>
                <a:lnTo>
                  <a:pt x="4661" y="1117"/>
                </a:lnTo>
                <a:lnTo>
                  <a:pt x="4657" y="1116"/>
                </a:lnTo>
                <a:lnTo>
                  <a:pt x="4647" y="1107"/>
                </a:lnTo>
                <a:lnTo>
                  <a:pt x="4647" y="1096"/>
                </a:lnTo>
                <a:lnTo>
                  <a:pt x="4635" y="1096"/>
                </a:lnTo>
                <a:lnTo>
                  <a:pt x="4635" y="1086"/>
                </a:lnTo>
                <a:lnTo>
                  <a:pt x="4625" y="1086"/>
                </a:lnTo>
                <a:lnTo>
                  <a:pt x="4625" y="1076"/>
                </a:lnTo>
                <a:lnTo>
                  <a:pt x="4614" y="1076"/>
                </a:lnTo>
                <a:lnTo>
                  <a:pt x="4603" y="1066"/>
                </a:lnTo>
                <a:lnTo>
                  <a:pt x="4602" y="1062"/>
                </a:lnTo>
                <a:lnTo>
                  <a:pt x="4602" y="1059"/>
                </a:lnTo>
                <a:lnTo>
                  <a:pt x="4600" y="1056"/>
                </a:lnTo>
                <a:lnTo>
                  <a:pt x="4598" y="1052"/>
                </a:lnTo>
                <a:lnTo>
                  <a:pt x="4595" y="1050"/>
                </a:lnTo>
                <a:lnTo>
                  <a:pt x="4590" y="1048"/>
                </a:lnTo>
                <a:lnTo>
                  <a:pt x="4587" y="1047"/>
                </a:lnTo>
                <a:lnTo>
                  <a:pt x="4583" y="1046"/>
                </a:lnTo>
                <a:lnTo>
                  <a:pt x="4580" y="1037"/>
                </a:lnTo>
                <a:lnTo>
                  <a:pt x="4571" y="1027"/>
                </a:lnTo>
                <a:lnTo>
                  <a:pt x="4559" y="1018"/>
                </a:lnTo>
                <a:lnTo>
                  <a:pt x="4546" y="1008"/>
                </a:lnTo>
                <a:lnTo>
                  <a:pt x="4531" y="999"/>
                </a:lnTo>
                <a:lnTo>
                  <a:pt x="4520" y="993"/>
                </a:lnTo>
                <a:lnTo>
                  <a:pt x="4511" y="987"/>
                </a:lnTo>
                <a:lnTo>
                  <a:pt x="4508" y="985"/>
                </a:lnTo>
                <a:lnTo>
                  <a:pt x="4466" y="985"/>
                </a:lnTo>
                <a:lnTo>
                  <a:pt x="4466" y="975"/>
                </a:lnTo>
                <a:lnTo>
                  <a:pt x="4423" y="965"/>
                </a:lnTo>
                <a:lnTo>
                  <a:pt x="4423" y="955"/>
                </a:lnTo>
                <a:lnTo>
                  <a:pt x="4390" y="946"/>
                </a:lnTo>
                <a:lnTo>
                  <a:pt x="4389" y="940"/>
                </a:lnTo>
                <a:lnTo>
                  <a:pt x="4387" y="933"/>
                </a:lnTo>
                <a:lnTo>
                  <a:pt x="4382" y="928"/>
                </a:lnTo>
                <a:lnTo>
                  <a:pt x="4378" y="923"/>
                </a:lnTo>
                <a:lnTo>
                  <a:pt x="4373" y="920"/>
                </a:lnTo>
                <a:lnTo>
                  <a:pt x="4368" y="917"/>
                </a:lnTo>
                <a:lnTo>
                  <a:pt x="4363" y="916"/>
                </a:lnTo>
                <a:lnTo>
                  <a:pt x="4359" y="916"/>
                </a:lnTo>
                <a:lnTo>
                  <a:pt x="4359" y="905"/>
                </a:lnTo>
                <a:lnTo>
                  <a:pt x="4316" y="884"/>
                </a:lnTo>
                <a:lnTo>
                  <a:pt x="4316" y="875"/>
                </a:lnTo>
                <a:lnTo>
                  <a:pt x="4310" y="871"/>
                </a:lnTo>
                <a:lnTo>
                  <a:pt x="4301" y="867"/>
                </a:lnTo>
                <a:lnTo>
                  <a:pt x="4290" y="863"/>
                </a:lnTo>
                <a:lnTo>
                  <a:pt x="4281" y="857"/>
                </a:lnTo>
                <a:lnTo>
                  <a:pt x="4269" y="851"/>
                </a:lnTo>
                <a:lnTo>
                  <a:pt x="4260" y="843"/>
                </a:lnTo>
                <a:lnTo>
                  <a:pt x="4255" y="834"/>
                </a:lnTo>
                <a:lnTo>
                  <a:pt x="4251" y="825"/>
                </a:lnTo>
                <a:lnTo>
                  <a:pt x="4231" y="825"/>
                </a:lnTo>
                <a:lnTo>
                  <a:pt x="4231" y="804"/>
                </a:lnTo>
                <a:lnTo>
                  <a:pt x="4220" y="804"/>
                </a:lnTo>
                <a:lnTo>
                  <a:pt x="4220" y="785"/>
                </a:lnTo>
                <a:lnTo>
                  <a:pt x="4208" y="785"/>
                </a:lnTo>
                <a:lnTo>
                  <a:pt x="4208" y="764"/>
                </a:lnTo>
                <a:lnTo>
                  <a:pt x="4203" y="764"/>
                </a:lnTo>
                <a:lnTo>
                  <a:pt x="4195" y="763"/>
                </a:lnTo>
                <a:lnTo>
                  <a:pt x="4186" y="761"/>
                </a:lnTo>
                <a:lnTo>
                  <a:pt x="4176" y="758"/>
                </a:lnTo>
                <a:lnTo>
                  <a:pt x="4165" y="755"/>
                </a:lnTo>
                <a:lnTo>
                  <a:pt x="4154" y="751"/>
                </a:lnTo>
                <a:lnTo>
                  <a:pt x="4143" y="748"/>
                </a:lnTo>
                <a:lnTo>
                  <a:pt x="4132" y="743"/>
                </a:lnTo>
                <a:lnTo>
                  <a:pt x="4119" y="740"/>
                </a:lnTo>
                <a:lnTo>
                  <a:pt x="4107" y="737"/>
                </a:lnTo>
                <a:lnTo>
                  <a:pt x="4094" y="734"/>
                </a:lnTo>
                <a:lnTo>
                  <a:pt x="4082" y="730"/>
                </a:lnTo>
                <a:lnTo>
                  <a:pt x="4072" y="727"/>
                </a:lnTo>
                <a:lnTo>
                  <a:pt x="4059" y="726"/>
                </a:lnTo>
                <a:lnTo>
                  <a:pt x="4048" y="724"/>
                </a:lnTo>
                <a:lnTo>
                  <a:pt x="4038" y="724"/>
                </a:lnTo>
                <a:lnTo>
                  <a:pt x="4037" y="718"/>
                </a:lnTo>
                <a:lnTo>
                  <a:pt x="4037" y="715"/>
                </a:lnTo>
                <a:lnTo>
                  <a:pt x="4034" y="714"/>
                </a:lnTo>
                <a:lnTo>
                  <a:pt x="4031" y="714"/>
                </a:lnTo>
                <a:lnTo>
                  <a:pt x="4030" y="714"/>
                </a:lnTo>
                <a:lnTo>
                  <a:pt x="4029" y="713"/>
                </a:lnTo>
                <a:lnTo>
                  <a:pt x="4028" y="710"/>
                </a:lnTo>
                <a:lnTo>
                  <a:pt x="4027" y="703"/>
                </a:lnTo>
                <a:lnTo>
                  <a:pt x="4016" y="702"/>
                </a:lnTo>
                <a:lnTo>
                  <a:pt x="4008" y="698"/>
                </a:lnTo>
                <a:lnTo>
                  <a:pt x="4001" y="690"/>
                </a:lnTo>
                <a:lnTo>
                  <a:pt x="3995" y="683"/>
                </a:lnTo>
                <a:lnTo>
                  <a:pt x="3988" y="677"/>
                </a:lnTo>
                <a:lnTo>
                  <a:pt x="3982" y="671"/>
                </a:lnTo>
                <a:lnTo>
                  <a:pt x="3973" y="666"/>
                </a:lnTo>
                <a:lnTo>
                  <a:pt x="3963" y="664"/>
                </a:lnTo>
                <a:lnTo>
                  <a:pt x="3952" y="654"/>
                </a:lnTo>
                <a:lnTo>
                  <a:pt x="3952" y="650"/>
                </a:lnTo>
                <a:lnTo>
                  <a:pt x="3951" y="646"/>
                </a:lnTo>
                <a:lnTo>
                  <a:pt x="3951" y="640"/>
                </a:lnTo>
                <a:lnTo>
                  <a:pt x="3950" y="635"/>
                </a:lnTo>
                <a:lnTo>
                  <a:pt x="3947" y="631"/>
                </a:lnTo>
                <a:lnTo>
                  <a:pt x="3943" y="626"/>
                </a:lnTo>
                <a:lnTo>
                  <a:pt x="3937" y="624"/>
                </a:lnTo>
                <a:lnTo>
                  <a:pt x="3930" y="624"/>
                </a:lnTo>
                <a:lnTo>
                  <a:pt x="3920" y="613"/>
                </a:lnTo>
                <a:lnTo>
                  <a:pt x="3909" y="603"/>
                </a:lnTo>
                <a:lnTo>
                  <a:pt x="3909" y="597"/>
                </a:lnTo>
                <a:lnTo>
                  <a:pt x="3906" y="592"/>
                </a:lnTo>
                <a:lnTo>
                  <a:pt x="3901" y="588"/>
                </a:lnTo>
                <a:lnTo>
                  <a:pt x="3897" y="586"/>
                </a:lnTo>
                <a:lnTo>
                  <a:pt x="3892" y="585"/>
                </a:lnTo>
                <a:lnTo>
                  <a:pt x="3887" y="584"/>
                </a:lnTo>
                <a:lnTo>
                  <a:pt x="3882" y="584"/>
                </a:lnTo>
                <a:lnTo>
                  <a:pt x="3877" y="584"/>
                </a:lnTo>
                <a:lnTo>
                  <a:pt x="3877" y="579"/>
                </a:lnTo>
                <a:lnTo>
                  <a:pt x="3875" y="575"/>
                </a:lnTo>
                <a:lnTo>
                  <a:pt x="3874" y="574"/>
                </a:lnTo>
                <a:lnTo>
                  <a:pt x="3872" y="574"/>
                </a:lnTo>
                <a:lnTo>
                  <a:pt x="3870" y="574"/>
                </a:lnTo>
                <a:lnTo>
                  <a:pt x="3868" y="572"/>
                </a:lnTo>
                <a:lnTo>
                  <a:pt x="3867" y="569"/>
                </a:lnTo>
                <a:lnTo>
                  <a:pt x="3867" y="563"/>
                </a:lnTo>
                <a:lnTo>
                  <a:pt x="3862" y="563"/>
                </a:lnTo>
                <a:lnTo>
                  <a:pt x="3858" y="562"/>
                </a:lnTo>
                <a:lnTo>
                  <a:pt x="3855" y="560"/>
                </a:lnTo>
                <a:lnTo>
                  <a:pt x="3849" y="558"/>
                </a:lnTo>
                <a:lnTo>
                  <a:pt x="3846" y="556"/>
                </a:lnTo>
                <a:lnTo>
                  <a:pt x="3842" y="555"/>
                </a:lnTo>
                <a:lnTo>
                  <a:pt x="3839" y="554"/>
                </a:lnTo>
                <a:lnTo>
                  <a:pt x="3833" y="554"/>
                </a:lnTo>
                <a:lnTo>
                  <a:pt x="3833" y="547"/>
                </a:lnTo>
                <a:lnTo>
                  <a:pt x="3832" y="544"/>
                </a:lnTo>
                <a:lnTo>
                  <a:pt x="3831" y="543"/>
                </a:lnTo>
                <a:lnTo>
                  <a:pt x="3829" y="543"/>
                </a:lnTo>
                <a:lnTo>
                  <a:pt x="3827" y="543"/>
                </a:lnTo>
                <a:lnTo>
                  <a:pt x="3825" y="542"/>
                </a:lnTo>
                <a:lnTo>
                  <a:pt x="3823" y="538"/>
                </a:lnTo>
                <a:lnTo>
                  <a:pt x="3823" y="533"/>
                </a:lnTo>
                <a:lnTo>
                  <a:pt x="3816" y="532"/>
                </a:lnTo>
                <a:lnTo>
                  <a:pt x="3810" y="528"/>
                </a:lnTo>
                <a:lnTo>
                  <a:pt x="3803" y="523"/>
                </a:lnTo>
                <a:lnTo>
                  <a:pt x="3796" y="518"/>
                </a:lnTo>
                <a:lnTo>
                  <a:pt x="3790" y="512"/>
                </a:lnTo>
                <a:lnTo>
                  <a:pt x="3786" y="507"/>
                </a:lnTo>
                <a:lnTo>
                  <a:pt x="3778" y="505"/>
                </a:lnTo>
                <a:lnTo>
                  <a:pt x="3770" y="503"/>
                </a:lnTo>
                <a:lnTo>
                  <a:pt x="3761" y="493"/>
                </a:lnTo>
                <a:lnTo>
                  <a:pt x="3751" y="482"/>
                </a:lnTo>
                <a:lnTo>
                  <a:pt x="3750" y="478"/>
                </a:lnTo>
                <a:lnTo>
                  <a:pt x="3747" y="472"/>
                </a:lnTo>
                <a:lnTo>
                  <a:pt x="3743" y="465"/>
                </a:lnTo>
                <a:lnTo>
                  <a:pt x="3740" y="458"/>
                </a:lnTo>
                <a:lnTo>
                  <a:pt x="3735" y="452"/>
                </a:lnTo>
                <a:lnTo>
                  <a:pt x="3732" y="447"/>
                </a:lnTo>
                <a:lnTo>
                  <a:pt x="3728" y="443"/>
                </a:lnTo>
                <a:lnTo>
                  <a:pt x="3728" y="442"/>
                </a:lnTo>
                <a:lnTo>
                  <a:pt x="3717" y="442"/>
                </a:lnTo>
                <a:lnTo>
                  <a:pt x="3717" y="441"/>
                </a:lnTo>
                <a:lnTo>
                  <a:pt x="3717" y="439"/>
                </a:lnTo>
                <a:lnTo>
                  <a:pt x="3716" y="435"/>
                </a:lnTo>
                <a:lnTo>
                  <a:pt x="3715" y="432"/>
                </a:lnTo>
                <a:lnTo>
                  <a:pt x="3713" y="428"/>
                </a:lnTo>
                <a:lnTo>
                  <a:pt x="3709" y="425"/>
                </a:lnTo>
                <a:lnTo>
                  <a:pt x="3704" y="422"/>
                </a:lnTo>
                <a:lnTo>
                  <a:pt x="3697" y="422"/>
                </a:lnTo>
                <a:lnTo>
                  <a:pt x="3697" y="415"/>
                </a:lnTo>
                <a:lnTo>
                  <a:pt x="3692" y="408"/>
                </a:lnTo>
                <a:lnTo>
                  <a:pt x="3689" y="404"/>
                </a:lnTo>
                <a:lnTo>
                  <a:pt x="3684" y="400"/>
                </a:lnTo>
                <a:lnTo>
                  <a:pt x="3679" y="396"/>
                </a:lnTo>
                <a:lnTo>
                  <a:pt x="3674" y="394"/>
                </a:lnTo>
                <a:lnTo>
                  <a:pt x="3670" y="393"/>
                </a:lnTo>
                <a:lnTo>
                  <a:pt x="3664" y="392"/>
                </a:lnTo>
                <a:lnTo>
                  <a:pt x="3664" y="382"/>
                </a:lnTo>
                <a:lnTo>
                  <a:pt x="3662" y="382"/>
                </a:lnTo>
                <a:lnTo>
                  <a:pt x="3658" y="381"/>
                </a:lnTo>
                <a:lnTo>
                  <a:pt x="3654" y="380"/>
                </a:lnTo>
                <a:lnTo>
                  <a:pt x="3650" y="378"/>
                </a:lnTo>
                <a:lnTo>
                  <a:pt x="3647" y="374"/>
                </a:lnTo>
                <a:lnTo>
                  <a:pt x="3645" y="369"/>
                </a:lnTo>
                <a:lnTo>
                  <a:pt x="3644" y="363"/>
                </a:lnTo>
                <a:lnTo>
                  <a:pt x="3633" y="352"/>
                </a:lnTo>
                <a:lnTo>
                  <a:pt x="3600" y="342"/>
                </a:lnTo>
                <a:lnTo>
                  <a:pt x="3600" y="331"/>
                </a:lnTo>
                <a:lnTo>
                  <a:pt x="3594" y="329"/>
                </a:lnTo>
                <a:lnTo>
                  <a:pt x="3585" y="326"/>
                </a:lnTo>
                <a:lnTo>
                  <a:pt x="3575" y="324"/>
                </a:lnTo>
                <a:lnTo>
                  <a:pt x="3562" y="322"/>
                </a:lnTo>
                <a:lnTo>
                  <a:pt x="3550" y="320"/>
                </a:lnTo>
                <a:lnTo>
                  <a:pt x="3541" y="317"/>
                </a:lnTo>
                <a:lnTo>
                  <a:pt x="3531" y="315"/>
                </a:lnTo>
                <a:lnTo>
                  <a:pt x="3526" y="312"/>
                </a:lnTo>
                <a:lnTo>
                  <a:pt x="3526" y="302"/>
                </a:lnTo>
                <a:lnTo>
                  <a:pt x="3462" y="302"/>
                </a:lnTo>
                <a:lnTo>
                  <a:pt x="3456" y="293"/>
                </a:lnTo>
                <a:lnTo>
                  <a:pt x="3452" y="284"/>
                </a:lnTo>
                <a:lnTo>
                  <a:pt x="3446" y="273"/>
                </a:lnTo>
                <a:lnTo>
                  <a:pt x="3441" y="263"/>
                </a:lnTo>
                <a:lnTo>
                  <a:pt x="3437" y="252"/>
                </a:lnTo>
                <a:lnTo>
                  <a:pt x="3432" y="243"/>
                </a:lnTo>
                <a:lnTo>
                  <a:pt x="3430" y="236"/>
                </a:lnTo>
                <a:lnTo>
                  <a:pt x="3429" y="232"/>
                </a:lnTo>
                <a:lnTo>
                  <a:pt x="3419" y="222"/>
                </a:lnTo>
                <a:lnTo>
                  <a:pt x="3397" y="222"/>
                </a:lnTo>
                <a:lnTo>
                  <a:pt x="3397" y="211"/>
                </a:lnTo>
                <a:lnTo>
                  <a:pt x="3365" y="211"/>
                </a:lnTo>
                <a:lnTo>
                  <a:pt x="3365" y="201"/>
                </a:lnTo>
                <a:lnTo>
                  <a:pt x="3312" y="201"/>
                </a:lnTo>
                <a:lnTo>
                  <a:pt x="3312" y="211"/>
                </a:lnTo>
                <a:lnTo>
                  <a:pt x="3307" y="213"/>
                </a:lnTo>
                <a:lnTo>
                  <a:pt x="3301" y="213"/>
                </a:lnTo>
                <a:lnTo>
                  <a:pt x="3296" y="214"/>
                </a:lnTo>
                <a:lnTo>
                  <a:pt x="3287" y="214"/>
                </a:lnTo>
                <a:lnTo>
                  <a:pt x="3280" y="213"/>
                </a:lnTo>
                <a:lnTo>
                  <a:pt x="3271" y="212"/>
                </a:lnTo>
                <a:lnTo>
                  <a:pt x="3262" y="211"/>
                </a:lnTo>
                <a:lnTo>
                  <a:pt x="3253" y="210"/>
                </a:lnTo>
                <a:lnTo>
                  <a:pt x="3244" y="208"/>
                </a:lnTo>
                <a:lnTo>
                  <a:pt x="3235" y="207"/>
                </a:lnTo>
                <a:lnTo>
                  <a:pt x="3227" y="206"/>
                </a:lnTo>
                <a:lnTo>
                  <a:pt x="3218" y="203"/>
                </a:lnTo>
                <a:lnTo>
                  <a:pt x="3210" y="202"/>
                </a:lnTo>
                <a:lnTo>
                  <a:pt x="3204" y="201"/>
                </a:lnTo>
                <a:lnTo>
                  <a:pt x="3197" y="201"/>
                </a:lnTo>
                <a:lnTo>
                  <a:pt x="3193" y="201"/>
                </a:lnTo>
                <a:lnTo>
                  <a:pt x="3183" y="190"/>
                </a:lnTo>
                <a:lnTo>
                  <a:pt x="3183" y="181"/>
                </a:lnTo>
                <a:lnTo>
                  <a:pt x="3171" y="171"/>
                </a:lnTo>
                <a:lnTo>
                  <a:pt x="3168" y="171"/>
                </a:lnTo>
                <a:lnTo>
                  <a:pt x="3162" y="170"/>
                </a:lnTo>
                <a:lnTo>
                  <a:pt x="3156" y="169"/>
                </a:lnTo>
                <a:lnTo>
                  <a:pt x="3150" y="168"/>
                </a:lnTo>
                <a:lnTo>
                  <a:pt x="3142" y="166"/>
                </a:lnTo>
                <a:lnTo>
                  <a:pt x="3135" y="165"/>
                </a:lnTo>
                <a:lnTo>
                  <a:pt x="3127" y="163"/>
                </a:lnTo>
                <a:lnTo>
                  <a:pt x="3118" y="162"/>
                </a:lnTo>
                <a:lnTo>
                  <a:pt x="3112" y="161"/>
                </a:lnTo>
                <a:lnTo>
                  <a:pt x="3103" y="160"/>
                </a:lnTo>
                <a:lnTo>
                  <a:pt x="3097" y="159"/>
                </a:lnTo>
                <a:lnTo>
                  <a:pt x="3089" y="158"/>
                </a:lnTo>
                <a:lnTo>
                  <a:pt x="3081" y="158"/>
                </a:lnTo>
                <a:lnTo>
                  <a:pt x="3075" y="158"/>
                </a:lnTo>
                <a:lnTo>
                  <a:pt x="3071" y="160"/>
                </a:lnTo>
                <a:lnTo>
                  <a:pt x="3065" y="161"/>
                </a:lnTo>
                <a:lnTo>
                  <a:pt x="3065" y="171"/>
                </a:lnTo>
                <a:lnTo>
                  <a:pt x="3053" y="175"/>
                </a:lnTo>
                <a:lnTo>
                  <a:pt x="3039" y="174"/>
                </a:lnTo>
                <a:lnTo>
                  <a:pt x="3027" y="170"/>
                </a:lnTo>
                <a:lnTo>
                  <a:pt x="3013" y="162"/>
                </a:lnTo>
                <a:lnTo>
                  <a:pt x="3001" y="156"/>
                </a:lnTo>
                <a:lnTo>
                  <a:pt x="2988" y="148"/>
                </a:lnTo>
                <a:lnTo>
                  <a:pt x="2977" y="142"/>
                </a:lnTo>
                <a:lnTo>
                  <a:pt x="2969" y="140"/>
                </a:lnTo>
                <a:lnTo>
                  <a:pt x="2969" y="136"/>
                </a:lnTo>
                <a:lnTo>
                  <a:pt x="2967" y="133"/>
                </a:lnTo>
                <a:lnTo>
                  <a:pt x="2963" y="127"/>
                </a:lnTo>
                <a:lnTo>
                  <a:pt x="2958" y="122"/>
                </a:lnTo>
                <a:lnTo>
                  <a:pt x="2953" y="118"/>
                </a:lnTo>
                <a:lnTo>
                  <a:pt x="2947" y="114"/>
                </a:lnTo>
                <a:lnTo>
                  <a:pt x="2942" y="112"/>
                </a:lnTo>
                <a:lnTo>
                  <a:pt x="2938" y="111"/>
                </a:lnTo>
                <a:lnTo>
                  <a:pt x="2929" y="101"/>
                </a:lnTo>
                <a:lnTo>
                  <a:pt x="2929" y="81"/>
                </a:lnTo>
                <a:lnTo>
                  <a:pt x="2917" y="81"/>
                </a:lnTo>
                <a:lnTo>
                  <a:pt x="2917" y="41"/>
                </a:lnTo>
                <a:lnTo>
                  <a:pt x="2906" y="31"/>
                </a:lnTo>
                <a:lnTo>
                  <a:pt x="2896" y="20"/>
                </a:lnTo>
                <a:lnTo>
                  <a:pt x="2891" y="19"/>
                </a:lnTo>
                <a:lnTo>
                  <a:pt x="2885" y="18"/>
                </a:lnTo>
                <a:lnTo>
                  <a:pt x="2878" y="17"/>
                </a:lnTo>
                <a:lnTo>
                  <a:pt x="2869" y="15"/>
                </a:lnTo>
                <a:lnTo>
                  <a:pt x="2860" y="14"/>
                </a:lnTo>
                <a:lnTo>
                  <a:pt x="2853" y="11"/>
                </a:lnTo>
                <a:lnTo>
                  <a:pt x="2846" y="10"/>
                </a:lnTo>
                <a:lnTo>
                  <a:pt x="2842" y="10"/>
                </a:lnTo>
                <a:lnTo>
                  <a:pt x="2842" y="0"/>
                </a:lnTo>
                <a:lnTo>
                  <a:pt x="2789" y="0"/>
                </a:lnTo>
                <a:lnTo>
                  <a:pt x="2789" y="10"/>
                </a:lnTo>
                <a:lnTo>
                  <a:pt x="2776" y="17"/>
                </a:lnTo>
                <a:lnTo>
                  <a:pt x="2760" y="21"/>
                </a:lnTo>
                <a:lnTo>
                  <a:pt x="2743" y="24"/>
                </a:lnTo>
                <a:lnTo>
                  <a:pt x="2725" y="27"/>
                </a:lnTo>
                <a:lnTo>
                  <a:pt x="2706" y="27"/>
                </a:lnTo>
                <a:lnTo>
                  <a:pt x="2685" y="27"/>
                </a:lnTo>
                <a:lnTo>
                  <a:pt x="2664" y="27"/>
                </a:lnTo>
                <a:lnTo>
                  <a:pt x="2644" y="26"/>
                </a:lnTo>
                <a:lnTo>
                  <a:pt x="2621" y="24"/>
                </a:lnTo>
                <a:lnTo>
                  <a:pt x="2600" y="23"/>
                </a:lnTo>
                <a:lnTo>
                  <a:pt x="2580" y="23"/>
                </a:lnTo>
                <a:lnTo>
                  <a:pt x="2558" y="24"/>
                </a:lnTo>
                <a:lnTo>
                  <a:pt x="2539" y="27"/>
                </a:lnTo>
                <a:lnTo>
                  <a:pt x="2521" y="30"/>
                </a:lnTo>
                <a:lnTo>
                  <a:pt x="2504" y="34"/>
                </a:lnTo>
                <a:lnTo>
                  <a:pt x="2489" y="41"/>
                </a:lnTo>
                <a:lnTo>
                  <a:pt x="2489" y="50"/>
                </a:lnTo>
                <a:lnTo>
                  <a:pt x="2425" y="50"/>
                </a:lnTo>
                <a:lnTo>
                  <a:pt x="2425" y="60"/>
                </a:lnTo>
                <a:lnTo>
                  <a:pt x="2416" y="63"/>
                </a:lnTo>
                <a:lnTo>
                  <a:pt x="2405" y="66"/>
                </a:lnTo>
                <a:lnTo>
                  <a:pt x="2392" y="67"/>
                </a:lnTo>
                <a:lnTo>
                  <a:pt x="2377" y="67"/>
                </a:lnTo>
                <a:lnTo>
                  <a:pt x="2363" y="65"/>
                </a:lnTo>
                <a:lnTo>
                  <a:pt x="2347" y="63"/>
                </a:lnTo>
                <a:lnTo>
                  <a:pt x="2330" y="61"/>
                </a:lnTo>
                <a:lnTo>
                  <a:pt x="2313" y="58"/>
                </a:lnTo>
                <a:lnTo>
                  <a:pt x="2296" y="56"/>
                </a:lnTo>
                <a:lnTo>
                  <a:pt x="2279" y="53"/>
                </a:lnTo>
                <a:lnTo>
                  <a:pt x="2262" y="49"/>
                </a:lnTo>
                <a:lnTo>
                  <a:pt x="2247" y="47"/>
                </a:lnTo>
                <a:lnTo>
                  <a:pt x="2233" y="44"/>
                </a:lnTo>
                <a:lnTo>
                  <a:pt x="2220" y="43"/>
                </a:lnTo>
                <a:lnTo>
                  <a:pt x="2209" y="42"/>
                </a:lnTo>
                <a:lnTo>
                  <a:pt x="2201" y="41"/>
                </a:lnTo>
                <a:lnTo>
                  <a:pt x="2194" y="41"/>
                </a:lnTo>
                <a:lnTo>
                  <a:pt x="2188" y="42"/>
                </a:lnTo>
                <a:lnTo>
                  <a:pt x="2181" y="42"/>
                </a:lnTo>
                <a:lnTo>
                  <a:pt x="2173" y="42"/>
                </a:lnTo>
                <a:lnTo>
                  <a:pt x="2165" y="43"/>
                </a:lnTo>
                <a:lnTo>
                  <a:pt x="2157" y="44"/>
                </a:lnTo>
                <a:lnTo>
                  <a:pt x="2150" y="45"/>
                </a:lnTo>
                <a:lnTo>
                  <a:pt x="2141" y="46"/>
                </a:lnTo>
                <a:lnTo>
                  <a:pt x="2134" y="46"/>
                </a:lnTo>
                <a:lnTo>
                  <a:pt x="2125" y="47"/>
                </a:lnTo>
                <a:lnTo>
                  <a:pt x="2118" y="48"/>
                </a:lnTo>
                <a:lnTo>
                  <a:pt x="2111" y="48"/>
                </a:lnTo>
                <a:lnTo>
                  <a:pt x="2103" y="50"/>
                </a:lnTo>
                <a:lnTo>
                  <a:pt x="2096" y="50"/>
                </a:lnTo>
                <a:lnTo>
                  <a:pt x="2090" y="50"/>
                </a:lnTo>
                <a:lnTo>
                  <a:pt x="2085" y="50"/>
                </a:lnTo>
                <a:lnTo>
                  <a:pt x="2073" y="60"/>
                </a:lnTo>
                <a:lnTo>
                  <a:pt x="2073" y="81"/>
                </a:lnTo>
                <a:lnTo>
                  <a:pt x="1999" y="111"/>
                </a:lnTo>
                <a:lnTo>
                  <a:pt x="1999" y="121"/>
                </a:lnTo>
                <a:lnTo>
                  <a:pt x="1966" y="121"/>
                </a:lnTo>
                <a:lnTo>
                  <a:pt x="1966" y="131"/>
                </a:lnTo>
                <a:lnTo>
                  <a:pt x="1903" y="131"/>
                </a:lnTo>
                <a:lnTo>
                  <a:pt x="1903" y="140"/>
                </a:lnTo>
                <a:lnTo>
                  <a:pt x="1888" y="146"/>
                </a:lnTo>
                <a:lnTo>
                  <a:pt x="1871" y="149"/>
                </a:lnTo>
                <a:lnTo>
                  <a:pt x="1856" y="150"/>
                </a:lnTo>
                <a:lnTo>
                  <a:pt x="1839" y="148"/>
                </a:lnTo>
                <a:lnTo>
                  <a:pt x="1819" y="145"/>
                </a:lnTo>
                <a:lnTo>
                  <a:pt x="1801" y="142"/>
                </a:lnTo>
                <a:lnTo>
                  <a:pt x="1783" y="136"/>
                </a:lnTo>
                <a:lnTo>
                  <a:pt x="1764" y="131"/>
                </a:lnTo>
                <a:lnTo>
                  <a:pt x="1746" y="125"/>
                </a:lnTo>
                <a:lnTo>
                  <a:pt x="1727" y="121"/>
                </a:lnTo>
                <a:lnTo>
                  <a:pt x="1710" y="117"/>
                </a:lnTo>
                <a:lnTo>
                  <a:pt x="1693" y="113"/>
                </a:lnTo>
                <a:lnTo>
                  <a:pt x="1677" y="112"/>
                </a:lnTo>
                <a:lnTo>
                  <a:pt x="1661" y="112"/>
                </a:lnTo>
                <a:lnTo>
                  <a:pt x="1647" y="116"/>
                </a:lnTo>
                <a:lnTo>
                  <a:pt x="1634" y="121"/>
                </a:lnTo>
                <a:lnTo>
                  <a:pt x="1634" y="131"/>
                </a:lnTo>
                <a:lnTo>
                  <a:pt x="1615" y="131"/>
                </a:lnTo>
                <a:lnTo>
                  <a:pt x="1615" y="140"/>
                </a:lnTo>
                <a:lnTo>
                  <a:pt x="1571" y="140"/>
                </a:lnTo>
                <a:lnTo>
                  <a:pt x="1571" y="150"/>
                </a:lnTo>
                <a:lnTo>
                  <a:pt x="1549" y="150"/>
                </a:lnTo>
                <a:lnTo>
                  <a:pt x="1549" y="161"/>
                </a:lnTo>
                <a:lnTo>
                  <a:pt x="1544" y="161"/>
                </a:lnTo>
                <a:lnTo>
                  <a:pt x="1537" y="162"/>
                </a:lnTo>
                <a:lnTo>
                  <a:pt x="1527" y="164"/>
                </a:lnTo>
                <a:lnTo>
                  <a:pt x="1518" y="165"/>
                </a:lnTo>
                <a:lnTo>
                  <a:pt x="1509" y="168"/>
                </a:lnTo>
                <a:lnTo>
                  <a:pt x="1498" y="169"/>
                </a:lnTo>
                <a:lnTo>
                  <a:pt x="1491" y="170"/>
                </a:lnTo>
                <a:lnTo>
                  <a:pt x="1485" y="171"/>
                </a:lnTo>
                <a:lnTo>
                  <a:pt x="1485" y="181"/>
                </a:lnTo>
                <a:lnTo>
                  <a:pt x="1478" y="184"/>
                </a:lnTo>
                <a:lnTo>
                  <a:pt x="1470" y="185"/>
                </a:lnTo>
                <a:lnTo>
                  <a:pt x="1459" y="186"/>
                </a:lnTo>
                <a:lnTo>
                  <a:pt x="1447" y="186"/>
                </a:lnTo>
                <a:lnTo>
                  <a:pt x="1433" y="186"/>
                </a:lnTo>
                <a:lnTo>
                  <a:pt x="1421" y="186"/>
                </a:lnTo>
                <a:lnTo>
                  <a:pt x="1409" y="187"/>
                </a:lnTo>
                <a:lnTo>
                  <a:pt x="1400" y="190"/>
                </a:lnTo>
                <a:lnTo>
                  <a:pt x="1400" y="201"/>
                </a:lnTo>
                <a:lnTo>
                  <a:pt x="1367" y="201"/>
                </a:lnTo>
                <a:lnTo>
                  <a:pt x="1367" y="211"/>
                </a:lnTo>
                <a:lnTo>
                  <a:pt x="1361" y="214"/>
                </a:lnTo>
                <a:lnTo>
                  <a:pt x="1351" y="215"/>
                </a:lnTo>
                <a:lnTo>
                  <a:pt x="1338" y="215"/>
                </a:lnTo>
                <a:lnTo>
                  <a:pt x="1325" y="215"/>
                </a:lnTo>
                <a:lnTo>
                  <a:pt x="1311" y="216"/>
                </a:lnTo>
                <a:lnTo>
                  <a:pt x="1298" y="217"/>
                </a:lnTo>
                <a:lnTo>
                  <a:pt x="1288" y="219"/>
                </a:lnTo>
                <a:lnTo>
                  <a:pt x="1282" y="222"/>
                </a:lnTo>
                <a:lnTo>
                  <a:pt x="1282" y="232"/>
                </a:lnTo>
                <a:lnTo>
                  <a:pt x="1260" y="232"/>
                </a:lnTo>
                <a:lnTo>
                  <a:pt x="1260" y="241"/>
                </a:lnTo>
                <a:lnTo>
                  <a:pt x="1230" y="241"/>
                </a:lnTo>
                <a:lnTo>
                  <a:pt x="1230" y="251"/>
                </a:lnTo>
                <a:lnTo>
                  <a:pt x="1225" y="253"/>
                </a:lnTo>
                <a:lnTo>
                  <a:pt x="1220" y="254"/>
                </a:lnTo>
                <a:lnTo>
                  <a:pt x="1214" y="255"/>
                </a:lnTo>
                <a:lnTo>
                  <a:pt x="1207" y="255"/>
                </a:lnTo>
                <a:lnTo>
                  <a:pt x="1200" y="256"/>
                </a:lnTo>
                <a:lnTo>
                  <a:pt x="1191" y="256"/>
                </a:lnTo>
                <a:lnTo>
                  <a:pt x="1184" y="256"/>
                </a:lnTo>
                <a:lnTo>
                  <a:pt x="1177" y="256"/>
                </a:lnTo>
                <a:lnTo>
                  <a:pt x="1168" y="256"/>
                </a:lnTo>
                <a:lnTo>
                  <a:pt x="1161" y="256"/>
                </a:lnTo>
                <a:lnTo>
                  <a:pt x="1153" y="256"/>
                </a:lnTo>
                <a:lnTo>
                  <a:pt x="1146" y="256"/>
                </a:lnTo>
                <a:lnTo>
                  <a:pt x="1138" y="258"/>
                </a:lnTo>
                <a:lnTo>
                  <a:pt x="1134" y="259"/>
                </a:lnTo>
                <a:lnTo>
                  <a:pt x="1127" y="260"/>
                </a:lnTo>
                <a:lnTo>
                  <a:pt x="1122" y="261"/>
                </a:lnTo>
                <a:lnTo>
                  <a:pt x="1122" y="272"/>
                </a:lnTo>
                <a:lnTo>
                  <a:pt x="1081" y="281"/>
                </a:lnTo>
                <a:lnTo>
                  <a:pt x="1081" y="312"/>
                </a:lnTo>
                <a:lnTo>
                  <a:pt x="1075" y="312"/>
                </a:lnTo>
                <a:lnTo>
                  <a:pt x="1068" y="313"/>
                </a:lnTo>
                <a:lnTo>
                  <a:pt x="1058" y="314"/>
                </a:lnTo>
                <a:lnTo>
                  <a:pt x="1048" y="315"/>
                </a:lnTo>
                <a:lnTo>
                  <a:pt x="1035" y="317"/>
                </a:lnTo>
                <a:lnTo>
                  <a:pt x="1022" y="318"/>
                </a:lnTo>
                <a:lnTo>
                  <a:pt x="1008" y="320"/>
                </a:lnTo>
                <a:lnTo>
                  <a:pt x="995" y="323"/>
                </a:lnTo>
                <a:lnTo>
                  <a:pt x="981" y="326"/>
                </a:lnTo>
                <a:lnTo>
                  <a:pt x="968" y="328"/>
                </a:lnTo>
                <a:lnTo>
                  <a:pt x="954" y="330"/>
                </a:lnTo>
                <a:lnTo>
                  <a:pt x="942" y="333"/>
                </a:lnTo>
                <a:lnTo>
                  <a:pt x="930" y="336"/>
                </a:lnTo>
                <a:lnTo>
                  <a:pt x="921" y="338"/>
                </a:lnTo>
                <a:lnTo>
                  <a:pt x="915" y="340"/>
                </a:lnTo>
                <a:lnTo>
                  <a:pt x="909" y="342"/>
                </a:lnTo>
                <a:lnTo>
                  <a:pt x="909" y="352"/>
                </a:lnTo>
                <a:lnTo>
                  <a:pt x="903" y="354"/>
                </a:lnTo>
                <a:lnTo>
                  <a:pt x="895" y="357"/>
                </a:lnTo>
                <a:lnTo>
                  <a:pt x="886" y="362"/>
                </a:lnTo>
                <a:lnTo>
                  <a:pt x="876" y="367"/>
                </a:lnTo>
                <a:lnTo>
                  <a:pt x="865" y="374"/>
                </a:lnTo>
                <a:lnTo>
                  <a:pt x="852" y="378"/>
                </a:lnTo>
                <a:lnTo>
                  <a:pt x="842" y="381"/>
                </a:lnTo>
                <a:lnTo>
                  <a:pt x="834" y="382"/>
                </a:lnTo>
                <a:lnTo>
                  <a:pt x="823" y="392"/>
                </a:lnTo>
                <a:lnTo>
                  <a:pt x="823" y="403"/>
                </a:lnTo>
                <a:lnTo>
                  <a:pt x="813" y="403"/>
                </a:lnTo>
                <a:lnTo>
                  <a:pt x="813" y="412"/>
                </a:lnTo>
                <a:lnTo>
                  <a:pt x="802" y="412"/>
                </a:lnTo>
                <a:lnTo>
                  <a:pt x="802" y="422"/>
                </a:lnTo>
                <a:lnTo>
                  <a:pt x="790" y="432"/>
                </a:lnTo>
                <a:lnTo>
                  <a:pt x="787" y="432"/>
                </a:lnTo>
                <a:lnTo>
                  <a:pt x="783" y="434"/>
                </a:lnTo>
                <a:lnTo>
                  <a:pt x="779" y="435"/>
                </a:lnTo>
                <a:lnTo>
                  <a:pt x="777" y="439"/>
                </a:lnTo>
                <a:lnTo>
                  <a:pt x="773" y="441"/>
                </a:lnTo>
                <a:lnTo>
                  <a:pt x="772" y="444"/>
                </a:lnTo>
                <a:lnTo>
                  <a:pt x="771" y="448"/>
                </a:lnTo>
                <a:lnTo>
                  <a:pt x="770" y="452"/>
                </a:lnTo>
                <a:lnTo>
                  <a:pt x="760" y="461"/>
                </a:lnTo>
                <a:lnTo>
                  <a:pt x="737" y="461"/>
                </a:lnTo>
                <a:lnTo>
                  <a:pt x="736" y="466"/>
                </a:lnTo>
                <a:lnTo>
                  <a:pt x="733" y="470"/>
                </a:lnTo>
                <a:lnTo>
                  <a:pt x="727" y="473"/>
                </a:lnTo>
                <a:lnTo>
                  <a:pt x="723" y="478"/>
                </a:lnTo>
                <a:lnTo>
                  <a:pt x="717" y="481"/>
                </a:lnTo>
                <a:lnTo>
                  <a:pt x="710" y="485"/>
                </a:lnTo>
                <a:lnTo>
                  <a:pt x="707" y="490"/>
                </a:lnTo>
                <a:lnTo>
                  <a:pt x="706" y="493"/>
                </a:lnTo>
                <a:lnTo>
                  <a:pt x="684" y="493"/>
                </a:lnTo>
                <a:lnTo>
                  <a:pt x="683" y="497"/>
                </a:lnTo>
                <a:lnTo>
                  <a:pt x="683" y="503"/>
                </a:lnTo>
                <a:lnTo>
                  <a:pt x="681" y="508"/>
                </a:lnTo>
                <a:lnTo>
                  <a:pt x="680" y="515"/>
                </a:lnTo>
                <a:lnTo>
                  <a:pt x="677" y="521"/>
                </a:lnTo>
                <a:lnTo>
                  <a:pt x="675" y="528"/>
                </a:lnTo>
                <a:lnTo>
                  <a:pt x="674" y="535"/>
                </a:lnTo>
                <a:lnTo>
                  <a:pt x="673" y="543"/>
                </a:lnTo>
                <a:lnTo>
                  <a:pt x="669" y="544"/>
                </a:lnTo>
                <a:lnTo>
                  <a:pt x="662" y="548"/>
                </a:lnTo>
                <a:lnTo>
                  <a:pt x="655" y="554"/>
                </a:lnTo>
                <a:lnTo>
                  <a:pt x="646" y="558"/>
                </a:lnTo>
                <a:lnTo>
                  <a:pt x="636" y="563"/>
                </a:lnTo>
                <a:lnTo>
                  <a:pt x="626" y="569"/>
                </a:lnTo>
                <a:lnTo>
                  <a:pt x="617" y="572"/>
                </a:lnTo>
                <a:lnTo>
                  <a:pt x="608" y="574"/>
                </a:lnTo>
                <a:lnTo>
                  <a:pt x="602" y="575"/>
                </a:lnTo>
                <a:lnTo>
                  <a:pt x="593" y="576"/>
                </a:lnTo>
                <a:lnTo>
                  <a:pt x="586" y="579"/>
                </a:lnTo>
                <a:lnTo>
                  <a:pt x="577" y="580"/>
                </a:lnTo>
                <a:lnTo>
                  <a:pt x="569" y="581"/>
                </a:lnTo>
                <a:lnTo>
                  <a:pt x="562" y="583"/>
                </a:lnTo>
                <a:lnTo>
                  <a:pt x="553" y="584"/>
                </a:lnTo>
                <a:lnTo>
                  <a:pt x="545" y="585"/>
                </a:lnTo>
                <a:lnTo>
                  <a:pt x="537" y="587"/>
                </a:lnTo>
                <a:lnTo>
                  <a:pt x="528" y="588"/>
                </a:lnTo>
                <a:lnTo>
                  <a:pt x="521" y="590"/>
                </a:lnTo>
                <a:lnTo>
                  <a:pt x="512" y="593"/>
                </a:lnTo>
                <a:lnTo>
                  <a:pt x="505" y="596"/>
                </a:lnTo>
                <a:lnTo>
                  <a:pt x="497" y="598"/>
                </a:lnTo>
                <a:lnTo>
                  <a:pt x="489" y="601"/>
                </a:lnTo>
                <a:lnTo>
                  <a:pt x="482" y="605"/>
                </a:lnTo>
                <a:lnTo>
                  <a:pt x="449" y="651"/>
                </a:lnTo>
                <a:lnTo>
                  <a:pt x="447" y="654"/>
                </a:lnTo>
                <a:lnTo>
                  <a:pt x="446" y="659"/>
                </a:lnTo>
                <a:lnTo>
                  <a:pt x="445" y="665"/>
                </a:lnTo>
                <a:lnTo>
                  <a:pt x="443" y="674"/>
                </a:lnTo>
                <a:lnTo>
                  <a:pt x="441" y="682"/>
                </a:lnTo>
                <a:lnTo>
                  <a:pt x="440" y="692"/>
                </a:lnTo>
                <a:lnTo>
                  <a:pt x="440" y="702"/>
                </a:lnTo>
                <a:lnTo>
                  <a:pt x="439" y="714"/>
                </a:lnTo>
                <a:lnTo>
                  <a:pt x="439" y="725"/>
                </a:lnTo>
                <a:lnTo>
                  <a:pt x="438" y="736"/>
                </a:lnTo>
                <a:lnTo>
                  <a:pt x="438" y="745"/>
                </a:lnTo>
                <a:lnTo>
                  <a:pt x="437" y="755"/>
                </a:lnTo>
                <a:lnTo>
                  <a:pt x="436" y="763"/>
                </a:lnTo>
                <a:lnTo>
                  <a:pt x="433" y="769"/>
                </a:lnTo>
                <a:lnTo>
                  <a:pt x="432" y="775"/>
                </a:lnTo>
                <a:lnTo>
                  <a:pt x="431" y="777"/>
                </a:lnTo>
                <a:lnTo>
                  <a:pt x="398" y="840"/>
                </a:lnTo>
                <a:lnTo>
                  <a:pt x="396" y="841"/>
                </a:lnTo>
                <a:lnTo>
                  <a:pt x="391" y="842"/>
                </a:lnTo>
                <a:lnTo>
                  <a:pt x="385" y="845"/>
                </a:lnTo>
                <a:lnTo>
                  <a:pt x="378" y="850"/>
                </a:lnTo>
                <a:lnTo>
                  <a:pt x="369" y="854"/>
                </a:lnTo>
                <a:lnTo>
                  <a:pt x="360" y="859"/>
                </a:lnTo>
                <a:lnTo>
                  <a:pt x="350" y="864"/>
                </a:lnTo>
                <a:lnTo>
                  <a:pt x="341" y="870"/>
                </a:lnTo>
                <a:lnTo>
                  <a:pt x="331" y="876"/>
                </a:lnTo>
                <a:lnTo>
                  <a:pt x="320" y="881"/>
                </a:lnTo>
                <a:lnTo>
                  <a:pt x="311" y="886"/>
                </a:lnTo>
                <a:lnTo>
                  <a:pt x="303" y="891"/>
                </a:lnTo>
                <a:lnTo>
                  <a:pt x="296" y="895"/>
                </a:lnTo>
                <a:lnTo>
                  <a:pt x="290" y="898"/>
                </a:lnTo>
                <a:lnTo>
                  <a:pt x="284" y="899"/>
                </a:lnTo>
                <a:lnTo>
                  <a:pt x="281" y="901"/>
                </a:lnTo>
                <a:lnTo>
                  <a:pt x="153" y="1382"/>
                </a:lnTo>
                <a:lnTo>
                  <a:pt x="153" y="1386"/>
                </a:lnTo>
                <a:lnTo>
                  <a:pt x="151" y="1395"/>
                </a:lnTo>
                <a:lnTo>
                  <a:pt x="145" y="1407"/>
                </a:lnTo>
                <a:lnTo>
                  <a:pt x="137" y="1422"/>
                </a:lnTo>
                <a:lnTo>
                  <a:pt x="126" y="1439"/>
                </a:lnTo>
                <a:lnTo>
                  <a:pt x="115" y="1459"/>
                </a:lnTo>
                <a:lnTo>
                  <a:pt x="101" y="1480"/>
                </a:lnTo>
                <a:lnTo>
                  <a:pt x="88" y="1499"/>
                </a:lnTo>
                <a:lnTo>
                  <a:pt x="74" y="1521"/>
                </a:lnTo>
                <a:lnTo>
                  <a:pt x="59" y="1540"/>
                </a:lnTo>
                <a:lnTo>
                  <a:pt x="46" y="1559"/>
                </a:lnTo>
                <a:lnTo>
                  <a:pt x="33" y="1576"/>
                </a:lnTo>
                <a:lnTo>
                  <a:pt x="21" y="1589"/>
                </a:lnTo>
                <a:lnTo>
                  <a:pt x="11" y="1601"/>
                </a:lnTo>
                <a:lnTo>
                  <a:pt x="4" y="1607"/>
                </a:lnTo>
                <a:lnTo>
                  <a:pt x="0" y="1611"/>
                </a:lnTo>
                <a:lnTo>
                  <a:pt x="2" y="1612"/>
                </a:lnTo>
                <a:lnTo>
                  <a:pt x="9" y="1613"/>
                </a:lnTo>
                <a:lnTo>
                  <a:pt x="18" y="1615"/>
                </a:lnTo>
                <a:lnTo>
                  <a:pt x="29" y="1617"/>
                </a:lnTo>
                <a:lnTo>
                  <a:pt x="42" y="1619"/>
                </a:lnTo>
                <a:lnTo>
                  <a:pt x="57" y="1622"/>
                </a:lnTo>
                <a:lnTo>
                  <a:pt x="72" y="1624"/>
                </a:lnTo>
                <a:lnTo>
                  <a:pt x="88" y="1626"/>
                </a:lnTo>
                <a:lnTo>
                  <a:pt x="101" y="1628"/>
                </a:lnTo>
                <a:lnTo>
                  <a:pt x="116" y="1630"/>
                </a:lnTo>
                <a:lnTo>
                  <a:pt x="128" y="1631"/>
                </a:lnTo>
                <a:lnTo>
                  <a:pt x="140" y="1632"/>
                </a:lnTo>
                <a:lnTo>
                  <a:pt x="149" y="1634"/>
                </a:lnTo>
                <a:lnTo>
                  <a:pt x="153" y="1634"/>
                </a:lnTo>
                <a:lnTo>
                  <a:pt x="157" y="1632"/>
                </a:lnTo>
                <a:lnTo>
                  <a:pt x="153" y="1631"/>
                </a:lnTo>
                <a:lnTo>
                  <a:pt x="153" y="1629"/>
                </a:lnTo>
                <a:lnTo>
                  <a:pt x="157" y="1624"/>
                </a:lnTo>
                <a:lnTo>
                  <a:pt x="162" y="1616"/>
                </a:lnTo>
                <a:lnTo>
                  <a:pt x="170" y="1605"/>
                </a:lnTo>
                <a:lnTo>
                  <a:pt x="178" y="1594"/>
                </a:lnTo>
                <a:lnTo>
                  <a:pt x="188" y="1580"/>
                </a:lnTo>
                <a:lnTo>
                  <a:pt x="198" y="1566"/>
                </a:lnTo>
                <a:lnTo>
                  <a:pt x="210" y="1551"/>
                </a:lnTo>
                <a:lnTo>
                  <a:pt x="219" y="1536"/>
                </a:lnTo>
                <a:lnTo>
                  <a:pt x="229" y="1521"/>
                </a:lnTo>
                <a:lnTo>
                  <a:pt x="239" y="1507"/>
                </a:lnTo>
                <a:lnTo>
                  <a:pt x="246" y="1495"/>
                </a:lnTo>
                <a:lnTo>
                  <a:pt x="253" y="1484"/>
                </a:lnTo>
                <a:lnTo>
                  <a:pt x="255" y="1474"/>
                </a:lnTo>
                <a:lnTo>
                  <a:pt x="256" y="1469"/>
                </a:lnTo>
                <a:lnTo>
                  <a:pt x="254" y="1464"/>
                </a:lnTo>
              </a:path>
            </a:pathLst>
          </a:custGeom>
          <a:solidFill>
            <a:srgbClr val="5bffff"/>
          </a:solidFill>
          <a:ln cap="rnd" w="1260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1281240" y="5505480"/>
            <a:ext cx="31680" cy="25200"/>
          </a:xfrm>
          <a:custGeom>
            <a:avLst/>
            <a:gdLst/>
            <a:ahLst/>
            <a:rect l="l" t="t" r="r" b="b"/>
            <a:pathLst>
              <a:path w="20" h="18">
                <a:moveTo>
                  <a:pt x="9" y="0"/>
                </a:moveTo>
                <a:lnTo>
                  <a:pt x="12" y="1"/>
                </a:lnTo>
                <a:lnTo>
                  <a:pt x="13" y="1"/>
                </a:lnTo>
                <a:lnTo>
                  <a:pt x="19" y="4"/>
                </a:lnTo>
                <a:lnTo>
                  <a:pt x="19" y="8"/>
                </a:lnTo>
                <a:lnTo>
                  <a:pt x="19" y="10"/>
                </a:lnTo>
                <a:lnTo>
                  <a:pt x="13" y="13"/>
                </a:lnTo>
                <a:lnTo>
                  <a:pt x="12" y="14"/>
                </a:lnTo>
                <a:lnTo>
                  <a:pt x="9" y="17"/>
                </a:lnTo>
                <a:lnTo>
                  <a:pt x="4" y="14"/>
                </a:lnTo>
                <a:lnTo>
                  <a:pt x="1" y="13"/>
                </a:lnTo>
                <a:lnTo>
                  <a:pt x="0" y="10"/>
                </a:lnTo>
                <a:lnTo>
                  <a:pt x="0" y="8"/>
                </a:lnTo>
                <a:lnTo>
                  <a:pt x="0" y="4"/>
                </a:lnTo>
                <a:lnTo>
                  <a:pt x="1" y="1"/>
                </a:lnTo>
                <a:lnTo>
                  <a:pt x="4" y="1"/>
                </a:lnTo>
                <a:lnTo>
                  <a:pt x="9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281240" y="5505480"/>
            <a:ext cx="31680" cy="27000"/>
          </a:xfrm>
          <a:custGeom>
            <a:avLst/>
            <a:gdLst/>
            <a:ahLst/>
            <a:rect l="l" t="t" r="r" b="b"/>
            <a:pathLst>
              <a:path w="20" h="20">
                <a:moveTo>
                  <a:pt x="9" y="0"/>
                </a:moveTo>
                <a:lnTo>
                  <a:pt x="12" y="1"/>
                </a:lnTo>
                <a:lnTo>
                  <a:pt x="14" y="2"/>
                </a:lnTo>
                <a:lnTo>
                  <a:pt x="19" y="5"/>
                </a:lnTo>
                <a:lnTo>
                  <a:pt x="19" y="9"/>
                </a:lnTo>
                <a:lnTo>
                  <a:pt x="19" y="12"/>
                </a:lnTo>
                <a:lnTo>
                  <a:pt x="14" y="15"/>
                </a:lnTo>
                <a:lnTo>
                  <a:pt x="12" y="17"/>
                </a:lnTo>
                <a:lnTo>
                  <a:pt x="9" y="19"/>
                </a:lnTo>
                <a:lnTo>
                  <a:pt x="4" y="17"/>
                </a:lnTo>
                <a:lnTo>
                  <a:pt x="2" y="15"/>
                </a:lnTo>
                <a:lnTo>
                  <a:pt x="0" y="12"/>
                </a:lnTo>
                <a:lnTo>
                  <a:pt x="0" y="9"/>
                </a:lnTo>
                <a:lnTo>
                  <a:pt x="0" y="5"/>
                </a:lnTo>
                <a:lnTo>
                  <a:pt x="2" y="2"/>
                </a:lnTo>
                <a:lnTo>
                  <a:pt x="4" y="1"/>
                </a:lnTo>
                <a:lnTo>
                  <a:pt x="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280040" y="1469880"/>
            <a:ext cx="29880" cy="2556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0"/>
                </a:lnTo>
                <a:lnTo>
                  <a:pt x="19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280040" y="1469880"/>
            <a:ext cx="29880" cy="2556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18"/>
                </a:lnTo>
                <a:lnTo>
                  <a:pt x="19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300560" y="1469880"/>
            <a:ext cx="28440" cy="2556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0"/>
                </a:lnTo>
                <a:lnTo>
                  <a:pt x="19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300560" y="1469880"/>
            <a:ext cx="28440" cy="2556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18"/>
                </a:lnTo>
                <a:lnTo>
                  <a:pt x="19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319640" y="1469880"/>
            <a:ext cx="28440" cy="2556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0"/>
                </a:lnTo>
                <a:lnTo>
                  <a:pt x="19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319640" y="1469880"/>
            <a:ext cx="28440" cy="2556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18"/>
                </a:lnTo>
                <a:lnTo>
                  <a:pt x="19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335480" y="1469880"/>
            <a:ext cx="30240" cy="25560"/>
          </a:xfrm>
          <a:custGeom>
            <a:avLst/>
            <a:gdLst/>
            <a:ahLst/>
            <a:rect l="l" t="t" r="r" b="b"/>
            <a:pathLst>
              <a:path w="19" h="19">
                <a:moveTo>
                  <a:pt x="0" y="0"/>
                </a:moveTo>
                <a:lnTo>
                  <a:pt x="18" y="0"/>
                </a:lnTo>
                <a:lnTo>
                  <a:pt x="18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335480" y="1469880"/>
            <a:ext cx="30240" cy="25560"/>
          </a:xfrm>
          <a:custGeom>
            <a:avLst/>
            <a:gdLst/>
            <a:ahLst/>
            <a:rect l="l" t="t" r="r" b="b"/>
            <a:pathLst>
              <a:path w="19" h="19">
                <a:moveTo>
                  <a:pt x="0" y="0"/>
                </a:moveTo>
                <a:lnTo>
                  <a:pt x="18" y="18"/>
                </a:lnTo>
                <a:lnTo>
                  <a:pt x="18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356000" y="1469880"/>
            <a:ext cx="33480" cy="2556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0"/>
                </a:lnTo>
                <a:lnTo>
                  <a:pt x="19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356000" y="1469880"/>
            <a:ext cx="33480" cy="2556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18"/>
                </a:lnTo>
                <a:lnTo>
                  <a:pt x="19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376880" y="1469880"/>
            <a:ext cx="31680" cy="2556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0"/>
                </a:moveTo>
                <a:lnTo>
                  <a:pt x="20" y="0"/>
                </a:lnTo>
                <a:lnTo>
                  <a:pt x="20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376880" y="1469880"/>
            <a:ext cx="31680" cy="2556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0"/>
                </a:moveTo>
                <a:lnTo>
                  <a:pt x="20" y="18"/>
                </a:lnTo>
                <a:lnTo>
                  <a:pt x="2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394160" y="1469880"/>
            <a:ext cx="31680" cy="2556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0"/>
                </a:moveTo>
                <a:lnTo>
                  <a:pt x="20" y="0"/>
                </a:lnTo>
                <a:lnTo>
                  <a:pt x="20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394160" y="1469880"/>
            <a:ext cx="31680" cy="2556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0"/>
                </a:moveTo>
                <a:lnTo>
                  <a:pt x="20" y="18"/>
                </a:lnTo>
                <a:lnTo>
                  <a:pt x="2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0" name=""/>
          <p:cNvGrpSpPr/>
          <p:nvPr/>
        </p:nvGrpSpPr>
        <p:grpSpPr>
          <a:xfrm>
            <a:off x="4167360" y="1325520"/>
            <a:ext cx="350280" cy="254160"/>
            <a:chOff x="4167360" y="1325520"/>
            <a:chExt cx="350280" cy="254160"/>
          </a:xfrm>
        </p:grpSpPr>
        <p:sp>
          <p:nvSpPr>
            <p:cNvPr id="1981" name=""/>
            <p:cNvSpPr/>
            <p:nvPr/>
          </p:nvSpPr>
          <p:spPr>
            <a:xfrm>
              <a:off x="4382640" y="1325520"/>
              <a:ext cx="30600" cy="244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9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19" y="13"/>
                  </a:lnTo>
                  <a:lnTo>
                    <a:pt x="15" y="13"/>
                  </a:lnTo>
                  <a:lnTo>
                    <a:pt x="12" y="18"/>
                  </a:lnTo>
                  <a:lnTo>
                    <a:pt x="9" y="18"/>
                  </a:lnTo>
                  <a:lnTo>
                    <a:pt x="4" y="18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382640" y="1325520"/>
              <a:ext cx="38520" cy="24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12" y="0"/>
                  </a:moveTo>
                  <a:lnTo>
                    <a:pt x="16" y="1"/>
                  </a:lnTo>
                  <a:lnTo>
                    <a:pt x="20" y="1"/>
                  </a:lnTo>
                  <a:lnTo>
                    <a:pt x="24" y="4"/>
                  </a:lnTo>
                  <a:lnTo>
                    <a:pt x="24" y="9"/>
                  </a:lnTo>
                  <a:lnTo>
                    <a:pt x="24" y="12"/>
                  </a:lnTo>
                  <a:lnTo>
                    <a:pt x="20" y="13"/>
                  </a:lnTo>
                  <a:lnTo>
                    <a:pt x="16" y="15"/>
                  </a:lnTo>
                  <a:lnTo>
                    <a:pt x="12" y="18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4"/>
                  </a:lnTo>
                  <a:lnTo>
                    <a:pt x="3" y="1"/>
                  </a:lnTo>
                  <a:lnTo>
                    <a:pt x="6" y="1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319280" y="1334520"/>
              <a:ext cx="32400" cy="230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8" y="0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319280" y="1334520"/>
              <a:ext cx="40320" cy="230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0" y="0"/>
                  </a:moveTo>
                  <a:lnTo>
                    <a:pt x="16" y="1"/>
                  </a:lnTo>
                  <a:lnTo>
                    <a:pt x="20" y="1"/>
                  </a:lnTo>
                  <a:lnTo>
                    <a:pt x="25" y="5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0" y="14"/>
                  </a:lnTo>
                  <a:lnTo>
                    <a:pt x="16" y="17"/>
                  </a:lnTo>
                  <a:lnTo>
                    <a:pt x="10" y="17"/>
                  </a:lnTo>
                  <a:lnTo>
                    <a:pt x="7" y="17"/>
                  </a:lnTo>
                  <a:lnTo>
                    <a:pt x="3" y="14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1"/>
                  </a:lnTo>
                  <a:lnTo>
                    <a:pt x="7" y="1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257360" y="1341000"/>
              <a:ext cx="29520" cy="244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8" y="5"/>
                  </a:lnTo>
                  <a:lnTo>
                    <a:pt x="18" y="11"/>
                  </a:lnTo>
                  <a:lnTo>
                    <a:pt x="14" y="18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" y="5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4257360" y="1341000"/>
              <a:ext cx="33840" cy="244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0" y="0"/>
                  </a:moveTo>
                  <a:lnTo>
                    <a:pt x="13" y="1"/>
                  </a:lnTo>
                  <a:lnTo>
                    <a:pt x="17" y="1"/>
                  </a:lnTo>
                  <a:lnTo>
                    <a:pt x="21" y="5"/>
                  </a:lnTo>
                  <a:lnTo>
                    <a:pt x="21" y="9"/>
                  </a:lnTo>
                  <a:lnTo>
                    <a:pt x="21" y="13"/>
                  </a:lnTo>
                  <a:lnTo>
                    <a:pt x="17" y="15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3" y="1"/>
                  </a:lnTo>
                  <a:lnTo>
                    <a:pt x="6" y="1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4381200" y="1326960"/>
              <a:ext cx="30600" cy="229320"/>
            </a:xfrm>
            <a:custGeom>
              <a:avLst/>
              <a:gdLst/>
              <a:ahLst/>
              <a:rect l="l" t="t" r="r" b="b"/>
              <a:pathLst>
                <a:path w="20" h="177">
                  <a:moveTo>
                    <a:pt x="0" y="0"/>
                  </a:moveTo>
                  <a:lnTo>
                    <a:pt x="19" y="0"/>
                  </a:lnTo>
                  <a:lnTo>
                    <a:pt x="19" y="176"/>
                  </a:lnTo>
                  <a:lnTo>
                    <a:pt x="0" y="17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381200" y="1326960"/>
              <a:ext cx="37080" cy="237240"/>
            </a:xfrm>
            <a:custGeom>
              <a:avLst/>
              <a:gdLst/>
              <a:ahLst/>
              <a:rect l="l" t="t" r="r" b="b"/>
              <a:pathLst>
                <a:path w="24" h="183">
                  <a:moveTo>
                    <a:pt x="0" y="0"/>
                  </a:moveTo>
                  <a:lnTo>
                    <a:pt x="23" y="0"/>
                  </a:lnTo>
                  <a:lnTo>
                    <a:pt x="23" y="182"/>
                  </a:lnTo>
                  <a:lnTo>
                    <a:pt x="0" y="18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317840" y="1335600"/>
              <a:ext cx="32400" cy="228600"/>
            </a:xfrm>
            <a:custGeom>
              <a:avLst/>
              <a:gdLst/>
              <a:ahLst/>
              <a:rect l="l" t="t" r="r" b="b"/>
              <a:pathLst>
                <a:path w="21" h="176">
                  <a:moveTo>
                    <a:pt x="0" y="0"/>
                  </a:moveTo>
                  <a:lnTo>
                    <a:pt x="20" y="0"/>
                  </a:lnTo>
                  <a:lnTo>
                    <a:pt x="20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317840" y="1335600"/>
              <a:ext cx="40320" cy="237240"/>
            </a:xfrm>
            <a:custGeom>
              <a:avLst/>
              <a:gdLst/>
              <a:ahLst/>
              <a:rect l="l" t="t" r="r" b="b"/>
              <a:pathLst>
                <a:path w="26" h="183">
                  <a:moveTo>
                    <a:pt x="0" y="0"/>
                  </a:moveTo>
                  <a:lnTo>
                    <a:pt x="25" y="0"/>
                  </a:lnTo>
                  <a:lnTo>
                    <a:pt x="25" y="182"/>
                  </a:lnTo>
                  <a:lnTo>
                    <a:pt x="0" y="18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4257360" y="1342440"/>
              <a:ext cx="29520" cy="229320"/>
            </a:xfrm>
            <a:custGeom>
              <a:avLst/>
              <a:gdLst/>
              <a:ahLst/>
              <a:rect l="l" t="t" r="r" b="b"/>
              <a:pathLst>
                <a:path w="19" h="177">
                  <a:moveTo>
                    <a:pt x="0" y="0"/>
                  </a:moveTo>
                  <a:lnTo>
                    <a:pt x="18" y="0"/>
                  </a:lnTo>
                  <a:lnTo>
                    <a:pt x="18" y="176"/>
                  </a:lnTo>
                  <a:lnTo>
                    <a:pt x="0" y="17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257360" y="1342440"/>
              <a:ext cx="33840" cy="236880"/>
            </a:xfrm>
            <a:custGeom>
              <a:avLst/>
              <a:gdLst/>
              <a:ahLst/>
              <a:rect l="l" t="t" r="r" b="b"/>
              <a:pathLst>
                <a:path w="22" h="183">
                  <a:moveTo>
                    <a:pt x="0" y="0"/>
                  </a:moveTo>
                  <a:lnTo>
                    <a:pt x="21" y="0"/>
                  </a:lnTo>
                  <a:lnTo>
                    <a:pt x="21" y="182"/>
                  </a:lnTo>
                  <a:lnTo>
                    <a:pt x="0" y="18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385880" y="1326960"/>
              <a:ext cx="32400" cy="2412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0" y="0"/>
                  </a:moveTo>
                  <a:lnTo>
                    <a:pt x="13" y="0"/>
                  </a:lnTo>
                  <a:lnTo>
                    <a:pt x="16" y="5"/>
                  </a:lnTo>
                  <a:lnTo>
                    <a:pt x="20" y="5"/>
                  </a:lnTo>
                  <a:lnTo>
                    <a:pt x="20" y="11"/>
                  </a:lnTo>
                  <a:lnTo>
                    <a:pt x="16" y="11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4" y="18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5"/>
                  </a:lnTo>
                  <a:lnTo>
                    <a:pt x="4" y="0"/>
                  </a:lnTo>
                  <a:lnTo>
                    <a:pt x="1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320720" y="1335600"/>
              <a:ext cx="3384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0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7" y="5"/>
                  </a:lnTo>
                  <a:lnTo>
                    <a:pt x="21" y="5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1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258800" y="1342440"/>
              <a:ext cx="29520" cy="241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9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18" y="11"/>
                  </a:lnTo>
                  <a:lnTo>
                    <a:pt x="14" y="11"/>
                  </a:lnTo>
                  <a:lnTo>
                    <a:pt x="12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382640" y="1326960"/>
              <a:ext cx="30600" cy="228240"/>
            </a:xfrm>
            <a:custGeom>
              <a:avLst/>
              <a:gdLst/>
              <a:ahLst/>
              <a:rect l="l" t="t" r="r" b="b"/>
              <a:pathLst>
                <a:path w="20" h="176">
                  <a:moveTo>
                    <a:pt x="0" y="0"/>
                  </a:moveTo>
                  <a:lnTo>
                    <a:pt x="19" y="0"/>
                  </a:lnTo>
                  <a:lnTo>
                    <a:pt x="19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317840" y="1335600"/>
              <a:ext cx="32400" cy="226800"/>
            </a:xfrm>
            <a:custGeom>
              <a:avLst/>
              <a:gdLst/>
              <a:ahLst/>
              <a:rect l="l" t="t" r="r" b="b"/>
              <a:pathLst>
                <a:path w="21" h="175">
                  <a:moveTo>
                    <a:pt x="0" y="0"/>
                  </a:moveTo>
                  <a:lnTo>
                    <a:pt x="20" y="0"/>
                  </a:lnTo>
                  <a:lnTo>
                    <a:pt x="20" y="174"/>
                  </a:lnTo>
                  <a:lnTo>
                    <a:pt x="0" y="174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257360" y="1342440"/>
              <a:ext cx="29520" cy="22824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8" y="0"/>
                  </a:lnTo>
                  <a:lnTo>
                    <a:pt x="18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389120" y="1331640"/>
              <a:ext cx="3384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9" y="17"/>
                  </a:moveTo>
                  <a:lnTo>
                    <a:pt x="15" y="17"/>
                  </a:lnTo>
                  <a:lnTo>
                    <a:pt x="21" y="17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9" y="17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325400" y="1339920"/>
              <a:ext cx="33840" cy="230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9" y="17"/>
                  </a:moveTo>
                  <a:lnTo>
                    <a:pt x="15" y="17"/>
                  </a:lnTo>
                  <a:lnTo>
                    <a:pt x="21" y="17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9" y="17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263480" y="1353960"/>
              <a:ext cx="30600" cy="144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9" y="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385880" y="1326960"/>
              <a:ext cx="32400" cy="228240"/>
            </a:xfrm>
            <a:custGeom>
              <a:avLst/>
              <a:gdLst/>
              <a:ahLst/>
              <a:rect l="l" t="t" r="r" b="b"/>
              <a:pathLst>
                <a:path w="21" h="176">
                  <a:moveTo>
                    <a:pt x="0" y="0"/>
                  </a:moveTo>
                  <a:lnTo>
                    <a:pt x="20" y="0"/>
                  </a:lnTo>
                  <a:lnTo>
                    <a:pt x="20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320720" y="1335600"/>
              <a:ext cx="33840" cy="226800"/>
            </a:xfrm>
            <a:custGeom>
              <a:avLst/>
              <a:gdLst/>
              <a:ahLst/>
              <a:rect l="l" t="t" r="r" b="b"/>
              <a:pathLst>
                <a:path w="22" h="175">
                  <a:moveTo>
                    <a:pt x="0" y="0"/>
                  </a:moveTo>
                  <a:lnTo>
                    <a:pt x="21" y="0"/>
                  </a:lnTo>
                  <a:lnTo>
                    <a:pt x="21" y="174"/>
                  </a:lnTo>
                  <a:lnTo>
                    <a:pt x="0" y="174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258800" y="1342440"/>
              <a:ext cx="29520" cy="22824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8" y="0"/>
                  </a:lnTo>
                  <a:lnTo>
                    <a:pt x="18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424760" y="1542240"/>
              <a:ext cx="40320" cy="2412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4"/>
                  </a:moveTo>
                  <a:lnTo>
                    <a:pt x="6" y="4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1" y="4"/>
                  </a:lnTo>
                  <a:lnTo>
                    <a:pt x="15" y="4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0" y="5"/>
                  </a:lnTo>
                  <a:lnTo>
                    <a:pt x="25" y="7"/>
                  </a:lnTo>
                  <a:lnTo>
                    <a:pt x="25" y="18"/>
                  </a:lnTo>
                  <a:lnTo>
                    <a:pt x="0" y="18"/>
                  </a:lnTo>
                  <a:lnTo>
                    <a:pt x="0" y="4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424760" y="1542240"/>
              <a:ext cx="49320" cy="255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4"/>
                  </a:moveTo>
                  <a:lnTo>
                    <a:pt x="8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9" y="5"/>
                  </a:lnTo>
                  <a:lnTo>
                    <a:pt x="19" y="2"/>
                  </a:lnTo>
                  <a:lnTo>
                    <a:pt x="25" y="2"/>
                  </a:lnTo>
                  <a:lnTo>
                    <a:pt x="25" y="6"/>
                  </a:lnTo>
                  <a:lnTo>
                    <a:pt x="31" y="7"/>
                  </a:lnTo>
                  <a:lnTo>
                    <a:pt x="31" y="19"/>
                  </a:lnTo>
                  <a:lnTo>
                    <a:pt x="0" y="19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390560" y="1500840"/>
              <a:ext cx="33840" cy="63360"/>
            </a:xfrm>
            <a:custGeom>
              <a:avLst/>
              <a:gdLst/>
              <a:ahLst/>
              <a:rect l="l" t="t" r="r" b="b"/>
              <a:pathLst>
                <a:path w="22" h="49">
                  <a:moveTo>
                    <a:pt x="0" y="0"/>
                  </a:moveTo>
                  <a:lnTo>
                    <a:pt x="5" y="4"/>
                  </a:lnTo>
                  <a:lnTo>
                    <a:pt x="5" y="10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21" y="10"/>
                  </a:lnTo>
                  <a:lnTo>
                    <a:pt x="21" y="43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390560" y="1500840"/>
              <a:ext cx="41760" cy="72360"/>
            </a:xfrm>
            <a:custGeom>
              <a:avLst/>
              <a:gdLst/>
              <a:ahLst/>
              <a:rect l="l" t="t" r="r" b="b"/>
              <a:pathLst>
                <a:path w="27" h="56">
                  <a:moveTo>
                    <a:pt x="0" y="0"/>
                  </a:moveTo>
                  <a:lnTo>
                    <a:pt x="8" y="4"/>
                  </a:lnTo>
                  <a:lnTo>
                    <a:pt x="8" y="11"/>
                  </a:lnTo>
                  <a:lnTo>
                    <a:pt x="19" y="14"/>
                  </a:lnTo>
                  <a:lnTo>
                    <a:pt x="19" y="10"/>
                  </a:lnTo>
                  <a:lnTo>
                    <a:pt x="26" y="11"/>
                  </a:lnTo>
                  <a:lnTo>
                    <a:pt x="26" y="50"/>
                  </a:lnTo>
                  <a:lnTo>
                    <a:pt x="0" y="5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390560" y="1523880"/>
              <a:ext cx="33840" cy="38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0"/>
                  </a:moveTo>
                  <a:lnTo>
                    <a:pt x="21" y="4"/>
                  </a:lnTo>
                  <a:lnTo>
                    <a:pt x="21" y="27"/>
                  </a:lnTo>
                  <a:lnTo>
                    <a:pt x="15" y="29"/>
                  </a:lnTo>
                  <a:lnTo>
                    <a:pt x="15" y="5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390560" y="1523880"/>
              <a:ext cx="33840" cy="478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0"/>
                  </a:moveTo>
                  <a:lnTo>
                    <a:pt x="21" y="5"/>
                  </a:lnTo>
                  <a:lnTo>
                    <a:pt x="21" y="34"/>
                  </a:lnTo>
                  <a:lnTo>
                    <a:pt x="14" y="36"/>
                  </a:lnTo>
                  <a:lnTo>
                    <a:pt x="14" y="6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204440" y="1457640"/>
              <a:ext cx="147240" cy="111240"/>
            </a:xfrm>
            <a:custGeom>
              <a:avLst/>
              <a:gdLst/>
              <a:ahLst/>
              <a:rect l="l" t="t" r="r" b="b"/>
              <a:pathLst>
                <a:path w="95" h="86">
                  <a:moveTo>
                    <a:pt x="0" y="18"/>
                  </a:moveTo>
                  <a:lnTo>
                    <a:pt x="94" y="0"/>
                  </a:lnTo>
                  <a:lnTo>
                    <a:pt x="94" y="85"/>
                  </a:lnTo>
                  <a:lnTo>
                    <a:pt x="0" y="85"/>
                  </a:lnTo>
                  <a:lnTo>
                    <a:pt x="0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204440" y="1457640"/>
              <a:ext cx="159480" cy="119160"/>
            </a:xfrm>
            <a:custGeom>
              <a:avLst/>
              <a:gdLst/>
              <a:ahLst/>
              <a:rect l="l" t="t" r="r" b="b"/>
              <a:pathLst>
                <a:path w="103" h="92">
                  <a:moveTo>
                    <a:pt x="0" y="19"/>
                  </a:moveTo>
                  <a:lnTo>
                    <a:pt x="102" y="0"/>
                  </a:lnTo>
                  <a:lnTo>
                    <a:pt x="102" y="91"/>
                  </a:lnTo>
                  <a:lnTo>
                    <a:pt x="0" y="91"/>
                  </a:lnTo>
                  <a:lnTo>
                    <a:pt x="0" y="1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361400" y="1457640"/>
              <a:ext cx="32040" cy="110160"/>
            </a:xfrm>
            <a:custGeom>
              <a:avLst/>
              <a:gdLst/>
              <a:ahLst/>
              <a:rect l="l" t="t" r="r" b="b"/>
              <a:pathLst>
                <a:path w="21" h="85">
                  <a:moveTo>
                    <a:pt x="12" y="0"/>
                  </a:moveTo>
                  <a:lnTo>
                    <a:pt x="12" y="4"/>
                  </a:lnTo>
                  <a:lnTo>
                    <a:pt x="0" y="0"/>
                  </a:lnTo>
                  <a:lnTo>
                    <a:pt x="0" y="84"/>
                  </a:lnTo>
                  <a:lnTo>
                    <a:pt x="12" y="81"/>
                  </a:lnTo>
                  <a:lnTo>
                    <a:pt x="12" y="17"/>
                  </a:lnTo>
                  <a:lnTo>
                    <a:pt x="20" y="19"/>
                  </a:lnTo>
                  <a:lnTo>
                    <a:pt x="20" y="3"/>
                  </a:lnTo>
                  <a:lnTo>
                    <a:pt x="12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361400" y="1457640"/>
              <a:ext cx="43200" cy="11772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17" y="0"/>
                  </a:moveTo>
                  <a:lnTo>
                    <a:pt x="17" y="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17" y="87"/>
                  </a:lnTo>
                  <a:lnTo>
                    <a:pt x="17" y="18"/>
                  </a:lnTo>
                  <a:lnTo>
                    <a:pt x="27" y="20"/>
                  </a:lnTo>
                  <a:lnTo>
                    <a:pt x="27" y="3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275720" y="1465560"/>
              <a:ext cx="30600" cy="6228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9" y="0"/>
                  </a:moveTo>
                  <a:lnTo>
                    <a:pt x="19" y="45"/>
                  </a:lnTo>
                  <a:lnTo>
                    <a:pt x="0" y="47"/>
                  </a:lnTo>
                  <a:lnTo>
                    <a:pt x="0" y="3"/>
                  </a:lnTo>
                  <a:lnTo>
                    <a:pt x="19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75720" y="1465560"/>
              <a:ext cx="30600" cy="71280"/>
            </a:xfrm>
            <a:custGeom>
              <a:avLst/>
              <a:gdLst/>
              <a:ahLst/>
              <a:rect l="l" t="t" r="r" b="b"/>
              <a:pathLst>
                <a:path w="20" h="55">
                  <a:moveTo>
                    <a:pt x="19" y="0"/>
                  </a:moveTo>
                  <a:lnTo>
                    <a:pt x="19" y="52"/>
                  </a:lnTo>
                  <a:lnTo>
                    <a:pt x="0" y="54"/>
                  </a:lnTo>
                  <a:lnTo>
                    <a:pt x="0" y="3"/>
                  </a:lnTo>
                  <a:lnTo>
                    <a:pt x="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275720" y="1535760"/>
              <a:ext cx="30600" cy="230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2" y="0"/>
                  </a:lnTo>
                  <a:lnTo>
                    <a:pt x="19" y="17"/>
                  </a:lnTo>
                  <a:lnTo>
                    <a:pt x="5" y="1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275720" y="1535760"/>
              <a:ext cx="32400" cy="230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14" y="0"/>
                  </a:lnTo>
                  <a:lnTo>
                    <a:pt x="20" y="17"/>
                  </a:lnTo>
                  <a:lnTo>
                    <a:pt x="6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297680" y="1465560"/>
              <a:ext cx="1080" cy="78840"/>
            </a:xfrm>
            <a:custGeom>
              <a:avLst/>
              <a:gdLst/>
              <a:ahLst/>
              <a:rect l="l" t="t" r="r" b="b"/>
              <a:pathLst>
                <a:path w="1" h="61">
                  <a:moveTo>
                    <a:pt x="0" y="0"/>
                  </a:moveTo>
                  <a:lnTo>
                    <a:pt x="0" y="1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297680" y="1465560"/>
              <a:ext cx="32040" cy="88200"/>
            </a:xfrm>
            <a:custGeom>
              <a:avLst/>
              <a:gdLst/>
              <a:ahLst/>
              <a:rect l="l" t="t" r="r" b="b"/>
              <a:pathLst>
                <a:path w="21" h="68">
                  <a:moveTo>
                    <a:pt x="0" y="0"/>
                  </a:moveTo>
                  <a:lnTo>
                    <a:pt x="20" y="1"/>
                  </a:lnTo>
                  <a:lnTo>
                    <a:pt x="20" y="6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241880" y="1474560"/>
              <a:ext cx="32400" cy="69840"/>
            </a:xfrm>
            <a:custGeom>
              <a:avLst/>
              <a:gdLst/>
              <a:ahLst/>
              <a:rect l="l" t="t" r="r" b="b"/>
              <a:pathLst>
                <a:path w="21" h="54">
                  <a:moveTo>
                    <a:pt x="0" y="0"/>
                  </a:moveTo>
                  <a:lnTo>
                    <a:pt x="0" y="41"/>
                  </a:lnTo>
                  <a:lnTo>
                    <a:pt x="20" y="5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241880" y="1474560"/>
              <a:ext cx="32400" cy="7884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0" y="0"/>
                  </a:moveTo>
                  <a:lnTo>
                    <a:pt x="0" y="46"/>
                  </a:lnTo>
                  <a:lnTo>
                    <a:pt x="20" y="60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221720" y="1474560"/>
              <a:ext cx="30600" cy="5580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2"/>
                  </a:moveTo>
                  <a:lnTo>
                    <a:pt x="19" y="0"/>
                  </a:lnTo>
                  <a:lnTo>
                    <a:pt x="19" y="40"/>
                  </a:lnTo>
                  <a:lnTo>
                    <a:pt x="0" y="42"/>
                  </a:lnTo>
                  <a:lnTo>
                    <a:pt x="0" y="2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221720" y="1474560"/>
              <a:ext cx="30600" cy="64800"/>
            </a:xfrm>
            <a:custGeom>
              <a:avLst/>
              <a:gdLst/>
              <a:ahLst/>
              <a:rect l="l" t="t" r="r" b="b"/>
              <a:pathLst>
                <a:path w="20" h="50">
                  <a:moveTo>
                    <a:pt x="0" y="2"/>
                  </a:moveTo>
                  <a:lnTo>
                    <a:pt x="19" y="0"/>
                  </a:lnTo>
                  <a:lnTo>
                    <a:pt x="19" y="47"/>
                  </a:lnTo>
                  <a:lnTo>
                    <a:pt x="0" y="49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219920" y="1535760"/>
              <a:ext cx="30600" cy="230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2"/>
                  </a:moveTo>
                  <a:lnTo>
                    <a:pt x="11" y="0"/>
                  </a:lnTo>
                  <a:lnTo>
                    <a:pt x="19" y="17"/>
                  </a:lnTo>
                  <a:lnTo>
                    <a:pt x="5" y="17"/>
                  </a:lnTo>
                  <a:lnTo>
                    <a:pt x="0" y="2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4219920" y="1535760"/>
              <a:ext cx="40320" cy="230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8" y="17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4322160" y="1503000"/>
              <a:ext cx="35640" cy="23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12" y="0"/>
                  </a:lnTo>
                  <a:lnTo>
                    <a:pt x="22" y="17"/>
                  </a:lnTo>
                  <a:lnTo>
                    <a:pt x="7" y="1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322160" y="1503000"/>
              <a:ext cx="40320" cy="244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0"/>
                  </a:moveTo>
                  <a:lnTo>
                    <a:pt x="15" y="0"/>
                  </a:lnTo>
                  <a:lnTo>
                    <a:pt x="25" y="18"/>
                  </a:lnTo>
                  <a:lnTo>
                    <a:pt x="8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322160" y="1457640"/>
              <a:ext cx="35640" cy="4140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0" y="31"/>
                  </a:moveTo>
                  <a:lnTo>
                    <a:pt x="22" y="28"/>
                  </a:lnTo>
                  <a:lnTo>
                    <a:pt x="22" y="0"/>
                  </a:lnTo>
                  <a:lnTo>
                    <a:pt x="0" y="2"/>
                  </a:lnTo>
                  <a:lnTo>
                    <a:pt x="0" y="31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322160" y="1457640"/>
              <a:ext cx="35640" cy="4932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0" y="37"/>
                  </a:moveTo>
                  <a:lnTo>
                    <a:pt x="22" y="34"/>
                  </a:lnTo>
                  <a:lnTo>
                    <a:pt x="22" y="0"/>
                  </a:lnTo>
                  <a:lnTo>
                    <a:pt x="0" y="2"/>
                  </a:lnTo>
                  <a:lnTo>
                    <a:pt x="0" y="3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347360" y="1457640"/>
              <a:ext cx="1080" cy="63360"/>
            </a:xfrm>
            <a:custGeom>
              <a:avLst/>
              <a:gdLst/>
              <a:ahLst/>
              <a:rect l="l" t="t" r="r" b="b"/>
              <a:pathLst>
                <a:path w="1" h="49">
                  <a:moveTo>
                    <a:pt x="0" y="0"/>
                  </a:moveTo>
                  <a:lnTo>
                    <a:pt x="0" y="30"/>
                  </a:lnTo>
                  <a:lnTo>
                    <a:pt x="0" y="48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347360" y="1457640"/>
              <a:ext cx="32040" cy="712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0"/>
                  </a:moveTo>
                  <a:lnTo>
                    <a:pt x="0" y="34"/>
                  </a:lnTo>
                  <a:lnTo>
                    <a:pt x="20" y="54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268160" y="1470600"/>
              <a:ext cx="33840" cy="309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1"/>
                  </a:moveTo>
                  <a:lnTo>
                    <a:pt x="21" y="0"/>
                  </a:lnTo>
                  <a:lnTo>
                    <a:pt x="21" y="23"/>
                  </a:lnTo>
                  <a:lnTo>
                    <a:pt x="0" y="23"/>
                  </a:lnTo>
                  <a:lnTo>
                    <a:pt x="0" y="1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268160" y="1470600"/>
              <a:ext cx="33840" cy="38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1"/>
                  </a:moveTo>
                  <a:lnTo>
                    <a:pt x="21" y="0"/>
                  </a:lnTo>
                  <a:lnTo>
                    <a:pt x="21" y="29"/>
                  </a:lnTo>
                  <a:lnTo>
                    <a:pt x="0" y="29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268160" y="1508400"/>
              <a:ext cx="33840" cy="244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9" y="0"/>
                  </a:lnTo>
                  <a:lnTo>
                    <a:pt x="21" y="18"/>
                  </a:lnTo>
                  <a:lnTo>
                    <a:pt x="9" y="1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268160" y="1508400"/>
              <a:ext cx="33840" cy="244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9" y="0"/>
                  </a:lnTo>
                  <a:lnTo>
                    <a:pt x="21" y="18"/>
                  </a:lnTo>
                  <a:lnTo>
                    <a:pt x="9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282200" y="1470600"/>
              <a:ext cx="30600" cy="51480"/>
            </a:xfrm>
            <a:custGeom>
              <a:avLst/>
              <a:gdLst/>
              <a:ahLst/>
              <a:rect l="l" t="t" r="r" b="b"/>
              <a:pathLst>
                <a:path w="20" h="40">
                  <a:moveTo>
                    <a:pt x="19" y="39"/>
                  </a:moveTo>
                  <a:lnTo>
                    <a:pt x="19" y="2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9" y="39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282200" y="1470600"/>
              <a:ext cx="30600" cy="5940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9" y="45"/>
                  </a:moveTo>
                  <a:lnTo>
                    <a:pt x="19" y="2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9" y="4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215240" y="1510920"/>
              <a:ext cx="32400" cy="244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7" y="18"/>
                  </a:moveTo>
                  <a:lnTo>
                    <a:pt x="20" y="18"/>
                  </a:lnTo>
                  <a:lnTo>
                    <a:pt x="10" y="0"/>
                  </a:lnTo>
                  <a:lnTo>
                    <a:pt x="0" y="0"/>
                  </a:lnTo>
                  <a:lnTo>
                    <a:pt x="7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4215240" y="1510920"/>
              <a:ext cx="32400" cy="244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8" y="18"/>
                  </a:moveTo>
                  <a:lnTo>
                    <a:pt x="20" y="18"/>
                  </a:lnTo>
                  <a:lnTo>
                    <a:pt x="10" y="0"/>
                  </a:lnTo>
                  <a:lnTo>
                    <a:pt x="0" y="0"/>
                  </a:lnTo>
                  <a:lnTo>
                    <a:pt x="8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215240" y="1486440"/>
              <a:ext cx="32400" cy="230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7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"/>
                  </a:lnTo>
                  <a:lnTo>
                    <a:pt x="0" y="17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215240" y="1486440"/>
              <a:ext cx="32400" cy="255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9"/>
                  </a:moveTo>
                  <a:lnTo>
                    <a:pt x="16" y="19"/>
                  </a:lnTo>
                  <a:lnTo>
                    <a:pt x="20" y="0"/>
                  </a:lnTo>
                  <a:lnTo>
                    <a:pt x="0" y="1"/>
                  </a:lnTo>
                  <a:lnTo>
                    <a:pt x="0" y="1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229280" y="1486440"/>
              <a:ext cx="1080" cy="37440"/>
            </a:xfrm>
            <a:custGeom>
              <a:avLst/>
              <a:gdLst/>
              <a:ahLst/>
              <a:rect l="l" t="t" r="r" b="b"/>
              <a:pathLst>
                <a:path w="1" h="29">
                  <a:moveTo>
                    <a:pt x="0" y="0"/>
                  </a:moveTo>
                  <a:lnTo>
                    <a:pt x="0" y="16"/>
                  </a:lnTo>
                  <a:lnTo>
                    <a:pt x="0" y="2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229280" y="1486440"/>
              <a:ext cx="33840" cy="464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0"/>
                  </a:moveTo>
                  <a:lnTo>
                    <a:pt x="0" y="19"/>
                  </a:lnTo>
                  <a:lnTo>
                    <a:pt x="21" y="35"/>
                  </a:lnTo>
                  <a:lnTo>
                    <a:pt x="16" y="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167360" y="1507320"/>
              <a:ext cx="59040" cy="60840"/>
            </a:xfrm>
            <a:custGeom>
              <a:avLst/>
              <a:gdLst/>
              <a:ahLst/>
              <a:rect l="l" t="t" r="r" b="b"/>
              <a:pathLst>
                <a:path w="38" h="47">
                  <a:moveTo>
                    <a:pt x="0" y="46"/>
                  </a:moveTo>
                  <a:lnTo>
                    <a:pt x="37" y="46"/>
                  </a:lnTo>
                  <a:lnTo>
                    <a:pt x="37" y="0"/>
                  </a:lnTo>
                  <a:lnTo>
                    <a:pt x="14" y="1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46"/>
                  </a:lnTo>
                </a:path>
              </a:pathLst>
            </a:custGeom>
            <a:solidFill>
              <a:srgbClr val="604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167360" y="1507320"/>
              <a:ext cx="69840" cy="6840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0" y="52"/>
                  </a:moveTo>
                  <a:lnTo>
                    <a:pt x="44" y="52"/>
                  </a:lnTo>
                  <a:lnTo>
                    <a:pt x="44" y="0"/>
                  </a:lnTo>
                  <a:lnTo>
                    <a:pt x="16" y="1"/>
                  </a:lnTo>
                  <a:lnTo>
                    <a:pt x="16" y="37"/>
                  </a:lnTo>
                  <a:lnTo>
                    <a:pt x="0" y="41"/>
                  </a:lnTo>
                  <a:lnTo>
                    <a:pt x="0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452840" y="1531440"/>
              <a:ext cx="1080" cy="3096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0" y="4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23"/>
                  </a:lnTo>
                  <a:lnTo>
                    <a:pt x="0" y="4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452840" y="1531440"/>
              <a:ext cx="30600" cy="3996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0" y="5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249440" y="156168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306680" y="156168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268160" y="156168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286880" y="156168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229280" y="156168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207680" y="156168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4170240" y="1555200"/>
              <a:ext cx="172080" cy="23040"/>
            </a:xfrm>
            <a:custGeom>
              <a:avLst/>
              <a:gdLst/>
              <a:ahLst/>
              <a:rect l="l" t="t" r="r" b="b"/>
              <a:pathLst>
                <a:path w="111" h="18">
                  <a:moveTo>
                    <a:pt x="0" y="12"/>
                  </a:moveTo>
                  <a:lnTo>
                    <a:pt x="5" y="0"/>
                  </a:lnTo>
                  <a:lnTo>
                    <a:pt x="107" y="0"/>
                  </a:lnTo>
                  <a:lnTo>
                    <a:pt x="11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416840" y="1524960"/>
              <a:ext cx="30600" cy="4536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0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9" y="2"/>
                  </a:lnTo>
                  <a:lnTo>
                    <a:pt x="9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34"/>
                  </a:lnTo>
                  <a:lnTo>
                    <a:pt x="0" y="5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4416840" y="1524960"/>
              <a:ext cx="30600" cy="5292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6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479120" y="1537920"/>
              <a:ext cx="3060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3"/>
                  </a:moveTo>
                  <a:lnTo>
                    <a:pt x="1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17"/>
                  </a:lnTo>
                  <a:lnTo>
                    <a:pt x="19" y="17"/>
                  </a:lnTo>
                  <a:lnTo>
                    <a:pt x="19" y="3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4482000" y="1537920"/>
              <a:ext cx="35640" cy="2844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4"/>
                  </a:moveTo>
                  <a:lnTo>
                    <a:pt x="0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4378320" y="1550880"/>
              <a:ext cx="3060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378320" y="1543320"/>
              <a:ext cx="30600" cy="244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8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378320" y="1543320"/>
              <a:ext cx="30600" cy="244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378320" y="1535760"/>
              <a:ext cx="30600" cy="230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378320" y="1535760"/>
              <a:ext cx="30600" cy="230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378320" y="1527840"/>
              <a:ext cx="30600" cy="244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8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378320" y="1526760"/>
              <a:ext cx="30600" cy="241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195440" y="1490040"/>
              <a:ext cx="136440" cy="234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87" y="0"/>
                  </a:moveTo>
                  <a:lnTo>
                    <a:pt x="87" y="9"/>
                  </a:lnTo>
                  <a:lnTo>
                    <a:pt x="1" y="17"/>
                  </a:lnTo>
                  <a:lnTo>
                    <a:pt x="0" y="9"/>
                  </a:lnTo>
                  <a:lnTo>
                    <a:pt x="87" y="0"/>
                  </a:lnTo>
                </a:path>
              </a:pathLst>
            </a:custGeom>
            <a:solidFill>
              <a:srgbClr val="a08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195440" y="1490040"/>
              <a:ext cx="148680" cy="23400"/>
            </a:xfrm>
            <a:custGeom>
              <a:avLst/>
              <a:gdLst/>
              <a:ahLst/>
              <a:rect l="l" t="t" r="r" b="b"/>
              <a:pathLst>
                <a:path w="96" h="18">
                  <a:moveTo>
                    <a:pt x="95" y="0"/>
                  </a:moveTo>
                  <a:lnTo>
                    <a:pt x="95" y="9"/>
                  </a:lnTo>
                  <a:lnTo>
                    <a:pt x="1" y="17"/>
                  </a:lnTo>
                  <a:lnTo>
                    <a:pt x="0" y="9"/>
                  </a:lnTo>
                  <a:lnTo>
                    <a:pt x="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252680" y="1470600"/>
              <a:ext cx="32040" cy="255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0" y="0"/>
                  </a:moveTo>
                  <a:lnTo>
                    <a:pt x="20" y="3"/>
                  </a:lnTo>
                  <a:lnTo>
                    <a:pt x="20" y="8"/>
                  </a:lnTo>
                  <a:lnTo>
                    <a:pt x="10" y="8"/>
                  </a:lnTo>
                  <a:lnTo>
                    <a:pt x="5" y="17"/>
                  </a:lnTo>
                  <a:lnTo>
                    <a:pt x="0" y="19"/>
                  </a:lnTo>
                  <a:lnTo>
                    <a:pt x="1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252680" y="1470600"/>
              <a:ext cx="32040" cy="3492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0" y="0"/>
                  </a:moveTo>
                  <a:lnTo>
                    <a:pt x="20" y="4"/>
                  </a:lnTo>
                  <a:lnTo>
                    <a:pt x="20" y="11"/>
                  </a:lnTo>
                  <a:lnTo>
                    <a:pt x="10" y="11"/>
                  </a:lnTo>
                  <a:lnTo>
                    <a:pt x="5" y="24"/>
                  </a:lnTo>
                  <a:lnTo>
                    <a:pt x="0" y="26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241880" y="1470600"/>
              <a:ext cx="32400" cy="255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9" y="2"/>
                  </a:moveTo>
                  <a:lnTo>
                    <a:pt x="20" y="0"/>
                  </a:lnTo>
                  <a:lnTo>
                    <a:pt x="9" y="17"/>
                  </a:lnTo>
                  <a:lnTo>
                    <a:pt x="0" y="19"/>
                  </a:lnTo>
                  <a:lnTo>
                    <a:pt x="9" y="2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4241880" y="1470600"/>
              <a:ext cx="32400" cy="3492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9" y="2"/>
                  </a:moveTo>
                  <a:lnTo>
                    <a:pt x="20" y="0"/>
                  </a:lnTo>
                  <a:lnTo>
                    <a:pt x="9" y="24"/>
                  </a:lnTo>
                  <a:lnTo>
                    <a:pt x="0" y="26"/>
                  </a:lnTo>
                  <a:lnTo>
                    <a:pt x="9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4300920" y="1459080"/>
              <a:ext cx="30600" cy="334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9" y="2"/>
                  </a:moveTo>
                  <a:lnTo>
                    <a:pt x="19" y="0"/>
                  </a:lnTo>
                  <a:lnTo>
                    <a:pt x="9" y="23"/>
                  </a:lnTo>
                  <a:lnTo>
                    <a:pt x="0" y="25"/>
                  </a:lnTo>
                  <a:lnTo>
                    <a:pt x="9" y="2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4300920" y="1459080"/>
              <a:ext cx="33840" cy="4284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0" y="2"/>
                  </a:moveTo>
                  <a:lnTo>
                    <a:pt x="21" y="0"/>
                  </a:lnTo>
                  <a:lnTo>
                    <a:pt x="10" y="30"/>
                  </a:lnTo>
                  <a:lnTo>
                    <a:pt x="0" y="32"/>
                  </a:lnTo>
                  <a:lnTo>
                    <a:pt x="1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316400" y="1460520"/>
              <a:ext cx="32040" cy="309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9" y="0"/>
                  </a:moveTo>
                  <a:lnTo>
                    <a:pt x="0" y="23"/>
                  </a:lnTo>
                  <a:lnTo>
                    <a:pt x="3" y="20"/>
                  </a:lnTo>
                  <a:lnTo>
                    <a:pt x="9" y="10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4316400" y="1460520"/>
              <a:ext cx="32040" cy="3996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9" y="0"/>
                  </a:moveTo>
                  <a:lnTo>
                    <a:pt x="0" y="30"/>
                  </a:lnTo>
                  <a:lnTo>
                    <a:pt x="4" y="26"/>
                  </a:lnTo>
                  <a:lnTo>
                    <a:pt x="9" y="14"/>
                  </a:lnTo>
                  <a:lnTo>
                    <a:pt x="20" y="13"/>
                  </a:lnTo>
                  <a:lnTo>
                    <a:pt x="20" y="5"/>
                  </a:lnTo>
                  <a:lnTo>
                    <a:pt x="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4201200" y="1510920"/>
              <a:ext cx="41760" cy="2448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0" y="11"/>
                  </a:moveTo>
                  <a:lnTo>
                    <a:pt x="22" y="18"/>
                  </a:lnTo>
                  <a:lnTo>
                    <a:pt x="26" y="5"/>
                  </a:lnTo>
                  <a:lnTo>
                    <a:pt x="2" y="0"/>
                  </a:lnTo>
                  <a:lnTo>
                    <a:pt x="0" y="11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201200" y="1515960"/>
              <a:ext cx="52560" cy="2340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5"/>
                  </a:moveTo>
                  <a:lnTo>
                    <a:pt x="29" y="0"/>
                  </a:lnTo>
                  <a:lnTo>
                    <a:pt x="33" y="10"/>
                  </a:lnTo>
                  <a:lnTo>
                    <a:pt x="2" y="17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195440" y="1517400"/>
              <a:ext cx="30600" cy="5292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19" y="40"/>
                  </a:moveTo>
                  <a:lnTo>
                    <a:pt x="19" y="0"/>
                  </a:lnTo>
                  <a:lnTo>
                    <a:pt x="0" y="2"/>
                  </a:lnTo>
                  <a:lnTo>
                    <a:pt x="0" y="40"/>
                  </a:lnTo>
                  <a:lnTo>
                    <a:pt x="19" y="40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199760" y="1517400"/>
              <a:ext cx="30600" cy="6084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0" y="46"/>
                  </a:moveTo>
                  <a:lnTo>
                    <a:pt x="0" y="0"/>
                  </a:lnTo>
                  <a:lnTo>
                    <a:pt x="19" y="2"/>
                  </a:lnTo>
                  <a:lnTo>
                    <a:pt x="19" y="46"/>
                  </a:lnTo>
                  <a:lnTo>
                    <a:pt x="0" y="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240440" y="1515960"/>
              <a:ext cx="30600" cy="5580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19" y="42"/>
                  </a:moveTo>
                  <a:lnTo>
                    <a:pt x="19" y="0"/>
                  </a:lnTo>
                  <a:lnTo>
                    <a:pt x="0" y="2"/>
                  </a:lnTo>
                  <a:lnTo>
                    <a:pt x="0" y="42"/>
                  </a:lnTo>
                  <a:lnTo>
                    <a:pt x="19" y="42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248000" y="1515960"/>
              <a:ext cx="32040" cy="6336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0" y="48"/>
                  </a:moveTo>
                  <a:lnTo>
                    <a:pt x="0" y="0"/>
                  </a:lnTo>
                  <a:lnTo>
                    <a:pt x="20" y="2"/>
                  </a:lnTo>
                  <a:lnTo>
                    <a:pt x="20" y="48"/>
                  </a:lnTo>
                  <a:lnTo>
                    <a:pt x="0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248000" y="1509480"/>
              <a:ext cx="55440" cy="244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9"/>
                  </a:moveTo>
                  <a:lnTo>
                    <a:pt x="30" y="18"/>
                  </a:lnTo>
                  <a:lnTo>
                    <a:pt x="35" y="0"/>
                  </a:lnTo>
                  <a:lnTo>
                    <a:pt x="2" y="0"/>
                  </a:lnTo>
                  <a:lnTo>
                    <a:pt x="0" y="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248000" y="1512360"/>
              <a:ext cx="64800" cy="2448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9"/>
                  </a:moveTo>
                  <a:lnTo>
                    <a:pt x="35" y="0"/>
                  </a:lnTo>
                  <a:lnTo>
                    <a:pt x="41" y="13"/>
                  </a:lnTo>
                  <a:lnTo>
                    <a:pt x="3" y="18"/>
                  </a:lnTo>
                  <a:lnTo>
                    <a:pt x="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300920" y="1512360"/>
              <a:ext cx="30600" cy="5940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9" y="45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0" y="45"/>
                  </a:lnTo>
                  <a:lnTo>
                    <a:pt x="19" y="45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4305240" y="1512360"/>
              <a:ext cx="33840" cy="6732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51"/>
                  </a:moveTo>
                  <a:lnTo>
                    <a:pt x="0" y="0"/>
                  </a:lnTo>
                  <a:lnTo>
                    <a:pt x="21" y="3"/>
                  </a:lnTo>
                  <a:lnTo>
                    <a:pt x="21" y="51"/>
                  </a:lnTo>
                  <a:lnTo>
                    <a:pt x="0" y="5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7" name=""/>
          <p:cNvSpPr/>
          <p:nvPr/>
        </p:nvSpPr>
        <p:spPr>
          <a:xfrm>
            <a:off x="1866600" y="3502080"/>
            <a:ext cx="1972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LAGO LOS BARRE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605200" y="3300480"/>
            <a:ext cx="1293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LA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MARI MENU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778320" y="257184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ORTEZUE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 rot="18300000">
            <a:off x="529920" y="2079720"/>
            <a:ext cx="90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ff"/>
                </a:solidFill>
                <a:latin typeface="Arial"/>
              </a:rPr>
              <a:t>RIO NEUQU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rot="1980000">
            <a:off x="7103880" y="2871720"/>
            <a:ext cx="314280" cy="921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rot="7680000">
            <a:off x="690840" y="2834280"/>
            <a:ext cx="236520" cy="110880"/>
          </a:xfrm>
          <a:prstGeom prst="rect">
            <a:avLst/>
          </a:prstGeom>
          <a:solidFill>
            <a:srgbClr val="00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3" name=""/>
          <p:cNvGrpSpPr/>
          <p:nvPr/>
        </p:nvGrpSpPr>
        <p:grpSpPr>
          <a:xfrm>
            <a:off x="2133720" y="903240"/>
            <a:ext cx="333000" cy="290160"/>
            <a:chOff x="2133720" y="903240"/>
            <a:chExt cx="333000" cy="290160"/>
          </a:xfrm>
        </p:grpSpPr>
        <p:sp>
          <p:nvSpPr>
            <p:cNvPr id="2094" name=""/>
            <p:cNvSpPr/>
            <p:nvPr/>
          </p:nvSpPr>
          <p:spPr>
            <a:xfrm>
              <a:off x="2368080" y="903240"/>
              <a:ext cx="31680" cy="262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7" y="0"/>
                  </a:moveTo>
                  <a:lnTo>
                    <a:pt x="12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4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368080" y="903240"/>
              <a:ext cx="33120" cy="280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8" y="0"/>
                  </a:moveTo>
                  <a:lnTo>
                    <a:pt x="13" y="1"/>
                  </a:lnTo>
                  <a:lnTo>
                    <a:pt x="15" y="3"/>
                  </a:lnTo>
                  <a:lnTo>
                    <a:pt x="17" y="6"/>
                  </a:lnTo>
                  <a:lnTo>
                    <a:pt x="20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3" y="20"/>
                  </a:lnTo>
                  <a:lnTo>
                    <a:pt x="8" y="20"/>
                  </a:lnTo>
                  <a:lnTo>
                    <a:pt x="5" y="20"/>
                  </a:lnTo>
                  <a:lnTo>
                    <a:pt x="3" y="16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2338200" y="939960"/>
              <a:ext cx="3312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9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21" y="5"/>
                  </a:lnTo>
                  <a:lnTo>
                    <a:pt x="21" y="10"/>
                  </a:lnTo>
                  <a:lnTo>
                    <a:pt x="16" y="17"/>
                  </a:lnTo>
                  <a:lnTo>
                    <a:pt x="12" y="17"/>
                  </a:lnTo>
                  <a:lnTo>
                    <a:pt x="9" y="17"/>
                  </a:lnTo>
                  <a:lnTo>
                    <a:pt x="5" y="17"/>
                  </a:lnTo>
                  <a:lnTo>
                    <a:pt x="2" y="1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2338200" y="939960"/>
              <a:ext cx="36720" cy="234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0" y="0"/>
                  </a:moveTo>
                  <a:lnTo>
                    <a:pt x="15" y="1"/>
                  </a:lnTo>
                  <a:lnTo>
                    <a:pt x="18" y="1"/>
                  </a:lnTo>
                  <a:lnTo>
                    <a:pt x="23" y="5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18" y="14"/>
                  </a:lnTo>
                  <a:lnTo>
                    <a:pt x="15" y="14"/>
                  </a:lnTo>
                  <a:lnTo>
                    <a:pt x="10" y="17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1"/>
                  </a:lnTo>
                  <a:lnTo>
                    <a:pt x="7" y="1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282400" y="945720"/>
              <a:ext cx="31680" cy="248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8" y="0"/>
                  </a:moveTo>
                  <a:lnTo>
                    <a:pt x="13" y="0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1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282400" y="945720"/>
              <a:ext cx="3312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9" y="0"/>
                  </a:moveTo>
                  <a:lnTo>
                    <a:pt x="14" y="1"/>
                  </a:lnTo>
                  <a:lnTo>
                    <a:pt x="17" y="1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21" y="12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9" y="17"/>
                  </a:lnTo>
                  <a:lnTo>
                    <a:pt x="5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1"/>
                  </a:lnTo>
                  <a:lnTo>
                    <a:pt x="5" y="1"/>
                  </a:lnTo>
                  <a:lnTo>
                    <a:pt x="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217240" y="954720"/>
              <a:ext cx="33120" cy="2340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9" y="0"/>
                  </a:moveTo>
                  <a:lnTo>
                    <a:pt x="12" y="0"/>
                  </a:lnTo>
                  <a:lnTo>
                    <a:pt x="17" y="0"/>
                  </a:lnTo>
                  <a:lnTo>
                    <a:pt x="21" y="9"/>
                  </a:lnTo>
                  <a:lnTo>
                    <a:pt x="21" y="18"/>
                  </a:lnTo>
                  <a:lnTo>
                    <a:pt x="17" y="18"/>
                  </a:lnTo>
                  <a:lnTo>
                    <a:pt x="12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2217240" y="954720"/>
              <a:ext cx="36720" cy="2340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0" y="0"/>
                  </a:moveTo>
                  <a:lnTo>
                    <a:pt x="15" y="0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3" y="9"/>
                  </a:lnTo>
                  <a:lnTo>
                    <a:pt x="23" y="13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18"/>
                  </a:lnTo>
                  <a:lnTo>
                    <a:pt x="7" y="18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4"/>
                  </a:lnTo>
                  <a:lnTo>
                    <a:pt x="3" y="2"/>
                  </a:lnTo>
                  <a:lnTo>
                    <a:pt x="7" y="0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336040" y="941400"/>
              <a:ext cx="33480" cy="216360"/>
            </a:xfrm>
            <a:custGeom>
              <a:avLst/>
              <a:gdLst/>
              <a:ahLst/>
              <a:rect l="l" t="t" r="r" b="b"/>
              <a:pathLst>
                <a:path w="22" h="167">
                  <a:moveTo>
                    <a:pt x="0" y="0"/>
                  </a:moveTo>
                  <a:lnTo>
                    <a:pt x="21" y="0"/>
                  </a:lnTo>
                  <a:lnTo>
                    <a:pt x="21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336040" y="941400"/>
              <a:ext cx="36720" cy="223920"/>
            </a:xfrm>
            <a:custGeom>
              <a:avLst/>
              <a:gdLst/>
              <a:ahLst/>
              <a:rect l="l" t="t" r="r" b="b"/>
              <a:pathLst>
                <a:path w="24" h="173">
                  <a:moveTo>
                    <a:pt x="0" y="0"/>
                  </a:moveTo>
                  <a:lnTo>
                    <a:pt x="23" y="0"/>
                  </a:lnTo>
                  <a:lnTo>
                    <a:pt x="23" y="172"/>
                  </a:lnTo>
                  <a:lnTo>
                    <a:pt x="0" y="17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279160" y="947160"/>
              <a:ext cx="31680" cy="216720"/>
            </a:xfrm>
            <a:custGeom>
              <a:avLst/>
              <a:gdLst/>
              <a:ahLst/>
              <a:rect l="l" t="t" r="r" b="b"/>
              <a:pathLst>
                <a:path w="21" h="167">
                  <a:moveTo>
                    <a:pt x="0" y="0"/>
                  </a:moveTo>
                  <a:lnTo>
                    <a:pt x="20" y="0"/>
                  </a:lnTo>
                  <a:lnTo>
                    <a:pt x="20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279160" y="947160"/>
              <a:ext cx="35280" cy="224280"/>
            </a:xfrm>
            <a:custGeom>
              <a:avLst/>
              <a:gdLst/>
              <a:ahLst/>
              <a:rect l="l" t="t" r="r" b="b"/>
              <a:pathLst>
                <a:path w="23" h="173">
                  <a:moveTo>
                    <a:pt x="0" y="0"/>
                  </a:moveTo>
                  <a:lnTo>
                    <a:pt x="22" y="0"/>
                  </a:lnTo>
                  <a:lnTo>
                    <a:pt x="22" y="172"/>
                  </a:lnTo>
                  <a:lnTo>
                    <a:pt x="0" y="17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217240" y="957600"/>
              <a:ext cx="33120" cy="213840"/>
            </a:xfrm>
            <a:custGeom>
              <a:avLst/>
              <a:gdLst/>
              <a:ahLst/>
              <a:rect l="l" t="t" r="r" b="b"/>
              <a:pathLst>
                <a:path w="22" h="166">
                  <a:moveTo>
                    <a:pt x="0" y="0"/>
                  </a:moveTo>
                  <a:lnTo>
                    <a:pt x="21" y="0"/>
                  </a:lnTo>
                  <a:lnTo>
                    <a:pt x="21" y="165"/>
                  </a:lnTo>
                  <a:lnTo>
                    <a:pt x="0" y="16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217240" y="957600"/>
              <a:ext cx="36720" cy="222480"/>
            </a:xfrm>
            <a:custGeom>
              <a:avLst/>
              <a:gdLst/>
              <a:ahLst/>
              <a:rect l="l" t="t" r="r" b="b"/>
              <a:pathLst>
                <a:path w="24" h="173">
                  <a:moveTo>
                    <a:pt x="0" y="0"/>
                  </a:moveTo>
                  <a:lnTo>
                    <a:pt x="23" y="0"/>
                  </a:lnTo>
                  <a:lnTo>
                    <a:pt x="23" y="172"/>
                  </a:lnTo>
                  <a:lnTo>
                    <a:pt x="0" y="17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342880" y="941400"/>
              <a:ext cx="2988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9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9" y="8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9" y="17"/>
                  </a:lnTo>
                  <a:lnTo>
                    <a:pt x="5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282400" y="947160"/>
              <a:ext cx="31680" cy="248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9" y="0"/>
                  </a:moveTo>
                  <a:lnTo>
                    <a:pt x="13" y="0"/>
                  </a:lnTo>
                  <a:lnTo>
                    <a:pt x="16" y="5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3" y="17"/>
                  </a:lnTo>
                  <a:lnTo>
                    <a:pt x="9" y="17"/>
                  </a:lnTo>
                  <a:lnTo>
                    <a:pt x="5" y="17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5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2222640" y="957600"/>
              <a:ext cx="3132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9" y="0"/>
                  </a:moveTo>
                  <a:lnTo>
                    <a:pt x="13" y="0"/>
                  </a:lnTo>
                  <a:lnTo>
                    <a:pt x="16" y="0"/>
                  </a:lnTo>
                  <a:lnTo>
                    <a:pt x="20" y="8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9" y="17"/>
                  </a:lnTo>
                  <a:lnTo>
                    <a:pt x="4" y="17"/>
                  </a:lnTo>
                  <a:lnTo>
                    <a:pt x="1" y="17"/>
                  </a:lnTo>
                  <a:lnTo>
                    <a:pt x="0" y="8"/>
                  </a:lnTo>
                  <a:lnTo>
                    <a:pt x="1" y="0"/>
                  </a:ln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2338200" y="941400"/>
              <a:ext cx="33120" cy="216360"/>
            </a:xfrm>
            <a:custGeom>
              <a:avLst/>
              <a:gdLst/>
              <a:ahLst/>
              <a:rect l="l" t="t" r="r" b="b"/>
              <a:pathLst>
                <a:path w="22" h="167">
                  <a:moveTo>
                    <a:pt x="0" y="0"/>
                  </a:moveTo>
                  <a:lnTo>
                    <a:pt x="21" y="0"/>
                  </a:lnTo>
                  <a:lnTo>
                    <a:pt x="21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2279160" y="947160"/>
              <a:ext cx="31680" cy="216720"/>
            </a:xfrm>
            <a:custGeom>
              <a:avLst/>
              <a:gdLst/>
              <a:ahLst/>
              <a:rect l="l" t="t" r="r" b="b"/>
              <a:pathLst>
                <a:path w="21" h="167">
                  <a:moveTo>
                    <a:pt x="0" y="0"/>
                  </a:moveTo>
                  <a:lnTo>
                    <a:pt x="20" y="0"/>
                  </a:lnTo>
                  <a:lnTo>
                    <a:pt x="20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2217240" y="957600"/>
              <a:ext cx="33120" cy="212040"/>
            </a:xfrm>
            <a:custGeom>
              <a:avLst/>
              <a:gdLst/>
              <a:ahLst/>
              <a:rect l="l" t="t" r="r" b="b"/>
              <a:pathLst>
                <a:path w="22" h="165">
                  <a:moveTo>
                    <a:pt x="0" y="0"/>
                  </a:moveTo>
                  <a:lnTo>
                    <a:pt x="21" y="0"/>
                  </a:lnTo>
                  <a:lnTo>
                    <a:pt x="21" y="164"/>
                  </a:lnTo>
                  <a:lnTo>
                    <a:pt x="0" y="164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2346480" y="944640"/>
              <a:ext cx="29880" cy="234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8" y="17"/>
                  </a:moveTo>
                  <a:lnTo>
                    <a:pt x="12" y="17"/>
                  </a:lnTo>
                  <a:lnTo>
                    <a:pt x="18" y="17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8" y="17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284560" y="951840"/>
              <a:ext cx="3312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9" y="18"/>
                  </a:moveTo>
                  <a:lnTo>
                    <a:pt x="14" y="18"/>
                  </a:lnTo>
                  <a:lnTo>
                    <a:pt x="20" y="18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9" y="18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2225520" y="966600"/>
              <a:ext cx="31680" cy="108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11" y="0"/>
                  </a:moveTo>
                  <a:lnTo>
                    <a:pt x="19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342880" y="941400"/>
              <a:ext cx="29880" cy="216360"/>
            </a:xfrm>
            <a:custGeom>
              <a:avLst/>
              <a:gdLst/>
              <a:ahLst/>
              <a:rect l="l" t="t" r="r" b="b"/>
              <a:pathLst>
                <a:path w="20" h="167">
                  <a:moveTo>
                    <a:pt x="0" y="0"/>
                  </a:moveTo>
                  <a:lnTo>
                    <a:pt x="19" y="0"/>
                  </a:lnTo>
                  <a:lnTo>
                    <a:pt x="19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284560" y="947160"/>
              <a:ext cx="31320" cy="216720"/>
            </a:xfrm>
            <a:custGeom>
              <a:avLst/>
              <a:gdLst/>
              <a:ahLst/>
              <a:rect l="l" t="t" r="r" b="b"/>
              <a:pathLst>
                <a:path w="21" h="167">
                  <a:moveTo>
                    <a:pt x="0" y="0"/>
                  </a:moveTo>
                  <a:lnTo>
                    <a:pt x="20" y="0"/>
                  </a:lnTo>
                  <a:lnTo>
                    <a:pt x="20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2222640" y="957600"/>
              <a:ext cx="31320" cy="212040"/>
            </a:xfrm>
            <a:custGeom>
              <a:avLst/>
              <a:gdLst/>
              <a:ahLst/>
              <a:rect l="l" t="t" r="r" b="b"/>
              <a:pathLst>
                <a:path w="21" h="165">
                  <a:moveTo>
                    <a:pt x="0" y="0"/>
                  </a:moveTo>
                  <a:lnTo>
                    <a:pt x="20" y="0"/>
                  </a:lnTo>
                  <a:lnTo>
                    <a:pt x="20" y="164"/>
                  </a:lnTo>
                  <a:lnTo>
                    <a:pt x="0" y="164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378160" y="1144800"/>
              <a:ext cx="38160" cy="2196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4"/>
                  </a:moveTo>
                  <a:lnTo>
                    <a:pt x="5" y="4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19" y="4"/>
                  </a:lnTo>
                  <a:lnTo>
                    <a:pt x="24" y="6"/>
                  </a:lnTo>
                  <a:lnTo>
                    <a:pt x="24" y="17"/>
                  </a:lnTo>
                  <a:lnTo>
                    <a:pt x="0" y="17"/>
                  </a:lnTo>
                  <a:lnTo>
                    <a:pt x="0" y="4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378160" y="1144800"/>
              <a:ext cx="51480" cy="219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4"/>
                  </a:moveTo>
                  <a:lnTo>
                    <a:pt x="8" y="4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27" y="2"/>
                  </a:lnTo>
                  <a:lnTo>
                    <a:pt x="27" y="5"/>
                  </a:lnTo>
                  <a:lnTo>
                    <a:pt x="33" y="7"/>
                  </a:lnTo>
                  <a:lnTo>
                    <a:pt x="33" y="17"/>
                  </a:lnTo>
                  <a:lnTo>
                    <a:pt x="0" y="17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2347920" y="1104840"/>
              <a:ext cx="30240" cy="6048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0" y="0"/>
                  </a:moveTo>
                  <a:lnTo>
                    <a:pt x="5" y="3"/>
                  </a:lnTo>
                  <a:lnTo>
                    <a:pt x="5" y="8"/>
                  </a:lnTo>
                  <a:lnTo>
                    <a:pt x="12" y="11"/>
                  </a:lnTo>
                  <a:lnTo>
                    <a:pt x="12" y="8"/>
                  </a:lnTo>
                  <a:lnTo>
                    <a:pt x="18" y="9"/>
                  </a:lnTo>
                  <a:lnTo>
                    <a:pt x="18" y="41"/>
                  </a:lnTo>
                  <a:lnTo>
                    <a:pt x="0" y="45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347920" y="1104840"/>
              <a:ext cx="39960" cy="6768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lnTo>
                    <a:pt x="7" y="3"/>
                  </a:lnTo>
                  <a:lnTo>
                    <a:pt x="7" y="9"/>
                  </a:lnTo>
                  <a:lnTo>
                    <a:pt x="18" y="13"/>
                  </a:lnTo>
                  <a:lnTo>
                    <a:pt x="18" y="9"/>
                  </a:lnTo>
                  <a:lnTo>
                    <a:pt x="24" y="10"/>
                  </a:lnTo>
                  <a:lnTo>
                    <a:pt x="24" y="47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347920" y="1127160"/>
              <a:ext cx="30240" cy="352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0" y="0"/>
                  </a:moveTo>
                  <a:lnTo>
                    <a:pt x="18" y="3"/>
                  </a:lnTo>
                  <a:lnTo>
                    <a:pt x="18" y="26"/>
                  </a:lnTo>
                  <a:lnTo>
                    <a:pt x="12" y="26"/>
                  </a:lnTo>
                  <a:lnTo>
                    <a:pt x="12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347920" y="1127160"/>
              <a:ext cx="30240" cy="4248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0" y="0"/>
                  </a:moveTo>
                  <a:lnTo>
                    <a:pt x="18" y="4"/>
                  </a:lnTo>
                  <a:lnTo>
                    <a:pt x="18" y="32"/>
                  </a:lnTo>
                  <a:lnTo>
                    <a:pt x="11" y="32"/>
                  </a:lnTo>
                  <a:lnTo>
                    <a:pt x="11" y="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170440" y="1063800"/>
              <a:ext cx="138960" cy="10296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0" y="17"/>
                  </a:moveTo>
                  <a:lnTo>
                    <a:pt x="89" y="0"/>
                  </a:lnTo>
                  <a:lnTo>
                    <a:pt x="89" y="79"/>
                  </a:lnTo>
                  <a:lnTo>
                    <a:pt x="0" y="79"/>
                  </a:lnTo>
                  <a:lnTo>
                    <a:pt x="0" y="17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170440" y="1063800"/>
              <a:ext cx="152280" cy="111960"/>
            </a:xfrm>
            <a:custGeom>
              <a:avLst/>
              <a:gdLst/>
              <a:ahLst/>
              <a:rect l="l" t="t" r="r" b="b"/>
              <a:pathLst>
                <a:path w="99" h="87">
                  <a:moveTo>
                    <a:pt x="0" y="18"/>
                  </a:moveTo>
                  <a:lnTo>
                    <a:pt x="98" y="0"/>
                  </a:lnTo>
                  <a:lnTo>
                    <a:pt x="98" y="86"/>
                  </a:lnTo>
                  <a:lnTo>
                    <a:pt x="0" y="86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318040" y="1062360"/>
              <a:ext cx="33120" cy="10440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12" y="1"/>
                  </a:moveTo>
                  <a:lnTo>
                    <a:pt x="12" y="4"/>
                  </a:lnTo>
                  <a:lnTo>
                    <a:pt x="0" y="0"/>
                  </a:lnTo>
                  <a:lnTo>
                    <a:pt x="0" y="80"/>
                  </a:lnTo>
                  <a:lnTo>
                    <a:pt x="14" y="77"/>
                  </a:lnTo>
                  <a:lnTo>
                    <a:pt x="14" y="18"/>
                  </a:lnTo>
                  <a:lnTo>
                    <a:pt x="21" y="19"/>
                  </a:lnTo>
                  <a:lnTo>
                    <a:pt x="21" y="3"/>
                  </a:lnTo>
                  <a:lnTo>
                    <a:pt x="12" y="1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318040" y="1062360"/>
              <a:ext cx="43560" cy="113400"/>
            </a:xfrm>
            <a:custGeom>
              <a:avLst/>
              <a:gdLst/>
              <a:ahLst/>
              <a:rect l="l" t="t" r="r" b="b"/>
              <a:pathLst>
                <a:path w="28" h="88">
                  <a:moveTo>
                    <a:pt x="16" y="1"/>
                  </a:moveTo>
                  <a:lnTo>
                    <a:pt x="16" y="4"/>
                  </a:lnTo>
                  <a:lnTo>
                    <a:pt x="0" y="0"/>
                  </a:lnTo>
                  <a:lnTo>
                    <a:pt x="0" y="87"/>
                  </a:lnTo>
                  <a:lnTo>
                    <a:pt x="18" y="84"/>
                  </a:lnTo>
                  <a:lnTo>
                    <a:pt x="18" y="19"/>
                  </a:lnTo>
                  <a:lnTo>
                    <a:pt x="27" y="20"/>
                  </a:lnTo>
                  <a:lnTo>
                    <a:pt x="27" y="3"/>
                  </a:lnTo>
                  <a:lnTo>
                    <a:pt x="16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237400" y="1071360"/>
              <a:ext cx="33120" cy="586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20" y="0"/>
                  </a:moveTo>
                  <a:lnTo>
                    <a:pt x="20" y="45"/>
                  </a:lnTo>
                  <a:lnTo>
                    <a:pt x="0" y="45"/>
                  </a:lnTo>
                  <a:lnTo>
                    <a:pt x="0" y="2"/>
                  </a:lnTo>
                  <a:lnTo>
                    <a:pt x="20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237400" y="1071360"/>
              <a:ext cx="33120" cy="65880"/>
            </a:xfrm>
            <a:custGeom>
              <a:avLst/>
              <a:gdLst/>
              <a:ahLst/>
              <a:rect l="l" t="t" r="r" b="b"/>
              <a:pathLst>
                <a:path w="21" h="52">
                  <a:moveTo>
                    <a:pt x="20" y="0"/>
                  </a:moveTo>
                  <a:lnTo>
                    <a:pt x="20" y="51"/>
                  </a:lnTo>
                  <a:lnTo>
                    <a:pt x="0" y="51"/>
                  </a:lnTo>
                  <a:lnTo>
                    <a:pt x="0" y="2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239200" y="1136160"/>
              <a:ext cx="3312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14" y="0"/>
                  </a:lnTo>
                  <a:lnTo>
                    <a:pt x="20" y="18"/>
                  </a:lnTo>
                  <a:lnTo>
                    <a:pt x="4" y="1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239200" y="1136160"/>
              <a:ext cx="3312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"/>
                  </a:moveTo>
                  <a:lnTo>
                    <a:pt x="14" y="0"/>
                  </a:lnTo>
                  <a:lnTo>
                    <a:pt x="20" y="18"/>
                  </a:lnTo>
                  <a:lnTo>
                    <a:pt x="5" y="18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255760" y="1071360"/>
              <a:ext cx="33120" cy="73440"/>
            </a:xfrm>
            <a:custGeom>
              <a:avLst/>
              <a:gdLst/>
              <a:ahLst/>
              <a:rect l="l" t="t" r="r" b="b"/>
              <a:pathLst>
                <a:path w="22" h="58">
                  <a:moveTo>
                    <a:pt x="21" y="0"/>
                  </a:moveTo>
                  <a:lnTo>
                    <a:pt x="0" y="1"/>
                  </a:lnTo>
                  <a:lnTo>
                    <a:pt x="0" y="57"/>
                  </a:lnTo>
                  <a:lnTo>
                    <a:pt x="21" y="46"/>
                  </a:lnTo>
                  <a:lnTo>
                    <a:pt x="21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257560" y="1071360"/>
              <a:ext cx="33120" cy="82440"/>
            </a:xfrm>
            <a:custGeom>
              <a:avLst/>
              <a:gdLst/>
              <a:ahLst/>
              <a:rect l="l" t="t" r="r" b="b"/>
              <a:pathLst>
                <a:path w="22" h="64">
                  <a:moveTo>
                    <a:pt x="0" y="0"/>
                  </a:moveTo>
                  <a:lnTo>
                    <a:pt x="21" y="1"/>
                  </a:lnTo>
                  <a:lnTo>
                    <a:pt x="21" y="63"/>
                  </a:lnTo>
                  <a:lnTo>
                    <a:pt x="0" y="5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207160" y="1080000"/>
              <a:ext cx="31680" cy="6480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0" y="0"/>
                  </a:moveTo>
                  <a:lnTo>
                    <a:pt x="0" y="39"/>
                  </a:lnTo>
                  <a:lnTo>
                    <a:pt x="20" y="50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2207160" y="1080000"/>
              <a:ext cx="31680" cy="7380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0" y="0"/>
                  </a:moveTo>
                  <a:lnTo>
                    <a:pt x="0" y="44"/>
                  </a:lnTo>
                  <a:lnTo>
                    <a:pt x="20" y="56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187000" y="1080000"/>
              <a:ext cx="29880" cy="5148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2"/>
                  </a:moveTo>
                  <a:lnTo>
                    <a:pt x="19" y="0"/>
                  </a:lnTo>
                  <a:lnTo>
                    <a:pt x="19" y="38"/>
                  </a:lnTo>
                  <a:lnTo>
                    <a:pt x="0" y="40"/>
                  </a:lnTo>
                  <a:lnTo>
                    <a:pt x="0" y="2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187000" y="1080000"/>
              <a:ext cx="29880" cy="6156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0" y="2"/>
                  </a:moveTo>
                  <a:lnTo>
                    <a:pt x="19" y="0"/>
                  </a:lnTo>
                  <a:lnTo>
                    <a:pt x="19" y="45"/>
                  </a:lnTo>
                  <a:lnTo>
                    <a:pt x="0" y="47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185560" y="1139040"/>
              <a:ext cx="2988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2" y="0"/>
                  </a:lnTo>
                  <a:lnTo>
                    <a:pt x="19" y="17"/>
                  </a:lnTo>
                  <a:lnTo>
                    <a:pt x="6" y="1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185560" y="1139040"/>
              <a:ext cx="34920" cy="23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14" y="0"/>
                  </a:lnTo>
                  <a:lnTo>
                    <a:pt x="22" y="17"/>
                  </a:lnTo>
                  <a:lnTo>
                    <a:pt x="7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284560" y="1106640"/>
              <a:ext cx="3132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"/>
                  </a:moveTo>
                  <a:lnTo>
                    <a:pt x="11" y="0"/>
                  </a:lnTo>
                  <a:lnTo>
                    <a:pt x="20" y="17"/>
                  </a:lnTo>
                  <a:lnTo>
                    <a:pt x="5" y="17"/>
                  </a:lnTo>
                  <a:lnTo>
                    <a:pt x="0" y="1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284560" y="1106640"/>
              <a:ext cx="34920" cy="23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1"/>
                  </a:moveTo>
                  <a:lnTo>
                    <a:pt x="14" y="0"/>
                  </a:lnTo>
                  <a:lnTo>
                    <a:pt x="22" y="17"/>
                  </a:lnTo>
                  <a:lnTo>
                    <a:pt x="7" y="17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284560" y="1063800"/>
              <a:ext cx="31320" cy="3780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28"/>
                  </a:moveTo>
                  <a:lnTo>
                    <a:pt x="20" y="26"/>
                  </a:lnTo>
                  <a:lnTo>
                    <a:pt x="20" y="0"/>
                  </a:lnTo>
                  <a:lnTo>
                    <a:pt x="0" y="2"/>
                  </a:lnTo>
                  <a:lnTo>
                    <a:pt x="0" y="28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284560" y="1063800"/>
              <a:ext cx="31320" cy="4680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0" y="35"/>
                  </a:moveTo>
                  <a:lnTo>
                    <a:pt x="20" y="33"/>
                  </a:lnTo>
                  <a:lnTo>
                    <a:pt x="20" y="0"/>
                  </a:lnTo>
                  <a:lnTo>
                    <a:pt x="0" y="2"/>
                  </a:lnTo>
                  <a:lnTo>
                    <a:pt x="0" y="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306160" y="1063800"/>
              <a:ext cx="1440" cy="57240"/>
            </a:xfrm>
            <a:custGeom>
              <a:avLst/>
              <a:gdLst/>
              <a:ahLst/>
              <a:rect l="l" t="t" r="r" b="b"/>
              <a:pathLst>
                <a:path w="1" h="44">
                  <a:moveTo>
                    <a:pt x="0" y="0"/>
                  </a:moveTo>
                  <a:lnTo>
                    <a:pt x="0" y="29"/>
                  </a:lnTo>
                  <a:lnTo>
                    <a:pt x="0" y="4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306160" y="1063800"/>
              <a:ext cx="29880" cy="65880"/>
            </a:xfrm>
            <a:custGeom>
              <a:avLst/>
              <a:gdLst/>
              <a:ahLst/>
              <a:rect l="l" t="t" r="r" b="b"/>
              <a:pathLst>
                <a:path w="20" h="51">
                  <a:moveTo>
                    <a:pt x="0" y="0"/>
                  </a:moveTo>
                  <a:lnTo>
                    <a:pt x="0" y="33"/>
                  </a:lnTo>
                  <a:lnTo>
                    <a:pt x="19" y="50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230920" y="1075680"/>
              <a:ext cx="31320" cy="280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0" y="2"/>
                  </a:moveTo>
                  <a:lnTo>
                    <a:pt x="20" y="0"/>
                  </a:lnTo>
                  <a:lnTo>
                    <a:pt x="20" y="21"/>
                  </a:lnTo>
                  <a:lnTo>
                    <a:pt x="0" y="21"/>
                  </a:lnTo>
                  <a:lnTo>
                    <a:pt x="0" y="2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230920" y="1075680"/>
              <a:ext cx="31320" cy="3816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2"/>
                  </a:moveTo>
                  <a:lnTo>
                    <a:pt x="20" y="0"/>
                  </a:lnTo>
                  <a:lnTo>
                    <a:pt x="20" y="28"/>
                  </a:lnTo>
                  <a:lnTo>
                    <a:pt x="0" y="28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230920" y="1112400"/>
              <a:ext cx="3132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10" y="0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230920" y="1112400"/>
              <a:ext cx="3132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10" y="0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247480" y="1075680"/>
              <a:ext cx="360" cy="5004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3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0" y="37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247480" y="1075680"/>
              <a:ext cx="29880" cy="5616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19" y="43"/>
                  </a:moveTo>
                  <a:lnTo>
                    <a:pt x="19" y="2"/>
                  </a:lnTo>
                  <a:lnTo>
                    <a:pt x="0" y="0"/>
                  </a:lnTo>
                  <a:lnTo>
                    <a:pt x="0" y="27"/>
                  </a:lnTo>
                  <a:lnTo>
                    <a:pt x="19" y="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182320" y="1115280"/>
              <a:ext cx="2988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9" y="17"/>
                  </a:moveTo>
                  <a:lnTo>
                    <a:pt x="19" y="17"/>
                  </a:lnTo>
                  <a:lnTo>
                    <a:pt x="11" y="0"/>
                  </a:lnTo>
                  <a:lnTo>
                    <a:pt x="0" y="0"/>
                  </a:lnTo>
                  <a:lnTo>
                    <a:pt x="9" y="17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182320" y="1115280"/>
              <a:ext cx="2988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6" y="17"/>
                  </a:moveTo>
                  <a:lnTo>
                    <a:pt x="19" y="1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6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182320" y="1090440"/>
              <a:ext cx="2988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7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"/>
                  </a:lnTo>
                  <a:lnTo>
                    <a:pt x="0" y="17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182320" y="1090440"/>
              <a:ext cx="29880" cy="266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9"/>
                  </a:moveTo>
                  <a:lnTo>
                    <a:pt x="15" y="19"/>
                  </a:lnTo>
                  <a:lnTo>
                    <a:pt x="19" y="0"/>
                  </a:lnTo>
                  <a:lnTo>
                    <a:pt x="0" y="1"/>
                  </a:lnTo>
                  <a:lnTo>
                    <a:pt x="0" y="1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193840" y="1090440"/>
              <a:ext cx="29880" cy="3672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9" y="0"/>
                  </a:moveTo>
                  <a:lnTo>
                    <a:pt x="19" y="15"/>
                  </a:lnTo>
                  <a:lnTo>
                    <a:pt x="0" y="27"/>
                  </a:lnTo>
                  <a:lnTo>
                    <a:pt x="0" y="3"/>
                  </a:lnTo>
                  <a:lnTo>
                    <a:pt x="1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195640" y="1090440"/>
              <a:ext cx="31680" cy="439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0"/>
                  </a:moveTo>
                  <a:lnTo>
                    <a:pt x="0" y="18"/>
                  </a:lnTo>
                  <a:lnTo>
                    <a:pt x="20" y="33"/>
                  </a:lnTo>
                  <a:lnTo>
                    <a:pt x="20" y="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133720" y="1110960"/>
              <a:ext cx="56880" cy="543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42"/>
                  </a:moveTo>
                  <a:lnTo>
                    <a:pt x="36" y="42"/>
                  </a:lnTo>
                  <a:lnTo>
                    <a:pt x="36" y="0"/>
                  </a:lnTo>
                  <a:lnTo>
                    <a:pt x="13" y="1"/>
                  </a:lnTo>
                  <a:lnTo>
                    <a:pt x="13" y="31"/>
                  </a:lnTo>
                  <a:lnTo>
                    <a:pt x="0" y="33"/>
                  </a:lnTo>
                  <a:lnTo>
                    <a:pt x="0" y="42"/>
                  </a:lnTo>
                </a:path>
              </a:pathLst>
            </a:custGeom>
            <a:solidFill>
              <a:srgbClr val="604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133720" y="1110960"/>
              <a:ext cx="65160" cy="6300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0" y="49"/>
                  </a:moveTo>
                  <a:lnTo>
                    <a:pt x="42" y="49"/>
                  </a:lnTo>
                  <a:lnTo>
                    <a:pt x="42" y="0"/>
                  </a:lnTo>
                  <a:lnTo>
                    <a:pt x="15" y="1"/>
                  </a:lnTo>
                  <a:lnTo>
                    <a:pt x="15" y="37"/>
                  </a:lnTo>
                  <a:lnTo>
                    <a:pt x="0" y="39"/>
                  </a:lnTo>
                  <a:lnTo>
                    <a:pt x="0" y="4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404800" y="1131840"/>
              <a:ext cx="1800" cy="3240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0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4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404800" y="1131840"/>
              <a:ext cx="33120" cy="3960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5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166840" y="1162440"/>
              <a:ext cx="3168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166840" y="1162440"/>
              <a:ext cx="3168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187000" y="1162440"/>
              <a:ext cx="2988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187000" y="1162440"/>
              <a:ext cx="2988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202480" y="1162440"/>
              <a:ext cx="3492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202480" y="1162440"/>
              <a:ext cx="3492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22640" y="1162440"/>
              <a:ext cx="3132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0"/>
                  </a:lnTo>
                  <a:lnTo>
                    <a:pt x="20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222640" y="1162440"/>
              <a:ext cx="3132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242080" y="1162440"/>
              <a:ext cx="3024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242080" y="1162440"/>
              <a:ext cx="3024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257560" y="1162440"/>
              <a:ext cx="3312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257560" y="1162440"/>
              <a:ext cx="3312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77720" y="1162440"/>
              <a:ext cx="3168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0"/>
                  </a:lnTo>
                  <a:lnTo>
                    <a:pt x="20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77720" y="1162440"/>
              <a:ext cx="3168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2296080" y="1162440"/>
              <a:ext cx="3312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296080" y="1162440"/>
              <a:ext cx="3312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212200" y="116244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269080" y="116244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230920" y="116244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248920" y="116244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195640" y="116244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2175480" y="116244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284560" y="116244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306160" y="116244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2136960" y="1156680"/>
              <a:ext cx="162000" cy="21960"/>
            </a:xfrm>
            <a:custGeom>
              <a:avLst/>
              <a:gdLst/>
              <a:ahLst/>
              <a:rect l="l" t="t" r="r" b="b"/>
              <a:pathLst>
                <a:path w="105" h="18">
                  <a:moveTo>
                    <a:pt x="0" y="17"/>
                  </a:moveTo>
                  <a:lnTo>
                    <a:pt x="5" y="0"/>
                  </a:lnTo>
                  <a:lnTo>
                    <a:pt x="101" y="0"/>
                  </a:lnTo>
                  <a:lnTo>
                    <a:pt x="104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369880" y="1128600"/>
              <a:ext cx="31320" cy="396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0" y="5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30"/>
                  </a:lnTo>
                  <a:lnTo>
                    <a:pt x="0" y="30"/>
                  </a:lnTo>
                  <a:lnTo>
                    <a:pt x="0" y="5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369880" y="1128600"/>
              <a:ext cx="31320" cy="4824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0" y="6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336040" y="1165680"/>
              <a:ext cx="33480" cy="21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7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2336040" y="1165680"/>
              <a:ext cx="33480" cy="21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7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356200" y="1165680"/>
              <a:ext cx="3312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0"/>
                  </a:moveTo>
                  <a:lnTo>
                    <a:pt x="20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2359800" y="1165680"/>
              <a:ext cx="3168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0" y="17"/>
                  </a:lnTo>
                  <a:lnTo>
                    <a:pt x="20" y="17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2433600" y="1141920"/>
              <a:ext cx="3168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1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17"/>
                  </a:lnTo>
                  <a:lnTo>
                    <a:pt x="20" y="1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2435400" y="1141920"/>
              <a:ext cx="31320" cy="2340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2"/>
                  </a:moveTo>
                  <a:lnTo>
                    <a:pt x="0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2334600" y="1168560"/>
              <a:ext cx="3312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0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2334600" y="1168560"/>
              <a:ext cx="3312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18"/>
                  </a:lnTo>
                  <a:lnTo>
                    <a:pt x="2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334600" y="1161000"/>
              <a:ext cx="3312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7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34600" y="1161000"/>
              <a:ext cx="3312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334600" y="1152000"/>
              <a:ext cx="33120" cy="2340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0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34600" y="1153800"/>
              <a:ext cx="33120" cy="2340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18"/>
                  </a:lnTo>
                  <a:lnTo>
                    <a:pt x="2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334600" y="1144800"/>
              <a:ext cx="3312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7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34600" y="1144800"/>
              <a:ext cx="3312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334600" y="1136160"/>
              <a:ext cx="3312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0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334600" y="1139040"/>
              <a:ext cx="3312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334600" y="1130040"/>
              <a:ext cx="33120" cy="248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7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334600" y="1128600"/>
              <a:ext cx="3312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163600" y="1094760"/>
              <a:ext cx="127080" cy="23400"/>
            </a:xfrm>
            <a:custGeom>
              <a:avLst/>
              <a:gdLst/>
              <a:ahLst/>
              <a:rect l="l" t="t" r="r" b="b"/>
              <a:pathLst>
                <a:path w="83" h="18">
                  <a:moveTo>
                    <a:pt x="82" y="0"/>
                  </a:moveTo>
                  <a:lnTo>
                    <a:pt x="82" y="10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82" y="0"/>
                  </a:lnTo>
                </a:path>
              </a:pathLst>
            </a:custGeom>
            <a:solidFill>
              <a:srgbClr val="a08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63600" y="1094760"/>
              <a:ext cx="137520" cy="23400"/>
            </a:xfrm>
            <a:custGeom>
              <a:avLst/>
              <a:gdLst/>
              <a:ahLst/>
              <a:rect l="l" t="t" r="r" b="b"/>
              <a:pathLst>
                <a:path w="89" h="18">
                  <a:moveTo>
                    <a:pt x="88" y="0"/>
                  </a:moveTo>
                  <a:lnTo>
                    <a:pt x="88" y="9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215800" y="1076760"/>
              <a:ext cx="3312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9" y="0"/>
                  </a:moveTo>
                  <a:lnTo>
                    <a:pt x="21" y="2"/>
                  </a:lnTo>
                  <a:lnTo>
                    <a:pt x="21" y="7"/>
                  </a:lnTo>
                  <a:lnTo>
                    <a:pt x="12" y="7"/>
                  </a:lnTo>
                  <a:lnTo>
                    <a:pt x="7" y="15"/>
                  </a:lnTo>
                  <a:lnTo>
                    <a:pt x="0" y="17"/>
                  </a:lnTo>
                  <a:lnTo>
                    <a:pt x="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215800" y="1076760"/>
              <a:ext cx="33120" cy="324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9" y="0"/>
                  </a:moveTo>
                  <a:lnTo>
                    <a:pt x="21" y="3"/>
                  </a:lnTo>
                  <a:lnTo>
                    <a:pt x="21" y="10"/>
                  </a:lnTo>
                  <a:lnTo>
                    <a:pt x="11" y="10"/>
                  </a:lnTo>
                  <a:lnTo>
                    <a:pt x="5" y="22"/>
                  </a:lnTo>
                  <a:lnTo>
                    <a:pt x="0" y="24"/>
                  </a:lnTo>
                  <a:lnTo>
                    <a:pt x="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207160" y="1076760"/>
              <a:ext cx="3168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9" y="1"/>
                  </a:moveTo>
                  <a:lnTo>
                    <a:pt x="20" y="0"/>
                  </a:lnTo>
                  <a:lnTo>
                    <a:pt x="9" y="17"/>
                  </a:lnTo>
                  <a:lnTo>
                    <a:pt x="0" y="17"/>
                  </a:lnTo>
                  <a:lnTo>
                    <a:pt x="9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207160" y="1076760"/>
              <a:ext cx="31680" cy="324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9" y="2"/>
                  </a:moveTo>
                  <a:lnTo>
                    <a:pt x="20" y="0"/>
                  </a:lnTo>
                  <a:lnTo>
                    <a:pt x="9" y="24"/>
                  </a:lnTo>
                  <a:lnTo>
                    <a:pt x="0" y="24"/>
                  </a:lnTo>
                  <a:lnTo>
                    <a:pt x="9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260800" y="1067040"/>
              <a:ext cx="31680" cy="277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0" y="1"/>
                  </a:moveTo>
                  <a:lnTo>
                    <a:pt x="19" y="0"/>
                  </a:lnTo>
                  <a:lnTo>
                    <a:pt x="9" y="21"/>
                  </a:lnTo>
                  <a:lnTo>
                    <a:pt x="0" y="21"/>
                  </a:lnTo>
                  <a:lnTo>
                    <a:pt x="10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260800" y="106704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0" y="1"/>
                  </a:moveTo>
                  <a:lnTo>
                    <a:pt x="19" y="0"/>
                  </a:lnTo>
                  <a:lnTo>
                    <a:pt x="9" y="27"/>
                  </a:lnTo>
                  <a:lnTo>
                    <a:pt x="0" y="27"/>
                  </a:lnTo>
                  <a:lnTo>
                    <a:pt x="1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274120" y="1067040"/>
              <a:ext cx="33120" cy="277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0" y="0"/>
                  </a:moveTo>
                  <a:lnTo>
                    <a:pt x="0" y="21"/>
                  </a:lnTo>
                  <a:lnTo>
                    <a:pt x="7" y="18"/>
                  </a:lnTo>
                  <a:lnTo>
                    <a:pt x="10" y="9"/>
                  </a:lnTo>
                  <a:lnTo>
                    <a:pt x="20" y="8"/>
                  </a:lnTo>
                  <a:lnTo>
                    <a:pt x="20" y="3"/>
                  </a:lnTo>
                  <a:lnTo>
                    <a:pt x="1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274120" y="1067040"/>
              <a:ext cx="33120" cy="3492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1" y="0"/>
                  </a:moveTo>
                  <a:lnTo>
                    <a:pt x="0" y="27"/>
                  </a:lnTo>
                  <a:lnTo>
                    <a:pt x="6" y="24"/>
                  </a:lnTo>
                  <a:lnTo>
                    <a:pt x="11" y="12"/>
                  </a:lnTo>
                  <a:lnTo>
                    <a:pt x="20" y="11"/>
                  </a:lnTo>
                  <a:lnTo>
                    <a:pt x="20" y="4"/>
                  </a:lnTo>
                  <a:lnTo>
                    <a:pt x="1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299320" y="1164240"/>
              <a:ext cx="3348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7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299320" y="1164240"/>
              <a:ext cx="35280" cy="23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17"/>
                  </a:moveTo>
                  <a:lnTo>
                    <a:pt x="22" y="17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331360" y="1164240"/>
              <a:ext cx="3024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0"/>
                  </a:moveTo>
                  <a:lnTo>
                    <a:pt x="19" y="17"/>
                  </a:lnTo>
                  <a:lnTo>
                    <a:pt x="0" y="17"/>
                  </a:lnTo>
                  <a:lnTo>
                    <a:pt x="0" y="2"/>
                  </a:lnTo>
                  <a:lnTo>
                    <a:pt x="1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333160" y="1164240"/>
              <a:ext cx="3132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0" y="17"/>
                  </a:lnTo>
                  <a:lnTo>
                    <a:pt x="20" y="14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166840" y="1115280"/>
              <a:ext cx="41760" cy="2196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0" y="10"/>
                  </a:moveTo>
                  <a:lnTo>
                    <a:pt x="21" y="17"/>
                  </a:lnTo>
                  <a:lnTo>
                    <a:pt x="25" y="5"/>
                  </a:lnTo>
                  <a:lnTo>
                    <a:pt x="2" y="0"/>
                  </a:lnTo>
                  <a:lnTo>
                    <a:pt x="0" y="1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166840" y="1118520"/>
              <a:ext cx="50040" cy="248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5"/>
                  </a:moveTo>
                  <a:lnTo>
                    <a:pt x="26" y="0"/>
                  </a:lnTo>
                  <a:lnTo>
                    <a:pt x="31" y="11"/>
                  </a:lnTo>
                  <a:lnTo>
                    <a:pt x="2" y="18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163600" y="1119600"/>
              <a:ext cx="30240" cy="4860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19" y="37"/>
                  </a:moveTo>
                  <a:lnTo>
                    <a:pt x="19" y="0"/>
                  </a:lnTo>
                  <a:lnTo>
                    <a:pt x="0" y="2"/>
                  </a:lnTo>
                  <a:lnTo>
                    <a:pt x="0" y="37"/>
                  </a:lnTo>
                  <a:lnTo>
                    <a:pt x="19" y="37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166840" y="1119600"/>
              <a:ext cx="31680" cy="5724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44"/>
                  </a:moveTo>
                  <a:lnTo>
                    <a:pt x="0" y="0"/>
                  </a:lnTo>
                  <a:lnTo>
                    <a:pt x="19" y="2"/>
                  </a:lnTo>
                  <a:lnTo>
                    <a:pt x="19" y="44"/>
                  </a:lnTo>
                  <a:lnTo>
                    <a:pt x="0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202480" y="1117080"/>
              <a:ext cx="34920" cy="5436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1" y="41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0" y="41"/>
                  </a:lnTo>
                  <a:lnTo>
                    <a:pt x="21" y="41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212200" y="1117080"/>
              <a:ext cx="33120" cy="63000"/>
            </a:xfrm>
            <a:custGeom>
              <a:avLst/>
              <a:gdLst/>
              <a:ahLst/>
              <a:rect l="l" t="t" r="r" b="b"/>
              <a:pathLst>
                <a:path w="22" h="49">
                  <a:moveTo>
                    <a:pt x="0" y="48"/>
                  </a:moveTo>
                  <a:lnTo>
                    <a:pt x="0" y="0"/>
                  </a:lnTo>
                  <a:lnTo>
                    <a:pt x="21" y="3"/>
                  </a:lnTo>
                  <a:lnTo>
                    <a:pt x="21" y="48"/>
                  </a:lnTo>
                  <a:lnTo>
                    <a:pt x="0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212200" y="1114200"/>
              <a:ext cx="50040" cy="219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8"/>
                  </a:moveTo>
                  <a:lnTo>
                    <a:pt x="28" y="17"/>
                  </a:lnTo>
                  <a:lnTo>
                    <a:pt x="33" y="0"/>
                  </a:lnTo>
                  <a:lnTo>
                    <a:pt x="2" y="0"/>
                  </a:lnTo>
                  <a:lnTo>
                    <a:pt x="0" y="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12200" y="1117080"/>
              <a:ext cx="61920" cy="2340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0" y="4"/>
                  </a:moveTo>
                  <a:lnTo>
                    <a:pt x="34" y="0"/>
                  </a:lnTo>
                  <a:lnTo>
                    <a:pt x="40" y="13"/>
                  </a:lnTo>
                  <a:lnTo>
                    <a:pt x="3" y="18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260800" y="1117080"/>
              <a:ext cx="31680" cy="5436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19" y="42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0" y="42"/>
                  </a:lnTo>
                  <a:lnTo>
                    <a:pt x="19" y="42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269080" y="1117080"/>
              <a:ext cx="28440" cy="63000"/>
            </a:xfrm>
            <a:custGeom>
              <a:avLst/>
              <a:gdLst/>
              <a:ahLst/>
              <a:rect l="l" t="t" r="r" b="b"/>
              <a:pathLst>
                <a:path w="19" h="50">
                  <a:moveTo>
                    <a:pt x="0" y="49"/>
                  </a:moveTo>
                  <a:lnTo>
                    <a:pt x="0" y="0"/>
                  </a:lnTo>
                  <a:lnTo>
                    <a:pt x="18" y="3"/>
                  </a:lnTo>
                  <a:lnTo>
                    <a:pt x="18" y="49"/>
                  </a:lnTo>
                  <a:lnTo>
                    <a:pt x="0" y="4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2494080" y="396720"/>
            <a:ext cx="547200" cy="419400"/>
            <a:chOff x="2494080" y="396720"/>
            <a:chExt cx="547200" cy="419400"/>
          </a:xfrm>
        </p:grpSpPr>
        <p:sp>
          <p:nvSpPr>
            <p:cNvPr id="2234" name=""/>
            <p:cNvSpPr/>
            <p:nvPr/>
          </p:nvSpPr>
          <p:spPr>
            <a:xfrm>
              <a:off x="2831400" y="396720"/>
              <a:ext cx="5220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3" y="0"/>
                  </a:moveTo>
                  <a:lnTo>
                    <a:pt x="20" y="0"/>
                  </a:lnTo>
                  <a:lnTo>
                    <a:pt x="28" y="0"/>
                  </a:lnTo>
                  <a:lnTo>
                    <a:pt x="33" y="14"/>
                  </a:lnTo>
                  <a:lnTo>
                    <a:pt x="33" y="28"/>
                  </a:lnTo>
                  <a:lnTo>
                    <a:pt x="28" y="28"/>
                  </a:lnTo>
                  <a:lnTo>
                    <a:pt x="20" y="28"/>
                  </a:lnTo>
                  <a:lnTo>
                    <a:pt x="13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831400" y="396720"/>
              <a:ext cx="55440" cy="37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15" y="0"/>
                  </a:moveTo>
                  <a:lnTo>
                    <a:pt x="22" y="0"/>
                  </a:lnTo>
                  <a:lnTo>
                    <a:pt x="30" y="3"/>
                  </a:lnTo>
                  <a:lnTo>
                    <a:pt x="35" y="7"/>
                  </a:lnTo>
                  <a:lnTo>
                    <a:pt x="35" y="14"/>
                  </a:lnTo>
                  <a:lnTo>
                    <a:pt x="35" y="21"/>
                  </a:lnTo>
                  <a:lnTo>
                    <a:pt x="30" y="24"/>
                  </a:lnTo>
                  <a:lnTo>
                    <a:pt x="22" y="28"/>
                  </a:lnTo>
                  <a:lnTo>
                    <a:pt x="15" y="28"/>
                  </a:lnTo>
                  <a:lnTo>
                    <a:pt x="9" y="28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3" y="3"/>
                  </a:lnTo>
                  <a:lnTo>
                    <a:pt x="9" y="0"/>
                  </a:lnTo>
                  <a:lnTo>
                    <a:pt x="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6000" y="408600"/>
              <a:ext cx="5004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0"/>
                  </a:moveTo>
                  <a:lnTo>
                    <a:pt x="19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32" y="14"/>
                  </a:lnTo>
                  <a:lnTo>
                    <a:pt x="27" y="29"/>
                  </a:lnTo>
                  <a:lnTo>
                    <a:pt x="25" y="29"/>
                  </a:lnTo>
                  <a:lnTo>
                    <a:pt x="19" y="29"/>
                  </a:lnTo>
                  <a:lnTo>
                    <a:pt x="16" y="29"/>
                  </a:lnTo>
                  <a:lnTo>
                    <a:pt x="7" y="29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3" y="0"/>
                  </a:lnTo>
                  <a:lnTo>
                    <a:pt x="7" y="0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6000" y="408600"/>
              <a:ext cx="56880" cy="3816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7" y="0"/>
                  </a:moveTo>
                  <a:lnTo>
                    <a:pt x="24" y="0"/>
                  </a:lnTo>
                  <a:lnTo>
                    <a:pt x="29" y="3"/>
                  </a:lnTo>
                  <a:lnTo>
                    <a:pt x="33" y="10"/>
                  </a:lnTo>
                  <a:lnTo>
                    <a:pt x="36" y="14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29"/>
                  </a:lnTo>
                  <a:lnTo>
                    <a:pt x="17" y="29"/>
                  </a:lnTo>
                  <a:lnTo>
                    <a:pt x="9" y="29"/>
                  </a:lnTo>
                  <a:lnTo>
                    <a:pt x="5" y="25"/>
                  </a:lnTo>
                  <a:lnTo>
                    <a:pt x="1" y="21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5" y="3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633400" y="420480"/>
              <a:ext cx="5220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1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28" y="9"/>
                  </a:lnTo>
                  <a:lnTo>
                    <a:pt x="33" y="18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0" y="29"/>
                  </a:lnTo>
                  <a:lnTo>
                    <a:pt x="11" y="29"/>
                  </a:lnTo>
                  <a:lnTo>
                    <a:pt x="7" y="29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633400" y="420480"/>
              <a:ext cx="58320" cy="38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16" y="0"/>
                  </a:moveTo>
                  <a:lnTo>
                    <a:pt x="23" y="0"/>
                  </a:lnTo>
                  <a:lnTo>
                    <a:pt x="30" y="1"/>
                  </a:lnTo>
                  <a:lnTo>
                    <a:pt x="34" y="9"/>
                  </a:lnTo>
                  <a:lnTo>
                    <a:pt x="37" y="14"/>
                  </a:lnTo>
                  <a:lnTo>
                    <a:pt x="34" y="18"/>
                  </a:lnTo>
                  <a:lnTo>
                    <a:pt x="30" y="21"/>
                  </a:lnTo>
                  <a:lnTo>
                    <a:pt x="23" y="25"/>
                  </a:lnTo>
                  <a:lnTo>
                    <a:pt x="16" y="29"/>
                  </a:lnTo>
                  <a:lnTo>
                    <a:pt x="9" y="25"/>
                  </a:lnTo>
                  <a:lnTo>
                    <a:pt x="5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5" y="1"/>
                  </a:lnTo>
                  <a:lnTo>
                    <a:pt x="9" y="0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826360" y="399600"/>
              <a:ext cx="55440" cy="358200"/>
            </a:xfrm>
            <a:custGeom>
              <a:avLst/>
              <a:gdLst/>
              <a:ahLst/>
              <a:rect l="l" t="t" r="r" b="b"/>
              <a:pathLst>
                <a:path w="36" h="275">
                  <a:moveTo>
                    <a:pt x="0" y="0"/>
                  </a:moveTo>
                  <a:lnTo>
                    <a:pt x="35" y="0"/>
                  </a:lnTo>
                  <a:lnTo>
                    <a:pt x="35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826360" y="399600"/>
              <a:ext cx="56880" cy="371880"/>
            </a:xfrm>
            <a:custGeom>
              <a:avLst/>
              <a:gdLst/>
              <a:ahLst/>
              <a:rect l="l" t="t" r="r" b="b"/>
              <a:pathLst>
                <a:path w="37" h="286">
                  <a:moveTo>
                    <a:pt x="0" y="0"/>
                  </a:moveTo>
                  <a:lnTo>
                    <a:pt x="36" y="0"/>
                  </a:lnTo>
                  <a:lnTo>
                    <a:pt x="36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732400" y="411480"/>
              <a:ext cx="48600" cy="356760"/>
            </a:xfrm>
            <a:custGeom>
              <a:avLst/>
              <a:gdLst/>
              <a:ahLst/>
              <a:rect l="l" t="t" r="r" b="b"/>
              <a:pathLst>
                <a:path w="32" h="275">
                  <a:moveTo>
                    <a:pt x="0" y="0"/>
                  </a:moveTo>
                  <a:lnTo>
                    <a:pt x="31" y="0"/>
                  </a:lnTo>
                  <a:lnTo>
                    <a:pt x="31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732400" y="411480"/>
              <a:ext cx="56880" cy="371880"/>
            </a:xfrm>
            <a:custGeom>
              <a:avLst/>
              <a:gdLst/>
              <a:ahLst/>
              <a:rect l="l" t="t" r="r" b="b"/>
              <a:pathLst>
                <a:path w="37" h="286">
                  <a:moveTo>
                    <a:pt x="0" y="0"/>
                  </a:moveTo>
                  <a:lnTo>
                    <a:pt x="36" y="0"/>
                  </a:lnTo>
                  <a:lnTo>
                    <a:pt x="36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629800" y="423360"/>
              <a:ext cx="53640" cy="356400"/>
            </a:xfrm>
            <a:custGeom>
              <a:avLst/>
              <a:gdLst/>
              <a:ahLst/>
              <a:rect l="l" t="t" r="r" b="b"/>
              <a:pathLst>
                <a:path w="35" h="275">
                  <a:moveTo>
                    <a:pt x="0" y="0"/>
                  </a:moveTo>
                  <a:lnTo>
                    <a:pt x="34" y="0"/>
                  </a:lnTo>
                  <a:lnTo>
                    <a:pt x="34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629800" y="423360"/>
              <a:ext cx="58320" cy="371520"/>
            </a:xfrm>
            <a:custGeom>
              <a:avLst/>
              <a:gdLst/>
              <a:ahLst/>
              <a:rect l="l" t="t" r="r" b="b"/>
              <a:pathLst>
                <a:path w="38" h="286">
                  <a:moveTo>
                    <a:pt x="0" y="0"/>
                  </a:moveTo>
                  <a:lnTo>
                    <a:pt x="37" y="0"/>
                  </a:lnTo>
                  <a:lnTo>
                    <a:pt x="37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836440" y="399600"/>
              <a:ext cx="50400" cy="370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4" y="0"/>
                  </a:moveTo>
                  <a:lnTo>
                    <a:pt x="22" y="0"/>
                  </a:lnTo>
                  <a:lnTo>
                    <a:pt x="26" y="0"/>
                  </a:lnTo>
                  <a:lnTo>
                    <a:pt x="31" y="14"/>
                  </a:lnTo>
                  <a:lnTo>
                    <a:pt x="26" y="28"/>
                  </a:lnTo>
                  <a:lnTo>
                    <a:pt x="22" y="28"/>
                  </a:lnTo>
                  <a:lnTo>
                    <a:pt x="14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737440" y="411480"/>
              <a:ext cx="5220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5" y="0"/>
                  </a:moveTo>
                  <a:lnTo>
                    <a:pt x="22" y="0"/>
                  </a:lnTo>
                  <a:lnTo>
                    <a:pt x="28" y="0"/>
                  </a:lnTo>
                  <a:lnTo>
                    <a:pt x="33" y="14"/>
                  </a:lnTo>
                  <a:lnTo>
                    <a:pt x="33" y="28"/>
                  </a:lnTo>
                  <a:lnTo>
                    <a:pt x="28" y="28"/>
                  </a:lnTo>
                  <a:lnTo>
                    <a:pt x="22" y="28"/>
                  </a:lnTo>
                  <a:lnTo>
                    <a:pt x="15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5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634840" y="423360"/>
              <a:ext cx="53640" cy="3816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14" y="0"/>
                  </a:moveTo>
                  <a:lnTo>
                    <a:pt x="23" y="0"/>
                  </a:lnTo>
                  <a:lnTo>
                    <a:pt x="27" y="0"/>
                  </a:lnTo>
                  <a:lnTo>
                    <a:pt x="29" y="14"/>
                  </a:lnTo>
                  <a:lnTo>
                    <a:pt x="34" y="14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3" y="29"/>
                  </a:lnTo>
                  <a:lnTo>
                    <a:pt x="14" y="29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6360" y="399600"/>
              <a:ext cx="55440" cy="355320"/>
            </a:xfrm>
            <a:custGeom>
              <a:avLst/>
              <a:gdLst/>
              <a:ahLst/>
              <a:rect l="l" t="t" r="r" b="b"/>
              <a:pathLst>
                <a:path w="36" h="273">
                  <a:moveTo>
                    <a:pt x="0" y="0"/>
                  </a:moveTo>
                  <a:lnTo>
                    <a:pt x="35" y="0"/>
                  </a:lnTo>
                  <a:lnTo>
                    <a:pt x="35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732400" y="411480"/>
              <a:ext cx="48600" cy="355320"/>
            </a:xfrm>
            <a:custGeom>
              <a:avLst/>
              <a:gdLst/>
              <a:ahLst/>
              <a:rect l="l" t="t" r="r" b="b"/>
              <a:pathLst>
                <a:path w="32" h="273">
                  <a:moveTo>
                    <a:pt x="0" y="0"/>
                  </a:moveTo>
                  <a:lnTo>
                    <a:pt x="31" y="0"/>
                  </a:lnTo>
                  <a:lnTo>
                    <a:pt x="31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629800" y="423360"/>
              <a:ext cx="53640" cy="355320"/>
            </a:xfrm>
            <a:custGeom>
              <a:avLst/>
              <a:gdLst/>
              <a:ahLst/>
              <a:rect l="l" t="t" r="r" b="b"/>
              <a:pathLst>
                <a:path w="35" h="274">
                  <a:moveTo>
                    <a:pt x="0" y="0"/>
                  </a:moveTo>
                  <a:lnTo>
                    <a:pt x="34" y="0"/>
                  </a:lnTo>
                  <a:lnTo>
                    <a:pt x="34" y="273"/>
                  </a:lnTo>
                  <a:lnTo>
                    <a:pt x="0" y="273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838240" y="414360"/>
              <a:ext cx="55080" cy="1440"/>
            </a:xfrm>
            <a:custGeom>
              <a:avLst/>
              <a:gdLst/>
              <a:ahLst/>
              <a:rect l="l" t="t" r="r" b="b"/>
              <a:pathLst>
                <a:path w="35" h="1">
                  <a:moveTo>
                    <a:pt x="16" y="0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739240" y="414360"/>
              <a:ext cx="53640" cy="399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6" y="29"/>
                  </a:moveTo>
                  <a:lnTo>
                    <a:pt x="24" y="29"/>
                  </a:lnTo>
                  <a:lnTo>
                    <a:pt x="33" y="29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7" y="29"/>
                  </a:lnTo>
                  <a:lnTo>
                    <a:pt x="16" y="29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641680" y="426600"/>
              <a:ext cx="53640" cy="381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6" y="29"/>
                  </a:moveTo>
                  <a:lnTo>
                    <a:pt x="24" y="29"/>
                  </a:lnTo>
                  <a:lnTo>
                    <a:pt x="33" y="29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7" y="29"/>
                  </a:lnTo>
                  <a:lnTo>
                    <a:pt x="16" y="29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836440" y="399600"/>
              <a:ext cx="50400" cy="355320"/>
            </a:xfrm>
            <a:custGeom>
              <a:avLst/>
              <a:gdLst/>
              <a:ahLst/>
              <a:rect l="l" t="t" r="r" b="b"/>
              <a:pathLst>
                <a:path w="32" h="273">
                  <a:moveTo>
                    <a:pt x="0" y="0"/>
                  </a:moveTo>
                  <a:lnTo>
                    <a:pt x="31" y="0"/>
                  </a:lnTo>
                  <a:lnTo>
                    <a:pt x="31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737440" y="411480"/>
              <a:ext cx="52200" cy="355320"/>
            </a:xfrm>
            <a:custGeom>
              <a:avLst/>
              <a:gdLst/>
              <a:ahLst/>
              <a:rect l="l" t="t" r="r" b="b"/>
              <a:pathLst>
                <a:path w="34" h="273">
                  <a:moveTo>
                    <a:pt x="0" y="0"/>
                  </a:moveTo>
                  <a:lnTo>
                    <a:pt x="33" y="0"/>
                  </a:lnTo>
                  <a:lnTo>
                    <a:pt x="33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634840" y="423360"/>
              <a:ext cx="53640" cy="355320"/>
            </a:xfrm>
            <a:custGeom>
              <a:avLst/>
              <a:gdLst/>
              <a:ahLst/>
              <a:rect l="l" t="t" r="r" b="b"/>
              <a:pathLst>
                <a:path w="35" h="274">
                  <a:moveTo>
                    <a:pt x="0" y="0"/>
                  </a:moveTo>
                  <a:lnTo>
                    <a:pt x="34" y="0"/>
                  </a:lnTo>
                  <a:lnTo>
                    <a:pt x="34" y="273"/>
                  </a:lnTo>
                  <a:lnTo>
                    <a:pt x="0" y="273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895480" y="735840"/>
              <a:ext cx="61920" cy="370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7"/>
                  </a:moveTo>
                  <a:lnTo>
                    <a:pt x="11" y="7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9" y="7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32" y="5"/>
                  </a:lnTo>
                  <a:lnTo>
                    <a:pt x="32" y="7"/>
                  </a:lnTo>
                  <a:lnTo>
                    <a:pt x="39" y="10"/>
                  </a:lnTo>
                  <a:lnTo>
                    <a:pt x="39" y="28"/>
                  </a:lnTo>
                  <a:lnTo>
                    <a:pt x="0" y="28"/>
                  </a:lnTo>
                  <a:lnTo>
                    <a:pt x="0" y="7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895480" y="735840"/>
              <a:ext cx="80280" cy="3708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7"/>
                  </a:moveTo>
                  <a:lnTo>
                    <a:pt x="16" y="7"/>
                  </a:lnTo>
                  <a:lnTo>
                    <a:pt x="16" y="1"/>
                  </a:lnTo>
                  <a:lnTo>
                    <a:pt x="26" y="0"/>
                  </a:lnTo>
                  <a:lnTo>
                    <a:pt x="26" y="7"/>
                  </a:lnTo>
                  <a:lnTo>
                    <a:pt x="32" y="8"/>
                  </a:lnTo>
                  <a:lnTo>
                    <a:pt x="32" y="5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51" y="12"/>
                  </a:lnTo>
                  <a:lnTo>
                    <a:pt x="51" y="28"/>
                  </a:lnTo>
                  <a:lnTo>
                    <a:pt x="0" y="28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841840" y="668520"/>
              <a:ext cx="53640" cy="99720"/>
            </a:xfrm>
            <a:custGeom>
              <a:avLst/>
              <a:gdLst/>
              <a:ahLst/>
              <a:rect l="l" t="t" r="r" b="b"/>
              <a:pathLst>
                <a:path w="34" h="77">
                  <a:moveTo>
                    <a:pt x="0" y="0"/>
                  </a:moveTo>
                  <a:lnTo>
                    <a:pt x="9" y="5"/>
                  </a:lnTo>
                  <a:lnTo>
                    <a:pt x="9" y="16"/>
                  </a:lnTo>
                  <a:lnTo>
                    <a:pt x="24" y="19"/>
                  </a:lnTo>
                  <a:lnTo>
                    <a:pt x="24" y="14"/>
                  </a:lnTo>
                  <a:lnTo>
                    <a:pt x="33" y="16"/>
                  </a:lnTo>
                  <a:lnTo>
                    <a:pt x="33" y="70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841840" y="668520"/>
              <a:ext cx="63360" cy="114480"/>
            </a:xfrm>
            <a:custGeom>
              <a:avLst/>
              <a:gdLst/>
              <a:ahLst/>
              <a:rect l="l" t="t" r="r" b="b"/>
              <a:pathLst>
                <a:path w="41" h="88">
                  <a:moveTo>
                    <a:pt x="0" y="0"/>
                  </a:moveTo>
                  <a:lnTo>
                    <a:pt x="12" y="5"/>
                  </a:lnTo>
                  <a:lnTo>
                    <a:pt x="12" y="18"/>
                  </a:lnTo>
                  <a:lnTo>
                    <a:pt x="31" y="23"/>
                  </a:lnTo>
                  <a:lnTo>
                    <a:pt x="31" y="16"/>
                  </a:lnTo>
                  <a:lnTo>
                    <a:pt x="40" y="18"/>
                  </a:lnTo>
                  <a:lnTo>
                    <a:pt x="40" y="79"/>
                  </a:ln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841840" y="707400"/>
              <a:ext cx="53640" cy="590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0" y="0"/>
                  </a:moveTo>
                  <a:lnTo>
                    <a:pt x="33" y="5"/>
                  </a:lnTo>
                  <a:lnTo>
                    <a:pt x="33" y="42"/>
                  </a:lnTo>
                  <a:lnTo>
                    <a:pt x="24" y="44"/>
                  </a:lnTo>
                  <a:lnTo>
                    <a:pt x="24" y="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2841840" y="707400"/>
              <a:ext cx="53640" cy="727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0"/>
                  </a:moveTo>
                  <a:lnTo>
                    <a:pt x="33" y="7"/>
                  </a:lnTo>
                  <a:lnTo>
                    <a:pt x="33" y="53"/>
                  </a:lnTo>
                  <a:lnTo>
                    <a:pt x="22" y="55"/>
                  </a:lnTo>
                  <a:lnTo>
                    <a:pt x="22" y="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550960" y="601920"/>
              <a:ext cx="228600" cy="175320"/>
            </a:xfrm>
            <a:custGeom>
              <a:avLst/>
              <a:gdLst/>
              <a:ahLst/>
              <a:rect l="l" t="t" r="r" b="b"/>
              <a:pathLst>
                <a:path w="148" h="134">
                  <a:moveTo>
                    <a:pt x="0" y="30"/>
                  </a:moveTo>
                  <a:lnTo>
                    <a:pt x="147" y="0"/>
                  </a:lnTo>
                  <a:lnTo>
                    <a:pt x="147" y="133"/>
                  </a:lnTo>
                  <a:lnTo>
                    <a:pt x="0" y="133"/>
                  </a:lnTo>
                  <a:lnTo>
                    <a:pt x="0" y="3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550960" y="601920"/>
              <a:ext cx="248400" cy="187200"/>
            </a:xfrm>
            <a:custGeom>
              <a:avLst/>
              <a:gdLst/>
              <a:ahLst/>
              <a:rect l="l" t="t" r="r" b="b"/>
              <a:pathLst>
                <a:path w="161" h="144">
                  <a:moveTo>
                    <a:pt x="0" y="32"/>
                  </a:moveTo>
                  <a:lnTo>
                    <a:pt x="160" y="0"/>
                  </a:lnTo>
                  <a:lnTo>
                    <a:pt x="160" y="143"/>
                  </a:lnTo>
                  <a:lnTo>
                    <a:pt x="0" y="143"/>
                  </a:lnTo>
                  <a:lnTo>
                    <a:pt x="0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794680" y="601920"/>
              <a:ext cx="52200" cy="170640"/>
            </a:xfrm>
            <a:custGeom>
              <a:avLst/>
              <a:gdLst/>
              <a:ahLst/>
              <a:rect l="l" t="t" r="r" b="b"/>
              <a:pathLst>
                <a:path w="34" h="131">
                  <a:moveTo>
                    <a:pt x="20" y="0"/>
                  </a:moveTo>
                  <a:lnTo>
                    <a:pt x="20" y="7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22" y="126"/>
                  </a:lnTo>
                  <a:lnTo>
                    <a:pt x="22" y="28"/>
                  </a:lnTo>
                  <a:lnTo>
                    <a:pt x="33" y="30"/>
                  </a:lnTo>
                  <a:lnTo>
                    <a:pt x="33" y="5"/>
                  </a:lnTo>
                  <a:lnTo>
                    <a:pt x="2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94680" y="601920"/>
              <a:ext cx="70200" cy="185760"/>
            </a:xfrm>
            <a:custGeom>
              <a:avLst/>
              <a:gdLst/>
              <a:ahLst/>
              <a:rect l="l" t="t" r="r" b="b"/>
              <a:pathLst>
                <a:path w="46" h="142">
                  <a:moveTo>
                    <a:pt x="27" y="0"/>
                  </a:moveTo>
                  <a:lnTo>
                    <a:pt x="27" y="7"/>
                  </a:lnTo>
                  <a:lnTo>
                    <a:pt x="0" y="0"/>
                  </a:lnTo>
                  <a:lnTo>
                    <a:pt x="0" y="141"/>
                  </a:lnTo>
                  <a:lnTo>
                    <a:pt x="30" y="137"/>
                  </a:lnTo>
                  <a:lnTo>
                    <a:pt x="30" y="30"/>
                  </a:lnTo>
                  <a:lnTo>
                    <a:pt x="45" y="32"/>
                  </a:lnTo>
                  <a:lnTo>
                    <a:pt x="45" y="5"/>
                  </a:lnTo>
                  <a:lnTo>
                    <a:pt x="2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658600" y="613800"/>
              <a:ext cx="50040" cy="99720"/>
            </a:xfrm>
            <a:custGeom>
              <a:avLst/>
              <a:gdLst/>
              <a:ahLst/>
              <a:rect l="l" t="t" r="r" b="b"/>
              <a:pathLst>
                <a:path w="33" h="76">
                  <a:moveTo>
                    <a:pt x="32" y="0"/>
                  </a:moveTo>
                  <a:lnTo>
                    <a:pt x="32" y="73"/>
                  </a:lnTo>
                  <a:lnTo>
                    <a:pt x="0" y="75"/>
                  </a:lnTo>
                  <a:lnTo>
                    <a:pt x="0" y="3"/>
                  </a:lnTo>
                  <a:lnTo>
                    <a:pt x="32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658600" y="613800"/>
              <a:ext cx="50040" cy="112680"/>
            </a:xfrm>
            <a:custGeom>
              <a:avLst/>
              <a:gdLst/>
              <a:ahLst/>
              <a:rect l="l" t="t" r="r" b="b"/>
              <a:pathLst>
                <a:path w="33" h="87">
                  <a:moveTo>
                    <a:pt x="32" y="0"/>
                  </a:moveTo>
                  <a:lnTo>
                    <a:pt x="32" y="84"/>
                  </a:lnTo>
                  <a:lnTo>
                    <a:pt x="0" y="86"/>
                  </a:lnTo>
                  <a:lnTo>
                    <a:pt x="0" y="3"/>
                  </a:lnTo>
                  <a:lnTo>
                    <a:pt x="3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660040" y="726480"/>
              <a:ext cx="5400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24" y="0"/>
                  </a:lnTo>
                  <a:lnTo>
                    <a:pt x="33" y="29"/>
                  </a:lnTo>
                  <a:lnTo>
                    <a:pt x="7" y="29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660040" y="726480"/>
              <a:ext cx="5400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24" y="0"/>
                  </a:lnTo>
                  <a:lnTo>
                    <a:pt x="33" y="29"/>
                  </a:lnTo>
                  <a:lnTo>
                    <a:pt x="9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697120" y="613800"/>
              <a:ext cx="48600" cy="123120"/>
            </a:xfrm>
            <a:custGeom>
              <a:avLst/>
              <a:gdLst/>
              <a:ahLst/>
              <a:rect l="l" t="t" r="r" b="b"/>
              <a:pathLst>
                <a:path w="32" h="95">
                  <a:moveTo>
                    <a:pt x="31" y="0"/>
                  </a:moveTo>
                  <a:lnTo>
                    <a:pt x="0" y="1"/>
                  </a:lnTo>
                  <a:lnTo>
                    <a:pt x="0" y="94"/>
                  </a:lnTo>
                  <a:lnTo>
                    <a:pt x="31" y="74"/>
                  </a:lnTo>
                  <a:lnTo>
                    <a:pt x="31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698920" y="613800"/>
              <a:ext cx="50040" cy="137880"/>
            </a:xfrm>
            <a:custGeom>
              <a:avLst/>
              <a:gdLst/>
              <a:ahLst/>
              <a:rect l="l" t="t" r="r" b="b"/>
              <a:pathLst>
                <a:path w="33" h="106">
                  <a:moveTo>
                    <a:pt x="0" y="0"/>
                  </a:moveTo>
                  <a:lnTo>
                    <a:pt x="32" y="1"/>
                  </a:lnTo>
                  <a:lnTo>
                    <a:pt x="32" y="105"/>
                  </a:ln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611800" y="628560"/>
              <a:ext cx="1440" cy="10836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65"/>
                  </a:lnTo>
                  <a:lnTo>
                    <a:pt x="0" y="8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611800" y="628560"/>
              <a:ext cx="50040" cy="123120"/>
            </a:xfrm>
            <a:custGeom>
              <a:avLst/>
              <a:gdLst/>
              <a:ahLst/>
              <a:rect l="l" t="t" r="r" b="b"/>
              <a:pathLst>
                <a:path w="33" h="95">
                  <a:moveTo>
                    <a:pt x="0" y="0"/>
                  </a:moveTo>
                  <a:lnTo>
                    <a:pt x="0" y="74"/>
                  </a:lnTo>
                  <a:lnTo>
                    <a:pt x="32" y="94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576160" y="628560"/>
              <a:ext cx="50040" cy="87480"/>
            </a:xfrm>
            <a:custGeom>
              <a:avLst/>
              <a:gdLst/>
              <a:ahLst/>
              <a:rect l="l" t="t" r="r" b="b"/>
              <a:pathLst>
                <a:path w="33" h="67">
                  <a:moveTo>
                    <a:pt x="0" y="3"/>
                  </a:moveTo>
                  <a:lnTo>
                    <a:pt x="32" y="0"/>
                  </a:lnTo>
                  <a:lnTo>
                    <a:pt x="32" y="66"/>
                  </a:lnTo>
                  <a:lnTo>
                    <a:pt x="0" y="66"/>
                  </a:lnTo>
                  <a:lnTo>
                    <a:pt x="0" y="3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576160" y="628560"/>
              <a:ext cx="50040" cy="10080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0" y="3"/>
                  </a:moveTo>
                  <a:lnTo>
                    <a:pt x="32" y="0"/>
                  </a:lnTo>
                  <a:lnTo>
                    <a:pt x="32" y="77"/>
                  </a:lnTo>
                  <a:lnTo>
                    <a:pt x="0" y="77"/>
                  </a:lnTo>
                  <a:lnTo>
                    <a:pt x="0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576160" y="726480"/>
              <a:ext cx="5004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19" y="0"/>
                  </a:lnTo>
                  <a:lnTo>
                    <a:pt x="32" y="29"/>
                  </a:lnTo>
                  <a:lnTo>
                    <a:pt x="9" y="29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576160" y="726480"/>
              <a:ext cx="58320" cy="38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0" y="1"/>
                  </a:moveTo>
                  <a:lnTo>
                    <a:pt x="23" y="0"/>
                  </a:lnTo>
                  <a:lnTo>
                    <a:pt x="37" y="29"/>
                  </a:lnTo>
                  <a:lnTo>
                    <a:pt x="11" y="29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739240" y="674640"/>
              <a:ext cx="53640" cy="385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0"/>
                  </a:moveTo>
                  <a:lnTo>
                    <a:pt x="19" y="0"/>
                  </a:lnTo>
                  <a:lnTo>
                    <a:pt x="33" y="28"/>
                  </a:lnTo>
                  <a:lnTo>
                    <a:pt x="9" y="2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739240" y="674640"/>
              <a:ext cx="5688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0"/>
                  </a:moveTo>
                  <a:lnTo>
                    <a:pt x="21" y="0"/>
                  </a:lnTo>
                  <a:lnTo>
                    <a:pt x="35" y="28"/>
                  </a:lnTo>
                  <a:lnTo>
                    <a:pt x="12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2739240" y="603360"/>
              <a:ext cx="53640" cy="6084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46"/>
                  </a:moveTo>
                  <a:lnTo>
                    <a:pt x="33" y="44"/>
                  </a:lnTo>
                  <a:lnTo>
                    <a:pt x="33" y="0"/>
                  </a:lnTo>
                  <a:lnTo>
                    <a:pt x="0" y="3"/>
                  </a:lnTo>
                  <a:lnTo>
                    <a:pt x="0" y="46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2739240" y="603360"/>
              <a:ext cx="53640" cy="74160"/>
            </a:xfrm>
            <a:custGeom>
              <a:avLst/>
              <a:gdLst/>
              <a:ahLst/>
              <a:rect l="l" t="t" r="r" b="b"/>
              <a:pathLst>
                <a:path w="34" h="57">
                  <a:moveTo>
                    <a:pt x="0" y="56"/>
                  </a:moveTo>
                  <a:lnTo>
                    <a:pt x="33" y="54"/>
                  </a:lnTo>
                  <a:lnTo>
                    <a:pt x="33" y="0"/>
                  </a:lnTo>
                  <a:lnTo>
                    <a:pt x="0" y="3"/>
                  </a:lnTo>
                  <a:lnTo>
                    <a:pt x="0" y="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772720" y="601920"/>
              <a:ext cx="1440" cy="96480"/>
            </a:xfrm>
            <a:custGeom>
              <a:avLst/>
              <a:gdLst/>
              <a:ahLst/>
              <a:rect l="l" t="t" r="r" b="b"/>
              <a:pathLst>
                <a:path w="1" h="74">
                  <a:moveTo>
                    <a:pt x="0" y="0"/>
                  </a:moveTo>
                  <a:lnTo>
                    <a:pt x="0" y="48"/>
                  </a:lnTo>
                  <a:lnTo>
                    <a:pt x="0" y="7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2772720" y="601920"/>
              <a:ext cx="50040" cy="11124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0" y="0"/>
                  </a:moveTo>
                  <a:lnTo>
                    <a:pt x="0" y="55"/>
                  </a:lnTo>
                  <a:lnTo>
                    <a:pt x="32" y="84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2653560" y="622800"/>
              <a:ext cx="50040" cy="45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1"/>
                  </a:moveTo>
                  <a:lnTo>
                    <a:pt x="32" y="0"/>
                  </a:lnTo>
                  <a:lnTo>
                    <a:pt x="32" y="35"/>
                  </a:lnTo>
                  <a:lnTo>
                    <a:pt x="0" y="35"/>
                  </a:lnTo>
                  <a:lnTo>
                    <a:pt x="0" y="1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2653560" y="622800"/>
              <a:ext cx="50040" cy="6048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0" y="1"/>
                  </a:moveTo>
                  <a:lnTo>
                    <a:pt x="32" y="0"/>
                  </a:lnTo>
                  <a:lnTo>
                    <a:pt x="32" y="46"/>
                  </a:lnTo>
                  <a:lnTo>
                    <a:pt x="0" y="46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653560" y="682200"/>
              <a:ext cx="50040" cy="37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17" y="0"/>
                  </a:lnTo>
                  <a:lnTo>
                    <a:pt x="32" y="28"/>
                  </a:lnTo>
                  <a:lnTo>
                    <a:pt x="11" y="2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653560" y="682200"/>
              <a:ext cx="50040" cy="37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16" y="0"/>
                  </a:lnTo>
                  <a:lnTo>
                    <a:pt x="32" y="28"/>
                  </a:lnTo>
                  <a:lnTo>
                    <a:pt x="13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2671920" y="622800"/>
              <a:ext cx="53640" cy="8136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34" y="62"/>
                  </a:moveTo>
                  <a:lnTo>
                    <a:pt x="34" y="3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4" y="62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2671920" y="622800"/>
              <a:ext cx="53640" cy="9504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4" y="73"/>
                  </a:moveTo>
                  <a:lnTo>
                    <a:pt x="34" y="3"/>
                  </a:lnTo>
                  <a:lnTo>
                    <a:pt x="0" y="0"/>
                  </a:lnTo>
                  <a:lnTo>
                    <a:pt x="0" y="47"/>
                  </a:lnTo>
                  <a:lnTo>
                    <a:pt x="34" y="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2566440" y="688320"/>
              <a:ext cx="5148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1" y="29"/>
                  </a:moveTo>
                  <a:lnTo>
                    <a:pt x="32" y="29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1" y="2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2566440" y="688320"/>
              <a:ext cx="5148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3" y="29"/>
                  </a:moveTo>
                  <a:lnTo>
                    <a:pt x="32" y="2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13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566440" y="646200"/>
              <a:ext cx="51480" cy="385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32" y="28"/>
                  </a:lnTo>
                  <a:lnTo>
                    <a:pt x="32" y="0"/>
                  </a:lnTo>
                  <a:lnTo>
                    <a:pt x="0" y="1"/>
                  </a:lnTo>
                  <a:lnTo>
                    <a:pt x="0" y="28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566440" y="646200"/>
              <a:ext cx="51480" cy="428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2"/>
                  </a:moveTo>
                  <a:lnTo>
                    <a:pt x="27" y="32"/>
                  </a:lnTo>
                  <a:lnTo>
                    <a:pt x="32" y="0"/>
                  </a:lnTo>
                  <a:lnTo>
                    <a:pt x="0" y="1"/>
                  </a:lnTo>
                  <a:lnTo>
                    <a:pt x="0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589480" y="646200"/>
              <a:ext cx="50400" cy="5940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32" y="0"/>
                  </a:moveTo>
                  <a:lnTo>
                    <a:pt x="32" y="26"/>
                  </a:lnTo>
                  <a:lnTo>
                    <a:pt x="0" y="44"/>
                  </a:lnTo>
                  <a:lnTo>
                    <a:pt x="0" y="5"/>
                  </a:lnTo>
                  <a:lnTo>
                    <a:pt x="32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591280" y="646200"/>
              <a:ext cx="51480" cy="727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0"/>
                  </a:moveTo>
                  <a:lnTo>
                    <a:pt x="0" y="31"/>
                  </a:lnTo>
                  <a:lnTo>
                    <a:pt x="33" y="5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494080" y="678960"/>
              <a:ext cx="87120" cy="93600"/>
            </a:xfrm>
            <a:custGeom>
              <a:avLst/>
              <a:gdLst/>
              <a:ahLst/>
              <a:rect l="l" t="t" r="r" b="b"/>
              <a:pathLst>
                <a:path w="56" h="72">
                  <a:moveTo>
                    <a:pt x="0" y="71"/>
                  </a:moveTo>
                  <a:lnTo>
                    <a:pt x="55" y="71"/>
                  </a:lnTo>
                  <a:lnTo>
                    <a:pt x="55" y="0"/>
                  </a:lnTo>
                  <a:lnTo>
                    <a:pt x="21" y="1"/>
                  </a:lnTo>
                  <a:lnTo>
                    <a:pt x="21" y="53"/>
                  </a:lnTo>
                  <a:lnTo>
                    <a:pt x="0" y="55"/>
                  </a:lnTo>
                  <a:lnTo>
                    <a:pt x="0" y="71"/>
                  </a:lnTo>
                </a:path>
              </a:pathLst>
            </a:custGeom>
            <a:solidFill>
              <a:srgbClr val="604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494080" y="678960"/>
              <a:ext cx="107280" cy="10836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0" y="82"/>
                  </a:moveTo>
                  <a:lnTo>
                    <a:pt x="68" y="82"/>
                  </a:lnTo>
                  <a:lnTo>
                    <a:pt x="68" y="0"/>
                  </a:lnTo>
                  <a:lnTo>
                    <a:pt x="25" y="1"/>
                  </a:lnTo>
                  <a:lnTo>
                    <a:pt x="25" y="60"/>
                  </a:lnTo>
                  <a:lnTo>
                    <a:pt x="0" y="64"/>
                  </a:lnTo>
                  <a:lnTo>
                    <a:pt x="0" y="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937240" y="717840"/>
              <a:ext cx="1440" cy="4860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5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36"/>
                  </a:lnTo>
                  <a:lnTo>
                    <a:pt x="0" y="5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937240" y="717840"/>
              <a:ext cx="55440" cy="6228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0" y="7"/>
                  </a:moveTo>
                  <a:lnTo>
                    <a:pt x="0" y="5"/>
                  </a:lnTo>
                  <a:lnTo>
                    <a:pt x="4" y="1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28" y="1"/>
                  </a:lnTo>
                  <a:lnTo>
                    <a:pt x="35" y="3"/>
                  </a:lnTo>
                  <a:lnTo>
                    <a:pt x="35" y="5"/>
                  </a:lnTo>
                  <a:lnTo>
                    <a:pt x="35" y="7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47"/>
                  </a:lnTo>
                  <a:lnTo>
                    <a:pt x="0" y="4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542680" y="765360"/>
              <a:ext cx="5508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542680" y="765360"/>
              <a:ext cx="5508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576160" y="765360"/>
              <a:ext cx="5004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0"/>
                  </a:lnTo>
                  <a:lnTo>
                    <a:pt x="32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576160" y="765360"/>
              <a:ext cx="5004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29"/>
                  </a:lnTo>
                  <a:lnTo>
                    <a:pt x="32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604600" y="765360"/>
              <a:ext cx="5220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0"/>
                  </a:lnTo>
                  <a:lnTo>
                    <a:pt x="32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604600" y="765360"/>
              <a:ext cx="5220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29"/>
                  </a:lnTo>
                  <a:lnTo>
                    <a:pt x="32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2634840" y="76536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634840" y="76536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665440" y="76536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665440" y="76536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697120" y="765360"/>
              <a:ext cx="48600" cy="38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31" y="0"/>
                  </a:lnTo>
                  <a:lnTo>
                    <a:pt x="31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697120" y="765360"/>
              <a:ext cx="48600" cy="38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727360" y="765360"/>
              <a:ext cx="5220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0"/>
                  </a:lnTo>
                  <a:lnTo>
                    <a:pt x="33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727360" y="765360"/>
              <a:ext cx="5220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29"/>
                  </a:lnTo>
                  <a:lnTo>
                    <a:pt x="33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759400" y="765360"/>
              <a:ext cx="5364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0"/>
                  </a:lnTo>
                  <a:lnTo>
                    <a:pt x="33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759400" y="765360"/>
              <a:ext cx="5364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29"/>
                  </a:lnTo>
                  <a:lnTo>
                    <a:pt x="33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620080" y="76536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712240" y="76536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653560" y="76536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682000" y="76536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591280" y="76536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561040" y="76536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739240" y="76536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72720" y="76536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498760" y="756720"/>
              <a:ext cx="265320" cy="38160"/>
            </a:xfrm>
            <a:custGeom>
              <a:avLst/>
              <a:gdLst/>
              <a:ahLst/>
              <a:rect l="l" t="t" r="r" b="b"/>
              <a:pathLst>
                <a:path w="172" h="30">
                  <a:moveTo>
                    <a:pt x="0" y="29"/>
                  </a:moveTo>
                  <a:lnTo>
                    <a:pt x="11" y="0"/>
                  </a:lnTo>
                  <a:lnTo>
                    <a:pt x="171" y="0"/>
                  </a:lnTo>
                  <a:lnTo>
                    <a:pt x="171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882160" y="710280"/>
              <a:ext cx="51480" cy="6840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0" y="8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6" y="0"/>
                  </a:lnTo>
                  <a:lnTo>
                    <a:pt x="33" y="1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16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52"/>
                  </a:lnTo>
                  <a:lnTo>
                    <a:pt x="0" y="8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882160" y="710280"/>
              <a:ext cx="51480" cy="7992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0" y="10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3" y="1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28" y="5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24" y="10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7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2"/>
                  </a:lnTo>
                  <a:lnTo>
                    <a:pt x="3" y="61"/>
                  </a:lnTo>
                  <a:lnTo>
                    <a:pt x="0" y="61"/>
                  </a:lnTo>
                  <a:lnTo>
                    <a:pt x="0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826360" y="769680"/>
              <a:ext cx="5544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8"/>
                  </a:moveTo>
                  <a:lnTo>
                    <a:pt x="35" y="28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26360" y="769680"/>
              <a:ext cx="5544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8"/>
                  </a:moveTo>
                  <a:lnTo>
                    <a:pt x="35" y="28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855160" y="769680"/>
              <a:ext cx="53640" cy="385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0"/>
                  </a:moveTo>
                  <a:lnTo>
                    <a:pt x="33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3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863440" y="76968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0" y="28"/>
                  </a:lnTo>
                  <a:lnTo>
                    <a:pt x="34" y="24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982600" y="72972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34" y="3"/>
                  </a:moveTo>
                  <a:lnTo>
                    <a:pt x="34" y="1"/>
                  </a:lnTo>
                  <a:lnTo>
                    <a:pt x="16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"/>
                  </a:lnTo>
                  <a:lnTo>
                    <a:pt x="16" y="1"/>
                  </a:lnTo>
                  <a:lnTo>
                    <a:pt x="16" y="3"/>
                  </a:lnTo>
                  <a:lnTo>
                    <a:pt x="16" y="29"/>
                  </a:lnTo>
                  <a:lnTo>
                    <a:pt x="34" y="29"/>
                  </a:lnTo>
                  <a:lnTo>
                    <a:pt x="34" y="3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993040" y="729720"/>
              <a:ext cx="48240" cy="428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5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31" y="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14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32"/>
                  </a:lnTo>
                  <a:lnTo>
                    <a:pt x="0" y="32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821680" y="779040"/>
              <a:ext cx="53640" cy="3708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0"/>
                  </a:lnTo>
                  <a:lnTo>
                    <a:pt x="34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824920" y="779040"/>
              <a:ext cx="53640" cy="3708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24920" y="763920"/>
              <a:ext cx="53640" cy="3708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28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824920" y="763920"/>
              <a:ext cx="53640" cy="3708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821680" y="74880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0"/>
                  </a:lnTo>
                  <a:lnTo>
                    <a:pt x="34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824920" y="75060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824920" y="736920"/>
              <a:ext cx="53640" cy="3996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0"/>
                  </a:moveTo>
                  <a:lnTo>
                    <a:pt x="34" y="30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824920" y="736920"/>
              <a:ext cx="53640" cy="3996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0"/>
                  </a:moveTo>
                  <a:lnTo>
                    <a:pt x="34" y="30"/>
                  </a:lnTo>
                  <a:lnTo>
                    <a:pt x="34" y="0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821680" y="72648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824920" y="72648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824920" y="714960"/>
              <a:ext cx="53640" cy="3708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28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824920" y="71172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534400" y="653760"/>
              <a:ext cx="211320" cy="38520"/>
            </a:xfrm>
            <a:custGeom>
              <a:avLst/>
              <a:gdLst/>
              <a:ahLst/>
              <a:rect l="l" t="t" r="r" b="b"/>
              <a:pathLst>
                <a:path w="137" h="30">
                  <a:moveTo>
                    <a:pt x="136" y="0"/>
                  </a:moveTo>
                  <a:lnTo>
                    <a:pt x="136" y="18"/>
                  </a:lnTo>
                  <a:lnTo>
                    <a:pt x="1" y="29"/>
                  </a:lnTo>
                  <a:lnTo>
                    <a:pt x="0" y="18"/>
                  </a:lnTo>
                  <a:lnTo>
                    <a:pt x="136" y="0"/>
                  </a:lnTo>
                </a:path>
              </a:pathLst>
            </a:custGeom>
            <a:solidFill>
              <a:srgbClr val="a08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4400" y="653760"/>
              <a:ext cx="231480" cy="38520"/>
            </a:xfrm>
            <a:custGeom>
              <a:avLst/>
              <a:gdLst/>
              <a:ahLst/>
              <a:rect l="l" t="t" r="r" b="b"/>
              <a:pathLst>
                <a:path w="150" h="30">
                  <a:moveTo>
                    <a:pt x="149" y="0"/>
                  </a:moveTo>
                  <a:lnTo>
                    <a:pt x="149" y="18"/>
                  </a:lnTo>
                  <a:lnTo>
                    <a:pt x="1" y="29"/>
                  </a:lnTo>
                  <a:lnTo>
                    <a:pt x="0" y="16"/>
                  </a:lnTo>
                  <a:lnTo>
                    <a:pt x="1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629800" y="622800"/>
              <a:ext cx="53640" cy="414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9" y="0"/>
                  </a:moveTo>
                  <a:lnTo>
                    <a:pt x="34" y="5"/>
                  </a:lnTo>
                  <a:lnTo>
                    <a:pt x="34" y="13"/>
                  </a:lnTo>
                  <a:lnTo>
                    <a:pt x="19" y="15"/>
                  </a:lnTo>
                  <a:lnTo>
                    <a:pt x="8" y="30"/>
                  </a:lnTo>
                  <a:lnTo>
                    <a:pt x="0" y="32"/>
                  </a:lnTo>
                  <a:lnTo>
                    <a:pt x="1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9800" y="622800"/>
              <a:ext cx="53640" cy="5472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17" y="0"/>
                  </a:moveTo>
                  <a:lnTo>
                    <a:pt x="34" y="7"/>
                  </a:lnTo>
                  <a:lnTo>
                    <a:pt x="34" y="18"/>
                  </a:lnTo>
                  <a:lnTo>
                    <a:pt x="17" y="20"/>
                  </a:lnTo>
                  <a:lnTo>
                    <a:pt x="8" y="40"/>
                  </a:lnTo>
                  <a:lnTo>
                    <a:pt x="0" y="42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611800" y="622800"/>
              <a:ext cx="50040" cy="414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1"/>
                  </a:moveTo>
                  <a:lnTo>
                    <a:pt x="32" y="0"/>
                  </a:lnTo>
                  <a:lnTo>
                    <a:pt x="11" y="32"/>
                  </a:lnTo>
                  <a:lnTo>
                    <a:pt x="0" y="32"/>
                  </a:lnTo>
                  <a:lnTo>
                    <a:pt x="17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611800" y="622800"/>
              <a:ext cx="50040" cy="5472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16" y="3"/>
                  </a:moveTo>
                  <a:lnTo>
                    <a:pt x="32" y="0"/>
                  </a:lnTo>
                  <a:lnTo>
                    <a:pt x="13" y="42"/>
                  </a:lnTo>
                  <a:lnTo>
                    <a:pt x="0" y="42"/>
                  </a:lnTo>
                  <a:lnTo>
                    <a:pt x="16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698920" y="608040"/>
              <a:ext cx="50040" cy="45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1"/>
                  </a:moveTo>
                  <a:lnTo>
                    <a:pt x="32" y="0"/>
                  </a:lnTo>
                  <a:lnTo>
                    <a:pt x="16" y="33"/>
                  </a:lnTo>
                  <a:lnTo>
                    <a:pt x="0" y="35"/>
                  </a:lnTo>
                  <a:lnTo>
                    <a:pt x="17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698920" y="608040"/>
              <a:ext cx="50040" cy="6048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17" y="1"/>
                  </a:moveTo>
                  <a:lnTo>
                    <a:pt x="32" y="0"/>
                  </a:lnTo>
                  <a:lnTo>
                    <a:pt x="16" y="44"/>
                  </a:lnTo>
                  <a:lnTo>
                    <a:pt x="0" y="46"/>
                  </a:lnTo>
                  <a:lnTo>
                    <a:pt x="17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724120" y="608040"/>
              <a:ext cx="53640" cy="442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9" y="0"/>
                  </a:moveTo>
                  <a:lnTo>
                    <a:pt x="0" y="33"/>
                  </a:lnTo>
                  <a:lnTo>
                    <a:pt x="12" y="29"/>
                  </a:lnTo>
                  <a:lnTo>
                    <a:pt x="19" y="15"/>
                  </a:lnTo>
                  <a:lnTo>
                    <a:pt x="33" y="13"/>
                  </a:lnTo>
                  <a:lnTo>
                    <a:pt x="33" y="6"/>
                  </a:lnTo>
                  <a:lnTo>
                    <a:pt x="1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724120" y="608040"/>
              <a:ext cx="53640" cy="5796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17" y="0"/>
                  </a:moveTo>
                  <a:lnTo>
                    <a:pt x="0" y="44"/>
                  </a:lnTo>
                  <a:lnTo>
                    <a:pt x="9" y="40"/>
                  </a:lnTo>
                  <a:lnTo>
                    <a:pt x="17" y="21"/>
                  </a:lnTo>
                  <a:lnTo>
                    <a:pt x="33" y="19"/>
                  </a:lnTo>
                  <a:lnTo>
                    <a:pt x="33" y="8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768040" y="768600"/>
              <a:ext cx="5148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28"/>
                  </a:moveTo>
                  <a:lnTo>
                    <a:pt x="33" y="28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768040" y="768600"/>
              <a:ext cx="5148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28"/>
                  </a:moveTo>
                  <a:lnTo>
                    <a:pt x="33" y="28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816640" y="768600"/>
              <a:ext cx="1440" cy="37080"/>
            </a:xfrm>
            <a:custGeom>
              <a:avLst/>
              <a:gdLst/>
              <a:ahLst/>
              <a:rect l="l" t="t" r="r" b="b"/>
              <a:pathLst>
                <a:path w="1" h="29">
                  <a:moveTo>
                    <a:pt x="0" y="0"/>
                  </a:moveTo>
                  <a:lnTo>
                    <a:pt x="0" y="2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816640" y="768600"/>
              <a:ext cx="51480" cy="37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0" y="28"/>
                  </a:lnTo>
                  <a:lnTo>
                    <a:pt x="32" y="28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542680" y="685080"/>
              <a:ext cx="68760" cy="41400"/>
            </a:xfrm>
            <a:custGeom>
              <a:avLst/>
              <a:gdLst/>
              <a:ahLst/>
              <a:rect l="l" t="t" r="r" b="b"/>
              <a:pathLst>
                <a:path w="44" h="31">
                  <a:moveTo>
                    <a:pt x="0" y="9"/>
                  </a:moveTo>
                  <a:lnTo>
                    <a:pt x="38" y="30"/>
                  </a:lnTo>
                  <a:lnTo>
                    <a:pt x="43" y="0"/>
                  </a:lnTo>
                  <a:lnTo>
                    <a:pt x="3" y="0"/>
                  </a:lnTo>
                  <a:lnTo>
                    <a:pt x="0" y="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542680" y="694080"/>
              <a:ext cx="83520" cy="37080"/>
            </a:xfrm>
            <a:custGeom>
              <a:avLst/>
              <a:gdLst/>
              <a:ahLst/>
              <a:rect l="l" t="t" r="r" b="b"/>
              <a:pathLst>
                <a:path w="54" h="29">
                  <a:moveTo>
                    <a:pt x="0" y="17"/>
                  </a:moveTo>
                  <a:lnTo>
                    <a:pt x="48" y="0"/>
                  </a:lnTo>
                  <a:lnTo>
                    <a:pt x="53" y="28"/>
                  </a:lnTo>
                  <a:lnTo>
                    <a:pt x="5" y="28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534400" y="695520"/>
              <a:ext cx="50040" cy="83160"/>
            </a:xfrm>
            <a:custGeom>
              <a:avLst/>
              <a:gdLst/>
              <a:ahLst/>
              <a:rect l="l" t="t" r="r" b="b"/>
              <a:pathLst>
                <a:path w="33" h="64">
                  <a:moveTo>
                    <a:pt x="32" y="63"/>
                  </a:moveTo>
                  <a:lnTo>
                    <a:pt x="32" y="0"/>
                  </a:lnTo>
                  <a:lnTo>
                    <a:pt x="0" y="3"/>
                  </a:lnTo>
                  <a:lnTo>
                    <a:pt x="0" y="63"/>
                  </a:lnTo>
                  <a:lnTo>
                    <a:pt x="32" y="63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542680" y="695520"/>
              <a:ext cx="55080" cy="95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72"/>
                  </a:moveTo>
                  <a:lnTo>
                    <a:pt x="0" y="0"/>
                  </a:lnTo>
                  <a:lnTo>
                    <a:pt x="34" y="3"/>
                  </a:lnTo>
                  <a:lnTo>
                    <a:pt x="34" y="72"/>
                  </a:lnTo>
                  <a:lnTo>
                    <a:pt x="0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609640" y="694080"/>
              <a:ext cx="50040" cy="8604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31" y="66"/>
                  </a:moveTo>
                  <a:lnTo>
                    <a:pt x="31" y="0"/>
                  </a:lnTo>
                  <a:lnTo>
                    <a:pt x="0" y="3"/>
                  </a:lnTo>
                  <a:lnTo>
                    <a:pt x="0" y="66"/>
                  </a:lnTo>
                  <a:lnTo>
                    <a:pt x="31" y="66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616480" y="694080"/>
              <a:ext cx="50040" cy="10080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0" y="77"/>
                  </a:moveTo>
                  <a:lnTo>
                    <a:pt x="0" y="0"/>
                  </a:lnTo>
                  <a:lnTo>
                    <a:pt x="32" y="3"/>
                  </a:lnTo>
                  <a:lnTo>
                    <a:pt x="32" y="77"/>
                  </a:lnTo>
                  <a:lnTo>
                    <a:pt x="0" y="7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620080" y="683640"/>
              <a:ext cx="83520" cy="38520"/>
            </a:xfrm>
            <a:custGeom>
              <a:avLst/>
              <a:gdLst/>
              <a:ahLst/>
              <a:rect l="l" t="t" r="r" b="b"/>
              <a:pathLst>
                <a:path w="55" h="30">
                  <a:moveTo>
                    <a:pt x="0" y="18"/>
                  </a:moveTo>
                  <a:lnTo>
                    <a:pt x="45" y="29"/>
                  </a:lnTo>
                  <a:lnTo>
                    <a:pt x="54" y="9"/>
                  </a:lnTo>
                  <a:lnTo>
                    <a:pt x="3" y="0"/>
                  </a:lnTo>
                  <a:lnTo>
                    <a:pt x="0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20080" y="691200"/>
              <a:ext cx="102240" cy="38160"/>
            </a:xfrm>
            <a:custGeom>
              <a:avLst/>
              <a:gdLst/>
              <a:ahLst/>
              <a:rect l="l" t="t" r="r" b="b"/>
              <a:pathLst>
                <a:path w="67" h="30">
                  <a:moveTo>
                    <a:pt x="0" y="9"/>
                  </a:moveTo>
                  <a:lnTo>
                    <a:pt x="55" y="0"/>
                  </a:lnTo>
                  <a:lnTo>
                    <a:pt x="66" y="18"/>
                  </a:lnTo>
                  <a:lnTo>
                    <a:pt x="3" y="29"/>
                  </a:lnTo>
                  <a:lnTo>
                    <a:pt x="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698920" y="688320"/>
              <a:ext cx="50040" cy="91800"/>
            </a:xfrm>
            <a:custGeom>
              <a:avLst/>
              <a:gdLst/>
              <a:ahLst/>
              <a:rect l="l" t="t" r="r" b="b"/>
              <a:pathLst>
                <a:path w="33" h="71">
                  <a:moveTo>
                    <a:pt x="32" y="70"/>
                  </a:moveTo>
                  <a:lnTo>
                    <a:pt x="32" y="0"/>
                  </a:lnTo>
                  <a:lnTo>
                    <a:pt x="0" y="5"/>
                  </a:lnTo>
                  <a:lnTo>
                    <a:pt x="0" y="70"/>
                  </a:lnTo>
                  <a:lnTo>
                    <a:pt x="32" y="70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707200" y="688320"/>
              <a:ext cx="53640" cy="106560"/>
            </a:xfrm>
            <a:custGeom>
              <a:avLst/>
              <a:gdLst/>
              <a:ahLst/>
              <a:rect l="l" t="t" r="r" b="b"/>
              <a:pathLst>
                <a:path w="35" h="82">
                  <a:moveTo>
                    <a:pt x="0" y="81"/>
                  </a:moveTo>
                  <a:lnTo>
                    <a:pt x="0" y="0"/>
                  </a:lnTo>
                  <a:lnTo>
                    <a:pt x="34" y="5"/>
                  </a:lnTo>
                  <a:lnTo>
                    <a:pt x="34" y="81"/>
                  </a:lnTo>
                  <a:lnTo>
                    <a:pt x="0" y="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4395960" y="2703600"/>
            <a:ext cx="547200" cy="418680"/>
            <a:chOff x="4395960" y="2703600"/>
            <a:chExt cx="547200" cy="418680"/>
          </a:xfrm>
        </p:grpSpPr>
        <p:sp>
          <p:nvSpPr>
            <p:cNvPr id="2372" name=""/>
            <p:cNvSpPr/>
            <p:nvPr/>
          </p:nvSpPr>
          <p:spPr>
            <a:xfrm>
              <a:off x="4733280" y="2703600"/>
              <a:ext cx="5220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3" y="0"/>
                  </a:moveTo>
                  <a:lnTo>
                    <a:pt x="20" y="0"/>
                  </a:lnTo>
                  <a:lnTo>
                    <a:pt x="28" y="0"/>
                  </a:lnTo>
                  <a:lnTo>
                    <a:pt x="33" y="14"/>
                  </a:lnTo>
                  <a:lnTo>
                    <a:pt x="33" y="28"/>
                  </a:lnTo>
                  <a:lnTo>
                    <a:pt x="28" y="28"/>
                  </a:lnTo>
                  <a:lnTo>
                    <a:pt x="20" y="28"/>
                  </a:lnTo>
                  <a:lnTo>
                    <a:pt x="13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733280" y="2703600"/>
              <a:ext cx="55440" cy="37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15" y="0"/>
                  </a:moveTo>
                  <a:lnTo>
                    <a:pt x="22" y="0"/>
                  </a:lnTo>
                  <a:lnTo>
                    <a:pt x="30" y="3"/>
                  </a:lnTo>
                  <a:lnTo>
                    <a:pt x="35" y="7"/>
                  </a:lnTo>
                  <a:lnTo>
                    <a:pt x="35" y="14"/>
                  </a:lnTo>
                  <a:lnTo>
                    <a:pt x="35" y="21"/>
                  </a:lnTo>
                  <a:lnTo>
                    <a:pt x="30" y="24"/>
                  </a:lnTo>
                  <a:lnTo>
                    <a:pt x="22" y="28"/>
                  </a:lnTo>
                  <a:lnTo>
                    <a:pt x="15" y="28"/>
                  </a:lnTo>
                  <a:lnTo>
                    <a:pt x="9" y="28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3" y="3"/>
                  </a:lnTo>
                  <a:lnTo>
                    <a:pt x="9" y="0"/>
                  </a:lnTo>
                  <a:lnTo>
                    <a:pt x="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637880" y="2715480"/>
              <a:ext cx="5004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0"/>
                  </a:moveTo>
                  <a:lnTo>
                    <a:pt x="19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32" y="14"/>
                  </a:lnTo>
                  <a:lnTo>
                    <a:pt x="27" y="29"/>
                  </a:lnTo>
                  <a:lnTo>
                    <a:pt x="25" y="29"/>
                  </a:lnTo>
                  <a:lnTo>
                    <a:pt x="19" y="29"/>
                  </a:lnTo>
                  <a:lnTo>
                    <a:pt x="16" y="29"/>
                  </a:lnTo>
                  <a:lnTo>
                    <a:pt x="7" y="29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3" y="0"/>
                  </a:lnTo>
                  <a:lnTo>
                    <a:pt x="7" y="0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637880" y="2715480"/>
              <a:ext cx="56880" cy="3816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7" y="0"/>
                  </a:moveTo>
                  <a:lnTo>
                    <a:pt x="24" y="0"/>
                  </a:lnTo>
                  <a:lnTo>
                    <a:pt x="29" y="3"/>
                  </a:lnTo>
                  <a:lnTo>
                    <a:pt x="33" y="10"/>
                  </a:lnTo>
                  <a:lnTo>
                    <a:pt x="36" y="14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29"/>
                  </a:lnTo>
                  <a:lnTo>
                    <a:pt x="17" y="29"/>
                  </a:lnTo>
                  <a:lnTo>
                    <a:pt x="9" y="29"/>
                  </a:lnTo>
                  <a:lnTo>
                    <a:pt x="5" y="25"/>
                  </a:lnTo>
                  <a:lnTo>
                    <a:pt x="1" y="21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5" y="3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535280" y="2727360"/>
              <a:ext cx="5220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1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28" y="9"/>
                  </a:lnTo>
                  <a:lnTo>
                    <a:pt x="33" y="18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0" y="29"/>
                  </a:lnTo>
                  <a:lnTo>
                    <a:pt x="11" y="29"/>
                  </a:lnTo>
                  <a:lnTo>
                    <a:pt x="7" y="29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535280" y="2727360"/>
              <a:ext cx="58320" cy="38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16" y="0"/>
                  </a:moveTo>
                  <a:lnTo>
                    <a:pt x="23" y="0"/>
                  </a:lnTo>
                  <a:lnTo>
                    <a:pt x="30" y="1"/>
                  </a:lnTo>
                  <a:lnTo>
                    <a:pt x="34" y="9"/>
                  </a:lnTo>
                  <a:lnTo>
                    <a:pt x="37" y="14"/>
                  </a:lnTo>
                  <a:lnTo>
                    <a:pt x="34" y="18"/>
                  </a:lnTo>
                  <a:lnTo>
                    <a:pt x="30" y="21"/>
                  </a:lnTo>
                  <a:lnTo>
                    <a:pt x="23" y="25"/>
                  </a:lnTo>
                  <a:lnTo>
                    <a:pt x="16" y="29"/>
                  </a:lnTo>
                  <a:lnTo>
                    <a:pt x="9" y="25"/>
                  </a:lnTo>
                  <a:lnTo>
                    <a:pt x="5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5" y="1"/>
                  </a:lnTo>
                  <a:lnTo>
                    <a:pt x="9" y="0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728240" y="2706480"/>
              <a:ext cx="55440" cy="357840"/>
            </a:xfrm>
            <a:custGeom>
              <a:avLst/>
              <a:gdLst/>
              <a:ahLst/>
              <a:rect l="l" t="t" r="r" b="b"/>
              <a:pathLst>
                <a:path w="36" h="275">
                  <a:moveTo>
                    <a:pt x="0" y="0"/>
                  </a:moveTo>
                  <a:lnTo>
                    <a:pt x="35" y="0"/>
                  </a:lnTo>
                  <a:lnTo>
                    <a:pt x="35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728240" y="2706480"/>
              <a:ext cx="56880" cy="371520"/>
            </a:xfrm>
            <a:custGeom>
              <a:avLst/>
              <a:gdLst/>
              <a:ahLst/>
              <a:rect l="l" t="t" r="r" b="b"/>
              <a:pathLst>
                <a:path w="37" h="286">
                  <a:moveTo>
                    <a:pt x="0" y="0"/>
                  </a:moveTo>
                  <a:lnTo>
                    <a:pt x="36" y="0"/>
                  </a:lnTo>
                  <a:lnTo>
                    <a:pt x="36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634280" y="2718360"/>
              <a:ext cx="48600" cy="356400"/>
            </a:xfrm>
            <a:custGeom>
              <a:avLst/>
              <a:gdLst/>
              <a:ahLst/>
              <a:rect l="l" t="t" r="r" b="b"/>
              <a:pathLst>
                <a:path w="32" h="275">
                  <a:moveTo>
                    <a:pt x="0" y="0"/>
                  </a:moveTo>
                  <a:lnTo>
                    <a:pt x="31" y="0"/>
                  </a:lnTo>
                  <a:lnTo>
                    <a:pt x="31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634280" y="2718360"/>
              <a:ext cx="56880" cy="371520"/>
            </a:xfrm>
            <a:custGeom>
              <a:avLst/>
              <a:gdLst/>
              <a:ahLst/>
              <a:rect l="l" t="t" r="r" b="b"/>
              <a:pathLst>
                <a:path w="37" h="286">
                  <a:moveTo>
                    <a:pt x="0" y="0"/>
                  </a:moveTo>
                  <a:lnTo>
                    <a:pt x="36" y="0"/>
                  </a:lnTo>
                  <a:lnTo>
                    <a:pt x="36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531680" y="2730240"/>
              <a:ext cx="53640" cy="356400"/>
            </a:xfrm>
            <a:custGeom>
              <a:avLst/>
              <a:gdLst/>
              <a:ahLst/>
              <a:rect l="l" t="t" r="r" b="b"/>
              <a:pathLst>
                <a:path w="35" h="275">
                  <a:moveTo>
                    <a:pt x="0" y="0"/>
                  </a:moveTo>
                  <a:lnTo>
                    <a:pt x="34" y="0"/>
                  </a:lnTo>
                  <a:lnTo>
                    <a:pt x="34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531680" y="2730240"/>
              <a:ext cx="58320" cy="371160"/>
            </a:xfrm>
            <a:custGeom>
              <a:avLst/>
              <a:gdLst/>
              <a:ahLst/>
              <a:rect l="l" t="t" r="r" b="b"/>
              <a:pathLst>
                <a:path w="38" h="286">
                  <a:moveTo>
                    <a:pt x="0" y="0"/>
                  </a:moveTo>
                  <a:lnTo>
                    <a:pt x="37" y="0"/>
                  </a:lnTo>
                  <a:lnTo>
                    <a:pt x="37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738320" y="2706480"/>
              <a:ext cx="50400" cy="367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4" y="0"/>
                  </a:moveTo>
                  <a:lnTo>
                    <a:pt x="22" y="0"/>
                  </a:lnTo>
                  <a:lnTo>
                    <a:pt x="26" y="0"/>
                  </a:lnTo>
                  <a:lnTo>
                    <a:pt x="31" y="14"/>
                  </a:lnTo>
                  <a:lnTo>
                    <a:pt x="26" y="28"/>
                  </a:lnTo>
                  <a:lnTo>
                    <a:pt x="22" y="28"/>
                  </a:lnTo>
                  <a:lnTo>
                    <a:pt x="14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639320" y="2718360"/>
              <a:ext cx="5220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5" y="0"/>
                  </a:moveTo>
                  <a:lnTo>
                    <a:pt x="22" y="0"/>
                  </a:lnTo>
                  <a:lnTo>
                    <a:pt x="28" y="0"/>
                  </a:lnTo>
                  <a:lnTo>
                    <a:pt x="33" y="14"/>
                  </a:lnTo>
                  <a:lnTo>
                    <a:pt x="33" y="28"/>
                  </a:lnTo>
                  <a:lnTo>
                    <a:pt x="28" y="28"/>
                  </a:lnTo>
                  <a:lnTo>
                    <a:pt x="22" y="28"/>
                  </a:lnTo>
                  <a:lnTo>
                    <a:pt x="15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5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536720" y="2730240"/>
              <a:ext cx="53640" cy="3816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14" y="0"/>
                  </a:moveTo>
                  <a:lnTo>
                    <a:pt x="23" y="0"/>
                  </a:lnTo>
                  <a:lnTo>
                    <a:pt x="27" y="0"/>
                  </a:lnTo>
                  <a:lnTo>
                    <a:pt x="29" y="14"/>
                  </a:lnTo>
                  <a:lnTo>
                    <a:pt x="34" y="14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3" y="29"/>
                  </a:lnTo>
                  <a:lnTo>
                    <a:pt x="14" y="29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728240" y="2706480"/>
              <a:ext cx="55440" cy="354960"/>
            </a:xfrm>
            <a:custGeom>
              <a:avLst/>
              <a:gdLst/>
              <a:ahLst/>
              <a:rect l="l" t="t" r="r" b="b"/>
              <a:pathLst>
                <a:path w="36" h="273">
                  <a:moveTo>
                    <a:pt x="0" y="0"/>
                  </a:moveTo>
                  <a:lnTo>
                    <a:pt x="35" y="0"/>
                  </a:lnTo>
                  <a:lnTo>
                    <a:pt x="35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634280" y="2718360"/>
              <a:ext cx="48600" cy="354960"/>
            </a:xfrm>
            <a:custGeom>
              <a:avLst/>
              <a:gdLst/>
              <a:ahLst/>
              <a:rect l="l" t="t" r="r" b="b"/>
              <a:pathLst>
                <a:path w="32" h="273">
                  <a:moveTo>
                    <a:pt x="0" y="0"/>
                  </a:moveTo>
                  <a:lnTo>
                    <a:pt x="31" y="0"/>
                  </a:lnTo>
                  <a:lnTo>
                    <a:pt x="31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531680" y="2730240"/>
              <a:ext cx="53640" cy="354960"/>
            </a:xfrm>
            <a:custGeom>
              <a:avLst/>
              <a:gdLst/>
              <a:ahLst/>
              <a:rect l="l" t="t" r="r" b="b"/>
              <a:pathLst>
                <a:path w="35" h="274">
                  <a:moveTo>
                    <a:pt x="0" y="0"/>
                  </a:moveTo>
                  <a:lnTo>
                    <a:pt x="34" y="0"/>
                  </a:lnTo>
                  <a:lnTo>
                    <a:pt x="34" y="273"/>
                  </a:lnTo>
                  <a:lnTo>
                    <a:pt x="0" y="273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740120" y="2721240"/>
              <a:ext cx="55080" cy="1440"/>
            </a:xfrm>
            <a:custGeom>
              <a:avLst/>
              <a:gdLst/>
              <a:ahLst/>
              <a:rect l="l" t="t" r="r" b="b"/>
              <a:pathLst>
                <a:path w="35" h="1">
                  <a:moveTo>
                    <a:pt x="16" y="0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641120" y="2721240"/>
              <a:ext cx="53640" cy="399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6" y="29"/>
                  </a:moveTo>
                  <a:lnTo>
                    <a:pt x="24" y="29"/>
                  </a:lnTo>
                  <a:lnTo>
                    <a:pt x="33" y="29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7" y="29"/>
                  </a:lnTo>
                  <a:lnTo>
                    <a:pt x="16" y="29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543560" y="2733480"/>
              <a:ext cx="53640" cy="381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6" y="29"/>
                  </a:moveTo>
                  <a:lnTo>
                    <a:pt x="24" y="29"/>
                  </a:lnTo>
                  <a:lnTo>
                    <a:pt x="33" y="29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7" y="29"/>
                  </a:lnTo>
                  <a:lnTo>
                    <a:pt x="16" y="29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738320" y="2706480"/>
              <a:ext cx="50400" cy="354960"/>
            </a:xfrm>
            <a:custGeom>
              <a:avLst/>
              <a:gdLst/>
              <a:ahLst/>
              <a:rect l="l" t="t" r="r" b="b"/>
              <a:pathLst>
                <a:path w="32" h="273">
                  <a:moveTo>
                    <a:pt x="0" y="0"/>
                  </a:moveTo>
                  <a:lnTo>
                    <a:pt x="31" y="0"/>
                  </a:lnTo>
                  <a:lnTo>
                    <a:pt x="31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639320" y="2718360"/>
              <a:ext cx="52200" cy="354960"/>
            </a:xfrm>
            <a:custGeom>
              <a:avLst/>
              <a:gdLst/>
              <a:ahLst/>
              <a:rect l="l" t="t" r="r" b="b"/>
              <a:pathLst>
                <a:path w="34" h="273">
                  <a:moveTo>
                    <a:pt x="0" y="0"/>
                  </a:moveTo>
                  <a:lnTo>
                    <a:pt x="33" y="0"/>
                  </a:lnTo>
                  <a:lnTo>
                    <a:pt x="33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536720" y="2730240"/>
              <a:ext cx="53640" cy="354960"/>
            </a:xfrm>
            <a:custGeom>
              <a:avLst/>
              <a:gdLst/>
              <a:ahLst/>
              <a:rect l="l" t="t" r="r" b="b"/>
              <a:pathLst>
                <a:path w="35" h="274">
                  <a:moveTo>
                    <a:pt x="0" y="0"/>
                  </a:moveTo>
                  <a:lnTo>
                    <a:pt x="34" y="0"/>
                  </a:lnTo>
                  <a:lnTo>
                    <a:pt x="34" y="273"/>
                  </a:lnTo>
                  <a:lnTo>
                    <a:pt x="0" y="273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797360" y="3042360"/>
              <a:ext cx="61920" cy="367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7"/>
                  </a:moveTo>
                  <a:lnTo>
                    <a:pt x="11" y="7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9" y="7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32" y="5"/>
                  </a:lnTo>
                  <a:lnTo>
                    <a:pt x="32" y="7"/>
                  </a:lnTo>
                  <a:lnTo>
                    <a:pt x="39" y="10"/>
                  </a:lnTo>
                  <a:lnTo>
                    <a:pt x="39" y="28"/>
                  </a:lnTo>
                  <a:lnTo>
                    <a:pt x="0" y="28"/>
                  </a:lnTo>
                  <a:lnTo>
                    <a:pt x="0" y="7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797360" y="3042360"/>
              <a:ext cx="80280" cy="367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7"/>
                  </a:moveTo>
                  <a:lnTo>
                    <a:pt x="16" y="7"/>
                  </a:lnTo>
                  <a:lnTo>
                    <a:pt x="16" y="1"/>
                  </a:lnTo>
                  <a:lnTo>
                    <a:pt x="26" y="0"/>
                  </a:lnTo>
                  <a:lnTo>
                    <a:pt x="26" y="7"/>
                  </a:lnTo>
                  <a:lnTo>
                    <a:pt x="32" y="8"/>
                  </a:lnTo>
                  <a:lnTo>
                    <a:pt x="32" y="5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51" y="12"/>
                  </a:lnTo>
                  <a:lnTo>
                    <a:pt x="51" y="28"/>
                  </a:lnTo>
                  <a:lnTo>
                    <a:pt x="0" y="28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743720" y="2975400"/>
              <a:ext cx="53640" cy="99360"/>
            </a:xfrm>
            <a:custGeom>
              <a:avLst/>
              <a:gdLst/>
              <a:ahLst/>
              <a:rect l="l" t="t" r="r" b="b"/>
              <a:pathLst>
                <a:path w="34" h="77">
                  <a:moveTo>
                    <a:pt x="0" y="0"/>
                  </a:moveTo>
                  <a:lnTo>
                    <a:pt x="9" y="5"/>
                  </a:lnTo>
                  <a:lnTo>
                    <a:pt x="9" y="16"/>
                  </a:lnTo>
                  <a:lnTo>
                    <a:pt x="24" y="19"/>
                  </a:lnTo>
                  <a:lnTo>
                    <a:pt x="24" y="14"/>
                  </a:lnTo>
                  <a:lnTo>
                    <a:pt x="33" y="16"/>
                  </a:lnTo>
                  <a:lnTo>
                    <a:pt x="33" y="70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743720" y="2975400"/>
              <a:ext cx="63360" cy="114480"/>
            </a:xfrm>
            <a:custGeom>
              <a:avLst/>
              <a:gdLst/>
              <a:ahLst/>
              <a:rect l="l" t="t" r="r" b="b"/>
              <a:pathLst>
                <a:path w="41" h="88">
                  <a:moveTo>
                    <a:pt x="0" y="0"/>
                  </a:moveTo>
                  <a:lnTo>
                    <a:pt x="12" y="5"/>
                  </a:lnTo>
                  <a:lnTo>
                    <a:pt x="12" y="18"/>
                  </a:lnTo>
                  <a:lnTo>
                    <a:pt x="31" y="23"/>
                  </a:lnTo>
                  <a:lnTo>
                    <a:pt x="31" y="16"/>
                  </a:lnTo>
                  <a:lnTo>
                    <a:pt x="40" y="18"/>
                  </a:lnTo>
                  <a:lnTo>
                    <a:pt x="40" y="79"/>
                  </a:ln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743720" y="3013920"/>
              <a:ext cx="53640" cy="590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0" y="0"/>
                  </a:moveTo>
                  <a:lnTo>
                    <a:pt x="33" y="5"/>
                  </a:lnTo>
                  <a:lnTo>
                    <a:pt x="33" y="42"/>
                  </a:lnTo>
                  <a:lnTo>
                    <a:pt x="24" y="44"/>
                  </a:lnTo>
                  <a:lnTo>
                    <a:pt x="24" y="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743720" y="3013920"/>
              <a:ext cx="53640" cy="727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0"/>
                  </a:moveTo>
                  <a:lnTo>
                    <a:pt x="33" y="7"/>
                  </a:lnTo>
                  <a:lnTo>
                    <a:pt x="33" y="53"/>
                  </a:lnTo>
                  <a:lnTo>
                    <a:pt x="22" y="55"/>
                  </a:lnTo>
                  <a:lnTo>
                    <a:pt x="22" y="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452840" y="2908440"/>
              <a:ext cx="228600" cy="174960"/>
            </a:xfrm>
            <a:custGeom>
              <a:avLst/>
              <a:gdLst/>
              <a:ahLst/>
              <a:rect l="l" t="t" r="r" b="b"/>
              <a:pathLst>
                <a:path w="148" h="134">
                  <a:moveTo>
                    <a:pt x="0" y="30"/>
                  </a:moveTo>
                  <a:lnTo>
                    <a:pt x="147" y="0"/>
                  </a:lnTo>
                  <a:lnTo>
                    <a:pt x="147" y="133"/>
                  </a:lnTo>
                  <a:lnTo>
                    <a:pt x="0" y="133"/>
                  </a:lnTo>
                  <a:lnTo>
                    <a:pt x="0" y="3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452840" y="2908440"/>
              <a:ext cx="248400" cy="187200"/>
            </a:xfrm>
            <a:custGeom>
              <a:avLst/>
              <a:gdLst/>
              <a:ahLst/>
              <a:rect l="l" t="t" r="r" b="b"/>
              <a:pathLst>
                <a:path w="161" h="144">
                  <a:moveTo>
                    <a:pt x="0" y="32"/>
                  </a:moveTo>
                  <a:lnTo>
                    <a:pt x="160" y="0"/>
                  </a:lnTo>
                  <a:lnTo>
                    <a:pt x="160" y="143"/>
                  </a:lnTo>
                  <a:lnTo>
                    <a:pt x="0" y="143"/>
                  </a:lnTo>
                  <a:lnTo>
                    <a:pt x="0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696560" y="2908440"/>
              <a:ext cx="52200" cy="170640"/>
            </a:xfrm>
            <a:custGeom>
              <a:avLst/>
              <a:gdLst/>
              <a:ahLst/>
              <a:rect l="l" t="t" r="r" b="b"/>
              <a:pathLst>
                <a:path w="34" h="131">
                  <a:moveTo>
                    <a:pt x="20" y="0"/>
                  </a:moveTo>
                  <a:lnTo>
                    <a:pt x="20" y="7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22" y="126"/>
                  </a:lnTo>
                  <a:lnTo>
                    <a:pt x="22" y="28"/>
                  </a:lnTo>
                  <a:lnTo>
                    <a:pt x="33" y="30"/>
                  </a:lnTo>
                  <a:lnTo>
                    <a:pt x="33" y="5"/>
                  </a:lnTo>
                  <a:lnTo>
                    <a:pt x="2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696560" y="2908440"/>
              <a:ext cx="70200" cy="185400"/>
            </a:xfrm>
            <a:custGeom>
              <a:avLst/>
              <a:gdLst/>
              <a:ahLst/>
              <a:rect l="l" t="t" r="r" b="b"/>
              <a:pathLst>
                <a:path w="46" h="142">
                  <a:moveTo>
                    <a:pt x="27" y="0"/>
                  </a:moveTo>
                  <a:lnTo>
                    <a:pt x="27" y="7"/>
                  </a:lnTo>
                  <a:lnTo>
                    <a:pt x="0" y="0"/>
                  </a:lnTo>
                  <a:lnTo>
                    <a:pt x="0" y="141"/>
                  </a:lnTo>
                  <a:lnTo>
                    <a:pt x="30" y="137"/>
                  </a:lnTo>
                  <a:lnTo>
                    <a:pt x="30" y="30"/>
                  </a:lnTo>
                  <a:lnTo>
                    <a:pt x="45" y="32"/>
                  </a:lnTo>
                  <a:lnTo>
                    <a:pt x="45" y="5"/>
                  </a:lnTo>
                  <a:lnTo>
                    <a:pt x="2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560480" y="2920320"/>
              <a:ext cx="50040" cy="99360"/>
            </a:xfrm>
            <a:custGeom>
              <a:avLst/>
              <a:gdLst/>
              <a:ahLst/>
              <a:rect l="l" t="t" r="r" b="b"/>
              <a:pathLst>
                <a:path w="33" h="76">
                  <a:moveTo>
                    <a:pt x="32" y="0"/>
                  </a:moveTo>
                  <a:lnTo>
                    <a:pt x="32" y="73"/>
                  </a:lnTo>
                  <a:lnTo>
                    <a:pt x="0" y="75"/>
                  </a:lnTo>
                  <a:lnTo>
                    <a:pt x="0" y="3"/>
                  </a:lnTo>
                  <a:lnTo>
                    <a:pt x="32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560480" y="2920320"/>
              <a:ext cx="50040" cy="112680"/>
            </a:xfrm>
            <a:custGeom>
              <a:avLst/>
              <a:gdLst/>
              <a:ahLst/>
              <a:rect l="l" t="t" r="r" b="b"/>
              <a:pathLst>
                <a:path w="33" h="87">
                  <a:moveTo>
                    <a:pt x="32" y="0"/>
                  </a:moveTo>
                  <a:lnTo>
                    <a:pt x="32" y="84"/>
                  </a:lnTo>
                  <a:lnTo>
                    <a:pt x="0" y="86"/>
                  </a:lnTo>
                  <a:lnTo>
                    <a:pt x="0" y="3"/>
                  </a:lnTo>
                  <a:lnTo>
                    <a:pt x="3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561920" y="3033360"/>
              <a:ext cx="5400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24" y="0"/>
                  </a:lnTo>
                  <a:lnTo>
                    <a:pt x="33" y="29"/>
                  </a:lnTo>
                  <a:lnTo>
                    <a:pt x="7" y="29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561920" y="3033360"/>
              <a:ext cx="5400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24" y="0"/>
                  </a:lnTo>
                  <a:lnTo>
                    <a:pt x="33" y="29"/>
                  </a:lnTo>
                  <a:lnTo>
                    <a:pt x="9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599000" y="2920320"/>
              <a:ext cx="48600" cy="123120"/>
            </a:xfrm>
            <a:custGeom>
              <a:avLst/>
              <a:gdLst/>
              <a:ahLst/>
              <a:rect l="l" t="t" r="r" b="b"/>
              <a:pathLst>
                <a:path w="32" h="95">
                  <a:moveTo>
                    <a:pt x="31" y="0"/>
                  </a:moveTo>
                  <a:lnTo>
                    <a:pt x="0" y="1"/>
                  </a:lnTo>
                  <a:lnTo>
                    <a:pt x="0" y="94"/>
                  </a:lnTo>
                  <a:lnTo>
                    <a:pt x="31" y="74"/>
                  </a:lnTo>
                  <a:lnTo>
                    <a:pt x="31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4600800" y="2920320"/>
              <a:ext cx="50040" cy="137880"/>
            </a:xfrm>
            <a:custGeom>
              <a:avLst/>
              <a:gdLst/>
              <a:ahLst/>
              <a:rect l="l" t="t" r="r" b="b"/>
              <a:pathLst>
                <a:path w="33" h="106">
                  <a:moveTo>
                    <a:pt x="0" y="0"/>
                  </a:moveTo>
                  <a:lnTo>
                    <a:pt x="32" y="1"/>
                  </a:lnTo>
                  <a:lnTo>
                    <a:pt x="32" y="105"/>
                  </a:ln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513680" y="2935080"/>
              <a:ext cx="1440" cy="10836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65"/>
                  </a:lnTo>
                  <a:lnTo>
                    <a:pt x="0" y="8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4513680" y="2935080"/>
              <a:ext cx="50040" cy="123120"/>
            </a:xfrm>
            <a:custGeom>
              <a:avLst/>
              <a:gdLst/>
              <a:ahLst/>
              <a:rect l="l" t="t" r="r" b="b"/>
              <a:pathLst>
                <a:path w="33" h="95">
                  <a:moveTo>
                    <a:pt x="0" y="0"/>
                  </a:moveTo>
                  <a:lnTo>
                    <a:pt x="0" y="74"/>
                  </a:lnTo>
                  <a:lnTo>
                    <a:pt x="32" y="94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478040" y="2935080"/>
              <a:ext cx="50040" cy="87480"/>
            </a:xfrm>
            <a:custGeom>
              <a:avLst/>
              <a:gdLst/>
              <a:ahLst/>
              <a:rect l="l" t="t" r="r" b="b"/>
              <a:pathLst>
                <a:path w="33" h="67">
                  <a:moveTo>
                    <a:pt x="0" y="3"/>
                  </a:moveTo>
                  <a:lnTo>
                    <a:pt x="32" y="0"/>
                  </a:lnTo>
                  <a:lnTo>
                    <a:pt x="32" y="66"/>
                  </a:lnTo>
                  <a:lnTo>
                    <a:pt x="0" y="66"/>
                  </a:lnTo>
                  <a:lnTo>
                    <a:pt x="0" y="3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478040" y="2935080"/>
              <a:ext cx="50040" cy="10080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0" y="3"/>
                  </a:moveTo>
                  <a:lnTo>
                    <a:pt x="32" y="0"/>
                  </a:lnTo>
                  <a:lnTo>
                    <a:pt x="32" y="77"/>
                  </a:lnTo>
                  <a:lnTo>
                    <a:pt x="0" y="77"/>
                  </a:lnTo>
                  <a:lnTo>
                    <a:pt x="0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478040" y="3033360"/>
              <a:ext cx="5004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19" y="0"/>
                  </a:lnTo>
                  <a:lnTo>
                    <a:pt x="32" y="29"/>
                  </a:lnTo>
                  <a:lnTo>
                    <a:pt x="9" y="29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478040" y="3033360"/>
              <a:ext cx="58320" cy="38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0" y="1"/>
                  </a:moveTo>
                  <a:lnTo>
                    <a:pt x="23" y="0"/>
                  </a:lnTo>
                  <a:lnTo>
                    <a:pt x="37" y="29"/>
                  </a:lnTo>
                  <a:lnTo>
                    <a:pt x="11" y="29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641120" y="2981160"/>
              <a:ext cx="53640" cy="385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0"/>
                  </a:moveTo>
                  <a:lnTo>
                    <a:pt x="19" y="0"/>
                  </a:lnTo>
                  <a:lnTo>
                    <a:pt x="33" y="28"/>
                  </a:lnTo>
                  <a:lnTo>
                    <a:pt x="9" y="2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641120" y="2981160"/>
              <a:ext cx="5688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0"/>
                  </a:moveTo>
                  <a:lnTo>
                    <a:pt x="21" y="0"/>
                  </a:lnTo>
                  <a:lnTo>
                    <a:pt x="35" y="28"/>
                  </a:lnTo>
                  <a:lnTo>
                    <a:pt x="12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641120" y="2909880"/>
              <a:ext cx="53640" cy="6084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46"/>
                  </a:moveTo>
                  <a:lnTo>
                    <a:pt x="33" y="44"/>
                  </a:lnTo>
                  <a:lnTo>
                    <a:pt x="33" y="0"/>
                  </a:lnTo>
                  <a:lnTo>
                    <a:pt x="0" y="3"/>
                  </a:lnTo>
                  <a:lnTo>
                    <a:pt x="0" y="46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641120" y="2909880"/>
              <a:ext cx="53640" cy="74160"/>
            </a:xfrm>
            <a:custGeom>
              <a:avLst/>
              <a:gdLst/>
              <a:ahLst/>
              <a:rect l="l" t="t" r="r" b="b"/>
              <a:pathLst>
                <a:path w="34" h="57">
                  <a:moveTo>
                    <a:pt x="0" y="56"/>
                  </a:moveTo>
                  <a:lnTo>
                    <a:pt x="33" y="54"/>
                  </a:lnTo>
                  <a:lnTo>
                    <a:pt x="33" y="0"/>
                  </a:lnTo>
                  <a:lnTo>
                    <a:pt x="0" y="3"/>
                  </a:lnTo>
                  <a:lnTo>
                    <a:pt x="0" y="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674600" y="2908440"/>
              <a:ext cx="1440" cy="96480"/>
            </a:xfrm>
            <a:custGeom>
              <a:avLst/>
              <a:gdLst/>
              <a:ahLst/>
              <a:rect l="l" t="t" r="r" b="b"/>
              <a:pathLst>
                <a:path w="1" h="74">
                  <a:moveTo>
                    <a:pt x="0" y="0"/>
                  </a:moveTo>
                  <a:lnTo>
                    <a:pt x="0" y="48"/>
                  </a:lnTo>
                  <a:lnTo>
                    <a:pt x="0" y="7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674600" y="2908440"/>
              <a:ext cx="50040" cy="11124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0" y="0"/>
                  </a:moveTo>
                  <a:lnTo>
                    <a:pt x="0" y="55"/>
                  </a:lnTo>
                  <a:lnTo>
                    <a:pt x="32" y="84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555440" y="2929320"/>
              <a:ext cx="50040" cy="45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1"/>
                  </a:moveTo>
                  <a:lnTo>
                    <a:pt x="32" y="0"/>
                  </a:lnTo>
                  <a:lnTo>
                    <a:pt x="32" y="35"/>
                  </a:lnTo>
                  <a:lnTo>
                    <a:pt x="0" y="35"/>
                  </a:lnTo>
                  <a:lnTo>
                    <a:pt x="0" y="1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555440" y="2929320"/>
              <a:ext cx="50040" cy="6048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0" y="1"/>
                  </a:moveTo>
                  <a:lnTo>
                    <a:pt x="32" y="0"/>
                  </a:lnTo>
                  <a:lnTo>
                    <a:pt x="32" y="46"/>
                  </a:lnTo>
                  <a:lnTo>
                    <a:pt x="0" y="46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555440" y="2988720"/>
              <a:ext cx="50040" cy="367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17" y="0"/>
                  </a:lnTo>
                  <a:lnTo>
                    <a:pt x="32" y="28"/>
                  </a:lnTo>
                  <a:lnTo>
                    <a:pt x="11" y="2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555440" y="2988720"/>
              <a:ext cx="50040" cy="367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16" y="0"/>
                  </a:lnTo>
                  <a:lnTo>
                    <a:pt x="32" y="28"/>
                  </a:lnTo>
                  <a:lnTo>
                    <a:pt x="13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573800" y="2929320"/>
              <a:ext cx="53640" cy="8136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34" y="62"/>
                  </a:moveTo>
                  <a:lnTo>
                    <a:pt x="34" y="3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4" y="62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4573800" y="2929320"/>
              <a:ext cx="53640" cy="9468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4" y="73"/>
                  </a:moveTo>
                  <a:lnTo>
                    <a:pt x="34" y="3"/>
                  </a:lnTo>
                  <a:lnTo>
                    <a:pt x="0" y="0"/>
                  </a:lnTo>
                  <a:lnTo>
                    <a:pt x="0" y="47"/>
                  </a:lnTo>
                  <a:lnTo>
                    <a:pt x="34" y="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468320" y="2994840"/>
              <a:ext cx="5148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1" y="29"/>
                  </a:moveTo>
                  <a:lnTo>
                    <a:pt x="32" y="29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1" y="2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4468320" y="2994840"/>
              <a:ext cx="5148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3" y="29"/>
                  </a:moveTo>
                  <a:lnTo>
                    <a:pt x="32" y="2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13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468320" y="2953080"/>
              <a:ext cx="51480" cy="385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32" y="28"/>
                  </a:lnTo>
                  <a:lnTo>
                    <a:pt x="32" y="0"/>
                  </a:lnTo>
                  <a:lnTo>
                    <a:pt x="0" y="1"/>
                  </a:lnTo>
                  <a:lnTo>
                    <a:pt x="0" y="28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4468320" y="2953080"/>
              <a:ext cx="51480" cy="428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2"/>
                  </a:moveTo>
                  <a:lnTo>
                    <a:pt x="27" y="32"/>
                  </a:lnTo>
                  <a:lnTo>
                    <a:pt x="32" y="0"/>
                  </a:lnTo>
                  <a:lnTo>
                    <a:pt x="0" y="1"/>
                  </a:lnTo>
                  <a:lnTo>
                    <a:pt x="0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491360" y="2953080"/>
              <a:ext cx="50400" cy="5940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32" y="0"/>
                  </a:moveTo>
                  <a:lnTo>
                    <a:pt x="32" y="26"/>
                  </a:lnTo>
                  <a:lnTo>
                    <a:pt x="0" y="44"/>
                  </a:lnTo>
                  <a:lnTo>
                    <a:pt x="0" y="5"/>
                  </a:lnTo>
                  <a:lnTo>
                    <a:pt x="32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493160" y="2953080"/>
              <a:ext cx="51480" cy="727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0"/>
                  </a:moveTo>
                  <a:lnTo>
                    <a:pt x="0" y="31"/>
                  </a:lnTo>
                  <a:lnTo>
                    <a:pt x="33" y="5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395960" y="2985840"/>
              <a:ext cx="87120" cy="93600"/>
            </a:xfrm>
            <a:custGeom>
              <a:avLst/>
              <a:gdLst/>
              <a:ahLst/>
              <a:rect l="l" t="t" r="r" b="b"/>
              <a:pathLst>
                <a:path w="56" h="72">
                  <a:moveTo>
                    <a:pt x="0" y="71"/>
                  </a:moveTo>
                  <a:lnTo>
                    <a:pt x="55" y="71"/>
                  </a:lnTo>
                  <a:lnTo>
                    <a:pt x="55" y="0"/>
                  </a:lnTo>
                  <a:lnTo>
                    <a:pt x="21" y="1"/>
                  </a:lnTo>
                  <a:lnTo>
                    <a:pt x="21" y="53"/>
                  </a:lnTo>
                  <a:lnTo>
                    <a:pt x="0" y="55"/>
                  </a:lnTo>
                  <a:lnTo>
                    <a:pt x="0" y="71"/>
                  </a:lnTo>
                </a:path>
              </a:pathLst>
            </a:custGeom>
            <a:solidFill>
              <a:srgbClr val="604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395960" y="2985840"/>
              <a:ext cx="107280" cy="10836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0" y="82"/>
                  </a:moveTo>
                  <a:lnTo>
                    <a:pt x="68" y="82"/>
                  </a:lnTo>
                  <a:lnTo>
                    <a:pt x="68" y="0"/>
                  </a:lnTo>
                  <a:lnTo>
                    <a:pt x="25" y="1"/>
                  </a:lnTo>
                  <a:lnTo>
                    <a:pt x="25" y="60"/>
                  </a:lnTo>
                  <a:lnTo>
                    <a:pt x="0" y="64"/>
                  </a:lnTo>
                  <a:lnTo>
                    <a:pt x="0" y="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839120" y="3024360"/>
              <a:ext cx="1440" cy="4860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5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36"/>
                  </a:lnTo>
                  <a:lnTo>
                    <a:pt x="0" y="5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839120" y="3024360"/>
              <a:ext cx="55440" cy="6228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0" y="7"/>
                  </a:moveTo>
                  <a:lnTo>
                    <a:pt x="0" y="5"/>
                  </a:lnTo>
                  <a:lnTo>
                    <a:pt x="4" y="1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28" y="1"/>
                  </a:lnTo>
                  <a:lnTo>
                    <a:pt x="35" y="3"/>
                  </a:lnTo>
                  <a:lnTo>
                    <a:pt x="35" y="5"/>
                  </a:lnTo>
                  <a:lnTo>
                    <a:pt x="35" y="7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47"/>
                  </a:lnTo>
                  <a:lnTo>
                    <a:pt x="0" y="4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444560" y="3071880"/>
              <a:ext cx="5508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444560" y="3071880"/>
              <a:ext cx="5508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478040" y="3071880"/>
              <a:ext cx="5004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0"/>
                  </a:lnTo>
                  <a:lnTo>
                    <a:pt x="32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4478040" y="3071880"/>
              <a:ext cx="5004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29"/>
                  </a:lnTo>
                  <a:lnTo>
                    <a:pt x="32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506480" y="3071880"/>
              <a:ext cx="5220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0"/>
                  </a:lnTo>
                  <a:lnTo>
                    <a:pt x="32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506480" y="3071880"/>
              <a:ext cx="5220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29"/>
                  </a:lnTo>
                  <a:lnTo>
                    <a:pt x="32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536720" y="307188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536720" y="307188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4567320" y="307188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567320" y="307188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599000" y="3071880"/>
              <a:ext cx="48600" cy="38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31" y="0"/>
                  </a:lnTo>
                  <a:lnTo>
                    <a:pt x="31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599000" y="3071880"/>
              <a:ext cx="48600" cy="38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629240" y="3071880"/>
              <a:ext cx="5220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0"/>
                  </a:lnTo>
                  <a:lnTo>
                    <a:pt x="33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629240" y="3071880"/>
              <a:ext cx="5220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29"/>
                  </a:lnTo>
                  <a:lnTo>
                    <a:pt x="33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661280" y="3071880"/>
              <a:ext cx="5364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0"/>
                  </a:lnTo>
                  <a:lnTo>
                    <a:pt x="33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661280" y="3071880"/>
              <a:ext cx="5364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29"/>
                  </a:lnTo>
                  <a:lnTo>
                    <a:pt x="33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521960" y="307188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4614120" y="307188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4555440" y="307188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4583880" y="307188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4493160" y="307188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462920" y="307188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4641120" y="307188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4674600" y="307188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400640" y="3063240"/>
              <a:ext cx="265320" cy="38160"/>
            </a:xfrm>
            <a:custGeom>
              <a:avLst/>
              <a:gdLst/>
              <a:ahLst/>
              <a:rect l="l" t="t" r="r" b="b"/>
              <a:pathLst>
                <a:path w="172" h="30">
                  <a:moveTo>
                    <a:pt x="0" y="29"/>
                  </a:moveTo>
                  <a:lnTo>
                    <a:pt x="11" y="0"/>
                  </a:lnTo>
                  <a:lnTo>
                    <a:pt x="171" y="0"/>
                  </a:lnTo>
                  <a:lnTo>
                    <a:pt x="171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784040" y="3017160"/>
              <a:ext cx="51480" cy="6804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0" y="8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6" y="0"/>
                  </a:lnTo>
                  <a:lnTo>
                    <a:pt x="33" y="1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16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52"/>
                  </a:lnTo>
                  <a:lnTo>
                    <a:pt x="0" y="8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4784040" y="3017160"/>
              <a:ext cx="51480" cy="7992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0" y="10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3" y="1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28" y="5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24" y="10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7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2"/>
                  </a:lnTo>
                  <a:lnTo>
                    <a:pt x="3" y="61"/>
                  </a:lnTo>
                  <a:lnTo>
                    <a:pt x="0" y="61"/>
                  </a:lnTo>
                  <a:lnTo>
                    <a:pt x="0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728240" y="3076200"/>
              <a:ext cx="5544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8"/>
                  </a:moveTo>
                  <a:lnTo>
                    <a:pt x="35" y="28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728240" y="3076200"/>
              <a:ext cx="5544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8"/>
                  </a:moveTo>
                  <a:lnTo>
                    <a:pt x="35" y="28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757040" y="3076200"/>
              <a:ext cx="53640" cy="385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0"/>
                  </a:moveTo>
                  <a:lnTo>
                    <a:pt x="33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3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4765320" y="307620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0" y="28"/>
                  </a:lnTo>
                  <a:lnTo>
                    <a:pt x="34" y="24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4884480" y="303624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34" y="3"/>
                  </a:moveTo>
                  <a:lnTo>
                    <a:pt x="34" y="1"/>
                  </a:lnTo>
                  <a:lnTo>
                    <a:pt x="16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"/>
                  </a:lnTo>
                  <a:lnTo>
                    <a:pt x="16" y="1"/>
                  </a:lnTo>
                  <a:lnTo>
                    <a:pt x="16" y="3"/>
                  </a:lnTo>
                  <a:lnTo>
                    <a:pt x="16" y="29"/>
                  </a:lnTo>
                  <a:lnTo>
                    <a:pt x="34" y="29"/>
                  </a:lnTo>
                  <a:lnTo>
                    <a:pt x="34" y="3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4894920" y="3036240"/>
              <a:ext cx="48240" cy="428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5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31" y="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14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32"/>
                  </a:lnTo>
                  <a:lnTo>
                    <a:pt x="0" y="32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4723560" y="3085560"/>
              <a:ext cx="5364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0"/>
                  </a:lnTo>
                  <a:lnTo>
                    <a:pt x="34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726800" y="3085560"/>
              <a:ext cx="5364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4726800" y="3070440"/>
              <a:ext cx="5364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28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726800" y="3070440"/>
              <a:ext cx="5364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723560" y="305532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0"/>
                  </a:lnTo>
                  <a:lnTo>
                    <a:pt x="34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4726800" y="305712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4726800" y="3043800"/>
              <a:ext cx="53640" cy="3996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0"/>
                  </a:moveTo>
                  <a:lnTo>
                    <a:pt x="34" y="30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4726800" y="3043800"/>
              <a:ext cx="53640" cy="3996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0"/>
                  </a:moveTo>
                  <a:lnTo>
                    <a:pt x="34" y="30"/>
                  </a:lnTo>
                  <a:lnTo>
                    <a:pt x="34" y="0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4723560" y="303336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4726800" y="303336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4726800" y="3021480"/>
              <a:ext cx="5364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28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4726800" y="301824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4436280" y="2960280"/>
              <a:ext cx="211320" cy="38520"/>
            </a:xfrm>
            <a:custGeom>
              <a:avLst/>
              <a:gdLst/>
              <a:ahLst/>
              <a:rect l="l" t="t" r="r" b="b"/>
              <a:pathLst>
                <a:path w="137" h="30">
                  <a:moveTo>
                    <a:pt x="136" y="0"/>
                  </a:moveTo>
                  <a:lnTo>
                    <a:pt x="136" y="18"/>
                  </a:lnTo>
                  <a:lnTo>
                    <a:pt x="1" y="29"/>
                  </a:lnTo>
                  <a:lnTo>
                    <a:pt x="0" y="18"/>
                  </a:lnTo>
                  <a:lnTo>
                    <a:pt x="136" y="0"/>
                  </a:lnTo>
                </a:path>
              </a:pathLst>
            </a:custGeom>
            <a:solidFill>
              <a:srgbClr val="a08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4436280" y="2960280"/>
              <a:ext cx="231480" cy="38520"/>
            </a:xfrm>
            <a:custGeom>
              <a:avLst/>
              <a:gdLst/>
              <a:ahLst/>
              <a:rect l="l" t="t" r="r" b="b"/>
              <a:pathLst>
                <a:path w="150" h="30">
                  <a:moveTo>
                    <a:pt x="149" y="0"/>
                  </a:moveTo>
                  <a:lnTo>
                    <a:pt x="149" y="18"/>
                  </a:lnTo>
                  <a:lnTo>
                    <a:pt x="1" y="29"/>
                  </a:lnTo>
                  <a:lnTo>
                    <a:pt x="0" y="16"/>
                  </a:lnTo>
                  <a:lnTo>
                    <a:pt x="1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4531680" y="2929320"/>
              <a:ext cx="53640" cy="414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9" y="0"/>
                  </a:moveTo>
                  <a:lnTo>
                    <a:pt x="34" y="5"/>
                  </a:lnTo>
                  <a:lnTo>
                    <a:pt x="34" y="13"/>
                  </a:lnTo>
                  <a:lnTo>
                    <a:pt x="19" y="15"/>
                  </a:lnTo>
                  <a:lnTo>
                    <a:pt x="8" y="30"/>
                  </a:lnTo>
                  <a:lnTo>
                    <a:pt x="0" y="32"/>
                  </a:lnTo>
                  <a:lnTo>
                    <a:pt x="1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4531680" y="2929320"/>
              <a:ext cx="53640" cy="5472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17" y="0"/>
                  </a:moveTo>
                  <a:lnTo>
                    <a:pt x="34" y="7"/>
                  </a:lnTo>
                  <a:lnTo>
                    <a:pt x="34" y="18"/>
                  </a:lnTo>
                  <a:lnTo>
                    <a:pt x="17" y="20"/>
                  </a:lnTo>
                  <a:lnTo>
                    <a:pt x="8" y="40"/>
                  </a:lnTo>
                  <a:lnTo>
                    <a:pt x="0" y="42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4513680" y="2929320"/>
              <a:ext cx="50040" cy="414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1"/>
                  </a:moveTo>
                  <a:lnTo>
                    <a:pt x="32" y="0"/>
                  </a:lnTo>
                  <a:lnTo>
                    <a:pt x="11" y="32"/>
                  </a:lnTo>
                  <a:lnTo>
                    <a:pt x="0" y="32"/>
                  </a:lnTo>
                  <a:lnTo>
                    <a:pt x="17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4513680" y="2929320"/>
              <a:ext cx="50040" cy="5472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16" y="3"/>
                  </a:moveTo>
                  <a:lnTo>
                    <a:pt x="32" y="0"/>
                  </a:lnTo>
                  <a:lnTo>
                    <a:pt x="13" y="42"/>
                  </a:lnTo>
                  <a:lnTo>
                    <a:pt x="0" y="42"/>
                  </a:lnTo>
                  <a:lnTo>
                    <a:pt x="16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600800" y="2914560"/>
              <a:ext cx="50040" cy="45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1"/>
                  </a:moveTo>
                  <a:lnTo>
                    <a:pt x="32" y="0"/>
                  </a:lnTo>
                  <a:lnTo>
                    <a:pt x="16" y="33"/>
                  </a:lnTo>
                  <a:lnTo>
                    <a:pt x="0" y="35"/>
                  </a:lnTo>
                  <a:lnTo>
                    <a:pt x="17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600800" y="2914560"/>
              <a:ext cx="50040" cy="6048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17" y="1"/>
                  </a:moveTo>
                  <a:lnTo>
                    <a:pt x="32" y="0"/>
                  </a:lnTo>
                  <a:lnTo>
                    <a:pt x="16" y="44"/>
                  </a:lnTo>
                  <a:lnTo>
                    <a:pt x="0" y="46"/>
                  </a:lnTo>
                  <a:lnTo>
                    <a:pt x="17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4626000" y="2914560"/>
              <a:ext cx="53640" cy="442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9" y="0"/>
                  </a:moveTo>
                  <a:lnTo>
                    <a:pt x="0" y="33"/>
                  </a:lnTo>
                  <a:lnTo>
                    <a:pt x="12" y="29"/>
                  </a:lnTo>
                  <a:lnTo>
                    <a:pt x="19" y="15"/>
                  </a:lnTo>
                  <a:lnTo>
                    <a:pt x="33" y="13"/>
                  </a:lnTo>
                  <a:lnTo>
                    <a:pt x="33" y="6"/>
                  </a:lnTo>
                  <a:lnTo>
                    <a:pt x="1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626000" y="2914560"/>
              <a:ext cx="53640" cy="5760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17" y="0"/>
                  </a:moveTo>
                  <a:lnTo>
                    <a:pt x="0" y="44"/>
                  </a:lnTo>
                  <a:lnTo>
                    <a:pt x="9" y="40"/>
                  </a:lnTo>
                  <a:lnTo>
                    <a:pt x="17" y="21"/>
                  </a:lnTo>
                  <a:lnTo>
                    <a:pt x="33" y="19"/>
                  </a:lnTo>
                  <a:lnTo>
                    <a:pt x="33" y="8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669920" y="3075120"/>
              <a:ext cx="51480" cy="36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28"/>
                  </a:moveTo>
                  <a:lnTo>
                    <a:pt x="33" y="28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669920" y="3075120"/>
              <a:ext cx="51480" cy="36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28"/>
                  </a:moveTo>
                  <a:lnTo>
                    <a:pt x="33" y="28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718520" y="3075120"/>
              <a:ext cx="1440" cy="36720"/>
            </a:xfrm>
            <a:custGeom>
              <a:avLst/>
              <a:gdLst/>
              <a:ahLst/>
              <a:rect l="l" t="t" r="r" b="b"/>
              <a:pathLst>
                <a:path w="1" h="29">
                  <a:moveTo>
                    <a:pt x="0" y="0"/>
                  </a:moveTo>
                  <a:lnTo>
                    <a:pt x="0" y="2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718520" y="3075120"/>
              <a:ext cx="51480" cy="367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0" y="28"/>
                  </a:lnTo>
                  <a:lnTo>
                    <a:pt x="32" y="28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4444560" y="2991600"/>
              <a:ext cx="68760" cy="41400"/>
            </a:xfrm>
            <a:custGeom>
              <a:avLst/>
              <a:gdLst/>
              <a:ahLst/>
              <a:rect l="l" t="t" r="r" b="b"/>
              <a:pathLst>
                <a:path w="44" h="31">
                  <a:moveTo>
                    <a:pt x="0" y="9"/>
                  </a:moveTo>
                  <a:lnTo>
                    <a:pt x="38" y="30"/>
                  </a:lnTo>
                  <a:lnTo>
                    <a:pt x="43" y="0"/>
                  </a:lnTo>
                  <a:lnTo>
                    <a:pt x="3" y="0"/>
                  </a:lnTo>
                  <a:lnTo>
                    <a:pt x="0" y="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4444560" y="3000600"/>
              <a:ext cx="83520" cy="37080"/>
            </a:xfrm>
            <a:custGeom>
              <a:avLst/>
              <a:gdLst/>
              <a:ahLst/>
              <a:rect l="l" t="t" r="r" b="b"/>
              <a:pathLst>
                <a:path w="54" h="29">
                  <a:moveTo>
                    <a:pt x="0" y="17"/>
                  </a:moveTo>
                  <a:lnTo>
                    <a:pt x="48" y="0"/>
                  </a:lnTo>
                  <a:lnTo>
                    <a:pt x="53" y="28"/>
                  </a:lnTo>
                  <a:lnTo>
                    <a:pt x="5" y="28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4436280" y="3002400"/>
              <a:ext cx="50040" cy="83160"/>
            </a:xfrm>
            <a:custGeom>
              <a:avLst/>
              <a:gdLst/>
              <a:ahLst/>
              <a:rect l="l" t="t" r="r" b="b"/>
              <a:pathLst>
                <a:path w="33" h="64">
                  <a:moveTo>
                    <a:pt x="32" y="63"/>
                  </a:moveTo>
                  <a:lnTo>
                    <a:pt x="32" y="0"/>
                  </a:lnTo>
                  <a:lnTo>
                    <a:pt x="0" y="3"/>
                  </a:lnTo>
                  <a:lnTo>
                    <a:pt x="0" y="63"/>
                  </a:lnTo>
                  <a:lnTo>
                    <a:pt x="32" y="63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4444560" y="3002400"/>
              <a:ext cx="55080" cy="9468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72"/>
                  </a:moveTo>
                  <a:lnTo>
                    <a:pt x="0" y="0"/>
                  </a:lnTo>
                  <a:lnTo>
                    <a:pt x="34" y="3"/>
                  </a:lnTo>
                  <a:lnTo>
                    <a:pt x="34" y="72"/>
                  </a:lnTo>
                  <a:lnTo>
                    <a:pt x="0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4511520" y="3000600"/>
              <a:ext cx="50040" cy="8604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31" y="66"/>
                  </a:moveTo>
                  <a:lnTo>
                    <a:pt x="31" y="0"/>
                  </a:lnTo>
                  <a:lnTo>
                    <a:pt x="0" y="3"/>
                  </a:lnTo>
                  <a:lnTo>
                    <a:pt x="0" y="66"/>
                  </a:lnTo>
                  <a:lnTo>
                    <a:pt x="31" y="66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4518360" y="3000600"/>
              <a:ext cx="50040" cy="10080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0" y="77"/>
                  </a:moveTo>
                  <a:lnTo>
                    <a:pt x="0" y="0"/>
                  </a:lnTo>
                  <a:lnTo>
                    <a:pt x="32" y="3"/>
                  </a:lnTo>
                  <a:lnTo>
                    <a:pt x="32" y="77"/>
                  </a:lnTo>
                  <a:lnTo>
                    <a:pt x="0" y="7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4521960" y="2990160"/>
              <a:ext cx="83520" cy="38520"/>
            </a:xfrm>
            <a:custGeom>
              <a:avLst/>
              <a:gdLst/>
              <a:ahLst/>
              <a:rect l="l" t="t" r="r" b="b"/>
              <a:pathLst>
                <a:path w="55" h="30">
                  <a:moveTo>
                    <a:pt x="0" y="18"/>
                  </a:moveTo>
                  <a:lnTo>
                    <a:pt x="45" y="29"/>
                  </a:lnTo>
                  <a:lnTo>
                    <a:pt x="54" y="9"/>
                  </a:lnTo>
                  <a:lnTo>
                    <a:pt x="3" y="0"/>
                  </a:lnTo>
                  <a:lnTo>
                    <a:pt x="0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521960" y="2997720"/>
              <a:ext cx="102240" cy="38160"/>
            </a:xfrm>
            <a:custGeom>
              <a:avLst/>
              <a:gdLst/>
              <a:ahLst/>
              <a:rect l="l" t="t" r="r" b="b"/>
              <a:pathLst>
                <a:path w="67" h="30">
                  <a:moveTo>
                    <a:pt x="0" y="9"/>
                  </a:moveTo>
                  <a:lnTo>
                    <a:pt x="55" y="0"/>
                  </a:lnTo>
                  <a:lnTo>
                    <a:pt x="66" y="18"/>
                  </a:lnTo>
                  <a:lnTo>
                    <a:pt x="3" y="29"/>
                  </a:lnTo>
                  <a:lnTo>
                    <a:pt x="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600800" y="2994840"/>
              <a:ext cx="50040" cy="91800"/>
            </a:xfrm>
            <a:custGeom>
              <a:avLst/>
              <a:gdLst/>
              <a:ahLst/>
              <a:rect l="l" t="t" r="r" b="b"/>
              <a:pathLst>
                <a:path w="33" h="71">
                  <a:moveTo>
                    <a:pt x="32" y="70"/>
                  </a:moveTo>
                  <a:lnTo>
                    <a:pt x="32" y="0"/>
                  </a:lnTo>
                  <a:lnTo>
                    <a:pt x="0" y="5"/>
                  </a:lnTo>
                  <a:lnTo>
                    <a:pt x="0" y="70"/>
                  </a:lnTo>
                  <a:lnTo>
                    <a:pt x="32" y="70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4609080" y="2994840"/>
              <a:ext cx="53640" cy="106560"/>
            </a:xfrm>
            <a:custGeom>
              <a:avLst/>
              <a:gdLst/>
              <a:ahLst/>
              <a:rect l="l" t="t" r="r" b="b"/>
              <a:pathLst>
                <a:path w="35" h="82">
                  <a:moveTo>
                    <a:pt x="0" y="81"/>
                  </a:moveTo>
                  <a:lnTo>
                    <a:pt x="0" y="0"/>
                  </a:lnTo>
                  <a:lnTo>
                    <a:pt x="34" y="5"/>
                  </a:lnTo>
                  <a:lnTo>
                    <a:pt x="34" y="81"/>
                  </a:lnTo>
                  <a:lnTo>
                    <a:pt x="0" y="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9" name=""/>
          <p:cNvSpPr/>
          <p:nvPr/>
        </p:nvSpPr>
        <p:spPr>
          <a:xfrm>
            <a:off x="4249800" y="24732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E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>
            <a:hlinkClick r:id="rId1" action="ppaction://hlinksldjump"/>
          </p:cNvPr>
          <p:cNvSpPr/>
          <p:nvPr/>
        </p:nvSpPr>
        <p:spPr>
          <a:xfrm rot="1200">
            <a:off x="3840480" y="162072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 L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>
            <a:hlinkClick r:id="rId2" action="ppaction://hlinksldjump"/>
          </p:cNvPr>
          <p:cNvSpPr/>
          <p:nvPr/>
        </p:nvSpPr>
        <p:spPr>
          <a:xfrm>
            <a:off x="469800" y="782640"/>
            <a:ext cx="162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e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uada San Ro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>
            <a:hlinkClick r:id="rId3" action="ppaction://hlinksldjump"/>
          </p:cNvPr>
          <p:cNvSpPr/>
          <p:nvPr/>
        </p:nvSpPr>
        <p:spPr>
          <a:xfrm>
            <a:off x="1170360" y="160200"/>
            <a:ext cx="136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e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uada Pich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3" name=""/>
          <p:cNvGrpSpPr/>
          <p:nvPr/>
        </p:nvGrpSpPr>
        <p:grpSpPr>
          <a:xfrm>
            <a:off x="2448000" y="811080"/>
            <a:ext cx="1823760" cy="703440"/>
            <a:chOff x="2448000" y="811080"/>
            <a:chExt cx="1823760" cy="703440"/>
          </a:xfrm>
        </p:grpSpPr>
        <p:sp>
          <p:nvSpPr>
            <p:cNvPr id="2514" name=""/>
            <p:cNvSpPr/>
            <p:nvPr/>
          </p:nvSpPr>
          <p:spPr>
            <a:xfrm>
              <a:off x="2448000" y="1089000"/>
              <a:ext cx="1823760" cy="425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949480" y="811080"/>
              <a:ext cx="1263600" cy="635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6" name="">
            <a:hlinkClick r:id="rId4" action="ppaction://hlinksldjump"/>
          </p:cNvPr>
          <p:cNvSpPr/>
          <p:nvPr/>
        </p:nvSpPr>
        <p:spPr>
          <a:xfrm rot="1200">
            <a:off x="4536360" y="2120400"/>
            <a:ext cx="129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urboexpa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 rot="1200">
            <a:off x="8026920" y="4919760"/>
            <a:ext cx="102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e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5835600" y="2454120"/>
            <a:ext cx="3216240" cy="2610000"/>
          </a:xfrm>
          <a:custGeom>
            <a:avLst/>
            <a:gdLst/>
            <a:ahLst/>
            <a:rect l="l" t="t" r="r" b="b"/>
            <a:pathLst>
              <a:path w="1870" h="1644">
                <a:moveTo>
                  <a:pt x="0" y="0"/>
                </a:moveTo>
                <a:lnTo>
                  <a:pt x="1870" y="1644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 rot="1200">
            <a:off x="7656840" y="3606480"/>
            <a:ext cx="139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e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LL - Cente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9221760" y="5224320"/>
            <a:ext cx="388800" cy="609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8889120" y="583740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ldel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 rot="1200">
            <a:off x="1791360" y="5613120"/>
            <a:ext cx="121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za Huinc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1244160" y="4933800"/>
            <a:ext cx="137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ctógono Fis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erro Band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 rot="1200">
            <a:off x="4880520" y="420804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erra Barr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4556160" y="4421160"/>
            <a:ext cx="252360" cy="1159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 flipH="1" flipV="1">
            <a:off x="4443480" y="1512720"/>
            <a:ext cx="1349280" cy="9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5578560" y="2600280"/>
            <a:ext cx="458640" cy="146160"/>
          </a:xfrm>
          <a:custGeom>
            <a:avLst/>
            <a:gdLst/>
            <a:ahLst/>
            <a:rect l="l" t="t" r="r" b="b"/>
            <a:pathLst>
              <a:path w="267" h="92">
                <a:moveTo>
                  <a:pt x="0" y="92"/>
                </a:moveTo>
                <a:lnTo>
                  <a:pt x="133" y="92"/>
                </a:lnTo>
                <a:lnTo>
                  <a:pt x="267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 flipH="1">
            <a:off x="4730760" y="2771640"/>
            <a:ext cx="458640" cy="1697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9" name=""/>
          <p:cNvGrpSpPr/>
          <p:nvPr/>
        </p:nvGrpSpPr>
        <p:grpSpPr>
          <a:xfrm>
            <a:off x="4846680" y="2479680"/>
            <a:ext cx="761760" cy="378000"/>
            <a:chOff x="4846680" y="2479680"/>
            <a:chExt cx="761760" cy="378000"/>
          </a:xfrm>
        </p:grpSpPr>
        <p:sp>
          <p:nvSpPr>
            <p:cNvPr id="2530" name=""/>
            <p:cNvSpPr/>
            <p:nvPr/>
          </p:nvSpPr>
          <p:spPr>
            <a:xfrm>
              <a:off x="5501160" y="2587320"/>
              <a:ext cx="97200" cy="2376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31" y="0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6" y="9"/>
                  </a:lnTo>
                  <a:lnTo>
                    <a:pt x="58" y="9"/>
                  </a:lnTo>
                  <a:lnTo>
                    <a:pt x="62" y="9"/>
                  </a:lnTo>
                  <a:lnTo>
                    <a:pt x="58" y="9"/>
                  </a:lnTo>
                  <a:lnTo>
                    <a:pt x="56" y="18"/>
                  </a:lnTo>
                  <a:lnTo>
                    <a:pt x="52" y="18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1" y="18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501160" y="2587320"/>
              <a:ext cx="107280" cy="23760"/>
            </a:xfrm>
            <a:custGeom>
              <a:avLst/>
              <a:gdLst/>
              <a:ahLst/>
              <a:rect l="l" t="t" r="r" b="b"/>
              <a:pathLst>
                <a:path w="70" h="19">
                  <a:moveTo>
                    <a:pt x="34" y="0"/>
                  </a:moveTo>
                  <a:lnTo>
                    <a:pt x="40" y="0"/>
                  </a:lnTo>
                  <a:lnTo>
                    <a:pt x="47" y="2"/>
                  </a:lnTo>
                  <a:lnTo>
                    <a:pt x="53" y="2"/>
                  </a:lnTo>
                  <a:lnTo>
                    <a:pt x="58" y="2"/>
                  </a:lnTo>
                  <a:lnTo>
                    <a:pt x="63" y="4"/>
                  </a:lnTo>
                  <a:lnTo>
                    <a:pt x="65" y="4"/>
                  </a:lnTo>
                  <a:lnTo>
                    <a:pt x="69" y="6"/>
                  </a:lnTo>
                  <a:lnTo>
                    <a:pt x="69" y="9"/>
                  </a:lnTo>
                  <a:lnTo>
                    <a:pt x="65" y="11"/>
                  </a:lnTo>
                  <a:lnTo>
                    <a:pt x="63" y="13"/>
                  </a:lnTo>
                  <a:lnTo>
                    <a:pt x="58" y="13"/>
                  </a:lnTo>
                  <a:lnTo>
                    <a:pt x="53" y="15"/>
                  </a:lnTo>
                  <a:lnTo>
                    <a:pt x="47" y="15"/>
                  </a:lnTo>
                  <a:lnTo>
                    <a:pt x="40" y="18"/>
                  </a:lnTo>
                  <a:lnTo>
                    <a:pt x="34" y="18"/>
                  </a:lnTo>
                  <a:lnTo>
                    <a:pt x="26" y="18"/>
                  </a:lnTo>
                  <a:lnTo>
                    <a:pt x="20" y="15"/>
                  </a:lnTo>
                  <a:lnTo>
                    <a:pt x="14" y="15"/>
                  </a:lnTo>
                  <a:lnTo>
                    <a:pt x="9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9" y="2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501160" y="2593440"/>
              <a:ext cx="97200" cy="228600"/>
            </a:xfrm>
            <a:custGeom>
              <a:avLst/>
              <a:gdLst/>
              <a:ahLst/>
              <a:rect l="l" t="t" r="r" b="b"/>
              <a:pathLst>
                <a:path w="63" h="177">
                  <a:moveTo>
                    <a:pt x="31" y="0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2" y="2"/>
                  </a:lnTo>
                  <a:lnTo>
                    <a:pt x="56" y="3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2" y="8"/>
                  </a:lnTo>
                  <a:lnTo>
                    <a:pt x="62" y="167"/>
                  </a:lnTo>
                  <a:lnTo>
                    <a:pt x="62" y="169"/>
                  </a:lnTo>
                  <a:lnTo>
                    <a:pt x="58" y="170"/>
                  </a:lnTo>
                  <a:lnTo>
                    <a:pt x="56" y="171"/>
                  </a:lnTo>
                  <a:lnTo>
                    <a:pt x="52" y="173"/>
                  </a:lnTo>
                  <a:lnTo>
                    <a:pt x="48" y="174"/>
                  </a:lnTo>
                  <a:lnTo>
                    <a:pt x="42" y="174"/>
                  </a:lnTo>
                  <a:lnTo>
                    <a:pt x="36" y="176"/>
                  </a:lnTo>
                  <a:lnTo>
                    <a:pt x="31" y="176"/>
                  </a:lnTo>
                  <a:lnTo>
                    <a:pt x="24" y="176"/>
                  </a:lnTo>
                  <a:lnTo>
                    <a:pt x="18" y="174"/>
                  </a:lnTo>
                  <a:lnTo>
                    <a:pt x="12" y="174"/>
                  </a:lnTo>
                  <a:lnTo>
                    <a:pt x="8" y="173"/>
                  </a:lnTo>
                  <a:lnTo>
                    <a:pt x="4" y="171"/>
                  </a:lnTo>
                  <a:lnTo>
                    <a:pt x="2" y="170"/>
                  </a:lnTo>
                  <a:lnTo>
                    <a:pt x="0" y="169"/>
                  </a:lnTo>
                  <a:lnTo>
                    <a:pt x="0" y="167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8" y="2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501160" y="2593440"/>
              <a:ext cx="107280" cy="237600"/>
            </a:xfrm>
            <a:custGeom>
              <a:avLst/>
              <a:gdLst/>
              <a:ahLst/>
              <a:rect l="l" t="t" r="r" b="b"/>
              <a:pathLst>
                <a:path w="70" h="184">
                  <a:moveTo>
                    <a:pt x="34" y="0"/>
                  </a:moveTo>
                  <a:lnTo>
                    <a:pt x="40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8" y="2"/>
                  </a:lnTo>
                  <a:lnTo>
                    <a:pt x="63" y="3"/>
                  </a:lnTo>
                  <a:lnTo>
                    <a:pt x="65" y="4"/>
                  </a:lnTo>
                  <a:lnTo>
                    <a:pt x="69" y="6"/>
                  </a:lnTo>
                  <a:lnTo>
                    <a:pt x="69" y="8"/>
                  </a:lnTo>
                  <a:lnTo>
                    <a:pt x="69" y="174"/>
                  </a:lnTo>
                  <a:lnTo>
                    <a:pt x="69" y="176"/>
                  </a:lnTo>
                  <a:lnTo>
                    <a:pt x="65" y="177"/>
                  </a:lnTo>
                  <a:lnTo>
                    <a:pt x="63" y="178"/>
                  </a:lnTo>
                  <a:lnTo>
                    <a:pt x="58" y="180"/>
                  </a:lnTo>
                  <a:lnTo>
                    <a:pt x="53" y="181"/>
                  </a:lnTo>
                  <a:lnTo>
                    <a:pt x="47" y="181"/>
                  </a:lnTo>
                  <a:lnTo>
                    <a:pt x="40" y="183"/>
                  </a:lnTo>
                  <a:lnTo>
                    <a:pt x="34" y="183"/>
                  </a:lnTo>
                  <a:lnTo>
                    <a:pt x="26" y="183"/>
                  </a:lnTo>
                  <a:lnTo>
                    <a:pt x="20" y="181"/>
                  </a:lnTo>
                  <a:lnTo>
                    <a:pt x="14" y="181"/>
                  </a:lnTo>
                  <a:lnTo>
                    <a:pt x="9" y="180"/>
                  </a:lnTo>
                  <a:lnTo>
                    <a:pt x="4" y="178"/>
                  </a:lnTo>
                  <a:lnTo>
                    <a:pt x="2" y="177"/>
                  </a:lnTo>
                  <a:lnTo>
                    <a:pt x="0" y="176"/>
                  </a:lnTo>
                  <a:lnTo>
                    <a:pt x="0" y="174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9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5504760" y="2593440"/>
              <a:ext cx="93960" cy="228600"/>
            </a:xfrm>
            <a:custGeom>
              <a:avLst/>
              <a:gdLst/>
              <a:ahLst/>
              <a:rect l="l" t="t" r="r" b="b"/>
              <a:pathLst>
                <a:path w="60" h="176">
                  <a:moveTo>
                    <a:pt x="30" y="0"/>
                  </a:moveTo>
                  <a:lnTo>
                    <a:pt x="34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3" y="3"/>
                  </a:lnTo>
                  <a:lnTo>
                    <a:pt x="55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59" y="167"/>
                  </a:lnTo>
                  <a:lnTo>
                    <a:pt x="56" y="168"/>
                  </a:lnTo>
                  <a:lnTo>
                    <a:pt x="55" y="170"/>
                  </a:lnTo>
                  <a:lnTo>
                    <a:pt x="53" y="171"/>
                  </a:lnTo>
                  <a:lnTo>
                    <a:pt x="50" y="172"/>
                  </a:lnTo>
                  <a:lnTo>
                    <a:pt x="45" y="173"/>
                  </a:lnTo>
                  <a:lnTo>
                    <a:pt x="40" y="175"/>
                  </a:lnTo>
                  <a:lnTo>
                    <a:pt x="34" y="175"/>
                  </a:lnTo>
                  <a:lnTo>
                    <a:pt x="30" y="175"/>
                  </a:lnTo>
                  <a:lnTo>
                    <a:pt x="23" y="175"/>
                  </a:lnTo>
                  <a:lnTo>
                    <a:pt x="17" y="175"/>
                  </a:lnTo>
                  <a:lnTo>
                    <a:pt x="13" y="173"/>
                  </a:lnTo>
                  <a:lnTo>
                    <a:pt x="7" y="172"/>
                  </a:lnTo>
                  <a:lnTo>
                    <a:pt x="4" y="171"/>
                  </a:lnTo>
                  <a:lnTo>
                    <a:pt x="2" y="170"/>
                  </a:lnTo>
                  <a:lnTo>
                    <a:pt x="1" y="168"/>
                  </a:lnTo>
                  <a:lnTo>
                    <a:pt x="0" y="16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7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514480" y="2587320"/>
              <a:ext cx="50400" cy="237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5" y="0"/>
                  </a:moveTo>
                  <a:lnTo>
                    <a:pt x="22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18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2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5514480" y="2593440"/>
              <a:ext cx="50400" cy="228600"/>
            </a:xfrm>
            <a:custGeom>
              <a:avLst/>
              <a:gdLst/>
              <a:ahLst/>
              <a:rect l="l" t="t" r="r" b="b"/>
              <a:pathLst>
                <a:path w="32" h="176">
                  <a:moveTo>
                    <a:pt x="0" y="0"/>
                  </a:moveTo>
                  <a:lnTo>
                    <a:pt x="31" y="0"/>
                  </a:lnTo>
                  <a:lnTo>
                    <a:pt x="31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232960" y="2588760"/>
              <a:ext cx="259920" cy="237600"/>
            </a:xfrm>
            <a:custGeom>
              <a:avLst/>
              <a:gdLst/>
              <a:ahLst/>
              <a:rect l="l" t="t" r="r" b="b"/>
              <a:pathLst>
                <a:path w="167" h="185">
                  <a:moveTo>
                    <a:pt x="48" y="8"/>
                  </a:moveTo>
                  <a:lnTo>
                    <a:pt x="56" y="5"/>
                  </a:lnTo>
                  <a:lnTo>
                    <a:pt x="62" y="3"/>
                  </a:lnTo>
                  <a:lnTo>
                    <a:pt x="71" y="1"/>
                  </a:lnTo>
                  <a:lnTo>
                    <a:pt x="81" y="0"/>
                  </a:lnTo>
                  <a:lnTo>
                    <a:pt x="92" y="0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2" y="4"/>
                  </a:lnTo>
                  <a:lnTo>
                    <a:pt x="118" y="7"/>
                  </a:lnTo>
                  <a:lnTo>
                    <a:pt x="122" y="8"/>
                  </a:lnTo>
                  <a:lnTo>
                    <a:pt x="120" y="18"/>
                  </a:lnTo>
                  <a:lnTo>
                    <a:pt x="120" y="29"/>
                  </a:lnTo>
                  <a:lnTo>
                    <a:pt x="120" y="40"/>
                  </a:lnTo>
                  <a:lnTo>
                    <a:pt x="120" y="47"/>
                  </a:lnTo>
                  <a:lnTo>
                    <a:pt x="120" y="55"/>
                  </a:lnTo>
                  <a:lnTo>
                    <a:pt x="122" y="60"/>
                  </a:lnTo>
                  <a:lnTo>
                    <a:pt x="122" y="67"/>
                  </a:lnTo>
                  <a:lnTo>
                    <a:pt x="123" y="71"/>
                  </a:lnTo>
                  <a:lnTo>
                    <a:pt x="124" y="76"/>
                  </a:lnTo>
                  <a:lnTo>
                    <a:pt x="125" y="80"/>
                  </a:lnTo>
                  <a:lnTo>
                    <a:pt x="126" y="84"/>
                  </a:lnTo>
                  <a:lnTo>
                    <a:pt x="132" y="93"/>
                  </a:lnTo>
                  <a:lnTo>
                    <a:pt x="135" y="103"/>
                  </a:lnTo>
                  <a:lnTo>
                    <a:pt x="142" y="114"/>
                  </a:lnTo>
                  <a:lnTo>
                    <a:pt x="148" y="127"/>
                  </a:lnTo>
                  <a:lnTo>
                    <a:pt x="154" y="138"/>
                  </a:lnTo>
                  <a:lnTo>
                    <a:pt x="158" y="144"/>
                  </a:lnTo>
                  <a:lnTo>
                    <a:pt x="166" y="152"/>
                  </a:lnTo>
                  <a:lnTo>
                    <a:pt x="166" y="175"/>
                  </a:lnTo>
                  <a:lnTo>
                    <a:pt x="155" y="178"/>
                  </a:lnTo>
                  <a:lnTo>
                    <a:pt x="144" y="179"/>
                  </a:lnTo>
                  <a:lnTo>
                    <a:pt x="130" y="182"/>
                  </a:lnTo>
                  <a:lnTo>
                    <a:pt x="112" y="184"/>
                  </a:lnTo>
                  <a:lnTo>
                    <a:pt x="93" y="184"/>
                  </a:lnTo>
                  <a:lnTo>
                    <a:pt x="69" y="184"/>
                  </a:lnTo>
                  <a:lnTo>
                    <a:pt x="49" y="182"/>
                  </a:lnTo>
                  <a:lnTo>
                    <a:pt x="30" y="181"/>
                  </a:lnTo>
                  <a:lnTo>
                    <a:pt x="16" y="179"/>
                  </a:lnTo>
                  <a:lnTo>
                    <a:pt x="9" y="178"/>
                  </a:lnTo>
                  <a:lnTo>
                    <a:pt x="0" y="174"/>
                  </a:lnTo>
                  <a:lnTo>
                    <a:pt x="0" y="152"/>
                  </a:lnTo>
                  <a:lnTo>
                    <a:pt x="4" y="148"/>
                  </a:lnTo>
                  <a:lnTo>
                    <a:pt x="7" y="140"/>
                  </a:lnTo>
                  <a:lnTo>
                    <a:pt x="13" y="136"/>
                  </a:lnTo>
                  <a:lnTo>
                    <a:pt x="20" y="124"/>
                  </a:lnTo>
                  <a:lnTo>
                    <a:pt x="24" y="115"/>
                  </a:lnTo>
                  <a:lnTo>
                    <a:pt x="30" y="107"/>
                  </a:lnTo>
                  <a:lnTo>
                    <a:pt x="36" y="96"/>
                  </a:lnTo>
                  <a:lnTo>
                    <a:pt x="40" y="87"/>
                  </a:lnTo>
                  <a:lnTo>
                    <a:pt x="44" y="75"/>
                  </a:lnTo>
                  <a:lnTo>
                    <a:pt x="47" y="64"/>
                  </a:lnTo>
                  <a:lnTo>
                    <a:pt x="49" y="54"/>
                  </a:lnTo>
                  <a:lnTo>
                    <a:pt x="50" y="45"/>
                  </a:lnTo>
                  <a:lnTo>
                    <a:pt x="52" y="34"/>
                  </a:lnTo>
                  <a:lnTo>
                    <a:pt x="52" y="25"/>
                  </a:lnTo>
                  <a:lnTo>
                    <a:pt x="50" y="16"/>
                  </a:lnTo>
                  <a:lnTo>
                    <a:pt x="48" y="8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232960" y="2588760"/>
              <a:ext cx="273240" cy="246600"/>
            </a:xfrm>
            <a:custGeom>
              <a:avLst/>
              <a:gdLst/>
              <a:ahLst/>
              <a:rect l="l" t="t" r="r" b="b"/>
              <a:pathLst>
                <a:path w="177" h="191">
                  <a:moveTo>
                    <a:pt x="52" y="8"/>
                  </a:moveTo>
                  <a:lnTo>
                    <a:pt x="59" y="5"/>
                  </a:lnTo>
                  <a:lnTo>
                    <a:pt x="67" y="3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1" y="1"/>
                  </a:lnTo>
                  <a:lnTo>
                    <a:pt x="119" y="4"/>
                  </a:lnTo>
                  <a:lnTo>
                    <a:pt x="126" y="7"/>
                  </a:lnTo>
                  <a:lnTo>
                    <a:pt x="129" y="8"/>
                  </a:lnTo>
                  <a:lnTo>
                    <a:pt x="127" y="19"/>
                  </a:lnTo>
                  <a:lnTo>
                    <a:pt x="127" y="30"/>
                  </a:lnTo>
                  <a:lnTo>
                    <a:pt x="127" y="41"/>
                  </a:lnTo>
                  <a:lnTo>
                    <a:pt x="127" y="49"/>
                  </a:lnTo>
                  <a:lnTo>
                    <a:pt x="127" y="57"/>
                  </a:lnTo>
                  <a:lnTo>
                    <a:pt x="129" y="62"/>
                  </a:lnTo>
                  <a:lnTo>
                    <a:pt x="129" y="69"/>
                  </a:lnTo>
                  <a:lnTo>
                    <a:pt x="130" y="73"/>
                  </a:lnTo>
                  <a:lnTo>
                    <a:pt x="132" y="79"/>
                  </a:lnTo>
                  <a:lnTo>
                    <a:pt x="134" y="83"/>
                  </a:lnTo>
                  <a:lnTo>
                    <a:pt x="135" y="87"/>
                  </a:lnTo>
                  <a:lnTo>
                    <a:pt x="140" y="96"/>
                  </a:lnTo>
                  <a:lnTo>
                    <a:pt x="144" y="106"/>
                  </a:lnTo>
                  <a:lnTo>
                    <a:pt x="151" y="118"/>
                  </a:lnTo>
                  <a:lnTo>
                    <a:pt x="156" y="131"/>
                  </a:lnTo>
                  <a:lnTo>
                    <a:pt x="164" y="143"/>
                  </a:lnTo>
                  <a:lnTo>
                    <a:pt x="168" y="149"/>
                  </a:lnTo>
                  <a:lnTo>
                    <a:pt x="176" y="157"/>
                  </a:lnTo>
                  <a:lnTo>
                    <a:pt x="176" y="181"/>
                  </a:lnTo>
                  <a:lnTo>
                    <a:pt x="165" y="184"/>
                  </a:lnTo>
                  <a:lnTo>
                    <a:pt x="153" y="185"/>
                  </a:lnTo>
                  <a:lnTo>
                    <a:pt x="137" y="188"/>
                  </a:lnTo>
                  <a:lnTo>
                    <a:pt x="119" y="190"/>
                  </a:lnTo>
                  <a:lnTo>
                    <a:pt x="97" y="190"/>
                  </a:lnTo>
                  <a:lnTo>
                    <a:pt x="73" y="190"/>
                  </a:lnTo>
                  <a:lnTo>
                    <a:pt x="53" y="188"/>
                  </a:lnTo>
                  <a:lnTo>
                    <a:pt x="31" y="187"/>
                  </a:lnTo>
                  <a:lnTo>
                    <a:pt x="18" y="185"/>
                  </a:lnTo>
                  <a:lnTo>
                    <a:pt x="9" y="184"/>
                  </a:lnTo>
                  <a:lnTo>
                    <a:pt x="0" y="180"/>
                  </a:lnTo>
                  <a:lnTo>
                    <a:pt x="0" y="157"/>
                  </a:lnTo>
                  <a:lnTo>
                    <a:pt x="4" y="153"/>
                  </a:lnTo>
                  <a:lnTo>
                    <a:pt x="8" y="145"/>
                  </a:lnTo>
                  <a:lnTo>
                    <a:pt x="14" y="140"/>
                  </a:lnTo>
                  <a:lnTo>
                    <a:pt x="21" y="128"/>
                  </a:lnTo>
                  <a:lnTo>
                    <a:pt x="27" y="119"/>
                  </a:lnTo>
                  <a:lnTo>
                    <a:pt x="31" y="110"/>
                  </a:lnTo>
                  <a:lnTo>
                    <a:pt x="38" y="99"/>
                  </a:lnTo>
                  <a:lnTo>
                    <a:pt x="42" y="90"/>
                  </a:lnTo>
                  <a:lnTo>
                    <a:pt x="47" y="77"/>
                  </a:lnTo>
                  <a:lnTo>
                    <a:pt x="51" y="66"/>
                  </a:lnTo>
                  <a:lnTo>
                    <a:pt x="53" y="56"/>
                  </a:lnTo>
                  <a:lnTo>
                    <a:pt x="54" y="46"/>
                  </a:lnTo>
                  <a:lnTo>
                    <a:pt x="55" y="35"/>
                  </a:lnTo>
                  <a:lnTo>
                    <a:pt x="55" y="26"/>
                  </a:lnTo>
                  <a:lnTo>
                    <a:pt x="54" y="17"/>
                  </a:lnTo>
                  <a:lnTo>
                    <a:pt x="52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232960" y="2588760"/>
              <a:ext cx="202680" cy="237600"/>
            </a:xfrm>
            <a:custGeom>
              <a:avLst/>
              <a:gdLst/>
              <a:ahLst/>
              <a:rect l="l" t="t" r="r" b="b"/>
              <a:pathLst>
                <a:path w="131" h="185">
                  <a:moveTo>
                    <a:pt x="48" y="8"/>
                  </a:moveTo>
                  <a:lnTo>
                    <a:pt x="55" y="5"/>
                  </a:lnTo>
                  <a:lnTo>
                    <a:pt x="62" y="3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04" y="10"/>
                  </a:lnTo>
                  <a:lnTo>
                    <a:pt x="104" y="18"/>
                  </a:lnTo>
                  <a:lnTo>
                    <a:pt x="101" y="28"/>
                  </a:lnTo>
                  <a:lnTo>
                    <a:pt x="101" y="39"/>
                  </a:lnTo>
                  <a:lnTo>
                    <a:pt x="100" y="47"/>
                  </a:lnTo>
                  <a:lnTo>
                    <a:pt x="100" y="57"/>
                  </a:lnTo>
                  <a:lnTo>
                    <a:pt x="100" y="67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5" y="91"/>
                  </a:lnTo>
                  <a:lnTo>
                    <a:pt x="105" y="96"/>
                  </a:lnTo>
                  <a:lnTo>
                    <a:pt x="106" y="105"/>
                  </a:lnTo>
                  <a:lnTo>
                    <a:pt x="107" y="111"/>
                  </a:lnTo>
                  <a:lnTo>
                    <a:pt x="108" y="117"/>
                  </a:lnTo>
                  <a:lnTo>
                    <a:pt x="110" y="125"/>
                  </a:lnTo>
                  <a:lnTo>
                    <a:pt x="113" y="131"/>
                  </a:lnTo>
                  <a:lnTo>
                    <a:pt x="118" y="140"/>
                  </a:lnTo>
                  <a:lnTo>
                    <a:pt x="123" y="152"/>
                  </a:lnTo>
                  <a:lnTo>
                    <a:pt x="126" y="160"/>
                  </a:lnTo>
                  <a:lnTo>
                    <a:pt x="130" y="165"/>
                  </a:lnTo>
                  <a:lnTo>
                    <a:pt x="130" y="182"/>
                  </a:lnTo>
                  <a:lnTo>
                    <a:pt x="112" y="184"/>
                  </a:lnTo>
                  <a:lnTo>
                    <a:pt x="92" y="184"/>
                  </a:lnTo>
                  <a:lnTo>
                    <a:pt x="70" y="184"/>
                  </a:lnTo>
                  <a:lnTo>
                    <a:pt x="49" y="182"/>
                  </a:lnTo>
                  <a:lnTo>
                    <a:pt x="30" y="181"/>
                  </a:lnTo>
                  <a:lnTo>
                    <a:pt x="17" y="179"/>
                  </a:lnTo>
                  <a:lnTo>
                    <a:pt x="9" y="178"/>
                  </a:lnTo>
                  <a:lnTo>
                    <a:pt x="0" y="174"/>
                  </a:lnTo>
                  <a:lnTo>
                    <a:pt x="0" y="152"/>
                  </a:lnTo>
                  <a:lnTo>
                    <a:pt x="4" y="148"/>
                  </a:lnTo>
                  <a:lnTo>
                    <a:pt x="8" y="140"/>
                  </a:lnTo>
                  <a:lnTo>
                    <a:pt x="13" y="136"/>
                  </a:lnTo>
                  <a:lnTo>
                    <a:pt x="20" y="124"/>
                  </a:lnTo>
                  <a:lnTo>
                    <a:pt x="26" y="115"/>
                  </a:lnTo>
                  <a:lnTo>
                    <a:pt x="30" y="107"/>
                  </a:lnTo>
                  <a:lnTo>
                    <a:pt x="35" y="96"/>
                  </a:lnTo>
                  <a:lnTo>
                    <a:pt x="39" y="87"/>
                  </a:lnTo>
                  <a:lnTo>
                    <a:pt x="45" y="75"/>
                  </a:lnTo>
                  <a:lnTo>
                    <a:pt x="47" y="64"/>
                  </a:lnTo>
                  <a:lnTo>
                    <a:pt x="49" y="54"/>
                  </a:lnTo>
                  <a:lnTo>
                    <a:pt x="52" y="45"/>
                  </a:lnTo>
                  <a:lnTo>
                    <a:pt x="53" y="34"/>
                  </a:lnTo>
                  <a:lnTo>
                    <a:pt x="53" y="25"/>
                  </a:lnTo>
                  <a:lnTo>
                    <a:pt x="52" y="16"/>
                  </a:lnTo>
                  <a:lnTo>
                    <a:pt x="48" y="8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232960" y="2588760"/>
              <a:ext cx="213120" cy="246600"/>
            </a:xfrm>
            <a:custGeom>
              <a:avLst/>
              <a:gdLst/>
              <a:ahLst/>
              <a:rect l="l" t="t" r="r" b="b"/>
              <a:pathLst>
                <a:path w="138" h="191">
                  <a:moveTo>
                    <a:pt x="51" y="8"/>
                  </a:moveTo>
                  <a:lnTo>
                    <a:pt x="58" y="5"/>
                  </a:lnTo>
                  <a:lnTo>
                    <a:pt x="66" y="3"/>
                  </a:lnTo>
                  <a:lnTo>
                    <a:pt x="76" y="1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103" y="1"/>
                  </a:lnTo>
                  <a:lnTo>
                    <a:pt x="110" y="1"/>
                  </a:lnTo>
                  <a:lnTo>
                    <a:pt x="109" y="10"/>
                  </a:lnTo>
                  <a:lnTo>
                    <a:pt x="109" y="19"/>
                  </a:lnTo>
                  <a:lnTo>
                    <a:pt x="107" y="29"/>
                  </a:lnTo>
                  <a:lnTo>
                    <a:pt x="107" y="40"/>
                  </a:lnTo>
                  <a:lnTo>
                    <a:pt x="106" y="49"/>
                  </a:lnTo>
                  <a:lnTo>
                    <a:pt x="106" y="59"/>
                  </a:lnTo>
                  <a:lnTo>
                    <a:pt x="106" y="69"/>
                  </a:lnTo>
                  <a:lnTo>
                    <a:pt x="109" y="77"/>
                  </a:lnTo>
                  <a:lnTo>
                    <a:pt x="109" y="85"/>
                  </a:lnTo>
                  <a:lnTo>
                    <a:pt x="110" y="94"/>
                  </a:lnTo>
                  <a:lnTo>
                    <a:pt x="110" y="99"/>
                  </a:lnTo>
                  <a:lnTo>
                    <a:pt x="111" y="108"/>
                  </a:lnTo>
                  <a:lnTo>
                    <a:pt x="113" y="115"/>
                  </a:lnTo>
                  <a:lnTo>
                    <a:pt x="114" y="121"/>
                  </a:lnTo>
                  <a:lnTo>
                    <a:pt x="116" y="129"/>
                  </a:lnTo>
                  <a:lnTo>
                    <a:pt x="119" y="135"/>
                  </a:lnTo>
                  <a:lnTo>
                    <a:pt x="123" y="145"/>
                  </a:lnTo>
                  <a:lnTo>
                    <a:pt x="130" y="157"/>
                  </a:lnTo>
                  <a:lnTo>
                    <a:pt x="133" y="165"/>
                  </a:lnTo>
                  <a:lnTo>
                    <a:pt x="137" y="170"/>
                  </a:lnTo>
                  <a:lnTo>
                    <a:pt x="137" y="188"/>
                  </a:lnTo>
                  <a:lnTo>
                    <a:pt x="117" y="190"/>
                  </a:lnTo>
                  <a:lnTo>
                    <a:pt x="96" y="190"/>
                  </a:lnTo>
                  <a:lnTo>
                    <a:pt x="73" y="190"/>
                  </a:lnTo>
                  <a:lnTo>
                    <a:pt x="52" y="188"/>
                  </a:lnTo>
                  <a:lnTo>
                    <a:pt x="31" y="187"/>
                  </a:lnTo>
                  <a:lnTo>
                    <a:pt x="18" y="185"/>
                  </a:lnTo>
                  <a:lnTo>
                    <a:pt x="9" y="184"/>
                  </a:lnTo>
                  <a:lnTo>
                    <a:pt x="0" y="180"/>
                  </a:lnTo>
                  <a:lnTo>
                    <a:pt x="0" y="157"/>
                  </a:lnTo>
                  <a:lnTo>
                    <a:pt x="4" y="153"/>
                  </a:lnTo>
                  <a:lnTo>
                    <a:pt x="7" y="145"/>
                  </a:lnTo>
                  <a:lnTo>
                    <a:pt x="14" y="140"/>
                  </a:lnTo>
                  <a:lnTo>
                    <a:pt x="21" y="128"/>
                  </a:lnTo>
                  <a:lnTo>
                    <a:pt x="26" y="119"/>
                  </a:lnTo>
                  <a:lnTo>
                    <a:pt x="31" y="110"/>
                  </a:lnTo>
                  <a:lnTo>
                    <a:pt x="38" y="99"/>
                  </a:lnTo>
                  <a:lnTo>
                    <a:pt x="41" y="90"/>
                  </a:lnTo>
                  <a:lnTo>
                    <a:pt x="47" y="77"/>
                  </a:lnTo>
                  <a:lnTo>
                    <a:pt x="50" y="66"/>
                  </a:lnTo>
                  <a:lnTo>
                    <a:pt x="52" y="56"/>
                  </a:lnTo>
                  <a:lnTo>
                    <a:pt x="53" y="46"/>
                  </a:lnTo>
                  <a:lnTo>
                    <a:pt x="55" y="35"/>
                  </a:lnTo>
                  <a:lnTo>
                    <a:pt x="55" y="26"/>
                  </a:lnTo>
                  <a:lnTo>
                    <a:pt x="53" y="17"/>
                  </a:lnTo>
                  <a:lnTo>
                    <a:pt x="51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446080" y="2479680"/>
              <a:ext cx="39960" cy="2196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3" y="0"/>
                  </a:moveTo>
                  <a:lnTo>
                    <a:pt x="17" y="0"/>
                  </a:lnTo>
                  <a:lnTo>
                    <a:pt x="21" y="2"/>
                  </a:lnTo>
                  <a:lnTo>
                    <a:pt x="22" y="4"/>
                  </a:lnTo>
                  <a:lnTo>
                    <a:pt x="25" y="9"/>
                  </a:lnTo>
                  <a:lnTo>
                    <a:pt x="22" y="11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4"/>
                  </a:lnTo>
                  <a:lnTo>
                    <a:pt x="3" y="2"/>
                  </a:lnTo>
                  <a:lnTo>
                    <a:pt x="6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446080" y="2479680"/>
              <a:ext cx="51480" cy="219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17" y="0"/>
                  </a:moveTo>
                  <a:lnTo>
                    <a:pt x="21" y="0"/>
                  </a:lnTo>
                  <a:lnTo>
                    <a:pt x="27" y="1"/>
                  </a:lnTo>
                  <a:lnTo>
                    <a:pt x="29" y="4"/>
                  </a:lnTo>
                  <a:lnTo>
                    <a:pt x="32" y="8"/>
                  </a:lnTo>
                  <a:lnTo>
                    <a:pt x="29" y="11"/>
                  </a:lnTo>
                  <a:lnTo>
                    <a:pt x="27" y="13"/>
                  </a:lnTo>
                  <a:lnTo>
                    <a:pt x="21" y="14"/>
                  </a:lnTo>
                  <a:lnTo>
                    <a:pt x="17" y="17"/>
                  </a:lnTo>
                  <a:lnTo>
                    <a:pt x="9" y="14"/>
                  </a:lnTo>
                  <a:lnTo>
                    <a:pt x="4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1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440680" y="2486880"/>
              <a:ext cx="40320" cy="330480"/>
            </a:xfrm>
            <a:custGeom>
              <a:avLst/>
              <a:gdLst/>
              <a:ahLst/>
              <a:rect l="l" t="t" r="r" b="b"/>
              <a:pathLst>
                <a:path w="27" h="256">
                  <a:moveTo>
                    <a:pt x="0" y="0"/>
                  </a:moveTo>
                  <a:lnTo>
                    <a:pt x="26" y="0"/>
                  </a:lnTo>
                  <a:lnTo>
                    <a:pt x="26" y="255"/>
                  </a:lnTo>
                  <a:lnTo>
                    <a:pt x="0" y="25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440680" y="2486880"/>
              <a:ext cx="51840" cy="338040"/>
            </a:xfrm>
            <a:custGeom>
              <a:avLst/>
              <a:gdLst/>
              <a:ahLst/>
              <a:rect l="l" t="t" r="r" b="b"/>
              <a:pathLst>
                <a:path w="33" h="262">
                  <a:moveTo>
                    <a:pt x="0" y="0"/>
                  </a:moveTo>
                  <a:lnTo>
                    <a:pt x="32" y="0"/>
                  </a:lnTo>
                  <a:lnTo>
                    <a:pt x="32" y="261"/>
                  </a:lnTo>
                  <a:lnTo>
                    <a:pt x="0" y="26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434200" y="2482560"/>
              <a:ext cx="36720" cy="234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2" y="0"/>
                  </a:moveTo>
                  <a:lnTo>
                    <a:pt x="15" y="0"/>
                  </a:lnTo>
                  <a:lnTo>
                    <a:pt x="18" y="2"/>
                  </a:lnTo>
                  <a:lnTo>
                    <a:pt x="20" y="5"/>
                  </a:lnTo>
                  <a:lnTo>
                    <a:pt x="23" y="8"/>
                  </a:lnTo>
                  <a:lnTo>
                    <a:pt x="20" y="10"/>
                  </a:lnTo>
                  <a:lnTo>
                    <a:pt x="18" y="13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6" y="17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442480" y="2486880"/>
              <a:ext cx="36720" cy="331920"/>
            </a:xfrm>
            <a:custGeom>
              <a:avLst/>
              <a:gdLst/>
              <a:ahLst/>
              <a:rect l="l" t="t" r="r" b="b"/>
              <a:pathLst>
                <a:path w="25" h="257">
                  <a:moveTo>
                    <a:pt x="0" y="0"/>
                  </a:moveTo>
                  <a:lnTo>
                    <a:pt x="24" y="0"/>
                  </a:lnTo>
                  <a:lnTo>
                    <a:pt x="24" y="256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448960" y="2500200"/>
              <a:ext cx="31680" cy="317160"/>
            </a:xfrm>
            <a:custGeom>
              <a:avLst/>
              <a:gdLst/>
              <a:ahLst/>
              <a:rect l="l" t="t" r="r" b="b"/>
              <a:pathLst>
                <a:path w="21" h="245">
                  <a:moveTo>
                    <a:pt x="0" y="0"/>
                  </a:moveTo>
                  <a:lnTo>
                    <a:pt x="20" y="0"/>
                  </a:lnTo>
                  <a:lnTo>
                    <a:pt x="20" y="244"/>
                  </a:lnTo>
                  <a:lnTo>
                    <a:pt x="0" y="244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846680" y="2805840"/>
              <a:ext cx="33840" cy="2340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1" y="0"/>
                  </a:moveTo>
                  <a:lnTo>
                    <a:pt x="0" y="3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8"/>
                  </a:lnTo>
                  <a:lnTo>
                    <a:pt x="7" y="18"/>
                  </a:lnTo>
                  <a:lnTo>
                    <a:pt x="7" y="10"/>
                  </a:lnTo>
                  <a:lnTo>
                    <a:pt x="21" y="10"/>
                  </a:lnTo>
                  <a:lnTo>
                    <a:pt x="21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846680" y="2805840"/>
              <a:ext cx="36720" cy="29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4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3" y="23"/>
                  </a:lnTo>
                  <a:lnTo>
                    <a:pt x="9" y="23"/>
                  </a:lnTo>
                  <a:lnTo>
                    <a:pt x="9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506200" y="2795760"/>
              <a:ext cx="60480" cy="262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5"/>
                  </a:moveTo>
                  <a:lnTo>
                    <a:pt x="10" y="5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30" y="2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38" y="19"/>
                  </a:lnTo>
                  <a:lnTo>
                    <a:pt x="0" y="19"/>
                  </a:lnTo>
                  <a:lnTo>
                    <a:pt x="0" y="5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506200" y="2795760"/>
              <a:ext cx="68760" cy="3528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0" y="6"/>
                  </a:moveTo>
                  <a:lnTo>
                    <a:pt x="12" y="6"/>
                  </a:lnTo>
                  <a:lnTo>
                    <a:pt x="12" y="1"/>
                  </a:lnTo>
                  <a:lnTo>
                    <a:pt x="21" y="0"/>
                  </a:lnTo>
                  <a:lnTo>
                    <a:pt x="21" y="6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35" y="3"/>
                  </a:lnTo>
                  <a:lnTo>
                    <a:pt x="35" y="8"/>
                  </a:lnTo>
                  <a:lnTo>
                    <a:pt x="44" y="10"/>
                  </a:lnTo>
                  <a:lnTo>
                    <a:pt x="44" y="26"/>
                  </a:lnTo>
                  <a:lnTo>
                    <a:pt x="0" y="26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454360" y="2736360"/>
              <a:ext cx="51480" cy="95760"/>
            </a:xfrm>
            <a:custGeom>
              <a:avLst/>
              <a:gdLst/>
              <a:ahLst/>
              <a:rect l="l" t="t" r="r" b="b"/>
              <a:pathLst>
                <a:path w="34" h="74">
                  <a:moveTo>
                    <a:pt x="0" y="0"/>
                  </a:moveTo>
                  <a:lnTo>
                    <a:pt x="11" y="5"/>
                  </a:lnTo>
                  <a:lnTo>
                    <a:pt x="11" y="15"/>
                  </a:lnTo>
                  <a:lnTo>
                    <a:pt x="24" y="18"/>
                  </a:lnTo>
                  <a:lnTo>
                    <a:pt x="24" y="13"/>
                  </a:lnTo>
                  <a:lnTo>
                    <a:pt x="33" y="15"/>
                  </a:lnTo>
                  <a:lnTo>
                    <a:pt x="33" y="66"/>
                  </a:lnTo>
                  <a:lnTo>
                    <a:pt x="0" y="73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454360" y="2736360"/>
              <a:ext cx="60120" cy="10332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0" y="0"/>
                  </a:moveTo>
                  <a:lnTo>
                    <a:pt x="13" y="5"/>
                  </a:lnTo>
                  <a:lnTo>
                    <a:pt x="13" y="16"/>
                  </a:lnTo>
                  <a:lnTo>
                    <a:pt x="29" y="20"/>
                  </a:lnTo>
                  <a:lnTo>
                    <a:pt x="29" y="14"/>
                  </a:lnTo>
                  <a:lnTo>
                    <a:pt x="39" y="16"/>
                  </a:lnTo>
                  <a:lnTo>
                    <a:pt x="39" y="71"/>
                  </a:lnTo>
                  <a:lnTo>
                    <a:pt x="0" y="7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454360" y="2771640"/>
              <a:ext cx="31320" cy="5616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0" y="0"/>
                  </a:moveTo>
                  <a:lnTo>
                    <a:pt x="20" y="5"/>
                  </a:lnTo>
                  <a:lnTo>
                    <a:pt x="20" y="43"/>
                  </a:lnTo>
                  <a:lnTo>
                    <a:pt x="12" y="43"/>
                  </a:lnTo>
                  <a:lnTo>
                    <a:pt x="12" y="6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454360" y="2771640"/>
              <a:ext cx="31320" cy="6336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0" y="0"/>
                  </a:moveTo>
                  <a:lnTo>
                    <a:pt x="20" y="6"/>
                  </a:lnTo>
                  <a:lnTo>
                    <a:pt x="20" y="49"/>
                  </a:lnTo>
                  <a:lnTo>
                    <a:pt x="12" y="49"/>
                  </a:lnTo>
                  <a:lnTo>
                    <a:pt x="12" y="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187600" y="2675880"/>
              <a:ext cx="216000" cy="159120"/>
            </a:xfrm>
            <a:custGeom>
              <a:avLst/>
              <a:gdLst/>
              <a:ahLst/>
              <a:rect l="l" t="t" r="r" b="b"/>
              <a:pathLst>
                <a:path w="139" h="124">
                  <a:moveTo>
                    <a:pt x="0" y="26"/>
                  </a:moveTo>
                  <a:lnTo>
                    <a:pt x="138" y="0"/>
                  </a:lnTo>
                  <a:lnTo>
                    <a:pt x="138" y="123"/>
                  </a:lnTo>
                  <a:lnTo>
                    <a:pt x="0" y="123"/>
                  </a:lnTo>
                  <a:lnTo>
                    <a:pt x="0" y="26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187600" y="2675880"/>
              <a:ext cx="226440" cy="169560"/>
            </a:xfrm>
            <a:custGeom>
              <a:avLst/>
              <a:gdLst/>
              <a:ahLst/>
              <a:rect l="l" t="t" r="r" b="b"/>
              <a:pathLst>
                <a:path w="146" h="131">
                  <a:moveTo>
                    <a:pt x="0" y="28"/>
                  </a:moveTo>
                  <a:lnTo>
                    <a:pt x="145" y="0"/>
                  </a:lnTo>
                  <a:lnTo>
                    <a:pt x="145" y="130"/>
                  </a:lnTo>
                  <a:lnTo>
                    <a:pt x="0" y="13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410800" y="2675880"/>
              <a:ext cx="53640" cy="159120"/>
            </a:xfrm>
            <a:custGeom>
              <a:avLst/>
              <a:gdLst/>
              <a:ahLst/>
              <a:rect l="l" t="t" r="r" b="b"/>
              <a:pathLst>
                <a:path w="34" h="123">
                  <a:moveTo>
                    <a:pt x="19" y="0"/>
                  </a:moveTo>
                  <a:lnTo>
                    <a:pt x="19" y="6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22" y="118"/>
                  </a:lnTo>
                  <a:lnTo>
                    <a:pt x="22" y="26"/>
                  </a:lnTo>
                  <a:lnTo>
                    <a:pt x="33" y="28"/>
                  </a:lnTo>
                  <a:lnTo>
                    <a:pt x="33" y="4"/>
                  </a:lnTo>
                  <a:lnTo>
                    <a:pt x="1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410800" y="2675880"/>
              <a:ext cx="63720" cy="167760"/>
            </a:xfrm>
            <a:custGeom>
              <a:avLst/>
              <a:gdLst/>
              <a:ahLst/>
              <a:rect l="l" t="t" r="r" b="b"/>
              <a:pathLst>
                <a:path w="41" h="130">
                  <a:moveTo>
                    <a:pt x="24" y="0"/>
                  </a:moveTo>
                  <a:lnTo>
                    <a:pt x="24" y="6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25" y="125"/>
                  </a:lnTo>
                  <a:lnTo>
                    <a:pt x="25" y="28"/>
                  </a:lnTo>
                  <a:lnTo>
                    <a:pt x="40" y="29"/>
                  </a:lnTo>
                  <a:lnTo>
                    <a:pt x="40" y="4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288040" y="2685960"/>
              <a:ext cx="35280" cy="9288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21" y="0"/>
                  </a:moveTo>
                  <a:lnTo>
                    <a:pt x="21" y="69"/>
                  </a:lnTo>
                  <a:lnTo>
                    <a:pt x="0" y="71"/>
                  </a:lnTo>
                  <a:lnTo>
                    <a:pt x="0" y="3"/>
                  </a:lnTo>
                  <a:lnTo>
                    <a:pt x="21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288040" y="2685960"/>
              <a:ext cx="36720" cy="10188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23" y="0"/>
                  </a:moveTo>
                  <a:lnTo>
                    <a:pt x="23" y="75"/>
                  </a:lnTo>
                  <a:lnTo>
                    <a:pt x="0" y="77"/>
                  </a:lnTo>
                  <a:lnTo>
                    <a:pt x="0" y="3"/>
                  </a:lnTo>
                  <a:lnTo>
                    <a:pt x="2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288040" y="2786400"/>
              <a:ext cx="36720" cy="2376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1"/>
                  </a:moveTo>
                  <a:lnTo>
                    <a:pt x="17" y="0"/>
                  </a:lnTo>
                  <a:lnTo>
                    <a:pt x="23" y="15"/>
                  </a:lnTo>
                  <a:lnTo>
                    <a:pt x="7" y="18"/>
                  </a:lnTo>
                  <a:lnTo>
                    <a:pt x="0" y="1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288040" y="2786400"/>
              <a:ext cx="47160" cy="2376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"/>
                  </a:moveTo>
                  <a:lnTo>
                    <a:pt x="21" y="0"/>
                  </a:lnTo>
                  <a:lnTo>
                    <a:pt x="29" y="16"/>
                  </a:lnTo>
                  <a:lnTo>
                    <a:pt x="9" y="18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323320" y="2685960"/>
              <a:ext cx="31320" cy="114840"/>
            </a:xfrm>
            <a:custGeom>
              <a:avLst/>
              <a:gdLst/>
              <a:ahLst/>
              <a:rect l="l" t="t" r="r" b="b"/>
              <a:pathLst>
                <a:path w="20" h="89">
                  <a:moveTo>
                    <a:pt x="0" y="0"/>
                  </a:moveTo>
                  <a:lnTo>
                    <a:pt x="19" y="0"/>
                  </a:lnTo>
                  <a:lnTo>
                    <a:pt x="19" y="88"/>
                  </a:lnTo>
                  <a:lnTo>
                    <a:pt x="0" y="70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323320" y="2685960"/>
              <a:ext cx="31320" cy="124200"/>
            </a:xfrm>
            <a:custGeom>
              <a:avLst/>
              <a:gdLst/>
              <a:ahLst/>
              <a:rect l="l" t="t" r="r" b="b"/>
              <a:pathLst>
                <a:path w="20" h="96">
                  <a:moveTo>
                    <a:pt x="0" y="0"/>
                  </a:moveTo>
                  <a:lnTo>
                    <a:pt x="19" y="0"/>
                  </a:lnTo>
                  <a:lnTo>
                    <a:pt x="19" y="95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241240" y="2699640"/>
              <a:ext cx="31320" cy="103320"/>
            </a:xfrm>
            <a:custGeom>
              <a:avLst/>
              <a:gdLst/>
              <a:ahLst/>
              <a:rect l="l" t="t" r="r" b="b"/>
              <a:pathLst>
                <a:path w="20" h="80">
                  <a:moveTo>
                    <a:pt x="0" y="0"/>
                  </a:moveTo>
                  <a:lnTo>
                    <a:pt x="0" y="62"/>
                  </a:lnTo>
                  <a:lnTo>
                    <a:pt x="19" y="79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241240" y="2699640"/>
              <a:ext cx="31320" cy="111960"/>
            </a:xfrm>
            <a:custGeom>
              <a:avLst/>
              <a:gdLst/>
              <a:ahLst/>
              <a:rect l="l" t="t" r="r" b="b"/>
              <a:pathLst>
                <a:path w="20" h="87">
                  <a:moveTo>
                    <a:pt x="0" y="0"/>
                  </a:moveTo>
                  <a:lnTo>
                    <a:pt x="0" y="68"/>
                  </a:lnTo>
                  <a:lnTo>
                    <a:pt x="19" y="86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209200" y="2700720"/>
              <a:ext cx="33480" cy="84240"/>
            </a:xfrm>
            <a:custGeom>
              <a:avLst/>
              <a:gdLst/>
              <a:ahLst/>
              <a:rect l="l" t="t" r="r" b="b"/>
              <a:pathLst>
                <a:path w="22" h="65">
                  <a:moveTo>
                    <a:pt x="0" y="3"/>
                  </a:moveTo>
                  <a:lnTo>
                    <a:pt x="21" y="0"/>
                  </a:lnTo>
                  <a:lnTo>
                    <a:pt x="21" y="62"/>
                  </a:lnTo>
                  <a:lnTo>
                    <a:pt x="0" y="64"/>
                  </a:lnTo>
                  <a:lnTo>
                    <a:pt x="0" y="3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209200" y="2700720"/>
              <a:ext cx="34920" cy="914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3"/>
                  </a:moveTo>
                  <a:lnTo>
                    <a:pt x="22" y="0"/>
                  </a:lnTo>
                  <a:lnTo>
                    <a:pt x="22" y="69"/>
                  </a:lnTo>
                  <a:lnTo>
                    <a:pt x="0" y="71"/>
                  </a:lnTo>
                  <a:lnTo>
                    <a:pt x="0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207400" y="2786400"/>
              <a:ext cx="45000" cy="237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1"/>
                  </a:moveTo>
                  <a:lnTo>
                    <a:pt x="16" y="0"/>
                  </a:lnTo>
                  <a:lnTo>
                    <a:pt x="27" y="18"/>
                  </a:lnTo>
                  <a:lnTo>
                    <a:pt x="9" y="18"/>
                  </a:lnTo>
                  <a:lnTo>
                    <a:pt x="0" y="1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207400" y="2786400"/>
              <a:ext cx="55440" cy="2484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1"/>
                  </a:moveTo>
                  <a:lnTo>
                    <a:pt x="20" y="0"/>
                  </a:lnTo>
                  <a:lnTo>
                    <a:pt x="34" y="19"/>
                  </a:lnTo>
                  <a:lnTo>
                    <a:pt x="12" y="19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358600" y="2743560"/>
              <a:ext cx="42120" cy="2376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0"/>
                  </a:moveTo>
                  <a:lnTo>
                    <a:pt x="15" y="0"/>
                  </a:lnTo>
                  <a:lnTo>
                    <a:pt x="25" y="18"/>
                  </a:lnTo>
                  <a:lnTo>
                    <a:pt x="8" y="1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358600" y="2743560"/>
              <a:ext cx="51840" cy="33840"/>
            </a:xfrm>
            <a:custGeom>
              <a:avLst/>
              <a:gdLst/>
              <a:ahLst/>
              <a:rect l="l" t="t" r="r" b="b"/>
              <a:pathLst>
                <a:path w="33" h="26">
                  <a:moveTo>
                    <a:pt x="0" y="0"/>
                  </a:moveTo>
                  <a:lnTo>
                    <a:pt x="20" y="0"/>
                  </a:lnTo>
                  <a:lnTo>
                    <a:pt x="32" y="25"/>
                  </a:lnTo>
                  <a:lnTo>
                    <a:pt x="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358600" y="2675880"/>
              <a:ext cx="30240" cy="601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0" y="45"/>
                  </a:moveTo>
                  <a:lnTo>
                    <a:pt x="19" y="42"/>
                  </a:lnTo>
                  <a:lnTo>
                    <a:pt x="19" y="0"/>
                  </a:lnTo>
                  <a:lnTo>
                    <a:pt x="0" y="3"/>
                  </a:lnTo>
                  <a:lnTo>
                    <a:pt x="0" y="45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358600" y="2675880"/>
              <a:ext cx="31680" cy="6912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0" y="52"/>
                  </a:moveTo>
                  <a:lnTo>
                    <a:pt x="20" y="49"/>
                  </a:lnTo>
                  <a:lnTo>
                    <a:pt x="20" y="0"/>
                  </a:lnTo>
                  <a:lnTo>
                    <a:pt x="0" y="3"/>
                  </a:lnTo>
                  <a:lnTo>
                    <a:pt x="0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390640" y="2675880"/>
              <a:ext cx="31680" cy="91080"/>
            </a:xfrm>
            <a:custGeom>
              <a:avLst/>
              <a:gdLst/>
              <a:ahLst/>
              <a:rect l="l" t="t" r="r" b="b"/>
              <a:pathLst>
                <a:path w="21" h="71">
                  <a:moveTo>
                    <a:pt x="0" y="0"/>
                  </a:moveTo>
                  <a:lnTo>
                    <a:pt x="0" y="46"/>
                  </a:lnTo>
                  <a:lnTo>
                    <a:pt x="20" y="70"/>
                  </a:lnTo>
                  <a:lnTo>
                    <a:pt x="20" y="2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390640" y="2675880"/>
              <a:ext cx="31680" cy="10152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0" y="50"/>
                  </a:lnTo>
                  <a:lnTo>
                    <a:pt x="20" y="77"/>
                  </a:lnTo>
                  <a:lnTo>
                    <a:pt x="2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279760" y="2694960"/>
              <a:ext cx="31680" cy="4572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0" y="1"/>
                  </a:moveTo>
                  <a:lnTo>
                    <a:pt x="19" y="0"/>
                  </a:lnTo>
                  <a:lnTo>
                    <a:pt x="19" y="34"/>
                  </a:lnTo>
                  <a:lnTo>
                    <a:pt x="0" y="34"/>
                  </a:lnTo>
                  <a:lnTo>
                    <a:pt x="0" y="1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279760" y="2694960"/>
              <a:ext cx="31680" cy="5580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1"/>
                  </a:moveTo>
                  <a:lnTo>
                    <a:pt x="19" y="0"/>
                  </a:lnTo>
                  <a:lnTo>
                    <a:pt x="19" y="41"/>
                  </a:lnTo>
                  <a:lnTo>
                    <a:pt x="0" y="41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279760" y="274824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0" y="0"/>
                  </a:lnTo>
                  <a:lnTo>
                    <a:pt x="19" y="17"/>
                  </a:lnTo>
                  <a:lnTo>
                    <a:pt x="9" y="1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279760" y="2748240"/>
              <a:ext cx="41760" cy="306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0"/>
                  </a:moveTo>
                  <a:lnTo>
                    <a:pt x="14" y="0"/>
                  </a:lnTo>
                  <a:lnTo>
                    <a:pt x="26" y="23"/>
                  </a:lnTo>
                  <a:lnTo>
                    <a:pt x="13" y="2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299920" y="2694960"/>
              <a:ext cx="31680" cy="75240"/>
            </a:xfrm>
            <a:custGeom>
              <a:avLst/>
              <a:gdLst/>
              <a:ahLst/>
              <a:rect l="l" t="t" r="r" b="b"/>
              <a:pathLst>
                <a:path w="21" h="58">
                  <a:moveTo>
                    <a:pt x="20" y="57"/>
                  </a:moveTo>
                  <a:lnTo>
                    <a:pt x="20" y="2"/>
                  </a:lnTo>
                  <a:lnTo>
                    <a:pt x="0" y="0"/>
                  </a:lnTo>
                  <a:lnTo>
                    <a:pt x="0" y="37"/>
                  </a:lnTo>
                  <a:lnTo>
                    <a:pt x="20" y="57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299920" y="2694960"/>
              <a:ext cx="31680" cy="8388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20" y="64"/>
                  </a:moveTo>
                  <a:lnTo>
                    <a:pt x="20" y="2"/>
                  </a:lnTo>
                  <a:lnTo>
                    <a:pt x="0" y="0"/>
                  </a:lnTo>
                  <a:lnTo>
                    <a:pt x="0" y="42"/>
                  </a:lnTo>
                  <a:lnTo>
                    <a:pt x="20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204160" y="2751120"/>
              <a:ext cx="34920" cy="266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7" y="18"/>
                  </a:moveTo>
                  <a:lnTo>
                    <a:pt x="22" y="18"/>
                  </a:lnTo>
                  <a:lnTo>
                    <a:pt x="12" y="0"/>
                  </a:lnTo>
                  <a:lnTo>
                    <a:pt x="0" y="0"/>
                  </a:lnTo>
                  <a:lnTo>
                    <a:pt x="7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204160" y="2751120"/>
              <a:ext cx="36720" cy="30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8" y="22"/>
                  </a:moveTo>
                  <a:lnTo>
                    <a:pt x="24" y="2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8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202360" y="2714040"/>
              <a:ext cx="31680" cy="324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23"/>
                  </a:moveTo>
                  <a:lnTo>
                    <a:pt x="20" y="23"/>
                  </a:lnTo>
                  <a:lnTo>
                    <a:pt x="20" y="0"/>
                  </a:lnTo>
                  <a:lnTo>
                    <a:pt x="0" y="2"/>
                  </a:lnTo>
                  <a:lnTo>
                    <a:pt x="0" y="23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202360" y="2714040"/>
              <a:ext cx="31680" cy="3816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29"/>
                  </a:moveTo>
                  <a:lnTo>
                    <a:pt x="16" y="29"/>
                  </a:lnTo>
                  <a:lnTo>
                    <a:pt x="20" y="0"/>
                  </a:lnTo>
                  <a:lnTo>
                    <a:pt x="0" y="2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226120" y="2715840"/>
              <a:ext cx="29880" cy="5724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0" y="0"/>
                  </a:moveTo>
                  <a:lnTo>
                    <a:pt x="0" y="24"/>
                  </a:lnTo>
                  <a:lnTo>
                    <a:pt x="19" y="43"/>
                  </a:lnTo>
                  <a:lnTo>
                    <a:pt x="19" y="5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226120" y="2715840"/>
              <a:ext cx="29880" cy="66240"/>
            </a:xfrm>
            <a:custGeom>
              <a:avLst/>
              <a:gdLst/>
              <a:ahLst/>
              <a:rect l="l" t="t" r="r" b="b"/>
              <a:pathLst>
                <a:path w="20" h="51">
                  <a:moveTo>
                    <a:pt x="0" y="0"/>
                  </a:moveTo>
                  <a:lnTo>
                    <a:pt x="0" y="28"/>
                  </a:lnTo>
                  <a:lnTo>
                    <a:pt x="19" y="50"/>
                  </a:lnTo>
                  <a:lnTo>
                    <a:pt x="19" y="6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136840" y="2693520"/>
              <a:ext cx="47160" cy="14004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7" y="0"/>
                  </a:moveTo>
                  <a:lnTo>
                    <a:pt x="7" y="12"/>
                  </a:lnTo>
                  <a:lnTo>
                    <a:pt x="0" y="9"/>
                  </a:lnTo>
                  <a:lnTo>
                    <a:pt x="0" y="108"/>
                  </a:lnTo>
                  <a:lnTo>
                    <a:pt x="30" y="106"/>
                  </a:lnTo>
                  <a:lnTo>
                    <a:pt x="30" y="12"/>
                  </a:lnTo>
                  <a:lnTo>
                    <a:pt x="7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136840" y="2693520"/>
              <a:ext cx="58680" cy="147600"/>
            </a:xfrm>
            <a:custGeom>
              <a:avLst/>
              <a:gdLst/>
              <a:ahLst/>
              <a:rect l="l" t="t" r="r" b="b"/>
              <a:pathLst>
                <a:path w="38" h="115">
                  <a:moveTo>
                    <a:pt x="10" y="0"/>
                  </a:moveTo>
                  <a:lnTo>
                    <a:pt x="10" y="13"/>
                  </a:lnTo>
                  <a:lnTo>
                    <a:pt x="0" y="10"/>
                  </a:lnTo>
                  <a:lnTo>
                    <a:pt x="0" y="114"/>
                  </a:lnTo>
                  <a:lnTo>
                    <a:pt x="37" y="112"/>
                  </a:lnTo>
                  <a:lnTo>
                    <a:pt x="37" y="13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127120" y="2693520"/>
              <a:ext cx="34920" cy="223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1" y="0"/>
                  </a:moveTo>
                  <a:lnTo>
                    <a:pt x="0" y="2"/>
                  </a:lnTo>
                  <a:lnTo>
                    <a:pt x="0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127120" y="2693520"/>
              <a:ext cx="34920" cy="2484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21" y="0"/>
                  </a:moveTo>
                  <a:lnTo>
                    <a:pt x="0" y="3"/>
                  </a:lnTo>
                  <a:lnTo>
                    <a:pt x="0" y="19"/>
                  </a:lnTo>
                  <a:lnTo>
                    <a:pt x="21" y="19"/>
                  </a:lnTo>
                  <a:lnTo>
                    <a:pt x="2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895280" y="2635920"/>
              <a:ext cx="150840" cy="200880"/>
            </a:xfrm>
            <a:custGeom>
              <a:avLst/>
              <a:gdLst/>
              <a:ahLst/>
              <a:rect l="l" t="t" r="r" b="b"/>
              <a:pathLst>
                <a:path w="97" h="156">
                  <a:moveTo>
                    <a:pt x="0" y="28"/>
                  </a:moveTo>
                  <a:lnTo>
                    <a:pt x="96" y="0"/>
                  </a:lnTo>
                  <a:lnTo>
                    <a:pt x="96" y="155"/>
                  </a:lnTo>
                  <a:lnTo>
                    <a:pt x="0" y="151"/>
                  </a:lnTo>
                  <a:lnTo>
                    <a:pt x="0" y="2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895280" y="2635920"/>
              <a:ext cx="162720" cy="210960"/>
            </a:xfrm>
            <a:custGeom>
              <a:avLst/>
              <a:gdLst/>
              <a:ahLst/>
              <a:rect l="l" t="t" r="r" b="b"/>
              <a:pathLst>
                <a:path w="105" h="163">
                  <a:moveTo>
                    <a:pt x="0" y="29"/>
                  </a:moveTo>
                  <a:lnTo>
                    <a:pt x="104" y="0"/>
                  </a:lnTo>
                  <a:lnTo>
                    <a:pt x="104" y="162"/>
                  </a:lnTo>
                  <a:lnTo>
                    <a:pt x="0" y="158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058000" y="2637720"/>
              <a:ext cx="66960" cy="199080"/>
            </a:xfrm>
            <a:custGeom>
              <a:avLst/>
              <a:gdLst/>
              <a:ahLst/>
              <a:rect l="l" t="t" r="r" b="b"/>
              <a:pathLst>
                <a:path w="44" h="155">
                  <a:moveTo>
                    <a:pt x="0" y="0"/>
                  </a:moveTo>
                  <a:lnTo>
                    <a:pt x="5" y="2"/>
                  </a:lnTo>
                  <a:lnTo>
                    <a:pt x="16" y="1"/>
                  </a:lnTo>
                  <a:lnTo>
                    <a:pt x="25" y="3"/>
                  </a:lnTo>
                  <a:lnTo>
                    <a:pt x="25" y="8"/>
                  </a:lnTo>
                  <a:lnTo>
                    <a:pt x="43" y="15"/>
                  </a:lnTo>
                  <a:lnTo>
                    <a:pt x="43" y="148"/>
                  </a:lnTo>
                  <a:lnTo>
                    <a:pt x="0" y="154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058000" y="2637720"/>
              <a:ext cx="82080" cy="209520"/>
            </a:xfrm>
            <a:custGeom>
              <a:avLst/>
              <a:gdLst/>
              <a:ahLst/>
              <a:rect l="l" t="t" r="r" b="b"/>
              <a:pathLst>
                <a:path w="53" h="162">
                  <a:moveTo>
                    <a:pt x="0" y="0"/>
                  </a:moveTo>
                  <a:lnTo>
                    <a:pt x="6" y="2"/>
                  </a:lnTo>
                  <a:lnTo>
                    <a:pt x="19" y="1"/>
                  </a:lnTo>
                  <a:lnTo>
                    <a:pt x="31" y="3"/>
                  </a:lnTo>
                  <a:lnTo>
                    <a:pt x="31" y="8"/>
                  </a:lnTo>
                  <a:lnTo>
                    <a:pt x="52" y="16"/>
                  </a:lnTo>
                  <a:lnTo>
                    <a:pt x="52" y="155"/>
                  </a:lnTo>
                  <a:lnTo>
                    <a:pt x="0" y="16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162040" y="2699640"/>
              <a:ext cx="3024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0" y="9"/>
                  </a:lnTo>
                  <a:lnTo>
                    <a:pt x="19" y="17"/>
                  </a:lnTo>
                  <a:lnTo>
                    <a:pt x="19" y="9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162040" y="2699640"/>
              <a:ext cx="3024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0" y="9"/>
                  </a:lnTo>
                  <a:lnTo>
                    <a:pt x="19" y="17"/>
                  </a:lnTo>
                  <a:lnTo>
                    <a:pt x="19" y="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4880520" y="2705400"/>
              <a:ext cx="29880" cy="1281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2"/>
                  </a:moveTo>
                  <a:lnTo>
                    <a:pt x="18" y="0"/>
                  </a:lnTo>
                  <a:lnTo>
                    <a:pt x="18" y="99"/>
                  </a:lnTo>
                  <a:lnTo>
                    <a:pt x="0" y="99"/>
                  </a:lnTo>
                  <a:lnTo>
                    <a:pt x="0" y="2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4880520" y="2705400"/>
              <a:ext cx="29880" cy="135360"/>
            </a:xfrm>
            <a:custGeom>
              <a:avLst/>
              <a:gdLst/>
              <a:ahLst/>
              <a:rect l="l" t="t" r="r" b="b"/>
              <a:pathLst>
                <a:path w="19" h="106">
                  <a:moveTo>
                    <a:pt x="0" y="2"/>
                  </a:moveTo>
                  <a:lnTo>
                    <a:pt x="18" y="0"/>
                  </a:lnTo>
                  <a:lnTo>
                    <a:pt x="18" y="105"/>
                  </a:lnTo>
                  <a:lnTo>
                    <a:pt x="0" y="105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4902120" y="2705400"/>
              <a:ext cx="29880" cy="129600"/>
            </a:xfrm>
            <a:custGeom>
              <a:avLst/>
              <a:gdLst/>
              <a:ahLst/>
              <a:rect l="l" t="t" r="r" b="b"/>
              <a:pathLst>
                <a:path w="20" h="101">
                  <a:moveTo>
                    <a:pt x="0" y="0"/>
                  </a:moveTo>
                  <a:lnTo>
                    <a:pt x="19" y="0"/>
                  </a:lnTo>
                  <a:lnTo>
                    <a:pt x="19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4902120" y="2705400"/>
              <a:ext cx="29880" cy="138600"/>
            </a:xfrm>
            <a:custGeom>
              <a:avLst/>
              <a:gdLst/>
              <a:ahLst/>
              <a:rect l="l" t="t" r="r" b="b"/>
              <a:pathLst>
                <a:path w="20" h="108">
                  <a:moveTo>
                    <a:pt x="0" y="0"/>
                  </a:moveTo>
                  <a:lnTo>
                    <a:pt x="19" y="0"/>
                  </a:lnTo>
                  <a:lnTo>
                    <a:pt x="19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4900320" y="2709720"/>
              <a:ext cx="30240" cy="237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9" y="17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907160" y="2709720"/>
              <a:ext cx="33480" cy="237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900320" y="2723400"/>
              <a:ext cx="30240" cy="262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9" y="18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907160" y="2723400"/>
              <a:ext cx="33480" cy="262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0"/>
                  </a:lnTo>
                  <a:lnTo>
                    <a:pt x="21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4900320" y="2743560"/>
              <a:ext cx="30240" cy="2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9" y="17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4907160" y="2743560"/>
              <a:ext cx="33480" cy="223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900320" y="2758320"/>
              <a:ext cx="30240" cy="237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9" y="17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4907160" y="2758320"/>
              <a:ext cx="33480" cy="237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925520" y="2653560"/>
              <a:ext cx="3132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0"/>
                  </a:move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927320" y="2653560"/>
              <a:ext cx="3348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0" y="18"/>
                  </a:lnTo>
                  <a:lnTo>
                    <a:pt x="21" y="15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986000" y="2637720"/>
              <a:ext cx="31680" cy="262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0"/>
                  </a:moveTo>
                  <a:lnTo>
                    <a:pt x="20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987800" y="2637720"/>
              <a:ext cx="31680" cy="262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0" y="18"/>
                  </a:lnTo>
                  <a:lnTo>
                    <a:pt x="14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955760" y="2647800"/>
              <a:ext cx="3168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0"/>
                  </a:move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959000" y="2647800"/>
              <a:ext cx="29880" cy="234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0" y="17"/>
                  </a:lnTo>
                  <a:lnTo>
                    <a:pt x="18" y="14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024520" y="2631600"/>
              <a:ext cx="33480" cy="21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1" y="0"/>
                  </a:moveTo>
                  <a:lnTo>
                    <a:pt x="21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024520" y="2631600"/>
              <a:ext cx="34920" cy="21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0" y="17"/>
                  </a:lnTo>
                  <a:lnTo>
                    <a:pt x="15" y="12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106960" y="2696400"/>
              <a:ext cx="34920" cy="140040"/>
            </a:xfrm>
            <a:custGeom>
              <a:avLst/>
              <a:gdLst/>
              <a:ahLst/>
              <a:rect l="l" t="t" r="r" b="b"/>
              <a:pathLst>
                <a:path w="23" h="109">
                  <a:moveTo>
                    <a:pt x="0" y="0"/>
                  </a:moveTo>
                  <a:lnTo>
                    <a:pt x="22" y="6"/>
                  </a:lnTo>
                  <a:lnTo>
                    <a:pt x="22" y="104"/>
                  </a:ln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106960" y="2696400"/>
              <a:ext cx="43200" cy="150480"/>
            </a:xfrm>
            <a:custGeom>
              <a:avLst/>
              <a:gdLst/>
              <a:ahLst/>
              <a:rect l="l" t="t" r="r" b="b"/>
              <a:pathLst>
                <a:path w="29" h="116">
                  <a:moveTo>
                    <a:pt x="0" y="0"/>
                  </a:moveTo>
                  <a:lnTo>
                    <a:pt x="28" y="6"/>
                  </a:lnTo>
                  <a:lnTo>
                    <a:pt x="28" y="111"/>
                  </a:lnTo>
                  <a:lnTo>
                    <a:pt x="0" y="11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086800" y="2696400"/>
              <a:ext cx="33480" cy="140040"/>
            </a:xfrm>
            <a:custGeom>
              <a:avLst/>
              <a:gdLst/>
              <a:ahLst/>
              <a:rect l="l" t="t" r="r" b="b"/>
              <a:pathLst>
                <a:path w="21" h="109">
                  <a:moveTo>
                    <a:pt x="20" y="0"/>
                  </a:moveTo>
                  <a:lnTo>
                    <a:pt x="20" y="108"/>
                  </a:lnTo>
                  <a:lnTo>
                    <a:pt x="0" y="105"/>
                  </a:lnTo>
                  <a:lnTo>
                    <a:pt x="0" y="3"/>
                  </a:lnTo>
                  <a:lnTo>
                    <a:pt x="2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086800" y="2696400"/>
              <a:ext cx="33480" cy="15048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20" y="0"/>
                  </a:moveTo>
                  <a:lnTo>
                    <a:pt x="20" y="115"/>
                  </a:lnTo>
                  <a:lnTo>
                    <a:pt x="0" y="112"/>
                  </a:lnTo>
                  <a:lnTo>
                    <a:pt x="0" y="3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113440" y="2717280"/>
              <a:ext cx="31680" cy="237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122080" y="2717280"/>
              <a:ext cx="34920" cy="2376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22" y="0"/>
                  </a:lnTo>
                  <a:lnTo>
                    <a:pt x="22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113440" y="2734920"/>
              <a:ext cx="3168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122080" y="2734920"/>
              <a:ext cx="34920" cy="2196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22" y="0"/>
                  </a:lnTo>
                  <a:lnTo>
                    <a:pt x="22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113440" y="2751120"/>
              <a:ext cx="31680" cy="2232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122080" y="2751120"/>
              <a:ext cx="34920" cy="223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22" y="0"/>
                  </a:lnTo>
                  <a:lnTo>
                    <a:pt x="22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113440" y="2764440"/>
              <a:ext cx="31680" cy="237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5122080" y="2764440"/>
              <a:ext cx="34920" cy="2376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22" y="0"/>
                  </a:lnTo>
                  <a:lnTo>
                    <a:pt x="22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5133600" y="2746800"/>
              <a:ext cx="87480" cy="8676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0" y="67"/>
                  </a:moveTo>
                  <a:lnTo>
                    <a:pt x="55" y="67"/>
                  </a:lnTo>
                  <a:lnTo>
                    <a:pt x="55" y="0"/>
                  </a:lnTo>
                  <a:lnTo>
                    <a:pt x="22" y="2"/>
                  </a:lnTo>
                  <a:lnTo>
                    <a:pt x="22" y="50"/>
                  </a:lnTo>
                  <a:lnTo>
                    <a:pt x="0" y="54"/>
                  </a:lnTo>
                  <a:lnTo>
                    <a:pt x="0" y="67"/>
                  </a:lnTo>
                </a:path>
              </a:pathLst>
            </a:custGeom>
            <a:solidFill>
              <a:srgbClr val="604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5133600" y="2746800"/>
              <a:ext cx="99000" cy="94320"/>
            </a:xfrm>
            <a:custGeom>
              <a:avLst/>
              <a:gdLst/>
              <a:ahLst/>
              <a:rect l="l" t="t" r="r" b="b"/>
              <a:pathLst>
                <a:path w="64" h="74">
                  <a:moveTo>
                    <a:pt x="0" y="73"/>
                  </a:moveTo>
                  <a:lnTo>
                    <a:pt x="63" y="73"/>
                  </a:lnTo>
                  <a:lnTo>
                    <a:pt x="63" y="0"/>
                  </a:lnTo>
                  <a:lnTo>
                    <a:pt x="23" y="2"/>
                  </a:lnTo>
                  <a:lnTo>
                    <a:pt x="23" y="54"/>
                  </a:lnTo>
                  <a:lnTo>
                    <a:pt x="0" y="59"/>
                  </a:lnTo>
                  <a:lnTo>
                    <a:pt x="0" y="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5545080" y="2781000"/>
              <a:ext cx="29880" cy="4716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0" y="6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36"/>
                  </a:lnTo>
                  <a:lnTo>
                    <a:pt x="0" y="6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545080" y="2781000"/>
              <a:ext cx="29880" cy="54360"/>
            </a:xfrm>
            <a:custGeom>
              <a:avLst/>
              <a:gdLst/>
              <a:ahLst/>
              <a:rect l="l" t="t" r="r" b="b"/>
              <a:pathLst>
                <a:path w="19" h="43">
                  <a:moveTo>
                    <a:pt x="0" y="7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5"/>
                  </a:lnTo>
                  <a:lnTo>
                    <a:pt x="1" y="8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5182200" y="2824920"/>
              <a:ext cx="3168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182200" y="2824920"/>
              <a:ext cx="3168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209200" y="2824920"/>
              <a:ext cx="3348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209200" y="2824920"/>
              <a:ext cx="3348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239440" y="2824920"/>
              <a:ext cx="3168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239440" y="2824920"/>
              <a:ext cx="3168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264640" y="2824920"/>
              <a:ext cx="3168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5264640" y="2824920"/>
              <a:ext cx="3168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5293080" y="2824920"/>
              <a:ext cx="3384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5293080" y="2824920"/>
              <a:ext cx="3384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5323320" y="2824920"/>
              <a:ext cx="2988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323320" y="2824920"/>
              <a:ext cx="2988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348520" y="2824920"/>
              <a:ext cx="28440" cy="24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18" y="0"/>
                  </a:lnTo>
                  <a:lnTo>
                    <a:pt x="18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348520" y="2824920"/>
              <a:ext cx="28440" cy="24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18" y="17"/>
                  </a:lnTo>
                  <a:lnTo>
                    <a:pt x="18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5373720" y="2824920"/>
              <a:ext cx="3348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373720" y="2824920"/>
              <a:ext cx="3348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5251320" y="282492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5333400" y="282492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279760" y="282492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5303160" y="282492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226120" y="282492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197320" y="282492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5361840" y="282492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388840" y="282492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5141880" y="2813400"/>
              <a:ext cx="241560" cy="21960"/>
            </a:xfrm>
            <a:custGeom>
              <a:avLst/>
              <a:gdLst/>
              <a:ahLst/>
              <a:rect l="l" t="t" r="r" b="b"/>
              <a:pathLst>
                <a:path w="156" h="18">
                  <a:moveTo>
                    <a:pt x="0" y="14"/>
                  </a:moveTo>
                  <a:lnTo>
                    <a:pt x="9" y="0"/>
                  </a:lnTo>
                  <a:lnTo>
                    <a:pt x="152" y="0"/>
                  </a:lnTo>
                  <a:lnTo>
                    <a:pt x="155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5491440" y="2771640"/>
              <a:ext cx="33480" cy="64800"/>
            </a:xfrm>
            <a:custGeom>
              <a:avLst/>
              <a:gdLst/>
              <a:ahLst/>
              <a:rect l="l" t="t" r="r" b="b"/>
              <a:pathLst>
                <a:path w="22" h="51">
                  <a:moveTo>
                    <a:pt x="0" y="8"/>
                  </a:moveTo>
                  <a:lnTo>
                    <a:pt x="0" y="5"/>
                  </a:lnTo>
                  <a:lnTo>
                    <a:pt x="2" y="3"/>
                  </a:lnTo>
                  <a:lnTo>
                    <a:pt x="2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6" y="2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2" y="3"/>
                  </a:lnTo>
                  <a:lnTo>
                    <a:pt x="9" y="3"/>
                  </a:lnTo>
                  <a:lnTo>
                    <a:pt x="5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9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8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491440" y="2771640"/>
              <a:ext cx="33480" cy="75240"/>
            </a:xfrm>
            <a:custGeom>
              <a:avLst/>
              <a:gdLst/>
              <a:ahLst/>
              <a:rect l="l" t="t" r="r" b="b"/>
              <a:pathLst>
                <a:path w="22" h="58">
                  <a:moveTo>
                    <a:pt x="0" y="9"/>
                  </a:move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15" y="9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5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10"/>
                  </a:lnTo>
                  <a:lnTo>
                    <a:pt x="2" y="57"/>
                  </a:lnTo>
                  <a:lnTo>
                    <a:pt x="0" y="57"/>
                  </a:lnTo>
                  <a:lnTo>
                    <a:pt x="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440680" y="2826360"/>
              <a:ext cx="30240" cy="237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7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440680" y="2826360"/>
              <a:ext cx="33840" cy="237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7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472720" y="2828160"/>
              <a:ext cx="1800" cy="2340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0"/>
                  </a:moveTo>
                  <a:lnTo>
                    <a:pt x="0" y="17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472720" y="2828160"/>
              <a:ext cx="35280" cy="23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0" y="17"/>
                  </a:lnTo>
                  <a:lnTo>
                    <a:pt x="22" y="14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573520" y="2782080"/>
              <a:ext cx="1440" cy="3096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0" y="3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23"/>
                  </a:lnTo>
                  <a:lnTo>
                    <a:pt x="0" y="3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573520" y="2782080"/>
              <a:ext cx="33480" cy="3960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4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439240" y="2833920"/>
              <a:ext cx="29880" cy="237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5439240" y="2833920"/>
              <a:ext cx="29880" cy="237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5439240" y="2822040"/>
              <a:ext cx="29880" cy="2376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8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5439240" y="2822040"/>
              <a:ext cx="29880" cy="2376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439240" y="2807280"/>
              <a:ext cx="29880" cy="2376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0"/>
                  </a:lnTo>
                  <a:lnTo>
                    <a:pt x="19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439240" y="2810160"/>
              <a:ext cx="2988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439240" y="2796840"/>
              <a:ext cx="2988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7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5439240" y="2796840"/>
              <a:ext cx="2988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439240" y="2785320"/>
              <a:ext cx="2988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439240" y="2788200"/>
              <a:ext cx="29880" cy="2340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439240" y="2777760"/>
              <a:ext cx="2988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7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439240" y="2776320"/>
              <a:ext cx="29880" cy="2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871520" y="2721600"/>
              <a:ext cx="500400" cy="79560"/>
            </a:xfrm>
            <a:custGeom>
              <a:avLst/>
              <a:gdLst/>
              <a:ahLst/>
              <a:rect l="l" t="t" r="r" b="b"/>
              <a:pathLst>
                <a:path w="323" h="61">
                  <a:moveTo>
                    <a:pt x="322" y="0"/>
                  </a:moveTo>
                  <a:lnTo>
                    <a:pt x="322" y="10"/>
                  </a:lnTo>
                  <a:lnTo>
                    <a:pt x="196" y="20"/>
                  </a:lnTo>
                  <a:lnTo>
                    <a:pt x="166" y="57"/>
                  </a:lnTo>
                  <a:lnTo>
                    <a:pt x="0" y="60"/>
                  </a:lnTo>
                  <a:lnTo>
                    <a:pt x="0" y="53"/>
                  </a:lnTo>
                  <a:lnTo>
                    <a:pt x="155" y="48"/>
                  </a:lnTo>
                  <a:lnTo>
                    <a:pt x="188" y="9"/>
                  </a:lnTo>
                  <a:lnTo>
                    <a:pt x="322" y="0"/>
                  </a:lnTo>
                </a:path>
              </a:pathLst>
            </a:custGeom>
            <a:solidFill>
              <a:srgbClr val="a08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871520" y="2721600"/>
              <a:ext cx="511920" cy="88560"/>
            </a:xfrm>
            <a:custGeom>
              <a:avLst/>
              <a:gdLst/>
              <a:ahLst/>
              <a:rect l="l" t="t" r="r" b="b"/>
              <a:pathLst>
                <a:path w="330" h="68">
                  <a:moveTo>
                    <a:pt x="329" y="0"/>
                  </a:moveTo>
                  <a:lnTo>
                    <a:pt x="329" y="12"/>
                  </a:lnTo>
                  <a:lnTo>
                    <a:pt x="200" y="23"/>
                  </a:lnTo>
                  <a:lnTo>
                    <a:pt x="170" y="6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158" y="53"/>
                  </a:lnTo>
                  <a:lnTo>
                    <a:pt x="193" y="10"/>
                  </a:lnTo>
                  <a:lnTo>
                    <a:pt x="32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258160" y="2693520"/>
              <a:ext cx="31320" cy="3996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0" y="0"/>
                  </a:moveTo>
                  <a:lnTo>
                    <a:pt x="20" y="4"/>
                  </a:lnTo>
                  <a:lnTo>
                    <a:pt x="20" y="12"/>
                  </a:lnTo>
                  <a:lnTo>
                    <a:pt x="10" y="13"/>
                  </a:lnTo>
                  <a:lnTo>
                    <a:pt x="5" y="28"/>
                  </a:lnTo>
                  <a:lnTo>
                    <a:pt x="0" y="30"/>
                  </a:lnTo>
                  <a:lnTo>
                    <a:pt x="1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258160" y="2693520"/>
              <a:ext cx="38160" cy="4752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2" y="0"/>
                  </a:moveTo>
                  <a:lnTo>
                    <a:pt x="24" y="5"/>
                  </a:lnTo>
                  <a:lnTo>
                    <a:pt x="24" y="15"/>
                  </a:lnTo>
                  <a:lnTo>
                    <a:pt x="13" y="16"/>
                  </a:lnTo>
                  <a:lnTo>
                    <a:pt x="8" y="34"/>
                  </a:lnTo>
                  <a:lnTo>
                    <a:pt x="0" y="36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239440" y="2693520"/>
              <a:ext cx="31680" cy="4284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9" y="2"/>
                  </a:moveTo>
                  <a:lnTo>
                    <a:pt x="19" y="0"/>
                  </a:lnTo>
                  <a:lnTo>
                    <a:pt x="7" y="29"/>
                  </a:lnTo>
                  <a:lnTo>
                    <a:pt x="0" y="31"/>
                  </a:lnTo>
                  <a:lnTo>
                    <a:pt x="9" y="2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239440" y="2693520"/>
              <a:ext cx="41760" cy="5184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13" y="3"/>
                  </a:moveTo>
                  <a:lnTo>
                    <a:pt x="25" y="0"/>
                  </a:lnTo>
                  <a:lnTo>
                    <a:pt x="10" y="36"/>
                  </a:lnTo>
                  <a:lnTo>
                    <a:pt x="0" y="38"/>
                  </a:lnTo>
                  <a:lnTo>
                    <a:pt x="13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323320" y="2678760"/>
              <a:ext cx="33480" cy="5004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1" y="3"/>
                  </a:moveTo>
                  <a:lnTo>
                    <a:pt x="21" y="0"/>
                  </a:lnTo>
                  <a:lnTo>
                    <a:pt x="10" y="35"/>
                  </a:lnTo>
                  <a:lnTo>
                    <a:pt x="0" y="37"/>
                  </a:lnTo>
                  <a:lnTo>
                    <a:pt x="11" y="3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323320" y="2678760"/>
              <a:ext cx="43200" cy="5724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15" y="3"/>
                  </a:moveTo>
                  <a:lnTo>
                    <a:pt x="28" y="0"/>
                  </a:lnTo>
                  <a:lnTo>
                    <a:pt x="14" y="41"/>
                  </a:lnTo>
                  <a:lnTo>
                    <a:pt x="0" y="43"/>
                  </a:lnTo>
                  <a:lnTo>
                    <a:pt x="15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348520" y="2678760"/>
              <a:ext cx="31680" cy="4572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8" y="0"/>
                  </a:moveTo>
                  <a:lnTo>
                    <a:pt x="0" y="34"/>
                  </a:lnTo>
                  <a:lnTo>
                    <a:pt x="5" y="30"/>
                  </a:lnTo>
                  <a:lnTo>
                    <a:pt x="10" y="15"/>
                  </a:lnTo>
                  <a:lnTo>
                    <a:pt x="19" y="14"/>
                  </a:lnTo>
                  <a:lnTo>
                    <a:pt x="19" y="5"/>
                  </a:lnTo>
                  <a:lnTo>
                    <a:pt x="8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5348520" y="2678760"/>
              <a:ext cx="41760" cy="561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3" y="0"/>
                  </a:moveTo>
                  <a:lnTo>
                    <a:pt x="0" y="41"/>
                  </a:lnTo>
                  <a:lnTo>
                    <a:pt x="7" y="36"/>
                  </a:lnTo>
                  <a:lnTo>
                    <a:pt x="14" y="19"/>
                  </a:lnTo>
                  <a:lnTo>
                    <a:pt x="26" y="18"/>
                  </a:lnTo>
                  <a:lnTo>
                    <a:pt x="26" y="6"/>
                  </a:lnTo>
                  <a:lnTo>
                    <a:pt x="1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5383800" y="2824920"/>
              <a:ext cx="36720" cy="248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17"/>
                  </a:moveTo>
                  <a:lnTo>
                    <a:pt x="24" y="17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5383800" y="2824920"/>
              <a:ext cx="50400" cy="262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19"/>
                  </a:moveTo>
                  <a:lnTo>
                    <a:pt x="32" y="19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5432400" y="2824920"/>
              <a:ext cx="3168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0" y="17"/>
                  </a:lnTo>
                  <a:lnTo>
                    <a:pt x="19" y="17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5432400" y="2824920"/>
              <a:ext cx="31680" cy="262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lnTo>
                    <a:pt x="0" y="19"/>
                  </a:lnTo>
                  <a:lnTo>
                    <a:pt x="19" y="19"/>
                  </a:lnTo>
                  <a:lnTo>
                    <a:pt x="19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5182200" y="2754000"/>
              <a:ext cx="63720" cy="248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0" y="18"/>
                  </a:moveTo>
                  <a:lnTo>
                    <a:pt x="35" y="18"/>
                  </a:lnTo>
                  <a:lnTo>
                    <a:pt x="40" y="0"/>
                  </a:lnTo>
                  <a:lnTo>
                    <a:pt x="3" y="0"/>
                  </a:lnTo>
                  <a:lnTo>
                    <a:pt x="0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182200" y="2755800"/>
              <a:ext cx="73800" cy="248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0" y="6"/>
                  </a:moveTo>
                  <a:lnTo>
                    <a:pt x="40" y="0"/>
                  </a:lnTo>
                  <a:lnTo>
                    <a:pt x="46" y="13"/>
                  </a:lnTo>
                  <a:lnTo>
                    <a:pt x="3" y="18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177160" y="2761560"/>
              <a:ext cx="31680" cy="7812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20" y="60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0" y="60"/>
                  </a:lnTo>
                  <a:lnTo>
                    <a:pt x="20" y="60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182200" y="2761560"/>
              <a:ext cx="31680" cy="8856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0" y="67"/>
                  </a:moveTo>
                  <a:lnTo>
                    <a:pt x="0" y="0"/>
                  </a:lnTo>
                  <a:lnTo>
                    <a:pt x="19" y="4"/>
                  </a:lnTo>
                  <a:lnTo>
                    <a:pt x="19" y="67"/>
                  </a:lnTo>
                  <a:lnTo>
                    <a:pt x="0" y="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5244120" y="2758320"/>
              <a:ext cx="30240" cy="81360"/>
            </a:xfrm>
            <a:custGeom>
              <a:avLst/>
              <a:gdLst/>
              <a:ahLst/>
              <a:rect l="l" t="t" r="r" b="b"/>
              <a:pathLst>
                <a:path w="20" h="63">
                  <a:moveTo>
                    <a:pt x="19" y="62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0" y="62"/>
                  </a:lnTo>
                  <a:lnTo>
                    <a:pt x="19" y="62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247720" y="2758320"/>
              <a:ext cx="33480" cy="91440"/>
            </a:xfrm>
            <a:custGeom>
              <a:avLst/>
              <a:gdLst/>
              <a:ahLst/>
              <a:rect l="l" t="t" r="r" b="b"/>
              <a:pathLst>
                <a:path w="21" h="70">
                  <a:moveTo>
                    <a:pt x="0" y="69"/>
                  </a:moveTo>
                  <a:lnTo>
                    <a:pt x="0" y="0"/>
                  </a:lnTo>
                  <a:lnTo>
                    <a:pt x="20" y="3"/>
                  </a:lnTo>
                  <a:lnTo>
                    <a:pt x="20" y="69"/>
                  </a:lnTo>
                  <a:lnTo>
                    <a:pt x="0" y="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5247720" y="2752560"/>
              <a:ext cx="83880" cy="1080"/>
            </a:xfrm>
            <a:custGeom>
              <a:avLst/>
              <a:gdLst/>
              <a:ahLst/>
              <a:rect l="l" t="t" r="r" b="b"/>
              <a:pathLst>
                <a:path w="54" h="1">
                  <a:moveTo>
                    <a:pt x="0" y="0"/>
                  </a:moveTo>
                  <a:lnTo>
                    <a:pt x="46" y="0"/>
                  </a:lnTo>
                  <a:lnTo>
                    <a:pt x="53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247720" y="2752560"/>
              <a:ext cx="95760" cy="262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9"/>
                  </a:moveTo>
                  <a:lnTo>
                    <a:pt x="52" y="0"/>
                  </a:lnTo>
                  <a:lnTo>
                    <a:pt x="60" y="11"/>
                  </a:lnTo>
                  <a:lnTo>
                    <a:pt x="5" y="18"/>
                  </a:lnTo>
                  <a:lnTo>
                    <a:pt x="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5329800" y="2752560"/>
              <a:ext cx="31680" cy="86760"/>
            </a:xfrm>
            <a:custGeom>
              <a:avLst/>
              <a:gdLst/>
              <a:ahLst/>
              <a:rect l="l" t="t" r="r" b="b"/>
              <a:pathLst>
                <a:path w="21" h="67">
                  <a:moveTo>
                    <a:pt x="20" y="66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0" y="66"/>
                  </a:lnTo>
                  <a:lnTo>
                    <a:pt x="20" y="66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5331960" y="2752560"/>
              <a:ext cx="31680" cy="97200"/>
            </a:xfrm>
            <a:custGeom>
              <a:avLst/>
              <a:gdLst/>
              <a:ahLst/>
              <a:rect l="l" t="t" r="r" b="b"/>
              <a:pathLst>
                <a:path w="21" h="74">
                  <a:moveTo>
                    <a:pt x="0" y="73"/>
                  </a:moveTo>
                  <a:lnTo>
                    <a:pt x="0" y="0"/>
                  </a:lnTo>
                  <a:lnTo>
                    <a:pt x="20" y="4"/>
                  </a:lnTo>
                  <a:lnTo>
                    <a:pt x="20" y="73"/>
                  </a:lnTo>
                  <a:lnTo>
                    <a:pt x="0" y="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881960" y="2822040"/>
              <a:ext cx="29880" cy="24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881960" y="2822040"/>
              <a:ext cx="29880" cy="24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907160" y="2822040"/>
              <a:ext cx="3348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0"/>
                  </a:lnTo>
                  <a:lnTo>
                    <a:pt x="21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907160" y="2822040"/>
              <a:ext cx="3348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18"/>
                  </a:lnTo>
                  <a:lnTo>
                    <a:pt x="21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932000" y="2822040"/>
              <a:ext cx="3348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0"/>
                  </a:lnTo>
                  <a:lnTo>
                    <a:pt x="21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932000" y="2822040"/>
              <a:ext cx="3348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18"/>
                  </a:lnTo>
                  <a:lnTo>
                    <a:pt x="21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962600" y="2822040"/>
              <a:ext cx="28440" cy="24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962600" y="2822040"/>
              <a:ext cx="28440" cy="24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987800" y="2822040"/>
              <a:ext cx="3168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0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987800" y="2822040"/>
              <a:ext cx="3168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18"/>
                  </a:lnTo>
                  <a:lnTo>
                    <a:pt x="2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013000" y="2822040"/>
              <a:ext cx="3348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0"/>
                  </a:lnTo>
                  <a:lnTo>
                    <a:pt x="21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013000" y="2822040"/>
              <a:ext cx="3348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18"/>
                  </a:lnTo>
                  <a:lnTo>
                    <a:pt x="21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036400" y="2822040"/>
              <a:ext cx="33480" cy="248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0"/>
                  </a:lnTo>
                  <a:lnTo>
                    <a:pt x="19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036400" y="2822040"/>
              <a:ext cx="33480" cy="248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064840" y="2822040"/>
              <a:ext cx="3132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0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064840" y="2822040"/>
              <a:ext cx="3132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18"/>
                  </a:lnTo>
                  <a:lnTo>
                    <a:pt x="2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945680" y="282204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024520" y="282204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975920" y="282204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999680" y="282204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4923720" y="282204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4897080" y="282204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053320" y="282204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079960" y="282204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9" name=""/>
          <p:cNvSpPr/>
          <p:nvPr/>
        </p:nvSpPr>
        <p:spPr>
          <a:xfrm>
            <a:off x="3483000" y="4494240"/>
            <a:ext cx="1219320" cy="1301760"/>
          </a:xfrm>
          <a:custGeom>
            <a:avLst/>
            <a:gdLst/>
            <a:ahLst/>
            <a:rect l="l" t="t" r="r" b="b"/>
            <a:pathLst>
              <a:path w="709" h="820">
                <a:moveTo>
                  <a:pt x="709" y="0"/>
                </a:moveTo>
                <a:lnTo>
                  <a:pt x="283" y="819"/>
                </a:lnTo>
                <a:lnTo>
                  <a:pt x="0" y="82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 rot="1200">
            <a:off x="4391640" y="4803480"/>
            <a:ext cx="1235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e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erra Barr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R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3457440" y="4468680"/>
            <a:ext cx="1173240" cy="1170000"/>
          </a:xfrm>
          <a:custGeom>
            <a:avLst/>
            <a:gdLst/>
            <a:ahLst/>
            <a:rect l="l" t="t" r="r" b="b"/>
            <a:pathLst>
              <a:path w="682" h="737">
                <a:moveTo>
                  <a:pt x="682" y="0"/>
                </a:moveTo>
                <a:lnTo>
                  <a:pt x="573" y="0"/>
                </a:lnTo>
                <a:lnTo>
                  <a:pt x="206" y="734"/>
                </a:lnTo>
                <a:lnTo>
                  <a:pt x="0" y="737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2563920" y="5184720"/>
            <a:ext cx="1320840" cy="250920"/>
          </a:xfrm>
          <a:custGeom>
            <a:avLst/>
            <a:gdLst/>
            <a:ahLst/>
            <a:rect l="l" t="t" r="r" b="b"/>
            <a:pathLst>
              <a:path w="768" h="158">
                <a:moveTo>
                  <a:pt x="0" y="0"/>
                </a:moveTo>
                <a:lnTo>
                  <a:pt x="576" y="0"/>
                </a:lnTo>
                <a:lnTo>
                  <a:pt x="768" y="15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 rot="1200">
            <a:off x="3800880" y="3960360"/>
            <a:ext cx="124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asolin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Ø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5093280" y="6059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leoducto RPH – Challacó - A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 rot="1200">
            <a:off x="5883480" y="5363640"/>
            <a:ext cx="143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Ole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entenario</a:t>
            </a: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3359160" y="5489640"/>
            <a:ext cx="5994360" cy="569880"/>
          </a:xfrm>
          <a:custGeom>
            <a:avLst/>
            <a:gdLst/>
            <a:ahLst/>
            <a:rect l="l" t="t" r="r" b="b"/>
            <a:pathLst>
              <a:path w="3485" h="359">
                <a:moveTo>
                  <a:pt x="3485" y="0"/>
                </a:moveTo>
                <a:lnTo>
                  <a:pt x="3001" y="359"/>
                </a:lnTo>
                <a:lnTo>
                  <a:pt x="0" y="349"/>
                </a:ln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3483000" y="5264280"/>
            <a:ext cx="5640480" cy="622080"/>
          </a:xfrm>
          <a:custGeom>
            <a:avLst/>
            <a:gdLst/>
            <a:ahLst/>
            <a:rect l="l" t="t" r="r" b="b"/>
            <a:pathLst>
              <a:path w="3280" h="392">
                <a:moveTo>
                  <a:pt x="3280" y="0"/>
                </a:moveTo>
                <a:lnTo>
                  <a:pt x="2754" y="392"/>
                </a:lnTo>
                <a:lnTo>
                  <a:pt x="0" y="392"/>
                </a:lnTo>
              </a:path>
            </a:pathLst>
          </a:custGeom>
          <a:noFill/>
          <a:ln w="28440">
            <a:solidFill>
              <a:srgbClr val="ffff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9043920" y="5099040"/>
            <a:ext cx="277920" cy="206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3862440" y="50400"/>
            <a:ext cx="4502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 Black"/>
              </a:rPr>
              <a:t>Sistema General de </a:t>
            </a:r>
            <a:br>
              <a:rPr sz="2000"/>
            </a:br>
            <a:r>
              <a:rPr b="1" lang="es-AR" sz="2000" spc="-1" strike="noStrike">
                <a:solidFill>
                  <a:srgbClr val="ffffff"/>
                </a:solidFill>
                <a:latin typeface="Arial Black"/>
              </a:rPr>
              <a:t>Movimiento de Líquidos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740" name=""/>
          <p:cNvGrpSpPr/>
          <p:nvPr/>
        </p:nvGrpSpPr>
        <p:grpSpPr>
          <a:xfrm>
            <a:off x="3017880" y="5394240"/>
            <a:ext cx="449640" cy="796320"/>
            <a:chOff x="3017880" y="5394240"/>
            <a:chExt cx="449640" cy="796320"/>
          </a:xfrm>
        </p:grpSpPr>
        <p:sp>
          <p:nvSpPr>
            <p:cNvPr id="2741" name=""/>
            <p:cNvSpPr/>
            <p:nvPr/>
          </p:nvSpPr>
          <p:spPr>
            <a:xfrm>
              <a:off x="3067920" y="5394240"/>
              <a:ext cx="150120" cy="788400"/>
            </a:xfrm>
            <a:prstGeom prst="flowChartMagneticDisk">
              <a:avLst/>
            </a:prstGeom>
            <a:gradFill rotWithShape="0">
              <a:gsLst>
                <a:gs pos="0">
                  <a:srgbClr val="004600"/>
                </a:gs>
                <a:gs pos="50000">
                  <a:srgbClr val="009900"/>
                </a:gs>
                <a:gs pos="100000">
                  <a:srgbClr val="0046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3213360" y="5551200"/>
              <a:ext cx="254160" cy="628920"/>
            </a:xfrm>
            <a:prstGeom prst="flowChartMagneticDisk">
              <a:avLst/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3017880" y="5725800"/>
              <a:ext cx="150120" cy="464760"/>
            </a:xfrm>
            <a:prstGeom prst="flowChartMagneticDisk">
              <a:avLst/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 Black"/>
              </a:rPr>
              <a:t>Oleoducto LLL-Contenario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732960" y="1035000"/>
            <a:ext cx="842004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 Unicode MS"/>
              </a:rPr>
              <a:t>El ducto posee protección catódica con corriente impresa e inyección de inhibidor de corrosión. Se realizó Estudio Ambiental del Oleoducto en Diciembre de 1997 (empresa Natural Survey Consulting S.A.).</a:t>
            </a:r>
            <a:endParaRPr b="1" lang="en-US" sz="2000" spc="-1" strike="noStrike">
              <a:solidFill>
                <a:srgbClr val="ff9900"/>
              </a:solidFill>
              <a:latin typeface="Arial Unicode MS"/>
            </a:endParaRPr>
          </a:p>
          <a:p>
            <a:pPr marL="322200" indent="-322200" algn="just">
              <a:spcBef>
                <a:spcPts val="4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 Unicode MS"/>
              </a:rPr>
              <a:t>En él se indicaba que:</a:t>
            </a:r>
            <a:endParaRPr b="1" lang="en-US" sz="2000" spc="-1" strike="noStrike">
              <a:solidFill>
                <a:srgbClr val="ff9900"/>
              </a:solidFill>
              <a:latin typeface="Arial Unicode MS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Arial Unicode MS"/>
              </a:rPr>
              <a:t>“</a:t>
            </a:r>
            <a:r>
              <a:rPr b="1" lang="es-ES" sz="1800" spc="-1" strike="noStrike">
                <a:solidFill>
                  <a:srgbClr val="ff9900"/>
                </a:solidFill>
                <a:latin typeface="Arial Unicode MS"/>
              </a:rPr>
              <a:t>El oleoducto presenta buenas condiciones de seguridad debido a:</a:t>
            </a:r>
            <a:endParaRPr b="1" lang="en-US" sz="1800" spc="-1" strike="noStrike">
              <a:solidFill>
                <a:srgbClr val="ff9900"/>
              </a:solidFill>
              <a:latin typeface="Arial Unicode MS"/>
            </a:endParaRPr>
          </a:p>
          <a:p>
            <a:pPr lvl="1" marL="69840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9900"/>
              </a:solidFill>
              <a:latin typeface="Arial Unicode MS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80808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Arial Unicode MS"/>
              </a:rPr>
              <a:t>Se encuentra sobredimensionado ya que fue construido para mayores producciones de hidrocarburos con agua no tratada.</a:t>
            </a:r>
            <a:endParaRPr b="1" lang="en-US" sz="1600" spc="-1" strike="noStrike">
              <a:solidFill>
                <a:srgbClr val="ff9900"/>
              </a:solidFill>
              <a:latin typeface="Arial Unicode MS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80808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Arial Unicode MS"/>
              </a:rPr>
              <a:t>El hidrocarburo es liviano y presenta una buena circulación dentro de la cañería sin que tengan lugar obstrucciones peligrosas.</a:t>
            </a:r>
            <a:endParaRPr b="1" lang="en-US" sz="1600" spc="-1" strike="noStrike">
              <a:solidFill>
                <a:srgbClr val="ff9900"/>
              </a:solidFill>
              <a:latin typeface="Arial Unicode MS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80808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Arial Unicode MS"/>
              </a:rPr>
              <a:t>El hidrocarburo no presenta un elevado poder corrosivo.</a:t>
            </a:r>
            <a:endParaRPr b="1" lang="en-US" sz="1600" spc="-1" strike="noStrike">
              <a:solidFill>
                <a:srgbClr val="ff9900"/>
              </a:solidFill>
              <a:latin typeface="Arial Unicode MS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80808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Arial Unicode MS"/>
              </a:rPr>
              <a:t>Presenta buen estado respecto a la corrosión.</a:t>
            </a:r>
            <a:endParaRPr b="1" lang="en-US" sz="1600" spc="-1" strike="noStrike">
              <a:solidFill>
                <a:srgbClr val="ff9900"/>
              </a:solidFill>
              <a:latin typeface="Arial Unicode MS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80808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Arial Unicode MS"/>
              </a:rPr>
              <a:t>Posee un buen mantenimiento de la protección catódica mediante testeo de potenciales.</a:t>
            </a:r>
            <a:endParaRPr b="1" lang="en-US" sz="1600" spc="-1" strike="noStrike">
              <a:solidFill>
                <a:srgbClr val="ff9900"/>
              </a:solidFill>
              <a:latin typeface="Arial Unicode MS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80808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Arial Unicode MS"/>
              </a:rPr>
              <a:t>El sector de mayor sensibilidad ambiental (progresiva 31,3 km) se encuentra en la zona del dique de tierra del canal derivador al embalse de Marimenuco. En este sitio y a ambos lados del dique de tierra se han colocado dos válvulas de bloqueo automáticas con el fin de disminuir el volumen de un eventual derrame”.</a:t>
            </a:r>
            <a:endParaRPr b="1" lang="en-US" sz="1600" spc="-1" strike="noStrike">
              <a:solidFill>
                <a:srgbClr val="ff9900"/>
              </a:solidFill>
              <a:latin typeface="Arial Unicode MS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 Black"/>
              </a:rPr>
              <a:t>Oleoducto Turboexpander - RPH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7" name="PlaceHolder 2"/>
          <p:cNvSpPr>
            <a:spLocks noGrp="1"/>
          </p:cNvSpPr>
          <p:nvPr>
            <p:ph/>
          </p:nvPr>
        </p:nvSpPr>
        <p:spPr>
          <a:xfrm>
            <a:off x="732960" y="13334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 Unicode MS"/>
              </a:rPr>
              <a:t>El oleoducto posee inspecciones visuales realizadas durante intervenciones efectuadas a la cañería. La cañería se encontró en buen estado respecto de la corrosión.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marL="298440" indent="-2984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 Unicode MS"/>
              </a:rPr>
              <a:t>La cañería tiene protección catódica por ánodos de sacrificio, con registro del relevamiento de potenciales a lo largo del ducto. 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marL="298440" indent="-2984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 Unicode MS"/>
              </a:rPr>
              <a:t>El oleoducto transporta hidrocarburos livianos tratados (gasolina y condensado) y presenta una buena circulación dentro de la cañería sin que tengan lugar obstrucciones peligrosas. El hidrocarburo no presenta un elevado poder corrosivo.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 Black"/>
              </a:rPr>
              <a:t>Oleoducto Sierra Barrosa - RPH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 Unicode MS"/>
              </a:rPr>
              <a:t>El oleoducto posee inspecciones visuales realizadas durante intervenciones efectuadas a la cañería. La cañería se encontró con problemas de corrosión interna y en buen estado respecto de la corrosión externa.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marL="343080" indent="-34308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 Unicode MS"/>
              </a:rPr>
              <a:t>La cañería tiene protección catódica por corriente impresa, con registro de potenciales a lo largo del ducto. 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 Black"/>
              </a:rPr>
              <a:t>Oleoducto Cerro Bandera - RPH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 Unicode MS"/>
              </a:rPr>
              <a:t>El oleoducto posee inspecciones visuales realizadas durante intervenciones efectuadas a la cañería. La cañería se encontró con problemas de corrosión interna y en buen estado respecto de la corrosión externa. Se evalúa reemplazo de tramos afectados.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marL="343080" indent="-34308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 Unicode MS"/>
              </a:rPr>
              <a:t>La cañería posee protección catódica por ánodos de sacrificio, con registro de potenciales a lo largo del ducto. Está en estudio la protección catódica con corriente impresa del ducto. 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2" name="" descr=""/>
          <p:cNvPicPr/>
          <p:nvPr/>
        </p:nvPicPr>
        <p:blipFill>
          <a:blip r:embed="rId1"/>
          <a:srcRect l="21076" t="22970" r="31951" b="31894"/>
          <a:stretch/>
        </p:blipFill>
        <p:spPr>
          <a:xfrm>
            <a:off x="595440" y="914400"/>
            <a:ext cx="8696160" cy="5587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753" name=""/>
          <p:cNvSpPr/>
          <p:nvPr/>
        </p:nvSpPr>
        <p:spPr>
          <a:xfrm>
            <a:off x="3941640" y="6095880"/>
            <a:ext cx="4478400" cy="300240"/>
          </a:xfrm>
          <a:custGeom>
            <a:avLst/>
            <a:gdLst/>
            <a:ahLst/>
            <a:rect l="l" t="t" r="r" b="b"/>
            <a:pathLst>
              <a:path w="2604" h="189">
                <a:moveTo>
                  <a:pt x="2604" y="0"/>
                </a:moveTo>
                <a:lnTo>
                  <a:pt x="2356" y="64"/>
                </a:lnTo>
                <a:lnTo>
                  <a:pt x="356" y="40"/>
                </a:lnTo>
                <a:lnTo>
                  <a:pt x="228" y="152"/>
                </a:lnTo>
                <a:lnTo>
                  <a:pt x="0" y="189"/>
                </a:lnTo>
              </a:path>
            </a:pathLst>
          </a:custGeom>
          <a:noFill/>
          <a:ln w="38160">
            <a:solidFill>
              <a:srgbClr val="00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2187720" y="6070680"/>
            <a:ext cx="1871640" cy="325440"/>
          </a:xfrm>
          <a:custGeom>
            <a:avLst/>
            <a:gdLst/>
            <a:ahLst/>
            <a:rect l="l" t="t" r="r" b="b"/>
            <a:pathLst>
              <a:path w="1088" h="205">
                <a:moveTo>
                  <a:pt x="1088" y="205"/>
                </a:moveTo>
                <a:lnTo>
                  <a:pt x="600" y="18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4567320" y="2222640"/>
            <a:ext cx="234720" cy="1648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 rot="1200">
            <a:off x="4581360" y="6262560"/>
            <a:ext cx="25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Oleod. Centenario – Challacó - R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 rot="2335200">
            <a:off x="8495280" y="61707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DEL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 rot="20937000">
            <a:off x="2800440" y="5005440"/>
            <a:ext cx="19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 rot="3555600">
            <a:off x="6286320" y="3907080"/>
            <a:ext cx="180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Oleod. LLL - Cente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8575560" y="6162840"/>
            <a:ext cx="660600" cy="4665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 flipV="1">
            <a:off x="1898640" y="2247840"/>
            <a:ext cx="2652840" cy="247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4200480" y="1057320"/>
            <a:ext cx="442800" cy="11523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4048920" y="133200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Oleod. Ag. San Ro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2288520" y="2065320"/>
            <a:ext cx="14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Oleod. Ag. Pich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 rot="1200">
            <a:off x="3252240" y="41842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Pta. S. Barr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 rot="1200">
            <a:off x="4622400" y="195408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Pta. L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 rot="1200">
            <a:off x="925920" y="621144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Ref. Plaza Huinc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 rot="1200">
            <a:off x="7446600" y="6262200"/>
            <a:ext cx="12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Pta. Cente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 rot="1200">
            <a:off x="4969440" y="2795760"/>
            <a:ext cx="49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T. 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892920" y="1371600"/>
            <a:ext cx="2325600" cy="1930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1" name=""/>
          <p:cNvGrpSpPr/>
          <p:nvPr/>
        </p:nvGrpSpPr>
        <p:grpSpPr>
          <a:xfrm>
            <a:off x="7072200" y="2563920"/>
            <a:ext cx="1488240" cy="276480"/>
            <a:chOff x="7072200" y="2563920"/>
            <a:chExt cx="1488240" cy="276480"/>
          </a:xfrm>
        </p:grpSpPr>
        <p:sp>
          <p:nvSpPr>
            <p:cNvPr id="2772" name=""/>
            <p:cNvSpPr/>
            <p:nvPr/>
          </p:nvSpPr>
          <p:spPr>
            <a:xfrm>
              <a:off x="7072200" y="2705040"/>
              <a:ext cx="343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605360" y="2563920"/>
              <a:ext cx="95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94c"/>
                  </a:solidFill>
                  <a:latin typeface="Times New Roman"/>
                </a:rPr>
                <a:t>Repsol YP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4" name=""/>
          <p:cNvGrpSpPr/>
          <p:nvPr/>
        </p:nvGrpSpPr>
        <p:grpSpPr>
          <a:xfrm>
            <a:off x="7072200" y="2792520"/>
            <a:ext cx="2079000" cy="276480"/>
            <a:chOff x="7072200" y="2792520"/>
            <a:chExt cx="2079000" cy="276480"/>
          </a:xfrm>
        </p:grpSpPr>
        <p:sp>
          <p:nvSpPr>
            <p:cNvPr id="2775" name=""/>
            <p:cNvSpPr/>
            <p:nvPr/>
          </p:nvSpPr>
          <p:spPr>
            <a:xfrm>
              <a:off x="7072200" y="2933640"/>
              <a:ext cx="343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629480" y="2792520"/>
              <a:ext cx="152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94c"/>
                  </a:solidFill>
                  <a:latin typeface="Times New Roman"/>
                </a:rPr>
                <a:t>Nuevo – Repsol YP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7" name=""/>
          <p:cNvSpPr/>
          <p:nvPr/>
        </p:nvSpPr>
        <p:spPr>
          <a:xfrm>
            <a:off x="6912000" y="237348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Ole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6901560" y="1357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Pla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7126200" y="1650960"/>
            <a:ext cx="235080" cy="1652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7608240" y="159876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Trat./Bomb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7270920" y="1911240"/>
            <a:ext cx="82440" cy="2732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7175520" y="1973160"/>
            <a:ext cx="61920" cy="2048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 rot="1200">
            <a:off x="7614720" y="1957320"/>
            <a:ext cx="7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Ref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4" name=""/>
          <p:cNvGrpSpPr/>
          <p:nvPr/>
        </p:nvGrpSpPr>
        <p:grpSpPr>
          <a:xfrm>
            <a:off x="7072200" y="3021120"/>
            <a:ext cx="1281240" cy="276480"/>
            <a:chOff x="7072200" y="3021120"/>
            <a:chExt cx="1281240" cy="276480"/>
          </a:xfrm>
        </p:grpSpPr>
        <p:sp>
          <p:nvSpPr>
            <p:cNvPr id="2785" name=""/>
            <p:cNvSpPr/>
            <p:nvPr/>
          </p:nvSpPr>
          <p:spPr>
            <a:xfrm>
              <a:off x="7072200" y="3162240"/>
              <a:ext cx="3438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599600" y="3021120"/>
              <a:ext cx="75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94c"/>
                  </a:solidFill>
                  <a:latin typeface="Times New Roman"/>
                </a:rPr>
                <a:t>Terce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7" name=""/>
          <p:cNvSpPr/>
          <p:nvPr/>
        </p:nvSpPr>
        <p:spPr>
          <a:xfrm rot="20937000">
            <a:off x="1674360" y="4781160"/>
            <a:ext cx="15339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Ole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S. Barrosa – Ref. 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8" name=""/>
          <p:cNvGrpSpPr/>
          <p:nvPr/>
        </p:nvGrpSpPr>
        <p:grpSpPr>
          <a:xfrm>
            <a:off x="1795320" y="5721480"/>
            <a:ext cx="191880" cy="393120"/>
            <a:chOff x="1795320" y="5721480"/>
            <a:chExt cx="191880" cy="393120"/>
          </a:xfrm>
        </p:grpSpPr>
        <p:sp>
          <p:nvSpPr>
            <p:cNvPr id="2789" name=""/>
            <p:cNvSpPr/>
            <p:nvPr/>
          </p:nvSpPr>
          <p:spPr>
            <a:xfrm>
              <a:off x="1897920" y="5721480"/>
              <a:ext cx="89280" cy="3837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1795320" y="5826960"/>
              <a:ext cx="66960" cy="2876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1" name=""/>
          <p:cNvSpPr/>
          <p:nvPr/>
        </p:nvSpPr>
        <p:spPr>
          <a:xfrm>
            <a:off x="8364600" y="6032520"/>
            <a:ext cx="234720" cy="1652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4802040" y="2247840"/>
            <a:ext cx="908280" cy="568440"/>
          </a:xfrm>
          <a:custGeom>
            <a:avLst/>
            <a:gdLst/>
            <a:ahLst/>
            <a:rect l="l" t="t" r="r" b="b"/>
            <a:pathLst>
              <a:path w="528" h="358">
                <a:moveTo>
                  <a:pt x="0" y="0"/>
                </a:moveTo>
                <a:lnTo>
                  <a:pt x="112" y="0"/>
                </a:lnTo>
                <a:lnTo>
                  <a:pt x="176" y="88"/>
                </a:lnTo>
                <a:lnTo>
                  <a:pt x="528" y="3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4140360" y="4479840"/>
            <a:ext cx="272880" cy="22716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5462640" y="2832120"/>
            <a:ext cx="233280" cy="1652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 rot="1200">
            <a:off x="4371120" y="252576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94c"/>
                </a:solidFill>
                <a:latin typeface="Times New Roman"/>
              </a:rPr>
              <a:t>Est. Bb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4606920" y="2379600"/>
            <a:ext cx="189000" cy="16056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7" name=""/>
          <p:cNvGrpSpPr/>
          <p:nvPr/>
        </p:nvGrpSpPr>
        <p:grpSpPr>
          <a:xfrm>
            <a:off x="2049480" y="2217600"/>
            <a:ext cx="6344640" cy="3827520"/>
            <a:chOff x="2049480" y="2217600"/>
            <a:chExt cx="6344640" cy="3827520"/>
          </a:xfrm>
        </p:grpSpPr>
        <p:sp>
          <p:nvSpPr>
            <p:cNvPr id="2798" name=""/>
            <p:cNvSpPr/>
            <p:nvPr/>
          </p:nvSpPr>
          <p:spPr>
            <a:xfrm rot="17971800">
              <a:off x="4234680" y="3732120"/>
              <a:ext cx="104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94c"/>
                  </a:solidFill>
                  <a:latin typeface="Times New Roman"/>
                </a:rPr>
                <a:t>Gasolinoducto Ø 4”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9" name=""/>
            <p:cNvGrpSpPr/>
            <p:nvPr/>
          </p:nvGrpSpPr>
          <p:grpSpPr>
            <a:xfrm>
              <a:off x="2049480" y="2217600"/>
              <a:ext cx="6344640" cy="3827520"/>
              <a:chOff x="2049480" y="2217600"/>
              <a:chExt cx="6344640" cy="3827520"/>
            </a:xfrm>
          </p:grpSpPr>
          <p:sp>
            <p:nvSpPr>
              <p:cNvPr id="2800" name=""/>
              <p:cNvSpPr/>
              <p:nvPr/>
            </p:nvSpPr>
            <p:spPr>
              <a:xfrm>
                <a:off x="4775400" y="2217600"/>
                <a:ext cx="3618720" cy="3771720"/>
              </a:xfrm>
              <a:custGeom>
                <a:avLst/>
                <a:gdLst/>
                <a:ahLst/>
                <a:rect l="l" t="t" r="r" b="b"/>
                <a:pathLst>
                  <a:path w="2104" h="2376">
                    <a:moveTo>
                      <a:pt x="0" y="0"/>
                    </a:moveTo>
                    <a:lnTo>
                      <a:pt x="112" y="0"/>
                    </a:lnTo>
                    <a:lnTo>
                      <a:pt x="176" y="88"/>
                    </a:lnTo>
                    <a:lnTo>
                      <a:pt x="920" y="656"/>
                    </a:lnTo>
                    <a:lnTo>
                      <a:pt x="1008" y="640"/>
                    </a:lnTo>
                    <a:lnTo>
                      <a:pt x="1008" y="752"/>
                    </a:lnTo>
                    <a:lnTo>
                      <a:pt x="1544" y="1592"/>
                    </a:lnTo>
                    <a:lnTo>
                      <a:pt x="1744" y="1832"/>
                    </a:lnTo>
                    <a:lnTo>
                      <a:pt x="2104" y="237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2049480" y="4520880"/>
                <a:ext cx="2036160" cy="1524240"/>
              </a:xfrm>
              <a:custGeom>
                <a:avLst/>
                <a:gdLst/>
                <a:ahLst/>
                <a:rect l="l" t="t" r="r" b="b"/>
                <a:pathLst>
                  <a:path w="1184" h="960">
                    <a:moveTo>
                      <a:pt x="1184" y="0"/>
                    </a:moveTo>
                    <a:lnTo>
                      <a:pt x="880" y="112"/>
                    </a:lnTo>
                    <a:lnTo>
                      <a:pt x="800" y="456"/>
                    </a:lnTo>
                    <a:lnTo>
                      <a:pt x="40" y="608"/>
                    </a:lnTo>
                    <a:lnTo>
                      <a:pt x="0" y="96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2" name=""/>
              <p:cNvGrpSpPr/>
              <p:nvPr/>
            </p:nvGrpSpPr>
            <p:grpSpPr>
              <a:xfrm>
                <a:off x="2183040" y="2981160"/>
                <a:ext cx="3377520" cy="2901960"/>
                <a:chOff x="2183040" y="2981160"/>
                <a:chExt cx="3377520" cy="2901960"/>
              </a:xfrm>
            </p:grpSpPr>
            <p:sp>
              <p:nvSpPr>
                <p:cNvPr id="2803" name=""/>
                <p:cNvSpPr/>
                <p:nvPr/>
              </p:nvSpPr>
              <p:spPr>
                <a:xfrm flipV="1">
                  <a:off x="4394880" y="2981160"/>
                  <a:ext cx="1165680" cy="1590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 flipV="1">
                  <a:off x="3658680" y="4558680"/>
                  <a:ext cx="732600" cy="23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V="1">
                  <a:off x="3529440" y="4787280"/>
                  <a:ext cx="139320" cy="55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 flipV="1">
                  <a:off x="2214000" y="5337000"/>
                  <a:ext cx="1327320" cy="241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 flipH="1">
                  <a:off x="2183040" y="5568840"/>
                  <a:ext cx="44280" cy="314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08" name=""/>
          <p:cNvSpPr/>
          <p:nvPr/>
        </p:nvSpPr>
        <p:spPr>
          <a:xfrm>
            <a:off x="165240" y="152280"/>
            <a:ext cx="742932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Nueva Traza Pro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4815000" y="6083280"/>
            <a:ext cx="234720" cy="1652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 rot="1200">
            <a:off x="5207400" y="5792400"/>
            <a:ext cx="10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94c"/>
                </a:solidFill>
                <a:latin typeface="Times New Roman"/>
              </a:rPr>
              <a:t>Pta. Challa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4684680" y="4272120"/>
            <a:ext cx="479520" cy="2268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 rot="1200">
            <a:off x="5181480" y="43938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Gasoducto T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4540320" y="3473280"/>
            <a:ext cx="730080" cy="9972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4" name=""/>
          <p:cNvGrpSpPr/>
          <p:nvPr/>
        </p:nvGrpSpPr>
        <p:grpSpPr>
          <a:xfrm>
            <a:off x="4373640" y="2400480"/>
            <a:ext cx="1376640" cy="3688560"/>
            <a:chOff x="4373640" y="2400480"/>
            <a:chExt cx="1376640" cy="3688560"/>
          </a:xfrm>
        </p:grpSpPr>
        <p:grpSp>
          <p:nvGrpSpPr>
            <p:cNvPr id="2815" name=""/>
            <p:cNvGrpSpPr/>
            <p:nvPr/>
          </p:nvGrpSpPr>
          <p:grpSpPr>
            <a:xfrm>
              <a:off x="4373640" y="2400480"/>
              <a:ext cx="1376640" cy="3688560"/>
              <a:chOff x="4373640" y="2400480"/>
              <a:chExt cx="1376640" cy="3688560"/>
            </a:xfrm>
          </p:grpSpPr>
          <p:sp>
            <p:nvSpPr>
              <p:cNvPr id="2816" name=""/>
              <p:cNvSpPr/>
              <p:nvPr/>
            </p:nvSpPr>
            <p:spPr>
              <a:xfrm>
                <a:off x="4373640" y="4798080"/>
                <a:ext cx="541440" cy="12909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7" name=""/>
              <p:cNvGrpSpPr/>
              <p:nvPr/>
            </p:nvGrpSpPr>
            <p:grpSpPr>
              <a:xfrm>
                <a:off x="4378320" y="2400480"/>
                <a:ext cx="1371960" cy="2413440"/>
                <a:chOff x="4378320" y="2400480"/>
                <a:chExt cx="1371960" cy="2413440"/>
              </a:xfrm>
            </p:grpSpPr>
            <p:sp>
              <p:nvSpPr>
                <p:cNvPr id="2818" name=""/>
                <p:cNvSpPr/>
                <p:nvPr/>
              </p:nvSpPr>
              <p:spPr>
                <a:xfrm>
                  <a:off x="5635440" y="2868480"/>
                  <a:ext cx="114840" cy="38052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 flipH="1">
                  <a:off x="5306760" y="3235680"/>
                  <a:ext cx="443520" cy="322920"/>
                </a:xfrm>
                <a:prstGeom prst="line">
                  <a:avLst/>
                </a:prstGeom>
                <a:ln w="284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 flipH="1">
                  <a:off x="4378320" y="3542760"/>
                  <a:ext cx="933480" cy="127116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4718880" y="2400480"/>
                  <a:ext cx="907920" cy="45648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22" name=""/>
            <p:cNvSpPr/>
            <p:nvPr/>
          </p:nvSpPr>
          <p:spPr>
            <a:xfrm>
              <a:off x="4693680" y="4947120"/>
              <a:ext cx="1046520" cy="331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 Black"/>
                </a:rPr>
                <a:t>POLI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3" name=""/>
          <p:cNvGrpSpPr/>
          <p:nvPr/>
        </p:nvGrpSpPr>
        <p:grpSpPr>
          <a:xfrm>
            <a:off x="1377720" y="2222640"/>
            <a:ext cx="7014600" cy="3822480"/>
            <a:chOff x="1377720" y="2222640"/>
            <a:chExt cx="7014600" cy="3822480"/>
          </a:xfrm>
        </p:grpSpPr>
        <p:grpSp>
          <p:nvGrpSpPr>
            <p:cNvPr id="2824" name=""/>
            <p:cNvGrpSpPr/>
            <p:nvPr/>
          </p:nvGrpSpPr>
          <p:grpSpPr>
            <a:xfrm>
              <a:off x="2042640" y="2222640"/>
              <a:ext cx="6349680" cy="3822480"/>
              <a:chOff x="2042640" y="2222640"/>
              <a:chExt cx="6349680" cy="3822480"/>
            </a:xfrm>
          </p:grpSpPr>
          <p:sp>
            <p:nvSpPr>
              <p:cNvPr id="2825" name=""/>
              <p:cNvSpPr/>
              <p:nvPr/>
            </p:nvSpPr>
            <p:spPr>
              <a:xfrm>
                <a:off x="4773600" y="2222640"/>
                <a:ext cx="3618720" cy="3771720"/>
              </a:xfrm>
              <a:custGeom>
                <a:avLst/>
                <a:gdLst/>
                <a:ahLst/>
                <a:rect l="l" t="t" r="r" b="b"/>
                <a:pathLst>
                  <a:path w="2104" h="2376">
                    <a:moveTo>
                      <a:pt x="0" y="0"/>
                    </a:moveTo>
                    <a:lnTo>
                      <a:pt x="112" y="0"/>
                    </a:lnTo>
                    <a:lnTo>
                      <a:pt x="176" y="88"/>
                    </a:lnTo>
                    <a:lnTo>
                      <a:pt x="920" y="656"/>
                    </a:lnTo>
                    <a:lnTo>
                      <a:pt x="1008" y="640"/>
                    </a:lnTo>
                    <a:lnTo>
                      <a:pt x="1008" y="752"/>
                    </a:lnTo>
                    <a:lnTo>
                      <a:pt x="1544" y="1592"/>
                    </a:lnTo>
                    <a:lnTo>
                      <a:pt x="1744" y="1832"/>
                    </a:lnTo>
                    <a:lnTo>
                      <a:pt x="2104" y="2376"/>
                    </a:lnTo>
                  </a:path>
                </a:pathLst>
              </a:custGeom>
              <a:noFill/>
              <a:ln w="38160">
                <a:solidFill>
                  <a:srgbClr val="ffcc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6" name=""/>
              <p:cNvGrpSpPr/>
              <p:nvPr/>
            </p:nvGrpSpPr>
            <p:grpSpPr>
              <a:xfrm>
                <a:off x="2042640" y="2981160"/>
                <a:ext cx="3525120" cy="3063960"/>
                <a:chOff x="2042640" y="2981160"/>
                <a:chExt cx="3525120" cy="3063960"/>
              </a:xfrm>
            </p:grpSpPr>
            <p:grpSp>
              <p:nvGrpSpPr>
                <p:cNvPr id="2827" name=""/>
                <p:cNvGrpSpPr/>
                <p:nvPr/>
              </p:nvGrpSpPr>
              <p:grpSpPr>
                <a:xfrm>
                  <a:off x="2190240" y="2981160"/>
                  <a:ext cx="3377520" cy="2901960"/>
                  <a:chOff x="2190240" y="2981160"/>
                  <a:chExt cx="3377520" cy="2901960"/>
                </a:xfrm>
              </p:grpSpPr>
              <p:sp>
                <p:nvSpPr>
                  <p:cNvPr id="2828" name=""/>
                  <p:cNvSpPr/>
                  <p:nvPr/>
                </p:nvSpPr>
                <p:spPr>
                  <a:xfrm flipV="1">
                    <a:off x="4402080" y="2981160"/>
                    <a:ext cx="1165680" cy="1590480"/>
                  </a:xfrm>
                  <a:prstGeom prst="line">
                    <a:avLst/>
                  </a:prstGeom>
                  <a:ln w="381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9" name=""/>
                  <p:cNvSpPr/>
                  <p:nvPr/>
                </p:nvSpPr>
                <p:spPr>
                  <a:xfrm flipV="1">
                    <a:off x="3665880" y="4558680"/>
                    <a:ext cx="732600" cy="237960"/>
                  </a:xfrm>
                  <a:prstGeom prst="line">
                    <a:avLst/>
                  </a:prstGeom>
                  <a:ln w="381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0" name=""/>
                  <p:cNvSpPr/>
                  <p:nvPr/>
                </p:nvSpPr>
                <p:spPr>
                  <a:xfrm flipV="1">
                    <a:off x="3536640" y="4787280"/>
                    <a:ext cx="139320" cy="554040"/>
                  </a:xfrm>
                  <a:prstGeom prst="line">
                    <a:avLst/>
                  </a:prstGeom>
                  <a:ln w="381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1" name=""/>
                  <p:cNvSpPr/>
                  <p:nvPr/>
                </p:nvSpPr>
                <p:spPr>
                  <a:xfrm flipV="1">
                    <a:off x="2221200" y="5337000"/>
                    <a:ext cx="1327320" cy="241200"/>
                  </a:xfrm>
                  <a:prstGeom prst="line">
                    <a:avLst/>
                  </a:prstGeom>
                  <a:ln w="381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2" name=""/>
                  <p:cNvSpPr/>
                  <p:nvPr/>
                </p:nvSpPr>
                <p:spPr>
                  <a:xfrm flipH="1">
                    <a:off x="2190240" y="5568840"/>
                    <a:ext cx="44280" cy="314280"/>
                  </a:xfrm>
                  <a:prstGeom prst="line">
                    <a:avLst/>
                  </a:prstGeom>
                  <a:ln w="38160">
                    <a:solidFill>
                      <a:srgbClr val="ffcc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33" name=""/>
                <p:cNvSpPr/>
                <p:nvPr/>
              </p:nvSpPr>
              <p:spPr>
                <a:xfrm>
                  <a:off x="2042640" y="4520880"/>
                  <a:ext cx="2036520" cy="1524240"/>
                </a:xfrm>
                <a:custGeom>
                  <a:avLst/>
                  <a:gdLst/>
                  <a:ahLst/>
                  <a:rect l="l" t="t" r="r" b="b"/>
                  <a:pathLst>
                    <a:path w="1184" h="960">
                      <a:moveTo>
                        <a:pt x="1184" y="0"/>
                      </a:moveTo>
                      <a:lnTo>
                        <a:pt x="880" y="112"/>
                      </a:lnTo>
                      <a:lnTo>
                        <a:pt x="800" y="456"/>
                      </a:lnTo>
                      <a:lnTo>
                        <a:pt x="40" y="608"/>
                      </a:lnTo>
                      <a:lnTo>
                        <a:pt x="0" y="960"/>
                      </a:lnTo>
                    </a:path>
                  </a:pathLst>
                </a:custGeom>
                <a:noFill/>
                <a:ln w="38160">
                  <a:solidFill>
                    <a:srgbClr val="ffcc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34" name=""/>
            <p:cNvSpPr/>
            <p:nvPr/>
          </p:nvSpPr>
          <p:spPr>
            <a:xfrm>
              <a:off x="1377720" y="3889440"/>
              <a:ext cx="1598040" cy="663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 Black"/>
                </a:rPr>
                <a:t>DUC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 Black"/>
                </a:rPr>
                <a:t>FUERA DE SERVI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196800" y="4449600"/>
              <a:ext cx="48816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182760" y="4449600"/>
              <a:ext cx="44892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 flipV="1">
              <a:off x="3182760" y="3144960"/>
              <a:ext cx="2958480" cy="12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2" dur="500"/>
                                        <p:tgtEl>
                                          <p:spTgt spid="2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88560" y="151920"/>
            <a:ext cx="701676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Black"/>
              </a:rPr>
              <a:t>Aspectos Técnicos – Traza Poliducto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839" name=""/>
          <p:cNvGrpSpPr/>
          <p:nvPr/>
        </p:nvGrpSpPr>
        <p:grpSpPr>
          <a:xfrm>
            <a:off x="166680" y="993600"/>
            <a:ext cx="8813520" cy="5211000"/>
            <a:chOff x="166680" y="993600"/>
            <a:chExt cx="8813520" cy="5211000"/>
          </a:xfrm>
        </p:grpSpPr>
        <p:pic>
          <p:nvPicPr>
            <p:cNvPr id="2840" name="" descr=""/>
            <p:cNvPicPr/>
            <p:nvPr/>
          </p:nvPicPr>
          <p:blipFill>
            <a:blip r:embed="rId1"/>
            <a:stretch/>
          </p:blipFill>
          <p:spPr>
            <a:xfrm>
              <a:off x="1174320" y="1044360"/>
              <a:ext cx="7805880" cy="48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1" name=""/>
            <p:cNvSpPr/>
            <p:nvPr/>
          </p:nvSpPr>
          <p:spPr>
            <a:xfrm>
              <a:off x="166680" y="993600"/>
              <a:ext cx="22752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 Black"/>
                </a:rPr>
                <a:t>Cabecera de Bomb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369160" y="1187280"/>
              <a:ext cx="1731960" cy="28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082760" y="5873400"/>
              <a:ext cx="22597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 Black"/>
                </a:rPr>
                <a:t>Planta Challacó OLDEL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 flipH="1" flipV="1">
              <a:off x="2813040" y="5816520"/>
              <a:ext cx="1284480" cy="1792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1093320" y="3636720"/>
              <a:ext cx="15735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 Black"/>
                </a:rPr>
                <a:t>Sierra Barro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2620440" y="3830400"/>
              <a:ext cx="722160" cy="316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3144960" y="2037960"/>
              <a:ext cx="14014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Los Barre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964760" y="2523960"/>
              <a:ext cx="15735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Mari Menu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074920" y="3725640"/>
              <a:ext cx="1270800" cy="410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Poliduc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H="1" flipV="1">
              <a:off x="4307400" y="3722400"/>
              <a:ext cx="759960" cy="20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165360" y="1272960"/>
              <a:ext cx="22752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Turboexpan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H="1">
              <a:off x="5408280" y="1606320"/>
              <a:ext cx="868320" cy="4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"/>
          <p:cNvSpPr/>
          <p:nvPr/>
        </p:nvSpPr>
        <p:spPr>
          <a:xfrm>
            <a:off x="820800" y="1677960"/>
            <a:ext cx="815796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 Unicode MS"/>
              </a:rPr>
              <a:t>Genéricamente se puede dividir en 5 grandes tra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 Unicode MS"/>
              </a:rPr>
              <a:t>Tramo Cabecera de Bombeo LLL – Turbo expander: Se considera reutilizar un gasoducto existente de 16”, se prevé acondicionamiento, inspección interna y repa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 Unicode MS"/>
              </a:rPr>
              <a:t>Tramo Turbo expander – Dique LLL: Cañería nueva Ø 12” API 5 L X 56 e= 7,14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682452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Black"/>
              </a:rPr>
              <a:t>Aspectos técnicos – Tramos Poliducto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"/>
          <p:cNvSpPr/>
          <p:nvPr/>
        </p:nvSpPr>
        <p:spPr>
          <a:xfrm>
            <a:off x="569880" y="1309680"/>
            <a:ext cx="815976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 Unicode MS"/>
              </a:rPr>
              <a:t>Tramo cruce del Dique LLL: Cañería nueva  Ø 12” API 5 L X 56 e= 7,92 mm. – Cruce especial con válvulas tipo Line break, mayor sobreespesor por corrosión, protecciones contra derrames extras, trazado especial por espacio disponible y disposiciones de autoridades competentes nacionales y provin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 Unicode MS"/>
              </a:rPr>
              <a:t>Tramo Dique LLL – Sierra Barrosa: Cañería nueva Ø 12” API 5 L X 56 e= 6,35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 Unicode MS"/>
              </a:rPr>
              <a:t>Tramo Sierra Barrosa - Challacó: Cañería nueva Ø 12” API 5 L X 56 e= 6,35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204480" y="202680"/>
            <a:ext cx="70167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Black"/>
              </a:rPr>
              <a:t>Aspectos técnicos – Tramos Poliducto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904080" y="1276200"/>
            <a:ext cx="2674800" cy="516888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85960" y="196524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I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3155400">
            <a:off x="7277760" y="5464800"/>
            <a:ext cx="142920" cy="246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23120" y="5915160"/>
            <a:ext cx="76320" cy="950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40760" y="6205680"/>
            <a:ext cx="48960" cy="52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560" y="5424480"/>
            <a:ext cx="115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Yac. Gasífer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16520" y="2365200"/>
            <a:ext cx="1456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.G.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Gral. San Martí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NEUBA 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NEUBA I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3000" y="3151080"/>
            <a:ext cx="1698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 u="sng">
                <a:solidFill>
                  <a:srgbClr val="000000"/>
                </a:solidFill>
                <a:uFillTx/>
                <a:latin typeface="Arial"/>
              </a:rPr>
              <a:t>T.G.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4 Centro Oes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5 del Nor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6 Paraná-Uruguaya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7 Paraná-Paysand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920" y="4138560"/>
            <a:ext cx="11088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 u="sng">
                <a:solidFill>
                  <a:srgbClr val="000000"/>
                </a:solidFill>
                <a:uFillTx/>
                <a:latin typeface="Arial"/>
              </a:rPr>
              <a:t>Otr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8 Pacífi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9 Gas And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10 Ataca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11 NorG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3000" y="5811840"/>
            <a:ext cx="1162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iudad Capi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920" y="6051600"/>
            <a:ext cx="141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iudad import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46880" y="2494080"/>
            <a:ext cx="260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46880" y="3219480"/>
            <a:ext cx="260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46880" y="4276800"/>
            <a:ext cx="26028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4120" y="25560"/>
            <a:ext cx="1665360" cy="1509480"/>
          </a:xfrm>
          <a:custGeom>
            <a:avLst/>
            <a:gdLst/>
            <a:ahLst/>
            <a:rect l="l" t="t" r="r" b="b"/>
            <a:pathLst>
              <a:path w="1041" h="1031">
                <a:moveTo>
                  <a:pt x="534" y="0"/>
                </a:moveTo>
                <a:lnTo>
                  <a:pt x="541" y="5"/>
                </a:lnTo>
                <a:lnTo>
                  <a:pt x="554" y="15"/>
                </a:lnTo>
                <a:lnTo>
                  <a:pt x="556" y="15"/>
                </a:lnTo>
                <a:lnTo>
                  <a:pt x="558" y="18"/>
                </a:lnTo>
                <a:lnTo>
                  <a:pt x="558" y="22"/>
                </a:lnTo>
                <a:lnTo>
                  <a:pt x="562" y="38"/>
                </a:lnTo>
                <a:lnTo>
                  <a:pt x="571" y="60"/>
                </a:lnTo>
                <a:lnTo>
                  <a:pt x="585" y="80"/>
                </a:lnTo>
                <a:lnTo>
                  <a:pt x="591" y="95"/>
                </a:lnTo>
                <a:lnTo>
                  <a:pt x="598" y="100"/>
                </a:lnTo>
                <a:lnTo>
                  <a:pt x="613" y="113"/>
                </a:lnTo>
                <a:lnTo>
                  <a:pt x="624" y="126"/>
                </a:lnTo>
                <a:lnTo>
                  <a:pt x="627" y="132"/>
                </a:lnTo>
                <a:lnTo>
                  <a:pt x="629" y="137"/>
                </a:lnTo>
                <a:lnTo>
                  <a:pt x="629" y="139"/>
                </a:lnTo>
                <a:lnTo>
                  <a:pt x="629" y="141"/>
                </a:lnTo>
                <a:lnTo>
                  <a:pt x="629" y="144"/>
                </a:lnTo>
                <a:lnTo>
                  <a:pt x="627" y="146"/>
                </a:lnTo>
                <a:lnTo>
                  <a:pt x="622" y="153"/>
                </a:lnTo>
                <a:lnTo>
                  <a:pt x="613" y="163"/>
                </a:lnTo>
                <a:lnTo>
                  <a:pt x="609" y="166"/>
                </a:lnTo>
                <a:lnTo>
                  <a:pt x="607" y="168"/>
                </a:lnTo>
                <a:lnTo>
                  <a:pt x="605" y="172"/>
                </a:lnTo>
                <a:lnTo>
                  <a:pt x="626" y="172"/>
                </a:lnTo>
                <a:lnTo>
                  <a:pt x="638" y="172"/>
                </a:lnTo>
                <a:lnTo>
                  <a:pt x="640" y="172"/>
                </a:lnTo>
                <a:lnTo>
                  <a:pt x="651" y="172"/>
                </a:lnTo>
                <a:lnTo>
                  <a:pt x="682" y="179"/>
                </a:lnTo>
                <a:lnTo>
                  <a:pt x="684" y="181"/>
                </a:lnTo>
                <a:lnTo>
                  <a:pt x="691" y="185"/>
                </a:lnTo>
                <a:lnTo>
                  <a:pt x="704" y="212"/>
                </a:lnTo>
                <a:lnTo>
                  <a:pt x="706" y="217"/>
                </a:lnTo>
                <a:lnTo>
                  <a:pt x="704" y="225"/>
                </a:lnTo>
                <a:lnTo>
                  <a:pt x="702" y="228"/>
                </a:lnTo>
                <a:lnTo>
                  <a:pt x="706" y="228"/>
                </a:lnTo>
                <a:lnTo>
                  <a:pt x="715" y="228"/>
                </a:lnTo>
                <a:lnTo>
                  <a:pt x="719" y="228"/>
                </a:lnTo>
                <a:lnTo>
                  <a:pt x="722" y="228"/>
                </a:lnTo>
                <a:lnTo>
                  <a:pt x="728" y="228"/>
                </a:lnTo>
                <a:lnTo>
                  <a:pt x="755" y="228"/>
                </a:lnTo>
                <a:lnTo>
                  <a:pt x="772" y="228"/>
                </a:lnTo>
                <a:lnTo>
                  <a:pt x="781" y="228"/>
                </a:lnTo>
                <a:lnTo>
                  <a:pt x="788" y="228"/>
                </a:lnTo>
                <a:lnTo>
                  <a:pt x="799" y="223"/>
                </a:lnTo>
                <a:lnTo>
                  <a:pt x="801" y="217"/>
                </a:lnTo>
                <a:lnTo>
                  <a:pt x="803" y="216"/>
                </a:lnTo>
                <a:lnTo>
                  <a:pt x="819" y="207"/>
                </a:lnTo>
                <a:lnTo>
                  <a:pt x="838" y="190"/>
                </a:lnTo>
                <a:lnTo>
                  <a:pt x="850" y="179"/>
                </a:lnTo>
                <a:lnTo>
                  <a:pt x="860" y="181"/>
                </a:lnTo>
                <a:lnTo>
                  <a:pt x="856" y="194"/>
                </a:lnTo>
                <a:lnTo>
                  <a:pt x="852" y="212"/>
                </a:lnTo>
                <a:lnTo>
                  <a:pt x="852" y="219"/>
                </a:lnTo>
                <a:lnTo>
                  <a:pt x="852" y="223"/>
                </a:lnTo>
                <a:lnTo>
                  <a:pt x="852" y="261"/>
                </a:lnTo>
                <a:lnTo>
                  <a:pt x="852" y="287"/>
                </a:lnTo>
                <a:lnTo>
                  <a:pt x="852" y="303"/>
                </a:lnTo>
                <a:lnTo>
                  <a:pt x="852" y="316"/>
                </a:lnTo>
                <a:lnTo>
                  <a:pt x="852" y="322"/>
                </a:lnTo>
                <a:lnTo>
                  <a:pt x="852" y="325"/>
                </a:lnTo>
                <a:lnTo>
                  <a:pt x="880" y="331"/>
                </a:lnTo>
                <a:lnTo>
                  <a:pt x="882" y="331"/>
                </a:lnTo>
                <a:lnTo>
                  <a:pt x="891" y="331"/>
                </a:lnTo>
                <a:lnTo>
                  <a:pt x="896" y="329"/>
                </a:lnTo>
                <a:lnTo>
                  <a:pt x="898" y="327"/>
                </a:lnTo>
                <a:lnTo>
                  <a:pt x="907" y="323"/>
                </a:lnTo>
                <a:lnTo>
                  <a:pt x="913" y="320"/>
                </a:lnTo>
                <a:lnTo>
                  <a:pt x="916" y="318"/>
                </a:lnTo>
                <a:lnTo>
                  <a:pt x="918" y="318"/>
                </a:lnTo>
                <a:lnTo>
                  <a:pt x="920" y="316"/>
                </a:lnTo>
                <a:lnTo>
                  <a:pt x="935" y="318"/>
                </a:lnTo>
                <a:lnTo>
                  <a:pt x="938" y="322"/>
                </a:lnTo>
                <a:lnTo>
                  <a:pt x="942" y="322"/>
                </a:lnTo>
                <a:lnTo>
                  <a:pt x="955" y="320"/>
                </a:lnTo>
                <a:lnTo>
                  <a:pt x="955" y="320"/>
                </a:lnTo>
                <a:lnTo>
                  <a:pt x="960" y="331"/>
                </a:lnTo>
                <a:lnTo>
                  <a:pt x="967" y="342"/>
                </a:lnTo>
                <a:lnTo>
                  <a:pt x="986" y="371"/>
                </a:lnTo>
                <a:lnTo>
                  <a:pt x="988" y="377"/>
                </a:lnTo>
                <a:lnTo>
                  <a:pt x="991" y="380"/>
                </a:lnTo>
                <a:lnTo>
                  <a:pt x="1002" y="398"/>
                </a:lnTo>
                <a:lnTo>
                  <a:pt x="1006" y="404"/>
                </a:lnTo>
                <a:lnTo>
                  <a:pt x="1009" y="409"/>
                </a:lnTo>
                <a:lnTo>
                  <a:pt x="1009" y="411"/>
                </a:lnTo>
                <a:lnTo>
                  <a:pt x="1013" y="415"/>
                </a:lnTo>
                <a:lnTo>
                  <a:pt x="1017" y="420"/>
                </a:lnTo>
                <a:lnTo>
                  <a:pt x="1020" y="430"/>
                </a:lnTo>
                <a:lnTo>
                  <a:pt x="1024" y="439"/>
                </a:lnTo>
                <a:lnTo>
                  <a:pt x="1033" y="455"/>
                </a:lnTo>
                <a:lnTo>
                  <a:pt x="1041" y="470"/>
                </a:lnTo>
                <a:lnTo>
                  <a:pt x="1033" y="477"/>
                </a:lnTo>
                <a:lnTo>
                  <a:pt x="1031" y="483"/>
                </a:lnTo>
                <a:lnTo>
                  <a:pt x="1026" y="492"/>
                </a:lnTo>
                <a:lnTo>
                  <a:pt x="1020" y="493"/>
                </a:lnTo>
                <a:lnTo>
                  <a:pt x="1017" y="499"/>
                </a:lnTo>
                <a:lnTo>
                  <a:pt x="1011" y="504"/>
                </a:lnTo>
                <a:lnTo>
                  <a:pt x="1011" y="517"/>
                </a:lnTo>
                <a:lnTo>
                  <a:pt x="1013" y="519"/>
                </a:lnTo>
                <a:lnTo>
                  <a:pt x="1011" y="526"/>
                </a:lnTo>
                <a:lnTo>
                  <a:pt x="1011" y="534"/>
                </a:lnTo>
                <a:lnTo>
                  <a:pt x="1013" y="543"/>
                </a:lnTo>
                <a:lnTo>
                  <a:pt x="1013" y="561"/>
                </a:lnTo>
                <a:lnTo>
                  <a:pt x="1013" y="567"/>
                </a:lnTo>
                <a:lnTo>
                  <a:pt x="1011" y="572"/>
                </a:lnTo>
                <a:lnTo>
                  <a:pt x="1006" y="579"/>
                </a:lnTo>
                <a:lnTo>
                  <a:pt x="1002" y="585"/>
                </a:lnTo>
                <a:lnTo>
                  <a:pt x="1008" y="594"/>
                </a:lnTo>
                <a:lnTo>
                  <a:pt x="1009" y="598"/>
                </a:lnTo>
                <a:lnTo>
                  <a:pt x="1011" y="610"/>
                </a:lnTo>
                <a:lnTo>
                  <a:pt x="1013" y="612"/>
                </a:lnTo>
                <a:lnTo>
                  <a:pt x="1015" y="614"/>
                </a:lnTo>
                <a:lnTo>
                  <a:pt x="1019" y="616"/>
                </a:lnTo>
                <a:lnTo>
                  <a:pt x="1022" y="632"/>
                </a:lnTo>
                <a:lnTo>
                  <a:pt x="1017" y="634"/>
                </a:lnTo>
                <a:lnTo>
                  <a:pt x="1013" y="634"/>
                </a:lnTo>
                <a:lnTo>
                  <a:pt x="1009" y="636"/>
                </a:lnTo>
                <a:lnTo>
                  <a:pt x="1009" y="638"/>
                </a:lnTo>
                <a:lnTo>
                  <a:pt x="1009" y="645"/>
                </a:lnTo>
                <a:lnTo>
                  <a:pt x="1011" y="649"/>
                </a:lnTo>
                <a:lnTo>
                  <a:pt x="999" y="660"/>
                </a:lnTo>
                <a:lnTo>
                  <a:pt x="986" y="671"/>
                </a:lnTo>
                <a:lnTo>
                  <a:pt x="986" y="673"/>
                </a:lnTo>
                <a:lnTo>
                  <a:pt x="986" y="676"/>
                </a:lnTo>
                <a:lnTo>
                  <a:pt x="986" y="680"/>
                </a:lnTo>
                <a:lnTo>
                  <a:pt x="978" y="687"/>
                </a:lnTo>
                <a:lnTo>
                  <a:pt x="977" y="689"/>
                </a:lnTo>
                <a:lnTo>
                  <a:pt x="975" y="691"/>
                </a:lnTo>
                <a:lnTo>
                  <a:pt x="973" y="706"/>
                </a:lnTo>
                <a:lnTo>
                  <a:pt x="980" y="717"/>
                </a:lnTo>
                <a:lnTo>
                  <a:pt x="989" y="726"/>
                </a:lnTo>
                <a:lnTo>
                  <a:pt x="993" y="727"/>
                </a:lnTo>
                <a:lnTo>
                  <a:pt x="995" y="731"/>
                </a:lnTo>
                <a:lnTo>
                  <a:pt x="995" y="735"/>
                </a:lnTo>
                <a:lnTo>
                  <a:pt x="993" y="735"/>
                </a:lnTo>
                <a:lnTo>
                  <a:pt x="989" y="735"/>
                </a:lnTo>
                <a:lnTo>
                  <a:pt x="984" y="740"/>
                </a:lnTo>
                <a:lnTo>
                  <a:pt x="977" y="751"/>
                </a:lnTo>
                <a:lnTo>
                  <a:pt x="969" y="770"/>
                </a:lnTo>
                <a:lnTo>
                  <a:pt x="988" y="821"/>
                </a:lnTo>
                <a:lnTo>
                  <a:pt x="993" y="826"/>
                </a:lnTo>
                <a:lnTo>
                  <a:pt x="995" y="826"/>
                </a:lnTo>
                <a:lnTo>
                  <a:pt x="1002" y="828"/>
                </a:lnTo>
                <a:lnTo>
                  <a:pt x="1004" y="826"/>
                </a:lnTo>
                <a:lnTo>
                  <a:pt x="1011" y="826"/>
                </a:lnTo>
                <a:lnTo>
                  <a:pt x="1024" y="833"/>
                </a:lnTo>
                <a:lnTo>
                  <a:pt x="1026" y="837"/>
                </a:lnTo>
                <a:lnTo>
                  <a:pt x="1024" y="839"/>
                </a:lnTo>
                <a:lnTo>
                  <a:pt x="1009" y="846"/>
                </a:lnTo>
                <a:lnTo>
                  <a:pt x="1006" y="852"/>
                </a:lnTo>
                <a:lnTo>
                  <a:pt x="1006" y="859"/>
                </a:lnTo>
                <a:lnTo>
                  <a:pt x="1006" y="865"/>
                </a:lnTo>
                <a:lnTo>
                  <a:pt x="1008" y="866"/>
                </a:lnTo>
                <a:lnTo>
                  <a:pt x="1008" y="868"/>
                </a:lnTo>
                <a:lnTo>
                  <a:pt x="1004" y="872"/>
                </a:lnTo>
                <a:lnTo>
                  <a:pt x="999" y="874"/>
                </a:lnTo>
                <a:lnTo>
                  <a:pt x="991" y="881"/>
                </a:lnTo>
                <a:lnTo>
                  <a:pt x="978" y="894"/>
                </a:lnTo>
                <a:lnTo>
                  <a:pt x="971" y="907"/>
                </a:lnTo>
                <a:lnTo>
                  <a:pt x="969" y="908"/>
                </a:lnTo>
                <a:lnTo>
                  <a:pt x="964" y="910"/>
                </a:lnTo>
                <a:lnTo>
                  <a:pt x="958" y="914"/>
                </a:lnTo>
                <a:lnTo>
                  <a:pt x="953" y="919"/>
                </a:lnTo>
                <a:lnTo>
                  <a:pt x="949" y="923"/>
                </a:lnTo>
                <a:lnTo>
                  <a:pt x="946" y="929"/>
                </a:lnTo>
                <a:lnTo>
                  <a:pt x="953" y="930"/>
                </a:lnTo>
                <a:lnTo>
                  <a:pt x="958" y="936"/>
                </a:lnTo>
                <a:lnTo>
                  <a:pt x="960" y="938"/>
                </a:lnTo>
                <a:lnTo>
                  <a:pt x="960" y="943"/>
                </a:lnTo>
                <a:lnTo>
                  <a:pt x="960" y="950"/>
                </a:lnTo>
                <a:lnTo>
                  <a:pt x="949" y="961"/>
                </a:lnTo>
                <a:lnTo>
                  <a:pt x="944" y="965"/>
                </a:lnTo>
                <a:lnTo>
                  <a:pt x="938" y="965"/>
                </a:lnTo>
                <a:lnTo>
                  <a:pt x="935" y="965"/>
                </a:lnTo>
                <a:lnTo>
                  <a:pt x="931" y="965"/>
                </a:lnTo>
                <a:lnTo>
                  <a:pt x="929" y="967"/>
                </a:lnTo>
                <a:lnTo>
                  <a:pt x="927" y="971"/>
                </a:lnTo>
                <a:lnTo>
                  <a:pt x="927" y="974"/>
                </a:lnTo>
                <a:lnTo>
                  <a:pt x="929" y="976"/>
                </a:lnTo>
                <a:lnTo>
                  <a:pt x="929" y="978"/>
                </a:lnTo>
                <a:lnTo>
                  <a:pt x="931" y="978"/>
                </a:lnTo>
                <a:lnTo>
                  <a:pt x="935" y="993"/>
                </a:lnTo>
                <a:lnTo>
                  <a:pt x="935" y="996"/>
                </a:lnTo>
                <a:lnTo>
                  <a:pt x="933" y="1000"/>
                </a:lnTo>
                <a:lnTo>
                  <a:pt x="933" y="1002"/>
                </a:lnTo>
                <a:lnTo>
                  <a:pt x="927" y="1011"/>
                </a:lnTo>
                <a:lnTo>
                  <a:pt x="925" y="1013"/>
                </a:lnTo>
                <a:lnTo>
                  <a:pt x="916" y="1022"/>
                </a:lnTo>
                <a:lnTo>
                  <a:pt x="914" y="1024"/>
                </a:lnTo>
                <a:lnTo>
                  <a:pt x="900" y="1029"/>
                </a:lnTo>
                <a:lnTo>
                  <a:pt x="896" y="1029"/>
                </a:lnTo>
                <a:lnTo>
                  <a:pt x="894" y="1029"/>
                </a:lnTo>
                <a:lnTo>
                  <a:pt x="889" y="1029"/>
                </a:lnTo>
                <a:lnTo>
                  <a:pt x="882" y="1029"/>
                </a:lnTo>
                <a:lnTo>
                  <a:pt x="878" y="1029"/>
                </a:lnTo>
                <a:lnTo>
                  <a:pt x="876" y="1031"/>
                </a:lnTo>
                <a:lnTo>
                  <a:pt x="874" y="1031"/>
                </a:lnTo>
                <a:lnTo>
                  <a:pt x="872" y="1031"/>
                </a:lnTo>
                <a:lnTo>
                  <a:pt x="863" y="1022"/>
                </a:lnTo>
                <a:lnTo>
                  <a:pt x="858" y="1020"/>
                </a:lnTo>
                <a:lnTo>
                  <a:pt x="856" y="1018"/>
                </a:lnTo>
                <a:lnTo>
                  <a:pt x="852" y="1018"/>
                </a:lnTo>
                <a:lnTo>
                  <a:pt x="850" y="1016"/>
                </a:lnTo>
                <a:lnTo>
                  <a:pt x="843" y="1011"/>
                </a:lnTo>
                <a:lnTo>
                  <a:pt x="827" y="996"/>
                </a:lnTo>
                <a:lnTo>
                  <a:pt x="825" y="993"/>
                </a:lnTo>
                <a:lnTo>
                  <a:pt x="821" y="991"/>
                </a:lnTo>
                <a:lnTo>
                  <a:pt x="816" y="987"/>
                </a:lnTo>
                <a:lnTo>
                  <a:pt x="808" y="985"/>
                </a:lnTo>
                <a:lnTo>
                  <a:pt x="801" y="980"/>
                </a:lnTo>
                <a:lnTo>
                  <a:pt x="799" y="978"/>
                </a:lnTo>
                <a:lnTo>
                  <a:pt x="799" y="976"/>
                </a:lnTo>
                <a:lnTo>
                  <a:pt x="796" y="974"/>
                </a:lnTo>
                <a:lnTo>
                  <a:pt x="788" y="971"/>
                </a:lnTo>
                <a:lnTo>
                  <a:pt x="783" y="961"/>
                </a:lnTo>
                <a:lnTo>
                  <a:pt x="781" y="954"/>
                </a:lnTo>
                <a:lnTo>
                  <a:pt x="781" y="949"/>
                </a:lnTo>
                <a:lnTo>
                  <a:pt x="779" y="940"/>
                </a:lnTo>
                <a:lnTo>
                  <a:pt x="777" y="940"/>
                </a:lnTo>
                <a:lnTo>
                  <a:pt x="770" y="934"/>
                </a:lnTo>
                <a:lnTo>
                  <a:pt x="770" y="932"/>
                </a:lnTo>
                <a:lnTo>
                  <a:pt x="770" y="930"/>
                </a:lnTo>
                <a:lnTo>
                  <a:pt x="765" y="929"/>
                </a:lnTo>
                <a:lnTo>
                  <a:pt x="754" y="923"/>
                </a:lnTo>
                <a:lnTo>
                  <a:pt x="750" y="923"/>
                </a:lnTo>
                <a:lnTo>
                  <a:pt x="744" y="921"/>
                </a:lnTo>
                <a:lnTo>
                  <a:pt x="739" y="921"/>
                </a:lnTo>
                <a:lnTo>
                  <a:pt x="737" y="919"/>
                </a:lnTo>
                <a:lnTo>
                  <a:pt x="708" y="899"/>
                </a:lnTo>
                <a:lnTo>
                  <a:pt x="699" y="892"/>
                </a:lnTo>
                <a:lnTo>
                  <a:pt x="691" y="887"/>
                </a:lnTo>
                <a:lnTo>
                  <a:pt x="688" y="881"/>
                </a:lnTo>
                <a:lnTo>
                  <a:pt x="686" y="879"/>
                </a:lnTo>
                <a:lnTo>
                  <a:pt x="677" y="874"/>
                </a:lnTo>
                <a:lnTo>
                  <a:pt x="673" y="872"/>
                </a:lnTo>
                <a:lnTo>
                  <a:pt x="664" y="870"/>
                </a:lnTo>
                <a:lnTo>
                  <a:pt x="662" y="868"/>
                </a:lnTo>
                <a:lnTo>
                  <a:pt x="658" y="868"/>
                </a:lnTo>
                <a:lnTo>
                  <a:pt x="657" y="868"/>
                </a:lnTo>
                <a:lnTo>
                  <a:pt x="653" y="868"/>
                </a:lnTo>
                <a:lnTo>
                  <a:pt x="649" y="868"/>
                </a:lnTo>
                <a:lnTo>
                  <a:pt x="644" y="866"/>
                </a:lnTo>
                <a:lnTo>
                  <a:pt x="622" y="854"/>
                </a:lnTo>
                <a:lnTo>
                  <a:pt x="594" y="839"/>
                </a:lnTo>
                <a:lnTo>
                  <a:pt x="585" y="835"/>
                </a:lnTo>
                <a:lnTo>
                  <a:pt x="580" y="833"/>
                </a:lnTo>
                <a:lnTo>
                  <a:pt x="567" y="828"/>
                </a:lnTo>
                <a:lnTo>
                  <a:pt x="563" y="828"/>
                </a:lnTo>
                <a:lnTo>
                  <a:pt x="543" y="821"/>
                </a:lnTo>
                <a:lnTo>
                  <a:pt x="532" y="812"/>
                </a:lnTo>
                <a:lnTo>
                  <a:pt x="529" y="808"/>
                </a:lnTo>
                <a:lnTo>
                  <a:pt x="523" y="802"/>
                </a:lnTo>
                <a:lnTo>
                  <a:pt x="512" y="797"/>
                </a:lnTo>
                <a:lnTo>
                  <a:pt x="503" y="793"/>
                </a:lnTo>
                <a:lnTo>
                  <a:pt x="496" y="791"/>
                </a:lnTo>
                <a:lnTo>
                  <a:pt x="490" y="790"/>
                </a:lnTo>
                <a:lnTo>
                  <a:pt x="488" y="788"/>
                </a:lnTo>
                <a:lnTo>
                  <a:pt x="485" y="786"/>
                </a:lnTo>
                <a:lnTo>
                  <a:pt x="485" y="782"/>
                </a:lnTo>
                <a:lnTo>
                  <a:pt x="481" y="779"/>
                </a:lnTo>
                <a:lnTo>
                  <a:pt x="479" y="777"/>
                </a:lnTo>
                <a:lnTo>
                  <a:pt x="450" y="764"/>
                </a:lnTo>
                <a:lnTo>
                  <a:pt x="426" y="755"/>
                </a:lnTo>
                <a:lnTo>
                  <a:pt x="424" y="751"/>
                </a:lnTo>
                <a:lnTo>
                  <a:pt x="423" y="749"/>
                </a:lnTo>
                <a:lnTo>
                  <a:pt x="417" y="740"/>
                </a:lnTo>
                <a:lnTo>
                  <a:pt x="410" y="731"/>
                </a:lnTo>
                <a:lnTo>
                  <a:pt x="408" y="729"/>
                </a:lnTo>
                <a:lnTo>
                  <a:pt x="406" y="727"/>
                </a:lnTo>
                <a:lnTo>
                  <a:pt x="404" y="724"/>
                </a:lnTo>
                <a:lnTo>
                  <a:pt x="393" y="718"/>
                </a:lnTo>
                <a:lnTo>
                  <a:pt x="384" y="704"/>
                </a:lnTo>
                <a:lnTo>
                  <a:pt x="382" y="700"/>
                </a:lnTo>
                <a:lnTo>
                  <a:pt x="379" y="698"/>
                </a:lnTo>
                <a:lnTo>
                  <a:pt x="377" y="698"/>
                </a:lnTo>
                <a:lnTo>
                  <a:pt x="373" y="696"/>
                </a:lnTo>
                <a:lnTo>
                  <a:pt x="364" y="691"/>
                </a:lnTo>
                <a:lnTo>
                  <a:pt x="351" y="684"/>
                </a:lnTo>
                <a:lnTo>
                  <a:pt x="342" y="676"/>
                </a:lnTo>
                <a:lnTo>
                  <a:pt x="342" y="673"/>
                </a:lnTo>
                <a:lnTo>
                  <a:pt x="342" y="669"/>
                </a:lnTo>
                <a:lnTo>
                  <a:pt x="337" y="658"/>
                </a:lnTo>
                <a:lnTo>
                  <a:pt x="329" y="651"/>
                </a:lnTo>
                <a:lnTo>
                  <a:pt x="328" y="649"/>
                </a:lnTo>
                <a:lnTo>
                  <a:pt x="324" y="643"/>
                </a:lnTo>
                <a:lnTo>
                  <a:pt x="322" y="636"/>
                </a:lnTo>
                <a:lnTo>
                  <a:pt x="317" y="631"/>
                </a:lnTo>
                <a:lnTo>
                  <a:pt x="313" y="629"/>
                </a:lnTo>
                <a:lnTo>
                  <a:pt x="309" y="616"/>
                </a:lnTo>
                <a:lnTo>
                  <a:pt x="306" y="607"/>
                </a:lnTo>
                <a:lnTo>
                  <a:pt x="304" y="607"/>
                </a:lnTo>
                <a:lnTo>
                  <a:pt x="300" y="605"/>
                </a:lnTo>
                <a:lnTo>
                  <a:pt x="298" y="601"/>
                </a:lnTo>
                <a:lnTo>
                  <a:pt x="300" y="596"/>
                </a:lnTo>
                <a:lnTo>
                  <a:pt x="304" y="594"/>
                </a:lnTo>
                <a:lnTo>
                  <a:pt x="307" y="596"/>
                </a:lnTo>
                <a:lnTo>
                  <a:pt x="309" y="596"/>
                </a:lnTo>
                <a:lnTo>
                  <a:pt x="313" y="590"/>
                </a:lnTo>
                <a:lnTo>
                  <a:pt x="313" y="589"/>
                </a:lnTo>
                <a:lnTo>
                  <a:pt x="317" y="579"/>
                </a:lnTo>
                <a:lnTo>
                  <a:pt x="317" y="574"/>
                </a:lnTo>
                <a:lnTo>
                  <a:pt x="318" y="561"/>
                </a:lnTo>
                <a:lnTo>
                  <a:pt x="317" y="557"/>
                </a:lnTo>
                <a:lnTo>
                  <a:pt x="313" y="548"/>
                </a:lnTo>
                <a:lnTo>
                  <a:pt x="311" y="548"/>
                </a:lnTo>
                <a:lnTo>
                  <a:pt x="300" y="534"/>
                </a:lnTo>
                <a:lnTo>
                  <a:pt x="285" y="508"/>
                </a:lnTo>
                <a:lnTo>
                  <a:pt x="278" y="497"/>
                </a:lnTo>
                <a:lnTo>
                  <a:pt x="275" y="493"/>
                </a:lnTo>
                <a:lnTo>
                  <a:pt x="264" y="473"/>
                </a:lnTo>
                <a:lnTo>
                  <a:pt x="260" y="462"/>
                </a:lnTo>
                <a:lnTo>
                  <a:pt x="258" y="459"/>
                </a:lnTo>
                <a:lnTo>
                  <a:pt x="256" y="455"/>
                </a:lnTo>
                <a:lnTo>
                  <a:pt x="253" y="451"/>
                </a:lnTo>
                <a:lnTo>
                  <a:pt x="234" y="433"/>
                </a:lnTo>
                <a:lnTo>
                  <a:pt x="227" y="428"/>
                </a:lnTo>
                <a:lnTo>
                  <a:pt x="225" y="411"/>
                </a:lnTo>
                <a:lnTo>
                  <a:pt x="222" y="402"/>
                </a:lnTo>
                <a:lnTo>
                  <a:pt x="223" y="397"/>
                </a:lnTo>
                <a:lnTo>
                  <a:pt x="220" y="389"/>
                </a:lnTo>
                <a:lnTo>
                  <a:pt x="211" y="375"/>
                </a:lnTo>
                <a:lnTo>
                  <a:pt x="203" y="369"/>
                </a:lnTo>
                <a:lnTo>
                  <a:pt x="192" y="362"/>
                </a:lnTo>
                <a:lnTo>
                  <a:pt x="187" y="358"/>
                </a:lnTo>
                <a:lnTo>
                  <a:pt x="185" y="358"/>
                </a:lnTo>
                <a:lnTo>
                  <a:pt x="181" y="356"/>
                </a:lnTo>
                <a:lnTo>
                  <a:pt x="178" y="353"/>
                </a:lnTo>
                <a:lnTo>
                  <a:pt x="176" y="349"/>
                </a:lnTo>
                <a:lnTo>
                  <a:pt x="178" y="345"/>
                </a:lnTo>
                <a:lnTo>
                  <a:pt x="181" y="345"/>
                </a:lnTo>
                <a:lnTo>
                  <a:pt x="181" y="342"/>
                </a:lnTo>
                <a:lnTo>
                  <a:pt x="174" y="318"/>
                </a:lnTo>
                <a:lnTo>
                  <a:pt x="170" y="311"/>
                </a:lnTo>
                <a:lnTo>
                  <a:pt x="165" y="302"/>
                </a:lnTo>
                <a:lnTo>
                  <a:pt x="154" y="287"/>
                </a:lnTo>
                <a:lnTo>
                  <a:pt x="154" y="287"/>
                </a:lnTo>
                <a:lnTo>
                  <a:pt x="152" y="281"/>
                </a:lnTo>
                <a:lnTo>
                  <a:pt x="148" y="278"/>
                </a:lnTo>
                <a:lnTo>
                  <a:pt x="143" y="270"/>
                </a:lnTo>
                <a:lnTo>
                  <a:pt x="137" y="260"/>
                </a:lnTo>
                <a:lnTo>
                  <a:pt x="126" y="238"/>
                </a:lnTo>
                <a:lnTo>
                  <a:pt x="121" y="223"/>
                </a:lnTo>
                <a:lnTo>
                  <a:pt x="119" y="216"/>
                </a:lnTo>
                <a:lnTo>
                  <a:pt x="119" y="212"/>
                </a:lnTo>
                <a:lnTo>
                  <a:pt x="119" y="208"/>
                </a:lnTo>
                <a:lnTo>
                  <a:pt x="112" y="197"/>
                </a:lnTo>
                <a:lnTo>
                  <a:pt x="106" y="192"/>
                </a:lnTo>
                <a:lnTo>
                  <a:pt x="104" y="183"/>
                </a:lnTo>
                <a:lnTo>
                  <a:pt x="104" y="174"/>
                </a:lnTo>
                <a:lnTo>
                  <a:pt x="101" y="168"/>
                </a:lnTo>
                <a:lnTo>
                  <a:pt x="97" y="164"/>
                </a:lnTo>
                <a:lnTo>
                  <a:pt x="94" y="155"/>
                </a:lnTo>
                <a:lnTo>
                  <a:pt x="94" y="150"/>
                </a:lnTo>
                <a:lnTo>
                  <a:pt x="88" y="144"/>
                </a:lnTo>
                <a:lnTo>
                  <a:pt x="83" y="139"/>
                </a:lnTo>
                <a:lnTo>
                  <a:pt x="77" y="132"/>
                </a:lnTo>
                <a:lnTo>
                  <a:pt x="79" y="130"/>
                </a:lnTo>
                <a:lnTo>
                  <a:pt x="81" y="128"/>
                </a:lnTo>
                <a:lnTo>
                  <a:pt x="79" y="126"/>
                </a:lnTo>
                <a:lnTo>
                  <a:pt x="73" y="117"/>
                </a:lnTo>
                <a:lnTo>
                  <a:pt x="72" y="106"/>
                </a:lnTo>
                <a:lnTo>
                  <a:pt x="72" y="104"/>
                </a:lnTo>
                <a:lnTo>
                  <a:pt x="72" y="99"/>
                </a:lnTo>
                <a:lnTo>
                  <a:pt x="70" y="95"/>
                </a:lnTo>
                <a:lnTo>
                  <a:pt x="70" y="93"/>
                </a:lnTo>
                <a:lnTo>
                  <a:pt x="62" y="86"/>
                </a:lnTo>
                <a:lnTo>
                  <a:pt x="55" y="77"/>
                </a:lnTo>
                <a:lnTo>
                  <a:pt x="55" y="75"/>
                </a:lnTo>
                <a:lnTo>
                  <a:pt x="55" y="73"/>
                </a:lnTo>
                <a:lnTo>
                  <a:pt x="48" y="58"/>
                </a:lnTo>
                <a:lnTo>
                  <a:pt x="31" y="40"/>
                </a:lnTo>
                <a:lnTo>
                  <a:pt x="30" y="38"/>
                </a:lnTo>
                <a:lnTo>
                  <a:pt x="28" y="38"/>
                </a:lnTo>
                <a:lnTo>
                  <a:pt x="26" y="37"/>
                </a:lnTo>
                <a:lnTo>
                  <a:pt x="19" y="31"/>
                </a:lnTo>
                <a:lnTo>
                  <a:pt x="17" y="29"/>
                </a:lnTo>
                <a:lnTo>
                  <a:pt x="15" y="27"/>
                </a:lnTo>
                <a:lnTo>
                  <a:pt x="11" y="22"/>
                </a:lnTo>
                <a:lnTo>
                  <a:pt x="6" y="13"/>
                </a:lnTo>
                <a:lnTo>
                  <a:pt x="4" y="7"/>
                </a:lnTo>
                <a:lnTo>
                  <a:pt x="4" y="4"/>
                </a:lnTo>
                <a:lnTo>
                  <a:pt x="0" y="0"/>
                </a:lnTo>
                <a:lnTo>
                  <a:pt x="534" y="0"/>
                </a:lnTo>
                <a:close/>
              </a:path>
            </a:pathLst>
          </a:custGeom>
          <a:solidFill>
            <a:srgbClr val="b8fcb3"/>
          </a:solidFill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08040" y="25560"/>
            <a:ext cx="6018120" cy="3678120"/>
          </a:xfrm>
          <a:custGeom>
            <a:avLst/>
            <a:gdLst/>
            <a:ahLst/>
            <a:rect l="l" t="t" r="r" b="b"/>
            <a:pathLst>
              <a:path w="3763" h="2512">
                <a:moveTo>
                  <a:pt x="3763" y="0"/>
                </a:moveTo>
                <a:lnTo>
                  <a:pt x="3763" y="2"/>
                </a:lnTo>
                <a:lnTo>
                  <a:pt x="3761" y="5"/>
                </a:lnTo>
                <a:lnTo>
                  <a:pt x="3759" y="7"/>
                </a:lnTo>
                <a:lnTo>
                  <a:pt x="3755" y="13"/>
                </a:lnTo>
                <a:lnTo>
                  <a:pt x="3755" y="16"/>
                </a:lnTo>
                <a:lnTo>
                  <a:pt x="3755" y="18"/>
                </a:lnTo>
                <a:lnTo>
                  <a:pt x="3757" y="20"/>
                </a:lnTo>
                <a:lnTo>
                  <a:pt x="3759" y="20"/>
                </a:lnTo>
                <a:lnTo>
                  <a:pt x="3761" y="24"/>
                </a:lnTo>
                <a:lnTo>
                  <a:pt x="3763" y="27"/>
                </a:lnTo>
                <a:lnTo>
                  <a:pt x="3763" y="31"/>
                </a:lnTo>
                <a:lnTo>
                  <a:pt x="3761" y="37"/>
                </a:lnTo>
                <a:lnTo>
                  <a:pt x="3759" y="42"/>
                </a:lnTo>
                <a:lnTo>
                  <a:pt x="3757" y="44"/>
                </a:lnTo>
                <a:lnTo>
                  <a:pt x="3754" y="55"/>
                </a:lnTo>
                <a:lnTo>
                  <a:pt x="3750" y="69"/>
                </a:lnTo>
                <a:lnTo>
                  <a:pt x="3741" y="95"/>
                </a:lnTo>
                <a:lnTo>
                  <a:pt x="3732" y="121"/>
                </a:lnTo>
                <a:lnTo>
                  <a:pt x="3730" y="124"/>
                </a:lnTo>
                <a:lnTo>
                  <a:pt x="3728" y="128"/>
                </a:lnTo>
                <a:lnTo>
                  <a:pt x="3726" y="132"/>
                </a:lnTo>
                <a:lnTo>
                  <a:pt x="3713" y="155"/>
                </a:lnTo>
                <a:lnTo>
                  <a:pt x="3708" y="161"/>
                </a:lnTo>
                <a:lnTo>
                  <a:pt x="3706" y="163"/>
                </a:lnTo>
                <a:lnTo>
                  <a:pt x="3684" y="186"/>
                </a:lnTo>
                <a:lnTo>
                  <a:pt x="3679" y="192"/>
                </a:lnTo>
                <a:lnTo>
                  <a:pt x="3668" y="199"/>
                </a:lnTo>
                <a:lnTo>
                  <a:pt x="3662" y="208"/>
                </a:lnTo>
                <a:lnTo>
                  <a:pt x="3660" y="214"/>
                </a:lnTo>
                <a:lnTo>
                  <a:pt x="3657" y="217"/>
                </a:lnTo>
                <a:lnTo>
                  <a:pt x="3644" y="236"/>
                </a:lnTo>
                <a:lnTo>
                  <a:pt x="3637" y="243"/>
                </a:lnTo>
                <a:lnTo>
                  <a:pt x="3633" y="245"/>
                </a:lnTo>
                <a:lnTo>
                  <a:pt x="3627" y="250"/>
                </a:lnTo>
                <a:lnTo>
                  <a:pt x="3624" y="254"/>
                </a:lnTo>
                <a:lnTo>
                  <a:pt x="3620" y="258"/>
                </a:lnTo>
                <a:lnTo>
                  <a:pt x="3618" y="265"/>
                </a:lnTo>
                <a:lnTo>
                  <a:pt x="3611" y="276"/>
                </a:lnTo>
                <a:lnTo>
                  <a:pt x="3609" y="276"/>
                </a:lnTo>
                <a:lnTo>
                  <a:pt x="3598" y="280"/>
                </a:lnTo>
                <a:lnTo>
                  <a:pt x="3595" y="281"/>
                </a:lnTo>
                <a:lnTo>
                  <a:pt x="3585" y="287"/>
                </a:lnTo>
                <a:lnTo>
                  <a:pt x="3582" y="291"/>
                </a:lnTo>
                <a:lnTo>
                  <a:pt x="3567" y="300"/>
                </a:lnTo>
                <a:lnTo>
                  <a:pt x="3549" y="311"/>
                </a:lnTo>
                <a:lnTo>
                  <a:pt x="3534" y="344"/>
                </a:lnTo>
                <a:lnTo>
                  <a:pt x="3521" y="366"/>
                </a:lnTo>
                <a:lnTo>
                  <a:pt x="3516" y="366"/>
                </a:lnTo>
                <a:lnTo>
                  <a:pt x="3514" y="364"/>
                </a:lnTo>
                <a:lnTo>
                  <a:pt x="3518" y="355"/>
                </a:lnTo>
                <a:lnTo>
                  <a:pt x="3520" y="355"/>
                </a:lnTo>
                <a:lnTo>
                  <a:pt x="3521" y="351"/>
                </a:lnTo>
                <a:lnTo>
                  <a:pt x="3523" y="349"/>
                </a:lnTo>
                <a:lnTo>
                  <a:pt x="3525" y="345"/>
                </a:lnTo>
                <a:lnTo>
                  <a:pt x="3520" y="344"/>
                </a:lnTo>
                <a:lnTo>
                  <a:pt x="3514" y="356"/>
                </a:lnTo>
                <a:lnTo>
                  <a:pt x="3512" y="364"/>
                </a:lnTo>
                <a:lnTo>
                  <a:pt x="3514" y="367"/>
                </a:lnTo>
                <a:lnTo>
                  <a:pt x="3512" y="371"/>
                </a:lnTo>
                <a:lnTo>
                  <a:pt x="3509" y="373"/>
                </a:lnTo>
                <a:lnTo>
                  <a:pt x="3507" y="375"/>
                </a:lnTo>
                <a:lnTo>
                  <a:pt x="3505" y="375"/>
                </a:lnTo>
                <a:lnTo>
                  <a:pt x="3509" y="375"/>
                </a:lnTo>
                <a:lnTo>
                  <a:pt x="3512" y="377"/>
                </a:lnTo>
                <a:lnTo>
                  <a:pt x="3492" y="419"/>
                </a:lnTo>
                <a:lnTo>
                  <a:pt x="3492" y="422"/>
                </a:lnTo>
                <a:lnTo>
                  <a:pt x="3489" y="426"/>
                </a:lnTo>
                <a:lnTo>
                  <a:pt x="3487" y="431"/>
                </a:lnTo>
                <a:lnTo>
                  <a:pt x="3485" y="433"/>
                </a:lnTo>
                <a:lnTo>
                  <a:pt x="3456" y="477"/>
                </a:lnTo>
                <a:lnTo>
                  <a:pt x="3452" y="483"/>
                </a:lnTo>
                <a:lnTo>
                  <a:pt x="3425" y="512"/>
                </a:lnTo>
                <a:lnTo>
                  <a:pt x="3423" y="514"/>
                </a:lnTo>
                <a:lnTo>
                  <a:pt x="3410" y="519"/>
                </a:lnTo>
                <a:lnTo>
                  <a:pt x="3404" y="519"/>
                </a:lnTo>
                <a:lnTo>
                  <a:pt x="3406" y="510"/>
                </a:lnTo>
                <a:lnTo>
                  <a:pt x="3410" y="510"/>
                </a:lnTo>
                <a:lnTo>
                  <a:pt x="3410" y="503"/>
                </a:lnTo>
                <a:lnTo>
                  <a:pt x="3406" y="492"/>
                </a:lnTo>
                <a:lnTo>
                  <a:pt x="3388" y="477"/>
                </a:lnTo>
                <a:lnTo>
                  <a:pt x="3386" y="481"/>
                </a:lnTo>
                <a:lnTo>
                  <a:pt x="3381" y="499"/>
                </a:lnTo>
                <a:lnTo>
                  <a:pt x="3386" y="504"/>
                </a:lnTo>
                <a:lnTo>
                  <a:pt x="3382" y="515"/>
                </a:lnTo>
                <a:lnTo>
                  <a:pt x="3373" y="534"/>
                </a:lnTo>
                <a:lnTo>
                  <a:pt x="3364" y="543"/>
                </a:lnTo>
                <a:lnTo>
                  <a:pt x="3355" y="552"/>
                </a:lnTo>
                <a:lnTo>
                  <a:pt x="3355" y="554"/>
                </a:lnTo>
                <a:lnTo>
                  <a:pt x="3351" y="568"/>
                </a:lnTo>
                <a:lnTo>
                  <a:pt x="3355" y="567"/>
                </a:lnTo>
                <a:lnTo>
                  <a:pt x="3359" y="567"/>
                </a:lnTo>
                <a:lnTo>
                  <a:pt x="3361" y="568"/>
                </a:lnTo>
                <a:lnTo>
                  <a:pt x="3364" y="583"/>
                </a:lnTo>
                <a:lnTo>
                  <a:pt x="3361" y="594"/>
                </a:lnTo>
                <a:lnTo>
                  <a:pt x="3357" y="598"/>
                </a:lnTo>
                <a:lnTo>
                  <a:pt x="3361" y="607"/>
                </a:lnTo>
                <a:lnTo>
                  <a:pt x="3361" y="609"/>
                </a:lnTo>
                <a:lnTo>
                  <a:pt x="3361" y="612"/>
                </a:lnTo>
                <a:lnTo>
                  <a:pt x="3359" y="614"/>
                </a:lnTo>
                <a:lnTo>
                  <a:pt x="3357" y="612"/>
                </a:lnTo>
                <a:lnTo>
                  <a:pt x="3357" y="616"/>
                </a:lnTo>
                <a:lnTo>
                  <a:pt x="3359" y="618"/>
                </a:lnTo>
                <a:lnTo>
                  <a:pt x="3362" y="612"/>
                </a:lnTo>
                <a:lnTo>
                  <a:pt x="3362" y="610"/>
                </a:lnTo>
                <a:lnTo>
                  <a:pt x="3362" y="607"/>
                </a:lnTo>
                <a:lnTo>
                  <a:pt x="3362" y="605"/>
                </a:lnTo>
                <a:lnTo>
                  <a:pt x="3361" y="605"/>
                </a:lnTo>
                <a:lnTo>
                  <a:pt x="3366" y="603"/>
                </a:lnTo>
                <a:lnTo>
                  <a:pt x="3366" y="614"/>
                </a:lnTo>
                <a:lnTo>
                  <a:pt x="3366" y="620"/>
                </a:lnTo>
                <a:lnTo>
                  <a:pt x="3361" y="645"/>
                </a:lnTo>
                <a:lnTo>
                  <a:pt x="3353" y="676"/>
                </a:lnTo>
                <a:lnTo>
                  <a:pt x="3353" y="682"/>
                </a:lnTo>
                <a:lnTo>
                  <a:pt x="3355" y="691"/>
                </a:lnTo>
                <a:lnTo>
                  <a:pt x="3355" y="693"/>
                </a:lnTo>
                <a:lnTo>
                  <a:pt x="3359" y="707"/>
                </a:lnTo>
                <a:lnTo>
                  <a:pt x="3359" y="715"/>
                </a:lnTo>
                <a:lnTo>
                  <a:pt x="3361" y="735"/>
                </a:lnTo>
                <a:lnTo>
                  <a:pt x="3364" y="762"/>
                </a:lnTo>
                <a:lnTo>
                  <a:pt x="3366" y="773"/>
                </a:lnTo>
                <a:lnTo>
                  <a:pt x="3368" y="780"/>
                </a:lnTo>
                <a:lnTo>
                  <a:pt x="3371" y="786"/>
                </a:lnTo>
                <a:lnTo>
                  <a:pt x="3371" y="793"/>
                </a:lnTo>
                <a:lnTo>
                  <a:pt x="3366" y="813"/>
                </a:lnTo>
                <a:lnTo>
                  <a:pt x="3359" y="833"/>
                </a:lnTo>
                <a:lnTo>
                  <a:pt x="3348" y="879"/>
                </a:lnTo>
                <a:lnTo>
                  <a:pt x="3340" y="918"/>
                </a:lnTo>
                <a:lnTo>
                  <a:pt x="3339" y="927"/>
                </a:lnTo>
                <a:lnTo>
                  <a:pt x="3339" y="932"/>
                </a:lnTo>
                <a:lnTo>
                  <a:pt x="3340" y="938"/>
                </a:lnTo>
                <a:lnTo>
                  <a:pt x="3340" y="954"/>
                </a:lnTo>
                <a:lnTo>
                  <a:pt x="3342" y="958"/>
                </a:lnTo>
                <a:lnTo>
                  <a:pt x="3342" y="960"/>
                </a:lnTo>
                <a:lnTo>
                  <a:pt x="3344" y="963"/>
                </a:lnTo>
                <a:lnTo>
                  <a:pt x="3346" y="965"/>
                </a:lnTo>
                <a:lnTo>
                  <a:pt x="3348" y="967"/>
                </a:lnTo>
                <a:lnTo>
                  <a:pt x="3333" y="985"/>
                </a:lnTo>
                <a:lnTo>
                  <a:pt x="3331" y="987"/>
                </a:lnTo>
                <a:lnTo>
                  <a:pt x="3328" y="987"/>
                </a:lnTo>
                <a:lnTo>
                  <a:pt x="3322" y="989"/>
                </a:lnTo>
                <a:lnTo>
                  <a:pt x="3318" y="991"/>
                </a:lnTo>
                <a:lnTo>
                  <a:pt x="3317" y="993"/>
                </a:lnTo>
                <a:lnTo>
                  <a:pt x="3311" y="1000"/>
                </a:lnTo>
                <a:lnTo>
                  <a:pt x="3300" y="1016"/>
                </a:lnTo>
                <a:lnTo>
                  <a:pt x="3298" y="1020"/>
                </a:lnTo>
                <a:lnTo>
                  <a:pt x="3297" y="1025"/>
                </a:lnTo>
                <a:lnTo>
                  <a:pt x="3295" y="1029"/>
                </a:lnTo>
                <a:lnTo>
                  <a:pt x="3295" y="1033"/>
                </a:lnTo>
                <a:lnTo>
                  <a:pt x="3291" y="1042"/>
                </a:lnTo>
                <a:lnTo>
                  <a:pt x="3289" y="1049"/>
                </a:lnTo>
                <a:lnTo>
                  <a:pt x="3287" y="1062"/>
                </a:lnTo>
                <a:lnTo>
                  <a:pt x="3287" y="1066"/>
                </a:lnTo>
                <a:lnTo>
                  <a:pt x="3287" y="1075"/>
                </a:lnTo>
                <a:lnTo>
                  <a:pt x="3289" y="1088"/>
                </a:lnTo>
                <a:lnTo>
                  <a:pt x="3289" y="1097"/>
                </a:lnTo>
                <a:lnTo>
                  <a:pt x="3291" y="1102"/>
                </a:lnTo>
                <a:lnTo>
                  <a:pt x="3291" y="1104"/>
                </a:lnTo>
                <a:lnTo>
                  <a:pt x="3293" y="1113"/>
                </a:lnTo>
                <a:lnTo>
                  <a:pt x="3293" y="1122"/>
                </a:lnTo>
                <a:lnTo>
                  <a:pt x="3293" y="1124"/>
                </a:lnTo>
                <a:lnTo>
                  <a:pt x="3293" y="1131"/>
                </a:lnTo>
                <a:lnTo>
                  <a:pt x="3293" y="1135"/>
                </a:lnTo>
                <a:lnTo>
                  <a:pt x="3291" y="1137"/>
                </a:lnTo>
                <a:lnTo>
                  <a:pt x="3284" y="1152"/>
                </a:lnTo>
                <a:lnTo>
                  <a:pt x="3282" y="1155"/>
                </a:lnTo>
                <a:lnTo>
                  <a:pt x="3276" y="1159"/>
                </a:lnTo>
                <a:lnTo>
                  <a:pt x="3273" y="1159"/>
                </a:lnTo>
                <a:lnTo>
                  <a:pt x="3269" y="1161"/>
                </a:lnTo>
                <a:lnTo>
                  <a:pt x="3265" y="1164"/>
                </a:lnTo>
                <a:lnTo>
                  <a:pt x="3264" y="1166"/>
                </a:lnTo>
                <a:lnTo>
                  <a:pt x="3262" y="1168"/>
                </a:lnTo>
                <a:lnTo>
                  <a:pt x="3251" y="1186"/>
                </a:lnTo>
                <a:lnTo>
                  <a:pt x="3249" y="1192"/>
                </a:lnTo>
                <a:lnTo>
                  <a:pt x="3247" y="1201"/>
                </a:lnTo>
                <a:lnTo>
                  <a:pt x="3245" y="1208"/>
                </a:lnTo>
                <a:lnTo>
                  <a:pt x="3240" y="1217"/>
                </a:lnTo>
                <a:lnTo>
                  <a:pt x="3236" y="1214"/>
                </a:lnTo>
                <a:lnTo>
                  <a:pt x="3231" y="1212"/>
                </a:lnTo>
                <a:lnTo>
                  <a:pt x="3229" y="1217"/>
                </a:lnTo>
                <a:lnTo>
                  <a:pt x="3229" y="1221"/>
                </a:lnTo>
                <a:lnTo>
                  <a:pt x="3233" y="1221"/>
                </a:lnTo>
                <a:lnTo>
                  <a:pt x="3236" y="1223"/>
                </a:lnTo>
                <a:lnTo>
                  <a:pt x="3231" y="1236"/>
                </a:lnTo>
                <a:lnTo>
                  <a:pt x="3231" y="1237"/>
                </a:lnTo>
                <a:lnTo>
                  <a:pt x="3225" y="1248"/>
                </a:lnTo>
                <a:lnTo>
                  <a:pt x="3223" y="1250"/>
                </a:lnTo>
                <a:lnTo>
                  <a:pt x="3203" y="1270"/>
                </a:lnTo>
                <a:lnTo>
                  <a:pt x="3201" y="1269"/>
                </a:lnTo>
                <a:lnTo>
                  <a:pt x="3192" y="1270"/>
                </a:lnTo>
                <a:lnTo>
                  <a:pt x="3190" y="1272"/>
                </a:lnTo>
                <a:lnTo>
                  <a:pt x="3185" y="1280"/>
                </a:lnTo>
                <a:lnTo>
                  <a:pt x="3185" y="1283"/>
                </a:lnTo>
                <a:lnTo>
                  <a:pt x="3185" y="1287"/>
                </a:lnTo>
                <a:lnTo>
                  <a:pt x="3183" y="1292"/>
                </a:lnTo>
                <a:lnTo>
                  <a:pt x="3183" y="1294"/>
                </a:lnTo>
                <a:lnTo>
                  <a:pt x="3180" y="1298"/>
                </a:lnTo>
                <a:lnTo>
                  <a:pt x="3178" y="1300"/>
                </a:lnTo>
                <a:lnTo>
                  <a:pt x="3174" y="1305"/>
                </a:lnTo>
                <a:lnTo>
                  <a:pt x="3172" y="1307"/>
                </a:lnTo>
                <a:lnTo>
                  <a:pt x="3170" y="1309"/>
                </a:lnTo>
                <a:lnTo>
                  <a:pt x="3170" y="1311"/>
                </a:lnTo>
                <a:lnTo>
                  <a:pt x="3170" y="1312"/>
                </a:lnTo>
                <a:lnTo>
                  <a:pt x="3170" y="1314"/>
                </a:lnTo>
                <a:lnTo>
                  <a:pt x="3170" y="1320"/>
                </a:lnTo>
                <a:lnTo>
                  <a:pt x="3167" y="1327"/>
                </a:lnTo>
                <a:lnTo>
                  <a:pt x="3165" y="1329"/>
                </a:lnTo>
                <a:lnTo>
                  <a:pt x="3163" y="1342"/>
                </a:lnTo>
                <a:lnTo>
                  <a:pt x="3165" y="1351"/>
                </a:lnTo>
                <a:lnTo>
                  <a:pt x="3170" y="1378"/>
                </a:lnTo>
                <a:lnTo>
                  <a:pt x="3170" y="1380"/>
                </a:lnTo>
                <a:lnTo>
                  <a:pt x="3169" y="1384"/>
                </a:lnTo>
                <a:lnTo>
                  <a:pt x="3167" y="1386"/>
                </a:lnTo>
                <a:lnTo>
                  <a:pt x="3165" y="1386"/>
                </a:lnTo>
                <a:lnTo>
                  <a:pt x="3148" y="1395"/>
                </a:lnTo>
                <a:lnTo>
                  <a:pt x="3145" y="1397"/>
                </a:lnTo>
                <a:lnTo>
                  <a:pt x="3141" y="1397"/>
                </a:lnTo>
                <a:lnTo>
                  <a:pt x="3139" y="1398"/>
                </a:lnTo>
                <a:lnTo>
                  <a:pt x="3134" y="1398"/>
                </a:lnTo>
                <a:lnTo>
                  <a:pt x="3128" y="1400"/>
                </a:lnTo>
                <a:lnTo>
                  <a:pt x="3117" y="1404"/>
                </a:lnTo>
                <a:lnTo>
                  <a:pt x="3116" y="1404"/>
                </a:lnTo>
                <a:lnTo>
                  <a:pt x="3112" y="1406"/>
                </a:lnTo>
                <a:lnTo>
                  <a:pt x="3108" y="1407"/>
                </a:lnTo>
                <a:lnTo>
                  <a:pt x="3103" y="1409"/>
                </a:lnTo>
                <a:lnTo>
                  <a:pt x="3101" y="1411"/>
                </a:lnTo>
                <a:lnTo>
                  <a:pt x="3094" y="1417"/>
                </a:lnTo>
                <a:lnTo>
                  <a:pt x="3075" y="1433"/>
                </a:lnTo>
                <a:lnTo>
                  <a:pt x="3072" y="1437"/>
                </a:lnTo>
                <a:lnTo>
                  <a:pt x="3072" y="1442"/>
                </a:lnTo>
                <a:lnTo>
                  <a:pt x="3072" y="1446"/>
                </a:lnTo>
                <a:lnTo>
                  <a:pt x="3072" y="1450"/>
                </a:lnTo>
                <a:lnTo>
                  <a:pt x="3073" y="1453"/>
                </a:lnTo>
                <a:lnTo>
                  <a:pt x="3072" y="1462"/>
                </a:lnTo>
                <a:lnTo>
                  <a:pt x="3068" y="1471"/>
                </a:lnTo>
                <a:lnTo>
                  <a:pt x="3057" y="1473"/>
                </a:lnTo>
                <a:lnTo>
                  <a:pt x="3030" y="1473"/>
                </a:lnTo>
                <a:lnTo>
                  <a:pt x="3019" y="1473"/>
                </a:lnTo>
                <a:lnTo>
                  <a:pt x="3017" y="1473"/>
                </a:lnTo>
                <a:lnTo>
                  <a:pt x="3011" y="1473"/>
                </a:lnTo>
                <a:lnTo>
                  <a:pt x="3000" y="1473"/>
                </a:lnTo>
                <a:lnTo>
                  <a:pt x="2999" y="1473"/>
                </a:lnTo>
                <a:lnTo>
                  <a:pt x="2984" y="1475"/>
                </a:lnTo>
                <a:lnTo>
                  <a:pt x="2975" y="1473"/>
                </a:lnTo>
                <a:lnTo>
                  <a:pt x="2973" y="1471"/>
                </a:lnTo>
                <a:lnTo>
                  <a:pt x="2962" y="1468"/>
                </a:lnTo>
                <a:lnTo>
                  <a:pt x="2966" y="1462"/>
                </a:lnTo>
                <a:lnTo>
                  <a:pt x="2969" y="1460"/>
                </a:lnTo>
                <a:lnTo>
                  <a:pt x="2973" y="1453"/>
                </a:lnTo>
                <a:lnTo>
                  <a:pt x="2973" y="1451"/>
                </a:lnTo>
                <a:lnTo>
                  <a:pt x="2973" y="1448"/>
                </a:lnTo>
                <a:lnTo>
                  <a:pt x="2967" y="1446"/>
                </a:lnTo>
                <a:lnTo>
                  <a:pt x="2951" y="1453"/>
                </a:lnTo>
                <a:lnTo>
                  <a:pt x="2949" y="1457"/>
                </a:lnTo>
                <a:lnTo>
                  <a:pt x="2949" y="1460"/>
                </a:lnTo>
                <a:lnTo>
                  <a:pt x="2951" y="1462"/>
                </a:lnTo>
                <a:lnTo>
                  <a:pt x="2953" y="1462"/>
                </a:lnTo>
                <a:lnTo>
                  <a:pt x="2960" y="1468"/>
                </a:lnTo>
                <a:lnTo>
                  <a:pt x="2960" y="1473"/>
                </a:lnTo>
                <a:lnTo>
                  <a:pt x="2956" y="1477"/>
                </a:lnTo>
                <a:lnTo>
                  <a:pt x="2953" y="1479"/>
                </a:lnTo>
                <a:lnTo>
                  <a:pt x="2947" y="1481"/>
                </a:lnTo>
                <a:lnTo>
                  <a:pt x="2914" y="1482"/>
                </a:lnTo>
                <a:lnTo>
                  <a:pt x="2902" y="1484"/>
                </a:lnTo>
                <a:lnTo>
                  <a:pt x="2907" y="1482"/>
                </a:lnTo>
                <a:lnTo>
                  <a:pt x="2916" y="1481"/>
                </a:lnTo>
                <a:lnTo>
                  <a:pt x="2902" y="1471"/>
                </a:lnTo>
                <a:lnTo>
                  <a:pt x="2892" y="1470"/>
                </a:lnTo>
                <a:lnTo>
                  <a:pt x="2876" y="1473"/>
                </a:lnTo>
                <a:lnTo>
                  <a:pt x="2872" y="1477"/>
                </a:lnTo>
                <a:lnTo>
                  <a:pt x="2871" y="1479"/>
                </a:lnTo>
                <a:lnTo>
                  <a:pt x="2867" y="1482"/>
                </a:lnTo>
                <a:lnTo>
                  <a:pt x="2861" y="1484"/>
                </a:lnTo>
                <a:lnTo>
                  <a:pt x="2856" y="1482"/>
                </a:lnTo>
                <a:lnTo>
                  <a:pt x="2849" y="1471"/>
                </a:lnTo>
                <a:lnTo>
                  <a:pt x="2845" y="1471"/>
                </a:lnTo>
                <a:lnTo>
                  <a:pt x="2814" y="1484"/>
                </a:lnTo>
                <a:lnTo>
                  <a:pt x="2812" y="1490"/>
                </a:lnTo>
                <a:lnTo>
                  <a:pt x="2810" y="1497"/>
                </a:lnTo>
                <a:lnTo>
                  <a:pt x="2810" y="1501"/>
                </a:lnTo>
                <a:lnTo>
                  <a:pt x="2818" y="1501"/>
                </a:lnTo>
                <a:lnTo>
                  <a:pt x="2825" y="1501"/>
                </a:lnTo>
                <a:lnTo>
                  <a:pt x="2830" y="1506"/>
                </a:lnTo>
                <a:lnTo>
                  <a:pt x="2823" y="1513"/>
                </a:lnTo>
                <a:lnTo>
                  <a:pt x="2821" y="1513"/>
                </a:lnTo>
                <a:lnTo>
                  <a:pt x="2808" y="1513"/>
                </a:lnTo>
                <a:lnTo>
                  <a:pt x="2799" y="1515"/>
                </a:lnTo>
                <a:lnTo>
                  <a:pt x="2781" y="1523"/>
                </a:lnTo>
                <a:lnTo>
                  <a:pt x="2777" y="1526"/>
                </a:lnTo>
                <a:lnTo>
                  <a:pt x="2774" y="1528"/>
                </a:lnTo>
                <a:lnTo>
                  <a:pt x="2757" y="1535"/>
                </a:lnTo>
                <a:lnTo>
                  <a:pt x="2743" y="1539"/>
                </a:lnTo>
                <a:lnTo>
                  <a:pt x="2741" y="1541"/>
                </a:lnTo>
                <a:lnTo>
                  <a:pt x="2743" y="1546"/>
                </a:lnTo>
                <a:lnTo>
                  <a:pt x="2730" y="1556"/>
                </a:lnTo>
                <a:lnTo>
                  <a:pt x="2722" y="1554"/>
                </a:lnTo>
                <a:lnTo>
                  <a:pt x="2719" y="1554"/>
                </a:lnTo>
                <a:lnTo>
                  <a:pt x="2702" y="1552"/>
                </a:lnTo>
                <a:lnTo>
                  <a:pt x="2697" y="1552"/>
                </a:lnTo>
                <a:lnTo>
                  <a:pt x="2690" y="1554"/>
                </a:lnTo>
                <a:lnTo>
                  <a:pt x="2679" y="1559"/>
                </a:lnTo>
                <a:lnTo>
                  <a:pt x="2675" y="1561"/>
                </a:lnTo>
                <a:lnTo>
                  <a:pt x="2657" y="1567"/>
                </a:lnTo>
                <a:lnTo>
                  <a:pt x="2649" y="1563"/>
                </a:lnTo>
                <a:lnTo>
                  <a:pt x="2646" y="1568"/>
                </a:lnTo>
                <a:lnTo>
                  <a:pt x="2629" y="1583"/>
                </a:lnTo>
                <a:lnTo>
                  <a:pt x="2607" y="1596"/>
                </a:lnTo>
                <a:lnTo>
                  <a:pt x="2605" y="1596"/>
                </a:lnTo>
                <a:lnTo>
                  <a:pt x="2600" y="1599"/>
                </a:lnTo>
                <a:lnTo>
                  <a:pt x="2598" y="1601"/>
                </a:lnTo>
                <a:lnTo>
                  <a:pt x="2594" y="1603"/>
                </a:lnTo>
                <a:lnTo>
                  <a:pt x="2593" y="1605"/>
                </a:lnTo>
                <a:lnTo>
                  <a:pt x="2591" y="1612"/>
                </a:lnTo>
                <a:lnTo>
                  <a:pt x="2571" y="1629"/>
                </a:lnTo>
                <a:lnTo>
                  <a:pt x="2560" y="1634"/>
                </a:lnTo>
                <a:lnTo>
                  <a:pt x="2551" y="1640"/>
                </a:lnTo>
                <a:lnTo>
                  <a:pt x="2543" y="1641"/>
                </a:lnTo>
                <a:lnTo>
                  <a:pt x="2538" y="1643"/>
                </a:lnTo>
                <a:lnTo>
                  <a:pt x="2532" y="1645"/>
                </a:lnTo>
                <a:lnTo>
                  <a:pt x="2510" y="1662"/>
                </a:lnTo>
                <a:lnTo>
                  <a:pt x="2496" y="1673"/>
                </a:lnTo>
                <a:lnTo>
                  <a:pt x="2501" y="1678"/>
                </a:lnTo>
                <a:lnTo>
                  <a:pt x="2492" y="1693"/>
                </a:lnTo>
                <a:lnTo>
                  <a:pt x="2487" y="1702"/>
                </a:lnTo>
                <a:lnTo>
                  <a:pt x="2477" y="1707"/>
                </a:lnTo>
                <a:lnTo>
                  <a:pt x="2472" y="1700"/>
                </a:lnTo>
                <a:lnTo>
                  <a:pt x="2459" y="1700"/>
                </a:lnTo>
                <a:lnTo>
                  <a:pt x="2454" y="1711"/>
                </a:lnTo>
                <a:lnTo>
                  <a:pt x="2450" y="1716"/>
                </a:lnTo>
                <a:lnTo>
                  <a:pt x="2448" y="1716"/>
                </a:lnTo>
                <a:lnTo>
                  <a:pt x="2439" y="1716"/>
                </a:lnTo>
                <a:lnTo>
                  <a:pt x="2434" y="1715"/>
                </a:lnTo>
                <a:lnTo>
                  <a:pt x="2428" y="1711"/>
                </a:lnTo>
                <a:lnTo>
                  <a:pt x="2424" y="1711"/>
                </a:lnTo>
                <a:lnTo>
                  <a:pt x="2424" y="1716"/>
                </a:lnTo>
                <a:lnTo>
                  <a:pt x="2426" y="1718"/>
                </a:lnTo>
                <a:lnTo>
                  <a:pt x="2432" y="1722"/>
                </a:lnTo>
                <a:lnTo>
                  <a:pt x="2435" y="1722"/>
                </a:lnTo>
                <a:lnTo>
                  <a:pt x="2441" y="1722"/>
                </a:lnTo>
                <a:lnTo>
                  <a:pt x="2445" y="1720"/>
                </a:lnTo>
                <a:lnTo>
                  <a:pt x="2457" y="1724"/>
                </a:lnTo>
                <a:lnTo>
                  <a:pt x="2459" y="1727"/>
                </a:lnTo>
                <a:lnTo>
                  <a:pt x="2445" y="1746"/>
                </a:lnTo>
                <a:lnTo>
                  <a:pt x="2439" y="1755"/>
                </a:lnTo>
                <a:lnTo>
                  <a:pt x="2437" y="1766"/>
                </a:lnTo>
                <a:lnTo>
                  <a:pt x="2435" y="1771"/>
                </a:lnTo>
                <a:lnTo>
                  <a:pt x="2435" y="1773"/>
                </a:lnTo>
                <a:lnTo>
                  <a:pt x="2437" y="1780"/>
                </a:lnTo>
                <a:lnTo>
                  <a:pt x="2423" y="1784"/>
                </a:lnTo>
                <a:lnTo>
                  <a:pt x="2421" y="1777"/>
                </a:lnTo>
                <a:lnTo>
                  <a:pt x="2419" y="1773"/>
                </a:lnTo>
                <a:lnTo>
                  <a:pt x="2417" y="1780"/>
                </a:lnTo>
                <a:lnTo>
                  <a:pt x="2421" y="1795"/>
                </a:lnTo>
                <a:lnTo>
                  <a:pt x="2432" y="1804"/>
                </a:lnTo>
                <a:lnTo>
                  <a:pt x="2435" y="1810"/>
                </a:lnTo>
                <a:lnTo>
                  <a:pt x="2435" y="1811"/>
                </a:lnTo>
                <a:lnTo>
                  <a:pt x="2434" y="1815"/>
                </a:lnTo>
                <a:lnTo>
                  <a:pt x="2430" y="1822"/>
                </a:lnTo>
                <a:lnTo>
                  <a:pt x="2428" y="1824"/>
                </a:lnTo>
                <a:lnTo>
                  <a:pt x="2428" y="1832"/>
                </a:lnTo>
                <a:lnTo>
                  <a:pt x="2428" y="1835"/>
                </a:lnTo>
                <a:lnTo>
                  <a:pt x="2430" y="1837"/>
                </a:lnTo>
                <a:lnTo>
                  <a:pt x="2434" y="1841"/>
                </a:lnTo>
                <a:lnTo>
                  <a:pt x="2435" y="1874"/>
                </a:lnTo>
                <a:lnTo>
                  <a:pt x="2432" y="1907"/>
                </a:lnTo>
                <a:lnTo>
                  <a:pt x="2432" y="1925"/>
                </a:lnTo>
                <a:lnTo>
                  <a:pt x="2435" y="1936"/>
                </a:lnTo>
                <a:lnTo>
                  <a:pt x="2437" y="1941"/>
                </a:lnTo>
                <a:lnTo>
                  <a:pt x="2439" y="1943"/>
                </a:lnTo>
                <a:lnTo>
                  <a:pt x="2441" y="1947"/>
                </a:lnTo>
                <a:lnTo>
                  <a:pt x="2432" y="1981"/>
                </a:lnTo>
                <a:lnTo>
                  <a:pt x="2421" y="2007"/>
                </a:lnTo>
                <a:lnTo>
                  <a:pt x="2419" y="2005"/>
                </a:lnTo>
                <a:lnTo>
                  <a:pt x="2417" y="2002"/>
                </a:lnTo>
                <a:lnTo>
                  <a:pt x="2417" y="1996"/>
                </a:lnTo>
                <a:lnTo>
                  <a:pt x="2412" y="1991"/>
                </a:lnTo>
                <a:lnTo>
                  <a:pt x="2410" y="1992"/>
                </a:lnTo>
                <a:lnTo>
                  <a:pt x="2412" y="2000"/>
                </a:lnTo>
                <a:lnTo>
                  <a:pt x="2412" y="2005"/>
                </a:lnTo>
                <a:lnTo>
                  <a:pt x="2419" y="2009"/>
                </a:lnTo>
                <a:lnTo>
                  <a:pt x="2413" y="2018"/>
                </a:lnTo>
                <a:lnTo>
                  <a:pt x="2406" y="2022"/>
                </a:lnTo>
                <a:lnTo>
                  <a:pt x="2403" y="2022"/>
                </a:lnTo>
                <a:lnTo>
                  <a:pt x="2381" y="2038"/>
                </a:lnTo>
                <a:lnTo>
                  <a:pt x="2377" y="2038"/>
                </a:lnTo>
                <a:lnTo>
                  <a:pt x="2360" y="2053"/>
                </a:lnTo>
                <a:lnTo>
                  <a:pt x="2355" y="2058"/>
                </a:lnTo>
                <a:lnTo>
                  <a:pt x="2337" y="2077"/>
                </a:lnTo>
                <a:lnTo>
                  <a:pt x="2331" y="2087"/>
                </a:lnTo>
                <a:lnTo>
                  <a:pt x="2326" y="2091"/>
                </a:lnTo>
                <a:lnTo>
                  <a:pt x="2322" y="2097"/>
                </a:lnTo>
                <a:lnTo>
                  <a:pt x="2311" y="2111"/>
                </a:lnTo>
                <a:lnTo>
                  <a:pt x="2307" y="2119"/>
                </a:lnTo>
                <a:lnTo>
                  <a:pt x="2298" y="2133"/>
                </a:lnTo>
                <a:lnTo>
                  <a:pt x="2296" y="2137"/>
                </a:lnTo>
                <a:lnTo>
                  <a:pt x="2295" y="2142"/>
                </a:lnTo>
                <a:lnTo>
                  <a:pt x="2285" y="2164"/>
                </a:lnTo>
                <a:lnTo>
                  <a:pt x="2280" y="2177"/>
                </a:lnTo>
                <a:lnTo>
                  <a:pt x="2280" y="2179"/>
                </a:lnTo>
                <a:lnTo>
                  <a:pt x="2278" y="2181"/>
                </a:lnTo>
                <a:lnTo>
                  <a:pt x="2276" y="2186"/>
                </a:lnTo>
                <a:lnTo>
                  <a:pt x="2276" y="2188"/>
                </a:lnTo>
                <a:lnTo>
                  <a:pt x="2273" y="2195"/>
                </a:lnTo>
                <a:lnTo>
                  <a:pt x="2267" y="2204"/>
                </a:lnTo>
                <a:lnTo>
                  <a:pt x="2236" y="2247"/>
                </a:lnTo>
                <a:lnTo>
                  <a:pt x="2232" y="2252"/>
                </a:lnTo>
                <a:lnTo>
                  <a:pt x="2231" y="2256"/>
                </a:lnTo>
                <a:lnTo>
                  <a:pt x="2220" y="2267"/>
                </a:lnTo>
                <a:lnTo>
                  <a:pt x="2214" y="2272"/>
                </a:lnTo>
                <a:lnTo>
                  <a:pt x="2201" y="2285"/>
                </a:lnTo>
                <a:lnTo>
                  <a:pt x="2200" y="2287"/>
                </a:lnTo>
                <a:lnTo>
                  <a:pt x="2192" y="2292"/>
                </a:lnTo>
                <a:lnTo>
                  <a:pt x="2183" y="2300"/>
                </a:lnTo>
                <a:lnTo>
                  <a:pt x="2159" y="2318"/>
                </a:lnTo>
                <a:lnTo>
                  <a:pt x="2141" y="2329"/>
                </a:lnTo>
                <a:lnTo>
                  <a:pt x="2139" y="2329"/>
                </a:lnTo>
                <a:lnTo>
                  <a:pt x="2125" y="2338"/>
                </a:lnTo>
                <a:lnTo>
                  <a:pt x="2106" y="2351"/>
                </a:lnTo>
                <a:lnTo>
                  <a:pt x="2104" y="2334"/>
                </a:lnTo>
                <a:lnTo>
                  <a:pt x="2115" y="2331"/>
                </a:lnTo>
                <a:lnTo>
                  <a:pt x="2117" y="2332"/>
                </a:lnTo>
                <a:lnTo>
                  <a:pt x="2126" y="2327"/>
                </a:lnTo>
                <a:lnTo>
                  <a:pt x="2128" y="2327"/>
                </a:lnTo>
                <a:lnTo>
                  <a:pt x="2137" y="2323"/>
                </a:lnTo>
                <a:lnTo>
                  <a:pt x="2139" y="2321"/>
                </a:lnTo>
                <a:lnTo>
                  <a:pt x="2141" y="2321"/>
                </a:lnTo>
                <a:lnTo>
                  <a:pt x="2154" y="2309"/>
                </a:lnTo>
                <a:lnTo>
                  <a:pt x="2161" y="2301"/>
                </a:lnTo>
                <a:lnTo>
                  <a:pt x="2167" y="2298"/>
                </a:lnTo>
                <a:lnTo>
                  <a:pt x="2168" y="2298"/>
                </a:lnTo>
                <a:lnTo>
                  <a:pt x="2172" y="2298"/>
                </a:lnTo>
                <a:lnTo>
                  <a:pt x="2176" y="2298"/>
                </a:lnTo>
                <a:lnTo>
                  <a:pt x="2179" y="2294"/>
                </a:lnTo>
                <a:lnTo>
                  <a:pt x="2181" y="2294"/>
                </a:lnTo>
                <a:lnTo>
                  <a:pt x="2183" y="2292"/>
                </a:lnTo>
                <a:lnTo>
                  <a:pt x="2187" y="2287"/>
                </a:lnTo>
                <a:lnTo>
                  <a:pt x="2190" y="2279"/>
                </a:lnTo>
                <a:lnTo>
                  <a:pt x="2190" y="2274"/>
                </a:lnTo>
                <a:lnTo>
                  <a:pt x="2190" y="2267"/>
                </a:lnTo>
                <a:lnTo>
                  <a:pt x="2211" y="2241"/>
                </a:lnTo>
                <a:lnTo>
                  <a:pt x="2212" y="2237"/>
                </a:lnTo>
                <a:lnTo>
                  <a:pt x="2218" y="2236"/>
                </a:lnTo>
                <a:lnTo>
                  <a:pt x="2227" y="2230"/>
                </a:lnTo>
                <a:lnTo>
                  <a:pt x="2231" y="2230"/>
                </a:lnTo>
                <a:lnTo>
                  <a:pt x="2232" y="2228"/>
                </a:lnTo>
                <a:lnTo>
                  <a:pt x="2247" y="2195"/>
                </a:lnTo>
                <a:lnTo>
                  <a:pt x="2249" y="2186"/>
                </a:lnTo>
                <a:lnTo>
                  <a:pt x="2251" y="2181"/>
                </a:lnTo>
                <a:lnTo>
                  <a:pt x="2251" y="2179"/>
                </a:lnTo>
                <a:lnTo>
                  <a:pt x="2249" y="2177"/>
                </a:lnTo>
                <a:lnTo>
                  <a:pt x="2243" y="2170"/>
                </a:lnTo>
                <a:lnTo>
                  <a:pt x="2242" y="2170"/>
                </a:lnTo>
                <a:lnTo>
                  <a:pt x="2240" y="2170"/>
                </a:lnTo>
                <a:lnTo>
                  <a:pt x="2238" y="2173"/>
                </a:lnTo>
                <a:lnTo>
                  <a:pt x="2212" y="2184"/>
                </a:lnTo>
                <a:lnTo>
                  <a:pt x="2203" y="2183"/>
                </a:lnTo>
                <a:lnTo>
                  <a:pt x="2194" y="2177"/>
                </a:lnTo>
                <a:lnTo>
                  <a:pt x="2190" y="2173"/>
                </a:lnTo>
                <a:lnTo>
                  <a:pt x="2185" y="2168"/>
                </a:lnTo>
                <a:lnTo>
                  <a:pt x="2183" y="2159"/>
                </a:lnTo>
                <a:lnTo>
                  <a:pt x="2183" y="2157"/>
                </a:lnTo>
                <a:lnTo>
                  <a:pt x="2179" y="2153"/>
                </a:lnTo>
                <a:lnTo>
                  <a:pt x="2176" y="2168"/>
                </a:lnTo>
                <a:lnTo>
                  <a:pt x="2178" y="2179"/>
                </a:lnTo>
                <a:lnTo>
                  <a:pt x="2183" y="2195"/>
                </a:lnTo>
                <a:lnTo>
                  <a:pt x="2178" y="2208"/>
                </a:lnTo>
                <a:lnTo>
                  <a:pt x="2174" y="2215"/>
                </a:lnTo>
                <a:lnTo>
                  <a:pt x="2161" y="2237"/>
                </a:lnTo>
                <a:lnTo>
                  <a:pt x="2143" y="2268"/>
                </a:lnTo>
                <a:lnTo>
                  <a:pt x="2117" y="2278"/>
                </a:lnTo>
                <a:lnTo>
                  <a:pt x="2114" y="2279"/>
                </a:lnTo>
                <a:lnTo>
                  <a:pt x="2110" y="2287"/>
                </a:lnTo>
                <a:lnTo>
                  <a:pt x="2110" y="2289"/>
                </a:lnTo>
                <a:lnTo>
                  <a:pt x="2110" y="2301"/>
                </a:lnTo>
                <a:lnTo>
                  <a:pt x="2106" y="2309"/>
                </a:lnTo>
                <a:lnTo>
                  <a:pt x="2103" y="2312"/>
                </a:lnTo>
                <a:lnTo>
                  <a:pt x="2101" y="2314"/>
                </a:lnTo>
                <a:lnTo>
                  <a:pt x="2097" y="2316"/>
                </a:lnTo>
                <a:lnTo>
                  <a:pt x="2094" y="2316"/>
                </a:lnTo>
                <a:lnTo>
                  <a:pt x="2090" y="2318"/>
                </a:lnTo>
                <a:lnTo>
                  <a:pt x="2088" y="2320"/>
                </a:lnTo>
                <a:lnTo>
                  <a:pt x="2084" y="2349"/>
                </a:lnTo>
                <a:lnTo>
                  <a:pt x="2088" y="2369"/>
                </a:lnTo>
                <a:lnTo>
                  <a:pt x="2084" y="2371"/>
                </a:lnTo>
                <a:lnTo>
                  <a:pt x="2084" y="2374"/>
                </a:lnTo>
                <a:lnTo>
                  <a:pt x="2073" y="2393"/>
                </a:lnTo>
                <a:lnTo>
                  <a:pt x="2068" y="2407"/>
                </a:lnTo>
                <a:lnTo>
                  <a:pt x="2068" y="2411"/>
                </a:lnTo>
                <a:lnTo>
                  <a:pt x="2066" y="2415"/>
                </a:lnTo>
                <a:lnTo>
                  <a:pt x="2066" y="2417"/>
                </a:lnTo>
                <a:lnTo>
                  <a:pt x="2062" y="2427"/>
                </a:lnTo>
                <a:lnTo>
                  <a:pt x="2061" y="2431"/>
                </a:lnTo>
                <a:lnTo>
                  <a:pt x="2050" y="2451"/>
                </a:lnTo>
                <a:lnTo>
                  <a:pt x="2048" y="2453"/>
                </a:lnTo>
                <a:lnTo>
                  <a:pt x="2039" y="2464"/>
                </a:lnTo>
                <a:lnTo>
                  <a:pt x="2022" y="2479"/>
                </a:lnTo>
                <a:lnTo>
                  <a:pt x="1993" y="2502"/>
                </a:lnTo>
                <a:lnTo>
                  <a:pt x="1991" y="2502"/>
                </a:lnTo>
                <a:lnTo>
                  <a:pt x="1987" y="2506"/>
                </a:lnTo>
                <a:lnTo>
                  <a:pt x="1984" y="2508"/>
                </a:lnTo>
                <a:lnTo>
                  <a:pt x="1978" y="2512"/>
                </a:lnTo>
                <a:lnTo>
                  <a:pt x="1975" y="2512"/>
                </a:lnTo>
                <a:lnTo>
                  <a:pt x="1964" y="2506"/>
                </a:lnTo>
                <a:lnTo>
                  <a:pt x="1962" y="2502"/>
                </a:lnTo>
                <a:lnTo>
                  <a:pt x="1962" y="2499"/>
                </a:lnTo>
                <a:lnTo>
                  <a:pt x="1964" y="2495"/>
                </a:lnTo>
                <a:lnTo>
                  <a:pt x="1964" y="2490"/>
                </a:lnTo>
                <a:lnTo>
                  <a:pt x="1966" y="2486"/>
                </a:lnTo>
                <a:lnTo>
                  <a:pt x="1966" y="2484"/>
                </a:lnTo>
                <a:lnTo>
                  <a:pt x="1966" y="2480"/>
                </a:lnTo>
                <a:lnTo>
                  <a:pt x="1966" y="2479"/>
                </a:lnTo>
                <a:lnTo>
                  <a:pt x="1964" y="2471"/>
                </a:lnTo>
                <a:lnTo>
                  <a:pt x="1964" y="2468"/>
                </a:lnTo>
                <a:lnTo>
                  <a:pt x="1964" y="2466"/>
                </a:lnTo>
                <a:lnTo>
                  <a:pt x="1962" y="2462"/>
                </a:lnTo>
                <a:lnTo>
                  <a:pt x="1962" y="2459"/>
                </a:lnTo>
                <a:lnTo>
                  <a:pt x="1964" y="2455"/>
                </a:lnTo>
                <a:lnTo>
                  <a:pt x="1964" y="2453"/>
                </a:lnTo>
                <a:lnTo>
                  <a:pt x="1966" y="2449"/>
                </a:lnTo>
                <a:lnTo>
                  <a:pt x="1967" y="2448"/>
                </a:lnTo>
                <a:lnTo>
                  <a:pt x="1969" y="2446"/>
                </a:lnTo>
                <a:lnTo>
                  <a:pt x="1971" y="2444"/>
                </a:lnTo>
                <a:lnTo>
                  <a:pt x="1986" y="2435"/>
                </a:lnTo>
                <a:lnTo>
                  <a:pt x="1989" y="2427"/>
                </a:lnTo>
                <a:lnTo>
                  <a:pt x="1997" y="2420"/>
                </a:lnTo>
                <a:lnTo>
                  <a:pt x="2004" y="2413"/>
                </a:lnTo>
                <a:lnTo>
                  <a:pt x="1998" y="2407"/>
                </a:lnTo>
                <a:lnTo>
                  <a:pt x="1995" y="2406"/>
                </a:lnTo>
                <a:lnTo>
                  <a:pt x="1989" y="2402"/>
                </a:lnTo>
                <a:lnTo>
                  <a:pt x="1980" y="2400"/>
                </a:lnTo>
                <a:lnTo>
                  <a:pt x="1977" y="2400"/>
                </a:lnTo>
                <a:lnTo>
                  <a:pt x="1975" y="2398"/>
                </a:lnTo>
                <a:lnTo>
                  <a:pt x="1964" y="2389"/>
                </a:lnTo>
                <a:lnTo>
                  <a:pt x="1962" y="2389"/>
                </a:lnTo>
                <a:lnTo>
                  <a:pt x="1960" y="2387"/>
                </a:lnTo>
                <a:lnTo>
                  <a:pt x="1958" y="2385"/>
                </a:lnTo>
                <a:lnTo>
                  <a:pt x="1953" y="2378"/>
                </a:lnTo>
                <a:lnTo>
                  <a:pt x="1951" y="2373"/>
                </a:lnTo>
                <a:lnTo>
                  <a:pt x="1953" y="2371"/>
                </a:lnTo>
                <a:lnTo>
                  <a:pt x="1949" y="2363"/>
                </a:lnTo>
                <a:lnTo>
                  <a:pt x="1942" y="2353"/>
                </a:lnTo>
                <a:lnTo>
                  <a:pt x="1929" y="2342"/>
                </a:lnTo>
                <a:lnTo>
                  <a:pt x="1925" y="2338"/>
                </a:lnTo>
                <a:lnTo>
                  <a:pt x="1911" y="2332"/>
                </a:lnTo>
                <a:lnTo>
                  <a:pt x="1909" y="2332"/>
                </a:lnTo>
                <a:lnTo>
                  <a:pt x="1902" y="2332"/>
                </a:lnTo>
                <a:lnTo>
                  <a:pt x="1891" y="2325"/>
                </a:lnTo>
                <a:lnTo>
                  <a:pt x="1883" y="2320"/>
                </a:lnTo>
                <a:lnTo>
                  <a:pt x="1880" y="2316"/>
                </a:lnTo>
                <a:lnTo>
                  <a:pt x="1878" y="2314"/>
                </a:lnTo>
                <a:lnTo>
                  <a:pt x="1874" y="2314"/>
                </a:lnTo>
                <a:lnTo>
                  <a:pt x="1872" y="2312"/>
                </a:lnTo>
                <a:lnTo>
                  <a:pt x="1872" y="2303"/>
                </a:lnTo>
                <a:lnTo>
                  <a:pt x="1860" y="2292"/>
                </a:lnTo>
                <a:lnTo>
                  <a:pt x="1850" y="2290"/>
                </a:lnTo>
                <a:lnTo>
                  <a:pt x="1847" y="2290"/>
                </a:lnTo>
                <a:lnTo>
                  <a:pt x="1845" y="2290"/>
                </a:lnTo>
                <a:lnTo>
                  <a:pt x="1839" y="2290"/>
                </a:lnTo>
                <a:lnTo>
                  <a:pt x="1838" y="2289"/>
                </a:lnTo>
                <a:lnTo>
                  <a:pt x="1812" y="2279"/>
                </a:lnTo>
                <a:lnTo>
                  <a:pt x="1799" y="2272"/>
                </a:lnTo>
                <a:lnTo>
                  <a:pt x="1797" y="2270"/>
                </a:lnTo>
                <a:lnTo>
                  <a:pt x="1790" y="2256"/>
                </a:lnTo>
                <a:lnTo>
                  <a:pt x="1788" y="2252"/>
                </a:lnTo>
                <a:lnTo>
                  <a:pt x="1781" y="2245"/>
                </a:lnTo>
                <a:lnTo>
                  <a:pt x="1772" y="2237"/>
                </a:lnTo>
                <a:lnTo>
                  <a:pt x="1764" y="2234"/>
                </a:lnTo>
                <a:lnTo>
                  <a:pt x="1761" y="2234"/>
                </a:lnTo>
                <a:lnTo>
                  <a:pt x="1759" y="2236"/>
                </a:lnTo>
                <a:lnTo>
                  <a:pt x="1757" y="2243"/>
                </a:lnTo>
                <a:lnTo>
                  <a:pt x="1748" y="2250"/>
                </a:lnTo>
                <a:lnTo>
                  <a:pt x="1741" y="2256"/>
                </a:lnTo>
                <a:lnTo>
                  <a:pt x="1735" y="2256"/>
                </a:lnTo>
                <a:lnTo>
                  <a:pt x="1733" y="2256"/>
                </a:lnTo>
                <a:lnTo>
                  <a:pt x="1726" y="2256"/>
                </a:lnTo>
                <a:lnTo>
                  <a:pt x="1724" y="2256"/>
                </a:lnTo>
                <a:lnTo>
                  <a:pt x="1724" y="2254"/>
                </a:lnTo>
                <a:lnTo>
                  <a:pt x="1724" y="2245"/>
                </a:lnTo>
                <a:lnTo>
                  <a:pt x="1724" y="2241"/>
                </a:lnTo>
                <a:lnTo>
                  <a:pt x="1726" y="2237"/>
                </a:lnTo>
                <a:lnTo>
                  <a:pt x="1728" y="2234"/>
                </a:lnTo>
                <a:lnTo>
                  <a:pt x="1726" y="2230"/>
                </a:lnTo>
                <a:lnTo>
                  <a:pt x="1724" y="2228"/>
                </a:lnTo>
                <a:lnTo>
                  <a:pt x="1713" y="2217"/>
                </a:lnTo>
                <a:lnTo>
                  <a:pt x="1702" y="2204"/>
                </a:lnTo>
                <a:lnTo>
                  <a:pt x="1699" y="2203"/>
                </a:lnTo>
                <a:lnTo>
                  <a:pt x="1695" y="2201"/>
                </a:lnTo>
                <a:lnTo>
                  <a:pt x="1688" y="2195"/>
                </a:lnTo>
                <a:lnTo>
                  <a:pt x="1677" y="2186"/>
                </a:lnTo>
                <a:lnTo>
                  <a:pt x="1675" y="2184"/>
                </a:lnTo>
                <a:lnTo>
                  <a:pt x="1673" y="2183"/>
                </a:lnTo>
                <a:lnTo>
                  <a:pt x="1671" y="2181"/>
                </a:lnTo>
                <a:lnTo>
                  <a:pt x="1664" y="2173"/>
                </a:lnTo>
                <a:lnTo>
                  <a:pt x="1649" y="2162"/>
                </a:lnTo>
                <a:lnTo>
                  <a:pt x="1647" y="2162"/>
                </a:lnTo>
                <a:lnTo>
                  <a:pt x="1642" y="2161"/>
                </a:lnTo>
                <a:lnTo>
                  <a:pt x="1635" y="2161"/>
                </a:lnTo>
                <a:lnTo>
                  <a:pt x="1622" y="2162"/>
                </a:lnTo>
                <a:lnTo>
                  <a:pt x="1618" y="2164"/>
                </a:lnTo>
                <a:lnTo>
                  <a:pt x="1615" y="2170"/>
                </a:lnTo>
                <a:lnTo>
                  <a:pt x="1615" y="2172"/>
                </a:lnTo>
                <a:lnTo>
                  <a:pt x="1615" y="2175"/>
                </a:lnTo>
                <a:lnTo>
                  <a:pt x="1611" y="2179"/>
                </a:lnTo>
                <a:lnTo>
                  <a:pt x="1609" y="2179"/>
                </a:lnTo>
                <a:lnTo>
                  <a:pt x="1607" y="2181"/>
                </a:lnTo>
                <a:lnTo>
                  <a:pt x="1602" y="2181"/>
                </a:lnTo>
                <a:lnTo>
                  <a:pt x="1582" y="2179"/>
                </a:lnTo>
                <a:lnTo>
                  <a:pt x="1578" y="2179"/>
                </a:lnTo>
                <a:lnTo>
                  <a:pt x="1576" y="2177"/>
                </a:lnTo>
                <a:lnTo>
                  <a:pt x="1574" y="2175"/>
                </a:lnTo>
                <a:lnTo>
                  <a:pt x="1574" y="2172"/>
                </a:lnTo>
                <a:lnTo>
                  <a:pt x="1574" y="2170"/>
                </a:lnTo>
                <a:lnTo>
                  <a:pt x="1571" y="2170"/>
                </a:lnTo>
                <a:lnTo>
                  <a:pt x="1572" y="2170"/>
                </a:lnTo>
                <a:lnTo>
                  <a:pt x="1576" y="2168"/>
                </a:lnTo>
                <a:lnTo>
                  <a:pt x="1578" y="2168"/>
                </a:lnTo>
                <a:lnTo>
                  <a:pt x="1582" y="2164"/>
                </a:lnTo>
                <a:lnTo>
                  <a:pt x="1596" y="2151"/>
                </a:lnTo>
                <a:lnTo>
                  <a:pt x="1598" y="2150"/>
                </a:lnTo>
                <a:lnTo>
                  <a:pt x="1598" y="2142"/>
                </a:lnTo>
                <a:lnTo>
                  <a:pt x="1598" y="2140"/>
                </a:lnTo>
                <a:lnTo>
                  <a:pt x="1600" y="2135"/>
                </a:lnTo>
                <a:lnTo>
                  <a:pt x="1602" y="2133"/>
                </a:lnTo>
                <a:lnTo>
                  <a:pt x="1604" y="2131"/>
                </a:lnTo>
                <a:lnTo>
                  <a:pt x="1607" y="2131"/>
                </a:lnTo>
                <a:lnTo>
                  <a:pt x="1611" y="2130"/>
                </a:lnTo>
                <a:lnTo>
                  <a:pt x="1615" y="2130"/>
                </a:lnTo>
                <a:lnTo>
                  <a:pt x="1618" y="2130"/>
                </a:lnTo>
                <a:lnTo>
                  <a:pt x="1622" y="2126"/>
                </a:lnTo>
                <a:lnTo>
                  <a:pt x="1624" y="2124"/>
                </a:lnTo>
                <a:lnTo>
                  <a:pt x="1647" y="2100"/>
                </a:lnTo>
                <a:lnTo>
                  <a:pt x="1658" y="2089"/>
                </a:lnTo>
                <a:lnTo>
                  <a:pt x="1662" y="2080"/>
                </a:lnTo>
                <a:lnTo>
                  <a:pt x="1662" y="2078"/>
                </a:lnTo>
                <a:lnTo>
                  <a:pt x="1664" y="2075"/>
                </a:lnTo>
                <a:lnTo>
                  <a:pt x="1666" y="2073"/>
                </a:lnTo>
                <a:lnTo>
                  <a:pt x="1668" y="2069"/>
                </a:lnTo>
                <a:lnTo>
                  <a:pt x="1669" y="2067"/>
                </a:lnTo>
                <a:lnTo>
                  <a:pt x="1673" y="2066"/>
                </a:lnTo>
                <a:lnTo>
                  <a:pt x="1675" y="2064"/>
                </a:lnTo>
                <a:lnTo>
                  <a:pt x="1684" y="2062"/>
                </a:lnTo>
                <a:lnTo>
                  <a:pt x="1686" y="2060"/>
                </a:lnTo>
                <a:lnTo>
                  <a:pt x="1697" y="2040"/>
                </a:lnTo>
                <a:lnTo>
                  <a:pt x="1710" y="2029"/>
                </a:lnTo>
                <a:lnTo>
                  <a:pt x="1719" y="2020"/>
                </a:lnTo>
                <a:lnTo>
                  <a:pt x="1724" y="2013"/>
                </a:lnTo>
                <a:lnTo>
                  <a:pt x="1728" y="2007"/>
                </a:lnTo>
                <a:lnTo>
                  <a:pt x="1735" y="1994"/>
                </a:lnTo>
                <a:lnTo>
                  <a:pt x="1737" y="1994"/>
                </a:lnTo>
                <a:lnTo>
                  <a:pt x="1741" y="1992"/>
                </a:lnTo>
                <a:lnTo>
                  <a:pt x="1752" y="1994"/>
                </a:lnTo>
                <a:lnTo>
                  <a:pt x="1755" y="1989"/>
                </a:lnTo>
                <a:lnTo>
                  <a:pt x="1755" y="1978"/>
                </a:lnTo>
                <a:lnTo>
                  <a:pt x="1761" y="1972"/>
                </a:lnTo>
                <a:lnTo>
                  <a:pt x="1764" y="1972"/>
                </a:lnTo>
                <a:lnTo>
                  <a:pt x="1777" y="1967"/>
                </a:lnTo>
                <a:lnTo>
                  <a:pt x="1785" y="1961"/>
                </a:lnTo>
                <a:lnTo>
                  <a:pt x="1785" y="1960"/>
                </a:lnTo>
                <a:lnTo>
                  <a:pt x="1785" y="1958"/>
                </a:lnTo>
                <a:lnTo>
                  <a:pt x="1790" y="1952"/>
                </a:lnTo>
                <a:lnTo>
                  <a:pt x="1805" y="1945"/>
                </a:lnTo>
                <a:lnTo>
                  <a:pt x="1816" y="1945"/>
                </a:lnTo>
                <a:lnTo>
                  <a:pt x="1819" y="1943"/>
                </a:lnTo>
                <a:lnTo>
                  <a:pt x="1830" y="1934"/>
                </a:lnTo>
                <a:lnTo>
                  <a:pt x="1830" y="1932"/>
                </a:lnTo>
                <a:lnTo>
                  <a:pt x="1830" y="1928"/>
                </a:lnTo>
                <a:lnTo>
                  <a:pt x="1839" y="1914"/>
                </a:lnTo>
                <a:lnTo>
                  <a:pt x="1841" y="1914"/>
                </a:lnTo>
                <a:lnTo>
                  <a:pt x="1841" y="1916"/>
                </a:lnTo>
                <a:lnTo>
                  <a:pt x="1843" y="1917"/>
                </a:lnTo>
                <a:lnTo>
                  <a:pt x="1852" y="1917"/>
                </a:lnTo>
                <a:lnTo>
                  <a:pt x="1858" y="1914"/>
                </a:lnTo>
                <a:lnTo>
                  <a:pt x="1867" y="1910"/>
                </a:lnTo>
                <a:lnTo>
                  <a:pt x="1874" y="1908"/>
                </a:lnTo>
                <a:lnTo>
                  <a:pt x="1883" y="1907"/>
                </a:lnTo>
                <a:lnTo>
                  <a:pt x="1891" y="1905"/>
                </a:lnTo>
                <a:lnTo>
                  <a:pt x="1894" y="1899"/>
                </a:lnTo>
                <a:lnTo>
                  <a:pt x="1903" y="1892"/>
                </a:lnTo>
                <a:lnTo>
                  <a:pt x="1916" y="1881"/>
                </a:lnTo>
                <a:lnTo>
                  <a:pt x="1927" y="1877"/>
                </a:lnTo>
                <a:lnTo>
                  <a:pt x="1931" y="1877"/>
                </a:lnTo>
                <a:lnTo>
                  <a:pt x="1933" y="1879"/>
                </a:lnTo>
                <a:lnTo>
                  <a:pt x="1936" y="1875"/>
                </a:lnTo>
                <a:lnTo>
                  <a:pt x="1942" y="1863"/>
                </a:lnTo>
                <a:lnTo>
                  <a:pt x="1944" y="1861"/>
                </a:lnTo>
                <a:lnTo>
                  <a:pt x="1945" y="1855"/>
                </a:lnTo>
                <a:lnTo>
                  <a:pt x="1945" y="1852"/>
                </a:lnTo>
                <a:lnTo>
                  <a:pt x="1945" y="1843"/>
                </a:lnTo>
                <a:lnTo>
                  <a:pt x="1944" y="1830"/>
                </a:lnTo>
                <a:lnTo>
                  <a:pt x="1945" y="1802"/>
                </a:lnTo>
                <a:lnTo>
                  <a:pt x="1951" y="1793"/>
                </a:lnTo>
                <a:lnTo>
                  <a:pt x="1951" y="1791"/>
                </a:lnTo>
                <a:lnTo>
                  <a:pt x="1951" y="1788"/>
                </a:lnTo>
                <a:lnTo>
                  <a:pt x="1949" y="1786"/>
                </a:lnTo>
                <a:lnTo>
                  <a:pt x="1942" y="1775"/>
                </a:lnTo>
                <a:lnTo>
                  <a:pt x="1934" y="1762"/>
                </a:lnTo>
                <a:lnTo>
                  <a:pt x="1933" y="1755"/>
                </a:lnTo>
                <a:lnTo>
                  <a:pt x="1934" y="1749"/>
                </a:lnTo>
                <a:lnTo>
                  <a:pt x="1934" y="1747"/>
                </a:lnTo>
                <a:lnTo>
                  <a:pt x="1931" y="1737"/>
                </a:lnTo>
                <a:lnTo>
                  <a:pt x="1929" y="1731"/>
                </a:lnTo>
                <a:lnTo>
                  <a:pt x="1907" y="1718"/>
                </a:lnTo>
                <a:lnTo>
                  <a:pt x="1902" y="1722"/>
                </a:lnTo>
                <a:lnTo>
                  <a:pt x="1900" y="1726"/>
                </a:lnTo>
                <a:lnTo>
                  <a:pt x="1891" y="1724"/>
                </a:lnTo>
                <a:lnTo>
                  <a:pt x="1887" y="1724"/>
                </a:lnTo>
                <a:lnTo>
                  <a:pt x="1880" y="1727"/>
                </a:lnTo>
                <a:lnTo>
                  <a:pt x="1874" y="1731"/>
                </a:lnTo>
                <a:lnTo>
                  <a:pt x="1872" y="1731"/>
                </a:lnTo>
                <a:lnTo>
                  <a:pt x="1865" y="1726"/>
                </a:lnTo>
                <a:lnTo>
                  <a:pt x="1860" y="1726"/>
                </a:lnTo>
                <a:lnTo>
                  <a:pt x="1860" y="1720"/>
                </a:lnTo>
                <a:lnTo>
                  <a:pt x="1858" y="1715"/>
                </a:lnTo>
                <a:lnTo>
                  <a:pt x="1861" y="1705"/>
                </a:lnTo>
                <a:lnTo>
                  <a:pt x="1865" y="1704"/>
                </a:lnTo>
                <a:lnTo>
                  <a:pt x="1867" y="1700"/>
                </a:lnTo>
                <a:lnTo>
                  <a:pt x="1869" y="1698"/>
                </a:lnTo>
                <a:lnTo>
                  <a:pt x="1876" y="1685"/>
                </a:lnTo>
                <a:lnTo>
                  <a:pt x="1876" y="1683"/>
                </a:lnTo>
                <a:lnTo>
                  <a:pt x="1874" y="1680"/>
                </a:lnTo>
                <a:lnTo>
                  <a:pt x="1874" y="1678"/>
                </a:lnTo>
                <a:lnTo>
                  <a:pt x="1874" y="1673"/>
                </a:lnTo>
                <a:lnTo>
                  <a:pt x="1878" y="1656"/>
                </a:lnTo>
                <a:lnTo>
                  <a:pt x="1880" y="1652"/>
                </a:lnTo>
                <a:lnTo>
                  <a:pt x="1885" y="1640"/>
                </a:lnTo>
                <a:lnTo>
                  <a:pt x="1887" y="1638"/>
                </a:lnTo>
                <a:lnTo>
                  <a:pt x="1887" y="1636"/>
                </a:lnTo>
                <a:lnTo>
                  <a:pt x="1887" y="1632"/>
                </a:lnTo>
                <a:lnTo>
                  <a:pt x="1887" y="1629"/>
                </a:lnTo>
                <a:lnTo>
                  <a:pt x="1885" y="1625"/>
                </a:lnTo>
                <a:lnTo>
                  <a:pt x="1885" y="1621"/>
                </a:lnTo>
                <a:lnTo>
                  <a:pt x="1887" y="1620"/>
                </a:lnTo>
                <a:lnTo>
                  <a:pt x="1887" y="1618"/>
                </a:lnTo>
                <a:lnTo>
                  <a:pt x="1889" y="1616"/>
                </a:lnTo>
                <a:lnTo>
                  <a:pt x="1891" y="1614"/>
                </a:lnTo>
                <a:lnTo>
                  <a:pt x="1894" y="1609"/>
                </a:lnTo>
                <a:lnTo>
                  <a:pt x="1892" y="1603"/>
                </a:lnTo>
                <a:lnTo>
                  <a:pt x="1891" y="1601"/>
                </a:lnTo>
                <a:lnTo>
                  <a:pt x="1889" y="1599"/>
                </a:lnTo>
                <a:lnTo>
                  <a:pt x="1887" y="1598"/>
                </a:lnTo>
                <a:lnTo>
                  <a:pt x="1885" y="1588"/>
                </a:lnTo>
                <a:lnTo>
                  <a:pt x="1887" y="1587"/>
                </a:lnTo>
                <a:lnTo>
                  <a:pt x="1889" y="1583"/>
                </a:lnTo>
                <a:lnTo>
                  <a:pt x="1891" y="1581"/>
                </a:lnTo>
                <a:lnTo>
                  <a:pt x="1894" y="1579"/>
                </a:lnTo>
                <a:lnTo>
                  <a:pt x="1889" y="1577"/>
                </a:lnTo>
                <a:lnTo>
                  <a:pt x="1878" y="1567"/>
                </a:lnTo>
                <a:lnTo>
                  <a:pt x="1865" y="1561"/>
                </a:lnTo>
                <a:lnTo>
                  <a:pt x="1858" y="1556"/>
                </a:lnTo>
                <a:lnTo>
                  <a:pt x="1832" y="1567"/>
                </a:lnTo>
                <a:lnTo>
                  <a:pt x="1830" y="1570"/>
                </a:lnTo>
                <a:lnTo>
                  <a:pt x="1828" y="1572"/>
                </a:lnTo>
                <a:lnTo>
                  <a:pt x="1817" y="1574"/>
                </a:lnTo>
                <a:lnTo>
                  <a:pt x="1806" y="1576"/>
                </a:lnTo>
                <a:lnTo>
                  <a:pt x="1805" y="1577"/>
                </a:lnTo>
                <a:lnTo>
                  <a:pt x="1803" y="1577"/>
                </a:lnTo>
                <a:lnTo>
                  <a:pt x="1788" y="1574"/>
                </a:lnTo>
                <a:lnTo>
                  <a:pt x="1786" y="1574"/>
                </a:lnTo>
                <a:lnTo>
                  <a:pt x="1783" y="1572"/>
                </a:lnTo>
                <a:lnTo>
                  <a:pt x="1781" y="1570"/>
                </a:lnTo>
                <a:lnTo>
                  <a:pt x="1781" y="1568"/>
                </a:lnTo>
                <a:lnTo>
                  <a:pt x="1781" y="1563"/>
                </a:lnTo>
                <a:lnTo>
                  <a:pt x="1781" y="1556"/>
                </a:lnTo>
                <a:lnTo>
                  <a:pt x="1779" y="1550"/>
                </a:lnTo>
                <a:lnTo>
                  <a:pt x="1779" y="1546"/>
                </a:lnTo>
                <a:lnTo>
                  <a:pt x="1777" y="1543"/>
                </a:lnTo>
                <a:lnTo>
                  <a:pt x="1775" y="1539"/>
                </a:lnTo>
                <a:lnTo>
                  <a:pt x="1772" y="1539"/>
                </a:lnTo>
                <a:lnTo>
                  <a:pt x="1772" y="1537"/>
                </a:lnTo>
                <a:lnTo>
                  <a:pt x="1770" y="1523"/>
                </a:lnTo>
                <a:lnTo>
                  <a:pt x="1774" y="1515"/>
                </a:lnTo>
                <a:lnTo>
                  <a:pt x="1768" y="1510"/>
                </a:lnTo>
                <a:lnTo>
                  <a:pt x="1768" y="1508"/>
                </a:lnTo>
                <a:lnTo>
                  <a:pt x="1768" y="1492"/>
                </a:lnTo>
                <a:lnTo>
                  <a:pt x="1764" y="1486"/>
                </a:lnTo>
                <a:lnTo>
                  <a:pt x="1763" y="1481"/>
                </a:lnTo>
                <a:lnTo>
                  <a:pt x="1759" y="1464"/>
                </a:lnTo>
                <a:lnTo>
                  <a:pt x="1759" y="1460"/>
                </a:lnTo>
                <a:lnTo>
                  <a:pt x="1761" y="1457"/>
                </a:lnTo>
                <a:lnTo>
                  <a:pt x="1763" y="1453"/>
                </a:lnTo>
                <a:lnTo>
                  <a:pt x="1763" y="1444"/>
                </a:lnTo>
                <a:lnTo>
                  <a:pt x="1761" y="1442"/>
                </a:lnTo>
                <a:lnTo>
                  <a:pt x="1757" y="1440"/>
                </a:lnTo>
                <a:lnTo>
                  <a:pt x="1755" y="1439"/>
                </a:lnTo>
                <a:lnTo>
                  <a:pt x="1753" y="1439"/>
                </a:lnTo>
                <a:lnTo>
                  <a:pt x="1752" y="1435"/>
                </a:lnTo>
                <a:lnTo>
                  <a:pt x="1750" y="1433"/>
                </a:lnTo>
                <a:lnTo>
                  <a:pt x="1750" y="1428"/>
                </a:lnTo>
                <a:lnTo>
                  <a:pt x="1750" y="1426"/>
                </a:lnTo>
                <a:lnTo>
                  <a:pt x="1750" y="1422"/>
                </a:lnTo>
                <a:lnTo>
                  <a:pt x="1750" y="1420"/>
                </a:lnTo>
                <a:lnTo>
                  <a:pt x="1739" y="1411"/>
                </a:lnTo>
                <a:lnTo>
                  <a:pt x="1726" y="1409"/>
                </a:lnTo>
                <a:lnTo>
                  <a:pt x="1721" y="1409"/>
                </a:lnTo>
                <a:lnTo>
                  <a:pt x="1717" y="1411"/>
                </a:lnTo>
                <a:lnTo>
                  <a:pt x="1710" y="1409"/>
                </a:lnTo>
                <a:lnTo>
                  <a:pt x="1706" y="1409"/>
                </a:lnTo>
                <a:lnTo>
                  <a:pt x="1695" y="1402"/>
                </a:lnTo>
                <a:lnTo>
                  <a:pt x="1693" y="1400"/>
                </a:lnTo>
                <a:lnTo>
                  <a:pt x="1689" y="1398"/>
                </a:lnTo>
                <a:lnTo>
                  <a:pt x="1689" y="1395"/>
                </a:lnTo>
                <a:lnTo>
                  <a:pt x="1688" y="1389"/>
                </a:lnTo>
                <a:lnTo>
                  <a:pt x="1680" y="1389"/>
                </a:lnTo>
                <a:lnTo>
                  <a:pt x="1677" y="1391"/>
                </a:lnTo>
                <a:lnTo>
                  <a:pt x="1675" y="1393"/>
                </a:lnTo>
                <a:lnTo>
                  <a:pt x="1673" y="1397"/>
                </a:lnTo>
                <a:lnTo>
                  <a:pt x="1671" y="1398"/>
                </a:lnTo>
                <a:lnTo>
                  <a:pt x="1669" y="1400"/>
                </a:lnTo>
                <a:lnTo>
                  <a:pt x="1664" y="1407"/>
                </a:lnTo>
                <a:lnTo>
                  <a:pt x="1660" y="1406"/>
                </a:lnTo>
                <a:lnTo>
                  <a:pt x="1658" y="1404"/>
                </a:lnTo>
                <a:lnTo>
                  <a:pt x="1653" y="1406"/>
                </a:lnTo>
                <a:lnTo>
                  <a:pt x="1651" y="1406"/>
                </a:lnTo>
                <a:lnTo>
                  <a:pt x="1647" y="1407"/>
                </a:lnTo>
                <a:lnTo>
                  <a:pt x="1640" y="1409"/>
                </a:lnTo>
                <a:lnTo>
                  <a:pt x="1629" y="1406"/>
                </a:lnTo>
                <a:lnTo>
                  <a:pt x="1615" y="1402"/>
                </a:lnTo>
                <a:lnTo>
                  <a:pt x="1609" y="1402"/>
                </a:lnTo>
                <a:lnTo>
                  <a:pt x="1605" y="1404"/>
                </a:lnTo>
                <a:lnTo>
                  <a:pt x="1596" y="1404"/>
                </a:lnTo>
                <a:lnTo>
                  <a:pt x="1593" y="1404"/>
                </a:lnTo>
                <a:lnTo>
                  <a:pt x="1571" y="1400"/>
                </a:lnTo>
                <a:lnTo>
                  <a:pt x="1567" y="1395"/>
                </a:lnTo>
                <a:lnTo>
                  <a:pt x="1554" y="1393"/>
                </a:lnTo>
                <a:lnTo>
                  <a:pt x="1552" y="1395"/>
                </a:lnTo>
                <a:lnTo>
                  <a:pt x="1549" y="1397"/>
                </a:lnTo>
                <a:lnTo>
                  <a:pt x="1543" y="1395"/>
                </a:lnTo>
                <a:lnTo>
                  <a:pt x="1540" y="1395"/>
                </a:lnTo>
                <a:lnTo>
                  <a:pt x="1534" y="1391"/>
                </a:lnTo>
                <a:lnTo>
                  <a:pt x="1534" y="1389"/>
                </a:lnTo>
                <a:lnTo>
                  <a:pt x="1534" y="1386"/>
                </a:lnTo>
                <a:lnTo>
                  <a:pt x="1536" y="1380"/>
                </a:lnTo>
                <a:lnTo>
                  <a:pt x="1540" y="1360"/>
                </a:lnTo>
                <a:lnTo>
                  <a:pt x="1540" y="1349"/>
                </a:lnTo>
                <a:lnTo>
                  <a:pt x="1540" y="1347"/>
                </a:lnTo>
                <a:lnTo>
                  <a:pt x="1538" y="1336"/>
                </a:lnTo>
                <a:lnTo>
                  <a:pt x="1540" y="1331"/>
                </a:lnTo>
                <a:lnTo>
                  <a:pt x="1541" y="1327"/>
                </a:lnTo>
                <a:lnTo>
                  <a:pt x="1545" y="1323"/>
                </a:lnTo>
                <a:lnTo>
                  <a:pt x="1547" y="1320"/>
                </a:lnTo>
                <a:lnTo>
                  <a:pt x="1551" y="1285"/>
                </a:lnTo>
                <a:lnTo>
                  <a:pt x="1547" y="1261"/>
                </a:lnTo>
                <a:lnTo>
                  <a:pt x="1541" y="1256"/>
                </a:lnTo>
                <a:lnTo>
                  <a:pt x="1540" y="1254"/>
                </a:lnTo>
                <a:lnTo>
                  <a:pt x="1536" y="1259"/>
                </a:lnTo>
                <a:lnTo>
                  <a:pt x="1532" y="1250"/>
                </a:lnTo>
                <a:lnTo>
                  <a:pt x="1532" y="1239"/>
                </a:lnTo>
                <a:lnTo>
                  <a:pt x="1527" y="1228"/>
                </a:lnTo>
                <a:lnTo>
                  <a:pt x="1523" y="1223"/>
                </a:lnTo>
                <a:lnTo>
                  <a:pt x="1519" y="1217"/>
                </a:lnTo>
                <a:lnTo>
                  <a:pt x="1518" y="1212"/>
                </a:lnTo>
                <a:lnTo>
                  <a:pt x="1518" y="1206"/>
                </a:lnTo>
                <a:lnTo>
                  <a:pt x="1521" y="1205"/>
                </a:lnTo>
                <a:lnTo>
                  <a:pt x="1541" y="1194"/>
                </a:lnTo>
                <a:lnTo>
                  <a:pt x="1547" y="1188"/>
                </a:lnTo>
                <a:lnTo>
                  <a:pt x="1523" y="1168"/>
                </a:lnTo>
                <a:lnTo>
                  <a:pt x="1521" y="1166"/>
                </a:lnTo>
                <a:lnTo>
                  <a:pt x="1525" y="1159"/>
                </a:lnTo>
                <a:lnTo>
                  <a:pt x="1536" y="1135"/>
                </a:lnTo>
                <a:lnTo>
                  <a:pt x="1547" y="1113"/>
                </a:lnTo>
                <a:lnTo>
                  <a:pt x="1551" y="1108"/>
                </a:lnTo>
                <a:lnTo>
                  <a:pt x="1552" y="1100"/>
                </a:lnTo>
                <a:lnTo>
                  <a:pt x="1554" y="1099"/>
                </a:lnTo>
                <a:lnTo>
                  <a:pt x="1561" y="1099"/>
                </a:lnTo>
                <a:lnTo>
                  <a:pt x="1560" y="1088"/>
                </a:lnTo>
                <a:lnTo>
                  <a:pt x="1560" y="1086"/>
                </a:lnTo>
                <a:lnTo>
                  <a:pt x="1554" y="1086"/>
                </a:lnTo>
                <a:lnTo>
                  <a:pt x="1569" y="1044"/>
                </a:lnTo>
                <a:lnTo>
                  <a:pt x="1574" y="1024"/>
                </a:lnTo>
                <a:lnTo>
                  <a:pt x="1576" y="1022"/>
                </a:lnTo>
                <a:lnTo>
                  <a:pt x="1578" y="1018"/>
                </a:lnTo>
                <a:lnTo>
                  <a:pt x="1572" y="1007"/>
                </a:lnTo>
                <a:lnTo>
                  <a:pt x="1560" y="983"/>
                </a:lnTo>
                <a:lnTo>
                  <a:pt x="1560" y="976"/>
                </a:lnTo>
                <a:lnTo>
                  <a:pt x="1560" y="972"/>
                </a:lnTo>
                <a:lnTo>
                  <a:pt x="1558" y="971"/>
                </a:lnTo>
                <a:lnTo>
                  <a:pt x="1556" y="967"/>
                </a:lnTo>
                <a:lnTo>
                  <a:pt x="1554" y="963"/>
                </a:lnTo>
                <a:lnTo>
                  <a:pt x="1556" y="961"/>
                </a:lnTo>
                <a:lnTo>
                  <a:pt x="1558" y="960"/>
                </a:lnTo>
                <a:lnTo>
                  <a:pt x="1552" y="954"/>
                </a:lnTo>
                <a:lnTo>
                  <a:pt x="1545" y="947"/>
                </a:lnTo>
                <a:lnTo>
                  <a:pt x="1541" y="947"/>
                </a:lnTo>
                <a:lnTo>
                  <a:pt x="1534" y="950"/>
                </a:lnTo>
                <a:lnTo>
                  <a:pt x="1530" y="950"/>
                </a:lnTo>
                <a:lnTo>
                  <a:pt x="1523" y="945"/>
                </a:lnTo>
                <a:lnTo>
                  <a:pt x="1523" y="943"/>
                </a:lnTo>
                <a:lnTo>
                  <a:pt x="1521" y="941"/>
                </a:lnTo>
                <a:lnTo>
                  <a:pt x="1508" y="934"/>
                </a:lnTo>
                <a:lnTo>
                  <a:pt x="1505" y="930"/>
                </a:lnTo>
                <a:lnTo>
                  <a:pt x="1501" y="930"/>
                </a:lnTo>
                <a:lnTo>
                  <a:pt x="1499" y="929"/>
                </a:lnTo>
                <a:lnTo>
                  <a:pt x="1498" y="929"/>
                </a:lnTo>
                <a:lnTo>
                  <a:pt x="1496" y="927"/>
                </a:lnTo>
                <a:lnTo>
                  <a:pt x="1494" y="923"/>
                </a:lnTo>
                <a:lnTo>
                  <a:pt x="1494" y="919"/>
                </a:lnTo>
                <a:lnTo>
                  <a:pt x="1494" y="916"/>
                </a:lnTo>
                <a:lnTo>
                  <a:pt x="1494" y="912"/>
                </a:lnTo>
                <a:lnTo>
                  <a:pt x="1492" y="903"/>
                </a:lnTo>
                <a:lnTo>
                  <a:pt x="1490" y="899"/>
                </a:lnTo>
                <a:lnTo>
                  <a:pt x="1490" y="897"/>
                </a:lnTo>
                <a:lnTo>
                  <a:pt x="1488" y="894"/>
                </a:lnTo>
                <a:lnTo>
                  <a:pt x="1488" y="892"/>
                </a:lnTo>
                <a:lnTo>
                  <a:pt x="1487" y="876"/>
                </a:lnTo>
                <a:lnTo>
                  <a:pt x="1487" y="870"/>
                </a:lnTo>
                <a:lnTo>
                  <a:pt x="1488" y="868"/>
                </a:lnTo>
                <a:lnTo>
                  <a:pt x="1492" y="863"/>
                </a:lnTo>
                <a:lnTo>
                  <a:pt x="1492" y="861"/>
                </a:lnTo>
                <a:lnTo>
                  <a:pt x="1494" y="859"/>
                </a:lnTo>
                <a:lnTo>
                  <a:pt x="1498" y="855"/>
                </a:lnTo>
                <a:lnTo>
                  <a:pt x="1499" y="854"/>
                </a:lnTo>
                <a:lnTo>
                  <a:pt x="1501" y="844"/>
                </a:lnTo>
                <a:lnTo>
                  <a:pt x="1501" y="835"/>
                </a:lnTo>
                <a:lnTo>
                  <a:pt x="1501" y="832"/>
                </a:lnTo>
                <a:lnTo>
                  <a:pt x="1496" y="833"/>
                </a:lnTo>
                <a:lnTo>
                  <a:pt x="1494" y="835"/>
                </a:lnTo>
                <a:lnTo>
                  <a:pt x="1492" y="837"/>
                </a:lnTo>
                <a:lnTo>
                  <a:pt x="1490" y="837"/>
                </a:lnTo>
                <a:lnTo>
                  <a:pt x="1481" y="837"/>
                </a:lnTo>
                <a:lnTo>
                  <a:pt x="1439" y="835"/>
                </a:lnTo>
                <a:lnTo>
                  <a:pt x="1390" y="833"/>
                </a:lnTo>
                <a:lnTo>
                  <a:pt x="1386" y="833"/>
                </a:lnTo>
                <a:lnTo>
                  <a:pt x="1340" y="832"/>
                </a:lnTo>
                <a:lnTo>
                  <a:pt x="1329" y="832"/>
                </a:lnTo>
                <a:lnTo>
                  <a:pt x="1326" y="832"/>
                </a:lnTo>
                <a:lnTo>
                  <a:pt x="1322" y="804"/>
                </a:lnTo>
                <a:lnTo>
                  <a:pt x="1318" y="755"/>
                </a:lnTo>
                <a:lnTo>
                  <a:pt x="1298" y="733"/>
                </a:lnTo>
                <a:lnTo>
                  <a:pt x="1285" y="718"/>
                </a:lnTo>
                <a:lnTo>
                  <a:pt x="1304" y="718"/>
                </a:lnTo>
                <a:lnTo>
                  <a:pt x="1313" y="718"/>
                </a:lnTo>
                <a:lnTo>
                  <a:pt x="1315" y="718"/>
                </a:lnTo>
                <a:lnTo>
                  <a:pt x="1315" y="713"/>
                </a:lnTo>
                <a:lnTo>
                  <a:pt x="1315" y="702"/>
                </a:lnTo>
                <a:lnTo>
                  <a:pt x="1315" y="682"/>
                </a:lnTo>
                <a:lnTo>
                  <a:pt x="1313" y="673"/>
                </a:lnTo>
                <a:lnTo>
                  <a:pt x="1307" y="660"/>
                </a:lnTo>
                <a:lnTo>
                  <a:pt x="1300" y="645"/>
                </a:lnTo>
                <a:lnTo>
                  <a:pt x="1296" y="642"/>
                </a:lnTo>
                <a:lnTo>
                  <a:pt x="1295" y="629"/>
                </a:lnTo>
                <a:lnTo>
                  <a:pt x="1296" y="623"/>
                </a:lnTo>
                <a:lnTo>
                  <a:pt x="1300" y="620"/>
                </a:lnTo>
                <a:lnTo>
                  <a:pt x="1302" y="616"/>
                </a:lnTo>
                <a:lnTo>
                  <a:pt x="1304" y="612"/>
                </a:lnTo>
                <a:lnTo>
                  <a:pt x="1295" y="594"/>
                </a:lnTo>
                <a:lnTo>
                  <a:pt x="1284" y="590"/>
                </a:lnTo>
                <a:lnTo>
                  <a:pt x="1276" y="589"/>
                </a:lnTo>
                <a:lnTo>
                  <a:pt x="1269" y="583"/>
                </a:lnTo>
                <a:lnTo>
                  <a:pt x="1267" y="583"/>
                </a:lnTo>
                <a:lnTo>
                  <a:pt x="1263" y="583"/>
                </a:lnTo>
                <a:lnTo>
                  <a:pt x="1249" y="574"/>
                </a:lnTo>
                <a:lnTo>
                  <a:pt x="1243" y="568"/>
                </a:lnTo>
                <a:lnTo>
                  <a:pt x="1240" y="565"/>
                </a:lnTo>
                <a:lnTo>
                  <a:pt x="1220" y="567"/>
                </a:lnTo>
                <a:lnTo>
                  <a:pt x="1198" y="570"/>
                </a:lnTo>
                <a:lnTo>
                  <a:pt x="1194" y="570"/>
                </a:lnTo>
                <a:lnTo>
                  <a:pt x="1189" y="568"/>
                </a:lnTo>
                <a:lnTo>
                  <a:pt x="1187" y="567"/>
                </a:lnTo>
                <a:lnTo>
                  <a:pt x="1185" y="567"/>
                </a:lnTo>
                <a:lnTo>
                  <a:pt x="1174" y="568"/>
                </a:lnTo>
                <a:lnTo>
                  <a:pt x="1167" y="570"/>
                </a:lnTo>
                <a:lnTo>
                  <a:pt x="1163" y="568"/>
                </a:lnTo>
                <a:lnTo>
                  <a:pt x="1148" y="552"/>
                </a:lnTo>
                <a:lnTo>
                  <a:pt x="1139" y="543"/>
                </a:lnTo>
                <a:lnTo>
                  <a:pt x="1137" y="536"/>
                </a:lnTo>
                <a:lnTo>
                  <a:pt x="1137" y="532"/>
                </a:lnTo>
                <a:lnTo>
                  <a:pt x="1128" y="528"/>
                </a:lnTo>
                <a:lnTo>
                  <a:pt x="1125" y="530"/>
                </a:lnTo>
                <a:lnTo>
                  <a:pt x="1123" y="530"/>
                </a:lnTo>
                <a:lnTo>
                  <a:pt x="1115" y="532"/>
                </a:lnTo>
                <a:lnTo>
                  <a:pt x="1112" y="532"/>
                </a:lnTo>
                <a:lnTo>
                  <a:pt x="1073" y="517"/>
                </a:lnTo>
                <a:lnTo>
                  <a:pt x="1053" y="503"/>
                </a:lnTo>
                <a:lnTo>
                  <a:pt x="1048" y="493"/>
                </a:lnTo>
                <a:lnTo>
                  <a:pt x="1046" y="488"/>
                </a:lnTo>
                <a:lnTo>
                  <a:pt x="1046" y="484"/>
                </a:lnTo>
                <a:lnTo>
                  <a:pt x="1039" y="483"/>
                </a:lnTo>
                <a:lnTo>
                  <a:pt x="1037" y="484"/>
                </a:lnTo>
                <a:lnTo>
                  <a:pt x="1031" y="486"/>
                </a:lnTo>
                <a:lnTo>
                  <a:pt x="1028" y="490"/>
                </a:lnTo>
                <a:lnTo>
                  <a:pt x="1020" y="488"/>
                </a:lnTo>
                <a:lnTo>
                  <a:pt x="1015" y="486"/>
                </a:lnTo>
                <a:lnTo>
                  <a:pt x="1011" y="484"/>
                </a:lnTo>
                <a:lnTo>
                  <a:pt x="1008" y="479"/>
                </a:lnTo>
                <a:lnTo>
                  <a:pt x="1006" y="475"/>
                </a:lnTo>
                <a:lnTo>
                  <a:pt x="987" y="466"/>
                </a:lnTo>
                <a:lnTo>
                  <a:pt x="975" y="466"/>
                </a:lnTo>
                <a:lnTo>
                  <a:pt x="971" y="466"/>
                </a:lnTo>
                <a:lnTo>
                  <a:pt x="967" y="468"/>
                </a:lnTo>
                <a:lnTo>
                  <a:pt x="953" y="472"/>
                </a:lnTo>
                <a:lnTo>
                  <a:pt x="927" y="468"/>
                </a:lnTo>
                <a:lnTo>
                  <a:pt x="920" y="466"/>
                </a:lnTo>
                <a:lnTo>
                  <a:pt x="918" y="464"/>
                </a:lnTo>
                <a:lnTo>
                  <a:pt x="916" y="464"/>
                </a:lnTo>
                <a:lnTo>
                  <a:pt x="909" y="457"/>
                </a:lnTo>
                <a:lnTo>
                  <a:pt x="907" y="444"/>
                </a:lnTo>
                <a:lnTo>
                  <a:pt x="896" y="440"/>
                </a:lnTo>
                <a:lnTo>
                  <a:pt x="885" y="435"/>
                </a:lnTo>
                <a:lnTo>
                  <a:pt x="883" y="431"/>
                </a:lnTo>
                <a:lnTo>
                  <a:pt x="880" y="426"/>
                </a:lnTo>
                <a:lnTo>
                  <a:pt x="878" y="424"/>
                </a:lnTo>
                <a:lnTo>
                  <a:pt x="876" y="424"/>
                </a:lnTo>
                <a:lnTo>
                  <a:pt x="870" y="424"/>
                </a:lnTo>
                <a:lnTo>
                  <a:pt x="861" y="422"/>
                </a:lnTo>
                <a:lnTo>
                  <a:pt x="859" y="420"/>
                </a:lnTo>
                <a:lnTo>
                  <a:pt x="858" y="419"/>
                </a:lnTo>
                <a:lnTo>
                  <a:pt x="856" y="409"/>
                </a:lnTo>
                <a:lnTo>
                  <a:pt x="856" y="402"/>
                </a:lnTo>
                <a:lnTo>
                  <a:pt x="854" y="397"/>
                </a:lnTo>
                <a:lnTo>
                  <a:pt x="837" y="375"/>
                </a:lnTo>
                <a:lnTo>
                  <a:pt x="836" y="373"/>
                </a:lnTo>
                <a:lnTo>
                  <a:pt x="832" y="373"/>
                </a:lnTo>
                <a:lnTo>
                  <a:pt x="830" y="373"/>
                </a:lnTo>
                <a:lnTo>
                  <a:pt x="827" y="364"/>
                </a:lnTo>
                <a:lnTo>
                  <a:pt x="823" y="351"/>
                </a:lnTo>
                <a:lnTo>
                  <a:pt x="821" y="342"/>
                </a:lnTo>
                <a:lnTo>
                  <a:pt x="821" y="340"/>
                </a:lnTo>
                <a:lnTo>
                  <a:pt x="827" y="331"/>
                </a:lnTo>
                <a:lnTo>
                  <a:pt x="830" y="323"/>
                </a:lnTo>
                <a:lnTo>
                  <a:pt x="828" y="314"/>
                </a:lnTo>
                <a:lnTo>
                  <a:pt x="828" y="311"/>
                </a:lnTo>
                <a:lnTo>
                  <a:pt x="823" y="302"/>
                </a:lnTo>
                <a:lnTo>
                  <a:pt x="817" y="289"/>
                </a:lnTo>
                <a:lnTo>
                  <a:pt x="817" y="274"/>
                </a:lnTo>
                <a:lnTo>
                  <a:pt x="821" y="267"/>
                </a:lnTo>
                <a:lnTo>
                  <a:pt x="823" y="265"/>
                </a:lnTo>
                <a:lnTo>
                  <a:pt x="823" y="263"/>
                </a:lnTo>
                <a:lnTo>
                  <a:pt x="827" y="260"/>
                </a:lnTo>
                <a:lnTo>
                  <a:pt x="828" y="258"/>
                </a:lnTo>
                <a:lnTo>
                  <a:pt x="830" y="256"/>
                </a:lnTo>
                <a:lnTo>
                  <a:pt x="832" y="250"/>
                </a:lnTo>
                <a:lnTo>
                  <a:pt x="832" y="247"/>
                </a:lnTo>
                <a:lnTo>
                  <a:pt x="830" y="238"/>
                </a:lnTo>
                <a:lnTo>
                  <a:pt x="830" y="236"/>
                </a:lnTo>
                <a:lnTo>
                  <a:pt x="828" y="234"/>
                </a:lnTo>
                <a:lnTo>
                  <a:pt x="827" y="223"/>
                </a:lnTo>
                <a:lnTo>
                  <a:pt x="828" y="219"/>
                </a:lnTo>
                <a:lnTo>
                  <a:pt x="830" y="214"/>
                </a:lnTo>
                <a:lnTo>
                  <a:pt x="827" y="207"/>
                </a:lnTo>
                <a:lnTo>
                  <a:pt x="823" y="201"/>
                </a:lnTo>
                <a:lnTo>
                  <a:pt x="821" y="199"/>
                </a:lnTo>
                <a:lnTo>
                  <a:pt x="817" y="197"/>
                </a:lnTo>
                <a:lnTo>
                  <a:pt x="812" y="201"/>
                </a:lnTo>
                <a:lnTo>
                  <a:pt x="810" y="205"/>
                </a:lnTo>
                <a:lnTo>
                  <a:pt x="810" y="207"/>
                </a:lnTo>
                <a:lnTo>
                  <a:pt x="805" y="214"/>
                </a:lnTo>
                <a:lnTo>
                  <a:pt x="801" y="214"/>
                </a:lnTo>
                <a:lnTo>
                  <a:pt x="788" y="207"/>
                </a:lnTo>
                <a:lnTo>
                  <a:pt x="783" y="207"/>
                </a:lnTo>
                <a:lnTo>
                  <a:pt x="779" y="208"/>
                </a:lnTo>
                <a:lnTo>
                  <a:pt x="766" y="208"/>
                </a:lnTo>
                <a:lnTo>
                  <a:pt x="755" y="207"/>
                </a:lnTo>
                <a:lnTo>
                  <a:pt x="746" y="210"/>
                </a:lnTo>
                <a:lnTo>
                  <a:pt x="726" y="216"/>
                </a:lnTo>
                <a:lnTo>
                  <a:pt x="722" y="217"/>
                </a:lnTo>
                <a:lnTo>
                  <a:pt x="717" y="217"/>
                </a:lnTo>
                <a:lnTo>
                  <a:pt x="711" y="217"/>
                </a:lnTo>
                <a:lnTo>
                  <a:pt x="702" y="219"/>
                </a:lnTo>
                <a:lnTo>
                  <a:pt x="702" y="221"/>
                </a:lnTo>
                <a:lnTo>
                  <a:pt x="691" y="228"/>
                </a:lnTo>
                <a:lnTo>
                  <a:pt x="677" y="238"/>
                </a:lnTo>
                <a:lnTo>
                  <a:pt x="675" y="241"/>
                </a:lnTo>
                <a:lnTo>
                  <a:pt x="673" y="243"/>
                </a:lnTo>
                <a:lnTo>
                  <a:pt x="669" y="245"/>
                </a:lnTo>
                <a:lnTo>
                  <a:pt x="662" y="252"/>
                </a:lnTo>
                <a:lnTo>
                  <a:pt x="660" y="254"/>
                </a:lnTo>
                <a:lnTo>
                  <a:pt x="649" y="260"/>
                </a:lnTo>
                <a:lnTo>
                  <a:pt x="636" y="263"/>
                </a:lnTo>
                <a:lnTo>
                  <a:pt x="611" y="278"/>
                </a:lnTo>
                <a:lnTo>
                  <a:pt x="609" y="280"/>
                </a:lnTo>
                <a:lnTo>
                  <a:pt x="602" y="289"/>
                </a:lnTo>
                <a:lnTo>
                  <a:pt x="589" y="292"/>
                </a:lnTo>
                <a:lnTo>
                  <a:pt x="587" y="292"/>
                </a:lnTo>
                <a:lnTo>
                  <a:pt x="583" y="292"/>
                </a:lnTo>
                <a:lnTo>
                  <a:pt x="569" y="292"/>
                </a:lnTo>
                <a:lnTo>
                  <a:pt x="565" y="294"/>
                </a:lnTo>
                <a:lnTo>
                  <a:pt x="563" y="294"/>
                </a:lnTo>
                <a:lnTo>
                  <a:pt x="561" y="296"/>
                </a:lnTo>
                <a:lnTo>
                  <a:pt x="560" y="300"/>
                </a:lnTo>
                <a:lnTo>
                  <a:pt x="560" y="302"/>
                </a:lnTo>
                <a:lnTo>
                  <a:pt x="549" y="316"/>
                </a:lnTo>
                <a:lnTo>
                  <a:pt x="545" y="323"/>
                </a:lnTo>
                <a:lnTo>
                  <a:pt x="541" y="325"/>
                </a:lnTo>
                <a:lnTo>
                  <a:pt x="516" y="334"/>
                </a:lnTo>
                <a:lnTo>
                  <a:pt x="512" y="336"/>
                </a:lnTo>
                <a:lnTo>
                  <a:pt x="508" y="336"/>
                </a:lnTo>
                <a:lnTo>
                  <a:pt x="503" y="338"/>
                </a:lnTo>
                <a:lnTo>
                  <a:pt x="497" y="338"/>
                </a:lnTo>
                <a:lnTo>
                  <a:pt x="490" y="327"/>
                </a:lnTo>
                <a:lnTo>
                  <a:pt x="468" y="322"/>
                </a:lnTo>
                <a:lnTo>
                  <a:pt x="454" y="320"/>
                </a:lnTo>
                <a:lnTo>
                  <a:pt x="435" y="320"/>
                </a:lnTo>
                <a:lnTo>
                  <a:pt x="421" y="320"/>
                </a:lnTo>
                <a:lnTo>
                  <a:pt x="408" y="322"/>
                </a:lnTo>
                <a:lnTo>
                  <a:pt x="404" y="322"/>
                </a:lnTo>
                <a:lnTo>
                  <a:pt x="401" y="318"/>
                </a:lnTo>
                <a:lnTo>
                  <a:pt x="386" y="316"/>
                </a:lnTo>
                <a:lnTo>
                  <a:pt x="384" y="318"/>
                </a:lnTo>
                <a:lnTo>
                  <a:pt x="382" y="318"/>
                </a:lnTo>
                <a:lnTo>
                  <a:pt x="379" y="320"/>
                </a:lnTo>
                <a:lnTo>
                  <a:pt x="373" y="323"/>
                </a:lnTo>
                <a:lnTo>
                  <a:pt x="364" y="327"/>
                </a:lnTo>
                <a:lnTo>
                  <a:pt x="362" y="329"/>
                </a:lnTo>
                <a:lnTo>
                  <a:pt x="357" y="331"/>
                </a:lnTo>
                <a:lnTo>
                  <a:pt x="348" y="331"/>
                </a:lnTo>
                <a:lnTo>
                  <a:pt x="346" y="331"/>
                </a:lnTo>
                <a:lnTo>
                  <a:pt x="318" y="325"/>
                </a:lnTo>
                <a:lnTo>
                  <a:pt x="318" y="322"/>
                </a:lnTo>
                <a:lnTo>
                  <a:pt x="318" y="316"/>
                </a:lnTo>
                <a:lnTo>
                  <a:pt x="318" y="303"/>
                </a:lnTo>
                <a:lnTo>
                  <a:pt x="318" y="287"/>
                </a:lnTo>
                <a:lnTo>
                  <a:pt x="318" y="261"/>
                </a:lnTo>
                <a:lnTo>
                  <a:pt x="318" y="223"/>
                </a:lnTo>
                <a:lnTo>
                  <a:pt x="318" y="219"/>
                </a:lnTo>
                <a:lnTo>
                  <a:pt x="318" y="212"/>
                </a:lnTo>
                <a:lnTo>
                  <a:pt x="322" y="194"/>
                </a:lnTo>
                <a:lnTo>
                  <a:pt x="326" y="181"/>
                </a:lnTo>
                <a:lnTo>
                  <a:pt x="316" y="179"/>
                </a:lnTo>
                <a:lnTo>
                  <a:pt x="304" y="190"/>
                </a:lnTo>
                <a:lnTo>
                  <a:pt x="285" y="207"/>
                </a:lnTo>
                <a:lnTo>
                  <a:pt x="269" y="216"/>
                </a:lnTo>
                <a:lnTo>
                  <a:pt x="267" y="217"/>
                </a:lnTo>
                <a:lnTo>
                  <a:pt x="265" y="223"/>
                </a:lnTo>
                <a:lnTo>
                  <a:pt x="254" y="228"/>
                </a:lnTo>
                <a:lnTo>
                  <a:pt x="247" y="228"/>
                </a:lnTo>
                <a:lnTo>
                  <a:pt x="238" y="228"/>
                </a:lnTo>
                <a:lnTo>
                  <a:pt x="221" y="228"/>
                </a:lnTo>
                <a:lnTo>
                  <a:pt x="194" y="228"/>
                </a:lnTo>
                <a:lnTo>
                  <a:pt x="188" y="228"/>
                </a:lnTo>
                <a:lnTo>
                  <a:pt x="185" y="228"/>
                </a:lnTo>
                <a:lnTo>
                  <a:pt x="181" y="228"/>
                </a:lnTo>
                <a:lnTo>
                  <a:pt x="172" y="228"/>
                </a:lnTo>
                <a:lnTo>
                  <a:pt x="168" y="228"/>
                </a:lnTo>
                <a:lnTo>
                  <a:pt x="170" y="225"/>
                </a:lnTo>
                <a:lnTo>
                  <a:pt x="172" y="217"/>
                </a:lnTo>
                <a:lnTo>
                  <a:pt x="170" y="212"/>
                </a:lnTo>
                <a:lnTo>
                  <a:pt x="157" y="185"/>
                </a:lnTo>
                <a:lnTo>
                  <a:pt x="150" y="181"/>
                </a:lnTo>
                <a:lnTo>
                  <a:pt x="148" y="179"/>
                </a:lnTo>
                <a:lnTo>
                  <a:pt x="117" y="172"/>
                </a:lnTo>
                <a:lnTo>
                  <a:pt x="106" y="172"/>
                </a:lnTo>
                <a:lnTo>
                  <a:pt x="104" y="172"/>
                </a:lnTo>
                <a:lnTo>
                  <a:pt x="92" y="172"/>
                </a:lnTo>
                <a:lnTo>
                  <a:pt x="71" y="172"/>
                </a:lnTo>
                <a:lnTo>
                  <a:pt x="73" y="168"/>
                </a:lnTo>
                <a:lnTo>
                  <a:pt x="75" y="166"/>
                </a:lnTo>
                <a:lnTo>
                  <a:pt x="79" y="163"/>
                </a:lnTo>
                <a:lnTo>
                  <a:pt x="88" y="153"/>
                </a:lnTo>
                <a:lnTo>
                  <a:pt x="93" y="146"/>
                </a:lnTo>
                <a:lnTo>
                  <a:pt x="95" y="144"/>
                </a:lnTo>
                <a:lnTo>
                  <a:pt x="95" y="141"/>
                </a:lnTo>
                <a:lnTo>
                  <a:pt x="95" y="139"/>
                </a:lnTo>
                <a:lnTo>
                  <a:pt x="95" y="137"/>
                </a:lnTo>
                <a:lnTo>
                  <a:pt x="93" y="132"/>
                </a:lnTo>
                <a:lnTo>
                  <a:pt x="90" y="126"/>
                </a:lnTo>
                <a:lnTo>
                  <a:pt x="79" y="113"/>
                </a:lnTo>
                <a:lnTo>
                  <a:pt x="64" y="100"/>
                </a:lnTo>
                <a:lnTo>
                  <a:pt x="57" y="95"/>
                </a:lnTo>
                <a:lnTo>
                  <a:pt x="51" y="80"/>
                </a:lnTo>
                <a:lnTo>
                  <a:pt x="37" y="60"/>
                </a:lnTo>
                <a:lnTo>
                  <a:pt x="28" y="38"/>
                </a:lnTo>
                <a:lnTo>
                  <a:pt x="24" y="22"/>
                </a:lnTo>
                <a:lnTo>
                  <a:pt x="24" y="18"/>
                </a:lnTo>
                <a:lnTo>
                  <a:pt x="22" y="15"/>
                </a:lnTo>
                <a:lnTo>
                  <a:pt x="20" y="15"/>
                </a:lnTo>
                <a:lnTo>
                  <a:pt x="7" y="5"/>
                </a:lnTo>
                <a:lnTo>
                  <a:pt x="0" y="0"/>
                </a:lnTo>
                <a:lnTo>
                  <a:pt x="3763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4480" y="25560"/>
            <a:ext cx="4711680" cy="3678120"/>
          </a:xfrm>
          <a:custGeom>
            <a:avLst/>
            <a:gdLst/>
            <a:ahLst/>
            <a:rect l="l" t="t" r="r" b="b"/>
            <a:pathLst>
              <a:path w="2946" h="2512">
                <a:moveTo>
                  <a:pt x="2946" y="0"/>
                </a:moveTo>
                <a:lnTo>
                  <a:pt x="2946" y="2"/>
                </a:lnTo>
                <a:lnTo>
                  <a:pt x="2944" y="5"/>
                </a:lnTo>
                <a:lnTo>
                  <a:pt x="2942" y="7"/>
                </a:lnTo>
                <a:lnTo>
                  <a:pt x="2938" y="13"/>
                </a:lnTo>
                <a:lnTo>
                  <a:pt x="2938" y="16"/>
                </a:lnTo>
                <a:lnTo>
                  <a:pt x="2938" y="18"/>
                </a:lnTo>
                <a:lnTo>
                  <a:pt x="2940" y="20"/>
                </a:lnTo>
                <a:lnTo>
                  <a:pt x="2942" y="20"/>
                </a:lnTo>
                <a:lnTo>
                  <a:pt x="2944" y="24"/>
                </a:lnTo>
                <a:lnTo>
                  <a:pt x="2946" y="27"/>
                </a:lnTo>
                <a:lnTo>
                  <a:pt x="2946" y="31"/>
                </a:lnTo>
                <a:lnTo>
                  <a:pt x="2944" y="37"/>
                </a:lnTo>
                <a:lnTo>
                  <a:pt x="2942" y="42"/>
                </a:lnTo>
                <a:lnTo>
                  <a:pt x="2940" y="44"/>
                </a:lnTo>
                <a:lnTo>
                  <a:pt x="2937" y="55"/>
                </a:lnTo>
                <a:lnTo>
                  <a:pt x="2933" y="69"/>
                </a:lnTo>
                <a:lnTo>
                  <a:pt x="2924" y="95"/>
                </a:lnTo>
                <a:lnTo>
                  <a:pt x="2915" y="121"/>
                </a:lnTo>
                <a:lnTo>
                  <a:pt x="2913" y="124"/>
                </a:lnTo>
                <a:lnTo>
                  <a:pt x="2911" y="128"/>
                </a:lnTo>
                <a:lnTo>
                  <a:pt x="2909" y="132"/>
                </a:lnTo>
                <a:lnTo>
                  <a:pt x="2896" y="155"/>
                </a:lnTo>
                <a:lnTo>
                  <a:pt x="2891" y="161"/>
                </a:lnTo>
                <a:lnTo>
                  <a:pt x="2889" y="163"/>
                </a:lnTo>
                <a:lnTo>
                  <a:pt x="2867" y="186"/>
                </a:lnTo>
                <a:lnTo>
                  <a:pt x="2862" y="192"/>
                </a:lnTo>
                <a:lnTo>
                  <a:pt x="2851" y="199"/>
                </a:lnTo>
                <a:lnTo>
                  <a:pt x="2845" y="208"/>
                </a:lnTo>
                <a:lnTo>
                  <a:pt x="2843" y="214"/>
                </a:lnTo>
                <a:lnTo>
                  <a:pt x="2840" y="217"/>
                </a:lnTo>
                <a:lnTo>
                  <a:pt x="2827" y="236"/>
                </a:lnTo>
                <a:lnTo>
                  <a:pt x="2820" y="243"/>
                </a:lnTo>
                <a:lnTo>
                  <a:pt x="2816" y="245"/>
                </a:lnTo>
                <a:lnTo>
                  <a:pt x="2810" y="250"/>
                </a:lnTo>
                <a:lnTo>
                  <a:pt x="2807" y="254"/>
                </a:lnTo>
                <a:lnTo>
                  <a:pt x="2803" y="258"/>
                </a:lnTo>
                <a:lnTo>
                  <a:pt x="2801" y="265"/>
                </a:lnTo>
                <a:lnTo>
                  <a:pt x="2794" y="276"/>
                </a:lnTo>
                <a:lnTo>
                  <a:pt x="2792" y="276"/>
                </a:lnTo>
                <a:lnTo>
                  <a:pt x="2781" y="280"/>
                </a:lnTo>
                <a:lnTo>
                  <a:pt x="2778" y="281"/>
                </a:lnTo>
                <a:lnTo>
                  <a:pt x="2768" y="287"/>
                </a:lnTo>
                <a:lnTo>
                  <a:pt x="2765" y="291"/>
                </a:lnTo>
                <a:lnTo>
                  <a:pt x="2750" y="300"/>
                </a:lnTo>
                <a:lnTo>
                  <a:pt x="2732" y="311"/>
                </a:lnTo>
                <a:lnTo>
                  <a:pt x="2717" y="344"/>
                </a:lnTo>
                <a:lnTo>
                  <a:pt x="2704" y="366"/>
                </a:lnTo>
                <a:lnTo>
                  <a:pt x="2699" y="366"/>
                </a:lnTo>
                <a:lnTo>
                  <a:pt x="2697" y="364"/>
                </a:lnTo>
                <a:lnTo>
                  <a:pt x="2701" y="355"/>
                </a:lnTo>
                <a:lnTo>
                  <a:pt x="2703" y="355"/>
                </a:lnTo>
                <a:lnTo>
                  <a:pt x="2704" y="351"/>
                </a:lnTo>
                <a:lnTo>
                  <a:pt x="2706" y="349"/>
                </a:lnTo>
                <a:lnTo>
                  <a:pt x="2708" y="345"/>
                </a:lnTo>
                <a:lnTo>
                  <a:pt x="2703" y="344"/>
                </a:lnTo>
                <a:lnTo>
                  <a:pt x="2697" y="356"/>
                </a:lnTo>
                <a:lnTo>
                  <a:pt x="2695" y="364"/>
                </a:lnTo>
                <a:lnTo>
                  <a:pt x="2697" y="367"/>
                </a:lnTo>
                <a:lnTo>
                  <a:pt x="2695" y="371"/>
                </a:lnTo>
                <a:lnTo>
                  <a:pt x="2692" y="373"/>
                </a:lnTo>
                <a:lnTo>
                  <a:pt x="2690" y="375"/>
                </a:lnTo>
                <a:lnTo>
                  <a:pt x="2688" y="375"/>
                </a:lnTo>
                <a:lnTo>
                  <a:pt x="2692" y="375"/>
                </a:lnTo>
                <a:lnTo>
                  <a:pt x="2695" y="377"/>
                </a:lnTo>
                <a:lnTo>
                  <a:pt x="2675" y="419"/>
                </a:lnTo>
                <a:lnTo>
                  <a:pt x="2675" y="422"/>
                </a:lnTo>
                <a:lnTo>
                  <a:pt x="2672" y="426"/>
                </a:lnTo>
                <a:lnTo>
                  <a:pt x="2670" y="431"/>
                </a:lnTo>
                <a:lnTo>
                  <a:pt x="2668" y="433"/>
                </a:lnTo>
                <a:lnTo>
                  <a:pt x="2639" y="477"/>
                </a:lnTo>
                <a:lnTo>
                  <a:pt x="2635" y="483"/>
                </a:lnTo>
                <a:lnTo>
                  <a:pt x="2608" y="512"/>
                </a:lnTo>
                <a:lnTo>
                  <a:pt x="2606" y="514"/>
                </a:lnTo>
                <a:lnTo>
                  <a:pt x="2593" y="519"/>
                </a:lnTo>
                <a:lnTo>
                  <a:pt x="2587" y="519"/>
                </a:lnTo>
                <a:lnTo>
                  <a:pt x="2589" y="510"/>
                </a:lnTo>
                <a:lnTo>
                  <a:pt x="2593" y="510"/>
                </a:lnTo>
                <a:lnTo>
                  <a:pt x="2593" y="503"/>
                </a:lnTo>
                <a:lnTo>
                  <a:pt x="2589" y="492"/>
                </a:lnTo>
                <a:lnTo>
                  <a:pt x="2571" y="477"/>
                </a:lnTo>
                <a:lnTo>
                  <a:pt x="2569" y="481"/>
                </a:lnTo>
                <a:lnTo>
                  <a:pt x="2564" y="499"/>
                </a:lnTo>
                <a:lnTo>
                  <a:pt x="2569" y="504"/>
                </a:lnTo>
                <a:lnTo>
                  <a:pt x="2565" y="515"/>
                </a:lnTo>
                <a:lnTo>
                  <a:pt x="2556" y="534"/>
                </a:lnTo>
                <a:lnTo>
                  <a:pt x="2547" y="543"/>
                </a:lnTo>
                <a:lnTo>
                  <a:pt x="2538" y="552"/>
                </a:lnTo>
                <a:lnTo>
                  <a:pt x="2538" y="554"/>
                </a:lnTo>
                <a:lnTo>
                  <a:pt x="2534" y="568"/>
                </a:lnTo>
                <a:lnTo>
                  <a:pt x="2538" y="567"/>
                </a:lnTo>
                <a:lnTo>
                  <a:pt x="2542" y="567"/>
                </a:lnTo>
                <a:lnTo>
                  <a:pt x="2544" y="568"/>
                </a:lnTo>
                <a:lnTo>
                  <a:pt x="2547" y="583"/>
                </a:lnTo>
                <a:lnTo>
                  <a:pt x="2544" y="594"/>
                </a:lnTo>
                <a:lnTo>
                  <a:pt x="2540" y="598"/>
                </a:lnTo>
                <a:lnTo>
                  <a:pt x="2544" y="607"/>
                </a:lnTo>
                <a:lnTo>
                  <a:pt x="2544" y="609"/>
                </a:lnTo>
                <a:lnTo>
                  <a:pt x="2544" y="612"/>
                </a:lnTo>
                <a:lnTo>
                  <a:pt x="2542" y="614"/>
                </a:lnTo>
                <a:lnTo>
                  <a:pt x="2540" y="612"/>
                </a:lnTo>
                <a:lnTo>
                  <a:pt x="2540" y="616"/>
                </a:lnTo>
                <a:lnTo>
                  <a:pt x="2542" y="618"/>
                </a:lnTo>
                <a:lnTo>
                  <a:pt x="2545" y="612"/>
                </a:lnTo>
                <a:lnTo>
                  <a:pt x="2545" y="610"/>
                </a:lnTo>
                <a:lnTo>
                  <a:pt x="2545" y="607"/>
                </a:lnTo>
                <a:lnTo>
                  <a:pt x="2545" y="605"/>
                </a:lnTo>
                <a:lnTo>
                  <a:pt x="2544" y="605"/>
                </a:lnTo>
                <a:lnTo>
                  <a:pt x="2549" y="603"/>
                </a:lnTo>
                <a:lnTo>
                  <a:pt x="2549" y="614"/>
                </a:lnTo>
                <a:lnTo>
                  <a:pt x="2549" y="620"/>
                </a:lnTo>
                <a:lnTo>
                  <a:pt x="2544" y="645"/>
                </a:lnTo>
                <a:lnTo>
                  <a:pt x="2536" y="676"/>
                </a:lnTo>
                <a:lnTo>
                  <a:pt x="2536" y="682"/>
                </a:lnTo>
                <a:lnTo>
                  <a:pt x="2538" y="691"/>
                </a:lnTo>
                <a:lnTo>
                  <a:pt x="2538" y="693"/>
                </a:lnTo>
                <a:lnTo>
                  <a:pt x="2542" y="707"/>
                </a:lnTo>
                <a:lnTo>
                  <a:pt x="2542" y="715"/>
                </a:lnTo>
                <a:lnTo>
                  <a:pt x="2544" y="735"/>
                </a:lnTo>
                <a:lnTo>
                  <a:pt x="2547" y="762"/>
                </a:lnTo>
                <a:lnTo>
                  <a:pt x="2549" y="773"/>
                </a:lnTo>
                <a:lnTo>
                  <a:pt x="2551" y="780"/>
                </a:lnTo>
                <a:lnTo>
                  <a:pt x="2554" y="786"/>
                </a:lnTo>
                <a:lnTo>
                  <a:pt x="2554" y="793"/>
                </a:lnTo>
                <a:lnTo>
                  <a:pt x="2549" y="813"/>
                </a:lnTo>
                <a:lnTo>
                  <a:pt x="2542" y="833"/>
                </a:lnTo>
                <a:lnTo>
                  <a:pt x="2531" y="879"/>
                </a:lnTo>
                <a:lnTo>
                  <a:pt x="2523" y="918"/>
                </a:lnTo>
                <a:lnTo>
                  <a:pt x="2522" y="927"/>
                </a:lnTo>
                <a:lnTo>
                  <a:pt x="2522" y="932"/>
                </a:lnTo>
                <a:lnTo>
                  <a:pt x="2523" y="938"/>
                </a:lnTo>
                <a:lnTo>
                  <a:pt x="2523" y="954"/>
                </a:lnTo>
                <a:lnTo>
                  <a:pt x="2525" y="958"/>
                </a:lnTo>
                <a:lnTo>
                  <a:pt x="2525" y="960"/>
                </a:lnTo>
                <a:lnTo>
                  <a:pt x="2527" y="963"/>
                </a:lnTo>
                <a:lnTo>
                  <a:pt x="2529" y="965"/>
                </a:lnTo>
                <a:lnTo>
                  <a:pt x="2531" y="967"/>
                </a:lnTo>
                <a:lnTo>
                  <a:pt x="2516" y="985"/>
                </a:lnTo>
                <a:lnTo>
                  <a:pt x="2514" y="987"/>
                </a:lnTo>
                <a:lnTo>
                  <a:pt x="2511" y="987"/>
                </a:lnTo>
                <a:lnTo>
                  <a:pt x="2505" y="989"/>
                </a:lnTo>
                <a:lnTo>
                  <a:pt x="2501" y="991"/>
                </a:lnTo>
                <a:lnTo>
                  <a:pt x="2500" y="993"/>
                </a:lnTo>
                <a:lnTo>
                  <a:pt x="2494" y="1000"/>
                </a:lnTo>
                <a:lnTo>
                  <a:pt x="2483" y="1016"/>
                </a:lnTo>
                <a:lnTo>
                  <a:pt x="2481" y="1020"/>
                </a:lnTo>
                <a:lnTo>
                  <a:pt x="2480" y="1025"/>
                </a:lnTo>
                <a:lnTo>
                  <a:pt x="2478" y="1029"/>
                </a:lnTo>
                <a:lnTo>
                  <a:pt x="2478" y="1033"/>
                </a:lnTo>
                <a:lnTo>
                  <a:pt x="2474" y="1042"/>
                </a:lnTo>
                <a:lnTo>
                  <a:pt x="2472" y="1049"/>
                </a:lnTo>
                <a:lnTo>
                  <a:pt x="2470" y="1062"/>
                </a:lnTo>
                <a:lnTo>
                  <a:pt x="2470" y="1066"/>
                </a:lnTo>
                <a:lnTo>
                  <a:pt x="2470" y="1075"/>
                </a:lnTo>
                <a:lnTo>
                  <a:pt x="2472" y="1088"/>
                </a:lnTo>
                <a:lnTo>
                  <a:pt x="2472" y="1097"/>
                </a:lnTo>
                <a:lnTo>
                  <a:pt x="2474" y="1102"/>
                </a:lnTo>
                <a:lnTo>
                  <a:pt x="2474" y="1104"/>
                </a:lnTo>
                <a:lnTo>
                  <a:pt x="2476" y="1113"/>
                </a:lnTo>
                <a:lnTo>
                  <a:pt x="2476" y="1122"/>
                </a:lnTo>
                <a:lnTo>
                  <a:pt x="2476" y="1124"/>
                </a:lnTo>
                <a:lnTo>
                  <a:pt x="2476" y="1131"/>
                </a:lnTo>
                <a:lnTo>
                  <a:pt x="2476" y="1135"/>
                </a:lnTo>
                <a:lnTo>
                  <a:pt x="2474" y="1137"/>
                </a:lnTo>
                <a:lnTo>
                  <a:pt x="2467" y="1152"/>
                </a:lnTo>
                <a:lnTo>
                  <a:pt x="2465" y="1155"/>
                </a:lnTo>
                <a:lnTo>
                  <a:pt x="2459" y="1159"/>
                </a:lnTo>
                <a:lnTo>
                  <a:pt x="2456" y="1159"/>
                </a:lnTo>
                <a:lnTo>
                  <a:pt x="2452" y="1161"/>
                </a:lnTo>
                <a:lnTo>
                  <a:pt x="2448" y="1164"/>
                </a:lnTo>
                <a:lnTo>
                  <a:pt x="2447" y="1166"/>
                </a:lnTo>
                <a:lnTo>
                  <a:pt x="2445" y="1168"/>
                </a:lnTo>
                <a:lnTo>
                  <a:pt x="2434" y="1186"/>
                </a:lnTo>
                <a:lnTo>
                  <a:pt x="2432" y="1192"/>
                </a:lnTo>
                <a:lnTo>
                  <a:pt x="2430" y="1201"/>
                </a:lnTo>
                <a:lnTo>
                  <a:pt x="2428" y="1208"/>
                </a:lnTo>
                <a:lnTo>
                  <a:pt x="2423" y="1217"/>
                </a:lnTo>
                <a:lnTo>
                  <a:pt x="2419" y="1214"/>
                </a:lnTo>
                <a:lnTo>
                  <a:pt x="2414" y="1212"/>
                </a:lnTo>
                <a:lnTo>
                  <a:pt x="2412" y="1217"/>
                </a:lnTo>
                <a:lnTo>
                  <a:pt x="2412" y="1221"/>
                </a:lnTo>
                <a:lnTo>
                  <a:pt x="2416" y="1221"/>
                </a:lnTo>
                <a:lnTo>
                  <a:pt x="2419" y="1223"/>
                </a:lnTo>
                <a:lnTo>
                  <a:pt x="2414" y="1236"/>
                </a:lnTo>
                <a:lnTo>
                  <a:pt x="2414" y="1237"/>
                </a:lnTo>
                <a:lnTo>
                  <a:pt x="2408" y="1248"/>
                </a:lnTo>
                <a:lnTo>
                  <a:pt x="2406" y="1250"/>
                </a:lnTo>
                <a:lnTo>
                  <a:pt x="2386" y="1270"/>
                </a:lnTo>
                <a:lnTo>
                  <a:pt x="2384" y="1269"/>
                </a:lnTo>
                <a:lnTo>
                  <a:pt x="2375" y="1270"/>
                </a:lnTo>
                <a:lnTo>
                  <a:pt x="2373" y="1272"/>
                </a:lnTo>
                <a:lnTo>
                  <a:pt x="2368" y="1280"/>
                </a:lnTo>
                <a:lnTo>
                  <a:pt x="2368" y="1283"/>
                </a:lnTo>
                <a:lnTo>
                  <a:pt x="2368" y="1287"/>
                </a:lnTo>
                <a:lnTo>
                  <a:pt x="2366" y="1292"/>
                </a:lnTo>
                <a:lnTo>
                  <a:pt x="2366" y="1294"/>
                </a:lnTo>
                <a:lnTo>
                  <a:pt x="2363" y="1298"/>
                </a:lnTo>
                <a:lnTo>
                  <a:pt x="2361" y="1300"/>
                </a:lnTo>
                <a:lnTo>
                  <a:pt x="2357" y="1305"/>
                </a:lnTo>
                <a:lnTo>
                  <a:pt x="2355" y="1307"/>
                </a:lnTo>
                <a:lnTo>
                  <a:pt x="2353" y="1309"/>
                </a:lnTo>
                <a:lnTo>
                  <a:pt x="2353" y="1311"/>
                </a:lnTo>
                <a:lnTo>
                  <a:pt x="2353" y="1312"/>
                </a:lnTo>
                <a:lnTo>
                  <a:pt x="2353" y="1314"/>
                </a:lnTo>
                <a:lnTo>
                  <a:pt x="2353" y="1320"/>
                </a:lnTo>
                <a:lnTo>
                  <a:pt x="2350" y="1327"/>
                </a:lnTo>
                <a:lnTo>
                  <a:pt x="2348" y="1329"/>
                </a:lnTo>
                <a:lnTo>
                  <a:pt x="2346" y="1342"/>
                </a:lnTo>
                <a:lnTo>
                  <a:pt x="2348" y="1351"/>
                </a:lnTo>
                <a:lnTo>
                  <a:pt x="2353" y="1378"/>
                </a:lnTo>
                <a:lnTo>
                  <a:pt x="2353" y="1380"/>
                </a:lnTo>
                <a:lnTo>
                  <a:pt x="2352" y="1384"/>
                </a:lnTo>
                <a:lnTo>
                  <a:pt x="2350" y="1386"/>
                </a:lnTo>
                <a:lnTo>
                  <a:pt x="2348" y="1386"/>
                </a:lnTo>
                <a:lnTo>
                  <a:pt x="2331" y="1395"/>
                </a:lnTo>
                <a:lnTo>
                  <a:pt x="2328" y="1397"/>
                </a:lnTo>
                <a:lnTo>
                  <a:pt x="2324" y="1397"/>
                </a:lnTo>
                <a:lnTo>
                  <a:pt x="2322" y="1398"/>
                </a:lnTo>
                <a:lnTo>
                  <a:pt x="2317" y="1398"/>
                </a:lnTo>
                <a:lnTo>
                  <a:pt x="2311" y="1400"/>
                </a:lnTo>
                <a:lnTo>
                  <a:pt x="2300" y="1404"/>
                </a:lnTo>
                <a:lnTo>
                  <a:pt x="2299" y="1404"/>
                </a:lnTo>
                <a:lnTo>
                  <a:pt x="2295" y="1406"/>
                </a:lnTo>
                <a:lnTo>
                  <a:pt x="2291" y="1407"/>
                </a:lnTo>
                <a:lnTo>
                  <a:pt x="2286" y="1409"/>
                </a:lnTo>
                <a:lnTo>
                  <a:pt x="2284" y="1411"/>
                </a:lnTo>
                <a:lnTo>
                  <a:pt x="2277" y="1417"/>
                </a:lnTo>
                <a:lnTo>
                  <a:pt x="2258" y="1433"/>
                </a:lnTo>
                <a:lnTo>
                  <a:pt x="2255" y="1437"/>
                </a:lnTo>
                <a:lnTo>
                  <a:pt x="2255" y="1442"/>
                </a:lnTo>
                <a:lnTo>
                  <a:pt x="2255" y="1446"/>
                </a:lnTo>
                <a:lnTo>
                  <a:pt x="2255" y="1450"/>
                </a:lnTo>
                <a:lnTo>
                  <a:pt x="2256" y="1453"/>
                </a:lnTo>
                <a:lnTo>
                  <a:pt x="2255" y="1462"/>
                </a:lnTo>
                <a:lnTo>
                  <a:pt x="2251" y="1471"/>
                </a:lnTo>
                <a:lnTo>
                  <a:pt x="2240" y="1473"/>
                </a:lnTo>
                <a:lnTo>
                  <a:pt x="2213" y="1473"/>
                </a:lnTo>
                <a:lnTo>
                  <a:pt x="2202" y="1473"/>
                </a:lnTo>
                <a:lnTo>
                  <a:pt x="2200" y="1473"/>
                </a:lnTo>
                <a:lnTo>
                  <a:pt x="2194" y="1473"/>
                </a:lnTo>
                <a:lnTo>
                  <a:pt x="2183" y="1473"/>
                </a:lnTo>
                <a:lnTo>
                  <a:pt x="2182" y="1473"/>
                </a:lnTo>
                <a:lnTo>
                  <a:pt x="2167" y="1475"/>
                </a:lnTo>
                <a:lnTo>
                  <a:pt x="2158" y="1473"/>
                </a:lnTo>
                <a:lnTo>
                  <a:pt x="2156" y="1471"/>
                </a:lnTo>
                <a:lnTo>
                  <a:pt x="2145" y="1468"/>
                </a:lnTo>
                <a:lnTo>
                  <a:pt x="2149" y="1462"/>
                </a:lnTo>
                <a:lnTo>
                  <a:pt x="2152" y="1460"/>
                </a:lnTo>
                <a:lnTo>
                  <a:pt x="2156" y="1453"/>
                </a:lnTo>
                <a:lnTo>
                  <a:pt x="2156" y="1451"/>
                </a:lnTo>
                <a:lnTo>
                  <a:pt x="2156" y="1448"/>
                </a:lnTo>
                <a:lnTo>
                  <a:pt x="2150" y="1446"/>
                </a:lnTo>
                <a:lnTo>
                  <a:pt x="2134" y="1453"/>
                </a:lnTo>
                <a:lnTo>
                  <a:pt x="2132" y="1457"/>
                </a:lnTo>
                <a:lnTo>
                  <a:pt x="2132" y="1460"/>
                </a:lnTo>
                <a:lnTo>
                  <a:pt x="2134" y="1462"/>
                </a:lnTo>
                <a:lnTo>
                  <a:pt x="2136" y="1462"/>
                </a:lnTo>
                <a:lnTo>
                  <a:pt x="2143" y="1468"/>
                </a:lnTo>
                <a:lnTo>
                  <a:pt x="2143" y="1473"/>
                </a:lnTo>
                <a:lnTo>
                  <a:pt x="2139" y="1477"/>
                </a:lnTo>
                <a:lnTo>
                  <a:pt x="2136" y="1479"/>
                </a:lnTo>
                <a:lnTo>
                  <a:pt x="2130" y="1481"/>
                </a:lnTo>
                <a:lnTo>
                  <a:pt x="2097" y="1482"/>
                </a:lnTo>
                <a:lnTo>
                  <a:pt x="2085" y="1484"/>
                </a:lnTo>
                <a:lnTo>
                  <a:pt x="2090" y="1482"/>
                </a:lnTo>
                <a:lnTo>
                  <a:pt x="2099" y="1481"/>
                </a:lnTo>
                <a:lnTo>
                  <a:pt x="2085" y="1471"/>
                </a:lnTo>
                <a:lnTo>
                  <a:pt x="2075" y="1470"/>
                </a:lnTo>
                <a:lnTo>
                  <a:pt x="2059" y="1473"/>
                </a:lnTo>
                <a:lnTo>
                  <a:pt x="2055" y="1477"/>
                </a:lnTo>
                <a:lnTo>
                  <a:pt x="2054" y="1479"/>
                </a:lnTo>
                <a:lnTo>
                  <a:pt x="2050" y="1482"/>
                </a:lnTo>
                <a:lnTo>
                  <a:pt x="2044" y="1484"/>
                </a:lnTo>
                <a:lnTo>
                  <a:pt x="2039" y="1482"/>
                </a:lnTo>
                <a:lnTo>
                  <a:pt x="2032" y="1471"/>
                </a:lnTo>
                <a:lnTo>
                  <a:pt x="2028" y="1471"/>
                </a:lnTo>
                <a:lnTo>
                  <a:pt x="1997" y="1484"/>
                </a:lnTo>
                <a:lnTo>
                  <a:pt x="1995" y="1490"/>
                </a:lnTo>
                <a:lnTo>
                  <a:pt x="1993" y="1497"/>
                </a:lnTo>
                <a:lnTo>
                  <a:pt x="1993" y="1501"/>
                </a:lnTo>
                <a:lnTo>
                  <a:pt x="2001" y="1501"/>
                </a:lnTo>
                <a:lnTo>
                  <a:pt x="2008" y="1501"/>
                </a:lnTo>
                <a:lnTo>
                  <a:pt x="2013" y="1506"/>
                </a:lnTo>
                <a:lnTo>
                  <a:pt x="2006" y="1513"/>
                </a:lnTo>
                <a:lnTo>
                  <a:pt x="2004" y="1513"/>
                </a:lnTo>
                <a:lnTo>
                  <a:pt x="1991" y="1513"/>
                </a:lnTo>
                <a:lnTo>
                  <a:pt x="1982" y="1515"/>
                </a:lnTo>
                <a:lnTo>
                  <a:pt x="1964" y="1523"/>
                </a:lnTo>
                <a:lnTo>
                  <a:pt x="1960" y="1526"/>
                </a:lnTo>
                <a:lnTo>
                  <a:pt x="1957" y="1528"/>
                </a:lnTo>
                <a:lnTo>
                  <a:pt x="1940" y="1535"/>
                </a:lnTo>
                <a:lnTo>
                  <a:pt x="1926" y="1539"/>
                </a:lnTo>
                <a:lnTo>
                  <a:pt x="1924" y="1541"/>
                </a:lnTo>
                <a:lnTo>
                  <a:pt x="1926" y="1546"/>
                </a:lnTo>
                <a:lnTo>
                  <a:pt x="1913" y="1556"/>
                </a:lnTo>
                <a:lnTo>
                  <a:pt x="1905" y="1554"/>
                </a:lnTo>
                <a:lnTo>
                  <a:pt x="1902" y="1554"/>
                </a:lnTo>
                <a:lnTo>
                  <a:pt x="1885" y="1552"/>
                </a:lnTo>
                <a:lnTo>
                  <a:pt x="1880" y="1552"/>
                </a:lnTo>
                <a:lnTo>
                  <a:pt x="1873" y="1554"/>
                </a:lnTo>
                <a:lnTo>
                  <a:pt x="1862" y="1559"/>
                </a:lnTo>
                <a:lnTo>
                  <a:pt x="1858" y="1561"/>
                </a:lnTo>
                <a:lnTo>
                  <a:pt x="1840" y="1567"/>
                </a:lnTo>
                <a:lnTo>
                  <a:pt x="1832" y="1563"/>
                </a:lnTo>
                <a:lnTo>
                  <a:pt x="1829" y="1568"/>
                </a:lnTo>
                <a:lnTo>
                  <a:pt x="1812" y="1583"/>
                </a:lnTo>
                <a:lnTo>
                  <a:pt x="1790" y="1596"/>
                </a:lnTo>
                <a:lnTo>
                  <a:pt x="1788" y="1596"/>
                </a:lnTo>
                <a:lnTo>
                  <a:pt x="1783" y="1599"/>
                </a:lnTo>
                <a:lnTo>
                  <a:pt x="1781" y="1601"/>
                </a:lnTo>
                <a:lnTo>
                  <a:pt x="1777" y="1603"/>
                </a:lnTo>
                <a:lnTo>
                  <a:pt x="1776" y="1605"/>
                </a:lnTo>
                <a:lnTo>
                  <a:pt x="1774" y="1612"/>
                </a:lnTo>
                <a:lnTo>
                  <a:pt x="1754" y="1629"/>
                </a:lnTo>
                <a:lnTo>
                  <a:pt x="1743" y="1634"/>
                </a:lnTo>
                <a:lnTo>
                  <a:pt x="1734" y="1640"/>
                </a:lnTo>
                <a:lnTo>
                  <a:pt x="1726" y="1641"/>
                </a:lnTo>
                <a:lnTo>
                  <a:pt x="1721" y="1643"/>
                </a:lnTo>
                <a:lnTo>
                  <a:pt x="1715" y="1645"/>
                </a:lnTo>
                <a:lnTo>
                  <a:pt x="1693" y="1662"/>
                </a:lnTo>
                <a:lnTo>
                  <a:pt x="1679" y="1673"/>
                </a:lnTo>
                <a:lnTo>
                  <a:pt x="1684" y="1678"/>
                </a:lnTo>
                <a:lnTo>
                  <a:pt x="1675" y="1693"/>
                </a:lnTo>
                <a:lnTo>
                  <a:pt x="1670" y="1702"/>
                </a:lnTo>
                <a:lnTo>
                  <a:pt x="1660" y="1707"/>
                </a:lnTo>
                <a:lnTo>
                  <a:pt x="1655" y="1700"/>
                </a:lnTo>
                <a:lnTo>
                  <a:pt x="1642" y="1700"/>
                </a:lnTo>
                <a:lnTo>
                  <a:pt x="1637" y="1711"/>
                </a:lnTo>
                <a:lnTo>
                  <a:pt x="1633" y="1716"/>
                </a:lnTo>
                <a:lnTo>
                  <a:pt x="1631" y="1716"/>
                </a:lnTo>
                <a:lnTo>
                  <a:pt x="1622" y="1716"/>
                </a:lnTo>
                <a:lnTo>
                  <a:pt x="1617" y="1715"/>
                </a:lnTo>
                <a:lnTo>
                  <a:pt x="1611" y="1711"/>
                </a:lnTo>
                <a:lnTo>
                  <a:pt x="1607" y="1711"/>
                </a:lnTo>
                <a:lnTo>
                  <a:pt x="1607" y="1716"/>
                </a:lnTo>
                <a:lnTo>
                  <a:pt x="1609" y="1718"/>
                </a:lnTo>
                <a:lnTo>
                  <a:pt x="1615" y="1722"/>
                </a:lnTo>
                <a:lnTo>
                  <a:pt x="1618" y="1722"/>
                </a:lnTo>
                <a:lnTo>
                  <a:pt x="1624" y="1722"/>
                </a:lnTo>
                <a:lnTo>
                  <a:pt x="1628" y="1720"/>
                </a:lnTo>
                <a:lnTo>
                  <a:pt x="1640" y="1724"/>
                </a:lnTo>
                <a:lnTo>
                  <a:pt x="1642" y="1727"/>
                </a:lnTo>
                <a:lnTo>
                  <a:pt x="1628" y="1746"/>
                </a:lnTo>
                <a:lnTo>
                  <a:pt x="1622" y="1755"/>
                </a:lnTo>
                <a:lnTo>
                  <a:pt x="1620" y="1766"/>
                </a:lnTo>
                <a:lnTo>
                  <a:pt x="1618" y="1771"/>
                </a:lnTo>
                <a:lnTo>
                  <a:pt x="1618" y="1773"/>
                </a:lnTo>
                <a:lnTo>
                  <a:pt x="1620" y="1780"/>
                </a:lnTo>
                <a:lnTo>
                  <a:pt x="1606" y="1784"/>
                </a:lnTo>
                <a:lnTo>
                  <a:pt x="1604" y="1777"/>
                </a:lnTo>
                <a:lnTo>
                  <a:pt x="1602" y="1773"/>
                </a:lnTo>
                <a:lnTo>
                  <a:pt x="1600" y="1780"/>
                </a:lnTo>
                <a:lnTo>
                  <a:pt x="1604" y="1795"/>
                </a:lnTo>
                <a:lnTo>
                  <a:pt x="1615" y="1804"/>
                </a:lnTo>
                <a:lnTo>
                  <a:pt x="1618" y="1810"/>
                </a:lnTo>
                <a:lnTo>
                  <a:pt x="1618" y="1811"/>
                </a:lnTo>
                <a:lnTo>
                  <a:pt x="1617" y="1815"/>
                </a:lnTo>
                <a:lnTo>
                  <a:pt x="1613" y="1822"/>
                </a:lnTo>
                <a:lnTo>
                  <a:pt x="1611" y="1824"/>
                </a:lnTo>
                <a:lnTo>
                  <a:pt x="1611" y="1832"/>
                </a:lnTo>
                <a:lnTo>
                  <a:pt x="1611" y="1835"/>
                </a:lnTo>
                <a:lnTo>
                  <a:pt x="1613" y="1837"/>
                </a:lnTo>
                <a:lnTo>
                  <a:pt x="1617" y="1841"/>
                </a:lnTo>
                <a:lnTo>
                  <a:pt x="1618" y="1874"/>
                </a:lnTo>
                <a:lnTo>
                  <a:pt x="1615" y="1907"/>
                </a:lnTo>
                <a:lnTo>
                  <a:pt x="1615" y="1925"/>
                </a:lnTo>
                <a:lnTo>
                  <a:pt x="1618" y="1936"/>
                </a:lnTo>
                <a:lnTo>
                  <a:pt x="1620" y="1941"/>
                </a:lnTo>
                <a:lnTo>
                  <a:pt x="1622" y="1943"/>
                </a:lnTo>
                <a:lnTo>
                  <a:pt x="1624" y="1947"/>
                </a:lnTo>
                <a:lnTo>
                  <a:pt x="1615" y="1981"/>
                </a:lnTo>
                <a:lnTo>
                  <a:pt x="1604" y="2007"/>
                </a:lnTo>
                <a:lnTo>
                  <a:pt x="1602" y="2005"/>
                </a:lnTo>
                <a:lnTo>
                  <a:pt x="1600" y="2002"/>
                </a:lnTo>
                <a:lnTo>
                  <a:pt x="1600" y="1996"/>
                </a:lnTo>
                <a:lnTo>
                  <a:pt x="1595" y="1991"/>
                </a:lnTo>
                <a:lnTo>
                  <a:pt x="1593" y="1992"/>
                </a:lnTo>
                <a:lnTo>
                  <a:pt x="1595" y="2000"/>
                </a:lnTo>
                <a:lnTo>
                  <a:pt x="1595" y="2005"/>
                </a:lnTo>
                <a:lnTo>
                  <a:pt x="1602" y="2009"/>
                </a:lnTo>
                <a:lnTo>
                  <a:pt x="1596" y="2018"/>
                </a:lnTo>
                <a:lnTo>
                  <a:pt x="1589" y="2022"/>
                </a:lnTo>
                <a:lnTo>
                  <a:pt x="1586" y="2022"/>
                </a:lnTo>
                <a:lnTo>
                  <a:pt x="1564" y="2038"/>
                </a:lnTo>
                <a:lnTo>
                  <a:pt x="1560" y="2038"/>
                </a:lnTo>
                <a:lnTo>
                  <a:pt x="1543" y="2053"/>
                </a:lnTo>
                <a:lnTo>
                  <a:pt x="1538" y="2058"/>
                </a:lnTo>
                <a:lnTo>
                  <a:pt x="1520" y="2077"/>
                </a:lnTo>
                <a:lnTo>
                  <a:pt x="1514" y="2087"/>
                </a:lnTo>
                <a:lnTo>
                  <a:pt x="1509" y="2091"/>
                </a:lnTo>
                <a:lnTo>
                  <a:pt x="1505" y="2097"/>
                </a:lnTo>
                <a:lnTo>
                  <a:pt x="1494" y="2111"/>
                </a:lnTo>
                <a:lnTo>
                  <a:pt x="1490" y="2119"/>
                </a:lnTo>
                <a:lnTo>
                  <a:pt x="1481" y="2133"/>
                </a:lnTo>
                <a:lnTo>
                  <a:pt x="1479" y="2137"/>
                </a:lnTo>
                <a:lnTo>
                  <a:pt x="1478" y="2142"/>
                </a:lnTo>
                <a:lnTo>
                  <a:pt x="1468" y="2164"/>
                </a:lnTo>
                <a:lnTo>
                  <a:pt x="1463" y="2177"/>
                </a:lnTo>
                <a:lnTo>
                  <a:pt x="1463" y="2179"/>
                </a:lnTo>
                <a:lnTo>
                  <a:pt x="1461" y="2181"/>
                </a:lnTo>
                <a:lnTo>
                  <a:pt x="1459" y="2186"/>
                </a:lnTo>
                <a:lnTo>
                  <a:pt x="1459" y="2188"/>
                </a:lnTo>
                <a:lnTo>
                  <a:pt x="1456" y="2195"/>
                </a:lnTo>
                <a:lnTo>
                  <a:pt x="1450" y="2204"/>
                </a:lnTo>
                <a:lnTo>
                  <a:pt x="1419" y="2247"/>
                </a:lnTo>
                <a:lnTo>
                  <a:pt x="1415" y="2252"/>
                </a:lnTo>
                <a:lnTo>
                  <a:pt x="1414" y="2256"/>
                </a:lnTo>
                <a:lnTo>
                  <a:pt x="1403" y="2267"/>
                </a:lnTo>
                <a:lnTo>
                  <a:pt x="1397" y="2272"/>
                </a:lnTo>
                <a:lnTo>
                  <a:pt x="1384" y="2285"/>
                </a:lnTo>
                <a:lnTo>
                  <a:pt x="1383" y="2287"/>
                </a:lnTo>
                <a:lnTo>
                  <a:pt x="1375" y="2292"/>
                </a:lnTo>
                <a:lnTo>
                  <a:pt x="1366" y="2300"/>
                </a:lnTo>
                <a:lnTo>
                  <a:pt x="1342" y="2318"/>
                </a:lnTo>
                <a:lnTo>
                  <a:pt x="1324" y="2329"/>
                </a:lnTo>
                <a:lnTo>
                  <a:pt x="1322" y="2329"/>
                </a:lnTo>
                <a:lnTo>
                  <a:pt x="1308" y="2338"/>
                </a:lnTo>
                <a:lnTo>
                  <a:pt x="1289" y="2351"/>
                </a:lnTo>
                <a:lnTo>
                  <a:pt x="1287" y="2334"/>
                </a:lnTo>
                <a:lnTo>
                  <a:pt x="1298" y="2331"/>
                </a:lnTo>
                <a:lnTo>
                  <a:pt x="1300" y="2332"/>
                </a:lnTo>
                <a:lnTo>
                  <a:pt x="1309" y="2327"/>
                </a:lnTo>
                <a:lnTo>
                  <a:pt x="1311" y="2327"/>
                </a:lnTo>
                <a:lnTo>
                  <a:pt x="1320" y="2323"/>
                </a:lnTo>
                <a:lnTo>
                  <a:pt x="1322" y="2321"/>
                </a:lnTo>
                <a:lnTo>
                  <a:pt x="1324" y="2321"/>
                </a:lnTo>
                <a:lnTo>
                  <a:pt x="1337" y="2309"/>
                </a:lnTo>
                <a:lnTo>
                  <a:pt x="1344" y="2301"/>
                </a:lnTo>
                <a:lnTo>
                  <a:pt x="1350" y="2298"/>
                </a:lnTo>
                <a:lnTo>
                  <a:pt x="1351" y="2298"/>
                </a:lnTo>
                <a:lnTo>
                  <a:pt x="1355" y="2298"/>
                </a:lnTo>
                <a:lnTo>
                  <a:pt x="1359" y="2298"/>
                </a:lnTo>
                <a:lnTo>
                  <a:pt x="1362" y="2294"/>
                </a:lnTo>
                <a:lnTo>
                  <a:pt x="1364" y="2294"/>
                </a:lnTo>
                <a:lnTo>
                  <a:pt x="1366" y="2292"/>
                </a:lnTo>
                <a:lnTo>
                  <a:pt x="1370" y="2287"/>
                </a:lnTo>
                <a:lnTo>
                  <a:pt x="1373" y="2279"/>
                </a:lnTo>
                <a:lnTo>
                  <a:pt x="1373" y="2274"/>
                </a:lnTo>
                <a:lnTo>
                  <a:pt x="1373" y="2267"/>
                </a:lnTo>
                <a:lnTo>
                  <a:pt x="1394" y="2241"/>
                </a:lnTo>
                <a:lnTo>
                  <a:pt x="1395" y="2237"/>
                </a:lnTo>
                <a:lnTo>
                  <a:pt x="1401" y="2236"/>
                </a:lnTo>
                <a:lnTo>
                  <a:pt x="1410" y="2230"/>
                </a:lnTo>
                <a:lnTo>
                  <a:pt x="1414" y="2230"/>
                </a:lnTo>
                <a:lnTo>
                  <a:pt x="1415" y="2228"/>
                </a:lnTo>
                <a:lnTo>
                  <a:pt x="1430" y="2195"/>
                </a:lnTo>
                <a:lnTo>
                  <a:pt x="1432" y="2186"/>
                </a:lnTo>
                <a:lnTo>
                  <a:pt x="1434" y="2181"/>
                </a:lnTo>
                <a:lnTo>
                  <a:pt x="1434" y="2179"/>
                </a:lnTo>
                <a:lnTo>
                  <a:pt x="1432" y="2177"/>
                </a:lnTo>
                <a:lnTo>
                  <a:pt x="1426" y="2170"/>
                </a:lnTo>
                <a:lnTo>
                  <a:pt x="1425" y="2170"/>
                </a:lnTo>
                <a:lnTo>
                  <a:pt x="1423" y="2170"/>
                </a:lnTo>
                <a:lnTo>
                  <a:pt x="1421" y="2173"/>
                </a:lnTo>
                <a:lnTo>
                  <a:pt x="1395" y="2184"/>
                </a:lnTo>
                <a:lnTo>
                  <a:pt x="1386" y="2183"/>
                </a:lnTo>
                <a:lnTo>
                  <a:pt x="1377" y="2177"/>
                </a:lnTo>
                <a:lnTo>
                  <a:pt x="1373" y="2173"/>
                </a:lnTo>
                <a:lnTo>
                  <a:pt x="1368" y="2168"/>
                </a:lnTo>
                <a:lnTo>
                  <a:pt x="1366" y="2159"/>
                </a:lnTo>
                <a:lnTo>
                  <a:pt x="1366" y="2157"/>
                </a:lnTo>
                <a:lnTo>
                  <a:pt x="1362" y="2153"/>
                </a:lnTo>
                <a:lnTo>
                  <a:pt x="1359" y="2168"/>
                </a:lnTo>
                <a:lnTo>
                  <a:pt x="1361" y="2179"/>
                </a:lnTo>
                <a:lnTo>
                  <a:pt x="1366" y="2195"/>
                </a:lnTo>
                <a:lnTo>
                  <a:pt x="1361" y="2208"/>
                </a:lnTo>
                <a:lnTo>
                  <a:pt x="1357" y="2215"/>
                </a:lnTo>
                <a:lnTo>
                  <a:pt x="1344" y="2237"/>
                </a:lnTo>
                <a:lnTo>
                  <a:pt x="1326" y="2268"/>
                </a:lnTo>
                <a:lnTo>
                  <a:pt x="1300" y="2278"/>
                </a:lnTo>
                <a:lnTo>
                  <a:pt x="1297" y="2279"/>
                </a:lnTo>
                <a:lnTo>
                  <a:pt x="1293" y="2287"/>
                </a:lnTo>
                <a:lnTo>
                  <a:pt x="1293" y="2289"/>
                </a:lnTo>
                <a:lnTo>
                  <a:pt x="1293" y="2301"/>
                </a:lnTo>
                <a:lnTo>
                  <a:pt x="1289" y="2309"/>
                </a:lnTo>
                <a:lnTo>
                  <a:pt x="1286" y="2312"/>
                </a:lnTo>
                <a:lnTo>
                  <a:pt x="1284" y="2314"/>
                </a:lnTo>
                <a:lnTo>
                  <a:pt x="1280" y="2316"/>
                </a:lnTo>
                <a:lnTo>
                  <a:pt x="1277" y="2316"/>
                </a:lnTo>
                <a:lnTo>
                  <a:pt x="1273" y="2318"/>
                </a:lnTo>
                <a:lnTo>
                  <a:pt x="1271" y="2320"/>
                </a:lnTo>
                <a:lnTo>
                  <a:pt x="1267" y="2349"/>
                </a:lnTo>
                <a:lnTo>
                  <a:pt x="1271" y="2369"/>
                </a:lnTo>
                <a:lnTo>
                  <a:pt x="1267" y="2371"/>
                </a:lnTo>
                <a:lnTo>
                  <a:pt x="1267" y="2374"/>
                </a:lnTo>
                <a:lnTo>
                  <a:pt x="1256" y="2393"/>
                </a:lnTo>
                <a:lnTo>
                  <a:pt x="1251" y="2407"/>
                </a:lnTo>
                <a:lnTo>
                  <a:pt x="1251" y="2411"/>
                </a:lnTo>
                <a:lnTo>
                  <a:pt x="1249" y="2415"/>
                </a:lnTo>
                <a:lnTo>
                  <a:pt x="1249" y="2417"/>
                </a:lnTo>
                <a:lnTo>
                  <a:pt x="1245" y="2427"/>
                </a:lnTo>
                <a:lnTo>
                  <a:pt x="1244" y="2431"/>
                </a:lnTo>
                <a:lnTo>
                  <a:pt x="1233" y="2451"/>
                </a:lnTo>
                <a:lnTo>
                  <a:pt x="1231" y="2453"/>
                </a:lnTo>
                <a:lnTo>
                  <a:pt x="1222" y="2464"/>
                </a:lnTo>
                <a:lnTo>
                  <a:pt x="1205" y="2479"/>
                </a:lnTo>
                <a:lnTo>
                  <a:pt x="1176" y="2502"/>
                </a:lnTo>
                <a:lnTo>
                  <a:pt x="1174" y="2502"/>
                </a:lnTo>
                <a:lnTo>
                  <a:pt x="1170" y="2506"/>
                </a:lnTo>
                <a:lnTo>
                  <a:pt x="1167" y="2508"/>
                </a:lnTo>
                <a:lnTo>
                  <a:pt x="1161" y="2512"/>
                </a:lnTo>
                <a:lnTo>
                  <a:pt x="1158" y="2512"/>
                </a:lnTo>
                <a:lnTo>
                  <a:pt x="1147" y="2506"/>
                </a:lnTo>
                <a:lnTo>
                  <a:pt x="1145" y="2502"/>
                </a:lnTo>
                <a:lnTo>
                  <a:pt x="1145" y="2499"/>
                </a:lnTo>
                <a:lnTo>
                  <a:pt x="1147" y="2495"/>
                </a:lnTo>
                <a:lnTo>
                  <a:pt x="1147" y="2490"/>
                </a:lnTo>
                <a:lnTo>
                  <a:pt x="1149" y="2486"/>
                </a:lnTo>
                <a:lnTo>
                  <a:pt x="1149" y="2484"/>
                </a:lnTo>
                <a:lnTo>
                  <a:pt x="1149" y="2480"/>
                </a:lnTo>
                <a:lnTo>
                  <a:pt x="1149" y="2479"/>
                </a:lnTo>
                <a:lnTo>
                  <a:pt x="1147" y="2471"/>
                </a:lnTo>
                <a:lnTo>
                  <a:pt x="1147" y="2468"/>
                </a:lnTo>
                <a:lnTo>
                  <a:pt x="1147" y="2466"/>
                </a:lnTo>
                <a:lnTo>
                  <a:pt x="1145" y="2462"/>
                </a:lnTo>
                <a:lnTo>
                  <a:pt x="1145" y="2459"/>
                </a:lnTo>
                <a:lnTo>
                  <a:pt x="1147" y="2455"/>
                </a:lnTo>
                <a:lnTo>
                  <a:pt x="1147" y="2453"/>
                </a:lnTo>
                <a:lnTo>
                  <a:pt x="1149" y="2449"/>
                </a:lnTo>
                <a:lnTo>
                  <a:pt x="1150" y="2448"/>
                </a:lnTo>
                <a:lnTo>
                  <a:pt x="1152" y="2446"/>
                </a:lnTo>
                <a:lnTo>
                  <a:pt x="1154" y="2444"/>
                </a:lnTo>
                <a:lnTo>
                  <a:pt x="1169" y="2435"/>
                </a:lnTo>
                <a:lnTo>
                  <a:pt x="1172" y="2427"/>
                </a:lnTo>
                <a:lnTo>
                  <a:pt x="1180" y="2420"/>
                </a:lnTo>
                <a:lnTo>
                  <a:pt x="1187" y="2413"/>
                </a:lnTo>
                <a:lnTo>
                  <a:pt x="1181" y="2407"/>
                </a:lnTo>
                <a:lnTo>
                  <a:pt x="1178" y="2406"/>
                </a:lnTo>
                <a:lnTo>
                  <a:pt x="1172" y="2402"/>
                </a:lnTo>
                <a:lnTo>
                  <a:pt x="1163" y="2400"/>
                </a:lnTo>
                <a:lnTo>
                  <a:pt x="1160" y="2400"/>
                </a:lnTo>
                <a:lnTo>
                  <a:pt x="1158" y="2398"/>
                </a:lnTo>
                <a:lnTo>
                  <a:pt x="1147" y="2389"/>
                </a:lnTo>
                <a:lnTo>
                  <a:pt x="1145" y="2389"/>
                </a:lnTo>
                <a:lnTo>
                  <a:pt x="1143" y="2387"/>
                </a:lnTo>
                <a:lnTo>
                  <a:pt x="1141" y="2385"/>
                </a:lnTo>
                <a:lnTo>
                  <a:pt x="1136" y="2378"/>
                </a:lnTo>
                <a:lnTo>
                  <a:pt x="1134" y="2373"/>
                </a:lnTo>
                <a:lnTo>
                  <a:pt x="1136" y="2371"/>
                </a:lnTo>
                <a:lnTo>
                  <a:pt x="1132" y="2363"/>
                </a:lnTo>
                <a:lnTo>
                  <a:pt x="1125" y="2353"/>
                </a:lnTo>
                <a:lnTo>
                  <a:pt x="1112" y="2342"/>
                </a:lnTo>
                <a:lnTo>
                  <a:pt x="1108" y="2338"/>
                </a:lnTo>
                <a:lnTo>
                  <a:pt x="1094" y="2332"/>
                </a:lnTo>
                <a:lnTo>
                  <a:pt x="1092" y="2332"/>
                </a:lnTo>
                <a:lnTo>
                  <a:pt x="1085" y="2332"/>
                </a:lnTo>
                <a:lnTo>
                  <a:pt x="1074" y="2325"/>
                </a:lnTo>
                <a:lnTo>
                  <a:pt x="1066" y="2320"/>
                </a:lnTo>
                <a:lnTo>
                  <a:pt x="1063" y="2316"/>
                </a:lnTo>
                <a:lnTo>
                  <a:pt x="1061" y="2314"/>
                </a:lnTo>
                <a:lnTo>
                  <a:pt x="1057" y="2314"/>
                </a:lnTo>
                <a:lnTo>
                  <a:pt x="1055" y="2312"/>
                </a:lnTo>
                <a:lnTo>
                  <a:pt x="1055" y="2303"/>
                </a:lnTo>
                <a:lnTo>
                  <a:pt x="1043" y="2292"/>
                </a:lnTo>
                <a:lnTo>
                  <a:pt x="1033" y="2290"/>
                </a:lnTo>
                <a:lnTo>
                  <a:pt x="1030" y="2290"/>
                </a:lnTo>
                <a:lnTo>
                  <a:pt x="1028" y="2290"/>
                </a:lnTo>
                <a:lnTo>
                  <a:pt x="1022" y="2290"/>
                </a:lnTo>
                <a:lnTo>
                  <a:pt x="1021" y="2289"/>
                </a:lnTo>
                <a:lnTo>
                  <a:pt x="995" y="2279"/>
                </a:lnTo>
                <a:lnTo>
                  <a:pt x="982" y="2272"/>
                </a:lnTo>
                <a:lnTo>
                  <a:pt x="980" y="2270"/>
                </a:lnTo>
                <a:lnTo>
                  <a:pt x="973" y="2256"/>
                </a:lnTo>
                <a:lnTo>
                  <a:pt x="971" y="2252"/>
                </a:lnTo>
                <a:lnTo>
                  <a:pt x="964" y="2245"/>
                </a:lnTo>
                <a:lnTo>
                  <a:pt x="955" y="2237"/>
                </a:lnTo>
                <a:lnTo>
                  <a:pt x="947" y="2234"/>
                </a:lnTo>
                <a:lnTo>
                  <a:pt x="944" y="2234"/>
                </a:lnTo>
                <a:lnTo>
                  <a:pt x="942" y="2236"/>
                </a:lnTo>
                <a:lnTo>
                  <a:pt x="940" y="2243"/>
                </a:lnTo>
                <a:lnTo>
                  <a:pt x="931" y="2250"/>
                </a:lnTo>
                <a:lnTo>
                  <a:pt x="924" y="2256"/>
                </a:lnTo>
                <a:lnTo>
                  <a:pt x="918" y="2256"/>
                </a:lnTo>
                <a:lnTo>
                  <a:pt x="916" y="2256"/>
                </a:lnTo>
                <a:lnTo>
                  <a:pt x="909" y="2256"/>
                </a:lnTo>
                <a:lnTo>
                  <a:pt x="907" y="2256"/>
                </a:lnTo>
                <a:lnTo>
                  <a:pt x="907" y="2254"/>
                </a:lnTo>
                <a:lnTo>
                  <a:pt x="907" y="2245"/>
                </a:lnTo>
                <a:lnTo>
                  <a:pt x="907" y="2241"/>
                </a:lnTo>
                <a:lnTo>
                  <a:pt x="909" y="2237"/>
                </a:lnTo>
                <a:lnTo>
                  <a:pt x="911" y="2234"/>
                </a:lnTo>
                <a:lnTo>
                  <a:pt x="909" y="2230"/>
                </a:lnTo>
                <a:lnTo>
                  <a:pt x="907" y="2228"/>
                </a:lnTo>
                <a:lnTo>
                  <a:pt x="896" y="2217"/>
                </a:lnTo>
                <a:lnTo>
                  <a:pt x="885" y="2204"/>
                </a:lnTo>
                <a:lnTo>
                  <a:pt x="882" y="2203"/>
                </a:lnTo>
                <a:lnTo>
                  <a:pt x="878" y="2201"/>
                </a:lnTo>
                <a:lnTo>
                  <a:pt x="871" y="2195"/>
                </a:lnTo>
                <a:lnTo>
                  <a:pt x="860" y="2186"/>
                </a:lnTo>
                <a:lnTo>
                  <a:pt x="858" y="2184"/>
                </a:lnTo>
                <a:lnTo>
                  <a:pt x="856" y="2183"/>
                </a:lnTo>
                <a:lnTo>
                  <a:pt x="854" y="2181"/>
                </a:lnTo>
                <a:lnTo>
                  <a:pt x="847" y="2173"/>
                </a:lnTo>
                <a:lnTo>
                  <a:pt x="832" y="2162"/>
                </a:lnTo>
                <a:lnTo>
                  <a:pt x="830" y="2162"/>
                </a:lnTo>
                <a:lnTo>
                  <a:pt x="825" y="2161"/>
                </a:lnTo>
                <a:lnTo>
                  <a:pt x="818" y="2161"/>
                </a:lnTo>
                <a:lnTo>
                  <a:pt x="805" y="2162"/>
                </a:lnTo>
                <a:lnTo>
                  <a:pt x="801" y="2164"/>
                </a:lnTo>
                <a:lnTo>
                  <a:pt x="798" y="2170"/>
                </a:lnTo>
                <a:lnTo>
                  <a:pt x="798" y="2172"/>
                </a:lnTo>
                <a:lnTo>
                  <a:pt x="798" y="2175"/>
                </a:lnTo>
                <a:lnTo>
                  <a:pt x="794" y="2179"/>
                </a:lnTo>
                <a:lnTo>
                  <a:pt x="792" y="2179"/>
                </a:lnTo>
                <a:lnTo>
                  <a:pt x="790" y="2181"/>
                </a:lnTo>
                <a:lnTo>
                  <a:pt x="785" y="2181"/>
                </a:lnTo>
                <a:lnTo>
                  <a:pt x="765" y="2179"/>
                </a:lnTo>
                <a:lnTo>
                  <a:pt x="761" y="2179"/>
                </a:lnTo>
                <a:lnTo>
                  <a:pt x="759" y="2177"/>
                </a:lnTo>
                <a:lnTo>
                  <a:pt x="757" y="2175"/>
                </a:lnTo>
                <a:lnTo>
                  <a:pt x="757" y="2172"/>
                </a:lnTo>
                <a:lnTo>
                  <a:pt x="757" y="2170"/>
                </a:lnTo>
                <a:lnTo>
                  <a:pt x="754" y="2170"/>
                </a:lnTo>
                <a:lnTo>
                  <a:pt x="755" y="2170"/>
                </a:lnTo>
                <a:lnTo>
                  <a:pt x="759" y="2168"/>
                </a:lnTo>
                <a:lnTo>
                  <a:pt x="761" y="2168"/>
                </a:lnTo>
                <a:lnTo>
                  <a:pt x="765" y="2164"/>
                </a:lnTo>
                <a:lnTo>
                  <a:pt x="779" y="2151"/>
                </a:lnTo>
                <a:lnTo>
                  <a:pt x="781" y="2150"/>
                </a:lnTo>
                <a:lnTo>
                  <a:pt x="781" y="2142"/>
                </a:lnTo>
                <a:lnTo>
                  <a:pt x="781" y="2140"/>
                </a:lnTo>
                <a:lnTo>
                  <a:pt x="783" y="2135"/>
                </a:lnTo>
                <a:lnTo>
                  <a:pt x="785" y="2133"/>
                </a:lnTo>
                <a:lnTo>
                  <a:pt x="787" y="2131"/>
                </a:lnTo>
                <a:lnTo>
                  <a:pt x="790" y="2131"/>
                </a:lnTo>
                <a:lnTo>
                  <a:pt x="794" y="2130"/>
                </a:lnTo>
                <a:lnTo>
                  <a:pt x="798" y="2130"/>
                </a:lnTo>
                <a:lnTo>
                  <a:pt x="801" y="2130"/>
                </a:lnTo>
                <a:lnTo>
                  <a:pt x="805" y="2126"/>
                </a:lnTo>
                <a:lnTo>
                  <a:pt x="807" y="2124"/>
                </a:lnTo>
                <a:lnTo>
                  <a:pt x="830" y="2100"/>
                </a:lnTo>
                <a:lnTo>
                  <a:pt x="841" y="2089"/>
                </a:lnTo>
                <a:lnTo>
                  <a:pt x="845" y="2080"/>
                </a:lnTo>
                <a:lnTo>
                  <a:pt x="845" y="2078"/>
                </a:lnTo>
                <a:lnTo>
                  <a:pt x="847" y="2075"/>
                </a:lnTo>
                <a:lnTo>
                  <a:pt x="849" y="2073"/>
                </a:lnTo>
                <a:lnTo>
                  <a:pt x="851" y="2069"/>
                </a:lnTo>
                <a:lnTo>
                  <a:pt x="852" y="2067"/>
                </a:lnTo>
                <a:lnTo>
                  <a:pt x="856" y="2066"/>
                </a:lnTo>
                <a:lnTo>
                  <a:pt x="858" y="2064"/>
                </a:lnTo>
                <a:lnTo>
                  <a:pt x="867" y="2062"/>
                </a:lnTo>
                <a:lnTo>
                  <a:pt x="869" y="2060"/>
                </a:lnTo>
                <a:lnTo>
                  <a:pt x="880" y="2040"/>
                </a:lnTo>
                <a:lnTo>
                  <a:pt x="893" y="2029"/>
                </a:lnTo>
                <a:lnTo>
                  <a:pt x="902" y="2020"/>
                </a:lnTo>
                <a:lnTo>
                  <a:pt x="907" y="2013"/>
                </a:lnTo>
                <a:lnTo>
                  <a:pt x="911" y="2007"/>
                </a:lnTo>
                <a:lnTo>
                  <a:pt x="918" y="1994"/>
                </a:lnTo>
                <a:lnTo>
                  <a:pt x="920" y="1994"/>
                </a:lnTo>
                <a:lnTo>
                  <a:pt x="924" y="1992"/>
                </a:lnTo>
                <a:lnTo>
                  <a:pt x="935" y="1994"/>
                </a:lnTo>
                <a:lnTo>
                  <a:pt x="938" y="1989"/>
                </a:lnTo>
                <a:lnTo>
                  <a:pt x="938" y="1978"/>
                </a:lnTo>
                <a:lnTo>
                  <a:pt x="944" y="1972"/>
                </a:lnTo>
                <a:lnTo>
                  <a:pt x="947" y="1972"/>
                </a:lnTo>
                <a:lnTo>
                  <a:pt x="960" y="1967"/>
                </a:lnTo>
                <a:lnTo>
                  <a:pt x="968" y="1961"/>
                </a:lnTo>
                <a:lnTo>
                  <a:pt x="968" y="1960"/>
                </a:lnTo>
                <a:lnTo>
                  <a:pt x="968" y="1958"/>
                </a:lnTo>
                <a:lnTo>
                  <a:pt x="973" y="1952"/>
                </a:lnTo>
                <a:lnTo>
                  <a:pt x="988" y="1945"/>
                </a:lnTo>
                <a:lnTo>
                  <a:pt x="999" y="1945"/>
                </a:lnTo>
                <a:lnTo>
                  <a:pt x="1002" y="1943"/>
                </a:lnTo>
                <a:lnTo>
                  <a:pt x="1013" y="1934"/>
                </a:lnTo>
                <a:lnTo>
                  <a:pt x="1013" y="1932"/>
                </a:lnTo>
                <a:lnTo>
                  <a:pt x="1013" y="1928"/>
                </a:lnTo>
                <a:lnTo>
                  <a:pt x="1022" y="1914"/>
                </a:lnTo>
                <a:lnTo>
                  <a:pt x="1024" y="1914"/>
                </a:lnTo>
                <a:lnTo>
                  <a:pt x="1024" y="1916"/>
                </a:lnTo>
                <a:lnTo>
                  <a:pt x="1026" y="1917"/>
                </a:lnTo>
                <a:lnTo>
                  <a:pt x="1035" y="1917"/>
                </a:lnTo>
                <a:lnTo>
                  <a:pt x="1041" y="1914"/>
                </a:lnTo>
                <a:lnTo>
                  <a:pt x="1050" y="1910"/>
                </a:lnTo>
                <a:lnTo>
                  <a:pt x="1057" y="1908"/>
                </a:lnTo>
                <a:lnTo>
                  <a:pt x="1066" y="1907"/>
                </a:lnTo>
                <a:lnTo>
                  <a:pt x="1074" y="1905"/>
                </a:lnTo>
                <a:lnTo>
                  <a:pt x="1077" y="1899"/>
                </a:lnTo>
                <a:lnTo>
                  <a:pt x="1086" y="1892"/>
                </a:lnTo>
                <a:lnTo>
                  <a:pt x="1099" y="1881"/>
                </a:lnTo>
                <a:lnTo>
                  <a:pt x="1110" y="1877"/>
                </a:lnTo>
                <a:lnTo>
                  <a:pt x="1114" y="1877"/>
                </a:lnTo>
                <a:lnTo>
                  <a:pt x="1116" y="1879"/>
                </a:lnTo>
                <a:lnTo>
                  <a:pt x="1119" y="1875"/>
                </a:lnTo>
                <a:lnTo>
                  <a:pt x="1125" y="1863"/>
                </a:lnTo>
                <a:lnTo>
                  <a:pt x="1127" y="1861"/>
                </a:lnTo>
                <a:lnTo>
                  <a:pt x="1128" y="1855"/>
                </a:lnTo>
                <a:lnTo>
                  <a:pt x="1128" y="1852"/>
                </a:lnTo>
                <a:lnTo>
                  <a:pt x="1128" y="1843"/>
                </a:lnTo>
                <a:lnTo>
                  <a:pt x="1127" y="1830"/>
                </a:lnTo>
                <a:lnTo>
                  <a:pt x="1128" y="1802"/>
                </a:lnTo>
                <a:lnTo>
                  <a:pt x="1134" y="1793"/>
                </a:lnTo>
                <a:lnTo>
                  <a:pt x="1134" y="1791"/>
                </a:lnTo>
                <a:lnTo>
                  <a:pt x="1134" y="1788"/>
                </a:lnTo>
                <a:lnTo>
                  <a:pt x="1132" y="1786"/>
                </a:lnTo>
                <a:lnTo>
                  <a:pt x="1125" y="1775"/>
                </a:lnTo>
                <a:lnTo>
                  <a:pt x="1117" y="1762"/>
                </a:lnTo>
                <a:lnTo>
                  <a:pt x="1116" y="1755"/>
                </a:lnTo>
                <a:lnTo>
                  <a:pt x="1117" y="1749"/>
                </a:lnTo>
                <a:lnTo>
                  <a:pt x="1117" y="1747"/>
                </a:lnTo>
                <a:lnTo>
                  <a:pt x="1114" y="1737"/>
                </a:lnTo>
                <a:lnTo>
                  <a:pt x="1112" y="1731"/>
                </a:lnTo>
                <a:lnTo>
                  <a:pt x="1090" y="1718"/>
                </a:lnTo>
                <a:lnTo>
                  <a:pt x="1085" y="1722"/>
                </a:lnTo>
                <a:lnTo>
                  <a:pt x="1083" y="1726"/>
                </a:lnTo>
                <a:lnTo>
                  <a:pt x="1074" y="1724"/>
                </a:lnTo>
                <a:lnTo>
                  <a:pt x="1070" y="1724"/>
                </a:lnTo>
                <a:lnTo>
                  <a:pt x="1063" y="1727"/>
                </a:lnTo>
                <a:lnTo>
                  <a:pt x="1057" y="1731"/>
                </a:lnTo>
                <a:lnTo>
                  <a:pt x="1055" y="1731"/>
                </a:lnTo>
                <a:lnTo>
                  <a:pt x="1048" y="1726"/>
                </a:lnTo>
                <a:lnTo>
                  <a:pt x="1043" y="1726"/>
                </a:lnTo>
                <a:lnTo>
                  <a:pt x="1043" y="1720"/>
                </a:lnTo>
                <a:lnTo>
                  <a:pt x="1041" y="1715"/>
                </a:lnTo>
                <a:lnTo>
                  <a:pt x="1044" y="1705"/>
                </a:lnTo>
                <a:lnTo>
                  <a:pt x="1048" y="1704"/>
                </a:lnTo>
                <a:lnTo>
                  <a:pt x="1050" y="1700"/>
                </a:lnTo>
                <a:lnTo>
                  <a:pt x="1052" y="1698"/>
                </a:lnTo>
                <a:lnTo>
                  <a:pt x="1059" y="1685"/>
                </a:lnTo>
                <a:lnTo>
                  <a:pt x="1059" y="1683"/>
                </a:lnTo>
                <a:lnTo>
                  <a:pt x="1057" y="1680"/>
                </a:lnTo>
                <a:lnTo>
                  <a:pt x="1057" y="1678"/>
                </a:lnTo>
                <a:lnTo>
                  <a:pt x="1057" y="1673"/>
                </a:lnTo>
                <a:lnTo>
                  <a:pt x="1061" y="1656"/>
                </a:lnTo>
                <a:lnTo>
                  <a:pt x="1063" y="1652"/>
                </a:lnTo>
                <a:lnTo>
                  <a:pt x="1068" y="1640"/>
                </a:lnTo>
                <a:lnTo>
                  <a:pt x="1070" y="1638"/>
                </a:lnTo>
                <a:lnTo>
                  <a:pt x="1070" y="1636"/>
                </a:lnTo>
                <a:lnTo>
                  <a:pt x="1070" y="1632"/>
                </a:lnTo>
                <a:lnTo>
                  <a:pt x="1070" y="1629"/>
                </a:lnTo>
                <a:lnTo>
                  <a:pt x="1068" y="1625"/>
                </a:lnTo>
                <a:lnTo>
                  <a:pt x="1068" y="1621"/>
                </a:lnTo>
                <a:lnTo>
                  <a:pt x="1070" y="1620"/>
                </a:lnTo>
                <a:lnTo>
                  <a:pt x="1070" y="1618"/>
                </a:lnTo>
                <a:lnTo>
                  <a:pt x="1072" y="1616"/>
                </a:lnTo>
                <a:lnTo>
                  <a:pt x="1074" y="1614"/>
                </a:lnTo>
                <a:lnTo>
                  <a:pt x="1077" y="1609"/>
                </a:lnTo>
                <a:lnTo>
                  <a:pt x="1075" y="1603"/>
                </a:lnTo>
                <a:lnTo>
                  <a:pt x="1074" y="1601"/>
                </a:lnTo>
                <a:lnTo>
                  <a:pt x="1072" y="1599"/>
                </a:lnTo>
                <a:lnTo>
                  <a:pt x="1070" y="1598"/>
                </a:lnTo>
                <a:lnTo>
                  <a:pt x="1068" y="1588"/>
                </a:lnTo>
                <a:lnTo>
                  <a:pt x="1070" y="1587"/>
                </a:lnTo>
                <a:lnTo>
                  <a:pt x="1072" y="1583"/>
                </a:lnTo>
                <a:lnTo>
                  <a:pt x="1074" y="1581"/>
                </a:lnTo>
                <a:lnTo>
                  <a:pt x="1077" y="1579"/>
                </a:lnTo>
                <a:lnTo>
                  <a:pt x="1072" y="1577"/>
                </a:lnTo>
                <a:lnTo>
                  <a:pt x="1061" y="1567"/>
                </a:lnTo>
                <a:lnTo>
                  <a:pt x="1048" y="1561"/>
                </a:lnTo>
                <a:lnTo>
                  <a:pt x="1041" y="1556"/>
                </a:lnTo>
                <a:lnTo>
                  <a:pt x="1015" y="1567"/>
                </a:lnTo>
                <a:lnTo>
                  <a:pt x="1013" y="1570"/>
                </a:lnTo>
                <a:lnTo>
                  <a:pt x="1011" y="1572"/>
                </a:lnTo>
                <a:lnTo>
                  <a:pt x="1000" y="1574"/>
                </a:lnTo>
                <a:lnTo>
                  <a:pt x="989" y="1576"/>
                </a:lnTo>
                <a:lnTo>
                  <a:pt x="988" y="1577"/>
                </a:lnTo>
                <a:lnTo>
                  <a:pt x="986" y="1577"/>
                </a:lnTo>
                <a:lnTo>
                  <a:pt x="971" y="1574"/>
                </a:lnTo>
                <a:lnTo>
                  <a:pt x="969" y="1574"/>
                </a:lnTo>
                <a:lnTo>
                  <a:pt x="966" y="1572"/>
                </a:lnTo>
                <a:lnTo>
                  <a:pt x="964" y="1570"/>
                </a:lnTo>
                <a:lnTo>
                  <a:pt x="964" y="1568"/>
                </a:lnTo>
                <a:lnTo>
                  <a:pt x="964" y="1563"/>
                </a:lnTo>
                <a:lnTo>
                  <a:pt x="964" y="1556"/>
                </a:lnTo>
                <a:lnTo>
                  <a:pt x="962" y="1550"/>
                </a:lnTo>
                <a:lnTo>
                  <a:pt x="962" y="1546"/>
                </a:lnTo>
                <a:lnTo>
                  <a:pt x="960" y="1543"/>
                </a:lnTo>
                <a:lnTo>
                  <a:pt x="958" y="1539"/>
                </a:lnTo>
                <a:lnTo>
                  <a:pt x="955" y="1539"/>
                </a:lnTo>
                <a:lnTo>
                  <a:pt x="955" y="1537"/>
                </a:lnTo>
                <a:lnTo>
                  <a:pt x="953" y="1523"/>
                </a:lnTo>
                <a:lnTo>
                  <a:pt x="957" y="1515"/>
                </a:lnTo>
                <a:lnTo>
                  <a:pt x="951" y="1510"/>
                </a:lnTo>
                <a:lnTo>
                  <a:pt x="951" y="1508"/>
                </a:lnTo>
                <a:lnTo>
                  <a:pt x="951" y="1492"/>
                </a:lnTo>
                <a:lnTo>
                  <a:pt x="947" y="1486"/>
                </a:lnTo>
                <a:lnTo>
                  <a:pt x="946" y="1481"/>
                </a:lnTo>
                <a:lnTo>
                  <a:pt x="942" y="1464"/>
                </a:lnTo>
                <a:lnTo>
                  <a:pt x="942" y="1460"/>
                </a:lnTo>
                <a:lnTo>
                  <a:pt x="944" y="1457"/>
                </a:lnTo>
                <a:lnTo>
                  <a:pt x="946" y="1453"/>
                </a:lnTo>
                <a:lnTo>
                  <a:pt x="946" y="1444"/>
                </a:lnTo>
                <a:lnTo>
                  <a:pt x="944" y="1442"/>
                </a:lnTo>
                <a:lnTo>
                  <a:pt x="940" y="1440"/>
                </a:lnTo>
                <a:lnTo>
                  <a:pt x="938" y="1439"/>
                </a:lnTo>
                <a:lnTo>
                  <a:pt x="936" y="1439"/>
                </a:lnTo>
                <a:lnTo>
                  <a:pt x="935" y="1435"/>
                </a:lnTo>
                <a:lnTo>
                  <a:pt x="933" y="1433"/>
                </a:lnTo>
                <a:lnTo>
                  <a:pt x="933" y="1428"/>
                </a:lnTo>
                <a:lnTo>
                  <a:pt x="933" y="1426"/>
                </a:lnTo>
                <a:lnTo>
                  <a:pt x="933" y="1422"/>
                </a:lnTo>
                <a:lnTo>
                  <a:pt x="933" y="1420"/>
                </a:lnTo>
                <a:lnTo>
                  <a:pt x="922" y="1411"/>
                </a:lnTo>
                <a:lnTo>
                  <a:pt x="909" y="1409"/>
                </a:lnTo>
                <a:lnTo>
                  <a:pt x="904" y="1409"/>
                </a:lnTo>
                <a:lnTo>
                  <a:pt x="900" y="1411"/>
                </a:lnTo>
                <a:lnTo>
                  <a:pt x="893" y="1409"/>
                </a:lnTo>
                <a:lnTo>
                  <a:pt x="889" y="1409"/>
                </a:lnTo>
                <a:lnTo>
                  <a:pt x="878" y="1402"/>
                </a:lnTo>
                <a:lnTo>
                  <a:pt x="876" y="1400"/>
                </a:lnTo>
                <a:lnTo>
                  <a:pt x="872" y="1398"/>
                </a:lnTo>
                <a:lnTo>
                  <a:pt x="872" y="1395"/>
                </a:lnTo>
                <a:lnTo>
                  <a:pt x="871" y="1389"/>
                </a:lnTo>
                <a:lnTo>
                  <a:pt x="863" y="1389"/>
                </a:lnTo>
                <a:lnTo>
                  <a:pt x="860" y="1391"/>
                </a:lnTo>
                <a:lnTo>
                  <a:pt x="858" y="1393"/>
                </a:lnTo>
                <a:lnTo>
                  <a:pt x="856" y="1397"/>
                </a:lnTo>
                <a:lnTo>
                  <a:pt x="854" y="1398"/>
                </a:lnTo>
                <a:lnTo>
                  <a:pt x="852" y="1400"/>
                </a:lnTo>
                <a:lnTo>
                  <a:pt x="847" y="1407"/>
                </a:lnTo>
                <a:lnTo>
                  <a:pt x="843" y="1406"/>
                </a:lnTo>
                <a:lnTo>
                  <a:pt x="841" y="1404"/>
                </a:lnTo>
                <a:lnTo>
                  <a:pt x="836" y="1406"/>
                </a:lnTo>
                <a:lnTo>
                  <a:pt x="834" y="1406"/>
                </a:lnTo>
                <a:lnTo>
                  <a:pt x="830" y="1407"/>
                </a:lnTo>
                <a:lnTo>
                  <a:pt x="823" y="1409"/>
                </a:lnTo>
                <a:lnTo>
                  <a:pt x="812" y="1406"/>
                </a:lnTo>
                <a:lnTo>
                  <a:pt x="798" y="1402"/>
                </a:lnTo>
                <a:lnTo>
                  <a:pt x="792" y="1402"/>
                </a:lnTo>
                <a:lnTo>
                  <a:pt x="788" y="1404"/>
                </a:lnTo>
                <a:lnTo>
                  <a:pt x="779" y="1404"/>
                </a:lnTo>
                <a:lnTo>
                  <a:pt x="776" y="1404"/>
                </a:lnTo>
                <a:lnTo>
                  <a:pt x="754" y="1400"/>
                </a:lnTo>
                <a:lnTo>
                  <a:pt x="750" y="1395"/>
                </a:lnTo>
                <a:lnTo>
                  <a:pt x="737" y="1393"/>
                </a:lnTo>
                <a:lnTo>
                  <a:pt x="735" y="1395"/>
                </a:lnTo>
                <a:lnTo>
                  <a:pt x="732" y="1397"/>
                </a:lnTo>
                <a:lnTo>
                  <a:pt x="726" y="1395"/>
                </a:lnTo>
                <a:lnTo>
                  <a:pt x="723" y="1395"/>
                </a:lnTo>
                <a:lnTo>
                  <a:pt x="717" y="1391"/>
                </a:lnTo>
                <a:lnTo>
                  <a:pt x="717" y="1389"/>
                </a:lnTo>
                <a:lnTo>
                  <a:pt x="717" y="1386"/>
                </a:lnTo>
                <a:lnTo>
                  <a:pt x="719" y="1380"/>
                </a:lnTo>
                <a:lnTo>
                  <a:pt x="723" y="1360"/>
                </a:lnTo>
                <a:lnTo>
                  <a:pt x="723" y="1349"/>
                </a:lnTo>
                <a:lnTo>
                  <a:pt x="723" y="1347"/>
                </a:lnTo>
                <a:lnTo>
                  <a:pt x="721" y="1336"/>
                </a:lnTo>
                <a:lnTo>
                  <a:pt x="723" y="1331"/>
                </a:lnTo>
                <a:lnTo>
                  <a:pt x="724" y="1327"/>
                </a:lnTo>
                <a:lnTo>
                  <a:pt x="728" y="1323"/>
                </a:lnTo>
                <a:lnTo>
                  <a:pt x="730" y="1320"/>
                </a:lnTo>
                <a:lnTo>
                  <a:pt x="734" y="1285"/>
                </a:lnTo>
                <a:lnTo>
                  <a:pt x="730" y="1261"/>
                </a:lnTo>
                <a:lnTo>
                  <a:pt x="724" y="1256"/>
                </a:lnTo>
                <a:lnTo>
                  <a:pt x="723" y="1254"/>
                </a:lnTo>
                <a:lnTo>
                  <a:pt x="719" y="1259"/>
                </a:lnTo>
                <a:lnTo>
                  <a:pt x="715" y="1250"/>
                </a:lnTo>
                <a:lnTo>
                  <a:pt x="715" y="1239"/>
                </a:lnTo>
                <a:lnTo>
                  <a:pt x="710" y="1228"/>
                </a:lnTo>
                <a:lnTo>
                  <a:pt x="706" y="1223"/>
                </a:lnTo>
                <a:lnTo>
                  <a:pt x="702" y="1217"/>
                </a:lnTo>
                <a:lnTo>
                  <a:pt x="701" y="1212"/>
                </a:lnTo>
                <a:lnTo>
                  <a:pt x="701" y="1206"/>
                </a:lnTo>
                <a:lnTo>
                  <a:pt x="704" y="1205"/>
                </a:lnTo>
                <a:lnTo>
                  <a:pt x="724" y="1194"/>
                </a:lnTo>
                <a:lnTo>
                  <a:pt x="730" y="1188"/>
                </a:lnTo>
                <a:lnTo>
                  <a:pt x="706" y="1168"/>
                </a:lnTo>
                <a:lnTo>
                  <a:pt x="704" y="1166"/>
                </a:lnTo>
                <a:lnTo>
                  <a:pt x="708" y="1159"/>
                </a:lnTo>
                <a:lnTo>
                  <a:pt x="719" y="1135"/>
                </a:lnTo>
                <a:lnTo>
                  <a:pt x="730" y="1113"/>
                </a:lnTo>
                <a:lnTo>
                  <a:pt x="734" y="1108"/>
                </a:lnTo>
                <a:lnTo>
                  <a:pt x="735" y="1100"/>
                </a:lnTo>
                <a:lnTo>
                  <a:pt x="737" y="1099"/>
                </a:lnTo>
                <a:lnTo>
                  <a:pt x="744" y="1099"/>
                </a:lnTo>
                <a:lnTo>
                  <a:pt x="743" y="1088"/>
                </a:lnTo>
                <a:lnTo>
                  <a:pt x="743" y="1086"/>
                </a:lnTo>
                <a:lnTo>
                  <a:pt x="737" y="1086"/>
                </a:lnTo>
                <a:lnTo>
                  <a:pt x="752" y="1044"/>
                </a:lnTo>
                <a:lnTo>
                  <a:pt x="757" y="1024"/>
                </a:lnTo>
                <a:lnTo>
                  <a:pt x="759" y="1022"/>
                </a:lnTo>
                <a:lnTo>
                  <a:pt x="761" y="1018"/>
                </a:lnTo>
                <a:lnTo>
                  <a:pt x="755" y="1007"/>
                </a:lnTo>
                <a:lnTo>
                  <a:pt x="743" y="983"/>
                </a:lnTo>
                <a:lnTo>
                  <a:pt x="743" y="976"/>
                </a:lnTo>
                <a:lnTo>
                  <a:pt x="743" y="972"/>
                </a:lnTo>
                <a:lnTo>
                  <a:pt x="741" y="971"/>
                </a:lnTo>
                <a:lnTo>
                  <a:pt x="739" y="967"/>
                </a:lnTo>
                <a:lnTo>
                  <a:pt x="737" y="963"/>
                </a:lnTo>
                <a:lnTo>
                  <a:pt x="739" y="961"/>
                </a:lnTo>
                <a:lnTo>
                  <a:pt x="741" y="960"/>
                </a:lnTo>
                <a:lnTo>
                  <a:pt x="735" y="954"/>
                </a:lnTo>
                <a:lnTo>
                  <a:pt x="728" y="947"/>
                </a:lnTo>
                <a:lnTo>
                  <a:pt x="724" y="947"/>
                </a:lnTo>
                <a:lnTo>
                  <a:pt x="717" y="950"/>
                </a:lnTo>
                <a:lnTo>
                  <a:pt x="713" y="950"/>
                </a:lnTo>
                <a:lnTo>
                  <a:pt x="706" y="945"/>
                </a:lnTo>
                <a:lnTo>
                  <a:pt x="706" y="943"/>
                </a:lnTo>
                <a:lnTo>
                  <a:pt x="704" y="941"/>
                </a:lnTo>
                <a:lnTo>
                  <a:pt x="691" y="934"/>
                </a:lnTo>
                <a:lnTo>
                  <a:pt x="688" y="930"/>
                </a:lnTo>
                <a:lnTo>
                  <a:pt x="684" y="930"/>
                </a:lnTo>
                <a:lnTo>
                  <a:pt x="682" y="929"/>
                </a:lnTo>
                <a:lnTo>
                  <a:pt x="681" y="929"/>
                </a:lnTo>
                <a:lnTo>
                  <a:pt x="679" y="927"/>
                </a:lnTo>
                <a:lnTo>
                  <a:pt x="677" y="923"/>
                </a:lnTo>
                <a:lnTo>
                  <a:pt x="677" y="919"/>
                </a:lnTo>
                <a:lnTo>
                  <a:pt x="677" y="916"/>
                </a:lnTo>
                <a:lnTo>
                  <a:pt x="677" y="912"/>
                </a:lnTo>
                <a:lnTo>
                  <a:pt x="675" y="903"/>
                </a:lnTo>
                <a:lnTo>
                  <a:pt x="673" y="899"/>
                </a:lnTo>
                <a:lnTo>
                  <a:pt x="673" y="897"/>
                </a:lnTo>
                <a:lnTo>
                  <a:pt x="671" y="894"/>
                </a:lnTo>
                <a:lnTo>
                  <a:pt x="671" y="892"/>
                </a:lnTo>
                <a:lnTo>
                  <a:pt x="670" y="876"/>
                </a:lnTo>
                <a:lnTo>
                  <a:pt x="670" y="870"/>
                </a:lnTo>
                <a:lnTo>
                  <a:pt x="671" y="868"/>
                </a:lnTo>
                <a:lnTo>
                  <a:pt x="675" y="863"/>
                </a:lnTo>
                <a:lnTo>
                  <a:pt x="675" y="861"/>
                </a:lnTo>
                <a:lnTo>
                  <a:pt x="677" y="859"/>
                </a:lnTo>
                <a:lnTo>
                  <a:pt x="681" y="855"/>
                </a:lnTo>
                <a:lnTo>
                  <a:pt x="682" y="854"/>
                </a:lnTo>
                <a:lnTo>
                  <a:pt x="684" y="844"/>
                </a:lnTo>
                <a:lnTo>
                  <a:pt x="684" y="835"/>
                </a:lnTo>
                <a:lnTo>
                  <a:pt x="684" y="832"/>
                </a:lnTo>
                <a:lnTo>
                  <a:pt x="679" y="833"/>
                </a:lnTo>
                <a:lnTo>
                  <a:pt x="677" y="835"/>
                </a:lnTo>
                <a:lnTo>
                  <a:pt x="675" y="837"/>
                </a:lnTo>
                <a:lnTo>
                  <a:pt x="673" y="837"/>
                </a:lnTo>
                <a:lnTo>
                  <a:pt x="664" y="837"/>
                </a:lnTo>
                <a:lnTo>
                  <a:pt x="622" y="835"/>
                </a:lnTo>
                <a:lnTo>
                  <a:pt x="573" y="833"/>
                </a:lnTo>
                <a:lnTo>
                  <a:pt x="569" y="833"/>
                </a:lnTo>
                <a:lnTo>
                  <a:pt x="523" y="832"/>
                </a:lnTo>
                <a:lnTo>
                  <a:pt x="512" y="832"/>
                </a:lnTo>
                <a:lnTo>
                  <a:pt x="509" y="832"/>
                </a:lnTo>
                <a:lnTo>
                  <a:pt x="505" y="804"/>
                </a:lnTo>
                <a:lnTo>
                  <a:pt x="501" y="755"/>
                </a:lnTo>
                <a:lnTo>
                  <a:pt x="481" y="733"/>
                </a:lnTo>
                <a:lnTo>
                  <a:pt x="468" y="718"/>
                </a:lnTo>
                <a:lnTo>
                  <a:pt x="487" y="718"/>
                </a:lnTo>
                <a:lnTo>
                  <a:pt x="496" y="718"/>
                </a:lnTo>
                <a:lnTo>
                  <a:pt x="498" y="718"/>
                </a:lnTo>
                <a:lnTo>
                  <a:pt x="498" y="713"/>
                </a:lnTo>
                <a:lnTo>
                  <a:pt x="498" y="702"/>
                </a:lnTo>
                <a:lnTo>
                  <a:pt x="498" y="682"/>
                </a:lnTo>
                <a:lnTo>
                  <a:pt x="496" y="673"/>
                </a:lnTo>
                <a:lnTo>
                  <a:pt x="490" y="660"/>
                </a:lnTo>
                <a:lnTo>
                  <a:pt x="483" y="645"/>
                </a:lnTo>
                <a:lnTo>
                  <a:pt x="479" y="642"/>
                </a:lnTo>
                <a:lnTo>
                  <a:pt x="478" y="629"/>
                </a:lnTo>
                <a:lnTo>
                  <a:pt x="479" y="623"/>
                </a:lnTo>
                <a:lnTo>
                  <a:pt x="483" y="620"/>
                </a:lnTo>
                <a:lnTo>
                  <a:pt x="485" y="616"/>
                </a:lnTo>
                <a:lnTo>
                  <a:pt x="487" y="612"/>
                </a:lnTo>
                <a:lnTo>
                  <a:pt x="478" y="594"/>
                </a:lnTo>
                <a:lnTo>
                  <a:pt x="467" y="590"/>
                </a:lnTo>
                <a:lnTo>
                  <a:pt x="459" y="589"/>
                </a:lnTo>
                <a:lnTo>
                  <a:pt x="452" y="583"/>
                </a:lnTo>
                <a:lnTo>
                  <a:pt x="450" y="583"/>
                </a:lnTo>
                <a:lnTo>
                  <a:pt x="446" y="583"/>
                </a:lnTo>
                <a:lnTo>
                  <a:pt x="432" y="574"/>
                </a:lnTo>
                <a:lnTo>
                  <a:pt x="426" y="568"/>
                </a:lnTo>
                <a:lnTo>
                  <a:pt x="423" y="565"/>
                </a:lnTo>
                <a:lnTo>
                  <a:pt x="403" y="567"/>
                </a:lnTo>
                <a:lnTo>
                  <a:pt x="381" y="570"/>
                </a:lnTo>
                <a:lnTo>
                  <a:pt x="377" y="570"/>
                </a:lnTo>
                <a:lnTo>
                  <a:pt x="372" y="568"/>
                </a:lnTo>
                <a:lnTo>
                  <a:pt x="370" y="567"/>
                </a:lnTo>
                <a:lnTo>
                  <a:pt x="368" y="567"/>
                </a:lnTo>
                <a:lnTo>
                  <a:pt x="357" y="568"/>
                </a:lnTo>
                <a:lnTo>
                  <a:pt x="350" y="570"/>
                </a:lnTo>
                <a:lnTo>
                  <a:pt x="346" y="568"/>
                </a:lnTo>
                <a:lnTo>
                  <a:pt x="331" y="552"/>
                </a:lnTo>
                <a:lnTo>
                  <a:pt x="322" y="543"/>
                </a:lnTo>
                <a:lnTo>
                  <a:pt x="320" y="536"/>
                </a:lnTo>
                <a:lnTo>
                  <a:pt x="320" y="532"/>
                </a:lnTo>
                <a:lnTo>
                  <a:pt x="311" y="528"/>
                </a:lnTo>
                <a:lnTo>
                  <a:pt x="308" y="530"/>
                </a:lnTo>
                <a:lnTo>
                  <a:pt x="306" y="530"/>
                </a:lnTo>
                <a:lnTo>
                  <a:pt x="298" y="532"/>
                </a:lnTo>
                <a:lnTo>
                  <a:pt x="295" y="532"/>
                </a:lnTo>
                <a:lnTo>
                  <a:pt x="256" y="517"/>
                </a:lnTo>
                <a:lnTo>
                  <a:pt x="236" y="503"/>
                </a:lnTo>
                <a:lnTo>
                  <a:pt x="231" y="493"/>
                </a:lnTo>
                <a:lnTo>
                  <a:pt x="229" y="488"/>
                </a:lnTo>
                <a:lnTo>
                  <a:pt x="229" y="484"/>
                </a:lnTo>
                <a:lnTo>
                  <a:pt x="222" y="483"/>
                </a:lnTo>
                <a:lnTo>
                  <a:pt x="220" y="484"/>
                </a:lnTo>
                <a:lnTo>
                  <a:pt x="214" y="486"/>
                </a:lnTo>
                <a:lnTo>
                  <a:pt x="211" y="490"/>
                </a:lnTo>
                <a:lnTo>
                  <a:pt x="203" y="488"/>
                </a:lnTo>
                <a:lnTo>
                  <a:pt x="198" y="486"/>
                </a:lnTo>
                <a:lnTo>
                  <a:pt x="194" y="484"/>
                </a:lnTo>
                <a:lnTo>
                  <a:pt x="191" y="479"/>
                </a:lnTo>
                <a:lnTo>
                  <a:pt x="189" y="475"/>
                </a:lnTo>
                <a:lnTo>
                  <a:pt x="170" y="466"/>
                </a:lnTo>
                <a:lnTo>
                  <a:pt x="158" y="466"/>
                </a:lnTo>
                <a:lnTo>
                  <a:pt x="154" y="466"/>
                </a:lnTo>
                <a:lnTo>
                  <a:pt x="150" y="468"/>
                </a:lnTo>
                <a:lnTo>
                  <a:pt x="136" y="472"/>
                </a:lnTo>
                <a:lnTo>
                  <a:pt x="110" y="468"/>
                </a:lnTo>
                <a:lnTo>
                  <a:pt x="103" y="466"/>
                </a:lnTo>
                <a:lnTo>
                  <a:pt x="101" y="464"/>
                </a:lnTo>
                <a:lnTo>
                  <a:pt x="99" y="464"/>
                </a:lnTo>
                <a:lnTo>
                  <a:pt x="92" y="457"/>
                </a:lnTo>
                <a:lnTo>
                  <a:pt x="90" y="444"/>
                </a:lnTo>
                <a:lnTo>
                  <a:pt x="79" y="440"/>
                </a:lnTo>
                <a:lnTo>
                  <a:pt x="68" y="435"/>
                </a:lnTo>
                <a:lnTo>
                  <a:pt x="66" y="431"/>
                </a:lnTo>
                <a:lnTo>
                  <a:pt x="63" y="426"/>
                </a:lnTo>
                <a:lnTo>
                  <a:pt x="61" y="424"/>
                </a:lnTo>
                <a:lnTo>
                  <a:pt x="59" y="424"/>
                </a:lnTo>
                <a:lnTo>
                  <a:pt x="53" y="424"/>
                </a:lnTo>
                <a:lnTo>
                  <a:pt x="44" y="422"/>
                </a:lnTo>
                <a:lnTo>
                  <a:pt x="42" y="420"/>
                </a:lnTo>
                <a:lnTo>
                  <a:pt x="41" y="419"/>
                </a:lnTo>
                <a:lnTo>
                  <a:pt x="39" y="409"/>
                </a:lnTo>
                <a:lnTo>
                  <a:pt x="39" y="402"/>
                </a:lnTo>
                <a:lnTo>
                  <a:pt x="37" y="397"/>
                </a:lnTo>
                <a:lnTo>
                  <a:pt x="20" y="375"/>
                </a:lnTo>
                <a:lnTo>
                  <a:pt x="19" y="373"/>
                </a:lnTo>
                <a:lnTo>
                  <a:pt x="15" y="373"/>
                </a:lnTo>
                <a:lnTo>
                  <a:pt x="13" y="373"/>
                </a:lnTo>
                <a:lnTo>
                  <a:pt x="10" y="364"/>
                </a:lnTo>
                <a:lnTo>
                  <a:pt x="6" y="351"/>
                </a:lnTo>
                <a:lnTo>
                  <a:pt x="4" y="342"/>
                </a:lnTo>
                <a:lnTo>
                  <a:pt x="4" y="340"/>
                </a:lnTo>
                <a:lnTo>
                  <a:pt x="10" y="331"/>
                </a:lnTo>
                <a:lnTo>
                  <a:pt x="13" y="323"/>
                </a:lnTo>
                <a:lnTo>
                  <a:pt x="11" y="314"/>
                </a:lnTo>
                <a:lnTo>
                  <a:pt x="11" y="311"/>
                </a:lnTo>
                <a:lnTo>
                  <a:pt x="6" y="302"/>
                </a:lnTo>
                <a:lnTo>
                  <a:pt x="0" y="289"/>
                </a:lnTo>
                <a:lnTo>
                  <a:pt x="0" y="27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66840" y="314280"/>
            <a:ext cx="1865520" cy="1863720"/>
          </a:xfrm>
          <a:custGeom>
            <a:avLst/>
            <a:gdLst/>
            <a:ahLst/>
            <a:rect l="l" t="t" r="r" b="b"/>
            <a:pathLst>
              <a:path w="1166" h="1273">
                <a:moveTo>
                  <a:pt x="674" y="1209"/>
                </a:moveTo>
                <a:lnTo>
                  <a:pt x="672" y="1209"/>
                </a:lnTo>
                <a:lnTo>
                  <a:pt x="663" y="1200"/>
                </a:lnTo>
                <a:lnTo>
                  <a:pt x="660" y="1196"/>
                </a:lnTo>
                <a:lnTo>
                  <a:pt x="660" y="1194"/>
                </a:lnTo>
                <a:lnTo>
                  <a:pt x="660" y="1190"/>
                </a:lnTo>
                <a:lnTo>
                  <a:pt x="660" y="1187"/>
                </a:lnTo>
                <a:lnTo>
                  <a:pt x="658" y="1185"/>
                </a:lnTo>
                <a:lnTo>
                  <a:pt x="650" y="1185"/>
                </a:lnTo>
                <a:lnTo>
                  <a:pt x="627" y="1185"/>
                </a:lnTo>
                <a:lnTo>
                  <a:pt x="583" y="1187"/>
                </a:lnTo>
                <a:lnTo>
                  <a:pt x="574" y="1187"/>
                </a:lnTo>
                <a:lnTo>
                  <a:pt x="570" y="1185"/>
                </a:lnTo>
                <a:lnTo>
                  <a:pt x="550" y="1185"/>
                </a:lnTo>
                <a:lnTo>
                  <a:pt x="544" y="1194"/>
                </a:lnTo>
                <a:lnTo>
                  <a:pt x="539" y="1209"/>
                </a:lnTo>
                <a:lnTo>
                  <a:pt x="532" y="1225"/>
                </a:lnTo>
                <a:lnTo>
                  <a:pt x="517" y="1256"/>
                </a:lnTo>
                <a:lnTo>
                  <a:pt x="510" y="1260"/>
                </a:lnTo>
                <a:lnTo>
                  <a:pt x="500" y="1242"/>
                </a:lnTo>
                <a:lnTo>
                  <a:pt x="493" y="1225"/>
                </a:lnTo>
                <a:lnTo>
                  <a:pt x="491" y="1212"/>
                </a:lnTo>
                <a:lnTo>
                  <a:pt x="491" y="1210"/>
                </a:lnTo>
                <a:lnTo>
                  <a:pt x="488" y="1207"/>
                </a:lnTo>
                <a:lnTo>
                  <a:pt x="479" y="1203"/>
                </a:lnTo>
                <a:lnTo>
                  <a:pt x="449" y="1194"/>
                </a:lnTo>
                <a:lnTo>
                  <a:pt x="429" y="1194"/>
                </a:lnTo>
                <a:lnTo>
                  <a:pt x="391" y="1196"/>
                </a:lnTo>
                <a:lnTo>
                  <a:pt x="385" y="1196"/>
                </a:lnTo>
                <a:lnTo>
                  <a:pt x="376" y="1196"/>
                </a:lnTo>
                <a:lnTo>
                  <a:pt x="369" y="1192"/>
                </a:lnTo>
                <a:lnTo>
                  <a:pt x="363" y="1187"/>
                </a:lnTo>
                <a:lnTo>
                  <a:pt x="358" y="1179"/>
                </a:lnTo>
                <a:lnTo>
                  <a:pt x="343" y="1170"/>
                </a:lnTo>
                <a:lnTo>
                  <a:pt x="332" y="1165"/>
                </a:lnTo>
                <a:lnTo>
                  <a:pt x="330" y="1165"/>
                </a:lnTo>
                <a:lnTo>
                  <a:pt x="329" y="1167"/>
                </a:lnTo>
                <a:lnTo>
                  <a:pt x="327" y="1176"/>
                </a:lnTo>
                <a:lnTo>
                  <a:pt x="325" y="1183"/>
                </a:lnTo>
                <a:lnTo>
                  <a:pt x="323" y="1189"/>
                </a:lnTo>
                <a:lnTo>
                  <a:pt x="321" y="1192"/>
                </a:lnTo>
                <a:lnTo>
                  <a:pt x="318" y="1196"/>
                </a:lnTo>
                <a:lnTo>
                  <a:pt x="312" y="1198"/>
                </a:lnTo>
                <a:lnTo>
                  <a:pt x="303" y="1201"/>
                </a:lnTo>
                <a:lnTo>
                  <a:pt x="298" y="1203"/>
                </a:lnTo>
                <a:lnTo>
                  <a:pt x="292" y="1203"/>
                </a:lnTo>
                <a:lnTo>
                  <a:pt x="285" y="1205"/>
                </a:lnTo>
                <a:lnTo>
                  <a:pt x="281" y="1207"/>
                </a:lnTo>
                <a:lnTo>
                  <a:pt x="277" y="1221"/>
                </a:lnTo>
                <a:lnTo>
                  <a:pt x="277" y="1227"/>
                </a:lnTo>
                <a:lnTo>
                  <a:pt x="270" y="1229"/>
                </a:lnTo>
                <a:lnTo>
                  <a:pt x="263" y="1231"/>
                </a:lnTo>
                <a:lnTo>
                  <a:pt x="254" y="1236"/>
                </a:lnTo>
                <a:lnTo>
                  <a:pt x="254" y="1242"/>
                </a:lnTo>
                <a:lnTo>
                  <a:pt x="254" y="1247"/>
                </a:lnTo>
                <a:lnTo>
                  <a:pt x="243" y="1254"/>
                </a:lnTo>
                <a:lnTo>
                  <a:pt x="237" y="1265"/>
                </a:lnTo>
                <a:lnTo>
                  <a:pt x="223" y="1267"/>
                </a:lnTo>
                <a:lnTo>
                  <a:pt x="208" y="1271"/>
                </a:lnTo>
                <a:lnTo>
                  <a:pt x="199" y="1273"/>
                </a:lnTo>
                <a:lnTo>
                  <a:pt x="179" y="1271"/>
                </a:lnTo>
                <a:lnTo>
                  <a:pt x="171" y="1265"/>
                </a:lnTo>
                <a:lnTo>
                  <a:pt x="170" y="1254"/>
                </a:lnTo>
                <a:lnTo>
                  <a:pt x="173" y="1240"/>
                </a:lnTo>
                <a:lnTo>
                  <a:pt x="170" y="1227"/>
                </a:lnTo>
                <a:lnTo>
                  <a:pt x="166" y="1214"/>
                </a:lnTo>
                <a:lnTo>
                  <a:pt x="166" y="1212"/>
                </a:lnTo>
                <a:lnTo>
                  <a:pt x="166" y="1209"/>
                </a:lnTo>
                <a:lnTo>
                  <a:pt x="164" y="1196"/>
                </a:lnTo>
                <a:lnTo>
                  <a:pt x="162" y="1192"/>
                </a:lnTo>
                <a:lnTo>
                  <a:pt x="159" y="1190"/>
                </a:lnTo>
                <a:lnTo>
                  <a:pt x="151" y="1181"/>
                </a:lnTo>
                <a:lnTo>
                  <a:pt x="151" y="1178"/>
                </a:lnTo>
                <a:lnTo>
                  <a:pt x="151" y="1174"/>
                </a:lnTo>
                <a:lnTo>
                  <a:pt x="151" y="1170"/>
                </a:lnTo>
                <a:lnTo>
                  <a:pt x="151" y="1168"/>
                </a:lnTo>
                <a:lnTo>
                  <a:pt x="149" y="1161"/>
                </a:lnTo>
                <a:lnTo>
                  <a:pt x="148" y="1156"/>
                </a:lnTo>
                <a:lnTo>
                  <a:pt x="146" y="1154"/>
                </a:lnTo>
                <a:lnTo>
                  <a:pt x="142" y="1150"/>
                </a:lnTo>
                <a:lnTo>
                  <a:pt x="142" y="1148"/>
                </a:lnTo>
                <a:lnTo>
                  <a:pt x="140" y="1117"/>
                </a:lnTo>
                <a:lnTo>
                  <a:pt x="137" y="1112"/>
                </a:lnTo>
                <a:lnTo>
                  <a:pt x="118" y="1084"/>
                </a:lnTo>
                <a:lnTo>
                  <a:pt x="115" y="1084"/>
                </a:lnTo>
                <a:lnTo>
                  <a:pt x="113" y="1084"/>
                </a:lnTo>
                <a:lnTo>
                  <a:pt x="111" y="1083"/>
                </a:lnTo>
                <a:lnTo>
                  <a:pt x="107" y="1083"/>
                </a:lnTo>
                <a:lnTo>
                  <a:pt x="106" y="1081"/>
                </a:lnTo>
                <a:lnTo>
                  <a:pt x="106" y="1079"/>
                </a:lnTo>
                <a:lnTo>
                  <a:pt x="106" y="1077"/>
                </a:lnTo>
                <a:lnTo>
                  <a:pt x="106" y="1064"/>
                </a:lnTo>
                <a:lnTo>
                  <a:pt x="107" y="1059"/>
                </a:lnTo>
                <a:lnTo>
                  <a:pt x="111" y="1057"/>
                </a:lnTo>
                <a:lnTo>
                  <a:pt x="113" y="1055"/>
                </a:lnTo>
                <a:lnTo>
                  <a:pt x="115" y="1053"/>
                </a:lnTo>
                <a:lnTo>
                  <a:pt x="111" y="1051"/>
                </a:lnTo>
                <a:lnTo>
                  <a:pt x="106" y="1048"/>
                </a:lnTo>
                <a:lnTo>
                  <a:pt x="104" y="1048"/>
                </a:lnTo>
                <a:lnTo>
                  <a:pt x="102" y="1046"/>
                </a:lnTo>
                <a:lnTo>
                  <a:pt x="98" y="1044"/>
                </a:lnTo>
                <a:lnTo>
                  <a:pt x="95" y="1044"/>
                </a:lnTo>
                <a:lnTo>
                  <a:pt x="93" y="1042"/>
                </a:lnTo>
                <a:lnTo>
                  <a:pt x="89" y="1039"/>
                </a:lnTo>
                <a:lnTo>
                  <a:pt x="87" y="1037"/>
                </a:lnTo>
                <a:lnTo>
                  <a:pt x="87" y="1033"/>
                </a:lnTo>
                <a:lnTo>
                  <a:pt x="87" y="1030"/>
                </a:lnTo>
                <a:lnTo>
                  <a:pt x="89" y="1028"/>
                </a:lnTo>
                <a:lnTo>
                  <a:pt x="91" y="1026"/>
                </a:lnTo>
                <a:lnTo>
                  <a:pt x="89" y="1017"/>
                </a:lnTo>
                <a:lnTo>
                  <a:pt x="85" y="1006"/>
                </a:lnTo>
                <a:lnTo>
                  <a:pt x="84" y="1004"/>
                </a:lnTo>
                <a:lnTo>
                  <a:pt x="84" y="1002"/>
                </a:lnTo>
                <a:lnTo>
                  <a:pt x="96" y="998"/>
                </a:lnTo>
                <a:lnTo>
                  <a:pt x="100" y="998"/>
                </a:lnTo>
                <a:lnTo>
                  <a:pt x="104" y="998"/>
                </a:lnTo>
                <a:lnTo>
                  <a:pt x="109" y="986"/>
                </a:lnTo>
                <a:lnTo>
                  <a:pt x="104" y="976"/>
                </a:lnTo>
                <a:lnTo>
                  <a:pt x="98" y="973"/>
                </a:lnTo>
                <a:lnTo>
                  <a:pt x="93" y="969"/>
                </a:lnTo>
                <a:lnTo>
                  <a:pt x="93" y="966"/>
                </a:lnTo>
                <a:lnTo>
                  <a:pt x="102" y="956"/>
                </a:lnTo>
                <a:lnTo>
                  <a:pt x="104" y="951"/>
                </a:lnTo>
                <a:lnTo>
                  <a:pt x="106" y="949"/>
                </a:lnTo>
                <a:lnTo>
                  <a:pt x="117" y="938"/>
                </a:lnTo>
                <a:lnTo>
                  <a:pt x="111" y="933"/>
                </a:lnTo>
                <a:lnTo>
                  <a:pt x="106" y="927"/>
                </a:lnTo>
                <a:lnTo>
                  <a:pt x="104" y="927"/>
                </a:lnTo>
                <a:lnTo>
                  <a:pt x="100" y="925"/>
                </a:lnTo>
                <a:lnTo>
                  <a:pt x="98" y="923"/>
                </a:lnTo>
                <a:lnTo>
                  <a:pt x="96" y="923"/>
                </a:lnTo>
                <a:lnTo>
                  <a:pt x="87" y="914"/>
                </a:lnTo>
                <a:lnTo>
                  <a:pt x="84" y="911"/>
                </a:lnTo>
                <a:lnTo>
                  <a:pt x="73" y="903"/>
                </a:lnTo>
                <a:lnTo>
                  <a:pt x="67" y="892"/>
                </a:lnTo>
                <a:lnTo>
                  <a:pt x="69" y="885"/>
                </a:lnTo>
                <a:lnTo>
                  <a:pt x="67" y="881"/>
                </a:lnTo>
                <a:lnTo>
                  <a:pt x="63" y="872"/>
                </a:lnTo>
                <a:lnTo>
                  <a:pt x="60" y="865"/>
                </a:lnTo>
                <a:lnTo>
                  <a:pt x="60" y="860"/>
                </a:lnTo>
                <a:lnTo>
                  <a:pt x="60" y="854"/>
                </a:lnTo>
                <a:lnTo>
                  <a:pt x="60" y="850"/>
                </a:lnTo>
                <a:lnTo>
                  <a:pt x="60" y="847"/>
                </a:lnTo>
                <a:lnTo>
                  <a:pt x="60" y="845"/>
                </a:lnTo>
                <a:lnTo>
                  <a:pt x="60" y="843"/>
                </a:lnTo>
                <a:lnTo>
                  <a:pt x="58" y="841"/>
                </a:lnTo>
                <a:lnTo>
                  <a:pt x="56" y="839"/>
                </a:lnTo>
                <a:lnTo>
                  <a:pt x="54" y="828"/>
                </a:lnTo>
                <a:lnTo>
                  <a:pt x="54" y="823"/>
                </a:lnTo>
                <a:lnTo>
                  <a:pt x="53" y="821"/>
                </a:lnTo>
                <a:lnTo>
                  <a:pt x="51" y="817"/>
                </a:lnTo>
                <a:lnTo>
                  <a:pt x="49" y="816"/>
                </a:lnTo>
                <a:lnTo>
                  <a:pt x="49" y="814"/>
                </a:lnTo>
                <a:lnTo>
                  <a:pt x="51" y="812"/>
                </a:lnTo>
                <a:lnTo>
                  <a:pt x="54" y="810"/>
                </a:lnTo>
                <a:lnTo>
                  <a:pt x="56" y="808"/>
                </a:lnTo>
                <a:lnTo>
                  <a:pt x="56" y="805"/>
                </a:lnTo>
                <a:lnTo>
                  <a:pt x="51" y="803"/>
                </a:lnTo>
                <a:lnTo>
                  <a:pt x="34" y="799"/>
                </a:lnTo>
                <a:lnTo>
                  <a:pt x="34" y="797"/>
                </a:lnTo>
                <a:lnTo>
                  <a:pt x="32" y="794"/>
                </a:lnTo>
                <a:lnTo>
                  <a:pt x="32" y="790"/>
                </a:lnTo>
                <a:lnTo>
                  <a:pt x="32" y="785"/>
                </a:lnTo>
                <a:lnTo>
                  <a:pt x="31" y="781"/>
                </a:lnTo>
                <a:lnTo>
                  <a:pt x="29" y="777"/>
                </a:lnTo>
                <a:lnTo>
                  <a:pt x="27" y="775"/>
                </a:lnTo>
                <a:lnTo>
                  <a:pt x="16" y="766"/>
                </a:lnTo>
                <a:lnTo>
                  <a:pt x="14" y="753"/>
                </a:lnTo>
                <a:lnTo>
                  <a:pt x="14" y="746"/>
                </a:lnTo>
                <a:lnTo>
                  <a:pt x="14" y="741"/>
                </a:lnTo>
                <a:lnTo>
                  <a:pt x="12" y="739"/>
                </a:lnTo>
                <a:lnTo>
                  <a:pt x="7" y="733"/>
                </a:lnTo>
                <a:lnTo>
                  <a:pt x="0" y="732"/>
                </a:lnTo>
                <a:lnTo>
                  <a:pt x="3" y="726"/>
                </a:lnTo>
                <a:lnTo>
                  <a:pt x="7" y="722"/>
                </a:lnTo>
                <a:lnTo>
                  <a:pt x="12" y="717"/>
                </a:lnTo>
                <a:lnTo>
                  <a:pt x="18" y="713"/>
                </a:lnTo>
                <a:lnTo>
                  <a:pt x="23" y="711"/>
                </a:lnTo>
                <a:lnTo>
                  <a:pt x="25" y="710"/>
                </a:lnTo>
                <a:lnTo>
                  <a:pt x="32" y="697"/>
                </a:lnTo>
                <a:lnTo>
                  <a:pt x="45" y="684"/>
                </a:lnTo>
                <a:lnTo>
                  <a:pt x="53" y="677"/>
                </a:lnTo>
                <a:lnTo>
                  <a:pt x="58" y="675"/>
                </a:lnTo>
                <a:lnTo>
                  <a:pt x="62" y="671"/>
                </a:lnTo>
                <a:lnTo>
                  <a:pt x="62" y="669"/>
                </a:lnTo>
                <a:lnTo>
                  <a:pt x="60" y="668"/>
                </a:lnTo>
                <a:lnTo>
                  <a:pt x="60" y="662"/>
                </a:lnTo>
                <a:lnTo>
                  <a:pt x="60" y="655"/>
                </a:lnTo>
                <a:lnTo>
                  <a:pt x="63" y="649"/>
                </a:lnTo>
                <a:lnTo>
                  <a:pt x="78" y="642"/>
                </a:lnTo>
                <a:lnTo>
                  <a:pt x="80" y="640"/>
                </a:lnTo>
                <a:lnTo>
                  <a:pt x="78" y="636"/>
                </a:lnTo>
                <a:lnTo>
                  <a:pt x="65" y="629"/>
                </a:lnTo>
                <a:lnTo>
                  <a:pt x="58" y="629"/>
                </a:lnTo>
                <a:lnTo>
                  <a:pt x="56" y="631"/>
                </a:lnTo>
                <a:lnTo>
                  <a:pt x="49" y="629"/>
                </a:lnTo>
                <a:lnTo>
                  <a:pt x="47" y="629"/>
                </a:lnTo>
                <a:lnTo>
                  <a:pt x="42" y="624"/>
                </a:lnTo>
                <a:lnTo>
                  <a:pt x="23" y="573"/>
                </a:lnTo>
                <a:lnTo>
                  <a:pt x="31" y="554"/>
                </a:lnTo>
                <a:lnTo>
                  <a:pt x="38" y="543"/>
                </a:lnTo>
                <a:lnTo>
                  <a:pt x="43" y="538"/>
                </a:lnTo>
                <a:lnTo>
                  <a:pt x="47" y="538"/>
                </a:lnTo>
                <a:lnTo>
                  <a:pt x="49" y="538"/>
                </a:lnTo>
                <a:lnTo>
                  <a:pt x="49" y="534"/>
                </a:lnTo>
                <a:lnTo>
                  <a:pt x="47" y="530"/>
                </a:lnTo>
                <a:lnTo>
                  <a:pt x="43" y="529"/>
                </a:lnTo>
                <a:lnTo>
                  <a:pt x="34" y="520"/>
                </a:lnTo>
                <a:lnTo>
                  <a:pt x="27" y="509"/>
                </a:lnTo>
                <a:lnTo>
                  <a:pt x="29" y="494"/>
                </a:lnTo>
                <a:lnTo>
                  <a:pt x="31" y="492"/>
                </a:lnTo>
                <a:lnTo>
                  <a:pt x="32" y="490"/>
                </a:lnTo>
                <a:lnTo>
                  <a:pt x="40" y="483"/>
                </a:lnTo>
                <a:lnTo>
                  <a:pt x="40" y="479"/>
                </a:lnTo>
                <a:lnTo>
                  <a:pt x="40" y="476"/>
                </a:lnTo>
                <a:lnTo>
                  <a:pt x="40" y="474"/>
                </a:lnTo>
                <a:lnTo>
                  <a:pt x="53" y="463"/>
                </a:lnTo>
                <a:lnTo>
                  <a:pt x="65" y="452"/>
                </a:lnTo>
                <a:lnTo>
                  <a:pt x="63" y="448"/>
                </a:lnTo>
                <a:lnTo>
                  <a:pt x="63" y="441"/>
                </a:lnTo>
                <a:lnTo>
                  <a:pt x="63" y="439"/>
                </a:lnTo>
                <a:lnTo>
                  <a:pt x="67" y="437"/>
                </a:lnTo>
                <a:lnTo>
                  <a:pt x="71" y="437"/>
                </a:lnTo>
                <a:lnTo>
                  <a:pt x="76" y="435"/>
                </a:lnTo>
                <a:lnTo>
                  <a:pt x="73" y="419"/>
                </a:lnTo>
                <a:lnTo>
                  <a:pt x="69" y="417"/>
                </a:lnTo>
                <a:lnTo>
                  <a:pt x="67" y="415"/>
                </a:lnTo>
                <a:lnTo>
                  <a:pt x="65" y="413"/>
                </a:lnTo>
                <a:lnTo>
                  <a:pt x="63" y="401"/>
                </a:lnTo>
                <a:lnTo>
                  <a:pt x="62" y="397"/>
                </a:lnTo>
                <a:lnTo>
                  <a:pt x="56" y="388"/>
                </a:lnTo>
                <a:lnTo>
                  <a:pt x="60" y="382"/>
                </a:lnTo>
                <a:lnTo>
                  <a:pt x="65" y="375"/>
                </a:lnTo>
                <a:lnTo>
                  <a:pt x="67" y="370"/>
                </a:lnTo>
                <a:lnTo>
                  <a:pt x="67" y="364"/>
                </a:lnTo>
                <a:lnTo>
                  <a:pt x="67" y="346"/>
                </a:lnTo>
                <a:lnTo>
                  <a:pt x="65" y="337"/>
                </a:lnTo>
                <a:lnTo>
                  <a:pt x="65" y="329"/>
                </a:lnTo>
                <a:lnTo>
                  <a:pt x="67" y="322"/>
                </a:lnTo>
                <a:lnTo>
                  <a:pt x="65" y="320"/>
                </a:lnTo>
                <a:lnTo>
                  <a:pt x="65" y="307"/>
                </a:lnTo>
                <a:lnTo>
                  <a:pt x="71" y="302"/>
                </a:lnTo>
                <a:lnTo>
                  <a:pt x="74" y="296"/>
                </a:lnTo>
                <a:lnTo>
                  <a:pt x="80" y="295"/>
                </a:lnTo>
                <a:lnTo>
                  <a:pt x="85" y="286"/>
                </a:lnTo>
                <a:lnTo>
                  <a:pt x="87" y="280"/>
                </a:lnTo>
                <a:lnTo>
                  <a:pt x="95" y="273"/>
                </a:lnTo>
                <a:lnTo>
                  <a:pt x="87" y="258"/>
                </a:lnTo>
                <a:lnTo>
                  <a:pt x="78" y="242"/>
                </a:lnTo>
                <a:lnTo>
                  <a:pt x="74" y="233"/>
                </a:lnTo>
                <a:lnTo>
                  <a:pt x="71" y="223"/>
                </a:lnTo>
                <a:lnTo>
                  <a:pt x="67" y="218"/>
                </a:lnTo>
                <a:lnTo>
                  <a:pt x="63" y="214"/>
                </a:lnTo>
                <a:lnTo>
                  <a:pt x="63" y="212"/>
                </a:lnTo>
                <a:lnTo>
                  <a:pt x="60" y="207"/>
                </a:lnTo>
                <a:lnTo>
                  <a:pt x="56" y="201"/>
                </a:lnTo>
                <a:lnTo>
                  <a:pt x="45" y="183"/>
                </a:lnTo>
                <a:lnTo>
                  <a:pt x="42" y="180"/>
                </a:lnTo>
                <a:lnTo>
                  <a:pt x="40" y="174"/>
                </a:lnTo>
                <a:lnTo>
                  <a:pt x="21" y="145"/>
                </a:lnTo>
                <a:lnTo>
                  <a:pt x="14" y="134"/>
                </a:lnTo>
                <a:lnTo>
                  <a:pt x="9" y="123"/>
                </a:lnTo>
                <a:lnTo>
                  <a:pt x="23" y="123"/>
                </a:lnTo>
                <a:lnTo>
                  <a:pt x="42" y="123"/>
                </a:lnTo>
                <a:lnTo>
                  <a:pt x="56" y="125"/>
                </a:lnTo>
                <a:lnTo>
                  <a:pt x="78" y="130"/>
                </a:lnTo>
                <a:lnTo>
                  <a:pt x="85" y="141"/>
                </a:lnTo>
                <a:lnTo>
                  <a:pt x="91" y="141"/>
                </a:lnTo>
                <a:lnTo>
                  <a:pt x="96" y="139"/>
                </a:lnTo>
                <a:lnTo>
                  <a:pt x="100" y="139"/>
                </a:lnTo>
                <a:lnTo>
                  <a:pt x="104" y="137"/>
                </a:lnTo>
                <a:lnTo>
                  <a:pt x="129" y="128"/>
                </a:lnTo>
                <a:lnTo>
                  <a:pt x="133" y="126"/>
                </a:lnTo>
                <a:lnTo>
                  <a:pt x="137" y="119"/>
                </a:lnTo>
                <a:lnTo>
                  <a:pt x="148" y="105"/>
                </a:lnTo>
                <a:lnTo>
                  <a:pt x="148" y="103"/>
                </a:lnTo>
                <a:lnTo>
                  <a:pt x="149" y="99"/>
                </a:lnTo>
                <a:lnTo>
                  <a:pt x="151" y="97"/>
                </a:lnTo>
                <a:lnTo>
                  <a:pt x="153" y="97"/>
                </a:lnTo>
                <a:lnTo>
                  <a:pt x="157" y="95"/>
                </a:lnTo>
                <a:lnTo>
                  <a:pt x="171" y="95"/>
                </a:lnTo>
                <a:lnTo>
                  <a:pt x="175" y="95"/>
                </a:lnTo>
                <a:lnTo>
                  <a:pt x="177" y="95"/>
                </a:lnTo>
                <a:lnTo>
                  <a:pt x="190" y="92"/>
                </a:lnTo>
                <a:lnTo>
                  <a:pt x="197" y="83"/>
                </a:lnTo>
                <a:lnTo>
                  <a:pt x="199" y="81"/>
                </a:lnTo>
                <a:lnTo>
                  <a:pt x="224" y="66"/>
                </a:lnTo>
                <a:lnTo>
                  <a:pt x="237" y="63"/>
                </a:lnTo>
                <a:lnTo>
                  <a:pt x="248" y="57"/>
                </a:lnTo>
                <a:lnTo>
                  <a:pt x="250" y="55"/>
                </a:lnTo>
                <a:lnTo>
                  <a:pt x="257" y="48"/>
                </a:lnTo>
                <a:lnTo>
                  <a:pt x="261" y="46"/>
                </a:lnTo>
                <a:lnTo>
                  <a:pt x="263" y="44"/>
                </a:lnTo>
                <a:lnTo>
                  <a:pt x="265" y="41"/>
                </a:lnTo>
                <a:lnTo>
                  <a:pt x="279" y="31"/>
                </a:lnTo>
                <a:lnTo>
                  <a:pt x="290" y="24"/>
                </a:lnTo>
                <a:lnTo>
                  <a:pt x="290" y="22"/>
                </a:lnTo>
                <a:lnTo>
                  <a:pt x="299" y="20"/>
                </a:lnTo>
                <a:lnTo>
                  <a:pt x="305" y="20"/>
                </a:lnTo>
                <a:lnTo>
                  <a:pt x="310" y="20"/>
                </a:lnTo>
                <a:lnTo>
                  <a:pt x="314" y="19"/>
                </a:lnTo>
                <a:lnTo>
                  <a:pt x="334" y="13"/>
                </a:lnTo>
                <a:lnTo>
                  <a:pt x="343" y="10"/>
                </a:lnTo>
                <a:lnTo>
                  <a:pt x="354" y="11"/>
                </a:lnTo>
                <a:lnTo>
                  <a:pt x="367" y="11"/>
                </a:lnTo>
                <a:lnTo>
                  <a:pt x="371" y="10"/>
                </a:lnTo>
                <a:lnTo>
                  <a:pt x="376" y="10"/>
                </a:lnTo>
                <a:lnTo>
                  <a:pt x="389" y="17"/>
                </a:lnTo>
                <a:lnTo>
                  <a:pt x="393" y="17"/>
                </a:lnTo>
                <a:lnTo>
                  <a:pt x="398" y="10"/>
                </a:lnTo>
                <a:lnTo>
                  <a:pt x="398" y="8"/>
                </a:lnTo>
                <a:lnTo>
                  <a:pt x="400" y="4"/>
                </a:lnTo>
                <a:lnTo>
                  <a:pt x="405" y="0"/>
                </a:lnTo>
                <a:lnTo>
                  <a:pt x="409" y="2"/>
                </a:lnTo>
                <a:lnTo>
                  <a:pt x="411" y="4"/>
                </a:lnTo>
                <a:lnTo>
                  <a:pt x="415" y="10"/>
                </a:lnTo>
                <a:lnTo>
                  <a:pt x="418" y="17"/>
                </a:lnTo>
                <a:lnTo>
                  <a:pt x="416" y="22"/>
                </a:lnTo>
                <a:lnTo>
                  <a:pt x="415" y="26"/>
                </a:lnTo>
                <a:lnTo>
                  <a:pt x="416" y="37"/>
                </a:lnTo>
                <a:lnTo>
                  <a:pt x="418" y="39"/>
                </a:lnTo>
                <a:lnTo>
                  <a:pt x="418" y="41"/>
                </a:lnTo>
                <a:lnTo>
                  <a:pt x="420" y="50"/>
                </a:lnTo>
                <a:lnTo>
                  <a:pt x="420" y="53"/>
                </a:lnTo>
                <a:lnTo>
                  <a:pt x="418" y="59"/>
                </a:lnTo>
                <a:lnTo>
                  <a:pt x="416" y="61"/>
                </a:lnTo>
                <a:lnTo>
                  <a:pt x="415" y="63"/>
                </a:lnTo>
                <a:lnTo>
                  <a:pt x="411" y="66"/>
                </a:lnTo>
                <a:lnTo>
                  <a:pt x="411" y="68"/>
                </a:lnTo>
                <a:lnTo>
                  <a:pt x="409" y="70"/>
                </a:lnTo>
                <a:lnTo>
                  <a:pt x="405" y="77"/>
                </a:lnTo>
                <a:lnTo>
                  <a:pt x="405" y="92"/>
                </a:lnTo>
                <a:lnTo>
                  <a:pt x="411" y="105"/>
                </a:lnTo>
                <a:lnTo>
                  <a:pt x="416" y="114"/>
                </a:lnTo>
                <a:lnTo>
                  <a:pt x="416" y="117"/>
                </a:lnTo>
                <a:lnTo>
                  <a:pt x="418" y="126"/>
                </a:lnTo>
                <a:lnTo>
                  <a:pt x="415" y="134"/>
                </a:lnTo>
                <a:lnTo>
                  <a:pt x="409" y="143"/>
                </a:lnTo>
                <a:lnTo>
                  <a:pt x="409" y="145"/>
                </a:lnTo>
                <a:lnTo>
                  <a:pt x="411" y="154"/>
                </a:lnTo>
                <a:lnTo>
                  <a:pt x="415" y="167"/>
                </a:lnTo>
                <a:lnTo>
                  <a:pt x="418" y="176"/>
                </a:lnTo>
                <a:lnTo>
                  <a:pt x="420" y="176"/>
                </a:lnTo>
                <a:lnTo>
                  <a:pt x="424" y="176"/>
                </a:lnTo>
                <a:lnTo>
                  <a:pt x="425" y="178"/>
                </a:lnTo>
                <a:lnTo>
                  <a:pt x="442" y="200"/>
                </a:lnTo>
                <a:lnTo>
                  <a:pt x="444" y="205"/>
                </a:lnTo>
                <a:lnTo>
                  <a:pt x="444" y="212"/>
                </a:lnTo>
                <a:lnTo>
                  <a:pt x="446" y="222"/>
                </a:lnTo>
                <a:lnTo>
                  <a:pt x="447" y="223"/>
                </a:lnTo>
                <a:lnTo>
                  <a:pt x="449" y="225"/>
                </a:lnTo>
                <a:lnTo>
                  <a:pt x="458" y="227"/>
                </a:lnTo>
                <a:lnTo>
                  <a:pt x="464" y="227"/>
                </a:lnTo>
                <a:lnTo>
                  <a:pt x="466" y="227"/>
                </a:lnTo>
                <a:lnTo>
                  <a:pt x="468" y="229"/>
                </a:lnTo>
                <a:lnTo>
                  <a:pt x="471" y="234"/>
                </a:lnTo>
                <a:lnTo>
                  <a:pt x="473" y="238"/>
                </a:lnTo>
                <a:lnTo>
                  <a:pt x="484" y="243"/>
                </a:lnTo>
                <a:lnTo>
                  <a:pt x="495" y="247"/>
                </a:lnTo>
                <a:lnTo>
                  <a:pt x="497" y="260"/>
                </a:lnTo>
                <a:lnTo>
                  <a:pt x="504" y="267"/>
                </a:lnTo>
                <a:lnTo>
                  <a:pt x="506" y="267"/>
                </a:lnTo>
                <a:lnTo>
                  <a:pt x="508" y="269"/>
                </a:lnTo>
                <a:lnTo>
                  <a:pt x="515" y="271"/>
                </a:lnTo>
                <a:lnTo>
                  <a:pt x="541" y="275"/>
                </a:lnTo>
                <a:lnTo>
                  <a:pt x="555" y="271"/>
                </a:lnTo>
                <a:lnTo>
                  <a:pt x="559" y="269"/>
                </a:lnTo>
                <a:lnTo>
                  <a:pt x="563" y="269"/>
                </a:lnTo>
                <a:lnTo>
                  <a:pt x="575" y="269"/>
                </a:lnTo>
                <a:lnTo>
                  <a:pt x="594" y="278"/>
                </a:lnTo>
                <a:lnTo>
                  <a:pt x="596" y="282"/>
                </a:lnTo>
                <a:lnTo>
                  <a:pt x="599" y="287"/>
                </a:lnTo>
                <a:lnTo>
                  <a:pt x="603" y="289"/>
                </a:lnTo>
                <a:lnTo>
                  <a:pt x="608" y="291"/>
                </a:lnTo>
                <a:lnTo>
                  <a:pt x="616" y="293"/>
                </a:lnTo>
                <a:lnTo>
                  <a:pt x="619" y="289"/>
                </a:lnTo>
                <a:lnTo>
                  <a:pt x="625" y="287"/>
                </a:lnTo>
                <a:lnTo>
                  <a:pt x="627" y="286"/>
                </a:lnTo>
                <a:lnTo>
                  <a:pt x="634" y="287"/>
                </a:lnTo>
                <a:lnTo>
                  <a:pt x="634" y="291"/>
                </a:lnTo>
                <a:lnTo>
                  <a:pt x="636" y="296"/>
                </a:lnTo>
                <a:lnTo>
                  <a:pt x="641" y="306"/>
                </a:lnTo>
                <a:lnTo>
                  <a:pt x="661" y="320"/>
                </a:lnTo>
                <a:lnTo>
                  <a:pt x="700" y="335"/>
                </a:lnTo>
                <a:lnTo>
                  <a:pt x="703" y="335"/>
                </a:lnTo>
                <a:lnTo>
                  <a:pt x="711" y="333"/>
                </a:lnTo>
                <a:lnTo>
                  <a:pt x="713" y="333"/>
                </a:lnTo>
                <a:lnTo>
                  <a:pt x="716" y="331"/>
                </a:lnTo>
                <a:lnTo>
                  <a:pt x="725" y="335"/>
                </a:lnTo>
                <a:lnTo>
                  <a:pt x="725" y="339"/>
                </a:lnTo>
                <a:lnTo>
                  <a:pt x="727" y="346"/>
                </a:lnTo>
                <a:lnTo>
                  <a:pt x="736" y="355"/>
                </a:lnTo>
                <a:lnTo>
                  <a:pt x="751" y="371"/>
                </a:lnTo>
                <a:lnTo>
                  <a:pt x="755" y="373"/>
                </a:lnTo>
                <a:lnTo>
                  <a:pt x="762" y="371"/>
                </a:lnTo>
                <a:lnTo>
                  <a:pt x="773" y="370"/>
                </a:lnTo>
                <a:lnTo>
                  <a:pt x="775" y="370"/>
                </a:lnTo>
                <a:lnTo>
                  <a:pt x="777" y="371"/>
                </a:lnTo>
                <a:lnTo>
                  <a:pt x="782" y="373"/>
                </a:lnTo>
                <a:lnTo>
                  <a:pt x="786" y="373"/>
                </a:lnTo>
                <a:lnTo>
                  <a:pt x="808" y="370"/>
                </a:lnTo>
                <a:lnTo>
                  <a:pt x="828" y="368"/>
                </a:lnTo>
                <a:lnTo>
                  <a:pt x="831" y="371"/>
                </a:lnTo>
                <a:lnTo>
                  <a:pt x="837" y="377"/>
                </a:lnTo>
                <a:lnTo>
                  <a:pt x="851" y="386"/>
                </a:lnTo>
                <a:lnTo>
                  <a:pt x="855" y="386"/>
                </a:lnTo>
                <a:lnTo>
                  <a:pt x="857" y="386"/>
                </a:lnTo>
                <a:lnTo>
                  <a:pt x="864" y="392"/>
                </a:lnTo>
                <a:lnTo>
                  <a:pt x="872" y="393"/>
                </a:lnTo>
                <a:lnTo>
                  <a:pt x="883" y="397"/>
                </a:lnTo>
                <a:lnTo>
                  <a:pt x="892" y="415"/>
                </a:lnTo>
                <a:lnTo>
                  <a:pt x="890" y="419"/>
                </a:lnTo>
                <a:lnTo>
                  <a:pt x="888" y="423"/>
                </a:lnTo>
                <a:lnTo>
                  <a:pt x="884" y="426"/>
                </a:lnTo>
                <a:lnTo>
                  <a:pt x="883" y="432"/>
                </a:lnTo>
                <a:lnTo>
                  <a:pt x="884" y="445"/>
                </a:lnTo>
                <a:lnTo>
                  <a:pt x="888" y="448"/>
                </a:lnTo>
                <a:lnTo>
                  <a:pt x="895" y="463"/>
                </a:lnTo>
                <a:lnTo>
                  <a:pt x="901" y="476"/>
                </a:lnTo>
                <a:lnTo>
                  <a:pt x="903" y="485"/>
                </a:lnTo>
                <a:lnTo>
                  <a:pt x="903" y="505"/>
                </a:lnTo>
                <a:lnTo>
                  <a:pt x="903" y="516"/>
                </a:lnTo>
                <a:lnTo>
                  <a:pt x="903" y="521"/>
                </a:lnTo>
                <a:lnTo>
                  <a:pt x="901" y="521"/>
                </a:lnTo>
                <a:lnTo>
                  <a:pt x="892" y="521"/>
                </a:lnTo>
                <a:lnTo>
                  <a:pt x="873" y="521"/>
                </a:lnTo>
                <a:lnTo>
                  <a:pt x="886" y="536"/>
                </a:lnTo>
                <a:lnTo>
                  <a:pt x="906" y="558"/>
                </a:lnTo>
                <a:lnTo>
                  <a:pt x="910" y="607"/>
                </a:lnTo>
                <a:lnTo>
                  <a:pt x="914" y="635"/>
                </a:lnTo>
                <a:lnTo>
                  <a:pt x="917" y="635"/>
                </a:lnTo>
                <a:lnTo>
                  <a:pt x="928" y="635"/>
                </a:lnTo>
                <a:lnTo>
                  <a:pt x="974" y="636"/>
                </a:lnTo>
                <a:lnTo>
                  <a:pt x="978" y="636"/>
                </a:lnTo>
                <a:lnTo>
                  <a:pt x="1027" y="638"/>
                </a:lnTo>
                <a:lnTo>
                  <a:pt x="1069" y="640"/>
                </a:lnTo>
                <a:lnTo>
                  <a:pt x="1078" y="640"/>
                </a:lnTo>
                <a:lnTo>
                  <a:pt x="1080" y="640"/>
                </a:lnTo>
                <a:lnTo>
                  <a:pt x="1082" y="638"/>
                </a:lnTo>
                <a:lnTo>
                  <a:pt x="1084" y="636"/>
                </a:lnTo>
                <a:lnTo>
                  <a:pt x="1089" y="635"/>
                </a:lnTo>
                <a:lnTo>
                  <a:pt x="1089" y="638"/>
                </a:lnTo>
                <a:lnTo>
                  <a:pt x="1089" y="647"/>
                </a:lnTo>
                <a:lnTo>
                  <a:pt x="1087" y="657"/>
                </a:lnTo>
                <a:lnTo>
                  <a:pt x="1086" y="658"/>
                </a:lnTo>
                <a:lnTo>
                  <a:pt x="1082" y="662"/>
                </a:lnTo>
                <a:lnTo>
                  <a:pt x="1080" y="664"/>
                </a:lnTo>
                <a:lnTo>
                  <a:pt x="1080" y="666"/>
                </a:lnTo>
                <a:lnTo>
                  <a:pt x="1076" y="671"/>
                </a:lnTo>
                <a:lnTo>
                  <a:pt x="1075" y="673"/>
                </a:lnTo>
                <a:lnTo>
                  <a:pt x="1075" y="679"/>
                </a:lnTo>
                <a:lnTo>
                  <a:pt x="1076" y="695"/>
                </a:lnTo>
                <a:lnTo>
                  <a:pt x="1076" y="697"/>
                </a:lnTo>
                <a:lnTo>
                  <a:pt x="1078" y="700"/>
                </a:lnTo>
                <a:lnTo>
                  <a:pt x="1078" y="702"/>
                </a:lnTo>
                <a:lnTo>
                  <a:pt x="1080" y="706"/>
                </a:lnTo>
                <a:lnTo>
                  <a:pt x="1082" y="715"/>
                </a:lnTo>
                <a:lnTo>
                  <a:pt x="1082" y="719"/>
                </a:lnTo>
                <a:lnTo>
                  <a:pt x="1082" y="722"/>
                </a:lnTo>
                <a:lnTo>
                  <a:pt x="1082" y="726"/>
                </a:lnTo>
                <a:lnTo>
                  <a:pt x="1084" y="730"/>
                </a:lnTo>
                <a:lnTo>
                  <a:pt x="1086" y="732"/>
                </a:lnTo>
                <a:lnTo>
                  <a:pt x="1087" y="732"/>
                </a:lnTo>
                <a:lnTo>
                  <a:pt x="1089" y="733"/>
                </a:lnTo>
                <a:lnTo>
                  <a:pt x="1093" y="733"/>
                </a:lnTo>
                <a:lnTo>
                  <a:pt x="1096" y="737"/>
                </a:lnTo>
                <a:lnTo>
                  <a:pt x="1109" y="744"/>
                </a:lnTo>
                <a:lnTo>
                  <a:pt x="1111" y="746"/>
                </a:lnTo>
                <a:lnTo>
                  <a:pt x="1111" y="748"/>
                </a:lnTo>
                <a:lnTo>
                  <a:pt x="1118" y="753"/>
                </a:lnTo>
                <a:lnTo>
                  <a:pt x="1122" y="753"/>
                </a:lnTo>
                <a:lnTo>
                  <a:pt x="1129" y="750"/>
                </a:lnTo>
                <a:lnTo>
                  <a:pt x="1133" y="750"/>
                </a:lnTo>
                <a:lnTo>
                  <a:pt x="1140" y="757"/>
                </a:lnTo>
                <a:lnTo>
                  <a:pt x="1146" y="763"/>
                </a:lnTo>
                <a:lnTo>
                  <a:pt x="1144" y="764"/>
                </a:lnTo>
                <a:lnTo>
                  <a:pt x="1142" y="766"/>
                </a:lnTo>
                <a:lnTo>
                  <a:pt x="1144" y="770"/>
                </a:lnTo>
                <a:lnTo>
                  <a:pt x="1146" y="774"/>
                </a:lnTo>
                <a:lnTo>
                  <a:pt x="1148" y="775"/>
                </a:lnTo>
                <a:lnTo>
                  <a:pt x="1148" y="779"/>
                </a:lnTo>
                <a:lnTo>
                  <a:pt x="1148" y="786"/>
                </a:lnTo>
                <a:lnTo>
                  <a:pt x="1160" y="810"/>
                </a:lnTo>
                <a:lnTo>
                  <a:pt x="1166" y="821"/>
                </a:lnTo>
                <a:lnTo>
                  <a:pt x="1164" y="825"/>
                </a:lnTo>
                <a:lnTo>
                  <a:pt x="1162" y="827"/>
                </a:lnTo>
                <a:lnTo>
                  <a:pt x="1157" y="847"/>
                </a:lnTo>
                <a:lnTo>
                  <a:pt x="1142" y="889"/>
                </a:lnTo>
                <a:lnTo>
                  <a:pt x="1148" y="889"/>
                </a:lnTo>
                <a:lnTo>
                  <a:pt x="1148" y="891"/>
                </a:lnTo>
                <a:lnTo>
                  <a:pt x="1149" y="902"/>
                </a:lnTo>
                <a:lnTo>
                  <a:pt x="1142" y="902"/>
                </a:lnTo>
                <a:lnTo>
                  <a:pt x="1140" y="903"/>
                </a:lnTo>
                <a:lnTo>
                  <a:pt x="1139" y="911"/>
                </a:lnTo>
                <a:lnTo>
                  <a:pt x="1135" y="916"/>
                </a:lnTo>
                <a:lnTo>
                  <a:pt x="1124" y="938"/>
                </a:lnTo>
                <a:lnTo>
                  <a:pt x="1113" y="962"/>
                </a:lnTo>
                <a:lnTo>
                  <a:pt x="1109" y="969"/>
                </a:lnTo>
                <a:lnTo>
                  <a:pt x="1111" y="971"/>
                </a:lnTo>
                <a:lnTo>
                  <a:pt x="1135" y="991"/>
                </a:lnTo>
                <a:lnTo>
                  <a:pt x="1129" y="997"/>
                </a:lnTo>
                <a:lnTo>
                  <a:pt x="1109" y="1008"/>
                </a:lnTo>
                <a:lnTo>
                  <a:pt x="1106" y="1009"/>
                </a:lnTo>
                <a:lnTo>
                  <a:pt x="1107" y="1004"/>
                </a:lnTo>
                <a:lnTo>
                  <a:pt x="1107" y="1000"/>
                </a:lnTo>
                <a:lnTo>
                  <a:pt x="1107" y="991"/>
                </a:lnTo>
                <a:lnTo>
                  <a:pt x="1106" y="976"/>
                </a:lnTo>
                <a:lnTo>
                  <a:pt x="1098" y="973"/>
                </a:lnTo>
                <a:lnTo>
                  <a:pt x="1095" y="971"/>
                </a:lnTo>
                <a:lnTo>
                  <a:pt x="1045" y="945"/>
                </a:lnTo>
                <a:lnTo>
                  <a:pt x="1016" y="931"/>
                </a:lnTo>
                <a:lnTo>
                  <a:pt x="1009" y="931"/>
                </a:lnTo>
                <a:lnTo>
                  <a:pt x="983" y="929"/>
                </a:lnTo>
                <a:lnTo>
                  <a:pt x="968" y="927"/>
                </a:lnTo>
                <a:lnTo>
                  <a:pt x="930" y="925"/>
                </a:lnTo>
                <a:lnTo>
                  <a:pt x="926" y="925"/>
                </a:lnTo>
                <a:lnTo>
                  <a:pt x="923" y="927"/>
                </a:lnTo>
                <a:lnTo>
                  <a:pt x="888" y="936"/>
                </a:lnTo>
                <a:lnTo>
                  <a:pt x="879" y="938"/>
                </a:lnTo>
                <a:lnTo>
                  <a:pt x="870" y="942"/>
                </a:lnTo>
                <a:lnTo>
                  <a:pt x="851" y="944"/>
                </a:lnTo>
                <a:lnTo>
                  <a:pt x="798" y="953"/>
                </a:lnTo>
                <a:lnTo>
                  <a:pt x="767" y="958"/>
                </a:lnTo>
                <a:lnTo>
                  <a:pt x="760" y="958"/>
                </a:lnTo>
                <a:lnTo>
                  <a:pt x="758" y="967"/>
                </a:lnTo>
                <a:lnTo>
                  <a:pt x="751" y="984"/>
                </a:lnTo>
                <a:lnTo>
                  <a:pt x="744" y="1000"/>
                </a:lnTo>
                <a:lnTo>
                  <a:pt x="727" y="1026"/>
                </a:lnTo>
                <a:lnTo>
                  <a:pt x="716" y="1039"/>
                </a:lnTo>
                <a:lnTo>
                  <a:pt x="711" y="1048"/>
                </a:lnTo>
                <a:lnTo>
                  <a:pt x="711" y="1053"/>
                </a:lnTo>
                <a:lnTo>
                  <a:pt x="711" y="1064"/>
                </a:lnTo>
                <a:lnTo>
                  <a:pt x="711" y="1072"/>
                </a:lnTo>
                <a:lnTo>
                  <a:pt x="711" y="1090"/>
                </a:lnTo>
                <a:lnTo>
                  <a:pt x="711" y="1095"/>
                </a:lnTo>
                <a:lnTo>
                  <a:pt x="691" y="1159"/>
                </a:lnTo>
                <a:lnTo>
                  <a:pt x="689" y="1163"/>
                </a:lnTo>
                <a:lnTo>
                  <a:pt x="685" y="1174"/>
                </a:lnTo>
                <a:lnTo>
                  <a:pt x="678" y="1198"/>
                </a:lnTo>
                <a:lnTo>
                  <a:pt x="676" y="1207"/>
                </a:lnTo>
                <a:lnTo>
                  <a:pt x="674" y="1209"/>
                </a:lnTo>
                <a:close/>
              </a:path>
            </a:pathLst>
          </a:custGeom>
          <a:solidFill>
            <a:srgbClr val="ffcc66"/>
          </a:solidFill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46480" y="1668600"/>
            <a:ext cx="1290600" cy="1166760"/>
          </a:xfrm>
          <a:custGeom>
            <a:avLst/>
            <a:gdLst/>
            <a:ahLst/>
            <a:rect l="l" t="t" r="r" b="b"/>
            <a:pathLst>
              <a:path w="808" h="797">
                <a:moveTo>
                  <a:pt x="0" y="284"/>
                </a:moveTo>
                <a:lnTo>
                  <a:pt x="2" y="282"/>
                </a:lnTo>
                <a:lnTo>
                  <a:pt x="4" y="273"/>
                </a:lnTo>
                <a:lnTo>
                  <a:pt x="11" y="249"/>
                </a:lnTo>
                <a:lnTo>
                  <a:pt x="15" y="238"/>
                </a:lnTo>
                <a:lnTo>
                  <a:pt x="17" y="234"/>
                </a:lnTo>
                <a:lnTo>
                  <a:pt x="37" y="170"/>
                </a:lnTo>
                <a:lnTo>
                  <a:pt x="37" y="165"/>
                </a:lnTo>
                <a:lnTo>
                  <a:pt x="37" y="147"/>
                </a:lnTo>
                <a:lnTo>
                  <a:pt x="37" y="139"/>
                </a:lnTo>
                <a:lnTo>
                  <a:pt x="37" y="128"/>
                </a:lnTo>
                <a:lnTo>
                  <a:pt x="37" y="123"/>
                </a:lnTo>
                <a:lnTo>
                  <a:pt x="42" y="114"/>
                </a:lnTo>
                <a:lnTo>
                  <a:pt x="53" y="101"/>
                </a:lnTo>
                <a:lnTo>
                  <a:pt x="70" y="75"/>
                </a:lnTo>
                <a:lnTo>
                  <a:pt x="77" y="59"/>
                </a:lnTo>
                <a:lnTo>
                  <a:pt x="84" y="42"/>
                </a:lnTo>
                <a:lnTo>
                  <a:pt x="86" y="33"/>
                </a:lnTo>
                <a:lnTo>
                  <a:pt x="93" y="33"/>
                </a:lnTo>
                <a:lnTo>
                  <a:pt x="124" y="28"/>
                </a:lnTo>
                <a:lnTo>
                  <a:pt x="177" y="19"/>
                </a:lnTo>
                <a:lnTo>
                  <a:pt x="196" y="17"/>
                </a:lnTo>
                <a:lnTo>
                  <a:pt x="205" y="13"/>
                </a:lnTo>
                <a:lnTo>
                  <a:pt x="214" y="11"/>
                </a:lnTo>
                <a:lnTo>
                  <a:pt x="249" y="2"/>
                </a:lnTo>
                <a:lnTo>
                  <a:pt x="252" y="0"/>
                </a:lnTo>
                <a:lnTo>
                  <a:pt x="256" y="0"/>
                </a:lnTo>
                <a:lnTo>
                  <a:pt x="294" y="2"/>
                </a:lnTo>
                <a:lnTo>
                  <a:pt x="309" y="4"/>
                </a:lnTo>
                <a:lnTo>
                  <a:pt x="335" y="6"/>
                </a:lnTo>
                <a:lnTo>
                  <a:pt x="342" y="6"/>
                </a:lnTo>
                <a:lnTo>
                  <a:pt x="371" y="20"/>
                </a:lnTo>
                <a:lnTo>
                  <a:pt x="421" y="46"/>
                </a:lnTo>
                <a:lnTo>
                  <a:pt x="424" y="48"/>
                </a:lnTo>
                <a:lnTo>
                  <a:pt x="432" y="51"/>
                </a:lnTo>
                <a:lnTo>
                  <a:pt x="433" y="66"/>
                </a:lnTo>
                <a:lnTo>
                  <a:pt x="433" y="75"/>
                </a:lnTo>
                <a:lnTo>
                  <a:pt x="433" y="79"/>
                </a:lnTo>
                <a:lnTo>
                  <a:pt x="432" y="84"/>
                </a:lnTo>
                <a:lnTo>
                  <a:pt x="432" y="90"/>
                </a:lnTo>
                <a:lnTo>
                  <a:pt x="433" y="95"/>
                </a:lnTo>
                <a:lnTo>
                  <a:pt x="437" y="101"/>
                </a:lnTo>
                <a:lnTo>
                  <a:pt x="441" y="106"/>
                </a:lnTo>
                <a:lnTo>
                  <a:pt x="446" y="117"/>
                </a:lnTo>
                <a:lnTo>
                  <a:pt x="446" y="128"/>
                </a:lnTo>
                <a:lnTo>
                  <a:pt x="450" y="137"/>
                </a:lnTo>
                <a:lnTo>
                  <a:pt x="454" y="132"/>
                </a:lnTo>
                <a:lnTo>
                  <a:pt x="455" y="134"/>
                </a:lnTo>
                <a:lnTo>
                  <a:pt x="461" y="139"/>
                </a:lnTo>
                <a:lnTo>
                  <a:pt x="465" y="163"/>
                </a:lnTo>
                <a:lnTo>
                  <a:pt x="461" y="198"/>
                </a:lnTo>
                <a:lnTo>
                  <a:pt x="459" y="201"/>
                </a:lnTo>
                <a:lnTo>
                  <a:pt x="455" y="205"/>
                </a:lnTo>
                <a:lnTo>
                  <a:pt x="454" y="209"/>
                </a:lnTo>
                <a:lnTo>
                  <a:pt x="452" y="214"/>
                </a:lnTo>
                <a:lnTo>
                  <a:pt x="454" y="225"/>
                </a:lnTo>
                <a:lnTo>
                  <a:pt x="454" y="227"/>
                </a:lnTo>
                <a:lnTo>
                  <a:pt x="454" y="238"/>
                </a:lnTo>
                <a:lnTo>
                  <a:pt x="450" y="258"/>
                </a:lnTo>
                <a:lnTo>
                  <a:pt x="448" y="264"/>
                </a:lnTo>
                <a:lnTo>
                  <a:pt x="448" y="267"/>
                </a:lnTo>
                <a:lnTo>
                  <a:pt x="448" y="269"/>
                </a:lnTo>
                <a:lnTo>
                  <a:pt x="454" y="273"/>
                </a:lnTo>
                <a:lnTo>
                  <a:pt x="457" y="273"/>
                </a:lnTo>
                <a:lnTo>
                  <a:pt x="463" y="275"/>
                </a:lnTo>
                <a:lnTo>
                  <a:pt x="466" y="273"/>
                </a:lnTo>
                <a:lnTo>
                  <a:pt x="468" y="271"/>
                </a:lnTo>
                <a:lnTo>
                  <a:pt x="481" y="273"/>
                </a:lnTo>
                <a:lnTo>
                  <a:pt x="485" y="278"/>
                </a:lnTo>
                <a:lnTo>
                  <a:pt x="507" y="282"/>
                </a:lnTo>
                <a:lnTo>
                  <a:pt x="510" y="282"/>
                </a:lnTo>
                <a:lnTo>
                  <a:pt x="519" y="282"/>
                </a:lnTo>
                <a:lnTo>
                  <a:pt x="523" y="280"/>
                </a:lnTo>
                <a:lnTo>
                  <a:pt x="529" y="280"/>
                </a:lnTo>
                <a:lnTo>
                  <a:pt x="543" y="284"/>
                </a:lnTo>
                <a:lnTo>
                  <a:pt x="554" y="287"/>
                </a:lnTo>
                <a:lnTo>
                  <a:pt x="561" y="285"/>
                </a:lnTo>
                <a:lnTo>
                  <a:pt x="565" y="284"/>
                </a:lnTo>
                <a:lnTo>
                  <a:pt x="567" y="284"/>
                </a:lnTo>
                <a:lnTo>
                  <a:pt x="572" y="282"/>
                </a:lnTo>
                <a:lnTo>
                  <a:pt x="574" y="284"/>
                </a:lnTo>
                <a:lnTo>
                  <a:pt x="578" y="285"/>
                </a:lnTo>
                <a:lnTo>
                  <a:pt x="583" y="278"/>
                </a:lnTo>
                <a:lnTo>
                  <a:pt x="585" y="276"/>
                </a:lnTo>
                <a:lnTo>
                  <a:pt x="587" y="275"/>
                </a:lnTo>
                <a:lnTo>
                  <a:pt x="589" y="271"/>
                </a:lnTo>
                <a:lnTo>
                  <a:pt x="591" y="269"/>
                </a:lnTo>
                <a:lnTo>
                  <a:pt x="594" y="267"/>
                </a:lnTo>
                <a:lnTo>
                  <a:pt x="602" y="267"/>
                </a:lnTo>
                <a:lnTo>
                  <a:pt x="603" y="273"/>
                </a:lnTo>
                <a:lnTo>
                  <a:pt x="603" y="276"/>
                </a:lnTo>
                <a:lnTo>
                  <a:pt x="607" y="278"/>
                </a:lnTo>
                <a:lnTo>
                  <a:pt x="609" y="280"/>
                </a:lnTo>
                <a:lnTo>
                  <a:pt x="620" y="287"/>
                </a:lnTo>
                <a:lnTo>
                  <a:pt x="624" y="287"/>
                </a:lnTo>
                <a:lnTo>
                  <a:pt x="631" y="289"/>
                </a:lnTo>
                <a:lnTo>
                  <a:pt x="635" y="287"/>
                </a:lnTo>
                <a:lnTo>
                  <a:pt x="640" y="287"/>
                </a:lnTo>
                <a:lnTo>
                  <a:pt x="653" y="289"/>
                </a:lnTo>
                <a:lnTo>
                  <a:pt x="664" y="298"/>
                </a:lnTo>
                <a:lnTo>
                  <a:pt x="664" y="300"/>
                </a:lnTo>
                <a:lnTo>
                  <a:pt x="664" y="304"/>
                </a:lnTo>
                <a:lnTo>
                  <a:pt x="664" y="306"/>
                </a:lnTo>
                <a:lnTo>
                  <a:pt x="664" y="311"/>
                </a:lnTo>
                <a:lnTo>
                  <a:pt x="666" y="313"/>
                </a:lnTo>
                <a:lnTo>
                  <a:pt x="667" y="317"/>
                </a:lnTo>
                <a:lnTo>
                  <a:pt x="669" y="317"/>
                </a:lnTo>
                <a:lnTo>
                  <a:pt x="671" y="318"/>
                </a:lnTo>
                <a:lnTo>
                  <a:pt x="675" y="320"/>
                </a:lnTo>
                <a:lnTo>
                  <a:pt x="677" y="322"/>
                </a:lnTo>
                <a:lnTo>
                  <a:pt x="677" y="331"/>
                </a:lnTo>
                <a:lnTo>
                  <a:pt x="675" y="335"/>
                </a:lnTo>
                <a:lnTo>
                  <a:pt x="673" y="338"/>
                </a:lnTo>
                <a:lnTo>
                  <a:pt x="673" y="342"/>
                </a:lnTo>
                <a:lnTo>
                  <a:pt x="677" y="359"/>
                </a:lnTo>
                <a:lnTo>
                  <a:pt x="678" y="364"/>
                </a:lnTo>
                <a:lnTo>
                  <a:pt x="682" y="370"/>
                </a:lnTo>
                <a:lnTo>
                  <a:pt x="682" y="386"/>
                </a:lnTo>
                <a:lnTo>
                  <a:pt x="682" y="388"/>
                </a:lnTo>
                <a:lnTo>
                  <a:pt x="688" y="393"/>
                </a:lnTo>
                <a:lnTo>
                  <a:pt x="684" y="401"/>
                </a:lnTo>
                <a:lnTo>
                  <a:pt x="686" y="415"/>
                </a:lnTo>
                <a:lnTo>
                  <a:pt x="686" y="417"/>
                </a:lnTo>
                <a:lnTo>
                  <a:pt x="689" y="417"/>
                </a:lnTo>
                <a:lnTo>
                  <a:pt x="691" y="421"/>
                </a:lnTo>
                <a:lnTo>
                  <a:pt x="693" y="424"/>
                </a:lnTo>
                <a:lnTo>
                  <a:pt x="693" y="428"/>
                </a:lnTo>
                <a:lnTo>
                  <a:pt x="695" y="434"/>
                </a:lnTo>
                <a:lnTo>
                  <a:pt x="695" y="441"/>
                </a:lnTo>
                <a:lnTo>
                  <a:pt x="695" y="446"/>
                </a:lnTo>
                <a:lnTo>
                  <a:pt x="695" y="448"/>
                </a:lnTo>
                <a:lnTo>
                  <a:pt x="697" y="450"/>
                </a:lnTo>
                <a:lnTo>
                  <a:pt x="700" y="452"/>
                </a:lnTo>
                <a:lnTo>
                  <a:pt x="702" y="452"/>
                </a:lnTo>
                <a:lnTo>
                  <a:pt x="717" y="455"/>
                </a:lnTo>
                <a:lnTo>
                  <a:pt x="719" y="455"/>
                </a:lnTo>
                <a:lnTo>
                  <a:pt x="720" y="454"/>
                </a:lnTo>
                <a:lnTo>
                  <a:pt x="731" y="452"/>
                </a:lnTo>
                <a:lnTo>
                  <a:pt x="742" y="450"/>
                </a:lnTo>
                <a:lnTo>
                  <a:pt x="744" y="448"/>
                </a:lnTo>
                <a:lnTo>
                  <a:pt x="746" y="445"/>
                </a:lnTo>
                <a:lnTo>
                  <a:pt x="772" y="434"/>
                </a:lnTo>
                <a:lnTo>
                  <a:pt x="779" y="439"/>
                </a:lnTo>
                <a:lnTo>
                  <a:pt x="792" y="445"/>
                </a:lnTo>
                <a:lnTo>
                  <a:pt x="803" y="455"/>
                </a:lnTo>
                <a:lnTo>
                  <a:pt x="808" y="457"/>
                </a:lnTo>
                <a:lnTo>
                  <a:pt x="805" y="459"/>
                </a:lnTo>
                <a:lnTo>
                  <a:pt x="803" y="461"/>
                </a:lnTo>
                <a:lnTo>
                  <a:pt x="801" y="465"/>
                </a:lnTo>
                <a:lnTo>
                  <a:pt x="799" y="466"/>
                </a:lnTo>
                <a:lnTo>
                  <a:pt x="801" y="476"/>
                </a:lnTo>
                <a:lnTo>
                  <a:pt x="803" y="477"/>
                </a:lnTo>
                <a:lnTo>
                  <a:pt x="805" y="479"/>
                </a:lnTo>
                <a:lnTo>
                  <a:pt x="806" y="481"/>
                </a:lnTo>
                <a:lnTo>
                  <a:pt x="808" y="487"/>
                </a:lnTo>
                <a:lnTo>
                  <a:pt x="805" y="492"/>
                </a:lnTo>
                <a:lnTo>
                  <a:pt x="803" y="494"/>
                </a:lnTo>
                <a:lnTo>
                  <a:pt x="801" y="496"/>
                </a:lnTo>
                <a:lnTo>
                  <a:pt x="801" y="498"/>
                </a:lnTo>
                <a:lnTo>
                  <a:pt x="799" y="499"/>
                </a:lnTo>
                <a:lnTo>
                  <a:pt x="799" y="503"/>
                </a:lnTo>
                <a:lnTo>
                  <a:pt x="801" y="507"/>
                </a:lnTo>
                <a:lnTo>
                  <a:pt x="801" y="510"/>
                </a:lnTo>
                <a:lnTo>
                  <a:pt x="801" y="514"/>
                </a:lnTo>
                <a:lnTo>
                  <a:pt x="801" y="516"/>
                </a:lnTo>
                <a:lnTo>
                  <a:pt x="799" y="518"/>
                </a:lnTo>
                <a:lnTo>
                  <a:pt x="794" y="530"/>
                </a:lnTo>
                <a:lnTo>
                  <a:pt x="792" y="534"/>
                </a:lnTo>
                <a:lnTo>
                  <a:pt x="788" y="551"/>
                </a:lnTo>
                <a:lnTo>
                  <a:pt x="788" y="556"/>
                </a:lnTo>
                <a:lnTo>
                  <a:pt x="788" y="558"/>
                </a:lnTo>
                <a:lnTo>
                  <a:pt x="790" y="561"/>
                </a:lnTo>
                <a:lnTo>
                  <a:pt x="790" y="563"/>
                </a:lnTo>
                <a:lnTo>
                  <a:pt x="783" y="576"/>
                </a:lnTo>
                <a:lnTo>
                  <a:pt x="781" y="578"/>
                </a:lnTo>
                <a:lnTo>
                  <a:pt x="779" y="582"/>
                </a:lnTo>
                <a:lnTo>
                  <a:pt x="775" y="583"/>
                </a:lnTo>
                <a:lnTo>
                  <a:pt x="772" y="593"/>
                </a:lnTo>
                <a:lnTo>
                  <a:pt x="774" y="598"/>
                </a:lnTo>
                <a:lnTo>
                  <a:pt x="774" y="604"/>
                </a:lnTo>
                <a:lnTo>
                  <a:pt x="772" y="611"/>
                </a:lnTo>
                <a:lnTo>
                  <a:pt x="772" y="624"/>
                </a:lnTo>
                <a:lnTo>
                  <a:pt x="774" y="640"/>
                </a:lnTo>
                <a:lnTo>
                  <a:pt x="768" y="642"/>
                </a:lnTo>
                <a:lnTo>
                  <a:pt x="768" y="660"/>
                </a:lnTo>
                <a:lnTo>
                  <a:pt x="770" y="664"/>
                </a:lnTo>
                <a:lnTo>
                  <a:pt x="770" y="666"/>
                </a:lnTo>
                <a:lnTo>
                  <a:pt x="768" y="668"/>
                </a:lnTo>
                <a:lnTo>
                  <a:pt x="768" y="673"/>
                </a:lnTo>
                <a:lnTo>
                  <a:pt x="764" y="686"/>
                </a:lnTo>
                <a:lnTo>
                  <a:pt x="750" y="708"/>
                </a:lnTo>
                <a:lnTo>
                  <a:pt x="739" y="721"/>
                </a:lnTo>
                <a:lnTo>
                  <a:pt x="722" y="730"/>
                </a:lnTo>
                <a:lnTo>
                  <a:pt x="711" y="735"/>
                </a:lnTo>
                <a:lnTo>
                  <a:pt x="710" y="735"/>
                </a:lnTo>
                <a:lnTo>
                  <a:pt x="699" y="739"/>
                </a:lnTo>
                <a:lnTo>
                  <a:pt x="697" y="739"/>
                </a:lnTo>
                <a:lnTo>
                  <a:pt x="695" y="741"/>
                </a:lnTo>
                <a:lnTo>
                  <a:pt x="682" y="752"/>
                </a:lnTo>
                <a:lnTo>
                  <a:pt x="680" y="757"/>
                </a:lnTo>
                <a:lnTo>
                  <a:pt x="678" y="763"/>
                </a:lnTo>
                <a:lnTo>
                  <a:pt x="680" y="764"/>
                </a:lnTo>
                <a:lnTo>
                  <a:pt x="680" y="766"/>
                </a:lnTo>
                <a:lnTo>
                  <a:pt x="678" y="772"/>
                </a:lnTo>
                <a:lnTo>
                  <a:pt x="677" y="774"/>
                </a:lnTo>
                <a:lnTo>
                  <a:pt x="666" y="783"/>
                </a:lnTo>
                <a:lnTo>
                  <a:pt x="662" y="785"/>
                </a:lnTo>
                <a:lnTo>
                  <a:pt x="655" y="781"/>
                </a:lnTo>
                <a:lnTo>
                  <a:pt x="653" y="779"/>
                </a:lnTo>
                <a:lnTo>
                  <a:pt x="651" y="775"/>
                </a:lnTo>
                <a:lnTo>
                  <a:pt x="649" y="774"/>
                </a:lnTo>
                <a:lnTo>
                  <a:pt x="646" y="772"/>
                </a:lnTo>
                <a:lnTo>
                  <a:pt x="642" y="774"/>
                </a:lnTo>
                <a:lnTo>
                  <a:pt x="636" y="770"/>
                </a:lnTo>
                <a:lnTo>
                  <a:pt x="633" y="770"/>
                </a:lnTo>
                <a:lnTo>
                  <a:pt x="629" y="770"/>
                </a:lnTo>
                <a:lnTo>
                  <a:pt x="625" y="772"/>
                </a:lnTo>
                <a:lnTo>
                  <a:pt x="613" y="779"/>
                </a:lnTo>
                <a:lnTo>
                  <a:pt x="613" y="783"/>
                </a:lnTo>
                <a:lnTo>
                  <a:pt x="613" y="785"/>
                </a:lnTo>
                <a:lnTo>
                  <a:pt x="613" y="786"/>
                </a:lnTo>
                <a:lnTo>
                  <a:pt x="605" y="795"/>
                </a:lnTo>
                <a:lnTo>
                  <a:pt x="603" y="797"/>
                </a:lnTo>
                <a:lnTo>
                  <a:pt x="602" y="797"/>
                </a:lnTo>
                <a:lnTo>
                  <a:pt x="598" y="797"/>
                </a:lnTo>
                <a:lnTo>
                  <a:pt x="594" y="794"/>
                </a:lnTo>
                <a:lnTo>
                  <a:pt x="591" y="790"/>
                </a:lnTo>
                <a:lnTo>
                  <a:pt x="591" y="786"/>
                </a:lnTo>
                <a:lnTo>
                  <a:pt x="589" y="786"/>
                </a:lnTo>
                <a:lnTo>
                  <a:pt x="587" y="785"/>
                </a:lnTo>
                <a:lnTo>
                  <a:pt x="583" y="785"/>
                </a:lnTo>
                <a:lnTo>
                  <a:pt x="582" y="785"/>
                </a:lnTo>
                <a:lnTo>
                  <a:pt x="578" y="785"/>
                </a:lnTo>
                <a:lnTo>
                  <a:pt x="574" y="786"/>
                </a:lnTo>
                <a:lnTo>
                  <a:pt x="572" y="786"/>
                </a:lnTo>
                <a:lnTo>
                  <a:pt x="571" y="788"/>
                </a:lnTo>
                <a:lnTo>
                  <a:pt x="569" y="790"/>
                </a:lnTo>
                <a:lnTo>
                  <a:pt x="565" y="790"/>
                </a:lnTo>
                <a:lnTo>
                  <a:pt x="563" y="788"/>
                </a:lnTo>
                <a:lnTo>
                  <a:pt x="561" y="786"/>
                </a:lnTo>
                <a:lnTo>
                  <a:pt x="558" y="785"/>
                </a:lnTo>
                <a:lnTo>
                  <a:pt x="556" y="783"/>
                </a:lnTo>
                <a:lnTo>
                  <a:pt x="554" y="781"/>
                </a:lnTo>
                <a:lnTo>
                  <a:pt x="550" y="781"/>
                </a:lnTo>
                <a:lnTo>
                  <a:pt x="547" y="783"/>
                </a:lnTo>
                <a:lnTo>
                  <a:pt x="543" y="785"/>
                </a:lnTo>
                <a:lnTo>
                  <a:pt x="539" y="786"/>
                </a:lnTo>
                <a:lnTo>
                  <a:pt x="536" y="788"/>
                </a:lnTo>
                <a:lnTo>
                  <a:pt x="530" y="788"/>
                </a:lnTo>
                <a:lnTo>
                  <a:pt x="527" y="788"/>
                </a:lnTo>
                <a:lnTo>
                  <a:pt x="523" y="786"/>
                </a:lnTo>
                <a:lnTo>
                  <a:pt x="519" y="785"/>
                </a:lnTo>
                <a:lnTo>
                  <a:pt x="518" y="785"/>
                </a:lnTo>
                <a:lnTo>
                  <a:pt x="514" y="783"/>
                </a:lnTo>
                <a:lnTo>
                  <a:pt x="512" y="783"/>
                </a:lnTo>
                <a:lnTo>
                  <a:pt x="510" y="783"/>
                </a:lnTo>
                <a:lnTo>
                  <a:pt x="503" y="781"/>
                </a:lnTo>
                <a:lnTo>
                  <a:pt x="483" y="777"/>
                </a:lnTo>
                <a:lnTo>
                  <a:pt x="481" y="775"/>
                </a:lnTo>
                <a:lnTo>
                  <a:pt x="477" y="774"/>
                </a:lnTo>
                <a:lnTo>
                  <a:pt x="475" y="772"/>
                </a:lnTo>
                <a:lnTo>
                  <a:pt x="472" y="770"/>
                </a:lnTo>
                <a:lnTo>
                  <a:pt x="466" y="770"/>
                </a:lnTo>
                <a:lnTo>
                  <a:pt x="454" y="768"/>
                </a:lnTo>
                <a:lnTo>
                  <a:pt x="446" y="768"/>
                </a:lnTo>
                <a:lnTo>
                  <a:pt x="432" y="766"/>
                </a:lnTo>
                <a:lnTo>
                  <a:pt x="419" y="768"/>
                </a:lnTo>
                <a:lnTo>
                  <a:pt x="401" y="768"/>
                </a:lnTo>
                <a:lnTo>
                  <a:pt x="399" y="770"/>
                </a:lnTo>
                <a:lnTo>
                  <a:pt x="395" y="770"/>
                </a:lnTo>
                <a:lnTo>
                  <a:pt x="393" y="770"/>
                </a:lnTo>
                <a:lnTo>
                  <a:pt x="388" y="772"/>
                </a:lnTo>
                <a:lnTo>
                  <a:pt x="390" y="764"/>
                </a:lnTo>
                <a:lnTo>
                  <a:pt x="388" y="763"/>
                </a:lnTo>
                <a:lnTo>
                  <a:pt x="384" y="759"/>
                </a:lnTo>
                <a:lnTo>
                  <a:pt x="384" y="757"/>
                </a:lnTo>
                <a:lnTo>
                  <a:pt x="386" y="753"/>
                </a:lnTo>
                <a:lnTo>
                  <a:pt x="388" y="753"/>
                </a:lnTo>
                <a:lnTo>
                  <a:pt x="391" y="753"/>
                </a:lnTo>
                <a:lnTo>
                  <a:pt x="401" y="741"/>
                </a:lnTo>
                <a:lnTo>
                  <a:pt x="410" y="731"/>
                </a:lnTo>
                <a:lnTo>
                  <a:pt x="413" y="730"/>
                </a:lnTo>
                <a:lnTo>
                  <a:pt x="417" y="730"/>
                </a:lnTo>
                <a:lnTo>
                  <a:pt x="430" y="708"/>
                </a:lnTo>
                <a:lnTo>
                  <a:pt x="430" y="702"/>
                </a:lnTo>
                <a:lnTo>
                  <a:pt x="430" y="700"/>
                </a:lnTo>
                <a:lnTo>
                  <a:pt x="426" y="697"/>
                </a:lnTo>
                <a:lnTo>
                  <a:pt x="426" y="686"/>
                </a:lnTo>
                <a:lnTo>
                  <a:pt x="433" y="666"/>
                </a:lnTo>
                <a:lnTo>
                  <a:pt x="443" y="657"/>
                </a:lnTo>
                <a:lnTo>
                  <a:pt x="446" y="655"/>
                </a:lnTo>
                <a:lnTo>
                  <a:pt x="461" y="646"/>
                </a:lnTo>
                <a:lnTo>
                  <a:pt x="457" y="642"/>
                </a:lnTo>
                <a:lnTo>
                  <a:pt x="455" y="640"/>
                </a:lnTo>
                <a:lnTo>
                  <a:pt x="461" y="636"/>
                </a:lnTo>
                <a:lnTo>
                  <a:pt x="465" y="629"/>
                </a:lnTo>
                <a:lnTo>
                  <a:pt x="465" y="624"/>
                </a:lnTo>
                <a:lnTo>
                  <a:pt x="466" y="622"/>
                </a:lnTo>
                <a:lnTo>
                  <a:pt x="470" y="620"/>
                </a:lnTo>
                <a:lnTo>
                  <a:pt x="488" y="602"/>
                </a:lnTo>
                <a:lnTo>
                  <a:pt x="490" y="594"/>
                </a:lnTo>
                <a:lnTo>
                  <a:pt x="490" y="591"/>
                </a:lnTo>
                <a:lnTo>
                  <a:pt x="486" y="589"/>
                </a:lnTo>
                <a:lnTo>
                  <a:pt x="483" y="585"/>
                </a:lnTo>
                <a:lnTo>
                  <a:pt x="479" y="578"/>
                </a:lnTo>
                <a:lnTo>
                  <a:pt x="477" y="578"/>
                </a:lnTo>
                <a:lnTo>
                  <a:pt x="475" y="574"/>
                </a:lnTo>
                <a:lnTo>
                  <a:pt x="472" y="571"/>
                </a:lnTo>
                <a:lnTo>
                  <a:pt x="470" y="569"/>
                </a:lnTo>
                <a:lnTo>
                  <a:pt x="470" y="565"/>
                </a:lnTo>
                <a:lnTo>
                  <a:pt x="461" y="558"/>
                </a:lnTo>
                <a:lnTo>
                  <a:pt x="459" y="558"/>
                </a:lnTo>
                <a:lnTo>
                  <a:pt x="455" y="556"/>
                </a:lnTo>
                <a:lnTo>
                  <a:pt x="454" y="556"/>
                </a:lnTo>
                <a:lnTo>
                  <a:pt x="441" y="552"/>
                </a:lnTo>
                <a:lnTo>
                  <a:pt x="433" y="551"/>
                </a:lnTo>
                <a:lnTo>
                  <a:pt x="430" y="547"/>
                </a:lnTo>
                <a:lnTo>
                  <a:pt x="419" y="547"/>
                </a:lnTo>
                <a:lnTo>
                  <a:pt x="413" y="545"/>
                </a:lnTo>
                <a:lnTo>
                  <a:pt x="404" y="536"/>
                </a:lnTo>
                <a:lnTo>
                  <a:pt x="395" y="532"/>
                </a:lnTo>
                <a:lnTo>
                  <a:pt x="391" y="532"/>
                </a:lnTo>
                <a:lnTo>
                  <a:pt x="388" y="532"/>
                </a:lnTo>
                <a:lnTo>
                  <a:pt x="382" y="532"/>
                </a:lnTo>
                <a:lnTo>
                  <a:pt x="369" y="529"/>
                </a:lnTo>
                <a:lnTo>
                  <a:pt x="362" y="523"/>
                </a:lnTo>
                <a:lnTo>
                  <a:pt x="358" y="519"/>
                </a:lnTo>
                <a:lnTo>
                  <a:pt x="357" y="519"/>
                </a:lnTo>
                <a:lnTo>
                  <a:pt x="351" y="516"/>
                </a:lnTo>
                <a:lnTo>
                  <a:pt x="346" y="512"/>
                </a:lnTo>
                <a:lnTo>
                  <a:pt x="340" y="512"/>
                </a:lnTo>
                <a:lnTo>
                  <a:pt x="322" y="503"/>
                </a:lnTo>
                <a:lnTo>
                  <a:pt x="318" y="499"/>
                </a:lnTo>
                <a:lnTo>
                  <a:pt x="316" y="498"/>
                </a:lnTo>
                <a:lnTo>
                  <a:pt x="315" y="494"/>
                </a:lnTo>
                <a:lnTo>
                  <a:pt x="305" y="487"/>
                </a:lnTo>
                <a:lnTo>
                  <a:pt x="300" y="483"/>
                </a:lnTo>
                <a:lnTo>
                  <a:pt x="256" y="457"/>
                </a:lnTo>
                <a:lnTo>
                  <a:pt x="251" y="454"/>
                </a:lnTo>
                <a:lnTo>
                  <a:pt x="249" y="454"/>
                </a:lnTo>
                <a:lnTo>
                  <a:pt x="245" y="455"/>
                </a:lnTo>
                <a:lnTo>
                  <a:pt x="243" y="455"/>
                </a:lnTo>
                <a:lnTo>
                  <a:pt x="241" y="457"/>
                </a:lnTo>
                <a:lnTo>
                  <a:pt x="240" y="457"/>
                </a:lnTo>
                <a:lnTo>
                  <a:pt x="227" y="457"/>
                </a:lnTo>
                <a:lnTo>
                  <a:pt x="210" y="452"/>
                </a:lnTo>
                <a:lnTo>
                  <a:pt x="199" y="448"/>
                </a:lnTo>
                <a:lnTo>
                  <a:pt x="198" y="445"/>
                </a:lnTo>
                <a:lnTo>
                  <a:pt x="196" y="443"/>
                </a:lnTo>
                <a:lnTo>
                  <a:pt x="185" y="441"/>
                </a:lnTo>
                <a:lnTo>
                  <a:pt x="181" y="441"/>
                </a:lnTo>
                <a:lnTo>
                  <a:pt x="170" y="439"/>
                </a:lnTo>
                <a:lnTo>
                  <a:pt x="159" y="435"/>
                </a:lnTo>
                <a:lnTo>
                  <a:pt x="157" y="435"/>
                </a:lnTo>
                <a:lnTo>
                  <a:pt x="156" y="432"/>
                </a:lnTo>
                <a:lnTo>
                  <a:pt x="156" y="430"/>
                </a:lnTo>
                <a:lnTo>
                  <a:pt x="148" y="415"/>
                </a:lnTo>
                <a:lnTo>
                  <a:pt x="141" y="410"/>
                </a:lnTo>
                <a:lnTo>
                  <a:pt x="130" y="404"/>
                </a:lnTo>
                <a:lnTo>
                  <a:pt x="123" y="401"/>
                </a:lnTo>
                <a:lnTo>
                  <a:pt x="115" y="397"/>
                </a:lnTo>
                <a:lnTo>
                  <a:pt x="97" y="384"/>
                </a:lnTo>
                <a:lnTo>
                  <a:pt x="70" y="364"/>
                </a:lnTo>
                <a:lnTo>
                  <a:pt x="62" y="357"/>
                </a:lnTo>
                <a:lnTo>
                  <a:pt x="48" y="333"/>
                </a:lnTo>
                <a:lnTo>
                  <a:pt x="39" y="315"/>
                </a:lnTo>
                <a:lnTo>
                  <a:pt x="39" y="313"/>
                </a:lnTo>
                <a:lnTo>
                  <a:pt x="39" y="311"/>
                </a:lnTo>
                <a:lnTo>
                  <a:pt x="35" y="307"/>
                </a:lnTo>
                <a:lnTo>
                  <a:pt x="31" y="307"/>
                </a:lnTo>
                <a:lnTo>
                  <a:pt x="29" y="306"/>
                </a:lnTo>
                <a:lnTo>
                  <a:pt x="28" y="306"/>
                </a:lnTo>
                <a:lnTo>
                  <a:pt x="24" y="304"/>
                </a:lnTo>
                <a:lnTo>
                  <a:pt x="11" y="296"/>
                </a:lnTo>
                <a:lnTo>
                  <a:pt x="2" y="287"/>
                </a:lnTo>
                <a:lnTo>
                  <a:pt x="0" y="284"/>
                </a:lnTo>
                <a:close/>
              </a:path>
            </a:pathLst>
          </a:custGeom>
          <a:solidFill>
            <a:srgbClr val="fcfcb3"/>
          </a:solidFill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90880" y="3189240"/>
            <a:ext cx="822240" cy="682560"/>
          </a:xfrm>
          <a:custGeom>
            <a:avLst/>
            <a:gdLst/>
            <a:ahLst/>
            <a:rect l="l" t="t" r="r" b="b"/>
            <a:pathLst>
              <a:path w="514" h="466">
                <a:moveTo>
                  <a:pt x="24" y="226"/>
                </a:moveTo>
                <a:lnTo>
                  <a:pt x="26" y="223"/>
                </a:lnTo>
                <a:lnTo>
                  <a:pt x="28" y="219"/>
                </a:lnTo>
                <a:lnTo>
                  <a:pt x="29" y="217"/>
                </a:lnTo>
                <a:lnTo>
                  <a:pt x="33" y="213"/>
                </a:lnTo>
                <a:lnTo>
                  <a:pt x="33" y="212"/>
                </a:lnTo>
                <a:lnTo>
                  <a:pt x="33" y="208"/>
                </a:lnTo>
                <a:lnTo>
                  <a:pt x="28" y="193"/>
                </a:lnTo>
                <a:lnTo>
                  <a:pt x="28" y="190"/>
                </a:lnTo>
                <a:lnTo>
                  <a:pt x="29" y="182"/>
                </a:lnTo>
                <a:lnTo>
                  <a:pt x="28" y="179"/>
                </a:lnTo>
                <a:lnTo>
                  <a:pt x="24" y="173"/>
                </a:lnTo>
                <a:lnTo>
                  <a:pt x="26" y="170"/>
                </a:lnTo>
                <a:lnTo>
                  <a:pt x="28" y="168"/>
                </a:lnTo>
                <a:lnTo>
                  <a:pt x="29" y="168"/>
                </a:lnTo>
                <a:lnTo>
                  <a:pt x="33" y="166"/>
                </a:lnTo>
                <a:lnTo>
                  <a:pt x="37" y="164"/>
                </a:lnTo>
                <a:lnTo>
                  <a:pt x="39" y="162"/>
                </a:lnTo>
                <a:lnTo>
                  <a:pt x="44" y="146"/>
                </a:lnTo>
                <a:lnTo>
                  <a:pt x="44" y="142"/>
                </a:lnTo>
                <a:lnTo>
                  <a:pt x="44" y="140"/>
                </a:lnTo>
                <a:lnTo>
                  <a:pt x="42" y="137"/>
                </a:lnTo>
                <a:lnTo>
                  <a:pt x="39" y="135"/>
                </a:lnTo>
                <a:lnTo>
                  <a:pt x="37" y="135"/>
                </a:lnTo>
                <a:lnTo>
                  <a:pt x="35" y="133"/>
                </a:lnTo>
                <a:lnTo>
                  <a:pt x="37" y="129"/>
                </a:lnTo>
                <a:lnTo>
                  <a:pt x="39" y="129"/>
                </a:lnTo>
                <a:lnTo>
                  <a:pt x="42" y="128"/>
                </a:lnTo>
                <a:lnTo>
                  <a:pt x="50" y="113"/>
                </a:lnTo>
                <a:lnTo>
                  <a:pt x="57" y="93"/>
                </a:lnTo>
                <a:lnTo>
                  <a:pt x="62" y="76"/>
                </a:lnTo>
                <a:lnTo>
                  <a:pt x="62" y="67"/>
                </a:lnTo>
                <a:lnTo>
                  <a:pt x="62" y="67"/>
                </a:lnTo>
                <a:lnTo>
                  <a:pt x="61" y="62"/>
                </a:lnTo>
                <a:lnTo>
                  <a:pt x="61" y="60"/>
                </a:lnTo>
                <a:lnTo>
                  <a:pt x="57" y="53"/>
                </a:lnTo>
                <a:lnTo>
                  <a:pt x="55" y="51"/>
                </a:lnTo>
                <a:lnTo>
                  <a:pt x="53" y="49"/>
                </a:lnTo>
                <a:lnTo>
                  <a:pt x="53" y="42"/>
                </a:lnTo>
                <a:lnTo>
                  <a:pt x="53" y="40"/>
                </a:lnTo>
                <a:lnTo>
                  <a:pt x="55" y="38"/>
                </a:lnTo>
                <a:lnTo>
                  <a:pt x="62" y="34"/>
                </a:lnTo>
                <a:lnTo>
                  <a:pt x="68" y="31"/>
                </a:lnTo>
                <a:lnTo>
                  <a:pt x="75" y="25"/>
                </a:lnTo>
                <a:lnTo>
                  <a:pt x="79" y="20"/>
                </a:lnTo>
                <a:lnTo>
                  <a:pt x="79" y="18"/>
                </a:lnTo>
                <a:lnTo>
                  <a:pt x="81" y="9"/>
                </a:lnTo>
                <a:lnTo>
                  <a:pt x="84" y="9"/>
                </a:lnTo>
                <a:lnTo>
                  <a:pt x="84" y="11"/>
                </a:lnTo>
                <a:lnTo>
                  <a:pt x="84" y="14"/>
                </a:lnTo>
                <a:lnTo>
                  <a:pt x="86" y="16"/>
                </a:lnTo>
                <a:lnTo>
                  <a:pt x="88" y="18"/>
                </a:lnTo>
                <a:lnTo>
                  <a:pt x="92" y="18"/>
                </a:lnTo>
                <a:lnTo>
                  <a:pt x="112" y="20"/>
                </a:lnTo>
                <a:lnTo>
                  <a:pt x="117" y="20"/>
                </a:lnTo>
                <a:lnTo>
                  <a:pt x="119" y="18"/>
                </a:lnTo>
                <a:lnTo>
                  <a:pt x="121" y="18"/>
                </a:lnTo>
                <a:lnTo>
                  <a:pt x="125" y="14"/>
                </a:lnTo>
                <a:lnTo>
                  <a:pt x="125" y="11"/>
                </a:lnTo>
                <a:lnTo>
                  <a:pt x="125" y="9"/>
                </a:lnTo>
                <a:lnTo>
                  <a:pt x="128" y="3"/>
                </a:lnTo>
                <a:lnTo>
                  <a:pt x="132" y="1"/>
                </a:lnTo>
                <a:lnTo>
                  <a:pt x="145" y="0"/>
                </a:lnTo>
                <a:lnTo>
                  <a:pt x="152" y="0"/>
                </a:lnTo>
                <a:lnTo>
                  <a:pt x="157" y="1"/>
                </a:lnTo>
                <a:lnTo>
                  <a:pt x="159" y="1"/>
                </a:lnTo>
                <a:lnTo>
                  <a:pt x="174" y="12"/>
                </a:lnTo>
                <a:lnTo>
                  <a:pt x="181" y="20"/>
                </a:lnTo>
                <a:lnTo>
                  <a:pt x="183" y="22"/>
                </a:lnTo>
                <a:lnTo>
                  <a:pt x="185" y="23"/>
                </a:lnTo>
                <a:lnTo>
                  <a:pt x="187" y="25"/>
                </a:lnTo>
                <a:lnTo>
                  <a:pt x="198" y="34"/>
                </a:lnTo>
                <a:lnTo>
                  <a:pt x="205" y="40"/>
                </a:lnTo>
                <a:lnTo>
                  <a:pt x="209" y="42"/>
                </a:lnTo>
                <a:lnTo>
                  <a:pt x="212" y="43"/>
                </a:lnTo>
                <a:lnTo>
                  <a:pt x="223" y="56"/>
                </a:lnTo>
                <a:lnTo>
                  <a:pt x="234" y="67"/>
                </a:lnTo>
                <a:lnTo>
                  <a:pt x="236" y="69"/>
                </a:lnTo>
                <a:lnTo>
                  <a:pt x="238" y="73"/>
                </a:lnTo>
                <a:lnTo>
                  <a:pt x="236" y="76"/>
                </a:lnTo>
                <a:lnTo>
                  <a:pt x="234" y="80"/>
                </a:lnTo>
                <a:lnTo>
                  <a:pt x="234" y="84"/>
                </a:lnTo>
                <a:lnTo>
                  <a:pt x="234" y="93"/>
                </a:lnTo>
                <a:lnTo>
                  <a:pt x="234" y="95"/>
                </a:lnTo>
                <a:lnTo>
                  <a:pt x="236" y="95"/>
                </a:lnTo>
                <a:lnTo>
                  <a:pt x="243" y="95"/>
                </a:lnTo>
                <a:lnTo>
                  <a:pt x="245" y="95"/>
                </a:lnTo>
                <a:lnTo>
                  <a:pt x="251" y="95"/>
                </a:lnTo>
                <a:lnTo>
                  <a:pt x="258" y="89"/>
                </a:lnTo>
                <a:lnTo>
                  <a:pt x="267" y="82"/>
                </a:lnTo>
                <a:lnTo>
                  <a:pt x="269" y="75"/>
                </a:lnTo>
                <a:lnTo>
                  <a:pt x="271" y="73"/>
                </a:lnTo>
                <a:lnTo>
                  <a:pt x="274" y="73"/>
                </a:lnTo>
                <a:lnTo>
                  <a:pt x="282" y="76"/>
                </a:lnTo>
                <a:lnTo>
                  <a:pt x="291" y="84"/>
                </a:lnTo>
                <a:lnTo>
                  <a:pt x="298" y="91"/>
                </a:lnTo>
                <a:lnTo>
                  <a:pt x="300" y="95"/>
                </a:lnTo>
                <a:lnTo>
                  <a:pt x="307" y="109"/>
                </a:lnTo>
                <a:lnTo>
                  <a:pt x="309" y="111"/>
                </a:lnTo>
                <a:lnTo>
                  <a:pt x="322" y="118"/>
                </a:lnTo>
                <a:lnTo>
                  <a:pt x="348" y="128"/>
                </a:lnTo>
                <a:lnTo>
                  <a:pt x="349" y="129"/>
                </a:lnTo>
                <a:lnTo>
                  <a:pt x="355" y="129"/>
                </a:lnTo>
                <a:lnTo>
                  <a:pt x="357" y="129"/>
                </a:lnTo>
                <a:lnTo>
                  <a:pt x="360" y="129"/>
                </a:lnTo>
                <a:lnTo>
                  <a:pt x="370" y="131"/>
                </a:lnTo>
                <a:lnTo>
                  <a:pt x="382" y="142"/>
                </a:lnTo>
                <a:lnTo>
                  <a:pt x="382" y="151"/>
                </a:lnTo>
                <a:lnTo>
                  <a:pt x="384" y="153"/>
                </a:lnTo>
                <a:lnTo>
                  <a:pt x="388" y="153"/>
                </a:lnTo>
                <a:lnTo>
                  <a:pt x="390" y="155"/>
                </a:lnTo>
                <a:lnTo>
                  <a:pt x="393" y="159"/>
                </a:lnTo>
                <a:lnTo>
                  <a:pt x="401" y="164"/>
                </a:lnTo>
                <a:lnTo>
                  <a:pt x="412" y="171"/>
                </a:lnTo>
                <a:lnTo>
                  <a:pt x="419" y="171"/>
                </a:lnTo>
                <a:lnTo>
                  <a:pt x="421" y="171"/>
                </a:lnTo>
                <a:lnTo>
                  <a:pt x="435" y="177"/>
                </a:lnTo>
                <a:lnTo>
                  <a:pt x="439" y="181"/>
                </a:lnTo>
                <a:lnTo>
                  <a:pt x="452" y="192"/>
                </a:lnTo>
                <a:lnTo>
                  <a:pt x="459" y="202"/>
                </a:lnTo>
                <a:lnTo>
                  <a:pt x="463" y="210"/>
                </a:lnTo>
                <a:lnTo>
                  <a:pt x="461" y="212"/>
                </a:lnTo>
                <a:lnTo>
                  <a:pt x="463" y="217"/>
                </a:lnTo>
                <a:lnTo>
                  <a:pt x="468" y="224"/>
                </a:lnTo>
                <a:lnTo>
                  <a:pt x="470" y="226"/>
                </a:lnTo>
                <a:lnTo>
                  <a:pt x="472" y="228"/>
                </a:lnTo>
                <a:lnTo>
                  <a:pt x="474" y="228"/>
                </a:lnTo>
                <a:lnTo>
                  <a:pt x="485" y="237"/>
                </a:lnTo>
                <a:lnTo>
                  <a:pt x="487" y="239"/>
                </a:lnTo>
                <a:lnTo>
                  <a:pt x="490" y="239"/>
                </a:lnTo>
                <a:lnTo>
                  <a:pt x="499" y="241"/>
                </a:lnTo>
                <a:lnTo>
                  <a:pt x="505" y="245"/>
                </a:lnTo>
                <a:lnTo>
                  <a:pt x="508" y="246"/>
                </a:lnTo>
                <a:lnTo>
                  <a:pt x="514" y="252"/>
                </a:lnTo>
                <a:lnTo>
                  <a:pt x="507" y="259"/>
                </a:lnTo>
                <a:lnTo>
                  <a:pt x="499" y="266"/>
                </a:lnTo>
                <a:lnTo>
                  <a:pt x="496" y="274"/>
                </a:lnTo>
                <a:lnTo>
                  <a:pt x="481" y="283"/>
                </a:lnTo>
                <a:lnTo>
                  <a:pt x="479" y="285"/>
                </a:lnTo>
                <a:lnTo>
                  <a:pt x="477" y="287"/>
                </a:lnTo>
                <a:lnTo>
                  <a:pt x="476" y="288"/>
                </a:lnTo>
                <a:lnTo>
                  <a:pt x="474" y="292"/>
                </a:lnTo>
                <a:lnTo>
                  <a:pt x="474" y="292"/>
                </a:lnTo>
                <a:lnTo>
                  <a:pt x="474" y="294"/>
                </a:lnTo>
                <a:lnTo>
                  <a:pt x="472" y="298"/>
                </a:lnTo>
                <a:lnTo>
                  <a:pt x="472" y="301"/>
                </a:lnTo>
                <a:lnTo>
                  <a:pt x="474" y="305"/>
                </a:lnTo>
                <a:lnTo>
                  <a:pt x="474" y="307"/>
                </a:lnTo>
                <a:lnTo>
                  <a:pt x="474" y="310"/>
                </a:lnTo>
                <a:lnTo>
                  <a:pt x="476" y="318"/>
                </a:lnTo>
                <a:lnTo>
                  <a:pt x="476" y="319"/>
                </a:lnTo>
                <a:lnTo>
                  <a:pt x="476" y="323"/>
                </a:lnTo>
                <a:lnTo>
                  <a:pt x="476" y="325"/>
                </a:lnTo>
                <a:lnTo>
                  <a:pt x="474" y="329"/>
                </a:lnTo>
                <a:lnTo>
                  <a:pt x="474" y="334"/>
                </a:lnTo>
                <a:lnTo>
                  <a:pt x="472" y="338"/>
                </a:lnTo>
                <a:lnTo>
                  <a:pt x="472" y="341"/>
                </a:lnTo>
                <a:lnTo>
                  <a:pt x="474" y="345"/>
                </a:lnTo>
                <a:lnTo>
                  <a:pt x="485" y="351"/>
                </a:lnTo>
                <a:lnTo>
                  <a:pt x="488" y="351"/>
                </a:lnTo>
                <a:lnTo>
                  <a:pt x="485" y="352"/>
                </a:lnTo>
                <a:lnTo>
                  <a:pt x="483" y="352"/>
                </a:lnTo>
                <a:lnTo>
                  <a:pt x="481" y="356"/>
                </a:lnTo>
                <a:lnTo>
                  <a:pt x="479" y="358"/>
                </a:lnTo>
                <a:lnTo>
                  <a:pt x="477" y="362"/>
                </a:lnTo>
                <a:lnTo>
                  <a:pt x="476" y="363"/>
                </a:lnTo>
                <a:lnTo>
                  <a:pt x="466" y="385"/>
                </a:lnTo>
                <a:lnTo>
                  <a:pt x="448" y="407"/>
                </a:lnTo>
                <a:lnTo>
                  <a:pt x="443" y="416"/>
                </a:lnTo>
                <a:lnTo>
                  <a:pt x="417" y="435"/>
                </a:lnTo>
                <a:lnTo>
                  <a:pt x="404" y="440"/>
                </a:lnTo>
                <a:lnTo>
                  <a:pt x="395" y="446"/>
                </a:lnTo>
                <a:lnTo>
                  <a:pt x="377" y="453"/>
                </a:lnTo>
                <a:lnTo>
                  <a:pt x="375" y="453"/>
                </a:lnTo>
                <a:lnTo>
                  <a:pt x="371" y="455"/>
                </a:lnTo>
                <a:lnTo>
                  <a:pt x="362" y="458"/>
                </a:lnTo>
                <a:lnTo>
                  <a:pt x="359" y="460"/>
                </a:lnTo>
                <a:lnTo>
                  <a:pt x="348" y="464"/>
                </a:lnTo>
                <a:lnTo>
                  <a:pt x="342" y="466"/>
                </a:lnTo>
                <a:lnTo>
                  <a:pt x="335" y="466"/>
                </a:lnTo>
                <a:lnTo>
                  <a:pt x="326" y="460"/>
                </a:lnTo>
                <a:lnTo>
                  <a:pt x="322" y="460"/>
                </a:lnTo>
                <a:lnTo>
                  <a:pt x="318" y="460"/>
                </a:lnTo>
                <a:lnTo>
                  <a:pt x="315" y="460"/>
                </a:lnTo>
                <a:lnTo>
                  <a:pt x="309" y="462"/>
                </a:lnTo>
                <a:lnTo>
                  <a:pt x="307" y="462"/>
                </a:lnTo>
                <a:lnTo>
                  <a:pt x="304" y="460"/>
                </a:lnTo>
                <a:lnTo>
                  <a:pt x="302" y="457"/>
                </a:lnTo>
                <a:lnTo>
                  <a:pt x="300" y="455"/>
                </a:lnTo>
                <a:lnTo>
                  <a:pt x="296" y="453"/>
                </a:lnTo>
                <a:lnTo>
                  <a:pt x="295" y="453"/>
                </a:lnTo>
                <a:lnTo>
                  <a:pt x="289" y="453"/>
                </a:lnTo>
                <a:lnTo>
                  <a:pt x="273" y="451"/>
                </a:lnTo>
                <a:lnTo>
                  <a:pt x="265" y="449"/>
                </a:lnTo>
                <a:lnTo>
                  <a:pt x="256" y="451"/>
                </a:lnTo>
                <a:lnTo>
                  <a:pt x="252" y="451"/>
                </a:lnTo>
                <a:lnTo>
                  <a:pt x="243" y="455"/>
                </a:lnTo>
                <a:lnTo>
                  <a:pt x="242" y="457"/>
                </a:lnTo>
                <a:lnTo>
                  <a:pt x="238" y="458"/>
                </a:lnTo>
                <a:lnTo>
                  <a:pt x="234" y="460"/>
                </a:lnTo>
                <a:lnTo>
                  <a:pt x="232" y="460"/>
                </a:lnTo>
                <a:lnTo>
                  <a:pt x="232" y="460"/>
                </a:lnTo>
                <a:lnTo>
                  <a:pt x="220" y="464"/>
                </a:lnTo>
                <a:lnTo>
                  <a:pt x="205" y="462"/>
                </a:lnTo>
                <a:lnTo>
                  <a:pt x="194" y="457"/>
                </a:lnTo>
                <a:lnTo>
                  <a:pt x="196" y="453"/>
                </a:lnTo>
                <a:lnTo>
                  <a:pt x="199" y="451"/>
                </a:lnTo>
                <a:lnTo>
                  <a:pt x="196" y="451"/>
                </a:lnTo>
                <a:lnTo>
                  <a:pt x="179" y="449"/>
                </a:lnTo>
                <a:lnTo>
                  <a:pt x="156" y="442"/>
                </a:lnTo>
                <a:lnTo>
                  <a:pt x="148" y="438"/>
                </a:lnTo>
                <a:lnTo>
                  <a:pt x="128" y="420"/>
                </a:lnTo>
                <a:lnTo>
                  <a:pt x="123" y="418"/>
                </a:lnTo>
                <a:lnTo>
                  <a:pt x="121" y="418"/>
                </a:lnTo>
                <a:lnTo>
                  <a:pt x="86" y="418"/>
                </a:lnTo>
                <a:lnTo>
                  <a:pt x="75" y="420"/>
                </a:lnTo>
                <a:lnTo>
                  <a:pt x="59" y="422"/>
                </a:lnTo>
                <a:lnTo>
                  <a:pt x="55" y="418"/>
                </a:lnTo>
                <a:lnTo>
                  <a:pt x="53" y="413"/>
                </a:lnTo>
                <a:lnTo>
                  <a:pt x="51" y="411"/>
                </a:lnTo>
                <a:lnTo>
                  <a:pt x="46" y="405"/>
                </a:lnTo>
                <a:lnTo>
                  <a:pt x="35" y="394"/>
                </a:lnTo>
                <a:lnTo>
                  <a:pt x="18" y="382"/>
                </a:lnTo>
                <a:lnTo>
                  <a:pt x="4" y="369"/>
                </a:lnTo>
                <a:lnTo>
                  <a:pt x="2" y="363"/>
                </a:lnTo>
                <a:lnTo>
                  <a:pt x="2" y="362"/>
                </a:lnTo>
                <a:lnTo>
                  <a:pt x="2" y="360"/>
                </a:lnTo>
                <a:lnTo>
                  <a:pt x="0" y="347"/>
                </a:lnTo>
                <a:lnTo>
                  <a:pt x="0" y="332"/>
                </a:lnTo>
                <a:lnTo>
                  <a:pt x="2" y="330"/>
                </a:lnTo>
                <a:lnTo>
                  <a:pt x="2" y="329"/>
                </a:lnTo>
                <a:lnTo>
                  <a:pt x="6" y="325"/>
                </a:lnTo>
                <a:lnTo>
                  <a:pt x="6" y="321"/>
                </a:lnTo>
                <a:lnTo>
                  <a:pt x="6" y="319"/>
                </a:lnTo>
                <a:lnTo>
                  <a:pt x="2" y="318"/>
                </a:lnTo>
                <a:lnTo>
                  <a:pt x="4" y="314"/>
                </a:lnTo>
                <a:lnTo>
                  <a:pt x="6" y="312"/>
                </a:lnTo>
                <a:lnTo>
                  <a:pt x="8" y="310"/>
                </a:lnTo>
                <a:lnTo>
                  <a:pt x="9" y="305"/>
                </a:lnTo>
                <a:lnTo>
                  <a:pt x="8" y="299"/>
                </a:lnTo>
                <a:lnTo>
                  <a:pt x="8" y="296"/>
                </a:lnTo>
                <a:lnTo>
                  <a:pt x="8" y="294"/>
                </a:lnTo>
                <a:lnTo>
                  <a:pt x="8" y="292"/>
                </a:lnTo>
                <a:lnTo>
                  <a:pt x="9" y="290"/>
                </a:lnTo>
                <a:lnTo>
                  <a:pt x="13" y="290"/>
                </a:lnTo>
                <a:lnTo>
                  <a:pt x="15" y="290"/>
                </a:lnTo>
                <a:lnTo>
                  <a:pt x="20" y="290"/>
                </a:lnTo>
                <a:lnTo>
                  <a:pt x="24" y="290"/>
                </a:lnTo>
                <a:lnTo>
                  <a:pt x="28" y="290"/>
                </a:lnTo>
                <a:lnTo>
                  <a:pt x="29" y="288"/>
                </a:lnTo>
                <a:lnTo>
                  <a:pt x="35" y="285"/>
                </a:lnTo>
                <a:lnTo>
                  <a:pt x="39" y="272"/>
                </a:lnTo>
                <a:lnTo>
                  <a:pt x="39" y="270"/>
                </a:lnTo>
                <a:lnTo>
                  <a:pt x="37" y="266"/>
                </a:lnTo>
                <a:lnTo>
                  <a:pt x="35" y="265"/>
                </a:lnTo>
                <a:lnTo>
                  <a:pt x="31" y="261"/>
                </a:lnTo>
                <a:lnTo>
                  <a:pt x="29" y="259"/>
                </a:lnTo>
                <a:lnTo>
                  <a:pt x="29" y="257"/>
                </a:lnTo>
                <a:lnTo>
                  <a:pt x="29" y="254"/>
                </a:lnTo>
                <a:lnTo>
                  <a:pt x="29" y="252"/>
                </a:lnTo>
                <a:lnTo>
                  <a:pt x="29" y="248"/>
                </a:lnTo>
                <a:lnTo>
                  <a:pt x="28" y="241"/>
                </a:lnTo>
                <a:lnTo>
                  <a:pt x="24" y="230"/>
                </a:lnTo>
                <a:lnTo>
                  <a:pt x="24" y="226"/>
                </a:lnTo>
                <a:close/>
              </a:path>
            </a:pathLst>
          </a:custGeom>
          <a:solidFill>
            <a:srgbClr val="fccfea"/>
          </a:solidFill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98840" y="6173640"/>
            <a:ext cx="500040" cy="147960"/>
          </a:xfrm>
          <a:custGeom>
            <a:avLst/>
            <a:gdLst/>
            <a:ahLst/>
            <a:rect l="l" t="t" r="r" b="b"/>
            <a:pathLst>
              <a:path w="313" h="100">
                <a:moveTo>
                  <a:pt x="271" y="49"/>
                </a:moveTo>
                <a:lnTo>
                  <a:pt x="269" y="47"/>
                </a:lnTo>
                <a:lnTo>
                  <a:pt x="263" y="47"/>
                </a:lnTo>
                <a:lnTo>
                  <a:pt x="253" y="51"/>
                </a:lnTo>
                <a:lnTo>
                  <a:pt x="254" y="51"/>
                </a:lnTo>
                <a:lnTo>
                  <a:pt x="258" y="53"/>
                </a:lnTo>
                <a:lnTo>
                  <a:pt x="260" y="51"/>
                </a:lnTo>
                <a:lnTo>
                  <a:pt x="265" y="51"/>
                </a:lnTo>
                <a:lnTo>
                  <a:pt x="251" y="58"/>
                </a:lnTo>
                <a:lnTo>
                  <a:pt x="247" y="58"/>
                </a:lnTo>
                <a:lnTo>
                  <a:pt x="229" y="58"/>
                </a:lnTo>
                <a:lnTo>
                  <a:pt x="214" y="56"/>
                </a:lnTo>
                <a:lnTo>
                  <a:pt x="201" y="53"/>
                </a:lnTo>
                <a:lnTo>
                  <a:pt x="199" y="53"/>
                </a:lnTo>
                <a:lnTo>
                  <a:pt x="199" y="51"/>
                </a:lnTo>
                <a:lnTo>
                  <a:pt x="198" y="49"/>
                </a:lnTo>
                <a:lnTo>
                  <a:pt x="196" y="51"/>
                </a:lnTo>
                <a:lnTo>
                  <a:pt x="194" y="53"/>
                </a:lnTo>
                <a:lnTo>
                  <a:pt x="199" y="56"/>
                </a:lnTo>
                <a:lnTo>
                  <a:pt x="209" y="60"/>
                </a:lnTo>
                <a:lnTo>
                  <a:pt x="218" y="62"/>
                </a:lnTo>
                <a:lnTo>
                  <a:pt x="227" y="64"/>
                </a:lnTo>
                <a:lnTo>
                  <a:pt x="229" y="67"/>
                </a:lnTo>
                <a:lnTo>
                  <a:pt x="225" y="75"/>
                </a:lnTo>
                <a:lnTo>
                  <a:pt x="221" y="77"/>
                </a:lnTo>
                <a:lnTo>
                  <a:pt x="209" y="73"/>
                </a:lnTo>
                <a:lnTo>
                  <a:pt x="189" y="71"/>
                </a:lnTo>
                <a:lnTo>
                  <a:pt x="168" y="69"/>
                </a:lnTo>
                <a:lnTo>
                  <a:pt x="170" y="69"/>
                </a:lnTo>
                <a:lnTo>
                  <a:pt x="174" y="71"/>
                </a:lnTo>
                <a:lnTo>
                  <a:pt x="179" y="75"/>
                </a:lnTo>
                <a:lnTo>
                  <a:pt x="189" y="82"/>
                </a:lnTo>
                <a:lnTo>
                  <a:pt x="187" y="89"/>
                </a:lnTo>
                <a:lnTo>
                  <a:pt x="185" y="89"/>
                </a:lnTo>
                <a:lnTo>
                  <a:pt x="172" y="88"/>
                </a:lnTo>
                <a:lnTo>
                  <a:pt x="168" y="86"/>
                </a:lnTo>
                <a:lnTo>
                  <a:pt x="163" y="84"/>
                </a:lnTo>
                <a:lnTo>
                  <a:pt x="156" y="78"/>
                </a:lnTo>
                <a:lnTo>
                  <a:pt x="148" y="82"/>
                </a:lnTo>
                <a:lnTo>
                  <a:pt x="150" y="88"/>
                </a:lnTo>
                <a:lnTo>
                  <a:pt x="154" y="89"/>
                </a:lnTo>
                <a:lnTo>
                  <a:pt x="159" y="91"/>
                </a:lnTo>
                <a:lnTo>
                  <a:pt x="159" y="98"/>
                </a:lnTo>
                <a:lnTo>
                  <a:pt x="157" y="100"/>
                </a:lnTo>
                <a:lnTo>
                  <a:pt x="156" y="98"/>
                </a:lnTo>
                <a:lnTo>
                  <a:pt x="135" y="89"/>
                </a:lnTo>
                <a:lnTo>
                  <a:pt x="123" y="78"/>
                </a:lnTo>
                <a:lnTo>
                  <a:pt x="137" y="60"/>
                </a:lnTo>
                <a:lnTo>
                  <a:pt x="141" y="56"/>
                </a:lnTo>
                <a:lnTo>
                  <a:pt x="165" y="44"/>
                </a:lnTo>
                <a:lnTo>
                  <a:pt x="170" y="40"/>
                </a:lnTo>
                <a:lnTo>
                  <a:pt x="179" y="38"/>
                </a:lnTo>
                <a:lnTo>
                  <a:pt x="187" y="38"/>
                </a:lnTo>
                <a:lnTo>
                  <a:pt x="189" y="45"/>
                </a:lnTo>
                <a:lnTo>
                  <a:pt x="187" y="49"/>
                </a:lnTo>
                <a:lnTo>
                  <a:pt x="192" y="49"/>
                </a:lnTo>
                <a:lnTo>
                  <a:pt x="192" y="49"/>
                </a:lnTo>
                <a:lnTo>
                  <a:pt x="194" y="47"/>
                </a:lnTo>
                <a:lnTo>
                  <a:pt x="189" y="36"/>
                </a:lnTo>
                <a:lnTo>
                  <a:pt x="185" y="33"/>
                </a:lnTo>
                <a:lnTo>
                  <a:pt x="176" y="27"/>
                </a:lnTo>
                <a:lnTo>
                  <a:pt x="181" y="22"/>
                </a:lnTo>
                <a:lnTo>
                  <a:pt x="192" y="11"/>
                </a:lnTo>
                <a:lnTo>
                  <a:pt x="207" y="0"/>
                </a:lnTo>
                <a:lnTo>
                  <a:pt x="243" y="2"/>
                </a:lnTo>
                <a:lnTo>
                  <a:pt x="249" y="3"/>
                </a:lnTo>
                <a:lnTo>
                  <a:pt x="254" y="7"/>
                </a:lnTo>
                <a:lnTo>
                  <a:pt x="256" y="13"/>
                </a:lnTo>
                <a:lnTo>
                  <a:pt x="253" y="14"/>
                </a:lnTo>
                <a:lnTo>
                  <a:pt x="245" y="14"/>
                </a:lnTo>
                <a:lnTo>
                  <a:pt x="243" y="13"/>
                </a:lnTo>
                <a:lnTo>
                  <a:pt x="242" y="11"/>
                </a:lnTo>
                <a:lnTo>
                  <a:pt x="240" y="9"/>
                </a:lnTo>
                <a:lnTo>
                  <a:pt x="234" y="13"/>
                </a:lnTo>
                <a:lnTo>
                  <a:pt x="238" y="18"/>
                </a:lnTo>
                <a:lnTo>
                  <a:pt x="240" y="20"/>
                </a:lnTo>
                <a:lnTo>
                  <a:pt x="247" y="25"/>
                </a:lnTo>
                <a:lnTo>
                  <a:pt x="265" y="34"/>
                </a:lnTo>
                <a:lnTo>
                  <a:pt x="267" y="34"/>
                </a:lnTo>
                <a:lnTo>
                  <a:pt x="271" y="31"/>
                </a:lnTo>
                <a:lnTo>
                  <a:pt x="269" y="27"/>
                </a:lnTo>
                <a:lnTo>
                  <a:pt x="263" y="24"/>
                </a:lnTo>
                <a:lnTo>
                  <a:pt x="258" y="20"/>
                </a:lnTo>
                <a:lnTo>
                  <a:pt x="254" y="20"/>
                </a:lnTo>
                <a:lnTo>
                  <a:pt x="262" y="11"/>
                </a:lnTo>
                <a:lnTo>
                  <a:pt x="263" y="11"/>
                </a:lnTo>
                <a:lnTo>
                  <a:pt x="267" y="9"/>
                </a:lnTo>
                <a:lnTo>
                  <a:pt x="293" y="7"/>
                </a:lnTo>
                <a:lnTo>
                  <a:pt x="296" y="7"/>
                </a:lnTo>
                <a:lnTo>
                  <a:pt x="298" y="9"/>
                </a:lnTo>
                <a:lnTo>
                  <a:pt x="300" y="11"/>
                </a:lnTo>
                <a:lnTo>
                  <a:pt x="309" y="20"/>
                </a:lnTo>
                <a:lnTo>
                  <a:pt x="313" y="38"/>
                </a:lnTo>
                <a:lnTo>
                  <a:pt x="304" y="42"/>
                </a:lnTo>
                <a:lnTo>
                  <a:pt x="291" y="44"/>
                </a:lnTo>
                <a:lnTo>
                  <a:pt x="285" y="44"/>
                </a:lnTo>
                <a:lnTo>
                  <a:pt x="276" y="45"/>
                </a:lnTo>
                <a:lnTo>
                  <a:pt x="271" y="49"/>
                </a:lnTo>
                <a:moveTo>
                  <a:pt x="101" y="66"/>
                </a:moveTo>
                <a:lnTo>
                  <a:pt x="90" y="62"/>
                </a:lnTo>
                <a:lnTo>
                  <a:pt x="77" y="66"/>
                </a:lnTo>
                <a:lnTo>
                  <a:pt x="70" y="73"/>
                </a:lnTo>
                <a:lnTo>
                  <a:pt x="70" y="75"/>
                </a:lnTo>
                <a:lnTo>
                  <a:pt x="68" y="77"/>
                </a:lnTo>
                <a:lnTo>
                  <a:pt x="66" y="80"/>
                </a:lnTo>
                <a:lnTo>
                  <a:pt x="61" y="84"/>
                </a:lnTo>
                <a:lnTo>
                  <a:pt x="39" y="91"/>
                </a:lnTo>
                <a:lnTo>
                  <a:pt x="35" y="91"/>
                </a:lnTo>
                <a:lnTo>
                  <a:pt x="31" y="89"/>
                </a:lnTo>
                <a:lnTo>
                  <a:pt x="0" y="73"/>
                </a:lnTo>
                <a:lnTo>
                  <a:pt x="8" y="71"/>
                </a:lnTo>
                <a:lnTo>
                  <a:pt x="17" y="67"/>
                </a:lnTo>
                <a:lnTo>
                  <a:pt x="31" y="66"/>
                </a:lnTo>
                <a:lnTo>
                  <a:pt x="33" y="66"/>
                </a:lnTo>
                <a:lnTo>
                  <a:pt x="44" y="66"/>
                </a:lnTo>
                <a:lnTo>
                  <a:pt x="51" y="66"/>
                </a:lnTo>
                <a:lnTo>
                  <a:pt x="53" y="64"/>
                </a:lnTo>
                <a:lnTo>
                  <a:pt x="68" y="49"/>
                </a:lnTo>
                <a:lnTo>
                  <a:pt x="68" y="45"/>
                </a:lnTo>
                <a:lnTo>
                  <a:pt x="66" y="45"/>
                </a:lnTo>
                <a:lnTo>
                  <a:pt x="66" y="45"/>
                </a:lnTo>
                <a:lnTo>
                  <a:pt x="59" y="45"/>
                </a:lnTo>
                <a:lnTo>
                  <a:pt x="57" y="47"/>
                </a:lnTo>
                <a:lnTo>
                  <a:pt x="53" y="45"/>
                </a:lnTo>
                <a:lnTo>
                  <a:pt x="42" y="45"/>
                </a:lnTo>
                <a:lnTo>
                  <a:pt x="35" y="42"/>
                </a:lnTo>
                <a:lnTo>
                  <a:pt x="33" y="36"/>
                </a:lnTo>
                <a:lnTo>
                  <a:pt x="37" y="36"/>
                </a:lnTo>
                <a:lnTo>
                  <a:pt x="40" y="38"/>
                </a:lnTo>
                <a:lnTo>
                  <a:pt x="42" y="38"/>
                </a:lnTo>
                <a:lnTo>
                  <a:pt x="44" y="38"/>
                </a:lnTo>
                <a:lnTo>
                  <a:pt x="48" y="40"/>
                </a:lnTo>
                <a:lnTo>
                  <a:pt x="51" y="40"/>
                </a:lnTo>
                <a:lnTo>
                  <a:pt x="72" y="34"/>
                </a:lnTo>
                <a:lnTo>
                  <a:pt x="68" y="29"/>
                </a:lnTo>
                <a:lnTo>
                  <a:pt x="57" y="25"/>
                </a:lnTo>
                <a:lnTo>
                  <a:pt x="35" y="11"/>
                </a:lnTo>
                <a:lnTo>
                  <a:pt x="33" y="5"/>
                </a:lnTo>
                <a:lnTo>
                  <a:pt x="37" y="5"/>
                </a:lnTo>
                <a:lnTo>
                  <a:pt x="50" y="9"/>
                </a:lnTo>
                <a:lnTo>
                  <a:pt x="57" y="13"/>
                </a:lnTo>
                <a:lnTo>
                  <a:pt x="64" y="16"/>
                </a:lnTo>
                <a:lnTo>
                  <a:pt x="66" y="16"/>
                </a:lnTo>
                <a:lnTo>
                  <a:pt x="72" y="18"/>
                </a:lnTo>
                <a:lnTo>
                  <a:pt x="73" y="18"/>
                </a:lnTo>
                <a:lnTo>
                  <a:pt x="82" y="20"/>
                </a:lnTo>
                <a:lnTo>
                  <a:pt x="95" y="16"/>
                </a:lnTo>
                <a:lnTo>
                  <a:pt x="92" y="14"/>
                </a:lnTo>
                <a:lnTo>
                  <a:pt x="90" y="13"/>
                </a:lnTo>
                <a:lnTo>
                  <a:pt x="93" y="9"/>
                </a:lnTo>
                <a:lnTo>
                  <a:pt x="106" y="7"/>
                </a:lnTo>
                <a:lnTo>
                  <a:pt x="108" y="9"/>
                </a:lnTo>
                <a:lnTo>
                  <a:pt x="112" y="11"/>
                </a:lnTo>
                <a:lnTo>
                  <a:pt x="119" y="13"/>
                </a:lnTo>
                <a:lnTo>
                  <a:pt x="121" y="14"/>
                </a:lnTo>
                <a:lnTo>
                  <a:pt x="123" y="14"/>
                </a:lnTo>
                <a:lnTo>
                  <a:pt x="143" y="16"/>
                </a:lnTo>
                <a:lnTo>
                  <a:pt x="148" y="16"/>
                </a:lnTo>
                <a:lnTo>
                  <a:pt x="154" y="13"/>
                </a:lnTo>
                <a:lnTo>
                  <a:pt x="152" y="11"/>
                </a:lnTo>
                <a:lnTo>
                  <a:pt x="148" y="11"/>
                </a:lnTo>
                <a:lnTo>
                  <a:pt x="148" y="5"/>
                </a:lnTo>
                <a:lnTo>
                  <a:pt x="154" y="3"/>
                </a:lnTo>
                <a:lnTo>
                  <a:pt x="172" y="11"/>
                </a:lnTo>
                <a:lnTo>
                  <a:pt x="154" y="29"/>
                </a:lnTo>
                <a:lnTo>
                  <a:pt x="150" y="31"/>
                </a:lnTo>
                <a:lnTo>
                  <a:pt x="148" y="31"/>
                </a:lnTo>
                <a:lnTo>
                  <a:pt x="135" y="38"/>
                </a:lnTo>
                <a:lnTo>
                  <a:pt x="126" y="45"/>
                </a:lnTo>
                <a:lnTo>
                  <a:pt x="112" y="58"/>
                </a:lnTo>
                <a:lnTo>
                  <a:pt x="103" y="66"/>
                </a:lnTo>
                <a:lnTo>
                  <a:pt x="101" y="66"/>
                </a:lnTo>
              </a:path>
            </a:pathLst>
          </a:custGeom>
          <a:solidFill>
            <a:srgbClr val="ccff66"/>
          </a:solidFill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63840" y="2019240"/>
            <a:ext cx="3065400" cy="4684680"/>
          </a:xfrm>
          <a:custGeom>
            <a:avLst/>
            <a:gdLst/>
            <a:ahLst/>
            <a:rect l="l" t="t" r="r" b="b"/>
            <a:pathLst>
              <a:path w="1916" h="3199">
                <a:moveTo>
                  <a:pt x="1536" y="808"/>
                </a:moveTo>
                <a:lnTo>
                  <a:pt x="1534" y="817"/>
                </a:lnTo>
                <a:lnTo>
                  <a:pt x="1534" y="819"/>
                </a:lnTo>
                <a:lnTo>
                  <a:pt x="1530" y="824"/>
                </a:lnTo>
                <a:lnTo>
                  <a:pt x="1523" y="830"/>
                </a:lnTo>
                <a:lnTo>
                  <a:pt x="1517" y="833"/>
                </a:lnTo>
                <a:lnTo>
                  <a:pt x="1510" y="837"/>
                </a:lnTo>
                <a:lnTo>
                  <a:pt x="1508" y="839"/>
                </a:lnTo>
                <a:lnTo>
                  <a:pt x="1508" y="841"/>
                </a:lnTo>
                <a:lnTo>
                  <a:pt x="1508" y="848"/>
                </a:lnTo>
                <a:lnTo>
                  <a:pt x="1510" y="850"/>
                </a:lnTo>
                <a:lnTo>
                  <a:pt x="1512" y="852"/>
                </a:lnTo>
                <a:lnTo>
                  <a:pt x="1516" y="859"/>
                </a:lnTo>
                <a:lnTo>
                  <a:pt x="1516" y="861"/>
                </a:lnTo>
                <a:lnTo>
                  <a:pt x="1517" y="866"/>
                </a:lnTo>
                <a:lnTo>
                  <a:pt x="1517" y="875"/>
                </a:lnTo>
                <a:lnTo>
                  <a:pt x="1512" y="892"/>
                </a:lnTo>
                <a:lnTo>
                  <a:pt x="1505" y="912"/>
                </a:lnTo>
                <a:lnTo>
                  <a:pt x="1497" y="927"/>
                </a:lnTo>
                <a:lnTo>
                  <a:pt x="1494" y="928"/>
                </a:lnTo>
                <a:lnTo>
                  <a:pt x="1492" y="928"/>
                </a:lnTo>
                <a:lnTo>
                  <a:pt x="1490" y="932"/>
                </a:lnTo>
                <a:lnTo>
                  <a:pt x="1492" y="934"/>
                </a:lnTo>
                <a:lnTo>
                  <a:pt x="1494" y="934"/>
                </a:lnTo>
                <a:lnTo>
                  <a:pt x="1497" y="936"/>
                </a:lnTo>
                <a:lnTo>
                  <a:pt x="1499" y="939"/>
                </a:lnTo>
                <a:lnTo>
                  <a:pt x="1499" y="941"/>
                </a:lnTo>
                <a:lnTo>
                  <a:pt x="1499" y="945"/>
                </a:lnTo>
                <a:lnTo>
                  <a:pt x="1494" y="961"/>
                </a:lnTo>
                <a:lnTo>
                  <a:pt x="1492" y="963"/>
                </a:lnTo>
                <a:lnTo>
                  <a:pt x="1488" y="965"/>
                </a:lnTo>
                <a:lnTo>
                  <a:pt x="1484" y="967"/>
                </a:lnTo>
                <a:lnTo>
                  <a:pt x="1483" y="967"/>
                </a:lnTo>
                <a:lnTo>
                  <a:pt x="1481" y="969"/>
                </a:lnTo>
                <a:lnTo>
                  <a:pt x="1479" y="972"/>
                </a:lnTo>
                <a:lnTo>
                  <a:pt x="1483" y="978"/>
                </a:lnTo>
                <a:lnTo>
                  <a:pt x="1484" y="981"/>
                </a:lnTo>
                <a:lnTo>
                  <a:pt x="1483" y="989"/>
                </a:lnTo>
                <a:lnTo>
                  <a:pt x="1483" y="992"/>
                </a:lnTo>
                <a:lnTo>
                  <a:pt x="1488" y="1007"/>
                </a:lnTo>
                <a:lnTo>
                  <a:pt x="1488" y="1011"/>
                </a:lnTo>
                <a:lnTo>
                  <a:pt x="1488" y="1012"/>
                </a:lnTo>
                <a:lnTo>
                  <a:pt x="1484" y="1016"/>
                </a:lnTo>
                <a:lnTo>
                  <a:pt x="1483" y="1018"/>
                </a:lnTo>
                <a:lnTo>
                  <a:pt x="1481" y="1022"/>
                </a:lnTo>
                <a:lnTo>
                  <a:pt x="1479" y="1025"/>
                </a:lnTo>
                <a:lnTo>
                  <a:pt x="1477" y="1027"/>
                </a:lnTo>
                <a:lnTo>
                  <a:pt x="1477" y="1029"/>
                </a:lnTo>
                <a:lnTo>
                  <a:pt x="1475" y="1033"/>
                </a:lnTo>
                <a:lnTo>
                  <a:pt x="1475" y="1036"/>
                </a:lnTo>
                <a:lnTo>
                  <a:pt x="1479" y="1049"/>
                </a:lnTo>
                <a:lnTo>
                  <a:pt x="1481" y="1064"/>
                </a:lnTo>
                <a:lnTo>
                  <a:pt x="1483" y="1073"/>
                </a:lnTo>
                <a:lnTo>
                  <a:pt x="1484" y="1082"/>
                </a:lnTo>
                <a:lnTo>
                  <a:pt x="1483" y="1084"/>
                </a:lnTo>
                <a:lnTo>
                  <a:pt x="1481" y="1086"/>
                </a:lnTo>
                <a:lnTo>
                  <a:pt x="1479" y="1087"/>
                </a:lnTo>
                <a:lnTo>
                  <a:pt x="1477" y="1087"/>
                </a:lnTo>
                <a:lnTo>
                  <a:pt x="1473" y="1087"/>
                </a:lnTo>
                <a:lnTo>
                  <a:pt x="1472" y="1087"/>
                </a:lnTo>
                <a:lnTo>
                  <a:pt x="1463" y="1086"/>
                </a:lnTo>
                <a:lnTo>
                  <a:pt x="1459" y="1086"/>
                </a:lnTo>
                <a:lnTo>
                  <a:pt x="1457" y="1087"/>
                </a:lnTo>
                <a:lnTo>
                  <a:pt x="1457" y="1104"/>
                </a:lnTo>
                <a:lnTo>
                  <a:pt x="1453" y="1111"/>
                </a:lnTo>
                <a:lnTo>
                  <a:pt x="1452" y="1111"/>
                </a:lnTo>
                <a:lnTo>
                  <a:pt x="1450" y="1117"/>
                </a:lnTo>
                <a:lnTo>
                  <a:pt x="1448" y="1124"/>
                </a:lnTo>
                <a:lnTo>
                  <a:pt x="1446" y="1128"/>
                </a:lnTo>
                <a:lnTo>
                  <a:pt x="1444" y="1142"/>
                </a:lnTo>
                <a:lnTo>
                  <a:pt x="1444" y="1144"/>
                </a:lnTo>
                <a:lnTo>
                  <a:pt x="1444" y="1150"/>
                </a:lnTo>
                <a:lnTo>
                  <a:pt x="1446" y="1151"/>
                </a:lnTo>
                <a:lnTo>
                  <a:pt x="1452" y="1157"/>
                </a:lnTo>
                <a:lnTo>
                  <a:pt x="1453" y="1161"/>
                </a:lnTo>
                <a:lnTo>
                  <a:pt x="1455" y="1171"/>
                </a:lnTo>
                <a:lnTo>
                  <a:pt x="1455" y="1175"/>
                </a:lnTo>
                <a:lnTo>
                  <a:pt x="1457" y="1177"/>
                </a:lnTo>
                <a:lnTo>
                  <a:pt x="1459" y="1177"/>
                </a:lnTo>
                <a:lnTo>
                  <a:pt x="1461" y="1179"/>
                </a:lnTo>
                <a:lnTo>
                  <a:pt x="1461" y="1192"/>
                </a:lnTo>
                <a:lnTo>
                  <a:pt x="1459" y="1197"/>
                </a:lnTo>
                <a:lnTo>
                  <a:pt x="1455" y="1199"/>
                </a:lnTo>
                <a:lnTo>
                  <a:pt x="1452" y="1201"/>
                </a:lnTo>
                <a:lnTo>
                  <a:pt x="1450" y="1206"/>
                </a:lnTo>
                <a:lnTo>
                  <a:pt x="1450" y="1212"/>
                </a:lnTo>
                <a:lnTo>
                  <a:pt x="1453" y="1226"/>
                </a:lnTo>
                <a:lnTo>
                  <a:pt x="1463" y="1230"/>
                </a:lnTo>
                <a:lnTo>
                  <a:pt x="1464" y="1235"/>
                </a:lnTo>
                <a:lnTo>
                  <a:pt x="1466" y="1237"/>
                </a:lnTo>
                <a:lnTo>
                  <a:pt x="1475" y="1243"/>
                </a:lnTo>
                <a:lnTo>
                  <a:pt x="1483" y="1246"/>
                </a:lnTo>
                <a:lnTo>
                  <a:pt x="1484" y="1246"/>
                </a:lnTo>
                <a:lnTo>
                  <a:pt x="1490" y="1248"/>
                </a:lnTo>
                <a:lnTo>
                  <a:pt x="1497" y="1250"/>
                </a:lnTo>
                <a:lnTo>
                  <a:pt x="1512" y="1256"/>
                </a:lnTo>
                <a:lnTo>
                  <a:pt x="1517" y="1259"/>
                </a:lnTo>
                <a:lnTo>
                  <a:pt x="1547" y="1276"/>
                </a:lnTo>
                <a:lnTo>
                  <a:pt x="1561" y="1285"/>
                </a:lnTo>
                <a:lnTo>
                  <a:pt x="1563" y="1287"/>
                </a:lnTo>
                <a:lnTo>
                  <a:pt x="1576" y="1301"/>
                </a:lnTo>
                <a:lnTo>
                  <a:pt x="1581" y="1309"/>
                </a:lnTo>
                <a:lnTo>
                  <a:pt x="1581" y="1310"/>
                </a:lnTo>
                <a:lnTo>
                  <a:pt x="1581" y="1316"/>
                </a:lnTo>
                <a:lnTo>
                  <a:pt x="1580" y="1318"/>
                </a:lnTo>
                <a:lnTo>
                  <a:pt x="1576" y="1321"/>
                </a:lnTo>
                <a:lnTo>
                  <a:pt x="1572" y="1327"/>
                </a:lnTo>
                <a:lnTo>
                  <a:pt x="1565" y="1336"/>
                </a:lnTo>
                <a:lnTo>
                  <a:pt x="1559" y="1341"/>
                </a:lnTo>
                <a:lnTo>
                  <a:pt x="1558" y="1345"/>
                </a:lnTo>
                <a:lnTo>
                  <a:pt x="1558" y="1347"/>
                </a:lnTo>
                <a:lnTo>
                  <a:pt x="1556" y="1351"/>
                </a:lnTo>
                <a:lnTo>
                  <a:pt x="1556" y="1358"/>
                </a:lnTo>
                <a:lnTo>
                  <a:pt x="1558" y="1360"/>
                </a:lnTo>
                <a:lnTo>
                  <a:pt x="1558" y="1363"/>
                </a:lnTo>
                <a:lnTo>
                  <a:pt x="1559" y="1365"/>
                </a:lnTo>
                <a:lnTo>
                  <a:pt x="1565" y="1376"/>
                </a:lnTo>
                <a:lnTo>
                  <a:pt x="1570" y="1384"/>
                </a:lnTo>
                <a:lnTo>
                  <a:pt x="1572" y="1385"/>
                </a:lnTo>
                <a:lnTo>
                  <a:pt x="1580" y="1391"/>
                </a:lnTo>
                <a:lnTo>
                  <a:pt x="1583" y="1395"/>
                </a:lnTo>
                <a:lnTo>
                  <a:pt x="1589" y="1396"/>
                </a:lnTo>
                <a:lnTo>
                  <a:pt x="1600" y="1402"/>
                </a:lnTo>
                <a:lnTo>
                  <a:pt x="1603" y="1402"/>
                </a:lnTo>
                <a:lnTo>
                  <a:pt x="1607" y="1400"/>
                </a:lnTo>
                <a:lnTo>
                  <a:pt x="1616" y="1396"/>
                </a:lnTo>
                <a:lnTo>
                  <a:pt x="1618" y="1396"/>
                </a:lnTo>
                <a:lnTo>
                  <a:pt x="1623" y="1405"/>
                </a:lnTo>
                <a:lnTo>
                  <a:pt x="1623" y="1407"/>
                </a:lnTo>
                <a:lnTo>
                  <a:pt x="1625" y="1422"/>
                </a:lnTo>
                <a:lnTo>
                  <a:pt x="1627" y="1451"/>
                </a:lnTo>
                <a:lnTo>
                  <a:pt x="1627" y="1453"/>
                </a:lnTo>
                <a:lnTo>
                  <a:pt x="1625" y="1455"/>
                </a:lnTo>
                <a:lnTo>
                  <a:pt x="1622" y="1458"/>
                </a:lnTo>
                <a:lnTo>
                  <a:pt x="1620" y="1460"/>
                </a:lnTo>
                <a:lnTo>
                  <a:pt x="1620" y="1462"/>
                </a:lnTo>
                <a:lnTo>
                  <a:pt x="1611" y="1471"/>
                </a:lnTo>
                <a:lnTo>
                  <a:pt x="1600" y="1486"/>
                </a:lnTo>
                <a:lnTo>
                  <a:pt x="1590" y="1499"/>
                </a:lnTo>
                <a:lnTo>
                  <a:pt x="1590" y="1501"/>
                </a:lnTo>
                <a:lnTo>
                  <a:pt x="1587" y="1506"/>
                </a:lnTo>
                <a:lnTo>
                  <a:pt x="1583" y="1510"/>
                </a:lnTo>
                <a:lnTo>
                  <a:pt x="1576" y="1517"/>
                </a:lnTo>
                <a:lnTo>
                  <a:pt x="1574" y="1519"/>
                </a:lnTo>
                <a:lnTo>
                  <a:pt x="1569" y="1522"/>
                </a:lnTo>
                <a:lnTo>
                  <a:pt x="1567" y="1522"/>
                </a:lnTo>
                <a:lnTo>
                  <a:pt x="1563" y="1528"/>
                </a:lnTo>
                <a:lnTo>
                  <a:pt x="1554" y="1535"/>
                </a:lnTo>
                <a:lnTo>
                  <a:pt x="1547" y="1543"/>
                </a:lnTo>
                <a:lnTo>
                  <a:pt x="1545" y="1544"/>
                </a:lnTo>
                <a:lnTo>
                  <a:pt x="1545" y="1548"/>
                </a:lnTo>
                <a:lnTo>
                  <a:pt x="1543" y="1550"/>
                </a:lnTo>
                <a:lnTo>
                  <a:pt x="1543" y="1554"/>
                </a:lnTo>
                <a:lnTo>
                  <a:pt x="1541" y="1557"/>
                </a:lnTo>
                <a:lnTo>
                  <a:pt x="1543" y="1561"/>
                </a:lnTo>
                <a:lnTo>
                  <a:pt x="1543" y="1566"/>
                </a:lnTo>
                <a:lnTo>
                  <a:pt x="1541" y="1570"/>
                </a:lnTo>
                <a:lnTo>
                  <a:pt x="1537" y="1572"/>
                </a:lnTo>
                <a:lnTo>
                  <a:pt x="1534" y="1575"/>
                </a:lnTo>
                <a:lnTo>
                  <a:pt x="1532" y="1577"/>
                </a:lnTo>
                <a:lnTo>
                  <a:pt x="1528" y="1579"/>
                </a:lnTo>
                <a:lnTo>
                  <a:pt x="1514" y="1586"/>
                </a:lnTo>
                <a:lnTo>
                  <a:pt x="1483" y="1601"/>
                </a:lnTo>
                <a:lnTo>
                  <a:pt x="1479" y="1601"/>
                </a:lnTo>
                <a:lnTo>
                  <a:pt x="1468" y="1605"/>
                </a:lnTo>
                <a:lnTo>
                  <a:pt x="1435" y="1614"/>
                </a:lnTo>
                <a:lnTo>
                  <a:pt x="1399" y="1625"/>
                </a:lnTo>
                <a:lnTo>
                  <a:pt x="1395" y="1627"/>
                </a:lnTo>
                <a:lnTo>
                  <a:pt x="1391" y="1627"/>
                </a:lnTo>
                <a:lnTo>
                  <a:pt x="1386" y="1627"/>
                </a:lnTo>
                <a:lnTo>
                  <a:pt x="1377" y="1628"/>
                </a:lnTo>
                <a:lnTo>
                  <a:pt x="1355" y="1632"/>
                </a:lnTo>
                <a:lnTo>
                  <a:pt x="1336" y="1636"/>
                </a:lnTo>
                <a:lnTo>
                  <a:pt x="1316" y="1639"/>
                </a:lnTo>
                <a:lnTo>
                  <a:pt x="1260" y="1649"/>
                </a:lnTo>
                <a:lnTo>
                  <a:pt x="1227" y="1652"/>
                </a:lnTo>
                <a:lnTo>
                  <a:pt x="1223" y="1652"/>
                </a:lnTo>
                <a:lnTo>
                  <a:pt x="1201" y="1654"/>
                </a:lnTo>
                <a:lnTo>
                  <a:pt x="1194" y="1654"/>
                </a:lnTo>
                <a:lnTo>
                  <a:pt x="1157" y="1656"/>
                </a:lnTo>
                <a:lnTo>
                  <a:pt x="1148" y="1656"/>
                </a:lnTo>
                <a:lnTo>
                  <a:pt x="1130" y="1654"/>
                </a:lnTo>
                <a:lnTo>
                  <a:pt x="1128" y="1654"/>
                </a:lnTo>
                <a:lnTo>
                  <a:pt x="1115" y="1650"/>
                </a:lnTo>
                <a:lnTo>
                  <a:pt x="1111" y="1649"/>
                </a:lnTo>
                <a:lnTo>
                  <a:pt x="1104" y="1647"/>
                </a:lnTo>
                <a:lnTo>
                  <a:pt x="1102" y="1645"/>
                </a:lnTo>
                <a:lnTo>
                  <a:pt x="1102" y="1641"/>
                </a:lnTo>
                <a:lnTo>
                  <a:pt x="1093" y="1638"/>
                </a:lnTo>
                <a:lnTo>
                  <a:pt x="1079" y="1634"/>
                </a:lnTo>
                <a:lnTo>
                  <a:pt x="1077" y="1636"/>
                </a:lnTo>
                <a:lnTo>
                  <a:pt x="1075" y="1638"/>
                </a:lnTo>
                <a:lnTo>
                  <a:pt x="1079" y="1671"/>
                </a:lnTo>
                <a:lnTo>
                  <a:pt x="1082" y="1680"/>
                </a:lnTo>
                <a:lnTo>
                  <a:pt x="1086" y="1681"/>
                </a:lnTo>
                <a:lnTo>
                  <a:pt x="1090" y="1681"/>
                </a:lnTo>
                <a:lnTo>
                  <a:pt x="1091" y="1681"/>
                </a:lnTo>
                <a:lnTo>
                  <a:pt x="1097" y="1683"/>
                </a:lnTo>
                <a:lnTo>
                  <a:pt x="1106" y="1687"/>
                </a:lnTo>
                <a:lnTo>
                  <a:pt x="1111" y="1691"/>
                </a:lnTo>
                <a:lnTo>
                  <a:pt x="1111" y="1692"/>
                </a:lnTo>
                <a:lnTo>
                  <a:pt x="1108" y="1694"/>
                </a:lnTo>
                <a:lnTo>
                  <a:pt x="1106" y="1703"/>
                </a:lnTo>
                <a:lnTo>
                  <a:pt x="1102" y="1735"/>
                </a:lnTo>
                <a:lnTo>
                  <a:pt x="1097" y="1738"/>
                </a:lnTo>
                <a:lnTo>
                  <a:pt x="1088" y="1736"/>
                </a:lnTo>
                <a:lnTo>
                  <a:pt x="1084" y="1740"/>
                </a:lnTo>
                <a:lnTo>
                  <a:pt x="1080" y="1753"/>
                </a:lnTo>
                <a:lnTo>
                  <a:pt x="1073" y="1773"/>
                </a:lnTo>
                <a:lnTo>
                  <a:pt x="1068" y="1778"/>
                </a:lnTo>
                <a:lnTo>
                  <a:pt x="1066" y="1780"/>
                </a:lnTo>
                <a:lnTo>
                  <a:pt x="1071" y="1791"/>
                </a:lnTo>
                <a:lnTo>
                  <a:pt x="1073" y="1795"/>
                </a:lnTo>
                <a:lnTo>
                  <a:pt x="1084" y="1804"/>
                </a:lnTo>
                <a:lnTo>
                  <a:pt x="1088" y="1804"/>
                </a:lnTo>
                <a:lnTo>
                  <a:pt x="1090" y="1809"/>
                </a:lnTo>
                <a:lnTo>
                  <a:pt x="1091" y="1815"/>
                </a:lnTo>
                <a:lnTo>
                  <a:pt x="1086" y="1826"/>
                </a:lnTo>
                <a:lnTo>
                  <a:pt x="1082" y="1835"/>
                </a:lnTo>
                <a:lnTo>
                  <a:pt x="1075" y="1839"/>
                </a:lnTo>
                <a:lnTo>
                  <a:pt x="1044" y="1851"/>
                </a:lnTo>
                <a:lnTo>
                  <a:pt x="1040" y="1851"/>
                </a:lnTo>
                <a:lnTo>
                  <a:pt x="1038" y="1851"/>
                </a:lnTo>
                <a:lnTo>
                  <a:pt x="1022" y="1857"/>
                </a:lnTo>
                <a:lnTo>
                  <a:pt x="1016" y="1859"/>
                </a:lnTo>
                <a:lnTo>
                  <a:pt x="1015" y="1861"/>
                </a:lnTo>
                <a:lnTo>
                  <a:pt x="1013" y="1862"/>
                </a:lnTo>
                <a:lnTo>
                  <a:pt x="1011" y="1862"/>
                </a:lnTo>
                <a:lnTo>
                  <a:pt x="1005" y="1862"/>
                </a:lnTo>
                <a:lnTo>
                  <a:pt x="1004" y="1862"/>
                </a:lnTo>
                <a:lnTo>
                  <a:pt x="949" y="1862"/>
                </a:lnTo>
                <a:lnTo>
                  <a:pt x="943" y="1862"/>
                </a:lnTo>
                <a:lnTo>
                  <a:pt x="940" y="1862"/>
                </a:lnTo>
                <a:lnTo>
                  <a:pt x="936" y="1861"/>
                </a:lnTo>
                <a:lnTo>
                  <a:pt x="932" y="1859"/>
                </a:lnTo>
                <a:lnTo>
                  <a:pt x="929" y="1857"/>
                </a:lnTo>
                <a:lnTo>
                  <a:pt x="914" y="1851"/>
                </a:lnTo>
                <a:lnTo>
                  <a:pt x="892" y="1844"/>
                </a:lnTo>
                <a:lnTo>
                  <a:pt x="872" y="1837"/>
                </a:lnTo>
                <a:lnTo>
                  <a:pt x="870" y="1837"/>
                </a:lnTo>
                <a:lnTo>
                  <a:pt x="852" y="1831"/>
                </a:lnTo>
                <a:lnTo>
                  <a:pt x="848" y="1828"/>
                </a:lnTo>
                <a:lnTo>
                  <a:pt x="846" y="1822"/>
                </a:lnTo>
                <a:lnTo>
                  <a:pt x="843" y="1820"/>
                </a:lnTo>
                <a:lnTo>
                  <a:pt x="835" y="1819"/>
                </a:lnTo>
                <a:lnTo>
                  <a:pt x="834" y="1819"/>
                </a:lnTo>
                <a:lnTo>
                  <a:pt x="830" y="1819"/>
                </a:lnTo>
                <a:lnTo>
                  <a:pt x="826" y="1820"/>
                </a:lnTo>
                <a:lnTo>
                  <a:pt x="812" y="1831"/>
                </a:lnTo>
                <a:lnTo>
                  <a:pt x="808" y="1841"/>
                </a:lnTo>
                <a:lnTo>
                  <a:pt x="808" y="1846"/>
                </a:lnTo>
                <a:lnTo>
                  <a:pt x="808" y="1855"/>
                </a:lnTo>
                <a:lnTo>
                  <a:pt x="810" y="1859"/>
                </a:lnTo>
                <a:lnTo>
                  <a:pt x="812" y="1870"/>
                </a:lnTo>
                <a:lnTo>
                  <a:pt x="819" y="1890"/>
                </a:lnTo>
                <a:lnTo>
                  <a:pt x="823" y="1915"/>
                </a:lnTo>
                <a:lnTo>
                  <a:pt x="817" y="1936"/>
                </a:lnTo>
                <a:lnTo>
                  <a:pt x="819" y="1945"/>
                </a:lnTo>
                <a:lnTo>
                  <a:pt x="823" y="1952"/>
                </a:lnTo>
                <a:lnTo>
                  <a:pt x="824" y="1954"/>
                </a:lnTo>
                <a:lnTo>
                  <a:pt x="828" y="1956"/>
                </a:lnTo>
                <a:lnTo>
                  <a:pt x="832" y="1959"/>
                </a:lnTo>
                <a:lnTo>
                  <a:pt x="837" y="1961"/>
                </a:lnTo>
                <a:lnTo>
                  <a:pt x="850" y="1965"/>
                </a:lnTo>
                <a:lnTo>
                  <a:pt x="863" y="1968"/>
                </a:lnTo>
                <a:lnTo>
                  <a:pt x="865" y="1968"/>
                </a:lnTo>
                <a:lnTo>
                  <a:pt x="870" y="1974"/>
                </a:lnTo>
                <a:lnTo>
                  <a:pt x="868" y="1976"/>
                </a:lnTo>
                <a:lnTo>
                  <a:pt x="863" y="1983"/>
                </a:lnTo>
                <a:lnTo>
                  <a:pt x="872" y="1985"/>
                </a:lnTo>
                <a:lnTo>
                  <a:pt x="881" y="1985"/>
                </a:lnTo>
                <a:lnTo>
                  <a:pt x="909" y="1985"/>
                </a:lnTo>
                <a:lnTo>
                  <a:pt x="910" y="1985"/>
                </a:lnTo>
                <a:lnTo>
                  <a:pt x="914" y="1981"/>
                </a:lnTo>
                <a:lnTo>
                  <a:pt x="916" y="1979"/>
                </a:lnTo>
                <a:lnTo>
                  <a:pt x="916" y="1974"/>
                </a:lnTo>
                <a:lnTo>
                  <a:pt x="914" y="1970"/>
                </a:lnTo>
                <a:lnTo>
                  <a:pt x="912" y="1968"/>
                </a:lnTo>
                <a:lnTo>
                  <a:pt x="910" y="1968"/>
                </a:lnTo>
                <a:lnTo>
                  <a:pt x="907" y="1968"/>
                </a:lnTo>
                <a:lnTo>
                  <a:pt x="905" y="1963"/>
                </a:lnTo>
                <a:lnTo>
                  <a:pt x="930" y="1954"/>
                </a:lnTo>
                <a:lnTo>
                  <a:pt x="932" y="1954"/>
                </a:lnTo>
                <a:lnTo>
                  <a:pt x="936" y="1952"/>
                </a:lnTo>
                <a:lnTo>
                  <a:pt x="943" y="1952"/>
                </a:lnTo>
                <a:lnTo>
                  <a:pt x="945" y="1952"/>
                </a:lnTo>
                <a:lnTo>
                  <a:pt x="947" y="1954"/>
                </a:lnTo>
                <a:lnTo>
                  <a:pt x="958" y="1970"/>
                </a:lnTo>
                <a:lnTo>
                  <a:pt x="960" y="1972"/>
                </a:lnTo>
                <a:lnTo>
                  <a:pt x="960" y="1974"/>
                </a:lnTo>
                <a:lnTo>
                  <a:pt x="960" y="1976"/>
                </a:lnTo>
                <a:lnTo>
                  <a:pt x="962" y="2003"/>
                </a:lnTo>
                <a:lnTo>
                  <a:pt x="956" y="2016"/>
                </a:lnTo>
                <a:lnTo>
                  <a:pt x="951" y="2021"/>
                </a:lnTo>
                <a:lnTo>
                  <a:pt x="949" y="2023"/>
                </a:lnTo>
                <a:lnTo>
                  <a:pt x="914" y="2029"/>
                </a:lnTo>
                <a:lnTo>
                  <a:pt x="912" y="2029"/>
                </a:lnTo>
                <a:lnTo>
                  <a:pt x="907" y="2027"/>
                </a:lnTo>
                <a:lnTo>
                  <a:pt x="898" y="2018"/>
                </a:lnTo>
                <a:lnTo>
                  <a:pt x="898" y="2016"/>
                </a:lnTo>
                <a:lnTo>
                  <a:pt x="899" y="2011"/>
                </a:lnTo>
                <a:lnTo>
                  <a:pt x="901" y="2005"/>
                </a:lnTo>
                <a:lnTo>
                  <a:pt x="890" y="1996"/>
                </a:lnTo>
                <a:lnTo>
                  <a:pt x="888" y="1996"/>
                </a:lnTo>
                <a:lnTo>
                  <a:pt x="877" y="1994"/>
                </a:lnTo>
                <a:lnTo>
                  <a:pt x="874" y="1994"/>
                </a:lnTo>
                <a:lnTo>
                  <a:pt x="872" y="1994"/>
                </a:lnTo>
                <a:lnTo>
                  <a:pt x="870" y="1994"/>
                </a:lnTo>
                <a:lnTo>
                  <a:pt x="865" y="1994"/>
                </a:lnTo>
                <a:lnTo>
                  <a:pt x="850" y="1998"/>
                </a:lnTo>
                <a:lnTo>
                  <a:pt x="832" y="2005"/>
                </a:lnTo>
                <a:lnTo>
                  <a:pt x="830" y="2007"/>
                </a:lnTo>
                <a:lnTo>
                  <a:pt x="823" y="2014"/>
                </a:lnTo>
                <a:lnTo>
                  <a:pt x="824" y="2018"/>
                </a:lnTo>
                <a:lnTo>
                  <a:pt x="826" y="2020"/>
                </a:lnTo>
                <a:lnTo>
                  <a:pt x="861" y="2032"/>
                </a:lnTo>
                <a:lnTo>
                  <a:pt x="863" y="2034"/>
                </a:lnTo>
                <a:lnTo>
                  <a:pt x="881" y="2038"/>
                </a:lnTo>
                <a:lnTo>
                  <a:pt x="883" y="2038"/>
                </a:lnTo>
                <a:lnTo>
                  <a:pt x="887" y="2036"/>
                </a:lnTo>
                <a:lnTo>
                  <a:pt x="890" y="2034"/>
                </a:lnTo>
                <a:lnTo>
                  <a:pt x="892" y="2038"/>
                </a:lnTo>
                <a:lnTo>
                  <a:pt x="887" y="2042"/>
                </a:lnTo>
                <a:lnTo>
                  <a:pt x="883" y="2043"/>
                </a:lnTo>
                <a:lnTo>
                  <a:pt x="870" y="2049"/>
                </a:lnTo>
                <a:lnTo>
                  <a:pt x="865" y="2051"/>
                </a:lnTo>
                <a:lnTo>
                  <a:pt x="854" y="2053"/>
                </a:lnTo>
                <a:lnTo>
                  <a:pt x="846" y="2054"/>
                </a:lnTo>
                <a:lnTo>
                  <a:pt x="845" y="2054"/>
                </a:lnTo>
                <a:lnTo>
                  <a:pt x="841" y="2056"/>
                </a:lnTo>
                <a:lnTo>
                  <a:pt x="832" y="2062"/>
                </a:lnTo>
                <a:lnTo>
                  <a:pt x="821" y="2069"/>
                </a:lnTo>
                <a:lnTo>
                  <a:pt x="797" y="2098"/>
                </a:lnTo>
                <a:lnTo>
                  <a:pt x="793" y="2104"/>
                </a:lnTo>
                <a:lnTo>
                  <a:pt x="792" y="2109"/>
                </a:lnTo>
                <a:lnTo>
                  <a:pt x="792" y="2111"/>
                </a:lnTo>
                <a:lnTo>
                  <a:pt x="793" y="2118"/>
                </a:lnTo>
                <a:lnTo>
                  <a:pt x="801" y="2133"/>
                </a:lnTo>
                <a:lnTo>
                  <a:pt x="797" y="2148"/>
                </a:lnTo>
                <a:lnTo>
                  <a:pt x="795" y="2153"/>
                </a:lnTo>
                <a:lnTo>
                  <a:pt x="795" y="2155"/>
                </a:lnTo>
                <a:lnTo>
                  <a:pt x="799" y="2162"/>
                </a:lnTo>
                <a:lnTo>
                  <a:pt x="801" y="2166"/>
                </a:lnTo>
                <a:lnTo>
                  <a:pt x="788" y="2186"/>
                </a:lnTo>
                <a:lnTo>
                  <a:pt x="768" y="2195"/>
                </a:lnTo>
                <a:lnTo>
                  <a:pt x="764" y="2197"/>
                </a:lnTo>
                <a:lnTo>
                  <a:pt x="762" y="2199"/>
                </a:lnTo>
                <a:lnTo>
                  <a:pt x="759" y="2204"/>
                </a:lnTo>
                <a:lnTo>
                  <a:pt x="755" y="2210"/>
                </a:lnTo>
                <a:lnTo>
                  <a:pt x="755" y="2213"/>
                </a:lnTo>
                <a:lnTo>
                  <a:pt x="757" y="2215"/>
                </a:lnTo>
                <a:lnTo>
                  <a:pt x="760" y="2217"/>
                </a:lnTo>
                <a:lnTo>
                  <a:pt x="762" y="2217"/>
                </a:lnTo>
                <a:lnTo>
                  <a:pt x="764" y="2217"/>
                </a:lnTo>
                <a:lnTo>
                  <a:pt x="773" y="2221"/>
                </a:lnTo>
                <a:lnTo>
                  <a:pt x="766" y="2234"/>
                </a:lnTo>
                <a:lnTo>
                  <a:pt x="759" y="2235"/>
                </a:lnTo>
                <a:lnTo>
                  <a:pt x="755" y="2234"/>
                </a:lnTo>
                <a:lnTo>
                  <a:pt x="753" y="2234"/>
                </a:lnTo>
                <a:lnTo>
                  <a:pt x="744" y="2230"/>
                </a:lnTo>
                <a:lnTo>
                  <a:pt x="718" y="2228"/>
                </a:lnTo>
                <a:lnTo>
                  <a:pt x="711" y="2228"/>
                </a:lnTo>
                <a:lnTo>
                  <a:pt x="678" y="2239"/>
                </a:lnTo>
                <a:lnTo>
                  <a:pt x="676" y="2243"/>
                </a:lnTo>
                <a:lnTo>
                  <a:pt x="675" y="2246"/>
                </a:lnTo>
                <a:lnTo>
                  <a:pt x="662" y="2250"/>
                </a:lnTo>
                <a:lnTo>
                  <a:pt x="649" y="2252"/>
                </a:lnTo>
                <a:lnTo>
                  <a:pt x="647" y="2252"/>
                </a:lnTo>
                <a:lnTo>
                  <a:pt x="638" y="2255"/>
                </a:lnTo>
                <a:lnTo>
                  <a:pt x="632" y="2259"/>
                </a:lnTo>
                <a:lnTo>
                  <a:pt x="609" y="2287"/>
                </a:lnTo>
                <a:lnTo>
                  <a:pt x="592" y="2310"/>
                </a:lnTo>
                <a:lnTo>
                  <a:pt x="581" y="2321"/>
                </a:lnTo>
                <a:lnTo>
                  <a:pt x="576" y="2329"/>
                </a:lnTo>
                <a:lnTo>
                  <a:pt x="572" y="2334"/>
                </a:lnTo>
                <a:lnTo>
                  <a:pt x="572" y="2340"/>
                </a:lnTo>
                <a:lnTo>
                  <a:pt x="572" y="2345"/>
                </a:lnTo>
                <a:lnTo>
                  <a:pt x="574" y="2349"/>
                </a:lnTo>
                <a:lnTo>
                  <a:pt x="576" y="2358"/>
                </a:lnTo>
                <a:lnTo>
                  <a:pt x="578" y="2360"/>
                </a:lnTo>
                <a:lnTo>
                  <a:pt x="581" y="2369"/>
                </a:lnTo>
                <a:lnTo>
                  <a:pt x="583" y="2372"/>
                </a:lnTo>
                <a:lnTo>
                  <a:pt x="589" y="2378"/>
                </a:lnTo>
                <a:lnTo>
                  <a:pt x="594" y="2383"/>
                </a:lnTo>
                <a:lnTo>
                  <a:pt x="598" y="2387"/>
                </a:lnTo>
                <a:lnTo>
                  <a:pt x="600" y="2389"/>
                </a:lnTo>
                <a:lnTo>
                  <a:pt x="612" y="2394"/>
                </a:lnTo>
                <a:lnTo>
                  <a:pt x="614" y="2396"/>
                </a:lnTo>
                <a:lnTo>
                  <a:pt x="623" y="2402"/>
                </a:lnTo>
                <a:lnTo>
                  <a:pt x="636" y="2411"/>
                </a:lnTo>
                <a:lnTo>
                  <a:pt x="649" y="2424"/>
                </a:lnTo>
                <a:lnTo>
                  <a:pt x="658" y="2427"/>
                </a:lnTo>
                <a:lnTo>
                  <a:pt x="660" y="2427"/>
                </a:lnTo>
                <a:lnTo>
                  <a:pt x="664" y="2429"/>
                </a:lnTo>
                <a:lnTo>
                  <a:pt x="707" y="2433"/>
                </a:lnTo>
                <a:lnTo>
                  <a:pt x="718" y="2433"/>
                </a:lnTo>
                <a:lnTo>
                  <a:pt x="724" y="2431"/>
                </a:lnTo>
                <a:lnTo>
                  <a:pt x="728" y="2431"/>
                </a:lnTo>
                <a:lnTo>
                  <a:pt x="729" y="2431"/>
                </a:lnTo>
                <a:lnTo>
                  <a:pt x="739" y="2435"/>
                </a:lnTo>
                <a:lnTo>
                  <a:pt x="749" y="2444"/>
                </a:lnTo>
                <a:lnTo>
                  <a:pt x="755" y="2457"/>
                </a:lnTo>
                <a:lnTo>
                  <a:pt x="755" y="2458"/>
                </a:lnTo>
                <a:lnTo>
                  <a:pt x="753" y="2462"/>
                </a:lnTo>
                <a:lnTo>
                  <a:pt x="753" y="2468"/>
                </a:lnTo>
                <a:lnTo>
                  <a:pt x="751" y="2475"/>
                </a:lnTo>
                <a:lnTo>
                  <a:pt x="749" y="2482"/>
                </a:lnTo>
                <a:lnTo>
                  <a:pt x="740" y="2497"/>
                </a:lnTo>
                <a:lnTo>
                  <a:pt x="739" y="2499"/>
                </a:lnTo>
                <a:lnTo>
                  <a:pt x="735" y="2499"/>
                </a:lnTo>
                <a:lnTo>
                  <a:pt x="731" y="2497"/>
                </a:lnTo>
                <a:lnTo>
                  <a:pt x="728" y="2497"/>
                </a:lnTo>
                <a:lnTo>
                  <a:pt x="726" y="2497"/>
                </a:lnTo>
                <a:lnTo>
                  <a:pt x="706" y="2504"/>
                </a:lnTo>
                <a:lnTo>
                  <a:pt x="706" y="2506"/>
                </a:lnTo>
                <a:lnTo>
                  <a:pt x="720" y="2502"/>
                </a:lnTo>
                <a:lnTo>
                  <a:pt x="731" y="2500"/>
                </a:lnTo>
                <a:lnTo>
                  <a:pt x="733" y="2500"/>
                </a:lnTo>
                <a:lnTo>
                  <a:pt x="739" y="2502"/>
                </a:lnTo>
                <a:lnTo>
                  <a:pt x="749" y="2513"/>
                </a:lnTo>
                <a:lnTo>
                  <a:pt x="749" y="2517"/>
                </a:lnTo>
                <a:lnTo>
                  <a:pt x="733" y="2524"/>
                </a:lnTo>
                <a:lnTo>
                  <a:pt x="722" y="2530"/>
                </a:lnTo>
                <a:lnTo>
                  <a:pt x="702" y="2544"/>
                </a:lnTo>
                <a:lnTo>
                  <a:pt x="696" y="2548"/>
                </a:lnTo>
                <a:lnTo>
                  <a:pt x="689" y="2553"/>
                </a:lnTo>
                <a:lnTo>
                  <a:pt x="684" y="2559"/>
                </a:lnTo>
                <a:lnTo>
                  <a:pt x="676" y="2559"/>
                </a:lnTo>
                <a:lnTo>
                  <a:pt x="667" y="2563"/>
                </a:lnTo>
                <a:lnTo>
                  <a:pt x="665" y="2563"/>
                </a:lnTo>
                <a:lnTo>
                  <a:pt x="623" y="2583"/>
                </a:lnTo>
                <a:lnTo>
                  <a:pt x="620" y="2585"/>
                </a:lnTo>
                <a:lnTo>
                  <a:pt x="578" y="2617"/>
                </a:lnTo>
                <a:lnTo>
                  <a:pt x="576" y="2621"/>
                </a:lnTo>
                <a:lnTo>
                  <a:pt x="570" y="2628"/>
                </a:lnTo>
                <a:lnTo>
                  <a:pt x="572" y="2630"/>
                </a:lnTo>
                <a:lnTo>
                  <a:pt x="574" y="2632"/>
                </a:lnTo>
                <a:lnTo>
                  <a:pt x="574" y="2641"/>
                </a:lnTo>
                <a:lnTo>
                  <a:pt x="568" y="2658"/>
                </a:lnTo>
                <a:lnTo>
                  <a:pt x="563" y="2685"/>
                </a:lnTo>
                <a:lnTo>
                  <a:pt x="561" y="2689"/>
                </a:lnTo>
                <a:lnTo>
                  <a:pt x="561" y="2692"/>
                </a:lnTo>
                <a:lnTo>
                  <a:pt x="559" y="2694"/>
                </a:lnTo>
                <a:lnTo>
                  <a:pt x="559" y="2698"/>
                </a:lnTo>
                <a:lnTo>
                  <a:pt x="558" y="2701"/>
                </a:lnTo>
                <a:lnTo>
                  <a:pt x="556" y="2703"/>
                </a:lnTo>
                <a:lnTo>
                  <a:pt x="554" y="2705"/>
                </a:lnTo>
                <a:lnTo>
                  <a:pt x="548" y="2711"/>
                </a:lnTo>
                <a:lnTo>
                  <a:pt x="547" y="2711"/>
                </a:lnTo>
                <a:lnTo>
                  <a:pt x="543" y="2712"/>
                </a:lnTo>
                <a:lnTo>
                  <a:pt x="539" y="2716"/>
                </a:lnTo>
                <a:lnTo>
                  <a:pt x="536" y="2718"/>
                </a:lnTo>
                <a:lnTo>
                  <a:pt x="532" y="2718"/>
                </a:lnTo>
                <a:lnTo>
                  <a:pt x="530" y="2720"/>
                </a:lnTo>
                <a:lnTo>
                  <a:pt x="519" y="2723"/>
                </a:lnTo>
                <a:lnTo>
                  <a:pt x="517" y="2723"/>
                </a:lnTo>
                <a:lnTo>
                  <a:pt x="514" y="2723"/>
                </a:lnTo>
                <a:lnTo>
                  <a:pt x="510" y="2725"/>
                </a:lnTo>
                <a:lnTo>
                  <a:pt x="508" y="2725"/>
                </a:lnTo>
                <a:lnTo>
                  <a:pt x="504" y="2723"/>
                </a:lnTo>
                <a:lnTo>
                  <a:pt x="495" y="2720"/>
                </a:lnTo>
                <a:lnTo>
                  <a:pt x="477" y="2707"/>
                </a:lnTo>
                <a:lnTo>
                  <a:pt x="453" y="2709"/>
                </a:lnTo>
                <a:lnTo>
                  <a:pt x="446" y="2711"/>
                </a:lnTo>
                <a:lnTo>
                  <a:pt x="442" y="2711"/>
                </a:lnTo>
                <a:lnTo>
                  <a:pt x="440" y="2714"/>
                </a:lnTo>
                <a:lnTo>
                  <a:pt x="448" y="2712"/>
                </a:lnTo>
                <a:lnTo>
                  <a:pt x="451" y="2712"/>
                </a:lnTo>
                <a:lnTo>
                  <a:pt x="455" y="2711"/>
                </a:lnTo>
                <a:lnTo>
                  <a:pt x="477" y="2711"/>
                </a:lnTo>
                <a:lnTo>
                  <a:pt x="481" y="2711"/>
                </a:lnTo>
                <a:lnTo>
                  <a:pt x="483" y="2712"/>
                </a:lnTo>
                <a:lnTo>
                  <a:pt x="499" y="2725"/>
                </a:lnTo>
                <a:lnTo>
                  <a:pt x="501" y="2727"/>
                </a:lnTo>
                <a:lnTo>
                  <a:pt x="497" y="2731"/>
                </a:lnTo>
                <a:lnTo>
                  <a:pt x="495" y="2731"/>
                </a:lnTo>
                <a:lnTo>
                  <a:pt x="494" y="2733"/>
                </a:lnTo>
                <a:lnTo>
                  <a:pt x="490" y="2733"/>
                </a:lnTo>
                <a:lnTo>
                  <a:pt x="483" y="2734"/>
                </a:lnTo>
                <a:lnTo>
                  <a:pt x="473" y="2736"/>
                </a:lnTo>
                <a:lnTo>
                  <a:pt x="472" y="2738"/>
                </a:lnTo>
                <a:lnTo>
                  <a:pt x="462" y="2740"/>
                </a:lnTo>
                <a:lnTo>
                  <a:pt x="457" y="2742"/>
                </a:lnTo>
                <a:lnTo>
                  <a:pt x="453" y="2744"/>
                </a:lnTo>
                <a:lnTo>
                  <a:pt x="451" y="2745"/>
                </a:lnTo>
                <a:lnTo>
                  <a:pt x="446" y="2749"/>
                </a:lnTo>
                <a:lnTo>
                  <a:pt x="444" y="2751"/>
                </a:lnTo>
                <a:lnTo>
                  <a:pt x="433" y="2762"/>
                </a:lnTo>
                <a:lnTo>
                  <a:pt x="431" y="2765"/>
                </a:lnTo>
                <a:lnTo>
                  <a:pt x="430" y="2769"/>
                </a:lnTo>
                <a:lnTo>
                  <a:pt x="426" y="2784"/>
                </a:lnTo>
                <a:lnTo>
                  <a:pt x="422" y="2806"/>
                </a:lnTo>
                <a:lnTo>
                  <a:pt x="426" y="2822"/>
                </a:lnTo>
                <a:lnTo>
                  <a:pt x="428" y="2824"/>
                </a:lnTo>
                <a:lnTo>
                  <a:pt x="435" y="2840"/>
                </a:lnTo>
                <a:lnTo>
                  <a:pt x="435" y="2842"/>
                </a:lnTo>
                <a:lnTo>
                  <a:pt x="439" y="2850"/>
                </a:lnTo>
                <a:lnTo>
                  <a:pt x="440" y="2851"/>
                </a:lnTo>
                <a:lnTo>
                  <a:pt x="442" y="2853"/>
                </a:lnTo>
                <a:lnTo>
                  <a:pt x="444" y="2857"/>
                </a:lnTo>
                <a:lnTo>
                  <a:pt x="444" y="2861"/>
                </a:lnTo>
                <a:lnTo>
                  <a:pt x="442" y="2864"/>
                </a:lnTo>
                <a:lnTo>
                  <a:pt x="430" y="2866"/>
                </a:lnTo>
                <a:lnTo>
                  <a:pt x="426" y="2868"/>
                </a:lnTo>
                <a:lnTo>
                  <a:pt x="420" y="2866"/>
                </a:lnTo>
                <a:lnTo>
                  <a:pt x="411" y="2862"/>
                </a:lnTo>
                <a:lnTo>
                  <a:pt x="404" y="2862"/>
                </a:lnTo>
                <a:lnTo>
                  <a:pt x="393" y="2864"/>
                </a:lnTo>
                <a:lnTo>
                  <a:pt x="382" y="2868"/>
                </a:lnTo>
                <a:lnTo>
                  <a:pt x="387" y="2868"/>
                </a:lnTo>
                <a:lnTo>
                  <a:pt x="389" y="2868"/>
                </a:lnTo>
                <a:lnTo>
                  <a:pt x="393" y="2866"/>
                </a:lnTo>
                <a:lnTo>
                  <a:pt x="402" y="2866"/>
                </a:lnTo>
                <a:lnTo>
                  <a:pt x="406" y="2866"/>
                </a:lnTo>
                <a:lnTo>
                  <a:pt x="439" y="2868"/>
                </a:lnTo>
                <a:lnTo>
                  <a:pt x="440" y="2868"/>
                </a:lnTo>
                <a:lnTo>
                  <a:pt x="448" y="2875"/>
                </a:lnTo>
                <a:lnTo>
                  <a:pt x="453" y="2884"/>
                </a:lnTo>
                <a:lnTo>
                  <a:pt x="459" y="2892"/>
                </a:lnTo>
                <a:lnTo>
                  <a:pt x="461" y="2895"/>
                </a:lnTo>
                <a:lnTo>
                  <a:pt x="462" y="2897"/>
                </a:lnTo>
                <a:lnTo>
                  <a:pt x="470" y="2906"/>
                </a:lnTo>
                <a:lnTo>
                  <a:pt x="472" y="2910"/>
                </a:lnTo>
                <a:lnTo>
                  <a:pt x="477" y="2914"/>
                </a:lnTo>
                <a:lnTo>
                  <a:pt x="479" y="2915"/>
                </a:lnTo>
                <a:lnTo>
                  <a:pt x="481" y="2917"/>
                </a:lnTo>
                <a:lnTo>
                  <a:pt x="486" y="2921"/>
                </a:lnTo>
                <a:lnTo>
                  <a:pt x="494" y="2928"/>
                </a:lnTo>
                <a:lnTo>
                  <a:pt x="497" y="2932"/>
                </a:lnTo>
                <a:lnTo>
                  <a:pt x="499" y="2935"/>
                </a:lnTo>
                <a:lnTo>
                  <a:pt x="495" y="2941"/>
                </a:lnTo>
                <a:lnTo>
                  <a:pt x="494" y="2941"/>
                </a:lnTo>
                <a:lnTo>
                  <a:pt x="494" y="2937"/>
                </a:lnTo>
                <a:lnTo>
                  <a:pt x="481" y="2934"/>
                </a:lnTo>
                <a:lnTo>
                  <a:pt x="446" y="2926"/>
                </a:lnTo>
                <a:lnTo>
                  <a:pt x="413" y="2919"/>
                </a:lnTo>
                <a:lnTo>
                  <a:pt x="395" y="2919"/>
                </a:lnTo>
                <a:lnTo>
                  <a:pt x="366" y="2910"/>
                </a:lnTo>
                <a:lnTo>
                  <a:pt x="355" y="2908"/>
                </a:lnTo>
                <a:lnTo>
                  <a:pt x="349" y="2906"/>
                </a:lnTo>
                <a:lnTo>
                  <a:pt x="344" y="2904"/>
                </a:lnTo>
                <a:lnTo>
                  <a:pt x="338" y="2904"/>
                </a:lnTo>
                <a:lnTo>
                  <a:pt x="333" y="2904"/>
                </a:lnTo>
                <a:lnTo>
                  <a:pt x="302" y="2904"/>
                </a:lnTo>
                <a:lnTo>
                  <a:pt x="280" y="2904"/>
                </a:lnTo>
                <a:lnTo>
                  <a:pt x="225" y="2904"/>
                </a:lnTo>
                <a:lnTo>
                  <a:pt x="181" y="2904"/>
                </a:lnTo>
                <a:lnTo>
                  <a:pt x="161" y="2904"/>
                </a:lnTo>
                <a:lnTo>
                  <a:pt x="157" y="2897"/>
                </a:lnTo>
                <a:lnTo>
                  <a:pt x="157" y="2893"/>
                </a:lnTo>
                <a:lnTo>
                  <a:pt x="155" y="2892"/>
                </a:lnTo>
                <a:lnTo>
                  <a:pt x="142" y="2882"/>
                </a:lnTo>
                <a:lnTo>
                  <a:pt x="139" y="2881"/>
                </a:lnTo>
                <a:lnTo>
                  <a:pt x="135" y="2879"/>
                </a:lnTo>
                <a:lnTo>
                  <a:pt x="133" y="2877"/>
                </a:lnTo>
                <a:lnTo>
                  <a:pt x="132" y="2877"/>
                </a:lnTo>
                <a:lnTo>
                  <a:pt x="126" y="2877"/>
                </a:lnTo>
                <a:lnTo>
                  <a:pt x="124" y="2875"/>
                </a:lnTo>
                <a:lnTo>
                  <a:pt x="113" y="2859"/>
                </a:lnTo>
                <a:lnTo>
                  <a:pt x="115" y="2857"/>
                </a:lnTo>
                <a:lnTo>
                  <a:pt x="119" y="2855"/>
                </a:lnTo>
                <a:lnTo>
                  <a:pt x="122" y="2848"/>
                </a:lnTo>
                <a:lnTo>
                  <a:pt x="128" y="2831"/>
                </a:lnTo>
                <a:lnTo>
                  <a:pt x="124" y="2828"/>
                </a:lnTo>
                <a:lnTo>
                  <a:pt x="121" y="2828"/>
                </a:lnTo>
                <a:lnTo>
                  <a:pt x="117" y="2826"/>
                </a:lnTo>
                <a:lnTo>
                  <a:pt x="115" y="2824"/>
                </a:lnTo>
                <a:lnTo>
                  <a:pt x="113" y="2818"/>
                </a:lnTo>
                <a:lnTo>
                  <a:pt x="119" y="2811"/>
                </a:lnTo>
                <a:lnTo>
                  <a:pt x="124" y="2811"/>
                </a:lnTo>
                <a:lnTo>
                  <a:pt x="126" y="2809"/>
                </a:lnTo>
                <a:lnTo>
                  <a:pt x="128" y="2795"/>
                </a:lnTo>
                <a:lnTo>
                  <a:pt x="122" y="2775"/>
                </a:lnTo>
                <a:lnTo>
                  <a:pt x="115" y="2771"/>
                </a:lnTo>
                <a:lnTo>
                  <a:pt x="104" y="2771"/>
                </a:lnTo>
                <a:lnTo>
                  <a:pt x="78" y="2773"/>
                </a:lnTo>
                <a:lnTo>
                  <a:pt x="68" y="2775"/>
                </a:lnTo>
                <a:lnTo>
                  <a:pt x="64" y="2776"/>
                </a:lnTo>
                <a:lnTo>
                  <a:pt x="62" y="2778"/>
                </a:lnTo>
                <a:lnTo>
                  <a:pt x="60" y="2780"/>
                </a:lnTo>
                <a:lnTo>
                  <a:pt x="57" y="2782"/>
                </a:lnTo>
                <a:lnTo>
                  <a:pt x="53" y="2784"/>
                </a:lnTo>
                <a:lnTo>
                  <a:pt x="51" y="2786"/>
                </a:lnTo>
                <a:lnTo>
                  <a:pt x="47" y="2786"/>
                </a:lnTo>
                <a:lnTo>
                  <a:pt x="46" y="2787"/>
                </a:lnTo>
                <a:lnTo>
                  <a:pt x="42" y="2787"/>
                </a:lnTo>
                <a:lnTo>
                  <a:pt x="40" y="2786"/>
                </a:lnTo>
                <a:lnTo>
                  <a:pt x="38" y="2784"/>
                </a:lnTo>
                <a:lnTo>
                  <a:pt x="33" y="2769"/>
                </a:lnTo>
                <a:lnTo>
                  <a:pt x="31" y="2760"/>
                </a:lnTo>
                <a:lnTo>
                  <a:pt x="29" y="2747"/>
                </a:lnTo>
                <a:lnTo>
                  <a:pt x="29" y="2744"/>
                </a:lnTo>
                <a:lnTo>
                  <a:pt x="25" y="2738"/>
                </a:lnTo>
                <a:lnTo>
                  <a:pt x="24" y="2736"/>
                </a:lnTo>
                <a:lnTo>
                  <a:pt x="22" y="2734"/>
                </a:lnTo>
                <a:lnTo>
                  <a:pt x="13" y="2731"/>
                </a:lnTo>
                <a:lnTo>
                  <a:pt x="9" y="2729"/>
                </a:lnTo>
                <a:lnTo>
                  <a:pt x="5" y="2727"/>
                </a:lnTo>
                <a:lnTo>
                  <a:pt x="4" y="2723"/>
                </a:lnTo>
                <a:lnTo>
                  <a:pt x="2" y="2707"/>
                </a:lnTo>
                <a:lnTo>
                  <a:pt x="4" y="2698"/>
                </a:lnTo>
                <a:lnTo>
                  <a:pt x="7" y="2696"/>
                </a:lnTo>
                <a:lnTo>
                  <a:pt x="11" y="2694"/>
                </a:lnTo>
                <a:lnTo>
                  <a:pt x="13" y="2692"/>
                </a:lnTo>
                <a:lnTo>
                  <a:pt x="5" y="2674"/>
                </a:lnTo>
                <a:lnTo>
                  <a:pt x="0" y="2670"/>
                </a:lnTo>
                <a:lnTo>
                  <a:pt x="0" y="2669"/>
                </a:lnTo>
                <a:lnTo>
                  <a:pt x="4" y="2659"/>
                </a:lnTo>
                <a:lnTo>
                  <a:pt x="11" y="2647"/>
                </a:lnTo>
                <a:lnTo>
                  <a:pt x="15" y="2647"/>
                </a:lnTo>
                <a:lnTo>
                  <a:pt x="38" y="2645"/>
                </a:lnTo>
                <a:lnTo>
                  <a:pt x="42" y="2645"/>
                </a:lnTo>
                <a:lnTo>
                  <a:pt x="47" y="2641"/>
                </a:lnTo>
                <a:lnTo>
                  <a:pt x="40" y="2641"/>
                </a:lnTo>
                <a:lnTo>
                  <a:pt x="38" y="2639"/>
                </a:lnTo>
                <a:lnTo>
                  <a:pt x="38" y="2638"/>
                </a:lnTo>
                <a:lnTo>
                  <a:pt x="47" y="2623"/>
                </a:lnTo>
                <a:lnTo>
                  <a:pt x="55" y="2616"/>
                </a:lnTo>
                <a:lnTo>
                  <a:pt x="57" y="2614"/>
                </a:lnTo>
                <a:lnTo>
                  <a:pt x="60" y="2614"/>
                </a:lnTo>
                <a:lnTo>
                  <a:pt x="64" y="2612"/>
                </a:lnTo>
                <a:lnTo>
                  <a:pt x="66" y="2612"/>
                </a:lnTo>
                <a:lnTo>
                  <a:pt x="69" y="2612"/>
                </a:lnTo>
                <a:lnTo>
                  <a:pt x="73" y="2612"/>
                </a:lnTo>
                <a:lnTo>
                  <a:pt x="77" y="2610"/>
                </a:lnTo>
                <a:lnTo>
                  <a:pt x="78" y="2610"/>
                </a:lnTo>
                <a:lnTo>
                  <a:pt x="80" y="2608"/>
                </a:lnTo>
                <a:lnTo>
                  <a:pt x="84" y="2606"/>
                </a:lnTo>
                <a:lnTo>
                  <a:pt x="95" y="2599"/>
                </a:lnTo>
                <a:lnTo>
                  <a:pt x="97" y="2597"/>
                </a:lnTo>
                <a:lnTo>
                  <a:pt x="99" y="2595"/>
                </a:lnTo>
                <a:lnTo>
                  <a:pt x="99" y="2590"/>
                </a:lnTo>
                <a:lnTo>
                  <a:pt x="99" y="2586"/>
                </a:lnTo>
                <a:lnTo>
                  <a:pt x="97" y="2583"/>
                </a:lnTo>
                <a:lnTo>
                  <a:pt x="97" y="2577"/>
                </a:lnTo>
                <a:lnTo>
                  <a:pt x="95" y="2575"/>
                </a:lnTo>
                <a:lnTo>
                  <a:pt x="95" y="2572"/>
                </a:lnTo>
                <a:lnTo>
                  <a:pt x="93" y="2568"/>
                </a:lnTo>
                <a:lnTo>
                  <a:pt x="95" y="2566"/>
                </a:lnTo>
                <a:lnTo>
                  <a:pt x="97" y="2564"/>
                </a:lnTo>
                <a:lnTo>
                  <a:pt x="99" y="2563"/>
                </a:lnTo>
                <a:lnTo>
                  <a:pt x="104" y="2561"/>
                </a:lnTo>
                <a:lnTo>
                  <a:pt x="111" y="2559"/>
                </a:lnTo>
                <a:lnTo>
                  <a:pt x="124" y="2553"/>
                </a:lnTo>
                <a:lnTo>
                  <a:pt x="122" y="2539"/>
                </a:lnTo>
                <a:lnTo>
                  <a:pt x="121" y="2528"/>
                </a:lnTo>
                <a:lnTo>
                  <a:pt x="113" y="2521"/>
                </a:lnTo>
                <a:lnTo>
                  <a:pt x="108" y="2521"/>
                </a:lnTo>
                <a:lnTo>
                  <a:pt x="106" y="2519"/>
                </a:lnTo>
                <a:lnTo>
                  <a:pt x="102" y="2517"/>
                </a:lnTo>
                <a:lnTo>
                  <a:pt x="100" y="2515"/>
                </a:lnTo>
                <a:lnTo>
                  <a:pt x="100" y="2511"/>
                </a:lnTo>
                <a:lnTo>
                  <a:pt x="108" y="2497"/>
                </a:lnTo>
                <a:lnTo>
                  <a:pt x="122" y="2473"/>
                </a:lnTo>
                <a:lnTo>
                  <a:pt x="133" y="2464"/>
                </a:lnTo>
                <a:lnTo>
                  <a:pt x="137" y="2464"/>
                </a:lnTo>
                <a:lnTo>
                  <a:pt x="163" y="2446"/>
                </a:lnTo>
                <a:lnTo>
                  <a:pt x="164" y="2446"/>
                </a:lnTo>
                <a:lnTo>
                  <a:pt x="166" y="2440"/>
                </a:lnTo>
                <a:lnTo>
                  <a:pt x="164" y="2438"/>
                </a:lnTo>
                <a:lnTo>
                  <a:pt x="163" y="2435"/>
                </a:lnTo>
                <a:lnTo>
                  <a:pt x="153" y="2427"/>
                </a:lnTo>
                <a:lnTo>
                  <a:pt x="157" y="2407"/>
                </a:lnTo>
                <a:lnTo>
                  <a:pt x="159" y="2405"/>
                </a:lnTo>
                <a:lnTo>
                  <a:pt x="166" y="2405"/>
                </a:lnTo>
                <a:lnTo>
                  <a:pt x="170" y="2404"/>
                </a:lnTo>
                <a:lnTo>
                  <a:pt x="181" y="2396"/>
                </a:lnTo>
                <a:lnTo>
                  <a:pt x="183" y="2394"/>
                </a:lnTo>
                <a:lnTo>
                  <a:pt x="183" y="2391"/>
                </a:lnTo>
                <a:lnTo>
                  <a:pt x="183" y="2380"/>
                </a:lnTo>
                <a:lnTo>
                  <a:pt x="177" y="2354"/>
                </a:lnTo>
                <a:lnTo>
                  <a:pt x="174" y="2349"/>
                </a:lnTo>
                <a:lnTo>
                  <a:pt x="172" y="2340"/>
                </a:lnTo>
                <a:lnTo>
                  <a:pt x="183" y="2329"/>
                </a:lnTo>
                <a:lnTo>
                  <a:pt x="186" y="2329"/>
                </a:lnTo>
                <a:lnTo>
                  <a:pt x="186" y="2327"/>
                </a:lnTo>
                <a:lnTo>
                  <a:pt x="190" y="2325"/>
                </a:lnTo>
                <a:lnTo>
                  <a:pt x="186" y="2319"/>
                </a:lnTo>
                <a:lnTo>
                  <a:pt x="185" y="2318"/>
                </a:lnTo>
                <a:lnTo>
                  <a:pt x="181" y="2316"/>
                </a:lnTo>
                <a:lnTo>
                  <a:pt x="177" y="2314"/>
                </a:lnTo>
                <a:lnTo>
                  <a:pt x="175" y="2314"/>
                </a:lnTo>
                <a:lnTo>
                  <a:pt x="172" y="2301"/>
                </a:lnTo>
                <a:lnTo>
                  <a:pt x="172" y="2294"/>
                </a:lnTo>
                <a:lnTo>
                  <a:pt x="175" y="2285"/>
                </a:lnTo>
                <a:lnTo>
                  <a:pt x="179" y="2283"/>
                </a:lnTo>
                <a:lnTo>
                  <a:pt x="183" y="2283"/>
                </a:lnTo>
                <a:lnTo>
                  <a:pt x="185" y="2283"/>
                </a:lnTo>
                <a:lnTo>
                  <a:pt x="186" y="2281"/>
                </a:lnTo>
                <a:lnTo>
                  <a:pt x="190" y="2283"/>
                </a:lnTo>
                <a:lnTo>
                  <a:pt x="203" y="2277"/>
                </a:lnTo>
                <a:lnTo>
                  <a:pt x="219" y="2261"/>
                </a:lnTo>
                <a:lnTo>
                  <a:pt x="216" y="2254"/>
                </a:lnTo>
                <a:lnTo>
                  <a:pt x="196" y="2232"/>
                </a:lnTo>
                <a:lnTo>
                  <a:pt x="192" y="2230"/>
                </a:lnTo>
                <a:lnTo>
                  <a:pt x="177" y="2226"/>
                </a:lnTo>
                <a:lnTo>
                  <a:pt x="170" y="2224"/>
                </a:lnTo>
                <a:lnTo>
                  <a:pt x="157" y="2224"/>
                </a:lnTo>
                <a:lnTo>
                  <a:pt x="144" y="2223"/>
                </a:lnTo>
                <a:lnTo>
                  <a:pt x="144" y="2212"/>
                </a:lnTo>
                <a:lnTo>
                  <a:pt x="144" y="2210"/>
                </a:lnTo>
                <a:lnTo>
                  <a:pt x="146" y="2208"/>
                </a:lnTo>
                <a:lnTo>
                  <a:pt x="150" y="2208"/>
                </a:lnTo>
                <a:lnTo>
                  <a:pt x="152" y="2210"/>
                </a:lnTo>
                <a:lnTo>
                  <a:pt x="153" y="2210"/>
                </a:lnTo>
                <a:lnTo>
                  <a:pt x="155" y="2212"/>
                </a:lnTo>
                <a:lnTo>
                  <a:pt x="166" y="2212"/>
                </a:lnTo>
                <a:lnTo>
                  <a:pt x="185" y="2212"/>
                </a:lnTo>
                <a:lnTo>
                  <a:pt x="216" y="2213"/>
                </a:lnTo>
                <a:lnTo>
                  <a:pt x="217" y="2213"/>
                </a:lnTo>
                <a:lnTo>
                  <a:pt x="221" y="2212"/>
                </a:lnTo>
                <a:lnTo>
                  <a:pt x="227" y="2208"/>
                </a:lnTo>
                <a:lnTo>
                  <a:pt x="236" y="2190"/>
                </a:lnTo>
                <a:lnTo>
                  <a:pt x="238" y="2188"/>
                </a:lnTo>
                <a:lnTo>
                  <a:pt x="232" y="2179"/>
                </a:lnTo>
                <a:lnTo>
                  <a:pt x="228" y="2177"/>
                </a:lnTo>
                <a:lnTo>
                  <a:pt x="208" y="2175"/>
                </a:lnTo>
                <a:lnTo>
                  <a:pt x="201" y="2175"/>
                </a:lnTo>
                <a:lnTo>
                  <a:pt x="196" y="2175"/>
                </a:lnTo>
                <a:lnTo>
                  <a:pt x="188" y="2175"/>
                </a:lnTo>
                <a:lnTo>
                  <a:pt x="174" y="2175"/>
                </a:lnTo>
                <a:lnTo>
                  <a:pt x="168" y="2173"/>
                </a:lnTo>
                <a:lnTo>
                  <a:pt x="166" y="2171"/>
                </a:lnTo>
                <a:lnTo>
                  <a:pt x="168" y="2151"/>
                </a:lnTo>
                <a:lnTo>
                  <a:pt x="174" y="2144"/>
                </a:lnTo>
                <a:lnTo>
                  <a:pt x="175" y="2142"/>
                </a:lnTo>
                <a:lnTo>
                  <a:pt x="185" y="2131"/>
                </a:lnTo>
                <a:lnTo>
                  <a:pt x="186" y="2129"/>
                </a:lnTo>
                <a:lnTo>
                  <a:pt x="185" y="2128"/>
                </a:lnTo>
                <a:lnTo>
                  <a:pt x="181" y="2122"/>
                </a:lnTo>
                <a:lnTo>
                  <a:pt x="175" y="2118"/>
                </a:lnTo>
                <a:lnTo>
                  <a:pt x="170" y="2113"/>
                </a:lnTo>
                <a:lnTo>
                  <a:pt x="170" y="2109"/>
                </a:lnTo>
                <a:lnTo>
                  <a:pt x="172" y="2109"/>
                </a:lnTo>
                <a:lnTo>
                  <a:pt x="174" y="2109"/>
                </a:lnTo>
                <a:lnTo>
                  <a:pt x="181" y="2106"/>
                </a:lnTo>
                <a:lnTo>
                  <a:pt x="181" y="2104"/>
                </a:lnTo>
                <a:lnTo>
                  <a:pt x="181" y="2096"/>
                </a:lnTo>
                <a:lnTo>
                  <a:pt x="166" y="2087"/>
                </a:lnTo>
                <a:lnTo>
                  <a:pt x="157" y="2084"/>
                </a:lnTo>
                <a:lnTo>
                  <a:pt x="159" y="2076"/>
                </a:lnTo>
                <a:lnTo>
                  <a:pt x="161" y="2071"/>
                </a:lnTo>
                <a:lnTo>
                  <a:pt x="172" y="2069"/>
                </a:lnTo>
                <a:lnTo>
                  <a:pt x="175" y="2069"/>
                </a:lnTo>
                <a:lnTo>
                  <a:pt x="177" y="2069"/>
                </a:lnTo>
                <a:lnTo>
                  <a:pt x="177" y="2067"/>
                </a:lnTo>
                <a:lnTo>
                  <a:pt x="177" y="2056"/>
                </a:lnTo>
                <a:lnTo>
                  <a:pt x="168" y="2053"/>
                </a:lnTo>
                <a:lnTo>
                  <a:pt x="164" y="2053"/>
                </a:lnTo>
                <a:lnTo>
                  <a:pt x="159" y="2051"/>
                </a:lnTo>
                <a:lnTo>
                  <a:pt x="155" y="2051"/>
                </a:lnTo>
                <a:lnTo>
                  <a:pt x="152" y="2051"/>
                </a:lnTo>
                <a:lnTo>
                  <a:pt x="146" y="2049"/>
                </a:lnTo>
                <a:lnTo>
                  <a:pt x="144" y="2049"/>
                </a:lnTo>
                <a:lnTo>
                  <a:pt x="141" y="2043"/>
                </a:lnTo>
                <a:lnTo>
                  <a:pt x="139" y="2040"/>
                </a:lnTo>
                <a:lnTo>
                  <a:pt x="139" y="2036"/>
                </a:lnTo>
                <a:lnTo>
                  <a:pt x="139" y="2034"/>
                </a:lnTo>
                <a:lnTo>
                  <a:pt x="141" y="2031"/>
                </a:lnTo>
                <a:lnTo>
                  <a:pt x="141" y="2029"/>
                </a:lnTo>
                <a:lnTo>
                  <a:pt x="142" y="2025"/>
                </a:lnTo>
                <a:lnTo>
                  <a:pt x="141" y="2016"/>
                </a:lnTo>
                <a:lnTo>
                  <a:pt x="141" y="2012"/>
                </a:lnTo>
                <a:lnTo>
                  <a:pt x="139" y="2007"/>
                </a:lnTo>
                <a:lnTo>
                  <a:pt x="139" y="2000"/>
                </a:lnTo>
                <a:lnTo>
                  <a:pt x="139" y="1998"/>
                </a:lnTo>
                <a:lnTo>
                  <a:pt x="139" y="1996"/>
                </a:lnTo>
                <a:lnTo>
                  <a:pt x="141" y="1994"/>
                </a:lnTo>
                <a:lnTo>
                  <a:pt x="148" y="1979"/>
                </a:lnTo>
                <a:lnTo>
                  <a:pt x="146" y="1978"/>
                </a:lnTo>
                <a:lnTo>
                  <a:pt x="144" y="1976"/>
                </a:lnTo>
                <a:lnTo>
                  <a:pt x="141" y="1974"/>
                </a:lnTo>
                <a:lnTo>
                  <a:pt x="139" y="1970"/>
                </a:lnTo>
                <a:lnTo>
                  <a:pt x="148" y="1958"/>
                </a:lnTo>
                <a:lnTo>
                  <a:pt x="150" y="1956"/>
                </a:lnTo>
                <a:lnTo>
                  <a:pt x="152" y="1956"/>
                </a:lnTo>
                <a:lnTo>
                  <a:pt x="155" y="1956"/>
                </a:lnTo>
                <a:lnTo>
                  <a:pt x="157" y="1958"/>
                </a:lnTo>
                <a:lnTo>
                  <a:pt x="157" y="1959"/>
                </a:lnTo>
                <a:lnTo>
                  <a:pt x="161" y="1961"/>
                </a:lnTo>
                <a:lnTo>
                  <a:pt x="174" y="1956"/>
                </a:lnTo>
                <a:lnTo>
                  <a:pt x="177" y="1952"/>
                </a:lnTo>
                <a:lnTo>
                  <a:pt x="177" y="1947"/>
                </a:lnTo>
                <a:lnTo>
                  <a:pt x="175" y="1943"/>
                </a:lnTo>
                <a:lnTo>
                  <a:pt x="174" y="1937"/>
                </a:lnTo>
                <a:lnTo>
                  <a:pt x="174" y="1932"/>
                </a:lnTo>
                <a:lnTo>
                  <a:pt x="172" y="1930"/>
                </a:lnTo>
                <a:lnTo>
                  <a:pt x="166" y="1921"/>
                </a:lnTo>
                <a:lnTo>
                  <a:pt x="159" y="1910"/>
                </a:lnTo>
                <a:lnTo>
                  <a:pt x="159" y="1906"/>
                </a:lnTo>
                <a:lnTo>
                  <a:pt x="163" y="1905"/>
                </a:lnTo>
                <a:lnTo>
                  <a:pt x="166" y="1901"/>
                </a:lnTo>
                <a:lnTo>
                  <a:pt x="164" y="1888"/>
                </a:lnTo>
                <a:lnTo>
                  <a:pt x="164" y="1873"/>
                </a:lnTo>
                <a:lnTo>
                  <a:pt x="164" y="1870"/>
                </a:lnTo>
                <a:lnTo>
                  <a:pt x="166" y="1853"/>
                </a:lnTo>
                <a:lnTo>
                  <a:pt x="164" y="1848"/>
                </a:lnTo>
                <a:lnTo>
                  <a:pt x="166" y="1842"/>
                </a:lnTo>
                <a:lnTo>
                  <a:pt x="166" y="1839"/>
                </a:lnTo>
                <a:lnTo>
                  <a:pt x="164" y="1837"/>
                </a:lnTo>
                <a:lnTo>
                  <a:pt x="159" y="1828"/>
                </a:lnTo>
                <a:lnTo>
                  <a:pt x="157" y="1820"/>
                </a:lnTo>
                <a:lnTo>
                  <a:pt x="159" y="1819"/>
                </a:lnTo>
                <a:lnTo>
                  <a:pt x="161" y="1817"/>
                </a:lnTo>
                <a:lnTo>
                  <a:pt x="163" y="1815"/>
                </a:lnTo>
                <a:lnTo>
                  <a:pt x="164" y="1813"/>
                </a:lnTo>
                <a:lnTo>
                  <a:pt x="166" y="1809"/>
                </a:lnTo>
                <a:lnTo>
                  <a:pt x="166" y="1806"/>
                </a:lnTo>
                <a:lnTo>
                  <a:pt x="166" y="1802"/>
                </a:lnTo>
                <a:lnTo>
                  <a:pt x="172" y="1791"/>
                </a:lnTo>
                <a:lnTo>
                  <a:pt x="175" y="1791"/>
                </a:lnTo>
                <a:lnTo>
                  <a:pt x="177" y="1793"/>
                </a:lnTo>
                <a:lnTo>
                  <a:pt x="179" y="1791"/>
                </a:lnTo>
                <a:lnTo>
                  <a:pt x="181" y="1789"/>
                </a:lnTo>
                <a:lnTo>
                  <a:pt x="185" y="1784"/>
                </a:lnTo>
                <a:lnTo>
                  <a:pt x="183" y="1780"/>
                </a:lnTo>
                <a:lnTo>
                  <a:pt x="181" y="1778"/>
                </a:lnTo>
                <a:lnTo>
                  <a:pt x="179" y="1780"/>
                </a:lnTo>
                <a:lnTo>
                  <a:pt x="172" y="1775"/>
                </a:lnTo>
                <a:lnTo>
                  <a:pt x="168" y="1771"/>
                </a:lnTo>
                <a:lnTo>
                  <a:pt x="172" y="1762"/>
                </a:lnTo>
                <a:lnTo>
                  <a:pt x="175" y="1760"/>
                </a:lnTo>
                <a:lnTo>
                  <a:pt x="183" y="1756"/>
                </a:lnTo>
                <a:lnTo>
                  <a:pt x="186" y="1745"/>
                </a:lnTo>
                <a:lnTo>
                  <a:pt x="183" y="1736"/>
                </a:lnTo>
                <a:lnTo>
                  <a:pt x="179" y="1725"/>
                </a:lnTo>
                <a:lnTo>
                  <a:pt x="179" y="1714"/>
                </a:lnTo>
                <a:lnTo>
                  <a:pt x="181" y="1711"/>
                </a:lnTo>
                <a:lnTo>
                  <a:pt x="183" y="1709"/>
                </a:lnTo>
                <a:lnTo>
                  <a:pt x="188" y="1714"/>
                </a:lnTo>
                <a:lnTo>
                  <a:pt x="190" y="1714"/>
                </a:lnTo>
                <a:lnTo>
                  <a:pt x="199" y="1714"/>
                </a:lnTo>
                <a:lnTo>
                  <a:pt x="201" y="1713"/>
                </a:lnTo>
                <a:lnTo>
                  <a:pt x="208" y="1687"/>
                </a:lnTo>
                <a:lnTo>
                  <a:pt x="210" y="1678"/>
                </a:lnTo>
                <a:lnTo>
                  <a:pt x="208" y="1667"/>
                </a:lnTo>
                <a:lnTo>
                  <a:pt x="208" y="1661"/>
                </a:lnTo>
                <a:lnTo>
                  <a:pt x="206" y="1660"/>
                </a:lnTo>
                <a:lnTo>
                  <a:pt x="206" y="1656"/>
                </a:lnTo>
                <a:lnTo>
                  <a:pt x="206" y="1650"/>
                </a:lnTo>
                <a:lnTo>
                  <a:pt x="208" y="1649"/>
                </a:lnTo>
                <a:lnTo>
                  <a:pt x="210" y="1647"/>
                </a:lnTo>
                <a:lnTo>
                  <a:pt x="214" y="1645"/>
                </a:lnTo>
                <a:lnTo>
                  <a:pt x="216" y="1643"/>
                </a:lnTo>
                <a:lnTo>
                  <a:pt x="225" y="1639"/>
                </a:lnTo>
                <a:lnTo>
                  <a:pt x="238" y="1632"/>
                </a:lnTo>
                <a:lnTo>
                  <a:pt x="243" y="1630"/>
                </a:lnTo>
                <a:lnTo>
                  <a:pt x="245" y="1630"/>
                </a:lnTo>
                <a:lnTo>
                  <a:pt x="249" y="1630"/>
                </a:lnTo>
                <a:lnTo>
                  <a:pt x="252" y="1630"/>
                </a:lnTo>
                <a:lnTo>
                  <a:pt x="256" y="1630"/>
                </a:lnTo>
                <a:lnTo>
                  <a:pt x="261" y="1625"/>
                </a:lnTo>
                <a:lnTo>
                  <a:pt x="263" y="1616"/>
                </a:lnTo>
                <a:lnTo>
                  <a:pt x="265" y="1612"/>
                </a:lnTo>
                <a:lnTo>
                  <a:pt x="263" y="1608"/>
                </a:lnTo>
                <a:lnTo>
                  <a:pt x="259" y="1607"/>
                </a:lnTo>
                <a:lnTo>
                  <a:pt x="256" y="1605"/>
                </a:lnTo>
                <a:lnTo>
                  <a:pt x="252" y="1603"/>
                </a:lnTo>
                <a:lnTo>
                  <a:pt x="250" y="1599"/>
                </a:lnTo>
                <a:lnTo>
                  <a:pt x="247" y="1586"/>
                </a:lnTo>
                <a:lnTo>
                  <a:pt x="247" y="1581"/>
                </a:lnTo>
                <a:lnTo>
                  <a:pt x="247" y="1579"/>
                </a:lnTo>
                <a:lnTo>
                  <a:pt x="247" y="1574"/>
                </a:lnTo>
                <a:lnTo>
                  <a:pt x="249" y="1566"/>
                </a:lnTo>
                <a:lnTo>
                  <a:pt x="239" y="1548"/>
                </a:lnTo>
                <a:lnTo>
                  <a:pt x="236" y="1543"/>
                </a:lnTo>
                <a:lnTo>
                  <a:pt x="232" y="1533"/>
                </a:lnTo>
                <a:lnTo>
                  <a:pt x="230" y="1530"/>
                </a:lnTo>
                <a:lnTo>
                  <a:pt x="230" y="1526"/>
                </a:lnTo>
                <a:lnTo>
                  <a:pt x="230" y="1522"/>
                </a:lnTo>
                <a:lnTo>
                  <a:pt x="232" y="1521"/>
                </a:lnTo>
                <a:lnTo>
                  <a:pt x="236" y="1519"/>
                </a:lnTo>
                <a:lnTo>
                  <a:pt x="238" y="1506"/>
                </a:lnTo>
                <a:lnTo>
                  <a:pt x="236" y="1504"/>
                </a:lnTo>
                <a:lnTo>
                  <a:pt x="234" y="1486"/>
                </a:lnTo>
                <a:lnTo>
                  <a:pt x="236" y="1480"/>
                </a:lnTo>
                <a:lnTo>
                  <a:pt x="238" y="1473"/>
                </a:lnTo>
                <a:lnTo>
                  <a:pt x="234" y="1460"/>
                </a:lnTo>
                <a:lnTo>
                  <a:pt x="230" y="1448"/>
                </a:lnTo>
                <a:lnTo>
                  <a:pt x="243" y="1418"/>
                </a:lnTo>
                <a:lnTo>
                  <a:pt x="247" y="1413"/>
                </a:lnTo>
                <a:lnTo>
                  <a:pt x="249" y="1413"/>
                </a:lnTo>
                <a:lnTo>
                  <a:pt x="252" y="1413"/>
                </a:lnTo>
                <a:lnTo>
                  <a:pt x="276" y="1405"/>
                </a:lnTo>
                <a:lnTo>
                  <a:pt x="276" y="1404"/>
                </a:lnTo>
                <a:lnTo>
                  <a:pt x="274" y="1400"/>
                </a:lnTo>
                <a:lnTo>
                  <a:pt x="276" y="1393"/>
                </a:lnTo>
                <a:lnTo>
                  <a:pt x="287" y="1382"/>
                </a:lnTo>
                <a:lnTo>
                  <a:pt x="296" y="1382"/>
                </a:lnTo>
                <a:lnTo>
                  <a:pt x="303" y="1380"/>
                </a:lnTo>
                <a:lnTo>
                  <a:pt x="305" y="1374"/>
                </a:lnTo>
                <a:lnTo>
                  <a:pt x="305" y="1363"/>
                </a:lnTo>
                <a:lnTo>
                  <a:pt x="303" y="1356"/>
                </a:lnTo>
                <a:lnTo>
                  <a:pt x="305" y="1354"/>
                </a:lnTo>
                <a:lnTo>
                  <a:pt x="307" y="1351"/>
                </a:lnTo>
                <a:lnTo>
                  <a:pt x="311" y="1349"/>
                </a:lnTo>
                <a:lnTo>
                  <a:pt x="305" y="1329"/>
                </a:lnTo>
                <a:lnTo>
                  <a:pt x="305" y="1320"/>
                </a:lnTo>
                <a:lnTo>
                  <a:pt x="303" y="1305"/>
                </a:lnTo>
                <a:lnTo>
                  <a:pt x="292" y="1299"/>
                </a:lnTo>
                <a:lnTo>
                  <a:pt x="291" y="1299"/>
                </a:lnTo>
                <a:lnTo>
                  <a:pt x="289" y="1296"/>
                </a:lnTo>
                <a:lnTo>
                  <a:pt x="289" y="1294"/>
                </a:lnTo>
                <a:lnTo>
                  <a:pt x="292" y="1290"/>
                </a:lnTo>
                <a:lnTo>
                  <a:pt x="294" y="1290"/>
                </a:lnTo>
                <a:lnTo>
                  <a:pt x="298" y="1290"/>
                </a:lnTo>
                <a:lnTo>
                  <a:pt x="300" y="1290"/>
                </a:lnTo>
                <a:lnTo>
                  <a:pt x="307" y="1287"/>
                </a:lnTo>
                <a:lnTo>
                  <a:pt x="309" y="1285"/>
                </a:lnTo>
                <a:lnTo>
                  <a:pt x="309" y="1279"/>
                </a:lnTo>
                <a:lnTo>
                  <a:pt x="309" y="1270"/>
                </a:lnTo>
                <a:lnTo>
                  <a:pt x="314" y="1256"/>
                </a:lnTo>
                <a:lnTo>
                  <a:pt x="322" y="1237"/>
                </a:lnTo>
                <a:lnTo>
                  <a:pt x="329" y="1225"/>
                </a:lnTo>
                <a:lnTo>
                  <a:pt x="340" y="1214"/>
                </a:lnTo>
                <a:lnTo>
                  <a:pt x="338" y="1208"/>
                </a:lnTo>
                <a:lnTo>
                  <a:pt x="338" y="1203"/>
                </a:lnTo>
                <a:lnTo>
                  <a:pt x="340" y="1203"/>
                </a:lnTo>
                <a:lnTo>
                  <a:pt x="342" y="1201"/>
                </a:lnTo>
                <a:lnTo>
                  <a:pt x="345" y="1201"/>
                </a:lnTo>
                <a:lnTo>
                  <a:pt x="347" y="1201"/>
                </a:lnTo>
                <a:lnTo>
                  <a:pt x="351" y="1201"/>
                </a:lnTo>
                <a:lnTo>
                  <a:pt x="355" y="1201"/>
                </a:lnTo>
                <a:lnTo>
                  <a:pt x="362" y="1197"/>
                </a:lnTo>
                <a:lnTo>
                  <a:pt x="358" y="1184"/>
                </a:lnTo>
                <a:lnTo>
                  <a:pt x="353" y="1157"/>
                </a:lnTo>
                <a:lnTo>
                  <a:pt x="353" y="1153"/>
                </a:lnTo>
                <a:lnTo>
                  <a:pt x="356" y="1131"/>
                </a:lnTo>
                <a:lnTo>
                  <a:pt x="362" y="1120"/>
                </a:lnTo>
                <a:lnTo>
                  <a:pt x="364" y="1118"/>
                </a:lnTo>
                <a:lnTo>
                  <a:pt x="366" y="1115"/>
                </a:lnTo>
                <a:lnTo>
                  <a:pt x="362" y="1106"/>
                </a:lnTo>
                <a:lnTo>
                  <a:pt x="356" y="1102"/>
                </a:lnTo>
                <a:lnTo>
                  <a:pt x="353" y="1100"/>
                </a:lnTo>
                <a:lnTo>
                  <a:pt x="351" y="1102"/>
                </a:lnTo>
                <a:lnTo>
                  <a:pt x="347" y="1104"/>
                </a:lnTo>
                <a:lnTo>
                  <a:pt x="345" y="1106"/>
                </a:lnTo>
                <a:lnTo>
                  <a:pt x="344" y="1108"/>
                </a:lnTo>
                <a:lnTo>
                  <a:pt x="334" y="1095"/>
                </a:lnTo>
                <a:lnTo>
                  <a:pt x="334" y="1093"/>
                </a:lnTo>
                <a:lnTo>
                  <a:pt x="334" y="1089"/>
                </a:lnTo>
                <a:lnTo>
                  <a:pt x="336" y="1086"/>
                </a:lnTo>
                <a:lnTo>
                  <a:pt x="334" y="1084"/>
                </a:lnTo>
                <a:lnTo>
                  <a:pt x="336" y="1078"/>
                </a:lnTo>
                <a:lnTo>
                  <a:pt x="342" y="1073"/>
                </a:lnTo>
                <a:lnTo>
                  <a:pt x="344" y="1065"/>
                </a:lnTo>
                <a:lnTo>
                  <a:pt x="340" y="1064"/>
                </a:lnTo>
                <a:lnTo>
                  <a:pt x="329" y="1055"/>
                </a:lnTo>
                <a:lnTo>
                  <a:pt x="327" y="1042"/>
                </a:lnTo>
                <a:lnTo>
                  <a:pt x="327" y="1038"/>
                </a:lnTo>
                <a:lnTo>
                  <a:pt x="329" y="1034"/>
                </a:lnTo>
                <a:lnTo>
                  <a:pt x="329" y="1031"/>
                </a:lnTo>
                <a:lnTo>
                  <a:pt x="329" y="1027"/>
                </a:lnTo>
                <a:lnTo>
                  <a:pt x="322" y="1014"/>
                </a:lnTo>
                <a:lnTo>
                  <a:pt x="320" y="1012"/>
                </a:lnTo>
                <a:lnTo>
                  <a:pt x="314" y="1009"/>
                </a:lnTo>
                <a:lnTo>
                  <a:pt x="313" y="1007"/>
                </a:lnTo>
                <a:lnTo>
                  <a:pt x="313" y="1003"/>
                </a:lnTo>
                <a:lnTo>
                  <a:pt x="311" y="991"/>
                </a:lnTo>
                <a:lnTo>
                  <a:pt x="314" y="987"/>
                </a:lnTo>
                <a:lnTo>
                  <a:pt x="318" y="987"/>
                </a:lnTo>
                <a:lnTo>
                  <a:pt x="322" y="978"/>
                </a:lnTo>
                <a:lnTo>
                  <a:pt x="322" y="976"/>
                </a:lnTo>
                <a:lnTo>
                  <a:pt x="316" y="972"/>
                </a:lnTo>
                <a:lnTo>
                  <a:pt x="314" y="970"/>
                </a:lnTo>
                <a:lnTo>
                  <a:pt x="311" y="970"/>
                </a:lnTo>
                <a:lnTo>
                  <a:pt x="307" y="970"/>
                </a:lnTo>
                <a:lnTo>
                  <a:pt x="303" y="970"/>
                </a:lnTo>
                <a:lnTo>
                  <a:pt x="302" y="969"/>
                </a:lnTo>
                <a:lnTo>
                  <a:pt x="302" y="967"/>
                </a:lnTo>
                <a:lnTo>
                  <a:pt x="300" y="965"/>
                </a:lnTo>
                <a:lnTo>
                  <a:pt x="287" y="939"/>
                </a:lnTo>
                <a:lnTo>
                  <a:pt x="291" y="917"/>
                </a:lnTo>
                <a:lnTo>
                  <a:pt x="292" y="903"/>
                </a:lnTo>
                <a:lnTo>
                  <a:pt x="294" y="901"/>
                </a:lnTo>
                <a:lnTo>
                  <a:pt x="300" y="895"/>
                </a:lnTo>
                <a:lnTo>
                  <a:pt x="302" y="897"/>
                </a:lnTo>
                <a:lnTo>
                  <a:pt x="309" y="895"/>
                </a:lnTo>
                <a:lnTo>
                  <a:pt x="316" y="888"/>
                </a:lnTo>
                <a:lnTo>
                  <a:pt x="316" y="885"/>
                </a:lnTo>
                <a:lnTo>
                  <a:pt x="313" y="881"/>
                </a:lnTo>
                <a:lnTo>
                  <a:pt x="313" y="879"/>
                </a:lnTo>
                <a:lnTo>
                  <a:pt x="313" y="875"/>
                </a:lnTo>
                <a:lnTo>
                  <a:pt x="313" y="868"/>
                </a:lnTo>
                <a:lnTo>
                  <a:pt x="318" y="855"/>
                </a:lnTo>
                <a:lnTo>
                  <a:pt x="320" y="852"/>
                </a:lnTo>
                <a:lnTo>
                  <a:pt x="323" y="844"/>
                </a:lnTo>
                <a:lnTo>
                  <a:pt x="331" y="831"/>
                </a:lnTo>
                <a:lnTo>
                  <a:pt x="338" y="828"/>
                </a:lnTo>
                <a:lnTo>
                  <a:pt x="342" y="828"/>
                </a:lnTo>
                <a:lnTo>
                  <a:pt x="344" y="828"/>
                </a:lnTo>
                <a:lnTo>
                  <a:pt x="349" y="826"/>
                </a:lnTo>
                <a:lnTo>
                  <a:pt x="353" y="821"/>
                </a:lnTo>
                <a:lnTo>
                  <a:pt x="360" y="808"/>
                </a:lnTo>
                <a:lnTo>
                  <a:pt x="360" y="804"/>
                </a:lnTo>
                <a:lnTo>
                  <a:pt x="358" y="800"/>
                </a:lnTo>
                <a:lnTo>
                  <a:pt x="356" y="800"/>
                </a:lnTo>
                <a:lnTo>
                  <a:pt x="351" y="789"/>
                </a:lnTo>
                <a:lnTo>
                  <a:pt x="351" y="788"/>
                </a:lnTo>
                <a:lnTo>
                  <a:pt x="353" y="782"/>
                </a:lnTo>
                <a:lnTo>
                  <a:pt x="353" y="771"/>
                </a:lnTo>
                <a:lnTo>
                  <a:pt x="353" y="762"/>
                </a:lnTo>
                <a:lnTo>
                  <a:pt x="351" y="762"/>
                </a:lnTo>
                <a:lnTo>
                  <a:pt x="349" y="760"/>
                </a:lnTo>
                <a:lnTo>
                  <a:pt x="347" y="758"/>
                </a:lnTo>
                <a:lnTo>
                  <a:pt x="347" y="757"/>
                </a:lnTo>
                <a:lnTo>
                  <a:pt x="347" y="755"/>
                </a:lnTo>
                <a:lnTo>
                  <a:pt x="347" y="751"/>
                </a:lnTo>
                <a:lnTo>
                  <a:pt x="347" y="747"/>
                </a:lnTo>
                <a:lnTo>
                  <a:pt x="347" y="746"/>
                </a:lnTo>
                <a:lnTo>
                  <a:pt x="344" y="735"/>
                </a:lnTo>
                <a:lnTo>
                  <a:pt x="342" y="729"/>
                </a:lnTo>
                <a:lnTo>
                  <a:pt x="340" y="727"/>
                </a:lnTo>
                <a:lnTo>
                  <a:pt x="342" y="722"/>
                </a:lnTo>
                <a:lnTo>
                  <a:pt x="347" y="713"/>
                </a:lnTo>
                <a:lnTo>
                  <a:pt x="353" y="707"/>
                </a:lnTo>
                <a:lnTo>
                  <a:pt x="360" y="705"/>
                </a:lnTo>
                <a:lnTo>
                  <a:pt x="362" y="704"/>
                </a:lnTo>
                <a:lnTo>
                  <a:pt x="364" y="704"/>
                </a:lnTo>
                <a:lnTo>
                  <a:pt x="364" y="700"/>
                </a:lnTo>
                <a:lnTo>
                  <a:pt x="364" y="694"/>
                </a:lnTo>
                <a:lnTo>
                  <a:pt x="367" y="683"/>
                </a:lnTo>
                <a:lnTo>
                  <a:pt x="371" y="674"/>
                </a:lnTo>
                <a:lnTo>
                  <a:pt x="369" y="671"/>
                </a:lnTo>
                <a:lnTo>
                  <a:pt x="369" y="669"/>
                </a:lnTo>
                <a:lnTo>
                  <a:pt x="367" y="667"/>
                </a:lnTo>
                <a:lnTo>
                  <a:pt x="367" y="661"/>
                </a:lnTo>
                <a:lnTo>
                  <a:pt x="373" y="654"/>
                </a:lnTo>
                <a:lnTo>
                  <a:pt x="377" y="652"/>
                </a:lnTo>
                <a:lnTo>
                  <a:pt x="377" y="649"/>
                </a:lnTo>
                <a:lnTo>
                  <a:pt x="377" y="636"/>
                </a:lnTo>
                <a:lnTo>
                  <a:pt x="382" y="632"/>
                </a:lnTo>
                <a:lnTo>
                  <a:pt x="389" y="627"/>
                </a:lnTo>
                <a:lnTo>
                  <a:pt x="402" y="614"/>
                </a:lnTo>
                <a:lnTo>
                  <a:pt x="406" y="610"/>
                </a:lnTo>
                <a:lnTo>
                  <a:pt x="408" y="607"/>
                </a:lnTo>
                <a:lnTo>
                  <a:pt x="409" y="603"/>
                </a:lnTo>
                <a:lnTo>
                  <a:pt x="411" y="598"/>
                </a:lnTo>
                <a:lnTo>
                  <a:pt x="415" y="596"/>
                </a:lnTo>
                <a:lnTo>
                  <a:pt x="419" y="596"/>
                </a:lnTo>
                <a:lnTo>
                  <a:pt x="422" y="594"/>
                </a:lnTo>
                <a:lnTo>
                  <a:pt x="422" y="592"/>
                </a:lnTo>
                <a:lnTo>
                  <a:pt x="424" y="590"/>
                </a:lnTo>
                <a:lnTo>
                  <a:pt x="426" y="588"/>
                </a:lnTo>
                <a:lnTo>
                  <a:pt x="428" y="576"/>
                </a:lnTo>
                <a:lnTo>
                  <a:pt x="430" y="572"/>
                </a:lnTo>
                <a:lnTo>
                  <a:pt x="433" y="561"/>
                </a:lnTo>
                <a:lnTo>
                  <a:pt x="435" y="559"/>
                </a:lnTo>
                <a:lnTo>
                  <a:pt x="450" y="535"/>
                </a:lnTo>
                <a:lnTo>
                  <a:pt x="453" y="528"/>
                </a:lnTo>
                <a:lnTo>
                  <a:pt x="451" y="524"/>
                </a:lnTo>
                <a:lnTo>
                  <a:pt x="453" y="521"/>
                </a:lnTo>
                <a:lnTo>
                  <a:pt x="455" y="519"/>
                </a:lnTo>
                <a:lnTo>
                  <a:pt x="459" y="513"/>
                </a:lnTo>
                <a:lnTo>
                  <a:pt x="461" y="512"/>
                </a:lnTo>
                <a:lnTo>
                  <a:pt x="464" y="512"/>
                </a:lnTo>
                <a:lnTo>
                  <a:pt x="470" y="512"/>
                </a:lnTo>
                <a:lnTo>
                  <a:pt x="473" y="515"/>
                </a:lnTo>
                <a:lnTo>
                  <a:pt x="497" y="508"/>
                </a:lnTo>
                <a:lnTo>
                  <a:pt x="499" y="506"/>
                </a:lnTo>
                <a:lnTo>
                  <a:pt x="503" y="504"/>
                </a:lnTo>
                <a:lnTo>
                  <a:pt x="504" y="504"/>
                </a:lnTo>
                <a:lnTo>
                  <a:pt x="508" y="493"/>
                </a:lnTo>
                <a:lnTo>
                  <a:pt x="508" y="491"/>
                </a:lnTo>
                <a:lnTo>
                  <a:pt x="495" y="473"/>
                </a:lnTo>
                <a:lnTo>
                  <a:pt x="494" y="471"/>
                </a:lnTo>
                <a:lnTo>
                  <a:pt x="488" y="466"/>
                </a:lnTo>
                <a:lnTo>
                  <a:pt x="484" y="460"/>
                </a:lnTo>
                <a:lnTo>
                  <a:pt x="481" y="457"/>
                </a:lnTo>
                <a:lnTo>
                  <a:pt x="481" y="455"/>
                </a:lnTo>
                <a:lnTo>
                  <a:pt x="481" y="453"/>
                </a:lnTo>
                <a:lnTo>
                  <a:pt x="481" y="449"/>
                </a:lnTo>
                <a:lnTo>
                  <a:pt x="481" y="448"/>
                </a:lnTo>
                <a:lnTo>
                  <a:pt x="481" y="442"/>
                </a:lnTo>
                <a:lnTo>
                  <a:pt x="481" y="438"/>
                </a:lnTo>
                <a:lnTo>
                  <a:pt x="483" y="435"/>
                </a:lnTo>
                <a:lnTo>
                  <a:pt x="484" y="433"/>
                </a:lnTo>
                <a:lnTo>
                  <a:pt x="486" y="431"/>
                </a:lnTo>
                <a:lnTo>
                  <a:pt x="490" y="428"/>
                </a:lnTo>
                <a:lnTo>
                  <a:pt x="495" y="424"/>
                </a:lnTo>
                <a:lnTo>
                  <a:pt x="497" y="420"/>
                </a:lnTo>
                <a:lnTo>
                  <a:pt x="492" y="396"/>
                </a:lnTo>
                <a:lnTo>
                  <a:pt x="488" y="380"/>
                </a:lnTo>
                <a:lnTo>
                  <a:pt x="488" y="378"/>
                </a:lnTo>
                <a:lnTo>
                  <a:pt x="483" y="369"/>
                </a:lnTo>
                <a:lnTo>
                  <a:pt x="479" y="356"/>
                </a:lnTo>
                <a:lnTo>
                  <a:pt x="479" y="354"/>
                </a:lnTo>
                <a:lnTo>
                  <a:pt x="479" y="351"/>
                </a:lnTo>
                <a:lnTo>
                  <a:pt x="479" y="349"/>
                </a:lnTo>
                <a:lnTo>
                  <a:pt x="481" y="342"/>
                </a:lnTo>
                <a:lnTo>
                  <a:pt x="483" y="340"/>
                </a:lnTo>
                <a:lnTo>
                  <a:pt x="484" y="336"/>
                </a:lnTo>
                <a:lnTo>
                  <a:pt x="484" y="334"/>
                </a:lnTo>
                <a:lnTo>
                  <a:pt x="484" y="332"/>
                </a:lnTo>
                <a:lnTo>
                  <a:pt x="486" y="329"/>
                </a:lnTo>
                <a:lnTo>
                  <a:pt x="488" y="325"/>
                </a:lnTo>
                <a:lnTo>
                  <a:pt x="490" y="325"/>
                </a:lnTo>
                <a:lnTo>
                  <a:pt x="495" y="323"/>
                </a:lnTo>
                <a:lnTo>
                  <a:pt x="503" y="321"/>
                </a:lnTo>
                <a:lnTo>
                  <a:pt x="488" y="300"/>
                </a:lnTo>
                <a:lnTo>
                  <a:pt x="483" y="296"/>
                </a:lnTo>
                <a:lnTo>
                  <a:pt x="481" y="290"/>
                </a:lnTo>
                <a:lnTo>
                  <a:pt x="481" y="289"/>
                </a:lnTo>
                <a:lnTo>
                  <a:pt x="484" y="283"/>
                </a:lnTo>
                <a:lnTo>
                  <a:pt x="488" y="278"/>
                </a:lnTo>
                <a:lnTo>
                  <a:pt x="492" y="270"/>
                </a:lnTo>
                <a:lnTo>
                  <a:pt x="499" y="261"/>
                </a:lnTo>
                <a:lnTo>
                  <a:pt x="512" y="250"/>
                </a:lnTo>
                <a:lnTo>
                  <a:pt x="517" y="248"/>
                </a:lnTo>
                <a:lnTo>
                  <a:pt x="547" y="237"/>
                </a:lnTo>
                <a:lnTo>
                  <a:pt x="570" y="226"/>
                </a:lnTo>
                <a:lnTo>
                  <a:pt x="578" y="225"/>
                </a:lnTo>
                <a:lnTo>
                  <a:pt x="600" y="215"/>
                </a:lnTo>
                <a:lnTo>
                  <a:pt x="609" y="188"/>
                </a:lnTo>
                <a:lnTo>
                  <a:pt x="618" y="155"/>
                </a:lnTo>
                <a:lnTo>
                  <a:pt x="620" y="151"/>
                </a:lnTo>
                <a:lnTo>
                  <a:pt x="623" y="141"/>
                </a:lnTo>
                <a:lnTo>
                  <a:pt x="627" y="128"/>
                </a:lnTo>
                <a:lnTo>
                  <a:pt x="632" y="117"/>
                </a:lnTo>
                <a:lnTo>
                  <a:pt x="614" y="100"/>
                </a:lnTo>
                <a:lnTo>
                  <a:pt x="620" y="89"/>
                </a:lnTo>
                <a:lnTo>
                  <a:pt x="631" y="82"/>
                </a:lnTo>
                <a:lnTo>
                  <a:pt x="631" y="77"/>
                </a:lnTo>
                <a:lnTo>
                  <a:pt x="631" y="71"/>
                </a:lnTo>
                <a:lnTo>
                  <a:pt x="640" y="66"/>
                </a:lnTo>
                <a:lnTo>
                  <a:pt x="647" y="64"/>
                </a:lnTo>
                <a:lnTo>
                  <a:pt x="654" y="62"/>
                </a:lnTo>
                <a:lnTo>
                  <a:pt x="654" y="56"/>
                </a:lnTo>
                <a:lnTo>
                  <a:pt x="658" y="42"/>
                </a:lnTo>
                <a:lnTo>
                  <a:pt x="662" y="40"/>
                </a:lnTo>
                <a:lnTo>
                  <a:pt x="669" y="38"/>
                </a:lnTo>
                <a:lnTo>
                  <a:pt x="675" y="38"/>
                </a:lnTo>
                <a:lnTo>
                  <a:pt x="680" y="36"/>
                </a:lnTo>
                <a:lnTo>
                  <a:pt x="689" y="33"/>
                </a:lnTo>
                <a:lnTo>
                  <a:pt x="695" y="31"/>
                </a:lnTo>
                <a:lnTo>
                  <a:pt x="698" y="27"/>
                </a:lnTo>
                <a:lnTo>
                  <a:pt x="700" y="24"/>
                </a:lnTo>
                <a:lnTo>
                  <a:pt x="702" y="18"/>
                </a:lnTo>
                <a:lnTo>
                  <a:pt x="704" y="11"/>
                </a:lnTo>
                <a:lnTo>
                  <a:pt x="706" y="2"/>
                </a:lnTo>
                <a:lnTo>
                  <a:pt x="707" y="0"/>
                </a:lnTo>
                <a:lnTo>
                  <a:pt x="709" y="0"/>
                </a:lnTo>
                <a:lnTo>
                  <a:pt x="720" y="5"/>
                </a:lnTo>
                <a:lnTo>
                  <a:pt x="735" y="14"/>
                </a:lnTo>
                <a:lnTo>
                  <a:pt x="740" y="22"/>
                </a:lnTo>
                <a:lnTo>
                  <a:pt x="746" y="27"/>
                </a:lnTo>
                <a:lnTo>
                  <a:pt x="753" y="31"/>
                </a:lnTo>
                <a:lnTo>
                  <a:pt x="762" y="31"/>
                </a:lnTo>
                <a:lnTo>
                  <a:pt x="768" y="31"/>
                </a:lnTo>
                <a:lnTo>
                  <a:pt x="806" y="29"/>
                </a:lnTo>
                <a:lnTo>
                  <a:pt x="826" y="29"/>
                </a:lnTo>
                <a:lnTo>
                  <a:pt x="856" y="38"/>
                </a:lnTo>
                <a:lnTo>
                  <a:pt x="865" y="42"/>
                </a:lnTo>
                <a:lnTo>
                  <a:pt x="868" y="45"/>
                </a:lnTo>
                <a:lnTo>
                  <a:pt x="868" y="47"/>
                </a:lnTo>
                <a:lnTo>
                  <a:pt x="870" y="60"/>
                </a:lnTo>
                <a:lnTo>
                  <a:pt x="877" y="77"/>
                </a:lnTo>
                <a:lnTo>
                  <a:pt x="887" y="95"/>
                </a:lnTo>
                <a:lnTo>
                  <a:pt x="894" y="91"/>
                </a:lnTo>
                <a:lnTo>
                  <a:pt x="909" y="60"/>
                </a:lnTo>
                <a:lnTo>
                  <a:pt x="916" y="44"/>
                </a:lnTo>
                <a:lnTo>
                  <a:pt x="921" y="29"/>
                </a:lnTo>
                <a:lnTo>
                  <a:pt x="927" y="20"/>
                </a:lnTo>
                <a:lnTo>
                  <a:pt x="947" y="20"/>
                </a:lnTo>
                <a:lnTo>
                  <a:pt x="951" y="22"/>
                </a:lnTo>
                <a:lnTo>
                  <a:pt x="960" y="22"/>
                </a:lnTo>
                <a:lnTo>
                  <a:pt x="1004" y="20"/>
                </a:lnTo>
                <a:lnTo>
                  <a:pt x="1027" y="20"/>
                </a:lnTo>
                <a:lnTo>
                  <a:pt x="1035" y="20"/>
                </a:lnTo>
                <a:lnTo>
                  <a:pt x="1037" y="22"/>
                </a:lnTo>
                <a:lnTo>
                  <a:pt x="1037" y="25"/>
                </a:lnTo>
                <a:lnTo>
                  <a:pt x="1037" y="29"/>
                </a:lnTo>
                <a:lnTo>
                  <a:pt x="1037" y="31"/>
                </a:lnTo>
                <a:lnTo>
                  <a:pt x="1040" y="35"/>
                </a:lnTo>
                <a:lnTo>
                  <a:pt x="1049" y="44"/>
                </a:lnTo>
                <a:lnTo>
                  <a:pt x="1051" y="44"/>
                </a:lnTo>
                <a:lnTo>
                  <a:pt x="1053" y="47"/>
                </a:lnTo>
                <a:lnTo>
                  <a:pt x="1062" y="56"/>
                </a:lnTo>
                <a:lnTo>
                  <a:pt x="1075" y="64"/>
                </a:lnTo>
                <a:lnTo>
                  <a:pt x="1079" y="66"/>
                </a:lnTo>
                <a:lnTo>
                  <a:pt x="1080" y="66"/>
                </a:lnTo>
                <a:lnTo>
                  <a:pt x="1082" y="67"/>
                </a:lnTo>
                <a:lnTo>
                  <a:pt x="1086" y="67"/>
                </a:lnTo>
                <a:lnTo>
                  <a:pt x="1090" y="71"/>
                </a:lnTo>
                <a:lnTo>
                  <a:pt x="1090" y="73"/>
                </a:lnTo>
                <a:lnTo>
                  <a:pt x="1090" y="75"/>
                </a:lnTo>
                <a:lnTo>
                  <a:pt x="1099" y="93"/>
                </a:lnTo>
                <a:lnTo>
                  <a:pt x="1113" y="117"/>
                </a:lnTo>
                <a:lnTo>
                  <a:pt x="1121" y="124"/>
                </a:lnTo>
                <a:lnTo>
                  <a:pt x="1148" y="144"/>
                </a:lnTo>
                <a:lnTo>
                  <a:pt x="1166" y="157"/>
                </a:lnTo>
                <a:lnTo>
                  <a:pt x="1174" y="161"/>
                </a:lnTo>
                <a:lnTo>
                  <a:pt x="1181" y="164"/>
                </a:lnTo>
                <a:lnTo>
                  <a:pt x="1192" y="170"/>
                </a:lnTo>
                <a:lnTo>
                  <a:pt x="1199" y="175"/>
                </a:lnTo>
                <a:lnTo>
                  <a:pt x="1207" y="190"/>
                </a:lnTo>
                <a:lnTo>
                  <a:pt x="1207" y="192"/>
                </a:lnTo>
                <a:lnTo>
                  <a:pt x="1208" y="195"/>
                </a:lnTo>
                <a:lnTo>
                  <a:pt x="1210" y="195"/>
                </a:lnTo>
                <a:lnTo>
                  <a:pt x="1221" y="199"/>
                </a:lnTo>
                <a:lnTo>
                  <a:pt x="1232" y="201"/>
                </a:lnTo>
                <a:lnTo>
                  <a:pt x="1236" y="201"/>
                </a:lnTo>
                <a:lnTo>
                  <a:pt x="1247" y="203"/>
                </a:lnTo>
                <a:lnTo>
                  <a:pt x="1249" y="205"/>
                </a:lnTo>
                <a:lnTo>
                  <a:pt x="1250" y="208"/>
                </a:lnTo>
                <a:lnTo>
                  <a:pt x="1261" y="212"/>
                </a:lnTo>
                <a:lnTo>
                  <a:pt x="1278" y="217"/>
                </a:lnTo>
                <a:lnTo>
                  <a:pt x="1291" y="217"/>
                </a:lnTo>
                <a:lnTo>
                  <a:pt x="1292" y="217"/>
                </a:lnTo>
                <a:lnTo>
                  <a:pt x="1294" y="215"/>
                </a:lnTo>
                <a:lnTo>
                  <a:pt x="1296" y="215"/>
                </a:lnTo>
                <a:lnTo>
                  <a:pt x="1300" y="214"/>
                </a:lnTo>
                <a:lnTo>
                  <a:pt x="1302" y="214"/>
                </a:lnTo>
                <a:lnTo>
                  <a:pt x="1307" y="217"/>
                </a:lnTo>
                <a:lnTo>
                  <a:pt x="1351" y="243"/>
                </a:lnTo>
                <a:lnTo>
                  <a:pt x="1356" y="247"/>
                </a:lnTo>
                <a:lnTo>
                  <a:pt x="1366" y="254"/>
                </a:lnTo>
                <a:lnTo>
                  <a:pt x="1367" y="258"/>
                </a:lnTo>
                <a:lnTo>
                  <a:pt x="1369" y="259"/>
                </a:lnTo>
                <a:lnTo>
                  <a:pt x="1373" y="263"/>
                </a:lnTo>
                <a:lnTo>
                  <a:pt x="1391" y="272"/>
                </a:lnTo>
                <a:lnTo>
                  <a:pt x="1397" y="272"/>
                </a:lnTo>
                <a:lnTo>
                  <a:pt x="1402" y="276"/>
                </a:lnTo>
                <a:lnTo>
                  <a:pt x="1408" y="279"/>
                </a:lnTo>
                <a:lnTo>
                  <a:pt x="1409" y="279"/>
                </a:lnTo>
                <a:lnTo>
                  <a:pt x="1413" y="283"/>
                </a:lnTo>
                <a:lnTo>
                  <a:pt x="1420" y="289"/>
                </a:lnTo>
                <a:lnTo>
                  <a:pt x="1433" y="292"/>
                </a:lnTo>
                <a:lnTo>
                  <a:pt x="1439" y="292"/>
                </a:lnTo>
                <a:lnTo>
                  <a:pt x="1442" y="292"/>
                </a:lnTo>
                <a:lnTo>
                  <a:pt x="1446" y="292"/>
                </a:lnTo>
                <a:lnTo>
                  <a:pt x="1455" y="296"/>
                </a:lnTo>
                <a:lnTo>
                  <a:pt x="1464" y="305"/>
                </a:lnTo>
                <a:lnTo>
                  <a:pt x="1470" y="307"/>
                </a:lnTo>
                <a:lnTo>
                  <a:pt x="1481" y="307"/>
                </a:lnTo>
                <a:lnTo>
                  <a:pt x="1484" y="311"/>
                </a:lnTo>
                <a:lnTo>
                  <a:pt x="1492" y="312"/>
                </a:lnTo>
                <a:lnTo>
                  <a:pt x="1505" y="316"/>
                </a:lnTo>
                <a:lnTo>
                  <a:pt x="1506" y="316"/>
                </a:lnTo>
                <a:lnTo>
                  <a:pt x="1510" y="318"/>
                </a:lnTo>
                <a:lnTo>
                  <a:pt x="1512" y="318"/>
                </a:lnTo>
                <a:lnTo>
                  <a:pt x="1521" y="325"/>
                </a:lnTo>
                <a:lnTo>
                  <a:pt x="1521" y="329"/>
                </a:lnTo>
                <a:lnTo>
                  <a:pt x="1523" y="331"/>
                </a:lnTo>
                <a:lnTo>
                  <a:pt x="1526" y="334"/>
                </a:lnTo>
                <a:lnTo>
                  <a:pt x="1528" y="338"/>
                </a:lnTo>
                <a:lnTo>
                  <a:pt x="1530" y="338"/>
                </a:lnTo>
                <a:lnTo>
                  <a:pt x="1534" y="345"/>
                </a:lnTo>
                <a:lnTo>
                  <a:pt x="1537" y="349"/>
                </a:lnTo>
                <a:lnTo>
                  <a:pt x="1541" y="351"/>
                </a:lnTo>
                <a:lnTo>
                  <a:pt x="1541" y="354"/>
                </a:lnTo>
                <a:lnTo>
                  <a:pt x="1539" y="362"/>
                </a:lnTo>
                <a:lnTo>
                  <a:pt x="1521" y="380"/>
                </a:lnTo>
                <a:lnTo>
                  <a:pt x="1517" y="382"/>
                </a:lnTo>
                <a:lnTo>
                  <a:pt x="1516" y="384"/>
                </a:lnTo>
                <a:lnTo>
                  <a:pt x="1516" y="389"/>
                </a:lnTo>
                <a:lnTo>
                  <a:pt x="1512" y="396"/>
                </a:lnTo>
                <a:lnTo>
                  <a:pt x="1506" y="400"/>
                </a:lnTo>
                <a:lnTo>
                  <a:pt x="1508" y="402"/>
                </a:lnTo>
                <a:lnTo>
                  <a:pt x="1512" y="406"/>
                </a:lnTo>
                <a:lnTo>
                  <a:pt x="1497" y="415"/>
                </a:lnTo>
                <a:lnTo>
                  <a:pt x="1494" y="417"/>
                </a:lnTo>
                <a:lnTo>
                  <a:pt x="1484" y="426"/>
                </a:lnTo>
                <a:lnTo>
                  <a:pt x="1477" y="446"/>
                </a:lnTo>
                <a:lnTo>
                  <a:pt x="1477" y="457"/>
                </a:lnTo>
                <a:lnTo>
                  <a:pt x="1481" y="460"/>
                </a:lnTo>
                <a:lnTo>
                  <a:pt x="1481" y="462"/>
                </a:lnTo>
                <a:lnTo>
                  <a:pt x="1481" y="468"/>
                </a:lnTo>
                <a:lnTo>
                  <a:pt x="1468" y="490"/>
                </a:lnTo>
                <a:lnTo>
                  <a:pt x="1464" y="490"/>
                </a:lnTo>
                <a:lnTo>
                  <a:pt x="1461" y="491"/>
                </a:lnTo>
                <a:lnTo>
                  <a:pt x="1452" y="501"/>
                </a:lnTo>
                <a:lnTo>
                  <a:pt x="1442" y="513"/>
                </a:lnTo>
                <a:lnTo>
                  <a:pt x="1439" y="513"/>
                </a:lnTo>
                <a:lnTo>
                  <a:pt x="1437" y="513"/>
                </a:lnTo>
                <a:lnTo>
                  <a:pt x="1435" y="517"/>
                </a:lnTo>
                <a:lnTo>
                  <a:pt x="1435" y="519"/>
                </a:lnTo>
                <a:lnTo>
                  <a:pt x="1439" y="523"/>
                </a:lnTo>
                <a:lnTo>
                  <a:pt x="1441" y="524"/>
                </a:lnTo>
                <a:lnTo>
                  <a:pt x="1439" y="532"/>
                </a:lnTo>
                <a:lnTo>
                  <a:pt x="1444" y="530"/>
                </a:lnTo>
                <a:lnTo>
                  <a:pt x="1446" y="530"/>
                </a:lnTo>
                <a:lnTo>
                  <a:pt x="1450" y="530"/>
                </a:lnTo>
                <a:lnTo>
                  <a:pt x="1452" y="528"/>
                </a:lnTo>
                <a:lnTo>
                  <a:pt x="1470" y="528"/>
                </a:lnTo>
                <a:lnTo>
                  <a:pt x="1483" y="526"/>
                </a:lnTo>
                <a:lnTo>
                  <a:pt x="1497" y="528"/>
                </a:lnTo>
                <a:lnTo>
                  <a:pt x="1505" y="528"/>
                </a:lnTo>
                <a:lnTo>
                  <a:pt x="1517" y="530"/>
                </a:lnTo>
                <a:lnTo>
                  <a:pt x="1523" y="530"/>
                </a:lnTo>
                <a:lnTo>
                  <a:pt x="1526" y="532"/>
                </a:lnTo>
                <a:lnTo>
                  <a:pt x="1528" y="534"/>
                </a:lnTo>
                <a:lnTo>
                  <a:pt x="1532" y="535"/>
                </a:lnTo>
                <a:lnTo>
                  <a:pt x="1534" y="537"/>
                </a:lnTo>
                <a:lnTo>
                  <a:pt x="1554" y="541"/>
                </a:lnTo>
                <a:lnTo>
                  <a:pt x="1561" y="543"/>
                </a:lnTo>
                <a:lnTo>
                  <a:pt x="1563" y="543"/>
                </a:lnTo>
                <a:lnTo>
                  <a:pt x="1565" y="543"/>
                </a:lnTo>
                <a:lnTo>
                  <a:pt x="1569" y="545"/>
                </a:lnTo>
                <a:lnTo>
                  <a:pt x="1570" y="545"/>
                </a:lnTo>
                <a:lnTo>
                  <a:pt x="1574" y="546"/>
                </a:lnTo>
                <a:lnTo>
                  <a:pt x="1578" y="548"/>
                </a:lnTo>
                <a:lnTo>
                  <a:pt x="1581" y="548"/>
                </a:lnTo>
                <a:lnTo>
                  <a:pt x="1587" y="548"/>
                </a:lnTo>
                <a:lnTo>
                  <a:pt x="1590" y="546"/>
                </a:lnTo>
                <a:lnTo>
                  <a:pt x="1594" y="545"/>
                </a:lnTo>
                <a:lnTo>
                  <a:pt x="1598" y="543"/>
                </a:lnTo>
                <a:lnTo>
                  <a:pt x="1601" y="541"/>
                </a:lnTo>
                <a:lnTo>
                  <a:pt x="1605" y="541"/>
                </a:lnTo>
                <a:lnTo>
                  <a:pt x="1607" y="543"/>
                </a:lnTo>
                <a:lnTo>
                  <a:pt x="1609" y="545"/>
                </a:lnTo>
                <a:lnTo>
                  <a:pt x="1612" y="546"/>
                </a:lnTo>
                <a:lnTo>
                  <a:pt x="1614" y="548"/>
                </a:lnTo>
                <a:lnTo>
                  <a:pt x="1616" y="550"/>
                </a:lnTo>
                <a:lnTo>
                  <a:pt x="1620" y="550"/>
                </a:lnTo>
                <a:lnTo>
                  <a:pt x="1622" y="548"/>
                </a:lnTo>
                <a:lnTo>
                  <a:pt x="1623" y="546"/>
                </a:lnTo>
                <a:lnTo>
                  <a:pt x="1625" y="546"/>
                </a:lnTo>
                <a:lnTo>
                  <a:pt x="1629" y="545"/>
                </a:lnTo>
                <a:lnTo>
                  <a:pt x="1633" y="545"/>
                </a:lnTo>
                <a:lnTo>
                  <a:pt x="1634" y="545"/>
                </a:lnTo>
                <a:lnTo>
                  <a:pt x="1638" y="545"/>
                </a:lnTo>
                <a:lnTo>
                  <a:pt x="1640" y="546"/>
                </a:lnTo>
                <a:lnTo>
                  <a:pt x="1642" y="546"/>
                </a:lnTo>
                <a:lnTo>
                  <a:pt x="1642" y="550"/>
                </a:lnTo>
                <a:lnTo>
                  <a:pt x="1645" y="554"/>
                </a:lnTo>
                <a:lnTo>
                  <a:pt x="1649" y="557"/>
                </a:lnTo>
                <a:lnTo>
                  <a:pt x="1653" y="557"/>
                </a:lnTo>
                <a:lnTo>
                  <a:pt x="1654" y="557"/>
                </a:lnTo>
                <a:lnTo>
                  <a:pt x="1656" y="555"/>
                </a:lnTo>
                <a:lnTo>
                  <a:pt x="1664" y="546"/>
                </a:lnTo>
                <a:lnTo>
                  <a:pt x="1664" y="545"/>
                </a:lnTo>
                <a:lnTo>
                  <a:pt x="1664" y="543"/>
                </a:lnTo>
                <a:lnTo>
                  <a:pt x="1664" y="539"/>
                </a:lnTo>
                <a:lnTo>
                  <a:pt x="1676" y="532"/>
                </a:lnTo>
                <a:lnTo>
                  <a:pt x="1680" y="530"/>
                </a:lnTo>
                <a:lnTo>
                  <a:pt x="1684" y="530"/>
                </a:lnTo>
                <a:lnTo>
                  <a:pt x="1687" y="530"/>
                </a:lnTo>
                <a:lnTo>
                  <a:pt x="1693" y="534"/>
                </a:lnTo>
                <a:lnTo>
                  <a:pt x="1697" y="532"/>
                </a:lnTo>
                <a:lnTo>
                  <a:pt x="1700" y="534"/>
                </a:lnTo>
                <a:lnTo>
                  <a:pt x="1702" y="535"/>
                </a:lnTo>
                <a:lnTo>
                  <a:pt x="1704" y="539"/>
                </a:lnTo>
                <a:lnTo>
                  <a:pt x="1706" y="541"/>
                </a:lnTo>
                <a:lnTo>
                  <a:pt x="1713" y="545"/>
                </a:lnTo>
                <a:lnTo>
                  <a:pt x="1717" y="543"/>
                </a:lnTo>
                <a:lnTo>
                  <a:pt x="1728" y="534"/>
                </a:lnTo>
                <a:lnTo>
                  <a:pt x="1729" y="532"/>
                </a:lnTo>
                <a:lnTo>
                  <a:pt x="1731" y="526"/>
                </a:lnTo>
                <a:lnTo>
                  <a:pt x="1731" y="524"/>
                </a:lnTo>
                <a:lnTo>
                  <a:pt x="1729" y="523"/>
                </a:lnTo>
                <a:lnTo>
                  <a:pt x="1731" y="517"/>
                </a:lnTo>
                <a:lnTo>
                  <a:pt x="1733" y="512"/>
                </a:lnTo>
                <a:lnTo>
                  <a:pt x="1746" y="501"/>
                </a:lnTo>
                <a:lnTo>
                  <a:pt x="1748" y="499"/>
                </a:lnTo>
                <a:lnTo>
                  <a:pt x="1750" y="499"/>
                </a:lnTo>
                <a:lnTo>
                  <a:pt x="1761" y="495"/>
                </a:lnTo>
                <a:lnTo>
                  <a:pt x="1762" y="495"/>
                </a:lnTo>
                <a:lnTo>
                  <a:pt x="1773" y="490"/>
                </a:lnTo>
                <a:lnTo>
                  <a:pt x="1790" y="481"/>
                </a:lnTo>
                <a:lnTo>
                  <a:pt x="1801" y="468"/>
                </a:lnTo>
                <a:lnTo>
                  <a:pt x="1815" y="446"/>
                </a:lnTo>
                <a:lnTo>
                  <a:pt x="1819" y="433"/>
                </a:lnTo>
                <a:lnTo>
                  <a:pt x="1819" y="428"/>
                </a:lnTo>
                <a:lnTo>
                  <a:pt x="1821" y="426"/>
                </a:lnTo>
                <a:lnTo>
                  <a:pt x="1821" y="424"/>
                </a:lnTo>
                <a:lnTo>
                  <a:pt x="1819" y="420"/>
                </a:lnTo>
                <a:lnTo>
                  <a:pt x="1819" y="402"/>
                </a:lnTo>
                <a:lnTo>
                  <a:pt x="1825" y="400"/>
                </a:lnTo>
                <a:lnTo>
                  <a:pt x="1823" y="384"/>
                </a:lnTo>
                <a:lnTo>
                  <a:pt x="1823" y="371"/>
                </a:lnTo>
                <a:lnTo>
                  <a:pt x="1825" y="364"/>
                </a:lnTo>
                <a:lnTo>
                  <a:pt x="1830" y="364"/>
                </a:lnTo>
                <a:lnTo>
                  <a:pt x="1837" y="369"/>
                </a:lnTo>
                <a:lnTo>
                  <a:pt x="1839" y="369"/>
                </a:lnTo>
                <a:lnTo>
                  <a:pt x="1845" y="365"/>
                </a:lnTo>
                <a:lnTo>
                  <a:pt x="1852" y="362"/>
                </a:lnTo>
                <a:lnTo>
                  <a:pt x="1856" y="362"/>
                </a:lnTo>
                <a:lnTo>
                  <a:pt x="1865" y="364"/>
                </a:lnTo>
                <a:lnTo>
                  <a:pt x="1867" y="360"/>
                </a:lnTo>
                <a:lnTo>
                  <a:pt x="1872" y="356"/>
                </a:lnTo>
                <a:lnTo>
                  <a:pt x="1894" y="369"/>
                </a:lnTo>
                <a:lnTo>
                  <a:pt x="1896" y="375"/>
                </a:lnTo>
                <a:lnTo>
                  <a:pt x="1899" y="385"/>
                </a:lnTo>
                <a:lnTo>
                  <a:pt x="1899" y="387"/>
                </a:lnTo>
                <a:lnTo>
                  <a:pt x="1898" y="393"/>
                </a:lnTo>
                <a:lnTo>
                  <a:pt x="1899" y="400"/>
                </a:lnTo>
                <a:lnTo>
                  <a:pt x="1907" y="413"/>
                </a:lnTo>
                <a:lnTo>
                  <a:pt x="1914" y="424"/>
                </a:lnTo>
                <a:lnTo>
                  <a:pt x="1916" y="426"/>
                </a:lnTo>
                <a:lnTo>
                  <a:pt x="1916" y="429"/>
                </a:lnTo>
                <a:lnTo>
                  <a:pt x="1916" y="431"/>
                </a:lnTo>
                <a:lnTo>
                  <a:pt x="1910" y="440"/>
                </a:lnTo>
                <a:lnTo>
                  <a:pt x="1909" y="468"/>
                </a:lnTo>
                <a:lnTo>
                  <a:pt x="1910" y="481"/>
                </a:lnTo>
                <a:lnTo>
                  <a:pt x="1910" y="490"/>
                </a:lnTo>
                <a:lnTo>
                  <a:pt x="1910" y="493"/>
                </a:lnTo>
                <a:lnTo>
                  <a:pt x="1909" y="499"/>
                </a:lnTo>
                <a:lnTo>
                  <a:pt x="1907" y="501"/>
                </a:lnTo>
                <a:lnTo>
                  <a:pt x="1901" y="513"/>
                </a:lnTo>
                <a:lnTo>
                  <a:pt x="1898" y="517"/>
                </a:lnTo>
                <a:lnTo>
                  <a:pt x="1896" y="515"/>
                </a:lnTo>
                <a:lnTo>
                  <a:pt x="1892" y="515"/>
                </a:lnTo>
                <a:lnTo>
                  <a:pt x="1881" y="519"/>
                </a:lnTo>
                <a:lnTo>
                  <a:pt x="1868" y="530"/>
                </a:lnTo>
                <a:lnTo>
                  <a:pt x="1859" y="537"/>
                </a:lnTo>
                <a:lnTo>
                  <a:pt x="1856" y="543"/>
                </a:lnTo>
                <a:lnTo>
                  <a:pt x="1848" y="545"/>
                </a:lnTo>
                <a:lnTo>
                  <a:pt x="1839" y="546"/>
                </a:lnTo>
                <a:lnTo>
                  <a:pt x="1832" y="548"/>
                </a:lnTo>
                <a:lnTo>
                  <a:pt x="1823" y="552"/>
                </a:lnTo>
                <a:lnTo>
                  <a:pt x="1817" y="555"/>
                </a:lnTo>
                <a:lnTo>
                  <a:pt x="1808" y="555"/>
                </a:lnTo>
                <a:lnTo>
                  <a:pt x="1806" y="554"/>
                </a:lnTo>
                <a:lnTo>
                  <a:pt x="1806" y="552"/>
                </a:lnTo>
                <a:lnTo>
                  <a:pt x="1804" y="552"/>
                </a:lnTo>
                <a:lnTo>
                  <a:pt x="1795" y="566"/>
                </a:lnTo>
                <a:lnTo>
                  <a:pt x="1795" y="570"/>
                </a:lnTo>
                <a:lnTo>
                  <a:pt x="1795" y="572"/>
                </a:lnTo>
                <a:lnTo>
                  <a:pt x="1784" y="581"/>
                </a:lnTo>
                <a:lnTo>
                  <a:pt x="1781" y="583"/>
                </a:lnTo>
                <a:lnTo>
                  <a:pt x="1770" y="583"/>
                </a:lnTo>
                <a:lnTo>
                  <a:pt x="1755" y="590"/>
                </a:lnTo>
                <a:lnTo>
                  <a:pt x="1750" y="596"/>
                </a:lnTo>
                <a:lnTo>
                  <a:pt x="1750" y="598"/>
                </a:lnTo>
                <a:lnTo>
                  <a:pt x="1750" y="599"/>
                </a:lnTo>
                <a:lnTo>
                  <a:pt x="1742" y="605"/>
                </a:lnTo>
                <a:lnTo>
                  <a:pt x="1729" y="610"/>
                </a:lnTo>
                <a:lnTo>
                  <a:pt x="1726" y="610"/>
                </a:lnTo>
                <a:lnTo>
                  <a:pt x="1720" y="616"/>
                </a:lnTo>
                <a:lnTo>
                  <a:pt x="1720" y="627"/>
                </a:lnTo>
                <a:lnTo>
                  <a:pt x="1717" y="632"/>
                </a:lnTo>
                <a:lnTo>
                  <a:pt x="1706" y="630"/>
                </a:lnTo>
                <a:lnTo>
                  <a:pt x="1702" y="632"/>
                </a:lnTo>
                <a:lnTo>
                  <a:pt x="1700" y="632"/>
                </a:lnTo>
                <a:lnTo>
                  <a:pt x="1693" y="645"/>
                </a:lnTo>
                <a:lnTo>
                  <a:pt x="1689" y="651"/>
                </a:lnTo>
                <a:lnTo>
                  <a:pt x="1684" y="658"/>
                </a:lnTo>
                <a:lnTo>
                  <a:pt x="1675" y="667"/>
                </a:lnTo>
                <a:lnTo>
                  <a:pt x="1662" y="678"/>
                </a:lnTo>
                <a:lnTo>
                  <a:pt x="1651" y="698"/>
                </a:lnTo>
                <a:lnTo>
                  <a:pt x="1649" y="700"/>
                </a:lnTo>
                <a:lnTo>
                  <a:pt x="1640" y="702"/>
                </a:lnTo>
                <a:lnTo>
                  <a:pt x="1638" y="704"/>
                </a:lnTo>
                <a:lnTo>
                  <a:pt x="1634" y="705"/>
                </a:lnTo>
                <a:lnTo>
                  <a:pt x="1633" y="707"/>
                </a:lnTo>
                <a:lnTo>
                  <a:pt x="1631" y="711"/>
                </a:lnTo>
                <a:lnTo>
                  <a:pt x="1629" y="713"/>
                </a:lnTo>
                <a:lnTo>
                  <a:pt x="1627" y="716"/>
                </a:lnTo>
                <a:lnTo>
                  <a:pt x="1627" y="718"/>
                </a:lnTo>
                <a:lnTo>
                  <a:pt x="1623" y="727"/>
                </a:lnTo>
                <a:lnTo>
                  <a:pt x="1612" y="738"/>
                </a:lnTo>
                <a:lnTo>
                  <a:pt x="1589" y="762"/>
                </a:lnTo>
                <a:lnTo>
                  <a:pt x="1587" y="764"/>
                </a:lnTo>
                <a:lnTo>
                  <a:pt x="1583" y="768"/>
                </a:lnTo>
                <a:lnTo>
                  <a:pt x="1580" y="768"/>
                </a:lnTo>
                <a:lnTo>
                  <a:pt x="1576" y="768"/>
                </a:lnTo>
                <a:lnTo>
                  <a:pt x="1572" y="769"/>
                </a:lnTo>
                <a:lnTo>
                  <a:pt x="1569" y="769"/>
                </a:lnTo>
                <a:lnTo>
                  <a:pt x="1567" y="771"/>
                </a:lnTo>
                <a:lnTo>
                  <a:pt x="1565" y="773"/>
                </a:lnTo>
                <a:lnTo>
                  <a:pt x="1563" y="778"/>
                </a:lnTo>
                <a:lnTo>
                  <a:pt x="1563" y="780"/>
                </a:lnTo>
                <a:lnTo>
                  <a:pt x="1563" y="788"/>
                </a:lnTo>
                <a:lnTo>
                  <a:pt x="1561" y="789"/>
                </a:lnTo>
                <a:lnTo>
                  <a:pt x="1547" y="802"/>
                </a:lnTo>
                <a:lnTo>
                  <a:pt x="1543" y="806"/>
                </a:lnTo>
                <a:lnTo>
                  <a:pt x="1541" y="806"/>
                </a:lnTo>
                <a:lnTo>
                  <a:pt x="1537" y="808"/>
                </a:lnTo>
                <a:lnTo>
                  <a:pt x="1536" y="808"/>
                </a:lnTo>
                <a:close/>
                <a:moveTo>
                  <a:pt x="477" y="2967"/>
                </a:moveTo>
                <a:lnTo>
                  <a:pt x="486" y="2976"/>
                </a:lnTo>
                <a:lnTo>
                  <a:pt x="494" y="2983"/>
                </a:lnTo>
                <a:lnTo>
                  <a:pt x="497" y="2987"/>
                </a:lnTo>
                <a:lnTo>
                  <a:pt x="503" y="2990"/>
                </a:lnTo>
                <a:lnTo>
                  <a:pt x="504" y="2990"/>
                </a:lnTo>
                <a:lnTo>
                  <a:pt x="506" y="2992"/>
                </a:lnTo>
                <a:lnTo>
                  <a:pt x="506" y="2994"/>
                </a:lnTo>
                <a:lnTo>
                  <a:pt x="508" y="2994"/>
                </a:lnTo>
                <a:lnTo>
                  <a:pt x="508" y="2996"/>
                </a:lnTo>
                <a:lnTo>
                  <a:pt x="510" y="2998"/>
                </a:lnTo>
                <a:lnTo>
                  <a:pt x="512" y="2999"/>
                </a:lnTo>
                <a:lnTo>
                  <a:pt x="512" y="3001"/>
                </a:lnTo>
                <a:lnTo>
                  <a:pt x="515" y="3010"/>
                </a:lnTo>
                <a:lnTo>
                  <a:pt x="515" y="3012"/>
                </a:lnTo>
                <a:lnTo>
                  <a:pt x="514" y="3012"/>
                </a:lnTo>
                <a:lnTo>
                  <a:pt x="512" y="3010"/>
                </a:lnTo>
                <a:lnTo>
                  <a:pt x="512" y="3009"/>
                </a:lnTo>
                <a:lnTo>
                  <a:pt x="510" y="3007"/>
                </a:lnTo>
                <a:lnTo>
                  <a:pt x="510" y="3005"/>
                </a:lnTo>
                <a:lnTo>
                  <a:pt x="510" y="3003"/>
                </a:lnTo>
                <a:lnTo>
                  <a:pt x="508" y="3001"/>
                </a:lnTo>
                <a:lnTo>
                  <a:pt x="506" y="3001"/>
                </a:lnTo>
                <a:lnTo>
                  <a:pt x="504" y="3001"/>
                </a:lnTo>
                <a:lnTo>
                  <a:pt x="501" y="3001"/>
                </a:lnTo>
                <a:lnTo>
                  <a:pt x="499" y="3003"/>
                </a:lnTo>
                <a:lnTo>
                  <a:pt x="484" y="3012"/>
                </a:lnTo>
                <a:lnTo>
                  <a:pt x="483" y="3016"/>
                </a:lnTo>
                <a:lnTo>
                  <a:pt x="481" y="3018"/>
                </a:lnTo>
                <a:lnTo>
                  <a:pt x="481" y="3020"/>
                </a:lnTo>
                <a:lnTo>
                  <a:pt x="483" y="3020"/>
                </a:lnTo>
                <a:lnTo>
                  <a:pt x="483" y="3021"/>
                </a:lnTo>
                <a:lnTo>
                  <a:pt x="484" y="3023"/>
                </a:lnTo>
                <a:lnTo>
                  <a:pt x="486" y="3025"/>
                </a:lnTo>
                <a:lnTo>
                  <a:pt x="488" y="3027"/>
                </a:lnTo>
                <a:lnTo>
                  <a:pt x="492" y="3029"/>
                </a:lnTo>
                <a:lnTo>
                  <a:pt x="495" y="3029"/>
                </a:lnTo>
                <a:lnTo>
                  <a:pt x="497" y="3029"/>
                </a:lnTo>
                <a:lnTo>
                  <a:pt x="501" y="3031"/>
                </a:lnTo>
                <a:lnTo>
                  <a:pt x="506" y="3031"/>
                </a:lnTo>
                <a:lnTo>
                  <a:pt x="508" y="3031"/>
                </a:lnTo>
                <a:lnTo>
                  <a:pt x="514" y="3029"/>
                </a:lnTo>
                <a:lnTo>
                  <a:pt x="517" y="3029"/>
                </a:lnTo>
                <a:lnTo>
                  <a:pt x="519" y="3029"/>
                </a:lnTo>
                <a:lnTo>
                  <a:pt x="521" y="3029"/>
                </a:lnTo>
                <a:lnTo>
                  <a:pt x="521" y="3031"/>
                </a:lnTo>
                <a:lnTo>
                  <a:pt x="526" y="3036"/>
                </a:lnTo>
                <a:lnTo>
                  <a:pt x="526" y="3038"/>
                </a:lnTo>
                <a:lnTo>
                  <a:pt x="528" y="3038"/>
                </a:lnTo>
                <a:lnTo>
                  <a:pt x="528" y="3040"/>
                </a:lnTo>
                <a:lnTo>
                  <a:pt x="530" y="3045"/>
                </a:lnTo>
                <a:lnTo>
                  <a:pt x="532" y="3051"/>
                </a:lnTo>
                <a:lnTo>
                  <a:pt x="536" y="3056"/>
                </a:lnTo>
                <a:lnTo>
                  <a:pt x="537" y="3058"/>
                </a:lnTo>
                <a:lnTo>
                  <a:pt x="539" y="3060"/>
                </a:lnTo>
                <a:lnTo>
                  <a:pt x="556" y="3069"/>
                </a:lnTo>
                <a:lnTo>
                  <a:pt x="561" y="3073"/>
                </a:lnTo>
                <a:lnTo>
                  <a:pt x="576" y="3084"/>
                </a:lnTo>
                <a:lnTo>
                  <a:pt x="576" y="3085"/>
                </a:lnTo>
                <a:lnTo>
                  <a:pt x="576" y="3087"/>
                </a:lnTo>
                <a:lnTo>
                  <a:pt x="578" y="3089"/>
                </a:lnTo>
                <a:lnTo>
                  <a:pt x="585" y="3093"/>
                </a:lnTo>
                <a:lnTo>
                  <a:pt x="598" y="3100"/>
                </a:lnTo>
                <a:lnTo>
                  <a:pt x="607" y="3104"/>
                </a:lnTo>
                <a:lnTo>
                  <a:pt x="632" y="3115"/>
                </a:lnTo>
                <a:lnTo>
                  <a:pt x="645" y="3118"/>
                </a:lnTo>
                <a:lnTo>
                  <a:pt x="665" y="3129"/>
                </a:lnTo>
                <a:lnTo>
                  <a:pt x="675" y="3135"/>
                </a:lnTo>
                <a:lnTo>
                  <a:pt x="676" y="3137"/>
                </a:lnTo>
                <a:lnTo>
                  <a:pt x="698" y="3146"/>
                </a:lnTo>
                <a:lnTo>
                  <a:pt x="702" y="3148"/>
                </a:lnTo>
                <a:lnTo>
                  <a:pt x="704" y="3148"/>
                </a:lnTo>
                <a:lnTo>
                  <a:pt x="706" y="3149"/>
                </a:lnTo>
                <a:lnTo>
                  <a:pt x="707" y="3149"/>
                </a:lnTo>
                <a:lnTo>
                  <a:pt x="722" y="3153"/>
                </a:lnTo>
                <a:lnTo>
                  <a:pt x="724" y="3155"/>
                </a:lnTo>
                <a:lnTo>
                  <a:pt x="748" y="3160"/>
                </a:lnTo>
                <a:lnTo>
                  <a:pt x="757" y="3162"/>
                </a:lnTo>
                <a:lnTo>
                  <a:pt x="759" y="3162"/>
                </a:lnTo>
                <a:lnTo>
                  <a:pt x="760" y="3162"/>
                </a:lnTo>
                <a:lnTo>
                  <a:pt x="784" y="3160"/>
                </a:lnTo>
                <a:lnTo>
                  <a:pt x="793" y="3158"/>
                </a:lnTo>
                <a:lnTo>
                  <a:pt x="795" y="3158"/>
                </a:lnTo>
                <a:lnTo>
                  <a:pt x="802" y="3158"/>
                </a:lnTo>
                <a:lnTo>
                  <a:pt x="804" y="3158"/>
                </a:lnTo>
                <a:lnTo>
                  <a:pt x="810" y="3158"/>
                </a:lnTo>
                <a:lnTo>
                  <a:pt x="812" y="3160"/>
                </a:lnTo>
                <a:lnTo>
                  <a:pt x="802" y="3175"/>
                </a:lnTo>
                <a:lnTo>
                  <a:pt x="793" y="3184"/>
                </a:lnTo>
                <a:lnTo>
                  <a:pt x="792" y="3186"/>
                </a:lnTo>
                <a:lnTo>
                  <a:pt x="788" y="3186"/>
                </a:lnTo>
                <a:lnTo>
                  <a:pt x="766" y="3186"/>
                </a:lnTo>
                <a:lnTo>
                  <a:pt x="757" y="3186"/>
                </a:lnTo>
                <a:lnTo>
                  <a:pt x="733" y="3186"/>
                </a:lnTo>
                <a:lnTo>
                  <a:pt x="729" y="3188"/>
                </a:lnTo>
                <a:lnTo>
                  <a:pt x="728" y="3190"/>
                </a:lnTo>
                <a:lnTo>
                  <a:pt x="718" y="3191"/>
                </a:lnTo>
                <a:lnTo>
                  <a:pt x="717" y="3191"/>
                </a:lnTo>
                <a:lnTo>
                  <a:pt x="713" y="3191"/>
                </a:lnTo>
                <a:lnTo>
                  <a:pt x="711" y="3191"/>
                </a:lnTo>
                <a:lnTo>
                  <a:pt x="704" y="3191"/>
                </a:lnTo>
                <a:lnTo>
                  <a:pt x="696" y="3191"/>
                </a:lnTo>
                <a:lnTo>
                  <a:pt x="695" y="3191"/>
                </a:lnTo>
                <a:lnTo>
                  <a:pt x="693" y="3191"/>
                </a:lnTo>
                <a:lnTo>
                  <a:pt x="691" y="3193"/>
                </a:lnTo>
                <a:lnTo>
                  <a:pt x="685" y="3199"/>
                </a:lnTo>
                <a:lnTo>
                  <a:pt x="684" y="3199"/>
                </a:lnTo>
                <a:lnTo>
                  <a:pt x="675" y="3197"/>
                </a:lnTo>
                <a:lnTo>
                  <a:pt x="673" y="3197"/>
                </a:lnTo>
                <a:lnTo>
                  <a:pt x="667" y="3197"/>
                </a:lnTo>
                <a:lnTo>
                  <a:pt x="665" y="3195"/>
                </a:lnTo>
                <a:lnTo>
                  <a:pt x="664" y="3195"/>
                </a:lnTo>
                <a:lnTo>
                  <a:pt x="662" y="3193"/>
                </a:lnTo>
                <a:lnTo>
                  <a:pt x="660" y="3191"/>
                </a:lnTo>
                <a:lnTo>
                  <a:pt x="658" y="3191"/>
                </a:lnTo>
                <a:lnTo>
                  <a:pt x="656" y="3190"/>
                </a:lnTo>
                <a:lnTo>
                  <a:pt x="653" y="3188"/>
                </a:lnTo>
                <a:lnTo>
                  <a:pt x="649" y="3188"/>
                </a:lnTo>
                <a:lnTo>
                  <a:pt x="632" y="3184"/>
                </a:lnTo>
                <a:lnTo>
                  <a:pt x="631" y="3184"/>
                </a:lnTo>
                <a:lnTo>
                  <a:pt x="618" y="3184"/>
                </a:lnTo>
                <a:lnTo>
                  <a:pt x="585" y="3182"/>
                </a:lnTo>
                <a:lnTo>
                  <a:pt x="574" y="3182"/>
                </a:lnTo>
                <a:lnTo>
                  <a:pt x="534" y="3179"/>
                </a:lnTo>
                <a:lnTo>
                  <a:pt x="504" y="3179"/>
                </a:lnTo>
                <a:lnTo>
                  <a:pt x="488" y="3179"/>
                </a:lnTo>
                <a:lnTo>
                  <a:pt x="486" y="3179"/>
                </a:lnTo>
                <a:lnTo>
                  <a:pt x="484" y="3179"/>
                </a:lnTo>
                <a:lnTo>
                  <a:pt x="483" y="3179"/>
                </a:lnTo>
                <a:lnTo>
                  <a:pt x="481" y="3177"/>
                </a:lnTo>
                <a:lnTo>
                  <a:pt x="475" y="3173"/>
                </a:lnTo>
                <a:lnTo>
                  <a:pt x="475" y="3149"/>
                </a:lnTo>
                <a:lnTo>
                  <a:pt x="475" y="3131"/>
                </a:lnTo>
                <a:lnTo>
                  <a:pt x="475" y="3051"/>
                </a:lnTo>
                <a:lnTo>
                  <a:pt x="477" y="3034"/>
                </a:lnTo>
                <a:lnTo>
                  <a:pt x="477" y="3032"/>
                </a:lnTo>
                <a:lnTo>
                  <a:pt x="475" y="3027"/>
                </a:lnTo>
                <a:lnTo>
                  <a:pt x="477" y="3014"/>
                </a:lnTo>
                <a:lnTo>
                  <a:pt x="477" y="2981"/>
                </a:lnTo>
                <a:lnTo>
                  <a:pt x="477" y="2974"/>
                </a:lnTo>
                <a:lnTo>
                  <a:pt x="477" y="2967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63840" y="3002040"/>
            <a:ext cx="2601720" cy="3324240"/>
          </a:xfrm>
          <a:custGeom>
            <a:avLst/>
            <a:gdLst/>
            <a:ahLst/>
            <a:rect l="l" t="t" r="r" b="b"/>
            <a:pathLst>
              <a:path w="1627" h="2270">
                <a:moveTo>
                  <a:pt x="1536" y="137"/>
                </a:moveTo>
                <a:lnTo>
                  <a:pt x="1534" y="146"/>
                </a:lnTo>
                <a:lnTo>
                  <a:pt x="1534" y="148"/>
                </a:lnTo>
                <a:lnTo>
                  <a:pt x="1530" y="153"/>
                </a:lnTo>
                <a:lnTo>
                  <a:pt x="1523" y="159"/>
                </a:lnTo>
                <a:lnTo>
                  <a:pt x="1517" y="162"/>
                </a:lnTo>
                <a:lnTo>
                  <a:pt x="1510" y="166"/>
                </a:lnTo>
                <a:lnTo>
                  <a:pt x="1508" y="168"/>
                </a:lnTo>
                <a:lnTo>
                  <a:pt x="1508" y="170"/>
                </a:lnTo>
                <a:lnTo>
                  <a:pt x="1508" y="177"/>
                </a:lnTo>
                <a:lnTo>
                  <a:pt x="1510" y="179"/>
                </a:lnTo>
                <a:lnTo>
                  <a:pt x="1512" y="181"/>
                </a:lnTo>
                <a:lnTo>
                  <a:pt x="1516" y="188"/>
                </a:lnTo>
                <a:lnTo>
                  <a:pt x="1516" y="190"/>
                </a:lnTo>
                <a:lnTo>
                  <a:pt x="1517" y="195"/>
                </a:lnTo>
                <a:lnTo>
                  <a:pt x="1517" y="204"/>
                </a:lnTo>
                <a:lnTo>
                  <a:pt x="1512" y="221"/>
                </a:lnTo>
                <a:lnTo>
                  <a:pt x="1505" y="241"/>
                </a:lnTo>
                <a:lnTo>
                  <a:pt x="1497" y="256"/>
                </a:lnTo>
                <a:lnTo>
                  <a:pt x="1494" y="257"/>
                </a:lnTo>
                <a:lnTo>
                  <a:pt x="1492" y="257"/>
                </a:lnTo>
                <a:lnTo>
                  <a:pt x="1490" y="261"/>
                </a:lnTo>
                <a:lnTo>
                  <a:pt x="1492" y="263"/>
                </a:lnTo>
                <a:lnTo>
                  <a:pt x="1494" y="263"/>
                </a:lnTo>
                <a:lnTo>
                  <a:pt x="1497" y="265"/>
                </a:lnTo>
                <a:lnTo>
                  <a:pt x="1499" y="268"/>
                </a:lnTo>
                <a:lnTo>
                  <a:pt x="1499" y="270"/>
                </a:lnTo>
                <a:lnTo>
                  <a:pt x="1499" y="274"/>
                </a:lnTo>
                <a:lnTo>
                  <a:pt x="1494" y="290"/>
                </a:lnTo>
                <a:lnTo>
                  <a:pt x="1492" y="292"/>
                </a:lnTo>
                <a:lnTo>
                  <a:pt x="1488" y="294"/>
                </a:lnTo>
                <a:lnTo>
                  <a:pt x="1484" y="296"/>
                </a:lnTo>
                <a:lnTo>
                  <a:pt x="1483" y="296"/>
                </a:lnTo>
                <a:lnTo>
                  <a:pt x="1481" y="298"/>
                </a:lnTo>
                <a:lnTo>
                  <a:pt x="1479" y="301"/>
                </a:lnTo>
                <a:lnTo>
                  <a:pt x="1483" y="307"/>
                </a:lnTo>
                <a:lnTo>
                  <a:pt x="1484" y="310"/>
                </a:lnTo>
                <a:lnTo>
                  <a:pt x="1483" y="318"/>
                </a:lnTo>
                <a:lnTo>
                  <a:pt x="1483" y="321"/>
                </a:lnTo>
                <a:lnTo>
                  <a:pt x="1488" y="336"/>
                </a:lnTo>
                <a:lnTo>
                  <a:pt x="1488" y="340"/>
                </a:lnTo>
                <a:lnTo>
                  <a:pt x="1488" y="341"/>
                </a:lnTo>
                <a:lnTo>
                  <a:pt x="1484" y="345"/>
                </a:lnTo>
                <a:lnTo>
                  <a:pt x="1483" y="347"/>
                </a:lnTo>
                <a:lnTo>
                  <a:pt x="1481" y="351"/>
                </a:lnTo>
                <a:lnTo>
                  <a:pt x="1479" y="354"/>
                </a:lnTo>
                <a:lnTo>
                  <a:pt x="1477" y="356"/>
                </a:lnTo>
                <a:lnTo>
                  <a:pt x="1477" y="358"/>
                </a:lnTo>
                <a:lnTo>
                  <a:pt x="1475" y="362"/>
                </a:lnTo>
                <a:lnTo>
                  <a:pt x="1475" y="365"/>
                </a:lnTo>
                <a:lnTo>
                  <a:pt x="1479" y="378"/>
                </a:lnTo>
                <a:lnTo>
                  <a:pt x="1481" y="393"/>
                </a:lnTo>
                <a:lnTo>
                  <a:pt x="1483" y="402"/>
                </a:lnTo>
                <a:lnTo>
                  <a:pt x="1484" y="411"/>
                </a:lnTo>
                <a:lnTo>
                  <a:pt x="1483" y="413"/>
                </a:lnTo>
                <a:lnTo>
                  <a:pt x="1481" y="415"/>
                </a:lnTo>
                <a:lnTo>
                  <a:pt x="1479" y="416"/>
                </a:lnTo>
                <a:lnTo>
                  <a:pt x="1477" y="416"/>
                </a:lnTo>
                <a:lnTo>
                  <a:pt x="1473" y="416"/>
                </a:lnTo>
                <a:lnTo>
                  <a:pt x="1472" y="416"/>
                </a:lnTo>
                <a:lnTo>
                  <a:pt x="1463" y="415"/>
                </a:lnTo>
                <a:lnTo>
                  <a:pt x="1459" y="415"/>
                </a:lnTo>
                <a:lnTo>
                  <a:pt x="1457" y="416"/>
                </a:lnTo>
                <a:lnTo>
                  <a:pt x="1457" y="433"/>
                </a:lnTo>
                <a:lnTo>
                  <a:pt x="1453" y="440"/>
                </a:lnTo>
                <a:lnTo>
                  <a:pt x="1452" y="440"/>
                </a:lnTo>
                <a:lnTo>
                  <a:pt x="1450" y="446"/>
                </a:lnTo>
                <a:lnTo>
                  <a:pt x="1448" y="453"/>
                </a:lnTo>
                <a:lnTo>
                  <a:pt x="1446" y="457"/>
                </a:lnTo>
                <a:lnTo>
                  <a:pt x="1444" y="471"/>
                </a:lnTo>
                <a:lnTo>
                  <a:pt x="1444" y="473"/>
                </a:lnTo>
                <a:lnTo>
                  <a:pt x="1444" y="479"/>
                </a:lnTo>
                <a:lnTo>
                  <a:pt x="1446" y="480"/>
                </a:lnTo>
                <a:lnTo>
                  <a:pt x="1452" y="486"/>
                </a:lnTo>
                <a:lnTo>
                  <a:pt x="1453" y="490"/>
                </a:lnTo>
                <a:lnTo>
                  <a:pt x="1455" y="500"/>
                </a:lnTo>
                <a:lnTo>
                  <a:pt x="1455" y="504"/>
                </a:lnTo>
                <a:lnTo>
                  <a:pt x="1457" y="506"/>
                </a:lnTo>
                <a:lnTo>
                  <a:pt x="1459" y="506"/>
                </a:lnTo>
                <a:lnTo>
                  <a:pt x="1461" y="508"/>
                </a:lnTo>
                <a:lnTo>
                  <a:pt x="1461" y="521"/>
                </a:lnTo>
                <a:lnTo>
                  <a:pt x="1459" y="526"/>
                </a:lnTo>
                <a:lnTo>
                  <a:pt x="1455" y="528"/>
                </a:lnTo>
                <a:lnTo>
                  <a:pt x="1452" y="530"/>
                </a:lnTo>
                <a:lnTo>
                  <a:pt x="1450" y="535"/>
                </a:lnTo>
                <a:lnTo>
                  <a:pt x="1450" y="541"/>
                </a:lnTo>
                <a:lnTo>
                  <a:pt x="1453" y="555"/>
                </a:lnTo>
                <a:lnTo>
                  <a:pt x="1463" y="559"/>
                </a:lnTo>
                <a:lnTo>
                  <a:pt x="1464" y="564"/>
                </a:lnTo>
                <a:lnTo>
                  <a:pt x="1466" y="566"/>
                </a:lnTo>
                <a:lnTo>
                  <a:pt x="1475" y="572"/>
                </a:lnTo>
                <a:lnTo>
                  <a:pt x="1483" y="575"/>
                </a:lnTo>
                <a:lnTo>
                  <a:pt x="1484" y="575"/>
                </a:lnTo>
                <a:lnTo>
                  <a:pt x="1490" y="577"/>
                </a:lnTo>
                <a:lnTo>
                  <a:pt x="1497" y="579"/>
                </a:lnTo>
                <a:lnTo>
                  <a:pt x="1512" y="585"/>
                </a:lnTo>
                <a:lnTo>
                  <a:pt x="1517" y="588"/>
                </a:lnTo>
                <a:lnTo>
                  <a:pt x="1547" y="605"/>
                </a:lnTo>
                <a:lnTo>
                  <a:pt x="1561" y="614"/>
                </a:lnTo>
                <a:lnTo>
                  <a:pt x="1563" y="616"/>
                </a:lnTo>
                <a:lnTo>
                  <a:pt x="1576" y="630"/>
                </a:lnTo>
                <a:lnTo>
                  <a:pt x="1581" y="638"/>
                </a:lnTo>
                <a:lnTo>
                  <a:pt x="1581" y="639"/>
                </a:lnTo>
                <a:lnTo>
                  <a:pt x="1581" y="645"/>
                </a:lnTo>
                <a:lnTo>
                  <a:pt x="1580" y="647"/>
                </a:lnTo>
                <a:lnTo>
                  <a:pt x="1576" y="650"/>
                </a:lnTo>
                <a:lnTo>
                  <a:pt x="1572" y="656"/>
                </a:lnTo>
                <a:lnTo>
                  <a:pt x="1565" y="665"/>
                </a:lnTo>
                <a:lnTo>
                  <a:pt x="1559" y="670"/>
                </a:lnTo>
                <a:lnTo>
                  <a:pt x="1558" y="674"/>
                </a:lnTo>
                <a:lnTo>
                  <a:pt x="1558" y="676"/>
                </a:lnTo>
                <a:lnTo>
                  <a:pt x="1556" y="680"/>
                </a:lnTo>
                <a:lnTo>
                  <a:pt x="1556" y="687"/>
                </a:lnTo>
                <a:lnTo>
                  <a:pt x="1558" y="689"/>
                </a:lnTo>
                <a:lnTo>
                  <a:pt x="1558" y="692"/>
                </a:lnTo>
                <a:lnTo>
                  <a:pt x="1559" y="694"/>
                </a:lnTo>
                <a:lnTo>
                  <a:pt x="1565" y="705"/>
                </a:lnTo>
                <a:lnTo>
                  <a:pt x="1570" y="713"/>
                </a:lnTo>
                <a:lnTo>
                  <a:pt x="1572" y="714"/>
                </a:lnTo>
                <a:lnTo>
                  <a:pt x="1580" y="720"/>
                </a:lnTo>
                <a:lnTo>
                  <a:pt x="1583" y="724"/>
                </a:lnTo>
                <a:lnTo>
                  <a:pt x="1589" y="725"/>
                </a:lnTo>
                <a:lnTo>
                  <a:pt x="1600" y="731"/>
                </a:lnTo>
                <a:lnTo>
                  <a:pt x="1603" y="731"/>
                </a:lnTo>
                <a:lnTo>
                  <a:pt x="1607" y="729"/>
                </a:lnTo>
                <a:lnTo>
                  <a:pt x="1616" y="725"/>
                </a:lnTo>
                <a:lnTo>
                  <a:pt x="1618" y="725"/>
                </a:lnTo>
                <a:lnTo>
                  <a:pt x="1623" y="734"/>
                </a:lnTo>
                <a:lnTo>
                  <a:pt x="1623" y="736"/>
                </a:lnTo>
                <a:lnTo>
                  <a:pt x="1625" y="751"/>
                </a:lnTo>
                <a:lnTo>
                  <a:pt x="1627" y="780"/>
                </a:lnTo>
                <a:lnTo>
                  <a:pt x="1627" y="782"/>
                </a:lnTo>
                <a:lnTo>
                  <a:pt x="1625" y="784"/>
                </a:lnTo>
                <a:lnTo>
                  <a:pt x="1622" y="787"/>
                </a:lnTo>
                <a:lnTo>
                  <a:pt x="1620" y="789"/>
                </a:lnTo>
                <a:lnTo>
                  <a:pt x="1620" y="791"/>
                </a:lnTo>
                <a:lnTo>
                  <a:pt x="1611" y="800"/>
                </a:lnTo>
                <a:lnTo>
                  <a:pt x="1600" y="815"/>
                </a:lnTo>
                <a:lnTo>
                  <a:pt x="1590" y="828"/>
                </a:lnTo>
                <a:lnTo>
                  <a:pt x="1590" y="830"/>
                </a:lnTo>
                <a:lnTo>
                  <a:pt x="1587" y="835"/>
                </a:lnTo>
                <a:lnTo>
                  <a:pt x="1583" y="839"/>
                </a:lnTo>
                <a:lnTo>
                  <a:pt x="1576" y="846"/>
                </a:lnTo>
                <a:lnTo>
                  <a:pt x="1574" y="848"/>
                </a:lnTo>
                <a:lnTo>
                  <a:pt x="1569" y="851"/>
                </a:lnTo>
                <a:lnTo>
                  <a:pt x="1567" y="851"/>
                </a:lnTo>
                <a:lnTo>
                  <a:pt x="1563" y="857"/>
                </a:lnTo>
                <a:lnTo>
                  <a:pt x="1554" y="864"/>
                </a:lnTo>
                <a:lnTo>
                  <a:pt x="1547" y="872"/>
                </a:lnTo>
                <a:lnTo>
                  <a:pt x="1545" y="873"/>
                </a:lnTo>
                <a:lnTo>
                  <a:pt x="1545" y="877"/>
                </a:lnTo>
                <a:lnTo>
                  <a:pt x="1543" y="879"/>
                </a:lnTo>
                <a:lnTo>
                  <a:pt x="1543" y="883"/>
                </a:lnTo>
                <a:lnTo>
                  <a:pt x="1541" y="886"/>
                </a:lnTo>
                <a:lnTo>
                  <a:pt x="1543" y="890"/>
                </a:lnTo>
                <a:lnTo>
                  <a:pt x="1543" y="895"/>
                </a:lnTo>
                <a:lnTo>
                  <a:pt x="1541" y="899"/>
                </a:lnTo>
                <a:lnTo>
                  <a:pt x="1537" y="901"/>
                </a:lnTo>
                <a:lnTo>
                  <a:pt x="1534" y="904"/>
                </a:lnTo>
                <a:lnTo>
                  <a:pt x="1532" y="906"/>
                </a:lnTo>
                <a:lnTo>
                  <a:pt x="1528" y="908"/>
                </a:lnTo>
                <a:lnTo>
                  <a:pt x="1514" y="915"/>
                </a:lnTo>
                <a:lnTo>
                  <a:pt x="1483" y="930"/>
                </a:lnTo>
                <a:lnTo>
                  <a:pt x="1479" y="930"/>
                </a:lnTo>
                <a:lnTo>
                  <a:pt x="1468" y="934"/>
                </a:lnTo>
                <a:lnTo>
                  <a:pt x="1435" y="943"/>
                </a:lnTo>
                <a:lnTo>
                  <a:pt x="1399" y="954"/>
                </a:lnTo>
                <a:lnTo>
                  <a:pt x="1395" y="956"/>
                </a:lnTo>
                <a:lnTo>
                  <a:pt x="1391" y="956"/>
                </a:lnTo>
                <a:lnTo>
                  <a:pt x="1386" y="956"/>
                </a:lnTo>
                <a:lnTo>
                  <a:pt x="1377" y="957"/>
                </a:lnTo>
                <a:lnTo>
                  <a:pt x="1355" y="961"/>
                </a:lnTo>
                <a:lnTo>
                  <a:pt x="1336" y="965"/>
                </a:lnTo>
                <a:lnTo>
                  <a:pt x="1316" y="968"/>
                </a:lnTo>
                <a:lnTo>
                  <a:pt x="1260" y="978"/>
                </a:lnTo>
                <a:lnTo>
                  <a:pt x="1227" y="981"/>
                </a:lnTo>
                <a:lnTo>
                  <a:pt x="1223" y="981"/>
                </a:lnTo>
                <a:lnTo>
                  <a:pt x="1201" y="983"/>
                </a:lnTo>
                <a:lnTo>
                  <a:pt x="1194" y="983"/>
                </a:lnTo>
                <a:lnTo>
                  <a:pt x="1157" y="985"/>
                </a:lnTo>
                <a:lnTo>
                  <a:pt x="1148" y="985"/>
                </a:lnTo>
                <a:lnTo>
                  <a:pt x="1130" y="983"/>
                </a:lnTo>
                <a:lnTo>
                  <a:pt x="1128" y="983"/>
                </a:lnTo>
                <a:lnTo>
                  <a:pt x="1115" y="979"/>
                </a:lnTo>
                <a:lnTo>
                  <a:pt x="1111" y="978"/>
                </a:lnTo>
                <a:lnTo>
                  <a:pt x="1104" y="976"/>
                </a:lnTo>
                <a:lnTo>
                  <a:pt x="1102" y="974"/>
                </a:lnTo>
                <a:lnTo>
                  <a:pt x="1102" y="970"/>
                </a:lnTo>
                <a:lnTo>
                  <a:pt x="1093" y="967"/>
                </a:lnTo>
                <a:lnTo>
                  <a:pt x="1079" y="963"/>
                </a:lnTo>
                <a:lnTo>
                  <a:pt x="1077" y="965"/>
                </a:lnTo>
                <a:lnTo>
                  <a:pt x="1075" y="967"/>
                </a:lnTo>
                <a:lnTo>
                  <a:pt x="1079" y="1000"/>
                </a:lnTo>
                <a:lnTo>
                  <a:pt x="1082" y="1009"/>
                </a:lnTo>
                <a:lnTo>
                  <a:pt x="1086" y="1010"/>
                </a:lnTo>
                <a:lnTo>
                  <a:pt x="1090" y="1010"/>
                </a:lnTo>
                <a:lnTo>
                  <a:pt x="1091" y="1010"/>
                </a:lnTo>
                <a:lnTo>
                  <a:pt x="1097" y="1012"/>
                </a:lnTo>
                <a:lnTo>
                  <a:pt x="1106" y="1016"/>
                </a:lnTo>
                <a:lnTo>
                  <a:pt x="1111" y="1020"/>
                </a:lnTo>
                <a:lnTo>
                  <a:pt x="1111" y="1021"/>
                </a:lnTo>
                <a:lnTo>
                  <a:pt x="1108" y="1023"/>
                </a:lnTo>
                <a:lnTo>
                  <a:pt x="1106" y="1032"/>
                </a:lnTo>
                <a:lnTo>
                  <a:pt x="1102" y="1064"/>
                </a:lnTo>
                <a:lnTo>
                  <a:pt x="1097" y="1067"/>
                </a:lnTo>
                <a:lnTo>
                  <a:pt x="1088" y="1065"/>
                </a:lnTo>
                <a:lnTo>
                  <a:pt x="1084" y="1069"/>
                </a:lnTo>
                <a:lnTo>
                  <a:pt x="1080" y="1082"/>
                </a:lnTo>
                <a:lnTo>
                  <a:pt x="1073" y="1102"/>
                </a:lnTo>
                <a:lnTo>
                  <a:pt x="1068" y="1107"/>
                </a:lnTo>
                <a:lnTo>
                  <a:pt x="1066" y="1109"/>
                </a:lnTo>
                <a:lnTo>
                  <a:pt x="1071" y="1120"/>
                </a:lnTo>
                <a:lnTo>
                  <a:pt x="1073" y="1124"/>
                </a:lnTo>
                <a:lnTo>
                  <a:pt x="1084" y="1133"/>
                </a:lnTo>
                <a:lnTo>
                  <a:pt x="1088" y="1133"/>
                </a:lnTo>
                <a:lnTo>
                  <a:pt x="1090" y="1138"/>
                </a:lnTo>
                <a:lnTo>
                  <a:pt x="1091" y="1144"/>
                </a:lnTo>
                <a:lnTo>
                  <a:pt x="1086" y="1155"/>
                </a:lnTo>
                <a:lnTo>
                  <a:pt x="1082" y="1164"/>
                </a:lnTo>
                <a:lnTo>
                  <a:pt x="1075" y="1168"/>
                </a:lnTo>
                <a:lnTo>
                  <a:pt x="1044" y="1180"/>
                </a:lnTo>
                <a:lnTo>
                  <a:pt x="1040" y="1180"/>
                </a:lnTo>
                <a:lnTo>
                  <a:pt x="1038" y="1180"/>
                </a:lnTo>
                <a:lnTo>
                  <a:pt x="1022" y="1186"/>
                </a:lnTo>
                <a:lnTo>
                  <a:pt x="1016" y="1188"/>
                </a:lnTo>
                <a:lnTo>
                  <a:pt x="1015" y="1190"/>
                </a:lnTo>
                <a:lnTo>
                  <a:pt x="1013" y="1191"/>
                </a:lnTo>
                <a:lnTo>
                  <a:pt x="1011" y="1191"/>
                </a:lnTo>
                <a:lnTo>
                  <a:pt x="1005" y="1191"/>
                </a:lnTo>
                <a:lnTo>
                  <a:pt x="1004" y="1191"/>
                </a:lnTo>
                <a:lnTo>
                  <a:pt x="949" y="1191"/>
                </a:lnTo>
                <a:lnTo>
                  <a:pt x="943" y="1191"/>
                </a:lnTo>
                <a:lnTo>
                  <a:pt x="940" y="1191"/>
                </a:lnTo>
                <a:lnTo>
                  <a:pt x="936" y="1190"/>
                </a:lnTo>
                <a:lnTo>
                  <a:pt x="932" y="1188"/>
                </a:lnTo>
                <a:lnTo>
                  <a:pt x="929" y="1186"/>
                </a:lnTo>
                <a:lnTo>
                  <a:pt x="914" y="1180"/>
                </a:lnTo>
                <a:lnTo>
                  <a:pt x="892" y="1173"/>
                </a:lnTo>
                <a:lnTo>
                  <a:pt x="872" y="1166"/>
                </a:lnTo>
                <a:lnTo>
                  <a:pt x="870" y="1166"/>
                </a:lnTo>
                <a:lnTo>
                  <a:pt x="852" y="1160"/>
                </a:lnTo>
                <a:lnTo>
                  <a:pt x="848" y="1157"/>
                </a:lnTo>
                <a:lnTo>
                  <a:pt x="846" y="1151"/>
                </a:lnTo>
                <a:lnTo>
                  <a:pt x="843" y="1149"/>
                </a:lnTo>
                <a:lnTo>
                  <a:pt x="835" y="1148"/>
                </a:lnTo>
                <a:lnTo>
                  <a:pt x="834" y="1148"/>
                </a:lnTo>
                <a:lnTo>
                  <a:pt x="830" y="1148"/>
                </a:lnTo>
                <a:lnTo>
                  <a:pt x="826" y="1149"/>
                </a:lnTo>
                <a:lnTo>
                  <a:pt x="812" y="1160"/>
                </a:lnTo>
                <a:lnTo>
                  <a:pt x="808" y="1170"/>
                </a:lnTo>
                <a:lnTo>
                  <a:pt x="808" y="1175"/>
                </a:lnTo>
                <a:lnTo>
                  <a:pt x="808" y="1184"/>
                </a:lnTo>
                <a:lnTo>
                  <a:pt x="810" y="1188"/>
                </a:lnTo>
                <a:lnTo>
                  <a:pt x="812" y="1199"/>
                </a:lnTo>
                <a:lnTo>
                  <a:pt x="819" y="1219"/>
                </a:lnTo>
                <a:lnTo>
                  <a:pt x="823" y="1244"/>
                </a:lnTo>
                <a:lnTo>
                  <a:pt x="817" y="1265"/>
                </a:lnTo>
                <a:lnTo>
                  <a:pt x="819" y="1274"/>
                </a:lnTo>
                <a:lnTo>
                  <a:pt x="823" y="1281"/>
                </a:lnTo>
                <a:lnTo>
                  <a:pt x="824" y="1283"/>
                </a:lnTo>
                <a:lnTo>
                  <a:pt x="828" y="1285"/>
                </a:lnTo>
                <a:lnTo>
                  <a:pt x="832" y="1288"/>
                </a:lnTo>
                <a:lnTo>
                  <a:pt x="837" y="1290"/>
                </a:lnTo>
                <a:lnTo>
                  <a:pt x="850" y="1294"/>
                </a:lnTo>
                <a:lnTo>
                  <a:pt x="863" y="1297"/>
                </a:lnTo>
                <a:lnTo>
                  <a:pt x="865" y="1297"/>
                </a:lnTo>
                <a:lnTo>
                  <a:pt x="870" y="1303"/>
                </a:lnTo>
                <a:lnTo>
                  <a:pt x="868" y="1305"/>
                </a:lnTo>
                <a:lnTo>
                  <a:pt x="863" y="1312"/>
                </a:lnTo>
                <a:lnTo>
                  <a:pt x="872" y="1314"/>
                </a:lnTo>
                <a:lnTo>
                  <a:pt x="881" y="1314"/>
                </a:lnTo>
                <a:lnTo>
                  <a:pt x="909" y="1314"/>
                </a:lnTo>
                <a:lnTo>
                  <a:pt x="910" y="1314"/>
                </a:lnTo>
                <a:lnTo>
                  <a:pt x="914" y="1310"/>
                </a:lnTo>
                <a:lnTo>
                  <a:pt x="916" y="1308"/>
                </a:lnTo>
                <a:lnTo>
                  <a:pt x="916" y="1303"/>
                </a:lnTo>
                <a:lnTo>
                  <a:pt x="914" y="1299"/>
                </a:lnTo>
                <a:lnTo>
                  <a:pt x="912" y="1297"/>
                </a:lnTo>
                <a:lnTo>
                  <a:pt x="910" y="1297"/>
                </a:lnTo>
                <a:lnTo>
                  <a:pt x="907" y="1297"/>
                </a:lnTo>
                <a:lnTo>
                  <a:pt x="905" y="1292"/>
                </a:lnTo>
                <a:lnTo>
                  <a:pt x="930" y="1283"/>
                </a:lnTo>
                <a:lnTo>
                  <a:pt x="932" y="1283"/>
                </a:lnTo>
                <a:lnTo>
                  <a:pt x="936" y="1281"/>
                </a:lnTo>
                <a:lnTo>
                  <a:pt x="943" y="1281"/>
                </a:lnTo>
                <a:lnTo>
                  <a:pt x="945" y="1281"/>
                </a:lnTo>
                <a:lnTo>
                  <a:pt x="947" y="1283"/>
                </a:lnTo>
                <a:lnTo>
                  <a:pt x="958" y="1299"/>
                </a:lnTo>
                <a:lnTo>
                  <a:pt x="960" y="1301"/>
                </a:lnTo>
                <a:lnTo>
                  <a:pt x="960" y="1303"/>
                </a:lnTo>
                <a:lnTo>
                  <a:pt x="960" y="1305"/>
                </a:lnTo>
                <a:lnTo>
                  <a:pt x="962" y="1332"/>
                </a:lnTo>
                <a:lnTo>
                  <a:pt x="956" y="1345"/>
                </a:lnTo>
                <a:lnTo>
                  <a:pt x="951" y="1350"/>
                </a:lnTo>
                <a:lnTo>
                  <a:pt x="949" y="1352"/>
                </a:lnTo>
                <a:lnTo>
                  <a:pt x="914" y="1358"/>
                </a:lnTo>
                <a:lnTo>
                  <a:pt x="912" y="1358"/>
                </a:lnTo>
                <a:lnTo>
                  <a:pt x="907" y="1356"/>
                </a:lnTo>
                <a:lnTo>
                  <a:pt x="898" y="1347"/>
                </a:lnTo>
                <a:lnTo>
                  <a:pt x="898" y="1345"/>
                </a:lnTo>
                <a:lnTo>
                  <a:pt x="899" y="1340"/>
                </a:lnTo>
                <a:lnTo>
                  <a:pt x="901" y="1334"/>
                </a:lnTo>
                <a:lnTo>
                  <a:pt x="890" y="1325"/>
                </a:lnTo>
                <a:lnTo>
                  <a:pt x="888" y="1325"/>
                </a:lnTo>
                <a:lnTo>
                  <a:pt x="877" y="1323"/>
                </a:lnTo>
                <a:lnTo>
                  <a:pt x="874" y="1323"/>
                </a:lnTo>
                <a:lnTo>
                  <a:pt x="872" y="1323"/>
                </a:lnTo>
                <a:lnTo>
                  <a:pt x="870" y="1323"/>
                </a:lnTo>
                <a:lnTo>
                  <a:pt x="865" y="1323"/>
                </a:lnTo>
                <a:lnTo>
                  <a:pt x="850" y="1327"/>
                </a:lnTo>
                <a:lnTo>
                  <a:pt x="832" y="1334"/>
                </a:lnTo>
                <a:lnTo>
                  <a:pt x="830" y="1336"/>
                </a:lnTo>
                <a:lnTo>
                  <a:pt x="823" y="1343"/>
                </a:lnTo>
                <a:lnTo>
                  <a:pt x="824" y="1347"/>
                </a:lnTo>
                <a:lnTo>
                  <a:pt x="826" y="1349"/>
                </a:lnTo>
                <a:lnTo>
                  <a:pt x="861" y="1361"/>
                </a:lnTo>
                <a:lnTo>
                  <a:pt x="863" y="1363"/>
                </a:lnTo>
                <a:lnTo>
                  <a:pt x="881" y="1367"/>
                </a:lnTo>
                <a:lnTo>
                  <a:pt x="883" y="1367"/>
                </a:lnTo>
                <a:lnTo>
                  <a:pt x="887" y="1365"/>
                </a:lnTo>
                <a:lnTo>
                  <a:pt x="890" y="1363"/>
                </a:lnTo>
                <a:lnTo>
                  <a:pt x="892" y="1367"/>
                </a:lnTo>
                <a:lnTo>
                  <a:pt x="887" y="1371"/>
                </a:lnTo>
                <a:lnTo>
                  <a:pt x="883" y="1372"/>
                </a:lnTo>
                <a:lnTo>
                  <a:pt x="870" y="1378"/>
                </a:lnTo>
                <a:lnTo>
                  <a:pt x="865" y="1380"/>
                </a:lnTo>
                <a:lnTo>
                  <a:pt x="854" y="1382"/>
                </a:lnTo>
                <a:lnTo>
                  <a:pt x="846" y="1383"/>
                </a:lnTo>
                <a:lnTo>
                  <a:pt x="845" y="1383"/>
                </a:lnTo>
                <a:lnTo>
                  <a:pt x="841" y="1385"/>
                </a:lnTo>
                <a:lnTo>
                  <a:pt x="832" y="1391"/>
                </a:lnTo>
                <a:lnTo>
                  <a:pt x="821" y="1398"/>
                </a:lnTo>
                <a:lnTo>
                  <a:pt x="797" y="1427"/>
                </a:lnTo>
                <a:lnTo>
                  <a:pt x="793" y="1433"/>
                </a:lnTo>
                <a:lnTo>
                  <a:pt x="792" y="1438"/>
                </a:lnTo>
                <a:lnTo>
                  <a:pt x="792" y="1440"/>
                </a:lnTo>
                <a:lnTo>
                  <a:pt x="793" y="1447"/>
                </a:lnTo>
                <a:lnTo>
                  <a:pt x="801" y="1462"/>
                </a:lnTo>
                <a:lnTo>
                  <a:pt x="797" y="1477"/>
                </a:lnTo>
                <a:lnTo>
                  <a:pt x="795" y="1482"/>
                </a:lnTo>
                <a:lnTo>
                  <a:pt x="795" y="1484"/>
                </a:lnTo>
                <a:lnTo>
                  <a:pt x="799" y="1491"/>
                </a:lnTo>
                <a:lnTo>
                  <a:pt x="801" y="1495"/>
                </a:lnTo>
                <a:lnTo>
                  <a:pt x="788" y="1515"/>
                </a:lnTo>
                <a:lnTo>
                  <a:pt x="768" y="1524"/>
                </a:lnTo>
                <a:lnTo>
                  <a:pt x="764" y="1526"/>
                </a:lnTo>
                <a:lnTo>
                  <a:pt x="762" y="1528"/>
                </a:lnTo>
                <a:lnTo>
                  <a:pt x="759" y="1533"/>
                </a:lnTo>
                <a:lnTo>
                  <a:pt x="755" y="1539"/>
                </a:lnTo>
                <a:lnTo>
                  <a:pt x="755" y="1542"/>
                </a:lnTo>
                <a:lnTo>
                  <a:pt x="757" y="1544"/>
                </a:lnTo>
                <a:lnTo>
                  <a:pt x="760" y="1546"/>
                </a:lnTo>
                <a:lnTo>
                  <a:pt x="762" y="1546"/>
                </a:lnTo>
                <a:lnTo>
                  <a:pt x="764" y="1546"/>
                </a:lnTo>
                <a:lnTo>
                  <a:pt x="773" y="1550"/>
                </a:lnTo>
                <a:lnTo>
                  <a:pt x="766" y="1563"/>
                </a:lnTo>
                <a:lnTo>
                  <a:pt x="759" y="1564"/>
                </a:lnTo>
                <a:lnTo>
                  <a:pt x="755" y="1563"/>
                </a:lnTo>
                <a:lnTo>
                  <a:pt x="753" y="1563"/>
                </a:lnTo>
                <a:lnTo>
                  <a:pt x="744" y="1559"/>
                </a:lnTo>
                <a:lnTo>
                  <a:pt x="718" y="1557"/>
                </a:lnTo>
                <a:lnTo>
                  <a:pt x="711" y="1557"/>
                </a:lnTo>
                <a:lnTo>
                  <a:pt x="678" y="1568"/>
                </a:lnTo>
                <a:lnTo>
                  <a:pt x="676" y="1572"/>
                </a:lnTo>
                <a:lnTo>
                  <a:pt x="675" y="1575"/>
                </a:lnTo>
                <a:lnTo>
                  <a:pt x="662" y="1579"/>
                </a:lnTo>
                <a:lnTo>
                  <a:pt x="649" y="1581"/>
                </a:lnTo>
                <a:lnTo>
                  <a:pt x="647" y="1581"/>
                </a:lnTo>
                <a:lnTo>
                  <a:pt x="638" y="1584"/>
                </a:lnTo>
                <a:lnTo>
                  <a:pt x="632" y="1588"/>
                </a:lnTo>
                <a:lnTo>
                  <a:pt x="609" y="1616"/>
                </a:lnTo>
                <a:lnTo>
                  <a:pt x="592" y="1639"/>
                </a:lnTo>
                <a:lnTo>
                  <a:pt x="581" y="1650"/>
                </a:lnTo>
                <a:lnTo>
                  <a:pt x="576" y="1658"/>
                </a:lnTo>
                <a:lnTo>
                  <a:pt x="572" y="1663"/>
                </a:lnTo>
                <a:lnTo>
                  <a:pt x="572" y="1669"/>
                </a:lnTo>
                <a:lnTo>
                  <a:pt x="572" y="1674"/>
                </a:lnTo>
                <a:lnTo>
                  <a:pt x="574" y="1678"/>
                </a:lnTo>
                <a:lnTo>
                  <a:pt x="576" y="1687"/>
                </a:lnTo>
                <a:lnTo>
                  <a:pt x="578" y="1689"/>
                </a:lnTo>
                <a:lnTo>
                  <a:pt x="581" y="1698"/>
                </a:lnTo>
                <a:lnTo>
                  <a:pt x="583" y="1701"/>
                </a:lnTo>
                <a:lnTo>
                  <a:pt x="589" y="1707"/>
                </a:lnTo>
                <a:lnTo>
                  <a:pt x="594" y="1712"/>
                </a:lnTo>
                <a:lnTo>
                  <a:pt x="598" y="1716"/>
                </a:lnTo>
                <a:lnTo>
                  <a:pt x="600" y="1718"/>
                </a:lnTo>
                <a:lnTo>
                  <a:pt x="612" y="1723"/>
                </a:lnTo>
                <a:lnTo>
                  <a:pt x="614" y="1725"/>
                </a:lnTo>
                <a:lnTo>
                  <a:pt x="623" y="1731"/>
                </a:lnTo>
                <a:lnTo>
                  <a:pt x="636" y="1740"/>
                </a:lnTo>
                <a:lnTo>
                  <a:pt x="649" y="1753"/>
                </a:lnTo>
                <a:lnTo>
                  <a:pt x="658" y="1756"/>
                </a:lnTo>
                <a:lnTo>
                  <a:pt x="660" y="1756"/>
                </a:lnTo>
                <a:lnTo>
                  <a:pt x="664" y="1758"/>
                </a:lnTo>
                <a:lnTo>
                  <a:pt x="707" y="1762"/>
                </a:lnTo>
                <a:lnTo>
                  <a:pt x="718" y="1762"/>
                </a:lnTo>
                <a:lnTo>
                  <a:pt x="724" y="1760"/>
                </a:lnTo>
                <a:lnTo>
                  <a:pt x="728" y="1760"/>
                </a:lnTo>
                <a:lnTo>
                  <a:pt x="729" y="1760"/>
                </a:lnTo>
                <a:lnTo>
                  <a:pt x="739" y="1764"/>
                </a:lnTo>
                <a:lnTo>
                  <a:pt x="749" y="1773"/>
                </a:lnTo>
                <a:lnTo>
                  <a:pt x="755" y="1786"/>
                </a:lnTo>
                <a:lnTo>
                  <a:pt x="755" y="1787"/>
                </a:lnTo>
                <a:lnTo>
                  <a:pt x="753" y="1791"/>
                </a:lnTo>
                <a:lnTo>
                  <a:pt x="753" y="1797"/>
                </a:lnTo>
                <a:lnTo>
                  <a:pt x="751" y="1804"/>
                </a:lnTo>
                <a:lnTo>
                  <a:pt x="749" y="1811"/>
                </a:lnTo>
                <a:lnTo>
                  <a:pt x="740" y="1826"/>
                </a:lnTo>
                <a:lnTo>
                  <a:pt x="739" y="1828"/>
                </a:lnTo>
                <a:lnTo>
                  <a:pt x="735" y="1828"/>
                </a:lnTo>
                <a:lnTo>
                  <a:pt x="731" y="1826"/>
                </a:lnTo>
                <a:lnTo>
                  <a:pt x="728" y="1826"/>
                </a:lnTo>
                <a:lnTo>
                  <a:pt x="726" y="1826"/>
                </a:lnTo>
                <a:lnTo>
                  <a:pt x="706" y="1833"/>
                </a:lnTo>
                <a:lnTo>
                  <a:pt x="706" y="1835"/>
                </a:lnTo>
                <a:lnTo>
                  <a:pt x="720" y="1831"/>
                </a:lnTo>
                <a:lnTo>
                  <a:pt x="731" y="1829"/>
                </a:lnTo>
                <a:lnTo>
                  <a:pt x="733" y="1829"/>
                </a:lnTo>
                <a:lnTo>
                  <a:pt x="739" y="1831"/>
                </a:lnTo>
                <a:lnTo>
                  <a:pt x="749" y="1842"/>
                </a:lnTo>
                <a:lnTo>
                  <a:pt x="749" y="1846"/>
                </a:lnTo>
                <a:lnTo>
                  <a:pt x="733" y="1853"/>
                </a:lnTo>
                <a:lnTo>
                  <a:pt x="722" y="1859"/>
                </a:lnTo>
                <a:lnTo>
                  <a:pt x="702" y="1873"/>
                </a:lnTo>
                <a:lnTo>
                  <a:pt x="696" y="1877"/>
                </a:lnTo>
                <a:lnTo>
                  <a:pt x="689" y="1882"/>
                </a:lnTo>
                <a:lnTo>
                  <a:pt x="684" y="1888"/>
                </a:lnTo>
                <a:lnTo>
                  <a:pt x="676" y="1888"/>
                </a:lnTo>
                <a:lnTo>
                  <a:pt x="667" y="1892"/>
                </a:lnTo>
                <a:lnTo>
                  <a:pt x="665" y="1892"/>
                </a:lnTo>
                <a:lnTo>
                  <a:pt x="623" y="1912"/>
                </a:lnTo>
                <a:lnTo>
                  <a:pt x="620" y="1914"/>
                </a:lnTo>
                <a:lnTo>
                  <a:pt x="578" y="1946"/>
                </a:lnTo>
                <a:lnTo>
                  <a:pt x="576" y="1950"/>
                </a:lnTo>
                <a:lnTo>
                  <a:pt x="570" y="1957"/>
                </a:lnTo>
                <a:lnTo>
                  <a:pt x="572" y="1959"/>
                </a:lnTo>
                <a:lnTo>
                  <a:pt x="574" y="1961"/>
                </a:lnTo>
                <a:lnTo>
                  <a:pt x="574" y="1970"/>
                </a:lnTo>
                <a:lnTo>
                  <a:pt x="568" y="1987"/>
                </a:lnTo>
                <a:lnTo>
                  <a:pt x="563" y="2014"/>
                </a:lnTo>
                <a:lnTo>
                  <a:pt x="561" y="2018"/>
                </a:lnTo>
                <a:lnTo>
                  <a:pt x="561" y="2021"/>
                </a:lnTo>
                <a:lnTo>
                  <a:pt x="559" y="2023"/>
                </a:lnTo>
                <a:lnTo>
                  <a:pt x="559" y="2027"/>
                </a:lnTo>
                <a:lnTo>
                  <a:pt x="558" y="2030"/>
                </a:lnTo>
                <a:lnTo>
                  <a:pt x="556" y="2032"/>
                </a:lnTo>
                <a:lnTo>
                  <a:pt x="554" y="2034"/>
                </a:lnTo>
                <a:lnTo>
                  <a:pt x="548" y="2040"/>
                </a:lnTo>
                <a:lnTo>
                  <a:pt x="547" y="2040"/>
                </a:lnTo>
                <a:lnTo>
                  <a:pt x="543" y="2041"/>
                </a:lnTo>
                <a:lnTo>
                  <a:pt x="539" y="2045"/>
                </a:lnTo>
                <a:lnTo>
                  <a:pt x="536" y="2047"/>
                </a:lnTo>
                <a:lnTo>
                  <a:pt x="532" y="2047"/>
                </a:lnTo>
                <a:lnTo>
                  <a:pt x="530" y="2049"/>
                </a:lnTo>
                <a:lnTo>
                  <a:pt x="519" y="2052"/>
                </a:lnTo>
                <a:lnTo>
                  <a:pt x="517" y="2052"/>
                </a:lnTo>
                <a:lnTo>
                  <a:pt x="514" y="2052"/>
                </a:lnTo>
                <a:lnTo>
                  <a:pt x="510" y="2054"/>
                </a:lnTo>
                <a:lnTo>
                  <a:pt x="508" y="2054"/>
                </a:lnTo>
                <a:lnTo>
                  <a:pt x="504" y="2052"/>
                </a:lnTo>
                <a:lnTo>
                  <a:pt x="495" y="2049"/>
                </a:lnTo>
                <a:lnTo>
                  <a:pt x="477" y="2036"/>
                </a:lnTo>
                <a:lnTo>
                  <a:pt x="453" y="2038"/>
                </a:lnTo>
                <a:lnTo>
                  <a:pt x="446" y="2040"/>
                </a:lnTo>
                <a:lnTo>
                  <a:pt x="442" y="2040"/>
                </a:lnTo>
                <a:lnTo>
                  <a:pt x="440" y="2043"/>
                </a:lnTo>
                <a:lnTo>
                  <a:pt x="448" y="2041"/>
                </a:lnTo>
                <a:lnTo>
                  <a:pt x="451" y="2041"/>
                </a:lnTo>
                <a:lnTo>
                  <a:pt x="455" y="2040"/>
                </a:lnTo>
                <a:lnTo>
                  <a:pt x="477" y="2040"/>
                </a:lnTo>
                <a:lnTo>
                  <a:pt x="481" y="2040"/>
                </a:lnTo>
                <a:lnTo>
                  <a:pt x="483" y="2041"/>
                </a:lnTo>
                <a:lnTo>
                  <a:pt x="499" y="2054"/>
                </a:lnTo>
                <a:lnTo>
                  <a:pt x="501" y="2056"/>
                </a:lnTo>
                <a:lnTo>
                  <a:pt x="497" y="2060"/>
                </a:lnTo>
                <a:lnTo>
                  <a:pt x="495" y="2060"/>
                </a:lnTo>
                <a:lnTo>
                  <a:pt x="494" y="2062"/>
                </a:lnTo>
                <a:lnTo>
                  <a:pt x="490" y="2062"/>
                </a:lnTo>
                <a:lnTo>
                  <a:pt x="483" y="2063"/>
                </a:lnTo>
                <a:lnTo>
                  <a:pt x="473" y="2065"/>
                </a:lnTo>
                <a:lnTo>
                  <a:pt x="472" y="2067"/>
                </a:lnTo>
                <a:lnTo>
                  <a:pt x="462" y="2069"/>
                </a:lnTo>
                <a:lnTo>
                  <a:pt x="457" y="2071"/>
                </a:lnTo>
                <a:lnTo>
                  <a:pt x="453" y="2073"/>
                </a:lnTo>
                <a:lnTo>
                  <a:pt x="451" y="2074"/>
                </a:lnTo>
                <a:lnTo>
                  <a:pt x="446" y="2078"/>
                </a:lnTo>
                <a:lnTo>
                  <a:pt x="444" y="2080"/>
                </a:lnTo>
                <a:lnTo>
                  <a:pt x="433" y="2091"/>
                </a:lnTo>
                <a:lnTo>
                  <a:pt x="431" y="2094"/>
                </a:lnTo>
                <a:lnTo>
                  <a:pt x="430" y="2098"/>
                </a:lnTo>
                <a:lnTo>
                  <a:pt x="426" y="2113"/>
                </a:lnTo>
                <a:lnTo>
                  <a:pt x="422" y="2135"/>
                </a:lnTo>
                <a:lnTo>
                  <a:pt x="426" y="2151"/>
                </a:lnTo>
                <a:lnTo>
                  <a:pt x="428" y="2153"/>
                </a:lnTo>
                <a:lnTo>
                  <a:pt x="435" y="2169"/>
                </a:lnTo>
                <a:lnTo>
                  <a:pt x="435" y="2171"/>
                </a:lnTo>
                <a:lnTo>
                  <a:pt x="439" y="2179"/>
                </a:lnTo>
                <a:lnTo>
                  <a:pt x="440" y="2180"/>
                </a:lnTo>
                <a:lnTo>
                  <a:pt x="442" y="2182"/>
                </a:lnTo>
                <a:lnTo>
                  <a:pt x="444" y="2186"/>
                </a:lnTo>
                <a:lnTo>
                  <a:pt x="444" y="2190"/>
                </a:lnTo>
                <a:lnTo>
                  <a:pt x="442" y="2193"/>
                </a:lnTo>
                <a:lnTo>
                  <a:pt x="430" y="2195"/>
                </a:lnTo>
                <a:lnTo>
                  <a:pt x="426" y="2197"/>
                </a:lnTo>
                <a:lnTo>
                  <a:pt x="420" y="2195"/>
                </a:lnTo>
                <a:lnTo>
                  <a:pt x="411" y="2191"/>
                </a:lnTo>
                <a:lnTo>
                  <a:pt x="404" y="2191"/>
                </a:lnTo>
                <a:lnTo>
                  <a:pt x="393" y="2193"/>
                </a:lnTo>
                <a:lnTo>
                  <a:pt x="382" y="2197"/>
                </a:lnTo>
                <a:lnTo>
                  <a:pt x="387" y="2197"/>
                </a:lnTo>
                <a:lnTo>
                  <a:pt x="389" y="2197"/>
                </a:lnTo>
                <a:lnTo>
                  <a:pt x="393" y="2195"/>
                </a:lnTo>
                <a:lnTo>
                  <a:pt x="402" y="2195"/>
                </a:lnTo>
                <a:lnTo>
                  <a:pt x="406" y="2195"/>
                </a:lnTo>
                <a:lnTo>
                  <a:pt x="439" y="2197"/>
                </a:lnTo>
                <a:lnTo>
                  <a:pt x="440" y="2197"/>
                </a:lnTo>
                <a:lnTo>
                  <a:pt x="448" y="2204"/>
                </a:lnTo>
                <a:lnTo>
                  <a:pt x="453" y="2213"/>
                </a:lnTo>
                <a:lnTo>
                  <a:pt x="459" y="2221"/>
                </a:lnTo>
                <a:lnTo>
                  <a:pt x="461" y="2224"/>
                </a:lnTo>
                <a:lnTo>
                  <a:pt x="462" y="2226"/>
                </a:lnTo>
                <a:lnTo>
                  <a:pt x="470" y="2235"/>
                </a:lnTo>
                <a:lnTo>
                  <a:pt x="472" y="2239"/>
                </a:lnTo>
                <a:lnTo>
                  <a:pt x="477" y="2243"/>
                </a:lnTo>
                <a:lnTo>
                  <a:pt x="479" y="2244"/>
                </a:lnTo>
                <a:lnTo>
                  <a:pt x="481" y="2246"/>
                </a:lnTo>
                <a:lnTo>
                  <a:pt x="486" y="2250"/>
                </a:lnTo>
                <a:lnTo>
                  <a:pt x="494" y="2257"/>
                </a:lnTo>
                <a:lnTo>
                  <a:pt x="497" y="2261"/>
                </a:lnTo>
                <a:lnTo>
                  <a:pt x="499" y="2264"/>
                </a:lnTo>
                <a:lnTo>
                  <a:pt x="495" y="2270"/>
                </a:lnTo>
                <a:lnTo>
                  <a:pt x="494" y="2270"/>
                </a:lnTo>
                <a:lnTo>
                  <a:pt x="494" y="2266"/>
                </a:lnTo>
                <a:lnTo>
                  <a:pt x="481" y="2263"/>
                </a:lnTo>
                <a:lnTo>
                  <a:pt x="446" y="2255"/>
                </a:lnTo>
                <a:lnTo>
                  <a:pt x="413" y="2248"/>
                </a:lnTo>
                <a:lnTo>
                  <a:pt x="395" y="2248"/>
                </a:lnTo>
                <a:lnTo>
                  <a:pt x="366" y="2239"/>
                </a:lnTo>
                <a:lnTo>
                  <a:pt x="355" y="2237"/>
                </a:lnTo>
                <a:lnTo>
                  <a:pt x="349" y="2235"/>
                </a:lnTo>
                <a:lnTo>
                  <a:pt x="344" y="2233"/>
                </a:lnTo>
                <a:lnTo>
                  <a:pt x="338" y="2233"/>
                </a:lnTo>
                <a:lnTo>
                  <a:pt x="333" y="2233"/>
                </a:lnTo>
                <a:lnTo>
                  <a:pt x="302" y="2233"/>
                </a:lnTo>
                <a:lnTo>
                  <a:pt x="280" y="2233"/>
                </a:lnTo>
                <a:lnTo>
                  <a:pt x="225" y="2233"/>
                </a:lnTo>
                <a:lnTo>
                  <a:pt x="181" y="2233"/>
                </a:lnTo>
                <a:lnTo>
                  <a:pt x="161" y="2233"/>
                </a:lnTo>
                <a:lnTo>
                  <a:pt x="157" y="2226"/>
                </a:lnTo>
                <a:lnTo>
                  <a:pt x="157" y="2222"/>
                </a:lnTo>
                <a:lnTo>
                  <a:pt x="155" y="2221"/>
                </a:lnTo>
                <a:lnTo>
                  <a:pt x="142" y="2211"/>
                </a:lnTo>
                <a:lnTo>
                  <a:pt x="139" y="2210"/>
                </a:lnTo>
                <a:lnTo>
                  <a:pt x="135" y="2208"/>
                </a:lnTo>
                <a:lnTo>
                  <a:pt x="133" y="2206"/>
                </a:lnTo>
                <a:lnTo>
                  <a:pt x="132" y="2206"/>
                </a:lnTo>
                <a:lnTo>
                  <a:pt x="126" y="2206"/>
                </a:lnTo>
                <a:lnTo>
                  <a:pt x="124" y="2204"/>
                </a:lnTo>
                <a:lnTo>
                  <a:pt x="113" y="2188"/>
                </a:lnTo>
                <a:lnTo>
                  <a:pt x="115" y="2186"/>
                </a:lnTo>
                <a:lnTo>
                  <a:pt x="119" y="2184"/>
                </a:lnTo>
                <a:lnTo>
                  <a:pt x="122" y="2177"/>
                </a:lnTo>
                <a:lnTo>
                  <a:pt x="128" y="2160"/>
                </a:lnTo>
                <a:lnTo>
                  <a:pt x="124" y="2157"/>
                </a:lnTo>
                <a:lnTo>
                  <a:pt x="121" y="2157"/>
                </a:lnTo>
                <a:lnTo>
                  <a:pt x="117" y="2155"/>
                </a:lnTo>
                <a:lnTo>
                  <a:pt x="115" y="2153"/>
                </a:lnTo>
                <a:lnTo>
                  <a:pt x="113" y="2147"/>
                </a:lnTo>
                <a:lnTo>
                  <a:pt x="119" y="2140"/>
                </a:lnTo>
                <a:lnTo>
                  <a:pt x="124" y="2140"/>
                </a:lnTo>
                <a:lnTo>
                  <a:pt x="126" y="2138"/>
                </a:lnTo>
                <a:lnTo>
                  <a:pt x="128" y="2124"/>
                </a:lnTo>
                <a:lnTo>
                  <a:pt x="122" y="2104"/>
                </a:lnTo>
                <a:lnTo>
                  <a:pt x="115" y="2100"/>
                </a:lnTo>
                <a:lnTo>
                  <a:pt x="104" y="2100"/>
                </a:lnTo>
                <a:lnTo>
                  <a:pt x="78" y="2102"/>
                </a:lnTo>
                <a:lnTo>
                  <a:pt x="68" y="2104"/>
                </a:lnTo>
                <a:lnTo>
                  <a:pt x="64" y="2105"/>
                </a:lnTo>
                <a:lnTo>
                  <a:pt x="62" y="2107"/>
                </a:lnTo>
                <a:lnTo>
                  <a:pt x="60" y="2109"/>
                </a:lnTo>
                <a:lnTo>
                  <a:pt x="57" y="2111"/>
                </a:lnTo>
                <a:lnTo>
                  <a:pt x="53" y="2113"/>
                </a:lnTo>
                <a:lnTo>
                  <a:pt x="51" y="2115"/>
                </a:lnTo>
                <a:lnTo>
                  <a:pt x="47" y="2115"/>
                </a:lnTo>
                <a:lnTo>
                  <a:pt x="46" y="2116"/>
                </a:lnTo>
                <a:lnTo>
                  <a:pt x="42" y="2116"/>
                </a:lnTo>
                <a:lnTo>
                  <a:pt x="40" y="2115"/>
                </a:lnTo>
                <a:lnTo>
                  <a:pt x="38" y="2113"/>
                </a:lnTo>
                <a:lnTo>
                  <a:pt x="33" y="2098"/>
                </a:lnTo>
                <a:lnTo>
                  <a:pt x="31" y="2089"/>
                </a:lnTo>
                <a:lnTo>
                  <a:pt x="29" y="2076"/>
                </a:lnTo>
                <a:lnTo>
                  <a:pt x="29" y="2073"/>
                </a:lnTo>
                <a:lnTo>
                  <a:pt x="25" y="2067"/>
                </a:lnTo>
                <a:lnTo>
                  <a:pt x="24" y="2065"/>
                </a:lnTo>
                <a:lnTo>
                  <a:pt x="22" y="2063"/>
                </a:lnTo>
                <a:lnTo>
                  <a:pt x="13" y="2060"/>
                </a:lnTo>
                <a:lnTo>
                  <a:pt x="9" y="2058"/>
                </a:lnTo>
                <a:lnTo>
                  <a:pt x="5" y="2056"/>
                </a:lnTo>
                <a:lnTo>
                  <a:pt x="4" y="2052"/>
                </a:lnTo>
                <a:lnTo>
                  <a:pt x="2" y="2036"/>
                </a:lnTo>
                <a:lnTo>
                  <a:pt x="4" y="2027"/>
                </a:lnTo>
                <a:lnTo>
                  <a:pt x="7" y="2025"/>
                </a:lnTo>
                <a:lnTo>
                  <a:pt x="11" y="2023"/>
                </a:lnTo>
                <a:lnTo>
                  <a:pt x="13" y="2021"/>
                </a:lnTo>
                <a:lnTo>
                  <a:pt x="5" y="2003"/>
                </a:lnTo>
                <a:lnTo>
                  <a:pt x="0" y="1999"/>
                </a:lnTo>
                <a:lnTo>
                  <a:pt x="0" y="1998"/>
                </a:lnTo>
                <a:lnTo>
                  <a:pt x="4" y="1988"/>
                </a:lnTo>
                <a:lnTo>
                  <a:pt x="11" y="1976"/>
                </a:lnTo>
                <a:lnTo>
                  <a:pt x="15" y="1976"/>
                </a:lnTo>
                <a:lnTo>
                  <a:pt x="38" y="1974"/>
                </a:lnTo>
                <a:lnTo>
                  <a:pt x="42" y="1974"/>
                </a:lnTo>
                <a:lnTo>
                  <a:pt x="47" y="1970"/>
                </a:lnTo>
                <a:lnTo>
                  <a:pt x="40" y="1970"/>
                </a:lnTo>
                <a:lnTo>
                  <a:pt x="38" y="1968"/>
                </a:lnTo>
                <a:lnTo>
                  <a:pt x="38" y="1967"/>
                </a:lnTo>
                <a:lnTo>
                  <a:pt x="47" y="1952"/>
                </a:lnTo>
                <a:lnTo>
                  <a:pt x="55" y="1945"/>
                </a:lnTo>
                <a:lnTo>
                  <a:pt x="57" y="1943"/>
                </a:lnTo>
                <a:lnTo>
                  <a:pt x="60" y="1943"/>
                </a:lnTo>
                <a:lnTo>
                  <a:pt x="64" y="1941"/>
                </a:lnTo>
                <a:lnTo>
                  <a:pt x="66" y="1941"/>
                </a:lnTo>
                <a:lnTo>
                  <a:pt x="69" y="1941"/>
                </a:lnTo>
                <a:lnTo>
                  <a:pt x="73" y="1941"/>
                </a:lnTo>
                <a:lnTo>
                  <a:pt x="77" y="1939"/>
                </a:lnTo>
                <a:lnTo>
                  <a:pt x="78" y="1939"/>
                </a:lnTo>
                <a:lnTo>
                  <a:pt x="80" y="1937"/>
                </a:lnTo>
                <a:lnTo>
                  <a:pt x="84" y="1935"/>
                </a:lnTo>
                <a:lnTo>
                  <a:pt x="95" y="1928"/>
                </a:lnTo>
                <a:lnTo>
                  <a:pt x="97" y="1926"/>
                </a:lnTo>
                <a:lnTo>
                  <a:pt x="99" y="1924"/>
                </a:lnTo>
                <a:lnTo>
                  <a:pt x="99" y="1919"/>
                </a:lnTo>
                <a:lnTo>
                  <a:pt x="99" y="1915"/>
                </a:lnTo>
                <a:lnTo>
                  <a:pt x="97" y="1912"/>
                </a:lnTo>
                <a:lnTo>
                  <a:pt x="97" y="1906"/>
                </a:lnTo>
                <a:lnTo>
                  <a:pt x="95" y="1904"/>
                </a:lnTo>
                <a:lnTo>
                  <a:pt x="95" y="1901"/>
                </a:lnTo>
                <a:lnTo>
                  <a:pt x="93" y="1897"/>
                </a:lnTo>
                <a:lnTo>
                  <a:pt x="95" y="1895"/>
                </a:lnTo>
                <a:lnTo>
                  <a:pt x="97" y="1893"/>
                </a:lnTo>
                <a:lnTo>
                  <a:pt x="99" y="1892"/>
                </a:lnTo>
                <a:lnTo>
                  <a:pt x="104" y="1890"/>
                </a:lnTo>
                <a:lnTo>
                  <a:pt x="111" y="1888"/>
                </a:lnTo>
                <a:lnTo>
                  <a:pt x="124" y="1882"/>
                </a:lnTo>
                <a:lnTo>
                  <a:pt x="122" y="1868"/>
                </a:lnTo>
                <a:lnTo>
                  <a:pt x="121" y="1857"/>
                </a:lnTo>
                <a:lnTo>
                  <a:pt x="113" y="1850"/>
                </a:lnTo>
                <a:lnTo>
                  <a:pt x="108" y="1850"/>
                </a:lnTo>
                <a:lnTo>
                  <a:pt x="106" y="1848"/>
                </a:lnTo>
                <a:lnTo>
                  <a:pt x="102" y="1846"/>
                </a:lnTo>
                <a:lnTo>
                  <a:pt x="100" y="1844"/>
                </a:lnTo>
                <a:lnTo>
                  <a:pt x="100" y="1840"/>
                </a:lnTo>
                <a:lnTo>
                  <a:pt x="108" y="1826"/>
                </a:lnTo>
                <a:lnTo>
                  <a:pt x="122" y="1802"/>
                </a:lnTo>
                <a:lnTo>
                  <a:pt x="133" y="1793"/>
                </a:lnTo>
                <a:lnTo>
                  <a:pt x="137" y="1793"/>
                </a:lnTo>
                <a:lnTo>
                  <a:pt x="163" y="1775"/>
                </a:lnTo>
                <a:lnTo>
                  <a:pt x="164" y="1775"/>
                </a:lnTo>
                <a:lnTo>
                  <a:pt x="166" y="1769"/>
                </a:lnTo>
                <a:lnTo>
                  <a:pt x="164" y="1767"/>
                </a:lnTo>
                <a:lnTo>
                  <a:pt x="163" y="1764"/>
                </a:lnTo>
                <a:lnTo>
                  <a:pt x="153" y="1756"/>
                </a:lnTo>
                <a:lnTo>
                  <a:pt x="157" y="1736"/>
                </a:lnTo>
                <a:lnTo>
                  <a:pt x="159" y="1734"/>
                </a:lnTo>
                <a:lnTo>
                  <a:pt x="166" y="1734"/>
                </a:lnTo>
                <a:lnTo>
                  <a:pt x="170" y="1733"/>
                </a:lnTo>
                <a:lnTo>
                  <a:pt x="181" y="1725"/>
                </a:lnTo>
                <a:lnTo>
                  <a:pt x="183" y="1723"/>
                </a:lnTo>
                <a:lnTo>
                  <a:pt x="183" y="1720"/>
                </a:lnTo>
                <a:lnTo>
                  <a:pt x="183" y="1709"/>
                </a:lnTo>
                <a:lnTo>
                  <a:pt x="177" y="1683"/>
                </a:lnTo>
                <a:lnTo>
                  <a:pt x="174" y="1678"/>
                </a:lnTo>
                <a:lnTo>
                  <a:pt x="172" y="1669"/>
                </a:lnTo>
                <a:lnTo>
                  <a:pt x="183" y="1658"/>
                </a:lnTo>
                <a:lnTo>
                  <a:pt x="186" y="1658"/>
                </a:lnTo>
                <a:lnTo>
                  <a:pt x="186" y="1656"/>
                </a:lnTo>
                <a:lnTo>
                  <a:pt x="190" y="1654"/>
                </a:lnTo>
                <a:lnTo>
                  <a:pt x="186" y="1648"/>
                </a:lnTo>
                <a:lnTo>
                  <a:pt x="185" y="1647"/>
                </a:lnTo>
                <a:lnTo>
                  <a:pt x="181" y="1645"/>
                </a:lnTo>
                <a:lnTo>
                  <a:pt x="177" y="1643"/>
                </a:lnTo>
                <a:lnTo>
                  <a:pt x="175" y="1643"/>
                </a:lnTo>
                <a:lnTo>
                  <a:pt x="172" y="1630"/>
                </a:lnTo>
                <a:lnTo>
                  <a:pt x="172" y="1623"/>
                </a:lnTo>
                <a:lnTo>
                  <a:pt x="175" y="1614"/>
                </a:lnTo>
                <a:lnTo>
                  <a:pt x="179" y="1612"/>
                </a:lnTo>
                <a:lnTo>
                  <a:pt x="183" y="1612"/>
                </a:lnTo>
                <a:lnTo>
                  <a:pt x="185" y="1612"/>
                </a:lnTo>
                <a:lnTo>
                  <a:pt x="186" y="1610"/>
                </a:lnTo>
                <a:lnTo>
                  <a:pt x="190" y="1612"/>
                </a:lnTo>
                <a:lnTo>
                  <a:pt x="203" y="1606"/>
                </a:lnTo>
                <a:lnTo>
                  <a:pt x="219" y="1590"/>
                </a:lnTo>
                <a:lnTo>
                  <a:pt x="216" y="1583"/>
                </a:lnTo>
                <a:lnTo>
                  <a:pt x="196" y="1561"/>
                </a:lnTo>
                <a:lnTo>
                  <a:pt x="192" y="1559"/>
                </a:lnTo>
                <a:lnTo>
                  <a:pt x="177" y="1555"/>
                </a:lnTo>
                <a:lnTo>
                  <a:pt x="170" y="1553"/>
                </a:lnTo>
                <a:lnTo>
                  <a:pt x="157" y="1553"/>
                </a:lnTo>
                <a:lnTo>
                  <a:pt x="144" y="1552"/>
                </a:lnTo>
                <a:lnTo>
                  <a:pt x="144" y="1541"/>
                </a:lnTo>
                <a:lnTo>
                  <a:pt x="144" y="1539"/>
                </a:lnTo>
                <a:lnTo>
                  <a:pt x="146" y="1537"/>
                </a:lnTo>
                <a:lnTo>
                  <a:pt x="150" y="1537"/>
                </a:lnTo>
                <a:lnTo>
                  <a:pt x="152" y="1539"/>
                </a:lnTo>
                <a:lnTo>
                  <a:pt x="153" y="1539"/>
                </a:lnTo>
                <a:lnTo>
                  <a:pt x="155" y="1541"/>
                </a:lnTo>
                <a:lnTo>
                  <a:pt x="166" y="1541"/>
                </a:lnTo>
                <a:lnTo>
                  <a:pt x="185" y="1541"/>
                </a:lnTo>
                <a:lnTo>
                  <a:pt x="216" y="1542"/>
                </a:lnTo>
                <a:lnTo>
                  <a:pt x="217" y="1542"/>
                </a:lnTo>
                <a:lnTo>
                  <a:pt x="221" y="1541"/>
                </a:lnTo>
                <a:lnTo>
                  <a:pt x="227" y="1537"/>
                </a:lnTo>
                <a:lnTo>
                  <a:pt x="236" y="1519"/>
                </a:lnTo>
                <a:lnTo>
                  <a:pt x="238" y="1517"/>
                </a:lnTo>
                <a:lnTo>
                  <a:pt x="232" y="1508"/>
                </a:lnTo>
                <a:lnTo>
                  <a:pt x="228" y="1506"/>
                </a:lnTo>
                <a:lnTo>
                  <a:pt x="208" y="1504"/>
                </a:lnTo>
                <a:lnTo>
                  <a:pt x="201" y="1504"/>
                </a:lnTo>
                <a:lnTo>
                  <a:pt x="196" y="1504"/>
                </a:lnTo>
                <a:lnTo>
                  <a:pt x="188" y="1504"/>
                </a:lnTo>
                <a:lnTo>
                  <a:pt x="174" y="1504"/>
                </a:lnTo>
                <a:lnTo>
                  <a:pt x="168" y="1502"/>
                </a:lnTo>
                <a:lnTo>
                  <a:pt x="166" y="1500"/>
                </a:lnTo>
                <a:lnTo>
                  <a:pt x="168" y="1480"/>
                </a:lnTo>
                <a:lnTo>
                  <a:pt x="174" y="1473"/>
                </a:lnTo>
                <a:lnTo>
                  <a:pt x="175" y="1471"/>
                </a:lnTo>
                <a:lnTo>
                  <a:pt x="185" y="1460"/>
                </a:lnTo>
                <a:lnTo>
                  <a:pt x="186" y="1458"/>
                </a:lnTo>
                <a:lnTo>
                  <a:pt x="185" y="1457"/>
                </a:lnTo>
                <a:lnTo>
                  <a:pt x="181" y="1451"/>
                </a:lnTo>
                <a:lnTo>
                  <a:pt x="175" y="1447"/>
                </a:lnTo>
                <a:lnTo>
                  <a:pt x="170" y="1442"/>
                </a:lnTo>
                <a:lnTo>
                  <a:pt x="170" y="1438"/>
                </a:lnTo>
                <a:lnTo>
                  <a:pt x="172" y="1438"/>
                </a:lnTo>
                <a:lnTo>
                  <a:pt x="174" y="1438"/>
                </a:lnTo>
                <a:lnTo>
                  <a:pt x="181" y="1435"/>
                </a:lnTo>
                <a:lnTo>
                  <a:pt x="181" y="1433"/>
                </a:lnTo>
                <a:lnTo>
                  <a:pt x="181" y="1425"/>
                </a:lnTo>
                <a:lnTo>
                  <a:pt x="166" y="1416"/>
                </a:lnTo>
                <a:lnTo>
                  <a:pt x="157" y="1413"/>
                </a:lnTo>
                <a:lnTo>
                  <a:pt x="159" y="1405"/>
                </a:lnTo>
                <a:lnTo>
                  <a:pt x="161" y="1400"/>
                </a:lnTo>
                <a:lnTo>
                  <a:pt x="172" y="1398"/>
                </a:lnTo>
                <a:lnTo>
                  <a:pt x="175" y="1398"/>
                </a:lnTo>
                <a:lnTo>
                  <a:pt x="177" y="1398"/>
                </a:lnTo>
                <a:lnTo>
                  <a:pt x="177" y="1396"/>
                </a:lnTo>
                <a:lnTo>
                  <a:pt x="177" y="1385"/>
                </a:lnTo>
                <a:lnTo>
                  <a:pt x="168" y="1382"/>
                </a:lnTo>
                <a:lnTo>
                  <a:pt x="164" y="1382"/>
                </a:lnTo>
                <a:lnTo>
                  <a:pt x="159" y="1380"/>
                </a:lnTo>
                <a:lnTo>
                  <a:pt x="155" y="1380"/>
                </a:lnTo>
                <a:lnTo>
                  <a:pt x="152" y="1380"/>
                </a:lnTo>
                <a:lnTo>
                  <a:pt x="146" y="1378"/>
                </a:lnTo>
                <a:lnTo>
                  <a:pt x="144" y="1378"/>
                </a:lnTo>
                <a:lnTo>
                  <a:pt x="141" y="1372"/>
                </a:lnTo>
                <a:lnTo>
                  <a:pt x="139" y="1369"/>
                </a:lnTo>
                <a:lnTo>
                  <a:pt x="139" y="1365"/>
                </a:lnTo>
                <a:lnTo>
                  <a:pt x="139" y="1363"/>
                </a:lnTo>
                <a:lnTo>
                  <a:pt x="141" y="1360"/>
                </a:lnTo>
                <a:lnTo>
                  <a:pt x="141" y="1358"/>
                </a:lnTo>
                <a:lnTo>
                  <a:pt x="142" y="1354"/>
                </a:lnTo>
                <a:lnTo>
                  <a:pt x="141" y="1345"/>
                </a:lnTo>
                <a:lnTo>
                  <a:pt x="141" y="1341"/>
                </a:lnTo>
                <a:lnTo>
                  <a:pt x="139" y="1336"/>
                </a:lnTo>
                <a:lnTo>
                  <a:pt x="139" y="1329"/>
                </a:lnTo>
                <a:lnTo>
                  <a:pt x="139" y="1327"/>
                </a:lnTo>
                <a:lnTo>
                  <a:pt x="139" y="1325"/>
                </a:lnTo>
                <a:lnTo>
                  <a:pt x="141" y="1323"/>
                </a:lnTo>
                <a:lnTo>
                  <a:pt x="148" y="1308"/>
                </a:lnTo>
                <a:lnTo>
                  <a:pt x="146" y="1307"/>
                </a:lnTo>
                <a:lnTo>
                  <a:pt x="144" y="1305"/>
                </a:lnTo>
                <a:lnTo>
                  <a:pt x="141" y="1303"/>
                </a:lnTo>
                <a:lnTo>
                  <a:pt x="139" y="1299"/>
                </a:lnTo>
                <a:lnTo>
                  <a:pt x="148" y="1287"/>
                </a:lnTo>
                <a:lnTo>
                  <a:pt x="150" y="1285"/>
                </a:lnTo>
                <a:lnTo>
                  <a:pt x="152" y="1285"/>
                </a:lnTo>
                <a:lnTo>
                  <a:pt x="155" y="1285"/>
                </a:lnTo>
                <a:lnTo>
                  <a:pt x="157" y="1287"/>
                </a:lnTo>
                <a:lnTo>
                  <a:pt x="157" y="1288"/>
                </a:lnTo>
                <a:lnTo>
                  <a:pt x="161" y="1290"/>
                </a:lnTo>
                <a:lnTo>
                  <a:pt x="174" y="1285"/>
                </a:lnTo>
                <a:lnTo>
                  <a:pt x="177" y="1281"/>
                </a:lnTo>
                <a:lnTo>
                  <a:pt x="177" y="1276"/>
                </a:lnTo>
                <a:lnTo>
                  <a:pt x="175" y="1272"/>
                </a:lnTo>
                <a:lnTo>
                  <a:pt x="174" y="1266"/>
                </a:lnTo>
                <a:lnTo>
                  <a:pt x="174" y="1261"/>
                </a:lnTo>
                <a:lnTo>
                  <a:pt x="172" y="1259"/>
                </a:lnTo>
                <a:lnTo>
                  <a:pt x="166" y="1250"/>
                </a:lnTo>
                <a:lnTo>
                  <a:pt x="159" y="1239"/>
                </a:lnTo>
                <a:lnTo>
                  <a:pt x="159" y="1235"/>
                </a:lnTo>
                <a:lnTo>
                  <a:pt x="163" y="1234"/>
                </a:lnTo>
                <a:lnTo>
                  <a:pt x="166" y="1230"/>
                </a:lnTo>
                <a:lnTo>
                  <a:pt x="164" y="1217"/>
                </a:lnTo>
                <a:lnTo>
                  <a:pt x="164" y="1202"/>
                </a:lnTo>
                <a:lnTo>
                  <a:pt x="164" y="1199"/>
                </a:lnTo>
                <a:lnTo>
                  <a:pt x="166" y="1182"/>
                </a:lnTo>
                <a:lnTo>
                  <a:pt x="164" y="1177"/>
                </a:lnTo>
                <a:lnTo>
                  <a:pt x="166" y="1171"/>
                </a:lnTo>
                <a:lnTo>
                  <a:pt x="166" y="1168"/>
                </a:lnTo>
                <a:lnTo>
                  <a:pt x="164" y="1166"/>
                </a:lnTo>
                <a:lnTo>
                  <a:pt x="159" y="1157"/>
                </a:lnTo>
                <a:lnTo>
                  <a:pt x="157" y="1149"/>
                </a:lnTo>
                <a:lnTo>
                  <a:pt x="159" y="1148"/>
                </a:lnTo>
                <a:lnTo>
                  <a:pt x="161" y="1146"/>
                </a:lnTo>
                <a:lnTo>
                  <a:pt x="163" y="1144"/>
                </a:lnTo>
                <a:lnTo>
                  <a:pt x="164" y="1142"/>
                </a:lnTo>
                <a:lnTo>
                  <a:pt x="166" y="1138"/>
                </a:lnTo>
                <a:lnTo>
                  <a:pt x="166" y="1135"/>
                </a:lnTo>
                <a:lnTo>
                  <a:pt x="166" y="1131"/>
                </a:lnTo>
                <a:lnTo>
                  <a:pt x="172" y="1120"/>
                </a:lnTo>
                <a:lnTo>
                  <a:pt x="175" y="1120"/>
                </a:lnTo>
                <a:lnTo>
                  <a:pt x="177" y="1122"/>
                </a:lnTo>
                <a:lnTo>
                  <a:pt x="179" y="1120"/>
                </a:lnTo>
                <a:lnTo>
                  <a:pt x="181" y="1118"/>
                </a:lnTo>
                <a:lnTo>
                  <a:pt x="185" y="1113"/>
                </a:lnTo>
                <a:lnTo>
                  <a:pt x="183" y="1109"/>
                </a:lnTo>
                <a:lnTo>
                  <a:pt x="181" y="1107"/>
                </a:lnTo>
                <a:lnTo>
                  <a:pt x="179" y="1109"/>
                </a:lnTo>
                <a:lnTo>
                  <a:pt x="172" y="1104"/>
                </a:lnTo>
                <a:lnTo>
                  <a:pt x="168" y="1100"/>
                </a:lnTo>
                <a:lnTo>
                  <a:pt x="172" y="1091"/>
                </a:lnTo>
                <a:lnTo>
                  <a:pt x="175" y="1089"/>
                </a:lnTo>
                <a:lnTo>
                  <a:pt x="183" y="1085"/>
                </a:lnTo>
                <a:lnTo>
                  <a:pt x="186" y="1074"/>
                </a:lnTo>
                <a:lnTo>
                  <a:pt x="183" y="1065"/>
                </a:lnTo>
                <a:lnTo>
                  <a:pt x="179" y="1054"/>
                </a:lnTo>
                <a:lnTo>
                  <a:pt x="179" y="1043"/>
                </a:lnTo>
                <a:lnTo>
                  <a:pt x="181" y="1040"/>
                </a:lnTo>
                <a:lnTo>
                  <a:pt x="183" y="1038"/>
                </a:lnTo>
                <a:lnTo>
                  <a:pt x="188" y="1043"/>
                </a:lnTo>
                <a:lnTo>
                  <a:pt x="190" y="1043"/>
                </a:lnTo>
                <a:lnTo>
                  <a:pt x="199" y="1043"/>
                </a:lnTo>
                <a:lnTo>
                  <a:pt x="201" y="1042"/>
                </a:lnTo>
                <a:lnTo>
                  <a:pt x="208" y="1016"/>
                </a:lnTo>
                <a:lnTo>
                  <a:pt x="210" y="1007"/>
                </a:lnTo>
                <a:lnTo>
                  <a:pt x="208" y="996"/>
                </a:lnTo>
                <a:lnTo>
                  <a:pt x="208" y="990"/>
                </a:lnTo>
                <a:lnTo>
                  <a:pt x="206" y="989"/>
                </a:lnTo>
                <a:lnTo>
                  <a:pt x="206" y="985"/>
                </a:lnTo>
                <a:lnTo>
                  <a:pt x="206" y="979"/>
                </a:lnTo>
                <a:lnTo>
                  <a:pt x="208" y="978"/>
                </a:lnTo>
                <a:lnTo>
                  <a:pt x="210" y="976"/>
                </a:lnTo>
                <a:lnTo>
                  <a:pt x="214" y="974"/>
                </a:lnTo>
                <a:lnTo>
                  <a:pt x="216" y="972"/>
                </a:lnTo>
                <a:lnTo>
                  <a:pt x="225" y="968"/>
                </a:lnTo>
                <a:lnTo>
                  <a:pt x="238" y="961"/>
                </a:lnTo>
                <a:lnTo>
                  <a:pt x="243" y="959"/>
                </a:lnTo>
                <a:lnTo>
                  <a:pt x="245" y="959"/>
                </a:lnTo>
                <a:lnTo>
                  <a:pt x="249" y="959"/>
                </a:lnTo>
                <a:lnTo>
                  <a:pt x="252" y="959"/>
                </a:lnTo>
                <a:lnTo>
                  <a:pt x="256" y="959"/>
                </a:lnTo>
                <a:lnTo>
                  <a:pt x="261" y="954"/>
                </a:lnTo>
                <a:lnTo>
                  <a:pt x="263" y="945"/>
                </a:lnTo>
                <a:lnTo>
                  <a:pt x="265" y="941"/>
                </a:lnTo>
                <a:lnTo>
                  <a:pt x="263" y="937"/>
                </a:lnTo>
                <a:lnTo>
                  <a:pt x="259" y="936"/>
                </a:lnTo>
                <a:lnTo>
                  <a:pt x="256" y="934"/>
                </a:lnTo>
                <a:lnTo>
                  <a:pt x="252" y="932"/>
                </a:lnTo>
                <a:lnTo>
                  <a:pt x="250" y="928"/>
                </a:lnTo>
                <a:lnTo>
                  <a:pt x="247" y="915"/>
                </a:lnTo>
                <a:lnTo>
                  <a:pt x="247" y="910"/>
                </a:lnTo>
                <a:lnTo>
                  <a:pt x="247" y="908"/>
                </a:lnTo>
                <a:lnTo>
                  <a:pt x="247" y="903"/>
                </a:lnTo>
                <a:lnTo>
                  <a:pt x="249" y="895"/>
                </a:lnTo>
                <a:lnTo>
                  <a:pt x="239" y="877"/>
                </a:lnTo>
                <a:lnTo>
                  <a:pt x="236" y="872"/>
                </a:lnTo>
                <a:lnTo>
                  <a:pt x="232" y="862"/>
                </a:lnTo>
                <a:lnTo>
                  <a:pt x="230" y="859"/>
                </a:lnTo>
                <a:lnTo>
                  <a:pt x="230" y="855"/>
                </a:lnTo>
                <a:lnTo>
                  <a:pt x="230" y="851"/>
                </a:lnTo>
                <a:lnTo>
                  <a:pt x="232" y="850"/>
                </a:lnTo>
                <a:lnTo>
                  <a:pt x="236" y="848"/>
                </a:lnTo>
                <a:lnTo>
                  <a:pt x="238" y="835"/>
                </a:lnTo>
                <a:lnTo>
                  <a:pt x="236" y="833"/>
                </a:lnTo>
                <a:lnTo>
                  <a:pt x="234" y="815"/>
                </a:lnTo>
                <a:lnTo>
                  <a:pt x="236" y="809"/>
                </a:lnTo>
                <a:lnTo>
                  <a:pt x="238" y="802"/>
                </a:lnTo>
                <a:lnTo>
                  <a:pt x="234" y="789"/>
                </a:lnTo>
                <a:lnTo>
                  <a:pt x="230" y="777"/>
                </a:lnTo>
                <a:lnTo>
                  <a:pt x="243" y="747"/>
                </a:lnTo>
                <a:lnTo>
                  <a:pt x="247" y="742"/>
                </a:lnTo>
                <a:lnTo>
                  <a:pt x="249" y="742"/>
                </a:lnTo>
                <a:lnTo>
                  <a:pt x="252" y="742"/>
                </a:lnTo>
                <a:lnTo>
                  <a:pt x="276" y="734"/>
                </a:lnTo>
                <a:lnTo>
                  <a:pt x="276" y="733"/>
                </a:lnTo>
                <a:lnTo>
                  <a:pt x="274" y="729"/>
                </a:lnTo>
                <a:lnTo>
                  <a:pt x="276" y="722"/>
                </a:lnTo>
                <a:lnTo>
                  <a:pt x="287" y="711"/>
                </a:lnTo>
                <a:lnTo>
                  <a:pt x="296" y="711"/>
                </a:lnTo>
                <a:lnTo>
                  <a:pt x="303" y="709"/>
                </a:lnTo>
                <a:lnTo>
                  <a:pt x="305" y="703"/>
                </a:lnTo>
                <a:lnTo>
                  <a:pt x="305" y="692"/>
                </a:lnTo>
                <a:lnTo>
                  <a:pt x="303" y="685"/>
                </a:lnTo>
                <a:lnTo>
                  <a:pt x="305" y="683"/>
                </a:lnTo>
                <a:lnTo>
                  <a:pt x="307" y="680"/>
                </a:lnTo>
                <a:lnTo>
                  <a:pt x="311" y="678"/>
                </a:lnTo>
                <a:lnTo>
                  <a:pt x="305" y="658"/>
                </a:lnTo>
                <a:lnTo>
                  <a:pt x="305" y="649"/>
                </a:lnTo>
                <a:lnTo>
                  <a:pt x="303" y="634"/>
                </a:lnTo>
                <a:lnTo>
                  <a:pt x="292" y="628"/>
                </a:lnTo>
                <a:lnTo>
                  <a:pt x="291" y="628"/>
                </a:lnTo>
                <a:lnTo>
                  <a:pt x="289" y="625"/>
                </a:lnTo>
                <a:lnTo>
                  <a:pt x="289" y="623"/>
                </a:lnTo>
                <a:lnTo>
                  <a:pt x="292" y="619"/>
                </a:lnTo>
                <a:lnTo>
                  <a:pt x="294" y="619"/>
                </a:lnTo>
                <a:lnTo>
                  <a:pt x="298" y="619"/>
                </a:lnTo>
                <a:lnTo>
                  <a:pt x="300" y="619"/>
                </a:lnTo>
                <a:lnTo>
                  <a:pt x="307" y="616"/>
                </a:lnTo>
                <a:lnTo>
                  <a:pt x="309" y="614"/>
                </a:lnTo>
                <a:lnTo>
                  <a:pt x="309" y="608"/>
                </a:lnTo>
                <a:lnTo>
                  <a:pt x="309" y="599"/>
                </a:lnTo>
                <a:lnTo>
                  <a:pt x="314" y="585"/>
                </a:lnTo>
                <a:lnTo>
                  <a:pt x="322" y="566"/>
                </a:lnTo>
                <a:lnTo>
                  <a:pt x="329" y="554"/>
                </a:lnTo>
                <a:lnTo>
                  <a:pt x="340" y="543"/>
                </a:lnTo>
                <a:lnTo>
                  <a:pt x="338" y="537"/>
                </a:lnTo>
                <a:lnTo>
                  <a:pt x="338" y="532"/>
                </a:lnTo>
                <a:lnTo>
                  <a:pt x="340" y="532"/>
                </a:lnTo>
                <a:lnTo>
                  <a:pt x="342" y="530"/>
                </a:lnTo>
                <a:lnTo>
                  <a:pt x="345" y="530"/>
                </a:lnTo>
                <a:lnTo>
                  <a:pt x="347" y="530"/>
                </a:lnTo>
                <a:lnTo>
                  <a:pt x="351" y="530"/>
                </a:lnTo>
                <a:lnTo>
                  <a:pt x="355" y="530"/>
                </a:lnTo>
                <a:lnTo>
                  <a:pt x="362" y="526"/>
                </a:lnTo>
                <a:lnTo>
                  <a:pt x="358" y="513"/>
                </a:lnTo>
                <a:lnTo>
                  <a:pt x="353" y="486"/>
                </a:lnTo>
                <a:lnTo>
                  <a:pt x="353" y="482"/>
                </a:lnTo>
                <a:lnTo>
                  <a:pt x="356" y="460"/>
                </a:lnTo>
                <a:lnTo>
                  <a:pt x="362" y="449"/>
                </a:lnTo>
                <a:lnTo>
                  <a:pt x="364" y="447"/>
                </a:lnTo>
                <a:lnTo>
                  <a:pt x="366" y="444"/>
                </a:lnTo>
                <a:lnTo>
                  <a:pt x="362" y="435"/>
                </a:lnTo>
                <a:lnTo>
                  <a:pt x="356" y="431"/>
                </a:lnTo>
                <a:lnTo>
                  <a:pt x="353" y="429"/>
                </a:lnTo>
                <a:lnTo>
                  <a:pt x="351" y="431"/>
                </a:lnTo>
                <a:lnTo>
                  <a:pt x="347" y="433"/>
                </a:lnTo>
                <a:lnTo>
                  <a:pt x="345" y="435"/>
                </a:lnTo>
                <a:lnTo>
                  <a:pt x="344" y="437"/>
                </a:lnTo>
                <a:lnTo>
                  <a:pt x="334" y="424"/>
                </a:lnTo>
                <a:lnTo>
                  <a:pt x="334" y="422"/>
                </a:lnTo>
                <a:lnTo>
                  <a:pt x="334" y="418"/>
                </a:lnTo>
                <a:lnTo>
                  <a:pt x="336" y="415"/>
                </a:lnTo>
                <a:lnTo>
                  <a:pt x="334" y="413"/>
                </a:lnTo>
                <a:lnTo>
                  <a:pt x="336" y="407"/>
                </a:lnTo>
                <a:lnTo>
                  <a:pt x="342" y="402"/>
                </a:lnTo>
                <a:lnTo>
                  <a:pt x="344" y="394"/>
                </a:lnTo>
                <a:lnTo>
                  <a:pt x="340" y="393"/>
                </a:lnTo>
                <a:lnTo>
                  <a:pt x="329" y="384"/>
                </a:lnTo>
                <a:lnTo>
                  <a:pt x="327" y="371"/>
                </a:lnTo>
                <a:lnTo>
                  <a:pt x="327" y="367"/>
                </a:lnTo>
                <a:lnTo>
                  <a:pt x="329" y="363"/>
                </a:lnTo>
                <a:lnTo>
                  <a:pt x="329" y="360"/>
                </a:lnTo>
                <a:lnTo>
                  <a:pt x="329" y="356"/>
                </a:lnTo>
                <a:lnTo>
                  <a:pt x="322" y="343"/>
                </a:lnTo>
                <a:lnTo>
                  <a:pt x="320" y="341"/>
                </a:lnTo>
                <a:lnTo>
                  <a:pt x="314" y="338"/>
                </a:lnTo>
                <a:lnTo>
                  <a:pt x="313" y="336"/>
                </a:lnTo>
                <a:lnTo>
                  <a:pt x="313" y="332"/>
                </a:lnTo>
                <a:lnTo>
                  <a:pt x="311" y="320"/>
                </a:lnTo>
                <a:lnTo>
                  <a:pt x="314" y="316"/>
                </a:lnTo>
                <a:lnTo>
                  <a:pt x="318" y="316"/>
                </a:lnTo>
                <a:lnTo>
                  <a:pt x="322" y="307"/>
                </a:lnTo>
                <a:lnTo>
                  <a:pt x="322" y="305"/>
                </a:lnTo>
                <a:lnTo>
                  <a:pt x="316" y="301"/>
                </a:lnTo>
                <a:lnTo>
                  <a:pt x="314" y="299"/>
                </a:lnTo>
                <a:lnTo>
                  <a:pt x="311" y="299"/>
                </a:lnTo>
                <a:lnTo>
                  <a:pt x="307" y="299"/>
                </a:lnTo>
                <a:lnTo>
                  <a:pt x="303" y="299"/>
                </a:lnTo>
                <a:lnTo>
                  <a:pt x="302" y="298"/>
                </a:lnTo>
                <a:lnTo>
                  <a:pt x="302" y="296"/>
                </a:lnTo>
                <a:lnTo>
                  <a:pt x="300" y="294"/>
                </a:lnTo>
                <a:lnTo>
                  <a:pt x="287" y="268"/>
                </a:lnTo>
                <a:lnTo>
                  <a:pt x="291" y="246"/>
                </a:lnTo>
                <a:lnTo>
                  <a:pt x="292" y="232"/>
                </a:lnTo>
                <a:lnTo>
                  <a:pt x="294" y="230"/>
                </a:lnTo>
                <a:lnTo>
                  <a:pt x="300" y="224"/>
                </a:lnTo>
                <a:lnTo>
                  <a:pt x="302" y="226"/>
                </a:lnTo>
                <a:lnTo>
                  <a:pt x="309" y="224"/>
                </a:lnTo>
                <a:lnTo>
                  <a:pt x="316" y="217"/>
                </a:lnTo>
                <a:lnTo>
                  <a:pt x="316" y="214"/>
                </a:lnTo>
                <a:lnTo>
                  <a:pt x="313" y="210"/>
                </a:lnTo>
                <a:lnTo>
                  <a:pt x="313" y="208"/>
                </a:lnTo>
                <a:lnTo>
                  <a:pt x="313" y="204"/>
                </a:lnTo>
                <a:lnTo>
                  <a:pt x="313" y="197"/>
                </a:lnTo>
                <a:lnTo>
                  <a:pt x="318" y="184"/>
                </a:lnTo>
                <a:lnTo>
                  <a:pt x="320" y="181"/>
                </a:lnTo>
                <a:lnTo>
                  <a:pt x="323" y="173"/>
                </a:lnTo>
                <a:lnTo>
                  <a:pt x="331" y="160"/>
                </a:lnTo>
                <a:lnTo>
                  <a:pt x="338" y="157"/>
                </a:lnTo>
                <a:lnTo>
                  <a:pt x="342" y="157"/>
                </a:lnTo>
                <a:lnTo>
                  <a:pt x="344" y="157"/>
                </a:lnTo>
                <a:lnTo>
                  <a:pt x="349" y="155"/>
                </a:lnTo>
                <a:lnTo>
                  <a:pt x="353" y="150"/>
                </a:lnTo>
                <a:lnTo>
                  <a:pt x="360" y="137"/>
                </a:lnTo>
                <a:lnTo>
                  <a:pt x="360" y="133"/>
                </a:lnTo>
                <a:lnTo>
                  <a:pt x="358" y="129"/>
                </a:lnTo>
                <a:lnTo>
                  <a:pt x="356" y="129"/>
                </a:lnTo>
                <a:lnTo>
                  <a:pt x="351" y="118"/>
                </a:lnTo>
                <a:lnTo>
                  <a:pt x="351" y="117"/>
                </a:lnTo>
                <a:lnTo>
                  <a:pt x="353" y="111"/>
                </a:lnTo>
                <a:lnTo>
                  <a:pt x="353" y="100"/>
                </a:lnTo>
                <a:lnTo>
                  <a:pt x="353" y="91"/>
                </a:lnTo>
                <a:lnTo>
                  <a:pt x="351" y="91"/>
                </a:lnTo>
                <a:lnTo>
                  <a:pt x="349" y="89"/>
                </a:lnTo>
                <a:lnTo>
                  <a:pt x="347" y="87"/>
                </a:lnTo>
                <a:lnTo>
                  <a:pt x="347" y="86"/>
                </a:lnTo>
                <a:lnTo>
                  <a:pt x="347" y="84"/>
                </a:lnTo>
                <a:lnTo>
                  <a:pt x="347" y="80"/>
                </a:lnTo>
                <a:lnTo>
                  <a:pt x="347" y="76"/>
                </a:lnTo>
                <a:lnTo>
                  <a:pt x="347" y="75"/>
                </a:lnTo>
                <a:lnTo>
                  <a:pt x="344" y="64"/>
                </a:lnTo>
                <a:lnTo>
                  <a:pt x="342" y="58"/>
                </a:lnTo>
                <a:lnTo>
                  <a:pt x="340" y="56"/>
                </a:lnTo>
                <a:lnTo>
                  <a:pt x="342" y="51"/>
                </a:lnTo>
                <a:lnTo>
                  <a:pt x="347" y="42"/>
                </a:lnTo>
                <a:lnTo>
                  <a:pt x="353" y="36"/>
                </a:lnTo>
                <a:lnTo>
                  <a:pt x="360" y="34"/>
                </a:lnTo>
                <a:lnTo>
                  <a:pt x="362" y="33"/>
                </a:lnTo>
                <a:lnTo>
                  <a:pt x="364" y="33"/>
                </a:lnTo>
                <a:lnTo>
                  <a:pt x="364" y="29"/>
                </a:lnTo>
                <a:lnTo>
                  <a:pt x="364" y="23"/>
                </a:lnTo>
                <a:lnTo>
                  <a:pt x="367" y="12"/>
                </a:lnTo>
                <a:lnTo>
                  <a:pt x="371" y="3"/>
                </a:lnTo>
                <a:lnTo>
                  <a:pt x="369" y="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52800" y="2019240"/>
            <a:ext cx="2476440" cy="1184400"/>
          </a:xfrm>
          <a:custGeom>
            <a:avLst/>
            <a:gdLst/>
            <a:ahLst/>
            <a:rect l="l" t="t" r="r" b="b"/>
            <a:pathLst>
              <a:path w="1549" h="808">
                <a:moveTo>
                  <a:pt x="2" y="671"/>
                </a:moveTo>
                <a:lnTo>
                  <a:pt x="2" y="669"/>
                </a:lnTo>
                <a:lnTo>
                  <a:pt x="0" y="667"/>
                </a:lnTo>
                <a:lnTo>
                  <a:pt x="0" y="661"/>
                </a:lnTo>
                <a:lnTo>
                  <a:pt x="6" y="654"/>
                </a:lnTo>
                <a:lnTo>
                  <a:pt x="10" y="652"/>
                </a:lnTo>
                <a:lnTo>
                  <a:pt x="10" y="649"/>
                </a:lnTo>
                <a:lnTo>
                  <a:pt x="10" y="636"/>
                </a:lnTo>
                <a:lnTo>
                  <a:pt x="15" y="632"/>
                </a:lnTo>
                <a:lnTo>
                  <a:pt x="22" y="627"/>
                </a:lnTo>
                <a:lnTo>
                  <a:pt x="35" y="614"/>
                </a:lnTo>
                <a:lnTo>
                  <a:pt x="39" y="610"/>
                </a:lnTo>
                <a:lnTo>
                  <a:pt x="41" y="607"/>
                </a:lnTo>
                <a:lnTo>
                  <a:pt x="42" y="603"/>
                </a:lnTo>
                <a:lnTo>
                  <a:pt x="44" y="598"/>
                </a:lnTo>
                <a:lnTo>
                  <a:pt x="48" y="596"/>
                </a:lnTo>
                <a:lnTo>
                  <a:pt x="52" y="596"/>
                </a:lnTo>
                <a:lnTo>
                  <a:pt x="55" y="594"/>
                </a:lnTo>
                <a:lnTo>
                  <a:pt x="55" y="592"/>
                </a:lnTo>
                <a:lnTo>
                  <a:pt x="57" y="590"/>
                </a:lnTo>
                <a:lnTo>
                  <a:pt x="59" y="588"/>
                </a:lnTo>
                <a:lnTo>
                  <a:pt x="61" y="576"/>
                </a:lnTo>
                <a:lnTo>
                  <a:pt x="63" y="572"/>
                </a:lnTo>
                <a:lnTo>
                  <a:pt x="66" y="561"/>
                </a:lnTo>
                <a:lnTo>
                  <a:pt x="68" y="559"/>
                </a:lnTo>
                <a:lnTo>
                  <a:pt x="83" y="535"/>
                </a:lnTo>
                <a:lnTo>
                  <a:pt x="86" y="528"/>
                </a:lnTo>
                <a:lnTo>
                  <a:pt x="84" y="524"/>
                </a:lnTo>
                <a:lnTo>
                  <a:pt x="86" y="521"/>
                </a:lnTo>
                <a:lnTo>
                  <a:pt x="88" y="519"/>
                </a:lnTo>
                <a:lnTo>
                  <a:pt x="92" y="513"/>
                </a:lnTo>
                <a:lnTo>
                  <a:pt x="94" y="512"/>
                </a:lnTo>
                <a:lnTo>
                  <a:pt x="97" y="512"/>
                </a:lnTo>
                <a:lnTo>
                  <a:pt x="103" y="512"/>
                </a:lnTo>
                <a:lnTo>
                  <a:pt x="106" y="515"/>
                </a:lnTo>
                <a:lnTo>
                  <a:pt x="130" y="508"/>
                </a:lnTo>
                <a:lnTo>
                  <a:pt x="132" y="506"/>
                </a:lnTo>
                <a:lnTo>
                  <a:pt x="136" y="504"/>
                </a:lnTo>
                <a:lnTo>
                  <a:pt x="137" y="504"/>
                </a:lnTo>
                <a:lnTo>
                  <a:pt x="141" y="493"/>
                </a:lnTo>
                <a:lnTo>
                  <a:pt x="141" y="491"/>
                </a:lnTo>
                <a:lnTo>
                  <a:pt x="128" y="473"/>
                </a:lnTo>
                <a:lnTo>
                  <a:pt x="127" y="471"/>
                </a:lnTo>
                <a:lnTo>
                  <a:pt x="121" y="466"/>
                </a:lnTo>
                <a:lnTo>
                  <a:pt x="117" y="460"/>
                </a:lnTo>
                <a:lnTo>
                  <a:pt x="114" y="457"/>
                </a:lnTo>
                <a:lnTo>
                  <a:pt x="114" y="455"/>
                </a:lnTo>
                <a:lnTo>
                  <a:pt x="114" y="453"/>
                </a:lnTo>
                <a:lnTo>
                  <a:pt x="114" y="449"/>
                </a:lnTo>
                <a:lnTo>
                  <a:pt x="114" y="448"/>
                </a:lnTo>
                <a:lnTo>
                  <a:pt x="114" y="442"/>
                </a:lnTo>
                <a:lnTo>
                  <a:pt x="114" y="438"/>
                </a:lnTo>
                <a:lnTo>
                  <a:pt x="116" y="435"/>
                </a:lnTo>
                <a:lnTo>
                  <a:pt x="117" y="433"/>
                </a:lnTo>
                <a:lnTo>
                  <a:pt x="119" y="431"/>
                </a:lnTo>
                <a:lnTo>
                  <a:pt x="123" y="428"/>
                </a:lnTo>
                <a:lnTo>
                  <a:pt x="128" y="424"/>
                </a:lnTo>
                <a:lnTo>
                  <a:pt x="130" y="420"/>
                </a:lnTo>
                <a:lnTo>
                  <a:pt x="125" y="396"/>
                </a:lnTo>
                <a:lnTo>
                  <a:pt x="121" y="380"/>
                </a:lnTo>
                <a:lnTo>
                  <a:pt x="121" y="378"/>
                </a:lnTo>
                <a:lnTo>
                  <a:pt x="116" y="369"/>
                </a:lnTo>
                <a:lnTo>
                  <a:pt x="112" y="356"/>
                </a:lnTo>
                <a:lnTo>
                  <a:pt x="112" y="354"/>
                </a:lnTo>
                <a:lnTo>
                  <a:pt x="112" y="351"/>
                </a:lnTo>
                <a:lnTo>
                  <a:pt x="112" y="349"/>
                </a:lnTo>
                <a:lnTo>
                  <a:pt x="114" y="342"/>
                </a:lnTo>
                <a:lnTo>
                  <a:pt x="116" y="340"/>
                </a:lnTo>
                <a:lnTo>
                  <a:pt x="117" y="336"/>
                </a:lnTo>
                <a:lnTo>
                  <a:pt x="117" y="334"/>
                </a:lnTo>
                <a:lnTo>
                  <a:pt x="117" y="332"/>
                </a:lnTo>
                <a:lnTo>
                  <a:pt x="119" y="329"/>
                </a:lnTo>
                <a:lnTo>
                  <a:pt x="121" y="325"/>
                </a:lnTo>
                <a:lnTo>
                  <a:pt x="123" y="325"/>
                </a:lnTo>
                <a:lnTo>
                  <a:pt x="128" y="323"/>
                </a:lnTo>
                <a:lnTo>
                  <a:pt x="136" y="321"/>
                </a:lnTo>
                <a:lnTo>
                  <a:pt x="121" y="300"/>
                </a:lnTo>
                <a:lnTo>
                  <a:pt x="116" y="296"/>
                </a:lnTo>
                <a:lnTo>
                  <a:pt x="114" y="290"/>
                </a:lnTo>
                <a:lnTo>
                  <a:pt x="114" y="289"/>
                </a:lnTo>
                <a:lnTo>
                  <a:pt x="117" y="283"/>
                </a:lnTo>
                <a:lnTo>
                  <a:pt x="121" y="278"/>
                </a:lnTo>
                <a:lnTo>
                  <a:pt x="125" y="270"/>
                </a:lnTo>
                <a:lnTo>
                  <a:pt x="132" y="261"/>
                </a:lnTo>
                <a:lnTo>
                  <a:pt x="145" y="250"/>
                </a:lnTo>
                <a:lnTo>
                  <a:pt x="150" y="248"/>
                </a:lnTo>
                <a:lnTo>
                  <a:pt x="180" y="237"/>
                </a:lnTo>
                <a:lnTo>
                  <a:pt x="203" y="226"/>
                </a:lnTo>
                <a:lnTo>
                  <a:pt x="211" y="225"/>
                </a:lnTo>
                <a:lnTo>
                  <a:pt x="233" y="215"/>
                </a:lnTo>
                <a:lnTo>
                  <a:pt x="242" y="188"/>
                </a:lnTo>
                <a:lnTo>
                  <a:pt x="251" y="155"/>
                </a:lnTo>
                <a:lnTo>
                  <a:pt x="253" y="151"/>
                </a:lnTo>
                <a:lnTo>
                  <a:pt x="256" y="141"/>
                </a:lnTo>
                <a:lnTo>
                  <a:pt x="260" y="128"/>
                </a:lnTo>
                <a:lnTo>
                  <a:pt x="265" y="117"/>
                </a:lnTo>
                <a:lnTo>
                  <a:pt x="247" y="100"/>
                </a:lnTo>
                <a:lnTo>
                  <a:pt x="253" y="89"/>
                </a:lnTo>
                <a:lnTo>
                  <a:pt x="264" y="82"/>
                </a:lnTo>
                <a:lnTo>
                  <a:pt x="264" y="77"/>
                </a:lnTo>
                <a:lnTo>
                  <a:pt x="264" y="71"/>
                </a:lnTo>
                <a:lnTo>
                  <a:pt x="273" y="66"/>
                </a:lnTo>
                <a:lnTo>
                  <a:pt x="280" y="64"/>
                </a:lnTo>
                <a:lnTo>
                  <a:pt x="287" y="62"/>
                </a:lnTo>
                <a:lnTo>
                  <a:pt x="287" y="56"/>
                </a:lnTo>
                <a:lnTo>
                  <a:pt x="291" y="42"/>
                </a:lnTo>
                <a:lnTo>
                  <a:pt x="295" y="40"/>
                </a:lnTo>
                <a:lnTo>
                  <a:pt x="302" y="38"/>
                </a:lnTo>
                <a:lnTo>
                  <a:pt x="308" y="38"/>
                </a:lnTo>
                <a:lnTo>
                  <a:pt x="313" y="36"/>
                </a:lnTo>
                <a:lnTo>
                  <a:pt x="322" y="33"/>
                </a:lnTo>
                <a:lnTo>
                  <a:pt x="328" y="31"/>
                </a:lnTo>
                <a:lnTo>
                  <a:pt x="331" y="27"/>
                </a:lnTo>
                <a:lnTo>
                  <a:pt x="333" y="24"/>
                </a:lnTo>
                <a:lnTo>
                  <a:pt x="335" y="18"/>
                </a:lnTo>
                <a:lnTo>
                  <a:pt x="337" y="11"/>
                </a:lnTo>
                <a:lnTo>
                  <a:pt x="339" y="2"/>
                </a:lnTo>
                <a:lnTo>
                  <a:pt x="340" y="0"/>
                </a:lnTo>
                <a:lnTo>
                  <a:pt x="342" y="0"/>
                </a:lnTo>
                <a:lnTo>
                  <a:pt x="353" y="5"/>
                </a:lnTo>
                <a:lnTo>
                  <a:pt x="368" y="14"/>
                </a:lnTo>
                <a:lnTo>
                  <a:pt x="373" y="22"/>
                </a:lnTo>
                <a:lnTo>
                  <a:pt x="379" y="27"/>
                </a:lnTo>
                <a:lnTo>
                  <a:pt x="386" y="31"/>
                </a:lnTo>
                <a:lnTo>
                  <a:pt x="395" y="31"/>
                </a:lnTo>
                <a:lnTo>
                  <a:pt x="401" y="31"/>
                </a:lnTo>
                <a:lnTo>
                  <a:pt x="439" y="29"/>
                </a:lnTo>
                <a:lnTo>
                  <a:pt x="459" y="29"/>
                </a:lnTo>
                <a:lnTo>
                  <a:pt x="489" y="38"/>
                </a:lnTo>
                <a:lnTo>
                  <a:pt x="498" y="42"/>
                </a:lnTo>
                <a:lnTo>
                  <a:pt x="501" y="45"/>
                </a:lnTo>
                <a:lnTo>
                  <a:pt x="501" y="47"/>
                </a:lnTo>
                <a:lnTo>
                  <a:pt x="503" y="60"/>
                </a:lnTo>
                <a:lnTo>
                  <a:pt x="510" y="77"/>
                </a:lnTo>
                <a:lnTo>
                  <a:pt x="520" y="95"/>
                </a:lnTo>
                <a:lnTo>
                  <a:pt x="527" y="91"/>
                </a:lnTo>
                <a:lnTo>
                  <a:pt x="542" y="60"/>
                </a:lnTo>
                <a:lnTo>
                  <a:pt x="549" y="44"/>
                </a:lnTo>
                <a:lnTo>
                  <a:pt x="554" y="29"/>
                </a:lnTo>
                <a:lnTo>
                  <a:pt x="560" y="20"/>
                </a:lnTo>
                <a:lnTo>
                  <a:pt x="580" y="20"/>
                </a:lnTo>
                <a:lnTo>
                  <a:pt x="584" y="22"/>
                </a:lnTo>
                <a:lnTo>
                  <a:pt x="593" y="22"/>
                </a:lnTo>
                <a:lnTo>
                  <a:pt x="637" y="20"/>
                </a:lnTo>
                <a:lnTo>
                  <a:pt x="660" y="20"/>
                </a:lnTo>
                <a:lnTo>
                  <a:pt x="668" y="20"/>
                </a:lnTo>
                <a:lnTo>
                  <a:pt x="670" y="22"/>
                </a:lnTo>
                <a:lnTo>
                  <a:pt x="670" y="25"/>
                </a:lnTo>
                <a:lnTo>
                  <a:pt x="670" y="29"/>
                </a:lnTo>
                <a:lnTo>
                  <a:pt x="670" y="31"/>
                </a:lnTo>
                <a:lnTo>
                  <a:pt x="673" y="35"/>
                </a:lnTo>
                <a:lnTo>
                  <a:pt x="682" y="44"/>
                </a:lnTo>
                <a:lnTo>
                  <a:pt x="684" y="44"/>
                </a:lnTo>
                <a:lnTo>
                  <a:pt x="686" y="47"/>
                </a:lnTo>
                <a:lnTo>
                  <a:pt x="695" y="56"/>
                </a:lnTo>
                <a:lnTo>
                  <a:pt x="708" y="64"/>
                </a:lnTo>
                <a:lnTo>
                  <a:pt x="712" y="66"/>
                </a:lnTo>
                <a:lnTo>
                  <a:pt x="713" y="66"/>
                </a:lnTo>
                <a:lnTo>
                  <a:pt x="715" y="67"/>
                </a:lnTo>
                <a:lnTo>
                  <a:pt x="719" y="67"/>
                </a:lnTo>
                <a:lnTo>
                  <a:pt x="723" y="71"/>
                </a:lnTo>
                <a:lnTo>
                  <a:pt x="723" y="73"/>
                </a:lnTo>
                <a:lnTo>
                  <a:pt x="723" y="75"/>
                </a:lnTo>
                <a:lnTo>
                  <a:pt x="732" y="93"/>
                </a:lnTo>
                <a:lnTo>
                  <a:pt x="746" y="117"/>
                </a:lnTo>
                <a:lnTo>
                  <a:pt x="754" y="124"/>
                </a:lnTo>
                <a:lnTo>
                  <a:pt x="781" y="144"/>
                </a:lnTo>
                <a:lnTo>
                  <a:pt x="799" y="157"/>
                </a:lnTo>
                <a:lnTo>
                  <a:pt x="807" y="161"/>
                </a:lnTo>
                <a:lnTo>
                  <a:pt x="814" y="164"/>
                </a:lnTo>
                <a:lnTo>
                  <a:pt x="825" y="170"/>
                </a:lnTo>
                <a:lnTo>
                  <a:pt x="832" y="175"/>
                </a:lnTo>
                <a:lnTo>
                  <a:pt x="840" y="190"/>
                </a:lnTo>
                <a:lnTo>
                  <a:pt x="840" y="192"/>
                </a:lnTo>
                <a:lnTo>
                  <a:pt x="841" y="195"/>
                </a:lnTo>
                <a:lnTo>
                  <a:pt x="843" y="195"/>
                </a:lnTo>
                <a:lnTo>
                  <a:pt x="854" y="199"/>
                </a:lnTo>
                <a:lnTo>
                  <a:pt x="865" y="201"/>
                </a:lnTo>
                <a:lnTo>
                  <a:pt x="869" y="201"/>
                </a:lnTo>
                <a:lnTo>
                  <a:pt x="880" y="203"/>
                </a:lnTo>
                <a:lnTo>
                  <a:pt x="882" y="205"/>
                </a:lnTo>
                <a:lnTo>
                  <a:pt x="883" y="208"/>
                </a:lnTo>
                <a:lnTo>
                  <a:pt x="894" y="212"/>
                </a:lnTo>
                <a:lnTo>
                  <a:pt x="911" y="217"/>
                </a:lnTo>
                <a:lnTo>
                  <a:pt x="924" y="217"/>
                </a:lnTo>
                <a:lnTo>
                  <a:pt x="925" y="217"/>
                </a:lnTo>
                <a:lnTo>
                  <a:pt x="927" y="215"/>
                </a:lnTo>
                <a:lnTo>
                  <a:pt x="929" y="215"/>
                </a:lnTo>
                <a:lnTo>
                  <a:pt x="933" y="214"/>
                </a:lnTo>
                <a:lnTo>
                  <a:pt x="935" y="214"/>
                </a:lnTo>
                <a:lnTo>
                  <a:pt x="940" y="217"/>
                </a:lnTo>
                <a:lnTo>
                  <a:pt x="984" y="243"/>
                </a:lnTo>
                <a:lnTo>
                  <a:pt x="989" y="247"/>
                </a:lnTo>
                <a:lnTo>
                  <a:pt x="999" y="254"/>
                </a:lnTo>
                <a:lnTo>
                  <a:pt x="1000" y="258"/>
                </a:lnTo>
                <a:lnTo>
                  <a:pt x="1002" y="259"/>
                </a:lnTo>
                <a:lnTo>
                  <a:pt x="1006" y="263"/>
                </a:lnTo>
                <a:lnTo>
                  <a:pt x="1024" y="272"/>
                </a:lnTo>
                <a:lnTo>
                  <a:pt x="1030" y="272"/>
                </a:lnTo>
                <a:lnTo>
                  <a:pt x="1035" y="276"/>
                </a:lnTo>
                <a:lnTo>
                  <a:pt x="1041" y="279"/>
                </a:lnTo>
                <a:lnTo>
                  <a:pt x="1042" y="279"/>
                </a:lnTo>
                <a:lnTo>
                  <a:pt x="1046" y="283"/>
                </a:lnTo>
                <a:lnTo>
                  <a:pt x="1053" y="289"/>
                </a:lnTo>
                <a:lnTo>
                  <a:pt x="1066" y="292"/>
                </a:lnTo>
                <a:lnTo>
                  <a:pt x="1072" y="292"/>
                </a:lnTo>
                <a:lnTo>
                  <a:pt x="1075" y="292"/>
                </a:lnTo>
                <a:lnTo>
                  <a:pt x="1079" y="292"/>
                </a:lnTo>
                <a:lnTo>
                  <a:pt x="1088" y="296"/>
                </a:lnTo>
                <a:lnTo>
                  <a:pt x="1097" y="305"/>
                </a:lnTo>
                <a:lnTo>
                  <a:pt x="1103" y="307"/>
                </a:lnTo>
                <a:lnTo>
                  <a:pt x="1114" y="307"/>
                </a:lnTo>
                <a:lnTo>
                  <a:pt x="1117" y="311"/>
                </a:lnTo>
                <a:lnTo>
                  <a:pt x="1125" y="312"/>
                </a:lnTo>
                <a:lnTo>
                  <a:pt x="1138" y="316"/>
                </a:lnTo>
                <a:lnTo>
                  <a:pt x="1139" y="316"/>
                </a:lnTo>
                <a:lnTo>
                  <a:pt x="1143" y="318"/>
                </a:lnTo>
                <a:lnTo>
                  <a:pt x="1145" y="318"/>
                </a:lnTo>
                <a:lnTo>
                  <a:pt x="1154" y="325"/>
                </a:lnTo>
                <a:lnTo>
                  <a:pt x="1154" y="329"/>
                </a:lnTo>
                <a:lnTo>
                  <a:pt x="1156" y="331"/>
                </a:lnTo>
                <a:lnTo>
                  <a:pt x="1159" y="334"/>
                </a:lnTo>
                <a:lnTo>
                  <a:pt x="1161" y="338"/>
                </a:lnTo>
                <a:lnTo>
                  <a:pt x="1163" y="338"/>
                </a:lnTo>
                <a:lnTo>
                  <a:pt x="1167" y="345"/>
                </a:lnTo>
                <a:lnTo>
                  <a:pt x="1170" y="349"/>
                </a:lnTo>
                <a:lnTo>
                  <a:pt x="1174" y="351"/>
                </a:lnTo>
                <a:lnTo>
                  <a:pt x="1174" y="354"/>
                </a:lnTo>
                <a:lnTo>
                  <a:pt x="1172" y="362"/>
                </a:lnTo>
                <a:lnTo>
                  <a:pt x="1154" y="380"/>
                </a:lnTo>
                <a:lnTo>
                  <a:pt x="1150" y="382"/>
                </a:lnTo>
                <a:lnTo>
                  <a:pt x="1149" y="384"/>
                </a:lnTo>
                <a:lnTo>
                  <a:pt x="1149" y="389"/>
                </a:lnTo>
                <a:lnTo>
                  <a:pt x="1145" y="396"/>
                </a:lnTo>
                <a:lnTo>
                  <a:pt x="1139" y="400"/>
                </a:lnTo>
                <a:lnTo>
                  <a:pt x="1141" y="402"/>
                </a:lnTo>
                <a:lnTo>
                  <a:pt x="1145" y="406"/>
                </a:lnTo>
                <a:lnTo>
                  <a:pt x="1130" y="415"/>
                </a:lnTo>
                <a:lnTo>
                  <a:pt x="1127" y="417"/>
                </a:lnTo>
                <a:lnTo>
                  <a:pt x="1117" y="426"/>
                </a:lnTo>
                <a:lnTo>
                  <a:pt x="1110" y="446"/>
                </a:lnTo>
                <a:lnTo>
                  <a:pt x="1110" y="457"/>
                </a:lnTo>
                <a:lnTo>
                  <a:pt x="1114" y="460"/>
                </a:lnTo>
                <a:lnTo>
                  <a:pt x="1114" y="462"/>
                </a:lnTo>
                <a:lnTo>
                  <a:pt x="1114" y="468"/>
                </a:lnTo>
                <a:lnTo>
                  <a:pt x="1101" y="490"/>
                </a:lnTo>
                <a:lnTo>
                  <a:pt x="1097" y="490"/>
                </a:lnTo>
                <a:lnTo>
                  <a:pt x="1094" y="491"/>
                </a:lnTo>
                <a:lnTo>
                  <a:pt x="1085" y="501"/>
                </a:lnTo>
                <a:lnTo>
                  <a:pt x="1075" y="513"/>
                </a:lnTo>
                <a:lnTo>
                  <a:pt x="1072" y="513"/>
                </a:lnTo>
                <a:lnTo>
                  <a:pt x="1070" y="513"/>
                </a:lnTo>
                <a:lnTo>
                  <a:pt x="1068" y="517"/>
                </a:lnTo>
                <a:lnTo>
                  <a:pt x="1068" y="519"/>
                </a:lnTo>
                <a:lnTo>
                  <a:pt x="1072" y="523"/>
                </a:lnTo>
                <a:lnTo>
                  <a:pt x="1074" y="524"/>
                </a:lnTo>
                <a:lnTo>
                  <a:pt x="1072" y="532"/>
                </a:lnTo>
                <a:lnTo>
                  <a:pt x="1077" y="530"/>
                </a:lnTo>
                <a:lnTo>
                  <a:pt x="1079" y="530"/>
                </a:lnTo>
                <a:lnTo>
                  <a:pt x="1083" y="530"/>
                </a:lnTo>
                <a:lnTo>
                  <a:pt x="1085" y="528"/>
                </a:lnTo>
                <a:lnTo>
                  <a:pt x="1103" y="528"/>
                </a:lnTo>
                <a:lnTo>
                  <a:pt x="1116" y="526"/>
                </a:lnTo>
                <a:lnTo>
                  <a:pt x="1130" y="528"/>
                </a:lnTo>
                <a:lnTo>
                  <a:pt x="1138" y="528"/>
                </a:lnTo>
                <a:lnTo>
                  <a:pt x="1150" y="530"/>
                </a:lnTo>
                <a:lnTo>
                  <a:pt x="1156" y="530"/>
                </a:lnTo>
                <a:lnTo>
                  <a:pt x="1159" y="532"/>
                </a:lnTo>
                <a:lnTo>
                  <a:pt x="1161" y="534"/>
                </a:lnTo>
                <a:lnTo>
                  <a:pt x="1165" y="535"/>
                </a:lnTo>
                <a:lnTo>
                  <a:pt x="1167" y="537"/>
                </a:lnTo>
                <a:lnTo>
                  <a:pt x="1187" y="541"/>
                </a:lnTo>
                <a:lnTo>
                  <a:pt x="1194" y="543"/>
                </a:lnTo>
                <a:lnTo>
                  <a:pt x="1196" y="543"/>
                </a:lnTo>
                <a:lnTo>
                  <a:pt x="1198" y="543"/>
                </a:lnTo>
                <a:lnTo>
                  <a:pt x="1202" y="545"/>
                </a:lnTo>
                <a:lnTo>
                  <a:pt x="1203" y="545"/>
                </a:lnTo>
                <a:lnTo>
                  <a:pt x="1207" y="546"/>
                </a:lnTo>
                <a:lnTo>
                  <a:pt x="1211" y="548"/>
                </a:lnTo>
                <a:lnTo>
                  <a:pt x="1214" y="548"/>
                </a:lnTo>
                <a:lnTo>
                  <a:pt x="1220" y="548"/>
                </a:lnTo>
                <a:lnTo>
                  <a:pt x="1223" y="546"/>
                </a:lnTo>
                <a:lnTo>
                  <a:pt x="1227" y="545"/>
                </a:lnTo>
                <a:lnTo>
                  <a:pt x="1231" y="543"/>
                </a:lnTo>
                <a:lnTo>
                  <a:pt x="1234" y="541"/>
                </a:lnTo>
                <a:lnTo>
                  <a:pt x="1238" y="541"/>
                </a:lnTo>
                <a:lnTo>
                  <a:pt x="1240" y="543"/>
                </a:lnTo>
                <a:lnTo>
                  <a:pt x="1242" y="545"/>
                </a:lnTo>
                <a:lnTo>
                  <a:pt x="1245" y="546"/>
                </a:lnTo>
                <a:lnTo>
                  <a:pt x="1247" y="548"/>
                </a:lnTo>
                <a:lnTo>
                  <a:pt x="1249" y="550"/>
                </a:lnTo>
                <a:lnTo>
                  <a:pt x="1253" y="550"/>
                </a:lnTo>
                <a:lnTo>
                  <a:pt x="1255" y="548"/>
                </a:lnTo>
                <a:lnTo>
                  <a:pt x="1256" y="546"/>
                </a:lnTo>
                <a:lnTo>
                  <a:pt x="1258" y="546"/>
                </a:lnTo>
                <a:lnTo>
                  <a:pt x="1262" y="545"/>
                </a:lnTo>
                <a:lnTo>
                  <a:pt x="1266" y="545"/>
                </a:lnTo>
                <a:lnTo>
                  <a:pt x="1267" y="545"/>
                </a:lnTo>
                <a:lnTo>
                  <a:pt x="1271" y="545"/>
                </a:lnTo>
                <a:lnTo>
                  <a:pt x="1273" y="546"/>
                </a:lnTo>
                <a:lnTo>
                  <a:pt x="1275" y="546"/>
                </a:lnTo>
                <a:lnTo>
                  <a:pt x="1275" y="550"/>
                </a:lnTo>
                <a:lnTo>
                  <a:pt x="1278" y="554"/>
                </a:lnTo>
                <a:lnTo>
                  <a:pt x="1282" y="557"/>
                </a:lnTo>
                <a:lnTo>
                  <a:pt x="1286" y="557"/>
                </a:lnTo>
                <a:lnTo>
                  <a:pt x="1287" y="557"/>
                </a:lnTo>
                <a:lnTo>
                  <a:pt x="1289" y="555"/>
                </a:lnTo>
                <a:lnTo>
                  <a:pt x="1297" y="546"/>
                </a:lnTo>
                <a:lnTo>
                  <a:pt x="1297" y="545"/>
                </a:lnTo>
                <a:lnTo>
                  <a:pt x="1297" y="543"/>
                </a:lnTo>
                <a:lnTo>
                  <a:pt x="1297" y="539"/>
                </a:lnTo>
                <a:lnTo>
                  <a:pt x="1309" y="532"/>
                </a:lnTo>
                <a:lnTo>
                  <a:pt x="1313" y="530"/>
                </a:lnTo>
                <a:lnTo>
                  <a:pt x="1317" y="530"/>
                </a:lnTo>
                <a:lnTo>
                  <a:pt x="1320" y="530"/>
                </a:lnTo>
                <a:lnTo>
                  <a:pt x="1326" y="534"/>
                </a:lnTo>
                <a:lnTo>
                  <a:pt x="1330" y="532"/>
                </a:lnTo>
                <a:lnTo>
                  <a:pt x="1333" y="534"/>
                </a:lnTo>
                <a:lnTo>
                  <a:pt x="1335" y="535"/>
                </a:lnTo>
                <a:lnTo>
                  <a:pt x="1337" y="539"/>
                </a:lnTo>
                <a:lnTo>
                  <a:pt x="1339" y="541"/>
                </a:lnTo>
                <a:lnTo>
                  <a:pt x="1346" y="545"/>
                </a:lnTo>
                <a:lnTo>
                  <a:pt x="1350" y="543"/>
                </a:lnTo>
                <a:lnTo>
                  <a:pt x="1361" y="534"/>
                </a:lnTo>
                <a:lnTo>
                  <a:pt x="1362" y="532"/>
                </a:lnTo>
                <a:lnTo>
                  <a:pt x="1364" y="526"/>
                </a:lnTo>
                <a:lnTo>
                  <a:pt x="1364" y="524"/>
                </a:lnTo>
                <a:lnTo>
                  <a:pt x="1362" y="523"/>
                </a:lnTo>
                <a:lnTo>
                  <a:pt x="1364" y="517"/>
                </a:lnTo>
                <a:lnTo>
                  <a:pt x="1366" y="512"/>
                </a:lnTo>
                <a:lnTo>
                  <a:pt x="1379" y="501"/>
                </a:lnTo>
                <a:lnTo>
                  <a:pt x="1381" y="499"/>
                </a:lnTo>
                <a:lnTo>
                  <a:pt x="1383" y="499"/>
                </a:lnTo>
                <a:lnTo>
                  <a:pt x="1394" y="495"/>
                </a:lnTo>
                <a:lnTo>
                  <a:pt x="1395" y="495"/>
                </a:lnTo>
                <a:lnTo>
                  <a:pt x="1406" y="490"/>
                </a:lnTo>
                <a:lnTo>
                  <a:pt x="1423" y="481"/>
                </a:lnTo>
                <a:lnTo>
                  <a:pt x="1434" y="468"/>
                </a:lnTo>
                <a:lnTo>
                  <a:pt x="1448" y="446"/>
                </a:lnTo>
                <a:lnTo>
                  <a:pt x="1452" y="433"/>
                </a:lnTo>
                <a:lnTo>
                  <a:pt x="1452" y="428"/>
                </a:lnTo>
                <a:lnTo>
                  <a:pt x="1454" y="426"/>
                </a:lnTo>
                <a:lnTo>
                  <a:pt x="1454" y="424"/>
                </a:lnTo>
                <a:lnTo>
                  <a:pt x="1452" y="420"/>
                </a:lnTo>
                <a:lnTo>
                  <a:pt x="1452" y="402"/>
                </a:lnTo>
                <a:lnTo>
                  <a:pt x="1458" y="400"/>
                </a:lnTo>
                <a:lnTo>
                  <a:pt x="1456" y="384"/>
                </a:lnTo>
                <a:lnTo>
                  <a:pt x="1456" y="371"/>
                </a:lnTo>
                <a:lnTo>
                  <a:pt x="1458" y="364"/>
                </a:lnTo>
                <a:lnTo>
                  <a:pt x="1463" y="364"/>
                </a:lnTo>
                <a:lnTo>
                  <a:pt x="1470" y="369"/>
                </a:lnTo>
                <a:lnTo>
                  <a:pt x="1472" y="369"/>
                </a:lnTo>
                <a:lnTo>
                  <a:pt x="1478" y="365"/>
                </a:lnTo>
                <a:lnTo>
                  <a:pt x="1485" y="362"/>
                </a:lnTo>
                <a:lnTo>
                  <a:pt x="1489" y="362"/>
                </a:lnTo>
                <a:lnTo>
                  <a:pt x="1498" y="364"/>
                </a:lnTo>
                <a:lnTo>
                  <a:pt x="1500" y="360"/>
                </a:lnTo>
                <a:lnTo>
                  <a:pt x="1505" y="356"/>
                </a:lnTo>
                <a:lnTo>
                  <a:pt x="1527" y="369"/>
                </a:lnTo>
                <a:lnTo>
                  <a:pt x="1529" y="375"/>
                </a:lnTo>
                <a:lnTo>
                  <a:pt x="1532" y="385"/>
                </a:lnTo>
                <a:lnTo>
                  <a:pt x="1532" y="387"/>
                </a:lnTo>
                <a:lnTo>
                  <a:pt x="1531" y="393"/>
                </a:lnTo>
                <a:lnTo>
                  <a:pt x="1532" y="400"/>
                </a:lnTo>
                <a:lnTo>
                  <a:pt x="1540" y="413"/>
                </a:lnTo>
                <a:lnTo>
                  <a:pt x="1547" y="424"/>
                </a:lnTo>
                <a:lnTo>
                  <a:pt x="1549" y="426"/>
                </a:lnTo>
                <a:lnTo>
                  <a:pt x="1549" y="429"/>
                </a:lnTo>
                <a:lnTo>
                  <a:pt x="1549" y="431"/>
                </a:lnTo>
                <a:lnTo>
                  <a:pt x="1543" y="440"/>
                </a:lnTo>
                <a:lnTo>
                  <a:pt x="1542" y="468"/>
                </a:lnTo>
                <a:lnTo>
                  <a:pt x="1543" y="481"/>
                </a:lnTo>
                <a:lnTo>
                  <a:pt x="1543" y="490"/>
                </a:lnTo>
                <a:lnTo>
                  <a:pt x="1543" y="493"/>
                </a:lnTo>
                <a:lnTo>
                  <a:pt x="1542" y="499"/>
                </a:lnTo>
                <a:lnTo>
                  <a:pt x="1540" y="501"/>
                </a:lnTo>
                <a:lnTo>
                  <a:pt x="1534" y="513"/>
                </a:lnTo>
                <a:lnTo>
                  <a:pt x="1531" y="517"/>
                </a:lnTo>
                <a:lnTo>
                  <a:pt x="1529" y="515"/>
                </a:lnTo>
                <a:lnTo>
                  <a:pt x="1525" y="515"/>
                </a:lnTo>
                <a:lnTo>
                  <a:pt x="1514" y="519"/>
                </a:lnTo>
                <a:lnTo>
                  <a:pt x="1501" y="530"/>
                </a:lnTo>
                <a:lnTo>
                  <a:pt x="1492" y="537"/>
                </a:lnTo>
                <a:lnTo>
                  <a:pt x="1489" y="543"/>
                </a:lnTo>
                <a:lnTo>
                  <a:pt x="1481" y="545"/>
                </a:lnTo>
                <a:lnTo>
                  <a:pt x="1472" y="546"/>
                </a:lnTo>
                <a:lnTo>
                  <a:pt x="1465" y="548"/>
                </a:lnTo>
                <a:lnTo>
                  <a:pt x="1456" y="552"/>
                </a:lnTo>
                <a:lnTo>
                  <a:pt x="1450" y="555"/>
                </a:lnTo>
                <a:lnTo>
                  <a:pt x="1441" y="555"/>
                </a:lnTo>
                <a:lnTo>
                  <a:pt x="1439" y="554"/>
                </a:lnTo>
                <a:lnTo>
                  <a:pt x="1439" y="552"/>
                </a:lnTo>
                <a:lnTo>
                  <a:pt x="1437" y="552"/>
                </a:lnTo>
                <a:lnTo>
                  <a:pt x="1428" y="566"/>
                </a:lnTo>
                <a:lnTo>
                  <a:pt x="1428" y="570"/>
                </a:lnTo>
                <a:lnTo>
                  <a:pt x="1428" y="572"/>
                </a:lnTo>
                <a:lnTo>
                  <a:pt x="1417" y="581"/>
                </a:lnTo>
                <a:lnTo>
                  <a:pt x="1414" y="583"/>
                </a:lnTo>
                <a:lnTo>
                  <a:pt x="1403" y="583"/>
                </a:lnTo>
                <a:lnTo>
                  <a:pt x="1388" y="590"/>
                </a:lnTo>
                <a:lnTo>
                  <a:pt x="1383" y="596"/>
                </a:lnTo>
                <a:lnTo>
                  <a:pt x="1383" y="598"/>
                </a:lnTo>
                <a:lnTo>
                  <a:pt x="1383" y="599"/>
                </a:lnTo>
                <a:lnTo>
                  <a:pt x="1375" y="605"/>
                </a:lnTo>
                <a:lnTo>
                  <a:pt x="1362" y="610"/>
                </a:lnTo>
                <a:lnTo>
                  <a:pt x="1359" y="610"/>
                </a:lnTo>
                <a:lnTo>
                  <a:pt x="1353" y="616"/>
                </a:lnTo>
                <a:lnTo>
                  <a:pt x="1353" y="627"/>
                </a:lnTo>
                <a:lnTo>
                  <a:pt x="1350" y="632"/>
                </a:lnTo>
                <a:lnTo>
                  <a:pt x="1339" y="630"/>
                </a:lnTo>
                <a:lnTo>
                  <a:pt x="1335" y="632"/>
                </a:lnTo>
                <a:lnTo>
                  <a:pt x="1333" y="632"/>
                </a:lnTo>
                <a:lnTo>
                  <a:pt x="1326" y="645"/>
                </a:lnTo>
                <a:lnTo>
                  <a:pt x="1322" y="651"/>
                </a:lnTo>
                <a:lnTo>
                  <a:pt x="1317" y="658"/>
                </a:lnTo>
                <a:lnTo>
                  <a:pt x="1308" y="667"/>
                </a:lnTo>
                <a:lnTo>
                  <a:pt x="1295" y="678"/>
                </a:lnTo>
                <a:lnTo>
                  <a:pt x="1284" y="698"/>
                </a:lnTo>
                <a:lnTo>
                  <a:pt x="1282" y="700"/>
                </a:lnTo>
                <a:lnTo>
                  <a:pt x="1273" y="702"/>
                </a:lnTo>
                <a:lnTo>
                  <a:pt x="1271" y="704"/>
                </a:lnTo>
                <a:lnTo>
                  <a:pt x="1267" y="705"/>
                </a:lnTo>
                <a:lnTo>
                  <a:pt x="1266" y="707"/>
                </a:lnTo>
                <a:lnTo>
                  <a:pt x="1264" y="711"/>
                </a:lnTo>
                <a:lnTo>
                  <a:pt x="1262" y="713"/>
                </a:lnTo>
                <a:lnTo>
                  <a:pt x="1260" y="716"/>
                </a:lnTo>
                <a:lnTo>
                  <a:pt x="1260" y="718"/>
                </a:lnTo>
                <a:lnTo>
                  <a:pt x="1256" y="727"/>
                </a:lnTo>
                <a:lnTo>
                  <a:pt x="1245" y="738"/>
                </a:lnTo>
                <a:lnTo>
                  <a:pt x="1222" y="762"/>
                </a:lnTo>
                <a:lnTo>
                  <a:pt x="1220" y="764"/>
                </a:lnTo>
                <a:lnTo>
                  <a:pt x="1216" y="768"/>
                </a:lnTo>
                <a:lnTo>
                  <a:pt x="1213" y="768"/>
                </a:lnTo>
                <a:lnTo>
                  <a:pt x="1209" y="768"/>
                </a:lnTo>
                <a:lnTo>
                  <a:pt x="1205" y="769"/>
                </a:lnTo>
                <a:lnTo>
                  <a:pt x="1202" y="769"/>
                </a:lnTo>
                <a:lnTo>
                  <a:pt x="1200" y="771"/>
                </a:lnTo>
                <a:lnTo>
                  <a:pt x="1198" y="773"/>
                </a:lnTo>
                <a:lnTo>
                  <a:pt x="1196" y="778"/>
                </a:lnTo>
                <a:lnTo>
                  <a:pt x="1196" y="780"/>
                </a:lnTo>
                <a:lnTo>
                  <a:pt x="1196" y="788"/>
                </a:lnTo>
                <a:lnTo>
                  <a:pt x="1194" y="789"/>
                </a:lnTo>
                <a:lnTo>
                  <a:pt x="1180" y="802"/>
                </a:lnTo>
                <a:lnTo>
                  <a:pt x="1176" y="806"/>
                </a:lnTo>
                <a:lnTo>
                  <a:pt x="1174" y="806"/>
                </a:lnTo>
                <a:lnTo>
                  <a:pt x="1170" y="808"/>
                </a:lnTo>
                <a:lnTo>
                  <a:pt x="1169" y="80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24160" y="6364440"/>
            <a:ext cx="538200" cy="339480"/>
          </a:xfrm>
          <a:custGeom>
            <a:avLst/>
            <a:gdLst/>
            <a:ahLst/>
            <a:rect l="l" t="t" r="r" b="b"/>
            <a:pathLst>
              <a:path w="337" h="232">
                <a:moveTo>
                  <a:pt x="2" y="0"/>
                </a:moveTo>
                <a:lnTo>
                  <a:pt x="11" y="9"/>
                </a:lnTo>
                <a:lnTo>
                  <a:pt x="19" y="16"/>
                </a:lnTo>
                <a:lnTo>
                  <a:pt x="22" y="20"/>
                </a:lnTo>
                <a:lnTo>
                  <a:pt x="28" y="23"/>
                </a:lnTo>
                <a:lnTo>
                  <a:pt x="29" y="23"/>
                </a:lnTo>
                <a:lnTo>
                  <a:pt x="31" y="25"/>
                </a:lnTo>
                <a:lnTo>
                  <a:pt x="31" y="27"/>
                </a:lnTo>
                <a:lnTo>
                  <a:pt x="33" y="27"/>
                </a:lnTo>
                <a:lnTo>
                  <a:pt x="33" y="29"/>
                </a:lnTo>
                <a:lnTo>
                  <a:pt x="35" y="31"/>
                </a:lnTo>
                <a:lnTo>
                  <a:pt x="37" y="32"/>
                </a:lnTo>
                <a:lnTo>
                  <a:pt x="37" y="34"/>
                </a:lnTo>
                <a:lnTo>
                  <a:pt x="40" y="43"/>
                </a:lnTo>
                <a:lnTo>
                  <a:pt x="40" y="45"/>
                </a:lnTo>
                <a:lnTo>
                  <a:pt x="39" y="45"/>
                </a:lnTo>
                <a:lnTo>
                  <a:pt x="37" y="43"/>
                </a:lnTo>
                <a:lnTo>
                  <a:pt x="37" y="42"/>
                </a:lnTo>
                <a:lnTo>
                  <a:pt x="35" y="40"/>
                </a:lnTo>
                <a:lnTo>
                  <a:pt x="35" y="38"/>
                </a:lnTo>
                <a:lnTo>
                  <a:pt x="35" y="36"/>
                </a:lnTo>
                <a:lnTo>
                  <a:pt x="33" y="34"/>
                </a:lnTo>
                <a:lnTo>
                  <a:pt x="31" y="34"/>
                </a:lnTo>
                <a:lnTo>
                  <a:pt x="29" y="34"/>
                </a:lnTo>
                <a:lnTo>
                  <a:pt x="26" y="34"/>
                </a:lnTo>
                <a:lnTo>
                  <a:pt x="24" y="36"/>
                </a:lnTo>
                <a:lnTo>
                  <a:pt x="9" y="45"/>
                </a:lnTo>
                <a:lnTo>
                  <a:pt x="8" y="49"/>
                </a:lnTo>
                <a:lnTo>
                  <a:pt x="6" y="51"/>
                </a:lnTo>
                <a:lnTo>
                  <a:pt x="6" y="53"/>
                </a:lnTo>
                <a:lnTo>
                  <a:pt x="8" y="53"/>
                </a:lnTo>
                <a:lnTo>
                  <a:pt x="8" y="54"/>
                </a:lnTo>
                <a:lnTo>
                  <a:pt x="9" y="56"/>
                </a:lnTo>
                <a:lnTo>
                  <a:pt x="11" y="58"/>
                </a:lnTo>
                <a:lnTo>
                  <a:pt x="13" y="60"/>
                </a:lnTo>
                <a:lnTo>
                  <a:pt x="17" y="62"/>
                </a:lnTo>
                <a:lnTo>
                  <a:pt x="20" y="62"/>
                </a:lnTo>
                <a:lnTo>
                  <a:pt x="22" y="62"/>
                </a:lnTo>
                <a:lnTo>
                  <a:pt x="26" y="64"/>
                </a:lnTo>
                <a:lnTo>
                  <a:pt x="31" y="64"/>
                </a:lnTo>
                <a:lnTo>
                  <a:pt x="33" y="64"/>
                </a:lnTo>
                <a:lnTo>
                  <a:pt x="39" y="62"/>
                </a:lnTo>
                <a:lnTo>
                  <a:pt x="42" y="62"/>
                </a:lnTo>
                <a:lnTo>
                  <a:pt x="44" y="62"/>
                </a:lnTo>
                <a:lnTo>
                  <a:pt x="46" y="62"/>
                </a:lnTo>
                <a:lnTo>
                  <a:pt x="46" y="64"/>
                </a:lnTo>
                <a:lnTo>
                  <a:pt x="51" y="69"/>
                </a:lnTo>
                <a:lnTo>
                  <a:pt x="51" y="71"/>
                </a:lnTo>
                <a:lnTo>
                  <a:pt x="53" y="71"/>
                </a:lnTo>
                <a:lnTo>
                  <a:pt x="53" y="73"/>
                </a:lnTo>
                <a:lnTo>
                  <a:pt x="55" y="78"/>
                </a:lnTo>
                <a:lnTo>
                  <a:pt x="57" y="84"/>
                </a:lnTo>
                <a:lnTo>
                  <a:pt x="61" y="89"/>
                </a:lnTo>
                <a:lnTo>
                  <a:pt x="62" y="91"/>
                </a:lnTo>
                <a:lnTo>
                  <a:pt x="64" y="93"/>
                </a:lnTo>
                <a:lnTo>
                  <a:pt x="81" y="102"/>
                </a:lnTo>
                <a:lnTo>
                  <a:pt x="86" y="106"/>
                </a:lnTo>
                <a:lnTo>
                  <a:pt x="101" y="117"/>
                </a:lnTo>
                <a:lnTo>
                  <a:pt x="101" y="118"/>
                </a:lnTo>
                <a:lnTo>
                  <a:pt x="101" y="120"/>
                </a:lnTo>
                <a:lnTo>
                  <a:pt x="103" y="122"/>
                </a:lnTo>
                <a:lnTo>
                  <a:pt x="110" y="126"/>
                </a:lnTo>
                <a:lnTo>
                  <a:pt x="123" y="133"/>
                </a:lnTo>
                <a:lnTo>
                  <a:pt x="132" y="137"/>
                </a:lnTo>
                <a:lnTo>
                  <a:pt x="157" y="148"/>
                </a:lnTo>
                <a:lnTo>
                  <a:pt x="170" y="151"/>
                </a:lnTo>
                <a:lnTo>
                  <a:pt x="190" y="162"/>
                </a:lnTo>
                <a:lnTo>
                  <a:pt x="200" y="168"/>
                </a:lnTo>
                <a:lnTo>
                  <a:pt x="201" y="170"/>
                </a:lnTo>
                <a:lnTo>
                  <a:pt x="223" y="179"/>
                </a:lnTo>
                <a:lnTo>
                  <a:pt x="227" y="181"/>
                </a:lnTo>
                <a:lnTo>
                  <a:pt x="229" y="181"/>
                </a:lnTo>
                <a:lnTo>
                  <a:pt x="231" y="182"/>
                </a:lnTo>
                <a:lnTo>
                  <a:pt x="232" y="182"/>
                </a:lnTo>
                <a:lnTo>
                  <a:pt x="247" y="186"/>
                </a:lnTo>
                <a:lnTo>
                  <a:pt x="249" y="188"/>
                </a:lnTo>
                <a:lnTo>
                  <a:pt x="273" y="193"/>
                </a:lnTo>
                <a:lnTo>
                  <a:pt x="282" y="195"/>
                </a:lnTo>
                <a:lnTo>
                  <a:pt x="284" y="195"/>
                </a:lnTo>
                <a:lnTo>
                  <a:pt x="285" y="195"/>
                </a:lnTo>
                <a:lnTo>
                  <a:pt x="309" y="193"/>
                </a:lnTo>
                <a:lnTo>
                  <a:pt x="318" y="191"/>
                </a:lnTo>
                <a:lnTo>
                  <a:pt x="320" y="191"/>
                </a:lnTo>
                <a:lnTo>
                  <a:pt x="327" y="191"/>
                </a:lnTo>
                <a:lnTo>
                  <a:pt x="329" y="191"/>
                </a:lnTo>
                <a:lnTo>
                  <a:pt x="335" y="191"/>
                </a:lnTo>
                <a:lnTo>
                  <a:pt x="337" y="193"/>
                </a:lnTo>
                <a:lnTo>
                  <a:pt x="327" y="208"/>
                </a:lnTo>
                <a:lnTo>
                  <a:pt x="318" y="217"/>
                </a:lnTo>
                <a:lnTo>
                  <a:pt x="317" y="219"/>
                </a:lnTo>
                <a:lnTo>
                  <a:pt x="313" y="219"/>
                </a:lnTo>
                <a:lnTo>
                  <a:pt x="291" y="219"/>
                </a:lnTo>
                <a:lnTo>
                  <a:pt x="282" y="219"/>
                </a:lnTo>
                <a:lnTo>
                  <a:pt x="258" y="219"/>
                </a:lnTo>
                <a:lnTo>
                  <a:pt x="254" y="221"/>
                </a:lnTo>
                <a:lnTo>
                  <a:pt x="253" y="223"/>
                </a:lnTo>
                <a:lnTo>
                  <a:pt x="243" y="224"/>
                </a:lnTo>
                <a:lnTo>
                  <a:pt x="242" y="224"/>
                </a:lnTo>
                <a:lnTo>
                  <a:pt x="238" y="224"/>
                </a:lnTo>
                <a:lnTo>
                  <a:pt x="236" y="224"/>
                </a:lnTo>
                <a:lnTo>
                  <a:pt x="229" y="224"/>
                </a:lnTo>
                <a:lnTo>
                  <a:pt x="221" y="224"/>
                </a:lnTo>
                <a:lnTo>
                  <a:pt x="220" y="224"/>
                </a:lnTo>
                <a:lnTo>
                  <a:pt x="218" y="224"/>
                </a:lnTo>
                <a:lnTo>
                  <a:pt x="216" y="226"/>
                </a:lnTo>
                <a:lnTo>
                  <a:pt x="210" y="232"/>
                </a:lnTo>
                <a:lnTo>
                  <a:pt x="209" y="232"/>
                </a:lnTo>
                <a:lnTo>
                  <a:pt x="200" y="230"/>
                </a:lnTo>
                <a:lnTo>
                  <a:pt x="198" y="230"/>
                </a:lnTo>
                <a:lnTo>
                  <a:pt x="192" y="230"/>
                </a:lnTo>
                <a:lnTo>
                  <a:pt x="190" y="228"/>
                </a:lnTo>
                <a:lnTo>
                  <a:pt x="189" y="228"/>
                </a:lnTo>
                <a:lnTo>
                  <a:pt x="187" y="226"/>
                </a:lnTo>
                <a:lnTo>
                  <a:pt x="185" y="224"/>
                </a:lnTo>
                <a:lnTo>
                  <a:pt x="183" y="224"/>
                </a:lnTo>
                <a:lnTo>
                  <a:pt x="181" y="223"/>
                </a:lnTo>
                <a:lnTo>
                  <a:pt x="178" y="221"/>
                </a:lnTo>
                <a:lnTo>
                  <a:pt x="174" y="221"/>
                </a:lnTo>
                <a:lnTo>
                  <a:pt x="157" y="217"/>
                </a:lnTo>
                <a:lnTo>
                  <a:pt x="156" y="217"/>
                </a:lnTo>
                <a:lnTo>
                  <a:pt x="143" y="217"/>
                </a:lnTo>
                <a:lnTo>
                  <a:pt x="110" y="215"/>
                </a:lnTo>
                <a:lnTo>
                  <a:pt x="99" y="215"/>
                </a:lnTo>
                <a:lnTo>
                  <a:pt x="59" y="212"/>
                </a:lnTo>
                <a:lnTo>
                  <a:pt x="29" y="212"/>
                </a:lnTo>
                <a:lnTo>
                  <a:pt x="13" y="212"/>
                </a:lnTo>
                <a:lnTo>
                  <a:pt x="11" y="212"/>
                </a:lnTo>
                <a:lnTo>
                  <a:pt x="9" y="212"/>
                </a:lnTo>
                <a:lnTo>
                  <a:pt x="8" y="212"/>
                </a:lnTo>
                <a:lnTo>
                  <a:pt x="6" y="210"/>
                </a:lnTo>
                <a:lnTo>
                  <a:pt x="0" y="206"/>
                </a:lnTo>
                <a:lnTo>
                  <a:pt x="0" y="182"/>
                </a:lnTo>
                <a:lnTo>
                  <a:pt x="0" y="164"/>
                </a:lnTo>
                <a:lnTo>
                  <a:pt x="0" y="84"/>
                </a:lnTo>
                <a:lnTo>
                  <a:pt x="2" y="67"/>
                </a:lnTo>
                <a:lnTo>
                  <a:pt x="2" y="65"/>
                </a:lnTo>
                <a:lnTo>
                  <a:pt x="0" y="60"/>
                </a:lnTo>
                <a:lnTo>
                  <a:pt x="2" y="47"/>
                </a:lnTo>
                <a:lnTo>
                  <a:pt x="2" y="14"/>
                </a:lnTo>
                <a:lnTo>
                  <a:pt x="2" y="7"/>
                </a:lnTo>
                <a:lnTo>
                  <a:pt x="2" y="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33360" y="1415880"/>
            <a:ext cx="1341720" cy="5381640"/>
          </a:xfrm>
          <a:custGeom>
            <a:avLst/>
            <a:gdLst/>
            <a:ahLst/>
            <a:rect l="l" t="t" r="r" b="b"/>
            <a:pathLst>
              <a:path w="839" h="3675">
                <a:moveTo>
                  <a:pt x="276" y="2523"/>
                </a:moveTo>
                <a:lnTo>
                  <a:pt x="276" y="2519"/>
                </a:lnTo>
                <a:lnTo>
                  <a:pt x="275" y="2523"/>
                </a:lnTo>
                <a:lnTo>
                  <a:pt x="273" y="2523"/>
                </a:lnTo>
                <a:lnTo>
                  <a:pt x="267" y="2525"/>
                </a:lnTo>
                <a:lnTo>
                  <a:pt x="258" y="2521"/>
                </a:lnTo>
                <a:lnTo>
                  <a:pt x="258" y="2507"/>
                </a:lnTo>
                <a:lnTo>
                  <a:pt x="253" y="2496"/>
                </a:lnTo>
                <a:lnTo>
                  <a:pt x="251" y="2494"/>
                </a:lnTo>
                <a:lnTo>
                  <a:pt x="254" y="2481"/>
                </a:lnTo>
                <a:lnTo>
                  <a:pt x="269" y="2461"/>
                </a:lnTo>
                <a:lnTo>
                  <a:pt x="273" y="2455"/>
                </a:lnTo>
                <a:lnTo>
                  <a:pt x="276" y="2454"/>
                </a:lnTo>
                <a:lnTo>
                  <a:pt x="278" y="2437"/>
                </a:lnTo>
                <a:lnTo>
                  <a:pt x="276" y="2433"/>
                </a:lnTo>
                <a:lnTo>
                  <a:pt x="276" y="2428"/>
                </a:lnTo>
                <a:lnTo>
                  <a:pt x="276" y="2423"/>
                </a:lnTo>
                <a:lnTo>
                  <a:pt x="276" y="2410"/>
                </a:lnTo>
                <a:lnTo>
                  <a:pt x="280" y="2404"/>
                </a:lnTo>
                <a:lnTo>
                  <a:pt x="282" y="2402"/>
                </a:lnTo>
                <a:lnTo>
                  <a:pt x="291" y="2402"/>
                </a:lnTo>
                <a:lnTo>
                  <a:pt x="293" y="2401"/>
                </a:lnTo>
                <a:lnTo>
                  <a:pt x="276" y="2382"/>
                </a:lnTo>
                <a:lnTo>
                  <a:pt x="282" y="2379"/>
                </a:lnTo>
                <a:lnTo>
                  <a:pt x="285" y="2377"/>
                </a:lnTo>
                <a:lnTo>
                  <a:pt x="300" y="2373"/>
                </a:lnTo>
                <a:lnTo>
                  <a:pt x="304" y="2375"/>
                </a:lnTo>
                <a:lnTo>
                  <a:pt x="306" y="2379"/>
                </a:lnTo>
                <a:lnTo>
                  <a:pt x="306" y="2380"/>
                </a:lnTo>
                <a:lnTo>
                  <a:pt x="315" y="2399"/>
                </a:lnTo>
                <a:lnTo>
                  <a:pt x="317" y="2401"/>
                </a:lnTo>
                <a:lnTo>
                  <a:pt x="318" y="2399"/>
                </a:lnTo>
                <a:lnTo>
                  <a:pt x="317" y="2391"/>
                </a:lnTo>
                <a:lnTo>
                  <a:pt x="311" y="2364"/>
                </a:lnTo>
                <a:lnTo>
                  <a:pt x="298" y="2357"/>
                </a:lnTo>
                <a:lnTo>
                  <a:pt x="287" y="2357"/>
                </a:lnTo>
                <a:lnTo>
                  <a:pt x="278" y="2353"/>
                </a:lnTo>
                <a:lnTo>
                  <a:pt x="275" y="2349"/>
                </a:lnTo>
                <a:lnTo>
                  <a:pt x="276" y="2346"/>
                </a:lnTo>
                <a:lnTo>
                  <a:pt x="282" y="2340"/>
                </a:lnTo>
                <a:lnTo>
                  <a:pt x="295" y="2329"/>
                </a:lnTo>
                <a:lnTo>
                  <a:pt x="300" y="2329"/>
                </a:lnTo>
                <a:lnTo>
                  <a:pt x="302" y="2329"/>
                </a:lnTo>
                <a:lnTo>
                  <a:pt x="313" y="2327"/>
                </a:lnTo>
                <a:lnTo>
                  <a:pt x="320" y="2326"/>
                </a:lnTo>
                <a:lnTo>
                  <a:pt x="324" y="2322"/>
                </a:lnTo>
                <a:lnTo>
                  <a:pt x="326" y="2320"/>
                </a:lnTo>
                <a:lnTo>
                  <a:pt x="329" y="2302"/>
                </a:lnTo>
                <a:lnTo>
                  <a:pt x="326" y="2302"/>
                </a:lnTo>
                <a:lnTo>
                  <a:pt x="322" y="2320"/>
                </a:lnTo>
                <a:lnTo>
                  <a:pt x="320" y="2322"/>
                </a:lnTo>
                <a:lnTo>
                  <a:pt x="313" y="2326"/>
                </a:lnTo>
                <a:lnTo>
                  <a:pt x="302" y="2327"/>
                </a:lnTo>
                <a:lnTo>
                  <a:pt x="300" y="2327"/>
                </a:lnTo>
                <a:lnTo>
                  <a:pt x="298" y="2327"/>
                </a:lnTo>
                <a:lnTo>
                  <a:pt x="293" y="2324"/>
                </a:lnTo>
                <a:lnTo>
                  <a:pt x="291" y="2318"/>
                </a:lnTo>
                <a:lnTo>
                  <a:pt x="287" y="2315"/>
                </a:lnTo>
                <a:lnTo>
                  <a:pt x="282" y="2309"/>
                </a:lnTo>
                <a:lnTo>
                  <a:pt x="278" y="2307"/>
                </a:lnTo>
                <a:lnTo>
                  <a:pt x="269" y="2306"/>
                </a:lnTo>
                <a:lnTo>
                  <a:pt x="262" y="2307"/>
                </a:lnTo>
                <a:lnTo>
                  <a:pt x="258" y="2309"/>
                </a:lnTo>
                <a:lnTo>
                  <a:pt x="253" y="2315"/>
                </a:lnTo>
                <a:lnTo>
                  <a:pt x="253" y="2318"/>
                </a:lnTo>
                <a:lnTo>
                  <a:pt x="254" y="2320"/>
                </a:lnTo>
                <a:lnTo>
                  <a:pt x="256" y="2326"/>
                </a:lnTo>
                <a:lnTo>
                  <a:pt x="251" y="2331"/>
                </a:lnTo>
                <a:lnTo>
                  <a:pt x="243" y="2335"/>
                </a:lnTo>
                <a:lnTo>
                  <a:pt x="240" y="2335"/>
                </a:lnTo>
                <a:lnTo>
                  <a:pt x="207" y="2333"/>
                </a:lnTo>
                <a:lnTo>
                  <a:pt x="190" y="2331"/>
                </a:lnTo>
                <a:lnTo>
                  <a:pt x="192" y="2324"/>
                </a:lnTo>
                <a:lnTo>
                  <a:pt x="179" y="2306"/>
                </a:lnTo>
                <a:lnTo>
                  <a:pt x="170" y="2276"/>
                </a:lnTo>
                <a:lnTo>
                  <a:pt x="168" y="2267"/>
                </a:lnTo>
                <a:lnTo>
                  <a:pt x="167" y="2256"/>
                </a:lnTo>
                <a:lnTo>
                  <a:pt x="172" y="2245"/>
                </a:lnTo>
                <a:lnTo>
                  <a:pt x="183" y="2223"/>
                </a:lnTo>
                <a:lnTo>
                  <a:pt x="187" y="2203"/>
                </a:lnTo>
                <a:lnTo>
                  <a:pt x="192" y="2179"/>
                </a:lnTo>
                <a:lnTo>
                  <a:pt x="194" y="2163"/>
                </a:lnTo>
                <a:lnTo>
                  <a:pt x="214" y="2150"/>
                </a:lnTo>
                <a:lnTo>
                  <a:pt x="225" y="2137"/>
                </a:lnTo>
                <a:lnTo>
                  <a:pt x="234" y="2121"/>
                </a:lnTo>
                <a:lnTo>
                  <a:pt x="238" y="2115"/>
                </a:lnTo>
                <a:lnTo>
                  <a:pt x="242" y="2106"/>
                </a:lnTo>
                <a:lnTo>
                  <a:pt x="238" y="2104"/>
                </a:lnTo>
                <a:lnTo>
                  <a:pt x="242" y="2101"/>
                </a:lnTo>
                <a:lnTo>
                  <a:pt x="240" y="2090"/>
                </a:lnTo>
                <a:lnTo>
                  <a:pt x="234" y="2075"/>
                </a:lnTo>
                <a:lnTo>
                  <a:pt x="227" y="2059"/>
                </a:lnTo>
                <a:lnTo>
                  <a:pt x="218" y="2037"/>
                </a:lnTo>
                <a:lnTo>
                  <a:pt x="214" y="2030"/>
                </a:lnTo>
                <a:lnTo>
                  <a:pt x="212" y="2022"/>
                </a:lnTo>
                <a:lnTo>
                  <a:pt x="212" y="2020"/>
                </a:lnTo>
                <a:lnTo>
                  <a:pt x="211" y="2011"/>
                </a:lnTo>
                <a:lnTo>
                  <a:pt x="211" y="2008"/>
                </a:lnTo>
                <a:lnTo>
                  <a:pt x="212" y="2002"/>
                </a:lnTo>
                <a:lnTo>
                  <a:pt x="214" y="2002"/>
                </a:lnTo>
                <a:lnTo>
                  <a:pt x="212" y="1997"/>
                </a:lnTo>
                <a:lnTo>
                  <a:pt x="214" y="1995"/>
                </a:lnTo>
                <a:lnTo>
                  <a:pt x="216" y="1993"/>
                </a:lnTo>
                <a:lnTo>
                  <a:pt x="216" y="1991"/>
                </a:lnTo>
                <a:lnTo>
                  <a:pt x="218" y="1977"/>
                </a:lnTo>
                <a:lnTo>
                  <a:pt x="218" y="1973"/>
                </a:lnTo>
                <a:lnTo>
                  <a:pt x="216" y="1967"/>
                </a:lnTo>
                <a:lnTo>
                  <a:pt x="211" y="1958"/>
                </a:lnTo>
                <a:lnTo>
                  <a:pt x="203" y="1949"/>
                </a:lnTo>
                <a:lnTo>
                  <a:pt x="198" y="1945"/>
                </a:lnTo>
                <a:lnTo>
                  <a:pt x="196" y="1933"/>
                </a:lnTo>
                <a:lnTo>
                  <a:pt x="198" y="1931"/>
                </a:lnTo>
                <a:lnTo>
                  <a:pt x="201" y="1927"/>
                </a:lnTo>
                <a:lnTo>
                  <a:pt x="203" y="1923"/>
                </a:lnTo>
                <a:lnTo>
                  <a:pt x="205" y="1920"/>
                </a:lnTo>
                <a:lnTo>
                  <a:pt x="205" y="1916"/>
                </a:lnTo>
                <a:lnTo>
                  <a:pt x="203" y="1914"/>
                </a:lnTo>
                <a:lnTo>
                  <a:pt x="201" y="1913"/>
                </a:lnTo>
                <a:lnTo>
                  <a:pt x="198" y="1911"/>
                </a:lnTo>
                <a:lnTo>
                  <a:pt x="198" y="1909"/>
                </a:lnTo>
                <a:lnTo>
                  <a:pt x="201" y="1894"/>
                </a:lnTo>
                <a:lnTo>
                  <a:pt x="201" y="1892"/>
                </a:lnTo>
                <a:lnTo>
                  <a:pt x="205" y="1889"/>
                </a:lnTo>
                <a:lnTo>
                  <a:pt x="211" y="1892"/>
                </a:lnTo>
                <a:lnTo>
                  <a:pt x="212" y="1894"/>
                </a:lnTo>
                <a:lnTo>
                  <a:pt x="220" y="1898"/>
                </a:lnTo>
                <a:lnTo>
                  <a:pt x="225" y="1898"/>
                </a:lnTo>
                <a:lnTo>
                  <a:pt x="227" y="1898"/>
                </a:lnTo>
                <a:lnTo>
                  <a:pt x="229" y="1896"/>
                </a:lnTo>
                <a:lnTo>
                  <a:pt x="234" y="1896"/>
                </a:lnTo>
                <a:lnTo>
                  <a:pt x="238" y="1894"/>
                </a:lnTo>
                <a:lnTo>
                  <a:pt x="240" y="1892"/>
                </a:lnTo>
                <a:lnTo>
                  <a:pt x="243" y="1891"/>
                </a:lnTo>
                <a:lnTo>
                  <a:pt x="243" y="1887"/>
                </a:lnTo>
                <a:lnTo>
                  <a:pt x="247" y="1880"/>
                </a:lnTo>
                <a:lnTo>
                  <a:pt x="249" y="1863"/>
                </a:lnTo>
                <a:lnTo>
                  <a:pt x="251" y="1845"/>
                </a:lnTo>
                <a:lnTo>
                  <a:pt x="253" y="1845"/>
                </a:lnTo>
                <a:lnTo>
                  <a:pt x="256" y="1847"/>
                </a:lnTo>
                <a:lnTo>
                  <a:pt x="258" y="1849"/>
                </a:lnTo>
                <a:lnTo>
                  <a:pt x="262" y="1849"/>
                </a:lnTo>
                <a:lnTo>
                  <a:pt x="264" y="1847"/>
                </a:lnTo>
                <a:lnTo>
                  <a:pt x="264" y="1845"/>
                </a:lnTo>
                <a:lnTo>
                  <a:pt x="265" y="1838"/>
                </a:lnTo>
                <a:lnTo>
                  <a:pt x="269" y="1828"/>
                </a:lnTo>
                <a:lnTo>
                  <a:pt x="275" y="1817"/>
                </a:lnTo>
                <a:lnTo>
                  <a:pt x="278" y="1810"/>
                </a:lnTo>
                <a:lnTo>
                  <a:pt x="280" y="1790"/>
                </a:lnTo>
                <a:lnTo>
                  <a:pt x="282" y="1775"/>
                </a:lnTo>
                <a:lnTo>
                  <a:pt x="284" y="1775"/>
                </a:lnTo>
                <a:lnTo>
                  <a:pt x="285" y="1774"/>
                </a:lnTo>
                <a:lnTo>
                  <a:pt x="289" y="1770"/>
                </a:lnTo>
                <a:lnTo>
                  <a:pt x="300" y="1761"/>
                </a:lnTo>
                <a:lnTo>
                  <a:pt x="302" y="1759"/>
                </a:lnTo>
                <a:lnTo>
                  <a:pt x="302" y="1757"/>
                </a:lnTo>
                <a:lnTo>
                  <a:pt x="302" y="1753"/>
                </a:lnTo>
                <a:lnTo>
                  <a:pt x="300" y="1748"/>
                </a:lnTo>
                <a:lnTo>
                  <a:pt x="296" y="1741"/>
                </a:lnTo>
                <a:lnTo>
                  <a:pt x="296" y="1737"/>
                </a:lnTo>
                <a:lnTo>
                  <a:pt x="298" y="1735"/>
                </a:lnTo>
                <a:lnTo>
                  <a:pt x="302" y="1733"/>
                </a:lnTo>
                <a:lnTo>
                  <a:pt x="309" y="1730"/>
                </a:lnTo>
                <a:lnTo>
                  <a:pt x="315" y="1717"/>
                </a:lnTo>
                <a:lnTo>
                  <a:pt x="318" y="1708"/>
                </a:lnTo>
                <a:lnTo>
                  <a:pt x="320" y="1706"/>
                </a:lnTo>
                <a:lnTo>
                  <a:pt x="324" y="1702"/>
                </a:lnTo>
                <a:lnTo>
                  <a:pt x="328" y="1700"/>
                </a:lnTo>
                <a:lnTo>
                  <a:pt x="331" y="1699"/>
                </a:lnTo>
                <a:lnTo>
                  <a:pt x="337" y="1695"/>
                </a:lnTo>
                <a:lnTo>
                  <a:pt x="339" y="1691"/>
                </a:lnTo>
                <a:lnTo>
                  <a:pt x="339" y="1686"/>
                </a:lnTo>
                <a:lnTo>
                  <a:pt x="339" y="1684"/>
                </a:lnTo>
                <a:lnTo>
                  <a:pt x="340" y="1680"/>
                </a:lnTo>
                <a:lnTo>
                  <a:pt x="340" y="1677"/>
                </a:lnTo>
                <a:lnTo>
                  <a:pt x="340" y="1671"/>
                </a:lnTo>
                <a:lnTo>
                  <a:pt x="346" y="1662"/>
                </a:lnTo>
                <a:lnTo>
                  <a:pt x="348" y="1660"/>
                </a:lnTo>
                <a:lnTo>
                  <a:pt x="349" y="1658"/>
                </a:lnTo>
                <a:lnTo>
                  <a:pt x="351" y="1653"/>
                </a:lnTo>
                <a:lnTo>
                  <a:pt x="353" y="1649"/>
                </a:lnTo>
                <a:lnTo>
                  <a:pt x="355" y="1637"/>
                </a:lnTo>
                <a:lnTo>
                  <a:pt x="353" y="1631"/>
                </a:lnTo>
                <a:lnTo>
                  <a:pt x="353" y="1626"/>
                </a:lnTo>
                <a:lnTo>
                  <a:pt x="355" y="1624"/>
                </a:lnTo>
                <a:lnTo>
                  <a:pt x="359" y="1622"/>
                </a:lnTo>
                <a:lnTo>
                  <a:pt x="360" y="1620"/>
                </a:lnTo>
                <a:lnTo>
                  <a:pt x="360" y="1615"/>
                </a:lnTo>
                <a:lnTo>
                  <a:pt x="359" y="1607"/>
                </a:lnTo>
                <a:lnTo>
                  <a:pt x="357" y="1605"/>
                </a:lnTo>
                <a:lnTo>
                  <a:pt x="357" y="1604"/>
                </a:lnTo>
                <a:lnTo>
                  <a:pt x="357" y="1600"/>
                </a:lnTo>
                <a:lnTo>
                  <a:pt x="368" y="1583"/>
                </a:lnTo>
                <a:lnTo>
                  <a:pt x="371" y="1580"/>
                </a:lnTo>
                <a:lnTo>
                  <a:pt x="371" y="1578"/>
                </a:lnTo>
                <a:lnTo>
                  <a:pt x="373" y="1571"/>
                </a:lnTo>
                <a:lnTo>
                  <a:pt x="377" y="1565"/>
                </a:lnTo>
                <a:lnTo>
                  <a:pt x="381" y="1563"/>
                </a:lnTo>
                <a:lnTo>
                  <a:pt x="382" y="1563"/>
                </a:lnTo>
                <a:lnTo>
                  <a:pt x="386" y="1562"/>
                </a:lnTo>
                <a:lnTo>
                  <a:pt x="390" y="1560"/>
                </a:lnTo>
                <a:lnTo>
                  <a:pt x="392" y="1556"/>
                </a:lnTo>
                <a:lnTo>
                  <a:pt x="392" y="1554"/>
                </a:lnTo>
                <a:lnTo>
                  <a:pt x="392" y="1551"/>
                </a:lnTo>
                <a:lnTo>
                  <a:pt x="393" y="1543"/>
                </a:lnTo>
                <a:lnTo>
                  <a:pt x="392" y="1538"/>
                </a:lnTo>
                <a:lnTo>
                  <a:pt x="388" y="1525"/>
                </a:lnTo>
                <a:lnTo>
                  <a:pt x="382" y="1499"/>
                </a:lnTo>
                <a:lnTo>
                  <a:pt x="382" y="1498"/>
                </a:lnTo>
                <a:lnTo>
                  <a:pt x="388" y="1499"/>
                </a:lnTo>
                <a:lnTo>
                  <a:pt x="401" y="1490"/>
                </a:lnTo>
                <a:lnTo>
                  <a:pt x="404" y="1481"/>
                </a:lnTo>
                <a:lnTo>
                  <a:pt x="412" y="1457"/>
                </a:lnTo>
                <a:lnTo>
                  <a:pt x="415" y="1432"/>
                </a:lnTo>
                <a:lnTo>
                  <a:pt x="403" y="1412"/>
                </a:lnTo>
                <a:lnTo>
                  <a:pt x="406" y="1392"/>
                </a:lnTo>
                <a:lnTo>
                  <a:pt x="406" y="1384"/>
                </a:lnTo>
                <a:lnTo>
                  <a:pt x="406" y="1371"/>
                </a:lnTo>
                <a:lnTo>
                  <a:pt x="401" y="1348"/>
                </a:lnTo>
                <a:lnTo>
                  <a:pt x="395" y="1328"/>
                </a:lnTo>
                <a:lnTo>
                  <a:pt x="388" y="1275"/>
                </a:lnTo>
                <a:lnTo>
                  <a:pt x="388" y="1265"/>
                </a:lnTo>
                <a:lnTo>
                  <a:pt x="388" y="1256"/>
                </a:lnTo>
                <a:lnTo>
                  <a:pt x="388" y="1251"/>
                </a:lnTo>
                <a:lnTo>
                  <a:pt x="390" y="1234"/>
                </a:lnTo>
                <a:lnTo>
                  <a:pt x="393" y="1227"/>
                </a:lnTo>
                <a:lnTo>
                  <a:pt x="395" y="1227"/>
                </a:lnTo>
                <a:lnTo>
                  <a:pt x="397" y="1229"/>
                </a:lnTo>
                <a:lnTo>
                  <a:pt x="401" y="1229"/>
                </a:lnTo>
                <a:lnTo>
                  <a:pt x="403" y="1229"/>
                </a:lnTo>
                <a:lnTo>
                  <a:pt x="406" y="1229"/>
                </a:lnTo>
                <a:lnTo>
                  <a:pt x="415" y="1220"/>
                </a:lnTo>
                <a:lnTo>
                  <a:pt x="417" y="1216"/>
                </a:lnTo>
                <a:lnTo>
                  <a:pt x="426" y="1192"/>
                </a:lnTo>
                <a:lnTo>
                  <a:pt x="426" y="1185"/>
                </a:lnTo>
                <a:lnTo>
                  <a:pt x="424" y="1183"/>
                </a:lnTo>
                <a:lnTo>
                  <a:pt x="423" y="1178"/>
                </a:lnTo>
                <a:lnTo>
                  <a:pt x="423" y="1158"/>
                </a:lnTo>
                <a:lnTo>
                  <a:pt x="424" y="1152"/>
                </a:lnTo>
                <a:lnTo>
                  <a:pt x="424" y="1148"/>
                </a:lnTo>
                <a:lnTo>
                  <a:pt x="424" y="1147"/>
                </a:lnTo>
                <a:lnTo>
                  <a:pt x="423" y="1137"/>
                </a:lnTo>
                <a:lnTo>
                  <a:pt x="421" y="1134"/>
                </a:lnTo>
                <a:lnTo>
                  <a:pt x="408" y="1123"/>
                </a:lnTo>
                <a:lnTo>
                  <a:pt x="408" y="1116"/>
                </a:lnTo>
                <a:lnTo>
                  <a:pt x="406" y="1103"/>
                </a:lnTo>
                <a:lnTo>
                  <a:pt x="406" y="1095"/>
                </a:lnTo>
                <a:lnTo>
                  <a:pt x="406" y="1094"/>
                </a:lnTo>
                <a:lnTo>
                  <a:pt x="410" y="1090"/>
                </a:lnTo>
                <a:lnTo>
                  <a:pt x="419" y="1083"/>
                </a:lnTo>
                <a:lnTo>
                  <a:pt x="426" y="1073"/>
                </a:lnTo>
                <a:lnTo>
                  <a:pt x="426" y="1068"/>
                </a:lnTo>
                <a:lnTo>
                  <a:pt x="428" y="1063"/>
                </a:lnTo>
                <a:lnTo>
                  <a:pt x="430" y="1059"/>
                </a:lnTo>
                <a:lnTo>
                  <a:pt x="432" y="1055"/>
                </a:lnTo>
                <a:lnTo>
                  <a:pt x="439" y="1042"/>
                </a:lnTo>
                <a:lnTo>
                  <a:pt x="439" y="1031"/>
                </a:lnTo>
                <a:lnTo>
                  <a:pt x="439" y="1024"/>
                </a:lnTo>
                <a:lnTo>
                  <a:pt x="441" y="1006"/>
                </a:lnTo>
                <a:lnTo>
                  <a:pt x="445" y="995"/>
                </a:lnTo>
                <a:lnTo>
                  <a:pt x="446" y="989"/>
                </a:lnTo>
                <a:lnTo>
                  <a:pt x="450" y="982"/>
                </a:lnTo>
                <a:lnTo>
                  <a:pt x="454" y="978"/>
                </a:lnTo>
                <a:lnTo>
                  <a:pt x="457" y="977"/>
                </a:lnTo>
                <a:lnTo>
                  <a:pt x="463" y="973"/>
                </a:lnTo>
                <a:lnTo>
                  <a:pt x="465" y="960"/>
                </a:lnTo>
                <a:lnTo>
                  <a:pt x="463" y="955"/>
                </a:lnTo>
                <a:lnTo>
                  <a:pt x="461" y="946"/>
                </a:lnTo>
                <a:lnTo>
                  <a:pt x="457" y="931"/>
                </a:lnTo>
                <a:lnTo>
                  <a:pt x="459" y="927"/>
                </a:lnTo>
                <a:lnTo>
                  <a:pt x="459" y="925"/>
                </a:lnTo>
                <a:lnTo>
                  <a:pt x="463" y="924"/>
                </a:lnTo>
                <a:lnTo>
                  <a:pt x="468" y="924"/>
                </a:lnTo>
                <a:lnTo>
                  <a:pt x="472" y="916"/>
                </a:lnTo>
                <a:lnTo>
                  <a:pt x="476" y="913"/>
                </a:lnTo>
                <a:lnTo>
                  <a:pt x="474" y="905"/>
                </a:lnTo>
                <a:lnTo>
                  <a:pt x="472" y="903"/>
                </a:lnTo>
                <a:lnTo>
                  <a:pt x="472" y="900"/>
                </a:lnTo>
                <a:lnTo>
                  <a:pt x="477" y="885"/>
                </a:lnTo>
                <a:lnTo>
                  <a:pt x="483" y="874"/>
                </a:lnTo>
                <a:lnTo>
                  <a:pt x="485" y="871"/>
                </a:lnTo>
                <a:lnTo>
                  <a:pt x="485" y="860"/>
                </a:lnTo>
                <a:lnTo>
                  <a:pt x="490" y="847"/>
                </a:lnTo>
                <a:lnTo>
                  <a:pt x="487" y="836"/>
                </a:lnTo>
                <a:lnTo>
                  <a:pt x="487" y="832"/>
                </a:lnTo>
                <a:lnTo>
                  <a:pt x="487" y="825"/>
                </a:lnTo>
                <a:lnTo>
                  <a:pt x="490" y="821"/>
                </a:lnTo>
                <a:lnTo>
                  <a:pt x="490" y="819"/>
                </a:lnTo>
                <a:lnTo>
                  <a:pt x="490" y="816"/>
                </a:lnTo>
                <a:lnTo>
                  <a:pt x="488" y="810"/>
                </a:lnTo>
                <a:lnTo>
                  <a:pt x="485" y="808"/>
                </a:lnTo>
                <a:lnTo>
                  <a:pt x="483" y="807"/>
                </a:lnTo>
                <a:lnTo>
                  <a:pt x="481" y="799"/>
                </a:lnTo>
                <a:lnTo>
                  <a:pt x="483" y="788"/>
                </a:lnTo>
                <a:lnTo>
                  <a:pt x="485" y="785"/>
                </a:lnTo>
                <a:lnTo>
                  <a:pt x="490" y="776"/>
                </a:lnTo>
                <a:lnTo>
                  <a:pt x="496" y="768"/>
                </a:lnTo>
                <a:lnTo>
                  <a:pt x="499" y="766"/>
                </a:lnTo>
                <a:lnTo>
                  <a:pt x="507" y="755"/>
                </a:lnTo>
                <a:lnTo>
                  <a:pt x="509" y="746"/>
                </a:lnTo>
                <a:lnTo>
                  <a:pt x="509" y="741"/>
                </a:lnTo>
                <a:lnTo>
                  <a:pt x="503" y="717"/>
                </a:lnTo>
                <a:lnTo>
                  <a:pt x="499" y="712"/>
                </a:lnTo>
                <a:lnTo>
                  <a:pt x="498" y="706"/>
                </a:lnTo>
                <a:lnTo>
                  <a:pt x="494" y="693"/>
                </a:lnTo>
                <a:lnTo>
                  <a:pt x="496" y="679"/>
                </a:lnTo>
                <a:lnTo>
                  <a:pt x="498" y="662"/>
                </a:lnTo>
                <a:lnTo>
                  <a:pt x="499" y="659"/>
                </a:lnTo>
                <a:lnTo>
                  <a:pt x="501" y="642"/>
                </a:lnTo>
                <a:lnTo>
                  <a:pt x="503" y="635"/>
                </a:lnTo>
                <a:lnTo>
                  <a:pt x="503" y="629"/>
                </a:lnTo>
                <a:lnTo>
                  <a:pt x="501" y="626"/>
                </a:lnTo>
                <a:lnTo>
                  <a:pt x="501" y="622"/>
                </a:lnTo>
                <a:lnTo>
                  <a:pt x="501" y="611"/>
                </a:lnTo>
                <a:lnTo>
                  <a:pt x="503" y="604"/>
                </a:lnTo>
                <a:lnTo>
                  <a:pt x="505" y="600"/>
                </a:lnTo>
                <a:lnTo>
                  <a:pt x="509" y="598"/>
                </a:lnTo>
                <a:lnTo>
                  <a:pt x="510" y="596"/>
                </a:lnTo>
                <a:lnTo>
                  <a:pt x="512" y="591"/>
                </a:lnTo>
                <a:lnTo>
                  <a:pt x="512" y="589"/>
                </a:lnTo>
                <a:lnTo>
                  <a:pt x="514" y="587"/>
                </a:lnTo>
                <a:lnTo>
                  <a:pt x="514" y="582"/>
                </a:lnTo>
                <a:lnTo>
                  <a:pt x="512" y="580"/>
                </a:lnTo>
                <a:lnTo>
                  <a:pt x="510" y="576"/>
                </a:lnTo>
                <a:lnTo>
                  <a:pt x="510" y="574"/>
                </a:lnTo>
                <a:lnTo>
                  <a:pt x="507" y="573"/>
                </a:lnTo>
                <a:lnTo>
                  <a:pt x="503" y="573"/>
                </a:lnTo>
                <a:lnTo>
                  <a:pt x="501" y="573"/>
                </a:lnTo>
                <a:lnTo>
                  <a:pt x="499" y="578"/>
                </a:lnTo>
                <a:lnTo>
                  <a:pt x="490" y="576"/>
                </a:lnTo>
                <a:lnTo>
                  <a:pt x="494" y="551"/>
                </a:lnTo>
                <a:lnTo>
                  <a:pt x="496" y="534"/>
                </a:lnTo>
                <a:lnTo>
                  <a:pt x="499" y="532"/>
                </a:lnTo>
                <a:lnTo>
                  <a:pt x="503" y="531"/>
                </a:lnTo>
                <a:lnTo>
                  <a:pt x="503" y="534"/>
                </a:lnTo>
                <a:lnTo>
                  <a:pt x="505" y="536"/>
                </a:lnTo>
                <a:lnTo>
                  <a:pt x="510" y="536"/>
                </a:lnTo>
                <a:lnTo>
                  <a:pt x="514" y="534"/>
                </a:lnTo>
                <a:lnTo>
                  <a:pt x="516" y="532"/>
                </a:lnTo>
                <a:lnTo>
                  <a:pt x="518" y="531"/>
                </a:lnTo>
                <a:lnTo>
                  <a:pt x="518" y="529"/>
                </a:lnTo>
                <a:lnTo>
                  <a:pt x="521" y="523"/>
                </a:lnTo>
                <a:lnTo>
                  <a:pt x="523" y="518"/>
                </a:lnTo>
                <a:lnTo>
                  <a:pt x="523" y="514"/>
                </a:lnTo>
                <a:lnTo>
                  <a:pt x="521" y="512"/>
                </a:lnTo>
                <a:lnTo>
                  <a:pt x="521" y="509"/>
                </a:lnTo>
                <a:lnTo>
                  <a:pt x="527" y="463"/>
                </a:lnTo>
                <a:lnTo>
                  <a:pt x="530" y="443"/>
                </a:lnTo>
                <a:lnTo>
                  <a:pt x="536" y="408"/>
                </a:lnTo>
                <a:lnTo>
                  <a:pt x="536" y="401"/>
                </a:lnTo>
                <a:lnTo>
                  <a:pt x="538" y="395"/>
                </a:lnTo>
                <a:lnTo>
                  <a:pt x="545" y="377"/>
                </a:lnTo>
                <a:lnTo>
                  <a:pt x="543" y="372"/>
                </a:lnTo>
                <a:lnTo>
                  <a:pt x="541" y="368"/>
                </a:lnTo>
                <a:lnTo>
                  <a:pt x="545" y="366"/>
                </a:lnTo>
                <a:lnTo>
                  <a:pt x="540" y="346"/>
                </a:lnTo>
                <a:lnTo>
                  <a:pt x="538" y="330"/>
                </a:lnTo>
                <a:lnTo>
                  <a:pt x="538" y="324"/>
                </a:lnTo>
                <a:lnTo>
                  <a:pt x="536" y="322"/>
                </a:lnTo>
                <a:lnTo>
                  <a:pt x="534" y="320"/>
                </a:lnTo>
                <a:lnTo>
                  <a:pt x="530" y="317"/>
                </a:lnTo>
                <a:lnTo>
                  <a:pt x="534" y="278"/>
                </a:lnTo>
                <a:lnTo>
                  <a:pt x="538" y="269"/>
                </a:lnTo>
                <a:lnTo>
                  <a:pt x="538" y="267"/>
                </a:lnTo>
                <a:lnTo>
                  <a:pt x="538" y="247"/>
                </a:lnTo>
                <a:lnTo>
                  <a:pt x="540" y="240"/>
                </a:lnTo>
                <a:lnTo>
                  <a:pt x="540" y="238"/>
                </a:lnTo>
                <a:lnTo>
                  <a:pt x="534" y="205"/>
                </a:lnTo>
                <a:lnTo>
                  <a:pt x="530" y="191"/>
                </a:lnTo>
                <a:lnTo>
                  <a:pt x="527" y="180"/>
                </a:lnTo>
                <a:lnTo>
                  <a:pt x="525" y="176"/>
                </a:lnTo>
                <a:lnTo>
                  <a:pt x="523" y="172"/>
                </a:lnTo>
                <a:lnTo>
                  <a:pt x="523" y="165"/>
                </a:lnTo>
                <a:lnTo>
                  <a:pt x="525" y="161"/>
                </a:lnTo>
                <a:lnTo>
                  <a:pt x="525" y="158"/>
                </a:lnTo>
                <a:lnTo>
                  <a:pt x="520" y="134"/>
                </a:lnTo>
                <a:lnTo>
                  <a:pt x="520" y="132"/>
                </a:lnTo>
                <a:lnTo>
                  <a:pt x="518" y="128"/>
                </a:lnTo>
                <a:lnTo>
                  <a:pt x="518" y="108"/>
                </a:lnTo>
                <a:lnTo>
                  <a:pt x="518" y="103"/>
                </a:lnTo>
                <a:lnTo>
                  <a:pt x="521" y="90"/>
                </a:lnTo>
                <a:lnTo>
                  <a:pt x="518" y="86"/>
                </a:lnTo>
                <a:lnTo>
                  <a:pt x="516" y="85"/>
                </a:lnTo>
                <a:lnTo>
                  <a:pt x="512" y="81"/>
                </a:lnTo>
                <a:lnTo>
                  <a:pt x="514" y="81"/>
                </a:lnTo>
                <a:lnTo>
                  <a:pt x="516" y="79"/>
                </a:lnTo>
                <a:lnTo>
                  <a:pt x="520" y="79"/>
                </a:lnTo>
                <a:lnTo>
                  <a:pt x="527" y="79"/>
                </a:lnTo>
                <a:lnTo>
                  <a:pt x="532" y="79"/>
                </a:lnTo>
                <a:lnTo>
                  <a:pt x="534" y="79"/>
                </a:lnTo>
                <a:lnTo>
                  <a:pt x="538" y="79"/>
                </a:lnTo>
                <a:lnTo>
                  <a:pt x="552" y="74"/>
                </a:lnTo>
                <a:lnTo>
                  <a:pt x="554" y="72"/>
                </a:lnTo>
                <a:lnTo>
                  <a:pt x="563" y="63"/>
                </a:lnTo>
                <a:lnTo>
                  <a:pt x="565" y="61"/>
                </a:lnTo>
                <a:lnTo>
                  <a:pt x="571" y="52"/>
                </a:lnTo>
                <a:lnTo>
                  <a:pt x="571" y="50"/>
                </a:lnTo>
                <a:lnTo>
                  <a:pt x="573" y="46"/>
                </a:lnTo>
                <a:lnTo>
                  <a:pt x="573" y="43"/>
                </a:lnTo>
                <a:lnTo>
                  <a:pt x="569" y="28"/>
                </a:lnTo>
                <a:lnTo>
                  <a:pt x="567" y="28"/>
                </a:lnTo>
                <a:lnTo>
                  <a:pt x="567" y="26"/>
                </a:lnTo>
                <a:lnTo>
                  <a:pt x="565" y="24"/>
                </a:lnTo>
                <a:lnTo>
                  <a:pt x="565" y="21"/>
                </a:lnTo>
                <a:lnTo>
                  <a:pt x="567" y="17"/>
                </a:lnTo>
                <a:lnTo>
                  <a:pt x="569" y="15"/>
                </a:lnTo>
                <a:lnTo>
                  <a:pt x="573" y="15"/>
                </a:lnTo>
                <a:lnTo>
                  <a:pt x="576" y="15"/>
                </a:lnTo>
                <a:lnTo>
                  <a:pt x="582" y="15"/>
                </a:lnTo>
                <a:lnTo>
                  <a:pt x="587" y="11"/>
                </a:lnTo>
                <a:lnTo>
                  <a:pt x="598" y="0"/>
                </a:lnTo>
                <a:lnTo>
                  <a:pt x="600" y="13"/>
                </a:lnTo>
                <a:lnTo>
                  <a:pt x="611" y="22"/>
                </a:lnTo>
                <a:lnTo>
                  <a:pt x="613" y="24"/>
                </a:lnTo>
                <a:lnTo>
                  <a:pt x="615" y="28"/>
                </a:lnTo>
                <a:lnTo>
                  <a:pt x="616" y="32"/>
                </a:lnTo>
                <a:lnTo>
                  <a:pt x="616" y="37"/>
                </a:lnTo>
                <a:lnTo>
                  <a:pt x="616" y="41"/>
                </a:lnTo>
                <a:lnTo>
                  <a:pt x="618" y="44"/>
                </a:lnTo>
                <a:lnTo>
                  <a:pt x="618" y="46"/>
                </a:lnTo>
                <a:lnTo>
                  <a:pt x="635" y="50"/>
                </a:lnTo>
                <a:lnTo>
                  <a:pt x="640" y="52"/>
                </a:lnTo>
                <a:lnTo>
                  <a:pt x="640" y="55"/>
                </a:lnTo>
                <a:lnTo>
                  <a:pt x="638" y="57"/>
                </a:lnTo>
                <a:lnTo>
                  <a:pt x="635" y="59"/>
                </a:lnTo>
                <a:lnTo>
                  <a:pt x="633" y="61"/>
                </a:lnTo>
                <a:lnTo>
                  <a:pt x="633" y="63"/>
                </a:lnTo>
                <a:lnTo>
                  <a:pt x="635" y="64"/>
                </a:lnTo>
                <a:lnTo>
                  <a:pt x="637" y="68"/>
                </a:lnTo>
                <a:lnTo>
                  <a:pt x="638" y="70"/>
                </a:lnTo>
                <a:lnTo>
                  <a:pt x="638" y="75"/>
                </a:lnTo>
                <a:lnTo>
                  <a:pt x="640" y="86"/>
                </a:lnTo>
                <a:lnTo>
                  <a:pt x="642" y="88"/>
                </a:lnTo>
                <a:lnTo>
                  <a:pt x="644" y="90"/>
                </a:lnTo>
                <a:lnTo>
                  <a:pt x="644" y="92"/>
                </a:lnTo>
                <a:lnTo>
                  <a:pt x="644" y="94"/>
                </a:lnTo>
                <a:lnTo>
                  <a:pt x="644" y="97"/>
                </a:lnTo>
                <a:lnTo>
                  <a:pt x="644" y="101"/>
                </a:lnTo>
                <a:lnTo>
                  <a:pt x="644" y="107"/>
                </a:lnTo>
                <a:lnTo>
                  <a:pt x="644" y="112"/>
                </a:lnTo>
                <a:lnTo>
                  <a:pt x="647" y="119"/>
                </a:lnTo>
                <a:lnTo>
                  <a:pt x="651" y="128"/>
                </a:lnTo>
                <a:lnTo>
                  <a:pt x="653" y="132"/>
                </a:lnTo>
                <a:lnTo>
                  <a:pt x="651" y="139"/>
                </a:lnTo>
                <a:lnTo>
                  <a:pt x="657" y="150"/>
                </a:lnTo>
                <a:lnTo>
                  <a:pt x="668" y="158"/>
                </a:lnTo>
                <a:lnTo>
                  <a:pt x="671" y="161"/>
                </a:lnTo>
                <a:lnTo>
                  <a:pt x="680" y="170"/>
                </a:lnTo>
                <a:lnTo>
                  <a:pt x="682" y="170"/>
                </a:lnTo>
                <a:lnTo>
                  <a:pt x="684" y="172"/>
                </a:lnTo>
                <a:lnTo>
                  <a:pt x="688" y="174"/>
                </a:lnTo>
                <a:lnTo>
                  <a:pt x="690" y="174"/>
                </a:lnTo>
                <a:lnTo>
                  <a:pt x="695" y="180"/>
                </a:lnTo>
                <a:lnTo>
                  <a:pt x="701" y="185"/>
                </a:lnTo>
                <a:lnTo>
                  <a:pt x="690" y="196"/>
                </a:lnTo>
                <a:lnTo>
                  <a:pt x="688" y="198"/>
                </a:lnTo>
                <a:lnTo>
                  <a:pt x="686" y="203"/>
                </a:lnTo>
                <a:lnTo>
                  <a:pt x="677" y="213"/>
                </a:lnTo>
                <a:lnTo>
                  <a:pt x="677" y="216"/>
                </a:lnTo>
                <a:lnTo>
                  <a:pt x="682" y="220"/>
                </a:lnTo>
                <a:lnTo>
                  <a:pt x="688" y="223"/>
                </a:lnTo>
                <a:lnTo>
                  <a:pt x="693" y="233"/>
                </a:lnTo>
                <a:lnTo>
                  <a:pt x="688" y="245"/>
                </a:lnTo>
                <a:lnTo>
                  <a:pt x="684" y="245"/>
                </a:lnTo>
                <a:lnTo>
                  <a:pt x="680" y="245"/>
                </a:lnTo>
                <a:lnTo>
                  <a:pt x="668" y="249"/>
                </a:lnTo>
                <a:lnTo>
                  <a:pt x="668" y="251"/>
                </a:lnTo>
                <a:lnTo>
                  <a:pt x="669" y="253"/>
                </a:lnTo>
                <a:lnTo>
                  <a:pt x="673" y="264"/>
                </a:lnTo>
                <a:lnTo>
                  <a:pt x="675" y="273"/>
                </a:lnTo>
                <a:lnTo>
                  <a:pt x="673" y="275"/>
                </a:lnTo>
                <a:lnTo>
                  <a:pt x="671" y="277"/>
                </a:lnTo>
                <a:lnTo>
                  <a:pt x="671" y="280"/>
                </a:lnTo>
                <a:lnTo>
                  <a:pt x="671" y="284"/>
                </a:lnTo>
                <a:lnTo>
                  <a:pt x="673" y="286"/>
                </a:lnTo>
                <a:lnTo>
                  <a:pt x="677" y="289"/>
                </a:lnTo>
                <a:lnTo>
                  <a:pt x="679" y="291"/>
                </a:lnTo>
                <a:lnTo>
                  <a:pt x="682" y="291"/>
                </a:lnTo>
                <a:lnTo>
                  <a:pt x="686" y="293"/>
                </a:lnTo>
                <a:lnTo>
                  <a:pt x="688" y="295"/>
                </a:lnTo>
                <a:lnTo>
                  <a:pt x="690" y="295"/>
                </a:lnTo>
                <a:lnTo>
                  <a:pt x="695" y="298"/>
                </a:lnTo>
                <a:lnTo>
                  <a:pt x="699" y="300"/>
                </a:lnTo>
                <a:lnTo>
                  <a:pt x="697" y="302"/>
                </a:lnTo>
                <a:lnTo>
                  <a:pt x="695" y="304"/>
                </a:lnTo>
                <a:lnTo>
                  <a:pt x="691" y="306"/>
                </a:lnTo>
                <a:lnTo>
                  <a:pt x="690" y="311"/>
                </a:lnTo>
                <a:lnTo>
                  <a:pt x="690" y="324"/>
                </a:lnTo>
                <a:lnTo>
                  <a:pt x="690" y="326"/>
                </a:lnTo>
                <a:lnTo>
                  <a:pt x="690" y="328"/>
                </a:lnTo>
                <a:lnTo>
                  <a:pt x="691" y="330"/>
                </a:lnTo>
                <a:lnTo>
                  <a:pt x="695" y="330"/>
                </a:lnTo>
                <a:lnTo>
                  <a:pt x="697" y="331"/>
                </a:lnTo>
                <a:lnTo>
                  <a:pt x="699" y="331"/>
                </a:lnTo>
                <a:lnTo>
                  <a:pt x="702" y="331"/>
                </a:lnTo>
                <a:lnTo>
                  <a:pt x="721" y="359"/>
                </a:lnTo>
                <a:lnTo>
                  <a:pt x="724" y="364"/>
                </a:lnTo>
                <a:lnTo>
                  <a:pt x="726" y="395"/>
                </a:lnTo>
                <a:lnTo>
                  <a:pt x="726" y="397"/>
                </a:lnTo>
                <a:lnTo>
                  <a:pt x="730" y="401"/>
                </a:lnTo>
                <a:lnTo>
                  <a:pt x="732" y="403"/>
                </a:lnTo>
                <a:lnTo>
                  <a:pt x="733" y="408"/>
                </a:lnTo>
                <a:lnTo>
                  <a:pt x="735" y="415"/>
                </a:lnTo>
                <a:lnTo>
                  <a:pt x="735" y="417"/>
                </a:lnTo>
                <a:lnTo>
                  <a:pt x="735" y="421"/>
                </a:lnTo>
                <a:lnTo>
                  <a:pt x="735" y="425"/>
                </a:lnTo>
                <a:lnTo>
                  <a:pt x="735" y="428"/>
                </a:lnTo>
                <a:lnTo>
                  <a:pt x="743" y="437"/>
                </a:lnTo>
                <a:lnTo>
                  <a:pt x="746" y="439"/>
                </a:lnTo>
                <a:lnTo>
                  <a:pt x="748" y="443"/>
                </a:lnTo>
                <a:lnTo>
                  <a:pt x="750" y="456"/>
                </a:lnTo>
                <a:lnTo>
                  <a:pt x="750" y="459"/>
                </a:lnTo>
                <a:lnTo>
                  <a:pt x="750" y="461"/>
                </a:lnTo>
                <a:lnTo>
                  <a:pt x="754" y="474"/>
                </a:lnTo>
                <a:lnTo>
                  <a:pt x="757" y="487"/>
                </a:lnTo>
                <a:lnTo>
                  <a:pt x="754" y="501"/>
                </a:lnTo>
                <a:lnTo>
                  <a:pt x="755" y="512"/>
                </a:lnTo>
                <a:lnTo>
                  <a:pt x="763" y="518"/>
                </a:lnTo>
                <a:lnTo>
                  <a:pt x="783" y="520"/>
                </a:lnTo>
                <a:lnTo>
                  <a:pt x="792" y="518"/>
                </a:lnTo>
                <a:lnTo>
                  <a:pt x="807" y="514"/>
                </a:lnTo>
                <a:lnTo>
                  <a:pt x="821" y="512"/>
                </a:lnTo>
                <a:lnTo>
                  <a:pt x="839" y="529"/>
                </a:lnTo>
                <a:lnTo>
                  <a:pt x="834" y="540"/>
                </a:lnTo>
                <a:lnTo>
                  <a:pt x="830" y="553"/>
                </a:lnTo>
                <a:lnTo>
                  <a:pt x="827" y="563"/>
                </a:lnTo>
                <a:lnTo>
                  <a:pt x="825" y="567"/>
                </a:lnTo>
                <a:lnTo>
                  <a:pt x="816" y="600"/>
                </a:lnTo>
                <a:lnTo>
                  <a:pt x="807" y="627"/>
                </a:lnTo>
                <a:lnTo>
                  <a:pt x="785" y="637"/>
                </a:lnTo>
                <a:lnTo>
                  <a:pt x="777" y="638"/>
                </a:lnTo>
                <a:lnTo>
                  <a:pt x="754" y="649"/>
                </a:lnTo>
                <a:lnTo>
                  <a:pt x="724" y="660"/>
                </a:lnTo>
                <a:lnTo>
                  <a:pt x="719" y="662"/>
                </a:lnTo>
                <a:lnTo>
                  <a:pt x="706" y="673"/>
                </a:lnTo>
                <a:lnTo>
                  <a:pt x="699" y="682"/>
                </a:lnTo>
                <a:lnTo>
                  <a:pt x="695" y="690"/>
                </a:lnTo>
                <a:lnTo>
                  <a:pt x="691" y="695"/>
                </a:lnTo>
                <a:lnTo>
                  <a:pt x="688" y="701"/>
                </a:lnTo>
                <a:lnTo>
                  <a:pt x="688" y="702"/>
                </a:lnTo>
                <a:lnTo>
                  <a:pt x="690" y="708"/>
                </a:lnTo>
                <a:lnTo>
                  <a:pt x="695" y="712"/>
                </a:lnTo>
                <a:lnTo>
                  <a:pt x="710" y="733"/>
                </a:lnTo>
                <a:lnTo>
                  <a:pt x="702" y="735"/>
                </a:lnTo>
                <a:lnTo>
                  <a:pt x="697" y="737"/>
                </a:lnTo>
                <a:lnTo>
                  <a:pt x="695" y="737"/>
                </a:lnTo>
                <a:lnTo>
                  <a:pt x="693" y="741"/>
                </a:lnTo>
                <a:lnTo>
                  <a:pt x="691" y="744"/>
                </a:lnTo>
                <a:lnTo>
                  <a:pt x="691" y="746"/>
                </a:lnTo>
                <a:lnTo>
                  <a:pt x="691" y="748"/>
                </a:lnTo>
                <a:lnTo>
                  <a:pt x="690" y="752"/>
                </a:lnTo>
                <a:lnTo>
                  <a:pt x="688" y="754"/>
                </a:lnTo>
                <a:lnTo>
                  <a:pt x="686" y="761"/>
                </a:lnTo>
                <a:lnTo>
                  <a:pt x="686" y="763"/>
                </a:lnTo>
                <a:lnTo>
                  <a:pt x="686" y="766"/>
                </a:lnTo>
                <a:lnTo>
                  <a:pt x="686" y="768"/>
                </a:lnTo>
                <a:lnTo>
                  <a:pt x="690" y="781"/>
                </a:lnTo>
                <a:lnTo>
                  <a:pt x="695" y="790"/>
                </a:lnTo>
                <a:lnTo>
                  <a:pt x="695" y="792"/>
                </a:lnTo>
                <a:lnTo>
                  <a:pt x="699" y="808"/>
                </a:lnTo>
                <a:lnTo>
                  <a:pt x="704" y="832"/>
                </a:lnTo>
                <a:lnTo>
                  <a:pt x="702" y="836"/>
                </a:lnTo>
                <a:lnTo>
                  <a:pt x="697" y="840"/>
                </a:lnTo>
                <a:lnTo>
                  <a:pt x="693" y="843"/>
                </a:lnTo>
                <a:lnTo>
                  <a:pt x="691" y="845"/>
                </a:lnTo>
                <a:lnTo>
                  <a:pt x="690" y="847"/>
                </a:lnTo>
                <a:lnTo>
                  <a:pt x="688" y="850"/>
                </a:lnTo>
                <a:lnTo>
                  <a:pt x="688" y="854"/>
                </a:lnTo>
                <a:lnTo>
                  <a:pt x="688" y="860"/>
                </a:lnTo>
                <a:lnTo>
                  <a:pt x="688" y="861"/>
                </a:lnTo>
                <a:lnTo>
                  <a:pt x="688" y="865"/>
                </a:lnTo>
                <a:lnTo>
                  <a:pt x="688" y="867"/>
                </a:lnTo>
                <a:lnTo>
                  <a:pt x="688" y="869"/>
                </a:lnTo>
                <a:lnTo>
                  <a:pt x="691" y="872"/>
                </a:lnTo>
                <a:lnTo>
                  <a:pt x="695" y="878"/>
                </a:lnTo>
                <a:lnTo>
                  <a:pt x="701" y="883"/>
                </a:lnTo>
                <a:lnTo>
                  <a:pt x="702" y="885"/>
                </a:lnTo>
                <a:lnTo>
                  <a:pt x="715" y="903"/>
                </a:lnTo>
                <a:lnTo>
                  <a:pt x="715" y="905"/>
                </a:lnTo>
                <a:lnTo>
                  <a:pt x="711" y="916"/>
                </a:lnTo>
                <a:lnTo>
                  <a:pt x="710" y="916"/>
                </a:lnTo>
                <a:lnTo>
                  <a:pt x="706" y="918"/>
                </a:lnTo>
                <a:lnTo>
                  <a:pt x="704" y="920"/>
                </a:lnTo>
                <a:lnTo>
                  <a:pt x="680" y="927"/>
                </a:lnTo>
                <a:lnTo>
                  <a:pt x="677" y="924"/>
                </a:lnTo>
                <a:lnTo>
                  <a:pt x="671" y="924"/>
                </a:lnTo>
                <a:lnTo>
                  <a:pt x="668" y="924"/>
                </a:lnTo>
                <a:lnTo>
                  <a:pt x="666" y="925"/>
                </a:lnTo>
                <a:lnTo>
                  <a:pt x="662" y="931"/>
                </a:lnTo>
                <a:lnTo>
                  <a:pt x="660" y="933"/>
                </a:lnTo>
                <a:lnTo>
                  <a:pt x="658" y="936"/>
                </a:lnTo>
                <a:lnTo>
                  <a:pt x="660" y="940"/>
                </a:lnTo>
                <a:lnTo>
                  <a:pt x="657" y="947"/>
                </a:lnTo>
                <a:lnTo>
                  <a:pt x="642" y="971"/>
                </a:lnTo>
                <a:lnTo>
                  <a:pt x="640" y="973"/>
                </a:lnTo>
                <a:lnTo>
                  <a:pt x="637" y="984"/>
                </a:lnTo>
                <a:lnTo>
                  <a:pt x="635" y="988"/>
                </a:lnTo>
                <a:lnTo>
                  <a:pt x="633" y="1000"/>
                </a:lnTo>
                <a:lnTo>
                  <a:pt x="631" y="1002"/>
                </a:lnTo>
                <a:lnTo>
                  <a:pt x="629" y="1004"/>
                </a:lnTo>
                <a:lnTo>
                  <a:pt x="629" y="1006"/>
                </a:lnTo>
                <a:lnTo>
                  <a:pt x="626" y="1008"/>
                </a:lnTo>
                <a:lnTo>
                  <a:pt x="622" y="1008"/>
                </a:lnTo>
                <a:lnTo>
                  <a:pt x="618" y="1010"/>
                </a:lnTo>
                <a:lnTo>
                  <a:pt x="616" y="1015"/>
                </a:lnTo>
                <a:lnTo>
                  <a:pt x="615" y="1019"/>
                </a:lnTo>
                <a:lnTo>
                  <a:pt x="613" y="1022"/>
                </a:lnTo>
                <a:lnTo>
                  <a:pt x="609" y="1026"/>
                </a:lnTo>
                <a:lnTo>
                  <a:pt x="596" y="1039"/>
                </a:lnTo>
                <a:lnTo>
                  <a:pt x="589" y="1044"/>
                </a:lnTo>
                <a:lnTo>
                  <a:pt x="584" y="1048"/>
                </a:lnTo>
                <a:lnTo>
                  <a:pt x="584" y="1061"/>
                </a:lnTo>
                <a:lnTo>
                  <a:pt x="584" y="1064"/>
                </a:lnTo>
                <a:lnTo>
                  <a:pt x="580" y="1066"/>
                </a:lnTo>
                <a:lnTo>
                  <a:pt x="574" y="1073"/>
                </a:lnTo>
                <a:lnTo>
                  <a:pt x="574" y="1079"/>
                </a:lnTo>
                <a:lnTo>
                  <a:pt x="576" y="1081"/>
                </a:lnTo>
                <a:lnTo>
                  <a:pt x="576" y="1083"/>
                </a:lnTo>
                <a:lnTo>
                  <a:pt x="578" y="1086"/>
                </a:lnTo>
                <a:lnTo>
                  <a:pt x="574" y="1095"/>
                </a:lnTo>
                <a:lnTo>
                  <a:pt x="571" y="1106"/>
                </a:lnTo>
                <a:lnTo>
                  <a:pt x="571" y="1112"/>
                </a:lnTo>
                <a:lnTo>
                  <a:pt x="571" y="1116"/>
                </a:lnTo>
                <a:lnTo>
                  <a:pt x="569" y="1116"/>
                </a:lnTo>
                <a:lnTo>
                  <a:pt x="567" y="1117"/>
                </a:lnTo>
                <a:lnTo>
                  <a:pt x="560" y="1119"/>
                </a:lnTo>
                <a:lnTo>
                  <a:pt x="554" y="1125"/>
                </a:lnTo>
                <a:lnTo>
                  <a:pt x="549" y="1134"/>
                </a:lnTo>
                <a:lnTo>
                  <a:pt x="547" y="1139"/>
                </a:lnTo>
                <a:lnTo>
                  <a:pt x="549" y="1141"/>
                </a:lnTo>
                <a:lnTo>
                  <a:pt x="551" y="1147"/>
                </a:lnTo>
                <a:lnTo>
                  <a:pt x="554" y="1158"/>
                </a:lnTo>
                <a:lnTo>
                  <a:pt x="554" y="1159"/>
                </a:lnTo>
                <a:lnTo>
                  <a:pt x="554" y="1163"/>
                </a:lnTo>
                <a:lnTo>
                  <a:pt x="554" y="1167"/>
                </a:lnTo>
                <a:lnTo>
                  <a:pt x="554" y="1169"/>
                </a:lnTo>
                <a:lnTo>
                  <a:pt x="554" y="1170"/>
                </a:lnTo>
                <a:lnTo>
                  <a:pt x="556" y="1172"/>
                </a:lnTo>
                <a:lnTo>
                  <a:pt x="558" y="1174"/>
                </a:lnTo>
                <a:lnTo>
                  <a:pt x="560" y="1174"/>
                </a:lnTo>
                <a:lnTo>
                  <a:pt x="560" y="1183"/>
                </a:lnTo>
                <a:lnTo>
                  <a:pt x="560" y="1194"/>
                </a:lnTo>
                <a:lnTo>
                  <a:pt x="558" y="1200"/>
                </a:lnTo>
                <a:lnTo>
                  <a:pt x="558" y="1201"/>
                </a:lnTo>
                <a:lnTo>
                  <a:pt x="563" y="1212"/>
                </a:lnTo>
                <a:lnTo>
                  <a:pt x="565" y="1212"/>
                </a:lnTo>
                <a:lnTo>
                  <a:pt x="567" y="1216"/>
                </a:lnTo>
                <a:lnTo>
                  <a:pt x="567" y="1220"/>
                </a:lnTo>
                <a:lnTo>
                  <a:pt x="560" y="1233"/>
                </a:lnTo>
                <a:lnTo>
                  <a:pt x="556" y="1238"/>
                </a:lnTo>
                <a:lnTo>
                  <a:pt x="551" y="1240"/>
                </a:lnTo>
                <a:lnTo>
                  <a:pt x="549" y="1240"/>
                </a:lnTo>
                <a:lnTo>
                  <a:pt x="545" y="1240"/>
                </a:lnTo>
                <a:lnTo>
                  <a:pt x="538" y="1243"/>
                </a:lnTo>
                <a:lnTo>
                  <a:pt x="530" y="1256"/>
                </a:lnTo>
                <a:lnTo>
                  <a:pt x="527" y="1264"/>
                </a:lnTo>
                <a:lnTo>
                  <a:pt x="525" y="1267"/>
                </a:lnTo>
                <a:lnTo>
                  <a:pt x="520" y="1280"/>
                </a:lnTo>
                <a:lnTo>
                  <a:pt x="520" y="1287"/>
                </a:lnTo>
                <a:lnTo>
                  <a:pt x="520" y="1291"/>
                </a:lnTo>
                <a:lnTo>
                  <a:pt x="520" y="1293"/>
                </a:lnTo>
                <a:lnTo>
                  <a:pt x="523" y="1297"/>
                </a:lnTo>
                <a:lnTo>
                  <a:pt x="523" y="1300"/>
                </a:lnTo>
                <a:lnTo>
                  <a:pt x="516" y="1307"/>
                </a:lnTo>
                <a:lnTo>
                  <a:pt x="509" y="1309"/>
                </a:lnTo>
                <a:lnTo>
                  <a:pt x="507" y="1307"/>
                </a:lnTo>
                <a:lnTo>
                  <a:pt x="501" y="1313"/>
                </a:lnTo>
                <a:lnTo>
                  <a:pt x="499" y="1315"/>
                </a:lnTo>
                <a:lnTo>
                  <a:pt x="498" y="1329"/>
                </a:lnTo>
                <a:lnTo>
                  <a:pt x="494" y="1351"/>
                </a:lnTo>
                <a:lnTo>
                  <a:pt x="507" y="1377"/>
                </a:lnTo>
                <a:lnTo>
                  <a:pt x="509" y="1379"/>
                </a:lnTo>
                <a:lnTo>
                  <a:pt x="509" y="1381"/>
                </a:lnTo>
                <a:lnTo>
                  <a:pt x="510" y="1382"/>
                </a:lnTo>
                <a:lnTo>
                  <a:pt x="514" y="1382"/>
                </a:lnTo>
                <a:lnTo>
                  <a:pt x="518" y="1382"/>
                </a:lnTo>
                <a:lnTo>
                  <a:pt x="521" y="1382"/>
                </a:lnTo>
                <a:lnTo>
                  <a:pt x="523" y="1384"/>
                </a:lnTo>
                <a:lnTo>
                  <a:pt x="529" y="1388"/>
                </a:lnTo>
                <a:lnTo>
                  <a:pt x="529" y="1390"/>
                </a:lnTo>
                <a:lnTo>
                  <a:pt x="525" y="1399"/>
                </a:lnTo>
                <a:lnTo>
                  <a:pt x="521" y="1399"/>
                </a:lnTo>
                <a:lnTo>
                  <a:pt x="518" y="1403"/>
                </a:lnTo>
                <a:lnTo>
                  <a:pt x="520" y="1415"/>
                </a:lnTo>
                <a:lnTo>
                  <a:pt x="520" y="1419"/>
                </a:lnTo>
                <a:lnTo>
                  <a:pt x="521" y="1421"/>
                </a:lnTo>
                <a:lnTo>
                  <a:pt x="527" y="1424"/>
                </a:lnTo>
                <a:lnTo>
                  <a:pt x="529" y="1426"/>
                </a:lnTo>
                <a:lnTo>
                  <a:pt x="536" y="1439"/>
                </a:lnTo>
                <a:lnTo>
                  <a:pt x="536" y="1443"/>
                </a:lnTo>
                <a:lnTo>
                  <a:pt x="536" y="1446"/>
                </a:lnTo>
                <a:lnTo>
                  <a:pt x="534" y="1450"/>
                </a:lnTo>
                <a:lnTo>
                  <a:pt x="534" y="1454"/>
                </a:lnTo>
                <a:lnTo>
                  <a:pt x="536" y="1467"/>
                </a:lnTo>
                <a:lnTo>
                  <a:pt x="547" y="1476"/>
                </a:lnTo>
                <a:lnTo>
                  <a:pt x="551" y="1477"/>
                </a:lnTo>
                <a:lnTo>
                  <a:pt x="549" y="1485"/>
                </a:lnTo>
                <a:lnTo>
                  <a:pt x="543" y="1490"/>
                </a:lnTo>
                <a:lnTo>
                  <a:pt x="541" y="1496"/>
                </a:lnTo>
                <a:lnTo>
                  <a:pt x="543" y="1498"/>
                </a:lnTo>
                <a:lnTo>
                  <a:pt x="541" y="1501"/>
                </a:lnTo>
                <a:lnTo>
                  <a:pt x="541" y="1505"/>
                </a:lnTo>
                <a:lnTo>
                  <a:pt x="541" y="1507"/>
                </a:lnTo>
                <a:lnTo>
                  <a:pt x="551" y="1520"/>
                </a:lnTo>
                <a:lnTo>
                  <a:pt x="552" y="1518"/>
                </a:lnTo>
                <a:lnTo>
                  <a:pt x="554" y="1516"/>
                </a:lnTo>
                <a:lnTo>
                  <a:pt x="558" y="1514"/>
                </a:lnTo>
                <a:lnTo>
                  <a:pt x="560" y="1512"/>
                </a:lnTo>
                <a:lnTo>
                  <a:pt x="563" y="1514"/>
                </a:lnTo>
                <a:lnTo>
                  <a:pt x="569" y="1518"/>
                </a:lnTo>
                <a:lnTo>
                  <a:pt x="573" y="1527"/>
                </a:lnTo>
                <a:lnTo>
                  <a:pt x="571" y="1530"/>
                </a:lnTo>
                <a:lnTo>
                  <a:pt x="569" y="1532"/>
                </a:lnTo>
                <a:lnTo>
                  <a:pt x="563" y="1543"/>
                </a:lnTo>
                <a:lnTo>
                  <a:pt x="560" y="1565"/>
                </a:lnTo>
                <a:lnTo>
                  <a:pt x="560" y="1569"/>
                </a:lnTo>
                <a:lnTo>
                  <a:pt x="565" y="1596"/>
                </a:lnTo>
                <a:lnTo>
                  <a:pt x="569" y="1609"/>
                </a:lnTo>
                <a:lnTo>
                  <a:pt x="562" y="1613"/>
                </a:lnTo>
                <a:lnTo>
                  <a:pt x="558" y="1613"/>
                </a:lnTo>
                <a:lnTo>
                  <a:pt x="554" y="1613"/>
                </a:lnTo>
                <a:lnTo>
                  <a:pt x="552" y="1613"/>
                </a:lnTo>
                <a:lnTo>
                  <a:pt x="549" y="1613"/>
                </a:lnTo>
                <a:lnTo>
                  <a:pt x="547" y="1615"/>
                </a:lnTo>
                <a:lnTo>
                  <a:pt x="545" y="1615"/>
                </a:lnTo>
                <a:lnTo>
                  <a:pt x="545" y="1620"/>
                </a:lnTo>
                <a:lnTo>
                  <a:pt x="547" y="1626"/>
                </a:lnTo>
                <a:lnTo>
                  <a:pt x="536" y="1637"/>
                </a:lnTo>
                <a:lnTo>
                  <a:pt x="529" y="1649"/>
                </a:lnTo>
                <a:lnTo>
                  <a:pt x="521" y="1668"/>
                </a:lnTo>
                <a:lnTo>
                  <a:pt x="516" y="1682"/>
                </a:lnTo>
                <a:lnTo>
                  <a:pt x="516" y="1691"/>
                </a:lnTo>
                <a:lnTo>
                  <a:pt x="516" y="1697"/>
                </a:lnTo>
                <a:lnTo>
                  <a:pt x="514" y="1699"/>
                </a:lnTo>
                <a:lnTo>
                  <a:pt x="507" y="1702"/>
                </a:lnTo>
                <a:lnTo>
                  <a:pt x="505" y="1702"/>
                </a:lnTo>
                <a:lnTo>
                  <a:pt x="501" y="1702"/>
                </a:lnTo>
                <a:lnTo>
                  <a:pt x="499" y="1702"/>
                </a:lnTo>
                <a:lnTo>
                  <a:pt x="496" y="1706"/>
                </a:lnTo>
                <a:lnTo>
                  <a:pt x="496" y="1708"/>
                </a:lnTo>
                <a:lnTo>
                  <a:pt x="498" y="1711"/>
                </a:lnTo>
                <a:lnTo>
                  <a:pt x="499" y="1711"/>
                </a:lnTo>
                <a:lnTo>
                  <a:pt x="510" y="1717"/>
                </a:lnTo>
                <a:lnTo>
                  <a:pt x="512" y="1732"/>
                </a:lnTo>
                <a:lnTo>
                  <a:pt x="512" y="1741"/>
                </a:lnTo>
                <a:lnTo>
                  <a:pt x="518" y="1761"/>
                </a:lnTo>
                <a:lnTo>
                  <a:pt x="514" y="1763"/>
                </a:lnTo>
                <a:lnTo>
                  <a:pt x="512" y="1766"/>
                </a:lnTo>
                <a:lnTo>
                  <a:pt x="510" y="1768"/>
                </a:lnTo>
                <a:lnTo>
                  <a:pt x="512" y="1775"/>
                </a:lnTo>
                <a:lnTo>
                  <a:pt x="512" y="1786"/>
                </a:lnTo>
                <a:lnTo>
                  <a:pt x="510" y="1792"/>
                </a:lnTo>
                <a:lnTo>
                  <a:pt x="503" y="1794"/>
                </a:lnTo>
                <a:lnTo>
                  <a:pt x="494" y="1794"/>
                </a:lnTo>
                <a:lnTo>
                  <a:pt x="483" y="1805"/>
                </a:lnTo>
                <a:lnTo>
                  <a:pt x="481" y="1812"/>
                </a:lnTo>
                <a:lnTo>
                  <a:pt x="483" y="1816"/>
                </a:lnTo>
                <a:lnTo>
                  <a:pt x="483" y="1817"/>
                </a:lnTo>
                <a:lnTo>
                  <a:pt x="459" y="1825"/>
                </a:lnTo>
                <a:lnTo>
                  <a:pt x="456" y="1825"/>
                </a:lnTo>
                <a:lnTo>
                  <a:pt x="454" y="1825"/>
                </a:lnTo>
                <a:lnTo>
                  <a:pt x="450" y="1830"/>
                </a:lnTo>
                <a:lnTo>
                  <a:pt x="437" y="1860"/>
                </a:lnTo>
                <a:lnTo>
                  <a:pt x="441" y="1872"/>
                </a:lnTo>
                <a:lnTo>
                  <a:pt x="445" y="1885"/>
                </a:lnTo>
                <a:lnTo>
                  <a:pt x="443" y="1892"/>
                </a:lnTo>
                <a:lnTo>
                  <a:pt x="441" y="1898"/>
                </a:lnTo>
                <a:lnTo>
                  <a:pt x="443" y="1916"/>
                </a:lnTo>
                <a:lnTo>
                  <a:pt x="445" y="1918"/>
                </a:lnTo>
                <a:lnTo>
                  <a:pt x="443" y="1931"/>
                </a:lnTo>
                <a:lnTo>
                  <a:pt x="439" y="1933"/>
                </a:lnTo>
                <a:lnTo>
                  <a:pt x="437" y="1934"/>
                </a:lnTo>
                <a:lnTo>
                  <a:pt x="437" y="1938"/>
                </a:lnTo>
                <a:lnTo>
                  <a:pt x="437" y="1942"/>
                </a:lnTo>
                <a:lnTo>
                  <a:pt x="439" y="1945"/>
                </a:lnTo>
                <a:lnTo>
                  <a:pt x="443" y="1955"/>
                </a:lnTo>
                <a:lnTo>
                  <a:pt x="446" y="1960"/>
                </a:lnTo>
                <a:lnTo>
                  <a:pt x="456" y="1978"/>
                </a:lnTo>
                <a:lnTo>
                  <a:pt x="454" y="1986"/>
                </a:lnTo>
                <a:lnTo>
                  <a:pt x="454" y="1991"/>
                </a:lnTo>
                <a:lnTo>
                  <a:pt x="454" y="1993"/>
                </a:lnTo>
                <a:lnTo>
                  <a:pt x="454" y="1998"/>
                </a:lnTo>
                <a:lnTo>
                  <a:pt x="457" y="2011"/>
                </a:lnTo>
                <a:lnTo>
                  <a:pt x="459" y="2015"/>
                </a:lnTo>
                <a:lnTo>
                  <a:pt x="463" y="2017"/>
                </a:lnTo>
                <a:lnTo>
                  <a:pt x="466" y="2019"/>
                </a:lnTo>
                <a:lnTo>
                  <a:pt x="470" y="2020"/>
                </a:lnTo>
                <a:lnTo>
                  <a:pt x="472" y="2024"/>
                </a:lnTo>
                <a:lnTo>
                  <a:pt x="470" y="2028"/>
                </a:lnTo>
                <a:lnTo>
                  <a:pt x="468" y="2037"/>
                </a:lnTo>
                <a:lnTo>
                  <a:pt x="463" y="2042"/>
                </a:lnTo>
                <a:lnTo>
                  <a:pt x="459" y="2042"/>
                </a:lnTo>
                <a:lnTo>
                  <a:pt x="456" y="2042"/>
                </a:lnTo>
                <a:lnTo>
                  <a:pt x="452" y="2042"/>
                </a:lnTo>
                <a:lnTo>
                  <a:pt x="450" y="2042"/>
                </a:lnTo>
                <a:lnTo>
                  <a:pt x="445" y="2044"/>
                </a:lnTo>
                <a:lnTo>
                  <a:pt x="432" y="2051"/>
                </a:lnTo>
                <a:lnTo>
                  <a:pt x="423" y="2055"/>
                </a:lnTo>
                <a:lnTo>
                  <a:pt x="421" y="2057"/>
                </a:lnTo>
                <a:lnTo>
                  <a:pt x="417" y="2059"/>
                </a:lnTo>
                <a:lnTo>
                  <a:pt x="415" y="2061"/>
                </a:lnTo>
                <a:lnTo>
                  <a:pt x="413" y="2062"/>
                </a:lnTo>
                <a:lnTo>
                  <a:pt x="413" y="2068"/>
                </a:lnTo>
                <a:lnTo>
                  <a:pt x="413" y="2072"/>
                </a:lnTo>
                <a:lnTo>
                  <a:pt x="415" y="2073"/>
                </a:lnTo>
                <a:lnTo>
                  <a:pt x="415" y="2079"/>
                </a:lnTo>
                <a:lnTo>
                  <a:pt x="417" y="2090"/>
                </a:lnTo>
                <a:lnTo>
                  <a:pt x="415" y="2099"/>
                </a:lnTo>
                <a:lnTo>
                  <a:pt x="408" y="2125"/>
                </a:lnTo>
                <a:lnTo>
                  <a:pt x="406" y="2126"/>
                </a:lnTo>
                <a:lnTo>
                  <a:pt x="397" y="2126"/>
                </a:lnTo>
                <a:lnTo>
                  <a:pt x="395" y="2126"/>
                </a:lnTo>
                <a:lnTo>
                  <a:pt x="390" y="2121"/>
                </a:lnTo>
                <a:lnTo>
                  <a:pt x="388" y="2123"/>
                </a:lnTo>
                <a:lnTo>
                  <a:pt x="386" y="2126"/>
                </a:lnTo>
                <a:lnTo>
                  <a:pt x="386" y="2137"/>
                </a:lnTo>
                <a:lnTo>
                  <a:pt x="390" y="2148"/>
                </a:lnTo>
                <a:lnTo>
                  <a:pt x="393" y="2157"/>
                </a:lnTo>
                <a:lnTo>
                  <a:pt x="390" y="2168"/>
                </a:lnTo>
                <a:lnTo>
                  <a:pt x="382" y="2172"/>
                </a:lnTo>
                <a:lnTo>
                  <a:pt x="379" y="2174"/>
                </a:lnTo>
                <a:lnTo>
                  <a:pt x="375" y="2183"/>
                </a:lnTo>
                <a:lnTo>
                  <a:pt x="379" y="2187"/>
                </a:lnTo>
                <a:lnTo>
                  <a:pt x="386" y="2192"/>
                </a:lnTo>
                <a:lnTo>
                  <a:pt x="388" y="2190"/>
                </a:lnTo>
                <a:lnTo>
                  <a:pt x="390" y="2192"/>
                </a:lnTo>
                <a:lnTo>
                  <a:pt x="392" y="2196"/>
                </a:lnTo>
                <a:lnTo>
                  <a:pt x="388" y="2201"/>
                </a:lnTo>
                <a:lnTo>
                  <a:pt x="386" y="2203"/>
                </a:lnTo>
                <a:lnTo>
                  <a:pt x="384" y="2205"/>
                </a:lnTo>
                <a:lnTo>
                  <a:pt x="382" y="2203"/>
                </a:lnTo>
                <a:lnTo>
                  <a:pt x="379" y="2203"/>
                </a:lnTo>
                <a:lnTo>
                  <a:pt x="373" y="2214"/>
                </a:lnTo>
                <a:lnTo>
                  <a:pt x="373" y="2218"/>
                </a:lnTo>
                <a:lnTo>
                  <a:pt x="373" y="2221"/>
                </a:lnTo>
                <a:lnTo>
                  <a:pt x="371" y="2225"/>
                </a:lnTo>
                <a:lnTo>
                  <a:pt x="370" y="2227"/>
                </a:lnTo>
                <a:lnTo>
                  <a:pt x="368" y="2229"/>
                </a:lnTo>
                <a:lnTo>
                  <a:pt x="366" y="2231"/>
                </a:lnTo>
                <a:lnTo>
                  <a:pt x="364" y="2232"/>
                </a:lnTo>
                <a:lnTo>
                  <a:pt x="366" y="2240"/>
                </a:lnTo>
                <a:lnTo>
                  <a:pt x="371" y="2249"/>
                </a:lnTo>
                <a:lnTo>
                  <a:pt x="373" y="2251"/>
                </a:lnTo>
                <a:lnTo>
                  <a:pt x="373" y="2254"/>
                </a:lnTo>
                <a:lnTo>
                  <a:pt x="371" y="2260"/>
                </a:lnTo>
                <a:lnTo>
                  <a:pt x="373" y="2265"/>
                </a:lnTo>
                <a:lnTo>
                  <a:pt x="371" y="2282"/>
                </a:lnTo>
                <a:lnTo>
                  <a:pt x="371" y="2285"/>
                </a:lnTo>
                <a:lnTo>
                  <a:pt x="371" y="2300"/>
                </a:lnTo>
                <a:lnTo>
                  <a:pt x="373" y="2313"/>
                </a:lnTo>
                <a:lnTo>
                  <a:pt x="370" y="2317"/>
                </a:lnTo>
                <a:lnTo>
                  <a:pt x="366" y="2318"/>
                </a:lnTo>
                <a:lnTo>
                  <a:pt x="366" y="2322"/>
                </a:lnTo>
                <a:lnTo>
                  <a:pt x="373" y="2333"/>
                </a:lnTo>
                <a:lnTo>
                  <a:pt x="379" y="2342"/>
                </a:lnTo>
                <a:lnTo>
                  <a:pt x="381" y="2344"/>
                </a:lnTo>
                <a:lnTo>
                  <a:pt x="381" y="2349"/>
                </a:lnTo>
                <a:lnTo>
                  <a:pt x="382" y="2355"/>
                </a:lnTo>
                <a:lnTo>
                  <a:pt x="384" y="2359"/>
                </a:lnTo>
                <a:lnTo>
                  <a:pt x="384" y="2364"/>
                </a:lnTo>
                <a:lnTo>
                  <a:pt x="381" y="2368"/>
                </a:lnTo>
                <a:lnTo>
                  <a:pt x="368" y="2373"/>
                </a:lnTo>
                <a:lnTo>
                  <a:pt x="364" y="2371"/>
                </a:lnTo>
                <a:lnTo>
                  <a:pt x="364" y="2370"/>
                </a:lnTo>
                <a:lnTo>
                  <a:pt x="362" y="2368"/>
                </a:lnTo>
                <a:lnTo>
                  <a:pt x="359" y="2368"/>
                </a:lnTo>
                <a:lnTo>
                  <a:pt x="357" y="2368"/>
                </a:lnTo>
                <a:lnTo>
                  <a:pt x="355" y="2370"/>
                </a:lnTo>
                <a:lnTo>
                  <a:pt x="346" y="2382"/>
                </a:lnTo>
                <a:lnTo>
                  <a:pt x="348" y="2386"/>
                </a:lnTo>
                <a:lnTo>
                  <a:pt x="351" y="2388"/>
                </a:lnTo>
                <a:lnTo>
                  <a:pt x="353" y="2390"/>
                </a:lnTo>
                <a:lnTo>
                  <a:pt x="355" y="2391"/>
                </a:lnTo>
                <a:lnTo>
                  <a:pt x="348" y="2406"/>
                </a:lnTo>
                <a:lnTo>
                  <a:pt x="346" y="2408"/>
                </a:lnTo>
                <a:lnTo>
                  <a:pt x="346" y="2410"/>
                </a:lnTo>
                <a:lnTo>
                  <a:pt x="346" y="2412"/>
                </a:lnTo>
                <a:lnTo>
                  <a:pt x="346" y="2419"/>
                </a:lnTo>
                <a:lnTo>
                  <a:pt x="348" y="2424"/>
                </a:lnTo>
                <a:lnTo>
                  <a:pt x="348" y="2428"/>
                </a:lnTo>
                <a:lnTo>
                  <a:pt x="349" y="2437"/>
                </a:lnTo>
                <a:lnTo>
                  <a:pt x="348" y="2441"/>
                </a:lnTo>
                <a:lnTo>
                  <a:pt x="348" y="2443"/>
                </a:lnTo>
                <a:lnTo>
                  <a:pt x="346" y="2446"/>
                </a:lnTo>
                <a:lnTo>
                  <a:pt x="346" y="2448"/>
                </a:lnTo>
                <a:lnTo>
                  <a:pt x="346" y="2452"/>
                </a:lnTo>
                <a:lnTo>
                  <a:pt x="348" y="2455"/>
                </a:lnTo>
                <a:lnTo>
                  <a:pt x="351" y="2461"/>
                </a:lnTo>
                <a:lnTo>
                  <a:pt x="353" y="2461"/>
                </a:lnTo>
                <a:lnTo>
                  <a:pt x="359" y="2463"/>
                </a:lnTo>
                <a:lnTo>
                  <a:pt x="362" y="2463"/>
                </a:lnTo>
                <a:lnTo>
                  <a:pt x="366" y="2463"/>
                </a:lnTo>
                <a:lnTo>
                  <a:pt x="371" y="2465"/>
                </a:lnTo>
                <a:lnTo>
                  <a:pt x="375" y="2465"/>
                </a:lnTo>
                <a:lnTo>
                  <a:pt x="384" y="2468"/>
                </a:lnTo>
                <a:lnTo>
                  <a:pt x="384" y="2479"/>
                </a:lnTo>
                <a:lnTo>
                  <a:pt x="384" y="2481"/>
                </a:lnTo>
                <a:lnTo>
                  <a:pt x="382" y="2481"/>
                </a:lnTo>
                <a:lnTo>
                  <a:pt x="379" y="2481"/>
                </a:lnTo>
                <a:lnTo>
                  <a:pt x="368" y="2483"/>
                </a:lnTo>
                <a:lnTo>
                  <a:pt x="366" y="2488"/>
                </a:lnTo>
                <a:lnTo>
                  <a:pt x="364" y="2496"/>
                </a:lnTo>
                <a:lnTo>
                  <a:pt x="373" y="2499"/>
                </a:lnTo>
                <a:lnTo>
                  <a:pt x="388" y="2508"/>
                </a:lnTo>
                <a:lnTo>
                  <a:pt x="388" y="2516"/>
                </a:lnTo>
                <a:lnTo>
                  <a:pt x="388" y="2518"/>
                </a:lnTo>
                <a:lnTo>
                  <a:pt x="381" y="2521"/>
                </a:lnTo>
                <a:lnTo>
                  <a:pt x="379" y="2521"/>
                </a:lnTo>
                <a:lnTo>
                  <a:pt x="377" y="2521"/>
                </a:lnTo>
                <a:lnTo>
                  <a:pt x="377" y="2525"/>
                </a:lnTo>
                <a:lnTo>
                  <a:pt x="382" y="2530"/>
                </a:lnTo>
                <a:lnTo>
                  <a:pt x="388" y="2534"/>
                </a:lnTo>
                <a:lnTo>
                  <a:pt x="392" y="2540"/>
                </a:lnTo>
                <a:lnTo>
                  <a:pt x="393" y="2541"/>
                </a:lnTo>
                <a:lnTo>
                  <a:pt x="392" y="2543"/>
                </a:lnTo>
                <a:lnTo>
                  <a:pt x="382" y="2554"/>
                </a:lnTo>
                <a:lnTo>
                  <a:pt x="381" y="2556"/>
                </a:lnTo>
                <a:lnTo>
                  <a:pt x="375" y="2563"/>
                </a:lnTo>
                <a:lnTo>
                  <a:pt x="373" y="2583"/>
                </a:lnTo>
                <a:lnTo>
                  <a:pt x="375" y="2585"/>
                </a:lnTo>
                <a:lnTo>
                  <a:pt x="381" y="2587"/>
                </a:lnTo>
                <a:lnTo>
                  <a:pt x="395" y="2587"/>
                </a:lnTo>
                <a:lnTo>
                  <a:pt x="403" y="2587"/>
                </a:lnTo>
                <a:lnTo>
                  <a:pt x="408" y="2587"/>
                </a:lnTo>
                <a:lnTo>
                  <a:pt x="415" y="2587"/>
                </a:lnTo>
                <a:lnTo>
                  <a:pt x="435" y="2589"/>
                </a:lnTo>
                <a:lnTo>
                  <a:pt x="439" y="2591"/>
                </a:lnTo>
                <a:lnTo>
                  <a:pt x="445" y="2600"/>
                </a:lnTo>
                <a:lnTo>
                  <a:pt x="443" y="2602"/>
                </a:lnTo>
                <a:lnTo>
                  <a:pt x="434" y="2620"/>
                </a:lnTo>
                <a:lnTo>
                  <a:pt x="428" y="2624"/>
                </a:lnTo>
                <a:lnTo>
                  <a:pt x="424" y="2625"/>
                </a:lnTo>
                <a:lnTo>
                  <a:pt x="423" y="2625"/>
                </a:lnTo>
                <a:lnTo>
                  <a:pt x="392" y="2624"/>
                </a:lnTo>
                <a:lnTo>
                  <a:pt x="373" y="2624"/>
                </a:lnTo>
                <a:lnTo>
                  <a:pt x="362" y="2624"/>
                </a:lnTo>
                <a:lnTo>
                  <a:pt x="360" y="2622"/>
                </a:lnTo>
                <a:lnTo>
                  <a:pt x="359" y="2622"/>
                </a:lnTo>
                <a:lnTo>
                  <a:pt x="357" y="2620"/>
                </a:lnTo>
                <a:lnTo>
                  <a:pt x="353" y="2620"/>
                </a:lnTo>
                <a:lnTo>
                  <a:pt x="351" y="2622"/>
                </a:lnTo>
                <a:lnTo>
                  <a:pt x="351" y="2624"/>
                </a:lnTo>
                <a:lnTo>
                  <a:pt x="351" y="2635"/>
                </a:lnTo>
                <a:lnTo>
                  <a:pt x="364" y="2636"/>
                </a:lnTo>
                <a:lnTo>
                  <a:pt x="377" y="2636"/>
                </a:lnTo>
                <a:lnTo>
                  <a:pt x="384" y="2638"/>
                </a:lnTo>
                <a:lnTo>
                  <a:pt x="399" y="2642"/>
                </a:lnTo>
                <a:lnTo>
                  <a:pt x="403" y="2644"/>
                </a:lnTo>
                <a:lnTo>
                  <a:pt x="423" y="2666"/>
                </a:lnTo>
                <a:lnTo>
                  <a:pt x="426" y="2673"/>
                </a:lnTo>
                <a:lnTo>
                  <a:pt x="410" y="2689"/>
                </a:lnTo>
                <a:lnTo>
                  <a:pt x="397" y="2695"/>
                </a:lnTo>
                <a:lnTo>
                  <a:pt x="393" y="2693"/>
                </a:lnTo>
                <a:lnTo>
                  <a:pt x="392" y="2695"/>
                </a:lnTo>
                <a:lnTo>
                  <a:pt x="390" y="2695"/>
                </a:lnTo>
                <a:lnTo>
                  <a:pt x="386" y="2695"/>
                </a:lnTo>
                <a:lnTo>
                  <a:pt x="382" y="2697"/>
                </a:lnTo>
                <a:lnTo>
                  <a:pt x="379" y="2706"/>
                </a:lnTo>
                <a:lnTo>
                  <a:pt x="379" y="2713"/>
                </a:lnTo>
                <a:lnTo>
                  <a:pt x="382" y="2726"/>
                </a:lnTo>
                <a:lnTo>
                  <a:pt x="384" y="2726"/>
                </a:lnTo>
                <a:lnTo>
                  <a:pt x="388" y="2728"/>
                </a:lnTo>
                <a:lnTo>
                  <a:pt x="392" y="2730"/>
                </a:lnTo>
                <a:lnTo>
                  <a:pt x="393" y="2731"/>
                </a:lnTo>
                <a:lnTo>
                  <a:pt x="397" y="2737"/>
                </a:lnTo>
                <a:lnTo>
                  <a:pt x="393" y="2739"/>
                </a:lnTo>
                <a:lnTo>
                  <a:pt x="393" y="2741"/>
                </a:lnTo>
                <a:lnTo>
                  <a:pt x="390" y="2741"/>
                </a:lnTo>
                <a:lnTo>
                  <a:pt x="379" y="2752"/>
                </a:lnTo>
                <a:lnTo>
                  <a:pt x="381" y="2761"/>
                </a:lnTo>
                <a:lnTo>
                  <a:pt x="384" y="2766"/>
                </a:lnTo>
                <a:lnTo>
                  <a:pt x="390" y="2792"/>
                </a:lnTo>
                <a:lnTo>
                  <a:pt x="390" y="2803"/>
                </a:lnTo>
                <a:lnTo>
                  <a:pt x="390" y="2806"/>
                </a:lnTo>
                <a:lnTo>
                  <a:pt x="388" y="2808"/>
                </a:lnTo>
                <a:lnTo>
                  <a:pt x="377" y="2816"/>
                </a:lnTo>
                <a:lnTo>
                  <a:pt x="373" y="2817"/>
                </a:lnTo>
                <a:lnTo>
                  <a:pt x="366" y="2817"/>
                </a:lnTo>
                <a:lnTo>
                  <a:pt x="364" y="2819"/>
                </a:lnTo>
                <a:lnTo>
                  <a:pt x="360" y="2839"/>
                </a:lnTo>
                <a:lnTo>
                  <a:pt x="370" y="2847"/>
                </a:lnTo>
                <a:lnTo>
                  <a:pt x="371" y="2850"/>
                </a:lnTo>
                <a:lnTo>
                  <a:pt x="373" y="2852"/>
                </a:lnTo>
                <a:lnTo>
                  <a:pt x="371" y="2858"/>
                </a:lnTo>
                <a:lnTo>
                  <a:pt x="370" y="2858"/>
                </a:lnTo>
                <a:lnTo>
                  <a:pt x="344" y="2876"/>
                </a:lnTo>
                <a:lnTo>
                  <a:pt x="340" y="2876"/>
                </a:lnTo>
                <a:lnTo>
                  <a:pt x="329" y="2885"/>
                </a:lnTo>
                <a:lnTo>
                  <a:pt x="315" y="2909"/>
                </a:lnTo>
                <a:lnTo>
                  <a:pt x="307" y="2923"/>
                </a:lnTo>
                <a:lnTo>
                  <a:pt x="307" y="2927"/>
                </a:lnTo>
                <a:lnTo>
                  <a:pt x="309" y="2929"/>
                </a:lnTo>
                <a:lnTo>
                  <a:pt x="313" y="2931"/>
                </a:lnTo>
                <a:lnTo>
                  <a:pt x="315" y="2933"/>
                </a:lnTo>
                <a:lnTo>
                  <a:pt x="320" y="2933"/>
                </a:lnTo>
                <a:lnTo>
                  <a:pt x="328" y="2940"/>
                </a:lnTo>
                <a:lnTo>
                  <a:pt x="329" y="2951"/>
                </a:lnTo>
                <a:lnTo>
                  <a:pt x="331" y="2965"/>
                </a:lnTo>
                <a:lnTo>
                  <a:pt x="318" y="2971"/>
                </a:lnTo>
                <a:lnTo>
                  <a:pt x="311" y="2973"/>
                </a:lnTo>
                <a:lnTo>
                  <a:pt x="306" y="2975"/>
                </a:lnTo>
                <a:lnTo>
                  <a:pt x="304" y="2976"/>
                </a:lnTo>
                <a:lnTo>
                  <a:pt x="302" y="2978"/>
                </a:lnTo>
                <a:lnTo>
                  <a:pt x="300" y="2980"/>
                </a:lnTo>
                <a:lnTo>
                  <a:pt x="302" y="2984"/>
                </a:lnTo>
                <a:lnTo>
                  <a:pt x="302" y="2987"/>
                </a:lnTo>
                <a:lnTo>
                  <a:pt x="304" y="2989"/>
                </a:lnTo>
                <a:lnTo>
                  <a:pt x="304" y="2995"/>
                </a:lnTo>
                <a:lnTo>
                  <a:pt x="306" y="2998"/>
                </a:lnTo>
                <a:lnTo>
                  <a:pt x="306" y="3002"/>
                </a:lnTo>
                <a:lnTo>
                  <a:pt x="306" y="3007"/>
                </a:lnTo>
                <a:lnTo>
                  <a:pt x="304" y="3009"/>
                </a:lnTo>
                <a:lnTo>
                  <a:pt x="302" y="3011"/>
                </a:lnTo>
                <a:lnTo>
                  <a:pt x="291" y="3018"/>
                </a:lnTo>
                <a:lnTo>
                  <a:pt x="287" y="3020"/>
                </a:lnTo>
                <a:lnTo>
                  <a:pt x="285" y="3022"/>
                </a:lnTo>
                <a:lnTo>
                  <a:pt x="284" y="3022"/>
                </a:lnTo>
                <a:lnTo>
                  <a:pt x="280" y="3024"/>
                </a:lnTo>
                <a:lnTo>
                  <a:pt x="276" y="3024"/>
                </a:lnTo>
                <a:lnTo>
                  <a:pt x="273" y="3024"/>
                </a:lnTo>
                <a:lnTo>
                  <a:pt x="271" y="3024"/>
                </a:lnTo>
                <a:lnTo>
                  <a:pt x="267" y="3026"/>
                </a:lnTo>
                <a:lnTo>
                  <a:pt x="264" y="3026"/>
                </a:lnTo>
                <a:lnTo>
                  <a:pt x="262" y="3028"/>
                </a:lnTo>
                <a:lnTo>
                  <a:pt x="254" y="3035"/>
                </a:lnTo>
                <a:lnTo>
                  <a:pt x="245" y="3050"/>
                </a:lnTo>
                <a:lnTo>
                  <a:pt x="245" y="3051"/>
                </a:lnTo>
                <a:lnTo>
                  <a:pt x="247" y="3053"/>
                </a:lnTo>
                <a:lnTo>
                  <a:pt x="254" y="3053"/>
                </a:lnTo>
                <a:lnTo>
                  <a:pt x="249" y="3057"/>
                </a:lnTo>
                <a:lnTo>
                  <a:pt x="245" y="3057"/>
                </a:lnTo>
                <a:lnTo>
                  <a:pt x="222" y="3059"/>
                </a:lnTo>
                <a:lnTo>
                  <a:pt x="218" y="3059"/>
                </a:lnTo>
                <a:lnTo>
                  <a:pt x="211" y="3071"/>
                </a:lnTo>
                <a:lnTo>
                  <a:pt x="207" y="3081"/>
                </a:lnTo>
                <a:lnTo>
                  <a:pt x="207" y="3082"/>
                </a:lnTo>
                <a:lnTo>
                  <a:pt x="212" y="3086"/>
                </a:lnTo>
                <a:lnTo>
                  <a:pt x="220" y="3104"/>
                </a:lnTo>
                <a:lnTo>
                  <a:pt x="218" y="3106"/>
                </a:lnTo>
                <a:lnTo>
                  <a:pt x="214" y="3108"/>
                </a:lnTo>
                <a:lnTo>
                  <a:pt x="211" y="3110"/>
                </a:lnTo>
                <a:lnTo>
                  <a:pt x="209" y="3119"/>
                </a:lnTo>
                <a:lnTo>
                  <a:pt x="211" y="3135"/>
                </a:lnTo>
                <a:lnTo>
                  <a:pt x="212" y="3139"/>
                </a:lnTo>
                <a:lnTo>
                  <a:pt x="216" y="3141"/>
                </a:lnTo>
                <a:lnTo>
                  <a:pt x="220" y="3143"/>
                </a:lnTo>
                <a:lnTo>
                  <a:pt x="229" y="3146"/>
                </a:lnTo>
                <a:lnTo>
                  <a:pt x="231" y="3148"/>
                </a:lnTo>
                <a:lnTo>
                  <a:pt x="232" y="3150"/>
                </a:lnTo>
                <a:lnTo>
                  <a:pt x="236" y="3156"/>
                </a:lnTo>
                <a:lnTo>
                  <a:pt x="236" y="3159"/>
                </a:lnTo>
                <a:lnTo>
                  <a:pt x="238" y="3172"/>
                </a:lnTo>
                <a:lnTo>
                  <a:pt x="240" y="3181"/>
                </a:lnTo>
                <a:lnTo>
                  <a:pt x="245" y="3196"/>
                </a:lnTo>
                <a:lnTo>
                  <a:pt x="247" y="3198"/>
                </a:lnTo>
                <a:lnTo>
                  <a:pt x="249" y="3199"/>
                </a:lnTo>
                <a:lnTo>
                  <a:pt x="253" y="3199"/>
                </a:lnTo>
                <a:lnTo>
                  <a:pt x="254" y="3198"/>
                </a:lnTo>
                <a:lnTo>
                  <a:pt x="258" y="3198"/>
                </a:lnTo>
                <a:lnTo>
                  <a:pt x="260" y="3196"/>
                </a:lnTo>
                <a:lnTo>
                  <a:pt x="264" y="3194"/>
                </a:lnTo>
                <a:lnTo>
                  <a:pt x="267" y="3192"/>
                </a:lnTo>
                <a:lnTo>
                  <a:pt x="269" y="3190"/>
                </a:lnTo>
                <a:lnTo>
                  <a:pt x="271" y="3188"/>
                </a:lnTo>
                <a:lnTo>
                  <a:pt x="275" y="3187"/>
                </a:lnTo>
                <a:lnTo>
                  <a:pt x="285" y="3185"/>
                </a:lnTo>
                <a:lnTo>
                  <a:pt x="311" y="3183"/>
                </a:lnTo>
                <a:lnTo>
                  <a:pt x="322" y="3183"/>
                </a:lnTo>
                <a:lnTo>
                  <a:pt x="329" y="3187"/>
                </a:lnTo>
                <a:lnTo>
                  <a:pt x="335" y="3207"/>
                </a:lnTo>
                <a:lnTo>
                  <a:pt x="333" y="3221"/>
                </a:lnTo>
                <a:lnTo>
                  <a:pt x="331" y="3223"/>
                </a:lnTo>
                <a:lnTo>
                  <a:pt x="326" y="3223"/>
                </a:lnTo>
                <a:lnTo>
                  <a:pt x="320" y="3230"/>
                </a:lnTo>
                <a:lnTo>
                  <a:pt x="322" y="3236"/>
                </a:lnTo>
                <a:lnTo>
                  <a:pt x="324" y="3238"/>
                </a:lnTo>
                <a:lnTo>
                  <a:pt x="328" y="3240"/>
                </a:lnTo>
                <a:lnTo>
                  <a:pt x="331" y="3240"/>
                </a:lnTo>
                <a:lnTo>
                  <a:pt x="335" y="3243"/>
                </a:lnTo>
                <a:lnTo>
                  <a:pt x="329" y="3260"/>
                </a:lnTo>
                <a:lnTo>
                  <a:pt x="326" y="3267"/>
                </a:lnTo>
                <a:lnTo>
                  <a:pt x="322" y="3269"/>
                </a:lnTo>
                <a:lnTo>
                  <a:pt x="320" y="3271"/>
                </a:lnTo>
                <a:lnTo>
                  <a:pt x="331" y="3287"/>
                </a:lnTo>
                <a:lnTo>
                  <a:pt x="333" y="3289"/>
                </a:lnTo>
                <a:lnTo>
                  <a:pt x="339" y="3289"/>
                </a:lnTo>
                <a:lnTo>
                  <a:pt x="340" y="3289"/>
                </a:lnTo>
                <a:lnTo>
                  <a:pt x="342" y="3291"/>
                </a:lnTo>
                <a:lnTo>
                  <a:pt x="346" y="3293"/>
                </a:lnTo>
                <a:lnTo>
                  <a:pt x="349" y="3294"/>
                </a:lnTo>
                <a:lnTo>
                  <a:pt x="362" y="3304"/>
                </a:lnTo>
                <a:lnTo>
                  <a:pt x="364" y="3305"/>
                </a:lnTo>
                <a:lnTo>
                  <a:pt x="364" y="3309"/>
                </a:lnTo>
                <a:lnTo>
                  <a:pt x="368" y="3316"/>
                </a:lnTo>
                <a:lnTo>
                  <a:pt x="388" y="3316"/>
                </a:lnTo>
                <a:lnTo>
                  <a:pt x="432" y="3316"/>
                </a:lnTo>
                <a:lnTo>
                  <a:pt x="487" y="3316"/>
                </a:lnTo>
                <a:lnTo>
                  <a:pt x="509" y="3316"/>
                </a:lnTo>
                <a:lnTo>
                  <a:pt x="540" y="3316"/>
                </a:lnTo>
                <a:lnTo>
                  <a:pt x="545" y="3316"/>
                </a:lnTo>
                <a:lnTo>
                  <a:pt x="551" y="3316"/>
                </a:lnTo>
                <a:lnTo>
                  <a:pt x="556" y="3318"/>
                </a:lnTo>
                <a:lnTo>
                  <a:pt x="562" y="3320"/>
                </a:lnTo>
                <a:lnTo>
                  <a:pt x="573" y="3322"/>
                </a:lnTo>
                <a:lnTo>
                  <a:pt x="602" y="3331"/>
                </a:lnTo>
                <a:lnTo>
                  <a:pt x="620" y="3331"/>
                </a:lnTo>
                <a:lnTo>
                  <a:pt x="653" y="3338"/>
                </a:lnTo>
                <a:lnTo>
                  <a:pt x="688" y="3346"/>
                </a:lnTo>
                <a:lnTo>
                  <a:pt x="701" y="3349"/>
                </a:lnTo>
                <a:lnTo>
                  <a:pt x="701" y="3353"/>
                </a:lnTo>
                <a:lnTo>
                  <a:pt x="697" y="3349"/>
                </a:lnTo>
                <a:lnTo>
                  <a:pt x="695" y="3347"/>
                </a:lnTo>
                <a:lnTo>
                  <a:pt x="679" y="3346"/>
                </a:lnTo>
                <a:lnTo>
                  <a:pt x="666" y="3346"/>
                </a:lnTo>
                <a:lnTo>
                  <a:pt x="664" y="3346"/>
                </a:lnTo>
                <a:lnTo>
                  <a:pt x="653" y="3344"/>
                </a:lnTo>
                <a:lnTo>
                  <a:pt x="649" y="3344"/>
                </a:lnTo>
                <a:lnTo>
                  <a:pt x="647" y="3342"/>
                </a:lnTo>
                <a:lnTo>
                  <a:pt x="646" y="3342"/>
                </a:lnTo>
                <a:lnTo>
                  <a:pt x="642" y="3340"/>
                </a:lnTo>
                <a:lnTo>
                  <a:pt x="640" y="3340"/>
                </a:lnTo>
                <a:lnTo>
                  <a:pt x="637" y="3338"/>
                </a:lnTo>
                <a:lnTo>
                  <a:pt x="633" y="3337"/>
                </a:lnTo>
                <a:lnTo>
                  <a:pt x="629" y="3337"/>
                </a:lnTo>
                <a:lnTo>
                  <a:pt x="627" y="3337"/>
                </a:lnTo>
                <a:lnTo>
                  <a:pt x="622" y="3337"/>
                </a:lnTo>
                <a:lnTo>
                  <a:pt x="604" y="3342"/>
                </a:lnTo>
                <a:lnTo>
                  <a:pt x="602" y="3342"/>
                </a:lnTo>
                <a:lnTo>
                  <a:pt x="600" y="3344"/>
                </a:lnTo>
                <a:lnTo>
                  <a:pt x="600" y="3347"/>
                </a:lnTo>
                <a:lnTo>
                  <a:pt x="600" y="3353"/>
                </a:lnTo>
                <a:lnTo>
                  <a:pt x="593" y="3360"/>
                </a:lnTo>
                <a:lnTo>
                  <a:pt x="591" y="3362"/>
                </a:lnTo>
                <a:lnTo>
                  <a:pt x="584" y="3366"/>
                </a:lnTo>
                <a:lnTo>
                  <a:pt x="582" y="3368"/>
                </a:lnTo>
                <a:lnTo>
                  <a:pt x="573" y="3366"/>
                </a:lnTo>
                <a:lnTo>
                  <a:pt x="569" y="3366"/>
                </a:lnTo>
                <a:lnTo>
                  <a:pt x="560" y="3366"/>
                </a:lnTo>
                <a:lnTo>
                  <a:pt x="538" y="3373"/>
                </a:lnTo>
                <a:lnTo>
                  <a:pt x="534" y="3373"/>
                </a:lnTo>
                <a:lnTo>
                  <a:pt x="499" y="3384"/>
                </a:lnTo>
                <a:lnTo>
                  <a:pt x="485" y="3386"/>
                </a:lnTo>
                <a:lnTo>
                  <a:pt x="472" y="3388"/>
                </a:lnTo>
                <a:lnTo>
                  <a:pt x="470" y="3400"/>
                </a:lnTo>
                <a:lnTo>
                  <a:pt x="470" y="3404"/>
                </a:lnTo>
                <a:lnTo>
                  <a:pt x="472" y="3406"/>
                </a:lnTo>
                <a:lnTo>
                  <a:pt x="472" y="3411"/>
                </a:lnTo>
                <a:lnTo>
                  <a:pt x="465" y="3426"/>
                </a:lnTo>
                <a:lnTo>
                  <a:pt x="463" y="3428"/>
                </a:lnTo>
                <a:lnTo>
                  <a:pt x="461" y="3430"/>
                </a:lnTo>
                <a:lnTo>
                  <a:pt x="459" y="3432"/>
                </a:lnTo>
                <a:lnTo>
                  <a:pt x="459" y="3433"/>
                </a:lnTo>
                <a:lnTo>
                  <a:pt x="456" y="3450"/>
                </a:lnTo>
                <a:lnTo>
                  <a:pt x="456" y="3453"/>
                </a:lnTo>
                <a:lnTo>
                  <a:pt x="456" y="3455"/>
                </a:lnTo>
                <a:lnTo>
                  <a:pt x="457" y="3459"/>
                </a:lnTo>
                <a:lnTo>
                  <a:pt x="459" y="3461"/>
                </a:lnTo>
                <a:lnTo>
                  <a:pt x="459" y="3464"/>
                </a:lnTo>
                <a:lnTo>
                  <a:pt x="461" y="3466"/>
                </a:lnTo>
                <a:lnTo>
                  <a:pt x="461" y="3470"/>
                </a:lnTo>
                <a:lnTo>
                  <a:pt x="461" y="3474"/>
                </a:lnTo>
                <a:lnTo>
                  <a:pt x="457" y="3486"/>
                </a:lnTo>
                <a:lnTo>
                  <a:pt x="456" y="3488"/>
                </a:lnTo>
                <a:lnTo>
                  <a:pt x="450" y="3492"/>
                </a:lnTo>
                <a:lnTo>
                  <a:pt x="432" y="3497"/>
                </a:lnTo>
                <a:lnTo>
                  <a:pt x="428" y="3497"/>
                </a:lnTo>
                <a:lnTo>
                  <a:pt x="388" y="3490"/>
                </a:lnTo>
                <a:lnTo>
                  <a:pt x="353" y="3481"/>
                </a:lnTo>
                <a:lnTo>
                  <a:pt x="348" y="3479"/>
                </a:lnTo>
                <a:lnTo>
                  <a:pt x="331" y="3468"/>
                </a:lnTo>
                <a:lnTo>
                  <a:pt x="326" y="3464"/>
                </a:lnTo>
                <a:lnTo>
                  <a:pt x="320" y="3459"/>
                </a:lnTo>
                <a:lnTo>
                  <a:pt x="318" y="3457"/>
                </a:lnTo>
                <a:lnTo>
                  <a:pt x="315" y="3452"/>
                </a:lnTo>
                <a:lnTo>
                  <a:pt x="318" y="3444"/>
                </a:lnTo>
                <a:lnTo>
                  <a:pt x="331" y="3437"/>
                </a:lnTo>
                <a:lnTo>
                  <a:pt x="348" y="3437"/>
                </a:lnTo>
                <a:lnTo>
                  <a:pt x="351" y="3443"/>
                </a:lnTo>
                <a:lnTo>
                  <a:pt x="351" y="3444"/>
                </a:lnTo>
                <a:lnTo>
                  <a:pt x="351" y="3448"/>
                </a:lnTo>
                <a:lnTo>
                  <a:pt x="349" y="3450"/>
                </a:lnTo>
                <a:lnTo>
                  <a:pt x="344" y="3453"/>
                </a:lnTo>
                <a:lnTo>
                  <a:pt x="337" y="3455"/>
                </a:lnTo>
                <a:lnTo>
                  <a:pt x="340" y="3455"/>
                </a:lnTo>
                <a:lnTo>
                  <a:pt x="348" y="3453"/>
                </a:lnTo>
                <a:lnTo>
                  <a:pt x="351" y="3453"/>
                </a:lnTo>
                <a:lnTo>
                  <a:pt x="357" y="3450"/>
                </a:lnTo>
                <a:lnTo>
                  <a:pt x="359" y="3448"/>
                </a:lnTo>
                <a:lnTo>
                  <a:pt x="357" y="3446"/>
                </a:lnTo>
                <a:lnTo>
                  <a:pt x="357" y="3441"/>
                </a:lnTo>
                <a:lnTo>
                  <a:pt x="357" y="3439"/>
                </a:lnTo>
                <a:lnTo>
                  <a:pt x="357" y="3437"/>
                </a:lnTo>
                <a:lnTo>
                  <a:pt x="359" y="3435"/>
                </a:lnTo>
                <a:lnTo>
                  <a:pt x="371" y="3435"/>
                </a:lnTo>
                <a:lnTo>
                  <a:pt x="375" y="3437"/>
                </a:lnTo>
                <a:lnTo>
                  <a:pt x="379" y="3453"/>
                </a:lnTo>
                <a:lnTo>
                  <a:pt x="379" y="3457"/>
                </a:lnTo>
                <a:lnTo>
                  <a:pt x="377" y="3457"/>
                </a:lnTo>
                <a:lnTo>
                  <a:pt x="373" y="3459"/>
                </a:lnTo>
                <a:lnTo>
                  <a:pt x="364" y="3463"/>
                </a:lnTo>
                <a:lnTo>
                  <a:pt x="360" y="3463"/>
                </a:lnTo>
                <a:lnTo>
                  <a:pt x="359" y="3464"/>
                </a:lnTo>
                <a:lnTo>
                  <a:pt x="359" y="3468"/>
                </a:lnTo>
                <a:lnTo>
                  <a:pt x="375" y="3463"/>
                </a:lnTo>
                <a:lnTo>
                  <a:pt x="379" y="3463"/>
                </a:lnTo>
                <a:lnTo>
                  <a:pt x="382" y="3457"/>
                </a:lnTo>
                <a:lnTo>
                  <a:pt x="382" y="3452"/>
                </a:lnTo>
                <a:lnTo>
                  <a:pt x="381" y="3446"/>
                </a:lnTo>
                <a:lnTo>
                  <a:pt x="381" y="3441"/>
                </a:lnTo>
                <a:lnTo>
                  <a:pt x="384" y="3433"/>
                </a:lnTo>
                <a:lnTo>
                  <a:pt x="408" y="3426"/>
                </a:lnTo>
                <a:lnTo>
                  <a:pt x="412" y="3426"/>
                </a:lnTo>
                <a:lnTo>
                  <a:pt x="413" y="3426"/>
                </a:lnTo>
                <a:lnTo>
                  <a:pt x="417" y="3426"/>
                </a:lnTo>
                <a:lnTo>
                  <a:pt x="419" y="3424"/>
                </a:lnTo>
                <a:lnTo>
                  <a:pt x="421" y="3424"/>
                </a:lnTo>
                <a:lnTo>
                  <a:pt x="423" y="3422"/>
                </a:lnTo>
                <a:lnTo>
                  <a:pt x="443" y="3402"/>
                </a:lnTo>
                <a:lnTo>
                  <a:pt x="443" y="3400"/>
                </a:lnTo>
                <a:lnTo>
                  <a:pt x="439" y="3395"/>
                </a:lnTo>
                <a:lnTo>
                  <a:pt x="430" y="3393"/>
                </a:lnTo>
                <a:lnTo>
                  <a:pt x="421" y="3393"/>
                </a:lnTo>
                <a:lnTo>
                  <a:pt x="397" y="3400"/>
                </a:lnTo>
                <a:lnTo>
                  <a:pt x="377" y="3410"/>
                </a:lnTo>
                <a:lnTo>
                  <a:pt x="368" y="3413"/>
                </a:lnTo>
                <a:lnTo>
                  <a:pt x="366" y="3415"/>
                </a:lnTo>
                <a:lnTo>
                  <a:pt x="357" y="3424"/>
                </a:lnTo>
                <a:lnTo>
                  <a:pt x="351" y="3426"/>
                </a:lnTo>
                <a:lnTo>
                  <a:pt x="348" y="3426"/>
                </a:lnTo>
                <a:lnTo>
                  <a:pt x="344" y="3424"/>
                </a:lnTo>
                <a:lnTo>
                  <a:pt x="342" y="3422"/>
                </a:lnTo>
                <a:lnTo>
                  <a:pt x="340" y="3421"/>
                </a:lnTo>
                <a:lnTo>
                  <a:pt x="339" y="3419"/>
                </a:lnTo>
                <a:lnTo>
                  <a:pt x="337" y="3417"/>
                </a:lnTo>
                <a:lnTo>
                  <a:pt x="329" y="3415"/>
                </a:lnTo>
                <a:lnTo>
                  <a:pt x="309" y="3419"/>
                </a:lnTo>
                <a:lnTo>
                  <a:pt x="306" y="3421"/>
                </a:lnTo>
                <a:lnTo>
                  <a:pt x="313" y="3421"/>
                </a:lnTo>
                <a:lnTo>
                  <a:pt x="324" y="3421"/>
                </a:lnTo>
                <a:lnTo>
                  <a:pt x="339" y="3428"/>
                </a:lnTo>
                <a:lnTo>
                  <a:pt x="340" y="3430"/>
                </a:lnTo>
                <a:lnTo>
                  <a:pt x="339" y="3432"/>
                </a:lnTo>
                <a:lnTo>
                  <a:pt x="326" y="3435"/>
                </a:lnTo>
                <a:lnTo>
                  <a:pt x="318" y="3437"/>
                </a:lnTo>
                <a:lnTo>
                  <a:pt x="306" y="3448"/>
                </a:lnTo>
                <a:lnTo>
                  <a:pt x="311" y="3452"/>
                </a:lnTo>
                <a:lnTo>
                  <a:pt x="320" y="3461"/>
                </a:lnTo>
                <a:lnTo>
                  <a:pt x="322" y="3463"/>
                </a:lnTo>
                <a:lnTo>
                  <a:pt x="320" y="3464"/>
                </a:lnTo>
                <a:lnTo>
                  <a:pt x="311" y="3466"/>
                </a:lnTo>
                <a:lnTo>
                  <a:pt x="309" y="3466"/>
                </a:lnTo>
                <a:lnTo>
                  <a:pt x="307" y="3464"/>
                </a:lnTo>
                <a:lnTo>
                  <a:pt x="289" y="3455"/>
                </a:lnTo>
                <a:lnTo>
                  <a:pt x="265" y="3446"/>
                </a:lnTo>
                <a:lnTo>
                  <a:pt x="251" y="3441"/>
                </a:lnTo>
                <a:lnTo>
                  <a:pt x="249" y="3439"/>
                </a:lnTo>
                <a:lnTo>
                  <a:pt x="242" y="3435"/>
                </a:lnTo>
                <a:lnTo>
                  <a:pt x="234" y="3428"/>
                </a:lnTo>
                <a:lnTo>
                  <a:pt x="262" y="3428"/>
                </a:lnTo>
                <a:lnTo>
                  <a:pt x="267" y="3428"/>
                </a:lnTo>
                <a:lnTo>
                  <a:pt x="276" y="3433"/>
                </a:lnTo>
                <a:lnTo>
                  <a:pt x="284" y="3441"/>
                </a:lnTo>
                <a:lnTo>
                  <a:pt x="285" y="3441"/>
                </a:lnTo>
                <a:lnTo>
                  <a:pt x="291" y="3441"/>
                </a:lnTo>
                <a:lnTo>
                  <a:pt x="291" y="3437"/>
                </a:lnTo>
                <a:lnTo>
                  <a:pt x="276" y="3428"/>
                </a:lnTo>
                <a:lnTo>
                  <a:pt x="271" y="3421"/>
                </a:lnTo>
                <a:lnTo>
                  <a:pt x="271" y="3413"/>
                </a:lnTo>
                <a:lnTo>
                  <a:pt x="267" y="3406"/>
                </a:lnTo>
                <a:lnTo>
                  <a:pt x="267" y="3399"/>
                </a:lnTo>
                <a:lnTo>
                  <a:pt x="271" y="3397"/>
                </a:lnTo>
                <a:lnTo>
                  <a:pt x="289" y="3388"/>
                </a:lnTo>
                <a:lnTo>
                  <a:pt x="302" y="3393"/>
                </a:lnTo>
                <a:lnTo>
                  <a:pt x="313" y="3395"/>
                </a:lnTo>
                <a:lnTo>
                  <a:pt x="318" y="3395"/>
                </a:lnTo>
                <a:lnTo>
                  <a:pt x="329" y="3390"/>
                </a:lnTo>
                <a:lnTo>
                  <a:pt x="340" y="3380"/>
                </a:lnTo>
                <a:lnTo>
                  <a:pt x="342" y="3379"/>
                </a:lnTo>
                <a:lnTo>
                  <a:pt x="359" y="3377"/>
                </a:lnTo>
                <a:lnTo>
                  <a:pt x="364" y="3380"/>
                </a:lnTo>
                <a:lnTo>
                  <a:pt x="368" y="3382"/>
                </a:lnTo>
                <a:lnTo>
                  <a:pt x="373" y="3382"/>
                </a:lnTo>
                <a:lnTo>
                  <a:pt x="379" y="3384"/>
                </a:lnTo>
                <a:lnTo>
                  <a:pt x="386" y="3382"/>
                </a:lnTo>
                <a:lnTo>
                  <a:pt x="390" y="3382"/>
                </a:lnTo>
                <a:lnTo>
                  <a:pt x="392" y="3382"/>
                </a:lnTo>
                <a:lnTo>
                  <a:pt x="395" y="3382"/>
                </a:lnTo>
                <a:lnTo>
                  <a:pt x="410" y="3379"/>
                </a:lnTo>
                <a:lnTo>
                  <a:pt x="404" y="3371"/>
                </a:lnTo>
                <a:lnTo>
                  <a:pt x="403" y="3371"/>
                </a:lnTo>
                <a:lnTo>
                  <a:pt x="366" y="3368"/>
                </a:lnTo>
                <a:lnTo>
                  <a:pt x="346" y="3366"/>
                </a:lnTo>
                <a:lnTo>
                  <a:pt x="331" y="3366"/>
                </a:lnTo>
                <a:lnTo>
                  <a:pt x="329" y="3368"/>
                </a:lnTo>
                <a:lnTo>
                  <a:pt x="326" y="3369"/>
                </a:lnTo>
                <a:lnTo>
                  <a:pt x="324" y="3373"/>
                </a:lnTo>
                <a:lnTo>
                  <a:pt x="318" y="3380"/>
                </a:lnTo>
                <a:lnTo>
                  <a:pt x="306" y="3373"/>
                </a:lnTo>
                <a:lnTo>
                  <a:pt x="311" y="3369"/>
                </a:lnTo>
                <a:lnTo>
                  <a:pt x="298" y="3369"/>
                </a:lnTo>
                <a:lnTo>
                  <a:pt x="282" y="3369"/>
                </a:lnTo>
                <a:lnTo>
                  <a:pt x="273" y="3377"/>
                </a:lnTo>
                <a:lnTo>
                  <a:pt x="275" y="3379"/>
                </a:lnTo>
                <a:lnTo>
                  <a:pt x="280" y="3375"/>
                </a:lnTo>
                <a:lnTo>
                  <a:pt x="293" y="3379"/>
                </a:lnTo>
                <a:lnTo>
                  <a:pt x="293" y="3380"/>
                </a:lnTo>
                <a:lnTo>
                  <a:pt x="285" y="3388"/>
                </a:lnTo>
                <a:lnTo>
                  <a:pt x="282" y="3390"/>
                </a:lnTo>
                <a:lnTo>
                  <a:pt x="275" y="3393"/>
                </a:lnTo>
                <a:lnTo>
                  <a:pt x="269" y="3393"/>
                </a:lnTo>
                <a:lnTo>
                  <a:pt x="267" y="3395"/>
                </a:lnTo>
                <a:lnTo>
                  <a:pt x="264" y="3397"/>
                </a:lnTo>
                <a:lnTo>
                  <a:pt x="262" y="3399"/>
                </a:lnTo>
                <a:lnTo>
                  <a:pt x="265" y="3404"/>
                </a:lnTo>
                <a:lnTo>
                  <a:pt x="267" y="3411"/>
                </a:lnTo>
                <a:lnTo>
                  <a:pt x="267" y="3415"/>
                </a:lnTo>
                <a:lnTo>
                  <a:pt x="264" y="3419"/>
                </a:lnTo>
                <a:lnTo>
                  <a:pt x="251" y="3422"/>
                </a:lnTo>
                <a:lnTo>
                  <a:pt x="243" y="3422"/>
                </a:lnTo>
                <a:lnTo>
                  <a:pt x="232" y="3421"/>
                </a:lnTo>
                <a:lnTo>
                  <a:pt x="220" y="3413"/>
                </a:lnTo>
                <a:lnTo>
                  <a:pt x="232" y="3408"/>
                </a:lnTo>
                <a:lnTo>
                  <a:pt x="240" y="3402"/>
                </a:lnTo>
                <a:lnTo>
                  <a:pt x="229" y="3400"/>
                </a:lnTo>
                <a:lnTo>
                  <a:pt x="209" y="3393"/>
                </a:lnTo>
                <a:lnTo>
                  <a:pt x="214" y="3391"/>
                </a:lnTo>
                <a:lnTo>
                  <a:pt x="238" y="3386"/>
                </a:lnTo>
                <a:lnTo>
                  <a:pt x="253" y="3366"/>
                </a:lnTo>
                <a:lnTo>
                  <a:pt x="256" y="3364"/>
                </a:lnTo>
                <a:lnTo>
                  <a:pt x="265" y="3366"/>
                </a:lnTo>
                <a:lnTo>
                  <a:pt x="269" y="3366"/>
                </a:lnTo>
                <a:lnTo>
                  <a:pt x="273" y="3366"/>
                </a:lnTo>
                <a:lnTo>
                  <a:pt x="271" y="3364"/>
                </a:lnTo>
                <a:lnTo>
                  <a:pt x="262" y="3364"/>
                </a:lnTo>
                <a:lnTo>
                  <a:pt x="258" y="3362"/>
                </a:lnTo>
                <a:lnTo>
                  <a:pt x="254" y="3362"/>
                </a:lnTo>
                <a:lnTo>
                  <a:pt x="247" y="3364"/>
                </a:lnTo>
                <a:lnTo>
                  <a:pt x="245" y="3366"/>
                </a:lnTo>
                <a:lnTo>
                  <a:pt x="247" y="3371"/>
                </a:lnTo>
                <a:lnTo>
                  <a:pt x="245" y="3373"/>
                </a:lnTo>
                <a:lnTo>
                  <a:pt x="236" y="3380"/>
                </a:lnTo>
                <a:lnTo>
                  <a:pt x="232" y="3380"/>
                </a:lnTo>
                <a:lnTo>
                  <a:pt x="231" y="3380"/>
                </a:lnTo>
                <a:lnTo>
                  <a:pt x="231" y="3379"/>
                </a:lnTo>
                <a:lnTo>
                  <a:pt x="231" y="3375"/>
                </a:lnTo>
                <a:lnTo>
                  <a:pt x="227" y="3373"/>
                </a:lnTo>
                <a:lnTo>
                  <a:pt x="225" y="3373"/>
                </a:lnTo>
                <a:lnTo>
                  <a:pt x="214" y="3380"/>
                </a:lnTo>
                <a:lnTo>
                  <a:pt x="209" y="3382"/>
                </a:lnTo>
                <a:lnTo>
                  <a:pt x="205" y="3386"/>
                </a:lnTo>
                <a:lnTo>
                  <a:pt x="203" y="3388"/>
                </a:lnTo>
                <a:lnTo>
                  <a:pt x="196" y="3386"/>
                </a:lnTo>
                <a:lnTo>
                  <a:pt x="198" y="3355"/>
                </a:lnTo>
                <a:lnTo>
                  <a:pt x="207" y="3340"/>
                </a:lnTo>
                <a:lnTo>
                  <a:pt x="211" y="3335"/>
                </a:lnTo>
                <a:lnTo>
                  <a:pt x="231" y="3338"/>
                </a:lnTo>
                <a:lnTo>
                  <a:pt x="236" y="3338"/>
                </a:lnTo>
                <a:lnTo>
                  <a:pt x="240" y="3337"/>
                </a:lnTo>
                <a:lnTo>
                  <a:pt x="242" y="3333"/>
                </a:lnTo>
                <a:lnTo>
                  <a:pt x="247" y="3327"/>
                </a:lnTo>
                <a:lnTo>
                  <a:pt x="253" y="3326"/>
                </a:lnTo>
                <a:lnTo>
                  <a:pt x="260" y="3324"/>
                </a:lnTo>
                <a:lnTo>
                  <a:pt x="264" y="3324"/>
                </a:lnTo>
                <a:lnTo>
                  <a:pt x="264" y="3331"/>
                </a:lnTo>
                <a:lnTo>
                  <a:pt x="264" y="3335"/>
                </a:lnTo>
                <a:lnTo>
                  <a:pt x="271" y="3340"/>
                </a:lnTo>
                <a:lnTo>
                  <a:pt x="275" y="3342"/>
                </a:lnTo>
                <a:lnTo>
                  <a:pt x="278" y="3340"/>
                </a:lnTo>
                <a:lnTo>
                  <a:pt x="284" y="3326"/>
                </a:lnTo>
                <a:lnTo>
                  <a:pt x="284" y="3322"/>
                </a:lnTo>
                <a:lnTo>
                  <a:pt x="280" y="3326"/>
                </a:lnTo>
                <a:lnTo>
                  <a:pt x="276" y="3329"/>
                </a:lnTo>
                <a:lnTo>
                  <a:pt x="276" y="3333"/>
                </a:lnTo>
                <a:lnTo>
                  <a:pt x="275" y="3337"/>
                </a:lnTo>
                <a:lnTo>
                  <a:pt x="267" y="3333"/>
                </a:lnTo>
                <a:lnTo>
                  <a:pt x="267" y="3326"/>
                </a:lnTo>
                <a:lnTo>
                  <a:pt x="276" y="3313"/>
                </a:lnTo>
                <a:lnTo>
                  <a:pt x="282" y="3311"/>
                </a:lnTo>
                <a:lnTo>
                  <a:pt x="291" y="3316"/>
                </a:lnTo>
                <a:lnTo>
                  <a:pt x="306" y="3333"/>
                </a:lnTo>
                <a:lnTo>
                  <a:pt x="307" y="3337"/>
                </a:lnTo>
                <a:lnTo>
                  <a:pt x="304" y="3347"/>
                </a:lnTo>
                <a:lnTo>
                  <a:pt x="300" y="3349"/>
                </a:lnTo>
                <a:lnTo>
                  <a:pt x="287" y="3353"/>
                </a:lnTo>
                <a:lnTo>
                  <a:pt x="269" y="3360"/>
                </a:lnTo>
                <a:lnTo>
                  <a:pt x="273" y="3360"/>
                </a:lnTo>
                <a:lnTo>
                  <a:pt x="280" y="3358"/>
                </a:lnTo>
                <a:lnTo>
                  <a:pt x="298" y="3355"/>
                </a:lnTo>
                <a:lnTo>
                  <a:pt x="302" y="3353"/>
                </a:lnTo>
                <a:lnTo>
                  <a:pt x="311" y="3347"/>
                </a:lnTo>
                <a:lnTo>
                  <a:pt x="313" y="3337"/>
                </a:lnTo>
                <a:lnTo>
                  <a:pt x="313" y="3335"/>
                </a:lnTo>
                <a:lnTo>
                  <a:pt x="306" y="3329"/>
                </a:lnTo>
                <a:lnTo>
                  <a:pt x="296" y="3322"/>
                </a:lnTo>
                <a:lnTo>
                  <a:pt x="295" y="3313"/>
                </a:lnTo>
                <a:lnTo>
                  <a:pt x="298" y="3311"/>
                </a:lnTo>
                <a:lnTo>
                  <a:pt x="309" y="3313"/>
                </a:lnTo>
                <a:lnTo>
                  <a:pt x="311" y="3313"/>
                </a:lnTo>
                <a:lnTo>
                  <a:pt x="313" y="3311"/>
                </a:lnTo>
                <a:lnTo>
                  <a:pt x="315" y="3309"/>
                </a:lnTo>
                <a:lnTo>
                  <a:pt x="313" y="3296"/>
                </a:lnTo>
                <a:lnTo>
                  <a:pt x="309" y="3291"/>
                </a:lnTo>
                <a:lnTo>
                  <a:pt x="295" y="3280"/>
                </a:lnTo>
                <a:lnTo>
                  <a:pt x="289" y="3276"/>
                </a:lnTo>
                <a:lnTo>
                  <a:pt x="287" y="3276"/>
                </a:lnTo>
                <a:lnTo>
                  <a:pt x="264" y="3273"/>
                </a:lnTo>
                <a:lnTo>
                  <a:pt x="276" y="3278"/>
                </a:lnTo>
                <a:lnTo>
                  <a:pt x="304" y="3291"/>
                </a:lnTo>
                <a:lnTo>
                  <a:pt x="306" y="3293"/>
                </a:lnTo>
                <a:lnTo>
                  <a:pt x="304" y="3296"/>
                </a:lnTo>
                <a:lnTo>
                  <a:pt x="298" y="3300"/>
                </a:lnTo>
                <a:lnTo>
                  <a:pt x="289" y="3302"/>
                </a:lnTo>
                <a:lnTo>
                  <a:pt x="282" y="3298"/>
                </a:lnTo>
                <a:lnTo>
                  <a:pt x="245" y="3282"/>
                </a:lnTo>
                <a:lnTo>
                  <a:pt x="240" y="3280"/>
                </a:lnTo>
                <a:lnTo>
                  <a:pt x="234" y="3280"/>
                </a:lnTo>
                <a:lnTo>
                  <a:pt x="240" y="3289"/>
                </a:lnTo>
                <a:lnTo>
                  <a:pt x="243" y="3291"/>
                </a:lnTo>
                <a:lnTo>
                  <a:pt x="247" y="3291"/>
                </a:lnTo>
                <a:lnTo>
                  <a:pt x="251" y="3291"/>
                </a:lnTo>
                <a:lnTo>
                  <a:pt x="253" y="3289"/>
                </a:lnTo>
                <a:lnTo>
                  <a:pt x="256" y="3291"/>
                </a:lnTo>
                <a:lnTo>
                  <a:pt x="260" y="3293"/>
                </a:lnTo>
                <a:lnTo>
                  <a:pt x="269" y="3302"/>
                </a:lnTo>
                <a:lnTo>
                  <a:pt x="269" y="3304"/>
                </a:lnTo>
                <a:lnTo>
                  <a:pt x="265" y="3305"/>
                </a:lnTo>
                <a:lnTo>
                  <a:pt x="260" y="3307"/>
                </a:lnTo>
                <a:lnTo>
                  <a:pt x="254" y="3309"/>
                </a:lnTo>
                <a:lnTo>
                  <a:pt x="249" y="3311"/>
                </a:lnTo>
                <a:lnTo>
                  <a:pt x="247" y="3313"/>
                </a:lnTo>
                <a:lnTo>
                  <a:pt x="245" y="3326"/>
                </a:lnTo>
                <a:lnTo>
                  <a:pt x="234" y="3333"/>
                </a:lnTo>
                <a:lnTo>
                  <a:pt x="232" y="3333"/>
                </a:lnTo>
                <a:lnTo>
                  <a:pt x="229" y="3333"/>
                </a:lnTo>
                <a:lnTo>
                  <a:pt x="211" y="3322"/>
                </a:lnTo>
                <a:lnTo>
                  <a:pt x="209" y="3320"/>
                </a:lnTo>
                <a:lnTo>
                  <a:pt x="207" y="3318"/>
                </a:lnTo>
                <a:lnTo>
                  <a:pt x="203" y="3307"/>
                </a:lnTo>
                <a:lnTo>
                  <a:pt x="205" y="3302"/>
                </a:lnTo>
                <a:lnTo>
                  <a:pt x="212" y="3311"/>
                </a:lnTo>
                <a:lnTo>
                  <a:pt x="214" y="3311"/>
                </a:lnTo>
                <a:lnTo>
                  <a:pt x="203" y="3296"/>
                </a:lnTo>
                <a:lnTo>
                  <a:pt x="203" y="3294"/>
                </a:lnTo>
                <a:lnTo>
                  <a:pt x="189" y="3289"/>
                </a:lnTo>
                <a:lnTo>
                  <a:pt x="176" y="3280"/>
                </a:lnTo>
                <a:lnTo>
                  <a:pt x="172" y="3262"/>
                </a:lnTo>
                <a:lnTo>
                  <a:pt x="174" y="3260"/>
                </a:lnTo>
                <a:lnTo>
                  <a:pt x="176" y="3256"/>
                </a:lnTo>
                <a:lnTo>
                  <a:pt x="185" y="3258"/>
                </a:lnTo>
                <a:lnTo>
                  <a:pt x="194" y="3265"/>
                </a:lnTo>
                <a:lnTo>
                  <a:pt x="196" y="3269"/>
                </a:lnTo>
                <a:lnTo>
                  <a:pt x="201" y="3278"/>
                </a:lnTo>
                <a:lnTo>
                  <a:pt x="196" y="3262"/>
                </a:lnTo>
                <a:lnTo>
                  <a:pt x="187" y="3241"/>
                </a:lnTo>
                <a:lnTo>
                  <a:pt x="179" y="3243"/>
                </a:lnTo>
                <a:lnTo>
                  <a:pt x="178" y="3243"/>
                </a:lnTo>
                <a:lnTo>
                  <a:pt x="176" y="3243"/>
                </a:lnTo>
                <a:lnTo>
                  <a:pt x="158" y="3241"/>
                </a:lnTo>
                <a:lnTo>
                  <a:pt x="154" y="3238"/>
                </a:lnTo>
                <a:lnTo>
                  <a:pt x="143" y="3223"/>
                </a:lnTo>
                <a:lnTo>
                  <a:pt x="143" y="3214"/>
                </a:lnTo>
                <a:lnTo>
                  <a:pt x="145" y="3210"/>
                </a:lnTo>
                <a:lnTo>
                  <a:pt x="148" y="3209"/>
                </a:lnTo>
                <a:lnTo>
                  <a:pt x="152" y="3209"/>
                </a:lnTo>
                <a:lnTo>
                  <a:pt x="176" y="3209"/>
                </a:lnTo>
                <a:lnTo>
                  <a:pt x="178" y="3209"/>
                </a:lnTo>
                <a:lnTo>
                  <a:pt x="181" y="3212"/>
                </a:lnTo>
                <a:lnTo>
                  <a:pt x="187" y="3201"/>
                </a:lnTo>
                <a:lnTo>
                  <a:pt x="190" y="3188"/>
                </a:lnTo>
                <a:lnTo>
                  <a:pt x="190" y="3183"/>
                </a:lnTo>
                <a:lnTo>
                  <a:pt x="196" y="3179"/>
                </a:lnTo>
                <a:lnTo>
                  <a:pt x="198" y="3179"/>
                </a:lnTo>
                <a:lnTo>
                  <a:pt x="200" y="3174"/>
                </a:lnTo>
                <a:lnTo>
                  <a:pt x="189" y="3181"/>
                </a:lnTo>
                <a:lnTo>
                  <a:pt x="187" y="3181"/>
                </a:lnTo>
                <a:lnTo>
                  <a:pt x="185" y="3185"/>
                </a:lnTo>
                <a:lnTo>
                  <a:pt x="183" y="3190"/>
                </a:lnTo>
                <a:lnTo>
                  <a:pt x="183" y="3194"/>
                </a:lnTo>
                <a:lnTo>
                  <a:pt x="185" y="3196"/>
                </a:lnTo>
                <a:lnTo>
                  <a:pt x="183" y="3198"/>
                </a:lnTo>
                <a:lnTo>
                  <a:pt x="172" y="3205"/>
                </a:lnTo>
                <a:lnTo>
                  <a:pt x="170" y="3205"/>
                </a:lnTo>
                <a:lnTo>
                  <a:pt x="161" y="3205"/>
                </a:lnTo>
                <a:lnTo>
                  <a:pt x="154" y="3199"/>
                </a:lnTo>
                <a:lnTo>
                  <a:pt x="143" y="3183"/>
                </a:lnTo>
                <a:lnTo>
                  <a:pt x="139" y="3170"/>
                </a:lnTo>
                <a:lnTo>
                  <a:pt x="145" y="3168"/>
                </a:lnTo>
                <a:lnTo>
                  <a:pt x="154" y="3172"/>
                </a:lnTo>
                <a:lnTo>
                  <a:pt x="158" y="3172"/>
                </a:lnTo>
                <a:lnTo>
                  <a:pt x="159" y="3174"/>
                </a:lnTo>
                <a:lnTo>
                  <a:pt x="161" y="3176"/>
                </a:lnTo>
                <a:lnTo>
                  <a:pt x="165" y="3176"/>
                </a:lnTo>
                <a:lnTo>
                  <a:pt x="176" y="3177"/>
                </a:lnTo>
                <a:lnTo>
                  <a:pt x="154" y="3167"/>
                </a:lnTo>
                <a:lnTo>
                  <a:pt x="137" y="3167"/>
                </a:lnTo>
                <a:lnTo>
                  <a:pt x="121" y="3157"/>
                </a:lnTo>
                <a:lnTo>
                  <a:pt x="101" y="3145"/>
                </a:lnTo>
                <a:lnTo>
                  <a:pt x="99" y="3141"/>
                </a:lnTo>
                <a:lnTo>
                  <a:pt x="101" y="3139"/>
                </a:lnTo>
                <a:lnTo>
                  <a:pt x="104" y="3137"/>
                </a:lnTo>
                <a:lnTo>
                  <a:pt x="110" y="3134"/>
                </a:lnTo>
                <a:lnTo>
                  <a:pt x="119" y="3132"/>
                </a:lnTo>
                <a:lnTo>
                  <a:pt x="132" y="3134"/>
                </a:lnTo>
                <a:lnTo>
                  <a:pt x="137" y="3137"/>
                </a:lnTo>
                <a:lnTo>
                  <a:pt x="139" y="3141"/>
                </a:lnTo>
                <a:lnTo>
                  <a:pt x="147" y="3145"/>
                </a:lnTo>
                <a:lnTo>
                  <a:pt x="170" y="3152"/>
                </a:lnTo>
                <a:lnTo>
                  <a:pt x="176" y="3154"/>
                </a:lnTo>
                <a:lnTo>
                  <a:pt x="178" y="3154"/>
                </a:lnTo>
                <a:lnTo>
                  <a:pt x="179" y="3152"/>
                </a:lnTo>
                <a:lnTo>
                  <a:pt x="154" y="3145"/>
                </a:lnTo>
                <a:lnTo>
                  <a:pt x="152" y="3145"/>
                </a:lnTo>
                <a:lnTo>
                  <a:pt x="148" y="3145"/>
                </a:lnTo>
                <a:lnTo>
                  <a:pt x="147" y="3143"/>
                </a:lnTo>
                <a:lnTo>
                  <a:pt x="130" y="3124"/>
                </a:lnTo>
                <a:lnTo>
                  <a:pt x="132" y="3119"/>
                </a:lnTo>
                <a:lnTo>
                  <a:pt x="134" y="3117"/>
                </a:lnTo>
                <a:lnTo>
                  <a:pt x="141" y="3119"/>
                </a:lnTo>
                <a:lnTo>
                  <a:pt x="145" y="3119"/>
                </a:lnTo>
                <a:lnTo>
                  <a:pt x="150" y="3123"/>
                </a:lnTo>
                <a:lnTo>
                  <a:pt x="154" y="3126"/>
                </a:lnTo>
                <a:lnTo>
                  <a:pt x="178" y="3132"/>
                </a:lnTo>
                <a:lnTo>
                  <a:pt x="178" y="3128"/>
                </a:lnTo>
                <a:lnTo>
                  <a:pt x="176" y="3126"/>
                </a:lnTo>
                <a:lnTo>
                  <a:pt x="165" y="3123"/>
                </a:lnTo>
                <a:lnTo>
                  <a:pt x="158" y="3121"/>
                </a:lnTo>
                <a:lnTo>
                  <a:pt x="137" y="3113"/>
                </a:lnTo>
                <a:lnTo>
                  <a:pt x="136" y="3112"/>
                </a:lnTo>
                <a:lnTo>
                  <a:pt x="132" y="3106"/>
                </a:lnTo>
                <a:lnTo>
                  <a:pt x="134" y="3090"/>
                </a:lnTo>
                <a:lnTo>
                  <a:pt x="136" y="3088"/>
                </a:lnTo>
                <a:lnTo>
                  <a:pt x="143" y="3082"/>
                </a:lnTo>
                <a:lnTo>
                  <a:pt x="156" y="3081"/>
                </a:lnTo>
                <a:lnTo>
                  <a:pt x="158" y="3081"/>
                </a:lnTo>
                <a:lnTo>
                  <a:pt x="170" y="3082"/>
                </a:lnTo>
                <a:lnTo>
                  <a:pt x="172" y="3084"/>
                </a:lnTo>
                <a:lnTo>
                  <a:pt x="183" y="3095"/>
                </a:lnTo>
                <a:lnTo>
                  <a:pt x="190" y="3099"/>
                </a:lnTo>
                <a:lnTo>
                  <a:pt x="178" y="3084"/>
                </a:lnTo>
                <a:lnTo>
                  <a:pt x="167" y="3079"/>
                </a:lnTo>
                <a:lnTo>
                  <a:pt x="158" y="3077"/>
                </a:lnTo>
                <a:lnTo>
                  <a:pt x="156" y="3075"/>
                </a:lnTo>
                <a:lnTo>
                  <a:pt x="154" y="3068"/>
                </a:lnTo>
                <a:lnTo>
                  <a:pt x="158" y="3055"/>
                </a:lnTo>
                <a:lnTo>
                  <a:pt x="163" y="3037"/>
                </a:lnTo>
                <a:lnTo>
                  <a:pt x="165" y="3035"/>
                </a:lnTo>
                <a:lnTo>
                  <a:pt x="168" y="3033"/>
                </a:lnTo>
                <a:lnTo>
                  <a:pt x="168" y="3031"/>
                </a:lnTo>
                <a:lnTo>
                  <a:pt x="172" y="3031"/>
                </a:lnTo>
                <a:lnTo>
                  <a:pt x="174" y="3031"/>
                </a:lnTo>
                <a:lnTo>
                  <a:pt x="178" y="3031"/>
                </a:lnTo>
                <a:lnTo>
                  <a:pt x="179" y="3033"/>
                </a:lnTo>
                <a:lnTo>
                  <a:pt x="183" y="3033"/>
                </a:lnTo>
                <a:lnTo>
                  <a:pt x="183" y="3031"/>
                </a:lnTo>
                <a:lnTo>
                  <a:pt x="176" y="3029"/>
                </a:lnTo>
                <a:lnTo>
                  <a:pt x="161" y="3031"/>
                </a:lnTo>
                <a:lnTo>
                  <a:pt x="161" y="3035"/>
                </a:lnTo>
                <a:lnTo>
                  <a:pt x="159" y="3046"/>
                </a:lnTo>
                <a:lnTo>
                  <a:pt x="150" y="3064"/>
                </a:lnTo>
                <a:lnTo>
                  <a:pt x="148" y="3077"/>
                </a:lnTo>
                <a:lnTo>
                  <a:pt x="145" y="3079"/>
                </a:lnTo>
                <a:lnTo>
                  <a:pt x="143" y="3081"/>
                </a:lnTo>
                <a:lnTo>
                  <a:pt x="141" y="3079"/>
                </a:lnTo>
                <a:lnTo>
                  <a:pt x="130" y="3070"/>
                </a:lnTo>
                <a:lnTo>
                  <a:pt x="128" y="3060"/>
                </a:lnTo>
                <a:lnTo>
                  <a:pt x="128" y="3044"/>
                </a:lnTo>
                <a:lnTo>
                  <a:pt x="128" y="3026"/>
                </a:lnTo>
                <a:lnTo>
                  <a:pt x="126" y="3022"/>
                </a:lnTo>
                <a:lnTo>
                  <a:pt x="125" y="3018"/>
                </a:lnTo>
                <a:lnTo>
                  <a:pt x="123" y="3013"/>
                </a:lnTo>
                <a:lnTo>
                  <a:pt x="123" y="3011"/>
                </a:lnTo>
                <a:lnTo>
                  <a:pt x="125" y="3009"/>
                </a:lnTo>
                <a:lnTo>
                  <a:pt x="130" y="3002"/>
                </a:lnTo>
                <a:lnTo>
                  <a:pt x="134" y="3004"/>
                </a:lnTo>
                <a:lnTo>
                  <a:pt x="137" y="3004"/>
                </a:lnTo>
                <a:lnTo>
                  <a:pt x="143" y="3004"/>
                </a:lnTo>
                <a:lnTo>
                  <a:pt x="147" y="3002"/>
                </a:lnTo>
                <a:lnTo>
                  <a:pt x="154" y="3002"/>
                </a:lnTo>
                <a:lnTo>
                  <a:pt x="159" y="3004"/>
                </a:lnTo>
                <a:lnTo>
                  <a:pt x="159" y="3002"/>
                </a:lnTo>
                <a:lnTo>
                  <a:pt x="156" y="3000"/>
                </a:lnTo>
                <a:lnTo>
                  <a:pt x="150" y="3000"/>
                </a:lnTo>
                <a:lnTo>
                  <a:pt x="147" y="3000"/>
                </a:lnTo>
                <a:lnTo>
                  <a:pt x="143" y="3002"/>
                </a:lnTo>
                <a:lnTo>
                  <a:pt x="141" y="3002"/>
                </a:lnTo>
                <a:lnTo>
                  <a:pt x="139" y="3002"/>
                </a:lnTo>
                <a:lnTo>
                  <a:pt x="136" y="3002"/>
                </a:lnTo>
                <a:lnTo>
                  <a:pt x="130" y="2997"/>
                </a:lnTo>
                <a:lnTo>
                  <a:pt x="128" y="2991"/>
                </a:lnTo>
                <a:lnTo>
                  <a:pt x="132" y="2987"/>
                </a:lnTo>
                <a:lnTo>
                  <a:pt x="141" y="2980"/>
                </a:lnTo>
                <a:lnTo>
                  <a:pt x="147" y="2978"/>
                </a:lnTo>
                <a:lnTo>
                  <a:pt x="152" y="2980"/>
                </a:lnTo>
                <a:lnTo>
                  <a:pt x="161" y="2986"/>
                </a:lnTo>
                <a:lnTo>
                  <a:pt x="163" y="2984"/>
                </a:lnTo>
                <a:lnTo>
                  <a:pt x="165" y="2973"/>
                </a:lnTo>
                <a:lnTo>
                  <a:pt x="154" y="2964"/>
                </a:lnTo>
                <a:lnTo>
                  <a:pt x="141" y="2960"/>
                </a:lnTo>
                <a:lnTo>
                  <a:pt x="128" y="2951"/>
                </a:lnTo>
                <a:lnTo>
                  <a:pt x="119" y="2945"/>
                </a:lnTo>
                <a:lnTo>
                  <a:pt x="110" y="2940"/>
                </a:lnTo>
                <a:lnTo>
                  <a:pt x="106" y="2940"/>
                </a:lnTo>
                <a:lnTo>
                  <a:pt x="104" y="2940"/>
                </a:lnTo>
                <a:lnTo>
                  <a:pt x="103" y="2934"/>
                </a:lnTo>
                <a:lnTo>
                  <a:pt x="104" y="2933"/>
                </a:lnTo>
                <a:lnTo>
                  <a:pt x="115" y="2929"/>
                </a:lnTo>
                <a:lnTo>
                  <a:pt x="159" y="2933"/>
                </a:lnTo>
                <a:lnTo>
                  <a:pt x="161" y="2933"/>
                </a:lnTo>
                <a:lnTo>
                  <a:pt x="165" y="2936"/>
                </a:lnTo>
                <a:lnTo>
                  <a:pt x="170" y="2936"/>
                </a:lnTo>
                <a:lnTo>
                  <a:pt x="179" y="2936"/>
                </a:lnTo>
                <a:lnTo>
                  <a:pt x="189" y="2934"/>
                </a:lnTo>
                <a:lnTo>
                  <a:pt x="205" y="2945"/>
                </a:lnTo>
                <a:lnTo>
                  <a:pt x="214" y="2949"/>
                </a:lnTo>
                <a:lnTo>
                  <a:pt x="225" y="2951"/>
                </a:lnTo>
                <a:lnTo>
                  <a:pt x="229" y="2951"/>
                </a:lnTo>
                <a:lnTo>
                  <a:pt x="234" y="2949"/>
                </a:lnTo>
                <a:lnTo>
                  <a:pt x="234" y="2947"/>
                </a:lnTo>
                <a:lnTo>
                  <a:pt x="236" y="2945"/>
                </a:lnTo>
                <a:lnTo>
                  <a:pt x="236" y="2942"/>
                </a:lnTo>
                <a:lnTo>
                  <a:pt x="234" y="2940"/>
                </a:lnTo>
                <a:lnTo>
                  <a:pt x="234" y="2942"/>
                </a:lnTo>
                <a:lnTo>
                  <a:pt x="234" y="2943"/>
                </a:lnTo>
                <a:lnTo>
                  <a:pt x="232" y="2945"/>
                </a:lnTo>
                <a:lnTo>
                  <a:pt x="229" y="2949"/>
                </a:lnTo>
                <a:lnTo>
                  <a:pt x="227" y="2949"/>
                </a:lnTo>
                <a:lnTo>
                  <a:pt x="223" y="2947"/>
                </a:lnTo>
                <a:lnTo>
                  <a:pt x="216" y="2943"/>
                </a:lnTo>
                <a:lnTo>
                  <a:pt x="207" y="2938"/>
                </a:lnTo>
                <a:lnTo>
                  <a:pt x="200" y="2931"/>
                </a:lnTo>
                <a:lnTo>
                  <a:pt x="200" y="2923"/>
                </a:lnTo>
                <a:lnTo>
                  <a:pt x="207" y="2923"/>
                </a:lnTo>
                <a:lnTo>
                  <a:pt x="209" y="2927"/>
                </a:lnTo>
                <a:lnTo>
                  <a:pt x="212" y="2929"/>
                </a:lnTo>
                <a:lnTo>
                  <a:pt x="214" y="2931"/>
                </a:lnTo>
                <a:lnTo>
                  <a:pt x="216" y="2931"/>
                </a:lnTo>
                <a:lnTo>
                  <a:pt x="220" y="2933"/>
                </a:lnTo>
                <a:lnTo>
                  <a:pt x="240" y="2933"/>
                </a:lnTo>
                <a:lnTo>
                  <a:pt x="234" y="2931"/>
                </a:lnTo>
                <a:lnTo>
                  <a:pt x="231" y="2929"/>
                </a:lnTo>
                <a:lnTo>
                  <a:pt x="227" y="2929"/>
                </a:lnTo>
                <a:lnTo>
                  <a:pt x="223" y="2929"/>
                </a:lnTo>
                <a:lnTo>
                  <a:pt x="220" y="2929"/>
                </a:lnTo>
                <a:lnTo>
                  <a:pt x="216" y="2929"/>
                </a:lnTo>
                <a:lnTo>
                  <a:pt x="212" y="2927"/>
                </a:lnTo>
                <a:lnTo>
                  <a:pt x="194" y="2911"/>
                </a:lnTo>
                <a:lnTo>
                  <a:pt x="189" y="2912"/>
                </a:lnTo>
                <a:lnTo>
                  <a:pt x="187" y="2912"/>
                </a:lnTo>
                <a:lnTo>
                  <a:pt x="183" y="2914"/>
                </a:lnTo>
                <a:lnTo>
                  <a:pt x="172" y="2918"/>
                </a:lnTo>
                <a:lnTo>
                  <a:pt x="165" y="2916"/>
                </a:lnTo>
                <a:lnTo>
                  <a:pt x="163" y="2916"/>
                </a:lnTo>
                <a:lnTo>
                  <a:pt x="161" y="2912"/>
                </a:lnTo>
                <a:lnTo>
                  <a:pt x="128" y="2909"/>
                </a:lnTo>
                <a:lnTo>
                  <a:pt x="121" y="2909"/>
                </a:lnTo>
                <a:lnTo>
                  <a:pt x="117" y="2911"/>
                </a:lnTo>
                <a:lnTo>
                  <a:pt x="114" y="2911"/>
                </a:lnTo>
                <a:lnTo>
                  <a:pt x="106" y="2911"/>
                </a:lnTo>
                <a:lnTo>
                  <a:pt x="104" y="2909"/>
                </a:lnTo>
                <a:lnTo>
                  <a:pt x="97" y="2907"/>
                </a:lnTo>
                <a:lnTo>
                  <a:pt x="95" y="2905"/>
                </a:lnTo>
                <a:lnTo>
                  <a:pt x="115" y="2878"/>
                </a:lnTo>
                <a:lnTo>
                  <a:pt x="121" y="2872"/>
                </a:lnTo>
                <a:lnTo>
                  <a:pt x="136" y="2858"/>
                </a:lnTo>
                <a:lnTo>
                  <a:pt x="148" y="2856"/>
                </a:lnTo>
                <a:lnTo>
                  <a:pt x="150" y="2856"/>
                </a:lnTo>
                <a:lnTo>
                  <a:pt x="154" y="2858"/>
                </a:lnTo>
                <a:lnTo>
                  <a:pt x="161" y="2850"/>
                </a:lnTo>
                <a:lnTo>
                  <a:pt x="172" y="2839"/>
                </a:lnTo>
                <a:lnTo>
                  <a:pt x="165" y="2834"/>
                </a:lnTo>
                <a:lnTo>
                  <a:pt x="163" y="2834"/>
                </a:lnTo>
                <a:lnTo>
                  <a:pt x="161" y="2834"/>
                </a:lnTo>
                <a:lnTo>
                  <a:pt x="159" y="2834"/>
                </a:lnTo>
                <a:lnTo>
                  <a:pt x="156" y="2836"/>
                </a:lnTo>
                <a:lnTo>
                  <a:pt x="152" y="2836"/>
                </a:lnTo>
                <a:lnTo>
                  <a:pt x="143" y="2823"/>
                </a:lnTo>
                <a:lnTo>
                  <a:pt x="141" y="2817"/>
                </a:lnTo>
                <a:lnTo>
                  <a:pt x="141" y="2816"/>
                </a:lnTo>
                <a:lnTo>
                  <a:pt x="134" y="2814"/>
                </a:lnTo>
                <a:lnTo>
                  <a:pt x="106" y="2816"/>
                </a:lnTo>
                <a:lnTo>
                  <a:pt x="106" y="2821"/>
                </a:lnTo>
                <a:lnTo>
                  <a:pt x="110" y="2821"/>
                </a:lnTo>
                <a:lnTo>
                  <a:pt x="114" y="2821"/>
                </a:lnTo>
                <a:lnTo>
                  <a:pt x="125" y="2823"/>
                </a:lnTo>
                <a:lnTo>
                  <a:pt x="123" y="2825"/>
                </a:lnTo>
                <a:lnTo>
                  <a:pt x="121" y="2827"/>
                </a:lnTo>
                <a:lnTo>
                  <a:pt x="117" y="2827"/>
                </a:lnTo>
                <a:lnTo>
                  <a:pt x="112" y="2827"/>
                </a:lnTo>
                <a:lnTo>
                  <a:pt x="104" y="2825"/>
                </a:lnTo>
                <a:lnTo>
                  <a:pt x="81" y="2816"/>
                </a:lnTo>
                <a:lnTo>
                  <a:pt x="70" y="2812"/>
                </a:lnTo>
                <a:lnTo>
                  <a:pt x="62" y="2803"/>
                </a:lnTo>
                <a:lnTo>
                  <a:pt x="62" y="2801"/>
                </a:lnTo>
                <a:lnTo>
                  <a:pt x="59" y="2797"/>
                </a:lnTo>
                <a:lnTo>
                  <a:pt x="28" y="2803"/>
                </a:lnTo>
                <a:lnTo>
                  <a:pt x="22" y="2805"/>
                </a:lnTo>
                <a:lnTo>
                  <a:pt x="15" y="2806"/>
                </a:lnTo>
                <a:lnTo>
                  <a:pt x="13" y="2808"/>
                </a:lnTo>
                <a:lnTo>
                  <a:pt x="8" y="2814"/>
                </a:lnTo>
                <a:lnTo>
                  <a:pt x="9" y="2816"/>
                </a:lnTo>
                <a:lnTo>
                  <a:pt x="13" y="2812"/>
                </a:lnTo>
                <a:lnTo>
                  <a:pt x="24" y="2808"/>
                </a:lnTo>
                <a:lnTo>
                  <a:pt x="28" y="2808"/>
                </a:lnTo>
                <a:lnTo>
                  <a:pt x="30" y="2808"/>
                </a:lnTo>
                <a:lnTo>
                  <a:pt x="37" y="2825"/>
                </a:lnTo>
                <a:lnTo>
                  <a:pt x="37" y="2827"/>
                </a:lnTo>
                <a:lnTo>
                  <a:pt x="30" y="2830"/>
                </a:lnTo>
                <a:lnTo>
                  <a:pt x="26" y="2832"/>
                </a:lnTo>
                <a:lnTo>
                  <a:pt x="22" y="2832"/>
                </a:lnTo>
                <a:lnTo>
                  <a:pt x="20" y="2832"/>
                </a:lnTo>
                <a:lnTo>
                  <a:pt x="15" y="2830"/>
                </a:lnTo>
                <a:lnTo>
                  <a:pt x="8" y="2825"/>
                </a:lnTo>
                <a:lnTo>
                  <a:pt x="2" y="2816"/>
                </a:lnTo>
                <a:lnTo>
                  <a:pt x="0" y="2810"/>
                </a:lnTo>
                <a:lnTo>
                  <a:pt x="2" y="2801"/>
                </a:lnTo>
                <a:lnTo>
                  <a:pt x="8" y="2795"/>
                </a:lnTo>
                <a:lnTo>
                  <a:pt x="9" y="2794"/>
                </a:lnTo>
                <a:lnTo>
                  <a:pt x="31" y="2783"/>
                </a:lnTo>
                <a:lnTo>
                  <a:pt x="35" y="2779"/>
                </a:lnTo>
                <a:lnTo>
                  <a:pt x="62" y="2761"/>
                </a:lnTo>
                <a:lnTo>
                  <a:pt x="66" y="2761"/>
                </a:lnTo>
                <a:lnTo>
                  <a:pt x="73" y="2761"/>
                </a:lnTo>
                <a:lnTo>
                  <a:pt x="88" y="2752"/>
                </a:lnTo>
                <a:lnTo>
                  <a:pt x="92" y="2744"/>
                </a:lnTo>
                <a:lnTo>
                  <a:pt x="97" y="2733"/>
                </a:lnTo>
                <a:lnTo>
                  <a:pt x="99" y="2724"/>
                </a:lnTo>
                <a:lnTo>
                  <a:pt x="101" y="2724"/>
                </a:lnTo>
                <a:lnTo>
                  <a:pt x="130" y="2720"/>
                </a:lnTo>
                <a:lnTo>
                  <a:pt x="152" y="2720"/>
                </a:lnTo>
                <a:lnTo>
                  <a:pt x="154" y="2722"/>
                </a:lnTo>
                <a:lnTo>
                  <a:pt x="156" y="2724"/>
                </a:lnTo>
                <a:lnTo>
                  <a:pt x="168" y="2744"/>
                </a:lnTo>
                <a:lnTo>
                  <a:pt x="168" y="2746"/>
                </a:lnTo>
                <a:lnTo>
                  <a:pt x="168" y="2748"/>
                </a:lnTo>
                <a:lnTo>
                  <a:pt x="167" y="2752"/>
                </a:lnTo>
                <a:lnTo>
                  <a:pt x="167" y="2753"/>
                </a:lnTo>
                <a:lnTo>
                  <a:pt x="163" y="2755"/>
                </a:lnTo>
                <a:lnTo>
                  <a:pt x="159" y="2757"/>
                </a:lnTo>
                <a:lnTo>
                  <a:pt x="154" y="2759"/>
                </a:lnTo>
                <a:lnTo>
                  <a:pt x="148" y="2761"/>
                </a:lnTo>
                <a:lnTo>
                  <a:pt x="136" y="2764"/>
                </a:lnTo>
                <a:lnTo>
                  <a:pt x="134" y="2764"/>
                </a:lnTo>
                <a:lnTo>
                  <a:pt x="130" y="2763"/>
                </a:lnTo>
                <a:lnTo>
                  <a:pt x="126" y="2761"/>
                </a:lnTo>
                <a:lnTo>
                  <a:pt x="125" y="2759"/>
                </a:lnTo>
                <a:lnTo>
                  <a:pt x="119" y="2757"/>
                </a:lnTo>
                <a:lnTo>
                  <a:pt x="128" y="2763"/>
                </a:lnTo>
                <a:lnTo>
                  <a:pt x="130" y="2764"/>
                </a:lnTo>
                <a:lnTo>
                  <a:pt x="132" y="2766"/>
                </a:lnTo>
                <a:lnTo>
                  <a:pt x="134" y="2766"/>
                </a:lnTo>
                <a:lnTo>
                  <a:pt x="143" y="2764"/>
                </a:lnTo>
                <a:lnTo>
                  <a:pt x="152" y="2763"/>
                </a:lnTo>
                <a:lnTo>
                  <a:pt x="161" y="2759"/>
                </a:lnTo>
                <a:lnTo>
                  <a:pt x="168" y="2755"/>
                </a:lnTo>
                <a:lnTo>
                  <a:pt x="170" y="2753"/>
                </a:lnTo>
                <a:lnTo>
                  <a:pt x="176" y="2753"/>
                </a:lnTo>
                <a:lnTo>
                  <a:pt x="189" y="2763"/>
                </a:lnTo>
                <a:lnTo>
                  <a:pt x="189" y="2768"/>
                </a:lnTo>
                <a:lnTo>
                  <a:pt x="187" y="2772"/>
                </a:lnTo>
                <a:lnTo>
                  <a:pt x="187" y="2775"/>
                </a:lnTo>
                <a:lnTo>
                  <a:pt x="185" y="2777"/>
                </a:lnTo>
                <a:lnTo>
                  <a:pt x="178" y="2783"/>
                </a:lnTo>
                <a:lnTo>
                  <a:pt x="174" y="2784"/>
                </a:lnTo>
                <a:lnTo>
                  <a:pt x="167" y="2794"/>
                </a:lnTo>
                <a:lnTo>
                  <a:pt x="174" y="2797"/>
                </a:lnTo>
                <a:lnTo>
                  <a:pt x="178" y="2797"/>
                </a:lnTo>
                <a:lnTo>
                  <a:pt x="181" y="2797"/>
                </a:lnTo>
                <a:lnTo>
                  <a:pt x="183" y="2795"/>
                </a:lnTo>
                <a:lnTo>
                  <a:pt x="207" y="2766"/>
                </a:lnTo>
                <a:lnTo>
                  <a:pt x="222" y="2748"/>
                </a:lnTo>
                <a:lnTo>
                  <a:pt x="220" y="2746"/>
                </a:lnTo>
                <a:lnTo>
                  <a:pt x="211" y="2755"/>
                </a:lnTo>
                <a:lnTo>
                  <a:pt x="203" y="2752"/>
                </a:lnTo>
                <a:lnTo>
                  <a:pt x="198" y="2739"/>
                </a:lnTo>
                <a:lnTo>
                  <a:pt x="211" y="2722"/>
                </a:lnTo>
                <a:lnTo>
                  <a:pt x="220" y="2713"/>
                </a:lnTo>
                <a:lnTo>
                  <a:pt x="222" y="2713"/>
                </a:lnTo>
                <a:lnTo>
                  <a:pt x="225" y="2711"/>
                </a:lnTo>
                <a:lnTo>
                  <a:pt x="227" y="2710"/>
                </a:lnTo>
                <a:lnTo>
                  <a:pt x="229" y="2710"/>
                </a:lnTo>
                <a:lnTo>
                  <a:pt x="234" y="2710"/>
                </a:lnTo>
                <a:lnTo>
                  <a:pt x="240" y="2710"/>
                </a:lnTo>
                <a:lnTo>
                  <a:pt x="243" y="2710"/>
                </a:lnTo>
                <a:lnTo>
                  <a:pt x="245" y="2708"/>
                </a:lnTo>
                <a:lnTo>
                  <a:pt x="231" y="2704"/>
                </a:lnTo>
                <a:lnTo>
                  <a:pt x="227" y="2706"/>
                </a:lnTo>
                <a:lnTo>
                  <a:pt x="223" y="2706"/>
                </a:lnTo>
                <a:lnTo>
                  <a:pt x="220" y="2708"/>
                </a:lnTo>
                <a:lnTo>
                  <a:pt x="218" y="2711"/>
                </a:lnTo>
                <a:lnTo>
                  <a:pt x="216" y="2713"/>
                </a:lnTo>
                <a:lnTo>
                  <a:pt x="209" y="2719"/>
                </a:lnTo>
                <a:lnTo>
                  <a:pt x="207" y="2719"/>
                </a:lnTo>
                <a:lnTo>
                  <a:pt x="207" y="2710"/>
                </a:lnTo>
                <a:lnTo>
                  <a:pt x="212" y="2688"/>
                </a:lnTo>
                <a:lnTo>
                  <a:pt x="223" y="2680"/>
                </a:lnTo>
                <a:lnTo>
                  <a:pt x="234" y="2675"/>
                </a:lnTo>
                <a:lnTo>
                  <a:pt x="242" y="2673"/>
                </a:lnTo>
                <a:lnTo>
                  <a:pt x="245" y="2675"/>
                </a:lnTo>
                <a:lnTo>
                  <a:pt x="245" y="2678"/>
                </a:lnTo>
                <a:lnTo>
                  <a:pt x="249" y="2680"/>
                </a:lnTo>
                <a:lnTo>
                  <a:pt x="253" y="2682"/>
                </a:lnTo>
                <a:lnTo>
                  <a:pt x="262" y="2688"/>
                </a:lnTo>
                <a:lnTo>
                  <a:pt x="267" y="2688"/>
                </a:lnTo>
                <a:lnTo>
                  <a:pt x="275" y="2689"/>
                </a:lnTo>
                <a:lnTo>
                  <a:pt x="276" y="2689"/>
                </a:lnTo>
                <a:lnTo>
                  <a:pt x="278" y="2684"/>
                </a:lnTo>
                <a:lnTo>
                  <a:pt x="278" y="2682"/>
                </a:lnTo>
                <a:lnTo>
                  <a:pt x="273" y="2682"/>
                </a:lnTo>
                <a:lnTo>
                  <a:pt x="249" y="2673"/>
                </a:lnTo>
                <a:lnTo>
                  <a:pt x="240" y="2667"/>
                </a:lnTo>
                <a:lnTo>
                  <a:pt x="238" y="2667"/>
                </a:lnTo>
                <a:lnTo>
                  <a:pt x="236" y="2667"/>
                </a:lnTo>
                <a:lnTo>
                  <a:pt x="232" y="2669"/>
                </a:lnTo>
                <a:lnTo>
                  <a:pt x="231" y="2671"/>
                </a:lnTo>
                <a:lnTo>
                  <a:pt x="227" y="2673"/>
                </a:lnTo>
                <a:lnTo>
                  <a:pt x="223" y="2671"/>
                </a:lnTo>
                <a:lnTo>
                  <a:pt x="220" y="2671"/>
                </a:lnTo>
                <a:lnTo>
                  <a:pt x="218" y="2671"/>
                </a:lnTo>
                <a:lnTo>
                  <a:pt x="218" y="2667"/>
                </a:lnTo>
                <a:lnTo>
                  <a:pt x="223" y="2644"/>
                </a:lnTo>
                <a:lnTo>
                  <a:pt x="227" y="2640"/>
                </a:lnTo>
                <a:lnTo>
                  <a:pt x="229" y="2640"/>
                </a:lnTo>
                <a:lnTo>
                  <a:pt x="231" y="2640"/>
                </a:lnTo>
                <a:lnTo>
                  <a:pt x="234" y="2640"/>
                </a:lnTo>
                <a:lnTo>
                  <a:pt x="238" y="2640"/>
                </a:lnTo>
                <a:lnTo>
                  <a:pt x="240" y="2640"/>
                </a:lnTo>
                <a:lnTo>
                  <a:pt x="249" y="2638"/>
                </a:lnTo>
                <a:lnTo>
                  <a:pt x="267" y="2631"/>
                </a:lnTo>
                <a:lnTo>
                  <a:pt x="273" y="2627"/>
                </a:lnTo>
                <a:lnTo>
                  <a:pt x="285" y="2620"/>
                </a:lnTo>
                <a:lnTo>
                  <a:pt x="289" y="2614"/>
                </a:lnTo>
                <a:lnTo>
                  <a:pt x="291" y="2609"/>
                </a:lnTo>
                <a:lnTo>
                  <a:pt x="300" y="2593"/>
                </a:lnTo>
                <a:lnTo>
                  <a:pt x="300" y="2583"/>
                </a:lnTo>
                <a:lnTo>
                  <a:pt x="295" y="2587"/>
                </a:lnTo>
                <a:lnTo>
                  <a:pt x="287" y="2591"/>
                </a:lnTo>
                <a:lnTo>
                  <a:pt x="245" y="2572"/>
                </a:lnTo>
                <a:lnTo>
                  <a:pt x="234" y="2565"/>
                </a:lnTo>
                <a:lnTo>
                  <a:pt x="234" y="2561"/>
                </a:lnTo>
                <a:lnTo>
                  <a:pt x="236" y="2558"/>
                </a:lnTo>
                <a:lnTo>
                  <a:pt x="260" y="2529"/>
                </a:lnTo>
                <a:lnTo>
                  <a:pt x="264" y="2529"/>
                </a:lnTo>
                <a:lnTo>
                  <a:pt x="267" y="2529"/>
                </a:lnTo>
                <a:lnTo>
                  <a:pt x="276" y="2527"/>
                </a:lnTo>
                <a:lnTo>
                  <a:pt x="276" y="2523"/>
                </a:lnTo>
                <a:close/>
                <a:moveTo>
                  <a:pt x="207" y="2452"/>
                </a:moveTo>
                <a:lnTo>
                  <a:pt x="214" y="2459"/>
                </a:lnTo>
                <a:lnTo>
                  <a:pt x="214" y="2463"/>
                </a:lnTo>
                <a:lnTo>
                  <a:pt x="212" y="2465"/>
                </a:lnTo>
                <a:lnTo>
                  <a:pt x="190" y="2463"/>
                </a:lnTo>
                <a:lnTo>
                  <a:pt x="187" y="2465"/>
                </a:lnTo>
                <a:lnTo>
                  <a:pt x="189" y="2472"/>
                </a:lnTo>
                <a:lnTo>
                  <a:pt x="190" y="2474"/>
                </a:lnTo>
                <a:lnTo>
                  <a:pt x="194" y="2476"/>
                </a:lnTo>
                <a:lnTo>
                  <a:pt x="196" y="2479"/>
                </a:lnTo>
                <a:lnTo>
                  <a:pt x="194" y="2487"/>
                </a:lnTo>
                <a:lnTo>
                  <a:pt x="192" y="2488"/>
                </a:lnTo>
                <a:lnTo>
                  <a:pt x="179" y="2490"/>
                </a:lnTo>
                <a:lnTo>
                  <a:pt x="152" y="2485"/>
                </a:lnTo>
                <a:lnTo>
                  <a:pt x="139" y="2481"/>
                </a:lnTo>
                <a:lnTo>
                  <a:pt x="130" y="2477"/>
                </a:lnTo>
                <a:lnTo>
                  <a:pt x="128" y="2477"/>
                </a:lnTo>
                <a:lnTo>
                  <a:pt x="126" y="2476"/>
                </a:lnTo>
                <a:lnTo>
                  <a:pt x="134" y="2463"/>
                </a:lnTo>
                <a:lnTo>
                  <a:pt x="143" y="2454"/>
                </a:lnTo>
                <a:lnTo>
                  <a:pt x="148" y="2441"/>
                </a:lnTo>
                <a:lnTo>
                  <a:pt x="152" y="2417"/>
                </a:lnTo>
                <a:lnTo>
                  <a:pt x="152" y="2412"/>
                </a:lnTo>
                <a:lnTo>
                  <a:pt x="150" y="2406"/>
                </a:lnTo>
                <a:lnTo>
                  <a:pt x="148" y="2404"/>
                </a:lnTo>
                <a:lnTo>
                  <a:pt x="147" y="2404"/>
                </a:lnTo>
                <a:lnTo>
                  <a:pt x="150" y="2379"/>
                </a:lnTo>
                <a:lnTo>
                  <a:pt x="150" y="2377"/>
                </a:lnTo>
                <a:lnTo>
                  <a:pt x="152" y="2375"/>
                </a:lnTo>
                <a:lnTo>
                  <a:pt x="154" y="2373"/>
                </a:lnTo>
                <a:lnTo>
                  <a:pt x="156" y="2371"/>
                </a:lnTo>
                <a:lnTo>
                  <a:pt x="159" y="2370"/>
                </a:lnTo>
                <a:lnTo>
                  <a:pt x="161" y="2362"/>
                </a:lnTo>
                <a:lnTo>
                  <a:pt x="165" y="2348"/>
                </a:lnTo>
                <a:lnTo>
                  <a:pt x="161" y="2342"/>
                </a:lnTo>
                <a:lnTo>
                  <a:pt x="159" y="2340"/>
                </a:lnTo>
                <a:lnTo>
                  <a:pt x="159" y="2337"/>
                </a:lnTo>
                <a:lnTo>
                  <a:pt x="163" y="2333"/>
                </a:lnTo>
                <a:lnTo>
                  <a:pt x="174" y="2335"/>
                </a:lnTo>
                <a:lnTo>
                  <a:pt x="178" y="2338"/>
                </a:lnTo>
                <a:lnTo>
                  <a:pt x="194" y="2337"/>
                </a:lnTo>
                <a:lnTo>
                  <a:pt x="205" y="2337"/>
                </a:lnTo>
                <a:lnTo>
                  <a:pt x="207" y="2337"/>
                </a:lnTo>
                <a:lnTo>
                  <a:pt x="214" y="2340"/>
                </a:lnTo>
                <a:lnTo>
                  <a:pt x="212" y="2353"/>
                </a:lnTo>
                <a:lnTo>
                  <a:pt x="218" y="2364"/>
                </a:lnTo>
                <a:lnTo>
                  <a:pt x="225" y="2373"/>
                </a:lnTo>
                <a:lnTo>
                  <a:pt x="227" y="2379"/>
                </a:lnTo>
                <a:lnTo>
                  <a:pt x="225" y="2382"/>
                </a:lnTo>
                <a:lnTo>
                  <a:pt x="225" y="2384"/>
                </a:lnTo>
                <a:lnTo>
                  <a:pt x="214" y="2386"/>
                </a:lnTo>
                <a:lnTo>
                  <a:pt x="209" y="2386"/>
                </a:lnTo>
                <a:lnTo>
                  <a:pt x="207" y="2386"/>
                </a:lnTo>
                <a:lnTo>
                  <a:pt x="200" y="2390"/>
                </a:lnTo>
                <a:lnTo>
                  <a:pt x="198" y="2390"/>
                </a:lnTo>
                <a:lnTo>
                  <a:pt x="187" y="2401"/>
                </a:lnTo>
                <a:lnTo>
                  <a:pt x="183" y="2404"/>
                </a:lnTo>
                <a:lnTo>
                  <a:pt x="185" y="2413"/>
                </a:lnTo>
                <a:lnTo>
                  <a:pt x="203" y="2426"/>
                </a:lnTo>
                <a:lnTo>
                  <a:pt x="207" y="2428"/>
                </a:lnTo>
                <a:lnTo>
                  <a:pt x="212" y="2432"/>
                </a:lnTo>
                <a:lnTo>
                  <a:pt x="214" y="2432"/>
                </a:lnTo>
                <a:lnTo>
                  <a:pt x="216" y="2437"/>
                </a:lnTo>
                <a:lnTo>
                  <a:pt x="214" y="2439"/>
                </a:lnTo>
                <a:lnTo>
                  <a:pt x="207" y="2441"/>
                </a:lnTo>
                <a:lnTo>
                  <a:pt x="203" y="2441"/>
                </a:lnTo>
                <a:lnTo>
                  <a:pt x="201" y="2441"/>
                </a:lnTo>
                <a:lnTo>
                  <a:pt x="200" y="2444"/>
                </a:lnTo>
                <a:lnTo>
                  <a:pt x="203" y="2448"/>
                </a:lnTo>
                <a:lnTo>
                  <a:pt x="207" y="2452"/>
                </a:lnTo>
                <a:close/>
                <a:moveTo>
                  <a:pt x="117" y="3084"/>
                </a:moveTo>
                <a:lnTo>
                  <a:pt x="114" y="3088"/>
                </a:lnTo>
                <a:lnTo>
                  <a:pt x="108" y="3095"/>
                </a:lnTo>
                <a:lnTo>
                  <a:pt x="108" y="3097"/>
                </a:lnTo>
                <a:lnTo>
                  <a:pt x="115" y="3093"/>
                </a:lnTo>
                <a:lnTo>
                  <a:pt x="115" y="3092"/>
                </a:lnTo>
                <a:lnTo>
                  <a:pt x="115" y="3090"/>
                </a:lnTo>
                <a:lnTo>
                  <a:pt x="121" y="3088"/>
                </a:lnTo>
                <a:lnTo>
                  <a:pt x="123" y="3090"/>
                </a:lnTo>
                <a:lnTo>
                  <a:pt x="126" y="3093"/>
                </a:lnTo>
                <a:lnTo>
                  <a:pt x="126" y="3099"/>
                </a:lnTo>
                <a:lnTo>
                  <a:pt x="121" y="3117"/>
                </a:lnTo>
                <a:lnTo>
                  <a:pt x="121" y="3119"/>
                </a:lnTo>
                <a:lnTo>
                  <a:pt x="114" y="3124"/>
                </a:lnTo>
                <a:lnTo>
                  <a:pt x="106" y="3130"/>
                </a:lnTo>
                <a:lnTo>
                  <a:pt x="103" y="3130"/>
                </a:lnTo>
                <a:lnTo>
                  <a:pt x="94" y="3130"/>
                </a:lnTo>
                <a:lnTo>
                  <a:pt x="92" y="3130"/>
                </a:lnTo>
                <a:lnTo>
                  <a:pt x="84" y="3126"/>
                </a:lnTo>
                <a:lnTo>
                  <a:pt x="83" y="3126"/>
                </a:lnTo>
                <a:lnTo>
                  <a:pt x="79" y="3117"/>
                </a:lnTo>
                <a:lnTo>
                  <a:pt x="77" y="3095"/>
                </a:lnTo>
                <a:lnTo>
                  <a:pt x="72" y="3106"/>
                </a:lnTo>
                <a:lnTo>
                  <a:pt x="68" y="3115"/>
                </a:lnTo>
                <a:lnTo>
                  <a:pt x="64" y="3113"/>
                </a:lnTo>
                <a:lnTo>
                  <a:pt x="57" y="3110"/>
                </a:lnTo>
                <a:lnTo>
                  <a:pt x="50" y="3101"/>
                </a:lnTo>
                <a:lnTo>
                  <a:pt x="42" y="3090"/>
                </a:lnTo>
                <a:lnTo>
                  <a:pt x="44" y="3084"/>
                </a:lnTo>
                <a:lnTo>
                  <a:pt x="42" y="3077"/>
                </a:lnTo>
                <a:lnTo>
                  <a:pt x="39" y="3073"/>
                </a:lnTo>
                <a:lnTo>
                  <a:pt x="35" y="3070"/>
                </a:lnTo>
                <a:lnTo>
                  <a:pt x="31" y="3071"/>
                </a:lnTo>
                <a:lnTo>
                  <a:pt x="28" y="3071"/>
                </a:lnTo>
                <a:lnTo>
                  <a:pt x="26" y="3068"/>
                </a:lnTo>
                <a:lnTo>
                  <a:pt x="26" y="3064"/>
                </a:lnTo>
                <a:lnTo>
                  <a:pt x="26" y="3059"/>
                </a:lnTo>
                <a:lnTo>
                  <a:pt x="30" y="3055"/>
                </a:lnTo>
                <a:lnTo>
                  <a:pt x="31" y="3055"/>
                </a:lnTo>
                <a:lnTo>
                  <a:pt x="44" y="3053"/>
                </a:lnTo>
                <a:lnTo>
                  <a:pt x="62" y="3053"/>
                </a:lnTo>
                <a:lnTo>
                  <a:pt x="77" y="3060"/>
                </a:lnTo>
                <a:lnTo>
                  <a:pt x="81" y="3057"/>
                </a:lnTo>
                <a:lnTo>
                  <a:pt x="86" y="3037"/>
                </a:lnTo>
                <a:lnTo>
                  <a:pt x="81" y="3033"/>
                </a:lnTo>
                <a:lnTo>
                  <a:pt x="77" y="3031"/>
                </a:lnTo>
                <a:lnTo>
                  <a:pt x="75" y="3029"/>
                </a:lnTo>
                <a:lnTo>
                  <a:pt x="73" y="3028"/>
                </a:lnTo>
                <a:lnTo>
                  <a:pt x="68" y="3020"/>
                </a:lnTo>
                <a:lnTo>
                  <a:pt x="64" y="3013"/>
                </a:lnTo>
                <a:lnTo>
                  <a:pt x="66" y="3009"/>
                </a:lnTo>
                <a:lnTo>
                  <a:pt x="72" y="3006"/>
                </a:lnTo>
                <a:lnTo>
                  <a:pt x="86" y="2998"/>
                </a:lnTo>
                <a:lnTo>
                  <a:pt x="95" y="2998"/>
                </a:lnTo>
                <a:lnTo>
                  <a:pt x="114" y="3000"/>
                </a:lnTo>
                <a:lnTo>
                  <a:pt x="115" y="3004"/>
                </a:lnTo>
                <a:lnTo>
                  <a:pt x="121" y="3024"/>
                </a:lnTo>
                <a:lnTo>
                  <a:pt x="121" y="3026"/>
                </a:lnTo>
                <a:lnTo>
                  <a:pt x="123" y="3050"/>
                </a:lnTo>
                <a:lnTo>
                  <a:pt x="123" y="3059"/>
                </a:lnTo>
                <a:lnTo>
                  <a:pt x="121" y="3070"/>
                </a:lnTo>
                <a:lnTo>
                  <a:pt x="119" y="3073"/>
                </a:lnTo>
                <a:lnTo>
                  <a:pt x="117" y="3077"/>
                </a:lnTo>
                <a:lnTo>
                  <a:pt x="115" y="3081"/>
                </a:lnTo>
                <a:lnTo>
                  <a:pt x="117" y="3084"/>
                </a:lnTo>
                <a:close/>
                <a:moveTo>
                  <a:pt x="684" y="3379"/>
                </a:moveTo>
                <a:lnTo>
                  <a:pt x="684" y="3386"/>
                </a:lnTo>
                <a:lnTo>
                  <a:pt x="684" y="3393"/>
                </a:lnTo>
                <a:lnTo>
                  <a:pt x="684" y="3426"/>
                </a:lnTo>
                <a:lnTo>
                  <a:pt x="682" y="3439"/>
                </a:lnTo>
                <a:lnTo>
                  <a:pt x="684" y="3444"/>
                </a:lnTo>
                <a:lnTo>
                  <a:pt x="684" y="3446"/>
                </a:lnTo>
                <a:lnTo>
                  <a:pt x="682" y="3463"/>
                </a:lnTo>
                <a:lnTo>
                  <a:pt x="682" y="3543"/>
                </a:lnTo>
                <a:lnTo>
                  <a:pt x="682" y="3561"/>
                </a:lnTo>
                <a:lnTo>
                  <a:pt x="682" y="3585"/>
                </a:lnTo>
                <a:lnTo>
                  <a:pt x="682" y="3594"/>
                </a:lnTo>
                <a:lnTo>
                  <a:pt x="680" y="3594"/>
                </a:lnTo>
                <a:lnTo>
                  <a:pt x="666" y="3598"/>
                </a:lnTo>
                <a:lnTo>
                  <a:pt x="651" y="3600"/>
                </a:lnTo>
                <a:lnTo>
                  <a:pt x="642" y="3600"/>
                </a:lnTo>
                <a:lnTo>
                  <a:pt x="640" y="3600"/>
                </a:lnTo>
                <a:lnTo>
                  <a:pt x="638" y="3600"/>
                </a:lnTo>
                <a:lnTo>
                  <a:pt x="637" y="3600"/>
                </a:lnTo>
                <a:lnTo>
                  <a:pt x="600" y="3592"/>
                </a:lnTo>
                <a:lnTo>
                  <a:pt x="594" y="3591"/>
                </a:lnTo>
                <a:lnTo>
                  <a:pt x="584" y="3589"/>
                </a:lnTo>
                <a:lnTo>
                  <a:pt x="584" y="3585"/>
                </a:lnTo>
                <a:lnTo>
                  <a:pt x="576" y="3587"/>
                </a:lnTo>
                <a:lnTo>
                  <a:pt x="541" y="3591"/>
                </a:lnTo>
                <a:lnTo>
                  <a:pt x="530" y="3592"/>
                </a:lnTo>
                <a:lnTo>
                  <a:pt x="527" y="3592"/>
                </a:lnTo>
                <a:lnTo>
                  <a:pt x="523" y="3591"/>
                </a:lnTo>
                <a:lnTo>
                  <a:pt x="521" y="3591"/>
                </a:lnTo>
                <a:lnTo>
                  <a:pt x="520" y="3589"/>
                </a:lnTo>
                <a:lnTo>
                  <a:pt x="516" y="3587"/>
                </a:lnTo>
                <a:lnTo>
                  <a:pt x="490" y="3587"/>
                </a:lnTo>
                <a:lnTo>
                  <a:pt x="488" y="3581"/>
                </a:lnTo>
                <a:lnTo>
                  <a:pt x="492" y="3580"/>
                </a:lnTo>
                <a:lnTo>
                  <a:pt x="498" y="3578"/>
                </a:lnTo>
                <a:lnTo>
                  <a:pt x="501" y="3576"/>
                </a:lnTo>
                <a:lnTo>
                  <a:pt x="507" y="3570"/>
                </a:lnTo>
                <a:lnTo>
                  <a:pt x="507" y="3569"/>
                </a:lnTo>
                <a:lnTo>
                  <a:pt x="505" y="3569"/>
                </a:lnTo>
                <a:lnTo>
                  <a:pt x="498" y="3569"/>
                </a:lnTo>
                <a:lnTo>
                  <a:pt x="487" y="3574"/>
                </a:lnTo>
                <a:lnTo>
                  <a:pt x="488" y="3574"/>
                </a:lnTo>
                <a:lnTo>
                  <a:pt x="488" y="3576"/>
                </a:lnTo>
                <a:lnTo>
                  <a:pt x="487" y="3576"/>
                </a:lnTo>
                <a:lnTo>
                  <a:pt x="481" y="3578"/>
                </a:lnTo>
                <a:lnTo>
                  <a:pt x="477" y="3578"/>
                </a:lnTo>
                <a:lnTo>
                  <a:pt x="465" y="3580"/>
                </a:lnTo>
                <a:lnTo>
                  <a:pt x="456" y="3578"/>
                </a:lnTo>
                <a:lnTo>
                  <a:pt x="430" y="3565"/>
                </a:lnTo>
                <a:lnTo>
                  <a:pt x="423" y="3560"/>
                </a:lnTo>
                <a:lnTo>
                  <a:pt x="421" y="3560"/>
                </a:lnTo>
                <a:lnTo>
                  <a:pt x="415" y="3563"/>
                </a:lnTo>
                <a:lnTo>
                  <a:pt x="408" y="3574"/>
                </a:lnTo>
                <a:lnTo>
                  <a:pt x="390" y="3567"/>
                </a:lnTo>
                <a:lnTo>
                  <a:pt x="386" y="3567"/>
                </a:lnTo>
                <a:lnTo>
                  <a:pt x="384" y="3569"/>
                </a:lnTo>
                <a:lnTo>
                  <a:pt x="379" y="3570"/>
                </a:lnTo>
                <a:lnTo>
                  <a:pt x="377" y="3572"/>
                </a:lnTo>
                <a:lnTo>
                  <a:pt x="375" y="3572"/>
                </a:lnTo>
                <a:lnTo>
                  <a:pt x="368" y="3572"/>
                </a:lnTo>
                <a:lnTo>
                  <a:pt x="366" y="3572"/>
                </a:lnTo>
                <a:lnTo>
                  <a:pt x="362" y="3572"/>
                </a:lnTo>
                <a:lnTo>
                  <a:pt x="362" y="3570"/>
                </a:lnTo>
                <a:lnTo>
                  <a:pt x="360" y="3569"/>
                </a:lnTo>
                <a:lnTo>
                  <a:pt x="359" y="3563"/>
                </a:lnTo>
                <a:lnTo>
                  <a:pt x="357" y="3558"/>
                </a:lnTo>
                <a:lnTo>
                  <a:pt x="359" y="3554"/>
                </a:lnTo>
                <a:lnTo>
                  <a:pt x="359" y="3552"/>
                </a:lnTo>
                <a:lnTo>
                  <a:pt x="360" y="3552"/>
                </a:lnTo>
                <a:lnTo>
                  <a:pt x="366" y="3554"/>
                </a:lnTo>
                <a:lnTo>
                  <a:pt x="371" y="3556"/>
                </a:lnTo>
                <a:lnTo>
                  <a:pt x="371" y="3560"/>
                </a:lnTo>
                <a:lnTo>
                  <a:pt x="373" y="3561"/>
                </a:lnTo>
                <a:lnTo>
                  <a:pt x="375" y="3561"/>
                </a:lnTo>
                <a:lnTo>
                  <a:pt x="382" y="3563"/>
                </a:lnTo>
                <a:lnTo>
                  <a:pt x="388" y="3565"/>
                </a:lnTo>
                <a:lnTo>
                  <a:pt x="390" y="3565"/>
                </a:lnTo>
                <a:lnTo>
                  <a:pt x="399" y="3561"/>
                </a:lnTo>
                <a:lnTo>
                  <a:pt x="408" y="3556"/>
                </a:lnTo>
                <a:lnTo>
                  <a:pt x="406" y="3554"/>
                </a:lnTo>
                <a:lnTo>
                  <a:pt x="403" y="3554"/>
                </a:lnTo>
                <a:lnTo>
                  <a:pt x="401" y="3554"/>
                </a:lnTo>
                <a:lnTo>
                  <a:pt x="399" y="3554"/>
                </a:lnTo>
                <a:lnTo>
                  <a:pt x="397" y="3554"/>
                </a:lnTo>
                <a:lnTo>
                  <a:pt x="397" y="3552"/>
                </a:lnTo>
                <a:lnTo>
                  <a:pt x="395" y="3549"/>
                </a:lnTo>
                <a:lnTo>
                  <a:pt x="397" y="3549"/>
                </a:lnTo>
                <a:lnTo>
                  <a:pt x="419" y="3545"/>
                </a:lnTo>
                <a:lnTo>
                  <a:pt x="421" y="3545"/>
                </a:lnTo>
                <a:lnTo>
                  <a:pt x="437" y="3550"/>
                </a:lnTo>
                <a:lnTo>
                  <a:pt x="457" y="3554"/>
                </a:lnTo>
                <a:lnTo>
                  <a:pt x="461" y="3549"/>
                </a:lnTo>
                <a:lnTo>
                  <a:pt x="461" y="3547"/>
                </a:lnTo>
                <a:lnTo>
                  <a:pt x="461" y="3545"/>
                </a:lnTo>
                <a:lnTo>
                  <a:pt x="459" y="3543"/>
                </a:lnTo>
                <a:lnTo>
                  <a:pt x="461" y="3543"/>
                </a:lnTo>
                <a:lnTo>
                  <a:pt x="465" y="3541"/>
                </a:lnTo>
                <a:lnTo>
                  <a:pt x="468" y="3539"/>
                </a:lnTo>
                <a:lnTo>
                  <a:pt x="472" y="3539"/>
                </a:lnTo>
                <a:lnTo>
                  <a:pt x="476" y="3539"/>
                </a:lnTo>
                <a:lnTo>
                  <a:pt x="487" y="3541"/>
                </a:lnTo>
                <a:lnTo>
                  <a:pt x="488" y="3545"/>
                </a:lnTo>
                <a:lnTo>
                  <a:pt x="485" y="3549"/>
                </a:lnTo>
                <a:lnTo>
                  <a:pt x="483" y="3552"/>
                </a:lnTo>
                <a:lnTo>
                  <a:pt x="481" y="3558"/>
                </a:lnTo>
                <a:lnTo>
                  <a:pt x="477" y="3567"/>
                </a:lnTo>
                <a:lnTo>
                  <a:pt x="481" y="3563"/>
                </a:lnTo>
                <a:lnTo>
                  <a:pt x="483" y="3561"/>
                </a:lnTo>
                <a:lnTo>
                  <a:pt x="483" y="3560"/>
                </a:lnTo>
                <a:lnTo>
                  <a:pt x="483" y="3558"/>
                </a:lnTo>
                <a:lnTo>
                  <a:pt x="490" y="3554"/>
                </a:lnTo>
                <a:lnTo>
                  <a:pt x="492" y="3554"/>
                </a:lnTo>
                <a:lnTo>
                  <a:pt x="492" y="3552"/>
                </a:lnTo>
                <a:lnTo>
                  <a:pt x="494" y="3552"/>
                </a:lnTo>
                <a:lnTo>
                  <a:pt x="496" y="3550"/>
                </a:lnTo>
                <a:lnTo>
                  <a:pt x="512" y="3556"/>
                </a:lnTo>
                <a:lnTo>
                  <a:pt x="518" y="3560"/>
                </a:lnTo>
                <a:lnTo>
                  <a:pt x="518" y="3561"/>
                </a:lnTo>
                <a:lnTo>
                  <a:pt x="525" y="3563"/>
                </a:lnTo>
                <a:lnTo>
                  <a:pt x="527" y="3563"/>
                </a:lnTo>
                <a:lnTo>
                  <a:pt x="538" y="3561"/>
                </a:lnTo>
                <a:lnTo>
                  <a:pt x="529" y="3558"/>
                </a:lnTo>
                <a:lnTo>
                  <a:pt x="523" y="3554"/>
                </a:lnTo>
                <a:lnTo>
                  <a:pt x="520" y="3552"/>
                </a:lnTo>
                <a:lnTo>
                  <a:pt x="518" y="3552"/>
                </a:lnTo>
                <a:lnTo>
                  <a:pt x="516" y="3552"/>
                </a:lnTo>
                <a:lnTo>
                  <a:pt x="514" y="3552"/>
                </a:lnTo>
                <a:lnTo>
                  <a:pt x="514" y="3550"/>
                </a:lnTo>
                <a:lnTo>
                  <a:pt x="510" y="3550"/>
                </a:lnTo>
                <a:lnTo>
                  <a:pt x="510" y="3549"/>
                </a:lnTo>
                <a:lnTo>
                  <a:pt x="507" y="3547"/>
                </a:lnTo>
                <a:lnTo>
                  <a:pt x="503" y="3543"/>
                </a:lnTo>
                <a:lnTo>
                  <a:pt x="503" y="3541"/>
                </a:lnTo>
                <a:lnTo>
                  <a:pt x="501" y="3539"/>
                </a:lnTo>
                <a:lnTo>
                  <a:pt x="499" y="3538"/>
                </a:lnTo>
                <a:lnTo>
                  <a:pt x="498" y="3538"/>
                </a:lnTo>
                <a:lnTo>
                  <a:pt x="496" y="3536"/>
                </a:lnTo>
                <a:lnTo>
                  <a:pt x="490" y="3536"/>
                </a:lnTo>
                <a:lnTo>
                  <a:pt x="488" y="3536"/>
                </a:lnTo>
                <a:lnTo>
                  <a:pt x="485" y="3534"/>
                </a:lnTo>
                <a:lnTo>
                  <a:pt x="476" y="3536"/>
                </a:lnTo>
                <a:lnTo>
                  <a:pt x="472" y="3536"/>
                </a:lnTo>
                <a:lnTo>
                  <a:pt x="470" y="3534"/>
                </a:lnTo>
                <a:lnTo>
                  <a:pt x="468" y="3532"/>
                </a:lnTo>
                <a:lnTo>
                  <a:pt x="466" y="3532"/>
                </a:lnTo>
                <a:lnTo>
                  <a:pt x="463" y="3523"/>
                </a:lnTo>
                <a:lnTo>
                  <a:pt x="466" y="3521"/>
                </a:lnTo>
                <a:lnTo>
                  <a:pt x="518" y="3539"/>
                </a:lnTo>
                <a:lnTo>
                  <a:pt x="529" y="3547"/>
                </a:lnTo>
                <a:lnTo>
                  <a:pt x="536" y="3550"/>
                </a:lnTo>
                <a:lnTo>
                  <a:pt x="538" y="3550"/>
                </a:lnTo>
                <a:lnTo>
                  <a:pt x="543" y="3545"/>
                </a:lnTo>
                <a:lnTo>
                  <a:pt x="545" y="3545"/>
                </a:lnTo>
                <a:lnTo>
                  <a:pt x="543" y="3545"/>
                </a:lnTo>
                <a:lnTo>
                  <a:pt x="536" y="3543"/>
                </a:lnTo>
                <a:lnTo>
                  <a:pt x="534" y="3543"/>
                </a:lnTo>
                <a:lnTo>
                  <a:pt x="534" y="3541"/>
                </a:lnTo>
                <a:lnTo>
                  <a:pt x="534" y="3539"/>
                </a:lnTo>
                <a:lnTo>
                  <a:pt x="538" y="3536"/>
                </a:lnTo>
                <a:lnTo>
                  <a:pt x="540" y="3536"/>
                </a:lnTo>
                <a:lnTo>
                  <a:pt x="541" y="3534"/>
                </a:lnTo>
                <a:lnTo>
                  <a:pt x="543" y="3534"/>
                </a:lnTo>
                <a:lnTo>
                  <a:pt x="545" y="3532"/>
                </a:lnTo>
                <a:lnTo>
                  <a:pt x="545" y="3534"/>
                </a:lnTo>
                <a:lnTo>
                  <a:pt x="551" y="3536"/>
                </a:lnTo>
                <a:lnTo>
                  <a:pt x="554" y="3539"/>
                </a:lnTo>
                <a:lnTo>
                  <a:pt x="563" y="3550"/>
                </a:lnTo>
                <a:lnTo>
                  <a:pt x="571" y="3561"/>
                </a:lnTo>
                <a:lnTo>
                  <a:pt x="573" y="3563"/>
                </a:lnTo>
                <a:lnTo>
                  <a:pt x="574" y="3561"/>
                </a:lnTo>
                <a:lnTo>
                  <a:pt x="576" y="3556"/>
                </a:lnTo>
                <a:lnTo>
                  <a:pt x="569" y="3547"/>
                </a:lnTo>
                <a:lnTo>
                  <a:pt x="565" y="3541"/>
                </a:lnTo>
                <a:lnTo>
                  <a:pt x="563" y="3539"/>
                </a:lnTo>
                <a:lnTo>
                  <a:pt x="563" y="3538"/>
                </a:lnTo>
                <a:lnTo>
                  <a:pt x="565" y="3536"/>
                </a:lnTo>
                <a:lnTo>
                  <a:pt x="567" y="3536"/>
                </a:lnTo>
                <a:lnTo>
                  <a:pt x="571" y="3538"/>
                </a:lnTo>
                <a:lnTo>
                  <a:pt x="609" y="3547"/>
                </a:lnTo>
                <a:lnTo>
                  <a:pt x="622" y="3552"/>
                </a:lnTo>
                <a:lnTo>
                  <a:pt x="646" y="3556"/>
                </a:lnTo>
                <a:lnTo>
                  <a:pt x="646" y="3554"/>
                </a:lnTo>
                <a:lnTo>
                  <a:pt x="647" y="3554"/>
                </a:lnTo>
                <a:lnTo>
                  <a:pt x="647" y="3550"/>
                </a:lnTo>
                <a:lnTo>
                  <a:pt x="646" y="3550"/>
                </a:lnTo>
                <a:lnTo>
                  <a:pt x="646" y="3549"/>
                </a:lnTo>
                <a:lnTo>
                  <a:pt x="638" y="3547"/>
                </a:lnTo>
                <a:lnTo>
                  <a:pt x="620" y="3541"/>
                </a:lnTo>
                <a:lnTo>
                  <a:pt x="607" y="3538"/>
                </a:lnTo>
                <a:lnTo>
                  <a:pt x="571" y="3527"/>
                </a:lnTo>
                <a:lnTo>
                  <a:pt x="562" y="3525"/>
                </a:lnTo>
                <a:lnTo>
                  <a:pt x="547" y="3519"/>
                </a:lnTo>
                <a:lnTo>
                  <a:pt x="545" y="3517"/>
                </a:lnTo>
                <a:lnTo>
                  <a:pt x="543" y="3516"/>
                </a:lnTo>
                <a:lnTo>
                  <a:pt x="536" y="3501"/>
                </a:lnTo>
                <a:lnTo>
                  <a:pt x="534" y="3494"/>
                </a:lnTo>
                <a:lnTo>
                  <a:pt x="532" y="3492"/>
                </a:lnTo>
                <a:lnTo>
                  <a:pt x="532" y="3490"/>
                </a:lnTo>
                <a:lnTo>
                  <a:pt x="532" y="3488"/>
                </a:lnTo>
                <a:lnTo>
                  <a:pt x="534" y="3485"/>
                </a:lnTo>
                <a:lnTo>
                  <a:pt x="536" y="3485"/>
                </a:lnTo>
                <a:lnTo>
                  <a:pt x="558" y="3475"/>
                </a:lnTo>
                <a:lnTo>
                  <a:pt x="560" y="3475"/>
                </a:lnTo>
                <a:lnTo>
                  <a:pt x="563" y="3475"/>
                </a:lnTo>
                <a:lnTo>
                  <a:pt x="565" y="3475"/>
                </a:lnTo>
                <a:lnTo>
                  <a:pt x="567" y="3475"/>
                </a:lnTo>
                <a:lnTo>
                  <a:pt x="569" y="3475"/>
                </a:lnTo>
                <a:lnTo>
                  <a:pt x="573" y="3475"/>
                </a:lnTo>
                <a:lnTo>
                  <a:pt x="611" y="3463"/>
                </a:lnTo>
                <a:lnTo>
                  <a:pt x="613" y="3461"/>
                </a:lnTo>
                <a:lnTo>
                  <a:pt x="615" y="3461"/>
                </a:lnTo>
                <a:lnTo>
                  <a:pt x="615" y="3459"/>
                </a:lnTo>
                <a:lnTo>
                  <a:pt x="615" y="3457"/>
                </a:lnTo>
                <a:lnTo>
                  <a:pt x="615" y="3455"/>
                </a:lnTo>
                <a:lnTo>
                  <a:pt x="613" y="3448"/>
                </a:lnTo>
                <a:lnTo>
                  <a:pt x="613" y="3446"/>
                </a:lnTo>
                <a:lnTo>
                  <a:pt x="611" y="3444"/>
                </a:lnTo>
                <a:lnTo>
                  <a:pt x="593" y="3444"/>
                </a:lnTo>
                <a:lnTo>
                  <a:pt x="589" y="3444"/>
                </a:lnTo>
                <a:lnTo>
                  <a:pt x="565" y="3446"/>
                </a:lnTo>
                <a:lnTo>
                  <a:pt x="562" y="3446"/>
                </a:lnTo>
                <a:lnTo>
                  <a:pt x="560" y="3446"/>
                </a:lnTo>
                <a:lnTo>
                  <a:pt x="556" y="3448"/>
                </a:lnTo>
                <a:lnTo>
                  <a:pt x="552" y="3450"/>
                </a:lnTo>
                <a:lnTo>
                  <a:pt x="551" y="3450"/>
                </a:lnTo>
                <a:lnTo>
                  <a:pt x="549" y="3452"/>
                </a:lnTo>
                <a:lnTo>
                  <a:pt x="547" y="3452"/>
                </a:lnTo>
                <a:lnTo>
                  <a:pt x="545" y="3453"/>
                </a:lnTo>
                <a:lnTo>
                  <a:pt x="543" y="3455"/>
                </a:lnTo>
                <a:lnTo>
                  <a:pt x="530" y="3459"/>
                </a:lnTo>
                <a:lnTo>
                  <a:pt x="529" y="3459"/>
                </a:lnTo>
                <a:lnTo>
                  <a:pt x="527" y="3457"/>
                </a:lnTo>
                <a:lnTo>
                  <a:pt x="525" y="3457"/>
                </a:lnTo>
                <a:lnTo>
                  <a:pt x="523" y="3455"/>
                </a:lnTo>
                <a:lnTo>
                  <a:pt x="509" y="3450"/>
                </a:lnTo>
                <a:lnTo>
                  <a:pt x="509" y="3448"/>
                </a:lnTo>
                <a:lnTo>
                  <a:pt x="507" y="3448"/>
                </a:lnTo>
                <a:lnTo>
                  <a:pt x="505" y="3443"/>
                </a:lnTo>
                <a:lnTo>
                  <a:pt x="505" y="3441"/>
                </a:lnTo>
                <a:lnTo>
                  <a:pt x="503" y="3435"/>
                </a:lnTo>
                <a:lnTo>
                  <a:pt x="505" y="3433"/>
                </a:lnTo>
                <a:lnTo>
                  <a:pt x="507" y="3417"/>
                </a:lnTo>
                <a:lnTo>
                  <a:pt x="507" y="3415"/>
                </a:lnTo>
                <a:lnTo>
                  <a:pt x="509" y="3413"/>
                </a:lnTo>
                <a:lnTo>
                  <a:pt x="516" y="3408"/>
                </a:lnTo>
                <a:lnTo>
                  <a:pt x="518" y="3408"/>
                </a:lnTo>
                <a:lnTo>
                  <a:pt x="518" y="3410"/>
                </a:lnTo>
                <a:lnTo>
                  <a:pt x="516" y="3411"/>
                </a:lnTo>
                <a:lnTo>
                  <a:pt x="518" y="3417"/>
                </a:lnTo>
                <a:lnTo>
                  <a:pt x="520" y="3417"/>
                </a:lnTo>
                <a:lnTo>
                  <a:pt x="529" y="3415"/>
                </a:lnTo>
                <a:lnTo>
                  <a:pt x="530" y="3415"/>
                </a:lnTo>
                <a:lnTo>
                  <a:pt x="532" y="3415"/>
                </a:lnTo>
                <a:lnTo>
                  <a:pt x="534" y="3413"/>
                </a:lnTo>
                <a:lnTo>
                  <a:pt x="536" y="3413"/>
                </a:lnTo>
                <a:lnTo>
                  <a:pt x="538" y="3411"/>
                </a:lnTo>
                <a:lnTo>
                  <a:pt x="540" y="3408"/>
                </a:lnTo>
                <a:lnTo>
                  <a:pt x="541" y="3406"/>
                </a:lnTo>
                <a:lnTo>
                  <a:pt x="541" y="3404"/>
                </a:lnTo>
                <a:lnTo>
                  <a:pt x="541" y="3402"/>
                </a:lnTo>
                <a:lnTo>
                  <a:pt x="540" y="3402"/>
                </a:lnTo>
                <a:lnTo>
                  <a:pt x="525" y="3397"/>
                </a:lnTo>
                <a:lnTo>
                  <a:pt x="512" y="3391"/>
                </a:lnTo>
                <a:lnTo>
                  <a:pt x="510" y="3391"/>
                </a:lnTo>
                <a:lnTo>
                  <a:pt x="512" y="3390"/>
                </a:lnTo>
                <a:lnTo>
                  <a:pt x="516" y="3388"/>
                </a:lnTo>
                <a:lnTo>
                  <a:pt x="532" y="3386"/>
                </a:lnTo>
                <a:lnTo>
                  <a:pt x="534" y="3386"/>
                </a:lnTo>
                <a:lnTo>
                  <a:pt x="536" y="3386"/>
                </a:lnTo>
                <a:lnTo>
                  <a:pt x="540" y="3388"/>
                </a:lnTo>
                <a:lnTo>
                  <a:pt x="541" y="3390"/>
                </a:lnTo>
                <a:lnTo>
                  <a:pt x="543" y="3391"/>
                </a:lnTo>
                <a:lnTo>
                  <a:pt x="547" y="3393"/>
                </a:lnTo>
                <a:lnTo>
                  <a:pt x="547" y="3395"/>
                </a:lnTo>
                <a:lnTo>
                  <a:pt x="551" y="3397"/>
                </a:lnTo>
                <a:lnTo>
                  <a:pt x="552" y="3397"/>
                </a:lnTo>
                <a:lnTo>
                  <a:pt x="554" y="3397"/>
                </a:lnTo>
                <a:lnTo>
                  <a:pt x="556" y="3397"/>
                </a:lnTo>
                <a:lnTo>
                  <a:pt x="558" y="3397"/>
                </a:lnTo>
                <a:lnTo>
                  <a:pt x="576" y="3390"/>
                </a:lnTo>
                <a:lnTo>
                  <a:pt x="578" y="3390"/>
                </a:lnTo>
                <a:lnTo>
                  <a:pt x="580" y="3388"/>
                </a:lnTo>
                <a:lnTo>
                  <a:pt x="587" y="3379"/>
                </a:lnTo>
                <a:lnTo>
                  <a:pt x="589" y="3377"/>
                </a:lnTo>
                <a:lnTo>
                  <a:pt x="589" y="3375"/>
                </a:lnTo>
                <a:lnTo>
                  <a:pt x="589" y="3368"/>
                </a:lnTo>
                <a:lnTo>
                  <a:pt x="591" y="3366"/>
                </a:lnTo>
                <a:lnTo>
                  <a:pt x="593" y="3366"/>
                </a:lnTo>
                <a:lnTo>
                  <a:pt x="604" y="3362"/>
                </a:lnTo>
                <a:lnTo>
                  <a:pt x="607" y="3360"/>
                </a:lnTo>
                <a:lnTo>
                  <a:pt x="613" y="3366"/>
                </a:lnTo>
                <a:lnTo>
                  <a:pt x="615" y="3368"/>
                </a:lnTo>
                <a:lnTo>
                  <a:pt x="615" y="3369"/>
                </a:lnTo>
                <a:lnTo>
                  <a:pt x="615" y="3371"/>
                </a:lnTo>
                <a:lnTo>
                  <a:pt x="624" y="3379"/>
                </a:lnTo>
                <a:lnTo>
                  <a:pt x="626" y="3379"/>
                </a:lnTo>
                <a:lnTo>
                  <a:pt x="627" y="3380"/>
                </a:lnTo>
                <a:lnTo>
                  <a:pt x="629" y="3380"/>
                </a:lnTo>
                <a:lnTo>
                  <a:pt x="629" y="3382"/>
                </a:lnTo>
                <a:lnTo>
                  <a:pt x="633" y="3382"/>
                </a:lnTo>
                <a:lnTo>
                  <a:pt x="635" y="3382"/>
                </a:lnTo>
                <a:lnTo>
                  <a:pt x="637" y="3382"/>
                </a:lnTo>
                <a:lnTo>
                  <a:pt x="638" y="3382"/>
                </a:lnTo>
                <a:lnTo>
                  <a:pt x="649" y="3379"/>
                </a:lnTo>
                <a:lnTo>
                  <a:pt x="662" y="3375"/>
                </a:lnTo>
                <a:lnTo>
                  <a:pt x="662" y="3373"/>
                </a:lnTo>
                <a:lnTo>
                  <a:pt x="664" y="3373"/>
                </a:lnTo>
                <a:lnTo>
                  <a:pt x="666" y="3373"/>
                </a:lnTo>
                <a:lnTo>
                  <a:pt x="677" y="3375"/>
                </a:lnTo>
                <a:lnTo>
                  <a:pt x="684" y="3379"/>
                </a:lnTo>
                <a:close/>
                <a:moveTo>
                  <a:pt x="227" y="3439"/>
                </a:moveTo>
                <a:lnTo>
                  <a:pt x="232" y="3439"/>
                </a:lnTo>
                <a:lnTo>
                  <a:pt x="234" y="3439"/>
                </a:lnTo>
                <a:lnTo>
                  <a:pt x="242" y="3441"/>
                </a:lnTo>
                <a:lnTo>
                  <a:pt x="253" y="3446"/>
                </a:lnTo>
                <a:lnTo>
                  <a:pt x="254" y="3446"/>
                </a:lnTo>
                <a:lnTo>
                  <a:pt x="253" y="3448"/>
                </a:lnTo>
                <a:lnTo>
                  <a:pt x="251" y="3448"/>
                </a:lnTo>
                <a:lnTo>
                  <a:pt x="240" y="3448"/>
                </a:lnTo>
                <a:lnTo>
                  <a:pt x="216" y="3444"/>
                </a:lnTo>
                <a:lnTo>
                  <a:pt x="214" y="3443"/>
                </a:lnTo>
                <a:lnTo>
                  <a:pt x="214" y="3441"/>
                </a:lnTo>
                <a:lnTo>
                  <a:pt x="176" y="3419"/>
                </a:lnTo>
                <a:lnTo>
                  <a:pt x="168" y="3421"/>
                </a:lnTo>
                <a:lnTo>
                  <a:pt x="165" y="3422"/>
                </a:lnTo>
                <a:lnTo>
                  <a:pt x="159" y="3422"/>
                </a:lnTo>
                <a:lnTo>
                  <a:pt x="137" y="3422"/>
                </a:lnTo>
                <a:lnTo>
                  <a:pt x="136" y="3422"/>
                </a:lnTo>
                <a:lnTo>
                  <a:pt x="110" y="3406"/>
                </a:lnTo>
                <a:lnTo>
                  <a:pt x="95" y="3390"/>
                </a:lnTo>
                <a:lnTo>
                  <a:pt x="99" y="3386"/>
                </a:lnTo>
                <a:lnTo>
                  <a:pt x="104" y="3388"/>
                </a:lnTo>
                <a:lnTo>
                  <a:pt x="117" y="3397"/>
                </a:lnTo>
                <a:lnTo>
                  <a:pt x="123" y="3400"/>
                </a:lnTo>
                <a:lnTo>
                  <a:pt x="143" y="3408"/>
                </a:lnTo>
                <a:lnTo>
                  <a:pt x="147" y="3408"/>
                </a:lnTo>
                <a:lnTo>
                  <a:pt x="154" y="3406"/>
                </a:lnTo>
                <a:lnTo>
                  <a:pt x="163" y="3410"/>
                </a:lnTo>
                <a:lnTo>
                  <a:pt x="176" y="3413"/>
                </a:lnTo>
                <a:lnTo>
                  <a:pt x="181" y="3417"/>
                </a:lnTo>
                <a:lnTo>
                  <a:pt x="187" y="3419"/>
                </a:lnTo>
                <a:lnTo>
                  <a:pt x="194" y="3421"/>
                </a:lnTo>
                <a:lnTo>
                  <a:pt x="200" y="3421"/>
                </a:lnTo>
                <a:lnTo>
                  <a:pt x="201" y="3419"/>
                </a:lnTo>
                <a:lnTo>
                  <a:pt x="205" y="3419"/>
                </a:lnTo>
                <a:lnTo>
                  <a:pt x="222" y="3428"/>
                </a:lnTo>
                <a:lnTo>
                  <a:pt x="232" y="3435"/>
                </a:lnTo>
                <a:lnTo>
                  <a:pt x="227" y="3439"/>
                </a:lnTo>
                <a:close/>
                <a:moveTo>
                  <a:pt x="340" y="3492"/>
                </a:moveTo>
                <a:lnTo>
                  <a:pt x="339" y="3496"/>
                </a:lnTo>
                <a:lnTo>
                  <a:pt x="335" y="3497"/>
                </a:lnTo>
                <a:lnTo>
                  <a:pt x="333" y="3497"/>
                </a:lnTo>
                <a:lnTo>
                  <a:pt x="324" y="3496"/>
                </a:lnTo>
                <a:lnTo>
                  <a:pt x="318" y="3499"/>
                </a:lnTo>
                <a:lnTo>
                  <a:pt x="318" y="3507"/>
                </a:lnTo>
                <a:lnTo>
                  <a:pt x="320" y="3507"/>
                </a:lnTo>
                <a:lnTo>
                  <a:pt x="324" y="3508"/>
                </a:lnTo>
                <a:lnTo>
                  <a:pt x="328" y="3508"/>
                </a:lnTo>
                <a:lnTo>
                  <a:pt x="328" y="3514"/>
                </a:lnTo>
                <a:lnTo>
                  <a:pt x="307" y="3519"/>
                </a:lnTo>
                <a:lnTo>
                  <a:pt x="280" y="3523"/>
                </a:lnTo>
                <a:lnTo>
                  <a:pt x="275" y="3523"/>
                </a:lnTo>
                <a:lnTo>
                  <a:pt x="264" y="3519"/>
                </a:lnTo>
                <a:lnTo>
                  <a:pt x="260" y="3517"/>
                </a:lnTo>
                <a:lnTo>
                  <a:pt x="262" y="3516"/>
                </a:lnTo>
                <a:lnTo>
                  <a:pt x="273" y="3516"/>
                </a:lnTo>
                <a:lnTo>
                  <a:pt x="284" y="3510"/>
                </a:lnTo>
                <a:lnTo>
                  <a:pt x="289" y="3494"/>
                </a:lnTo>
                <a:lnTo>
                  <a:pt x="282" y="3492"/>
                </a:lnTo>
                <a:lnTo>
                  <a:pt x="262" y="3497"/>
                </a:lnTo>
                <a:lnTo>
                  <a:pt x="253" y="3503"/>
                </a:lnTo>
                <a:lnTo>
                  <a:pt x="249" y="3510"/>
                </a:lnTo>
                <a:lnTo>
                  <a:pt x="242" y="3508"/>
                </a:lnTo>
                <a:lnTo>
                  <a:pt x="238" y="3503"/>
                </a:lnTo>
                <a:lnTo>
                  <a:pt x="234" y="3497"/>
                </a:lnTo>
                <a:lnTo>
                  <a:pt x="232" y="3494"/>
                </a:lnTo>
                <a:lnTo>
                  <a:pt x="232" y="3492"/>
                </a:lnTo>
                <a:lnTo>
                  <a:pt x="238" y="3490"/>
                </a:lnTo>
                <a:lnTo>
                  <a:pt x="236" y="3483"/>
                </a:lnTo>
                <a:lnTo>
                  <a:pt x="225" y="3483"/>
                </a:lnTo>
                <a:lnTo>
                  <a:pt x="222" y="3485"/>
                </a:lnTo>
                <a:lnTo>
                  <a:pt x="218" y="3485"/>
                </a:lnTo>
                <a:lnTo>
                  <a:pt x="216" y="3485"/>
                </a:lnTo>
                <a:lnTo>
                  <a:pt x="207" y="3485"/>
                </a:lnTo>
                <a:lnTo>
                  <a:pt x="203" y="3475"/>
                </a:lnTo>
                <a:lnTo>
                  <a:pt x="203" y="3472"/>
                </a:lnTo>
                <a:lnTo>
                  <a:pt x="205" y="3470"/>
                </a:lnTo>
                <a:lnTo>
                  <a:pt x="207" y="3468"/>
                </a:lnTo>
                <a:lnTo>
                  <a:pt x="220" y="3466"/>
                </a:lnTo>
                <a:lnTo>
                  <a:pt x="222" y="3466"/>
                </a:lnTo>
                <a:lnTo>
                  <a:pt x="229" y="3470"/>
                </a:lnTo>
                <a:lnTo>
                  <a:pt x="231" y="3472"/>
                </a:lnTo>
                <a:lnTo>
                  <a:pt x="232" y="3474"/>
                </a:lnTo>
                <a:lnTo>
                  <a:pt x="234" y="3474"/>
                </a:lnTo>
                <a:lnTo>
                  <a:pt x="236" y="3475"/>
                </a:lnTo>
                <a:lnTo>
                  <a:pt x="242" y="3475"/>
                </a:lnTo>
                <a:lnTo>
                  <a:pt x="243" y="3475"/>
                </a:lnTo>
                <a:lnTo>
                  <a:pt x="249" y="3475"/>
                </a:lnTo>
                <a:lnTo>
                  <a:pt x="254" y="3475"/>
                </a:lnTo>
                <a:lnTo>
                  <a:pt x="254" y="3474"/>
                </a:lnTo>
                <a:lnTo>
                  <a:pt x="253" y="3474"/>
                </a:lnTo>
                <a:lnTo>
                  <a:pt x="251" y="3475"/>
                </a:lnTo>
                <a:lnTo>
                  <a:pt x="247" y="3475"/>
                </a:lnTo>
                <a:lnTo>
                  <a:pt x="243" y="3475"/>
                </a:lnTo>
                <a:lnTo>
                  <a:pt x="242" y="3474"/>
                </a:lnTo>
                <a:lnTo>
                  <a:pt x="236" y="3474"/>
                </a:lnTo>
                <a:lnTo>
                  <a:pt x="223" y="3461"/>
                </a:lnTo>
                <a:lnTo>
                  <a:pt x="222" y="3457"/>
                </a:lnTo>
                <a:lnTo>
                  <a:pt x="225" y="3457"/>
                </a:lnTo>
                <a:lnTo>
                  <a:pt x="229" y="3459"/>
                </a:lnTo>
                <a:lnTo>
                  <a:pt x="234" y="3461"/>
                </a:lnTo>
                <a:lnTo>
                  <a:pt x="253" y="3463"/>
                </a:lnTo>
                <a:lnTo>
                  <a:pt x="251" y="3457"/>
                </a:lnTo>
                <a:lnTo>
                  <a:pt x="245" y="3453"/>
                </a:lnTo>
                <a:lnTo>
                  <a:pt x="254" y="3452"/>
                </a:lnTo>
                <a:lnTo>
                  <a:pt x="262" y="3452"/>
                </a:lnTo>
                <a:lnTo>
                  <a:pt x="271" y="3453"/>
                </a:lnTo>
                <a:lnTo>
                  <a:pt x="278" y="3461"/>
                </a:lnTo>
                <a:lnTo>
                  <a:pt x="287" y="3463"/>
                </a:lnTo>
                <a:lnTo>
                  <a:pt x="311" y="3468"/>
                </a:lnTo>
                <a:lnTo>
                  <a:pt x="317" y="3470"/>
                </a:lnTo>
                <a:lnTo>
                  <a:pt x="335" y="3483"/>
                </a:lnTo>
                <a:lnTo>
                  <a:pt x="344" y="3490"/>
                </a:lnTo>
                <a:lnTo>
                  <a:pt x="342" y="3492"/>
                </a:lnTo>
                <a:lnTo>
                  <a:pt x="340" y="3492"/>
                </a:lnTo>
                <a:close/>
                <a:moveTo>
                  <a:pt x="737" y="3629"/>
                </a:moveTo>
                <a:lnTo>
                  <a:pt x="735" y="3629"/>
                </a:lnTo>
                <a:lnTo>
                  <a:pt x="733" y="3627"/>
                </a:lnTo>
                <a:lnTo>
                  <a:pt x="732" y="3627"/>
                </a:lnTo>
                <a:lnTo>
                  <a:pt x="730" y="3625"/>
                </a:lnTo>
                <a:lnTo>
                  <a:pt x="728" y="3625"/>
                </a:lnTo>
                <a:lnTo>
                  <a:pt x="724" y="3614"/>
                </a:lnTo>
                <a:lnTo>
                  <a:pt x="726" y="3613"/>
                </a:lnTo>
                <a:lnTo>
                  <a:pt x="722" y="3603"/>
                </a:lnTo>
                <a:lnTo>
                  <a:pt x="721" y="3605"/>
                </a:lnTo>
                <a:lnTo>
                  <a:pt x="713" y="3605"/>
                </a:lnTo>
                <a:lnTo>
                  <a:pt x="710" y="3603"/>
                </a:lnTo>
                <a:lnTo>
                  <a:pt x="708" y="3600"/>
                </a:lnTo>
                <a:lnTo>
                  <a:pt x="710" y="3598"/>
                </a:lnTo>
                <a:lnTo>
                  <a:pt x="711" y="3598"/>
                </a:lnTo>
                <a:lnTo>
                  <a:pt x="722" y="3596"/>
                </a:lnTo>
                <a:lnTo>
                  <a:pt x="724" y="3596"/>
                </a:lnTo>
                <a:lnTo>
                  <a:pt x="737" y="3596"/>
                </a:lnTo>
                <a:lnTo>
                  <a:pt x="746" y="3596"/>
                </a:lnTo>
                <a:lnTo>
                  <a:pt x="755" y="3598"/>
                </a:lnTo>
                <a:lnTo>
                  <a:pt x="765" y="3598"/>
                </a:lnTo>
                <a:lnTo>
                  <a:pt x="777" y="3598"/>
                </a:lnTo>
                <a:lnTo>
                  <a:pt x="783" y="3598"/>
                </a:lnTo>
                <a:lnTo>
                  <a:pt x="786" y="3598"/>
                </a:lnTo>
                <a:lnTo>
                  <a:pt x="797" y="3598"/>
                </a:lnTo>
                <a:lnTo>
                  <a:pt x="803" y="3598"/>
                </a:lnTo>
                <a:lnTo>
                  <a:pt x="808" y="3598"/>
                </a:lnTo>
                <a:lnTo>
                  <a:pt x="812" y="3600"/>
                </a:lnTo>
                <a:lnTo>
                  <a:pt x="816" y="3600"/>
                </a:lnTo>
                <a:lnTo>
                  <a:pt x="818" y="3600"/>
                </a:lnTo>
                <a:lnTo>
                  <a:pt x="821" y="3602"/>
                </a:lnTo>
                <a:lnTo>
                  <a:pt x="823" y="3603"/>
                </a:lnTo>
                <a:lnTo>
                  <a:pt x="825" y="3603"/>
                </a:lnTo>
                <a:lnTo>
                  <a:pt x="834" y="3613"/>
                </a:lnTo>
                <a:lnTo>
                  <a:pt x="834" y="3618"/>
                </a:lnTo>
                <a:lnTo>
                  <a:pt x="834" y="3620"/>
                </a:lnTo>
                <a:lnTo>
                  <a:pt x="832" y="3622"/>
                </a:lnTo>
                <a:lnTo>
                  <a:pt x="830" y="3623"/>
                </a:lnTo>
                <a:lnTo>
                  <a:pt x="828" y="3625"/>
                </a:lnTo>
                <a:lnTo>
                  <a:pt x="818" y="3634"/>
                </a:lnTo>
                <a:lnTo>
                  <a:pt x="816" y="3634"/>
                </a:lnTo>
                <a:lnTo>
                  <a:pt x="812" y="3634"/>
                </a:lnTo>
                <a:lnTo>
                  <a:pt x="810" y="3634"/>
                </a:lnTo>
                <a:lnTo>
                  <a:pt x="801" y="3633"/>
                </a:lnTo>
                <a:lnTo>
                  <a:pt x="799" y="3633"/>
                </a:lnTo>
                <a:lnTo>
                  <a:pt x="797" y="3633"/>
                </a:lnTo>
                <a:lnTo>
                  <a:pt x="796" y="3631"/>
                </a:lnTo>
                <a:lnTo>
                  <a:pt x="796" y="3629"/>
                </a:lnTo>
                <a:lnTo>
                  <a:pt x="797" y="3627"/>
                </a:lnTo>
                <a:lnTo>
                  <a:pt x="799" y="3627"/>
                </a:lnTo>
                <a:lnTo>
                  <a:pt x="799" y="3625"/>
                </a:lnTo>
                <a:lnTo>
                  <a:pt x="797" y="3625"/>
                </a:lnTo>
                <a:lnTo>
                  <a:pt x="796" y="3623"/>
                </a:lnTo>
                <a:lnTo>
                  <a:pt x="794" y="3622"/>
                </a:lnTo>
                <a:lnTo>
                  <a:pt x="792" y="3622"/>
                </a:lnTo>
                <a:lnTo>
                  <a:pt x="788" y="3622"/>
                </a:lnTo>
                <a:lnTo>
                  <a:pt x="786" y="3622"/>
                </a:lnTo>
                <a:lnTo>
                  <a:pt x="785" y="3622"/>
                </a:lnTo>
                <a:lnTo>
                  <a:pt x="781" y="3623"/>
                </a:lnTo>
                <a:lnTo>
                  <a:pt x="779" y="3623"/>
                </a:lnTo>
                <a:lnTo>
                  <a:pt x="779" y="3625"/>
                </a:lnTo>
                <a:lnTo>
                  <a:pt x="777" y="3627"/>
                </a:lnTo>
                <a:lnTo>
                  <a:pt x="777" y="3631"/>
                </a:lnTo>
                <a:lnTo>
                  <a:pt x="775" y="3631"/>
                </a:lnTo>
                <a:lnTo>
                  <a:pt x="763" y="3631"/>
                </a:lnTo>
                <a:lnTo>
                  <a:pt x="761" y="3631"/>
                </a:lnTo>
                <a:lnTo>
                  <a:pt x="759" y="3631"/>
                </a:lnTo>
                <a:lnTo>
                  <a:pt x="755" y="3629"/>
                </a:lnTo>
                <a:lnTo>
                  <a:pt x="755" y="3627"/>
                </a:lnTo>
                <a:lnTo>
                  <a:pt x="757" y="3627"/>
                </a:lnTo>
                <a:lnTo>
                  <a:pt x="757" y="3625"/>
                </a:lnTo>
                <a:lnTo>
                  <a:pt x="754" y="3623"/>
                </a:lnTo>
                <a:lnTo>
                  <a:pt x="752" y="3623"/>
                </a:lnTo>
                <a:lnTo>
                  <a:pt x="741" y="3627"/>
                </a:lnTo>
                <a:lnTo>
                  <a:pt x="737" y="3629"/>
                </a:lnTo>
                <a:close/>
                <a:moveTo>
                  <a:pt x="690" y="3636"/>
                </a:moveTo>
                <a:lnTo>
                  <a:pt x="680" y="3631"/>
                </a:lnTo>
                <a:lnTo>
                  <a:pt x="679" y="3629"/>
                </a:lnTo>
                <a:lnTo>
                  <a:pt x="675" y="3629"/>
                </a:lnTo>
                <a:lnTo>
                  <a:pt x="671" y="3631"/>
                </a:lnTo>
                <a:lnTo>
                  <a:pt x="686" y="3640"/>
                </a:lnTo>
                <a:lnTo>
                  <a:pt x="691" y="3638"/>
                </a:lnTo>
                <a:lnTo>
                  <a:pt x="693" y="3638"/>
                </a:lnTo>
                <a:lnTo>
                  <a:pt x="695" y="3636"/>
                </a:lnTo>
                <a:lnTo>
                  <a:pt x="699" y="3636"/>
                </a:lnTo>
                <a:lnTo>
                  <a:pt x="704" y="3636"/>
                </a:lnTo>
                <a:lnTo>
                  <a:pt x="710" y="3638"/>
                </a:lnTo>
                <a:lnTo>
                  <a:pt x="728" y="3644"/>
                </a:lnTo>
                <a:lnTo>
                  <a:pt x="737" y="3651"/>
                </a:lnTo>
                <a:lnTo>
                  <a:pt x="746" y="3662"/>
                </a:lnTo>
                <a:lnTo>
                  <a:pt x="744" y="3669"/>
                </a:lnTo>
                <a:lnTo>
                  <a:pt x="737" y="3673"/>
                </a:lnTo>
                <a:lnTo>
                  <a:pt x="737" y="3675"/>
                </a:lnTo>
                <a:lnTo>
                  <a:pt x="733" y="3675"/>
                </a:lnTo>
                <a:lnTo>
                  <a:pt x="722" y="3666"/>
                </a:lnTo>
                <a:lnTo>
                  <a:pt x="717" y="3660"/>
                </a:lnTo>
                <a:lnTo>
                  <a:pt x="719" y="3656"/>
                </a:lnTo>
                <a:lnTo>
                  <a:pt x="708" y="3651"/>
                </a:lnTo>
                <a:lnTo>
                  <a:pt x="706" y="3651"/>
                </a:lnTo>
                <a:lnTo>
                  <a:pt x="691" y="3651"/>
                </a:lnTo>
                <a:lnTo>
                  <a:pt x="684" y="3651"/>
                </a:lnTo>
                <a:lnTo>
                  <a:pt x="673" y="3651"/>
                </a:lnTo>
                <a:lnTo>
                  <a:pt x="669" y="3653"/>
                </a:lnTo>
                <a:lnTo>
                  <a:pt x="664" y="3655"/>
                </a:lnTo>
                <a:lnTo>
                  <a:pt x="662" y="3655"/>
                </a:lnTo>
                <a:lnTo>
                  <a:pt x="657" y="3653"/>
                </a:lnTo>
                <a:lnTo>
                  <a:pt x="653" y="3649"/>
                </a:lnTo>
                <a:lnTo>
                  <a:pt x="649" y="3645"/>
                </a:lnTo>
                <a:lnTo>
                  <a:pt x="653" y="3644"/>
                </a:lnTo>
                <a:lnTo>
                  <a:pt x="660" y="3627"/>
                </a:lnTo>
                <a:lnTo>
                  <a:pt x="649" y="3631"/>
                </a:lnTo>
                <a:lnTo>
                  <a:pt x="644" y="3631"/>
                </a:lnTo>
                <a:lnTo>
                  <a:pt x="633" y="3629"/>
                </a:lnTo>
                <a:lnTo>
                  <a:pt x="631" y="3629"/>
                </a:lnTo>
                <a:lnTo>
                  <a:pt x="627" y="3627"/>
                </a:lnTo>
                <a:lnTo>
                  <a:pt x="622" y="3627"/>
                </a:lnTo>
                <a:lnTo>
                  <a:pt x="611" y="3629"/>
                </a:lnTo>
                <a:lnTo>
                  <a:pt x="609" y="3633"/>
                </a:lnTo>
                <a:lnTo>
                  <a:pt x="618" y="3645"/>
                </a:lnTo>
                <a:lnTo>
                  <a:pt x="627" y="3647"/>
                </a:lnTo>
                <a:lnTo>
                  <a:pt x="633" y="3647"/>
                </a:lnTo>
                <a:lnTo>
                  <a:pt x="633" y="3653"/>
                </a:lnTo>
                <a:lnTo>
                  <a:pt x="631" y="3655"/>
                </a:lnTo>
                <a:lnTo>
                  <a:pt x="605" y="3653"/>
                </a:lnTo>
                <a:lnTo>
                  <a:pt x="600" y="3645"/>
                </a:lnTo>
                <a:lnTo>
                  <a:pt x="563" y="3627"/>
                </a:lnTo>
                <a:lnTo>
                  <a:pt x="549" y="3622"/>
                </a:lnTo>
                <a:lnTo>
                  <a:pt x="547" y="3620"/>
                </a:lnTo>
                <a:lnTo>
                  <a:pt x="551" y="3618"/>
                </a:lnTo>
                <a:lnTo>
                  <a:pt x="558" y="3613"/>
                </a:lnTo>
                <a:lnTo>
                  <a:pt x="562" y="3613"/>
                </a:lnTo>
                <a:lnTo>
                  <a:pt x="571" y="3611"/>
                </a:lnTo>
                <a:lnTo>
                  <a:pt x="574" y="3611"/>
                </a:lnTo>
                <a:lnTo>
                  <a:pt x="638" y="3603"/>
                </a:lnTo>
                <a:lnTo>
                  <a:pt x="671" y="3600"/>
                </a:lnTo>
                <a:lnTo>
                  <a:pt x="680" y="3600"/>
                </a:lnTo>
                <a:lnTo>
                  <a:pt x="693" y="3598"/>
                </a:lnTo>
                <a:lnTo>
                  <a:pt x="704" y="3602"/>
                </a:lnTo>
                <a:lnTo>
                  <a:pt x="710" y="3605"/>
                </a:lnTo>
                <a:lnTo>
                  <a:pt x="711" y="3609"/>
                </a:lnTo>
                <a:lnTo>
                  <a:pt x="711" y="3613"/>
                </a:lnTo>
                <a:lnTo>
                  <a:pt x="688" y="3620"/>
                </a:lnTo>
                <a:lnTo>
                  <a:pt x="680" y="3620"/>
                </a:lnTo>
                <a:lnTo>
                  <a:pt x="669" y="3618"/>
                </a:lnTo>
                <a:lnTo>
                  <a:pt x="664" y="3616"/>
                </a:lnTo>
                <a:lnTo>
                  <a:pt x="660" y="3614"/>
                </a:lnTo>
                <a:lnTo>
                  <a:pt x="658" y="3613"/>
                </a:lnTo>
                <a:lnTo>
                  <a:pt x="657" y="3613"/>
                </a:lnTo>
                <a:lnTo>
                  <a:pt x="647" y="3611"/>
                </a:lnTo>
                <a:lnTo>
                  <a:pt x="646" y="3613"/>
                </a:lnTo>
                <a:lnTo>
                  <a:pt x="651" y="3616"/>
                </a:lnTo>
                <a:lnTo>
                  <a:pt x="657" y="3618"/>
                </a:lnTo>
                <a:lnTo>
                  <a:pt x="668" y="3622"/>
                </a:lnTo>
                <a:lnTo>
                  <a:pt x="686" y="3623"/>
                </a:lnTo>
                <a:lnTo>
                  <a:pt x="701" y="3623"/>
                </a:lnTo>
                <a:lnTo>
                  <a:pt x="706" y="3623"/>
                </a:lnTo>
                <a:lnTo>
                  <a:pt x="717" y="3627"/>
                </a:lnTo>
                <a:lnTo>
                  <a:pt x="722" y="3631"/>
                </a:lnTo>
                <a:lnTo>
                  <a:pt x="722" y="3633"/>
                </a:lnTo>
                <a:lnTo>
                  <a:pt x="693" y="3634"/>
                </a:lnTo>
                <a:lnTo>
                  <a:pt x="690" y="3636"/>
                </a:lnTo>
                <a:close/>
              </a:path>
            </a:pathLst>
          </a:custGeom>
          <a:solidFill>
            <a:srgbClr val="b6d1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00120" y="1415880"/>
            <a:ext cx="1074960" cy="4445280"/>
          </a:xfrm>
          <a:custGeom>
            <a:avLst/>
            <a:gdLst/>
            <a:ahLst/>
            <a:rect l="l" t="t" r="r" b="b"/>
            <a:pathLst>
              <a:path w="672" h="3035">
                <a:moveTo>
                  <a:pt x="109" y="2523"/>
                </a:moveTo>
                <a:lnTo>
                  <a:pt x="109" y="2519"/>
                </a:lnTo>
                <a:lnTo>
                  <a:pt x="108" y="2523"/>
                </a:lnTo>
                <a:lnTo>
                  <a:pt x="106" y="2523"/>
                </a:lnTo>
                <a:lnTo>
                  <a:pt x="100" y="2525"/>
                </a:lnTo>
                <a:lnTo>
                  <a:pt x="91" y="2521"/>
                </a:lnTo>
                <a:lnTo>
                  <a:pt x="91" y="2507"/>
                </a:lnTo>
                <a:lnTo>
                  <a:pt x="86" y="2496"/>
                </a:lnTo>
                <a:lnTo>
                  <a:pt x="84" y="2494"/>
                </a:lnTo>
                <a:lnTo>
                  <a:pt x="87" y="2481"/>
                </a:lnTo>
                <a:lnTo>
                  <a:pt x="102" y="2461"/>
                </a:lnTo>
                <a:lnTo>
                  <a:pt x="106" y="2455"/>
                </a:lnTo>
                <a:lnTo>
                  <a:pt x="109" y="2454"/>
                </a:lnTo>
                <a:lnTo>
                  <a:pt x="111" y="2437"/>
                </a:lnTo>
                <a:lnTo>
                  <a:pt x="109" y="2433"/>
                </a:lnTo>
                <a:lnTo>
                  <a:pt x="109" y="2428"/>
                </a:lnTo>
                <a:lnTo>
                  <a:pt x="109" y="2423"/>
                </a:lnTo>
                <a:lnTo>
                  <a:pt x="109" y="2410"/>
                </a:lnTo>
                <a:lnTo>
                  <a:pt x="113" y="2404"/>
                </a:lnTo>
                <a:lnTo>
                  <a:pt x="115" y="2402"/>
                </a:lnTo>
                <a:lnTo>
                  <a:pt x="124" y="2402"/>
                </a:lnTo>
                <a:lnTo>
                  <a:pt x="126" y="2401"/>
                </a:lnTo>
                <a:lnTo>
                  <a:pt x="109" y="2382"/>
                </a:lnTo>
                <a:lnTo>
                  <a:pt x="115" y="2379"/>
                </a:lnTo>
                <a:lnTo>
                  <a:pt x="118" y="2377"/>
                </a:lnTo>
                <a:lnTo>
                  <a:pt x="133" y="2373"/>
                </a:lnTo>
                <a:lnTo>
                  <a:pt x="137" y="2375"/>
                </a:lnTo>
                <a:lnTo>
                  <a:pt x="139" y="2379"/>
                </a:lnTo>
                <a:lnTo>
                  <a:pt x="139" y="2380"/>
                </a:lnTo>
                <a:lnTo>
                  <a:pt x="148" y="2399"/>
                </a:lnTo>
                <a:lnTo>
                  <a:pt x="150" y="2401"/>
                </a:lnTo>
                <a:lnTo>
                  <a:pt x="151" y="2399"/>
                </a:lnTo>
                <a:lnTo>
                  <a:pt x="150" y="2391"/>
                </a:lnTo>
                <a:lnTo>
                  <a:pt x="144" y="2364"/>
                </a:lnTo>
                <a:lnTo>
                  <a:pt x="131" y="2357"/>
                </a:lnTo>
                <a:lnTo>
                  <a:pt x="120" y="2357"/>
                </a:lnTo>
                <a:lnTo>
                  <a:pt x="111" y="2353"/>
                </a:lnTo>
                <a:lnTo>
                  <a:pt x="108" y="2349"/>
                </a:lnTo>
                <a:lnTo>
                  <a:pt x="109" y="2346"/>
                </a:lnTo>
                <a:lnTo>
                  <a:pt x="115" y="2340"/>
                </a:lnTo>
                <a:lnTo>
                  <a:pt x="128" y="2329"/>
                </a:lnTo>
                <a:lnTo>
                  <a:pt x="133" y="2329"/>
                </a:lnTo>
                <a:lnTo>
                  <a:pt x="135" y="2329"/>
                </a:lnTo>
                <a:lnTo>
                  <a:pt x="146" y="2327"/>
                </a:lnTo>
                <a:lnTo>
                  <a:pt x="153" y="2326"/>
                </a:lnTo>
                <a:lnTo>
                  <a:pt x="157" y="2322"/>
                </a:lnTo>
                <a:lnTo>
                  <a:pt x="159" y="2320"/>
                </a:lnTo>
                <a:lnTo>
                  <a:pt x="162" y="2302"/>
                </a:lnTo>
                <a:lnTo>
                  <a:pt x="159" y="2302"/>
                </a:lnTo>
                <a:lnTo>
                  <a:pt x="155" y="2320"/>
                </a:lnTo>
                <a:lnTo>
                  <a:pt x="153" y="2322"/>
                </a:lnTo>
                <a:lnTo>
                  <a:pt x="146" y="2326"/>
                </a:lnTo>
                <a:lnTo>
                  <a:pt x="135" y="2327"/>
                </a:lnTo>
                <a:lnTo>
                  <a:pt x="133" y="2327"/>
                </a:lnTo>
                <a:lnTo>
                  <a:pt x="131" y="2327"/>
                </a:lnTo>
                <a:lnTo>
                  <a:pt x="126" y="2324"/>
                </a:lnTo>
                <a:lnTo>
                  <a:pt x="124" y="2318"/>
                </a:lnTo>
                <a:lnTo>
                  <a:pt x="120" y="2315"/>
                </a:lnTo>
                <a:lnTo>
                  <a:pt x="115" y="2309"/>
                </a:lnTo>
                <a:lnTo>
                  <a:pt x="111" y="2307"/>
                </a:lnTo>
                <a:lnTo>
                  <a:pt x="102" y="2306"/>
                </a:lnTo>
                <a:lnTo>
                  <a:pt x="95" y="2307"/>
                </a:lnTo>
                <a:lnTo>
                  <a:pt x="91" y="2309"/>
                </a:lnTo>
                <a:lnTo>
                  <a:pt x="86" y="2315"/>
                </a:lnTo>
                <a:lnTo>
                  <a:pt x="86" y="2318"/>
                </a:lnTo>
                <a:lnTo>
                  <a:pt x="87" y="2320"/>
                </a:lnTo>
                <a:lnTo>
                  <a:pt x="89" y="2326"/>
                </a:lnTo>
                <a:lnTo>
                  <a:pt x="84" y="2331"/>
                </a:lnTo>
                <a:lnTo>
                  <a:pt x="76" y="2335"/>
                </a:lnTo>
                <a:lnTo>
                  <a:pt x="73" y="2335"/>
                </a:lnTo>
                <a:lnTo>
                  <a:pt x="40" y="2333"/>
                </a:lnTo>
                <a:lnTo>
                  <a:pt x="23" y="2331"/>
                </a:lnTo>
                <a:lnTo>
                  <a:pt x="25" y="2324"/>
                </a:lnTo>
                <a:lnTo>
                  <a:pt x="12" y="2306"/>
                </a:lnTo>
                <a:lnTo>
                  <a:pt x="3" y="2276"/>
                </a:lnTo>
                <a:lnTo>
                  <a:pt x="1" y="2267"/>
                </a:lnTo>
                <a:lnTo>
                  <a:pt x="0" y="2256"/>
                </a:lnTo>
                <a:lnTo>
                  <a:pt x="5" y="2245"/>
                </a:lnTo>
                <a:lnTo>
                  <a:pt x="16" y="2223"/>
                </a:lnTo>
                <a:lnTo>
                  <a:pt x="20" y="2203"/>
                </a:lnTo>
                <a:lnTo>
                  <a:pt x="25" y="2179"/>
                </a:lnTo>
                <a:lnTo>
                  <a:pt x="27" y="2163"/>
                </a:lnTo>
                <a:lnTo>
                  <a:pt x="47" y="2150"/>
                </a:lnTo>
                <a:lnTo>
                  <a:pt x="58" y="2137"/>
                </a:lnTo>
                <a:lnTo>
                  <a:pt x="67" y="2121"/>
                </a:lnTo>
                <a:lnTo>
                  <a:pt x="71" y="2115"/>
                </a:lnTo>
                <a:lnTo>
                  <a:pt x="75" y="2106"/>
                </a:lnTo>
                <a:lnTo>
                  <a:pt x="71" y="2104"/>
                </a:lnTo>
                <a:lnTo>
                  <a:pt x="75" y="2101"/>
                </a:lnTo>
                <a:lnTo>
                  <a:pt x="73" y="2090"/>
                </a:lnTo>
                <a:lnTo>
                  <a:pt x="67" y="2075"/>
                </a:lnTo>
                <a:lnTo>
                  <a:pt x="60" y="2059"/>
                </a:lnTo>
                <a:lnTo>
                  <a:pt x="51" y="2037"/>
                </a:lnTo>
                <a:lnTo>
                  <a:pt x="47" y="2030"/>
                </a:lnTo>
                <a:lnTo>
                  <a:pt x="45" y="2022"/>
                </a:lnTo>
                <a:lnTo>
                  <a:pt x="45" y="2020"/>
                </a:lnTo>
                <a:lnTo>
                  <a:pt x="44" y="2011"/>
                </a:lnTo>
                <a:lnTo>
                  <a:pt x="44" y="2008"/>
                </a:lnTo>
                <a:lnTo>
                  <a:pt x="45" y="2002"/>
                </a:lnTo>
                <a:lnTo>
                  <a:pt x="47" y="2002"/>
                </a:lnTo>
                <a:lnTo>
                  <a:pt x="45" y="1997"/>
                </a:lnTo>
                <a:lnTo>
                  <a:pt x="47" y="1995"/>
                </a:lnTo>
                <a:lnTo>
                  <a:pt x="49" y="1993"/>
                </a:lnTo>
                <a:lnTo>
                  <a:pt x="49" y="1991"/>
                </a:lnTo>
                <a:lnTo>
                  <a:pt x="51" y="1977"/>
                </a:lnTo>
                <a:lnTo>
                  <a:pt x="51" y="1973"/>
                </a:lnTo>
                <a:lnTo>
                  <a:pt x="49" y="1967"/>
                </a:lnTo>
                <a:lnTo>
                  <a:pt x="44" y="1958"/>
                </a:lnTo>
                <a:lnTo>
                  <a:pt x="36" y="1949"/>
                </a:lnTo>
                <a:lnTo>
                  <a:pt x="31" y="1945"/>
                </a:lnTo>
                <a:lnTo>
                  <a:pt x="29" y="1933"/>
                </a:lnTo>
                <a:lnTo>
                  <a:pt x="31" y="1931"/>
                </a:lnTo>
                <a:lnTo>
                  <a:pt x="34" y="1927"/>
                </a:lnTo>
                <a:lnTo>
                  <a:pt x="36" y="1923"/>
                </a:lnTo>
                <a:lnTo>
                  <a:pt x="38" y="1920"/>
                </a:lnTo>
                <a:lnTo>
                  <a:pt x="38" y="1916"/>
                </a:lnTo>
                <a:lnTo>
                  <a:pt x="36" y="1914"/>
                </a:lnTo>
                <a:lnTo>
                  <a:pt x="34" y="1913"/>
                </a:lnTo>
                <a:lnTo>
                  <a:pt x="31" y="1911"/>
                </a:lnTo>
                <a:lnTo>
                  <a:pt x="31" y="1909"/>
                </a:lnTo>
                <a:lnTo>
                  <a:pt x="34" y="1894"/>
                </a:lnTo>
                <a:lnTo>
                  <a:pt x="34" y="1892"/>
                </a:lnTo>
                <a:lnTo>
                  <a:pt x="38" y="1889"/>
                </a:lnTo>
                <a:lnTo>
                  <a:pt x="44" y="1892"/>
                </a:lnTo>
                <a:lnTo>
                  <a:pt x="45" y="1894"/>
                </a:lnTo>
                <a:lnTo>
                  <a:pt x="53" y="1898"/>
                </a:lnTo>
                <a:lnTo>
                  <a:pt x="58" y="1898"/>
                </a:lnTo>
                <a:lnTo>
                  <a:pt x="60" y="1898"/>
                </a:lnTo>
                <a:lnTo>
                  <a:pt x="62" y="1896"/>
                </a:lnTo>
                <a:lnTo>
                  <a:pt x="67" y="1896"/>
                </a:lnTo>
                <a:lnTo>
                  <a:pt x="71" y="1894"/>
                </a:lnTo>
                <a:lnTo>
                  <a:pt x="73" y="1892"/>
                </a:lnTo>
                <a:lnTo>
                  <a:pt x="76" y="1891"/>
                </a:lnTo>
                <a:lnTo>
                  <a:pt x="76" y="1887"/>
                </a:lnTo>
                <a:lnTo>
                  <a:pt x="80" y="1880"/>
                </a:lnTo>
                <a:lnTo>
                  <a:pt x="82" y="1863"/>
                </a:lnTo>
                <a:lnTo>
                  <a:pt x="84" y="1845"/>
                </a:lnTo>
                <a:lnTo>
                  <a:pt x="86" y="1845"/>
                </a:lnTo>
                <a:lnTo>
                  <a:pt x="89" y="1847"/>
                </a:lnTo>
                <a:lnTo>
                  <a:pt x="91" y="1849"/>
                </a:lnTo>
                <a:lnTo>
                  <a:pt x="95" y="1849"/>
                </a:lnTo>
                <a:lnTo>
                  <a:pt x="97" y="1847"/>
                </a:lnTo>
                <a:lnTo>
                  <a:pt x="97" y="1845"/>
                </a:lnTo>
                <a:lnTo>
                  <a:pt x="98" y="1838"/>
                </a:lnTo>
                <a:lnTo>
                  <a:pt x="102" y="1828"/>
                </a:lnTo>
                <a:lnTo>
                  <a:pt x="108" y="1817"/>
                </a:lnTo>
                <a:lnTo>
                  <a:pt x="111" y="1810"/>
                </a:lnTo>
                <a:lnTo>
                  <a:pt x="113" y="1790"/>
                </a:lnTo>
                <a:lnTo>
                  <a:pt x="115" y="1775"/>
                </a:lnTo>
                <a:lnTo>
                  <a:pt x="117" y="1775"/>
                </a:lnTo>
                <a:lnTo>
                  <a:pt x="118" y="1774"/>
                </a:lnTo>
                <a:lnTo>
                  <a:pt x="122" y="1770"/>
                </a:lnTo>
                <a:lnTo>
                  <a:pt x="133" y="1761"/>
                </a:lnTo>
                <a:lnTo>
                  <a:pt x="135" y="1759"/>
                </a:lnTo>
                <a:lnTo>
                  <a:pt x="135" y="1757"/>
                </a:lnTo>
                <a:lnTo>
                  <a:pt x="135" y="1753"/>
                </a:lnTo>
                <a:lnTo>
                  <a:pt x="133" y="1748"/>
                </a:lnTo>
                <a:lnTo>
                  <a:pt x="129" y="1741"/>
                </a:lnTo>
                <a:lnTo>
                  <a:pt x="129" y="1737"/>
                </a:lnTo>
                <a:lnTo>
                  <a:pt x="131" y="1735"/>
                </a:lnTo>
                <a:lnTo>
                  <a:pt x="135" y="1733"/>
                </a:lnTo>
                <a:lnTo>
                  <a:pt x="142" y="1730"/>
                </a:lnTo>
                <a:lnTo>
                  <a:pt x="148" y="1717"/>
                </a:lnTo>
                <a:lnTo>
                  <a:pt x="151" y="1708"/>
                </a:lnTo>
                <a:lnTo>
                  <a:pt x="153" y="1706"/>
                </a:lnTo>
                <a:lnTo>
                  <a:pt x="157" y="1702"/>
                </a:lnTo>
                <a:lnTo>
                  <a:pt x="161" y="1700"/>
                </a:lnTo>
                <a:lnTo>
                  <a:pt x="164" y="1699"/>
                </a:lnTo>
                <a:lnTo>
                  <a:pt x="170" y="1695"/>
                </a:lnTo>
                <a:lnTo>
                  <a:pt x="172" y="1691"/>
                </a:lnTo>
                <a:lnTo>
                  <a:pt x="172" y="1686"/>
                </a:lnTo>
                <a:lnTo>
                  <a:pt x="172" y="1684"/>
                </a:lnTo>
                <a:lnTo>
                  <a:pt x="173" y="1680"/>
                </a:lnTo>
                <a:lnTo>
                  <a:pt x="173" y="1677"/>
                </a:lnTo>
                <a:lnTo>
                  <a:pt x="173" y="1671"/>
                </a:lnTo>
                <a:lnTo>
                  <a:pt x="179" y="1662"/>
                </a:lnTo>
                <a:lnTo>
                  <a:pt x="181" y="1660"/>
                </a:lnTo>
                <a:lnTo>
                  <a:pt x="182" y="1658"/>
                </a:lnTo>
                <a:lnTo>
                  <a:pt x="184" y="1653"/>
                </a:lnTo>
                <a:lnTo>
                  <a:pt x="186" y="1649"/>
                </a:lnTo>
                <a:lnTo>
                  <a:pt x="188" y="1637"/>
                </a:lnTo>
                <a:lnTo>
                  <a:pt x="186" y="1631"/>
                </a:lnTo>
                <a:lnTo>
                  <a:pt x="186" y="1626"/>
                </a:lnTo>
                <a:lnTo>
                  <a:pt x="188" y="1624"/>
                </a:lnTo>
                <a:lnTo>
                  <a:pt x="192" y="1622"/>
                </a:lnTo>
                <a:lnTo>
                  <a:pt x="193" y="1620"/>
                </a:lnTo>
                <a:lnTo>
                  <a:pt x="193" y="1615"/>
                </a:lnTo>
                <a:lnTo>
                  <a:pt x="192" y="1607"/>
                </a:lnTo>
                <a:lnTo>
                  <a:pt x="190" y="1605"/>
                </a:lnTo>
                <a:lnTo>
                  <a:pt x="190" y="1604"/>
                </a:lnTo>
                <a:lnTo>
                  <a:pt x="190" y="1600"/>
                </a:lnTo>
                <a:lnTo>
                  <a:pt x="201" y="1583"/>
                </a:lnTo>
                <a:lnTo>
                  <a:pt x="204" y="1580"/>
                </a:lnTo>
                <a:lnTo>
                  <a:pt x="204" y="1578"/>
                </a:lnTo>
                <a:lnTo>
                  <a:pt x="206" y="1571"/>
                </a:lnTo>
                <a:lnTo>
                  <a:pt x="210" y="1565"/>
                </a:lnTo>
                <a:lnTo>
                  <a:pt x="214" y="1563"/>
                </a:lnTo>
                <a:lnTo>
                  <a:pt x="215" y="1563"/>
                </a:lnTo>
                <a:lnTo>
                  <a:pt x="219" y="1562"/>
                </a:lnTo>
                <a:lnTo>
                  <a:pt x="223" y="1560"/>
                </a:lnTo>
                <a:lnTo>
                  <a:pt x="225" y="1556"/>
                </a:lnTo>
                <a:lnTo>
                  <a:pt x="225" y="1554"/>
                </a:lnTo>
                <a:lnTo>
                  <a:pt x="225" y="1551"/>
                </a:lnTo>
                <a:lnTo>
                  <a:pt x="226" y="1543"/>
                </a:lnTo>
                <a:lnTo>
                  <a:pt x="225" y="1538"/>
                </a:lnTo>
                <a:lnTo>
                  <a:pt x="221" y="1525"/>
                </a:lnTo>
                <a:lnTo>
                  <a:pt x="215" y="1499"/>
                </a:lnTo>
                <a:lnTo>
                  <a:pt x="215" y="1498"/>
                </a:lnTo>
                <a:lnTo>
                  <a:pt x="221" y="1499"/>
                </a:lnTo>
                <a:lnTo>
                  <a:pt x="234" y="1490"/>
                </a:lnTo>
                <a:lnTo>
                  <a:pt x="237" y="1481"/>
                </a:lnTo>
                <a:lnTo>
                  <a:pt x="245" y="1457"/>
                </a:lnTo>
                <a:lnTo>
                  <a:pt x="248" y="1432"/>
                </a:lnTo>
                <a:lnTo>
                  <a:pt x="236" y="1412"/>
                </a:lnTo>
                <a:lnTo>
                  <a:pt x="239" y="1392"/>
                </a:lnTo>
                <a:lnTo>
                  <a:pt x="239" y="1384"/>
                </a:lnTo>
                <a:lnTo>
                  <a:pt x="239" y="1371"/>
                </a:lnTo>
                <a:lnTo>
                  <a:pt x="234" y="1348"/>
                </a:lnTo>
                <a:lnTo>
                  <a:pt x="228" y="1328"/>
                </a:lnTo>
                <a:lnTo>
                  <a:pt x="221" y="1275"/>
                </a:lnTo>
                <a:lnTo>
                  <a:pt x="221" y="1265"/>
                </a:lnTo>
                <a:lnTo>
                  <a:pt x="221" y="1256"/>
                </a:lnTo>
                <a:lnTo>
                  <a:pt x="221" y="1251"/>
                </a:lnTo>
                <a:lnTo>
                  <a:pt x="223" y="1234"/>
                </a:lnTo>
                <a:lnTo>
                  <a:pt x="226" y="1227"/>
                </a:lnTo>
                <a:lnTo>
                  <a:pt x="228" y="1227"/>
                </a:lnTo>
                <a:lnTo>
                  <a:pt x="230" y="1229"/>
                </a:lnTo>
                <a:lnTo>
                  <a:pt x="234" y="1229"/>
                </a:lnTo>
                <a:lnTo>
                  <a:pt x="236" y="1229"/>
                </a:lnTo>
                <a:lnTo>
                  <a:pt x="239" y="1229"/>
                </a:lnTo>
                <a:lnTo>
                  <a:pt x="248" y="1220"/>
                </a:lnTo>
                <a:lnTo>
                  <a:pt x="250" y="1216"/>
                </a:lnTo>
                <a:lnTo>
                  <a:pt x="259" y="1192"/>
                </a:lnTo>
                <a:lnTo>
                  <a:pt x="259" y="1185"/>
                </a:lnTo>
                <a:lnTo>
                  <a:pt x="257" y="1183"/>
                </a:lnTo>
                <a:lnTo>
                  <a:pt x="256" y="1178"/>
                </a:lnTo>
                <a:lnTo>
                  <a:pt x="256" y="1158"/>
                </a:lnTo>
                <a:lnTo>
                  <a:pt x="257" y="1152"/>
                </a:lnTo>
                <a:lnTo>
                  <a:pt x="257" y="1148"/>
                </a:lnTo>
                <a:lnTo>
                  <a:pt x="257" y="1147"/>
                </a:lnTo>
                <a:lnTo>
                  <a:pt x="256" y="1137"/>
                </a:lnTo>
                <a:lnTo>
                  <a:pt x="254" y="1134"/>
                </a:lnTo>
                <a:lnTo>
                  <a:pt x="241" y="1123"/>
                </a:lnTo>
                <a:lnTo>
                  <a:pt x="241" y="1116"/>
                </a:lnTo>
                <a:lnTo>
                  <a:pt x="239" y="1103"/>
                </a:lnTo>
                <a:lnTo>
                  <a:pt x="239" y="1095"/>
                </a:lnTo>
                <a:lnTo>
                  <a:pt x="239" y="1094"/>
                </a:lnTo>
                <a:lnTo>
                  <a:pt x="243" y="1090"/>
                </a:lnTo>
                <a:lnTo>
                  <a:pt x="252" y="1083"/>
                </a:lnTo>
                <a:lnTo>
                  <a:pt x="259" y="1073"/>
                </a:lnTo>
                <a:lnTo>
                  <a:pt x="259" y="1068"/>
                </a:lnTo>
                <a:lnTo>
                  <a:pt x="261" y="1063"/>
                </a:lnTo>
                <a:lnTo>
                  <a:pt x="263" y="1059"/>
                </a:lnTo>
                <a:lnTo>
                  <a:pt x="265" y="1055"/>
                </a:lnTo>
                <a:lnTo>
                  <a:pt x="272" y="1042"/>
                </a:lnTo>
                <a:lnTo>
                  <a:pt x="272" y="1031"/>
                </a:lnTo>
                <a:lnTo>
                  <a:pt x="272" y="1024"/>
                </a:lnTo>
                <a:lnTo>
                  <a:pt x="274" y="1006"/>
                </a:lnTo>
                <a:lnTo>
                  <a:pt x="278" y="995"/>
                </a:lnTo>
                <a:lnTo>
                  <a:pt x="279" y="989"/>
                </a:lnTo>
                <a:lnTo>
                  <a:pt x="283" y="982"/>
                </a:lnTo>
                <a:lnTo>
                  <a:pt x="287" y="978"/>
                </a:lnTo>
                <a:lnTo>
                  <a:pt x="290" y="977"/>
                </a:lnTo>
                <a:lnTo>
                  <a:pt x="296" y="973"/>
                </a:lnTo>
                <a:lnTo>
                  <a:pt x="298" y="960"/>
                </a:lnTo>
                <a:lnTo>
                  <a:pt x="296" y="955"/>
                </a:lnTo>
                <a:lnTo>
                  <a:pt x="294" y="946"/>
                </a:lnTo>
                <a:lnTo>
                  <a:pt x="290" y="931"/>
                </a:lnTo>
                <a:lnTo>
                  <a:pt x="292" y="927"/>
                </a:lnTo>
                <a:lnTo>
                  <a:pt x="292" y="925"/>
                </a:lnTo>
                <a:lnTo>
                  <a:pt x="296" y="924"/>
                </a:lnTo>
                <a:lnTo>
                  <a:pt x="301" y="924"/>
                </a:lnTo>
                <a:lnTo>
                  <a:pt x="305" y="916"/>
                </a:lnTo>
                <a:lnTo>
                  <a:pt x="309" y="913"/>
                </a:lnTo>
                <a:lnTo>
                  <a:pt x="307" y="905"/>
                </a:lnTo>
                <a:lnTo>
                  <a:pt x="305" y="903"/>
                </a:lnTo>
                <a:lnTo>
                  <a:pt x="305" y="900"/>
                </a:lnTo>
                <a:lnTo>
                  <a:pt x="310" y="885"/>
                </a:lnTo>
                <a:lnTo>
                  <a:pt x="316" y="874"/>
                </a:lnTo>
                <a:lnTo>
                  <a:pt x="318" y="871"/>
                </a:lnTo>
                <a:lnTo>
                  <a:pt x="318" y="860"/>
                </a:lnTo>
                <a:lnTo>
                  <a:pt x="323" y="847"/>
                </a:lnTo>
                <a:lnTo>
                  <a:pt x="320" y="836"/>
                </a:lnTo>
                <a:lnTo>
                  <a:pt x="320" y="832"/>
                </a:lnTo>
                <a:lnTo>
                  <a:pt x="320" y="825"/>
                </a:lnTo>
                <a:lnTo>
                  <a:pt x="323" y="821"/>
                </a:lnTo>
                <a:lnTo>
                  <a:pt x="323" y="819"/>
                </a:lnTo>
                <a:lnTo>
                  <a:pt x="323" y="816"/>
                </a:lnTo>
                <a:lnTo>
                  <a:pt x="321" y="810"/>
                </a:lnTo>
                <a:lnTo>
                  <a:pt x="318" y="808"/>
                </a:lnTo>
                <a:lnTo>
                  <a:pt x="316" y="807"/>
                </a:lnTo>
                <a:lnTo>
                  <a:pt x="314" y="799"/>
                </a:lnTo>
                <a:lnTo>
                  <a:pt x="316" y="788"/>
                </a:lnTo>
                <a:lnTo>
                  <a:pt x="318" y="785"/>
                </a:lnTo>
                <a:lnTo>
                  <a:pt x="323" y="776"/>
                </a:lnTo>
                <a:lnTo>
                  <a:pt x="329" y="768"/>
                </a:lnTo>
                <a:lnTo>
                  <a:pt x="332" y="766"/>
                </a:lnTo>
                <a:lnTo>
                  <a:pt x="340" y="755"/>
                </a:lnTo>
                <a:lnTo>
                  <a:pt x="342" y="746"/>
                </a:lnTo>
                <a:lnTo>
                  <a:pt x="342" y="741"/>
                </a:lnTo>
                <a:lnTo>
                  <a:pt x="336" y="717"/>
                </a:lnTo>
                <a:lnTo>
                  <a:pt x="332" y="712"/>
                </a:lnTo>
                <a:lnTo>
                  <a:pt x="331" y="706"/>
                </a:lnTo>
                <a:lnTo>
                  <a:pt x="327" y="693"/>
                </a:lnTo>
                <a:lnTo>
                  <a:pt x="329" y="679"/>
                </a:lnTo>
                <a:lnTo>
                  <a:pt x="331" y="662"/>
                </a:lnTo>
                <a:lnTo>
                  <a:pt x="332" y="659"/>
                </a:lnTo>
                <a:lnTo>
                  <a:pt x="334" y="642"/>
                </a:lnTo>
                <a:lnTo>
                  <a:pt x="336" y="635"/>
                </a:lnTo>
                <a:lnTo>
                  <a:pt x="336" y="629"/>
                </a:lnTo>
                <a:lnTo>
                  <a:pt x="334" y="626"/>
                </a:lnTo>
                <a:lnTo>
                  <a:pt x="334" y="622"/>
                </a:lnTo>
                <a:lnTo>
                  <a:pt x="334" y="611"/>
                </a:lnTo>
                <a:lnTo>
                  <a:pt x="336" y="604"/>
                </a:lnTo>
                <a:lnTo>
                  <a:pt x="338" y="600"/>
                </a:lnTo>
                <a:lnTo>
                  <a:pt x="342" y="598"/>
                </a:lnTo>
                <a:lnTo>
                  <a:pt x="343" y="596"/>
                </a:lnTo>
                <a:lnTo>
                  <a:pt x="345" y="591"/>
                </a:lnTo>
                <a:lnTo>
                  <a:pt x="345" y="589"/>
                </a:lnTo>
                <a:lnTo>
                  <a:pt x="347" y="587"/>
                </a:lnTo>
                <a:lnTo>
                  <a:pt x="347" y="582"/>
                </a:lnTo>
                <a:lnTo>
                  <a:pt x="345" y="580"/>
                </a:lnTo>
                <a:lnTo>
                  <a:pt x="343" y="576"/>
                </a:lnTo>
                <a:lnTo>
                  <a:pt x="343" y="574"/>
                </a:lnTo>
                <a:lnTo>
                  <a:pt x="340" y="573"/>
                </a:lnTo>
                <a:lnTo>
                  <a:pt x="336" y="573"/>
                </a:lnTo>
                <a:lnTo>
                  <a:pt x="334" y="573"/>
                </a:lnTo>
                <a:lnTo>
                  <a:pt x="332" y="578"/>
                </a:lnTo>
                <a:lnTo>
                  <a:pt x="323" y="576"/>
                </a:lnTo>
                <a:lnTo>
                  <a:pt x="327" y="551"/>
                </a:lnTo>
                <a:lnTo>
                  <a:pt x="329" y="534"/>
                </a:lnTo>
                <a:lnTo>
                  <a:pt x="332" y="532"/>
                </a:lnTo>
                <a:lnTo>
                  <a:pt x="336" y="531"/>
                </a:lnTo>
                <a:lnTo>
                  <a:pt x="336" y="534"/>
                </a:lnTo>
                <a:lnTo>
                  <a:pt x="338" y="536"/>
                </a:lnTo>
                <a:lnTo>
                  <a:pt x="343" y="536"/>
                </a:lnTo>
                <a:lnTo>
                  <a:pt x="347" y="534"/>
                </a:lnTo>
                <a:lnTo>
                  <a:pt x="349" y="532"/>
                </a:lnTo>
                <a:lnTo>
                  <a:pt x="351" y="531"/>
                </a:lnTo>
                <a:lnTo>
                  <a:pt x="351" y="529"/>
                </a:lnTo>
                <a:lnTo>
                  <a:pt x="354" y="523"/>
                </a:lnTo>
                <a:lnTo>
                  <a:pt x="356" y="518"/>
                </a:lnTo>
                <a:lnTo>
                  <a:pt x="356" y="514"/>
                </a:lnTo>
                <a:lnTo>
                  <a:pt x="354" y="512"/>
                </a:lnTo>
                <a:lnTo>
                  <a:pt x="354" y="509"/>
                </a:lnTo>
                <a:lnTo>
                  <a:pt x="360" y="463"/>
                </a:lnTo>
                <a:lnTo>
                  <a:pt x="363" y="443"/>
                </a:lnTo>
                <a:lnTo>
                  <a:pt x="369" y="408"/>
                </a:lnTo>
                <a:lnTo>
                  <a:pt x="369" y="401"/>
                </a:lnTo>
                <a:lnTo>
                  <a:pt x="371" y="395"/>
                </a:lnTo>
                <a:lnTo>
                  <a:pt x="378" y="377"/>
                </a:lnTo>
                <a:lnTo>
                  <a:pt x="376" y="372"/>
                </a:lnTo>
                <a:lnTo>
                  <a:pt x="374" y="368"/>
                </a:lnTo>
                <a:lnTo>
                  <a:pt x="378" y="366"/>
                </a:lnTo>
                <a:lnTo>
                  <a:pt x="373" y="346"/>
                </a:lnTo>
                <a:lnTo>
                  <a:pt x="371" y="330"/>
                </a:lnTo>
                <a:lnTo>
                  <a:pt x="371" y="324"/>
                </a:lnTo>
                <a:lnTo>
                  <a:pt x="369" y="322"/>
                </a:lnTo>
                <a:lnTo>
                  <a:pt x="367" y="320"/>
                </a:lnTo>
                <a:lnTo>
                  <a:pt x="363" y="317"/>
                </a:lnTo>
                <a:lnTo>
                  <a:pt x="367" y="278"/>
                </a:lnTo>
                <a:lnTo>
                  <a:pt x="371" y="269"/>
                </a:lnTo>
                <a:lnTo>
                  <a:pt x="371" y="267"/>
                </a:lnTo>
                <a:lnTo>
                  <a:pt x="371" y="247"/>
                </a:lnTo>
                <a:lnTo>
                  <a:pt x="373" y="240"/>
                </a:lnTo>
                <a:lnTo>
                  <a:pt x="373" y="238"/>
                </a:lnTo>
                <a:lnTo>
                  <a:pt x="367" y="205"/>
                </a:lnTo>
                <a:lnTo>
                  <a:pt x="363" y="191"/>
                </a:lnTo>
                <a:lnTo>
                  <a:pt x="360" y="180"/>
                </a:lnTo>
                <a:lnTo>
                  <a:pt x="358" y="176"/>
                </a:lnTo>
                <a:lnTo>
                  <a:pt x="356" y="172"/>
                </a:lnTo>
                <a:lnTo>
                  <a:pt x="356" y="165"/>
                </a:lnTo>
                <a:lnTo>
                  <a:pt x="358" y="161"/>
                </a:lnTo>
                <a:lnTo>
                  <a:pt x="358" y="158"/>
                </a:lnTo>
                <a:lnTo>
                  <a:pt x="353" y="134"/>
                </a:lnTo>
                <a:lnTo>
                  <a:pt x="353" y="132"/>
                </a:lnTo>
                <a:lnTo>
                  <a:pt x="351" y="128"/>
                </a:lnTo>
                <a:lnTo>
                  <a:pt x="351" y="108"/>
                </a:lnTo>
                <a:lnTo>
                  <a:pt x="351" y="103"/>
                </a:lnTo>
                <a:lnTo>
                  <a:pt x="354" y="90"/>
                </a:lnTo>
                <a:lnTo>
                  <a:pt x="351" y="86"/>
                </a:lnTo>
                <a:lnTo>
                  <a:pt x="349" y="85"/>
                </a:lnTo>
                <a:lnTo>
                  <a:pt x="345" y="81"/>
                </a:lnTo>
                <a:lnTo>
                  <a:pt x="347" y="81"/>
                </a:lnTo>
                <a:lnTo>
                  <a:pt x="349" y="79"/>
                </a:lnTo>
                <a:lnTo>
                  <a:pt x="353" y="79"/>
                </a:lnTo>
                <a:lnTo>
                  <a:pt x="360" y="79"/>
                </a:lnTo>
                <a:lnTo>
                  <a:pt x="365" y="79"/>
                </a:lnTo>
                <a:lnTo>
                  <a:pt x="367" y="79"/>
                </a:lnTo>
                <a:lnTo>
                  <a:pt x="371" y="79"/>
                </a:lnTo>
                <a:lnTo>
                  <a:pt x="385" y="74"/>
                </a:lnTo>
                <a:lnTo>
                  <a:pt x="387" y="72"/>
                </a:lnTo>
                <a:lnTo>
                  <a:pt x="396" y="63"/>
                </a:lnTo>
                <a:lnTo>
                  <a:pt x="398" y="61"/>
                </a:lnTo>
                <a:lnTo>
                  <a:pt x="404" y="52"/>
                </a:lnTo>
                <a:lnTo>
                  <a:pt x="404" y="50"/>
                </a:lnTo>
                <a:lnTo>
                  <a:pt x="406" y="46"/>
                </a:lnTo>
                <a:lnTo>
                  <a:pt x="406" y="43"/>
                </a:lnTo>
                <a:lnTo>
                  <a:pt x="402" y="28"/>
                </a:lnTo>
                <a:lnTo>
                  <a:pt x="400" y="28"/>
                </a:lnTo>
                <a:lnTo>
                  <a:pt x="400" y="26"/>
                </a:lnTo>
                <a:lnTo>
                  <a:pt x="398" y="24"/>
                </a:lnTo>
                <a:lnTo>
                  <a:pt x="398" y="21"/>
                </a:lnTo>
                <a:lnTo>
                  <a:pt x="400" y="17"/>
                </a:lnTo>
                <a:lnTo>
                  <a:pt x="402" y="15"/>
                </a:lnTo>
                <a:lnTo>
                  <a:pt x="406" y="15"/>
                </a:lnTo>
                <a:lnTo>
                  <a:pt x="409" y="15"/>
                </a:lnTo>
                <a:lnTo>
                  <a:pt x="415" y="15"/>
                </a:lnTo>
                <a:lnTo>
                  <a:pt x="420" y="11"/>
                </a:lnTo>
                <a:lnTo>
                  <a:pt x="431" y="0"/>
                </a:lnTo>
                <a:lnTo>
                  <a:pt x="433" y="13"/>
                </a:lnTo>
                <a:lnTo>
                  <a:pt x="444" y="22"/>
                </a:lnTo>
                <a:lnTo>
                  <a:pt x="446" y="24"/>
                </a:lnTo>
                <a:lnTo>
                  <a:pt x="448" y="28"/>
                </a:lnTo>
                <a:lnTo>
                  <a:pt x="449" y="32"/>
                </a:lnTo>
                <a:lnTo>
                  <a:pt x="449" y="37"/>
                </a:lnTo>
                <a:lnTo>
                  <a:pt x="449" y="41"/>
                </a:lnTo>
                <a:lnTo>
                  <a:pt x="451" y="44"/>
                </a:lnTo>
                <a:lnTo>
                  <a:pt x="451" y="46"/>
                </a:lnTo>
                <a:lnTo>
                  <a:pt x="468" y="50"/>
                </a:lnTo>
                <a:lnTo>
                  <a:pt x="473" y="52"/>
                </a:lnTo>
                <a:lnTo>
                  <a:pt x="473" y="55"/>
                </a:lnTo>
                <a:lnTo>
                  <a:pt x="471" y="57"/>
                </a:lnTo>
                <a:lnTo>
                  <a:pt x="468" y="59"/>
                </a:lnTo>
                <a:lnTo>
                  <a:pt x="466" y="61"/>
                </a:lnTo>
                <a:lnTo>
                  <a:pt x="466" y="63"/>
                </a:lnTo>
                <a:lnTo>
                  <a:pt x="468" y="64"/>
                </a:lnTo>
                <a:lnTo>
                  <a:pt x="470" y="68"/>
                </a:lnTo>
                <a:lnTo>
                  <a:pt x="471" y="70"/>
                </a:lnTo>
                <a:lnTo>
                  <a:pt x="471" y="75"/>
                </a:lnTo>
                <a:lnTo>
                  <a:pt x="473" y="86"/>
                </a:lnTo>
                <a:lnTo>
                  <a:pt x="475" y="88"/>
                </a:lnTo>
                <a:lnTo>
                  <a:pt x="477" y="90"/>
                </a:lnTo>
                <a:lnTo>
                  <a:pt x="477" y="92"/>
                </a:lnTo>
                <a:lnTo>
                  <a:pt x="477" y="94"/>
                </a:lnTo>
                <a:lnTo>
                  <a:pt x="477" y="97"/>
                </a:lnTo>
                <a:lnTo>
                  <a:pt x="477" y="101"/>
                </a:lnTo>
                <a:lnTo>
                  <a:pt x="477" y="107"/>
                </a:lnTo>
                <a:lnTo>
                  <a:pt x="477" y="112"/>
                </a:lnTo>
                <a:lnTo>
                  <a:pt x="480" y="119"/>
                </a:lnTo>
                <a:lnTo>
                  <a:pt x="484" y="128"/>
                </a:lnTo>
                <a:lnTo>
                  <a:pt x="486" y="132"/>
                </a:lnTo>
                <a:lnTo>
                  <a:pt x="484" y="139"/>
                </a:lnTo>
                <a:lnTo>
                  <a:pt x="490" y="150"/>
                </a:lnTo>
                <a:lnTo>
                  <a:pt x="501" y="158"/>
                </a:lnTo>
                <a:lnTo>
                  <a:pt x="504" y="161"/>
                </a:lnTo>
                <a:lnTo>
                  <a:pt x="513" y="170"/>
                </a:lnTo>
                <a:lnTo>
                  <a:pt x="515" y="170"/>
                </a:lnTo>
                <a:lnTo>
                  <a:pt x="517" y="172"/>
                </a:lnTo>
                <a:lnTo>
                  <a:pt x="521" y="174"/>
                </a:lnTo>
                <a:lnTo>
                  <a:pt x="523" y="174"/>
                </a:lnTo>
                <a:lnTo>
                  <a:pt x="528" y="180"/>
                </a:lnTo>
                <a:lnTo>
                  <a:pt x="534" y="185"/>
                </a:lnTo>
                <a:lnTo>
                  <a:pt x="523" y="196"/>
                </a:lnTo>
                <a:lnTo>
                  <a:pt x="521" y="198"/>
                </a:lnTo>
                <a:lnTo>
                  <a:pt x="519" y="203"/>
                </a:lnTo>
                <a:lnTo>
                  <a:pt x="510" y="213"/>
                </a:lnTo>
                <a:lnTo>
                  <a:pt x="510" y="216"/>
                </a:lnTo>
                <a:lnTo>
                  <a:pt x="515" y="220"/>
                </a:lnTo>
                <a:lnTo>
                  <a:pt x="521" y="223"/>
                </a:lnTo>
                <a:lnTo>
                  <a:pt x="526" y="233"/>
                </a:lnTo>
                <a:lnTo>
                  <a:pt x="521" y="245"/>
                </a:lnTo>
                <a:lnTo>
                  <a:pt x="517" y="245"/>
                </a:lnTo>
                <a:lnTo>
                  <a:pt x="513" y="245"/>
                </a:lnTo>
                <a:lnTo>
                  <a:pt x="501" y="249"/>
                </a:lnTo>
                <a:lnTo>
                  <a:pt x="501" y="251"/>
                </a:lnTo>
                <a:lnTo>
                  <a:pt x="502" y="253"/>
                </a:lnTo>
                <a:lnTo>
                  <a:pt x="506" y="264"/>
                </a:lnTo>
                <a:lnTo>
                  <a:pt x="508" y="273"/>
                </a:lnTo>
                <a:lnTo>
                  <a:pt x="506" y="275"/>
                </a:lnTo>
                <a:lnTo>
                  <a:pt x="504" y="277"/>
                </a:lnTo>
                <a:lnTo>
                  <a:pt x="504" y="280"/>
                </a:lnTo>
                <a:lnTo>
                  <a:pt x="504" y="284"/>
                </a:lnTo>
                <a:lnTo>
                  <a:pt x="506" y="286"/>
                </a:lnTo>
                <a:lnTo>
                  <a:pt x="510" y="289"/>
                </a:lnTo>
                <a:lnTo>
                  <a:pt x="512" y="291"/>
                </a:lnTo>
                <a:lnTo>
                  <a:pt x="515" y="291"/>
                </a:lnTo>
                <a:lnTo>
                  <a:pt x="519" y="293"/>
                </a:lnTo>
                <a:lnTo>
                  <a:pt x="521" y="295"/>
                </a:lnTo>
                <a:lnTo>
                  <a:pt x="523" y="295"/>
                </a:lnTo>
                <a:lnTo>
                  <a:pt x="528" y="298"/>
                </a:lnTo>
                <a:lnTo>
                  <a:pt x="532" y="300"/>
                </a:lnTo>
                <a:lnTo>
                  <a:pt x="530" y="302"/>
                </a:lnTo>
                <a:lnTo>
                  <a:pt x="528" y="304"/>
                </a:lnTo>
                <a:lnTo>
                  <a:pt x="524" y="306"/>
                </a:lnTo>
                <a:lnTo>
                  <a:pt x="523" y="311"/>
                </a:lnTo>
                <a:lnTo>
                  <a:pt x="523" y="324"/>
                </a:lnTo>
                <a:lnTo>
                  <a:pt x="523" y="326"/>
                </a:lnTo>
                <a:lnTo>
                  <a:pt x="523" y="328"/>
                </a:lnTo>
                <a:lnTo>
                  <a:pt x="524" y="330"/>
                </a:lnTo>
                <a:lnTo>
                  <a:pt x="528" y="330"/>
                </a:lnTo>
                <a:lnTo>
                  <a:pt x="530" y="331"/>
                </a:lnTo>
                <a:lnTo>
                  <a:pt x="532" y="331"/>
                </a:lnTo>
                <a:lnTo>
                  <a:pt x="535" y="331"/>
                </a:lnTo>
                <a:lnTo>
                  <a:pt x="554" y="359"/>
                </a:lnTo>
                <a:lnTo>
                  <a:pt x="557" y="364"/>
                </a:lnTo>
                <a:lnTo>
                  <a:pt x="559" y="395"/>
                </a:lnTo>
                <a:lnTo>
                  <a:pt x="559" y="397"/>
                </a:lnTo>
                <a:lnTo>
                  <a:pt x="563" y="401"/>
                </a:lnTo>
                <a:lnTo>
                  <a:pt x="565" y="403"/>
                </a:lnTo>
                <a:lnTo>
                  <a:pt x="566" y="408"/>
                </a:lnTo>
                <a:lnTo>
                  <a:pt x="568" y="415"/>
                </a:lnTo>
                <a:lnTo>
                  <a:pt x="568" y="417"/>
                </a:lnTo>
                <a:lnTo>
                  <a:pt x="568" y="421"/>
                </a:lnTo>
                <a:lnTo>
                  <a:pt x="568" y="425"/>
                </a:lnTo>
                <a:lnTo>
                  <a:pt x="568" y="428"/>
                </a:lnTo>
                <a:lnTo>
                  <a:pt x="576" y="437"/>
                </a:lnTo>
                <a:lnTo>
                  <a:pt x="579" y="439"/>
                </a:lnTo>
                <a:lnTo>
                  <a:pt x="581" y="443"/>
                </a:lnTo>
                <a:lnTo>
                  <a:pt x="583" y="456"/>
                </a:lnTo>
                <a:lnTo>
                  <a:pt x="583" y="459"/>
                </a:lnTo>
                <a:lnTo>
                  <a:pt x="583" y="461"/>
                </a:lnTo>
                <a:lnTo>
                  <a:pt x="587" y="474"/>
                </a:lnTo>
                <a:lnTo>
                  <a:pt x="590" y="487"/>
                </a:lnTo>
                <a:lnTo>
                  <a:pt x="587" y="501"/>
                </a:lnTo>
                <a:lnTo>
                  <a:pt x="588" y="512"/>
                </a:lnTo>
                <a:lnTo>
                  <a:pt x="596" y="518"/>
                </a:lnTo>
                <a:lnTo>
                  <a:pt x="616" y="520"/>
                </a:lnTo>
                <a:lnTo>
                  <a:pt x="625" y="518"/>
                </a:lnTo>
                <a:lnTo>
                  <a:pt x="640" y="514"/>
                </a:lnTo>
                <a:lnTo>
                  <a:pt x="654" y="512"/>
                </a:lnTo>
                <a:lnTo>
                  <a:pt x="672" y="529"/>
                </a:lnTo>
                <a:lnTo>
                  <a:pt x="667" y="540"/>
                </a:lnTo>
                <a:lnTo>
                  <a:pt x="663" y="553"/>
                </a:lnTo>
                <a:lnTo>
                  <a:pt x="660" y="563"/>
                </a:lnTo>
                <a:lnTo>
                  <a:pt x="658" y="567"/>
                </a:lnTo>
                <a:lnTo>
                  <a:pt x="649" y="600"/>
                </a:lnTo>
                <a:lnTo>
                  <a:pt x="640" y="627"/>
                </a:lnTo>
                <a:lnTo>
                  <a:pt x="618" y="637"/>
                </a:lnTo>
                <a:lnTo>
                  <a:pt x="610" y="638"/>
                </a:lnTo>
                <a:lnTo>
                  <a:pt x="587" y="649"/>
                </a:lnTo>
                <a:lnTo>
                  <a:pt x="557" y="660"/>
                </a:lnTo>
                <a:lnTo>
                  <a:pt x="552" y="662"/>
                </a:lnTo>
                <a:lnTo>
                  <a:pt x="539" y="673"/>
                </a:lnTo>
                <a:lnTo>
                  <a:pt x="532" y="682"/>
                </a:lnTo>
                <a:lnTo>
                  <a:pt x="528" y="690"/>
                </a:lnTo>
                <a:lnTo>
                  <a:pt x="524" y="695"/>
                </a:lnTo>
                <a:lnTo>
                  <a:pt x="521" y="701"/>
                </a:lnTo>
                <a:lnTo>
                  <a:pt x="521" y="702"/>
                </a:lnTo>
                <a:lnTo>
                  <a:pt x="523" y="708"/>
                </a:lnTo>
                <a:lnTo>
                  <a:pt x="528" y="712"/>
                </a:lnTo>
                <a:lnTo>
                  <a:pt x="543" y="733"/>
                </a:lnTo>
                <a:lnTo>
                  <a:pt x="535" y="735"/>
                </a:lnTo>
                <a:lnTo>
                  <a:pt x="530" y="737"/>
                </a:lnTo>
                <a:lnTo>
                  <a:pt x="528" y="737"/>
                </a:lnTo>
                <a:lnTo>
                  <a:pt x="526" y="741"/>
                </a:lnTo>
                <a:lnTo>
                  <a:pt x="524" y="744"/>
                </a:lnTo>
                <a:lnTo>
                  <a:pt x="524" y="746"/>
                </a:lnTo>
                <a:lnTo>
                  <a:pt x="524" y="748"/>
                </a:lnTo>
                <a:lnTo>
                  <a:pt x="523" y="752"/>
                </a:lnTo>
                <a:lnTo>
                  <a:pt x="521" y="754"/>
                </a:lnTo>
                <a:lnTo>
                  <a:pt x="519" y="761"/>
                </a:lnTo>
                <a:lnTo>
                  <a:pt x="519" y="763"/>
                </a:lnTo>
                <a:lnTo>
                  <a:pt x="519" y="766"/>
                </a:lnTo>
                <a:lnTo>
                  <a:pt x="519" y="768"/>
                </a:lnTo>
                <a:lnTo>
                  <a:pt x="523" y="781"/>
                </a:lnTo>
                <a:lnTo>
                  <a:pt x="528" y="790"/>
                </a:lnTo>
                <a:lnTo>
                  <a:pt x="528" y="792"/>
                </a:lnTo>
                <a:lnTo>
                  <a:pt x="532" y="808"/>
                </a:lnTo>
                <a:lnTo>
                  <a:pt x="537" y="832"/>
                </a:lnTo>
                <a:lnTo>
                  <a:pt x="535" y="836"/>
                </a:lnTo>
                <a:lnTo>
                  <a:pt x="530" y="840"/>
                </a:lnTo>
                <a:lnTo>
                  <a:pt x="526" y="843"/>
                </a:lnTo>
                <a:lnTo>
                  <a:pt x="524" y="845"/>
                </a:lnTo>
                <a:lnTo>
                  <a:pt x="523" y="847"/>
                </a:lnTo>
                <a:lnTo>
                  <a:pt x="521" y="850"/>
                </a:lnTo>
                <a:lnTo>
                  <a:pt x="521" y="854"/>
                </a:lnTo>
                <a:lnTo>
                  <a:pt x="521" y="860"/>
                </a:lnTo>
                <a:lnTo>
                  <a:pt x="521" y="861"/>
                </a:lnTo>
                <a:lnTo>
                  <a:pt x="521" y="865"/>
                </a:lnTo>
                <a:lnTo>
                  <a:pt x="521" y="867"/>
                </a:lnTo>
                <a:lnTo>
                  <a:pt x="521" y="869"/>
                </a:lnTo>
                <a:lnTo>
                  <a:pt x="524" y="872"/>
                </a:lnTo>
                <a:lnTo>
                  <a:pt x="528" y="878"/>
                </a:lnTo>
                <a:lnTo>
                  <a:pt x="534" y="883"/>
                </a:lnTo>
                <a:lnTo>
                  <a:pt x="535" y="885"/>
                </a:lnTo>
                <a:lnTo>
                  <a:pt x="548" y="903"/>
                </a:lnTo>
                <a:lnTo>
                  <a:pt x="548" y="905"/>
                </a:lnTo>
                <a:lnTo>
                  <a:pt x="544" y="916"/>
                </a:lnTo>
                <a:lnTo>
                  <a:pt x="543" y="916"/>
                </a:lnTo>
                <a:lnTo>
                  <a:pt x="539" y="918"/>
                </a:lnTo>
                <a:lnTo>
                  <a:pt x="537" y="920"/>
                </a:lnTo>
                <a:lnTo>
                  <a:pt x="513" y="927"/>
                </a:lnTo>
                <a:lnTo>
                  <a:pt x="510" y="924"/>
                </a:lnTo>
                <a:lnTo>
                  <a:pt x="504" y="924"/>
                </a:lnTo>
                <a:lnTo>
                  <a:pt x="501" y="924"/>
                </a:lnTo>
                <a:lnTo>
                  <a:pt x="499" y="925"/>
                </a:lnTo>
                <a:lnTo>
                  <a:pt x="495" y="931"/>
                </a:lnTo>
                <a:lnTo>
                  <a:pt x="493" y="933"/>
                </a:lnTo>
                <a:lnTo>
                  <a:pt x="491" y="936"/>
                </a:lnTo>
                <a:lnTo>
                  <a:pt x="493" y="940"/>
                </a:lnTo>
                <a:lnTo>
                  <a:pt x="490" y="947"/>
                </a:lnTo>
                <a:lnTo>
                  <a:pt x="475" y="971"/>
                </a:lnTo>
                <a:lnTo>
                  <a:pt x="473" y="973"/>
                </a:lnTo>
                <a:lnTo>
                  <a:pt x="470" y="984"/>
                </a:lnTo>
                <a:lnTo>
                  <a:pt x="468" y="988"/>
                </a:lnTo>
                <a:lnTo>
                  <a:pt x="466" y="1000"/>
                </a:lnTo>
                <a:lnTo>
                  <a:pt x="464" y="1002"/>
                </a:lnTo>
                <a:lnTo>
                  <a:pt x="462" y="1004"/>
                </a:lnTo>
                <a:lnTo>
                  <a:pt x="462" y="1006"/>
                </a:lnTo>
                <a:lnTo>
                  <a:pt x="459" y="1008"/>
                </a:lnTo>
                <a:lnTo>
                  <a:pt x="455" y="1008"/>
                </a:lnTo>
                <a:lnTo>
                  <a:pt x="451" y="1010"/>
                </a:lnTo>
                <a:lnTo>
                  <a:pt x="449" y="1015"/>
                </a:lnTo>
                <a:lnTo>
                  <a:pt x="448" y="1019"/>
                </a:lnTo>
                <a:lnTo>
                  <a:pt x="446" y="1022"/>
                </a:lnTo>
                <a:lnTo>
                  <a:pt x="442" y="1026"/>
                </a:lnTo>
                <a:lnTo>
                  <a:pt x="429" y="1039"/>
                </a:lnTo>
                <a:lnTo>
                  <a:pt x="422" y="1044"/>
                </a:lnTo>
                <a:lnTo>
                  <a:pt x="417" y="1048"/>
                </a:lnTo>
                <a:lnTo>
                  <a:pt x="417" y="1061"/>
                </a:lnTo>
                <a:lnTo>
                  <a:pt x="417" y="1064"/>
                </a:lnTo>
                <a:lnTo>
                  <a:pt x="413" y="1066"/>
                </a:lnTo>
                <a:lnTo>
                  <a:pt x="407" y="1073"/>
                </a:lnTo>
                <a:lnTo>
                  <a:pt x="407" y="1079"/>
                </a:lnTo>
                <a:lnTo>
                  <a:pt x="409" y="1081"/>
                </a:lnTo>
                <a:lnTo>
                  <a:pt x="409" y="1083"/>
                </a:lnTo>
                <a:lnTo>
                  <a:pt x="411" y="1086"/>
                </a:lnTo>
                <a:lnTo>
                  <a:pt x="407" y="1095"/>
                </a:lnTo>
                <a:lnTo>
                  <a:pt x="404" y="1106"/>
                </a:lnTo>
                <a:lnTo>
                  <a:pt x="404" y="1112"/>
                </a:lnTo>
                <a:lnTo>
                  <a:pt x="404" y="1116"/>
                </a:lnTo>
                <a:lnTo>
                  <a:pt x="402" y="1116"/>
                </a:lnTo>
                <a:lnTo>
                  <a:pt x="400" y="1117"/>
                </a:lnTo>
                <a:lnTo>
                  <a:pt x="393" y="1119"/>
                </a:lnTo>
                <a:lnTo>
                  <a:pt x="387" y="1125"/>
                </a:lnTo>
                <a:lnTo>
                  <a:pt x="382" y="1134"/>
                </a:lnTo>
                <a:lnTo>
                  <a:pt x="380" y="1139"/>
                </a:lnTo>
                <a:lnTo>
                  <a:pt x="382" y="1141"/>
                </a:lnTo>
                <a:lnTo>
                  <a:pt x="384" y="1147"/>
                </a:lnTo>
                <a:lnTo>
                  <a:pt x="387" y="1158"/>
                </a:lnTo>
                <a:lnTo>
                  <a:pt x="387" y="1159"/>
                </a:lnTo>
                <a:lnTo>
                  <a:pt x="387" y="1163"/>
                </a:lnTo>
                <a:lnTo>
                  <a:pt x="387" y="1167"/>
                </a:lnTo>
                <a:lnTo>
                  <a:pt x="387" y="1169"/>
                </a:lnTo>
                <a:lnTo>
                  <a:pt x="387" y="1170"/>
                </a:lnTo>
                <a:lnTo>
                  <a:pt x="389" y="1172"/>
                </a:lnTo>
                <a:lnTo>
                  <a:pt x="391" y="1174"/>
                </a:lnTo>
                <a:lnTo>
                  <a:pt x="393" y="1174"/>
                </a:lnTo>
                <a:lnTo>
                  <a:pt x="393" y="1183"/>
                </a:lnTo>
                <a:lnTo>
                  <a:pt x="393" y="1194"/>
                </a:lnTo>
                <a:lnTo>
                  <a:pt x="391" y="1200"/>
                </a:lnTo>
                <a:lnTo>
                  <a:pt x="391" y="1201"/>
                </a:lnTo>
                <a:lnTo>
                  <a:pt x="396" y="1212"/>
                </a:lnTo>
                <a:lnTo>
                  <a:pt x="398" y="1212"/>
                </a:lnTo>
                <a:lnTo>
                  <a:pt x="400" y="1216"/>
                </a:lnTo>
                <a:lnTo>
                  <a:pt x="400" y="1220"/>
                </a:lnTo>
                <a:lnTo>
                  <a:pt x="393" y="1233"/>
                </a:lnTo>
                <a:lnTo>
                  <a:pt x="389" y="1238"/>
                </a:lnTo>
                <a:lnTo>
                  <a:pt x="384" y="1240"/>
                </a:lnTo>
                <a:lnTo>
                  <a:pt x="382" y="1240"/>
                </a:lnTo>
                <a:lnTo>
                  <a:pt x="378" y="1240"/>
                </a:lnTo>
                <a:lnTo>
                  <a:pt x="371" y="1243"/>
                </a:lnTo>
                <a:lnTo>
                  <a:pt x="363" y="1256"/>
                </a:lnTo>
                <a:lnTo>
                  <a:pt x="360" y="1264"/>
                </a:lnTo>
                <a:lnTo>
                  <a:pt x="358" y="1267"/>
                </a:lnTo>
                <a:lnTo>
                  <a:pt x="353" y="1280"/>
                </a:lnTo>
                <a:lnTo>
                  <a:pt x="353" y="1287"/>
                </a:lnTo>
                <a:lnTo>
                  <a:pt x="353" y="1291"/>
                </a:lnTo>
                <a:lnTo>
                  <a:pt x="353" y="1293"/>
                </a:lnTo>
                <a:lnTo>
                  <a:pt x="356" y="1297"/>
                </a:lnTo>
                <a:lnTo>
                  <a:pt x="356" y="1300"/>
                </a:lnTo>
                <a:lnTo>
                  <a:pt x="349" y="1307"/>
                </a:lnTo>
                <a:lnTo>
                  <a:pt x="342" y="1309"/>
                </a:lnTo>
                <a:lnTo>
                  <a:pt x="340" y="1307"/>
                </a:lnTo>
                <a:lnTo>
                  <a:pt x="334" y="1313"/>
                </a:lnTo>
                <a:lnTo>
                  <a:pt x="332" y="1315"/>
                </a:lnTo>
                <a:lnTo>
                  <a:pt x="331" y="1329"/>
                </a:lnTo>
                <a:lnTo>
                  <a:pt x="327" y="1351"/>
                </a:lnTo>
                <a:lnTo>
                  <a:pt x="340" y="1377"/>
                </a:lnTo>
                <a:lnTo>
                  <a:pt x="342" y="1379"/>
                </a:lnTo>
                <a:lnTo>
                  <a:pt x="342" y="1381"/>
                </a:lnTo>
                <a:lnTo>
                  <a:pt x="343" y="1382"/>
                </a:lnTo>
                <a:lnTo>
                  <a:pt x="347" y="1382"/>
                </a:lnTo>
                <a:lnTo>
                  <a:pt x="351" y="1382"/>
                </a:lnTo>
                <a:lnTo>
                  <a:pt x="354" y="1382"/>
                </a:lnTo>
                <a:lnTo>
                  <a:pt x="356" y="1384"/>
                </a:lnTo>
                <a:lnTo>
                  <a:pt x="362" y="1388"/>
                </a:lnTo>
                <a:lnTo>
                  <a:pt x="362" y="1390"/>
                </a:lnTo>
                <a:lnTo>
                  <a:pt x="358" y="1399"/>
                </a:lnTo>
                <a:lnTo>
                  <a:pt x="354" y="1399"/>
                </a:lnTo>
                <a:lnTo>
                  <a:pt x="351" y="1403"/>
                </a:lnTo>
                <a:lnTo>
                  <a:pt x="353" y="1415"/>
                </a:lnTo>
                <a:lnTo>
                  <a:pt x="353" y="1419"/>
                </a:lnTo>
                <a:lnTo>
                  <a:pt x="354" y="1421"/>
                </a:lnTo>
                <a:lnTo>
                  <a:pt x="360" y="1424"/>
                </a:lnTo>
                <a:lnTo>
                  <a:pt x="362" y="1426"/>
                </a:lnTo>
                <a:lnTo>
                  <a:pt x="369" y="1439"/>
                </a:lnTo>
                <a:lnTo>
                  <a:pt x="369" y="1443"/>
                </a:lnTo>
                <a:lnTo>
                  <a:pt x="369" y="1446"/>
                </a:lnTo>
                <a:lnTo>
                  <a:pt x="367" y="1450"/>
                </a:lnTo>
                <a:lnTo>
                  <a:pt x="367" y="1454"/>
                </a:lnTo>
                <a:lnTo>
                  <a:pt x="369" y="1467"/>
                </a:lnTo>
                <a:lnTo>
                  <a:pt x="380" y="1476"/>
                </a:lnTo>
                <a:lnTo>
                  <a:pt x="384" y="1477"/>
                </a:lnTo>
                <a:lnTo>
                  <a:pt x="382" y="1485"/>
                </a:lnTo>
                <a:lnTo>
                  <a:pt x="376" y="1490"/>
                </a:lnTo>
                <a:lnTo>
                  <a:pt x="374" y="1496"/>
                </a:lnTo>
                <a:lnTo>
                  <a:pt x="376" y="1498"/>
                </a:lnTo>
                <a:lnTo>
                  <a:pt x="374" y="1501"/>
                </a:lnTo>
                <a:lnTo>
                  <a:pt x="374" y="1505"/>
                </a:lnTo>
                <a:lnTo>
                  <a:pt x="374" y="1507"/>
                </a:lnTo>
                <a:lnTo>
                  <a:pt x="384" y="1520"/>
                </a:lnTo>
                <a:lnTo>
                  <a:pt x="385" y="1518"/>
                </a:lnTo>
                <a:lnTo>
                  <a:pt x="387" y="1516"/>
                </a:lnTo>
                <a:lnTo>
                  <a:pt x="391" y="1514"/>
                </a:lnTo>
                <a:lnTo>
                  <a:pt x="393" y="1512"/>
                </a:lnTo>
                <a:lnTo>
                  <a:pt x="396" y="1514"/>
                </a:lnTo>
                <a:lnTo>
                  <a:pt x="402" y="1518"/>
                </a:lnTo>
                <a:lnTo>
                  <a:pt x="406" y="1527"/>
                </a:lnTo>
                <a:lnTo>
                  <a:pt x="404" y="1530"/>
                </a:lnTo>
                <a:lnTo>
                  <a:pt x="402" y="1532"/>
                </a:lnTo>
                <a:lnTo>
                  <a:pt x="396" y="1543"/>
                </a:lnTo>
                <a:lnTo>
                  <a:pt x="393" y="1565"/>
                </a:lnTo>
                <a:lnTo>
                  <a:pt x="393" y="1569"/>
                </a:lnTo>
                <a:lnTo>
                  <a:pt x="398" y="1596"/>
                </a:lnTo>
                <a:lnTo>
                  <a:pt x="402" y="1609"/>
                </a:lnTo>
                <a:lnTo>
                  <a:pt x="395" y="1613"/>
                </a:lnTo>
                <a:lnTo>
                  <a:pt x="391" y="1613"/>
                </a:lnTo>
                <a:lnTo>
                  <a:pt x="387" y="1613"/>
                </a:lnTo>
                <a:lnTo>
                  <a:pt x="385" y="1613"/>
                </a:lnTo>
                <a:lnTo>
                  <a:pt x="382" y="1613"/>
                </a:lnTo>
                <a:lnTo>
                  <a:pt x="380" y="1615"/>
                </a:lnTo>
                <a:lnTo>
                  <a:pt x="378" y="1615"/>
                </a:lnTo>
                <a:lnTo>
                  <a:pt x="378" y="1620"/>
                </a:lnTo>
                <a:lnTo>
                  <a:pt x="380" y="1626"/>
                </a:lnTo>
                <a:lnTo>
                  <a:pt x="369" y="1637"/>
                </a:lnTo>
                <a:lnTo>
                  <a:pt x="362" y="1649"/>
                </a:lnTo>
                <a:lnTo>
                  <a:pt x="354" y="1668"/>
                </a:lnTo>
                <a:lnTo>
                  <a:pt x="349" y="1682"/>
                </a:lnTo>
                <a:lnTo>
                  <a:pt x="349" y="1691"/>
                </a:lnTo>
                <a:lnTo>
                  <a:pt x="349" y="1697"/>
                </a:lnTo>
                <a:lnTo>
                  <a:pt x="347" y="1699"/>
                </a:lnTo>
                <a:lnTo>
                  <a:pt x="340" y="1702"/>
                </a:lnTo>
                <a:lnTo>
                  <a:pt x="338" y="1702"/>
                </a:lnTo>
                <a:lnTo>
                  <a:pt x="334" y="1702"/>
                </a:lnTo>
                <a:lnTo>
                  <a:pt x="332" y="1702"/>
                </a:lnTo>
                <a:lnTo>
                  <a:pt x="329" y="1706"/>
                </a:lnTo>
                <a:lnTo>
                  <a:pt x="329" y="1708"/>
                </a:lnTo>
                <a:lnTo>
                  <a:pt x="331" y="1711"/>
                </a:lnTo>
                <a:lnTo>
                  <a:pt x="332" y="1711"/>
                </a:lnTo>
                <a:lnTo>
                  <a:pt x="343" y="1717"/>
                </a:lnTo>
                <a:lnTo>
                  <a:pt x="345" y="1732"/>
                </a:lnTo>
                <a:lnTo>
                  <a:pt x="345" y="1741"/>
                </a:lnTo>
                <a:lnTo>
                  <a:pt x="351" y="1761"/>
                </a:lnTo>
                <a:lnTo>
                  <a:pt x="347" y="1763"/>
                </a:lnTo>
                <a:lnTo>
                  <a:pt x="345" y="1766"/>
                </a:lnTo>
                <a:lnTo>
                  <a:pt x="343" y="1768"/>
                </a:lnTo>
                <a:lnTo>
                  <a:pt x="345" y="1775"/>
                </a:lnTo>
                <a:lnTo>
                  <a:pt x="345" y="1786"/>
                </a:lnTo>
                <a:lnTo>
                  <a:pt x="343" y="1792"/>
                </a:lnTo>
                <a:lnTo>
                  <a:pt x="336" y="1794"/>
                </a:lnTo>
                <a:lnTo>
                  <a:pt x="327" y="1794"/>
                </a:lnTo>
                <a:lnTo>
                  <a:pt x="316" y="1805"/>
                </a:lnTo>
                <a:lnTo>
                  <a:pt x="314" y="1812"/>
                </a:lnTo>
                <a:lnTo>
                  <a:pt x="316" y="1816"/>
                </a:lnTo>
                <a:lnTo>
                  <a:pt x="316" y="1817"/>
                </a:lnTo>
                <a:lnTo>
                  <a:pt x="292" y="1825"/>
                </a:lnTo>
                <a:lnTo>
                  <a:pt x="289" y="1825"/>
                </a:lnTo>
                <a:lnTo>
                  <a:pt x="287" y="1825"/>
                </a:lnTo>
                <a:lnTo>
                  <a:pt x="283" y="1830"/>
                </a:lnTo>
                <a:lnTo>
                  <a:pt x="270" y="1860"/>
                </a:lnTo>
                <a:lnTo>
                  <a:pt x="274" y="1872"/>
                </a:lnTo>
                <a:lnTo>
                  <a:pt x="278" y="1885"/>
                </a:lnTo>
                <a:lnTo>
                  <a:pt x="276" y="1892"/>
                </a:lnTo>
                <a:lnTo>
                  <a:pt x="274" y="1898"/>
                </a:lnTo>
                <a:lnTo>
                  <a:pt x="276" y="1916"/>
                </a:lnTo>
                <a:lnTo>
                  <a:pt x="278" y="1918"/>
                </a:lnTo>
                <a:lnTo>
                  <a:pt x="276" y="1931"/>
                </a:lnTo>
                <a:lnTo>
                  <a:pt x="272" y="1933"/>
                </a:lnTo>
                <a:lnTo>
                  <a:pt x="270" y="1934"/>
                </a:lnTo>
                <a:lnTo>
                  <a:pt x="270" y="1938"/>
                </a:lnTo>
                <a:lnTo>
                  <a:pt x="270" y="1942"/>
                </a:lnTo>
                <a:lnTo>
                  <a:pt x="272" y="1945"/>
                </a:lnTo>
                <a:lnTo>
                  <a:pt x="276" y="1955"/>
                </a:lnTo>
                <a:lnTo>
                  <a:pt x="279" y="1960"/>
                </a:lnTo>
                <a:lnTo>
                  <a:pt x="289" y="1978"/>
                </a:lnTo>
                <a:lnTo>
                  <a:pt x="287" y="1986"/>
                </a:lnTo>
                <a:lnTo>
                  <a:pt x="287" y="1991"/>
                </a:lnTo>
                <a:lnTo>
                  <a:pt x="287" y="1993"/>
                </a:lnTo>
                <a:lnTo>
                  <a:pt x="287" y="1998"/>
                </a:lnTo>
                <a:lnTo>
                  <a:pt x="290" y="2011"/>
                </a:lnTo>
                <a:lnTo>
                  <a:pt x="292" y="2015"/>
                </a:lnTo>
                <a:lnTo>
                  <a:pt x="296" y="2017"/>
                </a:lnTo>
                <a:lnTo>
                  <a:pt x="299" y="2019"/>
                </a:lnTo>
                <a:lnTo>
                  <a:pt x="303" y="2020"/>
                </a:lnTo>
                <a:lnTo>
                  <a:pt x="305" y="2024"/>
                </a:lnTo>
                <a:lnTo>
                  <a:pt x="303" y="2028"/>
                </a:lnTo>
                <a:lnTo>
                  <a:pt x="301" y="2037"/>
                </a:lnTo>
                <a:lnTo>
                  <a:pt x="296" y="2042"/>
                </a:lnTo>
                <a:lnTo>
                  <a:pt x="292" y="2042"/>
                </a:lnTo>
                <a:lnTo>
                  <a:pt x="289" y="2042"/>
                </a:lnTo>
                <a:lnTo>
                  <a:pt x="285" y="2042"/>
                </a:lnTo>
                <a:lnTo>
                  <a:pt x="283" y="2042"/>
                </a:lnTo>
                <a:lnTo>
                  <a:pt x="278" y="2044"/>
                </a:lnTo>
                <a:lnTo>
                  <a:pt x="265" y="2051"/>
                </a:lnTo>
                <a:lnTo>
                  <a:pt x="256" y="2055"/>
                </a:lnTo>
                <a:lnTo>
                  <a:pt x="254" y="2057"/>
                </a:lnTo>
                <a:lnTo>
                  <a:pt x="250" y="2059"/>
                </a:lnTo>
                <a:lnTo>
                  <a:pt x="248" y="2061"/>
                </a:lnTo>
                <a:lnTo>
                  <a:pt x="246" y="2062"/>
                </a:lnTo>
                <a:lnTo>
                  <a:pt x="246" y="2068"/>
                </a:lnTo>
                <a:lnTo>
                  <a:pt x="246" y="2072"/>
                </a:lnTo>
                <a:lnTo>
                  <a:pt x="248" y="2073"/>
                </a:lnTo>
                <a:lnTo>
                  <a:pt x="248" y="2079"/>
                </a:lnTo>
                <a:lnTo>
                  <a:pt x="250" y="2090"/>
                </a:lnTo>
                <a:lnTo>
                  <a:pt x="248" y="2099"/>
                </a:lnTo>
                <a:lnTo>
                  <a:pt x="241" y="2125"/>
                </a:lnTo>
                <a:lnTo>
                  <a:pt x="239" y="2126"/>
                </a:lnTo>
                <a:lnTo>
                  <a:pt x="230" y="2126"/>
                </a:lnTo>
                <a:lnTo>
                  <a:pt x="228" y="2126"/>
                </a:lnTo>
                <a:lnTo>
                  <a:pt x="223" y="2121"/>
                </a:lnTo>
                <a:lnTo>
                  <a:pt x="221" y="2123"/>
                </a:lnTo>
                <a:lnTo>
                  <a:pt x="219" y="2126"/>
                </a:lnTo>
                <a:lnTo>
                  <a:pt x="219" y="2137"/>
                </a:lnTo>
                <a:lnTo>
                  <a:pt x="223" y="2148"/>
                </a:lnTo>
                <a:lnTo>
                  <a:pt x="226" y="2157"/>
                </a:lnTo>
                <a:lnTo>
                  <a:pt x="223" y="2168"/>
                </a:lnTo>
                <a:lnTo>
                  <a:pt x="215" y="2172"/>
                </a:lnTo>
                <a:lnTo>
                  <a:pt x="212" y="2174"/>
                </a:lnTo>
                <a:lnTo>
                  <a:pt x="208" y="2183"/>
                </a:lnTo>
                <a:lnTo>
                  <a:pt x="212" y="2187"/>
                </a:lnTo>
                <a:lnTo>
                  <a:pt x="219" y="2192"/>
                </a:lnTo>
                <a:lnTo>
                  <a:pt x="221" y="2190"/>
                </a:lnTo>
                <a:lnTo>
                  <a:pt x="223" y="2192"/>
                </a:lnTo>
                <a:lnTo>
                  <a:pt x="225" y="2196"/>
                </a:lnTo>
                <a:lnTo>
                  <a:pt x="221" y="2201"/>
                </a:lnTo>
                <a:lnTo>
                  <a:pt x="219" y="2203"/>
                </a:lnTo>
                <a:lnTo>
                  <a:pt x="217" y="2205"/>
                </a:lnTo>
                <a:lnTo>
                  <a:pt x="215" y="2203"/>
                </a:lnTo>
                <a:lnTo>
                  <a:pt x="212" y="2203"/>
                </a:lnTo>
                <a:lnTo>
                  <a:pt x="206" y="2214"/>
                </a:lnTo>
                <a:lnTo>
                  <a:pt x="206" y="2218"/>
                </a:lnTo>
                <a:lnTo>
                  <a:pt x="206" y="2221"/>
                </a:lnTo>
                <a:lnTo>
                  <a:pt x="204" y="2225"/>
                </a:lnTo>
                <a:lnTo>
                  <a:pt x="203" y="2227"/>
                </a:lnTo>
                <a:lnTo>
                  <a:pt x="201" y="2229"/>
                </a:lnTo>
                <a:lnTo>
                  <a:pt x="199" y="2231"/>
                </a:lnTo>
                <a:lnTo>
                  <a:pt x="197" y="2232"/>
                </a:lnTo>
                <a:lnTo>
                  <a:pt x="199" y="2240"/>
                </a:lnTo>
                <a:lnTo>
                  <a:pt x="204" y="2249"/>
                </a:lnTo>
                <a:lnTo>
                  <a:pt x="206" y="2251"/>
                </a:lnTo>
                <a:lnTo>
                  <a:pt x="206" y="2254"/>
                </a:lnTo>
                <a:lnTo>
                  <a:pt x="204" y="2260"/>
                </a:lnTo>
                <a:lnTo>
                  <a:pt x="206" y="2265"/>
                </a:lnTo>
                <a:lnTo>
                  <a:pt x="204" y="2282"/>
                </a:lnTo>
                <a:lnTo>
                  <a:pt x="204" y="2285"/>
                </a:lnTo>
                <a:lnTo>
                  <a:pt x="204" y="2300"/>
                </a:lnTo>
                <a:lnTo>
                  <a:pt x="206" y="2313"/>
                </a:lnTo>
                <a:lnTo>
                  <a:pt x="203" y="2317"/>
                </a:lnTo>
                <a:lnTo>
                  <a:pt x="199" y="2318"/>
                </a:lnTo>
                <a:lnTo>
                  <a:pt x="199" y="2322"/>
                </a:lnTo>
                <a:lnTo>
                  <a:pt x="206" y="2333"/>
                </a:lnTo>
                <a:lnTo>
                  <a:pt x="212" y="2342"/>
                </a:lnTo>
                <a:lnTo>
                  <a:pt x="214" y="2344"/>
                </a:lnTo>
                <a:lnTo>
                  <a:pt x="214" y="2349"/>
                </a:lnTo>
                <a:lnTo>
                  <a:pt x="215" y="2355"/>
                </a:lnTo>
                <a:lnTo>
                  <a:pt x="217" y="2359"/>
                </a:lnTo>
                <a:lnTo>
                  <a:pt x="217" y="2364"/>
                </a:lnTo>
                <a:lnTo>
                  <a:pt x="214" y="2368"/>
                </a:lnTo>
                <a:lnTo>
                  <a:pt x="201" y="2373"/>
                </a:lnTo>
                <a:lnTo>
                  <a:pt x="197" y="2371"/>
                </a:lnTo>
                <a:lnTo>
                  <a:pt x="197" y="2370"/>
                </a:lnTo>
                <a:lnTo>
                  <a:pt x="195" y="2368"/>
                </a:lnTo>
                <a:lnTo>
                  <a:pt x="192" y="2368"/>
                </a:lnTo>
                <a:lnTo>
                  <a:pt x="190" y="2368"/>
                </a:lnTo>
                <a:lnTo>
                  <a:pt x="188" y="2370"/>
                </a:lnTo>
                <a:lnTo>
                  <a:pt x="179" y="2382"/>
                </a:lnTo>
                <a:lnTo>
                  <a:pt x="181" y="2386"/>
                </a:lnTo>
                <a:lnTo>
                  <a:pt x="184" y="2388"/>
                </a:lnTo>
                <a:lnTo>
                  <a:pt x="186" y="2390"/>
                </a:lnTo>
                <a:lnTo>
                  <a:pt x="188" y="2391"/>
                </a:lnTo>
                <a:lnTo>
                  <a:pt x="181" y="2406"/>
                </a:lnTo>
                <a:lnTo>
                  <a:pt x="179" y="2408"/>
                </a:lnTo>
                <a:lnTo>
                  <a:pt x="179" y="2410"/>
                </a:lnTo>
                <a:lnTo>
                  <a:pt x="179" y="2412"/>
                </a:lnTo>
                <a:lnTo>
                  <a:pt x="179" y="2419"/>
                </a:lnTo>
                <a:lnTo>
                  <a:pt x="181" y="2424"/>
                </a:lnTo>
                <a:lnTo>
                  <a:pt x="181" y="2428"/>
                </a:lnTo>
                <a:lnTo>
                  <a:pt x="182" y="2437"/>
                </a:lnTo>
                <a:lnTo>
                  <a:pt x="181" y="2441"/>
                </a:lnTo>
                <a:lnTo>
                  <a:pt x="181" y="2443"/>
                </a:lnTo>
                <a:lnTo>
                  <a:pt x="179" y="2446"/>
                </a:lnTo>
                <a:lnTo>
                  <a:pt x="179" y="2448"/>
                </a:lnTo>
                <a:lnTo>
                  <a:pt x="179" y="2452"/>
                </a:lnTo>
                <a:lnTo>
                  <a:pt x="181" y="2455"/>
                </a:lnTo>
                <a:lnTo>
                  <a:pt x="184" y="2461"/>
                </a:lnTo>
                <a:lnTo>
                  <a:pt x="186" y="2461"/>
                </a:lnTo>
                <a:lnTo>
                  <a:pt x="192" y="2463"/>
                </a:lnTo>
                <a:lnTo>
                  <a:pt x="195" y="2463"/>
                </a:lnTo>
                <a:lnTo>
                  <a:pt x="199" y="2463"/>
                </a:lnTo>
                <a:lnTo>
                  <a:pt x="204" y="2465"/>
                </a:lnTo>
                <a:lnTo>
                  <a:pt x="208" y="2465"/>
                </a:lnTo>
                <a:lnTo>
                  <a:pt x="217" y="2468"/>
                </a:lnTo>
                <a:lnTo>
                  <a:pt x="217" y="2479"/>
                </a:lnTo>
                <a:lnTo>
                  <a:pt x="217" y="2481"/>
                </a:lnTo>
                <a:lnTo>
                  <a:pt x="215" y="2481"/>
                </a:lnTo>
                <a:lnTo>
                  <a:pt x="212" y="2481"/>
                </a:lnTo>
                <a:lnTo>
                  <a:pt x="201" y="2483"/>
                </a:lnTo>
                <a:lnTo>
                  <a:pt x="199" y="2488"/>
                </a:lnTo>
                <a:lnTo>
                  <a:pt x="197" y="2496"/>
                </a:lnTo>
                <a:lnTo>
                  <a:pt x="206" y="2499"/>
                </a:lnTo>
                <a:lnTo>
                  <a:pt x="221" y="2508"/>
                </a:lnTo>
                <a:lnTo>
                  <a:pt x="221" y="2516"/>
                </a:lnTo>
                <a:lnTo>
                  <a:pt x="221" y="2518"/>
                </a:lnTo>
                <a:lnTo>
                  <a:pt x="214" y="2521"/>
                </a:lnTo>
                <a:lnTo>
                  <a:pt x="212" y="2521"/>
                </a:lnTo>
                <a:lnTo>
                  <a:pt x="210" y="2521"/>
                </a:lnTo>
                <a:lnTo>
                  <a:pt x="210" y="2525"/>
                </a:lnTo>
                <a:lnTo>
                  <a:pt x="215" y="2530"/>
                </a:lnTo>
                <a:lnTo>
                  <a:pt x="221" y="2534"/>
                </a:lnTo>
                <a:lnTo>
                  <a:pt x="225" y="2540"/>
                </a:lnTo>
                <a:lnTo>
                  <a:pt x="226" y="2541"/>
                </a:lnTo>
                <a:lnTo>
                  <a:pt x="225" y="2543"/>
                </a:lnTo>
                <a:lnTo>
                  <a:pt x="215" y="2554"/>
                </a:lnTo>
                <a:lnTo>
                  <a:pt x="214" y="2556"/>
                </a:lnTo>
                <a:lnTo>
                  <a:pt x="208" y="2563"/>
                </a:lnTo>
                <a:lnTo>
                  <a:pt x="206" y="2583"/>
                </a:lnTo>
                <a:lnTo>
                  <a:pt x="208" y="2585"/>
                </a:lnTo>
                <a:lnTo>
                  <a:pt x="214" y="2587"/>
                </a:lnTo>
                <a:lnTo>
                  <a:pt x="228" y="2587"/>
                </a:lnTo>
                <a:lnTo>
                  <a:pt x="236" y="2587"/>
                </a:lnTo>
                <a:lnTo>
                  <a:pt x="241" y="2587"/>
                </a:lnTo>
                <a:lnTo>
                  <a:pt x="248" y="2587"/>
                </a:lnTo>
                <a:lnTo>
                  <a:pt x="268" y="2589"/>
                </a:lnTo>
                <a:lnTo>
                  <a:pt x="272" y="2591"/>
                </a:lnTo>
                <a:lnTo>
                  <a:pt x="278" y="2600"/>
                </a:lnTo>
                <a:lnTo>
                  <a:pt x="276" y="2602"/>
                </a:lnTo>
                <a:lnTo>
                  <a:pt x="267" y="2620"/>
                </a:lnTo>
                <a:lnTo>
                  <a:pt x="261" y="2624"/>
                </a:lnTo>
                <a:lnTo>
                  <a:pt x="257" y="2625"/>
                </a:lnTo>
                <a:lnTo>
                  <a:pt x="256" y="2625"/>
                </a:lnTo>
                <a:lnTo>
                  <a:pt x="225" y="2624"/>
                </a:lnTo>
                <a:lnTo>
                  <a:pt x="206" y="2624"/>
                </a:lnTo>
                <a:lnTo>
                  <a:pt x="195" y="2624"/>
                </a:lnTo>
                <a:lnTo>
                  <a:pt x="193" y="2622"/>
                </a:lnTo>
                <a:lnTo>
                  <a:pt x="192" y="2622"/>
                </a:lnTo>
                <a:lnTo>
                  <a:pt x="190" y="2620"/>
                </a:lnTo>
                <a:lnTo>
                  <a:pt x="186" y="2620"/>
                </a:lnTo>
                <a:lnTo>
                  <a:pt x="184" y="2622"/>
                </a:lnTo>
                <a:lnTo>
                  <a:pt x="184" y="2624"/>
                </a:lnTo>
                <a:lnTo>
                  <a:pt x="184" y="2635"/>
                </a:lnTo>
                <a:lnTo>
                  <a:pt x="197" y="2636"/>
                </a:lnTo>
                <a:lnTo>
                  <a:pt x="210" y="2636"/>
                </a:lnTo>
                <a:lnTo>
                  <a:pt x="217" y="2638"/>
                </a:lnTo>
                <a:lnTo>
                  <a:pt x="232" y="2642"/>
                </a:lnTo>
                <a:lnTo>
                  <a:pt x="236" y="2644"/>
                </a:lnTo>
                <a:lnTo>
                  <a:pt x="256" y="2666"/>
                </a:lnTo>
                <a:lnTo>
                  <a:pt x="259" y="2673"/>
                </a:lnTo>
                <a:lnTo>
                  <a:pt x="243" y="2689"/>
                </a:lnTo>
                <a:lnTo>
                  <a:pt x="230" y="2695"/>
                </a:lnTo>
                <a:lnTo>
                  <a:pt x="226" y="2693"/>
                </a:lnTo>
                <a:lnTo>
                  <a:pt x="225" y="2695"/>
                </a:lnTo>
                <a:lnTo>
                  <a:pt x="223" y="2695"/>
                </a:lnTo>
                <a:lnTo>
                  <a:pt x="219" y="2695"/>
                </a:lnTo>
                <a:lnTo>
                  <a:pt x="215" y="2697"/>
                </a:lnTo>
                <a:lnTo>
                  <a:pt x="212" y="2706"/>
                </a:lnTo>
                <a:lnTo>
                  <a:pt x="212" y="2713"/>
                </a:lnTo>
                <a:lnTo>
                  <a:pt x="215" y="2726"/>
                </a:lnTo>
                <a:lnTo>
                  <a:pt x="217" y="2726"/>
                </a:lnTo>
                <a:lnTo>
                  <a:pt x="221" y="2728"/>
                </a:lnTo>
                <a:lnTo>
                  <a:pt x="225" y="2730"/>
                </a:lnTo>
                <a:lnTo>
                  <a:pt x="226" y="2731"/>
                </a:lnTo>
                <a:lnTo>
                  <a:pt x="230" y="2737"/>
                </a:lnTo>
                <a:lnTo>
                  <a:pt x="226" y="2739"/>
                </a:lnTo>
                <a:lnTo>
                  <a:pt x="226" y="2741"/>
                </a:lnTo>
                <a:lnTo>
                  <a:pt x="223" y="2741"/>
                </a:lnTo>
                <a:lnTo>
                  <a:pt x="212" y="2752"/>
                </a:lnTo>
                <a:lnTo>
                  <a:pt x="214" y="2761"/>
                </a:lnTo>
                <a:lnTo>
                  <a:pt x="217" y="2766"/>
                </a:lnTo>
                <a:lnTo>
                  <a:pt x="223" y="2792"/>
                </a:lnTo>
                <a:lnTo>
                  <a:pt x="223" y="2803"/>
                </a:lnTo>
                <a:lnTo>
                  <a:pt x="223" y="2806"/>
                </a:lnTo>
                <a:lnTo>
                  <a:pt x="221" y="2808"/>
                </a:lnTo>
                <a:lnTo>
                  <a:pt x="210" y="2816"/>
                </a:lnTo>
                <a:lnTo>
                  <a:pt x="206" y="2817"/>
                </a:lnTo>
                <a:lnTo>
                  <a:pt x="199" y="2817"/>
                </a:lnTo>
                <a:lnTo>
                  <a:pt x="197" y="2819"/>
                </a:lnTo>
                <a:lnTo>
                  <a:pt x="193" y="2839"/>
                </a:lnTo>
                <a:lnTo>
                  <a:pt x="203" y="2847"/>
                </a:lnTo>
                <a:lnTo>
                  <a:pt x="204" y="2850"/>
                </a:lnTo>
                <a:lnTo>
                  <a:pt x="206" y="2852"/>
                </a:lnTo>
                <a:lnTo>
                  <a:pt x="204" y="2858"/>
                </a:lnTo>
                <a:lnTo>
                  <a:pt x="203" y="2858"/>
                </a:lnTo>
                <a:lnTo>
                  <a:pt x="177" y="2876"/>
                </a:lnTo>
                <a:lnTo>
                  <a:pt x="173" y="2876"/>
                </a:lnTo>
                <a:lnTo>
                  <a:pt x="162" y="2885"/>
                </a:lnTo>
                <a:lnTo>
                  <a:pt x="148" y="2909"/>
                </a:lnTo>
                <a:lnTo>
                  <a:pt x="140" y="2923"/>
                </a:lnTo>
                <a:lnTo>
                  <a:pt x="140" y="2927"/>
                </a:lnTo>
                <a:lnTo>
                  <a:pt x="142" y="2929"/>
                </a:lnTo>
                <a:lnTo>
                  <a:pt x="146" y="2931"/>
                </a:lnTo>
                <a:lnTo>
                  <a:pt x="148" y="2933"/>
                </a:lnTo>
                <a:lnTo>
                  <a:pt x="153" y="2933"/>
                </a:lnTo>
                <a:lnTo>
                  <a:pt x="161" y="2940"/>
                </a:lnTo>
                <a:lnTo>
                  <a:pt x="162" y="2951"/>
                </a:lnTo>
                <a:lnTo>
                  <a:pt x="164" y="2965"/>
                </a:lnTo>
                <a:lnTo>
                  <a:pt x="151" y="2971"/>
                </a:lnTo>
                <a:lnTo>
                  <a:pt x="144" y="2973"/>
                </a:lnTo>
                <a:lnTo>
                  <a:pt x="139" y="2975"/>
                </a:lnTo>
                <a:lnTo>
                  <a:pt x="137" y="2976"/>
                </a:lnTo>
                <a:lnTo>
                  <a:pt x="135" y="2978"/>
                </a:lnTo>
                <a:lnTo>
                  <a:pt x="133" y="2980"/>
                </a:lnTo>
                <a:lnTo>
                  <a:pt x="135" y="2984"/>
                </a:lnTo>
                <a:lnTo>
                  <a:pt x="135" y="2987"/>
                </a:lnTo>
                <a:lnTo>
                  <a:pt x="137" y="2989"/>
                </a:lnTo>
                <a:lnTo>
                  <a:pt x="137" y="2995"/>
                </a:lnTo>
                <a:lnTo>
                  <a:pt x="139" y="2998"/>
                </a:lnTo>
                <a:lnTo>
                  <a:pt x="139" y="3002"/>
                </a:lnTo>
                <a:lnTo>
                  <a:pt x="139" y="3007"/>
                </a:lnTo>
                <a:lnTo>
                  <a:pt x="137" y="3009"/>
                </a:lnTo>
                <a:lnTo>
                  <a:pt x="135" y="3011"/>
                </a:lnTo>
                <a:lnTo>
                  <a:pt x="124" y="3018"/>
                </a:lnTo>
                <a:lnTo>
                  <a:pt x="120" y="3020"/>
                </a:lnTo>
                <a:lnTo>
                  <a:pt x="118" y="3022"/>
                </a:lnTo>
                <a:lnTo>
                  <a:pt x="117" y="3022"/>
                </a:lnTo>
                <a:lnTo>
                  <a:pt x="113" y="3024"/>
                </a:lnTo>
                <a:lnTo>
                  <a:pt x="109" y="3024"/>
                </a:lnTo>
                <a:lnTo>
                  <a:pt x="106" y="3024"/>
                </a:lnTo>
                <a:lnTo>
                  <a:pt x="104" y="3024"/>
                </a:lnTo>
                <a:lnTo>
                  <a:pt x="100" y="3026"/>
                </a:lnTo>
                <a:lnTo>
                  <a:pt x="97" y="3026"/>
                </a:lnTo>
                <a:lnTo>
                  <a:pt x="95" y="3028"/>
                </a:lnTo>
                <a:lnTo>
                  <a:pt x="87" y="303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33360" y="5111640"/>
            <a:ext cx="1121040" cy="1425600"/>
          </a:xfrm>
          <a:custGeom>
            <a:avLst/>
            <a:gdLst/>
            <a:ahLst/>
            <a:rect l="l" t="t" r="r" b="b"/>
            <a:pathLst>
              <a:path w="701" h="974">
                <a:moveTo>
                  <a:pt x="254" y="512"/>
                </a:moveTo>
                <a:lnTo>
                  <a:pt x="245" y="527"/>
                </a:lnTo>
                <a:lnTo>
                  <a:pt x="245" y="528"/>
                </a:lnTo>
                <a:lnTo>
                  <a:pt x="247" y="530"/>
                </a:lnTo>
                <a:lnTo>
                  <a:pt x="254" y="530"/>
                </a:lnTo>
                <a:lnTo>
                  <a:pt x="249" y="534"/>
                </a:lnTo>
                <a:lnTo>
                  <a:pt x="245" y="534"/>
                </a:lnTo>
                <a:lnTo>
                  <a:pt x="222" y="536"/>
                </a:lnTo>
                <a:lnTo>
                  <a:pt x="218" y="536"/>
                </a:lnTo>
                <a:lnTo>
                  <a:pt x="211" y="548"/>
                </a:lnTo>
                <a:lnTo>
                  <a:pt x="207" y="558"/>
                </a:lnTo>
                <a:lnTo>
                  <a:pt x="207" y="559"/>
                </a:lnTo>
                <a:lnTo>
                  <a:pt x="212" y="563"/>
                </a:lnTo>
                <a:lnTo>
                  <a:pt x="220" y="581"/>
                </a:lnTo>
                <a:lnTo>
                  <a:pt x="218" y="583"/>
                </a:lnTo>
                <a:lnTo>
                  <a:pt x="214" y="585"/>
                </a:lnTo>
                <a:lnTo>
                  <a:pt x="211" y="587"/>
                </a:lnTo>
                <a:lnTo>
                  <a:pt x="209" y="596"/>
                </a:lnTo>
                <a:lnTo>
                  <a:pt x="211" y="612"/>
                </a:lnTo>
                <a:lnTo>
                  <a:pt x="212" y="616"/>
                </a:lnTo>
                <a:lnTo>
                  <a:pt x="216" y="618"/>
                </a:lnTo>
                <a:lnTo>
                  <a:pt x="220" y="620"/>
                </a:lnTo>
                <a:lnTo>
                  <a:pt x="229" y="623"/>
                </a:lnTo>
                <a:lnTo>
                  <a:pt x="231" y="625"/>
                </a:lnTo>
                <a:lnTo>
                  <a:pt x="232" y="627"/>
                </a:lnTo>
                <a:lnTo>
                  <a:pt x="236" y="633"/>
                </a:lnTo>
                <a:lnTo>
                  <a:pt x="236" y="636"/>
                </a:lnTo>
                <a:lnTo>
                  <a:pt x="238" y="649"/>
                </a:lnTo>
                <a:lnTo>
                  <a:pt x="240" y="658"/>
                </a:lnTo>
                <a:lnTo>
                  <a:pt x="245" y="673"/>
                </a:lnTo>
                <a:lnTo>
                  <a:pt x="247" y="675"/>
                </a:lnTo>
                <a:lnTo>
                  <a:pt x="249" y="676"/>
                </a:lnTo>
                <a:lnTo>
                  <a:pt x="253" y="676"/>
                </a:lnTo>
                <a:lnTo>
                  <a:pt x="254" y="675"/>
                </a:lnTo>
                <a:lnTo>
                  <a:pt x="258" y="675"/>
                </a:lnTo>
                <a:lnTo>
                  <a:pt x="260" y="673"/>
                </a:lnTo>
                <a:lnTo>
                  <a:pt x="264" y="671"/>
                </a:lnTo>
                <a:lnTo>
                  <a:pt x="267" y="669"/>
                </a:lnTo>
                <a:lnTo>
                  <a:pt x="269" y="667"/>
                </a:lnTo>
                <a:lnTo>
                  <a:pt x="271" y="665"/>
                </a:lnTo>
                <a:lnTo>
                  <a:pt x="275" y="664"/>
                </a:lnTo>
                <a:lnTo>
                  <a:pt x="285" y="662"/>
                </a:lnTo>
                <a:lnTo>
                  <a:pt x="311" y="660"/>
                </a:lnTo>
                <a:lnTo>
                  <a:pt x="322" y="660"/>
                </a:lnTo>
                <a:lnTo>
                  <a:pt x="329" y="664"/>
                </a:lnTo>
                <a:lnTo>
                  <a:pt x="335" y="684"/>
                </a:lnTo>
                <a:lnTo>
                  <a:pt x="333" y="698"/>
                </a:lnTo>
                <a:lnTo>
                  <a:pt x="331" y="700"/>
                </a:lnTo>
                <a:lnTo>
                  <a:pt x="326" y="700"/>
                </a:lnTo>
                <a:lnTo>
                  <a:pt x="320" y="707"/>
                </a:lnTo>
                <a:lnTo>
                  <a:pt x="322" y="713"/>
                </a:lnTo>
                <a:lnTo>
                  <a:pt x="324" y="715"/>
                </a:lnTo>
                <a:lnTo>
                  <a:pt x="328" y="717"/>
                </a:lnTo>
                <a:lnTo>
                  <a:pt x="331" y="717"/>
                </a:lnTo>
                <a:lnTo>
                  <a:pt x="335" y="720"/>
                </a:lnTo>
                <a:lnTo>
                  <a:pt x="329" y="737"/>
                </a:lnTo>
                <a:lnTo>
                  <a:pt x="326" y="744"/>
                </a:lnTo>
                <a:lnTo>
                  <a:pt x="322" y="746"/>
                </a:lnTo>
                <a:lnTo>
                  <a:pt x="320" y="748"/>
                </a:lnTo>
                <a:lnTo>
                  <a:pt x="331" y="764"/>
                </a:lnTo>
                <a:lnTo>
                  <a:pt x="333" y="766"/>
                </a:lnTo>
                <a:lnTo>
                  <a:pt x="339" y="766"/>
                </a:lnTo>
                <a:lnTo>
                  <a:pt x="340" y="766"/>
                </a:lnTo>
                <a:lnTo>
                  <a:pt x="342" y="768"/>
                </a:lnTo>
                <a:lnTo>
                  <a:pt x="346" y="770"/>
                </a:lnTo>
                <a:lnTo>
                  <a:pt x="349" y="771"/>
                </a:lnTo>
                <a:lnTo>
                  <a:pt x="362" y="781"/>
                </a:lnTo>
                <a:lnTo>
                  <a:pt x="364" y="782"/>
                </a:lnTo>
                <a:lnTo>
                  <a:pt x="364" y="786"/>
                </a:lnTo>
                <a:lnTo>
                  <a:pt x="368" y="793"/>
                </a:lnTo>
                <a:lnTo>
                  <a:pt x="388" y="793"/>
                </a:lnTo>
                <a:lnTo>
                  <a:pt x="432" y="793"/>
                </a:lnTo>
                <a:lnTo>
                  <a:pt x="487" y="793"/>
                </a:lnTo>
                <a:lnTo>
                  <a:pt x="509" y="793"/>
                </a:lnTo>
                <a:lnTo>
                  <a:pt x="540" y="793"/>
                </a:lnTo>
                <a:lnTo>
                  <a:pt x="545" y="793"/>
                </a:lnTo>
                <a:lnTo>
                  <a:pt x="551" y="793"/>
                </a:lnTo>
                <a:lnTo>
                  <a:pt x="556" y="795"/>
                </a:lnTo>
                <a:lnTo>
                  <a:pt x="562" y="797"/>
                </a:lnTo>
                <a:lnTo>
                  <a:pt x="573" y="799"/>
                </a:lnTo>
                <a:lnTo>
                  <a:pt x="602" y="808"/>
                </a:lnTo>
                <a:lnTo>
                  <a:pt x="620" y="808"/>
                </a:lnTo>
                <a:lnTo>
                  <a:pt x="653" y="815"/>
                </a:lnTo>
                <a:lnTo>
                  <a:pt x="688" y="823"/>
                </a:lnTo>
                <a:lnTo>
                  <a:pt x="701" y="826"/>
                </a:lnTo>
                <a:lnTo>
                  <a:pt x="701" y="830"/>
                </a:lnTo>
                <a:lnTo>
                  <a:pt x="697" y="826"/>
                </a:lnTo>
                <a:lnTo>
                  <a:pt x="695" y="824"/>
                </a:lnTo>
                <a:lnTo>
                  <a:pt x="679" y="823"/>
                </a:lnTo>
                <a:lnTo>
                  <a:pt x="666" y="823"/>
                </a:lnTo>
                <a:lnTo>
                  <a:pt x="664" y="823"/>
                </a:lnTo>
                <a:lnTo>
                  <a:pt x="653" y="821"/>
                </a:lnTo>
                <a:lnTo>
                  <a:pt x="649" y="821"/>
                </a:lnTo>
                <a:lnTo>
                  <a:pt x="647" y="819"/>
                </a:lnTo>
                <a:lnTo>
                  <a:pt x="646" y="819"/>
                </a:lnTo>
                <a:lnTo>
                  <a:pt x="642" y="817"/>
                </a:lnTo>
                <a:lnTo>
                  <a:pt x="640" y="817"/>
                </a:lnTo>
                <a:lnTo>
                  <a:pt x="637" y="815"/>
                </a:lnTo>
                <a:lnTo>
                  <a:pt x="633" y="814"/>
                </a:lnTo>
                <a:lnTo>
                  <a:pt x="629" y="814"/>
                </a:lnTo>
                <a:lnTo>
                  <a:pt x="627" y="814"/>
                </a:lnTo>
                <a:lnTo>
                  <a:pt x="622" y="814"/>
                </a:lnTo>
                <a:lnTo>
                  <a:pt x="604" y="819"/>
                </a:lnTo>
                <a:lnTo>
                  <a:pt x="602" y="819"/>
                </a:lnTo>
                <a:lnTo>
                  <a:pt x="600" y="821"/>
                </a:lnTo>
                <a:lnTo>
                  <a:pt x="600" y="824"/>
                </a:lnTo>
                <a:lnTo>
                  <a:pt x="600" y="830"/>
                </a:lnTo>
                <a:lnTo>
                  <a:pt x="593" y="837"/>
                </a:lnTo>
                <a:lnTo>
                  <a:pt x="591" y="839"/>
                </a:lnTo>
                <a:lnTo>
                  <a:pt x="584" y="843"/>
                </a:lnTo>
                <a:lnTo>
                  <a:pt x="582" y="845"/>
                </a:lnTo>
                <a:lnTo>
                  <a:pt x="573" y="843"/>
                </a:lnTo>
                <a:lnTo>
                  <a:pt x="569" y="843"/>
                </a:lnTo>
                <a:lnTo>
                  <a:pt x="560" y="843"/>
                </a:lnTo>
                <a:lnTo>
                  <a:pt x="538" y="850"/>
                </a:lnTo>
                <a:lnTo>
                  <a:pt x="534" y="850"/>
                </a:lnTo>
                <a:lnTo>
                  <a:pt x="499" y="861"/>
                </a:lnTo>
                <a:lnTo>
                  <a:pt x="485" y="863"/>
                </a:lnTo>
                <a:lnTo>
                  <a:pt x="472" y="865"/>
                </a:lnTo>
                <a:lnTo>
                  <a:pt x="470" y="877"/>
                </a:lnTo>
                <a:lnTo>
                  <a:pt x="470" y="881"/>
                </a:lnTo>
                <a:lnTo>
                  <a:pt x="472" y="883"/>
                </a:lnTo>
                <a:lnTo>
                  <a:pt x="472" y="888"/>
                </a:lnTo>
                <a:lnTo>
                  <a:pt x="465" y="903"/>
                </a:lnTo>
                <a:lnTo>
                  <a:pt x="463" y="905"/>
                </a:lnTo>
                <a:lnTo>
                  <a:pt x="461" y="907"/>
                </a:lnTo>
                <a:lnTo>
                  <a:pt x="459" y="909"/>
                </a:lnTo>
                <a:lnTo>
                  <a:pt x="459" y="910"/>
                </a:lnTo>
                <a:lnTo>
                  <a:pt x="456" y="927"/>
                </a:lnTo>
                <a:lnTo>
                  <a:pt x="456" y="930"/>
                </a:lnTo>
                <a:lnTo>
                  <a:pt x="456" y="932"/>
                </a:lnTo>
                <a:lnTo>
                  <a:pt x="457" y="936"/>
                </a:lnTo>
                <a:lnTo>
                  <a:pt x="459" y="938"/>
                </a:lnTo>
                <a:lnTo>
                  <a:pt x="459" y="941"/>
                </a:lnTo>
                <a:lnTo>
                  <a:pt x="461" y="943"/>
                </a:lnTo>
                <a:lnTo>
                  <a:pt x="461" y="947"/>
                </a:lnTo>
                <a:lnTo>
                  <a:pt x="461" y="951"/>
                </a:lnTo>
                <a:lnTo>
                  <a:pt x="457" y="963"/>
                </a:lnTo>
                <a:lnTo>
                  <a:pt x="456" y="965"/>
                </a:lnTo>
                <a:lnTo>
                  <a:pt x="450" y="969"/>
                </a:lnTo>
                <a:lnTo>
                  <a:pt x="432" y="974"/>
                </a:lnTo>
                <a:lnTo>
                  <a:pt x="428" y="974"/>
                </a:lnTo>
                <a:lnTo>
                  <a:pt x="388" y="967"/>
                </a:lnTo>
                <a:lnTo>
                  <a:pt x="353" y="958"/>
                </a:lnTo>
                <a:lnTo>
                  <a:pt x="348" y="956"/>
                </a:lnTo>
                <a:lnTo>
                  <a:pt x="331" y="945"/>
                </a:lnTo>
                <a:lnTo>
                  <a:pt x="326" y="941"/>
                </a:lnTo>
                <a:lnTo>
                  <a:pt x="320" y="936"/>
                </a:lnTo>
                <a:lnTo>
                  <a:pt x="318" y="934"/>
                </a:lnTo>
                <a:lnTo>
                  <a:pt x="315" y="929"/>
                </a:lnTo>
                <a:lnTo>
                  <a:pt x="318" y="921"/>
                </a:lnTo>
                <a:lnTo>
                  <a:pt x="331" y="914"/>
                </a:lnTo>
                <a:lnTo>
                  <a:pt x="348" y="914"/>
                </a:lnTo>
                <a:lnTo>
                  <a:pt x="351" y="920"/>
                </a:lnTo>
                <a:lnTo>
                  <a:pt x="351" y="921"/>
                </a:lnTo>
                <a:lnTo>
                  <a:pt x="351" y="925"/>
                </a:lnTo>
                <a:lnTo>
                  <a:pt x="349" y="927"/>
                </a:lnTo>
                <a:lnTo>
                  <a:pt x="344" y="930"/>
                </a:lnTo>
                <a:lnTo>
                  <a:pt x="337" y="932"/>
                </a:lnTo>
                <a:lnTo>
                  <a:pt x="340" y="932"/>
                </a:lnTo>
                <a:lnTo>
                  <a:pt x="348" y="930"/>
                </a:lnTo>
                <a:lnTo>
                  <a:pt x="351" y="930"/>
                </a:lnTo>
                <a:lnTo>
                  <a:pt x="357" y="927"/>
                </a:lnTo>
                <a:lnTo>
                  <a:pt x="359" y="925"/>
                </a:lnTo>
                <a:lnTo>
                  <a:pt x="357" y="923"/>
                </a:lnTo>
                <a:lnTo>
                  <a:pt x="357" y="918"/>
                </a:lnTo>
                <a:lnTo>
                  <a:pt x="357" y="916"/>
                </a:lnTo>
                <a:lnTo>
                  <a:pt x="357" y="914"/>
                </a:lnTo>
                <a:lnTo>
                  <a:pt x="359" y="912"/>
                </a:lnTo>
                <a:lnTo>
                  <a:pt x="371" y="912"/>
                </a:lnTo>
                <a:lnTo>
                  <a:pt x="375" y="914"/>
                </a:lnTo>
                <a:lnTo>
                  <a:pt x="379" y="930"/>
                </a:lnTo>
                <a:lnTo>
                  <a:pt x="379" y="934"/>
                </a:lnTo>
                <a:lnTo>
                  <a:pt x="377" y="934"/>
                </a:lnTo>
                <a:lnTo>
                  <a:pt x="373" y="936"/>
                </a:lnTo>
                <a:lnTo>
                  <a:pt x="364" y="940"/>
                </a:lnTo>
                <a:lnTo>
                  <a:pt x="360" y="940"/>
                </a:lnTo>
                <a:lnTo>
                  <a:pt x="359" y="941"/>
                </a:lnTo>
                <a:lnTo>
                  <a:pt x="359" y="945"/>
                </a:lnTo>
                <a:lnTo>
                  <a:pt x="375" y="940"/>
                </a:lnTo>
                <a:lnTo>
                  <a:pt x="379" y="940"/>
                </a:lnTo>
                <a:lnTo>
                  <a:pt x="382" y="934"/>
                </a:lnTo>
                <a:lnTo>
                  <a:pt x="382" y="929"/>
                </a:lnTo>
                <a:lnTo>
                  <a:pt x="381" y="923"/>
                </a:lnTo>
                <a:lnTo>
                  <a:pt x="381" y="918"/>
                </a:lnTo>
                <a:lnTo>
                  <a:pt x="384" y="910"/>
                </a:lnTo>
                <a:lnTo>
                  <a:pt x="408" y="903"/>
                </a:lnTo>
                <a:lnTo>
                  <a:pt x="412" y="903"/>
                </a:lnTo>
                <a:lnTo>
                  <a:pt x="413" y="903"/>
                </a:lnTo>
                <a:lnTo>
                  <a:pt x="417" y="903"/>
                </a:lnTo>
                <a:lnTo>
                  <a:pt x="419" y="901"/>
                </a:lnTo>
                <a:lnTo>
                  <a:pt x="421" y="901"/>
                </a:lnTo>
                <a:lnTo>
                  <a:pt x="423" y="899"/>
                </a:lnTo>
                <a:lnTo>
                  <a:pt x="443" y="879"/>
                </a:lnTo>
                <a:lnTo>
                  <a:pt x="443" y="877"/>
                </a:lnTo>
                <a:lnTo>
                  <a:pt x="439" y="872"/>
                </a:lnTo>
                <a:lnTo>
                  <a:pt x="430" y="870"/>
                </a:lnTo>
                <a:lnTo>
                  <a:pt x="421" y="870"/>
                </a:lnTo>
                <a:lnTo>
                  <a:pt x="397" y="877"/>
                </a:lnTo>
                <a:lnTo>
                  <a:pt x="377" y="887"/>
                </a:lnTo>
                <a:lnTo>
                  <a:pt x="368" y="890"/>
                </a:lnTo>
                <a:lnTo>
                  <a:pt x="366" y="892"/>
                </a:lnTo>
                <a:lnTo>
                  <a:pt x="357" y="901"/>
                </a:lnTo>
                <a:lnTo>
                  <a:pt x="351" y="903"/>
                </a:lnTo>
                <a:lnTo>
                  <a:pt x="348" y="903"/>
                </a:lnTo>
                <a:lnTo>
                  <a:pt x="344" y="901"/>
                </a:lnTo>
                <a:lnTo>
                  <a:pt x="342" y="899"/>
                </a:lnTo>
                <a:lnTo>
                  <a:pt x="340" y="898"/>
                </a:lnTo>
                <a:lnTo>
                  <a:pt x="339" y="896"/>
                </a:lnTo>
                <a:lnTo>
                  <a:pt x="337" y="894"/>
                </a:lnTo>
                <a:lnTo>
                  <a:pt x="329" y="892"/>
                </a:lnTo>
                <a:lnTo>
                  <a:pt x="309" y="896"/>
                </a:lnTo>
                <a:lnTo>
                  <a:pt x="306" y="898"/>
                </a:lnTo>
                <a:lnTo>
                  <a:pt x="313" y="898"/>
                </a:lnTo>
                <a:lnTo>
                  <a:pt x="324" y="898"/>
                </a:lnTo>
                <a:lnTo>
                  <a:pt x="339" y="905"/>
                </a:lnTo>
                <a:lnTo>
                  <a:pt x="340" y="907"/>
                </a:lnTo>
                <a:lnTo>
                  <a:pt x="339" y="909"/>
                </a:lnTo>
                <a:lnTo>
                  <a:pt x="326" y="912"/>
                </a:lnTo>
                <a:lnTo>
                  <a:pt x="318" y="914"/>
                </a:lnTo>
                <a:lnTo>
                  <a:pt x="306" y="925"/>
                </a:lnTo>
                <a:lnTo>
                  <a:pt x="311" y="929"/>
                </a:lnTo>
                <a:lnTo>
                  <a:pt x="320" y="938"/>
                </a:lnTo>
                <a:lnTo>
                  <a:pt x="322" y="940"/>
                </a:lnTo>
                <a:lnTo>
                  <a:pt x="320" y="941"/>
                </a:lnTo>
                <a:lnTo>
                  <a:pt x="311" y="943"/>
                </a:lnTo>
                <a:lnTo>
                  <a:pt x="309" y="943"/>
                </a:lnTo>
                <a:lnTo>
                  <a:pt x="307" y="941"/>
                </a:lnTo>
                <a:lnTo>
                  <a:pt x="289" y="932"/>
                </a:lnTo>
                <a:lnTo>
                  <a:pt x="265" y="923"/>
                </a:lnTo>
                <a:lnTo>
                  <a:pt x="251" y="918"/>
                </a:lnTo>
                <a:lnTo>
                  <a:pt x="249" y="916"/>
                </a:lnTo>
                <a:lnTo>
                  <a:pt x="242" y="912"/>
                </a:lnTo>
                <a:lnTo>
                  <a:pt x="234" y="905"/>
                </a:lnTo>
                <a:lnTo>
                  <a:pt x="262" y="905"/>
                </a:lnTo>
                <a:lnTo>
                  <a:pt x="267" y="905"/>
                </a:lnTo>
                <a:lnTo>
                  <a:pt x="276" y="910"/>
                </a:lnTo>
                <a:lnTo>
                  <a:pt x="284" y="918"/>
                </a:lnTo>
                <a:lnTo>
                  <a:pt x="285" y="918"/>
                </a:lnTo>
                <a:lnTo>
                  <a:pt x="291" y="918"/>
                </a:lnTo>
                <a:lnTo>
                  <a:pt x="291" y="914"/>
                </a:lnTo>
                <a:lnTo>
                  <a:pt x="276" y="905"/>
                </a:lnTo>
                <a:lnTo>
                  <a:pt x="271" y="898"/>
                </a:lnTo>
                <a:lnTo>
                  <a:pt x="271" y="890"/>
                </a:lnTo>
                <a:lnTo>
                  <a:pt x="267" y="883"/>
                </a:lnTo>
                <a:lnTo>
                  <a:pt x="267" y="876"/>
                </a:lnTo>
                <a:lnTo>
                  <a:pt x="271" y="874"/>
                </a:lnTo>
                <a:lnTo>
                  <a:pt x="289" y="865"/>
                </a:lnTo>
                <a:lnTo>
                  <a:pt x="302" y="870"/>
                </a:lnTo>
                <a:lnTo>
                  <a:pt x="313" y="872"/>
                </a:lnTo>
                <a:lnTo>
                  <a:pt x="318" y="872"/>
                </a:lnTo>
                <a:lnTo>
                  <a:pt x="329" y="867"/>
                </a:lnTo>
                <a:lnTo>
                  <a:pt x="340" y="857"/>
                </a:lnTo>
                <a:lnTo>
                  <a:pt x="342" y="856"/>
                </a:lnTo>
                <a:lnTo>
                  <a:pt x="359" y="854"/>
                </a:lnTo>
                <a:lnTo>
                  <a:pt x="364" y="857"/>
                </a:lnTo>
                <a:lnTo>
                  <a:pt x="368" y="859"/>
                </a:lnTo>
                <a:lnTo>
                  <a:pt x="373" y="859"/>
                </a:lnTo>
                <a:lnTo>
                  <a:pt x="379" y="861"/>
                </a:lnTo>
                <a:lnTo>
                  <a:pt x="386" y="859"/>
                </a:lnTo>
                <a:lnTo>
                  <a:pt x="390" y="859"/>
                </a:lnTo>
                <a:lnTo>
                  <a:pt x="392" y="859"/>
                </a:lnTo>
                <a:lnTo>
                  <a:pt x="395" y="859"/>
                </a:lnTo>
                <a:lnTo>
                  <a:pt x="410" y="856"/>
                </a:lnTo>
                <a:lnTo>
                  <a:pt x="404" y="848"/>
                </a:lnTo>
                <a:lnTo>
                  <a:pt x="403" y="848"/>
                </a:lnTo>
                <a:lnTo>
                  <a:pt x="366" y="845"/>
                </a:lnTo>
                <a:lnTo>
                  <a:pt x="346" y="843"/>
                </a:lnTo>
                <a:lnTo>
                  <a:pt x="331" y="843"/>
                </a:lnTo>
                <a:lnTo>
                  <a:pt x="329" y="845"/>
                </a:lnTo>
                <a:lnTo>
                  <a:pt x="326" y="846"/>
                </a:lnTo>
                <a:lnTo>
                  <a:pt x="324" y="850"/>
                </a:lnTo>
                <a:lnTo>
                  <a:pt x="318" y="857"/>
                </a:lnTo>
                <a:lnTo>
                  <a:pt x="306" y="850"/>
                </a:lnTo>
                <a:lnTo>
                  <a:pt x="311" y="846"/>
                </a:lnTo>
                <a:lnTo>
                  <a:pt x="298" y="846"/>
                </a:lnTo>
                <a:lnTo>
                  <a:pt x="282" y="846"/>
                </a:lnTo>
                <a:lnTo>
                  <a:pt x="273" y="854"/>
                </a:lnTo>
                <a:lnTo>
                  <a:pt x="275" y="856"/>
                </a:lnTo>
                <a:lnTo>
                  <a:pt x="280" y="852"/>
                </a:lnTo>
                <a:lnTo>
                  <a:pt x="293" y="856"/>
                </a:lnTo>
                <a:lnTo>
                  <a:pt x="293" y="857"/>
                </a:lnTo>
                <a:lnTo>
                  <a:pt x="285" y="865"/>
                </a:lnTo>
                <a:lnTo>
                  <a:pt x="282" y="867"/>
                </a:lnTo>
                <a:lnTo>
                  <a:pt x="275" y="870"/>
                </a:lnTo>
                <a:lnTo>
                  <a:pt x="269" y="870"/>
                </a:lnTo>
                <a:lnTo>
                  <a:pt x="267" y="872"/>
                </a:lnTo>
                <a:lnTo>
                  <a:pt x="264" y="874"/>
                </a:lnTo>
                <a:lnTo>
                  <a:pt x="262" y="876"/>
                </a:lnTo>
                <a:lnTo>
                  <a:pt x="265" y="881"/>
                </a:lnTo>
                <a:lnTo>
                  <a:pt x="267" y="888"/>
                </a:lnTo>
                <a:lnTo>
                  <a:pt x="267" y="892"/>
                </a:lnTo>
                <a:lnTo>
                  <a:pt x="264" y="896"/>
                </a:lnTo>
                <a:lnTo>
                  <a:pt x="251" y="899"/>
                </a:lnTo>
                <a:lnTo>
                  <a:pt x="243" y="899"/>
                </a:lnTo>
                <a:lnTo>
                  <a:pt x="232" y="898"/>
                </a:lnTo>
                <a:lnTo>
                  <a:pt x="220" y="890"/>
                </a:lnTo>
                <a:lnTo>
                  <a:pt x="232" y="885"/>
                </a:lnTo>
                <a:lnTo>
                  <a:pt x="240" y="879"/>
                </a:lnTo>
                <a:lnTo>
                  <a:pt x="229" y="877"/>
                </a:lnTo>
                <a:lnTo>
                  <a:pt x="209" y="870"/>
                </a:lnTo>
                <a:lnTo>
                  <a:pt x="214" y="868"/>
                </a:lnTo>
                <a:lnTo>
                  <a:pt x="238" y="863"/>
                </a:lnTo>
                <a:lnTo>
                  <a:pt x="253" y="843"/>
                </a:lnTo>
                <a:lnTo>
                  <a:pt x="256" y="841"/>
                </a:lnTo>
                <a:lnTo>
                  <a:pt x="265" y="843"/>
                </a:lnTo>
                <a:lnTo>
                  <a:pt x="269" y="843"/>
                </a:lnTo>
                <a:lnTo>
                  <a:pt x="273" y="843"/>
                </a:lnTo>
                <a:lnTo>
                  <a:pt x="271" y="841"/>
                </a:lnTo>
                <a:lnTo>
                  <a:pt x="262" y="841"/>
                </a:lnTo>
                <a:lnTo>
                  <a:pt x="258" y="839"/>
                </a:lnTo>
                <a:lnTo>
                  <a:pt x="254" y="839"/>
                </a:lnTo>
                <a:lnTo>
                  <a:pt x="247" y="841"/>
                </a:lnTo>
                <a:lnTo>
                  <a:pt x="245" y="843"/>
                </a:lnTo>
                <a:lnTo>
                  <a:pt x="247" y="848"/>
                </a:lnTo>
                <a:lnTo>
                  <a:pt x="245" y="850"/>
                </a:lnTo>
                <a:lnTo>
                  <a:pt x="236" y="857"/>
                </a:lnTo>
                <a:lnTo>
                  <a:pt x="232" y="857"/>
                </a:lnTo>
                <a:lnTo>
                  <a:pt x="231" y="857"/>
                </a:lnTo>
                <a:lnTo>
                  <a:pt x="231" y="856"/>
                </a:lnTo>
                <a:lnTo>
                  <a:pt x="231" y="852"/>
                </a:lnTo>
                <a:lnTo>
                  <a:pt x="227" y="850"/>
                </a:lnTo>
                <a:lnTo>
                  <a:pt x="225" y="850"/>
                </a:lnTo>
                <a:lnTo>
                  <a:pt x="214" y="857"/>
                </a:lnTo>
                <a:lnTo>
                  <a:pt x="209" y="859"/>
                </a:lnTo>
                <a:lnTo>
                  <a:pt x="205" y="863"/>
                </a:lnTo>
                <a:lnTo>
                  <a:pt x="203" y="865"/>
                </a:lnTo>
                <a:lnTo>
                  <a:pt x="196" y="863"/>
                </a:lnTo>
                <a:lnTo>
                  <a:pt x="198" y="832"/>
                </a:lnTo>
                <a:lnTo>
                  <a:pt x="207" y="817"/>
                </a:lnTo>
                <a:lnTo>
                  <a:pt x="211" y="812"/>
                </a:lnTo>
                <a:lnTo>
                  <a:pt x="231" y="815"/>
                </a:lnTo>
                <a:lnTo>
                  <a:pt x="236" y="815"/>
                </a:lnTo>
                <a:lnTo>
                  <a:pt x="240" y="814"/>
                </a:lnTo>
                <a:lnTo>
                  <a:pt x="242" y="810"/>
                </a:lnTo>
                <a:lnTo>
                  <a:pt x="247" y="804"/>
                </a:lnTo>
                <a:lnTo>
                  <a:pt x="253" y="803"/>
                </a:lnTo>
                <a:lnTo>
                  <a:pt x="260" y="801"/>
                </a:lnTo>
                <a:lnTo>
                  <a:pt x="264" y="801"/>
                </a:lnTo>
                <a:lnTo>
                  <a:pt x="264" y="808"/>
                </a:lnTo>
                <a:lnTo>
                  <a:pt x="264" y="812"/>
                </a:lnTo>
                <a:lnTo>
                  <a:pt x="271" y="817"/>
                </a:lnTo>
                <a:lnTo>
                  <a:pt x="275" y="819"/>
                </a:lnTo>
                <a:lnTo>
                  <a:pt x="278" y="817"/>
                </a:lnTo>
                <a:lnTo>
                  <a:pt x="284" y="803"/>
                </a:lnTo>
                <a:lnTo>
                  <a:pt x="284" y="799"/>
                </a:lnTo>
                <a:lnTo>
                  <a:pt x="280" y="803"/>
                </a:lnTo>
                <a:lnTo>
                  <a:pt x="276" y="806"/>
                </a:lnTo>
                <a:lnTo>
                  <a:pt x="276" y="810"/>
                </a:lnTo>
                <a:lnTo>
                  <a:pt x="275" y="814"/>
                </a:lnTo>
                <a:lnTo>
                  <a:pt x="267" y="810"/>
                </a:lnTo>
                <a:lnTo>
                  <a:pt x="267" y="803"/>
                </a:lnTo>
                <a:lnTo>
                  <a:pt x="276" y="790"/>
                </a:lnTo>
                <a:lnTo>
                  <a:pt x="282" y="788"/>
                </a:lnTo>
                <a:lnTo>
                  <a:pt x="291" y="793"/>
                </a:lnTo>
                <a:lnTo>
                  <a:pt x="306" y="810"/>
                </a:lnTo>
                <a:lnTo>
                  <a:pt x="307" y="814"/>
                </a:lnTo>
                <a:lnTo>
                  <a:pt x="304" y="824"/>
                </a:lnTo>
                <a:lnTo>
                  <a:pt x="300" y="826"/>
                </a:lnTo>
                <a:lnTo>
                  <a:pt x="287" y="830"/>
                </a:lnTo>
                <a:lnTo>
                  <a:pt x="269" y="837"/>
                </a:lnTo>
                <a:lnTo>
                  <a:pt x="273" y="837"/>
                </a:lnTo>
                <a:lnTo>
                  <a:pt x="280" y="835"/>
                </a:lnTo>
                <a:lnTo>
                  <a:pt x="298" y="832"/>
                </a:lnTo>
                <a:lnTo>
                  <a:pt x="302" y="830"/>
                </a:lnTo>
                <a:lnTo>
                  <a:pt x="311" y="824"/>
                </a:lnTo>
                <a:lnTo>
                  <a:pt x="313" y="814"/>
                </a:lnTo>
                <a:lnTo>
                  <a:pt x="313" y="812"/>
                </a:lnTo>
                <a:lnTo>
                  <a:pt x="306" y="806"/>
                </a:lnTo>
                <a:lnTo>
                  <a:pt x="296" y="799"/>
                </a:lnTo>
                <a:lnTo>
                  <a:pt x="295" y="790"/>
                </a:lnTo>
                <a:lnTo>
                  <a:pt x="298" y="788"/>
                </a:lnTo>
                <a:lnTo>
                  <a:pt x="309" y="790"/>
                </a:lnTo>
                <a:lnTo>
                  <a:pt x="311" y="790"/>
                </a:lnTo>
                <a:lnTo>
                  <a:pt x="313" y="788"/>
                </a:lnTo>
                <a:lnTo>
                  <a:pt x="315" y="786"/>
                </a:lnTo>
                <a:lnTo>
                  <a:pt x="313" y="773"/>
                </a:lnTo>
                <a:lnTo>
                  <a:pt x="309" y="768"/>
                </a:lnTo>
                <a:lnTo>
                  <a:pt x="295" y="757"/>
                </a:lnTo>
                <a:lnTo>
                  <a:pt x="289" y="753"/>
                </a:lnTo>
                <a:lnTo>
                  <a:pt x="287" y="753"/>
                </a:lnTo>
                <a:lnTo>
                  <a:pt x="264" y="750"/>
                </a:lnTo>
                <a:lnTo>
                  <a:pt x="276" y="755"/>
                </a:lnTo>
                <a:lnTo>
                  <a:pt x="304" y="768"/>
                </a:lnTo>
                <a:lnTo>
                  <a:pt x="306" y="770"/>
                </a:lnTo>
                <a:lnTo>
                  <a:pt x="304" y="773"/>
                </a:lnTo>
                <a:lnTo>
                  <a:pt x="298" y="777"/>
                </a:lnTo>
                <a:lnTo>
                  <a:pt x="289" y="779"/>
                </a:lnTo>
                <a:lnTo>
                  <a:pt x="282" y="775"/>
                </a:lnTo>
                <a:lnTo>
                  <a:pt x="245" y="759"/>
                </a:lnTo>
                <a:lnTo>
                  <a:pt x="240" y="757"/>
                </a:lnTo>
                <a:lnTo>
                  <a:pt x="234" y="757"/>
                </a:lnTo>
                <a:lnTo>
                  <a:pt x="240" y="766"/>
                </a:lnTo>
                <a:lnTo>
                  <a:pt x="243" y="768"/>
                </a:lnTo>
                <a:lnTo>
                  <a:pt x="247" y="768"/>
                </a:lnTo>
                <a:lnTo>
                  <a:pt x="251" y="768"/>
                </a:lnTo>
                <a:lnTo>
                  <a:pt x="253" y="766"/>
                </a:lnTo>
                <a:lnTo>
                  <a:pt x="256" y="768"/>
                </a:lnTo>
                <a:lnTo>
                  <a:pt x="260" y="770"/>
                </a:lnTo>
                <a:lnTo>
                  <a:pt x="269" y="779"/>
                </a:lnTo>
                <a:lnTo>
                  <a:pt x="269" y="781"/>
                </a:lnTo>
                <a:lnTo>
                  <a:pt x="265" y="782"/>
                </a:lnTo>
                <a:lnTo>
                  <a:pt x="260" y="784"/>
                </a:lnTo>
                <a:lnTo>
                  <a:pt x="254" y="786"/>
                </a:lnTo>
                <a:lnTo>
                  <a:pt x="249" y="788"/>
                </a:lnTo>
                <a:lnTo>
                  <a:pt x="247" y="790"/>
                </a:lnTo>
                <a:lnTo>
                  <a:pt x="245" y="803"/>
                </a:lnTo>
                <a:lnTo>
                  <a:pt x="234" y="810"/>
                </a:lnTo>
                <a:lnTo>
                  <a:pt x="232" y="810"/>
                </a:lnTo>
                <a:lnTo>
                  <a:pt x="229" y="810"/>
                </a:lnTo>
                <a:lnTo>
                  <a:pt x="211" y="799"/>
                </a:lnTo>
                <a:lnTo>
                  <a:pt x="209" y="797"/>
                </a:lnTo>
                <a:lnTo>
                  <a:pt x="207" y="795"/>
                </a:lnTo>
                <a:lnTo>
                  <a:pt x="203" y="784"/>
                </a:lnTo>
                <a:lnTo>
                  <a:pt x="205" y="779"/>
                </a:lnTo>
                <a:lnTo>
                  <a:pt x="212" y="788"/>
                </a:lnTo>
                <a:lnTo>
                  <a:pt x="214" y="788"/>
                </a:lnTo>
                <a:lnTo>
                  <a:pt x="203" y="773"/>
                </a:lnTo>
                <a:lnTo>
                  <a:pt x="203" y="771"/>
                </a:lnTo>
                <a:lnTo>
                  <a:pt x="189" y="766"/>
                </a:lnTo>
                <a:lnTo>
                  <a:pt x="176" y="757"/>
                </a:lnTo>
                <a:lnTo>
                  <a:pt x="172" y="739"/>
                </a:lnTo>
                <a:lnTo>
                  <a:pt x="174" y="737"/>
                </a:lnTo>
                <a:lnTo>
                  <a:pt x="176" y="733"/>
                </a:lnTo>
                <a:lnTo>
                  <a:pt x="185" y="735"/>
                </a:lnTo>
                <a:lnTo>
                  <a:pt x="194" y="742"/>
                </a:lnTo>
                <a:lnTo>
                  <a:pt x="196" y="746"/>
                </a:lnTo>
                <a:lnTo>
                  <a:pt x="201" y="755"/>
                </a:lnTo>
                <a:lnTo>
                  <a:pt x="196" y="739"/>
                </a:lnTo>
                <a:lnTo>
                  <a:pt x="187" y="718"/>
                </a:lnTo>
                <a:lnTo>
                  <a:pt x="179" y="720"/>
                </a:lnTo>
                <a:lnTo>
                  <a:pt x="178" y="720"/>
                </a:lnTo>
                <a:lnTo>
                  <a:pt x="176" y="720"/>
                </a:lnTo>
                <a:lnTo>
                  <a:pt x="158" y="718"/>
                </a:lnTo>
                <a:lnTo>
                  <a:pt x="154" y="715"/>
                </a:lnTo>
                <a:lnTo>
                  <a:pt x="143" y="700"/>
                </a:lnTo>
                <a:lnTo>
                  <a:pt x="143" y="691"/>
                </a:lnTo>
                <a:lnTo>
                  <a:pt x="145" y="687"/>
                </a:lnTo>
                <a:lnTo>
                  <a:pt x="148" y="686"/>
                </a:lnTo>
                <a:lnTo>
                  <a:pt x="152" y="686"/>
                </a:lnTo>
                <a:lnTo>
                  <a:pt x="176" y="686"/>
                </a:lnTo>
                <a:lnTo>
                  <a:pt x="178" y="686"/>
                </a:lnTo>
                <a:lnTo>
                  <a:pt x="181" y="689"/>
                </a:lnTo>
                <a:lnTo>
                  <a:pt x="187" y="678"/>
                </a:lnTo>
                <a:lnTo>
                  <a:pt x="190" y="665"/>
                </a:lnTo>
                <a:lnTo>
                  <a:pt x="190" y="660"/>
                </a:lnTo>
                <a:lnTo>
                  <a:pt x="196" y="656"/>
                </a:lnTo>
                <a:lnTo>
                  <a:pt x="198" y="656"/>
                </a:lnTo>
                <a:lnTo>
                  <a:pt x="200" y="651"/>
                </a:lnTo>
                <a:lnTo>
                  <a:pt x="189" y="658"/>
                </a:lnTo>
                <a:lnTo>
                  <a:pt x="187" y="658"/>
                </a:lnTo>
                <a:lnTo>
                  <a:pt x="185" y="662"/>
                </a:lnTo>
                <a:lnTo>
                  <a:pt x="183" y="667"/>
                </a:lnTo>
                <a:lnTo>
                  <a:pt x="183" y="671"/>
                </a:lnTo>
                <a:lnTo>
                  <a:pt x="185" y="673"/>
                </a:lnTo>
                <a:lnTo>
                  <a:pt x="183" y="675"/>
                </a:lnTo>
                <a:lnTo>
                  <a:pt x="172" y="682"/>
                </a:lnTo>
                <a:lnTo>
                  <a:pt x="170" y="682"/>
                </a:lnTo>
                <a:lnTo>
                  <a:pt x="161" y="682"/>
                </a:lnTo>
                <a:lnTo>
                  <a:pt x="154" y="676"/>
                </a:lnTo>
                <a:lnTo>
                  <a:pt x="143" y="660"/>
                </a:lnTo>
                <a:lnTo>
                  <a:pt x="139" y="647"/>
                </a:lnTo>
                <a:lnTo>
                  <a:pt x="145" y="645"/>
                </a:lnTo>
                <a:lnTo>
                  <a:pt x="154" y="649"/>
                </a:lnTo>
                <a:lnTo>
                  <a:pt x="158" y="649"/>
                </a:lnTo>
                <a:lnTo>
                  <a:pt x="159" y="651"/>
                </a:lnTo>
                <a:lnTo>
                  <a:pt x="161" y="653"/>
                </a:lnTo>
                <a:lnTo>
                  <a:pt x="165" y="653"/>
                </a:lnTo>
                <a:lnTo>
                  <a:pt x="176" y="654"/>
                </a:lnTo>
                <a:lnTo>
                  <a:pt x="154" y="644"/>
                </a:lnTo>
                <a:lnTo>
                  <a:pt x="137" y="644"/>
                </a:lnTo>
                <a:lnTo>
                  <a:pt x="121" y="634"/>
                </a:lnTo>
                <a:lnTo>
                  <a:pt x="101" y="622"/>
                </a:lnTo>
                <a:lnTo>
                  <a:pt x="99" y="618"/>
                </a:lnTo>
                <a:lnTo>
                  <a:pt x="101" y="616"/>
                </a:lnTo>
                <a:lnTo>
                  <a:pt x="104" y="614"/>
                </a:lnTo>
                <a:lnTo>
                  <a:pt x="110" y="611"/>
                </a:lnTo>
                <a:lnTo>
                  <a:pt x="119" y="609"/>
                </a:lnTo>
                <a:lnTo>
                  <a:pt x="132" y="611"/>
                </a:lnTo>
                <a:lnTo>
                  <a:pt x="137" y="614"/>
                </a:lnTo>
                <a:lnTo>
                  <a:pt x="139" y="618"/>
                </a:lnTo>
                <a:lnTo>
                  <a:pt x="147" y="622"/>
                </a:lnTo>
                <a:lnTo>
                  <a:pt x="170" y="629"/>
                </a:lnTo>
                <a:lnTo>
                  <a:pt x="176" y="631"/>
                </a:lnTo>
                <a:lnTo>
                  <a:pt x="178" y="631"/>
                </a:lnTo>
                <a:lnTo>
                  <a:pt x="179" y="629"/>
                </a:lnTo>
                <a:lnTo>
                  <a:pt x="154" y="622"/>
                </a:lnTo>
                <a:lnTo>
                  <a:pt x="152" y="622"/>
                </a:lnTo>
                <a:lnTo>
                  <a:pt x="148" y="622"/>
                </a:lnTo>
                <a:lnTo>
                  <a:pt x="147" y="620"/>
                </a:lnTo>
                <a:lnTo>
                  <a:pt x="130" y="601"/>
                </a:lnTo>
                <a:lnTo>
                  <a:pt x="132" y="596"/>
                </a:lnTo>
                <a:lnTo>
                  <a:pt x="134" y="594"/>
                </a:lnTo>
                <a:lnTo>
                  <a:pt x="141" y="596"/>
                </a:lnTo>
                <a:lnTo>
                  <a:pt x="145" y="596"/>
                </a:lnTo>
                <a:lnTo>
                  <a:pt x="150" y="600"/>
                </a:lnTo>
                <a:lnTo>
                  <a:pt x="154" y="603"/>
                </a:lnTo>
                <a:lnTo>
                  <a:pt x="178" y="609"/>
                </a:lnTo>
                <a:lnTo>
                  <a:pt x="178" y="605"/>
                </a:lnTo>
                <a:lnTo>
                  <a:pt x="176" y="603"/>
                </a:lnTo>
                <a:lnTo>
                  <a:pt x="165" y="600"/>
                </a:lnTo>
                <a:lnTo>
                  <a:pt x="158" y="598"/>
                </a:lnTo>
                <a:lnTo>
                  <a:pt x="137" y="590"/>
                </a:lnTo>
                <a:lnTo>
                  <a:pt x="136" y="589"/>
                </a:lnTo>
                <a:lnTo>
                  <a:pt x="132" y="583"/>
                </a:lnTo>
                <a:lnTo>
                  <a:pt x="134" y="567"/>
                </a:lnTo>
                <a:lnTo>
                  <a:pt x="136" y="565"/>
                </a:lnTo>
                <a:lnTo>
                  <a:pt x="143" y="559"/>
                </a:lnTo>
                <a:lnTo>
                  <a:pt x="156" y="558"/>
                </a:lnTo>
                <a:lnTo>
                  <a:pt x="158" y="558"/>
                </a:lnTo>
                <a:lnTo>
                  <a:pt x="170" y="559"/>
                </a:lnTo>
                <a:lnTo>
                  <a:pt x="172" y="561"/>
                </a:lnTo>
                <a:lnTo>
                  <a:pt x="183" y="572"/>
                </a:lnTo>
                <a:lnTo>
                  <a:pt x="190" y="576"/>
                </a:lnTo>
                <a:lnTo>
                  <a:pt x="178" y="561"/>
                </a:lnTo>
                <a:lnTo>
                  <a:pt x="167" y="556"/>
                </a:lnTo>
                <a:lnTo>
                  <a:pt x="158" y="554"/>
                </a:lnTo>
                <a:lnTo>
                  <a:pt x="156" y="552"/>
                </a:lnTo>
                <a:lnTo>
                  <a:pt x="154" y="545"/>
                </a:lnTo>
                <a:lnTo>
                  <a:pt x="158" y="532"/>
                </a:lnTo>
                <a:lnTo>
                  <a:pt x="163" y="514"/>
                </a:lnTo>
                <a:lnTo>
                  <a:pt x="165" y="512"/>
                </a:lnTo>
                <a:lnTo>
                  <a:pt x="168" y="510"/>
                </a:lnTo>
                <a:lnTo>
                  <a:pt x="168" y="508"/>
                </a:lnTo>
                <a:lnTo>
                  <a:pt x="172" y="508"/>
                </a:lnTo>
                <a:lnTo>
                  <a:pt x="174" y="508"/>
                </a:lnTo>
                <a:lnTo>
                  <a:pt x="178" y="508"/>
                </a:lnTo>
                <a:lnTo>
                  <a:pt x="179" y="510"/>
                </a:lnTo>
                <a:lnTo>
                  <a:pt x="183" y="510"/>
                </a:lnTo>
                <a:lnTo>
                  <a:pt x="183" y="508"/>
                </a:lnTo>
                <a:lnTo>
                  <a:pt x="176" y="506"/>
                </a:lnTo>
                <a:lnTo>
                  <a:pt x="161" y="508"/>
                </a:lnTo>
                <a:lnTo>
                  <a:pt x="161" y="512"/>
                </a:lnTo>
                <a:lnTo>
                  <a:pt x="159" y="523"/>
                </a:lnTo>
                <a:lnTo>
                  <a:pt x="150" y="541"/>
                </a:lnTo>
                <a:lnTo>
                  <a:pt x="148" y="554"/>
                </a:lnTo>
                <a:lnTo>
                  <a:pt x="145" y="556"/>
                </a:lnTo>
                <a:lnTo>
                  <a:pt x="143" y="558"/>
                </a:lnTo>
                <a:lnTo>
                  <a:pt x="141" y="556"/>
                </a:lnTo>
                <a:lnTo>
                  <a:pt x="130" y="547"/>
                </a:lnTo>
                <a:lnTo>
                  <a:pt x="128" y="537"/>
                </a:lnTo>
                <a:lnTo>
                  <a:pt x="128" y="521"/>
                </a:lnTo>
                <a:lnTo>
                  <a:pt x="128" y="503"/>
                </a:lnTo>
                <a:lnTo>
                  <a:pt x="126" y="499"/>
                </a:lnTo>
                <a:lnTo>
                  <a:pt x="125" y="495"/>
                </a:lnTo>
                <a:lnTo>
                  <a:pt x="123" y="490"/>
                </a:lnTo>
                <a:lnTo>
                  <a:pt x="123" y="488"/>
                </a:lnTo>
                <a:lnTo>
                  <a:pt x="125" y="486"/>
                </a:lnTo>
                <a:lnTo>
                  <a:pt x="130" y="479"/>
                </a:lnTo>
                <a:lnTo>
                  <a:pt x="134" y="481"/>
                </a:lnTo>
                <a:lnTo>
                  <a:pt x="137" y="481"/>
                </a:lnTo>
                <a:lnTo>
                  <a:pt x="143" y="481"/>
                </a:lnTo>
                <a:lnTo>
                  <a:pt x="147" y="479"/>
                </a:lnTo>
                <a:lnTo>
                  <a:pt x="154" y="479"/>
                </a:lnTo>
                <a:lnTo>
                  <a:pt x="159" y="481"/>
                </a:lnTo>
                <a:lnTo>
                  <a:pt x="159" y="479"/>
                </a:lnTo>
                <a:lnTo>
                  <a:pt x="156" y="477"/>
                </a:lnTo>
                <a:lnTo>
                  <a:pt x="150" y="477"/>
                </a:lnTo>
                <a:lnTo>
                  <a:pt x="147" y="477"/>
                </a:lnTo>
                <a:lnTo>
                  <a:pt x="143" y="479"/>
                </a:lnTo>
                <a:lnTo>
                  <a:pt x="141" y="479"/>
                </a:lnTo>
                <a:lnTo>
                  <a:pt x="139" y="479"/>
                </a:lnTo>
                <a:lnTo>
                  <a:pt x="136" y="479"/>
                </a:lnTo>
                <a:lnTo>
                  <a:pt x="130" y="474"/>
                </a:lnTo>
                <a:lnTo>
                  <a:pt x="128" y="468"/>
                </a:lnTo>
                <a:lnTo>
                  <a:pt x="132" y="464"/>
                </a:lnTo>
                <a:lnTo>
                  <a:pt x="141" y="457"/>
                </a:lnTo>
                <a:lnTo>
                  <a:pt x="147" y="455"/>
                </a:lnTo>
                <a:lnTo>
                  <a:pt x="152" y="457"/>
                </a:lnTo>
                <a:lnTo>
                  <a:pt x="161" y="463"/>
                </a:lnTo>
                <a:lnTo>
                  <a:pt x="163" y="461"/>
                </a:lnTo>
                <a:lnTo>
                  <a:pt x="165" y="450"/>
                </a:lnTo>
                <a:lnTo>
                  <a:pt x="154" y="441"/>
                </a:lnTo>
                <a:lnTo>
                  <a:pt x="141" y="437"/>
                </a:lnTo>
                <a:lnTo>
                  <a:pt x="128" y="428"/>
                </a:lnTo>
                <a:lnTo>
                  <a:pt x="119" y="422"/>
                </a:lnTo>
                <a:lnTo>
                  <a:pt x="110" y="417"/>
                </a:lnTo>
                <a:lnTo>
                  <a:pt x="106" y="417"/>
                </a:lnTo>
                <a:lnTo>
                  <a:pt x="104" y="417"/>
                </a:lnTo>
                <a:lnTo>
                  <a:pt x="103" y="411"/>
                </a:lnTo>
                <a:lnTo>
                  <a:pt x="104" y="410"/>
                </a:lnTo>
                <a:lnTo>
                  <a:pt x="115" y="406"/>
                </a:lnTo>
                <a:lnTo>
                  <a:pt x="159" y="410"/>
                </a:lnTo>
                <a:lnTo>
                  <a:pt x="161" y="410"/>
                </a:lnTo>
                <a:lnTo>
                  <a:pt x="165" y="413"/>
                </a:lnTo>
                <a:lnTo>
                  <a:pt x="170" y="413"/>
                </a:lnTo>
                <a:lnTo>
                  <a:pt x="179" y="413"/>
                </a:lnTo>
                <a:lnTo>
                  <a:pt x="189" y="411"/>
                </a:lnTo>
                <a:lnTo>
                  <a:pt x="205" y="422"/>
                </a:lnTo>
                <a:lnTo>
                  <a:pt x="214" y="426"/>
                </a:lnTo>
                <a:lnTo>
                  <a:pt x="225" y="428"/>
                </a:lnTo>
                <a:lnTo>
                  <a:pt x="229" y="428"/>
                </a:lnTo>
                <a:lnTo>
                  <a:pt x="234" y="426"/>
                </a:lnTo>
                <a:lnTo>
                  <a:pt x="234" y="424"/>
                </a:lnTo>
                <a:lnTo>
                  <a:pt x="236" y="422"/>
                </a:lnTo>
                <a:lnTo>
                  <a:pt x="236" y="419"/>
                </a:lnTo>
                <a:lnTo>
                  <a:pt x="234" y="417"/>
                </a:lnTo>
                <a:lnTo>
                  <a:pt x="234" y="419"/>
                </a:lnTo>
                <a:lnTo>
                  <a:pt x="234" y="420"/>
                </a:lnTo>
                <a:lnTo>
                  <a:pt x="232" y="422"/>
                </a:lnTo>
                <a:lnTo>
                  <a:pt x="229" y="426"/>
                </a:lnTo>
                <a:lnTo>
                  <a:pt x="227" y="426"/>
                </a:lnTo>
                <a:lnTo>
                  <a:pt x="223" y="424"/>
                </a:lnTo>
                <a:lnTo>
                  <a:pt x="216" y="420"/>
                </a:lnTo>
                <a:lnTo>
                  <a:pt x="207" y="415"/>
                </a:lnTo>
                <a:lnTo>
                  <a:pt x="200" y="408"/>
                </a:lnTo>
                <a:lnTo>
                  <a:pt x="200" y="400"/>
                </a:lnTo>
                <a:lnTo>
                  <a:pt x="207" y="400"/>
                </a:lnTo>
                <a:lnTo>
                  <a:pt x="209" y="404"/>
                </a:lnTo>
                <a:lnTo>
                  <a:pt x="212" y="406"/>
                </a:lnTo>
                <a:lnTo>
                  <a:pt x="214" y="408"/>
                </a:lnTo>
                <a:lnTo>
                  <a:pt x="216" y="408"/>
                </a:lnTo>
                <a:lnTo>
                  <a:pt x="220" y="410"/>
                </a:lnTo>
                <a:lnTo>
                  <a:pt x="240" y="410"/>
                </a:lnTo>
                <a:lnTo>
                  <a:pt x="234" y="408"/>
                </a:lnTo>
                <a:lnTo>
                  <a:pt x="231" y="406"/>
                </a:lnTo>
                <a:lnTo>
                  <a:pt x="227" y="406"/>
                </a:lnTo>
                <a:lnTo>
                  <a:pt x="223" y="406"/>
                </a:lnTo>
                <a:lnTo>
                  <a:pt x="220" y="406"/>
                </a:lnTo>
                <a:lnTo>
                  <a:pt x="216" y="406"/>
                </a:lnTo>
                <a:lnTo>
                  <a:pt x="212" y="404"/>
                </a:lnTo>
                <a:lnTo>
                  <a:pt x="194" y="388"/>
                </a:lnTo>
                <a:lnTo>
                  <a:pt x="189" y="389"/>
                </a:lnTo>
                <a:lnTo>
                  <a:pt x="187" y="389"/>
                </a:lnTo>
                <a:lnTo>
                  <a:pt x="183" y="391"/>
                </a:lnTo>
                <a:lnTo>
                  <a:pt x="172" y="395"/>
                </a:lnTo>
                <a:lnTo>
                  <a:pt x="165" y="393"/>
                </a:lnTo>
                <a:lnTo>
                  <a:pt x="163" y="393"/>
                </a:lnTo>
                <a:lnTo>
                  <a:pt x="161" y="389"/>
                </a:lnTo>
                <a:lnTo>
                  <a:pt x="128" y="386"/>
                </a:lnTo>
                <a:lnTo>
                  <a:pt x="121" y="386"/>
                </a:lnTo>
                <a:lnTo>
                  <a:pt x="117" y="388"/>
                </a:lnTo>
                <a:lnTo>
                  <a:pt x="114" y="388"/>
                </a:lnTo>
                <a:lnTo>
                  <a:pt x="106" y="388"/>
                </a:lnTo>
                <a:lnTo>
                  <a:pt x="104" y="386"/>
                </a:lnTo>
                <a:lnTo>
                  <a:pt x="97" y="384"/>
                </a:lnTo>
                <a:lnTo>
                  <a:pt x="95" y="382"/>
                </a:lnTo>
                <a:lnTo>
                  <a:pt x="115" y="355"/>
                </a:lnTo>
                <a:lnTo>
                  <a:pt x="121" y="349"/>
                </a:lnTo>
                <a:lnTo>
                  <a:pt x="136" y="335"/>
                </a:lnTo>
                <a:lnTo>
                  <a:pt x="148" y="333"/>
                </a:lnTo>
                <a:lnTo>
                  <a:pt x="150" y="333"/>
                </a:lnTo>
                <a:lnTo>
                  <a:pt x="154" y="335"/>
                </a:lnTo>
                <a:lnTo>
                  <a:pt x="161" y="327"/>
                </a:lnTo>
                <a:lnTo>
                  <a:pt x="172" y="316"/>
                </a:lnTo>
                <a:lnTo>
                  <a:pt x="165" y="311"/>
                </a:lnTo>
                <a:lnTo>
                  <a:pt x="163" y="311"/>
                </a:lnTo>
                <a:lnTo>
                  <a:pt x="161" y="311"/>
                </a:lnTo>
                <a:lnTo>
                  <a:pt x="159" y="311"/>
                </a:lnTo>
                <a:lnTo>
                  <a:pt x="156" y="313"/>
                </a:lnTo>
                <a:lnTo>
                  <a:pt x="152" y="313"/>
                </a:lnTo>
                <a:lnTo>
                  <a:pt x="143" y="300"/>
                </a:lnTo>
                <a:lnTo>
                  <a:pt x="141" y="294"/>
                </a:lnTo>
                <a:lnTo>
                  <a:pt x="141" y="293"/>
                </a:lnTo>
                <a:lnTo>
                  <a:pt x="134" y="291"/>
                </a:lnTo>
                <a:lnTo>
                  <a:pt x="106" y="293"/>
                </a:lnTo>
                <a:lnTo>
                  <a:pt x="106" y="298"/>
                </a:lnTo>
                <a:lnTo>
                  <a:pt x="110" y="298"/>
                </a:lnTo>
                <a:lnTo>
                  <a:pt x="114" y="298"/>
                </a:lnTo>
                <a:lnTo>
                  <a:pt x="125" y="300"/>
                </a:lnTo>
                <a:lnTo>
                  <a:pt x="123" y="302"/>
                </a:lnTo>
                <a:lnTo>
                  <a:pt x="121" y="304"/>
                </a:lnTo>
                <a:lnTo>
                  <a:pt x="117" y="304"/>
                </a:lnTo>
                <a:lnTo>
                  <a:pt x="112" y="304"/>
                </a:lnTo>
                <a:lnTo>
                  <a:pt x="104" y="302"/>
                </a:lnTo>
                <a:lnTo>
                  <a:pt x="81" y="293"/>
                </a:lnTo>
                <a:lnTo>
                  <a:pt x="70" y="289"/>
                </a:lnTo>
                <a:lnTo>
                  <a:pt x="62" y="280"/>
                </a:lnTo>
                <a:lnTo>
                  <a:pt x="62" y="278"/>
                </a:lnTo>
                <a:lnTo>
                  <a:pt x="59" y="274"/>
                </a:lnTo>
                <a:lnTo>
                  <a:pt x="28" y="280"/>
                </a:lnTo>
                <a:lnTo>
                  <a:pt x="22" y="282"/>
                </a:lnTo>
                <a:lnTo>
                  <a:pt x="15" y="283"/>
                </a:lnTo>
                <a:lnTo>
                  <a:pt x="13" y="285"/>
                </a:lnTo>
                <a:lnTo>
                  <a:pt x="8" y="291"/>
                </a:lnTo>
                <a:lnTo>
                  <a:pt x="9" y="293"/>
                </a:lnTo>
                <a:lnTo>
                  <a:pt x="13" y="289"/>
                </a:lnTo>
                <a:lnTo>
                  <a:pt x="24" y="285"/>
                </a:lnTo>
                <a:lnTo>
                  <a:pt x="28" y="285"/>
                </a:lnTo>
                <a:lnTo>
                  <a:pt x="30" y="285"/>
                </a:lnTo>
                <a:lnTo>
                  <a:pt x="37" y="302"/>
                </a:lnTo>
                <a:lnTo>
                  <a:pt x="37" y="304"/>
                </a:lnTo>
                <a:lnTo>
                  <a:pt x="30" y="307"/>
                </a:lnTo>
                <a:lnTo>
                  <a:pt x="26" y="309"/>
                </a:lnTo>
                <a:lnTo>
                  <a:pt x="22" y="309"/>
                </a:lnTo>
                <a:lnTo>
                  <a:pt x="20" y="309"/>
                </a:lnTo>
                <a:lnTo>
                  <a:pt x="15" y="307"/>
                </a:lnTo>
                <a:lnTo>
                  <a:pt x="8" y="302"/>
                </a:lnTo>
                <a:lnTo>
                  <a:pt x="2" y="293"/>
                </a:lnTo>
                <a:lnTo>
                  <a:pt x="0" y="287"/>
                </a:lnTo>
                <a:lnTo>
                  <a:pt x="2" y="278"/>
                </a:lnTo>
                <a:lnTo>
                  <a:pt x="8" y="272"/>
                </a:lnTo>
                <a:lnTo>
                  <a:pt x="9" y="271"/>
                </a:lnTo>
                <a:lnTo>
                  <a:pt x="31" y="260"/>
                </a:lnTo>
                <a:lnTo>
                  <a:pt x="35" y="256"/>
                </a:lnTo>
                <a:lnTo>
                  <a:pt x="62" y="238"/>
                </a:lnTo>
                <a:lnTo>
                  <a:pt x="66" y="238"/>
                </a:lnTo>
                <a:lnTo>
                  <a:pt x="73" y="238"/>
                </a:lnTo>
                <a:lnTo>
                  <a:pt x="88" y="229"/>
                </a:lnTo>
                <a:lnTo>
                  <a:pt x="92" y="221"/>
                </a:lnTo>
                <a:lnTo>
                  <a:pt x="97" y="210"/>
                </a:lnTo>
                <a:lnTo>
                  <a:pt x="99" y="201"/>
                </a:lnTo>
                <a:lnTo>
                  <a:pt x="101" y="201"/>
                </a:lnTo>
                <a:lnTo>
                  <a:pt x="130" y="197"/>
                </a:lnTo>
                <a:lnTo>
                  <a:pt x="152" y="197"/>
                </a:lnTo>
                <a:lnTo>
                  <a:pt x="154" y="199"/>
                </a:lnTo>
                <a:lnTo>
                  <a:pt x="156" y="201"/>
                </a:lnTo>
                <a:lnTo>
                  <a:pt x="168" y="221"/>
                </a:lnTo>
                <a:lnTo>
                  <a:pt x="168" y="223"/>
                </a:lnTo>
                <a:lnTo>
                  <a:pt x="168" y="225"/>
                </a:lnTo>
                <a:lnTo>
                  <a:pt x="167" y="229"/>
                </a:lnTo>
                <a:lnTo>
                  <a:pt x="167" y="230"/>
                </a:lnTo>
                <a:lnTo>
                  <a:pt x="163" y="232"/>
                </a:lnTo>
                <a:lnTo>
                  <a:pt x="159" y="234"/>
                </a:lnTo>
                <a:lnTo>
                  <a:pt x="154" y="236"/>
                </a:lnTo>
                <a:lnTo>
                  <a:pt x="148" y="238"/>
                </a:lnTo>
                <a:lnTo>
                  <a:pt x="136" y="241"/>
                </a:lnTo>
                <a:lnTo>
                  <a:pt x="134" y="241"/>
                </a:lnTo>
                <a:lnTo>
                  <a:pt x="130" y="240"/>
                </a:lnTo>
                <a:lnTo>
                  <a:pt x="126" y="238"/>
                </a:lnTo>
                <a:lnTo>
                  <a:pt x="125" y="236"/>
                </a:lnTo>
                <a:lnTo>
                  <a:pt x="119" y="234"/>
                </a:lnTo>
                <a:lnTo>
                  <a:pt x="128" y="240"/>
                </a:lnTo>
                <a:lnTo>
                  <a:pt x="130" y="241"/>
                </a:lnTo>
                <a:lnTo>
                  <a:pt x="132" y="243"/>
                </a:lnTo>
                <a:lnTo>
                  <a:pt x="134" y="243"/>
                </a:lnTo>
                <a:lnTo>
                  <a:pt x="143" y="241"/>
                </a:lnTo>
                <a:lnTo>
                  <a:pt x="152" y="240"/>
                </a:lnTo>
                <a:lnTo>
                  <a:pt x="161" y="236"/>
                </a:lnTo>
                <a:lnTo>
                  <a:pt x="168" y="232"/>
                </a:lnTo>
                <a:lnTo>
                  <a:pt x="170" y="230"/>
                </a:lnTo>
                <a:lnTo>
                  <a:pt x="176" y="230"/>
                </a:lnTo>
                <a:lnTo>
                  <a:pt x="189" y="240"/>
                </a:lnTo>
                <a:lnTo>
                  <a:pt x="189" y="245"/>
                </a:lnTo>
                <a:lnTo>
                  <a:pt x="187" y="249"/>
                </a:lnTo>
                <a:lnTo>
                  <a:pt x="187" y="252"/>
                </a:lnTo>
                <a:lnTo>
                  <a:pt x="185" y="254"/>
                </a:lnTo>
                <a:lnTo>
                  <a:pt x="178" y="260"/>
                </a:lnTo>
                <a:lnTo>
                  <a:pt x="174" y="261"/>
                </a:lnTo>
                <a:lnTo>
                  <a:pt x="167" y="271"/>
                </a:lnTo>
                <a:lnTo>
                  <a:pt x="174" y="274"/>
                </a:lnTo>
                <a:lnTo>
                  <a:pt x="178" y="274"/>
                </a:lnTo>
                <a:lnTo>
                  <a:pt x="181" y="274"/>
                </a:lnTo>
                <a:lnTo>
                  <a:pt x="183" y="272"/>
                </a:lnTo>
                <a:lnTo>
                  <a:pt x="207" y="243"/>
                </a:lnTo>
                <a:lnTo>
                  <a:pt x="222" y="225"/>
                </a:lnTo>
                <a:lnTo>
                  <a:pt x="220" y="223"/>
                </a:lnTo>
                <a:lnTo>
                  <a:pt x="211" y="232"/>
                </a:lnTo>
                <a:lnTo>
                  <a:pt x="203" y="229"/>
                </a:lnTo>
                <a:lnTo>
                  <a:pt x="198" y="216"/>
                </a:lnTo>
                <a:lnTo>
                  <a:pt x="211" y="199"/>
                </a:lnTo>
                <a:lnTo>
                  <a:pt x="220" y="190"/>
                </a:lnTo>
                <a:lnTo>
                  <a:pt x="222" y="190"/>
                </a:lnTo>
                <a:lnTo>
                  <a:pt x="225" y="188"/>
                </a:lnTo>
                <a:lnTo>
                  <a:pt x="227" y="187"/>
                </a:lnTo>
                <a:lnTo>
                  <a:pt x="229" y="187"/>
                </a:lnTo>
                <a:lnTo>
                  <a:pt x="234" y="187"/>
                </a:lnTo>
                <a:lnTo>
                  <a:pt x="240" y="187"/>
                </a:lnTo>
                <a:lnTo>
                  <a:pt x="243" y="187"/>
                </a:lnTo>
                <a:lnTo>
                  <a:pt x="245" y="185"/>
                </a:lnTo>
                <a:lnTo>
                  <a:pt x="231" y="181"/>
                </a:lnTo>
                <a:lnTo>
                  <a:pt x="227" y="183"/>
                </a:lnTo>
                <a:lnTo>
                  <a:pt x="223" y="183"/>
                </a:lnTo>
                <a:lnTo>
                  <a:pt x="220" y="185"/>
                </a:lnTo>
                <a:lnTo>
                  <a:pt x="218" y="188"/>
                </a:lnTo>
                <a:lnTo>
                  <a:pt x="216" y="190"/>
                </a:lnTo>
                <a:lnTo>
                  <a:pt x="209" y="196"/>
                </a:lnTo>
                <a:lnTo>
                  <a:pt x="207" y="196"/>
                </a:lnTo>
                <a:lnTo>
                  <a:pt x="207" y="187"/>
                </a:lnTo>
                <a:lnTo>
                  <a:pt x="212" y="165"/>
                </a:lnTo>
                <a:lnTo>
                  <a:pt x="223" y="157"/>
                </a:lnTo>
                <a:lnTo>
                  <a:pt x="234" y="152"/>
                </a:lnTo>
                <a:lnTo>
                  <a:pt x="242" y="150"/>
                </a:lnTo>
                <a:lnTo>
                  <a:pt x="245" y="152"/>
                </a:lnTo>
                <a:lnTo>
                  <a:pt x="245" y="155"/>
                </a:lnTo>
                <a:lnTo>
                  <a:pt x="249" y="157"/>
                </a:lnTo>
                <a:lnTo>
                  <a:pt x="253" y="159"/>
                </a:lnTo>
                <a:lnTo>
                  <a:pt x="262" y="165"/>
                </a:lnTo>
                <a:lnTo>
                  <a:pt x="267" y="165"/>
                </a:lnTo>
                <a:lnTo>
                  <a:pt x="275" y="166"/>
                </a:lnTo>
                <a:lnTo>
                  <a:pt x="276" y="166"/>
                </a:lnTo>
                <a:lnTo>
                  <a:pt x="278" y="161"/>
                </a:lnTo>
                <a:lnTo>
                  <a:pt x="278" y="159"/>
                </a:lnTo>
                <a:lnTo>
                  <a:pt x="273" y="159"/>
                </a:lnTo>
                <a:lnTo>
                  <a:pt x="249" y="150"/>
                </a:lnTo>
                <a:lnTo>
                  <a:pt x="240" y="144"/>
                </a:lnTo>
                <a:lnTo>
                  <a:pt x="238" y="144"/>
                </a:lnTo>
                <a:lnTo>
                  <a:pt x="236" y="144"/>
                </a:lnTo>
                <a:lnTo>
                  <a:pt x="232" y="146"/>
                </a:lnTo>
                <a:lnTo>
                  <a:pt x="231" y="148"/>
                </a:lnTo>
                <a:lnTo>
                  <a:pt x="227" y="150"/>
                </a:lnTo>
                <a:lnTo>
                  <a:pt x="223" y="148"/>
                </a:lnTo>
                <a:lnTo>
                  <a:pt x="220" y="148"/>
                </a:lnTo>
                <a:lnTo>
                  <a:pt x="218" y="148"/>
                </a:lnTo>
                <a:lnTo>
                  <a:pt x="218" y="144"/>
                </a:lnTo>
                <a:lnTo>
                  <a:pt x="223" y="121"/>
                </a:lnTo>
                <a:lnTo>
                  <a:pt x="227" y="117"/>
                </a:lnTo>
                <a:lnTo>
                  <a:pt x="229" y="117"/>
                </a:lnTo>
                <a:lnTo>
                  <a:pt x="231" y="117"/>
                </a:lnTo>
                <a:lnTo>
                  <a:pt x="234" y="117"/>
                </a:lnTo>
                <a:lnTo>
                  <a:pt x="238" y="117"/>
                </a:lnTo>
                <a:lnTo>
                  <a:pt x="240" y="117"/>
                </a:lnTo>
                <a:lnTo>
                  <a:pt x="249" y="115"/>
                </a:lnTo>
                <a:lnTo>
                  <a:pt x="267" y="108"/>
                </a:lnTo>
                <a:lnTo>
                  <a:pt x="273" y="104"/>
                </a:lnTo>
                <a:lnTo>
                  <a:pt x="285" y="97"/>
                </a:lnTo>
                <a:lnTo>
                  <a:pt x="289" y="91"/>
                </a:lnTo>
                <a:lnTo>
                  <a:pt x="291" y="86"/>
                </a:lnTo>
                <a:lnTo>
                  <a:pt x="300" y="70"/>
                </a:lnTo>
                <a:lnTo>
                  <a:pt x="300" y="60"/>
                </a:lnTo>
                <a:lnTo>
                  <a:pt x="295" y="64"/>
                </a:lnTo>
                <a:lnTo>
                  <a:pt x="287" y="68"/>
                </a:lnTo>
                <a:lnTo>
                  <a:pt x="245" y="49"/>
                </a:lnTo>
                <a:lnTo>
                  <a:pt x="234" y="42"/>
                </a:lnTo>
                <a:lnTo>
                  <a:pt x="234" y="38"/>
                </a:lnTo>
                <a:lnTo>
                  <a:pt x="236" y="35"/>
                </a:lnTo>
                <a:lnTo>
                  <a:pt x="260" y="6"/>
                </a:lnTo>
                <a:lnTo>
                  <a:pt x="264" y="6"/>
                </a:lnTo>
                <a:lnTo>
                  <a:pt x="267" y="6"/>
                </a:lnTo>
                <a:lnTo>
                  <a:pt x="276" y="4"/>
                </a:lnTo>
                <a:lnTo>
                  <a:pt x="276" y="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4960" y="4832280"/>
            <a:ext cx="162000" cy="230400"/>
          </a:xfrm>
          <a:custGeom>
            <a:avLst/>
            <a:gdLst/>
            <a:ahLst/>
            <a:rect l="l" t="t" r="r" b="b"/>
            <a:pathLst>
              <a:path w="101" h="157">
                <a:moveTo>
                  <a:pt x="81" y="119"/>
                </a:moveTo>
                <a:lnTo>
                  <a:pt x="88" y="126"/>
                </a:lnTo>
                <a:lnTo>
                  <a:pt x="88" y="130"/>
                </a:lnTo>
                <a:lnTo>
                  <a:pt x="86" y="132"/>
                </a:lnTo>
                <a:lnTo>
                  <a:pt x="64" y="130"/>
                </a:lnTo>
                <a:lnTo>
                  <a:pt x="61" y="132"/>
                </a:lnTo>
                <a:lnTo>
                  <a:pt x="63" y="139"/>
                </a:lnTo>
                <a:lnTo>
                  <a:pt x="64" y="141"/>
                </a:lnTo>
                <a:lnTo>
                  <a:pt x="68" y="143"/>
                </a:lnTo>
                <a:lnTo>
                  <a:pt x="70" y="146"/>
                </a:lnTo>
                <a:lnTo>
                  <a:pt x="68" y="154"/>
                </a:lnTo>
                <a:lnTo>
                  <a:pt x="66" y="155"/>
                </a:lnTo>
                <a:lnTo>
                  <a:pt x="53" y="157"/>
                </a:lnTo>
                <a:lnTo>
                  <a:pt x="26" y="152"/>
                </a:lnTo>
                <a:lnTo>
                  <a:pt x="13" y="148"/>
                </a:lnTo>
                <a:lnTo>
                  <a:pt x="4" y="144"/>
                </a:lnTo>
                <a:lnTo>
                  <a:pt x="2" y="144"/>
                </a:lnTo>
                <a:lnTo>
                  <a:pt x="0" y="143"/>
                </a:lnTo>
                <a:lnTo>
                  <a:pt x="8" y="130"/>
                </a:lnTo>
                <a:lnTo>
                  <a:pt x="17" y="121"/>
                </a:lnTo>
                <a:lnTo>
                  <a:pt x="22" y="108"/>
                </a:lnTo>
                <a:lnTo>
                  <a:pt x="26" y="84"/>
                </a:lnTo>
                <a:lnTo>
                  <a:pt x="26" y="79"/>
                </a:lnTo>
                <a:lnTo>
                  <a:pt x="24" y="73"/>
                </a:lnTo>
                <a:lnTo>
                  <a:pt x="22" y="71"/>
                </a:lnTo>
                <a:lnTo>
                  <a:pt x="21" y="71"/>
                </a:lnTo>
                <a:lnTo>
                  <a:pt x="24" y="46"/>
                </a:lnTo>
                <a:lnTo>
                  <a:pt x="24" y="44"/>
                </a:lnTo>
                <a:lnTo>
                  <a:pt x="26" y="42"/>
                </a:lnTo>
                <a:lnTo>
                  <a:pt x="28" y="40"/>
                </a:lnTo>
                <a:lnTo>
                  <a:pt x="30" y="38"/>
                </a:lnTo>
                <a:lnTo>
                  <a:pt x="33" y="37"/>
                </a:lnTo>
                <a:lnTo>
                  <a:pt x="35" y="29"/>
                </a:lnTo>
                <a:lnTo>
                  <a:pt x="39" y="15"/>
                </a:lnTo>
                <a:lnTo>
                  <a:pt x="35" y="9"/>
                </a:lnTo>
                <a:lnTo>
                  <a:pt x="33" y="7"/>
                </a:lnTo>
                <a:lnTo>
                  <a:pt x="33" y="4"/>
                </a:lnTo>
                <a:lnTo>
                  <a:pt x="37" y="0"/>
                </a:lnTo>
                <a:lnTo>
                  <a:pt x="48" y="2"/>
                </a:lnTo>
                <a:lnTo>
                  <a:pt x="52" y="5"/>
                </a:lnTo>
                <a:lnTo>
                  <a:pt x="68" y="4"/>
                </a:lnTo>
                <a:lnTo>
                  <a:pt x="79" y="4"/>
                </a:lnTo>
                <a:lnTo>
                  <a:pt x="81" y="4"/>
                </a:lnTo>
                <a:lnTo>
                  <a:pt x="88" y="7"/>
                </a:lnTo>
                <a:lnTo>
                  <a:pt x="86" y="20"/>
                </a:lnTo>
                <a:lnTo>
                  <a:pt x="92" y="31"/>
                </a:lnTo>
                <a:lnTo>
                  <a:pt x="99" y="40"/>
                </a:lnTo>
                <a:lnTo>
                  <a:pt x="101" y="46"/>
                </a:lnTo>
                <a:lnTo>
                  <a:pt x="99" y="49"/>
                </a:lnTo>
                <a:lnTo>
                  <a:pt x="99" y="51"/>
                </a:lnTo>
                <a:lnTo>
                  <a:pt x="88" y="53"/>
                </a:lnTo>
                <a:lnTo>
                  <a:pt x="83" y="53"/>
                </a:lnTo>
                <a:lnTo>
                  <a:pt x="81" y="53"/>
                </a:lnTo>
                <a:lnTo>
                  <a:pt x="74" y="57"/>
                </a:lnTo>
                <a:lnTo>
                  <a:pt x="72" y="57"/>
                </a:lnTo>
                <a:lnTo>
                  <a:pt x="61" y="68"/>
                </a:lnTo>
                <a:lnTo>
                  <a:pt x="57" y="71"/>
                </a:lnTo>
                <a:lnTo>
                  <a:pt x="59" y="80"/>
                </a:lnTo>
                <a:lnTo>
                  <a:pt x="77" y="93"/>
                </a:lnTo>
                <a:lnTo>
                  <a:pt x="81" y="95"/>
                </a:lnTo>
                <a:lnTo>
                  <a:pt x="86" y="99"/>
                </a:lnTo>
                <a:lnTo>
                  <a:pt x="88" y="99"/>
                </a:lnTo>
                <a:lnTo>
                  <a:pt x="90" y="104"/>
                </a:lnTo>
                <a:lnTo>
                  <a:pt x="88" y="106"/>
                </a:lnTo>
                <a:lnTo>
                  <a:pt x="81" y="108"/>
                </a:lnTo>
                <a:lnTo>
                  <a:pt x="77" y="108"/>
                </a:lnTo>
                <a:lnTo>
                  <a:pt x="75" y="108"/>
                </a:lnTo>
                <a:lnTo>
                  <a:pt x="74" y="111"/>
                </a:lnTo>
                <a:lnTo>
                  <a:pt x="77" y="115"/>
                </a:lnTo>
                <a:lnTo>
                  <a:pt x="81" y="11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74760" y="5807160"/>
            <a:ext cx="160200" cy="193680"/>
          </a:xfrm>
          <a:custGeom>
            <a:avLst/>
            <a:gdLst/>
            <a:ahLst/>
            <a:rect l="l" t="t" r="r" b="b"/>
            <a:pathLst>
              <a:path w="100" h="132">
                <a:moveTo>
                  <a:pt x="91" y="86"/>
                </a:moveTo>
                <a:lnTo>
                  <a:pt x="88" y="90"/>
                </a:lnTo>
                <a:lnTo>
                  <a:pt x="82" y="97"/>
                </a:lnTo>
                <a:lnTo>
                  <a:pt x="82" y="99"/>
                </a:lnTo>
                <a:lnTo>
                  <a:pt x="89" y="95"/>
                </a:lnTo>
                <a:lnTo>
                  <a:pt x="89" y="94"/>
                </a:lnTo>
                <a:lnTo>
                  <a:pt x="89" y="92"/>
                </a:lnTo>
                <a:lnTo>
                  <a:pt x="95" y="90"/>
                </a:lnTo>
                <a:lnTo>
                  <a:pt x="97" y="92"/>
                </a:lnTo>
                <a:lnTo>
                  <a:pt x="100" y="95"/>
                </a:lnTo>
                <a:lnTo>
                  <a:pt x="100" y="101"/>
                </a:lnTo>
                <a:lnTo>
                  <a:pt x="95" y="119"/>
                </a:lnTo>
                <a:lnTo>
                  <a:pt x="95" y="121"/>
                </a:lnTo>
                <a:lnTo>
                  <a:pt x="88" y="126"/>
                </a:lnTo>
                <a:lnTo>
                  <a:pt x="80" y="132"/>
                </a:lnTo>
                <a:lnTo>
                  <a:pt x="77" y="132"/>
                </a:lnTo>
                <a:lnTo>
                  <a:pt x="68" y="132"/>
                </a:lnTo>
                <a:lnTo>
                  <a:pt x="66" y="132"/>
                </a:lnTo>
                <a:lnTo>
                  <a:pt x="58" y="128"/>
                </a:lnTo>
                <a:lnTo>
                  <a:pt x="57" y="128"/>
                </a:lnTo>
                <a:lnTo>
                  <a:pt x="53" y="119"/>
                </a:lnTo>
                <a:lnTo>
                  <a:pt x="51" y="97"/>
                </a:lnTo>
                <a:lnTo>
                  <a:pt x="46" y="108"/>
                </a:lnTo>
                <a:lnTo>
                  <a:pt x="42" y="117"/>
                </a:lnTo>
                <a:lnTo>
                  <a:pt x="38" y="115"/>
                </a:lnTo>
                <a:lnTo>
                  <a:pt x="31" y="112"/>
                </a:lnTo>
                <a:lnTo>
                  <a:pt x="24" y="103"/>
                </a:lnTo>
                <a:lnTo>
                  <a:pt x="16" y="92"/>
                </a:lnTo>
                <a:lnTo>
                  <a:pt x="18" y="86"/>
                </a:lnTo>
                <a:lnTo>
                  <a:pt x="16" y="79"/>
                </a:lnTo>
                <a:lnTo>
                  <a:pt x="13" y="75"/>
                </a:lnTo>
                <a:lnTo>
                  <a:pt x="9" y="72"/>
                </a:lnTo>
                <a:lnTo>
                  <a:pt x="5" y="73"/>
                </a:lnTo>
                <a:lnTo>
                  <a:pt x="2" y="73"/>
                </a:lnTo>
                <a:lnTo>
                  <a:pt x="0" y="70"/>
                </a:lnTo>
                <a:lnTo>
                  <a:pt x="0" y="66"/>
                </a:lnTo>
                <a:lnTo>
                  <a:pt x="0" y="61"/>
                </a:lnTo>
                <a:lnTo>
                  <a:pt x="4" y="57"/>
                </a:lnTo>
                <a:lnTo>
                  <a:pt x="5" y="57"/>
                </a:lnTo>
                <a:lnTo>
                  <a:pt x="18" y="55"/>
                </a:lnTo>
                <a:lnTo>
                  <a:pt x="36" y="55"/>
                </a:lnTo>
                <a:lnTo>
                  <a:pt x="51" y="62"/>
                </a:lnTo>
                <a:lnTo>
                  <a:pt x="55" y="59"/>
                </a:lnTo>
                <a:lnTo>
                  <a:pt x="60" y="39"/>
                </a:lnTo>
                <a:lnTo>
                  <a:pt x="55" y="35"/>
                </a:lnTo>
                <a:lnTo>
                  <a:pt x="51" y="33"/>
                </a:lnTo>
                <a:lnTo>
                  <a:pt x="49" y="31"/>
                </a:lnTo>
                <a:lnTo>
                  <a:pt x="47" y="30"/>
                </a:lnTo>
                <a:lnTo>
                  <a:pt x="42" y="22"/>
                </a:lnTo>
                <a:lnTo>
                  <a:pt x="38" y="15"/>
                </a:lnTo>
                <a:lnTo>
                  <a:pt x="40" y="11"/>
                </a:lnTo>
                <a:lnTo>
                  <a:pt x="46" y="8"/>
                </a:lnTo>
                <a:lnTo>
                  <a:pt x="60" y="0"/>
                </a:lnTo>
                <a:lnTo>
                  <a:pt x="69" y="0"/>
                </a:lnTo>
                <a:lnTo>
                  <a:pt x="88" y="2"/>
                </a:lnTo>
                <a:lnTo>
                  <a:pt x="89" y="6"/>
                </a:lnTo>
                <a:lnTo>
                  <a:pt x="95" y="26"/>
                </a:lnTo>
                <a:lnTo>
                  <a:pt x="95" y="28"/>
                </a:lnTo>
                <a:lnTo>
                  <a:pt x="97" y="52"/>
                </a:lnTo>
                <a:lnTo>
                  <a:pt x="97" y="61"/>
                </a:lnTo>
                <a:lnTo>
                  <a:pt x="95" y="72"/>
                </a:lnTo>
                <a:lnTo>
                  <a:pt x="93" y="75"/>
                </a:lnTo>
                <a:lnTo>
                  <a:pt x="91" y="79"/>
                </a:lnTo>
                <a:lnTo>
                  <a:pt x="89" y="83"/>
                </a:lnTo>
                <a:lnTo>
                  <a:pt x="91" y="8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06480" y="6337440"/>
            <a:ext cx="520920" cy="350640"/>
          </a:xfrm>
          <a:custGeom>
            <a:avLst/>
            <a:gdLst/>
            <a:ahLst/>
            <a:rect l="l" t="t" r="r" b="b"/>
            <a:pathLst>
              <a:path w="327" h="240">
                <a:moveTo>
                  <a:pt x="327" y="19"/>
                </a:moveTo>
                <a:lnTo>
                  <a:pt x="327" y="26"/>
                </a:lnTo>
                <a:lnTo>
                  <a:pt x="327" y="33"/>
                </a:lnTo>
                <a:lnTo>
                  <a:pt x="327" y="66"/>
                </a:lnTo>
                <a:lnTo>
                  <a:pt x="325" y="79"/>
                </a:lnTo>
                <a:lnTo>
                  <a:pt x="327" y="84"/>
                </a:lnTo>
                <a:lnTo>
                  <a:pt x="327" y="86"/>
                </a:lnTo>
                <a:lnTo>
                  <a:pt x="325" y="103"/>
                </a:lnTo>
                <a:lnTo>
                  <a:pt x="325" y="183"/>
                </a:lnTo>
                <a:lnTo>
                  <a:pt x="325" y="201"/>
                </a:lnTo>
                <a:lnTo>
                  <a:pt x="325" y="225"/>
                </a:lnTo>
                <a:lnTo>
                  <a:pt x="325" y="234"/>
                </a:lnTo>
                <a:lnTo>
                  <a:pt x="323" y="234"/>
                </a:lnTo>
                <a:lnTo>
                  <a:pt x="309" y="238"/>
                </a:lnTo>
                <a:lnTo>
                  <a:pt x="294" y="240"/>
                </a:lnTo>
                <a:lnTo>
                  <a:pt x="285" y="240"/>
                </a:lnTo>
                <a:lnTo>
                  <a:pt x="283" y="240"/>
                </a:lnTo>
                <a:lnTo>
                  <a:pt x="281" y="240"/>
                </a:lnTo>
                <a:lnTo>
                  <a:pt x="280" y="240"/>
                </a:lnTo>
                <a:lnTo>
                  <a:pt x="243" y="232"/>
                </a:lnTo>
                <a:lnTo>
                  <a:pt x="237" y="231"/>
                </a:lnTo>
                <a:lnTo>
                  <a:pt x="227" y="229"/>
                </a:lnTo>
                <a:lnTo>
                  <a:pt x="227" y="225"/>
                </a:lnTo>
                <a:lnTo>
                  <a:pt x="219" y="227"/>
                </a:lnTo>
                <a:lnTo>
                  <a:pt x="184" y="231"/>
                </a:lnTo>
                <a:lnTo>
                  <a:pt x="173" y="232"/>
                </a:lnTo>
                <a:lnTo>
                  <a:pt x="170" y="232"/>
                </a:lnTo>
                <a:lnTo>
                  <a:pt x="166" y="231"/>
                </a:lnTo>
                <a:lnTo>
                  <a:pt x="164" y="231"/>
                </a:lnTo>
                <a:lnTo>
                  <a:pt x="163" y="229"/>
                </a:lnTo>
                <a:lnTo>
                  <a:pt x="159" y="227"/>
                </a:lnTo>
                <a:lnTo>
                  <a:pt x="133" y="227"/>
                </a:lnTo>
                <a:lnTo>
                  <a:pt x="131" y="221"/>
                </a:lnTo>
                <a:lnTo>
                  <a:pt x="135" y="220"/>
                </a:lnTo>
                <a:lnTo>
                  <a:pt x="141" y="218"/>
                </a:lnTo>
                <a:lnTo>
                  <a:pt x="144" y="216"/>
                </a:lnTo>
                <a:lnTo>
                  <a:pt x="150" y="210"/>
                </a:lnTo>
                <a:lnTo>
                  <a:pt x="150" y="209"/>
                </a:lnTo>
                <a:lnTo>
                  <a:pt x="148" y="209"/>
                </a:lnTo>
                <a:lnTo>
                  <a:pt x="141" y="209"/>
                </a:lnTo>
                <a:lnTo>
                  <a:pt x="130" y="214"/>
                </a:lnTo>
                <a:lnTo>
                  <a:pt x="131" y="214"/>
                </a:lnTo>
                <a:lnTo>
                  <a:pt x="131" y="216"/>
                </a:lnTo>
                <a:lnTo>
                  <a:pt x="130" y="216"/>
                </a:lnTo>
                <a:lnTo>
                  <a:pt x="124" y="218"/>
                </a:lnTo>
                <a:lnTo>
                  <a:pt x="120" y="218"/>
                </a:lnTo>
                <a:lnTo>
                  <a:pt x="108" y="220"/>
                </a:lnTo>
                <a:lnTo>
                  <a:pt x="99" y="218"/>
                </a:lnTo>
                <a:lnTo>
                  <a:pt x="73" y="205"/>
                </a:lnTo>
                <a:lnTo>
                  <a:pt x="66" y="200"/>
                </a:lnTo>
                <a:lnTo>
                  <a:pt x="64" y="200"/>
                </a:lnTo>
                <a:lnTo>
                  <a:pt x="58" y="203"/>
                </a:lnTo>
                <a:lnTo>
                  <a:pt x="51" y="214"/>
                </a:lnTo>
                <a:lnTo>
                  <a:pt x="33" y="207"/>
                </a:lnTo>
                <a:lnTo>
                  <a:pt x="29" y="207"/>
                </a:lnTo>
                <a:lnTo>
                  <a:pt x="27" y="209"/>
                </a:lnTo>
                <a:lnTo>
                  <a:pt x="22" y="210"/>
                </a:lnTo>
                <a:lnTo>
                  <a:pt x="20" y="212"/>
                </a:lnTo>
                <a:lnTo>
                  <a:pt x="18" y="212"/>
                </a:lnTo>
                <a:lnTo>
                  <a:pt x="11" y="212"/>
                </a:lnTo>
                <a:lnTo>
                  <a:pt x="9" y="212"/>
                </a:lnTo>
                <a:lnTo>
                  <a:pt x="5" y="212"/>
                </a:lnTo>
                <a:lnTo>
                  <a:pt x="5" y="210"/>
                </a:lnTo>
                <a:lnTo>
                  <a:pt x="3" y="209"/>
                </a:lnTo>
                <a:lnTo>
                  <a:pt x="2" y="203"/>
                </a:lnTo>
                <a:lnTo>
                  <a:pt x="0" y="198"/>
                </a:lnTo>
                <a:lnTo>
                  <a:pt x="2" y="194"/>
                </a:lnTo>
                <a:lnTo>
                  <a:pt x="2" y="192"/>
                </a:lnTo>
                <a:lnTo>
                  <a:pt x="3" y="192"/>
                </a:lnTo>
                <a:lnTo>
                  <a:pt x="9" y="194"/>
                </a:lnTo>
                <a:lnTo>
                  <a:pt x="14" y="196"/>
                </a:lnTo>
                <a:lnTo>
                  <a:pt x="14" y="200"/>
                </a:lnTo>
                <a:lnTo>
                  <a:pt x="16" y="201"/>
                </a:lnTo>
                <a:lnTo>
                  <a:pt x="18" y="201"/>
                </a:lnTo>
                <a:lnTo>
                  <a:pt x="25" y="203"/>
                </a:lnTo>
                <a:lnTo>
                  <a:pt x="31" y="205"/>
                </a:lnTo>
                <a:lnTo>
                  <a:pt x="33" y="205"/>
                </a:lnTo>
                <a:lnTo>
                  <a:pt x="42" y="201"/>
                </a:lnTo>
                <a:lnTo>
                  <a:pt x="51" y="196"/>
                </a:lnTo>
                <a:lnTo>
                  <a:pt x="49" y="194"/>
                </a:lnTo>
                <a:lnTo>
                  <a:pt x="46" y="194"/>
                </a:lnTo>
                <a:lnTo>
                  <a:pt x="44" y="194"/>
                </a:lnTo>
                <a:lnTo>
                  <a:pt x="42" y="194"/>
                </a:lnTo>
                <a:lnTo>
                  <a:pt x="40" y="194"/>
                </a:lnTo>
                <a:lnTo>
                  <a:pt x="40" y="192"/>
                </a:lnTo>
                <a:lnTo>
                  <a:pt x="38" y="189"/>
                </a:lnTo>
                <a:lnTo>
                  <a:pt x="40" y="189"/>
                </a:lnTo>
                <a:lnTo>
                  <a:pt x="62" y="185"/>
                </a:lnTo>
                <a:lnTo>
                  <a:pt x="64" y="185"/>
                </a:lnTo>
                <a:lnTo>
                  <a:pt x="80" y="190"/>
                </a:lnTo>
                <a:lnTo>
                  <a:pt x="100" y="194"/>
                </a:lnTo>
                <a:lnTo>
                  <a:pt x="104" y="189"/>
                </a:lnTo>
                <a:lnTo>
                  <a:pt x="104" y="187"/>
                </a:lnTo>
                <a:lnTo>
                  <a:pt x="104" y="185"/>
                </a:lnTo>
                <a:lnTo>
                  <a:pt x="102" y="183"/>
                </a:lnTo>
                <a:lnTo>
                  <a:pt x="104" y="183"/>
                </a:lnTo>
                <a:lnTo>
                  <a:pt x="108" y="181"/>
                </a:lnTo>
                <a:lnTo>
                  <a:pt x="111" y="179"/>
                </a:lnTo>
                <a:lnTo>
                  <a:pt x="115" y="179"/>
                </a:lnTo>
                <a:lnTo>
                  <a:pt x="119" y="179"/>
                </a:lnTo>
                <a:lnTo>
                  <a:pt x="130" y="181"/>
                </a:lnTo>
                <a:lnTo>
                  <a:pt x="131" y="185"/>
                </a:lnTo>
                <a:lnTo>
                  <a:pt x="128" y="189"/>
                </a:lnTo>
                <a:lnTo>
                  <a:pt x="126" y="192"/>
                </a:lnTo>
                <a:lnTo>
                  <a:pt x="124" y="198"/>
                </a:lnTo>
                <a:lnTo>
                  <a:pt x="120" y="207"/>
                </a:lnTo>
                <a:lnTo>
                  <a:pt x="124" y="203"/>
                </a:lnTo>
                <a:lnTo>
                  <a:pt x="126" y="201"/>
                </a:lnTo>
                <a:lnTo>
                  <a:pt x="126" y="200"/>
                </a:lnTo>
                <a:lnTo>
                  <a:pt x="126" y="198"/>
                </a:lnTo>
                <a:lnTo>
                  <a:pt x="133" y="194"/>
                </a:lnTo>
                <a:lnTo>
                  <a:pt x="135" y="194"/>
                </a:lnTo>
                <a:lnTo>
                  <a:pt x="135" y="192"/>
                </a:lnTo>
                <a:lnTo>
                  <a:pt x="137" y="192"/>
                </a:lnTo>
                <a:lnTo>
                  <a:pt x="139" y="190"/>
                </a:lnTo>
                <a:lnTo>
                  <a:pt x="155" y="196"/>
                </a:lnTo>
                <a:lnTo>
                  <a:pt x="161" y="200"/>
                </a:lnTo>
                <a:lnTo>
                  <a:pt x="161" y="201"/>
                </a:lnTo>
                <a:lnTo>
                  <a:pt x="168" y="203"/>
                </a:lnTo>
                <a:lnTo>
                  <a:pt x="170" y="203"/>
                </a:lnTo>
                <a:lnTo>
                  <a:pt x="181" y="201"/>
                </a:lnTo>
                <a:lnTo>
                  <a:pt x="172" y="198"/>
                </a:lnTo>
                <a:lnTo>
                  <a:pt x="166" y="194"/>
                </a:lnTo>
                <a:lnTo>
                  <a:pt x="163" y="192"/>
                </a:lnTo>
                <a:lnTo>
                  <a:pt x="161" y="192"/>
                </a:lnTo>
                <a:lnTo>
                  <a:pt x="159" y="192"/>
                </a:lnTo>
                <a:lnTo>
                  <a:pt x="157" y="192"/>
                </a:lnTo>
                <a:lnTo>
                  <a:pt x="157" y="190"/>
                </a:lnTo>
                <a:lnTo>
                  <a:pt x="153" y="190"/>
                </a:lnTo>
                <a:lnTo>
                  <a:pt x="153" y="189"/>
                </a:lnTo>
                <a:lnTo>
                  <a:pt x="150" y="187"/>
                </a:lnTo>
                <a:lnTo>
                  <a:pt x="146" y="183"/>
                </a:lnTo>
                <a:lnTo>
                  <a:pt x="146" y="181"/>
                </a:lnTo>
                <a:lnTo>
                  <a:pt x="144" y="179"/>
                </a:lnTo>
                <a:lnTo>
                  <a:pt x="142" y="178"/>
                </a:lnTo>
                <a:lnTo>
                  <a:pt x="141" y="178"/>
                </a:lnTo>
                <a:lnTo>
                  <a:pt x="139" y="176"/>
                </a:lnTo>
                <a:lnTo>
                  <a:pt x="133" y="176"/>
                </a:lnTo>
                <a:lnTo>
                  <a:pt x="131" y="176"/>
                </a:lnTo>
                <a:lnTo>
                  <a:pt x="128" y="174"/>
                </a:lnTo>
                <a:lnTo>
                  <a:pt x="119" y="176"/>
                </a:lnTo>
                <a:lnTo>
                  <a:pt x="115" y="176"/>
                </a:lnTo>
                <a:lnTo>
                  <a:pt x="113" y="174"/>
                </a:lnTo>
                <a:lnTo>
                  <a:pt x="111" y="172"/>
                </a:lnTo>
                <a:lnTo>
                  <a:pt x="109" y="172"/>
                </a:lnTo>
                <a:lnTo>
                  <a:pt x="106" y="163"/>
                </a:lnTo>
                <a:lnTo>
                  <a:pt x="109" y="161"/>
                </a:lnTo>
                <a:lnTo>
                  <a:pt x="161" y="179"/>
                </a:lnTo>
                <a:lnTo>
                  <a:pt x="172" y="187"/>
                </a:lnTo>
                <a:lnTo>
                  <a:pt x="179" y="190"/>
                </a:lnTo>
                <a:lnTo>
                  <a:pt x="181" y="190"/>
                </a:lnTo>
                <a:lnTo>
                  <a:pt x="186" y="185"/>
                </a:lnTo>
                <a:lnTo>
                  <a:pt x="188" y="185"/>
                </a:lnTo>
                <a:lnTo>
                  <a:pt x="186" y="185"/>
                </a:lnTo>
                <a:lnTo>
                  <a:pt x="179" y="183"/>
                </a:lnTo>
                <a:lnTo>
                  <a:pt x="177" y="183"/>
                </a:lnTo>
                <a:lnTo>
                  <a:pt x="177" y="181"/>
                </a:lnTo>
                <a:lnTo>
                  <a:pt x="177" y="179"/>
                </a:lnTo>
                <a:lnTo>
                  <a:pt x="181" y="176"/>
                </a:lnTo>
                <a:lnTo>
                  <a:pt x="183" y="176"/>
                </a:lnTo>
                <a:lnTo>
                  <a:pt x="184" y="174"/>
                </a:lnTo>
                <a:lnTo>
                  <a:pt x="186" y="174"/>
                </a:lnTo>
                <a:lnTo>
                  <a:pt x="188" y="172"/>
                </a:lnTo>
                <a:lnTo>
                  <a:pt x="188" y="174"/>
                </a:lnTo>
                <a:lnTo>
                  <a:pt x="194" y="176"/>
                </a:lnTo>
                <a:lnTo>
                  <a:pt x="197" y="179"/>
                </a:lnTo>
                <a:lnTo>
                  <a:pt x="206" y="190"/>
                </a:lnTo>
                <a:lnTo>
                  <a:pt x="214" y="201"/>
                </a:lnTo>
                <a:lnTo>
                  <a:pt x="216" y="203"/>
                </a:lnTo>
                <a:lnTo>
                  <a:pt x="217" y="201"/>
                </a:lnTo>
                <a:lnTo>
                  <a:pt x="219" y="196"/>
                </a:lnTo>
                <a:lnTo>
                  <a:pt x="212" y="187"/>
                </a:lnTo>
                <a:lnTo>
                  <a:pt x="208" y="181"/>
                </a:lnTo>
                <a:lnTo>
                  <a:pt x="206" y="179"/>
                </a:lnTo>
                <a:lnTo>
                  <a:pt x="206" y="178"/>
                </a:lnTo>
                <a:lnTo>
                  <a:pt x="208" y="176"/>
                </a:lnTo>
                <a:lnTo>
                  <a:pt x="210" y="176"/>
                </a:lnTo>
                <a:lnTo>
                  <a:pt x="214" y="178"/>
                </a:lnTo>
                <a:lnTo>
                  <a:pt x="252" y="187"/>
                </a:lnTo>
                <a:lnTo>
                  <a:pt x="265" y="192"/>
                </a:lnTo>
                <a:lnTo>
                  <a:pt x="289" y="196"/>
                </a:lnTo>
                <a:lnTo>
                  <a:pt x="289" y="194"/>
                </a:lnTo>
                <a:lnTo>
                  <a:pt x="290" y="194"/>
                </a:lnTo>
                <a:lnTo>
                  <a:pt x="290" y="190"/>
                </a:lnTo>
                <a:lnTo>
                  <a:pt x="289" y="190"/>
                </a:lnTo>
                <a:lnTo>
                  <a:pt x="289" y="189"/>
                </a:lnTo>
                <a:lnTo>
                  <a:pt x="281" y="187"/>
                </a:lnTo>
                <a:lnTo>
                  <a:pt x="263" y="181"/>
                </a:lnTo>
                <a:lnTo>
                  <a:pt x="250" y="178"/>
                </a:lnTo>
                <a:lnTo>
                  <a:pt x="214" y="167"/>
                </a:lnTo>
                <a:lnTo>
                  <a:pt x="205" y="165"/>
                </a:lnTo>
                <a:lnTo>
                  <a:pt x="190" y="159"/>
                </a:lnTo>
                <a:lnTo>
                  <a:pt x="188" y="157"/>
                </a:lnTo>
                <a:lnTo>
                  <a:pt x="186" y="156"/>
                </a:lnTo>
                <a:lnTo>
                  <a:pt x="179" y="141"/>
                </a:lnTo>
                <a:lnTo>
                  <a:pt x="177" y="134"/>
                </a:lnTo>
                <a:lnTo>
                  <a:pt x="175" y="132"/>
                </a:lnTo>
                <a:lnTo>
                  <a:pt x="175" y="130"/>
                </a:lnTo>
                <a:lnTo>
                  <a:pt x="175" y="128"/>
                </a:lnTo>
                <a:lnTo>
                  <a:pt x="177" y="125"/>
                </a:lnTo>
                <a:lnTo>
                  <a:pt x="179" y="125"/>
                </a:lnTo>
                <a:lnTo>
                  <a:pt x="201" y="115"/>
                </a:lnTo>
                <a:lnTo>
                  <a:pt x="203" y="115"/>
                </a:lnTo>
                <a:lnTo>
                  <a:pt x="206" y="115"/>
                </a:lnTo>
                <a:lnTo>
                  <a:pt x="208" y="115"/>
                </a:lnTo>
                <a:lnTo>
                  <a:pt x="210" y="115"/>
                </a:lnTo>
                <a:lnTo>
                  <a:pt x="212" y="115"/>
                </a:lnTo>
                <a:lnTo>
                  <a:pt x="216" y="115"/>
                </a:lnTo>
                <a:lnTo>
                  <a:pt x="254" y="103"/>
                </a:lnTo>
                <a:lnTo>
                  <a:pt x="256" y="101"/>
                </a:lnTo>
                <a:lnTo>
                  <a:pt x="258" y="101"/>
                </a:lnTo>
                <a:lnTo>
                  <a:pt x="258" y="99"/>
                </a:lnTo>
                <a:lnTo>
                  <a:pt x="258" y="97"/>
                </a:lnTo>
                <a:lnTo>
                  <a:pt x="258" y="95"/>
                </a:lnTo>
                <a:lnTo>
                  <a:pt x="256" y="88"/>
                </a:lnTo>
                <a:lnTo>
                  <a:pt x="256" y="86"/>
                </a:lnTo>
                <a:lnTo>
                  <a:pt x="254" y="84"/>
                </a:lnTo>
                <a:lnTo>
                  <a:pt x="236" y="84"/>
                </a:lnTo>
                <a:lnTo>
                  <a:pt x="232" y="84"/>
                </a:lnTo>
                <a:lnTo>
                  <a:pt x="208" y="86"/>
                </a:lnTo>
                <a:lnTo>
                  <a:pt x="205" y="86"/>
                </a:lnTo>
                <a:lnTo>
                  <a:pt x="203" y="86"/>
                </a:lnTo>
                <a:lnTo>
                  <a:pt x="199" y="88"/>
                </a:lnTo>
                <a:lnTo>
                  <a:pt x="195" y="90"/>
                </a:lnTo>
                <a:lnTo>
                  <a:pt x="194" y="90"/>
                </a:lnTo>
                <a:lnTo>
                  <a:pt x="192" y="92"/>
                </a:lnTo>
                <a:lnTo>
                  <a:pt x="190" y="92"/>
                </a:lnTo>
                <a:lnTo>
                  <a:pt x="188" y="93"/>
                </a:lnTo>
                <a:lnTo>
                  <a:pt x="186" y="95"/>
                </a:lnTo>
                <a:lnTo>
                  <a:pt x="173" y="99"/>
                </a:lnTo>
                <a:lnTo>
                  <a:pt x="172" y="99"/>
                </a:lnTo>
                <a:lnTo>
                  <a:pt x="170" y="97"/>
                </a:lnTo>
                <a:lnTo>
                  <a:pt x="168" y="97"/>
                </a:lnTo>
                <a:lnTo>
                  <a:pt x="166" y="95"/>
                </a:lnTo>
                <a:lnTo>
                  <a:pt x="152" y="90"/>
                </a:lnTo>
                <a:lnTo>
                  <a:pt x="152" y="88"/>
                </a:lnTo>
                <a:lnTo>
                  <a:pt x="150" y="88"/>
                </a:lnTo>
                <a:lnTo>
                  <a:pt x="148" y="83"/>
                </a:lnTo>
                <a:lnTo>
                  <a:pt x="148" y="81"/>
                </a:lnTo>
                <a:lnTo>
                  <a:pt x="146" y="75"/>
                </a:lnTo>
                <a:lnTo>
                  <a:pt x="148" y="73"/>
                </a:lnTo>
                <a:lnTo>
                  <a:pt x="150" y="57"/>
                </a:lnTo>
                <a:lnTo>
                  <a:pt x="150" y="55"/>
                </a:lnTo>
                <a:lnTo>
                  <a:pt x="152" y="53"/>
                </a:lnTo>
                <a:lnTo>
                  <a:pt x="159" y="48"/>
                </a:lnTo>
                <a:lnTo>
                  <a:pt x="161" y="48"/>
                </a:lnTo>
                <a:lnTo>
                  <a:pt x="161" y="50"/>
                </a:lnTo>
                <a:lnTo>
                  <a:pt x="159" y="51"/>
                </a:lnTo>
                <a:lnTo>
                  <a:pt x="161" y="57"/>
                </a:lnTo>
                <a:lnTo>
                  <a:pt x="163" y="57"/>
                </a:lnTo>
                <a:lnTo>
                  <a:pt x="172" y="55"/>
                </a:lnTo>
                <a:lnTo>
                  <a:pt x="173" y="55"/>
                </a:lnTo>
                <a:lnTo>
                  <a:pt x="175" y="55"/>
                </a:lnTo>
                <a:lnTo>
                  <a:pt x="177" y="53"/>
                </a:lnTo>
                <a:lnTo>
                  <a:pt x="179" y="53"/>
                </a:lnTo>
                <a:lnTo>
                  <a:pt x="181" y="51"/>
                </a:lnTo>
                <a:lnTo>
                  <a:pt x="183" y="48"/>
                </a:lnTo>
                <a:lnTo>
                  <a:pt x="184" y="46"/>
                </a:lnTo>
                <a:lnTo>
                  <a:pt x="184" y="44"/>
                </a:lnTo>
                <a:lnTo>
                  <a:pt x="184" y="42"/>
                </a:lnTo>
                <a:lnTo>
                  <a:pt x="183" y="42"/>
                </a:lnTo>
                <a:lnTo>
                  <a:pt x="168" y="37"/>
                </a:lnTo>
                <a:lnTo>
                  <a:pt x="155" y="31"/>
                </a:lnTo>
                <a:lnTo>
                  <a:pt x="153" y="31"/>
                </a:lnTo>
                <a:lnTo>
                  <a:pt x="155" y="30"/>
                </a:lnTo>
                <a:lnTo>
                  <a:pt x="159" y="28"/>
                </a:lnTo>
                <a:lnTo>
                  <a:pt x="175" y="26"/>
                </a:lnTo>
                <a:lnTo>
                  <a:pt x="177" y="26"/>
                </a:lnTo>
                <a:lnTo>
                  <a:pt x="179" y="26"/>
                </a:lnTo>
                <a:lnTo>
                  <a:pt x="183" y="28"/>
                </a:lnTo>
                <a:lnTo>
                  <a:pt x="184" y="30"/>
                </a:lnTo>
                <a:lnTo>
                  <a:pt x="186" y="31"/>
                </a:lnTo>
                <a:lnTo>
                  <a:pt x="190" y="33"/>
                </a:lnTo>
                <a:lnTo>
                  <a:pt x="190" y="35"/>
                </a:lnTo>
                <a:lnTo>
                  <a:pt x="194" y="37"/>
                </a:lnTo>
                <a:lnTo>
                  <a:pt x="195" y="37"/>
                </a:lnTo>
                <a:lnTo>
                  <a:pt x="197" y="37"/>
                </a:lnTo>
                <a:lnTo>
                  <a:pt x="199" y="37"/>
                </a:lnTo>
                <a:lnTo>
                  <a:pt x="201" y="37"/>
                </a:lnTo>
                <a:lnTo>
                  <a:pt x="219" y="30"/>
                </a:lnTo>
                <a:lnTo>
                  <a:pt x="221" y="30"/>
                </a:lnTo>
                <a:lnTo>
                  <a:pt x="223" y="28"/>
                </a:lnTo>
                <a:lnTo>
                  <a:pt x="230" y="19"/>
                </a:lnTo>
                <a:lnTo>
                  <a:pt x="232" y="17"/>
                </a:lnTo>
                <a:lnTo>
                  <a:pt x="232" y="15"/>
                </a:lnTo>
                <a:lnTo>
                  <a:pt x="232" y="8"/>
                </a:lnTo>
                <a:lnTo>
                  <a:pt x="234" y="6"/>
                </a:lnTo>
                <a:lnTo>
                  <a:pt x="236" y="6"/>
                </a:lnTo>
                <a:lnTo>
                  <a:pt x="247" y="2"/>
                </a:lnTo>
                <a:lnTo>
                  <a:pt x="250" y="0"/>
                </a:lnTo>
                <a:lnTo>
                  <a:pt x="256" y="6"/>
                </a:lnTo>
                <a:lnTo>
                  <a:pt x="258" y="8"/>
                </a:lnTo>
                <a:lnTo>
                  <a:pt x="258" y="9"/>
                </a:lnTo>
                <a:lnTo>
                  <a:pt x="258" y="11"/>
                </a:lnTo>
                <a:lnTo>
                  <a:pt x="267" y="19"/>
                </a:lnTo>
                <a:lnTo>
                  <a:pt x="269" y="19"/>
                </a:lnTo>
                <a:lnTo>
                  <a:pt x="270" y="20"/>
                </a:lnTo>
                <a:lnTo>
                  <a:pt x="272" y="20"/>
                </a:lnTo>
                <a:lnTo>
                  <a:pt x="272" y="22"/>
                </a:lnTo>
                <a:lnTo>
                  <a:pt x="276" y="22"/>
                </a:lnTo>
                <a:lnTo>
                  <a:pt x="278" y="22"/>
                </a:lnTo>
                <a:lnTo>
                  <a:pt x="280" y="22"/>
                </a:lnTo>
                <a:lnTo>
                  <a:pt x="281" y="22"/>
                </a:lnTo>
                <a:lnTo>
                  <a:pt x="292" y="19"/>
                </a:lnTo>
                <a:lnTo>
                  <a:pt x="305" y="15"/>
                </a:lnTo>
                <a:lnTo>
                  <a:pt x="305" y="13"/>
                </a:lnTo>
                <a:lnTo>
                  <a:pt x="307" y="13"/>
                </a:lnTo>
                <a:lnTo>
                  <a:pt x="309" y="13"/>
                </a:lnTo>
                <a:lnTo>
                  <a:pt x="320" y="15"/>
                </a:lnTo>
                <a:lnTo>
                  <a:pt x="327" y="1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84200" y="6375240"/>
            <a:ext cx="257400" cy="90720"/>
          </a:xfrm>
          <a:custGeom>
            <a:avLst/>
            <a:gdLst/>
            <a:ahLst/>
            <a:rect l="l" t="t" r="r" b="b"/>
            <a:pathLst>
              <a:path w="159" h="62">
                <a:moveTo>
                  <a:pt x="132" y="53"/>
                </a:moveTo>
                <a:lnTo>
                  <a:pt x="137" y="53"/>
                </a:lnTo>
                <a:lnTo>
                  <a:pt x="139" y="53"/>
                </a:lnTo>
                <a:lnTo>
                  <a:pt x="147" y="55"/>
                </a:lnTo>
                <a:lnTo>
                  <a:pt x="158" y="60"/>
                </a:lnTo>
                <a:lnTo>
                  <a:pt x="159" y="60"/>
                </a:lnTo>
                <a:lnTo>
                  <a:pt x="158" y="62"/>
                </a:lnTo>
                <a:lnTo>
                  <a:pt x="156" y="62"/>
                </a:lnTo>
                <a:lnTo>
                  <a:pt x="145" y="62"/>
                </a:lnTo>
                <a:lnTo>
                  <a:pt x="121" y="58"/>
                </a:lnTo>
                <a:lnTo>
                  <a:pt x="119" y="57"/>
                </a:lnTo>
                <a:lnTo>
                  <a:pt x="119" y="55"/>
                </a:lnTo>
                <a:lnTo>
                  <a:pt x="81" y="33"/>
                </a:lnTo>
                <a:lnTo>
                  <a:pt x="73" y="35"/>
                </a:lnTo>
                <a:lnTo>
                  <a:pt x="70" y="36"/>
                </a:lnTo>
                <a:lnTo>
                  <a:pt x="64" y="36"/>
                </a:lnTo>
                <a:lnTo>
                  <a:pt x="42" y="36"/>
                </a:lnTo>
                <a:lnTo>
                  <a:pt x="41" y="36"/>
                </a:lnTo>
                <a:lnTo>
                  <a:pt x="15" y="20"/>
                </a:lnTo>
                <a:lnTo>
                  <a:pt x="0" y="4"/>
                </a:lnTo>
                <a:lnTo>
                  <a:pt x="4" y="0"/>
                </a:lnTo>
                <a:lnTo>
                  <a:pt x="9" y="2"/>
                </a:lnTo>
                <a:lnTo>
                  <a:pt x="22" y="11"/>
                </a:lnTo>
                <a:lnTo>
                  <a:pt x="28" y="14"/>
                </a:lnTo>
                <a:lnTo>
                  <a:pt x="48" y="22"/>
                </a:lnTo>
                <a:lnTo>
                  <a:pt x="52" y="22"/>
                </a:lnTo>
                <a:lnTo>
                  <a:pt x="59" y="20"/>
                </a:lnTo>
                <a:lnTo>
                  <a:pt x="68" y="24"/>
                </a:lnTo>
                <a:lnTo>
                  <a:pt x="81" y="27"/>
                </a:lnTo>
                <a:lnTo>
                  <a:pt x="86" y="31"/>
                </a:lnTo>
                <a:lnTo>
                  <a:pt x="92" y="33"/>
                </a:lnTo>
                <a:lnTo>
                  <a:pt x="99" y="35"/>
                </a:lnTo>
                <a:lnTo>
                  <a:pt x="105" y="35"/>
                </a:lnTo>
                <a:lnTo>
                  <a:pt x="106" y="33"/>
                </a:lnTo>
                <a:lnTo>
                  <a:pt x="110" y="33"/>
                </a:lnTo>
                <a:lnTo>
                  <a:pt x="127" y="42"/>
                </a:lnTo>
                <a:lnTo>
                  <a:pt x="137" y="49"/>
                </a:lnTo>
                <a:lnTo>
                  <a:pt x="132" y="5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58800" y="6472080"/>
            <a:ext cx="227160" cy="103320"/>
          </a:xfrm>
          <a:custGeom>
            <a:avLst/>
            <a:gdLst/>
            <a:ahLst/>
            <a:rect l="l" t="t" r="r" b="b"/>
            <a:pathLst>
              <a:path w="141" h="71">
                <a:moveTo>
                  <a:pt x="137" y="40"/>
                </a:moveTo>
                <a:lnTo>
                  <a:pt x="136" y="44"/>
                </a:lnTo>
                <a:lnTo>
                  <a:pt x="132" y="45"/>
                </a:lnTo>
                <a:lnTo>
                  <a:pt x="130" y="45"/>
                </a:lnTo>
                <a:lnTo>
                  <a:pt x="121" y="44"/>
                </a:lnTo>
                <a:lnTo>
                  <a:pt x="115" y="47"/>
                </a:lnTo>
                <a:lnTo>
                  <a:pt x="115" y="55"/>
                </a:lnTo>
                <a:lnTo>
                  <a:pt x="117" y="55"/>
                </a:lnTo>
                <a:lnTo>
                  <a:pt x="121" y="56"/>
                </a:lnTo>
                <a:lnTo>
                  <a:pt x="125" y="56"/>
                </a:lnTo>
                <a:lnTo>
                  <a:pt x="125" y="62"/>
                </a:lnTo>
                <a:lnTo>
                  <a:pt x="104" y="67"/>
                </a:lnTo>
                <a:lnTo>
                  <a:pt x="77" y="71"/>
                </a:lnTo>
                <a:lnTo>
                  <a:pt x="72" y="71"/>
                </a:lnTo>
                <a:lnTo>
                  <a:pt x="61" y="67"/>
                </a:lnTo>
                <a:lnTo>
                  <a:pt x="57" y="65"/>
                </a:lnTo>
                <a:lnTo>
                  <a:pt x="59" y="64"/>
                </a:lnTo>
                <a:lnTo>
                  <a:pt x="70" y="64"/>
                </a:lnTo>
                <a:lnTo>
                  <a:pt x="81" y="58"/>
                </a:lnTo>
                <a:lnTo>
                  <a:pt x="86" y="42"/>
                </a:lnTo>
                <a:lnTo>
                  <a:pt x="79" y="40"/>
                </a:lnTo>
                <a:lnTo>
                  <a:pt x="59" y="45"/>
                </a:lnTo>
                <a:lnTo>
                  <a:pt x="50" y="51"/>
                </a:lnTo>
                <a:lnTo>
                  <a:pt x="46" y="58"/>
                </a:lnTo>
                <a:lnTo>
                  <a:pt x="39" y="56"/>
                </a:lnTo>
                <a:lnTo>
                  <a:pt x="35" y="51"/>
                </a:lnTo>
                <a:lnTo>
                  <a:pt x="31" y="45"/>
                </a:lnTo>
                <a:lnTo>
                  <a:pt x="29" y="42"/>
                </a:lnTo>
                <a:lnTo>
                  <a:pt x="29" y="40"/>
                </a:lnTo>
                <a:lnTo>
                  <a:pt x="35" y="38"/>
                </a:lnTo>
                <a:lnTo>
                  <a:pt x="33" y="31"/>
                </a:lnTo>
                <a:lnTo>
                  <a:pt x="22" y="31"/>
                </a:lnTo>
                <a:lnTo>
                  <a:pt x="19" y="33"/>
                </a:lnTo>
                <a:lnTo>
                  <a:pt x="15" y="33"/>
                </a:lnTo>
                <a:lnTo>
                  <a:pt x="13" y="33"/>
                </a:lnTo>
                <a:lnTo>
                  <a:pt x="4" y="33"/>
                </a:lnTo>
                <a:lnTo>
                  <a:pt x="0" y="23"/>
                </a:lnTo>
                <a:lnTo>
                  <a:pt x="0" y="20"/>
                </a:lnTo>
                <a:lnTo>
                  <a:pt x="2" y="18"/>
                </a:lnTo>
                <a:lnTo>
                  <a:pt x="4" y="16"/>
                </a:lnTo>
                <a:lnTo>
                  <a:pt x="17" y="14"/>
                </a:lnTo>
                <a:lnTo>
                  <a:pt x="19" y="14"/>
                </a:lnTo>
                <a:lnTo>
                  <a:pt x="26" y="18"/>
                </a:lnTo>
                <a:lnTo>
                  <a:pt x="28" y="20"/>
                </a:lnTo>
                <a:lnTo>
                  <a:pt x="29" y="22"/>
                </a:lnTo>
                <a:lnTo>
                  <a:pt x="31" y="22"/>
                </a:lnTo>
                <a:lnTo>
                  <a:pt x="33" y="23"/>
                </a:lnTo>
                <a:lnTo>
                  <a:pt x="39" y="23"/>
                </a:lnTo>
                <a:lnTo>
                  <a:pt x="40" y="23"/>
                </a:lnTo>
                <a:lnTo>
                  <a:pt x="46" y="23"/>
                </a:lnTo>
                <a:lnTo>
                  <a:pt x="51" y="23"/>
                </a:lnTo>
                <a:lnTo>
                  <a:pt x="51" y="22"/>
                </a:lnTo>
                <a:lnTo>
                  <a:pt x="50" y="22"/>
                </a:lnTo>
                <a:lnTo>
                  <a:pt x="48" y="23"/>
                </a:lnTo>
                <a:lnTo>
                  <a:pt x="44" y="23"/>
                </a:lnTo>
                <a:lnTo>
                  <a:pt x="40" y="23"/>
                </a:lnTo>
                <a:lnTo>
                  <a:pt x="39" y="22"/>
                </a:lnTo>
                <a:lnTo>
                  <a:pt x="33" y="22"/>
                </a:lnTo>
                <a:lnTo>
                  <a:pt x="20" y="9"/>
                </a:lnTo>
                <a:lnTo>
                  <a:pt x="19" y="5"/>
                </a:lnTo>
                <a:lnTo>
                  <a:pt x="22" y="5"/>
                </a:lnTo>
                <a:lnTo>
                  <a:pt x="26" y="7"/>
                </a:lnTo>
                <a:lnTo>
                  <a:pt x="31" y="9"/>
                </a:lnTo>
                <a:lnTo>
                  <a:pt x="50" y="11"/>
                </a:lnTo>
                <a:lnTo>
                  <a:pt x="48" y="5"/>
                </a:lnTo>
                <a:lnTo>
                  <a:pt x="42" y="1"/>
                </a:lnTo>
                <a:lnTo>
                  <a:pt x="51" y="0"/>
                </a:lnTo>
                <a:lnTo>
                  <a:pt x="59" y="0"/>
                </a:lnTo>
                <a:lnTo>
                  <a:pt x="68" y="1"/>
                </a:lnTo>
                <a:lnTo>
                  <a:pt x="75" y="9"/>
                </a:lnTo>
                <a:lnTo>
                  <a:pt x="84" y="11"/>
                </a:lnTo>
                <a:lnTo>
                  <a:pt x="108" y="16"/>
                </a:lnTo>
                <a:lnTo>
                  <a:pt x="114" y="18"/>
                </a:lnTo>
                <a:lnTo>
                  <a:pt x="132" y="31"/>
                </a:lnTo>
                <a:lnTo>
                  <a:pt x="141" y="38"/>
                </a:lnTo>
                <a:lnTo>
                  <a:pt x="139" y="40"/>
                </a:lnTo>
                <a:lnTo>
                  <a:pt x="137" y="4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5200" y="6683400"/>
            <a:ext cx="201960" cy="55440"/>
          </a:xfrm>
          <a:custGeom>
            <a:avLst/>
            <a:gdLst/>
            <a:ahLst/>
            <a:rect l="l" t="t" r="r" b="b"/>
            <a:pathLst>
              <a:path w="126" h="38">
                <a:moveTo>
                  <a:pt x="29" y="33"/>
                </a:moveTo>
                <a:lnTo>
                  <a:pt x="27" y="33"/>
                </a:lnTo>
                <a:lnTo>
                  <a:pt x="25" y="31"/>
                </a:lnTo>
                <a:lnTo>
                  <a:pt x="24" y="31"/>
                </a:lnTo>
                <a:lnTo>
                  <a:pt x="22" y="29"/>
                </a:lnTo>
                <a:lnTo>
                  <a:pt x="20" y="29"/>
                </a:lnTo>
                <a:lnTo>
                  <a:pt x="16" y="18"/>
                </a:lnTo>
                <a:lnTo>
                  <a:pt x="18" y="17"/>
                </a:lnTo>
                <a:lnTo>
                  <a:pt x="14" y="7"/>
                </a:lnTo>
                <a:lnTo>
                  <a:pt x="13" y="9"/>
                </a:lnTo>
                <a:lnTo>
                  <a:pt x="5" y="9"/>
                </a:lnTo>
                <a:lnTo>
                  <a:pt x="2" y="7"/>
                </a:lnTo>
                <a:lnTo>
                  <a:pt x="0" y="4"/>
                </a:lnTo>
                <a:lnTo>
                  <a:pt x="2" y="2"/>
                </a:lnTo>
                <a:lnTo>
                  <a:pt x="3" y="2"/>
                </a:lnTo>
                <a:lnTo>
                  <a:pt x="14" y="0"/>
                </a:lnTo>
                <a:lnTo>
                  <a:pt x="16" y="0"/>
                </a:lnTo>
                <a:lnTo>
                  <a:pt x="29" y="0"/>
                </a:lnTo>
                <a:lnTo>
                  <a:pt x="38" y="0"/>
                </a:lnTo>
                <a:lnTo>
                  <a:pt x="47" y="2"/>
                </a:lnTo>
                <a:lnTo>
                  <a:pt x="57" y="2"/>
                </a:lnTo>
                <a:lnTo>
                  <a:pt x="69" y="2"/>
                </a:lnTo>
                <a:lnTo>
                  <a:pt x="75" y="2"/>
                </a:lnTo>
                <a:lnTo>
                  <a:pt x="78" y="2"/>
                </a:lnTo>
                <a:lnTo>
                  <a:pt x="89" y="2"/>
                </a:lnTo>
                <a:lnTo>
                  <a:pt x="95" y="2"/>
                </a:lnTo>
                <a:lnTo>
                  <a:pt x="100" y="2"/>
                </a:lnTo>
                <a:lnTo>
                  <a:pt x="104" y="4"/>
                </a:lnTo>
                <a:lnTo>
                  <a:pt x="108" y="4"/>
                </a:lnTo>
                <a:lnTo>
                  <a:pt x="110" y="4"/>
                </a:lnTo>
                <a:lnTo>
                  <a:pt x="113" y="6"/>
                </a:lnTo>
                <a:lnTo>
                  <a:pt x="115" y="7"/>
                </a:lnTo>
                <a:lnTo>
                  <a:pt x="117" y="7"/>
                </a:lnTo>
                <a:lnTo>
                  <a:pt x="126" y="17"/>
                </a:lnTo>
                <a:lnTo>
                  <a:pt x="126" y="22"/>
                </a:lnTo>
                <a:lnTo>
                  <a:pt x="126" y="24"/>
                </a:lnTo>
                <a:lnTo>
                  <a:pt x="124" y="26"/>
                </a:lnTo>
                <a:lnTo>
                  <a:pt x="122" y="27"/>
                </a:lnTo>
                <a:lnTo>
                  <a:pt x="120" y="29"/>
                </a:lnTo>
                <a:lnTo>
                  <a:pt x="110" y="38"/>
                </a:lnTo>
                <a:lnTo>
                  <a:pt x="108" y="38"/>
                </a:lnTo>
                <a:lnTo>
                  <a:pt x="104" y="38"/>
                </a:lnTo>
                <a:lnTo>
                  <a:pt x="102" y="38"/>
                </a:lnTo>
                <a:lnTo>
                  <a:pt x="93" y="37"/>
                </a:lnTo>
                <a:lnTo>
                  <a:pt x="91" y="37"/>
                </a:lnTo>
                <a:lnTo>
                  <a:pt x="89" y="37"/>
                </a:lnTo>
                <a:lnTo>
                  <a:pt x="88" y="35"/>
                </a:lnTo>
                <a:lnTo>
                  <a:pt x="88" y="33"/>
                </a:lnTo>
                <a:lnTo>
                  <a:pt x="89" y="31"/>
                </a:lnTo>
                <a:lnTo>
                  <a:pt x="91" y="31"/>
                </a:lnTo>
                <a:lnTo>
                  <a:pt x="91" y="29"/>
                </a:lnTo>
                <a:lnTo>
                  <a:pt x="89" y="29"/>
                </a:lnTo>
                <a:lnTo>
                  <a:pt x="88" y="27"/>
                </a:lnTo>
                <a:lnTo>
                  <a:pt x="86" y="26"/>
                </a:lnTo>
                <a:lnTo>
                  <a:pt x="84" y="26"/>
                </a:lnTo>
                <a:lnTo>
                  <a:pt x="80" y="26"/>
                </a:lnTo>
                <a:lnTo>
                  <a:pt x="78" y="26"/>
                </a:lnTo>
                <a:lnTo>
                  <a:pt x="77" y="26"/>
                </a:lnTo>
                <a:lnTo>
                  <a:pt x="73" y="27"/>
                </a:lnTo>
                <a:lnTo>
                  <a:pt x="71" y="27"/>
                </a:lnTo>
                <a:lnTo>
                  <a:pt x="71" y="29"/>
                </a:lnTo>
                <a:lnTo>
                  <a:pt x="69" y="31"/>
                </a:lnTo>
                <a:lnTo>
                  <a:pt x="69" y="35"/>
                </a:lnTo>
                <a:lnTo>
                  <a:pt x="67" y="35"/>
                </a:lnTo>
                <a:lnTo>
                  <a:pt x="55" y="35"/>
                </a:lnTo>
                <a:lnTo>
                  <a:pt x="53" y="35"/>
                </a:lnTo>
                <a:lnTo>
                  <a:pt x="51" y="35"/>
                </a:lnTo>
                <a:lnTo>
                  <a:pt x="47" y="33"/>
                </a:lnTo>
                <a:lnTo>
                  <a:pt x="47" y="31"/>
                </a:lnTo>
                <a:lnTo>
                  <a:pt x="49" y="31"/>
                </a:lnTo>
                <a:lnTo>
                  <a:pt x="49" y="29"/>
                </a:lnTo>
                <a:lnTo>
                  <a:pt x="46" y="27"/>
                </a:lnTo>
                <a:lnTo>
                  <a:pt x="44" y="27"/>
                </a:lnTo>
                <a:lnTo>
                  <a:pt x="33" y="31"/>
                </a:lnTo>
                <a:lnTo>
                  <a:pt x="29" y="3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06720" y="6684840"/>
            <a:ext cx="320400" cy="112680"/>
          </a:xfrm>
          <a:custGeom>
            <a:avLst/>
            <a:gdLst/>
            <a:ahLst/>
            <a:rect l="l" t="t" r="r" b="b"/>
            <a:pathLst>
              <a:path w="199" h="77">
                <a:moveTo>
                  <a:pt x="143" y="38"/>
                </a:moveTo>
                <a:lnTo>
                  <a:pt x="133" y="33"/>
                </a:lnTo>
                <a:lnTo>
                  <a:pt x="132" y="31"/>
                </a:lnTo>
                <a:lnTo>
                  <a:pt x="128" y="31"/>
                </a:lnTo>
                <a:lnTo>
                  <a:pt x="124" y="33"/>
                </a:lnTo>
                <a:lnTo>
                  <a:pt x="139" y="42"/>
                </a:lnTo>
                <a:lnTo>
                  <a:pt x="144" y="40"/>
                </a:lnTo>
                <a:lnTo>
                  <a:pt x="146" y="40"/>
                </a:lnTo>
                <a:lnTo>
                  <a:pt x="148" y="38"/>
                </a:lnTo>
                <a:lnTo>
                  <a:pt x="152" y="38"/>
                </a:lnTo>
                <a:lnTo>
                  <a:pt x="157" y="38"/>
                </a:lnTo>
                <a:lnTo>
                  <a:pt x="163" y="40"/>
                </a:lnTo>
                <a:lnTo>
                  <a:pt x="181" y="46"/>
                </a:lnTo>
                <a:lnTo>
                  <a:pt x="190" y="53"/>
                </a:lnTo>
                <a:lnTo>
                  <a:pt x="199" y="64"/>
                </a:lnTo>
                <a:lnTo>
                  <a:pt x="197" y="71"/>
                </a:lnTo>
                <a:lnTo>
                  <a:pt x="190" y="75"/>
                </a:lnTo>
                <a:lnTo>
                  <a:pt x="190" y="77"/>
                </a:lnTo>
                <a:lnTo>
                  <a:pt x="186" y="77"/>
                </a:lnTo>
                <a:lnTo>
                  <a:pt x="175" y="68"/>
                </a:lnTo>
                <a:lnTo>
                  <a:pt x="170" y="62"/>
                </a:lnTo>
                <a:lnTo>
                  <a:pt x="172" y="58"/>
                </a:lnTo>
                <a:lnTo>
                  <a:pt x="161" y="53"/>
                </a:lnTo>
                <a:lnTo>
                  <a:pt x="159" y="53"/>
                </a:lnTo>
                <a:lnTo>
                  <a:pt x="144" y="53"/>
                </a:lnTo>
                <a:lnTo>
                  <a:pt x="137" y="53"/>
                </a:lnTo>
                <a:lnTo>
                  <a:pt x="126" y="53"/>
                </a:lnTo>
                <a:lnTo>
                  <a:pt x="122" y="55"/>
                </a:lnTo>
                <a:lnTo>
                  <a:pt x="117" y="57"/>
                </a:lnTo>
                <a:lnTo>
                  <a:pt x="115" y="57"/>
                </a:lnTo>
                <a:lnTo>
                  <a:pt x="110" y="55"/>
                </a:lnTo>
                <a:lnTo>
                  <a:pt x="106" y="51"/>
                </a:lnTo>
                <a:lnTo>
                  <a:pt x="102" y="47"/>
                </a:lnTo>
                <a:lnTo>
                  <a:pt x="106" y="46"/>
                </a:lnTo>
                <a:lnTo>
                  <a:pt x="113" y="29"/>
                </a:lnTo>
                <a:lnTo>
                  <a:pt x="102" y="33"/>
                </a:lnTo>
                <a:lnTo>
                  <a:pt x="97" y="33"/>
                </a:lnTo>
                <a:lnTo>
                  <a:pt x="86" y="31"/>
                </a:lnTo>
                <a:lnTo>
                  <a:pt x="84" y="31"/>
                </a:lnTo>
                <a:lnTo>
                  <a:pt x="80" y="29"/>
                </a:lnTo>
                <a:lnTo>
                  <a:pt x="75" y="29"/>
                </a:lnTo>
                <a:lnTo>
                  <a:pt x="64" y="31"/>
                </a:lnTo>
                <a:lnTo>
                  <a:pt x="62" y="35"/>
                </a:lnTo>
                <a:lnTo>
                  <a:pt x="71" y="47"/>
                </a:lnTo>
                <a:lnTo>
                  <a:pt x="80" y="49"/>
                </a:lnTo>
                <a:lnTo>
                  <a:pt x="86" y="49"/>
                </a:lnTo>
                <a:lnTo>
                  <a:pt x="86" y="55"/>
                </a:lnTo>
                <a:lnTo>
                  <a:pt x="84" y="57"/>
                </a:lnTo>
                <a:lnTo>
                  <a:pt x="58" y="55"/>
                </a:lnTo>
                <a:lnTo>
                  <a:pt x="53" y="47"/>
                </a:lnTo>
                <a:lnTo>
                  <a:pt x="16" y="29"/>
                </a:lnTo>
                <a:lnTo>
                  <a:pt x="2" y="24"/>
                </a:lnTo>
                <a:lnTo>
                  <a:pt x="0" y="22"/>
                </a:lnTo>
                <a:lnTo>
                  <a:pt x="4" y="20"/>
                </a:lnTo>
                <a:lnTo>
                  <a:pt x="11" y="15"/>
                </a:lnTo>
                <a:lnTo>
                  <a:pt x="15" y="15"/>
                </a:lnTo>
                <a:lnTo>
                  <a:pt x="24" y="13"/>
                </a:lnTo>
                <a:lnTo>
                  <a:pt x="27" y="13"/>
                </a:lnTo>
                <a:lnTo>
                  <a:pt x="91" y="5"/>
                </a:lnTo>
                <a:lnTo>
                  <a:pt x="124" y="2"/>
                </a:lnTo>
                <a:lnTo>
                  <a:pt x="133" y="2"/>
                </a:lnTo>
                <a:lnTo>
                  <a:pt x="146" y="0"/>
                </a:lnTo>
                <a:lnTo>
                  <a:pt x="157" y="4"/>
                </a:lnTo>
                <a:lnTo>
                  <a:pt x="163" y="7"/>
                </a:lnTo>
                <a:lnTo>
                  <a:pt x="164" y="11"/>
                </a:lnTo>
                <a:lnTo>
                  <a:pt x="164" y="15"/>
                </a:lnTo>
                <a:lnTo>
                  <a:pt x="141" y="22"/>
                </a:lnTo>
                <a:lnTo>
                  <a:pt x="133" y="22"/>
                </a:lnTo>
                <a:lnTo>
                  <a:pt x="122" y="20"/>
                </a:lnTo>
                <a:lnTo>
                  <a:pt x="117" y="18"/>
                </a:lnTo>
                <a:lnTo>
                  <a:pt x="113" y="16"/>
                </a:lnTo>
                <a:lnTo>
                  <a:pt x="111" y="15"/>
                </a:lnTo>
                <a:lnTo>
                  <a:pt x="110" y="15"/>
                </a:lnTo>
                <a:lnTo>
                  <a:pt x="100" y="13"/>
                </a:lnTo>
                <a:lnTo>
                  <a:pt x="99" y="15"/>
                </a:lnTo>
                <a:lnTo>
                  <a:pt x="104" y="18"/>
                </a:lnTo>
                <a:lnTo>
                  <a:pt x="110" y="20"/>
                </a:lnTo>
                <a:lnTo>
                  <a:pt x="121" y="24"/>
                </a:lnTo>
                <a:lnTo>
                  <a:pt x="139" y="25"/>
                </a:lnTo>
                <a:lnTo>
                  <a:pt x="154" y="25"/>
                </a:lnTo>
                <a:lnTo>
                  <a:pt x="159" y="25"/>
                </a:lnTo>
                <a:lnTo>
                  <a:pt x="170" y="29"/>
                </a:lnTo>
                <a:lnTo>
                  <a:pt x="175" y="33"/>
                </a:lnTo>
                <a:lnTo>
                  <a:pt x="175" y="35"/>
                </a:lnTo>
                <a:lnTo>
                  <a:pt x="146" y="36"/>
                </a:lnTo>
                <a:lnTo>
                  <a:pt x="143" y="3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4160" y="1415880"/>
            <a:ext cx="300240" cy="559080"/>
          </a:xfrm>
          <a:custGeom>
            <a:avLst/>
            <a:gdLst/>
            <a:ahLst/>
            <a:rect l="l" t="t" r="r" b="b"/>
            <a:pathLst>
              <a:path w="189" h="381">
                <a:moveTo>
                  <a:pt x="176" y="198"/>
                </a:moveTo>
                <a:lnTo>
                  <a:pt x="165" y="211"/>
                </a:lnTo>
                <a:lnTo>
                  <a:pt x="165" y="214"/>
                </a:lnTo>
                <a:lnTo>
                  <a:pt x="165" y="216"/>
                </a:lnTo>
                <a:lnTo>
                  <a:pt x="176" y="223"/>
                </a:lnTo>
                <a:lnTo>
                  <a:pt x="181" y="233"/>
                </a:lnTo>
                <a:lnTo>
                  <a:pt x="176" y="244"/>
                </a:lnTo>
                <a:lnTo>
                  <a:pt x="176" y="245"/>
                </a:lnTo>
                <a:lnTo>
                  <a:pt x="172" y="245"/>
                </a:lnTo>
                <a:lnTo>
                  <a:pt x="157" y="247"/>
                </a:lnTo>
                <a:lnTo>
                  <a:pt x="156" y="251"/>
                </a:lnTo>
                <a:lnTo>
                  <a:pt x="156" y="253"/>
                </a:lnTo>
                <a:lnTo>
                  <a:pt x="157" y="253"/>
                </a:lnTo>
                <a:lnTo>
                  <a:pt x="161" y="264"/>
                </a:lnTo>
                <a:lnTo>
                  <a:pt x="163" y="273"/>
                </a:lnTo>
                <a:lnTo>
                  <a:pt x="159" y="275"/>
                </a:lnTo>
                <a:lnTo>
                  <a:pt x="157" y="277"/>
                </a:lnTo>
                <a:lnTo>
                  <a:pt x="159" y="280"/>
                </a:lnTo>
                <a:lnTo>
                  <a:pt x="159" y="284"/>
                </a:lnTo>
                <a:lnTo>
                  <a:pt x="165" y="289"/>
                </a:lnTo>
                <a:lnTo>
                  <a:pt x="178" y="295"/>
                </a:lnTo>
                <a:lnTo>
                  <a:pt x="183" y="298"/>
                </a:lnTo>
                <a:lnTo>
                  <a:pt x="187" y="300"/>
                </a:lnTo>
                <a:lnTo>
                  <a:pt x="187" y="302"/>
                </a:lnTo>
                <a:lnTo>
                  <a:pt x="181" y="306"/>
                </a:lnTo>
                <a:lnTo>
                  <a:pt x="178" y="311"/>
                </a:lnTo>
                <a:lnTo>
                  <a:pt x="178" y="324"/>
                </a:lnTo>
                <a:lnTo>
                  <a:pt x="178" y="326"/>
                </a:lnTo>
                <a:lnTo>
                  <a:pt x="152" y="324"/>
                </a:lnTo>
                <a:lnTo>
                  <a:pt x="143" y="324"/>
                </a:lnTo>
                <a:lnTo>
                  <a:pt x="139" y="326"/>
                </a:lnTo>
                <a:lnTo>
                  <a:pt x="139" y="328"/>
                </a:lnTo>
                <a:lnTo>
                  <a:pt x="139" y="330"/>
                </a:lnTo>
                <a:lnTo>
                  <a:pt x="145" y="331"/>
                </a:lnTo>
                <a:lnTo>
                  <a:pt x="152" y="335"/>
                </a:lnTo>
                <a:lnTo>
                  <a:pt x="163" y="333"/>
                </a:lnTo>
                <a:lnTo>
                  <a:pt x="165" y="333"/>
                </a:lnTo>
                <a:lnTo>
                  <a:pt x="165" y="335"/>
                </a:lnTo>
                <a:lnTo>
                  <a:pt x="163" y="342"/>
                </a:lnTo>
                <a:lnTo>
                  <a:pt x="157" y="355"/>
                </a:lnTo>
                <a:lnTo>
                  <a:pt x="156" y="361"/>
                </a:lnTo>
                <a:lnTo>
                  <a:pt x="148" y="364"/>
                </a:lnTo>
                <a:lnTo>
                  <a:pt x="135" y="366"/>
                </a:lnTo>
                <a:lnTo>
                  <a:pt x="110" y="373"/>
                </a:lnTo>
                <a:lnTo>
                  <a:pt x="72" y="381"/>
                </a:lnTo>
                <a:lnTo>
                  <a:pt x="64" y="379"/>
                </a:lnTo>
                <a:lnTo>
                  <a:pt x="48" y="377"/>
                </a:lnTo>
                <a:lnTo>
                  <a:pt x="33" y="377"/>
                </a:lnTo>
                <a:lnTo>
                  <a:pt x="29" y="368"/>
                </a:lnTo>
                <a:lnTo>
                  <a:pt x="29" y="368"/>
                </a:lnTo>
                <a:lnTo>
                  <a:pt x="31" y="366"/>
                </a:lnTo>
                <a:lnTo>
                  <a:pt x="33" y="364"/>
                </a:lnTo>
                <a:lnTo>
                  <a:pt x="28" y="346"/>
                </a:lnTo>
                <a:lnTo>
                  <a:pt x="22" y="337"/>
                </a:lnTo>
                <a:lnTo>
                  <a:pt x="24" y="333"/>
                </a:lnTo>
                <a:lnTo>
                  <a:pt x="24" y="331"/>
                </a:lnTo>
                <a:lnTo>
                  <a:pt x="26" y="330"/>
                </a:lnTo>
                <a:lnTo>
                  <a:pt x="26" y="324"/>
                </a:lnTo>
                <a:lnTo>
                  <a:pt x="24" y="322"/>
                </a:lnTo>
                <a:lnTo>
                  <a:pt x="18" y="317"/>
                </a:lnTo>
                <a:lnTo>
                  <a:pt x="22" y="278"/>
                </a:lnTo>
                <a:lnTo>
                  <a:pt x="26" y="267"/>
                </a:lnTo>
                <a:lnTo>
                  <a:pt x="22" y="260"/>
                </a:lnTo>
                <a:lnTo>
                  <a:pt x="24" y="255"/>
                </a:lnTo>
                <a:lnTo>
                  <a:pt x="26" y="249"/>
                </a:lnTo>
                <a:lnTo>
                  <a:pt x="28" y="238"/>
                </a:lnTo>
                <a:lnTo>
                  <a:pt x="18" y="191"/>
                </a:lnTo>
                <a:lnTo>
                  <a:pt x="15" y="180"/>
                </a:lnTo>
                <a:lnTo>
                  <a:pt x="11" y="172"/>
                </a:lnTo>
                <a:lnTo>
                  <a:pt x="11" y="165"/>
                </a:lnTo>
                <a:lnTo>
                  <a:pt x="13" y="161"/>
                </a:lnTo>
                <a:lnTo>
                  <a:pt x="13" y="158"/>
                </a:lnTo>
                <a:lnTo>
                  <a:pt x="8" y="132"/>
                </a:lnTo>
                <a:lnTo>
                  <a:pt x="6" y="127"/>
                </a:lnTo>
                <a:lnTo>
                  <a:pt x="6" y="108"/>
                </a:lnTo>
                <a:lnTo>
                  <a:pt x="9" y="90"/>
                </a:lnTo>
                <a:lnTo>
                  <a:pt x="4" y="85"/>
                </a:lnTo>
                <a:lnTo>
                  <a:pt x="0" y="81"/>
                </a:lnTo>
                <a:lnTo>
                  <a:pt x="4" y="79"/>
                </a:lnTo>
                <a:lnTo>
                  <a:pt x="20" y="79"/>
                </a:lnTo>
                <a:lnTo>
                  <a:pt x="26" y="79"/>
                </a:lnTo>
                <a:lnTo>
                  <a:pt x="40" y="74"/>
                </a:lnTo>
                <a:lnTo>
                  <a:pt x="44" y="72"/>
                </a:lnTo>
                <a:lnTo>
                  <a:pt x="53" y="61"/>
                </a:lnTo>
                <a:lnTo>
                  <a:pt x="61" y="44"/>
                </a:lnTo>
                <a:lnTo>
                  <a:pt x="61" y="43"/>
                </a:lnTo>
                <a:lnTo>
                  <a:pt x="57" y="28"/>
                </a:lnTo>
                <a:lnTo>
                  <a:pt x="53" y="24"/>
                </a:lnTo>
                <a:lnTo>
                  <a:pt x="53" y="21"/>
                </a:lnTo>
                <a:lnTo>
                  <a:pt x="55" y="17"/>
                </a:lnTo>
                <a:lnTo>
                  <a:pt x="57" y="15"/>
                </a:lnTo>
                <a:lnTo>
                  <a:pt x="70" y="15"/>
                </a:lnTo>
                <a:lnTo>
                  <a:pt x="86" y="0"/>
                </a:lnTo>
                <a:lnTo>
                  <a:pt x="88" y="13"/>
                </a:lnTo>
                <a:lnTo>
                  <a:pt x="101" y="24"/>
                </a:lnTo>
                <a:lnTo>
                  <a:pt x="104" y="30"/>
                </a:lnTo>
                <a:lnTo>
                  <a:pt x="104" y="32"/>
                </a:lnTo>
                <a:lnTo>
                  <a:pt x="104" y="37"/>
                </a:lnTo>
                <a:lnTo>
                  <a:pt x="106" y="46"/>
                </a:lnTo>
                <a:lnTo>
                  <a:pt x="108" y="46"/>
                </a:lnTo>
                <a:lnTo>
                  <a:pt x="121" y="50"/>
                </a:lnTo>
                <a:lnTo>
                  <a:pt x="128" y="52"/>
                </a:lnTo>
                <a:lnTo>
                  <a:pt x="128" y="55"/>
                </a:lnTo>
                <a:lnTo>
                  <a:pt x="123" y="59"/>
                </a:lnTo>
                <a:lnTo>
                  <a:pt x="121" y="63"/>
                </a:lnTo>
                <a:lnTo>
                  <a:pt x="126" y="70"/>
                </a:lnTo>
                <a:lnTo>
                  <a:pt x="128" y="85"/>
                </a:lnTo>
                <a:lnTo>
                  <a:pt x="132" y="90"/>
                </a:lnTo>
                <a:lnTo>
                  <a:pt x="132" y="94"/>
                </a:lnTo>
                <a:lnTo>
                  <a:pt x="132" y="101"/>
                </a:lnTo>
                <a:lnTo>
                  <a:pt x="132" y="112"/>
                </a:lnTo>
                <a:lnTo>
                  <a:pt x="135" y="119"/>
                </a:lnTo>
                <a:lnTo>
                  <a:pt x="141" y="132"/>
                </a:lnTo>
                <a:lnTo>
                  <a:pt x="139" y="139"/>
                </a:lnTo>
                <a:lnTo>
                  <a:pt x="145" y="150"/>
                </a:lnTo>
                <a:lnTo>
                  <a:pt x="156" y="158"/>
                </a:lnTo>
                <a:lnTo>
                  <a:pt x="168" y="170"/>
                </a:lnTo>
                <a:lnTo>
                  <a:pt x="179" y="174"/>
                </a:lnTo>
                <a:lnTo>
                  <a:pt x="189" y="185"/>
                </a:lnTo>
                <a:lnTo>
                  <a:pt x="189" y="187"/>
                </a:lnTo>
                <a:lnTo>
                  <a:pt x="189" y="187"/>
                </a:lnTo>
                <a:lnTo>
                  <a:pt x="176" y="19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01960" y="1890720"/>
            <a:ext cx="573120" cy="733320"/>
          </a:xfrm>
          <a:custGeom>
            <a:avLst/>
            <a:gdLst/>
            <a:ahLst/>
            <a:rect l="l" t="t" r="r" b="b"/>
            <a:pathLst>
              <a:path w="358" h="501">
                <a:moveTo>
                  <a:pt x="210" y="422"/>
                </a:moveTo>
                <a:lnTo>
                  <a:pt x="207" y="422"/>
                </a:lnTo>
                <a:lnTo>
                  <a:pt x="201" y="424"/>
                </a:lnTo>
                <a:lnTo>
                  <a:pt x="188" y="433"/>
                </a:lnTo>
                <a:lnTo>
                  <a:pt x="187" y="433"/>
                </a:lnTo>
                <a:lnTo>
                  <a:pt x="177" y="433"/>
                </a:lnTo>
                <a:lnTo>
                  <a:pt x="172" y="435"/>
                </a:lnTo>
                <a:lnTo>
                  <a:pt x="166" y="437"/>
                </a:lnTo>
                <a:lnTo>
                  <a:pt x="161" y="441"/>
                </a:lnTo>
                <a:lnTo>
                  <a:pt x="159" y="444"/>
                </a:lnTo>
                <a:lnTo>
                  <a:pt x="159" y="452"/>
                </a:lnTo>
                <a:lnTo>
                  <a:pt x="157" y="455"/>
                </a:lnTo>
                <a:lnTo>
                  <a:pt x="157" y="455"/>
                </a:lnTo>
                <a:lnTo>
                  <a:pt x="154" y="455"/>
                </a:lnTo>
                <a:lnTo>
                  <a:pt x="146" y="452"/>
                </a:lnTo>
                <a:lnTo>
                  <a:pt x="143" y="452"/>
                </a:lnTo>
                <a:lnTo>
                  <a:pt x="139" y="453"/>
                </a:lnTo>
                <a:lnTo>
                  <a:pt x="123" y="461"/>
                </a:lnTo>
                <a:lnTo>
                  <a:pt x="88" y="473"/>
                </a:lnTo>
                <a:lnTo>
                  <a:pt x="81" y="475"/>
                </a:lnTo>
                <a:lnTo>
                  <a:pt x="68" y="473"/>
                </a:lnTo>
                <a:lnTo>
                  <a:pt x="46" y="486"/>
                </a:lnTo>
                <a:lnTo>
                  <a:pt x="29" y="488"/>
                </a:lnTo>
                <a:lnTo>
                  <a:pt x="20" y="490"/>
                </a:lnTo>
                <a:lnTo>
                  <a:pt x="11" y="495"/>
                </a:lnTo>
                <a:lnTo>
                  <a:pt x="6" y="501"/>
                </a:lnTo>
                <a:lnTo>
                  <a:pt x="9" y="497"/>
                </a:lnTo>
                <a:lnTo>
                  <a:pt x="9" y="492"/>
                </a:lnTo>
                <a:lnTo>
                  <a:pt x="7" y="486"/>
                </a:lnTo>
                <a:lnTo>
                  <a:pt x="2" y="481"/>
                </a:lnTo>
                <a:lnTo>
                  <a:pt x="0" y="473"/>
                </a:lnTo>
                <a:lnTo>
                  <a:pt x="4" y="461"/>
                </a:lnTo>
                <a:lnTo>
                  <a:pt x="9" y="452"/>
                </a:lnTo>
                <a:lnTo>
                  <a:pt x="15" y="444"/>
                </a:lnTo>
                <a:lnTo>
                  <a:pt x="18" y="442"/>
                </a:lnTo>
                <a:lnTo>
                  <a:pt x="26" y="433"/>
                </a:lnTo>
                <a:lnTo>
                  <a:pt x="28" y="417"/>
                </a:lnTo>
                <a:lnTo>
                  <a:pt x="26" y="411"/>
                </a:lnTo>
                <a:lnTo>
                  <a:pt x="22" y="406"/>
                </a:lnTo>
                <a:lnTo>
                  <a:pt x="22" y="393"/>
                </a:lnTo>
                <a:lnTo>
                  <a:pt x="18" y="388"/>
                </a:lnTo>
                <a:lnTo>
                  <a:pt x="13" y="369"/>
                </a:lnTo>
                <a:lnTo>
                  <a:pt x="18" y="335"/>
                </a:lnTo>
                <a:lnTo>
                  <a:pt x="17" y="331"/>
                </a:lnTo>
                <a:lnTo>
                  <a:pt x="20" y="320"/>
                </a:lnTo>
                <a:lnTo>
                  <a:pt x="22" y="316"/>
                </a:lnTo>
                <a:lnTo>
                  <a:pt x="22" y="305"/>
                </a:lnTo>
                <a:lnTo>
                  <a:pt x="20" y="302"/>
                </a:lnTo>
                <a:lnTo>
                  <a:pt x="20" y="287"/>
                </a:lnTo>
                <a:lnTo>
                  <a:pt x="22" y="280"/>
                </a:lnTo>
                <a:lnTo>
                  <a:pt x="24" y="276"/>
                </a:lnTo>
                <a:lnTo>
                  <a:pt x="28" y="274"/>
                </a:lnTo>
                <a:lnTo>
                  <a:pt x="31" y="267"/>
                </a:lnTo>
                <a:lnTo>
                  <a:pt x="33" y="263"/>
                </a:lnTo>
                <a:lnTo>
                  <a:pt x="33" y="258"/>
                </a:lnTo>
                <a:lnTo>
                  <a:pt x="29" y="252"/>
                </a:lnTo>
                <a:lnTo>
                  <a:pt x="24" y="249"/>
                </a:lnTo>
                <a:lnTo>
                  <a:pt x="20" y="249"/>
                </a:lnTo>
                <a:lnTo>
                  <a:pt x="18" y="254"/>
                </a:lnTo>
                <a:lnTo>
                  <a:pt x="17" y="254"/>
                </a:lnTo>
                <a:lnTo>
                  <a:pt x="9" y="252"/>
                </a:lnTo>
                <a:lnTo>
                  <a:pt x="13" y="241"/>
                </a:lnTo>
                <a:lnTo>
                  <a:pt x="13" y="227"/>
                </a:lnTo>
                <a:lnTo>
                  <a:pt x="15" y="210"/>
                </a:lnTo>
                <a:lnTo>
                  <a:pt x="18" y="208"/>
                </a:lnTo>
                <a:lnTo>
                  <a:pt x="20" y="205"/>
                </a:lnTo>
                <a:lnTo>
                  <a:pt x="22" y="207"/>
                </a:lnTo>
                <a:lnTo>
                  <a:pt x="22" y="210"/>
                </a:lnTo>
                <a:lnTo>
                  <a:pt x="24" y="212"/>
                </a:lnTo>
                <a:lnTo>
                  <a:pt x="29" y="212"/>
                </a:lnTo>
                <a:lnTo>
                  <a:pt x="33" y="210"/>
                </a:lnTo>
                <a:lnTo>
                  <a:pt x="37" y="205"/>
                </a:lnTo>
                <a:lnTo>
                  <a:pt x="42" y="194"/>
                </a:lnTo>
                <a:lnTo>
                  <a:pt x="40" y="185"/>
                </a:lnTo>
                <a:lnTo>
                  <a:pt x="42" y="170"/>
                </a:lnTo>
                <a:lnTo>
                  <a:pt x="48" y="124"/>
                </a:lnTo>
                <a:lnTo>
                  <a:pt x="51" y="112"/>
                </a:lnTo>
                <a:lnTo>
                  <a:pt x="55" y="86"/>
                </a:lnTo>
                <a:lnTo>
                  <a:pt x="55" y="77"/>
                </a:lnTo>
                <a:lnTo>
                  <a:pt x="57" y="71"/>
                </a:lnTo>
                <a:lnTo>
                  <a:pt x="59" y="71"/>
                </a:lnTo>
                <a:lnTo>
                  <a:pt x="60" y="68"/>
                </a:lnTo>
                <a:lnTo>
                  <a:pt x="62" y="64"/>
                </a:lnTo>
                <a:lnTo>
                  <a:pt x="64" y="53"/>
                </a:lnTo>
                <a:lnTo>
                  <a:pt x="79" y="53"/>
                </a:lnTo>
                <a:lnTo>
                  <a:pt x="95" y="55"/>
                </a:lnTo>
                <a:lnTo>
                  <a:pt x="103" y="57"/>
                </a:lnTo>
                <a:lnTo>
                  <a:pt x="141" y="49"/>
                </a:lnTo>
                <a:lnTo>
                  <a:pt x="166" y="42"/>
                </a:lnTo>
                <a:lnTo>
                  <a:pt x="179" y="40"/>
                </a:lnTo>
                <a:lnTo>
                  <a:pt x="187" y="37"/>
                </a:lnTo>
                <a:lnTo>
                  <a:pt x="188" y="31"/>
                </a:lnTo>
                <a:lnTo>
                  <a:pt x="194" y="18"/>
                </a:lnTo>
                <a:lnTo>
                  <a:pt x="196" y="11"/>
                </a:lnTo>
                <a:lnTo>
                  <a:pt x="196" y="9"/>
                </a:lnTo>
                <a:lnTo>
                  <a:pt x="194" y="9"/>
                </a:lnTo>
                <a:lnTo>
                  <a:pt x="183" y="11"/>
                </a:lnTo>
                <a:lnTo>
                  <a:pt x="176" y="7"/>
                </a:lnTo>
                <a:lnTo>
                  <a:pt x="170" y="6"/>
                </a:lnTo>
                <a:lnTo>
                  <a:pt x="170" y="4"/>
                </a:lnTo>
                <a:lnTo>
                  <a:pt x="170" y="2"/>
                </a:lnTo>
                <a:lnTo>
                  <a:pt x="174" y="0"/>
                </a:lnTo>
                <a:lnTo>
                  <a:pt x="183" y="0"/>
                </a:lnTo>
                <a:lnTo>
                  <a:pt x="209" y="2"/>
                </a:lnTo>
                <a:lnTo>
                  <a:pt x="210" y="6"/>
                </a:lnTo>
                <a:lnTo>
                  <a:pt x="212" y="6"/>
                </a:lnTo>
                <a:lnTo>
                  <a:pt x="221" y="7"/>
                </a:lnTo>
                <a:lnTo>
                  <a:pt x="243" y="40"/>
                </a:lnTo>
                <a:lnTo>
                  <a:pt x="243" y="71"/>
                </a:lnTo>
                <a:lnTo>
                  <a:pt x="249" y="77"/>
                </a:lnTo>
                <a:lnTo>
                  <a:pt x="252" y="84"/>
                </a:lnTo>
                <a:lnTo>
                  <a:pt x="254" y="93"/>
                </a:lnTo>
                <a:lnTo>
                  <a:pt x="254" y="106"/>
                </a:lnTo>
                <a:lnTo>
                  <a:pt x="262" y="113"/>
                </a:lnTo>
                <a:lnTo>
                  <a:pt x="265" y="115"/>
                </a:lnTo>
                <a:lnTo>
                  <a:pt x="267" y="119"/>
                </a:lnTo>
                <a:lnTo>
                  <a:pt x="269" y="132"/>
                </a:lnTo>
                <a:lnTo>
                  <a:pt x="269" y="135"/>
                </a:lnTo>
                <a:lnTo>
                  <a:pt x="269" y="137"/>
                </a:lnTo>
                <a:lnTo>
                  <a:pt x="276" y="161"/>
                </a:lnTo>
                <a:lnTo>
                  <a:pt x="273" y="177"/>
                </a:lnTo>
                <a:lnTo>
                  <a:pt x="274" y="188"/>
                </a:lnTo>
                <a:lnTo>
                  <a:pt x="282" y="194"/>
                </a:lnTo>
                <a:lnTo>
                  <a:pt x="302" y="196"/>
                </a:lnTo>
                <a:lnTo>
                  <a:pt x="340" y="188"/>
                </a:lnTo>
                <a:lnTo>
                  <a:pt x="358" y="205"/>
                </a:lnTo>
                <a:lnTo>
                  <a:pt x="344" y="243"/>
                </a:lnTo>
                <a:lnTo>
                  <a:pt x="335" y="276"/>
                </a:lnTo>
                <a:lnTo>
                  <a:pt x="326" y="303"/>
                </a:lnTo>
                <a:lnTo>
                  <a:pt x="238" y="338"/>
                </a:lnTo>
                <a:lnTo>
                  <a:pt x="232" y="347"/>
                </a:lnTo>
                <a:lnTo>
                  <a:pt x="230" y="349"/>
                </a:lnTo>
                <a:lnTo>
                  <a:pt x="227" y="347"/>
                </a:lnTo>
                <a:lnTo>
                  <a:pt x="225" y="349"/>
                </a:lnTo>
                <a:lnTo>
                  <a:pt x="214" y="366"/>
                </a:lnTo>
                <a:lnTo>
                  <a:pt x="207" y="377"/>
                </a:lnTo>
                <a:lnTo>
                  <a:pt x="207" y="378"/>
                </a:lnTo>
                <a:lnTo>
                  <a:pt x="209" y="384"/>
                </a:lnTo>
                <a:lnTo>
                  <a:pt x="214" y="388"/>
                </a:lnTo>
                <a:lnTo>
                  <a:pt x="229" y="408"/>
                </a:lnTo>
                <a:lnTo>
                  <a:pt x="227" y="409"/>
                </a:lnTo>
                <a:lnTo>
                  <a:pt x="221" y="411"/>
                </a:lnTo>
                <a:lnTo>
                  <a:pt x="216" y="413"/>
                </a:lnTo>
                <a:lnTo>
                  <a:pt x="212" y="415"/>
                </a:lnTo>
                <a:lnTo>
                  <a:pt x="210" y="42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38360" y="2019240"/>
            <a:ext cx="473040" cy="398520"/>
          </a:xfrm>
          <a:custGeom>
            <a:avLst/>
            <a:gdLst/>
            <a:ahLst/>
            <a:rect l="l" t="t" r="r" b="b"/>
            <a:pathLst>
              <a:path w="296" h="272">
                <a:moveTo>
                  <a:pt x="252" y="272"/>
                </a:moveTo>
                <a:lnTo>
                  <a:pt x="232" y="256"/>
                </a:lnTo>
                <a:lnTo>
                  <a:pt x="230" y="259"/>
                </a:lnTo>
                <a:lnTo>
                  <a:pt x="226" y="268"/>
                </a:lnTo>
                <a:lnTo>
                  <a:pt x="225" y="270"/>
                </a:lnTo>
                <a:lnTo>
                  <a:pt x="223" y="270"/>
                </a:lnTo>
                <a:lnTo>
                  <a:pt x="212" y="267"/>
                </a:lnTo>
                <a:lnTo>
                  <a:pt x="204" y="261"/>
                </a:lnTo>
                <a:lnTo>
                  <a:pt x="188" y="261"/>
                </a:lnTo>
                <a:lnTo>
                  <a:pt x="164" y="254"/>
                </a:lnTo>
                <a:lnTo>
                  <a:pt x="161" y="252"/>
                </a:lnTo>
                <a:lnTo>
                  <a:pt x="144" y="230"/>
                </a:lnTo>
                <a:lnTo>
                  <a:pt x="142" y="228"/>
                </a:lnTo>
                <a:lnTo>
                  <a:pt x="144" y="223"/>
                </a:lnTo>
                <a:lnTo>
                  <a:pt x="142" y="219"/>
                </a:lnTo>
                <a:lnTo>
                  <a:pt x="130" y="212"/>
                </a:lnTo>
                <a:lnTo>
                  <a:pt x="128" y="210"/>
                </a:lnTo>
                <a:lnTo>
                  <a:pt x="126" y="212"/>
                </a:lnTo>
                <a:lnTo>
                  <a:pt x="124" y="212"/>
                </a:lnTo>
                <a:lnTo>
                  <a:pt x="119" y="208"/>
                </a:lnTo>
                <a:lnTo>
                  <a:pt x="117" y="199"/>
                </a:lnTo>
                <a:lnTo>
                  <a:pt x="117" y="192"/>
                </a:lnTo>
                <a:lnTo>
                  <a:pt x="119" y="188"/>
                </a:lnTo>
                <a:lnTo>
                  <a:pt x="120" y="186"/>
                </a:lnTo>
                <a:lnTo>
                  <a:pt x="120" y="170"/>
                </a:lnTo>
                <a:lnTo>
                  <a:pt x="117" y="164"/>
                </a:lnTo>
                <a:lnTo>
                  <a:pt x="104" y="157"/>
                </a:lnTo>
                <a:lnTo>
                  <a:pt x="87" y="151"/>
                </a:lnTo>
                <a:lnTo>
                  <a:pt x="84" y="151"/>
                </a:lnTo>
                <a:lnTo>
                  <a:pt x="84" y="153"/>
                </a:lnTo>
                <a:lnTo>
                  <a:pt x="80" y="166"/>
                </a:lnTo>
                <a:lnTo>
                  <a:pt x="80" y="170"/>
                </a:lnTo>
                <a:lnTo>
                  <a:pt x="84" y="179"/>
                </a:lnTo>
                <a:lnTo>
                  <a:pt x="84" y="188"/>
                </a:lnTo>
                <a:lnTo>
                  <a:pt x="71" y="225"/>
                </a:lnTo>
                <a:lnTo>
                  <a:pt x="69" y="228"/>
                </a:lnTo>
                <a:lnTo>
                  <a:pt x="53" y="226"/>
                </a:lnTo>
                <a:lnTo>
                  <a:pt x="36" y="219"/>
                </a:lnTo>
                <a:lnTo>
                  <a:pt x="16" y="197"/>
                </a:lnTo>
                <a:lnTo>
                  <a:pt x="9" y="195"/>
                </a:lnTo>
                <a:lnTo>
                  <a:pt x="0" y="188"/>
                </a:lnTo>
                <a:lnTo>
                  <a:pt x="9" y="155"/>
                </a:lnTo>
                <a:lnTo>
                  <a:pt x="23" y="117"/>
                </a:lnTo>
                <a:lnTo>
                  <a:pt x="5" y="100"/>
                </a:lnTo>
                <a:lnTo>
                  <a:pt x="11" y="89"/>
                </a:lnTo>
                <a:lnTo>
                  <a:pt x="22" y="82"/>
                </a:lnTo>
                <a:lnTo>
                  <a:pt x="22" y="71"/>
                </a:lnTo>
                <a:lnTo>
                  <a:pt x="31" y="66"/>
                </a:lnTo>
                <a:lnTo>
                  <a:pt x="45" y="62"/>
                </a:lnTo>
                <a:lnTo>
                  <a:pt x="45" y="56"/>
                </a:lnTo>
                <a:lnTo>
                  <a:pt x="49" y="42"/>
                </a:lnTo>
                <a:lnTo>
                  <a:pt x="53" y="40"/>
                </a:lnTo>
                <a:lnTo>
                  <a:pt x="60" y="38"/>
                </a:lnTo>
                <a:lnTo>
                  <a:pt x="86" y="31"/>
                </a:lnTo>
                <a:lnTo>
                  <a:pt x="89" y="27"/>
                </a:lnTo>
                <a:lnTo>
                  <a:pt x="91" y="24"/>
                </a:lnTo>
                <a:lnTo>
                  <a:pt x="97" y="0"/>
                </a:lnTo>
                <a:lnTo>
                  <a:pt x="98" y="0"/>
                </a:lnTo>
                <a:lnTo>
                  <a:pt x="111" y="5"/>
                </a:lnTo>
                <a:lnTo>
                  <a:pt x="126" y="14"/>
                </a:lnTo>
                <a:lnTo>
                  <a:pt x="137" y="27"/>
                </a:lnTo>
                <a:lnTo>
                  <a:pt x="142" y="31"/>
                </a:lnTo>
                <a:lnTo>
                  <a:pt x="153" y="31"/>
                </a:lnTo>
                <a:lnTo>
                  <a:pt x="159" y="31"/>
                </a:lnTo>
                <a:lnTo>
                  <a:pt x="197" y="29"/>
                </a:lnTo>
                <a:lnTo>
                  <a:pt x="193" y="36"/>
                </a:lnTo>
                <a:lnTo>
                  <a:pt x="193" y="42"/>
                </a:lnTo>
                <a:lnTo>
                  <a:pt x="193" y="51"/>
                </a:lnTo>
                <a:lnTo>
                  <a:pt x="183" y="69"/>
                </a:lnTo>
                <a:lnTo>
                  <a:pt x="184" y="75"/>
                </a:lnTo>
                <a:lnTo>
                  <a:pt x="188" y="91"/>
                </a:lnTo>
                <a:lnTo>
                  <a:pt x="190" y="102"/>
                </a:lnTo>
                <a:lnTo>
                  <a:pt x="193" y="111"/>
                </a:lnTo>
                <a:lnTo>
                  <a:pt x="197" y="115"/>
                </a:lnTo>
                <a:lnTo>
                  <a:pt x="210" y="117"/>
                </a:lnTo>
                <a:lnTo>
                  <a:pt x="212" y="117"/>
                </a:lnTo>
                <a:lnTo>
                  <a:pt x="214" y="119"/>
                </a:lnTo>
                <a:lnTo>
                  <a:pt x="215" y="122"/>
                </a:lnTo>
                <a:lnTo>
                  <a:pt x="215" y="126"/>
                </a:lnTo>
                <a:lnTo>
                  <a:pt x="214" y="131"/>
                </a:lnTo>
                <a:lnTo>
                  <a:pt x="212" y="139"/>
                </a:lnTo>
                <a:lnTo>
                  <a:pt x="212" y="141"/>
                </a:lnTo>
                <a:lnTo>
                  <a:pt x="214" y="144"/>
                </a:lnTo>
                <a:lnTo>
                  <a:pt x="217" y="144"/>
                </a:lnTo>
                <a:lnTo>
                  <a:pt x="219" y="146"/>
                </a:lnTo>
                <a:lnTo>
                  <a:pt x="226" y="159"/>
                </a:lnTo>
                <a:lnTo>
                  <a:pt x="226" y="164"/>
                </a:lnTo>
                <a:lnTo>
                  <a:pt x="234" y="166"/>
                </a:lnTo>
                <a:lnTo>
                  <a:pt x="236" y="164"/>
                </a:lnTo>
                <a:lnTo>
                  <a:pt x="239" y="161"/>
                </a:lnTo>
                <a:lnTo>
                  <a:pt x="247" y="161"/>
                </a:lnTo>
                <a:lnTo>
                  <a:pt x="257" y="166"/>
                </a:lnTo>
                <a:lnTo>
                  <a:pt x="261" y="168"/>
                </a:lnTo>
                <a:lnTo>
                  <a:pt x="267" y="173"/>
                </a:lnTo>
                <a:lnTo>
                  <a:pt x="274" y="170"/>
                </a:lnTo>
                <a:lnTo>
                  <a:pt x="276" y="164"/>
                </a:lnTo>
                <a:lnTo>
                  <a:pt x="294" y="166"/>
                </a:lnTo>
                <a:lnTo>
                  <a:pt x="296" y="217"/>
                </a:lnTo>
                <a:lnTo>
                  <a:pt x="296" y="230"/>
                </a:lnTo>
                <a:lnTo>
                  <a:pt x="296" y="234"/>
                </a:lnTo>
                <a:lnTo>
                  <a:pt x="292" y="241"/>
                </a:lnTo>
                <a:lnTo>
                  <a:pt x="283" y="252"/>
                </a:lnTo>
                <a:lnTo>
                  <a:pt x="279" y="254"/>
                </a:lnTo>
                <a:lnTo>
                  <a:pt x="272" y="254"/>
                </a:lnTo>
                <a:lnTo>
                  <a:pt x="261" y="259"/>
                </a:lnTo>
                <a:lnTo>
                  <a:pt x="257" y="265"/>
                </a:lnTo>
                <a:lnTo>
                  <a:pt x="252" y="27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33520" y="2049480"/>
            <a:ext cx="959040" cy="617400"/>
          </a:xfrm>
          <a:custGeom>
            <a:avLst/>
            <a:gdLst/>
            <a:ahLst/>
            <a:rect l="l" t="t" r="r" b="b"/>
            <a:pathLst>
              <a:path w="599" h="422">
                <a:moveTo>
                  <a:pt x="497" y="353"/>
                </a:moveTo>
                <a:lnTo>
                  <a:pt x="448" y="351"/>
                </a:lnTo>
                <a:lnTo>
                  <a:pt x="420" y="344"/>
                </a:lnTo>
                <a:lnTo>
                  <a:pt x="398" y="387"/>
                </a:lnTo>
                <a:lnTo>
                  <a:pt x="393" y="406"/>
                </a:lnTo>
                <a:lnTo>
                  <a:pt x="373" y="408"/>
                </a:lnTo>
                <a:lnTo>
                  <a:pt x="365" y="406"/>
                </a:lnTo>
                <a:lnTo>
                  <a:pt x="362" y="406"/>
                </a:lnTo>
                <a:lnTo>
                  <a:pt x="360" y="406"/>
                </a:lnTo>
                <a:lnTo>
                  <a:pt x="354" y="411"/>
                </a:lnTo>
                <a:lnTo>
                  <a:pt x="349" y="411"/>
                </a:lnTo>
                <a:lnTo>
                  <a:pt x="338" y="409"/>
                </a:lnTo>
                <a:lnTo>
                  <a:pt x="318" y="402"/>
                </a:lnTo>
                <a:lnTo>
                  <a:pt x="316" y="395"/>
                </a:lnTo>
                <a:lnTo>
                  <a:pt x="312" y="393"/>
                </a:lnTo>
                <a:lnTo>
                  <a:pt x="311" y="393"/>
                </a:lnTo>
                <a:lnTo>
                  <a:pt x="303" y="397"/>
                </a:lnTo>
                <a:lnTo>
                  <a:pt x="301" y="397"/>
                </a:lnTo>
                <a:lnTo>
                  <a:pt x="279" y="393"/>
                </a:lnTo>
                <a:lnTo>
                  <a:pt x="278" y="395"/>
                </a:lnTo>
                <a:lnTo>
                  <a:pt x="278" y="402"/>
                </a:lnTo>
                <a:lnTo>
                  <a:pt x="276" y="411"/>
                </a:lnTo>
                <a:lnTo>
                  <a:pt x="274" y="415"/>
                </a:lnTo>
                <a:lnTo>
                  <a:pt x="248" y="411"/>
                </a:lnTo>
                <a:lnTo>
                  <a:pt x="232" y="408"/>
                </a:lnTo>
                <a:lnTo>
                  <a:pt x="219" y="408"/>
                </a:lnTo>
                <a:lnTo>
                  <a:pt x="217" y="411"/>
                </a:lnTo>
                <a:lnTo>
                  <a:pt x="212" y="422"/>
                </a:lnTo>
                <a:lnTo>
                  <a:pt x="210" y="422"/>
                </a:lnTo>
                <a:lnTo>
                  <a:pt x="208" y="422"/>
                </a:lnTo>
                <a:lnTo>
                  <a:pt x="197" y="411"/>
                </a:lnTo>
                <a:lnTo>
                  <a:pt x="188" y="395"/>
                </a:lnTo>
                <a:lnTo>
                  <a:pt x="172" y="373"/>
                </a:lnTo>
                <a:lnTo>
                  <a:pt x="168" y="364"/>
                </a:lnTo>
                <a:lnTo>
                  <a:pt x="170" y="360"/>
                </a:lnTo>
                <a:lnTo>
                  <a:pt x="170" y="358"/>
                </a:lnTo>
                <a:lnTo>
                  <a:pt x="177" y="355"/>
                </a:lnTo>
                <a:lnTo>
                  <a:pt x="192" y="353"/>
                </a:lnTo>
                <a:lnTo>
                  <a:pt x="199" y="347"/>
                </a:lnTo>
                <a:lnTo>
                  <a:pt x="203" y="334"/>
                </a:lnTo>
                <a:lnTo>
                  <a:pt x="195" y="318"/>
                </a:lnTo>
                <a:lnTo>
                  <a:pt x="194" y="314"/>
                </a:lnTo>
                <a:lnTo>
                  <a:pt x="73" y="316"/>
                </a:lnTo>
                <a:lnTo>
                  <a:pt x="9" y="305"/>
                </a:lnTo>
                <a:lnTo>
                  <a:pt x="14" y="303"/>
                </a:lnTo>
                <a:lnTo>
                  <a:pt x="20" y="301"/>
                </a:lnTo>
                <a:lnTo>
                  <a:pt x="22" y="300"/>
                </a:lnTo>
                <a:lnTo>
                  <a:pt x="7" y="280"/>
                </a:lnTo>
                <a:lnTo>
                  <a:pt x="2" y="276"/>
                </a:lnTo>
                <a:lnTo>
                  <a:pt x="0" y="270"/>
                </a:lnTo>
                <a:lnTo>
                  <a:pt x="0" y="269"/>
                </a:lnTo>
                <a:lnTo>
                  <a:pt x="7" y="258"/>
                </a:lnTo>
                <a:lnTo>
                  <a:pt x="18" y="241"/>
                </a:lnTo>
                <a:lnTo>
                  <a:pt x="20" y="239"/>
                </a:lnTo>
                <a:lnTo>
                  <a:pt x="23" y="241"/>
                </a:lnTo>
                <a:lnTo>
                  <a:pt x="25" y="239"/>
                </a:lnTo>
                <a:lnTo>
                  <a:pt x="31" y="230"/>
                </a:lnTo>
                <a:lnTo>
                  <a:pt x="119" y="195"/>
                </a:lnTo>
                <a:lnTo>
                  <a:pt x="128" y="168"/>
                </a:lnTo>
                <a:lnTo>
                  <a:pt x="137" y="175"/>
                </a:lnTo>
                <a:lnTo>
                  <a:pt x="144" y="177"/>
                </a:lnTo>
                <a:lnTo>
                  <a:pt x="164" y="199"/>
                </a:lnTo>
                <a:lnTo>
                  <a:pt x="181" y="206"/>
                </a:lnTo>
                <a:lnTo>
                  <a:pt x="197" y="208"/>
                </a:lnTo>
                <a:lnTo>
                  <a:pt x="199" y="205"/>
                </a:lnTo>
                <a:lnTo>
                  <a:pt x="212" y="168"/>
                </a:lnTo>
                <a:lnTo>
                  <a:pt x="212" y="159"/>
                </a:lnTo>
                <a:lnTo>
                  <a:pt x="208" y="150"/>
                </a:lnTo>
                <a:lnTo>
                  <a:pt x="208" y="146"/>
                </a:lnTo>
                <a:lnTo>
                  <a:pt x="212" y="133"/>
                </a:lnTo>
                <a:lnTo>
                  <a:pt x="212" y="131"/>
                </a:lnTo>
                <a:lnTo>
                  <a:pt x="215" y="131"/>
                </a:lnTo>
                <a:lnTo>
                  <a:pt x="232" y="137"/>
                </a:lnTo>
                <a:lnTo>
                  <a:pt x="245" y="144"/>
                </a:lnTo>
                <a:lnTo>
                  <a:pt x="248" y="150"/>
                </a:lnTo>
                <a:lnTo>
                  <a:pt x="248" y="166"/>
                </a:lnTo>
                <a:lnTo>
                  <a:pt x="247" y="168"/>
                </a:lnTo>
                <a:lnTo>
                  <a:pt x="245" y="172"/>
                </a:lnTo>
                <a:lnTo>
                  <a:pt x="245" y="179"/>
                </a:lnTo>
                <a:lnTo>
                  <a:pt x="247" y="188"/>
                </a:lnTo>
                <a:lnTo>
                  <a:pt x="252" y="192"/>
                </a:lnTo>
                <a:lnTo>
                  <a:pt x="254" y="192"/>
                </a:lnTo>
                <a:lnTo>
                  <a:pt x="256" y="190"/>
                </a:lnTo>
                <a:lnTo>
                  <a:pt x="258" y="192"/>
                </a:lnTo>
                <a:lnTo>
                  <a:pt x="270" y="199"/>
                </a:lnTo>
                <a:lnTo>
                  <a:pt x="272" y="203"/>
                </a:lnTo>
                <a:lnTo>
                  <a:pt x="270" y="208"/>
                </a:lnTo>
                <a:lnTo>
                  <a:pt x="272" y="210"/>
                </a:lnTo>
                <a:lnTo>
                  <a:pt x="289" y="232"/>
                </a:lnTo>
                <a:lnTo>
                  <a:pt x="292" y="234"/>
                </a:lnTo>
                <a:lnTo>
                  <a:pt x="316" y="241"/>
                </a:lnTo>
                <a:lnTo>
                  <a:pt x="332" y="241"/>
                </a:lnTo>
                <a:lnTo>
                  <a:pt x="340" y="247"/>
                </a:lnTo>
                <a:lnTo>
                  <a:pt x="351" y="250"/>
                </a:lnTo>
                <a:lnTo>
                  <a:pt x="353" y="250"/>
                </a:lnTo>
                <a:lnTo>
                  <a:pt x="354" y="248"/>
                </a:lnTo>
                <a:lnTo>
                  <a:pt x="358" y="239"/>
                </a:lnTo>
                <a:lnTo>
                  <a:pt x="360" y="236"/>
                </a:lnTo>
                <a:lnTo>
                  <a:pt x="380" y="252"/>
                </a:lnTo>
                <a:lnTo>
                  <a:pt x="385" y="245"/>
                </a:lnTo>
                <a:lnTo>
                  <a:pt x="389" y="239"/>
                </a:lnTo>
                <a:lnTo>
                  <a:pt x="400" y="234"/>
                </a:lnTo>
                <a:lnTo>
                  <a:pt x="407" y="234"/>
                </a:lnTo>
                <a:lnTo>
                  <a:pt x="411" y="232"/>
                </a:lnTo>
                <a:lnTo>
                  <a:pt x="420" y="221"/>
                </a:lnTo>
                <a:lnTo>
                  <a:pt x="424" y="214"/>
                </a:lnTo>
                <a:lnTo>
                  <a:pt x="424" y="210"/>
                </a:lnTo>
                <a:lnTo>
                  <a:pt x="424" y="197"/>
                </a:lnTo>
                <a:lnTo>
                  <a:pt x="422" y="146"/>
                </a:lnTo>
                <a:lnTo>
                  <a:pt x="404" y="144"/>
                </a:lnTo>
                <a:lnTo>
                  <a:pt x="402" y="150"/>
                </a:lnTo>
                <a:lnTo>
                  <a:pt x="395" y="153"/>
                </a:lnTo>
                <a:lnTo>
                  <a:pt x="389" y="148"/>
                </a:lnTo>
                <a:lnTo>
                  <a:pt x="385" y="146"/>
                </a:lnTo>
                <a:lnTo>
                  <a:pt x="375" y="141"/>
                </a:lnTo>
                <a:lnTo>
                  <a:pt x="367" y="141"/>
                </a:lnTo>
                <a:lnTo>
                  <a:pt x="364" y="144"/>
                </a:lnTo>
                <a:lnTo>
                  <a:pt x="362" y="146"/>
                </a:lnTo>
                <a:lnTo>
                  <a:pt x="354" y="144"/>
                </a:lnTo>
                <a:lnTo>
                  <a:pt x="354" y="139"/>
                </a:lnTo>
                <a:lnTo>
                  <a:pt x="347" y="126"/>
                </a:lnTo>
                <a:lnTo>
                  <a:pt x="345" y="124"/>
                </a:lnTo>
                <a:lnTo>
                  <a:pt x="342" y="124"/>
                </a:lnTo>
                <a:lnTo>
                  <a:pt x="340" y="121"/>
                </a:lnTo>
                <a:lnTo>
                  <a:pt x="340" y="119"/>
                </a:lnTo>
                <a:lnTo>
                  <a:pt x="342" y="111"/>
                </a:lnTo>
                <a:lnTo>
                  <a:pt x="343" y="106"/>
                </a:lnTo>
                <a:lnTo>
                  <a:pt x="343" y="102"/>
                </a:lnTo>
                <a:lnTo>
                  <a:pt x="342" y="99"/>
                </a:lnTo>
                <a:lnTo>
                  <a:pt x="340" y="97"/>
                </a:lnTo>
                <a:lnTo>
                  <a:pt x="338" y="97"/>
                </a:lnTo>
                <a:lnTo>
                  <a:pt x="325" y="95"/>
                </a:lnTo>
                <a:lnTo>
                  <a:pt x="321" y="91"/>
                </a:lnTo>
                <a:lnTo>
                  <a:pt x="318" y="82"/>
                </a:lnTo>
                <a:lnTo>
                  <a:pt x="316" y="71"/>
                </a:lnTo>
                <a:lnTo>
                  <a:pt x="312" y="55"/>
                </a:lnTo>
                <a:lnTo>
                  <a:pt x="311" y="49"/>
                </a:lnTo>
                <a:lnTo>
                  <a:pt x="321" y="31"/>
                </a:lnTo>
                <a:lnTo>
                  <a:pt x="321" y="22"/>
                </a:lnTo>
                <a:lnTo>
                  <a:pt x="321" y="16"/>
                </a:lnTo>
                <a:lnTo>
                  <a:pt x="325" y="9"/>
                </a:lnTo>
                <a:lnTo>
                  <a:pt x="345" y="9"/>
                </a:lnTo>
                <a:lnTo>
                  <a:pt x="347" y="11"/>
                </a:lnTo>
                <a:lnTo>
                  <a:pt x="371" y="18"/>
                </a:lnTo>
                <a:lnTo>
                  <a:pt x="373" y="18"/>
                </a:lnTo>
                <a:lnTo>
                  <a:pt x="375" y="16"/>
                </a:lnTo>
                <a:lnTo>
                  <a:pt x="384" y="22"/>
                </a:lnTo>
                <a:lnTo>
                  <a:pt x="387" y="25"/>
                </a:lnTo>
                <a:lnTo>
                  <a:pt x="389" y="40"/>
                </a:lnTo>
                <a:lnTo>
                  <a:pt x="395" y="49"/>
                </a:lnTo>
                <a:lnTo>
                  <a:pt x="396" y="57"/>
                </a:lnTo>
                <a:lnTo>
                  <a:pt x="396" y="60"/>
                </a:lnTo>
                <a:lnTo>
                  <a:pt x="396" y="62"/>
                </a:lnTo>
                <a:lnTo>
                  <a:pt x="406" y="71"/>
                </a:lnTo>
                <a:lnTo>
                  <a:pt x="406" y="84"/>
                </a:lnTo>
                <a:lnTo>
                  <a:pt x="409" y="84"/>
                </a:lnTo>
                <a:lnTo>
                  <a:pt x="411" y="80"/>
                </a:lnTo>
                <a:lnTo>
                  <a:pt x="413" y="73"/>
                </a:lnTo>
                <a:lnTo>
                  <a:pt x="413" y="64"/>
                </a:lnTo>
                <a:lnTo>
                  <a:pt x="415" y="55"/>
                </a:lnTo>
                <a:lnTo>
                  <a:pt x="418" y="49"/>
                </a:lnTo>
                <a:lnTo>
                  <a:pt x="422" y="46"/>
                </a:lnTo>
                <a:lnTo>
                  <a:pt x="428" y="40"/>
                </a:lnTo>
                <a:lnTo>
                  <a:pt x="440" y="9"/>
                </a:lnTo>
                <a:lnTo>
                  <a:pt x="446" y="0"/>
                </a:lnTo>
                <a:lnTo>
                  <a:pt x="554" y="0"/>
                </a:lnTo>
                <a:lnTo>
                  <a:pt x="556" y="4"/>
                </a:lnTo>
                <a:lnTo>
                  <a:pt x="556" y="13"/>
                </a:lnTo>
                <a:lnTo>
                  <a:pt x="559" y="15"/>
                </a:lnTo>
                <a:lnTo>
                  <a:pt x="568" y="24"/>
                </a:lnTo>
                <a:lnTo>
                  <a:pt x="570" y="24"/>
                </a:lnTo>
                <a:lnTo>
                  <a:pt x="572" y="27"/>
                </a:lnTo>
                <a:lnTo>
                  <a:pt x="581" y="36"/>
                </a:lnTo>
                <a:lnTo>
                  <a:pt x="596" y="46"/>
                </a:lnTo>
                <a:lnTo>
                  <a:pt x="599" y="46"/>
                </a:lnTo>
                <a:lnTo>
                  <a:pt x="599" y="205"/>
                </a:lnTo>
                <a:lnTo>
                  <a:pt x="599" y="232"/>
                </a:lnTo>
                <a:lnTo>
                  <a:pt x="497" y="35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92560" y="2116080"/>
            <a:ext cx="736560" cy="620640"/>
          </a:xfrm>
          <a:custGeom>
            <a:avLst/>
            <a:gdLst/>
            <a:ahLst/>
            <a:rect l="l" t="t" r="r" b="b"/>
            <a:pathLst>
              <a:path w="461" h="424">
                <a:moveTo>
                  <a:pt x="0" y="159"/>
                </a:moveTo>
                <a:lnTo>
                  <a:pt x="0" y="0"/>
                </a:lnTo>
                <a:lnTo>
                  <a:pt x="6" y="1"/>
                </a:lnTo>
                <a:lnTo>
                  <a:pt x="10" y="5"/>
                </a:lnTo>
                <a:lnTo>
                  <a:pt x="10" y="11"/>
                </a:lnTo>
                <a:lnTo>
                  <a:pt x="19" y="27"/>
                </a:lnTo>
                <a:lnTo>
                  <a:pt x="30" y="40"/>
                </a:lnTo>
                <a:lnTo>
                  <a:pt x="33" y="45"/>
                </a:lnTo>
                <a:lnTo>
                  <a:pt x="33" y="49"/>
                </a:lnTo>
                <a:lnTo>
                  <a:pt x="33" y="51"/>
                </a:lnTo>
                <a:lnTo>
                  <a:pt x="41" y="58"/>
                </a:lnTo>
                <a:lnTo>
                  <a:pt x="46" y="60"/>
                </a:lnTo>
                <a:lnTo>
                  <a:pt x="57" y="67"/>
                </a:lnTo>
                <a:lnTo>
                  <a:pt x="57" y="69"/>
                </a:lnTo>
                <a:lnTo>
                  <a:pt x="57" y="73"/>
                </a:lnTo>
                <a:lnTo>
                  <a:pt x="59" y="75"/>
                </a:lnTo>
                <a:lnTo>
                  <a:pt x="64" y="78"/>
                </a:lnTo>
                <a:lnTo>
                  <a:pt x="64" y="78"/>
                </a:lnTo>
                <a:lnTo>
                  <a:pt x="68" y="78"/>
                </a:lnTo>
                <a:lnTo>
                  <a:pt x="72" y="78"/>
                </a:lnTo>
                <a:lnTo>
                  <a:pt x="86" y="91"/>
                </a:lnTo>
                <a:lnTo>
                  <a:pt x="101" y="98"/>
                </a:lnTo>
                <a:lnTo>
                  <a:pt x="112" y="104"/>
                </a:lnTo>
                <a:lnTo>
                  <a:pt x="117" y="109"/>
                </a:lnTo>
                <a:lnTo>
                  <a:pt x="127" y="124"/>
                </a:lnTo>
                <a:lnTo>
                  <a:pt x="127" y="126"/>
                </a:lnTo>
                <a:lnTo>
                  <a:pt x="128" y="129"/>
                </a:lnTo>
                <a:lnTo>
                  <a:pt x="130" y="129"/>
                </a:lnTo>
                <a:lnTo>
                  <a:pt x="152" y="135"/>
                </a:lnTo>
                <a:lnTo>
                  <a:pt x="167" y="137"/>
                </a:lnTo>
                <a:lnTo>
                  <a:pt x="169" y="139"/>
                </a:lnTo>
                <a:lnTo>
                  <a:pt x="169" y="140"/>
                </a:lnTo>
                <a:lnTo>
                  <a:pt x="170" y="142"/>
                </a:lnTo>
                <a:lnTo>
                  <a:pt x="198" y="151"/>
                </a:lnTo>
                <a:lnTo>
                  <a:pt x="211" y="151"/>
                </a:lnTo>
                <a:lnTo>
                  <a:pt x="222" y="148"/>
                </a:lnTo>
                <a:lnTo>
                  <a:pt x="276" y="181"/>
                </a:lnTo>
                <a:lnTo>
                  <a:pt x="284" y="188"/>
                </a:lnTo>
                <a:lnTo>
                  <a:pt x="289" y="193"/>
                </a:lnTo>
                <a:lnTo>
                  <a:pt x="311" y="206"/>
                </a:lnTo>
                <a:lnTo>
                  <a:pt x="317" y="206"/>
                </a:lnTo>
                <a:lnTo>
                  <a:pt x="322" y="210"/>
                </a:lnTo>
                <a:lnTo>
                  <a:pt x="340" y="223"/>
                </a:lnTo>
                <a:lnTo>
                  <a:pt x="353" y="226"/>
                </a:lnTo>
                <a:lnTo>
                  <a:pt x="362" y="226"/>
                </a:lnTo>
                <a:lnTo>
                  <a:pt x="373" y="228"/>
                </a:lnTo>
                <a:lnTo>
                  <a:pt x="375" y="230"/>
                </a:lnTo>
                <a:lnTo>
                  <a:pt x="384" y="241"/>
                </a:lnTo>
                <a:lnTo>
                  <a:pt x="401" y="241"/>
                </a:lnTo>
                <a:lnTo>
                  <a:pt x="404" y="245"/>
                </a:lnTo>
                <a:lnTo>
                  <a:pt x="412" y="246"/>
                </a:lnTo>
                <a:lnTo>
                  <a:pt x="425" y="250"/>
                </a:lnTo>
                <a:lnTo>
                  <a:pt x="430" y="252"/>
                </a:lnTo>
                <a:lnTo>
                  <a:pt x="441" y="259"/>
                </a:lnTo>
                <a:lnTo>
                  <a:pt x="441" y="259"/>
                </a:lnTo>
                <a:lnTo>
                  <a:pt x="443" y="265"/>
                </a:lnTo>
                <a:lnTo>
                  <a:pt x="446" y="268"/>
                </a:lnTo>
                <a:lnTo>
                  <a:pt x="448" y="272"/>
                </a:lnTo>
                <a:lnTo>
                  <a:pt x="452" y="279"/>
                </a:lnTo>
                <a:lnTo>
                  <a:pt x="461" y="285"/>
                </a:lnTo>
                <a:lnTo>
                  <a:pt x="461" y="288"/>
                </a:lnTo>
                <a:lnTo>
                  <a:pt x="459" y="296"/>
                </a:lnTo>
                <a:lnTo>
                  <a:pt x="443" y="314"/>
                </a:lnTo>
                <a:lnTo>
                  <a:pt x="436" y="318"/>
                </a:lnTo>
                <a:lnTo>
                  <a:pt x="437" y="323"/>
                </a:lnTo>
                <a:lnTo>
                  <a:pt x="426" y="336"/>
                </a:lnTo>
                <a:lnTo>
                  <a:pt x="428" y="336"/>
                </a:lnTo>
                <a:lnTo>
                  <a:pt x="432" y="338"/>
                </a:lnTo>
                <a:lnTo>
                  <a:pt x="432" y="340"/>
                </a:lnTo>
                <a:lnTo>
                  <a:pt x="417" y="349"/>
                </a:lnTo>
                <a:lnTo>
                  <a:pt x="414" y="351"/>
                </a:lnTo>
                <a:lnTo>
                  <a:pt x="404" y="360"/>
                </a:lnTo>
                <a:lnTo>
                  <a:pt x="404" y="363"/>
                </a:lnTo>
                <a:lnTo>
                  <a:pt x="403" y="369"/>
                </a:lnTo>
                <a:lnTo>
                  <a:pt x="397" y="380"/>
                </a:lnTo>
                <a:lnTo>
                  <a:pt x="397" y="391"/>
                </a:lnTo>
                <a:lnTo>
                  <a:pt x="397" y="391"/>
                </a:lnTo>
                <a:lnTo>
                  <a:pt x="399" y="393"/>
                </a:lnTo>
                <a:lnTo>
                  <a:pt x="401" y="396"/>
                </a:lnTo>
                <a:lnTo>
                  <a:pt x="401" y="402"/>
                </a:lnTo>
                <a:lnTo>
                  <a:pt x="388" y="424"/>
                </a:lnTo>
                <a:lnTo>
                  <a:pt x="384" y="424"/>
                </a:lnTo>
                <a:lnTo>
                  <a:pt x="383" y="424"/>
                </a:lnTo>
                <a:lnTo>
                  <a:pt x="373" y="418"/>
                </a:lnTo>
                <a:lnTo>
                  <a:pt x="366" y="411"/>
                </a:lnTo>
                <a:lnTo>
                  <a:pt x="353" y="400"/>
                </a:lnTo>
                <a:lnTo>
                  <a:pt x="333" y="387"/>
                </a:lnTo>
                <a:lnTo>
                  <a:pt x="328" y="380"/>
                </a:lnTo>
                <a:lnTo>
                  <a:pt x="324" y="376"/>
                </a:lnTo>
                <a:lnTo>
                  <a:pt x="313" y="372"/>
                </a:lnTo>
                <a:lnTo>
                  <a:pt x="302" y="371"/>
                </a:lnTo>
                <a:lnTo>
                  <a:pt x="295" y="372"/>
                </a:lnTo>
                <a:lnTo>
                  <a:pt x="287" y="372"/>
                </a:lnTo>
                <a:lnTo>
                  <a:pt x="284" y="369"/>
                </a:lnTo>
                <a:lnTo>
                  <a:pt x="282" y="362"/>
                </a:lnTo>
                <a:lnTo>
                  <a:pt x="282" y="358"/>
                </a:lnTo>
                <a:lnTo>
                  <a:pt x="280" y="356"/>
                </a:lnTo>
                <a:lnTo>
                  <a:pt x="278" y="354"/>
                </a:lnTo>
                <a:lnTo>
                  <a:pt x="267" y="354"/>
                </a:lnTo>
                <a:lnTo>
                  <a:pt x="258" y="352"/>
                </a:lnTo>
                <a:lnTo>
                  <a:pt x="256" y="351"/>
                </a:lnTo>
                <a:lnTo>
                  <a:pt x="255" y="340"/>
                </a:lnTo>
                <a:lnTo>
                  <a:pt x="238" y="321"/>
                </a:lnTo>
                <a:lnTo>
                  <a:pt x="223" y="314"/>
                </a:lnTo>
                <a:lnTo>
                  <a:pt x="209" y="307"/>
                </a:lnTo>
                <a:lnTo>
                  <a:pt x="203" y="299"/>
                </a:lnTo>
                <a:lnTo>
                  <a:pt x="203" y="294"/>
                </a:lnTo>
                <a:lnTo>
                  <a:pt x="203" y="292"/>
                </a:lnTo>
                <a:lnTo>
                  <a:pt x="203" y="290"/>
                </a:lnTo>
                <a:lnTo>
                  <a:pt x="196" y="287"/>
                </a:lnTo>
                <a:lnTo>
                  <a:pt x="187" y="276"/>
                </a:lnTo>
                <a:lnTo>
                  <a:pt x="178" y="263"/>
                </a:lnTo>
                <a:lnTo>
                  <a:pt x="161" y="257"/>
                </a:lnTo>
                <a:lnTo>
                  <a:pt x="148" y="250"/>
                </a:lnTo>
                <a:lnTo>
                  <a:pt x="125" y="234"/>
                </a:lnTo>
                <a:lnTo>
                  <a:pt x="125" y="234"/>
                </a:lnTo>
                <a:lnTo>
                  <a:pt x="119" y="228"/>
                </a:lnTo>
                <a:lnTo>
                  <a:pt x="116" y="219"/>
                </a:lnTo>
                <a:lnTo>
                  <a:pt x="108" y="210"/>
                </a:lnTo>
                <a:lnTo>
                  <a:pt x="86" y="206"/>
                </a:lnTo>
                <a:lnTo>
                  <a:pt x="75" y="197"/>
                </a:lnTo>
                <a:lnTo>
                  <a:pt x="66" y="193"/>
                </a:lnTo>
                <a:lnTo>
                  <a:pt x="63" y="186"/>
                </a:lnTo>
                <a:lnTo>
                  <a:pt x="52" y="179"/>
                </a:lnTo>
                <a:lnTo>
                  <a:pt x="42" y="179"/>
                </a:lnTo>
                <a:lnTo>
                  <a:pt x="33" y="171"/>
                </a:lnTo>
                <a:lnTo>
                  <a:pt x="0" y="15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9120" y="2349360"/>
            <a:ext cx="777600" cy="546120"/>
          </a:xfrm>
          <a:custGeom>
            <a:avLst/>
            <a:gdLst/>
            <a:ahLst/>
            <a:rect l="l" t="t" r="r" b="b"/>
            <a:pathLst>
              <a:path w="486" h="373">
                <a:moveTo>
                  <a:pt x="437" y="373"/>
                </a:moveTo>
                <a:lnTo>
                  <a:pt x="163" y="373"/>
                </a:lnTo>
                <a:lnTo>
                  <a:pt x="163" y="148"/>
                </a:lnTo>
                <a:lnTo>
                  <a:pt x="0" y="148"/>
                </a:lnTo>
                <a:lnTo>
                  <a:pt x="102" y="27"/>
                </a:lnTo>
                <a:lnTo>
                  <a:pt x="102" y="0"/>
                </a:lnTo>
                <a:lnTo>
                  <a:pt x="135" y="12"/>
                </a:lnTo>
                <a:lnTo>
                  <a:pt x="144" y="20"/>
                </a:lnTo>
                <a:lnTo>
                  <a:pt x="154" y="20"/>
                </a:lnTo>
                <a:lnTo>
                  <a:pt x="165" y="27"/>
                </a:lnTo>
                <a:lnTo>
                  <a:pt x="168" y="34"/>
                </a:lnTo>
                <a:lnTo>
                  <a:pt x="177" y="38"/>
                </a:lnTo>
                <a:lnTo>
                  <a:pt x="188" y="47"/>
                </a:lnTo>
                <a:lnTo>
                  <a:pt x="210" y="51"/>
                </a:lnTo>
                <a:lnTo>
                  <a:pt x="218" y="60"/>
                </a:lnTo>
                <a:lnTo>
                  <a:pt x="221" y="69"/>
                </a:lnTo>
                <a:lnTo>
                  <a:pt x="227" y="75"/>
                </a:lnTo>
                <a:lnTo>
                  <a:pt x="227" y="75"/>
                </a:lnTo>
                <a:lnTo>
                  <a:pt x="250" y="91"/>
                </a:lnTo>
                <a:lnTo>
                  <a:pt x="263" y="98"/>
                </a:lnTo>
                <a:lnTo>
                  <a:pt x="280" y="104"/>
                </a:lnTo>
                <a:lnTo>
                  <a:pt x="289" y="117"/>
                </a:lnTo>
                <a:lnTo>
                  <a:pt x="298" y="128"/>
                </a:lnTo>
                <a:lnTo>
                  <a:pt x="305" y="131"/>
                </a:lnTo>
                <a:lnTo>
                  <a:pt x="305" y="133"/>
                </a:lnTo>
                <a:lnTo>
                  <a:pt x="305" y="135"/>
                </a:lnTo>
                <a:lnTo>
                  <a:pt x="305" y="140"/>
                </a:lnTo>
                <a:lnTo>
                  <a:pt x="311" y="148"/>
                </a:lnTo>
                <a:lnTo>
                  <a:pt x="325" y="155"/>
                </a:lnTo>
                <a:lnTo>
                  <a:pt x="340" y="162"/>
                </a:lnTo>
                <a:lnTo>
                  <a:pt x="357" y="181"/>
                </a:lnTo>
                <a:lnTo>
                  <a:pt x="358" y="192"/>
                </a:lnTo>
                <a:lnTo>
                  <a:pt x="360" y="193"/>
                </a:lnTo>
                <a:lnTo>
                  <a:pt x="369" y="195"/>
                </a:lnTo>
                <a:lnTo>
                  <a:pt x="380" y="195"/>
                </a:lnTo>
                <a:lnTo>
                  <a:pt x="382" y="197"/>
                </a:lnTo>
                <a:lnTo>
                  <a:pt x="384" y="199"/>
                </a:lnTo>
                <a:lnTo>
                  <a:pt x="384" y="203"/>
                </a:lnTo>
                <a:lnTo>
                  <a:pt x="386" y="210"/>
                </a:lnTo>
                <a:lnTo>
                  <a:pt x="389" y="213"/>
                </a:lnTo>
                <a:lnTo>
                  <a:pt x="397" y="213"/>
                </a:lnTo>
                <a:lnTo>
                  <a:pt x="404" y="212"/>
                </a:lnTo>
                <a:lnTo>
                  <a:pt x="415" y="213"/>
                </a:lnTo>
                <a:lnTo>
                  <a:pt x="426" y="217"/>
                </a:lnTo>
                <a:lnTo>
                  <a:pt x="430" y="221"/>
                </a:lnTo>
                <a:lnTo>
                  <a:pt x="435" y="228"/>
                </a:lnTo>
                <a:lnTo>
                  <a:pt x="455" y="241"/>
                </a:lnTo>
                <a:lnTo>
                  <a:pt x="468" y="252"/>
                </a:lnTo>
                <a:lnTo>
                  <a:pt x="475" y="259"/>
                </a:lnTo>
                <a:lnTo>
                  <a:pt x="485" y="265"/>
                </a:lnTo>
                <a:lnTo>
                  <a:pt x="486" y="265"/>
                </a:lnTo>
                <a:lnTo>
                  <a:pt x="483" y="266"/>
                </a:lnTo>
                <a:lnTo>
                  <a:pt x="475" y="274"/>
                </a:lnTo>
                <a:lnTo>
                  <a:pt x="466" y="288"/>
                </a:lnTo>
                <a:lnTo>
                  <a:pt x="459" y="288"/>
                </a:lnTo>
                <a:lnTo>
                  <a:pt x="457" y="292"/>
                </a:lnTo>
                <a:lnTo>
                  <a:pt x="457" y="294"/>
                </a:lnTo>
                <a:lnTo>
                  <a:pt x="463" y="299"/>
                </a:lnTo>
                <a:lnTo>
                  <a:pt x="461" y="307"/>
                </a:lnTo>
                <a:lnTo>
                  <a:pt x="457" y="310"/>
                </a:lnTo>
                <a:lnTo>
                  <a:pt x="448" y="314"/>
                </a:lnTo>
                <a:lnTo>
                  <a:pt x="437" y="323"/>
                </a:lnTo>
                <a:lnTo>
                  <a:pt x="437" y="325"/>
                </a:lnTo>
                <a:lnTo>
                  <a:pt x="439" y="330"/>
                </a:lnTo>
                <a:lnTo>
                  <a:pt x="441" y="347"/>
                </a:lnTo>
                <a:lnTo>
                  <a:pt x="441" y="358"/>
                </a:lnTo>
                <a:lnTo>
                  <a:pt x="437" y="367"/>
                </a:lnTo>
                <a:lnTo>
                  <a:pt x="437" y="37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89520" y="2489040"/>
            <a:ext cx="101520" cy="122400"/>
          </a:xfrm>
          <a:custGeom>
            <a:avLst/>
            <a:gdLst/>
            <a:ahLst/>
            <a:rect l="l" t="t" r="r" b="b"/>
            <a:pathLst>
              <a:path w="64" h="84">
                <a:moveTo>
                  <a:pt x="29" y="84"/>
                </a:moveTo>
                <a:lnTo>
                  <a:pt x="27" y="80"/>
                </a:lnTo>
                <a:lnTo>
                  <a:pt x="23" y="78"/>
                </a:lnTo>
                <a:lnTo>
                  <a:pt x="23" y="76"/>
                </a:lnTo>
                <a:lnTo>
                  <a:pt x="21" y="75"/>
                </a:lnTo>
                <a:lnTo>
                  <a:pt x="20" y="73"/>
                </a:lnTo>
                <a:lnTo>
                  <a:pt x="16" y="71"/>
                </a:lnTo>
                <a:lnTo>
                  <a:pt x="14" y="71"/>
                </a:lnTo>
                <a:lnTo>
                  <a:pt x="10" y="69"/>
                </a:lnTo>
                <a:lnTo>
                  <a:pt x="7" y="67"/>
                </a:lnTo>
                <a:lnTo>
                  <a:pt x="7" y="62"/>
                </a:lnTo>
                <a:lnTo>
                  <a:pt x="5" y="62"/>
                </a:lnTo>
                <a:lnTo>
                  <a:pt x="3" y="65"/>
                </a:lnTo>
                <a:lnTo>
                  <a:pt x="0" y="64"/>
                </a:lnTo>
                <a:lnTo>
                  <a:pt x="7" y="60"/>
                </a:lnTo>
                <a:lnTo>
                  <a:pt x="23" y="42"/>
                </a:lnTo>
                <a:lnTo>
                  <a:pt x="25" y="34"/>
                </a:lnTo>
                <a:lnTo>
                  <a:pt x="25" y="31"/>
                </a:lnTo>
                <a:lnTo>
                  <a:pt x="16" y="25"/>
                </a:lnTo>
                <a:lnTo>
                  <a:pt x="12" y="18"/>
                </a:lnTo>
                <a:lnTo>
                  <a:pt x="23" y="11"/>
                </a:lnTo>
                <a:lnTo>
                  <a:pt x="27" y="0"/>
                </a:lnTo>
                <a:lnTo>
                  <a:pt x="29" y="0"/>
                </a:lnTo>
                <a:lnTo>
                  <a:pt x="34" y="1"/>
                </a:lnTo>
                <a:lnTo>
                  <a:pt x="47" y="14"/>
                </a:lnTo>
                <a:lnTo>
                  <a:pt x="47" y="18"/>
                </a:lnTo>
                <a:lnTo>
                  <a:pt x="49" y="22"/>
                </a:lnTo>
                <a:lnTo>
                  <a:pt x="53" y="23"/>
                </a:lnTo>
                <a:lnTo>
                  <a:pt x="62" y="23"/>
                </a:lnTo>
                <a:lnTo>
                  <a:pt x="64" y="31"/>
                </a:lnTo>
                <a:lnTo>
                  <a:pt x="54" y="31"/>
                </a:lnTo>
                <a:lnTo>
                  <a:pt x="53" y="33"/>
                </a:lnTo>
                <a:lnTo>
                  <a:pt x="54" y="38"/>
                </a:lnTo>
                <a:lnTo>
                  <a:pt x="60" y="45"/>
                </a:lnTo>
                <a:lnTo>
                  <a:pt x="53" y="55"/>
                </a:lnTo>
                <a:lnTo>
                  <a:pt x="42" y="51"/>
                </a:lnTo>
                <a:lnTo>
                  <a:pt x="38" y="55"/>
                </a:lnTo>
                <a:lnTo>
                  <a:pt x="38" y="60"/>
                </a:lnTo>
                <a:lnTo>
                  <a:pt x="40" y="67"/>
                </a:lnTo>
                <a:lnTo>
                  <a:pt x="40" y="69"/>
                </a:lnTo>
                <a:lnTo>
                  <a:pt x="42" y="71"/>
                </a:lnTo>
                <a:lnTo>
                  <a:pt x="42" y="73"/>
                </a:lnTo>
                <a:lnTo>
                  <a:pt x="42" y="75"/>
                </a:lnTo>
                <a:lnTo>
                  <a:pt x="29" y="8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47840" y="2495520"/>
            <a:ext cx="652680" cy="689040"/>
          </a:xfrm>
          <a:custGeom>
            <a:avLst/>
            <a:gdLst/>
            <a:ahLst/>
            <a:rect l="l" t="t" r="r" b="b"/>
            <a:pathLst>
              <a:path w="407" h="470">
                <a:moveTo>
                  <a:pt x="380" y="263"/>
                </a:moveTo>
                <a:lnTo>
                  <a:pt x="384" y="274"/>
                </a:lnTo>
                <a:lnTo>
                  <a:pt x="389" y="298"/>
                </a:lnTo>
                <a:lnTo>
                  <a:pt x="389" y="313"/>
                </a:lnTo>
                <a:lnTo>
                  <a:pt x="389" y="320"/>
                </a:lnTo>
                <a:lnTo>
                  <a:pt x="380" y="329"/>
                </a:lnTo>
                <a:lnTo>
                  <a:pt x="380" y="335"/>
                </a:lnTo>
                <a:lnTo>
                  <a:pt x="384" y="336"/>
                </a:lnTo>
                <a:lnTo>
                  <a:pt x="387" y="340"/>
                </a:lnTo>
                <a:lnTo>
                  <a:pt x="389" y="360"/>
                </a:lnTo>
                <a:lnTo>
                  <a:pt x="389" y="373"/>
                </a:lnTo>
                <a:lnTo>
                  <a:pt x="391" y="390"/>
                </a:lnTo>
                <a:lnTo>
                  <a:pt x="393" y="397"/>
                </a:lnTo>
                <a:lnTo>
                  <a:pt x="396" y="406"/>
                </a:lnTo>
                <a:lnTo>
                  <a:pt x="407" y="422"/>
                </a:lnTo>
                <a:lnTo>
                  <a:pt x="400" y="424"/>
                </a:lnTo>
                <a:lnTo>
                  <a:pt x="404" y="452"/>
                </a:lnTo>
                <a:lnTo>
                  <a:pt x="384" y="470"/>
                </a:lnTo>
                <a:lnTo>
                  <a:pt x="323" y="408"/>
                </a:lnTo>
                <a:lnTo>
                  <a:pt x="323" y="399"/>
                </a:lnTo>
                <a:lnTo>
                  <a:pt x="318" y="390"/>
                </a:lnTo>
                <a:lnTo>
                  <a:pt x="289" y="366"/>
                </a:lnTo>
                <a:lnTo>
                  <a:pt x="281" y="362"/>
                </a:lnTo>
                <a:lnTo>
                  <a:pt x="268" y="357"/>
                </a:lnTo>
                <a:lnTo>
                  <a:pt x="265" y="355"/>
                </a:lnTo>
                <a:lnTo>
                  <a:pt x="263" y="351"/>
                </a:lnTo>
                <a:lnTo>
                  <a:pt x="263" y="340"/>
                </a:lnTo>
                <a:lnTo>
                  <a:pt x="252" y="320"/>
                </a:lnTo>
                <a:lnTo>
                  <a:pt x="247" y="315"/>
                </a:lnTo>
                <a:lnTo>
                  <a:pt x="210" y="300"/>
                </a:lnTo>
                <a:lnTo>
                  <a:pt x="203" y="300"/>
                </a:lnTo>
                <a:lnTo>
                  <a:pt x="201" y="300"/>
                </a:lnTo>
                <a:lnTo>
                  <a:pt x="195" y="305"/>
                </a:lnTo>
                <a:lnTo>
                  <a:pt x="192" y="305"/>
                </a:lnTo>
                <a:lnTo>
                  <a:pt x="170" y="305"/>
                </a:lnTo>
                <a:lnTo>
                  <a:pt x="166" y="300"/>
                </a:lnTo>
                <a:lnTo>
                  <a:pt x="155" y="294"/>
                </a:lnTo>
                <a:lnTo>
                  <a:pt x="153" y="296"/>
                </a:lnTo>
                <a:lnTo>
                  <a:pt x="146" y="307"/>
                </a:lnTo>
                <a:lnTo>
                  <a:pt x="142" y="309"/>
                </a:lnTo>
                <a:lnTo>
                  <a:pt x="139" y="309"/>
                </a:lnTo>
                <a:lnTo>
                  <a:pt x="128" y="307"/>
                </a:lnTo>
                <a:lnTo>
                  <a:pt x="124" y="305"/>
                </a:lnTo>
                <a:lnTo>
                  <a:pt x="117" y="296"/>
                </a:lnTo>
                <a:lnTo>
                  <a:pt x="115" y="293"/>
                </a:lnTo>
                <a:lnTo>
                  <a:pt x="115" y="287"/>
                </a:lnTo>
                <a:lnTo>
                  <a:pt x="106" y="285"/>
                </a:lnTo>
                <a:lnTo>
                  <a:pt x="95" y="283"/>
                </a:lnTo>
                <a:lnTo>
                  <a:pt x="87" y="280"/>
                </a:lnTo>
                <a:lnTo>
                  <a:pt x="73" y="274"/>
                </a:lnTo>
                <a:lnTo>
                  <a:pt x="66" y="273"/>
                </a:lnTo>
                <a:lnTo>
                  <a:pt x="66" y="271"/>
                </a:lnTo>
                <a:lnTo>
                  <a:pt x="66" y="258"/>
                </a:lnTo>
                <a:lnTo>
                  <a:pt x="67" y="251"/>
                </a:lnTo>
                <a:lnTo>
                  <a:pt x="67" y="249"/>
                </a:lnTo>
                <a:lnTo>
                  <a:pt x="66" y="247"/>
                </a:lnTo>
                <a:lnTo>
                  <a:pt x="60" y="247"/>
                </a:lnTo>
                <a:lnTo>
                  <a:pt x="36" y="249"/>
                </a:lnTo>
                <a:lnTo>
                  <a:pt x="33" y="251"/>
                </a:lnTo>
                <a:lnTo>
                  <a:pt x="25" y="252"/>
                </a:lnTo>
                <a:lnTo>
                  <a:pt x="0" y="251"/>
                </a:lnTo>
                <a:lnTo>
                  <a:pt x="3" y="238"/>
                </a:lnTo>
                <a:lnTo>
                  <a:pt x="7" y="234"/>
                </a:lnTo>
                <a:lnTo>
                  <a:pt x="22" y="212"/>
                </a:lnTo>
                <a:lnTo>
                  <a:pt x="25" y="203"/>
                </a:lnTo>
                <a:lnTo>
                  <a:pt x="23" y="201"/>
                </a:lnTo>
                <a:lnTo>
                  <a:pt x="23" y="198"/>
                </a:lnTo>
                <a:lnTo>
                  <a:pt x="31" y="188"/>
                </a:lnTo>
                <a:lnTo>
                  <a:pt x="33" y="187"/>
                </a:lnTo>
                <a:lnTo>
                  <a:pt x="40" y="187"/>
                </a:lnTo>
                <a:lnTo>
                  <a:pt x="42" y="187"/>
                </a:lnTo>
                <a:lnTo>
                  <a:pt x="47" y="190"/>
                </a:lnTo>
                <a:lnTo>
                  <a:pt x="69" y="183"/>
                </a:lnTo>
                <a:lnTo>
                  <a:pt x="76" y="179"/>
                </a:lnTo>
                <a:lnTo>
                  <a:pt x="80" y="168"/>
                </a:lnTo>
                <a:lnTo>
                  <a:pt x="80" y="166"/>
                </a:lnTo>
                <a:lnTo>
                  <a:pt x="66" y="146"/>
                </a:lnTo>
                <a:lnTo>
                  <a:pt x="56" y="135"/>
                </a:lnTo>
                <a:lnTo>
                  <a:pt x="53" y="132"/>
                </a:lnTo>
                <a:lnTo>
                  <a:pt x="53" y="128"/>
                </a:lnTo>
                <a:lnTo>
                  <a:pt x="53" y="117"/>
                </a:lnTo>
                <a:lnTo>
                  <a:pt x="55" y="110"/>
                </a:lnTo>
                <a:lnTo>
                  <a:pt x="67" y="99"/>
                </a:lnTo>
                <a:lnTo>
                  <a:pt x="69" y="95"/>
                </a:lnTo>
                <a:lnTo>
                  <a:pt x="60" y="55"/>
                </a:lnTo>
                <a:lnTo>
                  <a:pt x="55" y="44"/>
                </a:lnTo>
                <a:lnTo>
                  <a:pt x="51" y="31"/>
                </a:lnTo>
                <a:lnTo>
                  <a:pt x="51" y="26"/>
                </a:lnTo>
                <a:lnTo>
                  <a:pt x="53" y="18"/>
                </a:lnTo>
                <a:lnTo>
                  <a:pt x="56" y="9"/>
                </a:lnTo>
                <a:lnTo>
                  <a:pt x="58" y="2"/>
                </a:lnTo>
                <a:lnTo>
                  <a:pt x="62" y="0"/>
                </a:lnTo>
                <a:lnTo>
                  <a:pt x="126" y="11"/>
                </a:lnTo>
                <a:lnTo>
                  <a:pt x="247" y="9"/>
                </a:lnTo>
                <a:lnTo>
                  <a:pt x="248" y="13"/>
                </a:lnTo>
                <a:lnTo>
                  <a:pt x="256" y="29"/>
                </a:lnTo>
                <a:lnTo>
                  <a:pt x="252" y="42"/>
                </a:lnTo>
                <a:lnTo>
                  <a:pt x="245" y="48"/>
                </a:lnTo>
                <a:lnTo>
                  <a:pt x="230" y="50"/>
                </a:lnTo>
                <a:lnTo>
                  <a:pt x="223" y="53"/>
                </a:lnTo>
                <a:lnTo>
                  <a:pt x="223" y="55"/>
                </a:lnTo>
                <a:lnTo>
                  <a:pt x="221" y="59"/>
                </a:lnTo>
                <a:lnTo>
                  <a:pt x="225" y="68"/>
                </a:lnTo>
                <a:lnTo>
                  <a:pt x="241" y="90"/>
                </a:lnTo>
                <a:lnTo>
                  <a:pt x="250" y="106"/>
                </a:lnTo>
                <a:lnTo>
                  <a:pt x="261" y="117"/>
                </a:lnTo>
                <a:lnTo>
                  <a:pt x="263" y="117"/>
                </a:lnTo>
                <a:lnTo>
                  <a:pt x="265" y="117"/>
                </a:lnTo>
                <a:lnTo>
                  <a:pt x="270" y="106"/>
                </a:lnTo>
                <a:lnTo>
                  <a:pt x="272" y="103"/>
                </a:lnTo>
                <a:lnTo>
                  <a:pt x="285" y="103"/>
                </a:lnTo>
                <a:lnTo>
                  <a:pt x="285" y="106"/>
                </a:lnTo>
                <a:lnTo>
                  <a:pt x="279" y="117"/>
                </a:lnTo>
                <a:lnTo>
                  <a:pt x="279" y="134"/>
                </a:lnTo>
                <a:lnTo>
                  <a:pt x="283" y="134"/>
                </a:lnTo>
                <a:lnTo>
                  <a:pt x="292" y="135"/>
                </a:lnTo>
                <a:lnTo>
                  <a:pt x="298" y="137"/>
                </a:lnTo>
                <a:lnTo>
                  <a:pt x="314" y="148"/>
                </a:lnTo>
                <a:lnTo>
                  <a:pt x="314" y="152"/>
                </a:lnTo>
                <a:lnTo>
                  <a:pt x="312" y="166"/>
                </a:lnTo>
                <a:lnTo>
                  <a:pt x="312" y="170"/>
                </a:lnTo>
                <a:lnTo>
                  <a:pt x="309" y="176"/>
                </a:lnTo>
                <a:lnTo>
                  <a:pt x="300" y="183"/>
                </a:lnTo>
                <a:lnTo>
                  <a:pt x="287" y="198"/>
                </a:lnTo>
                <a:lnTo>
                  <a:pt x="281" y="207"/>
                </a:lnTo>
                <a:lnTo>
                  <a:pt x="285" y="209"/>
                </a:lnTo>
                <a:lnTo>
                  <a:pt x="292" y="210"/>
                </a:lnTo>
                <a:lnTo>
                  <a:pt x="301" y="218"/>
                </a:lnTo>
                <a:lnTo>
                  <a:pt x="301" y="220"/>
                </a:lnTo>
                <a:lnTo>
                  <a:pt x="307" y="240"/>
                </a:lnTo>
                <a:lnTo>
                  <a:pt x="316" y="252"/>
                </a:lnTo>
                <a:lnTo>
                  <a:pt x="318" y="254"/>
                </a:lnTo>
                <a:lnTo>
                  <a:pt x="323" y="252"/>
                </a:lnTo>
                <a:lnTo>
                  <a:pt x="329" y="254"/>
                </a:lnTo>
                <a:lnTo>
                  <a:pt x="331" y="263"/>
                </a:lnTo>
                <a:lnTo>
                  <a:pt x="332" y="269"/>
                </a:lnTo>
                <a:lnTo>
                  <a:pt x="342" y="278"/>
                </a:lnTo>
                <a:lnTo>
                  <a:pt x="343" y="278"/>
                </a:lnTo>
                <a:lnTo>
                  <a:pt x="345" y="273"/>
                </a:lnTo>
                <a:lnTo>
                  <a:pt x="349" y="269"/>
                </a:lnTo>
                <a:lnTo>
                  <a:pt x="354" y="265"/>
                </a:lnTo>
                <a:lnTo>
                  <a:pt x="364" y="258"/>
                </a:lnTo>
                <a:lnTo>
                  <a:pt x="365" y="260"/>
                </a:lnTo>
                <a:lnTo>
                  <a:pt x="369" y="263"/>
                </a:lnTo>
                <a:lnTo>
                  <a:pt x="374" y="265"/>
                </a:lnTo>
                <a:lnTo>
                  <a:pt x="378" y="265"/>
                </a:lnTo>
                <a:lnTo>
                  <a:pt x="380" y="26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79560" y="2508120"/>
            <a:ext cx="498600" cy="633600"/>
          </a:xfrm>
          <a:custGeom>
            <a:avLst/>
            <a:gdLst/>
            <a:ahLst/>
            <a:rect l="l" t="t" r="r" b="b"/>
            <a:pathLst>
              <a:path w="311" h="432">
                <a:moveTo>
                  <a:pt x="83" y="79"/>
                </a:moveTo>
                <a:lnTo>
                  <a:pt x="88" y="73"/>
                </a:lnTo>
                <a:lnTo>
                  <a:pt x="97" y="68"/>
                </a:lnTo>
                <a:lnTo>
                  <a:pt x="106" y="66"/>
                </a:lnTo>
                <a:lnTo>
                  <a:pt x="123" y="64"/>
                </a:lnTo>
                <a:lnTo>
                  <a:pt x="145" y="51"/>
                </a:lnTo>
                <a:lnTo>
                  <a:pt x="158" y="53"/>
                </a:lnTo>
                <a:lnTo>
                  <a:pt x="165" y="51"/>
                </a:lnTo>
                <a:lnTo>
                  <a:pt x="200" y="39"/>
                </a:lnTo>
                <a:lnTo>
                  <a:pt x="216" y="31"/>
                </a:lnTo>
                <a:lnTo>
                  <a:pt x="220" y="30"/>
                </a:lnTo>
                <a:lnTo>
                  <a:pt x="223" y="30"/>
                </a:lnTo>
                <a:lnTo>
                  <a:pt x="231" y="33"/>
                </a:lnTo>
                <a:lnTo>
                  <a:pt x="234" y="33"/>
                </a:lnTo>
                <a:lnTo>
                  <a:pt x="234" y="33"/>
                </a:lnTo>
                <a:lnTo>
                  <a:pt x="236" y="30"/>
                </a:lnTo>
                <a:lnTo>
                  <a:pt x="236" y="22"/>
                </a:lnTo>
                <a:lnTo>
                  <a:pt x="238" y="19"/>
                </a:lnTo>
                <a:lnTo>
                  <a:pt x="243" y="15"/>
                </a:lnTo>
                <a:lnTo>
                  <a:pt x="249" y="13"/>
                </a:lnTo>
                <a:lnTo>
                  <a:pt x="254" y="11"/>
                </a:lnTo>
                <a:lnTo>
                  <a:pt x="264" y="11"/>
                </a:lnTo>
                <a:lnTo>
                  <a:pt x="265" y="11"/>
                </a:lnTo>
                <a:lnTo>
                  <a:pt x="278" y="2"/>
                </a:lnTo>
                <a:lnTo>
                  <a:pt x="284" y="0"/>
                </a:lnTo>
                <a:lnTo>
                  <a:pt x="287" y="0"/>
                </a:lnTo>
                <a:lnTo>
                  <a:pt x="284" y="9"/>
                </a:lnTo>
                <a:lnTo>
                  <a:pt x="282" y="17"/>
                </a:lnTo>
                <a:lnTo>
                  <a:pt x="282" y="22"/>
                </a:lnTo>
                <a:lnTo>
                  <a:pt x="286" y="35"/>
                </a:lnTo>
                <a:lnTo>
                  <a:pt x="291" y="46"/>
                </a:lnTo>
                <a:lnTo>
                  <a:pt x="300" y="86"/>
                </a:lnTo>
                <a:lnTo>
                  <a:pt x="298" y="90"/>
                </a:lnTo>
                <a:lnTo>
                  <a:pt x="286" y="101"/>
                </a:lnTo>
                <a:lnTo>
                  <a:pt x="284" y="108"/>
                </a:lnTo>
                <a:lnTo>
                  <a:pt x="284" y="119"/>
                </a:lnTo>
                <a:lnTo>
                  <a:pt x="284" y="123"/>
                </a:lnTo>
                <a:lnTo>
                  <a:pt x="287" y="126"/>
                </a:lnTo>
                <a:lnTo>
                  <a:pt x="297" y="137"/>
                </a:lnTo>
                <a:lnTo>
                  <a:pt x="311" y="157"/>
                </a:lnTo>
                <a:lnTo>
                  <a:pt x="311" y="159"/>
                </a:lnTo>
                <a:lnTo>
                  <a:pt x="307" y="170"/>
                </a:lnTo>
                <a:lnTo>
                  <a:pt x="300" y="174"/>
                </a:lnTo>
                <a:lnTo>
                  <a:pt x="278" y="181"/>
                </a:lnTo>
                <a:lnTo>
                  <a:pt x="273" y="178"/>
                </a:lnTo>
                <a:lnTo>
                  <a:pt x="271" y="178"/>
                </a:lnTo>
                <a:lnTo>
                  <a:pt x="264" y="178"/>
                </a:lnTo>
                <a:lnTo>
                  <a:pt x="262" y="179"/>
                </a:lnTo>
                <a:lnTo>
                  <a:pt x="254" y="189"/>
                </a:lnTo>
                <a:lnTo>
                  <a:pt x="254" y="192"/>
                </a:lnTo>
                <a:lnTo>
                  <a:pt x="256" y="194"/>
                </a:lnTo>
                <a:lnTo>
                  <a:pt x="253" y="203"/>
                </a:lnTo>
                <a:lnTo>
                  <a:pt x="238" y="225"/>
                </a:lnTo>
                <a:lnTo>
                  <a:pt x="234" y="229"/>
                </a:lnTo>
                <a:lnTo>
                  <a:pt x="231" y="242"/>
                </a:lnTo>
                <a:lnTo>
                  <a:pt x="229" y="254"/>
                </a:lnTo>
                <a:lnTo>
                  <a:pt x="225" y="260"/>
                </a:lnTo>
                <a:lnTo>
                  <a:pt x="223" y="262"/>
                </a:lnTo>
                <a:lnTo>
                  <a:pt x="218" y="262"/>
                </a:lnTo>
                <a:lnTo>
                  <a:pt x="214" y="264"/>
                </a:lnTo>
                <a:lnTo>
                  <a:pt x="211" y="274"/>
                </a:lnTo>
                <a:lnTo>
                  <a:pt x="209" y="276"/>
                </a:lnTo>
                <a:lnTo>
                  <a:pt x="192" y="295"/>
                </a:lnTo>
                <a:lnTo>
                  <a:pt x="180" y="302"/>
                </a:lnTo>
                <a:lnTo>
                  <a:pt x="180" y="318"/>
                </a:lnTo>
                <a:lnTo>
                  <a:pt x="176" y="320"/>
                </a:lnTo>
                <a:lnTo>
                  <a:pt x="172" y="327"/>
                </a:lnTo>
                <a:lnTo>
                  <a:pt x="170" y="333"/>
                </a:lnTo>
                <a:lnTo>
                  <a:pt x="174" y="338"/>
                </a:lnTo>
                <a:lnTo>
                  <a:pt x="174" y="340"/>
                </a:lnTo>
                <a:lnTo>
                  <a:pt x="170" y="349"/>
                </a:lnTo>
                <a:lnTo>
                  <a:pt x="167" y="360"/>
                </a:lnTo>
                <a:lnTo>
                  <a:pt x="167" y="366"/>
                </a:lnTo>
                <a:lnTo>
                  <a:pt x="167" y="370"/>
                </a:lnTo>
                <a:lnTo>
                  <a:pt x="165" y="371"/>
                </a:lnTo>
                <a:lnTo>
                  <a:pt x="163" y="373"/>
                </a:lnTo>
                <a:lnTo>
                  <a:pt x="156" y="373"/>
                </a:lnTo>
                <a:lnTo>
                  <a:pt x="145" y="386"/>
                </a:lnTo>
                <a:lnTo>
                  <a:pt x="145" y="388"/>
                </a:lnTo>
                <a:lnTo>
                  <a:pt x="143" y="395"/>
                </a:lnTo>
                <a:lnTo>
                  <a:pt x="147" y="401"/>
                </a:lnTo>
                <a:lnTo>
                  <a:pt x="150" y="412"/>
                </a:lnTo>
                <a:lnTo>
                  <a:pt x="150" y="417"/>
                </a:lnTo>
                <a:lnTo>
                  <a:pt x="150" y="423"/>
                </a:lnTo>
                <a:lnTo>
                  <a:pt x="152" y="426"/>
                </a:lnTo>
                <a:lnTo>
                  <a:pt x="154" y="428"/>
                </a:lnTo>
                <a:lnTo>
                  <a:pt x="141" y="432"/>
                </a:lnTo>
                <a:lnTo>
                  <a:pt x="121" y="426"/>
                </a:lnTo>
                <a:lnTo>
                  <a:pt x="119" y="424"/>
                </a:lnTo>
                <a:lnTo>
                  <a:pt x="105" y="410"/>
                </a:lnTo>
                <a:lnTo>
                  <a:pt x="101" y="401"/>
                </a:lnTo>
                <a:lnTo>
                  <a:pt x="103" y="391"/>
                </a:lnTo>
                <a:lnTo>
                  <a:pt x="101" y="388"/>
                </a:lnTo>
                <a:lnTo>
                  <a:pt x="84" y="371"/>
                </a:lnTo>
                <a:lnTo>
                  <a:pt x="75" y="366"/>
                </a:lnTo>
                <a:lnTo>
                  <a:pt x="68" y="364"/>
                </a:lnTo>
                <a:lnTo>
                  <a:pt x="41" y="366"/>
                </a:lnTo>
                <a:lnTo>
                  <a:pt x="22" y="375"/>
                </a:lnTo>
                <a:lnTo>
                  <a:pt x="8" y="377"/>
                </a:lnTo>
                <a:lnTo>
                  <a:pt x="4" y="377"/>
                </a:lnTo>
                <a:lnTo>
                  <a:pt x="4" y="370"/>
                </a:lnTo>
                <a:lnTo>
                  <a:pt x="2" y="357"/>
                </a:lnTo>
                <a:lnTo>
                  <a:pt x="2" y="357"/>
                </a:lnTo>
                <a:lnTo>
                  <a:pt x="0" y="357"/>
                </a:lnTo>
                <a:lnTo>
                  <a:pt x="0" y="357"/>
                </a:lnTo>
                <a:lnTo>
                  <a:pt x="2" y="348"/>
                </a:lnTo>
                <a:lnTo>
                  <a:pt x="22" y="329"/>
                </a:lnTo>
                <a:lnTo>
                  <a:pt x="24" y="317"/>
                </a:lnTo>
                <a:lnTo>
                  <a:pt x="28" y="309"/>
                </a:lnTo>
                <a:lnTo>
                  <a:pt x="30" y="309"/>
                </a:lnTo>
                <a:lnTo>
                  <a:pt x="35" y="296"/>
                </a:lnTo>
                <a:lnTo>
                  <a:pt x="37" y="260"/>
                </a:lnTo>
                <a:lnTo>
                  <a:pt x="41" y="249"/>
                </a:lnTo>
                <a:lnTo>
                  <a:pt x="42" y="242"/>
                </a:lnTo>
                <a:lnTo>
                  <a:pt x="50" y="232"/>
                </a:lnTo>
                <a:lnTo>
                  <a:pt x="53" y="231"/>
                </a:lnTo>
                <a:lnTo>
                  <a:pt x="59" y="227"/>
                </a:lnTo>
                <a:lnTo>
                  <a:pt x="61" y="214"/>
                </a:lnTo>
                <a:lnTo>
                  <a:pt x="57" y="200"/>
                </a:lnTo>
                <a:lnTo>
                  <a:pt x="53" y="185"/>
                </a:lnTo>
                <a:lnTo>
                  <a:pt x="57" y="178"/>
                </a:lnTo>
                <a:lnTo>
                  <a:pt x="59" y="178"/>
                </a:lnTo>
                <a:lnTo>
                  <a:pt x="59" y="179"/>
                </a:lnTo>
                <a:lnTo>
                  <a:pt x="64" y="178"/>
                </a:lnTo>
                <a:lnTo>
                  <a:pt x="72" y="167"/>
                </a:lnTo>
                <a:lnTo>
                  <a:pt x="70" y="161"/>
                </a:lnTo>
                <a:lnTo>
                  <a:pt x="68" y="154"/>
                </a:lnTo>
                <a:lnTo>
                  <a:pt x="81" y="126"/>
                </a:lnTo>
                <a:lnTo>
                  <a:pt x="81" y="114"/>
                </a:lnTo>
                <a:lnTo>
                  <a:pt x="86" y="101"/>
                </a:lnTo>
                <a:lnTo>
                  <a:pt x="83" y="90"/>
                </a:lnTo>
                <a:lnTo>
                  <a:pt x="83" y="7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2400" y="2541600"/>
            <a:ext cx="366840" cy="371520"/>
          </a:xfrm>
          <a:custGeom>
            <a:avLst/>
            <a:gdLst/>
            <a:ahLst/>
            <a:rect l="l" t="t" r="r" b="b"/>
            <a:pathLst>
              <a:path w="229" h="254">
                <a:moveTo>
                  <a:pt x="6" y="178"/>
                </a:moveTo>
                <a:lnTo>
                  <a:pt x="11" y="176"/>
                </a:lnTo>
                <a:lnTo>
                  <a:pt x="13" y="178"/>
                </a:lnTo>
                <a:lnTo>
                  <a:pt x="15" y="179"/>
                </a:lnTo>
                <a:lnTo>
                  <a:pt x="17" y="183"/>
                </a:lnTo>
                <a:lnTo>
                  <a:pt x="19" y="185"/>
                </a:lnTo>
                <a:lnTo>
                  <a:pt x="26" y="189"/>
                </a:lnTo>
                <a:lnTo>
                  <a:pt x="28" y="187"/>
                </a:lnTo>
                <a:lnTo>
                  <a:pt x="41" y="179"/>
                </a:lnTo>
                <a:lnTo>
                  <a:pt x="42" y="176"/>
                </a:lnTo>
                <a:lnTo>
                  <a:pt x="44" y="170"/>
                </a:lnTo>
                <a:lnTo>
                  <a:pt x="44" y="168"/>
                </a:lnTo>
                <a:lnTo>
                  <a:pt x="42" y="167"/>
                </a:lnTo>
                <a:lnTo>
                  <a:pt x="44" y="161"/>
                </a:lnTo>
                <a:lnTo>
                  <a:pt x="46" y="156"/>
                </a:lnTo>
                <a:lnTo>
                  <a:pt x="59" y="143"/>
                </a:lnTo>
                <a:lnTo>
                  <a:pt x="63" y="143"/>
                </a:lnTo>
                <a:lnTo>
                  <a:pt x="75" y="139"/>
                </a:lnTo>
                <a:lnTo>
                  <a:pt x="86" y="134"/>
                </a:lnTo>
                <a:lnTo>
                  <a:pt x="86" y="132"/>
                </a:lnTo>
                <a:lnTo>
                  <a:pt x="94" y="126"/>
                </a:lnTo>
                <a:lnTo>
                  <a:pt x="95" y="126"/>
                </a:lnTo>
                <a:lnTo>
                  <a:pt x="101" y="125"/>
                </a:lnTo>
                <a:lnTo>
                  <a:pt x="103" y="125"/>
                </a:lnTo>
                <a:lnTo>
                  <a:pt x="105" y="121"/>
                </a:lnTo>
                <a:lnTo>
                  <a:pt x="106" y="115"/>
                </a:lnTo>
                <a:lnTo>
                  <a:pt x="108" y="114"/>
                </a:lnTo>
                <a:lnTo>
                  <a:pt x="112" y="112"/>
                </a:lnTo>
                <a:lnTo>
                  <a:pt x="116" y="112"/>
                </a:lnTo>
                <a:lnTo>
                  <a:pt x="128" y="90"/>
                </a:lnTo>
                <a:lnTo>
                  <a:pt x="132" y="77"/>
                </a:lnTo>
                <a:lnTo>
                  <a:pt x="132" y="72"/>
                </a:lnTo>
                <a:lnTo>
                  <a:pt x="134" y="68"/>
                </a:lnTo>
                <a:lnTo>
                  <a:pt x="132" y="64"/>
                </a:lnTo>
                <a:lnTo>
                  <a:pt x="132" y="48"/>
                </a:lnTo>
                <a:lnTo>
                  <a:pt x="138" y="44"/>
                </a:lnTo>
                <a:lnTo>
                  <a:pt x="136" y="15"/>
                </a:lnTo>
                <a:lnTo>
                  <a:pt x="138" y="8"/>
                </a:lnTo>
                <a:lnTo>
                  <a:pt x="143" y="8"/>
                </a:lnTo>
                <a:lnTo>
                  <a:pt x="152" y="13"/>
                </a:lnTo>
                <a:lnTo>
                  <a:pt x="159" y="9"/>
                </a:lnTo>
                <a:lnTo>
                  <a:pt x="167" y="6"/>
                </a:lnTo>
                <a:lnTo>
                  <a:pt x="169" y="6"/>
                </a:lnTo>
                <a:lnTo>
                  <a:pt x="170" y="8"/>
                </a:lnTo>
                <a:lnTo>
                  <a:pt x="178" y="8"/>
                </a:lnTo>
                <a:lnTo>
                  <a:pt x="185" y="0"/>
                </a:lnTo>
                <a:lnTo>
                  <a:pt x="205" y="13"/>
                </a:lnTo>
                <a:lnTo>
                  <a:pt x="209" y="19"/>
                </a:lnTo>
                <a:lnTo>
                  <a:pt x="212" y="31"/>
                </a:lnTo>
                <a:lnTo>
                  <a:pt x="211" y="37"/>
                </a:lnTo>
                <a:lnTo>
                  <a:pt x="212" y="44"/>
                </a:lnTo>
                <a:lnTo>
                  <a:pt x="229" y="68"/>
                </a:lnTo>
                <a:lnTo>
                  <a:pt x="229" y="75"/>
                </a:lnTo>
                <a:lnTo>
                  <a:pt x="227" y="79"/>
                </a:lnTo>
                <a:lnTo>
                  <a:pt x="223" y="82"/>
                </a:lnTo>
                <a:lnTo>
                  <a:pt x="223" y="84"/>
                </a:lnTo>
                <a:lnTo>
                  <a:pt x="223" y="99"/>
                </a:lnTo>
                <a:lnTo>
                  <a:pt x="222" y="115"/>
                </a:lnTo>
                <a:lnTo>
                  <a:pt x="223" y="135"/>
                </a:lnTo>
                <a:lnTo>
                  <a:pt x="214" y="157"/>
                </a:lnTo>
                <a:lnTo>
                  <a:pt x="211" y="161"/>
                </a:lnTo>
                <a:lnTo>
                  <a:pt x="209" y="159"/>
                </a:lnTo>
                <a:lnTo>
                  <a:pt x="205" y="159"/>
                </a:lnTo>
                <a:lnTo>
                  <a:pt x="194" y="163"/>
                </a:lnTo>
                <a:lnTo>
                  <a:pt x="192" y="167"/>
                </a:lnTo>
                <a:lnTo>
                  <a:pt x="189" y="170"/>
                </a:lnTo>
                <a:lnTo>
                  <a:pt x="185" y="174"/>
                </a:lnTo>
                <a:lnTo>
                  <a:pt x="181" y="174"/>
                </a:lnTo>
                <a:lnTo>
                  <a:pt x="169" y="187"/>
                </a:lnTo>
                <a:lnTo>
                  <a:pt x="161" y="189"/>
                </a:lnTo>
                <a:lnTo>
                  <a:pt x="152" y="190"/>
                </a:lnTo>
                <a:lnTo>
                  <a:pt x="145" y="192"/>
                </a:lnTo>
                <a:lnTo>
                  <a:pt x="128" y="199"/>
                </a:lnTo>
                <a:lnTo>
                  <a:pt x="121" y="199"/>
                </a:lnTo>
                <a:lnTo>
                  <a:pt x="119" y="199"/>
                </a:lnTo>
                <a:lnTo>
                  <a:pt x="119" y="196"/>
                </a:lnTo>
                <a:lnTo>
                  <a:pt x="117" y="196"/>
                </a:lnTo>
                <a:lnTo>
                  <a:pt x="108" y="210"/>
                </a:lnTo>
                <a:lnTo>
                  <a:pt x="108" y="214"/>
                </a:lnTo>
                <a:lnTo>
                  <a:pt x="108" y="216"/>
                </a:lnTo>
                <a:lnTo>
                  <a:pt x="97" y="225"/>
                </a:lnTo>
                <a:lnTo>
                  <a:pt x="94" y="227"/>
                </a:lnTo>
                <a:lnTo>
                  <a:pt x="81" y="227"/>
                </a:lnTo>
                <a:lnTo>
                  <a:pt x="68" y="234"/>
                </a:lnTo>
                <a:lnTo>
                  <a:pt x="63" y="240"/>
                </a:lnTo>
                <a:lnTo>
                  <a:pt x="63" y="243"/>
                </a:lnTo>
                <a:lnTo>
                  <a:pt x="55" y="249"/>
                </a:lnTo>
                <a:lnTo>
                  <a:pt x="42" y="254"/>
                </a:lnTo>
                <a:lnTo>
                  <a:pt x="39" y="254"/>
                </a:lnTo>
                <a:lnTo>
                  <a:pt x="30" y="249"/>
                </a:lnTo>
                <a:lnTo>
                  <a:pt x="28" y="247"/>
                </a:lnTo>
                <a:lnTo>
                  <a:pt x="19" y="234"/>
                </a:lnTo>
                <a:lnTo>
                  <a:pt x="17" y="221"/>
                </a:lnTo>
                <a:lnTo>
                  <a:pt x="17" y="216"/>
                </a:lnTo>
                <a:lnTo>
                  <a:pt x="10" y="203"/>
                </a:lnTo>
                <a:lnTo>
                  <a:pt x="6" y="198"/>
                </a:lnTo>
                <a:lnTo>
                  <a:pt x="2" y="192"/>
                </a:lnTo>
                <a:lnTo>
                  <a:pt x="2" y="189"/>
                </a:lnTo>
                <a:lnTo>
                  <a:pt x="0" y="185"/>
                </a:lnTo>
                <a:lnTo>
                  <a:pt x="2" y="181"/>
                </a:lnTo>
                <a:lnTo>
                  <a:pt x="4" y="179"/>
                </a:lnTo>
                <a:lnTo>
                  <a:pt x="6" y="17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59120" y="2552760"/>
            <a:ext cx="530280" cy="644400"/>
          </a:xfrm>
          <a:custGeom>
            <a:avLst/>
            <a:gdLst/>
            <a:ahLst/>
            <a:rect l="l" t="t" r="r" b="b"/>
            <a:pathLst>
              <a:path w="333" h="440">
                <a:moveTo>
                  <a:pt x="0" y="224"/>
                </a:moveTo>
                <a:lnTo>
                  <a:pt x="7" y="224"/>
                </a:lnTo>
                <a:lnTo>
                  <a:pt x="9" y="223"/>
                </a:lnTo>
                <a:lnTo>
                  <a:pt x="16" y="212"/>
                </a:lnTo>
                <a:lnTo>
                  <a:pt x="11" y="199"/>
                </a:lnTo>
                <a:lnTo>
                  <a:pt x="11" y="182"/>
                </a:lnTo>
                <a:lnTo>
                  <a:pt x="24" y="170"/>
                </a:lnTo>
                <a:lnTo>
                  <a:pt x="27" y="168"/>
                </a:lnTo>
                <a:lnTo>
                  <a:pt x="35" y="155"/>
                </a:lnTo>
                <a:lnTo>
                  <a:pt x="40" y="138"/>
                </a:lnTo>
                <a:lnTo>
                  <a:pt x="44" y="131"/>
                </a:lnTo>
                <a:lnTo>
                  <a:pt x="48" y="118"/>
                </a:lnTo>
                <a:lnTo>
                  <a:pt x="51" y="118"/>
                </a:lnTo>
                <a:lnTo>
                  <a:pt x="53" y="117"/>
                </a:lnTo>
                <a:lnTo>
                  <a:pt x="57" y="106"/>
                </a:lnTo>
                <a:lnTo>
                  <a:pt x="66" y="107"/>
                </a:lnTo>
                <a:lnTo>
                  <a:pt x="66" y="100"/>
                </a:lnTo>
                <a:lnTo>
                  <a:pt x="62" y="84"/>
                </a:lnTo>
                <a:lnTo>
                  <a:pt x="66" y="71"/>
                </a:lnTo>
                <a:lnTo>
                  <a:pt x="66" y="62"/>
                </a:lnTo>
                <a:lnTo>
                  <a:pt x="71" y="43"/>
                </a:lnTo>
                <a:lnTo>
                  <a:pt x="93" y="0"/>
                </a:lnTo>
                <a:lnTo>
                  <a:pt x="121" y="7"/>
                </a:lnTo>
                <a:lnTo>
                  <a:pt x="170" y="9"/>
                </a:lnTo>
                <a:lnTo>
                  <a:pt x="333" y="9"/>
                </a:lnTo>
                <a:lnTo>
                  <a:pt x="333" y="234"/>
                </a:lnTo>
                <a:lnTo>
                  <a:pt x="316" y="330"/>
                </a:lnTo>
                <a:lnTo>
                  <a:pt x="296" y="440"/>
                </a:lnTo>
                <a:lnTo>
                  <a:pt x="280" y="404"/>
                </a:lnTo>
                <a:lnTo>
                  <a:pt x="190" y="405"/>
                </a:lnTo>
                <a:lnTo>
                  <a:pt x="172" y="404"/>
                </a:lnTo>
                <a:lnTo>
                  <a:pt x="170" y="398"/>
                </a:lnTo>
                <a:lnTo>
                  <a:pt x="165" y="394"/>
                </a:lnTo>
                <a:lnTo>
                  <a:pt x="161" y="393"/>
                </a:lnTo>
                <a:lnTo>
                  <a:pt x="148" y="391"/>
                </a:lnTo>
                <a:lnTo>
                  <a:pt x="139" y="393"/>
                </a:lnTo>
                <a:lnTo>
                  <a:pt x="130" y="393"/>
                </a:lnTo>
                <a:lnTo>
                  <a:pt x="112" y="383"/>
                </a:lnTo>
                <a:lnTo>
                  <a:pt x="108" y="380"/>
                </a:lnTo>
                <a:lnTo>
                  <a:pt x="108" y="374"/>
                </a:lnTo>
                <a:lnTo>
                  <a:pt x="86" y="371"/>
                </a:lnTo>
                <a:lnTo>
                  <a:pt x="27" y="383"/>
                </a:lnTo>
                <a:lnTo>
                  <a:pt x="16" y="367"/>
                </a:lnTo>
                <a:lnTo>
                  <a:pt x="13" y="358"/>
                </a:lnTo>
                <a:lnTo>
                  <a:pt x="11" y="351"/>
                </a:lnTo>
                <a:lnTo>
                  <a:pt x="9" y="334"/>
                </a:lnTo>
                <a:lnTo>
                  <a:pt x="9" y="321"/>
                </a:lnTo>
                <a:lnTo>
                  <a:pt x="7" y="301"/>
                </a:lnTo>
                <a:lnTo>
                  <a:pt x="4" y="297"/>
                </a:lnTo>
                <a:lnTo>
                  <a:pt x="0" y="296"/>
                </a:lnTo>
                <a:lnTo>
                  <a:pt x="0" y="290"/>
                </a:lnTo>
                <a:lnTo>
                  <a:pt x="9" y="281"/>
                </a:lnTo>
                <a:lnTo>
                  <a:pt x="9" y="274"/>
                </a:lnTo>
                <a:lnTo>
                  <a:pt x="9" y="259"/>
                </a:lnTo>
                <a:lnTo>
                  <a:pt x="4" y="235"/>
                </a:lnTo>
                <a:lnTo>
                  <a:pt x="0" y="22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95680" y="2624040"/>
            <a:ext cx="266760" cy="27936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1" y="175"/>
                </a:moveTo>
                <a:lnTo>
                  <a:pt x="99" y="177"/>
                </a:lnTo>
                <a:lnTo>
                  <a:pt x="95" y="177"/>
                </a:lnTo>
                <a:lnTo>
                  <a:pt x="90" y="175"/>
                </a:lnTo>
                <a:lnTo>
                  <a:pt x="86" y="172"/>
                </a:lnTo>
                <a:lnTo>
                  <a:pt x="85" y="170"/>
                </a:lnTo>
                <a:lnTo>
                  <a:pt x="75" y="177"/>
                </a:lnTo>
                <a:lnTo>
                  <a:pt x="70" y="181"/>
                </a:lnTo>
                <a:lnTo>
                  <a:pt x="66" y="185"/>
                </a:lnTo>
                <a:lnTo>
                  <a:pt x="64" y="190"/>
                </a:lnTo>
                <a:lnTo>
                  <a:pt x="63" y="190"/>
                </a:lnTo>
                <a:lnTo>
                  <a:pt x="53" y="181"/>
                </a:lnTo>
                <a:lnTo>
                  <a:pt x="52" y="175"/>
                </a:lnTo>
                <a:lnTo>
                  <a:pt x="50" y="166"/>
                </a:lnTo>
                <a:lnTo>
                  <a:pt x="44" y="164"/>
                </a:lnTo>
                <a:lnTo>
                  <a:pt x="39" y="166"/>
                </a:lnTo>
                <a:lnTo>
                  <a:pt x="37" y="164"/>
                </a:lnTo>
                <a:lnTo>
                  <a:pt x="28" y="152"/>
                </a:lnTo>
                <a:lnTo>
                  <a:pt x="22" y="132"/>
                </a:lnTo>
                <a:lnTo>
                  <a:pt x="22" y="130"/>
                </a:lnTo>
                <a:lnTo>
                  <a:pt x="13" y="122"/>
                </a:lnTo>
                <a:lnTo>
                  <a:pt x="6" y="121"/>
                </a:lnTo>
                <a:lnTo>
                  <a:pt x="2" y="119"/>
                </a:lnTo>
                <a:lnTo>
                  <a:pt x="8" y="110"/>
                </a:lnTo>
                <a:lnTo>
                  <a:pt x="21" y="95"/>
                </a:lnTo>
                <a:lnTo>
                  <a:pt x="30" y="88"/>
                </a:lnTo>
                <a:lnTo>
                  <a:pt x="33" y="82"/>
                </a:lnTo>
                <a:lnTo>
                  <a:pt x="33" y="78"/>
                </a:lnTo>
                <a:lnTo>
                  <a:pt x="35" y="64"/>
                </a:lnTo>
                <a:lnTo>
                  <a:pt x="35" y="60"/>
                </a:lnTo>
                <a:lnTo>
                  <a:pt x="19" y="49"/>
                </a:lnTo>
                <a:lnTo>
                  <a:pt x="13" y="47"/>
                </a:lnTo>
                <a:lnTo>
                  <a:pt x="4" y="46"/>
                </a:lnTo>
                <a:lnTo>
                  <a:pt x="0" y="46"/>
                </a:lnTo>
                <a:lnTo>
                  <a:pt x="0" y="29"/>
                </a:lnTo>
                <a:lnTo>
                  <a:pt x="6" y="18"/>
                </a:lnTo>
                <a:lnTo>
                  <a:pt x="6" y="15"/>
                </a:lnTo>
                <a:lnTo>
                  <a:pt x="22" y="18"/>
                </a:lnTo>
                <a:lnTo>
                  <a:pt x="48" y="22"/>
                </a:lnTo>
                <a:lnTo>
                  <a:pt x="50" y="18"/>
                </a:lnTo>
                <a:lnTo>
                  <a:pt x="52" y="9"/>
                </a:lnTo>
                <a:lnTo>
                  <a:pt x="52" y="2"/>
                </a:lnTo>
                <a:lnTo>
                  <a:pt x="53" y="0"/>
                </a:lnTo>
                <a:lnTo>
                  <a:pt x="75" y="4"/>
                </a:lnTo>
                <a:lnTo>
                  <a:pt x="77" y="4"/>
                </a:lnTo>
                <a:lnTo>
                  <a:pt x="85" y="0"/>
                </a:lnTo>
                <a:lnTo>
                  <a:pt x="86" y="0"/>
                </a:lnTo>
                <a:lnTo>
                  <a:pt x="90" y="2"/>
                </a:lnTo>
                <a:lnTo>
                  <a:pt x="92" y="9"/>
                </a:lnTo>
                <a:lnTo>
                  <a:pt x="112" y="16"/>
                </a:lnTo>
                <a:lnTo>
                  <a:pt x="123" y="18"/>
                </a:lnTo>
                <a:lnTo>
                  <a:pt x="128" y="18"/>
                </a:lnTo>
                <a:lnTo>
                  <a:pt x="134" y="13"/>
                </a:lnTo>
                <a:lnTo>
                  <a:pt x="136" y="13"/>
                </a:lnTo>
                <a:lnTo>
                  <a:pt x="139" y="13"/>
                </a:lnTo>
                <a:lnTo>
                  <a:pt x="147" y="15"/>
                </a:lnTo>
                <a:lnTo>
                  <a:pt x="167" y="13"/>
                </a:lnTo>
                <a:lnTo>
                  <a:pt x="167" y="22"/>
                </a:lnTo>
                <a:lnTo>
                  <a:pt x="163" y="35"/>
                </a:lnTo>
                <a:lnTo>
                  <a:pt x="167" y="51"/>
                </a:lnTo>
                <a:lnTo>
                  <a:pt x="167" y="58"/>
                </a:lnTo>
                <a:lnTo>
                  <a:pt x="158" y="57"/>
                </a:lnTo>
                <a:lnTo>
                  <a:pt x="154" y="68"/>
                </a:lnTo>
                <a:lnTo>
                  <a:pt x="152" y="69"/>
                </a:lnTo>
                <a:lnTo>
                  <a:pt x="149" y="69"/>
                </a:lnTo>
                <a:lnTo>
                  <a:pt x="145" y="82"/>
                </a:lnTo>
                <a:lnTo>
                  <a:pt x="141" y="89"/>
                </a:lnTo>
                <a:lnTo>
                  <a:pt x="136" y="106"/>
                </a:lnTo>
                <a:lnTo>
                  <a:pt x="128" y="119"/>
                </a:lnTo>
                <a:lnTo>
                  <a:pt x="125" y="121"/>
                </a:lnTo>
                <a:lnTo>
                  <a:pt x="112" y="133"/>
                </a:lnTo>
                <a:lnTo>
                  <a:pt x="112" y="150"/>
                </a:lnTo>
                <a:lnTo>
                  <a:pt x="117" y="163"/>
                </a:lnTo>
                <a:lnTo>
                  <a:pt x="110" y="174"/>
                </a:lnTo>
                <a:lnTo>
                  <a:pt x="108" y="175"/>
                </a:lnTo>
                <a:lnTo>
                  <a:pt x="101" y="17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01880" y="2790720"/>
            <a:ext cx="622440" cy="490680"/>
          </a:xfrm>
          <a:custGeom>
            <a:avLst/>
            <a:gdLst/>
            <a:ahLst/>
            <a:rect l="l" t="t" r="r" b="b"/>
            <a:pathLst>
              <a:path w="390" h="335">
                <a:moveTo>
                  <a:pt x="2" y="296"/>
                </a:moveTo>
                <a:lnTo>
                  <a:pt x="0" y="289"/>
                </a:lnTo>
                <a:lnTo>
                  <a:pt x="4" y="282"/>
                </a:lnTo>
                <a:lnTo>
                  <a:pt x="11" y="265"/>
                </a:lnTo>
                <a:lnTo>
                  <a:pt x="11" y="263"/>
                </a:lnTo>
                <a:lnTo>
                  <a:pt x="8" y="260"/>
                </a:lnTo>
                <a:lnTo>
                  <a:pt x="2" y="252"/>
                </a:lnTo>
                <a:lnTo>
                  <a:pt x="2" y="249"/>
                </a:lnTo>
                <a:lnTo>
                  <a:pt x="2" y="243"/>
                </a:lnTo>
                <a:lnTo>
                  <a:pt x="6" y="240"/>
                </a:lnTo>
                <a:lnTo>
                  <a:pt x="8" y="227"/>
                </a:lnTo>
                <a:lnTo>
                  <a:pt x="9" y="209"/>
                </a:lnTo>
                <a:lnTo>
                  <a:pt x="19" y="190"/>
                </a:lnTo>
                <a:lnTo>
                  <a:pt x="30" y="185"/>
                </a:lnTo>
                <a:lnTo>
                  <a:pt x="46" y="170"/>
                </a:lnTo>
                <a:lnTo>
                  <a:pt x="57" y="132"/>
                </a:lnTo>
                <a:lnTo>
                  <a:pt x="61" y="112"/>
                </a:lnTo>
                <a:lnTo>
                  <a:pt x="59" y="97"/>
                </a:lnTo>
                <a:lnTo>
                  <a:pt x="59" y="90"/>
                </a:lnTo>
                <a:lnTo>
                  <a:pt x="61" y="86"/>
                </a:lnTo>
                <a:lnTo>
                  <a:pt x="64" y="84"/>
                </a:lnTo>
                <a:lnTo>
                  <a:pt x="72" y="84"/>
                </a:lnTo>
                <a:lnTo>
                  <a:pt x="75" y="82"/>
                </a:lnTo>
                <a:lnTo>
                  <a:pt x="79" y="75"/>
                </a:lnTo>
                <a:lnTo>
                  <a:pt x="79" y="72"/>
                </a:lnTo>
                <a:lnTo>
                  <a:pt x="79" y="66"/>
                </a:lnTo>
                <a:lnTo>
                  <a:pt x="83" y="57"/>
                </a:lnTo>
                <a:lnTo>
                  <a:pt x="83" y="46"/>
                </a:lnTo>
                <a:lnTo>
                  <a:pt x="81" y="29"/>
                </a:lnTo>
                <a:lnTo>
                  <a:pt x="79" y="24"/>
                </a:lnTo>
                <a:lnTo>
                  <a:pt x="79" y="22"/>
                </a:lnTo>
                <a:lnTo>
                  <a:pt x="90" y="13"/>
                </a:lnTo>
                <a:lnTo>
                  <a:pt x="99" y="9"/>
                </a:lnTo>
                <a:lnTo>
                  <a:pt x="103" y="6"/>
                </a:lnTo>
                <a:lnTo>
                  <a:pt x="114" y="4"/>
                </a:lnTo>
                <a:lnTo>
                  <a:pt x="134" y="2"/>
                </a:lnTo>
                <a:lnTo>
                  <a:pt x="147" y="0"/>
                </a:lnTo>
                <a:lnTo>
                  <a:pt x="169" y="2"/>
                </a:lnTo>
                <a:lnTo>
                  <a:pt x="187" y="4"/>
                </a:lnTo>
                <a:lnTo>
                  <a:pt x="198" y="11"/>
                </a:lnTo>
                <a:lnTo>
                  <a:pt x="218" y="15"/>
                </a:lnTo>
                <a:lnTo>
                  <a:pt x="225" y="17"/>
                </a:lnTo>
                <a:lnTo>
                  <a:pt x="229" y="17"/>
                </a:lnTo>
                <a:lnTo>
                  <a:pt x="242" y="22"/>
                </a:lnTo>
                <a:lnTo>
                  <a:pt x="249" y="22"/>
                </a:lnTo>
                <a:lnTo>
                  <a:pt x="253" y="22"/>
                </a:lnTo>
                <a:lnTo>
                  <a:pt x="262" y="17"/>
                </a:lnTo>
                <a:lnTo>
                  <a:pt x="265" y="15"/>
                </a:lnTo>
                <a:lnTo>
                  <a:pt x="269" y="15"/>
                </a:lnTo>
                <a:lnTo>
                  <a:pt x="271" y="17"/>
                </a:lnTo>
                <a:lnTo>
                  <a:pt x="280" y="24"/>
                </a:lnTo>
                <a:lnTo>
                  <a:pt x="284" y="24"/>
                </a:lnTo>
                <a:lnTo>
                  <a:pt x="286" y="22"/>
                </a:lnTo>
                <a:lnTo>
                  <a:pt x="289" y="20"/>
                </a:lnTo>
                <a:lnTo>
                  <a:pt x="297" y="19"/>
                </a:lnTo>
                <a:lnTo>
                  <a:pt x="304" y="20"/>
                </a:lnTo>
                <a:lnTo>
                  <a:pt x="306" y="20"/>
                </a:lnTo>
                <a:lnTo>
                  <a:pt x="308" y="24"/>
                </a:lnTo>
                <a:lnTo>
                  <a:pt x="311" y="28"/>
                </a:lnTo>
                <a:lnTo>
                  <a:pt x="317" y="31"/>
                </a:lnTo>
                <a:lnTo>
                  <a:pt x="318" y="31"/>
                </a:lnTo>
                <a:lnTo>
                  <a:pt x="320" y="29"/>
                </a:lnTo>
                <a:lnTo>
                  <a:pt x="328" y="20"/>
                </a:lnTo>
                <a:lnTo>
                  <a:pt x="328" y="13"/>
                </a:lnTo>
                <a:lnTo>
                  <a:pt x="339" y="6"/>
                </a:lnTo>
                <a:lnTo>
                  <a:pt x="342" y="6"/>
                </a:lnTo>
                <a:lnTo>
                  <a:pt x="350" y="4"/>
                </a:lnTo>
                <a:lnTo>
                  <a:pt x="357" y="8"/>
                </a:lnTo>
                <a:lnTo>
                  <a:pt x="355" y="9"/>
                </a:lnTo>
                <a:lnTo>
                  <a:pt x="353" y="11"/>
                </a:lnTo>
                <a:lnTo>
                  <a:pt x="351" y="15"/>
                </a:lnTo>
                <a:lnTo>
                  <a:pt x="353" y="19"/>
                </a:lnTo>
                <a:lnTo>
                  <a:pt x="353" y="22"/>
                </a:lnTo>
                <a:lnTo>
                  <a:pt x="357" y="28"/>
                </a:lnTo>
                <a:lnTo>
                  <a:pt x="361" y="33"/>
                </a:lnTo>
                <a:lnTo>
                  <a:pt x="368" y="46"/>
                </a:lnTo>
                <a:lnTo>
                  <a:pt x="368" y="51"/>
                </a:lnTo>
                <a:lnTo>
                  <a:pt x="370" y="64"/>
                </a:lnTo>
                <a:lnTo>
                  <a:pt x="379" y="77"/>
                </a:lnTo>
                <a:lnTo>
                  <a:pt x="381" y="79"/>
                </a:lnTo>
                <a:lnTo>
                  <a:pt x="390" y="84"/>
                </a:lnTo>
                <a:lnTo>
                  <a:pt x="390" y="86"/>
                </a:lnTo>
                <a:lnTo>
                  <a:pt x="384" y="90"/>
                </a:lnTo>
                <a:lnTo>
                  <a:pt x="377" y="92"/>
                </a:lnTo>
                <a:lnTo>
                  <a:pt x="375" y="95"/>
                </a:lnTo>
                <a:lnTo>
                  <a:pt x="377" y="97"/>
                </a:lnTo>
                <a:lnTo>
                  <a:pt x="384" y="99"/>
                </a:lnTo>
                <a:lnTo>
                  <a:pt x="386" y="103"/>
                </a:lnTo>
                <a:lnTo>
                  <a:pt x="386" y="104"/>
                </a:lnTo>
                <a:lnTo>
                  <a:pt x="384" y="110"/>
                </a:lnTo>
                <a:lnTo>
                  <a:pt x="382" y="112"/>
                </a:lnTo>
                <a:lnTo>
                  <a:pt x="381" y="110"/>
                </a:lnTo>
                <a:lnTo>
                  <a:pt x="381" y="108"/>
                </a:lnTo>
                <a:lnTo>
                  <a:pt x="379" y="106"/>
                </a:lnTo>
                <a:lnTo>
                  <a:pt x="368" y="104"/>
                </a:lnTo>
                <a:lnTo>
                  <a:pt x="364" y="106"/>
                </a:lnTo>
                <a:lnTo>
                  <a:pt x="357" y="119"/>
                </a:lnTo>
                <a:lnTo>
                  <a:pt x="353" y="125"/>
                </a:lnTo>
                <a:lnTo>
                  <a:pt x="348" y="132"/>
                </a:lnTo>
                <a:lnTo>
                  <a:pt x="339" y="141"/>
                </a:lnTo>
                <a:lnTo>
                  <a:pt x="326" y="146"/>
                </a:lnTo>
                <a:lnTo>
                  <a:pt x="326" y="152"/>
                </a:lnTo>
                <a:lnTo>
                  <a:pt x="313" y="174"/>
                </a:lnTo>
                <a:lnTo>
                  <a:pt x="304" y="176"/>
                </a:lnTo>
                <a:lnTo>
                  <a:pt x="297" y="181"/>
                </a:lnTo>
                <a:lnTo>
                  <a:pt x="291" y="187"/>
                </a:lnTo>
                <a:lnTo>
                  <a:pt x="291" y="194"/>
                </a:lnTo>
                <a:lnTo>
                  <a:pt x="287" y="201"/>
                </a:lnTo>
                <a:lnTo>
                  <a:pt x="276" y="212"/>
                </a:lnTo>
                <a:lnTo>
                  <a:pt x="265" y="221"/>
                </a:lnTo>
                <a:lnTo>
                  <a:pt x="251" y="238"/>
                </a:lnTo>
                <a:lnTo>
                  <a:pt x="247" y="242"/>
                </a:lnTo>
                <a:lnTo>
                  <a:pt x="244" y="242"/>
                </a:lnTo>
                <a:lnTo>
                  <a:pt x="236" y="243"/>
                </a:lnTo>
                <a:lnTo>
                  <a:pt x="231" y="245"/>
                </a:lnTo>
                <a:lnTo>
                  <a:pt x="229" y="247"/>
                </a:lnTo>
                <a:lnTo>
                  <a:pt x="227" y="251"/>
                </a:lnTo>
                <a:lnTo>
                  <a:pt x="227" y="262"/>
                </a:lnTo>
                <a:lnTo>
                  <a:pt x="211" y="276"/>
                </a:lnTo>
                <a:lnTo>
                  <a:pt x="205" y="280"/>
                </a:lnTo>
                <a:lnTo>
                  <a:pt x="200" y="282"/>
                </a:lnTo>
                <a:lnTo>
                  <a:pt x="198" y="287"/>
                </a:lnTo>
                <a:lnTo>
                  <a:pt x="198" y="291"/>
                </a:lnTo>
                <a:lnTo>
                  <a:pt x="194" y="298"/>
                </a:lnTo>
                <a:lnTo>
                  <a:pt x="187" y="304"/>
                </a:lnTo>
                <a:lnTo>
                  <a:pt x="174" y="311"/>
                </a:lnTo>
                <a:lnTo>
                  <a:pt x="172" y="315"/>
                </a:lnTo>
                <a:lnTo>
                  <a:pt x="172" y="322"/>
                </a:lnTo>
                <a:lnTo>
                  <a:pt x="178" y="326"/>
                </a:lnTo>
                <a:lnTo>
                  <a:pt x="180" y="335"/>
                </a:lnTo>
                <a:lnTo>
                  <a:pt x="174" y="333"/>
                </a:lnTo>
                <a:lnTo>
                  <a:pt x="163" y="322"/>
                </a:lnTo>
                <a:lnTo>
                  <a:pt x="158" y="311"/>
                </a:lnTo>
                <a:lnTo>
                  <a:pt x="150" y="300"/>
                </a:lnTo>
                <a:lnTo>
                  <a:pt x="139" y="287"/>
                </a:lnTo>
                <a:lnTo>
                  <a:pt x="134" y="285"/>
                </a:lnTo>
                <a:lnTo>
                  <a:pt x="106" y="278"/>
                </a:lnTo>
                <a:lnTo>
                  <a:pt x="103" y="278"/>
                </a:lnTo>
                <a:lnTo>
                  <a:pt x="95" y="280"/>
                </a:lnTo>
                <a:lnTo>
                  <a:pt x="86" y="284"/>
                </a:lnTo>
                <a:lnTo>
                  <a:pt x="79" y="285"/>
                </a:lnTo>
                <a:lnTo>
                  <a:pt x="73" y="285"/>
                </a:lnTo>
                <a:lnTo>
                  <a:pt x="68" y="284"/>
                </a:lnTo>
                <a:lnTo>
                  <a:pt x="63" y="284"/>
                </a:lnTo>
                <a:lnTo>
                  <a:pt x="53" y="289"/>
                </a:lnTo>
                <a:lnTo>
                  <a:pt x="52" y="293"/>
                </a:lnTo>
                <a:lnTo>
                  <a:pt x="42" y="296"/>
                </a:lnTo>
                <a:lnTo>
                  <a:pt x="33" y="295"/>
                </a:lnTo>
                <a:lnTo>
                  <a:pt x="28" y="293"/>
                </a:lnTo>
                <a:lnTo>
                  <a:pt x="17" y="293"/>
                </a:lnTo>
                <a:lnTo>
                  <a:pt x="9" y="296"/>
                </a:lnTo>
                <a:lnTo>
                  <a:pt x="2" y="29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66840" y="2857680"/>
            <a:ext cx="695520" cy="591840"/>
          </a:xfrm>
          <a:custGeom>
            <a:avLst/>
            <a:gdLst/>
            <a:ahLst/>
            <a:rect l="l" t="t" r="r" b="b"/>
            <a:pathLst>
              <a:path w="435" h="404">
                <a:moveTo>
                  <a:pt x="435" y="223"/>
                </a:moveTo>
                <a:lnTo>
                  <a:pt x="433" y="225"/>
                </a:lnTo>
                <a:lnTo>
                  <a:pt x="409" y="230"/>
                </a:lnTo>
                <a:lnTo>
                  <a:pt x="400" y="254"/>
                </a:lnTo>
                <a:lnTo>
                  <a:pt x="398" y="256"/>
                </a:lnTo>
                <a:lnTo>
                  <a:pt x="383" y="294"/>
                </a:lnTo>
                <a:lnTo>
                  <a:pt x="374" y="320"/>
                </a:lnTo>
                <a:lnTo>
                  <a:pt x="374" y="398"/>
                </a:lnTo>
                <a:lnTo>
                  <a:pt x="363" y="400"/>
                </a:lnTo>
                <a:lnTo>
                  <a:pt x="358" y="400"/>
                </a:lnTo>
                <a:lnTo>
                  <a:pt x="354" y="398"/>
                </a:lnTo>
                <a:lnTo>
                  <a:pt x="351" y="397"/>
                </a:lnTo>
                <a:lnTo>
                  <a:pt x="343" y="398"/>
                </a:lnTo>
                <a:lnTo>
                  <a:pt x="329" y="404"/>
                </a:lnTo>
                <a:lnTo>
                  <a:pt x="316" y="404"/>
                </a:lnTo>
                <a:lnTo>
                  <a:pt x="296" y="402"/>
                </a:lnTo>
                <a:lnTo>
                  <a:pt x="287" y="398"/>
                </a:lnTo>
                <a:lnTo>
                  <a:pt x="281" y="398"/>
                </a:lnTo>
                <a:lnTo>
                  <a:pt x="277" y="389"/>
                </a:lnTo>
                <a:lnTo>
                  <a:pt x="270" y="378"/>
                </a:lnTo>
                <a:lnTo>
                  <a:pt x="259" y="373"/>
                </a:lnTo>
                <a:lnTo>
                  <a:pt x="250" y="366"/>
                </a:lnTo>
                <a:lnTo>
                  <a:pt x="244" y="349"/>
                </a:lnTo>
                <a:lnTo>
                  <a:pt x="250" y="322"/>
                </a:lnTo>
                <a:lnTo>
                  <a:pt x="243" y="318"/>
                </a:lnTo>
                <a:lnTo>
                  <a:pt x="248" y="303"/>
                </a:lnTo>
                <a:lnTo>
                  <a:pt x="237" y="287"/>
                </a:lnTo>
                <a:lnTo>
                  <a:pt x="230" y="283"/>
                </a:lnTo>
                <a:lnTo>
                  <a:pt x="219" y="270"/>
                </a:lnTo>
                <a:lnTo>
                  <a:pt x="213" y="265"/>
                </a:lnTo>
                <a:lnTo>
                  <a:pt x="201" y="256"/>
                </a:lnTo>
                <a:lnTo>
                  <a:pt x="199" y="247"/>
                </a:lnTo>
                <a:lnTo>
                  <a:pt x="195" y="243"/>
                </a:lnTo>
                <a:lnTo>
                  <a:pt x="173" y="225"/>
                </a:lnTo>
                <a:lnTo>
                  <a:pt x="168" y="223"/>
                </a:lnTo>
                <a:lnTo>
                  <a:pt x="159" y="214"/>
                </a:lnTo>
                <a:lnTo>
                  <a:pt x="155" y="208"/>
                </a:lnTo>
                <a:lnTo>
                  <a:pt x="129" y="190"/>
                </a:lnTo>
                <a:lnTo>
                  <a:pt x="122" y="186"/>
                </a:lnTo>
                <a:lnTo>
                  <a:pt x="115" y="185"/>
                </a:lnTo>
                <a:lnTo>
                  <a:pt x="93" y="179"/>
                </a:lnTo>
                <a:lnTo>
                  <a:pt x="87" y="181"/>
                </a:lnTo>
                <a:lnTo>
                  <a:pt x="80" y="183"/>
                </a:lnTo>
                <a:lnTo>
                  <a:pt x="65" y="183"/>
                </a:lnTo>
                <a:lnTo>
                  <a:pt x="62" y="181"/>
                </a:lnTo>
                <a:lnTo>
                  <a:pt x="60" y="174"/>
                </a:lnTo>
                <a:lnTo>
                  <a:pt x="67" y="148"/>
                </a:lnTo>
                <a:lnTo>
                  <a:pt x="67" y="139"/>
                </a:lnTo>
                <a:lnTo>
                  <a:pt x="71" y="141"/>
                </a:lnTo>
                <a:lnTo>
                  <a:pt x="73" y="139"/>
                </a:lnTo>
                <a:lnTo>
                  <a:pt x="73" y="132"/>
                </a:lnTo>
                <a:lnTo>
                  <a:pt x="71" y="113"/>
                </a:lnTo>
                <a:lnTo>
                  <a:pt x="53" y="100"/>
                </a:lnTo>
                <a:lnTo>
                  <a:pt x="51" y="91"/>
                </a:lnTo>
                <a:lnTo>
                  <a:pt x="47" y="84"/>
                </a:lnTo>
                <a:lnTo>
                  <a:pt x="31" y="71"/>
                </a:lnTo>
                <a:lnTo>
                  <a:pt x="21" y="69"/>
                </a:lnTo>
                <a:lnTo>
                  <a:pt x="0" y="64"/>
                </a:lnTo>
                <a:lnTo>
                  <a:pt x="12" y="57"/>
                </a:lnTo>
                <a:lnTo>
                  <a:pt x="29" y="38"/>
                </a:lnTo>
                <a:lnTo>
                  <a:pt x="31" y="36"/>
                </a:lnTo>
                <a:lnTo>
                  <a:pt x="34" y="26"/>
                </a:lnTo>
                <a:lnTo>
                  <a:pt x="38" y="24"/>
                </a:lnTo>
                <a:lnTo>
                  <a:pt x="43" y="24"/>
                </a:lnTo>
                <a:lnTo>
                  <a:pt x="45" y="22"/>
                </a:lnTo>
                <a:lnTo>
                  <a:pt x="49" y="16"/>
                </a:lnTo>
                <a:lnTo>
                  <a:pt x="51" y="4"/>
                </a:lnTo>
                <a:lnTo>
                  <a:pt x="76" y="5"/>
                </a:lnTo>
                <a:lnTo>
                  <a:pt x="84" y="4"/>
                </a:lnTo>
                <a:lnTo>
                  <a:pt x="87" y="2"/>
                </a:lnTo>
                <a:lnTo>
                  <a:pt x="111" y="0"/>
                </a:lnTo>
                <a:lnTo>
                  <a:pt x="117" y="0"/>
                </a:lnTo>
                <a:lnTo>
                  <a:pt x="118" y="2"/>
                </a:lnTo>
                <a:lnTo>
                  <a:pt x="118" y="4"/>
                </a:lnTo>
                <a:lnTo>
                  <a:pt x="117" y="11"/>
                </a:lnTo>
                <a:lnTo>
                  <a:pt x="117" y="24"/>
                </a:lnTo>
                <a:lnTo>
                  <a:pt x="117" y="26"/>
                </a:lnTo>
                <a:lnTo>
                  <a:pt x="124" y="27"/>
                </a:lnTo>
                <a:lnTo>
                  <a:pt x="138" y="33"/>
                </a:lnTo>
                <a:lnTo>
                  <a:pt x="146" y="36"/>
                </a:lnTo>
                <a:lnTo>
                  <a:pt x="157" y="38"/>
                </a:lnTo>
                <a:lnTo>
                  <a:pt x="166" y="40"/>
                </a:lnTo>
                <a:lnTo>
                  <a:pt x="166" y="46"/>
                </a:lnTo>
                <a:lnTo>
                  <a:pt x="168" y="49"/>
                </a:lnTo>
                <a:lnTo>
                  <a:pt x="175" y="58"/>
                </a:lnTo>
                <a:lnTo>
                  <a:pt x="179" y="60"/>
                </a:lnTo>
                <a:lnTo>
                  <a:pt x="190" y="62"/>
                </a:lnTo>
                <a:lnTo>
                  <a:pt x="193" y="62"/>
                </a:lnTo>
                <a:lnTo>
                  <a:pt x="197" y="60"/>
                </a:lnTo>
                <a:lnTo>
                  <a:pt x="204" y="49"/>
                </a:lnTo>
                <a:lnTo>
                  <a:pt x="206" y="47"/>
                </a:lnTo>
                <a:lnTo>
                  <a:pt x="217" y="53"/>
                </a:lnTo>
                <a:lnTo>
                  <a:pt x="221" y="58"/>
                </a:lnTo>
                <a:lnTo>
                  <a:pt x="243" y="58"/>
                </a:lnTo>
                <a:lnTo>
                  <a:pt x="246" y="58"/>
                </a:lnTo>
                <a:lnTo>
                  <a:pt x="252" y="53"/>
                </a:lnTo>
                <a:lnTo>
                  <a:pt x="254" y="53"/>
                </a:lnTo>
                <a:lnTo>
                  <a:pt x="261" y="53"/>
                </a:lnTo>
                <a:lnTo>
                  <a:pt x="298" y="68"/>
                </a:lnTo>
                <a:lnTo>
                  <a:pt x="303" y="73"/>
                </a:lnTo>
                <a:lnTo>
                  <a:pt x="314" y="93"/>
                </a:lnTo>
                <a:lnTo>
                  <a:pt x="314" y="104"/>
                </a:lnTo>
                <a:lnTo>
                  <a:pt x="316" y="108"/>
                </a:lnTo>
                <a:lnTo>
                  <a:pt x="319" y="110"/>
                </a:lnTo>
                <a:lnTo>
                  <a:pt x="332" y="115"/>
                </a:lnTo>
                <a:lnTo>
                  <a:pt x="340" y="119"/>
                </a:lnTo>
                <a:lnTo>
                  <a:pt x="369" y="143"/>
                </a:lnTo>
                <a:lnTo>
                  <a:pt x="374" y="152"/>
                </a:lnTo>
                <a:lnTo>
                  <a:pt x="374" y="161"/>
                </a:lnTo>
                <a:lnTo>
                  <a:pt x="435" y="22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13000" y="2895480"/>
            <a:ext cx="615960" cy="898560"/>
          </a:xfrm>
          <a:custGeom>
            <a:avLst/>
            <a:gdLst/>
            <a:ahLst/>
            <a:rect l="l" t="t" r="r" b="b"/>
            <a:pathLst>
              <a:path w="384" h="614">
                <a:moveTo>
                  <a:pt x="247" y="504"/>
                </a:moveTo>
                <a:lnTo>
                  <a:pt x="249" y="508"/>
                </a:lnTo>
                <a:lnTo>
                  <a:pt x="247" y="511"/>
                </a:lnTo>
                <a:lnTo>
                  <a:pt x="234" y="524"/>
                </a:lnTo>
                <a:lnTo>
                  <a:pt x="234" y="531"/>
                </a:lnTo>
                <a:lnTo>
                  <a:pt x="229" y="541"/>
                </a:lnTo>
                <a:lnTo>
                  <a:pt x="223" y="542"/>
                </a:lnTo>
                <a:lnTo>
                  <a:pt x="219" y="542"/>
                </a:lnTo>
                <a:lnTo>
                  <a:pt x="210" y="535"/>
                </a:lnTo>
                <a:lnTo>
                  <a:pt x="194" y="533"/>
                </a:lnTo>
                <a:lnTo>
                  <a:pt x="190" y="533"/>
                </a:lnTo>
                <a:lnTo>
                  <a:pt x="187" y="535"/>
                </a:lnTo>
                <a:lnTo>
                  <a:pt x="185" y="535"/>
                </a:lnTo>
                <a:lnTo>
                  <a:pt x="185" y="539"/>
                </a:lnTo>
                <a:lnTo>
                  <a:pt x="185" y="542"/>
                </a:lnTo>
                <a:lnTo>
                  <a:pt x="110" y="612"/>
                </a:lnTo>
                <a:lnTo>
                  <a:pt x="0" y="614"/>
                </a:lnTo>
                <a:lnTo>
                  <a:pt x="91" y="488"/>
                </a:lnTo>
                <a:lnTo>
                  <a:pt x="97" y="488"/>
                </a:lnTo>
                <a:lnTo>
                  <a:pt x="102" y="484"/>
                </a:lnTo>
                <a:lnTo>
                  <a:pt x="104" y="480"/>
                </a:lnTo>
                <a:lnTo>
                  <a:pt x="108" y="466"/>
                </a:lnTo>
                <a:lnTo>
                  <a:pt x="108" y="464"/>
                </a:lnTo>
                <a:lnTo>
                  <a:pt x="106" y="460"/>
                </a:lnTo>
                <a:lnTo>
                  <a:pt x="99" y="449"/>
                </a:lnTo>
                <a:lnTo>
                  <a:pt x="90" y="427"/>
                </a:lnTo>
                <a:lnTo>
                  <a:pt x="79" y="420"/>
                </a:lnTo>
                <a:lnTo>
                  <a:pt x="77" y="416"/>
                </a:lnTo>
                <a:lnTo>
                  <a:pt x="77" y="411"/>
                </a:lnTo>
                <a:lnTo>
                  <a:pt x="75" y="407"/>
                </a:lnTo>
                <a:lnTo>
                  <a:pt x="68" y="403"/>
                </a:lnTo>
                <a:lnTo>
                  <a:pt x="62" y="398"/>
                </a:lnTo>
                <a:lnTo>
                  <a:pt x="60" y="398"/>
                </a:lnTo>
                <a:lnTo>
                  <a:pt x="62" y="376"/>
                </a:lnTo>
                <a:lnTo>
                  <a:pt x="59" y="358"/>
                </a:lnTo>
                <a:lnTo>
                  <a:pt x="70" y="349"/>
                </a:lnTo>
                <a:lnTo>
                  <a:pt x="97" y="261"/>
                </a:lnTo>
                <a:lnTo>
                  <a:pt x="82" y="257"/>
                </a:lnTo>
                <a:lnTo>
                  <a:pt x="64" y="246"/>
                </a:lnTo>
                <a:lnTo>
                  <a:pt x="64" y="235"/>
                </a:lnTo>
                <a:lnTo>
                  <a:pt x="68" y="235"/>
                </a:lnTo>
                <a:lnTo>
                  <a:pt x="73" y="206"/>
                </a:lnTo>
                <a:lnTo>
                  <a:pt x="93" y="96"/>
                </a:lnTo>
                <a:lnTo>
                  <a:pt x="110" y="0"/>
                </a:lnTo>
                <a:lnTo>
                  <a:pt x="384" y="0"/>
                </a:lnTo>
                <a:lnTo>
                  <a:pt x="384" y="3"/>
                </a:lnTo>
                <a:lnTo>
                  <a:pt x="380" y="10"/>
                </a:lnTo>
                <a:lnTo>
                  <a:pt x="377" y="12"/>
                </a:lnTo>
                <a:lnTo>
                  <a:pt x="369" y="12"/>
                </a:lnTo>
                <a:lnTo>
                  <a:pt x="366" y="14"/>
                </a:lnTo>
                <a:lnTo>
                  <a:pt x="364" y="18"/>
                </a:lnTo>
                <a:lnTo>
                  <a:pt x="364" y="25"/>
                </a:lnTo>
                <a:lnTo>
                  <a:pt x="366" y="40"/>
                </a:lnTo>
                <a:lnTo>
                  <a:pt x="362" y="60"/>
                </a:lnTo>
                <a:lnTo>
                  <a:pt x="351" y="98"/>
                </a:lnTo>
                <a:lnTo>
                  <a:pt x="335" y="113"/>
                </a:lnTo>
                <a:lnTo>
                  <a:pt x="324" y="118"/>
                </a:lnTo>
                <a:lnTo>
                  <a:pt x="314" y="137"/>
                </a:lnTo>
                <a:lnTo>
                  <a:pt x="313" y="155"/>
                </a:lnTo>
                <a:lnTo>
                  <a:pt x="311" y="168"/>
                </a:lnTo>
                <a:lnTo>
                  <a:pt x="307" y="171"/>
                </a:lnTo>
                <a:lnTo>
                  <a:pt x="307" y="177"/>
                </a:lnTo>
                <a:lnTo>
                  <a:pt x="307" y="180"/>
                </a:lnTo>
                <a:lnTo>
                  <a:pt x="313" y="188"/>
                </a:lnTo>
                <a:lnTo>
                  <a:pt x="316" y="191"/>
                </a:lnTo>
                <a:lnTo>
                  <a:pt x="316" y="193"/>
                </a:lnTo>
                <a:lnTo>
                  <a:pt x="309" y="210"/>
                </a:lnTo>
                <a:lnTo>
                  <a:pt x="305" y="217"/>
                </a:lnTo>
                <a:lnTo>
                  <a:pt x="307" y="224"/>
                </a:lnTo>
                <a:lnTo>
                  <a:pt x="314" y="233"/>
                </a:lnTo>
                <a:lnTo>
                  <a:pt x="314" y="248"/>
                </a:lnTo>
                <a:lnTo>
                  <a:pt x="314" y="254"/>
                </a:lnTo>
                <a:lnTo>
                  <a:pt x="300" y="276"/>
                </a:lnTo>
                <a:lnTo>
                  <a:pt x="276" y="307"/>
                </a:lnTo>
                <a:lnTo>
                  <a:pt x="271" y="310"/>
                </a:lnTo>
                <a:lnTo>
                  <a:pt x="269" y="314"/>
                </a:lnTo>
                <a:lnTo>
                  <a:pt x="263" y="323"/>
                </a:lnTo>
                <a:lnTo>
                  <a:pt x="260" y="329"/>
                </a:lnTo>
                <a:lnTo>
                  <a:pt x="241" y="349"/>
                </a:lnTo>
                <a:lnTo>
                  <a:pt x="232" y="354"/>
                </a:lnTo>
                <a:lnTo>
                  <a:pt x="214" y="356"/>
                </a:lnTo>
                <a:lnTo>
                  <a:pt x="212" y="358"/>
                </a:lnTo>
                <a:lnTo>
                  <a:pt x="212" y="360"/>
                </a:lnTo>
                <a:lnTo>
                  <a:pt x="207" y="400"/>
                </a:lnTo>
                <a:lnTo>
                  <a:pt x="208" y="414"/>
                </a:lnTo>
                <a:lnTo>
                  <a:pt x="205" y="424"/>
                </a:lnTo>
                <a:lnTo>
                  <a:pt x="203" y="431"/>
                </a:lnTo>
                <a:lnTo>
                  <a:pt x="203" y="442"/>
                </a:lnTo>
                <a:lnTo>
                  <a:pt x="207" y="460"/>
                </a:lnTo>
                <a:lnTo>
                  <a:pt x="208" y="466"/>
                </a:lnTo>
                <a:lnTo>
                  <a:pt x="223" y="491"/>
                </a:lnTo>
                <a:lnTo>
                  <a:pt x="240" y="499"/>
                </a:lnTo>
                <a:lnTo>
                  <a:pt x="247" y="50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22480" y="2951280"/>
            <a:ext cx="593640" cy="561960"/>
          </a:xfrm>
          <a:custGeom>
            <a:avLst/>
            <a:gdLst/>
            <a:ahLst/>
            <a:rect l="l" t="t" r="r" b="b"/>
            <a:pathLst>
              <a:path w="371" h="384">
                <a:moveTo>
                  <a:pt x="33" y="376"/>
                </a:moveTo>
                <a:lnTo>
                  <a:pt x="27" y="375"/>
                </a:lnTo>
                <a:lnTo>
                  <a:pt x="26" y="373"/>
                </a:lnTo>
                <a:lnTo>
                  <a:pt x="26" y="371"/>
                </a:lnTo>
                <a:lnTo>
                  <a:pt x="26" y="367"/>
                </a:lnTo>
                <a:lnTo>
                  <a:pt x="24" y="355"/>
                </a:lnTo>
                <a:lnTo>
                  <a:pt x="27" y="351"/>
                </a:lnTo>
                <a:lnTo>
                  <a:pt x="31" y="351"/>
                </a:lnTo>
                <a:lnTo>
                  <a:pt x="35" y="344"/>
                </a:lnTo>
                <a:lnTo>
                  <a:pt x="35" y="340"/>
                </a:lnTo>
                <a:lnTo>
                  <a:pt x="29" y="334"/>
                </a:lnTo>
                <a:lnTo>
                  <a:pt x="27" y="334"/>
                </a:lnTo>
                <a:lnTo>
                  <a:pt x="20" y="334"/>
                </a:lnTo>
                <a:lnTo>
                  <a:pt x="18" y="334"/>
                </a:lnTo>
                <a:lnTo>
                  <a:pt x="15" y="333"/>
                </a:lnTo>
                <a:lnTo>
                  <a:pt x="13" y="329"/>
                </a:lnTo>
                <a:lnTo>
                  <a:pt x="0" y="303"/>
                </a:lnTo>
                <a:lnTo>
                  <a:pt x="2" y="294"/>
                </a:lnTo>
                <a:lnTo>
                  <a:pt x="4" y="280"/>
                </a:lnTo>
                <a:lnTo>
                  <a:pt x="5" y="267"/>
                </a:lnTo>
                <a:lnTo>
                  <a:pt x="11" y="259"/>
                </a:lnTo>
                <a:lnTo>
                  <a:pt x="13" y="258"/>
                </a:lnTo>
                <a:lnTo>
                  <a:pt x="15" y="261"/>
                </a:lnTo>
                <a:lnTo>
                  <a:pt x="22" y="259"/>
                </a:lnTo>
                <a:lnTo>
                  <a:pt x="29" y="252"/>
                </a:lnTo>
                <a:lnTo>
                  <a:pt x="29" y="249"/>
                </a:lnTo>
                <a:lnTo>
                  <a:pt x="26" y="247"/>
                </a:lnTo>
                <a:lnTo>
                  <a:pt x="26" y="245"/>
                </a:lnTo>
                <a:lnTo>
                  <a:pt x="26" y="234"/>
                </a:lnTo>
                <a:lnTo>
                  <a:pt x="31" y="219"/>
                </a:lnTo>
                <a:lnTo>
                  <a:pt x="36" y="208"/>
                </a:lnTo>
                <a:lnTo>
                  <a:pt x="44" y="195"/>
                </a:lnTo>
                <a:lnTo>
                  <a:pt x="51" y="192"/>
                </a:lnTo>
                <a:lnTo>
                  <a:pt x="58" y="192"/>
                </a:lnTo>
                <a:lnTo>
                  <a:pt x="64" y="190"/>
                </a:lnTo>
                <a:lnTo>
                  <a:pt x="66" y="185"/>
                </a:lnTo>
                <a:lnTo>
                  <a:pt x="73" y="172"/>
                </a:lnTo>
                <a:lnTo>
                  <a:pt x="73" y="168"/>
                </a:lnTo>
                <a:lnTo>
                  <a:pt x="73" y="166"/>
                </a:lnTo>
                <a:lnTo>
                  <a:pt x="69" y="163"/>
                </a:lnTo>
                <a:lnTo>
                  <a:pt x="64" y="153"/>
                </a:lnTo>
                <a:lnTo>
                  <a:pt x="66" y="144"/>
                </a:lnTo>
                <a:lnTo>
                  <a:pt x="66" y="133"/>
                </a:lnTo>
                <a:lnTo>
                  <a:pt x="64" y="126"/>
                </a:lnTo>
                <a:lnTo>
                  <a:pt x="62" y="124"/>
                </a:lnTo>
                <a:lnTo>
                  <a:pt x="60" y="121"/>
                </a:lnTo>
                <a:lnTo>
                  <a:pt x="60" y="115"/>
                </a:lnTo>
                <a:lnTo>
                  <a:pt x="60" y="110"/>
                </a:lnTo>
                <a:lnTo>
                  <a:pt x="57" y="99"/>
                </a:lnTo>
                <a:lnTo>
                  <a:pt x="53" y="93"/>
                </a:lnTo>
                <a:lnTo>
                  <a:pt x="55" y="86"/>
                </a:lnTo>
                <a:lnTo>
                  <a:pt x="55" y="84"/>
                </a:lnTo>
                <a:lnTo>
                  <a:pt x="66" y="71"/>
                </a:lnTo>
                <a:lnTo>
                  <a:pt x="73" y="71"/>
                </a:lnTo>
                <a:lnTo>
                  <a:pt x="75" y="69"/>
                </a:lnTo>
                <a:lnTo>
                  <a:pt x="77" y="68"/>
                </a:lnTo>
                <a:lnTo>
                  <a:pt x="77" y="64"/>
                </a:lnTo>
                <a:lnTo>
                  <a:pt x="77" y="58"/>
                </a:lnTo>
                <a:lnTo>
                  <a:pt x="80" y="47"/>
                </a:lnTo>
                <a:lnTo>
                  <a:pt x="84" y="38"/>
                </a:lnTo>
                <a:lnTo>
                  <a:pt x="84" y="36"/>
                </a:lnTo>
                <a:lnTo>
                  <a:pt x="80" y="31"/>
                </a:lnTo>
                <a:lnTo>
                  <a:pt x="82" y="25"/>
                </a:lnTo>
                <a:lnTo>
                  <a:pt x="86" y="18"/>
                </a:lnTo>
                <a:lnTo>
                  <a:pt x="90" y="16"/>
                </a:lnTo>
                <a:lnTo>
                  <a:pt x="90" y="0"/>
                </a:lnTo>
                <a:lnTo>
                  <a:pt x="111" y="5"/>
                </a:lnTo>
                <a:lnTo>
                  <a:pt x="121" y="7"/>
                </a:lnTo>
                <a:lnTo>
                  <a:pt x="137" y="20"/>
                </a:lnTo>
                <a:lnTo>
                  <a:pt x="141" y="27"/>
                </a:lnTo>
                <a:lnTo>
                  <a:pt x="143" y="36"/>
                </a:lnTo>
                <a:lnTo>
                  <a:pt x="161" y="49"/>
                </a:lnTo>
                <a:lnTo>
                  <a:pt x="163" y="68"/>
                </a:lnTo>
                <a:lnTo>
                  <a:pt x="163" y="75"/>
                </a:lnTo>
                <a:lnTo>
                  <a:pt x="161" y="77"/>
                </a:lnTo>
                <a:lnTo>
                  <a:pt x="157" y="75"/>
                </a:lnTo>
                <a:lnTo>
                  <a:pt x="157" y="84"/>
                </a:lnTo>
                <a:lnTo>
                  <a:pt x="150" y="110"/>
                </a:lnTo>
                <a:lnTo>
                  <a:pt x="152" y="117"/>
                </a:lnTo>
                <a:lnTo>
                  <a:pt x="155" y="119"/>
                </a:lnTo>
                <a:lnTo>
                  <a:pt x="170" y="119"/>
                </a:lnTo>
                <a:lnTo>
                  <a:pt x="177" y="117"/>
                </a:lnTo>
                <a:lnTo>
                  <a:pt x="183" y="115"/>
                </a:lnTo>
                <a:lnTo>
                  <a:pt x="205" y="121"/>
                </a:lnTo>
                <a:lnTo>
                  <a:pt x="212" y="122"/>
                </a:lnTo>
                <a:lnTo>
                  <a:pt x="219" y="126"/>
                </a:lnTo>
                <a:lnTo>
                  <a:pt x="245" y="144"/>
                </a:lnTo>
                <a:lnTo>
                  <a:pt x="249" y="150"/>
                </a:lnTo>
                <a:lnTo>
                  <a:pt x="258" y="159"/>
                </a:lnTo>
                <a:lnTo>
                  <a:pt x="263" y="161"/>
                </a:lnTo>
                <a:lnTo>
                  <a:pt x="285" y="179"/>
                </a:lnTo>
                <a:lnTo>
                  <a:pt x="289" y="183"/>
                </a:lnTo>
                <a:lnTo>
                  <a:pt x="291" y="192"/>
                </a:lnTo>
                <a:lnTo>
                  <a:pt x="303" y="201"/>
                </a:lnTo>
                <a:lnTo>
                  <a:pt x="309" y="206"/>
                </a:lnTo>
                <a:lnTo>
                  <a:pt x="320" y="219"/>
                </a:lnTo>
                <a:lnTo>
                  <a:pt x="327" y="223"/>
                </a:lnTo>
                <a:lnTo>
                  <a:pt x="338" y="239"/>
                </a:lnTo>
                <a:lnTo>
                  <a:pt x="333" y="254"/>
                </a:lnTo>
                <a:lnTo>
                  <a:pt x="340" y="258"/>
                </a:lnTo>
                <a:lnTo>
                  <a:pt x="334" y="285"/>
                </a:lnTo>
                <a:lnTo>
                  <a:pt x="340" y="302"/>
                </a:lnTo>
                <a:lnTo>
                  <a:pt x="349" y="309"/>
                </a:lnTo>
                <a:lnTo>
                  <a:pt x="360" y="314"/>
                </a:lnTo>
                <a:lnTo>
                  <a:pt x="367" y="325"/>
                </a:lnTo>
                <a:lnTo>
                  <a:pt x="371" y="334"/>
                </a:lnTo>
                <a:lnTo>
                  <a:pt x="366" y="334"/>
                </a:lnTo>
                <a:lnTo>
                  <a:pt x="349" y="336"/>
                </a:lnTo>
                <a:lnTo>
                  <a:pt x="313" y="331"/>
                </a:lnTo>
                <a:lnTo>
                  <a:pt x="311" y="331"/>
                </a:lnTo>
                <a:lnTo>
                  <a:pt x="307" y="334"/>
                </a:lnTo>
                <a:lnTo>
                  <a:pt x="307" y="351"/>
                </a:lnTo>
                <a:lnTo>
                  <a:pt x="307" y="376"/>
                </a:lnTo>
                <a:lnTo>
                  <a:pt x="311" y="384"/>
                </a:lnTo>
                <a:lnTo>
                  <a:pt x="302" y="375"/>
                </a:lnTo>
                <a:lnTo>
                  <a:pt x="300" y="373"/>
                </a:lnTo>
                <a:lnTo>
                  <a:pt x="291" y="371"/>
                </a:lnTo>
                <a:lnTo>
                  <a:pt x="280" y="371"/>
                </a:lnTo>
                <a:lnTo>
                  <a:pt x="265" y="369"/>
                </a:lnTo>
                <a:lnTo>
                  <a:pt x="256" y="362"/>
                </a:lnTo>
                <a:lnTo>
                  <a:pt x="252" y="356"/>
                </a:lnTo>
                <a:lnTo>
                  <a:pt x="247" y="353"/>
                </a:lnTo>
                <a:lnTo>
                  <a:pt x="243" y="353"/>
                </a:lnTo>
                <a:lnTo>
                  <a:pt x="227" y="356"/>
                </a:lnTo>
                <a:lnTo>
                  <a:pt x="214" y="355"/>
                </a:lnTo>
                <a:lnTo>
                  <a:pt x="208" y="353"/>
                </a:lnTo>
                <a:lnTo>
                  <a:pt x="207" y="353"/>
                </a:lnTo>
                <a:lnTo>
                  <a:pt x="203" y="355"/>
                </a:lnTo>
                <a:lnTo>
                  <a:pt x="203" y="362"/>
                </a:lnTo>
                <a:lnTo>
                  <a:pt x="201" y="364"/>
                </a:lnTo>
                <a:lnTo>
                  <a:pt x="197" y="364"/>
                </a:lnTo>
                <a:lnTo>
                  <a:pt x="177" y="360"/>
                </a:lnTo>
                <a:lnTo>
                  <a:pt x="170" y="356"/>
                </a:lnTo>
                <a:lnTo>
                  <a:pt x="166" y="355"/>
                </a:lnTo>
                <a:lnTo>
                  <a:pt x="163" y="353"/>
                </a:lnTo>
                <a:lnTo>
                  <a:pt x="159" y="353"/>
                </a:lnTo>
                <a:lnTo>
                  <a:pt x="150" y="355"/>
                </a:lnTo>
                <a:lnTo>
                  <a:pt x="148" y="351"/>
                </a:lnTo>
                <a:lnTo>
                  <a:pt x="144" y="347"/>
                </a:lnTo>
                <a:lnTo>
                  <a:pt x="141" y="344"/>
                </a:lnTo>
                <a:lnTo>
                  <a:pt x="137" y="342"/>
                </a:lnTo>
                <a:lnTo>
                  <a:pt x="133" y="342"/>
                </a:lnTo>
                <a:lnTo>
                  <a:pt x="130" y="345"/>
                </a:lnTo>
                <a:lnTo>
                  <a:pt x="115" y="351"/>
                </a:lnTo>
                <a:lnTo>
                  <a:pt x="110" y="351"/>
                </a:lnTo>
                <a:lnTo>
                  <a:pt x="93" y="358"/>
                </a:lnTo>
                <a:lnTo>
                  <a:pt x="93" y="360"/>
                </a:lnTo>
                <a:lnTo>
                  <a:pt x="93" y="365"/>
                </a:lnTo>
                <a:lnTo>
                  <a:pt x="91" y="369"/>
                </a:lnTo>
                <a:lnTo>
                  <a:pt x="90" y="371"/>
                </a:lnTo>
                <a:lnTo>
                  <a:pt x="73" y="371"/>
                </a:lnTo>
                <a:lnTo>
                  <a:pt x="60" y="375"/>
                </a:lnTo>
                <a:lnTo>
                  <a:pt x="42" y="375"/>
                </a:lnTo>
                <a:lnTo>
                  <a:pt x="33" y="37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54360" y="3041640"/>
            <a:ext cx="285480" cy="455760"/>
          </a:xfrm>
          <a:custGeom>
            <a:avLst/>
            <a:gdLst/>
            <a:ahLst/>
            <a:rect l="l" t="t" r="r" b="b"/>
            <a:pathLst>
              <a:path w="179" h="311">
                <a:moveTo>
                  <a:pt x="132" y="309"/>
                </a:moveTo>
                <a:lnTo>
                  <a:pt x="124" y="311"/>
                </a:lnTo>
                <a:lnTo>
                  <a:pt x="121" y="311"/>
                </a:lnTo>
                <a:lnTo>
                  <a:pt x="121" y="309"/>
                </a:lnTo>
                <a:lnTo>
                  <a:pt x="119" y="303"/>
                </a:lnTo>
                <a:lnTo>
                  <a:pt x="117" y="302"/>
                </a:lnTo>
                <a:lnTo>
                  <a:pt x="113" y="300"/>
                </a:lnTo>
                <a:lnTo>
                  <a:pt x="106" y="300"/>
                </a:lnTo>
                <a:lnTo>
                  <a:pt x="102" y="298"/>
                </a:lnTo>
                <a:lnTo>
                  <a:pt x="99" y="296"/>
                </a:lnTo>
                <a:lnTo>
                  <a:pt x="99" y="293"/>
                </a:lnTo>
                <a:lnTo>
                  <a:pt x="99" y="291"/>
                </a:lnTo>
                <a:lnTo>
                  <a:pt x="91" y="287"/>
                </a:lnTo>
                <a:lnTo>
                  <a:pt x="62" y="289"/>
                </a:lnTo>
                <a:lnTo>
                  <a:pt x="60" y="293"/>
                </a:lnTo>
                <a:lnTo>
                  <a:pt x="55" y="296"/>
                </a:lnTo>
                <a:lnTo>
                  <a:pt x="53" y="298"/>
                </a:lnTo>
                <a:lnTo>
                  <a:pt x="33" y="302"/>
                </a:lnTo>
                <a:lnTo>
                  <a:pt x="29" y="302"/>
                </a:lnTo>
                <a:lnTo>
                  <a:pt x="20" y="298"/>
                </a:lnTo>
                <a:lnTo>
                  <a:pt x="15" y="302"/>
                </a:lnTo>
                <a:lnTo>
                  <a:pt x="16" y="293"/>
                </a:lnTo>
                <a:lnTo>
                  <a:pt x="18" y="282"/>
                </a:lnTo>
                <a:lnTo>
                  <a:pt x="18" y="263"/>
                </a:lnTo>
                <a:lnTo>
                  <a:pt x="15" y="256"/>
                </a:lnTo>
                <a:lnTo>
                  <a:pt x="13" y="247"/>
                </a:lnTo>
                <a:lnTo>
                  <a:pt x="13" y="238"/>
                </a:lnTo>
                <a:lnTo>
                  <a:pt x="2" y="203"/>
                </a:lnTo>
                <a:lnTo>
                  <a:pt x="4" y="196"/>
                </a:lnTo>
                <a:lnTo>
                  <a:pt x="4" y="187"/>
                </a:lnTo>
                <a:lnTo>
                  <a:pt x="2" y="181"/>
                </a:lnTo>
                <a:lnTo>
                  <a:pt x="0" y="165"/>
                </a:lnTo>
                <a:lnTo>
                  <a:pt x="0" y="141"/>
                </a:lnTo>
                <a:lnTo>
                  <a:pt x="2" y="124"/>
                </a:lnTo>
                <a:lnTo>
                  <a:pt x="5" y="117"/>
                </a:lnTo>
                <a:lnTo>
                  <a:pt x="7" y="117"/>
                </a:lnTo>
                <a:lnTo>
                  <a:pt x="9" y="119"/>
                </a:lnTo>
                <a:lnTo>
                  <a:pt x="15" y="119"/>
                </a:lnTo>
                <a:lnTo>
                  <a:pt x="18" y="119"/>
                </a:lnTo>
                <a:lnTo>
                  <a:pt x="27" y="110"/>
                </a:lnTo>
                <a:lnTo>
                  <a:pt x="31" y="106"/>
                </a:lnTo>
                <a:lnTo>
                  <a:pt x="38" y="82"/>
                </a:lnTo>
                <a:lnTo>
                  <a:pt x="38" y="77"/>
                </a:lnTo>
                <a:lnTo>
                  <a:pt x="35" y="73"/>
                </a:lnTo>
                <a:lnTo>
                  <a:pt x="35" y="66"/>
                </a:lnTo>
                <a:lnTo>
                  <a:pt x="35" y="48"/>
                </a:lnTo>
                <a:lnTo>
                  <a:pt x="36" y="38"/>
                </a:lnTo>
                <a:lnTo>
                  <a:pt x="36" y="35"/>
                </a:lnTo>
                <a:lnTo>
                  <a:pt x="33" y="26"/>
                </a:lnTo>
                <a:lnTo>
                  <a:pt x="29" y="22"/>
                </a:lnTo>
                <a:lnTo>
                  <a:pt x="20" y="17"/>
                </a:lnTo>
                <a:lnTo>
                  <a:pt x="20" y="13"/>
                </a:lnTo>
                <a:lnTo>
                  <a:pt x="24" y="13"/>
                </a:lnTo>
                <a:lnTo>
                  <a:pt x="38" y="11"/>
                </a:lnTo>
                <a:lnTo>
                  <a:pt x="57" y="2"/>
                </a:lnTo>
                <a:lnTo>
                  <a:pt x="84" y="0"/>
                </a:lnTo>
                <a:lnTo>
                  <a:pt x="91" y="2"/>
                </a:lnTo>
                <a:lnTo>
                  <a:pt x="100" y="7"/>
                </a:lnTo>
                <a:lnTo>
                  <a:pt x="117" y="24"/>
                </a:lnTo>
                <a:lnTo>
                  <a:pt x="119" y="27"/>
                </a:lnTo>
                <a:lnTo>
                  <a:pt x="117" y="37"/>
                </a:lnTo>
                <a:lnTo>
                  <a:pt x="121" y="46"/>
                </a:lnTo>
                <a:lnTo>
                  <a:pt x="135" y="60"/>
                </a:lnTo>
                <a:lnTo>
                  <a:pt x="137" y="62"/>
                </a:lnTo>
                <a:lnTo>
                  <a:pt x="157" y="68"/>
                </a:lnTo>
                <a:lnTo>
                  <a:pt x="170" y="64"/>
                </a:lnTo>
                <a:lnTo>
                  <a:pt x="172" y="71"/>
                </a:lnTo>
                <a:lnTo>
                  <a:pt x="172" y="82"/>
                </a:lnTo>
                <a:lnTo>
                  <a:pt x="170" y="91"/>
                </a:lnTo>
                <a:lnTo>
                  <a:pt x="175" y="101"/>
                </a:lnTo>
                <a:lnTo>
                  <a:pt x="179" y="104"/>
                </a:lnTo>
                <a:lnTo>
                  <a:pt x="179" y="106"/>
                </a:lnTo>
                <a:lnTo>
                  <a:pt x="179" y="110"/>
                </a:lnTo>
                <a:lnTo>
                  <a:pt x="172" y="123"/>
                </a:lnTo>
                <a:lnTo>
                  <a:pt x="170" y="128"/>
                </a:lnTo>
                <a:lnTo>
                  <a:pt x="164" y="130"/>
                </a:lnTo>
                <a:lnTo>
                  <a:pt x="157" y="130"/>
                </a:lnTo>
                <a:lnTo>
                  <a:pt x="150" y="133"/>
                </a:lnTo>
                <a:lnTo>
                  <a:pt x="142" y="146"/>
                </a:lnTo>
                <a:lnTo>
                  <a:pt x="137" y="157"/>
                </a:lnTo>
                <a:lnTo>
                  <a:pt x="132" y="172"/>
                </a:lnTo>
                <a:lnTo>
                  <a:pt x="132" y="183"/>
                </a:lnTo>
                <a:lnTo>
                  <a:pt x="132" y="185"/>
                </a:lnTo>
                <a:lnTo>
                  <a:pt x="135" y="187"/>
                </a:lnTo>
                <a:lnTo>
                  <a:pt x="135" y="190"/>
                </a:lnTo>
                <a:lnTo>
                  <a:pt x="128" y="197"/>
                </a:lnTo>
                <a:lnTo>
                  <a:pt x="121" y="199"/>
                </a:lnTo>
                <a:lnTo>
                  <a:pt x="119" y="196"/>
                </a:lnTo>
                <a:lnTo>
                  <a:pt x="117" y="197"/>
                </a:lnTo>
                <a:lnTo>
                  <a:pt x="111" y="205"/>
                </a:lnTo>
                <a:lnTo>
                  <a:pt x="110" y="218"/>
                </a:lnTo>
                <a:lnTo>
                  <a:pt x="108" y="232"/>
                </a:lnTo>
                <a:lnTo>
                  <a:pt x="106" y="241"/>
                </a:lnTo>
                <a:lnTo>
                  <a:pt x="119" y="267"/>
                </a:lnTo>
                <a:lnTo>
                  <a:pt x="121" y="271"/>
                </a:lnTo>
                <a:lnTo>
                  <a:pt x="124" y="272"/>
                </a:lnTo>
                <a:lnTo>
                  <a:pt x="126" y="272"/>
                </a:lnTo>
                <a:lnTo>
                  <a:pt x="133" y="272"/>
                </a:lnTo>
                <a:lnTo>
                  <a:pt x="135" y="272"/>
                </a:lnTo>
                <a:lnTo>
                  <a:pt x="141" y="278"/>
                </a:lnTo>
                <a:lnTo>
                  <a:pt x="141" y="282"/>
                </a:lnTo>
                <a:lnTo>
                  <a:pt x="137" y="289"/>
                </a:lnTo>
                <a:lnTo>
                  <a:pt x="133" y="289"/>
                </a:lnTo>
                <a:lnTo>
                  <a:pt x="130" y="293"/>
                </a:lnTo>
                <a:lnTo>
                  <a:pt x="132" y="305"/>
                </a:lnTo>
                <a:lnTo>
                  <a:pt x="132" y="30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65520" y="3095640"/>
            <a:ext cx="619200" cy="784080"/>
          </a:xfrm>
          <a:custGeom>
            <a:avLst/>
            <a:gdLst/>
            <a:ahLst/>
            <a:rect l="l" t="t" r="r" b="b"/>
            <a:pathLst>
              <a:path w="388" h="535">
                <a:moveTo>
                  <a:pt x="66" y="535"/>
                </a:moveTo>
                <a:lnTo>
                  <a:pt x="66" y="440"/>
                </a:lnTo>
                <a:lnTo>
                  <a:pt x="61" y="363"/>
                </a:lnTo>
                <a:lnTo>
                  <a:pt x="62" y="360"/>
                </a:lnTo>
                <a:lnTo>
                  <a:pt x="70" y="351"/>
                </a:lnTo>
                <a:lnTo>
                  <a:pt x="73" y="343"/>
                </a:lnTo>
                <a:lnTo>
                  <a:pt x="77" y="329"/>
                </a:lnTo>
                <a:lnTo>
                  <a:pt x="83" y="312"/>
                </a:lnTo>
                <a:lnTo>
                  <a:pt x="84" y="307"/>
                </a:lnTo>
                <a:lnTo>
                  <a:pt x="86" y="299"/>
                </a:lnTo>
                <a:lnTo>
                  <a:pt x="83" y="277"/>
                </a:lnTo>
                <a:lnTo>
                  <a:pt x="81" y="276"/>
                </a:lnTo>
                <a:lnTo>
                  <a:pt x="79" y="276"/>
                </a:lnTo>
                <a:lnTo>
                  <a:pt x="68" y="277"/>
                </a:lnTo>
                <a:lnTo>
                  <a:pt x="55" y="279"/>
                </a:lnTo>
                <a:lnTo>
                  <a:pt x="51" y="265"/>
                </a:lnTo>
                <a:lnTo>
                  <a:pt x="50" y="259"/>
                </a:lnTo>
                <a:lnTo>
                  <a:pt x="44" y="252"/>
                </a:lnTo>
                <a:lnTo>
                  <a:pt x="13" y="237"/>
                </a:lnTo>
                <a:lnTo>
                  <a:pt x="0" y="235"/>
                </a:lnTo>
                <a:lnTo>
                  <a:pt x="0" y="157"/>
                </a:lnTo>
                <a:lnTo>
                  <a:pt x="9" y="131"/>
                </a:lnTo>
                <a:lnTo>
                  <a:pt x="24" y="93"/>
                </a:lnTo>
                <a:lnTo>
                  <a:pt x="26" y="91"/>
                </a:lnTo>
                <a:lnTo>
                  <a:pt x="35" y="67"/>
                </a:lnTo>
                <a:lnTo>
                  <a:pt x="59" y="62"/>
                </a:lnTo>
                <a:lnTo>
                  <a:pt x="61" y="60"/>
                </a:lnTo>
                <a:lnTo>
                  <a:pt x="81" y="42"/>
                </a:lnTo>
                <a:lnTo>
                  <a:pt x="77" y="14"/>
                </a:lnTo>
                <a:lnTo>
                  <a:pt x="84" y="12"/>
                </a:lnTo>
                <a:lnTo>
                  <a:pt x="143" y="0"/>
                </a:lnTo>
                <a:lnTo>
                  <a:pt x="165" y="3"/>
                </a:lnTo>
                <a:lnTo>
                  <a:pt x="165" y="9"/>
                </a:lnTo>
                <a:lnTo>
                  <a:pt x="169" y="12"/>
                </a:lnTo>
                <a:lnTo>
                  <a:pt x="187" y="22"/>
                </a:lnTo>
                <a:lnTo>
                  <a:pt x="196" y="22"/>
                </a:lnTo>
                <a:lnTo>
                  <a:pt x="205" y="20"/>
                </a:lnTo>
                <a:lnTo>
                  <a:pt x="218" y="22"/>
                </a:lnTo>
                <a:lnTo>
                  <a:pt x="222" y="23"/>
                </a:lnTo>
                <a:lnTo>
                  <a:pt x="227" y="27"/>
                </a:lnTo>
                <a:lnTo>
                  <a:pt x="229" y="33"/>
                </a:lnTo>
                <a:lnTo>
                  <a:pt x="247" y="34"/>
                </a:lnTo>
                <a:lnTo>
                  <a:pt x="337" y="33"/>
                </a:lnTo>
                <a:lnTo>
                  <a:pt x="353" y="69"/>
                </a:lnTo>
                <a:lnTo>
                  <a:pt x="348" y="98"/>
                </a:lnTo>
                <a:lnTo>
                  <a:pt x="344" y="98"/>
                </a:lnTo>
                <a:lnTo>
                  <a:pt x="344" y="109"/>
                </a:lnTo>
                <a:lnTo>
                  <a:pt x="362" y="120"/>
                </a:lnTo>
                <a:lnTo>
                  <a:pt x="377" y="124"/>
                </a:lnTo>
                <a:lnTo>
                  <a:pt x="350" y="212"/>
                </a:lnTo>
                <a:lnTo>
                  <a:pt x="339" y="221"/>
                </a:lnTo>
                <a:lnTo>
                  <a:pt x="342" y="239"/>
                </a:lnTo>
                <a:lnTo>
                  <a:pt x="340" y="261"/>
                </a:lnTo>
                <a:lnTo>
                  <a:pt x="342" y="261"/>
                </a:lnTo>
                <a:lnTo>
                  <a:pt x="348" y="266"/>
                </a:lnTo>
                <a:lnTo>
                  <a:pt x="355" y="270"/>
                </a:lnTo>
                <a:lnTo>
                  <a:pt x="357" y="274"/>
                </a:lnTo>
                <a:lnTo>
                  <a:pt x="357" y="279"/>
                </a:lnTo>
                <a:lnTo>
                  <a:pt x="359" y="283"/>
                </a:lnTo>
                <a:lnTo>
                  <a:pt x="370" y="290"/>
                </a:lnTo>
                <a:lnTo>
                  <a:pt x="379" y="312"/>
                </a:lnTo>
                <a:lnTo>
                  <a:pt x="386" y="323"/>
                </a:lnTo>
                <a:lnTo>
                  <a:pt x="388" y="327"/>
                </a:lnTo>
                <a:lnTo>
                  <a:pt x="388" y="329"/>
                </a:lnTo>
                <a:lnTo>
                  <a:pt x="384" y="343"/>
                </a:lnTo>
                <a:lnTo>
                  <a:pt x="382" y="347"/>
                </a:lnTo>
                <a:lnTo>
                  <a:pt x="377" y="351"/>
                </a:lnTo>
                <a:lnTo>
                  <a:pt x="371" y="351"/>
                </a:lnTo>
                <a:lnTo>
                  <a:pt x="280" y="477"/>
                </a:lnTo>
                <a:lnTo>
                  <a:pt x="229" y="475"/>
                </a:lnTo>
                <a:lnTo>
                  <a:pt x="229" y="535"/>
                </a:lnTo>
                <a:lnTo>
                  <a:pt x="66" y="53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40240" y="3197160"/>
            <a:ext cx="450720" cy="5493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44" y="298"/>
                </a:moveTo>
                <a:lnTo>
                  <a:pt x="37" y="293"/>
                </a:lnTo>
                <a:lnTo>
                  <a:pt x="20" y="285"/>
                </a:lnTo>
                <a:lnTo>
                  <a:pt x="5" y="260"/>
                </a:lnTo>
                <a:lnTo>
                  <a:pt x="4" y="254"/>
                </a:lnTo>
                <a:lnTo>
                  <a:pt x="0" y="236"/>
                </a:lnTo>
                <a:lnTo>
                  <a:pt x="0" y="225"/>
                </a:lnTo>
                <a:lnTo>
                  <a:pt x="2" y="218"/>
                </a:lnTo>
                <a:lnTo>
                  <a:pt x="5" y="208"/>
                </a:lnTo>
                <a:lnTo>
                  <a:pt x="4" y="194"/>
                </a:lnTo>
                <a:lnTo>
                  <a:pt x="9" y="154"/>
                </a:lnTo>
                <a:lnTo>
                  <a:pt x="9" y="152"/>
                </a:lnTo>
                <a:lnTo>
                  <a:pt x="11" y="150"/>
                </a:lnTo>
                <a:lnTo>
                  <a:pt x="29" y="148"/>
                </a:lnTo>
                <a:lnTo>
                  <a:pt x="38" y="143"/>
                </a:lnTo>
                <a:lnTo>
                  <a:pt x="57" y="123"/>
                </a:lnTo>
                <a:lnTo>
                  <a:pt x="60" y="117"/>
                </a:lnTo>
                <a:lnTo>
                  <a:pt x="66" y="108"/>
                </a:lnTo>
                <a:lnTo>
                  <a:pt x="68" y="104"/>
                </a:lnTo>
                <a:lnTo>
                  <a:pt x="73" y="101"/>
                </a:lnTo>
                <a:lnTo>
                  <a:pt x="97" y="70"/>
                </a:lnTo>
                <a:lnTo>
                  <a:pt x="111" y="48"/>
                </a:lnTo>
                <a:lnTo>
                  <a:pt x="111" y="42"/>
                </a:lnTo>
                <a:lnTo>
                  <a:pt x="111" y="27"/>
                </a:lnTo>
                <a:lnTo>
                  <a:pt x="104" y="18"/>
                </a:lnTo>
                <a:lnTo>
                  <a:pt x="111" y="18"/>
                </a:lnTo>
                <a:lnTo>
                  <a:pt x="119" y="15"/>
                </a:lnTo>
                <a:lnTo>
                  <a:pt x="130" y="15"/>
                </a:lnTo>
                <a:lnTo>
                  <a:pt x="135" y="17"/>
                </a:lnTo>
                <a:lnTo>
                  <a:pt x="144" y="18"/>
                </a:lnTo>
                <a:lnTo>
                  <a:pt x="154" y="15"/>
                </a:lnTo>
                <a:lnTo>
                  <a:pt x="155" y="11"/>
                </a:lnTo>
                <a:lnTo>
                  <a:pt x="165" y="6"/>
                </a:lnTo>
                <a:lnTo>
                  <a:pt x="170" y="6"/>
                </a:lnTo>
                <a:lnTo>
                  <a:pt x="175" y="7"/>
                </a:lnTo>
                <a:lnTo>
                  <a:pt x="181" y="7"/>
                </a:lnTo>
                <a:lnTo>
                  <a:pt x="188" y="6"/>
                </a:lnTo>
                <a:lnTo>
                  <a:pt x="197" y="2"/>
                </a:lnTo>
                <a:lnTo>
                  <a:pt x="205" y="0"/>
                </a:lnTo>
                <a:lnTo>
                  <a:pt x="208" y="0"/>
                </a:lnTo>
                <a:lnTo>
                  <a:pt x="236" y="7"/>
                </a:lnTo>
                <a:lnTo>
                  <a:pt x="241" y="9"/>
                </a:lnTo>
                <a:lnTo>
                  <a:pt x="252" y="22"/>
                </a:lnTo>
                <a:lnTo>
                  <a:pt x="260" y="33"/>
                </a:lnTo>
                <a:lnTo>
                  <a:pt x="265" y="44"/>
                </a:lnTo>
                <a:lnTo>
                  <a:pt x="276" y="55"/>
                </a:lnTo>
                <a:lnTo>
                  <a:pt x="282" y="57"/>
                </a:lnTo>
                <a:lnTo>
                  <a:pt x="283" y="62"/>
                </a:lnTo>
                <a:lnTo>
                  <a:pt x="283" y="71"/>
                </a:lnTo>
                <a:lnTo>
                  <a:pt x="272" y="106"/>
                </a:lnTo>
                <a:lnTo>
                  <a:pt x="265" y="121"/>
                </a:lnTo>
                <a:lnTo>
                  <a:pt x="256" y="126"/>
                </a:lnTo>
                <a:lnTo>
                  <a:pt x="256" y="128"/>
                </a:lnTo>
                <a:lnTo>
                  <a:pt x="260" y="130"/>
                </a:lnTo>
                <a:lnTo>
                  <a:pt x="265" y="134"/>
                </a:lnTo>
                <a:lnTo>
                  <a:pt x="265" y="137"/>
                </a:lnTo>
                <a:lnTo>
                  <a:pt x="265" y="143"/>
                </a:lnTo>
                <a:lnTo>
                  <a:pt x="260" y="157"/>
                </a:lnTo>
                <a:lnTo>
                  <a:pt x="260" y="159"/>
                </a:lnTo>
                <a:lnTo>
                  <a:pt x="256" y="161"/>
                </a:lnTo>
                <a:lnTo>
                  <a:pt x="249" y="163"/>
                </a:lnTo>
                <a:lnTo>
                  <a:pt x="245" y="165"/>
                </a:lnTo>
                <a:lnTo>
                  <a:pt x="245" y="168"/>
                </a:lnTo>
                <a:lnTo>
                  <a:pt x="249" y="172"/>
                </a:lnTo>
                <a:lnTo>
                  <a:pt x="250" y="177"/>
                </a:lnTo>
                <a:lnTo>
                  <a:pt x="249" y="187"/>
                </a:lnTo>
                <a:lnTo>
                  <a:pt x="247" y="190"/>
                </a:lnTo>
                <a:lnTo>
                  <a:pt x="247" y="194"/>
                </a:lnTo>
                <a:lnTo>
                  <a:pt x="249" y="197"/>
                </a:lnTo>
                <a:lnTo>
                  <a:pt x="254" y="203"/>
                </a:lnTo>
                <a:lnTo>
                  <a:pt x="254" y="207"/>
                </a:lnTo>
                <a:lnTo>
                  <a:pt x="254" y="210"/>
                </a:lnTo>
                <a:lnTo>
                  <a:pt x="249" y="214"/>
                </a:lnTo>
                <a:lnTo>
                  <a:pt x="247" y="218"/>
                </a:lnTo>
                <a:lnTo>
                  <a:pt x="245" y="221"/>
                </a:lnTo>
                <a:lnTo>
                  <a:pt x="243" y="223"/>
                </a:lnTo>
                <a:lnTo>
                  <a:pt x="243" y="225"/>
                </a:lnTo>
                <a:lnTo>
                  <a:pt x="241" y="232"/>
                </a:lnTo>
                <a:lnTo>
                  <a:pt x="249" y="269"/>
                </a:lnTo>
                <a:lnTo>
                  <a:pt x="250" y="280"/>
                </a:lnTo>
                <a:lnTo>
                  <a:pt x="249" y="282"/>
                </a:lnTo>
                <a:lnTo>
                  <a:pt x="245" y="283"/>
                </a:lnTo>
                <a:lnTo>
                  <a:pt x="225" y="282"/>
                </a:lnTo>
                <a:lnTo>
                  <a:pt x="223" y="282"/>
                </a:lnTo>
                <a:lnTo>
                  <a:pt x="223" y="283"/>
                </a:lnTo>
                <a:lnTo>
                  <a:pt x="223" y="300"/>
                </a:lnTo>
                <a:lnTo>
                  <a:pt x="219" y="307"/>
                </a:lnTo>
                <a:lnTo>
                  <a:pt x="216" y="314"/>
                </a:lnTo>
                <a:lnTo>
                  <a:pt x="212" y="324"/>
                </a:lnTo>
                <a:lnTo>
                  <a:pt x="210" y="338"/>
                </a:lnTo>
                <a:lnTo>
                  <a:pt x="210" y="344"/>
                </a:lnTo>
                <a:lnTo>
                  <a:pt x="214" y="349"/>
                </a:lnTo>
                <a:lnTo>
                  <a:pt x="219" y="357"/>
                </a:lnTo>
                <a:lnTo>
                  <a:pt x="221" y="367"/>
                </a:lnTo>
                <a:lnTo>
                  <a:pt x="221" y="371"/>
                </a:lnTo>
                <a:lnTo>
                  <a:pt x="214" y="373"/>
                </a:lnTo>
                <a:lnTo>
                  <a:pt x="207" y="375"/>
                </a:lnTo>
                <a:lnTo>
                  <a:pt x="201" y="375"/>
                </a:lnTo>
                <a:lnTo>
                  <a:pt x="194" y="369"/>
                </a:lnTo>
                <a:lnTo>
                  <a:pt x="174" y="358"/>
                </a:lnTo>
                <a:lnTo>
                  <a:pt x="165" y="355"/>
                </a:lnTo>
                <a:lnTo>
                  <a:pt x="157" y="355"/>
                </a:lnTo>
                <a:lnTo>
                  <a:pt x="144" y="351"/>
                </a:lnTo>
                <a:lnTo>
                  <a:pt x="128" y="346"/>
                </a:lnTo>
                <a:lnTo>
                  <a:pt x="126" y="344"/>
                </a:lnTo>
                <a:lnTo>
                  <a:pt x="119" y="336"/>
                </a:lnTo>
                <a:lnTo>
                  <a:pt x="115" y="338"/>
                </a:lnTo>
                <a:lnTo>
                  <a:pt x="111" y="340"/>
                </a:lnTo>
                <a:lnTo>
                  <a:pt x="108" y="340"/>
                </a:lnTo>
                <a:lnTo>
                  <a:pt x="95" y="333"/>
                </a:lnTo>
                <a:lnTo>
                  <a:pt x="91" y="331"/>
                </a:lnTo>
                <a:lnTo>
                  <a:pt x="90" y="327"/>
                </a:lnTo>
                <a:lnTo>
                  <a:pt x="86" y="325"/>
                </a:lnTo>
                <a:lnTo>
                  <a:pt x="75" y="322"/>
                </a:lnTo>
                <a:lnTo>
                  <a:pt x="66" y="316"/>
                </a:lnTo>
                <a:lnTo>
                  <a:pt x="60" y="313"/>
                </a:lnTo>
                <a:lnTo>
                  <a:pt x="49" y="302"/>
                </a:lnTo>
                <a:lnTo>
                  <a:pt x="44" y="29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14600" y="3435480"/>
            <a:ext cx="388800" cy="585720"/>
          </a:xfrm>
          <a:custGeom>
            <a:avLst/>
            <a:gdLst/>
            <a:ahLst/>
            <a:rect l="l" t="t" r="r" b="b"/>
            <a:pathLst>
              <a:path w="243" h="400">
                <a:moveTo>
                  <a:pt x="4" y="53"/>
                </a:moveTo>
                <a:lnTo>
                  <a:pt x="0" y="45"/>
                </a:lnTo>
                <a:lnTo>
                  <a:pt x="0" y="20"/>
                </a:lnTo>
                <a:lnTo>
                  <a:pt x="0" y="3"/>
                </a:lnTo>
                <a:lnTo>
                  <a:pt x="4" y="0"/>
                </a:lnTo>
                <a:lnTo>
                  <a:pt x="6" y="0"/>
                </a:lnTo>
                <a:lnTo>
                  <a:pt x="42" y="5"/>
                </a:lnTo>
                <a:lnTo>
                  <a:pt x="59" y="3"/>
                </a:lnTo>
                <a:lnTo>
                  <a:pt x="64" y="3"/>
                </a:lnTo>
                <a:lnTo>
                  <a:pt x="70" y="3"/>
                </a:lnTo>
                <a:lnTo>
                  <a:pt x="79" y="7"/>
                </a:lnTo>
                <a:lnTo>
                  <a:pt x="99" y="9"/>
                </a:lnTo>
                <a:lnTo>
                  <a:pt x="112" y="9"/>
                </a:lnTo>
                <a:lnTo>
                  <a:pt x="126" y="3"/>
                </a:lnTo>
                <a:lnTo>
                  <a:pt x="134" y="2"/>
                </a:lnTo>
                <a:lnTo>
                  <a:pt x="137" y="3"/>
                </a:lnTo>
                <a:lnTo>
                  <a:pt x="141" y="5"/>
                </a:lnTo>
                <a:lnTo>
                  <a:pt x="146" y="5"/>
                </a:lnTo>
                <a:lnTo>
                  <a:pt x="157" y="3"/>
                </a:lnTo>
                <a:lnTo>
                  <a:pt x="170" y="5"/>
                </a:lnTo>
                <a:lnTo>
                  <a:pt x="201" y="20"/>
                </a:lnTo>
                <a:lnTo>
                  <a:pt x="207" y="27"/>
                </a:lnTo>
                <a:lnTo>
                  <a:pt x="208" y="33"/>
                </a:lnTo>
                <a:lnTo>
                  <a:pt x="212" y="47"/>
                </a:lnTo>
                <a:lnTo>
                  <a:pt x="225" y="45"/>
                </a:lnTo>
                <a:lnTo>
                  <a:pt x="236" y="44"/>
                </a:lnTo>
                <a:lnTo>
                  <a:pt x="238" y="44"/>
                </a:lnTo>
                <a:lnTo>
                  <a:pt x="240" y="45"/>
                </a:lnTo>
                <a:lnTo>
                  <a:pt x="243" y="67"/>
                </a:lnTo>
                <a:lnTo>
                  <a:pt x="241" y="75"/>
                </a:lnTo>
                <a:lnTo>
                  <a:pt x="240" y="80"/>
                </a:lnTo>
                <a:lnTo>
                  <a:pt x="234" y="97"/>
                </a:lnTo>
                <a:lnTo>
                  <a:pt x="230" y="111"/>
                </a:lnTo>
                <a:lnTo>
                  <a:pt x="227" y="119"/>
                </a:lnTo>
                <a:lnTo>
                  <a:pt x="219" y="128"/>
                </a:lnTo>
                <a:lnTo>
                  <a:pt x="218" y="131"/>
                </a:lnTo>
                <a:lnTo>
                  <a:pt x="223" y="208"/>
                </a:lnTo>
                <a:lnTo>
                  <a:pt x="223" y="303"/>
                </a:lnTo>
                <a:lnTo>
                  <a:pt x="221" y="400"/>
                </a:lnTo>
                <a:lnTo>
                  <a:pt x="75" y="400"/>
                </a:lnTo>
                <a:lnTo>
                  <a:pt x="73" y="396"/>
                </a:lnTo>
                <a:lnTo>
                  <a:pt x="84" y="353"/>
                </a:lnTo>
                <a:lnTo>
                  <a:pt x="86" y="338"/>
                </a:lnTo>
                <a:lnTo>
                  <a:pt x="86" y="316"/>
                </a:lnTo>
                <a:lnTo>
                  <a:pt x="82" y="298"/>
                </a:lnTo>
                <a:lnTo>
                  <a:pt x="77" y="285"/>
                </a:lnTo>
                <a:lnTo>
                  <a:pt x="62" y="265"/>
                </a:lnTo>
                <a:lnTo>
                  <a:pt x="57" y="245"/>
                </a:lnTo>
                <a:lnTo>
                  <a:pt x="55" y="230"/>
                </a:lnTo>
                <a:lnTo>
                  <a:pt x="57" y="226"/>
                </a:lnTo>
                <a:lnTo>
                  <a:pt x="62" y="223"/>
                </a:lnTo>
                <a:lnTo>
                  <a:pt x="62" y="215"/>
                </a:lnTo>
                <a:lnTo>
                  <a:pt x="60" y="208"/>
                </a:lnTo>
                <a:lnTo>
                  <a:pt x="53" y="197"/>
                </a:lnTo>
                <a:lnTo>
                  <a:pt x="46" y="194"/>
                </a:lnTo>
                <a:lnTo>
                  <a:pt x="44" y="190"/>
                </a:lnTo>
                <a:lnTo>
                  <a:pt x="40" y="179"/>
                </a:lnTo>
                <a:lnTo>
                  <a:pt x="33" y="166"/>
                </a:lnTo>
                <a:lnTo>
                  <a:pt x="27" y="159"/>
                </a:lnTo>
                <a:lnTo>
                  <a:pt x="24" y="151"/>
                </a:lnTo>
                <a:lnTo>
                  <a:pt x="20" y="131"/>
                </a:lnTo>
                <a:lnTo>
                  <a:pt x="20" y="128"/>
                </a:lnTo>
                <a:lnTo>
                  <a:pt x="20" y="109"/>
                </a:lnTo>
                <a:lnTo>
                  <a:pt x="17" y="104"/>
                </a:lnTo>
                <a:lnTo>
                  <a:pt x="18" y="89"/>
                </a:lnTo>
                <a:lnTo>
                  <a:pt x="15" y="80"/>
                </a:lnTo>
                <a:lnTo>
                  <a:pt x="13" y="69"/>
                </a:lnTo>
                <a:lnTo>
                  <a:pt x="7" y="56"/>
                </a:lnTo>
                <a:lnTo>
                  <a:pt x="6" y="55"/>
                </a:lnTo>
                <a:lnTo>
                  <a:pt x="4" y="5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27160" y="3452760"/>
            <a:ext cx="625680" cy="789120"/>
          </a:xfrm>
          <a:custGeom>
            <a:avLst/>
            <a:gdLst/>
            <a:ahLst/>
            <a:rect l="l" t="t" r="r" b="b"/>
            <a:pathLst>
              <a:path w="391" h="539">
                <a:moveTo>
                  <a:pt x="14" y="402"/>
                </a:moveTo>
                <a:lnTo>
                  <a:pt x="16" y="396"/>
                </a:lnTo>
                <a:lnTo>
                  <a:pt x="16" y="378"/>
                </a:lnTo>
                <a:lnTo>
                  <a:pt x="18" y="373"/>
                </a:lnTo>
                <a:lnTo>
                  <a:pt x="22" y="371"/>
                </a:lnTo>
                <a:lnTo>
                  <a:pt x="22" y="371"/>
                </a:lnTo>
                <a:lnTo>
                  <a:pt x="14" y="354"/>
                </a:lnTo>
                <a:lnTo>
                  <a:pt x="16" y="351"/>
                </a:lnTo>
                <a:lnTo>
                  <a:pt x="16" y="342"/>
                </a:lnTo>
                <a:lnTo>
                  <a:pt x="14" y="327"/>
                </a:lnTo>
                <a:lnTo>
                  <a:pt x="2" y="321"/>
                </a:lnTo>
                <a:lnTo>
                  <a:pt x="0" y="318"/>
                </a:lnTo>
                <a:lnTo>
                  <a:pt x="0" y="316"/>
                </a:lnTo>
                <a:lnTo>
                  <a:pt x="2" y="314"/>
                </a:lnTo>
                <a:lnTo>
                  <a:pt x="3" y="312"/>
                </a:lnTo>
                <a:lnTo>
                  <a:pt x="11" y="312"/>
                </a:lnTo>
                <a:lnTo>
                  <a:pt x="20" y="307"/>
                </a:lnTo>
                <a:lnTo>
                  <a:pt x="20" y="301"/>
                </a:lnTo>
                <a:lnTo>
                  <a:pt x="20" y="292"/>
                </a:lnTo>
                <a:lnTo>
                  <a:pt x="25" y="278"/>
                </a:lnTo>
                <a:lnTo>
                  <a:pt x="33" y="259"/>
                </a:lnTo>
                <a:lnTo>
                  <a:pt x="40" y="248"/>
                </a:lnTo>
                <a:lnTo>
                  <a:pt x="51" y="236"/>
                </a:lnTo>
                <a:lnTo>
                  <a:pt x="49" y="226"/>
                </a:lnTo>
                <a:lnTo>
                  <a:pt x="51" y="225"/>
                </a:lnTo>
                <a:lnTo>
                  <a:pt x="56" y="223"/>
                </a:lnTo>
                <a:lnTo>
                  <a:pt x="66" y="223"/>
                </a:lnTo>
                <a:lnTo>
                  <a:pt x="71" y="221"/>
                </a:lnTo>
                <a:lnTo>
                  <a:pt x="73" y="219"/>
                </a:lnTo>
                <a:lnTo>
                  <a:pt x="69" y="206"/>
                </a:lnTo>
                <a:lnTo>
                  <a:pt x="66" y="186"/>
                </a:lnTo>
                <a:lnTo>
                  <a:pt x="64" y="179"/>
                </a:lnTo>
                <a:lnTo>
                  <a:pt x="64" y="175"/>
                </a:lnTo>
                <a:lnTo>
                  <a:pt x="67" y="153"/>
                </a:lnTo>
                <a:lnTo>
                  <a:pt x="73" y="144"/>
                </a:lnTo>
                <a:lnTo>
                  <a:pt x="77" y="139"/>
                </a:lnTo>
                <a:lnTo>
                  <a:pt x="77" y="137"/>
                </a:lnTo>
                <a:lnTo>
                  <a:pt x="75" y="128"/>
                </a:lnTo>
                <a:lnTo>
                  <a:pt x="66" y="124"/>
                </a:lnTo>
                <a:lnTo>
                  <a:pt x="64" y="122"/>
                </a:lnTo>
                <a:lnTo>
                  <a:pt x="62" y="124"/>
                </a:lnTo>
                <a:lnTo>
                  <a:pt x="56" y="130"/>
                </a:lnTo>
                <a:lnTo>
                  <a:pt x="55" y="130"/>
                </a:lnTo>
                <a:lnTo>
                  <a:pt x="55" y="128"/>
                </a:lnTo>
                <a:lnTo>
                  <a:pt x="45" y="117"/>
                </a:lnTo>
                <a:lnTo>
                  <a:pt x="45" y="113"/>
                </a:lnTo>
                <a:lnTo>
                  <a:pt x="47" y="109"/>
                </a:lnTo>
                <a:lnTo>
                  <a:pt x="45" y="106"/>
                </a:lnTo>
                <a:lnTo>
                  <a:pt x="47" y="100"/>
                </a:lnTo>
                <a:lnTo>
                  <a:pt x="53" y="95"/>
                </a:lnTo>
                <a:lnTo>
                  <a:pt x="56" y="89"/>
                </a:lnTo>
                <a:lnTo>
                  <a:pt x="49" y="86"/>
                </a:lnTo>
                <a:lnTo>
                  <a:pt x="40" y="77"/>
                </a:lnTo>
                <a:lnTo>
                  <a:pt x="38" y="64"/>
                </a:lnTo>
                <a:lnTo>
                  <a:pt x="40" y="53"/>
                </a:lnTo>
                <a:lnTo>
                  <a:pt x="31" y="34"/>
                </a:lnTo>
                <a:lnTo>
                  <a:pt x="40" y="33"/>
                </a:lnTo>
                <a:lnTo>
                  <a:pt x="58" y="33"/>
                </a:lnTo>
                <a:lnTo>
                  <a:pt x="71" y="29"/>
                </a:lnTo>
                <a:lnTo>
                  <a:pt x="88" y="29"/>
                </a:lnTo>
                <a:lnTo>
                  <a:pt x="89" y="27"/>
                </a:lnTo>
                <a:lnTo>
                  <a:pt x="91" y="23"/>
                </a:lnTo>
                <a:lnTo>
                  <a:pt x="91" y="18"/>
                </a:lnTo>
                <a:lnTo>
                  <a:pt x="91" y="16"/>
                </a:lnTo>
                <a:lnTo>
                  <a:pt x="108" y="9"/>
                </a:lnTo>
                <a:lnTo>
                  <a:pt x="113" y="9"/>
                </a:lnTo>
                <a:lnTo>
                  <a:pt x="128" y="3"/>
                </a:lnTo>
                <a:lnTo>
                  <a:pt x="131" y="0"/>
                </a:lnTo>
                <a:lnTo>
                  <a:pt x="135" y="0"/>
                </a:lnTo>
                <a:lnTo>
                  <a:pt x="139" y="2"/>
                </a:lnTo>
                <a:lnTo>
                  <a:pt x="142" y="5"/>
                </a:lnTo>
                <a:lnTo>
                  <a:pt x="146" y="9"/>
                </a:lnTo>
                <a:lnTo>
                  <a:pt x="148" y="13"/>
                </a:lnTo>
                <a:lnTo>
                  <a:pt x="157" y="11"/>
                </a:lnTo>
                <a:lnTo>
                  <a:pt x="161" y="11"/>
                </a:lnTo>
                <a:lnTo>
                  <a:pt x="164" y="13"/>
                </a:lnTo>
                <a:lnTo>
                  <a:pt x="168" y="14"/>
                </a:lnTo>
                <a:lnTo>
                  <a:pt x="175" y="18"/>
                </a:lnTo>
                <a:lnTo>
                  <a:pt x="195" y="22"/>
                </a:lnTo>
                <a:lnTo>
                  <a:pt x="199" y="22"/>
                </a:lnTo>
                <a:lnTo>
                  <a:pt x="201" y="20"/>
                </a:lnTo>
                <a:lnTo>
                  <a:pt x="201" y="13"/>
                </a:lnTo>
                <a:lnTo>
                  <a:pt x="205" y="11"/>
                </a:lnTo>
                <a:lnTo>
                  <a:pt x="206" y="11"/>
                </a:lnTo>
                <a:lnTo>
                  <a:pt x="212" y="13"/>
                </a:lnTo>
                <a:lnTo>
                  <a:pt x="225" y="14"/>
                </a:lnTo>
                <a:lnTo>
                  <a:pt x="241" y="11"/>
                </a:lnTo>
                <a:lnTo>
                  <a:pt x="245" y="11"/>
                </a:lnTo>
                <a:lnTo>
                  <a:pt x="250" y="14"/>
                </a:lnTo>
                <a:lnTo>
                  <a:pt x="254" y="20"/>
                </a:lnTo>
                <a:lnTo>
                  <a:pt x="263" y="27"/>
                </a:lnTo>
                <a:lnTo>
                  <a:pt x="278" y="29"/>
                </a:lnTo>
                <a:lnTo>
                  <a:pt x="289" y="29"/>
                </a:lnTo>
                <a:lnTo>
                  <a:pt x="298" y="31"/>
                </a:lnTo>
                <a:lnTo>
                  <a:pt x="300" y="33"/>
                </a:lnTo>
                <a:lnTo>
                  <a:pt x="309" y="42"/>
                </a:lnTo>
                <a:lnTo>
                  <a:pt x="311" y="44"/>
                </a:lnTo>
                <a:lnTo>
                  <a:pt x="312" y="45"/>
                </a:lnTo>
                <a:lnTo>
                  <a:pt x="318" y="58"/>
                </a:lnTo>
                <a:lnTo>
                  <a:pt x="320" y="69"/>
                </a:lnTo>
                <a:lnTo>
                  <a:pt x="323" y="78"/>
                </a:lnTo>
                <a:lnTo>
                  <a:pt x="322" y="93"/>
                </a:lnTo>
                <a:lnTo>
                  <a:pt x="325" y="98"/>
                </a:lnTo>
                <a:lnTo>
                  <a:pt x="325" y="117"/>
                </a:lnTo>
                <a:lnTo>
                  <a:pt x="325" y="120"/>
                </a:lnTo>
                <a:lnTo>
                  <a:pt x="329" y="140"/>
                </a:lnTo>
                <a:lnTo>
                  <a:pt x="332" y="148"/>
                </a:lnTo>
                <a:lnTo>
                  <a:pt x="338" y="155"/>
                </a:lnTo>
                <a:lnTo>
                  <a:pt x="345" y="168"/>
                </a:lnTo>
                <a:lnTo>
                  <a:pt x="349" y="179"/>
                </a:lnTo>
                <a:lnTo>
                  <a:pt x="351" y="183"/>
                </a:lnTo>
                <a:lnTo>
                  <a:pt x="358" y="186"/>
                </a:lnTo>
                <a:lnTo>
                  <a:pt x="365" y="197"/>
                </a:lnTo>
                <a:lnTo>
                  <a:pt x="367" y="204"/>
                </a:lnTo>
                <a:lnTo>
                  <a:pt x="367" y="212"/>
                </a:lnTo>
                <a:lnTo>
                  <a:pt x="362" y="215"/>
                </a:lnTo>
                <a:lnTo>
                  <a:pt x="360" y="219"/>
                </a:lnTo>
                <a:lnTo>
                  <a:pt x="362" y="234"/>
                </a:lnTo>
                <a:lnTo>
                  <a:pt x="367" y="254"/>
                </a:lnTo>
                <a:lnTo>
                  <a:pt x="382" y="274"/>
                </a:lnTo>
                <a:lnTo>
                  <a:pt x="387" y="287"/>
                </a:lnTo>
                <a:lnTo>
                  <a:pt x="391" y="305"/>
                </a:lnTo>
                <a:lnTo>
                  <a:pt x="391" y="327"/>
                </a:lnTo>
                <a:lnTo>
                  <a:pt x="389" y="342"/>
                </a:lnTo>
                <a:lnTo>
                  <a:pt x="378" y="385"/>
                </a:lnTo>
                <a:lnTo>
                  <a:pt x="380" y="389"/>
                </a:lnTo>
                <a:lnTo>
                  <a:pt x="219" y="389"/>
                </a:lnTo>
                <a:lnTo>
                  <a:pt x="219" y="404"/>
                </a:lnTo>
                <a:lnTo>
                  <a:pt x="223" y="404"/>
                </a:lnTo>
                <a:lnTo>
                  <a:pt x="223" y="539"/>
                </a:lnTo>
                <a:lnTo>
                  <a:pt x="215" y="537"/>
                </a:lnTo>
                <a:lnTo>
                  <a:pt x="203" y="533"/>
                </a:lnTo>
                <a:lnTo>
                  <a:pt x="173" y="521"/>
                </a:lnTo>
                <a:lnTo>
                  <a:pt x="172" y="521"/>
                </a:lnTo>
                <a:lnTo>
                  <a:pt x="164" y="523"/>
                </a:lnTo>
                <a:lnTo>
                  <a:pt x="151" y="519"/>
                </a:lnTo>
                <a:lnTo>
                  <a:pt x="148" y="517"/>
                </a:lnTo>
                <a:lnTo>
                  <a:pt x="146" y="510"/>
                </a:lnTo>
                <a:lnTo>
                  <a:pt x="144" y="506"/>
                </a:lnTo>
                <a:lnTo>
                  <a:pt x="126" y="499"/>
                </a:lnTo>
                <a:lnTo>
                  <a:pt x="113" y="501"/>
                </a:lnTo>
                <a:lnTo>
                  <a:pt x="108" y="502"/>
                </a:lnTo>
                <a:lnTo>
                  <a:pt x="98" y="501"/>
                </a:lnTo>
                <a:lnTo>
                  <a:pt x="89" y="499"/>
                </a:lnTo>
                <a:lnTo>
                  <a:pt x="80" y="493"/>
                </a:lnTo>
                <a:lnTo>
                  <a:pt x="73" y="484"/>
                </a:lnTo>
                <a:lnTo>
                  <a:pt x="75" y="480"/>
                </a:lnTo>
                <a:lnTo>
                  <a:pt x="75" y="473"/>
                </a:lnTo>
                <a:lnTo>
                  <a:pt x="75" y="470"/>
                </a:lnTo>
                <a:lnTo>
                  <a:pt x="67" y="468"/>
                </a:lnTo>
                <a:lnTo>
                  <a:pt x="62" y="464"/>
                </a:lnTo>
                <a:lnTo>
                  <a:pt x="60" y="457"/>
                </a:lnTo>
                <a:lnTo>
                  <a:pt x="49" y="448"/>
                </a:lnTo>
                <a:lnTo>
                  <a:pt x="40" y="444"/>
                </a:lnTo>
                <a:lnTo>
                  <a:pt x="34" y="437"/>
                </a:lnTo>
                <a:lnTo>
                  <a:pt x="31" y="427"/>
                </a:lnTo>
                <a:lnTo>
                  <a:pt x="29" y="424"/>
                </a:lnTo>
                <a:lnTo>
                  <a:pt x="25" y="424"/>
                </a:lnTo>
                <a:lnTo>
                  <a:pt x="24" y="426"/>
                </a:lnTo>
                <a:lnTo>
                  <a:pt x="22" y="424"/>
                </a:lnTo>
                <a:lnTo>
                  <a:pt x="18" y="418"/>
                </a:lnTo>
                <a:lnTo>
                  <a:pt x="18" y="417"/>
                </a:lnTo>
                <a:lnTo>
                  <a:pt x="20" y="413"/>
                </a:lnTo>
                <a:lnTo>
                  <a:pt x="20" y="407"/>
                </a:lnTo>
                <a:lnTo>
                  <a:pt x="18" y="404"/>
                </a:lnTo>
                <a:lnTo>
                  <a:pt x="14" y="40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7360" y="3462480"/>
            <a:ext cx="288720" cy="272880"/>
          </a:xfrm>
          <a:custGeom>
            <a:avLst/>
            <a:gdLst/>
            <a:ahLst/>
            <a:rect l="l" t="t" r="r" b="b"/>
            <a:pathLst>
              <a:path w="181" h="186">
                <a:moveTo>
                  <a:pt x="32" y="15"/>
                </a:moveTo>
                <a:lnTo>
                  <a:pt x="37" y="11"/>
                </a:lnTo>
                <a:lnTo>
                  <a:pt x="46" y="15"/>
                </a:lnTo>
                <a:lnTo>
                  <a:pt x="50" y="15"/>
                </a:lnTo>
                <a:lnTo>
                  <a:pt x="70" y="11"/>
                </a:lnTo>
                <a:lnTo>
                  <a:pt x="72" y="9"/>
                </a:lnTo>
                <a:lnTo>
                  <a:pt x="77" y="6"/>
                </a:lnTo>
                <a:lnTo>
                  <a:pt x="79" y="2"/>
                </a:lnTo>
                <a:lnTo>
                  <a:pt x="108" y="0"/>
                </a:lnTo>
                <a:lnTo>
                  <a:pt x="116" y="4"/>
                </a:lnTo>
                <a:lnTo>
                  <a:pt x="116" y="6"/>
                </a:lnTo>
                <a:lnTo>
                  <a:pt x="116" y="9"/>
                </a:lnTo>
                <a:lnTo>
                  <a:pt x="119" y="11"/>
                </a:lnTo>
                <a:lnTo>
                  <a:pt x="123" y="13"/>
                </a:lnTo>
                <a:lnTo>
                  <a:pt x="130" y="13"/>
                </a:lnTo>
                <a:lnTo>
                  <a:pt x="134" y="15"/>
                </a:lnTo>
                <a:lnTo>
                  <a:pt x="136" y="16"/>
                </a:lnTo>
                <a:lnTo>
                  <a:pt x="138" y="22"/>
                </a:lnTo>
                <a:lnTo>
                  <a:pt x="138" y="24"/>
                </a:lnTo>
                <a:lnTo>
                  <a:pt x="141" y="24"/>
                </a:lnTo>
                <a:lnTo>
                  <a:pt x="149" y="22"/>
                </a:lnTo>
                <a:lnTo>
                  <a:pt x="149" y="24"/>
                </a:lnTo>
                <a:lnTo>
                  <a:pt x="150" y="26"/>
                </a:lnTo>
                <a:lnTo>
                  <a:pt x="156" y="27"/>
                </a:lnTo>
                <a:lnTo>
                  <a:pt x="165" y="46"/>
                </a:lnTo>
                <a:lnTo>
                  <a:pt x="163" y="57"/>
                </a:lnTo>
                <a:lnTo>
                  <a:pt x="165" y="70"/>
                </a:lnTo>
                <a:lnTo>
                  <a:pt x="174" y="79"/>
                </a:lnTo>
                <a:lnTo>
                  <a:pt x="181" y="82"/>
                </a:lnTo>
                <a:lnTo>
                  <a:pt x="178" y="88"/>
                </a:lnTo>
                <a:lnTo>
                  <a:pt x="172" y="93"/>
                </a:lnTo>
                <a:lnTo>
                  <a:pt x="170" y="99"/>
                </a:lnTo>
                <a:lnTo>
                  <a:pt x="165" y="101"/>
                </a:lnTo>
                <a:lnTo>
                  <a:pt x="158" y="106"/>
                </a:lnTo>
                <a:lnTo>
                  <a:pt x="147" y="102"/>
                </a:lnTo>
                <a:lnTo>
                  <a:pt x="141" y="97"/>
                </a:lnTo>
                <a:lnTo>
                  <a:pt x="139" y="95"/>
                </a:lnTo>
                <a:lnTo>
                  <a:pt x="138" y="97"/>
                </a:lnTo>
                <a:lnTo>
                  <a:pt x="132" y="101"/>
                </a:lnTo>
                <a:lnTo>
                  <a:pt x="130" y="101"/>
                </a:lnTo>
                <a:lnTo>
                  <a:pt x="127" y="97"/>
                </a:lnTo>
                <a:lnTo>
                  <a:pt x="125" y="93"/>
                </a:lnTo>
                <a:lnTo>
                  <a:pt x="123" y="90"/>
                </a:lnTo>
                <a:lnTo>
                  <a:pt x="108" y="86"/>
                </a:lnTo>
                <a:lnTo>
                  <a:pt x="94" y="86"/>
                </a:lnTo>
                <a:lnTo>
                  <a:pt x="81" y="90"/>
                </a:lnTo>
                <a:lnTo>
                  <a:pt x="81" y="93"/>
                </a:lnTo>
                <a:lnTo>
                  <a:pt x="81" y="99"/>
                </a:lnTo>
                <a:lnTo>
                  <a:pt x="83" y="110"/>
                </a:lnTo>
                <a:lnTo>
                  <a:pt x="81" y="112"/>
                </a:lnTo>
                <a:lnTo>
                  <a:pt x="75" y="113"/>
                </a:lnTo>
                <a:lnTo>
                  <a:pt x="63" y="115"/>
                </a:lnTo>
                <a:lnTo>
                  <a:pt x="63" y="119"/>
                </a:lnTo>
                <a:lnTo>
                  <a:pt x="63" y="124"/>
                </a:lnTo>
                <a:lnTo>
                  <a:pt x="61" y="126"/>
                </a:lnTo>
                <a:lnTo>
                  <a:pt x="52" y="135"/>
                </a:lnTo>
                <a:lnTo>
                  <a:pt x="50" y="137"/>
                </a:lnTo>
                <a:lnTo>
                  <a:pt x="50" y="144"/>
                </a:lnTo>
                <a:lnTo>
                  <a:pt x="55" y="154"/>
                </a:lnTo>
                <a:lnTo>
                  <a:pt x="50" y="165"/>
                </a:lnTo>
                <a:lnTo>
                  <a:pt x="44" y="170"/>
                </a:lnTo>
                <a:lnTo>
                  <a:pt x="37" y="168"/>
                </a:lnTo>
                <a:lnTo>
                  <a:pt x="30" y="168"/>
                </a:lnTo>
                <a:lnTo>
                  <a:pt x="26" y="177"/>
                </a:lnTo>
                <a:lnTo>
                  <a:pt x="17" y="183"/>
                </a:lnTo>
                <a:lnTo>
                  <a:pt x="13" y="186"/>
                </a:lnTo>
                <a:lnTo>
                  <a:pt x="8" y="185"/>
                </a:lnTo>
                <a:lnTo>
                  <a:pt x="4" y="183"/>
                </a:lnTo>
                <a:lnTo>
                  <a:pt x="0" y="183"/>
                </a:lnTo>
                <a:lnTo>
                  <a:pt x="6" y="168"/>
                </a:lnTo>
                <a:lnTo>
                  <a:pt x="8" y="166"/>
                </a:lnTo>
                <a:lnTo>
                  <a:pt x="10" y="166"/>
                </a:lnTo>
                <a:lnTo>
                  <a:pt x="13" y="165"/>
                </a:lnTo>
                <a:lnTo>
                  <a:pt x="19" y="163"/>
                </a:lnTo>
                <a:lnTo>
                  <a:pt x="21" y="159"/>
                </a:lnTo>
                <a:lnTo>
                  <a:pt x="21" y="154"/>
                </a:lnTo>
                <a:lnTo>
                  <a:pt x="22" y="146"/>
                </a:lnTo>
                <a:lnTo>
                  <a:pt x="17" y="128"/>
                </a:lnTo>
                <a:lnTo>
                  <a:pt x="15" y="117"/>
                </a:lnTo>
                <a:lnTo>
                  <a:pt x="11" y="102"/>
                </a:lnTo>
                <a:lnTo>
                  <a:pt x="13" y="101"/>
                </a:lnTo>
                <a:lnTo>
                  <a:pt x="17" y="102"/>
                </a:lnTo>
                <a:lnTo>
                  <a:pt x="30" y="93"/>
                </a:lnTo>
                <a:lnTo>
                  <a:pt x="33" y="84"/>
                </a:lnTo>
                <a:lnTo>
                  <a:pt x="35" y="70"/>
                </a:lnTo>
                <a:lnTo>
                  <a:pt x="41" y="60"/>
                </a:lnTo>
                <a:lnTo>
                  <a:pt x="41" y="44"/>
                </a:lnTo>
                <a:lnTo>
                  <a:pt x="44" y="33"/>
                </a:lnTo>
                <a:lnTo>
                  <a:pt x="35" y="20"/>
                </a:lnTo>
                <a:lnTo>
                  <a:pt x="32" y="1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47880" y="3587760"/>
            <a:ext cx="303120" cy="193680"/>
          </a:xfrm>
          <a:custGeom>
            <a:avLst/>
            <a:gdLst/>
            <a:ahLst/>
            <a:rect l="l" t="t" r="r" b="b"/>
            <a:pathLst>
              <a:path w="189" h="132">
                <a:moveTo>
                  <a:pt x="163" y="132"/>
                </a:moveTo>
                <a:lnTo>
                  <a:pt x="161" y="126"/>
                </a:lnTo>
                <a:lnTo>
                  <a:pt x="154" y="124"/>
                </a:lnTo>
                <a:lnTo>
                  <a:pt x="152" y="121"/>
                </a:lnTo>
                <a:lnTo>
                  <a:pt x="152" y="113"/>
                </a:lnTo>
                <a:lnTo>
                  <a:pt x="150" y="108"/>
                </a:lnTo>
                <a:lnTo>
                  <a:pt x="146" y="108"/>
                </a:lnTo>
                <a:lnTo>
                  <a:pt x="141" y="110"/>
                </a:lnTo>
                <a:lnTo>
                  <a:pt x="134" y="108"/>
                </a:lnTo>
                <a:lnTo>
                  <a:pt x="136" y="104"/>
                </a:lnTo>
                <a:lnTo>
                  <a:pt x="132" y="93"/>
                </a:lnTo>
                <a:lnTo>
                  <a:pt x="128" y="91"/>
                </a:lnTo>
                <a:lnTo>
                  <a:pt x="126" y="90"/>
                </a:lnTo>
                <a:lnTo>
                  <a:pt x="123" y="90"/>
                </a:lnTo>
                <a:lnTo>
                  <a:pt x="112" y="93"/>
                </a:lnTo>
                <a:lnTo>
                  <a:pt x="106" y="95"/>
                </a:lnTo>
                <a:lnTo>
                  <a:pt x="101" y="97"/>
                </a:lnTo>
                <a:lnTo>
                  <a:pt x="97" y="95"/>
                </a:lnTo>
                <a:lnTo>
                  <a:pt x="90" y="99"/>
                </a:lnTo>
                <a:lnTo>
                  <a:pt x="77" y="111"/>
                </a:lnTo>
                <a:lnTo>
                  <a:pt x="77" y="113"/>
                </a:lnTo>
                <a:lnTo>
                  <a:pt x="77" y="117"/>
                </a:lnTo>
                <a:lnTo>
                  <a:pt x="77" y="119"/>
                </a:lnTo>
                <a:lnTo>
                  <a:pt x="70" y="121"/>
                </a:lnTo>
                <a:lnTo>
                  <a:pt x="61" y="121"/>
                </a:lnTo>
                <a:lnTo>
                  <a:pt x="50" y="117"/>
                </a:lnTo>
                <a:lnTo>
                  <a:pt x="40" y="115"/>
                </a:lnTo>
                <a:lnTo>
                  <a:pt x="33" y="117"/>
                </a:lnTo>
                <a:lnTo>
                  <a:pt x="22" y="115"/>
                </a:lnTo>
                <a:lnTo>
                  <a:pt x="15" y="111"/>
                </a:lnTo>
                <a:lnTo>
                  <a:pt x="9" y="106"/>
                </a:lnTo>
                <a:lnTo>
                  <a:pt x="0" y="100"/>
                </a:lnTo>
                <a:lnTo>
                  <a:pt x="4" y="97"/>
                </a:lnTo>
                <a:lnTo>
                  <a:pt x="13" y="91"/>
                </a:lnTo>
                <a:lnTo>
                  <a:pt x="17" y="82"/>
                </a:lnTo>
                <a:lnTo>
                  <a:pt x="24" y="82"/>
                </a:lnTo>
                <a:lnTo>
                  <a:pt x="31" y="84"/>
                </a:lnTo>
                <a:lnTo>
                  <a:pt x="37" y="79"/>
                </a:lnTo>
                <a:lnTo>
                  <a:pt x="42" y="68"/>
                </a:lnTo>
                <a:lnTo>
                  <a:pt x="37" y="58"/>
                </a:lnTo>
                <a:lnTo>
                  <a:pt x="37" y="51"/>
                </a:lnTo>
                <a:lnTo>
                  <a:pt x="39" y="49"/>
                </a:lnTo>
                <a:lnTo>
                  <a:pt x="48" y="40"/>
                </a:lnTo>
                <a:lnTo>
                  <a:pt x="50" y="38"/>
                </a:lnTo>
                <a:lnTo>
                  <a:pt x="50" y="33"/>
                </a:lnTo>
                <a:lnTo>
                  <a:pt x="50" y="29"/>
                </a:lnTo>
                <a:lnTo>
                  <a:pt x="62" y="27"/>
                </a:lnTo>
                <a:lnTo>
                  <a:pt x="68" y="26"/>
                </a:lnTo>
                <a:lnTo>
                  <a:pt x="70" y="24"/>
                </a:lnTo>
                <a:lnTo>
                  <a:pt x="68" y="13"/>
                </a:lnTo>
                <a:lnTo>
                  <a:pt x="68" y="7"/>
                </a:lnTo>
                <a:lnTo>
                  <a:pt x="68" y="4"/>
                </a:lnTo>
                <a:lnTo>
                  <a:pt x="81" y="0"/>
                </a:lnTo>
                <a:lnTo>
                  <a:pt x="95" y="0"/>
                </a:lnTo>
                <a:lnTo>
                  <a:pt x="110" y="4"/>
                </a:lnTo>
                <a:lnTo>
                  <a:pt x="112" y="7"/>
                </a:lnTo>
                <a:lnTo>
                  <a:pt x="114" y="11"/>
                </a:lnTo>
                <a:lnTo>
                  <a:pt x="117" y="15"/>
                </a:lnTo>
                <a:lnTo>
                  <a:pt x="119" y="15"/>
                </a:lnTo>
                <a:lnTo>
                  <a:pt x="125" y="11"/>
                </a:lnTo>
                <a:lnTo>
                  <a:pt x="126" y="9"/>
                </a:lnTo>
                <a:lnTo>
                  <a:pt x="128" y="11"/>
                </a:lnTo>
                <a:lnTo>
                  <a:pt x="134" y="16"/>
                </a:lnTo>
                <a:lnTo>
                  <a:pt x="145" y="20"/>
                </a:lnTo>
                <a:lnTo>
                  <a:pt x="152" y="15"/>
                </a:lnTo>
                <a:lnTo>
                  <a:pt x="157" y="13"/>
                </a:lnTo>
                <a:lnTo>
                  <a:pt x="159" y="16"/>
                </a:lnTo>
                <a:lnTo>
                  <a:pt x="157" y="20"/>
                </a:lnTo>
                <a:lnTo>
                  <a:pt x="157" y="24"/>
                </a:lnTo>
                <a:lnTo>
                  <a:pt x="167" y="35"/>
                </a:lnTo>
                <a:lnTo>
                  <a:pt x="167" y="37"/>
                </a:lnTo>
                <a:lnTo>
                  <a:pt x="168" y="37"/>
                </a:lnTo>
                <a:lnTo>
                  <a:pt x="174" y="31"/>
                </a:lnTo>
                <a:lnTo>
                  <a:pt x="176" y="29"/>
                </a:lnTo>
                <a:lnTo>
                  <a:pt x="178" y="31"/>
                </a:lnTo>
                <a:lnTo>
                  <a:pt x="187" y="35"/>
                </a:lnTo>
                <a:lnTo>
                  <a:pt x="189" y="44"/>
                </a:lnTo>
                <a:lnTo>
                  <a:pt x="189" y="46"/>
                </a:lnTo>
                <a:lnTo>
                  <a:pt x="185" y="51"/>
                </a:lnTo>
                <a:lnTo>
                  <a:pt x="179" y="60"/>
                </a:lnTo>
                <a:lnTo>
                  <a:pt x="176" y="82"/>
                </a:lnTo>
                <a:lnTo>
                  <a:pt x="176" y="86"/>
                </a:lnTo>
                <a:lnTo>
                  <a:pt x="178" y="93"/>
                </a:lnTo>
                <a:lnTo>
                  <a:pt x="181" y="113"/>
                </a:lnTo>
                <a:lnTo>
                  <a:pt x="185" y="126"/>
                </a:lnTo>
                <a:lnTo>
                  <a:pt x="183" y="128"/>
                </a:lnTo>
                <a:lnTo>
                  <a:pt x="178" y="130"/>
                </a:lnTo>
                <a:lnTo>
                  <a:pt x="168" y="130"/>
                </a:lnTo>
                <a:lnTo>
                  <a:pt x="163" y="13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93880" y="3719520"/>
            <a:ext cx="312840" cy="16020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165" y="109"/>
                </a:moveTo>
                <a:lnTo>
                  <a:pt x="141" y="107"/>
                </a:lnTo>
                <a:lnTo>
                  <a:pt x="125" y="96"/>
                </a:lnTo>
                <a:lnTo>
                  <a:pt x="95" y="89"/>
                </a:lnTo>
                <a:lnTo>
                  <a:pt x="73" y="89"/>
                </a:lnTo>
                <a:lnTo>
                  <a:pt x="66" y="95"/>
                </a:lnTo>
                <a:lnTo>
                  <a:pt x="66" y="96"/>
                </a:lnTo>
                <a:lnTo>
                  <a:pt x="68" y="100"/>
                </a:lnTo>
                <a:lnTo>
                  <a:pt x="66" y="102"/>
                </a:lnTo>
                <a:lnTo>
                  <a:pt x="52" y="98"/>
                </a:lnTo>
                <a:lnTo>
                  <a:pt x="37" y="98"/>
                </a:lnTo>
                <a:lnTo>
                  <a:pt x="15" y="91"/>
                </a:lnTo>
                <a:lnTo>
                  <a:pt x="6" y="82"/>
                </a:lnTo>
                <a:lnTo>
                  <a:pt x="0" y="80"/>
                </a:lnTo>
                <a:lnTo>
                  <a:pt x="4" y="64"/>
                </a:lnTo>
                <a:lnTo>
                  <a:pt x="2" y="54"/>
                </a:lnTo>
                <a:lnTo>
                  <a:pt x="4" y="51"/>
                </a:lnTo>
                <a:lnTo>
                  <a:pt x="8" y="49"/>
                </a:lnTo>
                <a:lnTo>
                  <a:pt x="9" y="47"/>
                </a:lnTo>
                <a:lnTo>
                  <a:pt x="8" y="34"/>
                </a:lnTo>
                <a:lnTo>
                  <a:pt x="6" y="31"/>
                </a:lnTo>
                <a:lnTo>
                  <a:pt x="6" y="27"/>
                </a:lnTo>
                <a:lnTo>
                  <a:pt x="19" y="9"/>
                </a:lnTo>
                <a:lnTo>
                  <a:pt x="20" y="7"/>
                </a:lnTo>
                <a:lnTo>
                  <a:pt x="24" y="7"/>
                </a:lnTo>
                <a:lnTo>
                  <a:pt x="28" y="9"/>
                </a:lnTo>
                <a:lnTo>
                  <a:pt x="33" y="10"/>
                </a:lnTo>
                <a:lnTo>
                  <a:pt x="42" y="16"/>
                </a:lnTo>
                <a:lnTo>
                  <a:pt x="48" y="21"/>
                </a:lnTo>
                <a:lnTo>
                  <a:pt x="55" y="25"/>
                </a:lnTo>
                <a:lnTo>
                  <a:pt x="66" y="27"/>
                </a:lnTo>
                <a:lnTo>
                  <a:pt x="73" y="25"/>
                </a:lnTo>
                <a:lnTo>
                  <a:pt x="83" y="27"/>
                </a:lnTo>
                <a:lnTo>
                  <a:pt x="94" y="31"/>
                </a:lnTo>
                <a:lnTo>
                  <a:pt x="103" y="31"/>
                </a:lnTo>
                <a:lnTo>
                  <a:pt x="110" y="29"/>
                </a:lnTo>
                <a:lnTo>
                  <a:pt x="110" y="27"/>
                </a:lnTo>
                <a:lnTo>
                  <a:pt x="110" y="23"/>
                </a:lnTo>
                <a:lnTo>
                  <a:pt x="110" y="21"/>
                </a:lnTo>
                <a:lnTo>
                  <a:pt x="123" y="9"/>
                </a:lnTo>
                <a:lnTo>
                  <a:pt x="130" y="5"/>
                </a:lnTo>
                <a:lnTo>
                  <a:pt x="134" y="7"/>
                </a:lnTo>
                <a:lnTo>
                  <a:pt x="139" y="5"/>
                </a:lnTo>
                <a:lnTo>
                  <a:pt x="145" y="3"/>
                </a:lnTo>
                <a:lnTo>
                  <a:pt x="156" y="0"/>
                </a:lnTo>
                <a:lnTo>
                  <a:pt x="159" y="0"/>
                </a:lnTo>
                <a:lnTo>
                  <a:pt x="161" y="1"/>
                </a:lnTo>
                <a:lnTo>
                  <a:pt x="165" y="3"/>
                </a:lnTo>
                <a:lnTo>
                  <a:pt x="169" y="14"/>
                </a:lnTo>
                <a:lnTo>
                  <a:pt x="167" y="18"/>
                </a:lnTo>
                <a:lnTo>
                  <a:pt x="174" y="20"/>
                </a:lnTo>
                <a:lnTo>
                  <a:pt x="179" y="18"/>
                </a:lnTo>
                <a:lnTo>
                  <a:pt x="183" y="18"/>
                </a:lnTo>
                <a:lnTo>
                  <a:pt x="185" y="23"/>
                </a:lnTo>
                <a:lnTo>
                  <a:pt x="185" y="31"/>
                </a:lnTo>
                <a:lnTo>
                  <a:pt x="187" y="34"/>
                </a:lnTo>
                <a:lnTo>
                  <a:pt x="194" y="36"/>
                </a:lnTo>
                <a:lnTo>
                  <a:pt x="196" y="42"/>
                </a:lnTo>
                <a:lnTo>
                  <a:pt x="194" y="43"/>
                </a:lnTo>
                <a:lnTo>
                  <a:pt x="196" y="53"/>
                </a:lnTo>
                <a:lnTo>
                  <a:pt x="185" y="65"/>
                </a:lnTo>
                <a:lnTo>
                  <a:pt x="178" y="76"/>
                </a:lnTo>
                <a:lnTo>
                  <a:pt x="170" y="95"/>
                </a:lnTo>
                <a:lnTo>
                  <a:pt x="165" y="10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76840" y="3814920"/>
            <a:ext cx="29880" cy="21960"/>
          </a:xfrm>
          <a:custGeom>
            <a:avLst/>
            <a:gdLst/>
            <a:ahLst/>
            <a:rect l="l" t="t" r="r" b="b"/>
            <a:pathLst>
              <a:path w="18" h="15">
                <a:moveTo>
                  <a:pt x="7" y="0"/>
                </a:moveTo>
                <a:lnTo>
                  <a:pt x="11" y="4"/>
                </a:lnTo>
                <a:lnTo>
                  <a:pt x="17" y="4"/>
                </a:lnTo>
                <a:lnTo>
                  <a:pt x="18" y="9"/>
                </a:lnTo>
                <a:lnTo>
                  <a:pt x="17" y="11"/>
                </a:lnTo>
                <a:lnTo>
                  <a:pt x="7" y="15"/>
                </a:lnTo>
                <a:lnTo>
                  <a:pt x="0" y="11"/>
                </a:lnTo>
                <a:lnTo>
                  <a:pt x="0" y="8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87680" y="3836880"/>
            <a:ext cx="374400" cy="258840"/>
          </a:xfrm>
          <a:custGeom>
            <a:avLst/>
            <a:gdLst/>
            <a:ahLst/>
            <a:rect l="l" t="t" r="r" b="b"/>
            <a:pathLst>
              <a:path w="234" h="177">
                <a:moveTo>
                  <a:pt x="170" y="172"/>
                </a:moveTo>
                <a:lnTo>
                  <a:pt x="166" y="168"/>
                </a:lnTo>
                <a:lnTo>
                  <a:pt x="164" y="163"/>
                </a:lnTo>
                <a:lnTo>
                  <a:pt x="162" y="161"/>
                </a:lnTo>
                <a:lnTo>
                  <a:pt x="159" y="161"/>
                </a:lnTo>
                <a:lnTo>
                  <a:pt x="157" y="163"/>
                </a:lnTo>
                <a:lnTo>
                  <a:pt x="150" y="170"/>
                </a:lnTo>
                <a:lnTo>
                  <a:pt x="148" y="175"/>
                </a:lnTo>
                <a:lnTo>
                  <a:pt x="146" y="177"/>
                </a:lnTo>
                <a:lnTo>
                  <a:pt x="144" y="177"/>
                </a:lnTo>
                <a:lnTo>
                  <a:pt x="142" y="177"/>
                </a:lnTo>
                <a:lnTo>
                  <a:pt x="131" y="172"/>
                </a:lnTo>
                <a:lnTo>
                  <a:pt x="119" y="164"/>
                </a:lnTo>
                <a:lnTo>
                  <a:pt x="111" y="163"/>
                </a:lnTo>
                <a:lnTo>
                  <a:pt x="102" y="159"/>
                </a:lnTo>
                <a:lnTo>
                  <a:pt x="100" y="157"/>
                </a:lnTo>
                <a:lnTo>
                  <a:pt x="97" y="150"/>
                </a:lnTo>
                <a:lnTo>
                  <a:pt x="95" y="148"/>
                </a:lnTo>
                <a:lnTo>
                  <a:pt x="89" y="148"/>
                </a:lnTo>
                <a:lnTo>
                  <a:pt x="84" y="150"/>
                </a:lnTo>
                <a:lnTo>
                  <a:pt x="76" y="150"/>
                </a:lnTo>
                <a:lnTo>
                  <a:pt x="73" y="143"/>
                </a:lnTo>
                <a:lnTo>
                  <a:pt x="65" y="137"/>
                </a:lnTo>
                <a:lnTo>
                  <a:pt x="65" y="143"/>
                </a:lnTo>
                <a:lnTo>
                  <a:pt x="58" y="150"/>
                </a:lnTo>
                <a:lnTo>
                  <a:pt x="47" y="148"/>
                </a:lnTo>
                <a:lnTo>
                  <a:pt x="27" y="141"/>
                </a:lnTo>
                <a:lnTo>
                  <a:pt x="12" y="130"/>
                </a:lnTo>
                <a:lnTo>
                  <a:pt x="11" y="126"/>
                </a:lnTo>
                <a:lnTo>
                  <a:pt x="0" y="122"/>
                </a:lnTo>
                <a:lnTo>
                  <a:pt x="5" y="117"/>
                </a:lnTo>
                <a:lnTo>
                  <a:pt x="18" y="108"/>
                </a:lnTo>
                <a:lnTo>
                  <a:pt x="18" y="102"/>
                </a:lnTo>
                <a:lnTo>
                  <a:pt x="18" y="100"/>
                </a:lnTo>
                <a:lnTo>
                  <a:pt x="12" y="88"/>
                </a:lnTo>
                <a:lnTo>
                  <a:pt x="12" y="86"/>
                </a:lnTo>
                <a:lnTo>
                  <a:pt x="12" y="82"/>
                </a:lnTo>
                <a:lnTo>
                  <a:pt x="18" y="80"/>
                </a:lnTo>
                <a:lnTo>
                  <a:pt x="25" y="75"/>
                </a:lnTo>
                <a:lnTo>
                  <a:pt x="34" y="55"/>
                </a:lnTo>
                <a:lnTo>
                  <a:pt x="36" y="53"/>
                </a:lnTo>
                <a:lnTo>
                  <a:pt x="40" y="49"/>
                </a:lnTo>
                <a:lnTo>
                  <a:pt x="47" y="46"/>
                </a:lnTo>
                <a:lnTo>
                  <a:pt x="53" y="40"/>
                </a:lnTo>
                <a:lnTo>
                  <a:pt x="55" y="33"/>
                </a:lnTo>
                <a:lnTo>
                  <a:pt x="56" y="18"/>
                </a:lnTo>
                <a:lnTo>
                  <a:pt x="62" y="9"/>
                </a:lnTo>
                <a:lnTo>
                  <a:pt x="65" y="5"/>
                </a:lnTo>
                <a:lnTo>
                  <a:pt x="67" y="0"/>
                </a:lnTo>
                <a:lnTo>
                  <a:pt x="73" y="2"/>
                </a:lnTo>
                <a:lnTo>
                  <a:pt x="82" y="11"/>
                </a:lnTo>
                <a:lnTo>
                  <a:pt x="104" y="18"/>
                </a:lnTo>
                <a:lnTo>
                  <a:pt x="119" y="18"/>
                </a:lnTo>
                <a:lnTo>
                  <a:pt x="133" y="22"/>
                </a:lnTo>
                <a:lnTo>
                  <a:pt x="135" y="20"/>
                </a:lnTo>
                <a:lnTo>
                  <a:pt x="133" y="16"/>
                </a:lnTo>
                <a:lnTo>
                  <a:pt x="133" y="15"/>
                </a:lnTo>
                <a:lnTo>
                  <a:pt x="140" y="9"/>
                </a:lnTo>
                <a:lnTo>
                  <a:pt x="162" y="9"/>
                </a:lnTo>
                <a:lnTo>
                  <a:pt x="192" y="16"/>
                </a:lnTo>
                <a:lnTo>
                  <a:pt x="208" y="27"/>
                </a:lnTo>
                <a:lnTo>
                  <a:pt x="232" y="29"/>
                </a:lnTo>
                <a:lnTo>
                  <a:pt x="232" y="38"/>
                </a:lnTo>
                <a:lnTo>
                  <a:pt x="232" y="44"/>
                </a:lnTo>
                <a:lnTo>
                  <a:pt x="223" y="49"/>
                </a:lnTo>
                <a:lnTo>
                  <a:pt x="215" y="49"/>
                </a:lnTo>
                <a:lnTo>
                  <a:pt x="214" y="51"/>
                </a:lnTo>
                <a:lnTo>
                  <a:pt x="212" y="53"/>
                </a:lnTo>
                <a:lnTo>
                  <a:pt x="212" y="55"/>
                </a:lnTo>
                <a:lnTo>
                  <a:pt x="214" y="58"/>
                </a:lnTo>
                <a:lnTo>
                  <a:pt x="226" y="64"/>
                </a:lnTo>
                <a:lnTo>
                  <a:pt x="228" y="79"/>
                </a:lnTo>
                <a:lnTo>
                  <a:pt x="228" y="88"/>
                </a:lnTo>
                <a:lnTo>
                  <a:pt x="226" y="91"/>
                </a:lnTo>
                <a:lnTo>
                  <a:pt x="234" y="108"/>
                </a:lnTo>
                <a:lnTo>
                  <a:pt x="234" y="108"/>
                </a:lnTo>
                <a:lnTo>
                  <a:pt x="230" y="110"/>
                </a:lnTo>
                <a:lnTo>
                  <a:pt x="228" y="115"/>
                </a:lnTo>
                <a:lnTo>
                  <a:pt x="228" y="133"/>
                </a:lnTo>
                <a:lnTo>
                  <a:pt x="226" y="139"/>
                </a:lnTo>
                <a:lnTo>
                  <a:pt x="225" y="141"/>
                </a:lnTo>
                <a:lnTo>
                  <a:pt x="223" y="141"/>
                </a:lnTo>
                <a:lnTo>
                  <a:pt x="217" y="141"/>
                </a:lnTo>
                <a:lnTo>
                  <a:pt x="210" y="141"/>
                </a:lnTo>
                <a:lnTo>
                  <a:pt x="199" y="152"/>
                </a:lnTo>
                <a:lnTo>
                  <a:pt x="197" y="157"/>
                </a:lnTo>
                <a:lnTo>
                  <a:pt x="199" y="163"/>
                </a:lnTo>
                <a:lnTo>
                  <a:pt x="199" y="166"/>
                </a:lnTo>
                <a:lnTo>
                  <a:pt x="175" y="172"/>
                </a:lnTo>
                <a:lnTo>
                  <a:pt x="170" y="17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02280" y="3840120"/>
            <a:ext cx="60120" cy="28440"/>
          </a:xfrm>
          <a:custGeom>
            <a:avLst/>
            <a:gdLst/>
            <a:ahLst/>
            <a:rect l="l" t="t" r="r" b="b"/>
            <a:pathLst>
              <a:path w="38" h="20">
                <a:moveTo>
                  <a:pt x="5" y="7"/>
                </a:moveTo>
                <a:lnTo>
                  <a:pt x="7" y="5"/>
                </a:lnTo>
                <a:lnTo>
                  <a:pt x="5" y="2"/>
                </a:lnTo>
                <a:lnTo>
                  <a:pt x="9" y="0"/>
                </a:lnTo>
                <a:lnTo>
                  <a:pt x="11" y="0"/>
                </a:lnTo>
                <a:lnTo>
                  <a:pt x="27" y="0"/>
                </a:lnTo>
                <a:lnTo>
                  <a:pt x="33" y="5"/>
                </a:lnTo>
                <a:lnTo>
                  <a:pt x="38" y="16"/>
                </a:lnTo>
                <a:lnTo>
                  <a:pt x="26" y="20"/>
                </a:lnTo>
                <a:lnTo>
                  <a:pt x="11" y="18"/>
                </a:lnTo>
                <a:lnTo>
                  <a:pt x="0" y="13"/>
                </a:lnTo>
                <a:lnTo>
                  <a:pt x="2" y="9"/>
                </a:lnTo>
                <a:lnTo>
                  <a:pt x="5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78160" y="3879720"/>
            <a:ext cx="753840" cy="611280"/>
          </a:xfrm>
          <a:custGeom>
            <a:avLst/>
            <a:gdLst/>
            <a:ahLst/>
            <a:rect l="l" t="t" r="r" b="b"/>
            <a:pathLst>
              <a:path w="472" h="417">
                <a:moveTo>
                  <a:pt x="472" y="417"/>
                </a:moveTo>
                <a:lnTo>
                  <a:pt x="466" y="417"/>
                </a:lnTo>
                <a:lnTo>
                  <a:pt x="461" y="415"/>
                </a:lnTo>
                <a:lnTo>
                  <a:pt x="424" y="395"/>
                </a:lnTo>
                <a:lnTo>
                  <a:pt x="413" y="388"/>
                </a:lnTo>
                <a:lnTo>
                  <a:pt x="397" y="380"/>
                </a:lnTo>
                <a:lnTo>
                  <a:pt x="388" y="377"/>
                </a:lnTo>
                <a:lnTo>
                  <a:pt x="369" y="371"/>
                </a:lnTo>
                <a:lnTo>
                  <a:pt x="360" y="371"/>
                </a:lnTo>
                <a:lnTo>
                  <a:pt x="337" y="368"/>
                </a:lnTo>
                <a:lnTo>
                  <a:pt x="313" y="366"/>
                </a:lnTo>
                <a:lnTo>
                  <a:pt x="300" y="366"/>
                </a:lnTo>
                <a:lnTo>
                  <a:pt x="293" y="368"/>
                </a:lnTo>
                <a:lnTo>
                  <a:pt x="280" y="369"/>
                </a:lnTo>
                <a:lnTo>
                  <a:pt x="276" y="368"/>
                </a:lnTo>
                <a:lnTo>
                  <a:pt x="269" y="364"/>
                </a:lnTo>
                <a:lnTo>
                  <a:pt x="262" y="364"/>
                </a:lnTo>
                <a:lnTo>
                  <a:pt x="252" y="368"/>
                </a:lnTo>
                <a:lnTo>
                  <a:pt x="241" y="366"/>
                </a:lnTo>
                <a:lnTo>
                  <a:pt x="236" y="362"/>
                </a:lnTo>
                <a:lnTo>
                  <a:pt x="221" y="360"/>
                </a:lnTo>
                <a:lnTo>
                  <a:pt x="198" y="358"/>
                </a:lnTo>
                <a:lnTo>
                  <a:pt x="192" y="360"/>
                </a:lnTo>
                <a:lnTo>
                  <a:pt x="183" y="360"/>
                </a:lnTo>
                <a:lnTo>
                  <a:pt x="167" y="357"/>
                </a:lnTo>
                <a:lnTo>
                  <a:pt x="165" y="355"/>
                </a:lnTo>
                <a:lnTo>
                  <a:pt x="165" y="349"/>
                </a:lnTo>
                <a:lnTo>
                  <a:pt x="163" y="348"/>
                </a:lnTo>
                <a:lnTo>
                  <a:pt x="161" y="346"/>
                </a:lnTo>
                <a:lnTo>
                  <a:pt x="157" y="342"/>
                </a:lnTo>
                <a:lnTo>
                  <a:pt x="145" y="337"/>
                </a:lnTo>
                <a:lnTo>
                  <a:pt x="128" y="333"/>
                </a:lnTo>
                <a:lnTo>
                  <a:pt x="117" y="327"/>
                </a:lnTo>
                <a:lnTo>
                  <a:pt x="112" y="322"/>
                </a:lnTo>
                <a:lnTo>
                  <a:pt x="108" y="311"/>
                </a:lnTo>
                <a:lnTo>
                  <a:pt x="99" y="309"/>
                </a:lnTo>
                <a:lnTo>
                  <a:pt x="90" y="313"/>
                </a:lnTo>
                <a:lnTo>
                  <a:pt x="73" y="315"/>
                </a:lnTo>
                <a:lnTo>
                  <a:pt x="70" y="313"/>
                </a:lnTo>
                <a:lnTo>
                  <a:pt x="62" y="309"/>
                </a:lnTo>
                <a:lnTo>
                  <a:pt x="60" y="307"/>
                </a:lnTo>
                <a:lnTo>
                  <a:pt x="57" y="300"/>
                </a:lnTo>
                <a:lnTo>
                  <a:pt x="55" y="296"/>
                </a:lnTo>
                <a:lnTo>
                  <a:pt x="50" y="295"/>
                </a:lnTo>
                <a:lnTo>
                  <a:pt x="46" y="296"/>
                </a:lnTo>
                <a:lnTo>
                  <a:pt x="44" y="295"/>
                </a:lnTo>
                <a:lnTo>
                  <a:pt x="40" y="291"/>
                </a:lnTo>
                <a:lnTo>
                  <a:pt x="40" y="284"/>
                </a:lnTo>
                <a:lnTo>
                  <a:pt x="46" y="278"/>
                </a:lnTo>
                <a:lnTo>
                  <a:pt x="51" y="274"/>
                </a:lnTo>
                <a:lnTo>
                  <a:pt x="55" y="269"/>
                </a:lnTo>
                <a:lnTo>
                  <a:pt x="57" y="267"/>
                </a:lnTo>
                <a:lnTo>
                  <a:pt x="57" y="263"/>
                </a:lnTo>
                <a:lnTo>
                  <a:pt x="55" y="262"/>
                </a:lnTo>
                <a:lnTo>
                  <a:pt x="51" y="256"/>
                </a:lnTo>
                <a:lnTo>
                  <a:pt x="48" y="252"/>
                </a:lnTo>
                <a:lnTo>
                  <a:pt x="37" y="249"/>
                </a:lnTo>
                <a:lnTo>
                  <a:pt x="22" y="247"/>
                </a:lnTo>
                <a:lnTo>
                  <a:pt x="4" y="247"/>
                </a:lnTo>
                <a:lnTo>
                  <a:pt x="4" y="112"/>
                </a:lnTo>
                <a:lnTo>
                  <a:pt x="0" y="112"/>
                </a:lnTo>
                <a:lnTo>
                  <a:pt x="0" y="97"/>
                </a:lnTo>
                <a:lnTo>
                  <a:pt x="161" y="97"/>
                </a:lnTo>
                <a:lnTo>
                  <a:pt x="307" y="97"/>
                </a:lnTo>
                <a:lnTo>
                  <a:pt x="309" y="0"/>
                </a:lnTo>
                <a:lnTo>
                  <a:pt x="472" y="0"/>
                </a:lnTo>
                <a:lnTo>
                  <a:pt x="472" y="41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6200" y="4016520"/>
            <a:ext cx="412920" cy="341280"/>
          </a:xfrm>
          <a:custGeom>
            <a:avLst/>
            <a:gdLst/>
            <a:ahLst/>
            <a:rect l="l" t="t" r="r" b="b"/>
            <a:pathLst>
              <a:path w="258" h="233">
                <a:moveTo>
                  <a:pt x="88" y="0"/>
                </a:moveTo>
                <a:lnTo>
                  <a:pt x="99" y="4"/>
                </a:lnTo>
                <a:lnTo>
                  <a:pt x="100" y="8"/>
                </a:lnTo>
                <a:lnTo>
                  <a:pt x="115" y="19"/>
                </a:lnTo>
                <a:lnTo>
                  <a:pt x="135" y="26"/>
                </a:lnTo>
                <a:lnTo>
                  <a:pt x="146" y="28"/>
                </a:lnTo>
                <a:lnTo>
                  <a:pt x="153" y="21"/>
                </a:lnTo>
                <a:lnTo>
                  <a:pt x="153" y="15"/>
                </a:lnTo>
                <a:lnTo>
                  <a:pt x="161" y="21"/>
                </a:lnTo>
                <a:lnTo>
                  <a:pt x="164" y="28"/>
                </a:lnTo>
                <a:lnTo>
                  <a:pt x="172" y="28"/>
                </a:lnTo>
                <a:lnTo>
                  <a:pt x="177" y="26"/>
                </a:lnTo>
                <a:lnTo>
                  <a:pt x="183" y="26"/>
                </a:lnTo>
                <a:lnTo>
                  <a:pt x="185" y="28"/>
                </a:lnTo>
                <a:lnTo>
                  <a:pt x="188" y="35"/>
                </a:lnTo>
                <a:lnTo>
                  <a:pt x="190" y="37"/>
                </a:lnTo>
                <a:lnTo>
                  <a:pt x="199" y="41"/>
                </a:lnTo>
                <a:lnTo>
                  <a:pt x="207" y="42"/>
                </a:lnTo>
                <a:lnTo>
                  <a:pt x="219" y="50"/>
                </a:lnTo>
                <a:lnTo>
                  <a:pt x="230" y="55"/>
                </a:lnTo>
                <a:lnTo>
                  <a:pt x="232" y="55"/>
                </a:lnTo>
                <a:lnTo>
                  <a:pt x="234" y="55"/>
                </a:lnTo>
                <a:lnTo>
                  <a:pt x="236" y="53"/>
                </a:lnTo>
                <a:lnTo>
                  <a:pt x="238" y="48"/>
                </a:lnTo>
                <a:lnTo>
                  <a:pt x="245" y="41"/>
                </a:lnTo>
                <a:lnTo>
                  <a:pt x="247" y="39"/>
                </a:lnTo>
                <a:lnTo>
                  <a:pt x="250" y="39"/>
                </a:lnTo>
                <a:lnTo>
                  <a:pt x="252" y="41"/>
                </a:lnTo>
                <a:lnTo>
                  <a:pt x="254" y="46"/>
                </a:lnTo>
                <a:lnTo>
                  <a:pt x="258" y="50"/>
                </a:lnTo>
                <a:lnTo>
                  <a:pt x="254" y="52"/>
                </a:lnTo>
                <a:lnTo>
                  <a:pt x="252" y="57"/>
                </a:lnTo>
                <a:lnTo>
                  <a:pt x="241" y="85"/>
                </a:lnTo>
                <a:lnTo>
                  <a:pt x="249" y="110"/>
                </a:lnTo>
                <a:lnTo>
                  <a:pt x="245" y="121"/>
                </a:lnTo>
                <a:lnTo>
                  <a:pt x="241" y="125"/>
                </a:lnTo>
                <a:lnTo>
                  <a:pt x="239" y="130"/>
                </a:lnTo>
                <a:lnTo>
                  <a:pt x="243" y="136"/>
                </a:lnTo>
                <a:lnTo>
                  <a:pt x="247" y="141"/>
                </a:lnTo>
                <a:lnTo>
                  <a:pt x="249" y="143"/>
                </a:lnTo>
                <a:lnTo>
                  <a:pt x="247" y="156"/>
                </a:lnTo>
                <a:lnTo>
                  <a:pt x="241" y="159"/>
                </a:lnTo>
                <a:lnTo>
                  <a:pt x="241" y="163"/>
                </a:lnTo>
                <a:lnTo>
                  <a:pt x="241" y="169"/>
                </a:lnTo>
                <a:lnTo>
                  <a:pt x="245" y="176"/>
                </a:lnTo>
                <a:lnTo>
                  <a:pt x="247" y="180"/>
                </a:lnTo>
                <a:lnTo>
                  <a:pt x="243" y="180"/>
                </a:lnTo>
                <a:lnTo>
                  <a:pt x="238" y="181"/>
                </a:lnTo>
                <a:lnTo>
                  <a:pt x="223" y="181"/>
                </a:lnTo>
                <a:lnTo>
                  <a:pt x="219" y="183"/>
                </a:lnTo>
                <a:lnTo>
                  <a:pt x="217" y="185"/>
                </a:lnTo>
                <a:lnTo>
                  <a:pt x="217" y="187"/>
                </a:lnTo>
                <a:lnTo>
                  <a:pt x="219" y="192"/>
                </a:lnTo>
                <a:lnTo>
                  <a:pt x="221" y="194"/>
                </a:lnTo>
                <a:lnTo>
                  <a:pt x="223" y="202"/>
                </a:lnTo>
                <a:lnTo>
                  <a:pt x="219" y="211"/>
                </a:lnTo>
                <a:lnTo>
                  <a:pt x="201" y="218"/>
                </a:lnTo>
                <a:lnTo>
                  <a:pt x="197" y="225"/>
                </a:lnTo>
                <a:lnTo>
                  <a:pt x="196" y="222"/>
                </a:lnTo>
                <a:lnTo>
                  <a:pt x="194" y="220"/>
                </a:lnTo>
                <a:lnTo>
                  <a:pt x="192" y="212"/>
                </a:lnTo>
                <a:lnTo>
                  <a:pt x="192" y="202"/>
                </a:lnTo>
                <a:lnTo>
                  <a:pt x="188" y="198"/>
                </a:lnTo>
                <a:lnTo>
                  <a:pt x="185" y="198"/>
                </a:lnTo>
                <a:lnTo>
                  <a:pt x="181" y="198"/>
                </a:lnTo>
                <a:lnTo>
                  <a:pt x="170" y="200"/>
                </a:lnTo>
                <a:lnTo>
                  <a:pt x="157" y="198"/>
                </a:lnTo>
                <a:lnTo>
                  <a:pt x="152" y="194"/>
                </a:lnTo>
                <a:lnTo>
                  <a:pt x="150" y="191"/>
                </a:lnTo>
                <a:lnTo>
                  <a:pt x="141" y="185"/>
                </a:lnTo>
                <a:lnTo>
                  <a:pt x="137" y="183"/>
                </a:lnTo>
                <a:lnTo>
                  <a:pt x="132" y="183"/>
                </a:lnTo>
                <a:lnTo>
                  <a:pt x="126" y="181"/>
                </a:lnTo>
                <a:lnTo>
                  <a:pt x="119" y="172"/>
                </a:lnTo>
                <a:lnTo>
                  <a:pt x="117" y="169"/>
                </a:lnTo>
                <a:lnTo>
                  <a:pt x="117" y="167"/>
                </a:lnTo>
                <a:lnTo>
                  <a:pt x="111" y="163"/>
                </a:lnTo>
                <a:lnTo>
                  <a:pt x="102" y="163"/>
                </a:lnTo>
                <a:lnTo>
                  <a:pt x="91" y="161"/>
                </a:lnTo>
                <a:lnTo>
                  <a:pt x="79" y="154"/>
                </a:lnTo>
                <a:lnTo>
                  <a:pt x="66" y="156"/>
                </a:lnTo>
                <a:lnTo>
                  <a:pt x="57" y="165"/>
                </a:lnTo>
                <a:lnTo>
                  <a:pt x="57" y="165"/>
                </a:lnTo>
                <a:lnTo>
                  <a:pt x="58" y="167"/>
                </a:lnTo>
                <a:lnTo>
                  <a:pt x="64" y="167"/>
                </a:lnTo>
                <a:lnTo>
                  <a:pt x="66" y="169"/>
                </a:lnTo>
                <a:lnTo>
                  <a:pt x="66" y="178"/>
                </a:lnTo>
                <a:lnTo>
                  <a:pt x="51" y="194"/>
                </a:lnTo>
                <a:lnTo>
                  <a:pt x="55" y="203"/>
                </a:lnTo>
                <a:lnTo>
                  <a:pt x="58" y="205"/>
                </a:lnTo>
                <a:lnTo>
                  <a:pt x="58" y="205"/>
                </a:lnTo>
                <a:lnTo>
                  <a:pt x="58" y="209"/>
                </a:lnTo>
                <a:lnTo>
                  <a:pt x="57" y="212"/>
                </a:lnTo>
                <a:lnTo>
                  <a:pt x="31" y="233"/>
                </a:lnTo>
                <a:lnTo>
                  <a:pt x="18" y="227"/>
                </a:lnTo>
                <a:lnTo>
                  <a:pt x="16" y="222"/>
                </a:lnTo>
                <a:lnTo>
                  <a:pt x="20" y="216"/>
                </a:lnTo>
                <a:lnTo>
                  <a:pt x="22" y="202"/>
                </a:lnTo>
                <a:lnTo>
                  <a:pt x="18" y="192"/>
                </a:lnTo>
                <a:lnTo>
                  <a:pt x="15" y="183"/>
                </a:lnTo>
                <a:lnTo>
                  <a:pt x="7" y="174"/>
                </a:lnTo>
                <a:lnTo>
                  <a:pt x="2" y="170"/>
                </a:lnTo>
                <a:lnTo>
                  <a:pt x="0" y="158"/>
                </a:lnTo>
                <a:lnTo>
                  <a:pt x="2" y="156"/>
                </a:lnTo>
                <a:lnTo>
                  <a:pt x="9" y="148"/>
                </a:lnTo>
                <a:lnTo>
                  <a:pt x="9" y="147"/>
                </a:lnTo>
                <a:lnTo>
                  <a:pt x="9" y="141"/>
                </a:lnTo>
                <a:lnTo>
                  <a:pt x="5" y="138"/>
                </a:lnTo>
                <a:lnTo>
                  <a:pt x="2" y="134"/>
                </a:lnTo>
                <a:lnTo>
                  <a:pt x="2" y="132"/>
                </a:lnTo>
                <a:lnTo>
                  <a:pt x="4" y="119"/>
                </a:lnTo>
                <a:lnTo>
                  <a:pt x="5" y="116"/>
                </a:lnTo>
                <a:lnTo>
                  <a:pt x="9" y="114"/>
                </a:lnTo>
                <a:lnTo>
                  <a:pt x="13" y="117"/>
                </a:lnTo>
                <a:lnTo>
                  <a:pt x="16" y="119"/>
                </a:lnTo>
                <a:lnTo>
                  <a:pt x="24" y="123"/>
                </a:lnTo>
                <a:lnTo>
                  <a:pt x="31" y="123"/>
                </a:lnTo>
                <a:lnTo>
                  <a:pt x="42" y="119"/>
                </a:lnTo>
                <a:lnTo>
                  <a:pt x="46" y="117"/>
                </a:lnTo>
                <a:lnTo>
                  <a:pt x="47" y="114"/>
                </a:lnTo>
                <a:lnTo>
                  <a:pt x="51" y="105"/>
                </a:lnTo>
                <a:lnTo>
                  <a:pt x="55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62" y="74"/>
                </a:lnTo>
                <a:lnTo>
                  <a:pt x="66" y="72"/>
                </a:lnTo>
                <a:lnTo>
                  <a:pt x="68" y="72"/>
                </a:lnTo>
                <a:lnTo>
                  <a:pt x="73" y="53"/>
                </a:lnTo>
                <a:lnTo>
                  <a:pt x="82" y="35"/>
                </a:lnTo>
                <a:lnTo>
                  <a:pt x="86" y="2"/>
                </a:lnTo>
                <a:lnTo>
                  <a:pt x="88" y="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14400" y="4040280"/>
            <a:ext cx="569880" cy="698400"/>
          </a:xfrm>
          <a:custGeom>
            <a:avLst/>
            <a:gdLst/>
            <a:ahLst/>
            <a:rect l="l" t="t" r="r" b="b"/>
            <a:pathLst>
              <a:path w="355" h="477">
                <a:moveTo>
                  <a:pt x="26" y="329"/>
                </a:moveTo>
                <a:lnTo>
                  <a:pt x="26" y="329"/>
                </a:lnTo>
                <a:lnTo>
                  <a:pt x="31" y="334"/>
                </a:lnTo>
                <a:lnTo>
                  <a:pt x="42" y="334"/>
                </a:lnTo>
                <a:lnTo>
                  <a:pt x="44" y="333"/>
                </a:lnTo>
                <a:lnTo>
                  <a:pt x="48" y="318"/>
                </a:lnTo>
                <a:lnTo>
                  <a:pt x="51" y="307"/>
                </a:lnTo>
                <a:lnTo>
                  <a:pt x="53" y="298"/>
                </a:lnTo>
                <a:lnTo>
                  <a:pt x="51" y="281"/>
                </a:lnTo>
                <a:lnTo>
                  <a:pt x="49" y="278"/>
                </a:lnTo>
                <a:lnTo>
                  <a:pt x="49" y="270"/>
                </a:lnTo>
                <a:lnTo>
                  <a:pt x="53" y="267"/>
                </a:lnTo>
                <a:lnTo>
                  <a:pt x="59" y="263"/>
                </a:lnTo>
                <a:lnTo>
                  <a:pt x="84" y="250"/>
                </a:lnTo>
                <a:lnTo>
                  <a:pt x="97" y="250"/>
                </a:lnTo>
                <a:lnTo>
                  <a:pt x="104" y="245"/>
                </a:lnTo>
                <a:lnTo>
                  <a:pt x="108" y="234"/>
                </a:lnTo>
                <a:lnTo>
                  <a:pt x="108" y="230"/>
                </a:lnTo>
                <a:lnTo>
                  <a:pt x="106" y="228"/>
                </a:lnTo>
                <a:lnTo>
                  <a:pt x="99" y="225"/>
                </a:lnTo>
                <a:lnTo>
                  <a:pt x="95" y="223"/>
                </a:lnTo>
                <a:lnTo>
                  <a:pt x="93" y="219"/>
                </a:lnTo>
                <a:lnTo>
                  <a:pt x="90" y="201"/>
                </a:lnTo>
                <a:lnTo>
                  <a:pt x="90" y="194"/>
                </a:lnTo>
                <a:lnTo>
                  <a:pt x="92" y="186"/>
                </a:lnTo>
                <a:lnTo>
                  <a:pt x="79" y="163"/>
                </a:lnTo>
                <a:lnTo>
                  <a:pt x="77" y="159"/>
                </a:lnTo>
                <a:lnTo>
                  <a:pt x="73" y="152"/>
                </a:lnTo>
                <a:lnTo>
                  <a:pt x="73" y="146"/>
                </a:lnTo>
                <a:lnTo>
                  <a:pt x="73" y="142"/>
                </a:lnTo>
                <a:lnTo>
                  <a:pt x="79" y="139"/>
                </a:lnTo>
                <a:lnTo>
                  <a:pt x="81" y="126"/>
                </a:lnTo>
                <a:lnTo>
                  <a:pt x="79" y="124"/>
                </a:lnTo>
                <a:lnTo>
                  <a:pt x="75" y="119"/>
                </a:lnTo>
                <a:lnTo>
                  <a:pt x="71" y="113"/>
                </a:lnTo>
                <a:lnTo>
                  <a:pt x="73" y="108"/>
                </a:lnTo>
                <a:lnTo>
                  <a:pt x="77" y="104"/>
                </a:lnTo>
                <a:lnTo>
                  <a:pt x="81" y="93"/>
                </a:lnTo>
                <a:lnTo>
                  <a:pt x="73" y="68"/>
                </a:lnTo>
                <a:lnTo>
                  <a:pt x="84" y="40"/>
                </a:lnTo>
                <a:lnTo>
                  <a:pt x="86" y="35"/>
                </a:lnTo>
                <a:lnTo>
                  <a:pt x="90" y="33"/>
                </a:lnTo>
                <a:lnTo>
                  <a:pt x="95" y="33"/>
                </a:lnTo>
                <a:lnTo>
                  <a:pt x="119" y="27"/>
                </a:lnTo>
                <a:lnTo>
                  <a:pt x="119" y="24"/>
                </a:lnTo>
                <a:lnTo>
                  <a:pt x="117" y="18"/>
                </a:lnTo>
                <a:lnTo>
                  <a:pt x="119" y="13"/>
                </a:lnTo>
                <a:lnTo>
                  <a:pt x="130" y="2"/>
                </a:lnTo>
                <a:lnTo>
                  <a:pt x="137" y="2"/>
                </a:lnTo>
                <a:lnTo>
                  <a:pt x="143" y="2"/>
                </a:lnTo>
                <a:lnTo>
                  <a:pt x="145" y="2"/>
                </a:lnTo>
                <a:lnTo>
                  <a:pt x="146" y="0"/>
                </a:lnTo>
                <a:lnTo>
                  <a:pt x="150" y="2"/>
                </a:lnTo>
                <a:lnTo>
                  <a:pt x="152" y="5"/>
                </a:lnTo>
                <a:lnTo>
                  <a:pt x="152" y="11"/>
                </a:lnTo>
                <a:lnTo>
                  <a:pt x="150" y="15"/>
                </a:lnTo>
                <a:lnTo>
                  <a:pt x="150" y="16"/>
                </a:lnTo>
                <a:lnTo>
                  <a:pt x="154" y="22"/>
                </a:lnTo>
                <a:lnTo>
                  <a:pt x="156" y="24"/>
                </a:lnTo>
                <a:lnTo>
                  <a:pt x="157" y="22"/>
                </a:lnTo>
                <a:lnTo>
                  <a:pt x="161" y="22"/>
                </a:lnTo>
                <a:lnTo>
                  <a:pt x="163" y="25"/>
                </a:lnTo>
                <a:lnTo>
                  <a:pt x="166" y="35"/>
                </a:lnTo>
                <a:lnTo>
                  <a:pt x="172" y="42"/>
                </a:lnTo>
                <a:lnTo>
                  <a:pt x="181" y="46"/>
                </a:lnTo>
                <a:lnTo>
                  <a:pt x="192" y="55"/>
                </a:lnTo>
                <a:lnTo>
                  <a:pt x="194" y="62"/>
                </a:lnTo>
                <a:lnTo>
                  <a:pt x="199" y="66"/>
                </a:lnTo>
                <a:lnTo>
                  <a:pt x="207" y="68"/>
                </a:lnTo>
                <a:lnTo>
                  <a:pt x="207" y="71"/>
                </a:lnTo>
                <a:lnTo>
                  <a:pt x="207" y="78"/>
                </a:lnTo>
                <a:lnTo>
                  <a:pt x="205" y="82"/>
                </a:lnTo>
                <a:lnTo>
                  <a:pt x="212" y="91"/>
                </a:lnTo>
                <a:lnTo>
                  <a:pt x="221" y="97"/>
                </a:lnTo>
                <a:lnTo>
                  <a:pt x="230" y="99"/>
                </a:lnTo>
                <a:lnTo>
                  <a:pt x="240" y="100"/>
                </a:lnTo>
                <a:lnTo>
                  <a:pt x="245" y="99"/>
                </a:lnTo>
                <a:lnTo>
                  <a:pt x="258" y="97"/>
                </a:lnTo>
                <a:lnTo>
                  <a:pt x="276" y="104"/>
                </a:lnTo>
                <a:lnTo>
                  <a:pt x="278" y="108"/>
                </a:lnTo>
                <a:lnTo>
                  <a:pt x="280" y="115"/>
                </a:lnTo>
                <a:lnTo>
                  <a:pt x="283" y="117"/>
                </a:lnTo>
                <a:lnTo>
                  <a:pt x="296" y="121"/>
                </a:lnTo>
                <a:lnTo>
                  <a:pt x="304" y="119"/>
                </a:lnTo>
                <a:lnTo>
                  <a:pt x="305" y="119"/>
                </a:lnTo>
                <a:lnTo>
                  <a:pt x="335" y="131"/>
                </a:lnTo>
                <a:lnTo>
                  <a:pt x="347" y="135"/>
                </a:lnTo>
                <a:lnTo>
                  <a:pt x="355" y="137"/>
                </a:lnTo>
                <a:lnTo>
                  <a:pt x="355" y="272"/>
                </a:lnTo>
                <a:lnTo>
                  <a:pt x="333" y="281"/>
                </a:lnTo>
                <a:lnTo>
                  <a:pt x="326" y="281"/>
                </a:lnTo>
                <a:lnTo>
                  <a:pt x="320" y="285"/>
                </a:lnTo>
                <a:lnTo>
                  <a:pt x="318" y="289"/>
                </a:lnTo>
                <a:lnTo>
                  <a:pt x="315" y="296"/>
                </a:lnTo>
                <a:lnTo>
                  <a:pt x="302" y="303"/>
                </a:lnTo>
                <a:lnTo>
                  <a:pt x="289" y="322"/>
                </a:lnTo>
                <a:lnTo>
                  <a:pt x="278" y="325"/>
                </a:lnTo>
                <a:lnTo>
                  <a:pt x="269" y="325"/>
                </a:lnTo>
                <a:lnTo>
                  <a:pt x="260" y="331"/>
                </a:lnTo>
                <a:lnTo>
                  <a:pt x="254" y="336"/>
                </a:lnTo>
                <a:lnTo>
                  <a:pt x="251" y="342"/>
                </a:lnTo>
                <a:lnTo>
                  <a:pt x="249" y="344"/>
                </a:lnTo>
                <a:lnTo>
                  <a:pt x="238" y="351"/>
                </a:lnTo>
                <a:lnTo>
                  <a:pt x="227" y="353"/>
                </a:lnTo>
                <a:lnTo>
                  <a:pt x="210" y="358"/>
                </a:lnTo>
                <a:lnTo>
                  <a:pt x="198" y="364"/>
                </a:lnTo>
                <a:lnTo>
                  <a:pt x="192" y="365"/>
                </a:lnTo>
                <a:lnTo>
                  <a:pt x="188" y="371"/>
                </a:lnTo>
                <a:lnTo>
                  <a:pt x="187" y="376"/>
                </a:lnTo>
                <a:lnTo>
                  <a:pt x="187" y="378"/>
                </a:lnTo>
                <a:lnTo>
                  <a:pt x="188" y="382"/>
                </a:lnTo>
                <a:lnTo>
                  <a:pt x="188" y="389"/>
                </a:lnTo>
                <a:lnTo>
                  <a:pt x="181" y="406"/>
                </a:lnTo>
                <a:lnTo>
                  <a:pt x="170" y="417"/>
                </a:lnTo>
                <a:lnTo>
                  <a:pt x="150" y="422"/>
                </a:lnTo>
                <a:lnTo>
                  <a:pt x="145" y="420"/>
                </a:lnTo>
                <a:lnTo>
                  <a:pt x="141" y="418"/>
                </a:lnTo>
                <a:lnTo>
                  <a:pt x="137" y="418"/>
                </a:lnTo>
                <a:lnTo>
                  <a:pt x="130" y="422"/>
                </a:lnTo>
                <a:lnTo>
                  <a:pt x="124" y="426"/>
                </a:lnTo>
                <a:lnTo>
                  <a:pt x="110" y="428"/>
                </a:lnTo>
                <a:lnTo>
                  <a:pt x="102" y="429"/>
                </a:lnTo>
                <a:lnTo>
                  <a:pt x="93" y="435"/>
                </a:lnTo>
                <a:lnTo>
                  <a:pt x="81" y="442"/>
                </a:lnTo>
                <a:lnTo>
                  <a:pt x="81" y="448"/>
                </a:lnTo>
                <a:lnTo>
                  <a:pt x="86" y="453"/>
                </a:lnTo>
                <a:lnTo>
                  <a:pt x="88" y="461"/>
                </a:lnTo>
                <a:lnTo>
                  <a:pt x="86" y="464"/>
                </a:lnTo>
                <a:lnTo>
                  <a:pt x="77" y="473"/>
                </a:lnTo>
                <a:lnTo>
                  <a:pt x="68" y="475"/>
                </a:lnTo>
                <a:lnTo>
                  <a:pt x="60" y="477"/>
                </a:lnTo>
                <a:lnTo>
                  <a:pt x="53" y="475"/>
                </a:lnTo>
                <a:lnTo>
                  <a:pt x="39" y="470"/>
                </a:lnTo>
                <a:lnTo>
                  <a:pt x="7" y="468"/>
                </a:lnTo>
                <a:lnTo>
                  <a:pt x="9" y="462"/>
                </a:lnTo>
                <a:lnTo>
                  <a:pt x="9" y="459"/>
                </a:lnTo>
                <a:lnTo>
                  <a:pt x="2" y="448"/>
                </a:lnTo>
                <a:lnTo>
                  <a:pt x="0" y="442"/>
                </a:lnTo>
                <a:lnTo>
                  <a:pt x="0" y="440"/>
                </a:lnTo>
                <a:lnTo>
                  <a:pt x="6" y="435"/>
                </a:lnTo>
                <a:lnTo>
                  <a:pt x="9" y="429"/>
                </a:lnTo>
                <a:lnTo>
                  <a:pt x="11" y="428"/>
                </a:lnTo>
                <a:lnTo>
                  <a:pt x="9" y="426"/>
                </a:lnTo>
                <a:lnTo>
                  <a:pt x="9" y="422"/>
                </a:lnTo>
                <a:lnTo>
                  <a:pt x="15" y="411"/>
                </a:lnTo>
                <a:lnTo>
                  <a:pt x="17" y="409"/>
                </a:lnTo>
                <a:lnTo>
                  <a:pt x="20" y="413"/>
                </a:lnTo>
                <a:lnTo>
                  <a:pt x="22" y="413"/>
                </a:lnTo>
                <a:lnTo>
                  <a:pt x="28" y="404"/>
                </a:lnTo>
                <a:lnTo>
                  <a:pt x="26" y="400"/>
                </a:lnTo>
                <a:lnTo>
                  <a:pt x="24" y="398"/>
                </a:lnTo>
                <a:lnTo>
                  <a:pt x="22" y="400"/>
                </a:lnTo>
                <a:lnTo>
                  <a:pt x="20" y="400"/>
                </a:lnTo>
                <a:lnTo>
                  <a:pt x="15" y="395"/>
                </a:lnTo>
                <a:lnTo>
                  <a:pt x="11" y="391"/>
                </a:lnTo>
                <a:lnTo>
                  <a:pt x="15" y="382"/>
                </a:lnTo>
                <a:lnTo>
                  <a:pt x="26" y="376"/>
                </a:lnTo>
                <a:lnTo>
                  <a:pt x="29" y="365"/>
                </a:lnTo>
                <a:lnTo>
                  <a:pt x="28" y="358"/>
                </a:lnTo>
                <a:lnTo>
                  <a:pt x="26" y="356"/>
                </a:lnTo>
                <a:lnTo>
                  <a:pt x="22" y="345"/>
                </a:lnTo>
                <a:lnTo>
                  <a:pt x="22" y="336"/>
                </a:lnTo>
                <a:lnTo>
                  <a:pt x="24" y="331"/>
                </a:lnTo>
                <a:lnTo>
                  <a:pt x="26" y="32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17640" y="4241880"/>
            <a:ext cx="1408320" cy="627120"/>
          </a:xfrm>
          <a:custGeom>
            <a:avLst/>
            <a:gdLst/>
            <a:ahLst/>
            <a:rect l="l" t="t" r="r" b="b"/>
            <a:pathLst>
              <a:path w="879" h="428">
                <a:moveTo>
                  <a:pt x="16" y="426"/>
                </a:moveTo>
                <a:lnTo>
                  <a:pt x="15" y="422"/>
                </a:lnTo>
                <a:lnTo>
                  <a:pt x="13" y="413"/>
                </a:lnTo>
                <a:lnTo>
                  <a:pt x="0" y="393"/>
                </a:lnTo>
                <a:lnTo>
                  <a:pt x="0" y="389"/>
                </a:lnTo>
                <a:lnTo>
                  <a:pt x="7" y="384"/>
                </a:lnTo>
                <a:lnTo>
                  <a:pt x="5" y="373"/>
                </a:lnTo>
                <a:lnTo>
                  <a:pt x="4" y="367"/>
                </a:lnTo>
                <a:lnTo>
                  <a:pt x="2" y="366"/>
                </a:lnTo>
                <a:lnTo>
                  <a:pt x="4" y="360"/>
                </a:lnTo>
                <a:lnTo>
                  <a:pt x="5" y="355"/>
                </a:lnTo>
                <a:lnTo>
                  <a:pt x="7" y="336"/>
                </a:lnTo>
                <a:lnTo>
                  <a:pt x="5" y="331"/>
                </a:lnTo>
                <a:lnTo>
                  <a:pt x="37" y="333"/>
                </a:lnTo>
                <a:lnTo>
                  <a:pt x="51" y="338"/>
                </a:lnTo>
                <a:lnTo>
                  <a:pt x="58" y="340"/>
                </a:lnTo>
                <a:lnTo>
                  <a:pt x="66" y="338"/>
                </a:lnTo>
                <a:lnTo>
                  <a:pt x="75" y="336"/>
                </a:lnTo>
                <a:lnTo>
                  <a:pt x="84" y="327"/>
                </a:lnTo>
                <a:lnTo>
                  <a:pt x="86" y="324"/>
                </a:lnTo>
                <a:lnTo>
                  <a:pt x="84" y="316"/>
                </a:lnTo>
                <a:lnTo>
                  <a:pt x="79" y="311"/>
                </a:lnTo>
                <a:lnTo>
                  <a:pt x="79" y="305"/>
                </a:lnTo>
                <a:lnTo>
                  <a:pt x="91" y="298"/>
                </a:lnTo>
                <a:lnTo>
                  <a:pt x="100" y="292"/>
                </a:lnTo>
                <a:lnTo>
                  <a:pt x="108" y="291"/>
                </a:lnTo>
                <a:lnTo>
                  <a:pt x="122" y="289"/>
                </a:lnTo>
                <a:lnTo>
                  <a:pt x="128" y="285"/>
                </a:lnTo>
                <a:lnTo>
                  <a:pt x="135" y="281"/>
                </a:lnTo>
                <a:lnTo>
                  <a:pt x="139" y="281"/>
                </a:lnTo>
                <a:lnTo>
                  <a:pt x="143" y="283"/>
                </a:lnTo>
                <a:lnTo>
                  <a:pt x="148" y="285"/>
                </a:lnTo>
                <a:lnTo>
                  <a:pt x="168" y="280"/>
                </a:lnTo>
                <a:lnTo>
                  <a:pt x="179" y="269"/>
                </a:lnTo>
                <a:lnTo>
                  <a:pt x="186" y="252"/>
                </a:lnTo>
                <a:lnTo>
                  <a:pt x="186" y="245"/>
                </a:lnTo>
                <a:lnTo>
                  <a:pt x="185" y="241"/>
                </a:lnTo>
                <a:lnTo>
                  <a:pt x="185" y="239"/>
                </a:lnTo>
                <a:lnTo>
                  <a:pt x="186" y="234"/>
                </a:lnTo>
                <a:lnTo>
                  <a:pt x="190" y="228"/>
                </a:lnTo>
                <a:lnTo>
                  <a:pt x="196" y="227"/>
                </a:lnTo>
                <a:lnTo>
                  <a:pt x="208" y="221"/>
                </a:lnTo>
                <a:lnTo>
                  <a:pt x="225" y="216"/>
                </a:lnTo>
                <a:lnTo>
                  <a:pt x="236" y="214"/>
                </a:lnTo>
                <a:lnTo>
                  <a:pt x="247" y="207"/>
                </a:lnTo>
                <a:lnTo>
                  <a:pt x="249" y="205"/>
                </a:lnTo>
                <a:lnTo>
                  <a:pt x="252" y="199"/>
                </a:lnTo>
                <a:lnTo>
                  <a:pt x="258" y="194"/>
                </a:lnTo>
                <a:lnTo>
                  <a:pt x="267" y="188"/>
                </a:lnTo>
                <a:lnTo>
                  <a:pt x="276" y="188"/>
                </a:lnTo>
                <a:lnTo>
                  <a:pt x="287" y="185"/>
                </a:lnTo>
                <a:lnTo>
                  <a:pt x="300" y="166"/>
                </a:lnTo>
                <a:lnTo>
                  <a:pt x="313" y="159"/>
                </a:lnTo>
                <a:lnTo>
                  <a:pt x="316" y="152"/>
                </a:lnTo>
                <a:lnTo>
                  <a:pt x="318" y="148"/>
                </a:lnTo>
                <a:lnTo>
                  <a:pt x="324" y="144"/>
                </a:lnTo>
                <a:lnTo>
                  <a:pt x="331" y="144"/>
                </a:lnTo>
                <a:lnTo>
                  <a:pt x="353" y="135"/>
                </a:lnTo>
                <a:lnTo>
                  <a:pt x="353" y="0"/>
                </a:lnTo>
                <a:lnTo>
                  <a:pt x="371" y="0"/>
                </a:lnTo>
                <a:lnTo>
                  <a:pt x="386" y="2"/>
                </a:lnTo>
                <a:lnTo>
                  <a:pt x="397" y="5"/>
                </a:lnTo>
                <a:lnTo>
                  <a:pt x="400" y="9"/>
                </a:lnTo>
                <a:lnTo>
                  <a:pt x="404" y="15"/>
                </a:lnTo>
                <a:lnTo>
                  <a:pt x="406" y="16"/>
                </a:lnTo>
                <a:lnTo>
                  <a:pt x="406" y="20"/>
                </a:lnTo>
                <a:lnTo>
                  <a:pt x="404" y="22"/>
                </a:lnTo>
                <a:lnTo>
                  <a:pt x="400" y="27"/>
                </a:lnTo>
                <a:lnTo>
                  <a:pt x="395" y="31"/>
                </a:lnTo>
                <a:lnTo>
                  <a:pt x="389" y="37"/>
                </a:lnTo>
                <a:lnTo>
                  <a:pt x="389" y="44"/>
                </a:lnTo>
                <a:lnTo>
                  <a:pt x="393" y="48"/>
                </a:lnTo>
                <a:lnTo>
                  <a:pt x="395" y="49"/>
                </a:lnTo>
                <a:lnTo>
                  <a:pt x="399" y="48"/>
                </a:lnTo>
                <a:lnTo>
                  <a:pt x="404" y="49"/>
                </a:lnTo>
                <a:lnTo>
                  <a:pt x="406" y="53"/>
                </a:lnTo>
                <a:lnTo>
                  <a:pt x="409" y="60"/>
                </a:lnTo>
                <a:lnTo>
                  <a:pt x="411" y="62"/>
                </a:lnTo>
                <a:lnTo>
                  <a:pt x="419" y="66"/>
                </a:lnTo>
                <a:lnTo>
                  <a:pt x="422" y="68"/>
                </a:lnTo>
                <a:lnTo>
                  <a:pt x="439" y="66"/>
                </a:lnTo>
                <a:lnTo>
                  <a:pt x="448" y="62"/>
                </a:lnTo>
                <a:lnTo>
                  <a:pt x="457" y="64"/>
                </a:lnTo>
                <a:lnTo>
                  <a:pt x="461" y="75"/>
                </a:lnTo>
                <a:lnTo>
                  <a:pt x="466" y="80"/>
                </a:lnTo>
                <a:lnTo>
                  <a:pt x="477" y="86"/>
                </a:lnTo>
                <a:lnTo>
                  <a:pt x="494" y="90"/>
                </a:lnTo>
                <a:lnTo>
                  <a:pt x="506" y="95"/>
                </a:lnTo>
                <a:lnTo>
                  <a:pt x="510" y="99"/>
                </a:lnTo>
                <a:lnTo>
                  <a:pt x="512" y="101"/>
                </a:lnTo>
                <a:lnTo>
                  <a:pt x="514" y="102"/>
                </a:lnTo>
                <a:lnTo>
                  <a:pt x="514" y="108"/>
                </a:lnTo>
                <a:lnTo>
                  <a:pt x="516" y="110"/>
                </a:lnTo>
                <a:lnTo>
                  <a:pt x="532" y="113"/>
                </a:lnTo>
                <a:lnTo>
                  <a:pt x="541" y="113"/>
                </a:lnTo>
                <a:lnTo>
                  <a:pt x="547" y="111"/>
                </a:lnTo>
                <a:lnTo>
                  <a:pt x="570" y="113"/>
                </a:lnTo>
                <a:lnTo>
                  <a:pt x="585" y="115"/>
                </a:lnTo>
                <a:lnTo>
                  <a:pt x="590" y="119"/>
                </a:lnTo>
                <a:lnTo>
                  <a:pt x="601" y="121"/>
                </a:lnTo>
                <a:lnTo>
                  <a:pt x="611" y="117"/>
                </a:lnTo>
                <a:lnTo>
                  <a:pt x="618" y="117"/>
                </a:lnTo>
                <a:lnTo>
                  <a:pt x="625" y="121"/>
                </a:lnTo>
                <a:lnTo>
                  <a:pt x="629" y="122"/>
                </a:lnTo>
                <a:lnTo>
                  <a:pt x="642" y="121"/>
                </a:lnTo>
                <a:lnTo>
                  <a:pt x="649" y="119"/>
                </a:lnTo>
                <a:lnTo>
                  <a:pt x="662" y="119"/>
                </a:lnTo>
                <a:lnTo>
                  <a:pt x="686" y="121"/>
                </a:lnTo>
                <a:lnTo>
                  <a:pt x="709" y="124"/>
                </a:lnTo>
                <a:lnTo>
                  <a:pt x="718" y="124"/>
                </a:lnTo>
                <a:lnTo>
                  <a:pt x="737" y="130"/>
                </a:lnTo>
                <a:lnTo>
                  <a:pt x="746" y="133"/>
                </a:lnTo>
                <a:lnTo>
                  <a:pt x="762" y="141"/>
                </a:lnTo>
                <a:lnTo>
                  <a:pt x="773" y="148"/>
                </a:lnTo>
                <a:lnTo>
                  <a:pt x="810" y="168"/>
                </a:lnTo>
                <a:lnTo>
                  <a:pt x="815" y="170"/>
                </a:lnTo>
                <a:lnTo>
                  <a:pt x="821" y="170"/>
                </a:lnTo>
                <a:lnTo>
                  <a:pt x="821" y="302"/>
                </a:lnTo>
                <a:lnTo>
                  <a:pt x="823" y="303"/>
                </a:lnTo>
                <a:lnTo>
                  <a:pt x="846" y="305"/>
                </a:lnTo>
                <a:lnTo>
                  <a:pt x="857" y="311"/>
                </a:lnTo>
                <a:lnTo>
                  <a:pt x="867" y="318"/>
                </a:lnTo>
                <a:lnTo>
                  <a:pt x="876" y="329"/>
                </a:lnTo>
                <a:lnTo>
                  <a:pt x="879" y="334"/>
                </a:lnTo>
                <a:lnTo>
                  <a:pt x="852" y="345"/>
                </a:lnTo>
                <a:lnTo>
                  <a:pt x="845" y="345"/>
                </a:lnTo>
                <a:lnTo>
                  <a:pt x="782" y="345"/>
                </a:lnTo>
                <a:lnTo>
                  <a:pt x="775" y="344"/>
                </a:lnTo>
                <a:lnTo>
                  <a:pt x="764" y="336"/>
                </a:lnTo>
                <a:lnTo>
                  <a:pt x="748" y="333"/>
                </a:lnTo>
                <a:lnTo>
                  <a:pt x="733" y="327"/>
                </a:lnTo>
                <a:lnTo>
                  <a:pt x="693" y="314"/>
                </a:lnTo>
                <a:lnTo>
                  <a:pt x="689" y="311"/>
                </a:lnTo>
                <a:lnTo>
                  <a:pt x="691" y="311"/>
                </a:lnTo>
                <a:lnTo>
                  <a:pt x="687" y="303"/>
                </a:lnTo>
                <a:lnTo>
                  <a:pt x="675" y="302"/>
                </a:lnTo>
                <a:lnTo>
                  <a:pt x="667" y="303"/>
                </a:lnTo>
                <a:lnTo>
                  <a:pt x="653" y="316"/>
                </a:lnTo>
                <a:lnTo>
                  <a:pt x="649" y="324"/>
                </a:lnTo>
                <a:lnTo>
                  <a:pt x="649" y="329"/>
                </a:lnTo>
                <a:lnTo>
                  <a:pt x="649" y="338"/>
                </a:lnTo>
                <a:lnTo>
                  <a:pt x="658" y="371"/>
                </a:lnTo>
                <a:lnTo>
                  <a:pt x="662" y="375"/>
                </a:lnTo>
                <a:lnTo>
                  <a:pt x="665" y="378"/>
                </a:lnTo>
                <a:lnTo>
                  <a:pt x="667" y="380"/>
                </a:lnTo>
                <a:lnTo>
                  <a:pt x="665" y="386"/>
                </a:lnTo>
                <a:lnTo>
                  <a:pt x="664" y="391"/>
                </a:lnTo>
                <a:lnTo>
                  <a:pt x="664" y="395"/>
                </a:lnTo>
                <a:lnTo>
                  <a:pt x="664" y="398"/>
                </a:lnTo>
                <a:lnTo>
                  <a:pt x="667" y="406"/>
                </a:lnTo>
                <a:lnTo>
                  <a:pt x="658" y="420"/>
                </a:lnTo>
                <a:lnTo>
                  <a:pt x="658" y="424"/>
                </a:lnTo>
                <a:lnTo>
                  <a:pt x="660" y="428"/>
                </a:lnTo>
                <a:lnTo>
                  <a:pt x="653" y="426"/>
                </a:lnTo>
                <a:lnTo>
                  <a:pt x="16" y="42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69960" y="4241880"/>
            <a:ext cx="419040" cy="287280"/>
          </a:xfrm>
          <a:custGeom>
            <a:avLst/>
            <a:gdLst/>
            <a:ahLst/>
            <a:rect l="l" t="t" r="r" b="b"/>
            <a:pathLst>
              <a:path w="261" h="197">
                <a:moveTo>
                  <a:pt x="179" y="192"/>
                </a:moveTo>
                <a:lnTo>
                  <a:pt x="175" y="185"/>
                </a:lnTo>
                <a:lnTo>
                  <a:pt x="168" y="185"/>
                </a:lnTo>
                <a:lnTo>
                  <a:pt x="159" y="179"/>
                </a:lnTo>
                <a:lnTo>
                  <a:pt x="155" y="177"/>
                </a:lnTo>
                <a:lnTo>
                  <a:pt x="137" y="177"/>
                </a:lnTo>
                <a:lnTo>
                  <a:pt x="133" y="179"/>
                </a:lnTo>
                <a:lnTo>
                  <a:pt x="128" y="183"/>
                </a:lnTo>
                <a:lnTo>
                  <a:pt x="117" y="186"/>
                </a:lnTo>
                <a:lnTo>
                  <a:pt x="95" y="179"/>
                </a:lnTo>
                <a:lnTo>
                  <a:pt x="84" y="181"/>
                </a:lnTo>
                <a:lnTo>
                  <a:pt x="76" y="181"/>
                </a:lnTo>
                <a:lnTo>
                  <a:pt x="73" y="179"/>
                </a:lnTo>
                <a:lnTo>
                  <a:pt x="67" y="174"/>
                </a:lnTo>
                <a:lnTo>
                  <a:pt x="69" y="172"/>
                </a:lnTo>
                <a:lnTo>
                  <a:pt x="67" y="166"/>
                </a:lnTo>
                <a:lnTo>
                  <a:pt x="65" y="166"/>
                </a:lnTo>
                <a:lnTo>
                  <a:pt x="51" y="166"/>
                </a:lnTo>
                <a:lnTo>
                  <a:pt x="43" y="174"/>
                </a:lnTo>
                <a:lnTo>
                  <a:pt x="40" y="175"/>
                </a:lnTo>
                <a:lnTo>
                  <a:pt x="36" y="177"/>
                </a:lnTo>
                <a:lnTo>
                  <a:pt x="27" y="175"/>
                </a:lnTo>
                <a:lnTo>
                  <a:pt x="31" y="172"/>
                </a:lnTo>
                <a:lnTo>
                  <a:pt x="29" y="161"/>
                </a:lnTo>
                <a:lnTo>
                  <a:pt x="23" y="146"/>
                </a:lnTo>
                <a:lnTo>
                  <a:pt x="7" y="108"/>
                </a:lnTo>
                <a:lnTo>
                  <a:pt x="1" y="93"/>
                </a:lnTo>
                <a:lnTo>
                  <a:pt x="0" y="82"/>
                </a:lnTo>
                <a:lnTo>
                  <a:pt x="0" y="79"/>
                </a:lnTo>
                <a:lnTo>
                  <a:pt x="1" y="73"/>
                </a:lnTo>
                <a:lnTo>
                  <a:pt x="3" y="73"/>
                </a:lnTo>
                <a:lnTo>
                  <a:pt x="16" y="79"/>
                </a:lnTo>
                <a:lnTo>
                  <a:pt x="42" y="58"/>
                </a:lnTo>
                <a:lnTo>
                  <a:pt x="43" y="55"/>
                </a:lnTo>
                <a:lnTo>
                  <a:pt x="43" y="51"/>
                </a:lnTo>
                <a:lnTo>
                  <a:pt x="43" y="51"/>
                </a:lnTo>
                <a:lnTo>
                  <a:pt x="40" y="49"/>
                </a:lnTo>
                <a:lnTo>
                  <a:pt x="36" y="40"/>
                </a:lnTo>
                <a:lnTo>
                  <a:pt x="51" y="24"/>
                </a:lnTo>
                <a:lnTo>
                  <a:pt x="51" y="15"/>
                </a:lnTo>
                <a:lnTo>
                  <a:pt x="49" y="13"/>
                </a:lnTo>
                <a:lnTo>
                  <a:pt x="43" y="13"/>
                </a:lnTo>
                <a:lnTo>
                  <a:pt x="42" y="11"/>
                </a:lnTo>
                <a:lnTo>
                  <a:pt x="42" y="11"/>
                </a:lnTo>
                <a:lnTo>
                  <a:pt x="51" y="2"/>
                </a:lnTo>
                <a:lnTo>
                  <a:pt x="64" y="0"/>
                </a:lnTo>
                <a:lnTo>
                  <a:pt x="76" y="7"/>
                </a:lnTo>
                <a:lnTo>
                  <a:pt x="87" y="9"/>
                </a:lnTo>
                <a:lnTo>
                  <a:pt x="96" y="9"/>
                </a:lnTo>
                <a:lnTo>
                  <a:pt x="102" y="13"/>
                </a:lnTo>
                <a:lnTo>
                  <a:pt x="102" y="15"/>
                </a:lnTo>
                <a:lnTo>
                  <a:pt x="104" y="18"/>
                </a:lnTo>
                <a:lnTo>
                  <a:pt x="111" y="27"/>
                </a:lnTo>
                <a:lnTo>
                  <a:pt x="117" y="29"/>
                </a:lnTo>
                <a:lnTo>
                  <a:pt x="122" y="29"/>
                </a:lnTo>
                <a:lnTo>
                  <a:pt x="126" y="31"/>
                </a:lnTo>
                <a:lnTo>
                  <a:pt x="135" y="37"/>
                </a:lnTo>
                <a:lnTo>
                  <a:pt x="137" y="40"/>
                </a:lnTo>
                <a:lnTo>
                  <a:pt x="142" y="44"/>
                </a:lnTo>
                <a:lnTo>
                  <a:pt x="155" y="46"/>
                </a:lnTo>
                <a:lnTo>
                  <a:pt x="166" y="44"/>
                </a:lnTo>
                <a:lnTo>
                  <a:pt x="170" y="44"/>
                </a:lnTo>
                <a:lnTo>
                  <a:pt x="173" y="44"/>
                </a:lnTo>
                <a:lnTo>
                  <a:pt x="177" y="48"/>
                </a:lnTo>
                <a:lnTo>
                  <a:pt x="177" y="58"/>
                </a:lnTo>
                <a:lnTo>
                  <a:pt x="179" y="66"/>
                </a:lnTo>
                <a:lnTo>
                  <a:pt x="181" y="68"/>
                </a:lnTo>
                <a:lnTo>
                  <a:pt x="182" y="71"/>
                </a:lnTo>
                <a:lnTo>
                  <a:pt x="186" y="64"/>
                </a:lnTo>
                <a:lnTo>
                  <a:pt x="204" y="57"/>
                </a:lnTo>
                <a:lnTo>
                  <a:pt x="208" y="48"/>
                </a:lnTo>
                <a:lnTo>
                  <a:pt x="206" y="40"/>
                </a:lnTo>
                <a:lnTo>
                  <a:pt x="204" y="38"/>
                </a:lnTo>
                <a:lnTo>
                  <a:pt x="202" y="33"/>
                </a:lnTo>
                <a:lnTo>
                  <a:pt x="202" y="31"/>
                </a:lnTo>
                <a:lnTo>
                  <a:pt x="204" y="29"/>
                </a:lnTo>
                <a:lnTo>
                  <a:pt x="208" y="27"/>
                </a:lnTo>
                <a:lnTo>
                  <a:pt x="223" y="27"/>
                </a:lnTo>
                <a:lnTo>
                  <a:pt x="228" y="26"/>
                </a:lnTo>
                <a:lnTo>
                  <a:pt x="232" y="26"/>
                </a:lnTo>
                <a:lnTo>
                  <a:pt x="245" y="49"/>
                </a:lnTo>
                <a:lnTo>
                  <a:pt x="243" y="57"/>
                </a:lnTo>
                <a:lnTo>
                  <a:pt x="243" y="64"/>
                </a:lnTo>
                <a:lnTo>
                  <a:pt x="246" y="82"/>
                </a:lnTo>
                <a:lnTo>
                  <a:pt x="248" y="86"/>
                </a:lnTo>
                <a:lnTo>
                  <a:pt x="252" y="88"/>
                </a:lnTo>
                <a:lnTo>
                  <a:pt x="259" y="91"/>
                </a:lnTo>
                <a:lnTo>
                  <a:pt x="261" y="93"/>
                </a:lnTo>
                <a:lnTo>
                  <a:pt x="261" y="97"/>
                </a:lnTo>
                <a:lnTo>
                  <a:pt x="257" y="108"/>
                </a:lnTo>
                <a:lnTo>
                  <a:pt x="250" y="113"/>
                </a:lnTo>
                <a:lnTo>
                  <a:pt x="237" y="113"/>
                </a:lnTo>
                <a:lnTo>
                  <a:pt x="212" y="126"/>
                </a:lnTo>
                <a:lnTo>
                  <a:pt x="206" y="130"/>
                </a:lnTo>
                <a:lnTo>
                  <a:pt x="202" y="133"/>
                </a:lnTo>
                <a:lnTo>
                  <a:pt x="202" y="141"/>
                </a:lnTo>
                <a:lnTo>
                  <a:pt x="204" y="144"/>
                </a:lnTo>
                <a:lnTo>
                  <a:pt x="206" y="161"/>
                </a:lnTo>
                <a:lnTo>
                  <a:pt x="204" y="170"/>
                </a:lnTo>
                <a:lnTo>
                  <a:pt x="201" y="181"/>
                </a:lnTo>
                <a:lnTo>
                  <a:pt x="197" y="196"/>
                </a:lnTo>
                <a:lnTo>
                  <a:pt x="195" y="197"/>
                </a:lnTo>
                <a:lnTo>
                  <a:pt x="184" y="197"/>
                </a:lnTo>
                <a:lnTo>
                  <a:pt x="179" y="192"/>
                </a:lnTo>
                <a:lnTo>
                  <a:pt x="179" y="19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32000" y="3633840"/>
            <a:ext cx="1033560" cy="1096920"/>
          </a:xfrm>
          <a:custGeom>
            <a:avLst/>
            <a:gdLst/>
            <a:ahLst/>
            <a:rect l="l" t="t" r="r" b="b"/>
            <a:pathLst>
              <a:path w="647" h="749">
                <a:moveTo>
                  <a:pt x="0" y="585"/>
                </a:moveTo>
                <a:lnTo>
                  <a:pt x="0" y="168"/>
                </a:lnTo>
                <a:lnTo>
                  <a:pt x="0" y="108"/>
                </a:lnTo>
                <a:lnTo>
                  <a:pt x="51" y="110"/>
                </a:lnTo>
                <a:lnTo>
                  <a:pt x="161" y="108"/>
                </a:lnTo>
                <a:lnTo>
                  <a:pt x="236" y="38"/>
                </a:lnTo>
                <a:lnTo>
                  <a:pt x="236" y="35"/>
                </a:lnTo>
                <a:lnTo>
                  <a:pt x="236" y="31"/>
                </a:lnTo>
                <a:lnTo>
                  <a:pt x="238" y="31"/>
                </a:lnTo>
                <a:lnTo>
                  <a:pt x="241" y="29"/>
                </a:lnTo>
                <a:lnTo>
                  <a:pt x="245" y="29"/>
                </a:lnTo>
                <a:lnTo>
                  <a:pt x="261" y="31"/>
                </a:lnTo>
                <a:lnTo>
                  <a:pt x="270" y="38"/>
                </a:lnTo>
                <a:lnTo>
                  <a:pt x="274" y="38"/>
                </a:lnTo>
                <a:lnTo>
                  <a:pt x="280" y="37"/>
                </a:lnTo>
                <a:lnTo>
                  <a:pt x="285" y="27"/>
                </a:lnTo>
                <a:lnTo>
                  <a:pt x="285" y="20"/>
                </a:lnTo>
                <a:lnTo>
                  <a:pt x="298" y="7"/>
                </a:lnTo>
                <a:lnTo>
                  <a:pt x="300" y="4"/>
                </a:lnTo>
                <a:lnTo>
                  <a:pt x="298" y="0"/>
                </a:lnTo>
                <a:lnTo>
                  <a:pt x="303" y="4"/>
                </a:lnTo>
                <a:lnTo>
                  <a:pt x="314" y="15"/>
                </a:lnTo>
                <a:lnTo>
                  <a:pt x="320" y="18"/>
                </a:lnTo>
                <a:lnTo>
                  <a:pt x="329" y="24"/>
                </a:lnTo>
                <a:lnTo>
                  <a:pt x="340" y="27"/>
                </a:lnTo>
                <a:lnTo>
                  <a:pt x="344" y="29"/>
                </a:lnTo>
                <a:lnTo>
                  <a:pt x="345" y="33"/>
                </a:lnTo>
                <a:lnTo>
                  <a:pt x="349" y="35"/>
                </a:lnTo>
                <a:lnTo>
                  <a:pt x="362" y="42"/>
                </a:lnTo>
                <a:lnTo>
                  <a:pt x="365" y="42"/>
                </a:lnTo>
                <a:lnTo>
                  <a:pt x="369" y="40"/>
                </a:lnTo>
                <a:lnTo>
                  <a:pt x="373" y="38"/>
                </a:lnTo>
                <a:lnTo>
                  <a:pt x="380" y="46"/>
                </a:lnTo>
                <a:lnTo>
                  <a:pt x="382" y="48"/>
                </a:lnTo>
                <a:lnTo>
                  <a:pt x="398" y="53"/>
                </a:lnTo>
                <a:lnTo>
                  <a:pt x="411" y="57"/>
                </a:lnTo>
                <a:lnTo>
                  <a:pt x="419" y="57"/>
                </a:lnTo>
                <a:lnTo>
                  <a:pt x="428" y="60"/>
                </a:lnTo>
                <a:lnTo>
                  <a:pt x="448" y="71"/>
                </a:lnTo>
                <a:lnTo>
                  <a:pt x="455" y="77"/>
                </a:lnTo>
                <a:lnTo>
                  <a:pt x="461" y="77"/>
                </a:lnTo>
                <a:lnTo>
                  <a:pt x="468" y="75"/>
                </a:lnTo>
                <a:lnTo>
                  <a:pt x="475" y="73"/>
                </a:lnTo>
                <a:lnTo>
                  <a:pt x="479" y="75"/>
                </a:lnTo>
                <a:lnTo>
                  <a:pt x="481" y="77"/>
                </a:lnTo>
                <a:lnTo>
                  <a:pt x="481" y="90"/>
                </a:lnTo>
                <a:lnTo>
                  <a:pt x="477" y="97"/>
                </a:lnTo>
                <a:lnTo>
                  <a:pt x="472" y="99"/>
                </a:lnTo>
                <a:lnTo>
                  <a:pt x="470" y="104"/>
                </a:lnTo>
                <a:lnTo>
                  <a:pt x="473" y="124"/>
                </a:lnTo>
                <a:lnTo>
                  <a:pt x="470" y="124"/>
                </a:lnTo>
                <a:lnTo>
                  <a:pt x="466" y="132"/>
                </a:lnTo>
                <a:lnTo>
                  <a:pt x="466" y="135"/>
                </a:lnTo>
                <a:lnTo>
                  <a:pt x="473" y="139"/>
                </a:lnTo>
                <a:lnTo>
                  <a:pt x="483" y="135"/>
                </a:lnTo>
                <a:lnTo>
                  <a:pt x="484" y="133"/>
                </a:lnTo>
                <a:lnTo>
                  <a:pt x="486" y="135"/>
                </a:lnTo>
                <a:lnTo>
                  <a:pt x="495" y="141"/>
                </a:lnTo>
                <a:lnTo>
                  <a:pt x="503" y="144"/>
                </a:lnTo>
                <a:lnTo>
                  <a:pt x="515" y="148"/>
                </a:lnTo>
                <a:lnTo>
                  <a:pt x="532" y="154"/>
                </a:lnTo>
                <a:lnTo>
                  <a:pt x="567" y="172"/>
                </a:lnTo>
                <a:lnTo>
                  <a:pt x="581" y="183"/>
                </a:lnTo>
                <a:lnTo>
                  <a:pt x="596" y="199"/>
                </a:lnTo>
                <a:lnTo>
                  <a:pt x="601" y="208"/>
                </a:lnTo>
                <a:lnTo>
                  <a:pt x="603" y="210"/>
                </a:lnTo>
                <a:lnTo>
                  <a:pt x="601" y="214"/>
                </a:lnTo>
                <a:lnTo>
                  <a:pt x="598" y="219"/>
                </a:lnTo>
                <a:lnTo>
                  <a:pt x="592" y="225"/>
                </a:lnTo>
                <a:lnTo>
                  <a:pt x="578" y="243"/>
                </a:lnTo>
                <a:lnTo>
                  <a:pt x="576" y="249"/>
                </a:lnTo>
                <a:lnTo>
                  <a:pt x="576" y="256"/>
                </a:lnTo>
                <a:lnTo>
                  <a:pt x="578" y="261"/>
                </a:lnTo>
                <a:lnTo>
                  <a:pt x="583" y="272"/>
                </a:lnTo>
                <a:lnTo>
                  <a:pt x="590" y="282"/>
                </a:lnTo>
                <a:lnTo>
                  <a:pt x="605" y="293"/>
                </a:lnTo>
                <a:lnTo>
                  <a:pt x="620" y="300"/>
                </a:lnTo>
                <a:lnTo>
                  <a:pt x="623" y="300"/>
                </a:lnTo>
                <a:lnTo>
                  <a:pt x="636" y="294"/>
                </a:lnTo>
                <a:lnTo>
                  <a:pt x="638" y="294"/>
                </a:lnTo>
                <a:lnTo>
                  <a:pt x="643" y="303"/>
                </a:lnTo>
                <a:lnTo>
                  <a:pt x="645" y="320"/>
                </a:lnTo>
                <a:lnTo>
                  <a:pt x="647" y="351"/>
                </a:lnTo>
                <a:lnTo>
                  <a:pt x="631" y="369"/>
                </a:lnTo>
                <a:lnTo>
                  <a:pt x="620" y="384"/>
                </a:lnTo>
                <a:lnTo>
                  <a:pt x="610" y="399"/>
                </a:lnTo>
                <a:lnTo>
                  <a:pt x="607" y="404"/>
                </a:lnTo>
                <a:lnTo>
                  <a:pt x="596" y="415"/>
                </a:lnTo>
                <a:lnTo>
                  <a:pt x="583" y="426"/>
                </a:lnTo>
                <a:lnTo>
                  <a:pt x="568" y="441"/>
                </a:lnTo>
                <a:lnTo>
                  <a:pt x="565" y="446"/>
                </a:lnTo>
                <a:lnTo>
                  <a:pt x="561" y="455"/>
                </a:lnTo>
                <a:lnTo>
                  <a:pt x="561" y="457"/>
                </a:lnTo>
                <a:lnTo>
                  <a:pt x="563" y="459"/>
                </a:lnTo>
                <a:lnTo>
                  <a:pt x="563" y="466"/>
                </a:lnTo>
                <a:lnTo>
                  <a:pt x="557" y="470"/>
                </a:lnTo>
                <a:lnTo>
                  <a:pt x="548" y="477"/>
                </a:lnTo>
                <a:lnTo>
                  <a:pt x="534" y="484"/>
                </a:lnTo>
                <a:lnTo>
                  <a:pt x="499" y="499"/>
                </a:lnTo>
                <a:lnTo>
                  <a:pt x="488" y="503"/>
                </a:lnTo>
                <a:lnTo>
                  <a:pt x="444" y="514"/>
                </a:lnTo>
                <a:lnTo>
                  <a:pt x="419" y="523"/>
                </a:lnTo>
                <a:lnTo>
                  <a:pt x="375" y="530"/>
                </a:lnTo>
                <a:lnTo>
                  <a:pt x="356" y="534"/>
                </a:lnTo>
                <a:lnTo>
                  <a:pt x="345" y="537"/>
                </a:lnTo>
                <a:lnTo>
                  <a:pt x="334" y="537"/>
                </a:lnTo>
                <a:lnTo>
                  <a:pt x="280" y="547"/>
                </a:lnTo>
                <a:lnTo>
                  <a:pt x="247" y="550"/>
                </a:lnTo>
                <a:lnTo>
                  <a:pt x="214" y="552"/>
                </a:lnTo>
                <a:lnTo>
                  <a:pt x="199" y="552"/>
                </a:lnTo>
                <a:lnTo>
                  <a:pt x="192" y="550"/>
                </a:lnTo>
                <a:lnTo>
                  <a:pt x="177" y="554"/>
                </a:lnTo>
                <a:lnTo>
                  <a:pt x="150" y="552"/>
                </a:lnTo>
                <a:lnTo>
                  <a:pt x="131" y="548"/>
                </a:lnTo>
                <a:lnTo>
                  <a:pt x="124" y="545"/>
                </a:lnTo>
                <a:lnTo>
                  <a:pt x="122" y="539"/>
                </a:lnTo>
                <a:lnTo>
                  <a:pt x="113" y="536"/>
                </a:lnTo>
                <a:lnTo>
                  <a:pt x="100" y="532"/>
                </a:lnTo>
                <a:lnTo>
                  <a:pt x="97" y="534"/>
                </a:lnTo>
                <a:lnTo>
                  <a:pt x="95" y="536"/>
                </a:lnTo>
                <a:lnTo>
                  <a:pt x="97" y="539"/>
                </a:lnTo>
                <a:lnTo>
                  <a:pt x="102" y="545"/>
                </a:lnTo>
                <a:lnTo>
                  <a:pt x="106" y="548"/>
                </a:lnTo>
                <a:lnTo>
                  <a:pt x="100" y="561"/>
                </a:lnTo>
                <a:lnTo>
                  <a:pt x="99" y="569"/>
                </a:lnTo>
                <a:lnTo>
                  <a:pt x="102" y="578"/>
                </a:lnTo>
                <a:lnTo>
                  <a:pt x="117" y="581"/>
                </a:lnTo>
                <a:lnTo>
                  <a:pt x="126" y="583"/>
                </a:lnTo>
                <a:lnTo>
                  <a:pt x="130" y="589"/>
                </a:lnTo>
                <a:lnTo>
                  <a:pt x="131" y="589"/>
                </a:lnTo>
                <a:lnTo>
                  <a:pt x="130" y="592"/>
                </a:lnTo>
                <a:lnTo>
                  <a:pt x="128" y="592"/>
                </a:lnTo>
                <a:lnTo>
                  <a:pt x="119" y="587"/>
                </a:lnTo>
                <a:lnTo>
                  <a:pt x="115" y="583"/>
                </a:lnTo>
                <a:lnTo>
                  <a:pt x="108" y="583"/>
                </a:lnTo>
                <a:lnTo>
                  <a:pt x="106" y="585"/>
                </a:lnTo>
                <a:lnTo>
                  <a:pt x="121" y="594"/>
                </a:lnTo>
                <a:lnTo>
                  <a:pt x="126" y="601"/>
                </a:lnTo>
                <a:lnTo>
                  <a:pt x="122" y="622"/>
                </a:lnTo>
                <a:lnTo>
                  <a:pt x="122" y="634"/>
                </a:lnTo>
                <a:lnTo>
                  <a:pt x="117" y="636"/>
                </a:lnTo>
                <a:lnTo>
                  <a:pt x="108" y="634"/>
                </a:lnTo>
                <a:lnTo>
                  <a:pt x="104" y="638"/>
                </a:lnTo>
                <a:lnTo>
                  <a:pt x="100" y="651"/>
                </a:lnTo>
                <a:lnTo>
                  <a:pt x="100" y="662"/>
                </a:lnTo>
                <a:lnTo>
                  <a:pt x="99" y="667"/>
                </a:lnTo>
                <a:lnTo>
                  <a:pt x="97" y="669"/>
                </a:lnTo>
                <a:lnTo>
                  <a:pt x="91" y="673"/>
                </a:lnTo>
                <a:lnTo>
                  <a:pt x="86" y="678"/>
                </a:lnTo>
                <a:lnTo>
                  <a:pt x="93" y="693"/>
                </a:lnTo>
                <a:lnTo>
                  <a:pt x="104" y="702"/>
                </a:lnTo>
                <a:lnTo>
                  <a:pt x="108" y="704"/>
                </a:lnTo>
                <a:lnTo>
                  <a:pt x="110" y="707"/>
                </a:lnTo>
                <a:lnTo>
                  <a:pt x="108" y="709"/>
                </a:lnTo>
                <a:lnTo>
                  <a:pt x="104" y="709"/>
                </a:lnTo>
                <a:lnTo>
                  <a:pt x="100" y="707"/>
                </a:lnTo>
                <a:lnTo>
                  <a:pt x="100" y="707"/>
                </a:lnTo>
                <a:lnTo>
                  <a:pt x="100" y="713"/>
                </a:lnTo>
                <a:lnTo>
                  <a:pt x="102" y="715"/>
                </a:lnTo>
                <a:lnTo>
                  <a:pt x="110" y="711"/>
                </a:lnTo>
                <a:lnTo>
                  <a:pt x="115" y="709"/>
                </a:lnTo>
                <a:lnTo>
                  <a:pt x="115" y="709"/>
                </a:lnTo>
                <a:lnTo>
                  <a:pt x="115" y="711"/>
                </a:lnTo>
                <a:lnTo>
                  <a:pt x="111" y="713"/>
                </a:lnTo>
                <a:lnTo>
                  <a:pt x="102" y="731"/>
                </a:lnTo>
                <a:lnTo>
                  <a:pt x="95" y="737"/>
                </a:lnTo>
                <a:lnTo>
                  <a:pt x="77" y="744"/>
                </a:lnTo>
                <a:lnTo>
                  <a:pt x="64" y="749"/>
                </a:lnTo>
                <a:lnTo>
                  <a:pt x="58" y="749"/>
                </a:lnTo>
                <a:lnTo>
                  <a:pt x="55" y="744"/>
                </a:lnTo>
                <a:lnTo>
                  <a:pt x="46" y="733"/>
                </a:lnTo>
                <a:lnTo>
                  <a:pt x="36" y="726"/>
                </a:lnTo>
                <a:lnTo>
                  <a:pt x="25" y="720"/>
                </a:lnTo>
                <a:lnTo>
                  <a:pt x="2" y="718"/>
                </a:lnTo>
                <a:lnTo>
                  <a:pt x="0" y="717"/>
                </a:lnTo>
                <a:lnTo>
                  <a:pt x="0" y="585"/>
                </a:lnTo>
                <a:moveTo>
                  <a:pt x="133" y="559"/>
                </a:moveTo>
                <a:lnTo>
                  <a:pt x="122" y="558"/>
                </a:lnTo>
                <a:lnTo>
                  <a:pt x="121" y="554"/>
                </a:lnTo>
                <a:lnTo>
                  <a:pt x="122" y="554"/>
                </a:lnTo>
                <a:lnTo>
                  <a:pt x="128" y="554"/>
                </a:lnTo>
                <a:lnTo>
                  <a:pt x="135" y="556"/>
                </a:lnTo>
                <a:lnTo>
                  <a:pt x="137" y="556"/>
                </a:lnTo>
                <a:lnTo>
                  <a:pt x="137" y="558"/>
                </a:lnTo>
                <a:lnTo>
                  <a:pt x="133" y="559"/>
                </a:lnTo>
                <a:moveTo>
                  <a:pt x="142" y="576"/>
                </a:moveTo>
                <a:lnTo>
                  <a:pt x="128" y="569"/>
                </a:lnTo>
                <a:lnTo>
                  <a:pt x="124" y="563"/>
                </a:lnTo>
                <a:lnTo>
                  <a:pt x="124" y="561"/>
                </a:lnTo>
                <a:lnTo>
                  <a:pt x="137" y="565"/>
                </a:lnTo>
                <a:lnTo>
                  <a:pt x="144" y="567"/>
                </a:lnTo>
                <a:lnTo>
                  <a:pt x="146" y="576"/>
                </a:lnTo>
                <a:lnTo>
                  <a:pt x="142" y="57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66920" y="4484520"/>
            <a:ext cx="495360" cy="655920"/>
          </a:xfrm>
          <a:custGeom>
            <a:avLst/>
            <a:gdLst/>
            <a:ahLst/>
            <a:rect l="l" t="t" r="r" b="b"/>
            <a:pathLst>
              <a:path w="310" h="448">
                <a:moveTo>
                  <a:pt x="193" y="428"/>
                </a:moveTo>
                <a:lnTo>
                  <a:pt x="193" y="424"/>
                </a:lnTo>
                <a:lnTo>
                  <a:pt x="193" y="424"/>
                </a:lnTo>
                <a:lnTo>
                  <a:pt x="192" y="428"/>
                </a:lnTo>
                <a:lnTo>
                  <a:pt x="188" y="426"/>
                </a:lnTo>
                <a:lnTo>
                  <a:pt x="184" y="424"/>
                </a:lnTo>
                <a:lnTo>
                  <a:pt x="179" y="424"/>
                </a:lnTo>
                <a:lnTo>
                  <a:pt x="175" y="426"/>
                </a:lnTo>
                <a:lnTo>
                  <a:pt x="175" y="424"/>
                </a:lnTo>
                <a:lnTo>
                  <a:pt x="175" y="413"/>
                </a:lnTo>
                <a:lnTo>
                  <a:pt x="168" y="399"/>
                </a:lnTo>
                <a:lnTo>
                  <a:pt x="171" y="386"/>
                </a:lnTo>
                <a:lnTo>
                  <a:pt x="181" y="382"/>
                </a:lnTo>
                <a:lnTo>
                  <a:pt x="188" y="379"/>
                </a:lnTo>
                <a:lnTo>
                  <a:pt x="188" y="373"/>
                </a:lnTo>
                <a:lnTo>
                  <a:pt x="186" y="368"/>
                </a:lnTo>
                <a:lnTo>
                  <a:pt x="186" y="366"/>
                </a:lnTo>
                <a:lnTo>
                  <a:pt x="192" y="359"/>
                </a:lnTo>
                <a:lnTo>
                  <a:pt x="195" y="357"/>
                </a:lnTo>
                <a:lnTo>
                  <a:pt x="204" y="360"/>
                </a:lnTo>
                <a:lnTo>
                  <a:pt x="204" y="348"/>
                </a:lnTo>
                <a:lnTo>
                  <a:pt x="201" y="346"/>
                </a:lnTo>
                <a:lnTo>
                  <a:pt x="195" y="342"/>
                </a:lnTo>
                <a:lnTo>
                  <a:pt x="193" y="340"/>
                </a:lnTo>
                <a:lnTo>
                  <a:pt x="193" y="335"/>
                </a:lnTo>
                <a:lnTo>
                  <a:pt x="193" y="315"/>
                </a:lnTo>
                <a:lnTo>
                  <a:pt x="197" y="309"/>
                </a:lnTo>
                <a:lnTo>
                  <a:pt x="197" y="307"/>
                </a:lnTo>
                <a:lnTo>
                  <a:pt x="210" y="309"/>
                </a:lnTo>
                <a:lnTo>
                  <a:pt x="213" y="311"/>
                </a:lnTo>
                <a:lnTo>
                  <a:pt x="223" y="315"/>
                </a:lnTo>
                <a:lnTo>
                  <a:pt x="224" y="315"/>
                </a:lnTo>
                <a:lnTo>
                  <a:pt x="223" y="311"/>
                </a:lnTo>
                <a:lnTo>
                  <a:pt x="221" y="311"/>
                </a:lnTo>
                <a:lnTo>
                  <a:pt x="213" y="309"/>
                </a:lnTo>
                <a:lnTo>
                  <a:pt x="210" y="307"/>
                </a:lnTo>
                <a:lnTo>
                  <a:pt x="193" y="289"/>
                </a:lnTo>
                <a:lnTo>
                  <a:pt x="193" y="287"/>
                </a:lnTo>
                <a:lnTo>
                  <a:pt x="199" y="284"/>
                </a:lnTo>
                <a:lnTo>
                  <a:pt x="204" y="282"/>
                </a:lnTo>
                <a:lnTo>
                  <a:pt x="215" y="278"/>
                </a:lnTo>
                <a:lnTo>
                  <a:pt x="219" y="278"/>
                </a:lnTo>
                <a:lnTo>
                  <a:pt x="221" y="280"/>
                </a:lnTo>
                <a:lnTo>
                  <a:pt x="223" y="284"/>
                </a:lnTo>
                <a:lnTo>
                  <a:pt x="223" y="285"/>
                </a:lnTo>
                <a:lnTo>
                  <a:pt x="232" y="304"/>
                </a:lnTo>
                <a:lnTo>
                  <a:pt x="234" y="306"/>
                </a:lnTo>
                <a:lnTo>
                  <a:pt x="234" y="306"/>
                </a:lnTo>
                <a:lnTo>
                  <a:pt x="235" y="302"/>
                </a:lnTo>
                <a:lnTo>
                  <a:pt x="234" y="296"/>
                </a:lnTo>
                <a:lnTo>
                  <a:pt x="230" y="280"/>
                </a:lnTo>
                <a:lnTo>
                  <a:pt x="228" y="273"/>
                </a:lnTo>
                <a:lnTo>
                  <a:pt x="232" y="258"/>
                </a:lnTo>
                <a:lnTo>
                  <a:pt x="228" y="256"/>
                </a:lnTo>
                <a:lnTo>
                  <a:pt x="224" y="256"/>
                </a:lnTo>
                <a:lnTo>
                  <a:pt x="223" y="260"/>
                </a:lnTo>
                <a:lnTo>
                  <a:pt x="215" y="262"/>
                </a:lnTo>
                <a:lnTo>
                  <a:pt x="204" y="262"/>
                </a:lnTo>
                <a:lnTo>
                  <a:pt x="197" y="258"/>
                </a:lnTo>
                <a:lnTo>
                  <a:pt x="192" y="254"/>
                </a:lnTo>
                <a:lnTo>
                  <a:pt x="193" y="251"/>
                </a:lnTo>
                <a:lnTo>
                  <a:pt x="197" y="245"/>
                </a:lnTo>
                <a:lnTo>
                  <a:pt x="212" y="234"/>
                </a:lnTo>
                <a:lnTo>
                  <a:pt x="213" y="234"/>
                </a:lnTo>
                <a:lnTo>
                  <a:pt x="219" y="234"/>
                </a:lnTo>
                <a:lnTo>
                  <a:pt x="230" y="232"/>
                </a:lnTo>
                <a:lnTo>
                  <a:pt x="237" y="231"/>
                </a:lnTo>
                <a:lnTo>
                  <a:pt x="241" y="227"/>
                </a:lnTo>
                <a:lnTo>
                  <a:pt x="243" y="225"/>
                </a:lnTo>
                <a:lnTo>
                  <a:pt x="246" y="207"/>
                </a:lnTo>
                <a:lnTo>
                  <a:pt x="243" y="207"/>
                </a:lnTo>
                <a:lnTo>
                  <a:pt x="239" y="225"/>
                </a:lnTo>
                <a:lnTo>
                  <a:pt x="237" y="227"/>
                </a:lnTo>
                <a:lnTo>
                  <a:pt x="230" y="231"/>
                </a:lnTo>
                <a:lnTo>
                  <a:pt x="219" y="232"/>
                </a:lnTo>
                <a:lnTo>
                  <a:pt x="215" y="232"/>
                </a:lnTo>
                <a:lnTo>
                  <a:pt x="210" y="229"/>
                </a:lnTo>
                <a:lnTo>
                  <a:pt x="208" y="223"/>
                </a:lnTo>
                <a:lnTo>
                  <a:pt x="197" y="214"/>
                </a:lnTo>
                <a:lnTo>
                  <a:pt x="193" y="212"/>
                </a:lnTo>
                <a:lnTo>
                  <a:pt x="184" y="211"/>
                </a:lnTo>
                <a:lnTo>
                  <a:pt x="175" y="214"/>
                </a:lnTo>
                <a:lnTo>
                  <a:pt x="170" y="220"/>
                </a:lnTo>
                <a:lnTo>
                  <a:pt x="170" y="223"/>
                </a:lnTo>
                <a:lnTo>
                  <a:pt x="173" y="225"/>
                </a:lnTo>
                <a:lnTo>
                  <a:pt x="173" y="231"/>
                </a:lnTo>
                <a:lnTo>
                  <a:pt x="168" y="236"/>
                </a:lnTo>
                <a:lnTo>
                  <a:pt x="160" y="240"/>
                </a:lnTo>
                <a:lnTo>
                  <a:pt x="157" y="240"/>
                </a:lnTo>
                <a:lnTo>
                  <a:pt x="148" y="238"/>
                </a:lnTo>
                <a:lnTo>
                  <a:pt x="140" y="238"/>
                </a:lnTo>
                <a:lnTo>
                  <a:pt x="129" y="242"/>
                </a:lnTo>
                <a:lnTo>
                  <a:pt x="122" y="238"/>
                </a:lnTo>
                <a:lnTo>
                  <a:pt x="107" y="236"/>
                </a:lnTo>
                <a:lnTo>
                  <a:pt x="109" y="229"/>
                </a:lnTo>
                <a:lnTo>
                  <a:pt x="113" y="225"/>
                </a:lnTo>
                <a:lnTo>
                  <a:pt x="117" y="223"/>
                </a:lnTo>
                <a:lnTo>
                  <a:pt x="122" y="223"/>
                </a:lnTo>
                <a:lnTo>
                  <a:pt x="126" y="223"/>
                </a:lnTo>
                <a:lnTo>
                  <a:pt x="131" y="214"/>
                </a:lnTo>
                <a:lnTo>
                  <a:pt x="131" y="214"/>
                </a:lnTo>
                <a:lnTo>
                  <a:pt x="129" y="214"/>
                </a:lnTo>
                <a:lnTo>
                  <a:pt x="126" y="222"/>
                </a:lnTo>
                <a:lnTo>
                  <a:pt x="124" y="222"/>
                </a:lnTo>
                <a:lnTo>
                  <a:pt x="122" y="222"/>
                </a:lnTo>
                <a:lnTo>
                  <a:pt x="111" y="222"/>
                </a:lnTo>
                <a:lnTo>
                  <a:pt x="109" y="222"/>
                </a:lnTo>
                <a:lnTo>
                  <a:pt x="104" y="218"/>
                </a:lnTo>
                <a:lnTo>
                  <a:pt x="96" y="211"/>
                </a:lnTo>
                <a:lnTo>
                  <a:pt x="95" y="207"/>
                </a:lnTo>
                <a:lnTo>
                  <a:pt x="96" y="203"/>
                </a:lnTo>
                <a:lnTo>
                  <a:pt x="96" y="198"/>
                </a:lnTo>
                <a:lnTo>
                  <a:pt x="93" y="187"/>
                </a:lnTo>
                <a:lnTo>
                  <a:pt x="87" y="181"/>
                </a:lnTo>
                <a:lnTo>
                  <a:pt x="84" y="161"/>
                </a:lnTo>
                <a:lnTo>
                  <a:pt x="100" y="128"/>
                </a:lnTo>
                <a:lnTo>
                  <a:pt x="107" y="119"/>
                </a:lnTo>
                <a:lnTo>
                  <a:pt x="107" y="115"/>
                </a:lnTo>
                <a:lnTo>
                  <a:pt x="104" y="108"/>
                </a:lnTo>
                <a:lnTo>
                  <a:pt x="109" y="86"/>
                </a:lnTo>
                <a:lnTo>
                  <a:pt x="117" y="79"/>
                </a:lnTo>
                <a:lnTo>
                  <a:pt x="115" y="72"/>
                </a:lnTo>
                <a:lnTo>
                  <a:pt x="111" y="68"/>
                </a:lnTo>
                <a:lnTo>
                  <a:pt x="111" y="66"/>
                </a:lnTo>
                <a:lnTo>
                  <a:pt x="115" y="62"/>
                </a:lnTo>
                <a:lnTo>
                  <a:pt x="131" y="55"/>
                </a:lnTo>
                <a:lnTo>
                  <a:pt x="140" y="57"/>
                </a:lnTo>
                <a:lnTo>
                  <a:pt x="142" y="53"/>
                </a:lnTo>
                <a:lnTo>
                  <a:pt x="142" y="42"/>
                </a:lnTo>
                <a:lnTo>
                  <a:pt x="155" y="20"/>
                </a:lnTo>
                <a:lnTo>
                  <a:pt x="159" y="13"/>
                </a:lnTo>
                <a:lnTo>
                  <a:pt x="159" y="11"/>
                </a:lnTo>
                <a:lnTo>
                  <a:pt x="155" y="9"/>
                </a:lnTo>
                <a:lnTo>
                  <a:pt x="164" y="11"/>
                </a:lnTo>
                <a:lnTo>
                  <a:pt x="168" y="9"/>
                </a:lnTo>
                <a:lnTo>
                  <a:pt x="171" y="8"/>
                </a:lnTo>
                <a:lnTo>
                  <a:pt x="179" y="0"/>
                </a:lnTo>
                <a:lnTo>
                  <a:pt x="193" y="0"/>
                </a:lnTo>
                <a:lnTo>
                  <a:pt x="195" y="0"/>
                </a:lnTo>
                <a:lnTo>
                  <a:pt x="197" y="6"/>
                </a:lnTo>
                <a:lnTo>
                  <a:pt x="195" y="8"/>
                </a:lnTo>
                <a:lnTo>
                  <a:pt x="201" y="13"/>
                </a:lnTo>
                <a:lnTo>
                  <a:pt x="204" y="15"/>
                </a:lnTo>
                <a:lnTo>
                  <a:pt x="212" y="15"/>
                </a:lnTo>
                <a:lnTo>
                  <a:pt x="223" y="13"/>
                </a:lnTo>
                <a:lnTo>
                  <a:pt x="245" y="20"/>
                </a:lnTo>
                <a:lnTo>
                  <a:pt x="256" y="17"/>
                </a:lnTo>
                <a:lnTo>
                  <a:pt x="261" y="13"/>
                </a:lnTo>
                <a:lnTo>
                  <a:pt x="265" y="11"/>
                </a:lnTo>
                <a:lnTo>
                  <a:pt x="283" y="11"/>
                </a:lnTo>
                <a:lnTo>
                  <a:pt x="287" y="13"/>
                </a:lnTo>
                <a:lnTo>
                  <a:pt x="296" y="19"/>
                </a:lnTo>
                <a:lnTo>
                  <a:pt x="303" y="19"/>
                </a:lnTo>
                <a:lnTo>
                  <a:pt x="307" y="26"/>
                </a:lnTo>
                <a:lnTo>
                  <a:pt x="305" y="28"/>
                </a:lnTo>
                <a:lnTo>
                  <a:pt x="303" y="33"/>
                </a:lnTo>
                <a:lnTo>
                  <a:pt x="303" y="42"/>
                </a:lnTo>
                <a:lnTo>
                  <a:pt x="307" y="53"/>
                </a:lnTo>
                <a:lnTo>
                  <a:pt x="309" y="55"/>
                </a:lnTo>
                <a:lnTo>
                  <a:pt x="310" y="62"/>
                </a:lnTo>
                <a:lnTo>
                  <a:pt x="307" y="73"/>
                </a:lnTo>
                <a:lnTo>
                  <a:pt x="296" y="79"/>
                </a:lnTo>
                <a:lnTo>
                  <a:pt x="292" y="88"/>
                </a:lnTo>
                <a:lnTo>
                  <a:pt x="296" y="92"/>
                </a:lnTo>
                <a:lnTo>
                  <a:pt x="301" y="97"/>
                </a:lnTo>
                <a:lnTo>
                  <a:pt x="303" y="97"/>
                </a:lnTo>
                <a:lnTo>
                  <a:pt x="305" y="95"/>
                </a:lnTo>
                <a:lnTo>
                  <a:pt x="307" y="97"/>
                </a:lnTo>
                <a:lnTo>
                  <a:pt x="309" y="101"/>
                </a:lnTo>
                <a:lnTo>
                  <a:pt x="303" y="110"/>
                </a:lnTo>
                <a:lnTo>
                  <a:pt x="301" y="110"/>
                </a:lnTo>
                <a:lnTo>
                  <a:pt x="298" y="106"/>
                </a:lnTo>
                <a:lnTo>
                  <a:pt x="296" y="108"/>
                </a:lnTo>
                <a:lnTo>
                  <a:pt x="290" y="119"/>
                </a:lnTo>
                <a:lnTo>
                  <a:pt x="290" y="123"/>
                </a:lnTo>
                <a:lnTo>
                  <a:pt x="292" y="125"/>
                </a:lnTo>
                <a:lnTo>
                  <a:pt x="290" y="126"/>
                </a:lnTo>
                <a:lnTo>
                  <a:pt x="287" y="132"/>
                </a:lnTo>
                <a:lnTo>
                  <a:pt x="281" y="137"/>
                </a:lnTo>
                <a:lnTo>
                  <a:pt x="281" y="139"/>
                </a:lnTo>
                <a:lnTo>
                  <a:pt x="283" y="145"/>
                </a:lnTo>
                <a:lnTo>
                  <a:pt x="290" y="156"/>
                </a:lnTo>
                <a:lnTo>
                  <a:pt x="290" y="159"/>
                </a:lnTo>
                <a:lnTo>
                  <a:pt x="288" y="165"/>
                </a:lnTo>
                <a:lnTo>
                  <a:pt x="290" y="170"/>
                </a:lnTo>
                <a:lnTo>
                  <a:pt x="288" y="189"/>
                </a:lnTo>
                <a:lnTo>
                  <a:pt x="287" y="194"/>
                </a:lnTo>
                <a:lnTo>
                  <a:pt x="285" y="200"/>
                </a:lnTo>
                <a:lnTo>
                  <a:pt x="287" y="201"/>
                </a:lnTo>
                <a:lnTo>
                  <a:pt x="288" y="207"/>
                </a:lnTo>
                <a:lnTo>
                  <a:pt x="290" y="218"/>
                </a:lnTo>
                <a:lnTo>
                  <a:pt x="283" y="223"/>
                </a:lnTo>
                <a:lnTo>
                  <a:pt x="283" y="227"/>
                </a:lnTo>
                <a:lnTo>
                  <a:pt x="296" y="247"/>
                </a:lnTo>
                <a:lnTo>
                  <a:pt x="298" y="256"/>
                </a:lnTo>
                <a:lnTo>
                  <a:pt x="299" y="260"/>
                </a:lnTo>
                <a:lnTo>
                  <a:pt x="301" y="264"/>
                </a:lnTo>
                <a:lnTo>
                  <a:pt x="301" y="271"/>
                </a:lnTo>
                <a:lnTo>
                  <a:pt x="296" y="273"/>
                </a:lnTo>
                <a:lnTo>
                  <a:pt x="283" y="278"/>
                </a:lnTo>
                <a:lnTo>
                  <a:pt x="281" y="276"/>
                </a:lnTo>
                <a:lnTo>
                  <a:pt x="281" y="275"/>
                </a:lnTo>
                <a:lnTo>
                  <a:pt x="279" y="273"/>
                </a:lnTo>
                <a:lnTo>
                  <a:pt x="277" y="273"/>
                </a:lnTo>
                <a:lnTo>
                  <a:pt x="274" y="273"/>
                </a:lnTo>
                <a:lnTo>
                  <a:pt x="272" y="275"/>
                </a:lnTo>
                <a:lnTo>
                  <a:pt x="263" y="287"/>
                </a:lnTo>
                <a:lnTo>
                  <a:pt x="265" y="291"/>
                </a:lnTo>
                <a:lnTo>
                  <a:pt x="270" y="295"/>
                </a:lnTo>
                <a:lnTo>
                  <a:pt x="272" y="296"/>
                </a:lnTo>
                <a:lnTo>
                  <a:pt x="263" y="317"/>
                </a:lnTo>
                <a:lnTo>
                  <a:pt x="263" y="324"/>
                </a:lnTo>
                <a:lnTo>
                  <a:pt x="265" y="329"/>
                </a:lnTo>
                <a:lnTo>
                  <a:pt x="266" y="342"/>
                </a:lnTo>
                <a:lnTo>
                  <a:pt x="265" y="348"/>
                </a:lnTo>
                <a:lnTo>
                  <a:pt x="263" y="351"/>
                </a:lnTo>
                <a:lnTo>
                  <a:pt x="263" y="355"/>
                </a:lnTo>
                <a:lnTo>
                  <a:pt x="263" y="357"/>
                </a:lnTo>
                <a:lnTo>
                  <a:pt x="265" y="360"/>
                </a:lnTo>
                <a:lnTo>
                  <a:pt x="268" y="366"/>
                </a:lnTo>
                <a:lnTo>
                  <a:pt x="270" y="366"/>
                </a:lnTo>
                <a:lnTo>
                  <a:pt x="276" y="368"/>
                </a:lnTo>
                <a:lnTo>
                  <a:pt x="292" y="370"/>
                </a:lnTo>
                <a:lnTo>
                  <a:pt x="301" y="373"/>
                </a:lnTo>
                <a:lnTo>
                  <a:pt x="301" y="382"/>
                </a:lnTo>
                <a:lnTo>
                  <a:pt x="299" y="386"/>
                </a:lnTo>
                <a:lnTo>
                  <a:pt x="298" y="386"/>
                </a:lnTo>
                <a:lnTo>
                  <a:pt x="296" y="386"/>
                </a:lnTo>
                <a:lnTo>
                  <a:pt x="285" y="388"/>
                </a:lnTo>
                <a:lnTo>
                  <a:pt x="283" y="393"/>
                </a:lnTo>
                <a:lnTo>
                  <a:pt x="281" y="399"/>
                </a:lnTo>
                <a:lnTo>
                  <a:pt x="290" y="404"/>
                </a:lnTo>
                <a:lnTo>
                  <a:pt x="305" y="413"/>
                </a:lnTo>
                <a:lnTo>
                  <a:pt x="305" y="421"/>
                </a:lnTo>
                <a:lnTo>
                  <a:pt x="305" y="423"/>
                </a:lnTo>
                <a:lnTo>
                  <a:pt x="294" y="426"/>
                </a:lnTo>
                <a:lnTo>
                  <a:pt x="294" y="428"/>
                </a:lnTo>
                <a:lnTo>
                  <a:pt x="294" y="432"/>
                </a:lnTo>
                <a:lnTo>
                  <a:pt x="305" y="439"/>
                </a:lnTo>
                <a:lnTo>
                  <a:pt x="298" y="437"/>
                </a:lnTo>
                <a:lnTo>
                  <a:pt x="294" y="437"/>
                </a:lnTo>
                <a:lnTo>
                  <a:pt x="281" y="441"/>
                </a:lnTo>
                <a:lnTo>
                  <a:pt x="279" y="446"/>
                </a:lnTo>
                <a:lnTo>
                  <a:pt x="266" y="448"/>
                </a:lnTo>
                <a:lnTo>
                  <a:pt x="265" y="446"/>
                </a:lnTo>
                <a:lnTo>
                  <a:pt x="265" y="443"/>
                </a:lnTo>
                <a:lnTo>
                  <a:pt x="259" y="437"/>
                </a:lnTo>
                <a:lnTo>
                  <a:pt x="257" y="437"/>
                </a:lnTo>
                <a:lnTo>
                  <a:pt x="250" y="435"/>
                </a:lnTo>
                <a:lnTo>
                  <a:pt x="243" y="426"/>
                </a:lnTo>
                <a:lnTo>
                  <a:pt x="243" y="423"/>
                </a:lnTo>
                <a:lnTo>
                  <a:pt x="243" y="421"/>
                </a:lnTo>
                <a:lnTo>
                  <a:pt x="239" y="421"/>
                </a:lnTo>
                <a:lnTo>
                  <a:pt x="232" y="426"/>
                </a:lnTo>
                <a:lnTo>
                  <a:pt x="228" y="428"/>
                </a:lnTo>
                <a:lnTo>
                  <a:pt x="228" y="434"/>
                </a:lnTo>
                <a:lnTo>
                  <a:pt x="208" y="432"/>
                </a:lnTo>
                <a:lnTo>
                  <a:pt x="202" y="430"/>
                </a:lnTo>
                <a:lnTo>
                  <a:pt x="201" y="428"/>
                </a:lnTo>
                <a:lnTo>
                  <a:pt x="193" y="428"/>
                </a:lnTo>
                <a:moveTo>
                  <a:pt x="175" y="247"/>
                </a:moveTo>
                <a:lnTo>
                  <a:pt x="171" y="245"/>
                </a:lnTo>
                <a:lnTo>
                  <a:pt x="171" y="236"/>
                </a:lnTo>
                <a:lnTo>
                  <a:pt x="173" y="234"/>
                </a:lnTo>
                <a:lnTo>
                  <a:pt x="175" y="236"/>
                </a:lnTo>
                <a:lnTo>
                  <a:pt x="179" y="243"/>
                </a:lnTo>
                <a:lnTo>
                  <a:pt x="179" y="247"/>
                </a:lnTo>
                <a:lnTo>
                  <a:pt x="177" y="247"/>
                </a:lnTo>
                <a:lnTo>
                  <a:pt x="175" y="247"/>
                </a:lnTo>
                <a:moveTo>
                  <a:pt x="58" y="355"/>
                </a:moveTo>
                <a:lnTo>
                  <a:pt x="62" y="353"/>
                </a:lnTo>
                <a:lnTo>
                  <a:pt x="65" y="346"/>
                </a:lnTo>
                <a:lnTo>
                  <a:pt x="69" y="324"/>
                </a:lnTo>
                <a:lnTo>
                  <a:pt x="69" y="317"/>
                </a:lnTo>
                <a:lnTo>
                  <a:pt x="67" y="311"/>
                </a:lnTo>
                <a:lnTo>
                  <a:pt x="64" y="309"/>
                </a:lnTo>
                <a:lnTo>
                  <a:pt x="62" y="307"/>
                </a:lnTo>
                <a:lnTo>
                  <a:pt x="65" y="300"/>
                </a:lnTo>
                <a:lnTo>
                  <a:pt x="67" y="284"/>
                </a:lnTo>
                <a:lnTo>
                  <a:pt x="69" y="280"/>
                </a:lnTo>
                <a:lnTo>
                  <a:pt x="76" y="275"/>
                </a:lnTo>
                <a:lnTo>
                  <a:pt x="78" y="267"/>
                </a:lnTo>
                <a:lnTo>
                  <a:pt x="82" y="253"/>
                </a:lnTo>
                <a:lnTo>
                  <a:pt x="76" y="245"/>
                </a:lnTo>
                <a:lnTo>
                  <a:pt x="76" y="243"/>
                </a:lnTo>
                <a:lnTo>
                  <a:pt x="80" y="238"/>
                </a:lnTo>
                <a:lnTo>
                  <a:pt x="82" y="238"/>
                </a:lnTo>
                <a:lnTo>
                  <a:pt x="93" y="240"/>
                </a:lnTo>
                <a:lnTo>
                  <a:pt x="95" y="243"/>
                </a:lnTo>
                <a:lnTo>
                  <a:pt x="95" y="243"/>
                </a:lnTo>
                <a:lnTo>
                  <a:pt x="93" y="245"/>
                </a:lnTo>
                <a:lnTo>
                  <a:pt x="89" y="245"/>
                </a:lnTo>
                <a:lnTo>
                  <a:pt x="85" y="243"/>
                </a:lnTo>
                <a:lnTo>
                  <a:pt x="82" y="243"/>
                </a:lnTo>
                <a:lnTo>
                  <a:pt x="84" y="247"/>
                </a:lnTo>
                <a:lnTo>
                  <a:pt x="87" y="249"/>
                </a:lnTo>
                <a:lnTo>
                  <a:pt x="96" y="251"/>
                </a:lnTo>
                <a:lnTo>
                  <a:pt x="113" y="242"/>
                </a:lnTo>
                <a:lnTo>
                  <a:pt x="124" y="242"/>
                </a:lnTo>
                <a:lnTo>
                  <a:pt x="131" y="245"/>
                </a:lnTo>
                <a:lnTo>
                  <a:pt x="129" y="258"/>
                </a:lnTo>
                <a:lnTo>
                  <a:pt x="137" y="267"/>
                </a:lnTo>
                <a:lnTo>
                  <a:pt x="135" y="269"/>
                </a:lnTo>
                <a:lnTo>
                  <a:pt x="131" y="271"/>
                </a:lnTo>
                <a:lnTo>
                  <a:pt x="131" y="275"/>
                </a:lnTo>
                <a:lnTo>
                  <a:pt x="133" y="275"/>
                </a:lnTo>
                <a:lnTo>
                  <a:pt x="142" y="280"/>
                </a:lnTo>
                <a:lnTo>
                  <a:pt x="144" y="284"/>
                </a:lnTo>
                <a:lnTo>
                  <a:pt x="142" y="289"/>
                </a:lnTo>
                <a:lnTo>
                  <a:pt x="140" y="291"/>
                </a:lnTo>
                <a:lnTo>
                  <a:pt x="133" y="291"/>
                </a:lnTo>
                <a:lnTo>
                  <a:pt x="124" y="291"/>
                </a:lnTo>
                <a:lnTo>
                  <a:pt x="115" y="295"/>
                </a:lnTo>
                <a:lnTo>
                  <a:pt x="113" y="296"/>
                </a:lnTo>
                <a:lnTo>
                  <a:pt x="113" y="304"/>
                </a:lnTo>
                <a:lnTo>
                  <a:pt x="115" y="307"/>
                </a:lnTo>
                <a:lnTo>
                  <a:pt x="120" y="309"/>
                </a:lnTo>
                <a:lnTo>
                  <a:pt x="120" y="309"/>
                </a:lnTo>
                <a:lnTo>
                  <a:pt x="107" y="313"/>
                </a:lnTo>
                <a:lnTo>
                  <a:pt x="104" y="311"/>
                </a:lnTo>
                <a:lnTo>
                  <a:pt x="104" y="309"/>
                </a:lnTo>
                <a:lnTo>
                  <a:pt x="106" y="306"/>
                </a:lnTo>
                <a:lnTo>
                  <a:pt x="106" y="306"/>
                </a:lnTo>
                <a:lnTo>
                  <a:pt x="102" y="306"/>
                </a:lnTo>
                <a:lnTo>
                  <a:pt x="100" y="309"/>
                </a:lnTo>
                <a:lnTo>
                  <a:pt x="100" y="311"/>
                </a:lnTo>
                <a:lnTo>
                  <a:pt x="102" y="318"/>
                </a:lnTo>
                <a:lnTo>
                  <a:pt x="102" y="320"/>
                </a:lnTo>
                <a:lnTo>
                  <a:pt x="118" y="331"/>
                </a:lnTo>
                <a:lnTo>
                  <a:pt x="124" y="333"/>
                </a:lnTo>
                <a:lnTo>
                  <a:pt x="131" y="337"/>
                </a:lnTo>
                <a:lnTo>
                  <a:pt x="133" y="342"/>
                </a:lnTo>
                <a:lnTo>
                  <a:pt x="131" y="344"/>
                </a:lnTo>
                <a:lnTo>
                  <a:pt x="120" y="346"/>
                </a:lnTo>
                <a:lnTo>
                  <a:pt x="118" y="346"/>
                </a:lnTo>
                <a:lnTo>
                  <a:pt x="117" y="348"/>
                </a:lnTo>
                <a:lnTo>
                  <a:pt x="117" y="351"/>
                </a:lnTo>
                <a:lnTo>
                  <a:pt x="124" y="357"/>
                </a:lnTo>
                <a:lnTo>
                  <a:pt x="128" y="362"/>
                </a:lnTo>
                <a:lnTo>
                  <a:pt x="131" y="366"/>
                </a:lnTo>
                <a:lnTo>
                  <a:pt x="133" y="368"/>
                </a:lnTo>
                <a:lnTo>
                  <a:pt x="129" y="370"/>
                </a:lnTo>
                <a:lnTo>
                  <a:pt x="109" y="370"/>
                </a:lnTo>
                <a:lnTo>
                  <a:pt x="109" y="368"/>
                </a:lnTo>
                <a:lnTo>
                  <a:pt x="107" y="368"/>
                </a:lnTo>
                <a:lnTo>
                  <a:pt x="106" y="368"/>
                </a:lnTo>
                <a:lnTo>
                  <a:pt x="104" y="370"/>
                </a:lnTo>
                <a:lnTo>
                  <a:pt x="106" y="377"/>
                </a:lnTo>
                <a:lnTo>
                  <a:pt x="111" y="381"/>
                </a:lnTo>
                <a:lnTo>
                  <a:pt x="113" y="382"/>
                </a:lnTo>
                <a:lnTo>
                  <a:pt x="111" y="392"/>
                </a:lnTo>
                <a:lnTo>
                  <a:pt x="96" y="395"/>
                </a:lnTo>
                <a:lnTo>
                  <a:pt x="89" y="392"/>
                </a:lnTo>
                <a:lnTo>
                  <a:pt x="69" y="390"/>
                </a:lnTo>
                <a:lnTo>
                  <a:pt x="56" y="386"/>
                </a:lnTo>
                <a:lnTo>
                  <a:pt x="47" y="382"/>
                </a:lnTo>
                <a:lnTo>
                  <a:pt x="45" y="381"/>
                </a:lnTo>
                <a:lnTo>
                  <a:pt x="43" y="379"/>
                </a:lnTo>
                <a:lnTo>
                  <a:pt x="51" y="368"/>
                </a:lnTo>
                <a:lnTo>
                  <a:pt x="60" y="359"/>
                </a:lnTo>
                <a:lnTo>
                  <a:pt x="58" y="355"/>
                </a:lnTo>
                <a:moveTo>
                  <a:pt x="224" y="275"/>
                </a:moveTo>
                <a:lnTo>
                  <a:pt x="217" y="271"/>
                </a:lnTo>
                <a:lnTo>
                  <a:pt x="215" y="271"/>
                </a:lnTo>
                <a:lnTo>
                  <a:pt x="215" y="269"/>
                </a:lnTo>
                <a:lnTo>
                  <a:pt x="221" y="265"/>
                </a:lnTo>
                <a:lnTo>
                  <a:pt x="223" y="265"/>
                </a:lnTo>
                <a:lnTo>
                  <a:pt x="226" y="265"/>
                </a:lnTo>
                <a:lnTo>
                  <a:pt x="228" y="267"/>
                </a:lnTo>
                <a:lnTo>
                  <a:pt x="228" y="275"/>
                </a:lnTo>
                <a:lnTo>
                  <a:pt x="226" y="275"/>
                </a:lnTo>
                <a:lnTo>
                  <a:pt x="224" y="275"/>
                </a:lnTo>
                <a:moveTo>
                  <a:pt x="166" y="291"/>
                </a:moveTo>
                <a:lnTo>
                  <a:pt x="162" y="289"/>
                </a:lnTo>
                <a:lnTo>
                  <a:pt x="160" y="284"/>
                </a:lnTo>
                <a:lnTo>
                  <a:pt x="170" y="284"/>
                </a:lnTo>
                <a:lnTo>
                  <a:pt x="173" y="285"/>
                </a:lnTo>
                <a:lnTo>
                  <a:pt x="173" y="287"/>
                </a:lnTo>
                <a:lnTo>
                  <a:pt x="173" y="289"/>
                </a:lnTo>
                <a:lnTo>
                  <a:pt x="170" y="291"/>
                </a:lnTo>
                <a:lnTo>
                  <a:pt x="166" y="291"/>
                </a:lnTo>
                <a:moveTo>
                  <a:pt x="137" y="313"/>
                </a:moveTo>
                <a:lnTo>
                  <a:pt x="137" y="311"/>
                </a:lnTo>
                <a:lnTo>
                  <a:pt x="133" y="309"/>
                </a:lnTo>
                <a:lnTo>
                  <a:pt x="120" y="304"/>
                </a:lnTo>
                <a:lnTo>
                  <a:pt x="117" y="296"/>
                </a:lnTo>
                <a:lnTo>
                  <a:pt x="124" y="296"/>
                </a:lnTo>
                <a:lnTo>
                  <a:pt x="128" y="298"/>
                </a:lnTo>
                <a:lnTo>
                  <a:pt x="139" y="311"/>
                </a:lnTo>
                <a:lnTo>
                  <a:pt x="139" y="315"/>
                </a:lnTo>
                <a:lnTo>
                  <a:pt x="137" y="313"/>
                </a:lnTo>
                <a:moveTo>
                  <a:pt x="118" y="322"/>
                </a:moveTo>
                <a:lnTo>
                  <a:pt x="117" y="320"/>
                </a:lnTo>
                <a:lnTo>
                  <a:pt x="109" y="322"/>
                </a:lnTo>
                <a:lnTo>
                  <a:pt x="107" y="318"/>
                </a:lnTo>
                <a:lnTo>
                  <a:pt x="109" y="317"/>
                </a:lnTo>
                <a:lnTo>
                  <a:pt x="120" y="315"/>
                </a:lnTo>
                <a:lnTo>
                  <a:pt x="122" y="317"/>
                </a:lnTo>
                <a:lnTo>
                  <a:pt x="122" y="318"/>
                </a:lnTo>
                <a:lnTo>
                  <a:pt x="120" y="322"/>
                </a:lnTo>
                <a:lnTo>
                  <a:pt x="118" y="322"/>
                </a:lnTo>
                <a:moveTo>
                  <a:pt x="142" y="357"/>
                </a:moveTo>
                <a:lnTo>
                  <a:pt x="135" y="357"/>
                </a:lnTo>
                <a:lnTo>
                  <a:pt x="122" y="351"/>
                </a:lnTo>
                <a:lnTo>
                  <a:pt x="120" y="349"/>
                </a:lnTo>
                <a:lnTo>
                  <a:pt x="122" y="348"/>
                </a:lnTo>
                <a:lnTo>
                  <a:pt x="126" y="349"/>
                </a:lnTo>
                <a:lnTo>
                  <a:pt x="144" y="355"/>
                </a:lnTo>
                <a:lnTo>
                  <a:pt x="144" y="355"/>
                </a:lnTo>
                <a:lnTo>
                  <a:pt x="142" y="357"/>
                </a:lnTo>
                <a:moveTo>
                  <a:pt x="7" y="419"/>
                </a:moveTo>
                <a:lnTo>
                  <a:pt x="5" y="419"/>
                </a:lnTo>
                <a:lnTo>
                  <a:pt x="1" y="413"/>
                </a:lnTo>
                <a:lnTo>
                  <a:pt x="0" y="410"/>
                </a:lnTo>
                <a:lnTo>
                  <a:pt x="9" y="408"/>
                </a:lnTo>
                <a:lnTo>
                  <a:pt x="18" y="410"/>
                </a:lnTo>
                <a:lnTo>
                  <a:pt x="21" y="413"/>
                </a:lnTo>
                <a:lnTo>
                  <a:pt x="20" y="415"/>
                </a:lnTo>
                <a:lnTo>
                  <a:pt x="14" y="415"/>
                </a:lnTo>
                <a:lnTo>
                  <a:pt x="7" y="41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87400" y="4865760"/>
            <a:ext cx="1316160" cy="565200"/>
          </a:xfrm>
          <a:custGeom>
            <a:avLst/>
            <a:gdLst/>
            <a:ahLst/>
            <a:rect l="l" t="t" r="r" b="b"/>
            <a:pathLst>
              <a:path w="823" h="386">
                <a:moveTo>
                  <a:pt x="42" y="179"/>
                </a:moveTo>
                <a:lnTo>
                  <a:pt x="31" y="172"/>
                </a:lnTo>
                <a:lnTo>
                  <a:pt x="31" y="168"/>
                </a:lnTo>
                <a:lnTo>
                  <a:pt x="31" y="166"/>
                </a:lnTo>
                <a:lnTo>
                  <a:pt x="42" y="163"/>
                </a:lnTo>
                <a:lnTo>
                  <a:pt x="42" y="161"/>
                </a:lnTo>
                <a:lnTo>
                  <a:pt x="42" y="153"/>
                </a:lnTo>
                <a:lnTo>
                  <a:pt x="27" y="144"/>
                </a:lnTo>
                <a:lnTo>
                  <a:pt x="18" y="139"/>
                </a:lnTo>
                <a:lnTo>
                  <a:pt x="20" y="133"/>
                </a:lnTo>
                <a:lnTo>
                  <a:pt x="22" y="128"/>
                </a:lnTo>
                <a:lnTo>
                  <a:pt x="33" y="126"/>
                </a:lnTo>
                <a:lnTo>
                  <a:pt x="35" y="126"/>
                </a:lnTo>
                <a:lnTo>
                  <a:pt x="36" y="126"/>
                </a:lnTo>
                <a:lnTo>
                  <a:pt x="38" y="122"/>
                </a:lnTo>
                <a:lnTo>
                  <a:pt x="38" y="113"/>
                </a:lnTo>
                <a:lnTo>
                  <a:pt x="29" y="110"/>
                </a:lnTo>
                <a:lnTo>
                  <a:pt x="13" y="108"/>
                </a:lnTo>
                <a:lnTo>
                  <a:pt x="7" y="106"/>
                </a:lnTo>
                <a:lnTo>
                  <a:pt x="5" y="106"/>
                </a:lnTo>
                <a:lnTo>
                  <a:pt x="2" y="100"/>
                </a:lnTo>
                <a:lnTo>
                  <a:pt x="0" y="97"/>
                </a:lnTo>
                <a:lnTo>
                  <a:pt x="0" y="95"/>
                </a:lnTo>
                <a:lnTo>
                  <a:pt x="0" y="91"/>
                </a:lnTo>
                <a:lnTo>
                  <a:pt x="2" y="88"/>
                </a:lnTo>
                <a:lnTo>
                  <a:pt x="3" y="82"/>
                </a:lnTo>
                <a:lnTo>
                  <a:pt x="2" y="69"/>
                </a:lnTo>
                <a:lnTo>
                  <a:pt x="0" y="64"/>
                </a:lnTo>
                <a:lnTo>
                  <a:pt x="0" y="57"/>
                </a:lnTo>
                <a:lnTo>
                  <a:pt x="9" y="36"/>
                </a:lnTo>
                <a:lnTo>
                  <a:pt x="7" y="35"/>
                </a:lnTo>
                <a:lnTo>
                  <a:pt x="2" y="31"/>
                </a:lnTo>
                <a:lnTo>
                  <a:pt x="0" y="27"/>
                </a:lnTo>
                <a:lnTo>
                  <a:pt x="9" y="15"/>
                </a:lnTo>
                <a:lnTo>
                  <a:pt x="11" y="13"/>
                </a:lnTo>
                <a:lnTo>
                  <a:pt x="14" y="13"/>
                </a:lnTo>
                <a:lnTo>
                  <a:pt x="16" y="13"/>
                </a:lnTo>
                <a:lnTo>
                  <a:pt x="18" y="15"/>
                </a:lnTo>
                <a:lnTo>
                  <a:pt x="18" y="16"/>
                </a:lnTo>
                <a:lnTo>
                  <a:pt x="20" y="18"/>
                </a:lnTo>
                <a:lnTo>
                  <a:pt x="33" y="13"/>
                </a:lnTo>
                <a:lnTo>
                  <a:pt x="38" y="11"/>
                </a:lnTo>
                <a:lnTo>
                  <a:pt x="38" y="4"/>
                </a:lnTo>
                <a:lnTo>
                  <a:pt x="36" y="0"/>
                </a:lnTo>
                <a:lnTo>
                  <a:pt x="673" y="0"/>
                </a:lnTo>
                <a:lnTo>
                  <a:pt x="680" y="2"/>
                </a:lnTo>
                <a:lnTo>
                  <a:pt x="684" y="9"/>
                </a:lnTo>
                <a:lnTo>
                  <a:pt x="685" y="11"/>
                </a:lnTo>
                <a:lnTo>
                  <a:pt x="698" y="18"/>
                </a:lnTo>
                <a:lnTo>
                  <a:pt x="724" y="25"/>
                </a:lnTo>
                <a:lnTo>
                  <a:pt x="731" y="24"/>
                </a:lnTo>
                <a:lnTo>
                  <a:pt x="737" y="25"/>
                </a:lnTo>
                <a:lnTo>
                  <a:pt x="737" y="27"/>
                </a:lnTo>
                <a:lnTo>
                  <a:pt x="731" y="31"/>
                </a:lnTo>
                <a:lnTo>
                  <a:pt x="724" y="40"/>
                </a:lnTo>
                <a:lnTo>
                  <a:pt x="726" y="42"/>
                </a:lnTo>
                <a:lnTo>
                  <a:pt x="738" y="44"/>
                </a:lnTo>
                <a:lnTo>
                  <a:pt x="770" y="42"/>
                </a:lnTo>
                <a:lnTo>
                  <a:pt x="777" y="38"/>
                </a:lnTo>
                <a:lnTo>
                  <a:pt x="777" y="36"/>
                </a:lnTo>
                <a:lnTo>
                  <a:pt x="779" y="31"/>
                </a:lnTo>
                <a:lnTo>
                  <a:pt x="775" y="27"/>
                </a:lnTo>
                <a:lnTo>
                  <a:pt x="773" y="25"/>
                </a:lnTo>
                <a:lnTo>
                  <a:pt x="768" y="25"/>
                </a:lnTo>
                <a:lnTo>
                  <a:pt x="753" y="25"/>
                </a:lnTo>
                <a:lnTo>
                  <a:pt x="749" y="24"/>
                </a:lnTo>
                <a:lnTo>
                  <a:pt x="749" y="24"/>
                </a:lnTo>
                <a:lnTo>
                  <a:pt x="766" y="20"/>
                </a:lnTo>
                <a:lnTo>
                  <a:pt x="781" y="16"/>
                </a:lnTo>
                <a:lnTo>
                  <a:pt x="793" y="11"/>
                </a:lnTo>
                <a:lnTo>
                  <a:pt x="806" y="9"/>
                </a:lnTo>
                <a:lnTo>
                  <a:pt x="808" y="11"/>
                </a:lnTo>
                <a:lnTo>
                  <a:pt x="815" y="24"/>
                </a:lnTo>
                <a:lnTo>
                  <a:pt x="819" y="27"/>
                </a:lnTo>
                <a:lnTo>
                  <a:pt x="821" y="31"/>
                </a:lnTo>
                <a:lnTo>
                  <a:pt x="823" y="58"/>
                </a:lnTo>
                <a:lnTo>
                  <a:pt x="817" y="73"/>
                </a:lnTo>
                <a:lnTo>
                  <a:pt x="812" y="78"/>
                </a:lnTo>
                <a:lnTo>
                  <a:pt x="773" y="86"/>
                </a:lnTo>
                <a:lnTo>
                  <a:pt x="768" y="84"/>
                </a:lnTo>
                <a:lnTo>
                  <a:pt x="759" y="75"/>
                </a:lnTo>
                <a:lnTo>
                  <a:pt x="759" y="71"/>
                </a:lnTo>
                <a:lnTo>
                  <a:pt x="762" y="62"/>
                </a:lnTo>
                <a:lnTo>
                  <a:pt x="751" y="53"/>
                </a:lnTo>
                <a:lnTo>
                  <a:pt x="744" y="49"/>
                </a:lnTo>
                <a:lnTo>
                  <a:pt x="735" y="49"/>
                </a:lnTo>
                <a:lnTo>
                  <a:pt x="722" y="51"/>
                </a:lnTo>
                <a:lnTo>
                  <a:pt x="711" y="55"/>
                </a:lnTo>
                <a:lnTo>
                  <a:pt x="707" y="58"/>
                </a:lnTo>
                <a:lnTo>
                  <a:pt x="704" y="60"/>
                </a:lnTo>
                <a:lnTo>
                  <a:pt x="693" y="62"/>
                </a:lnTo>
                <a:lnTo>
                  <a:pt x="689" y="64"/>
                </a:lnTo>
                <a:lnTo>
                  <a:pt x="684" y="71"/>
                </a:lnTo>
                <a:lnTo>
                  <a:pt x="684" y="75"/>
                </a:lnTo>
                <a:lnTo>
                  <a:pt x="685" y="77"/>
                </a:lnTo>
                <a:lnTo>
                  <a:pt x="704" y="80"/>
                </a:lnTo>
                <a:lnTo>
                  <a:pt x="713" y="84"/>
                </a:lnTo>
                <a:lnTo>
                  <a:pt x="718" y="89"/>
                </a:lnTo>
                <a:lnTo>
                  <a:pt x="724" y="91"/>
                </a:lnTo>
                <a:lnTo>
                  <a:pt x="742" y="95"/>
                </a:lnTo>
                <a:lnTo>
                  <a:pt x="751" y="91"/>
                </a:lnTo>
                <a:lnTo>
                  <a:pt x="753" y="95"/>
                </a:lnTo>
                <a:lnTo>
                  <a:pt x="744" y="100"/>
                </a:lnTo>
                <a:lnTo>
                  <a:pt x="726" y="108"/>
                </a:lnTo>
                <a:lnTo>
                  <a:pt x="715" y="110"/>
                </a:lnTo>
                <a:lnTo>
                  <a:pt x="706" y="111"/>
                </a:lnTo>
                <a:lnTo>
                  <a:pt x="693" y="119"/>
                </a:lnTo>
                <a:lnTo>
                  <a:pt x="684" y="126"/>
                </a:lnTo>
                <a:lnTo>
                  <a:pt x="673" y="141"/>
                </a:lnTo>
                <a:lnTo>
                  <a:pt x="662" y="152"/>
                </a:lnTo>
                <a:lnTo>
                  <a:pt x="654" y="161"/>
                </a:lnTo>
                <a:lnTo>
                  <a:pt x="653" y="166"/>
                </a:lnTo>
                <a:lnTo>
                  <a:pt x="654" y="175"/>
                </a:lnTo>
                <a:lnTo>
                  <a:pt x="658" y="181"/>
                </a:lnTo>
                <a:lnTo>
                  <a:pt x="662" y="190"/>
                </a:lnTo>
                <a:lnTo>
                  <a:pt x="665" y="188"/>
                </a:lnTo>
                <a:lnTo>
                  <a:pt x="663" y="203"/>
                </a:lnTo>
                <a:lnTo>
                  <a:pt x="656" y="205"/>
                </a:lnTo>
                <a:lnTo>
                  <a:pt x="656" y="206"/>
                </a:lnTo>
                <a:lnTo>
                  <a:pt x="656" y="210"/>
                </a:lnTo>
                <a:lnTo>
                  <a:pt x="656" y="214"/>
                </a:lnTo>
                <a:lnTo>
                  <a:pt x="662" y="223"/>
                </a:lnTo>
                <a:lnTo>
                  <a:pt x="653" y="234"/>
                </a:lnTo>
                <a:lnTo>
                  <a:pt x="649" y="243"/>
                </a:lnTo>
                <a:lnTo>
                  <a:pt x="625" y="254"/>
                </a:lnTo>
                <a:lnTo>
                  <a:pt x="620" y="261"/>
                </a:lnTo>
                <a:lnTo>
                  <a:pt x="616" y="267"/>
                </a:lnTo>
                <a:lnTo>
                  <a:pt x="616" y="272"/>
                </a:lnTo>
                <a:lnTo>
                  <a:pt x="618" y="272"/>
                </a:lnTo>
                <a:lnTo>
                  <a:pt x="621" y="274"/>
                </a:lnTo>
                <a:lnTo>
                  <a:pt x="625" y="274"/>
                </a:lnTo>
                <a:lnTo>
                  <a:pt x="634" y="280"/>
                </a:lnTo>
                <a:lnTo>
                  <a:pt x="627" y="291"/>
                </a:lnTo>
                <a:lnTo>
                  <a:pt x="620" y="292"/>
                </a:lnTo>
                <a:lnTo>
                  <a:pt x="614" y="291"/>
                </a:lnTo>
                <a:lnTo>
                  <a:pt x="605" y="287"/>
                </a:lnTo>
                <a:lnTo>
                  <a:pt x="579" y="285"/>
                </a:lnTo>
                <a:lnTo>
                  <a:pt x="572" y="285"/>
                </a:lnTo>
                <a:lnTo>
                  <a:pt x="556" y="292"/>
                </a:lnTo>
                <a:lnTo>
                  <a:pt x="541" y="296"/>
                </a:lnTo>
                <a:lnTo>
                  <a:pt x="537" y="298"/>
                </a:lnTo>
                <a:lnTo>
                  <a:pt x="537" y="300"/>
                </a:lnTo>
                <a:lnTo>
                  <a:pt x="539" y="300"/>
                </a:lnTo>
                <a:lnTo>
                  <a:pt x="536" y="303"/>
                </a:lnTo>
                <a:lnTo>
                  <a:pt x="523" y="307"/>
                </a:lnTo>
                <a:lnTo>
                  <a:pt x="508" y="309"/>
                </a:lnTo>
                <a:lnTo>
                  <a:pt x="499" y="312"/>
                </a:lnTo>
                <a:lnTo>
                  <a:pt x="493" y="316"/>
                </a:lnTo>
                <a:lnTo>
                  <a:pt x="475" y="340"/>
                </a:lnTo>
                <a:lnTo>
                  <a:pt x="464" y="345"/>
                </a:lnTo>
                <a:lnTo>
                  <a:pt x="462" y="347"/>
                </a:lnTo>
                <a:lnTo>
                  <a:pt x="457" y="365"/>
                </a:lnTo>
                <a:lnTo>
                  <a:pt x="453" y="367"/>
                </a:lnTo>
                <a:lnTo>
                  <a:pt x="442" y="378"/>
                </a:lnTo>
                <a:lnTo>
                  <a:pt x="437" y="386"/>
                </a:lnTo>
                <a:lnTo>
                  <a:pt x="47" y="386"/>
                </a:lnTo>
                <a:lnTo>
                  <a:pt x="51" y="382"/>
                </a:lnTo>
                <a:lnTo>
                  <a:pt x="47" y="375"/>
                </a:lnTo>
                <a:lnTo>
                  <a:pt x="46" y="373"/>
                </a:lnTo>
                <a:lnTo>
                  <a:pt x="36" y="371"/>
                </a:lnTo>
                <a:lnTo>
                  <a:pt x="33" y="360"/>
                </a:lnTo>
                <a:lnTo>
                  <a:pt x="33" y="353"/>
                </a:lnTo>
                <a:lnTo>
                  <a:pt x="36" y="344"/>
                </a:lnTo>
                <a:lnTo>
                  <a:pt x="40" y="340"/>
                </a:lnTo>
                <a:lnTo>
                  <a:pt x="47" y="338"/>
                </a:lnTo>
                <a:lnTo>
                  <a:pt x="51" y="340"/>
                </a:lnTo>
                <a:lnTo>
                  <a:pt x="64" y="334"/>
                </a:lnTo>
                <a:lnTo>
                  <a:pt x="80" y="318"/>
                </a:lnTo>
                <a:lnTo>
                  <a:pt x="80" y="316"/>
                </a:lnTo>
                <a:lnTo>
                  <a:pt x="77" y="311"/>
                </a:lnTo>
                <a:lnTo>
                  <a:pt x="60" y="296"/>
                </a:lnTo>
                <a:lnTo>
                  <a:pt x="57" y="289"/>
                </a:lnTo>
                <a:lnTo>
                  <a:pt x="53" y="287"/>
                </a:lnTo>
                <a:lnTo>
                  <a:pt x="38" y="283"/>
                </a:lnTo>
                <a:lnTo>
                  <a:pt x="7" y="280"/>
                </a:lnTo>
                <a:lnTo>
                  <a:pt x="5" y="280"/>
                </a:lnTo>
                <a:lnTo>
                  <a:pt x="5" y="267"/>
                </a:lnTo>
                <a:lnTo>
                  <a:pt x="5" y="265"/>
                </a:lnTo>
                <a:lnTo>
                  <a:pt x="9" y="265"/>
                </a:lnTo>
                <a:lnTo>
                  <a:pt x="18" y="269"/>
                </a:lnTo>
                <a:lnTo>
                  <a:pt x="27" y="269"/>
                </a:lnTo>
                <a:lnTo>
                  <a:pt x="29" y="269"/>
                </a:lnTo>
                <a:lnTo>
                  <a:pt x="33" y="265"/>
                </a:lnTo>
                <a:lnTo>
                  <a:pt x="35" y="265"/>
                </a:lnTo>
                <a:lnTo>
                  <a:pt x="46" y="269"/>
                </a:lnTo>
                <a:lnTo>
                  <a:pt x="60" y="265"/>
                </a:lnTo>
                <a:lnTo>
                  <a:pt x="64" y="265"/>
                </a:lnTo>
                <a:lnTo>
                  <a:pt x="73" y="269"/>
                </a:lnTo>
                <a:lnTo>
                  <a:pt x="82" y="270"/>
                </a:lnTo>
                <a:lnTo>
                  <a:pt x="88" y="265"/>
                </a:lnTo>
                <a:lnTo>
                  <a:pt x="88" y="261"/>
                </a:lnTo>
                <a:lnTo>
                  <a:pt x="86" y="256"/>
                </a:lnTo>
                <a:lnTo>
                  <a:pt x="89" y="250"/>
                </a:lnTo>
                <a:lnTo>
                  <a:pt x="89" y="248"/>
                </a:lnTo>
                <a:lnTo>
                  <a:pt x="95" y="248"/>
                </a:lnTo>
                <a:lnTo>
                  <a:pt x="99" y="245"/>
                </a:lnTo>
                <a:lnTo>
                  <a:pt x="93" y="236"/>
                </a:lnTo>
                <a:lnTo>
                  <a:pt x="89" y="234"/>
                </a:lnTo>
                <a:lnTo>
                  <a:pt x="69" y="230"/>
                </a:lnTo>
                <a:lnTo>
                  <a:pt x="55" y="232"/>
                </a:lnTo>
                <a:lnTo>
                  <a:pt x="35" y="232"/>
                </a:lnTo>
                <a:lnTo>
                  <a:pt x="31" y="232"/>
                </a:lnTo>
                <a:lnTo>
                  <a:pt x="27" y="230"/>
                </a:lnTo>
                <a:lnTo>
                  <a:pt x="27" y="228"/>
                </a:lnTo>
                <a:lnTo>
                  <a:pt x="27" y="227"/>
                </a:lnTo>
                <a:lnTo>
                  <a:pt x="27" y="227"/>
                </a:lnTo>
                <a:lnTo>
                  <a:pt x="31" y="225"/>
                </a:lnTo>
                <a:lnTo>
                  <a:pt x="33" y="223"/>
                </a:lnTo>
                <a:lnTo>
                  <a:pt x="33" y="212"/>
                </a:lnTo>
                <a:lnTo>
                  <a:pt x="29" y="208"/>
                </a:lnTo>
                <a:lnTo>
                  <a:pt x="35" y="201"/>
                </a:lnTo>
                <a:lnTo>
                  <a:pt x="36" y="199"/>
                </a:lnTo>
                <a:lnTo>
                  <a:pt x="46" y="186"/>
                </a:lnTo>
                <a:lnTo>
                  <a:pt x="46" y="185"/>
                </a:lnTo>
                <a:lnTo>
                  <a:pt x="42" y="17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33360" y="5100480"/>
            <a:ext cx="712800" cy="787680"/>
          </a:xfrm>
          <a:custGeom>
            <a:avLst/>
            <a:gdLst/>
            <a:ahLst/>
            <a:rect l="l" t="t" r="r" b="b"/>
            <a:pathLst>
              <a:path w="445" h="537">
                <a:moveTo>
                  <a:pt x="275" y="173"/>
                </a:moveTo>
                <a:lnTo>
                  <a:pt x="276" y="173"/>
                </a:lnTo>
                <a:lnTo>
                  <a:pt x="278" y="168"/>
                </a:lnTo>
                <a:lnTo>
                  <a:pt x="276" y="166"/>
                </a:lnTo>
                <a:lnTo>
                  <a:pt x="273" y="166"/>
                </a:lnTo>
                <a:lnTo>
                  <a:pt x="271" y="166"/>
                </a:lnTo>
                <a:lnTo>
                  <a:pt x="267" y="168"/>
                </a:lnTo>
                <a:lnTo>
                  <a:pt x="258" y="164"/>
                </a:lnTo>
                <a:lnTo>
                  <a:pt x="249" y="157"/>
                </a:lnTo>
                <a:lnTo>
                  <a:pt x="238" y="151"/>
                </a:lnTo>
                <a:lnTo>
                  <a:pt x="234" y="151"/>
                </a:lnTo>
                <a:lnTo>
                  <a:pt x="231" y="155"/>
                </a:lnTo>
                <a:lnTo>
                  <a:pt x="229" y="157"/>
                </a:lnTo>
                <a:lnTo>
                  <a:pt x="220" y="155"/>
                </a:lnTo>
                <a:lnTo>
                  <a:pt x="218" y="153"/>
                </a:lnTo>
                <a:lnTo>
                  <a:pt x="218" y="151"/>
                </a:lnTo>
                <a:lnTo>
                  <a:pt x="220" y="146"/>
                </a:lnTo>
                <a:lnTo>
                  <a:pt x="229" y="146"/>
                </a:lnTo>
                <a:lnTo>
                  <a:pt x="234" y="141"/>
                </a:lnTo>
                <a:lnTo>
                  <a:pt x="232" y="141"/>
                </a:lnTo>
                <a:lnTo>
                  <a:pt x="231" y="139"/>
                </a:lnTo>
                <a:lnTo>
                  <a:pt x="223" y="131"/>
                </a:lnTo>
                <a:lnTo>
                  <a:pt x="223" y="128"/>
                </a:lnTo>
                <a:lnTo>
                  <a:pt x="225" y="126"/>
                </a:lnTo>
                <a:lnTo>
                  <a:pt x="231" y="124"/>
                </a:lnTo>
                <a:lnTo>
                  <a:pt x="240" y="124"/>
                </a:lnTo>
                <a:lnTo>
                  <a:pt x="249" y="122"/>
                </a:lnTo>
                <a:lnTo>
                  <a:pt x="269" y="115"/>
                </a:lnTo>
                <a:lnTo>
                  <a:pt x="285" y="104"/>
                </a:lnTo>
                <a:lnTo>
                  <a:pt x="289" y="98"/>
                </a:lnTo>
                <a:lnTo>
                  <a:pt x="300" y="77"/>
                </a:lnTo>
                <a:lnTo>
                  <a:pt x="300" y="67"/>
                </a:lnTo>
                <a:lnTo>
                  <a:pt x="295" y="71"/>
                </a:lnTo>
                <a:lnTo>
                  <a:pt x="287" y="75"/>
                </a:lnTo>
                <a:lnTo>
                  <a:pt x="269" y="66"/>
                </a:lnTo>
                <a:lnTo>
                  <a:pt x="269" y="62"/>
                </a:lnTo>
                <a:lnTo>
                  <a:pt x="245" y="56"/>
                </a:lnTo>
                <a:lnTo>
                  <a:pt x="234" y="49"/>
                </a:lnTo>
                <a:lnTo>
                  <a:pt x="234" y="45"/>
                </a:lnTo>
                <a:lnTo>
                  <a:pt x="236" y="42"/>
                </a:lnTo>
                <a:lnTo>
                  <a:pt x="249" y="34"/>
                </a:lnTo>
                <a:lnTo>
                  <a:pt x="249" y="33"/>
                </a:lnTo>
                <a:lnTo>
                  <a:pt x="249" y="31"/>
                </a:lnTo>
                <a:lnTo>
                  <a:pt x="260" y="13"/>
                </a:lnTo>
                <a:lnTo>
                  <a:pt x="267" y="13"/>
                </a:lnTo>
                <a:lnTo>
                  <a:pt x="276" y="11"/>
                </a:lnTo>
                <a:lnTo>
                  <a:pt x="276" y="7"/>
                </a:lnTo>
                <a:lnTo>
                  <a:pt x="284" y="7"/>
                </a:lnTo>
                <a:lnTo>
                  <a:pt x="285" y="9"/>
                </a:lnTo>
                <a:lnTo>
                  <a:pt x="291" y="11"/>
                </a:lnTo>
                <a:lnTo>
                  <a:pt x="311" y="13"/>
                </a:lnTo>
                <a:lnTo>
                  <a:pt x="311" y="7"/>
                </a:lnTo>
                <a:lnTo>
                  <a:pt x="315" y="5"/>
                </a:lnTo>
                <a:lnTo>
                  <a:pt x="322" y="0"/>
                </a:lnTo>
                <a:lnTo>
                  <a:pt x="326" y="0"/>
                </a:lnTo>
                <a:lnTo>
                  <a:pt x="326" y="2"/>
                </a:lnTo>
                <a:lnTo>
                  <a:pt x="326" y="5"/>
                </a:lnTo>
                <a:lnTo>
                  <a:pt x="333" y="14"/>
                </a:lnTo>
                <a:lnTo>
                  <a:pt x="340" y="16"/>
                </a:lnTo>
                <a:lnTo>
                  <a:pt x="342" y="16"/>
                </a:lnTo>
                <a:lnTo>
                  <a:pt x="348" y="22"/>
                </a:lnTo>
                <a:lnTo>
                  <a:pt x="348" y="25"/>
                </a:lnTo>
                <a:lnTo>
                  <a:pt x="349" y="27"/>
                </a:lnTo>
                <a:lnTo>
                  <a:pt x="362" y="25"/>
                </a:lnTo>
                <a:lnTo>
                  <a:pt x="364" y="20"/>
                </a:lnTo>
                <a:lnTo>
                  <a:pt x="377" y="16"/>
                </a:lnTo>
                <a:lnTo>
                  <a:pt x="381" y="16"/>
                </a:lnTo>
                <a:lnTo>
                  <a:pt x="388" y="18"/>
                </a:lnTo>
                <a:lnTo>
                  <a:pt x="392" y="24"/>
                </a:lnTo>
                <a:lnTo>
                  <a:pt x="392" y="25"/>
                </a:lnTo>
                <a:lnTo>
                  <a:pt x="382" y="38"/>
                </a:lnTo>
                <a:lnTo>
                  <a:pt x="381" y="40"/>
                </a:lnTo>
                <a:lnTo>
                  <a:pt x="375" y="47"/>
                </a:lnTo>
                <a:lnTo>
                  <a:pt x="379" y="51"/>
                </a:lnTo>
                <a:lnTo>
                  <a:pt x="379" y="62"/>
                </a:lnTo>
                <a:lnTo>
                  <a:pt x="377" y="64"/>
                </a:lnTo>
                <a:lnTo>
                  <a:pt x="373" y="66"/>
                </a:lnTo>
                <a:lnTo>
                  <a:pt x="373" y="67"/>
                </a:lnTo>
                <a:lnTo>
                  <a:pt x="373" y="69"/>
                </a:lnTo>
                <a:lnTo>
                  <a:pt x="377" y="71"/>
                </a:lnTo>
                <a:lnTo>
                  <a:pt x="381" y="71"/>
                </a:lnTo>
                <a:lnTo>
                  <a:pt x="401" y="71"/>
                </a:lnTo>
                <a:lnTo>
                  <a:pt x="415" y="69"/>
                </a:lnTo>
                <a:lnTo>
                  <a:pt x="435" y="73"/>
                </a:lnTo>
                <a:lnTo>
                  <a:pt x="439" y="75"/>
                </a:lnTo>
                <a:lnTo>
                  <a:pt x="445" y="84"/>
                </a:lnTo>
                <a:lnTo>
                  <a:pt x="441" y="87"/>
                </a:lnTo>
                <a:lnTo>
                  <a:pt x="435" y="87"/>
                </a:lnTo>
                <a:lnTo>
                  <a:pt x="435" y="89"/>
                </a:lnTo>
                <a:lnTo>
                  <a:pt x="432" y="95"/>
                </a:lnTo>
                <a:lnTo>
                  <a:pt x="434" y="100"/>
                </a:lnTo>
                <a:lnTo>
                  <a:pt x="434" y="104"/>
                </a:lnTo>
                <a:lnTo>
                  <a:pt x="428" y="109"/>
                </a:lnTo>
                <a:lnTo>
                  <a:pt x="419" y="108"/>
                </a:lnTo>
                <a:lnTo>
                  <a:pt x="410" y="104"/>
                </a:lnTo>
                <a:lnTo>
                  <a:pt x="406" y="104"/>
                </a:lnTo>
                <a:lnTo>
                  <a:pt x="392" y="108"/>
                </a:lnTo>
                <a:lnTo>
                  <a:pt x="381" y="104"/>
                </a:lnTo>
                <a:lnTo>
                  <a:pt x="379" y="104"/>
                </a:lnTo>
                <a:lnTo>
                  <a:pt x="375" y="108"/>
                </a:lnTo>
                <a:lnTo>
                  <a:pt x="373" y="108"/>
                </a:lnTo>
                <a:lnTo>
                  <a:pt x="364" y="108"/>
                </a:lnTo>
                <a:lnTo>
                  <a:pt x="355" y="104"/>
                </a:lnTo>
                <a:lnTo>
                  <a:pt x="351" y="104"/>
                </a:lnTo>
                <a:lnTo>
                  <a:pt x="351" y="106"/>
                </a:lnTo>
                <a:lnTo>
                  <a:pt x="351" y="119"/>
                </a:lnTo>
                <a:lnTo>
                  <a:pt x="353" y="119"/>
                </a:lnTo>
                <a:lnTo>
                  <a:pt x="384" y="122"/>
                </a:lnTo>
                <a:lnTo>
                  <a:pt x="399" y="126"/>
                </a:lnTo>
                <a:lnTo>
                  <a:pt x="403" y="128"/>
                </a:lnTo>
                <a:lnTo>
                  <a:pt x="406" y="135"/>
                </a:lnTo>
                <a:lnTo>
                  <a:pt x="423" y="150"/>
                </a:lnTo>
                <a:lnTo>
                  <a:pt x="426" y="155"/>
                </a:lnTo>
                <a:lnTo>
                  <a:pt x="426" y="157"/>
                </a:lnTo>
                <a:lnTo>
                  <a:pt x="410" y="173"/>
                </a:lnTo>
                <a:lnTo>
                  <a:pt x="397" y="179"/>
                </a:lnTo>
                <a:lnTo>
                  <a:pt x="393" y="177"/>
                </a:lnTo>
                <a:lnTo>
                  <a:pt x="386" y="179"/>
                </a:lnTo>
                <a:lnTo>
                  <a:pt x="382" y="183"/>
                </a:lnTo>
                <a:lnTo>
                  <a:pt x="379" y="192"/>
                </a:lnTo>
                <a:lnTo>
                  <a:pt x="379" y="199"/>
                </a:lnTo>
                <a:lnTo>
                  <a:pt x="382" y="210"/>
                </a:lnTo>
                <a:lnTo>
                  <a:pt x="392" y="212"/>
                </a:lnTo>
                <a:lnTo>
                  <a:pt x="393" y="214"/>
                </a:lnTo>
                <a:lnTo>
                  <a:pt x="397" y="221"/>
                </a:lnTo>
                <a:lnTo>
                  <a:pt x="393" y="225"/>
                </a:lnTo>
                <a:lnTo>
                  <a:pt x="388" y="228"/>
                </a:lnTo>
                <a:lnTo>
                  <a:pt x="382" y="236"/>
                </a:lnTo>
                <a:lnTo>
                  <a:pt x="379" y="236"/>
                </a:lnTo>
                <a:lnTo>
                  <a:pt x="370" y="237"/>
                </a:lnTo>
                <a:lnTo>
                  <a:pt x="368" y="237"/>
                </a:lnTo>
                <a:lnTo>
                  <a:pt x="373" y="243"/>
                </a:lnTo>
                <a:lnTo>
                  <a:pt x="381" y="245"/>
                </a:lnTo>
                <a:lnTo>
                  <a:pt x="382" y="247"/>
                </a:lnTo>
                <a:lnTo>
                  <a:pt x="384" y="265"/>
                </a:lnTo>
                <a:lnTo>
                  <a:pt x="390" y="274"/>
                </a:lnTo>
                <a:lnTo>
                  <a:pt x="390" y="276"/>
                </a:lnTo>
                <a:lnTo>
                  <a:pt x="390" y="289"/>
                </a:lnTo>
                <a:lnTo>
                  <a:pt x="390" y="290"/>
                </a:lnTo>
                <a:lnTo>
                  <a:pt x="377" y="300"/>
                </a:lnTo>
                <a:lnTo>
                  <a:pt x="373" y="300"/>
                </a:lnTo>
                <a:lnTo>
                  <a:pt x="366" y="301"/>
                </a:lnTo>
                <a:lnTo>
                  <a:pt x="364" y="303"/>
                </a:lnTo>
                <a:lnTo>
                  <a:pt x="360" y="323"/>
                </a:lnTo>
                <a:lnTo>
                  <a:pt x="371" y="334"/>
                </a:lnTo>
                <a:lnTo>
                  <a:pt x="373" y="338"/>
                </a:lnTo>
                <a:lnTo>
                  <a:pt x="371" y="342"/>
                </a:lnTo>
                <a:lnTo>
                  <a:pt x="370" y="342"/>
                </a:lnTo>
                <a:lnTo>
                  <a:pt x="357" y="347"/>
                </a:lnTo>
                <a:lnTo>
                  <a:pt x="351" y="354"/>
                </a:lnTo>
                <a:lnTo>
                  <a:pt x="342" y="360"/>
                </a:lnTo>
                <a:lnTo>
                  <a:pt x="340" y="360"/>
                </a:lnTo>
                <a:lnTo>
                  <a:pt x="333" y="360"/>
                </a:lnTo>
                <a:lnTo>
                  <a:pt x="328" y="362"/>
                </a:lnTo>
                <a:lnTo>
                  <a:pt x="326" y="364"/>
                </a:lnTo>
                <a:lnTo>
                  <a:pt x="324" y="367"/>
                </a:lnTo>
                <a:lnTo>
                  <a:pt x="329" y="369"/>
                </a:lnTo>
                <a:lnTo>
                  <a:pt x="326" y="378"/>
                </a:lnTo>
                <a:lnTo>
                  <a:pt x="324" y="382"/>
                </a:lnTo>
                <a:lnTo>
                  <a:pt x="317" y="391"/>
                </a:lnTo>
                <a:lnTo>
                  <a:pt x="307" y="407"/>
                </a:lnTo>
                <a:lnTo>
                  <a:pt x="307" y="411"/>
                </a:lnTo>
                <a:lnTo>
                  <a:pt x="309" y="413"/>
                </a:lnTo>
                <a:lnTo>
                  <a:pt x="315" y="417"/>
                </a:lnTo>
                <a:lnTo>
                  <a:pt x="320" y="417"/>
                </a:lnTo>
                <a:lnTo>
                  <a:pt x="328" y="424"/>
                </a:lnTo>
                <a:lnTo>
                  <a:pt x="329" y="435"/>
                </a:lnTo>
                <a:lnTo>
                  <a:pt x="331" y="449"/>
                </a:lnTo>
                <a:lnTo>
                  <a:pt x="318" y="455"/>
                </a:lnTo>
                <a:lnTo>
                  <a:pt x="304" y="459"/>
                </a:lnTo>
                <a:lnTo>
                  <a:pt x="302" y="460"/>
                </a:lnTo>
                <a:lnTo>
                  <a:pt x="300" y="462"/>
                </a:lnTo>
                <a:lnTo>
                  <a:pt x="300" y="464"/>
                </a:lnTo>
                <a:lnTo>
                  <a:pt x="304" y="473"/>
                </a:lnTo>
                <a:lnTo>
                  <a:pt x="306" y="486"/>
                </a:lnTo>
                <a:lnTo>
                  <a:pt x="306" y="491"/>
                </a:lnTo>
                <a:lnTo>
                  <a:pt x="304" y="493"/>
                </a:lnTo>
                <a:lnTo>
                  <a:pt x="285" y="506"/>
                </a:lnTo>
                <a:lnTo>
                  <a:pt x="280" y="508"/>
                </a:lnTo>
                <a:lnTo>
                  <a:pt x="273" y="508"/>
                </a:lnTo>
                <a:lnTo>
                  <a:pt x="264" y="510"/>
                </a:lnTo>
                <a:lnTo>
                  <a:pt x="254" y="519"/>
                </a:lnTo>
                <a:lnTo>
                  <a:pt x="245" y="534"/>
                </a:lnTo>
                <a:lnTo>
                  <a:pt x="245" y="535"/>
                </a:lnTo>
                <a:lnTo>
                  <a:pt x="247" y="537"/>
                </a:lnTo>
                <a:lnTo>
                  <a:pt x="159" y="488"/>
                </a:lnTo>
                <a:lnTo>
                  <a:pt x="159" y="486"/>
                </a:lnTo>
                <a:lnTo>
                  <a:pt x="150" y="484"/>
                </a:lnTo>
                <a:lnTo>
                  <a:pt x="139" y="486"/>
                </a:lnTo>
                <a:lnTo>
                  <a:pt x="136" y="486"/>
                </a:lnTo>
                <a:lnTo>
                  <a:pt x="130" y="481"/>
                </a:lnTo>
                <a:lnTo>
                  <a:pt x="128" y="475"/>
                </a:lnTo>
                <a:lnTo>
                  <a:pt x="132" y="471"/>
                </a:lnTo>
                <a:lnTo>
                  <a:pt x="143" y="464"/>
                </a:lnTo>
                <a:lnTo>
                  <a:pt x="147" y="462"/>
                </a:lnTo>
                <a:lnTo>
                  <a:pt x="161" y="470"/>
                </a:lnTo>
                <a:lnTo>
                  <a:pt x="163" y="468"/>
                </a:lnTo>
                <a:lnTo>
                  <a:pt x="165" y="457"/>
                </a:lnTo>
                <a:lnTo>
                  <a:pt x="156" y="455"/>
                </a:lnTo>
                <a:lnTo>
                  <a:pt x="152" y="451"/>
                </a:lnTo>
                <a:lnTo>
                  <a:pt x="143" y="451"/>
                </a:lnTo>
                <a:lnTo>
                  <a:pt x="143" y="449"/>
                </a:lnTo>
                <a:lnTo>
                  <a:pt x="145" y="449"/>
                </a:lnTo>
                <a:lnTo>
                  <a:pt x="154" y="448"/>
                </a:lnTo>
                <a:lnTo>
                  <a:pt x="141" y="444"/>
                </a:lnTo>
                <a:lnTo>
                  <a:pt x="128" y="435"/>
                </a:lnTo>
                <a:lnTo>
                  <a:pt x="119" y="429"/>
                </a:lnTo>
                <a:lnTo>
                  <a:pt x="110" y="424"/>
                </a:lnTo>
                <a:lnTo>
                  <a:pt x="104" y="424"/>
                </a:lnTo>
                <a:lnTo>
                  <a:pt x="103" y="424"/>
                </a:lnTo>
                <a:lnTo>
                  <a:pt x="103" y="420"/>
                </a:lnTo>
                <a:lnTo>
                  <a:pt x="104" y="417"/>
                </a:lnTo>
                <a:lnTo>
                  <a:pt x="115" y="413"/>
                </a:lnTo>
                <a:lnTo>
                  <a:pt x="126" y="415"/>
                </a:lnTo>
                <a:lnTo>
                  <a:pt x="132" y="418"/>
                </a:lnTo>
                <a:lnTo>
                  <a:pt x="137" y="426"/>
                </a:lnTo>
                <a:lnTo>
                  <a:pt x="139" y="435"/>
                </a:lnTo>
                <a:lnTo>
                  <a:pt x="147" y="438"/>
                </a:lnTo>
                <a:lnTo>
                  <a:pt x="148" y="437"/>
                </a:lnTo>
                <a:lnTo>
                  <a:pt x="136" y="418"/>
                </a:lnTo>
                <a:lnTo>
                  <a:pt x="134" y="417"/>
                </a:lnTo>
                <a:lnTo>
                  <a:pt x="136" y="417"/>
                </a:lnTo>
                <a:lnTo>
                  <a:pt x="137" y="417"/>
                </a:lnTo>
                <a:lnTo>
                  <a:pt x="158" y="417"/>
                </a:lnTo>
                <a:lnTo>
                  <a:pt x="161" y="417"/>
                </a:lnTo>
                <a:lnTo>
                  <a:pt x="165" y="420"/>
                </a:lnTo>
                <a:lnTo>
                  <a:pt x="170" y="420"/>
                </a:lnTo>
                <a:lnTo>
                  <a:pt x="179" y="420"/>
                </a:lnTo>
                <a:lnTo>
                  <a:pt x="189" y="418"/>
                </a:lnTo>
                <a:lnTo>
                  <a:pt x="205" y="429"/>
                </a:lnTo>
                <a:lnTo>
                  <a:pt x="205" y="435"/>
                </a:lnTo>
                <a:lnTo>
                  <a:pt x="209" y="440"/>
                </a:lnTo>
                <a:lnTo>
                  <a:pt x="211" y="437"/>
                </a:lnTo>
                <a:lnTo>
                  <a:pt x="214" y="433"/>
                </a:lnTo>
                <a:lnTo>
                  <a:pt x="220" y="433"/>
                </a:lnTo>
                <a:lnTo>
                  <a:pt x="225" y="435"/>
                </a:lnTo>
                <a:lnTo>
                  <a:pt x="229" y="435"/>
                </a:lnTo>
                <a:lnTo>
                  <a:pt x="234" y="431"/>
                </a:lnTo>
                <a:lnTo>
                  <a:pt x="236" y="424"/>
                </a:lnTo>
                <a:lnTo>
                  <a:pt x="234" y="422"/>
                </a:lnTo>
                <a:lnTo>
                  <a:pt x="234" y="426"/>
                </a:lnTo>
                <a:lnTo>
                  <a:pt x="234" y="429"/>
                </a:lnTo>
                <a:lnTo>
                  <a:pt x="232" y="431"/>
                </a:lnTo>
                <a:lnTo>
                  <a:pt x="227" y="433"/>
                </a:lnTo>
                <a:lnTo>
                  <a:pt x="216" y="427"/>
                </a:lnTo>
                <a:lnTo>
                  <a:pt x="207" y="422"/>
                </a:lnTo>
                <a:lnTo>
                  <a:pt x="200" y="415"/>
                </a:lnTo>
                <a:lnTo>
                  <a:pt x="200" y="407"/>
                </a:lnTo>
                <a:lnTo>
                  <a:pt x="207" y="407"/>
                </a:lnTo>
                <a:lnTo>
                  <a:pt x="209" y="411"/>
                </a:lnTo>
                <a:lnTo>
                  <a:pt x="214" y="415"/>
                </a:lnTo>
                <a:lnTo>
                  <a:pt x="220" y="417"/>
                </a:lnTo>
                <a:lnTo>
                  <a:pt x="240" y="417"/>
                </a:lnTo>
                <a:lnTo>
                  <a:pt x="242" y="417"/>
                </a:lnTo>
                <a:lnTo>
                  <a:pt x="231" y="413"/>
                </a:lnTo>
                <a:lnTo>
                  <a:pt x="220" y="413"/>
                </a:lnTo>
                <a:lnTo>
                  <a:pt x="216" y="413"/>
                </a:lnTo>
                <a:lnTo>
                  <a:pt x="212" y="411"/>
                </a:lnTo>
                <a:lnTo>
                  <a:pt x="194" y="395"/>
                </a:lnTo>
                <a:lnTo>
                  <a:pt x="190" y="391"/>
                </a:lnTo>
                <a:lnTo>
                  <a:pt x="190" y="387"/>
                </a:lnTo>
                <a:lnTo>
                  <a:pt x="200" y="380"/>
                </a:lnTo>
                <a:lnTo>
                  <a:pt x="198" y="374"/>
                </a:lnTo>
                <a:lnTo>
                  <a:pt x="192" y="371"/>
                </a:lnTo>
                <a:lnTo>
                  <a:pt x="189" y="376"/>
                </a:lnTo>
                <a:lnTo>
                  <a:pt x="192" y="378"/>
                </a:lnTo>
                <a:lnTo>
                  <a:pt x="192" y="380"/>
                </a:lnTo>
                <a:lnTo>
                  <a:pt x="189" y="395"/>
                </a:lnTo>
                <a:lnTo>
                  <a:pt x="185" y="398"/>
                </a:lnTo>
                <a:lnTo>
                  <a:pt x="172" y="402"/>
                </a:lnTo>
                <a:lnTo>
                  <a:pt x="163" y="400"/>
                </a:lnTo>
                <a:lnTo>
                  <a:pt x="161" y="396"/>
                </a:lnTo>
                <a:lnTo>
                  <a:pt x="137" y="393"/>
                </a:lnTo>
                <a:lnTo>
                  <a:pt x="136" y="393"/>
                </a:lnTo>
                <a:lnTo>
                  <a:pt x="130" y="391"/>
                </a:lnTo>
                <a:lnTo>
                  <a:pt x="121" y="393"/>
                </a:lnTo>
                <a:lnTo>
                  <a:pt x="117" y="395"/>
                </a:lnTo>
                <a:lnTo>
                  <a:pt x="106" y="395"/>
                </a:lnTo>
                <a:lnTo>
                  <a:pt x="97" y="391"/>
                </a:lnTo>
                <a:lnTo>
                  <a:pt x="95" y="389"/>
                </a:lnTo>
                <a:lnTo>
                  <a:pt x="95" y="387"/>
                </a:lnTo>
                <a:lnTo>
                  <a:pt x="108" y="374"/>
                </a:lnTo>
                <a:lnTo>
                  <a:pt x="112" y="373"/>
                </a:lnTo>
                <a:lnTo>
                  <a:pt x="115" y="373"/>
                </a:lnTo>
                <a:lnTo>
                  <a:pt x="125" y="374"/>
                </a:lnTo>
                <a:lnTo>
                  <a:pt x="130" y="376"/>
                </a:lnTo>
                <a:lnTo>
                  <a:pt x="132" y="382"/>
                </a:lnTo>
                <a:lnTo>
                  <a:pt x="136" y="387"/>
                </a:lnTo>
                <a:lnTo>
                  <a:pt x="139" y="391"/>
                </a:lnTo>
                <a:lnTo>
                  <a:pt x="147" y="393"/>
                </a:lnTo>
                <a:lnTo>
                  <a:pt x="150" y="393"/>
                </a:lnTo>
                <a:lnTo>
                  <a:pt x="147" y="393"/>
                </a:lnTo>
                <a:lnTo>
                  <a:pt x="141" y="391"/>
                </a:lnTo>
                <a:lnTo>
                  <a:pt x="139" y="389"/>
                </a:lnTo>
                <a:lnTo>
                  <a:pt x="137" y="385"/>
                </a:lnTo>
                <a:lnTo>
                  <a:pt x="141" y="380"/>
                </a:lnTo>
                <a:lnTo>
                  <a:pt x="150" y="380"/>
                </a:lnTo>
                <a:lnTo>
                  <a:pt x="158" y="382"/>
                </a:lnTo>
                <a:lnTo>
                  <a:pt x="163" y="380"/>
                </a:lnTo>
                <a:lnTo>
                  <a:pt x="161" y="373"/>
                </a:lnTo>
                <a:lnTo>
                  <a:pt x="152" y="374"/>
                </a:lnTo>
                <a:lnTo>
                  <a:pt x="150" y="376"/>
                </a:lnTo>
                <a:lnTo>
                  <a:pt x="137" y="378"/>
                </a:lnTo>
                <a:lnTo>
                  <a:pt x="117" y="364"/>
                </a:lnTo>
                <a:lnTo>
                  <a:pt x="115" y="362"/>
                </a:lnTo>
                <a:lnTo>
                  <a:pt x="121" y="354"/>
                </a:lnTo>
                <a:lnTo>
                  <a:pt x="130" y="349"/>
                </a:lnTo>
                <a:lnTo>
                  <a:pt x="136" y="342"/>
                </a:lnTo>
                <a:lnTo>
                  <a:pt x="147" y="340"/>
                </a:lnTo>
                <a:lnTo>
                  <a:pt x="150" y="340"/>
                </a:lnTo>
                <a:lnTo>
                  <a:pt x="150" y="343"/>
                </a:lnTo>
                <a:lnTo>
                  <a:pt x="150" y="347"/>
                </a:lnTo>
                <a:lnTo>
                  <a:pt x="156" y="354"/>
                </a:lnTo>
                <a:lnTo>
                  <a:pt x="152" y="347"/>
                </a:lnTo>
                <a:lnTo>
                  <a:pt x="152" y="343"/>
                </a:lnTo>
                <a:lnTo>
                  <a:pt x="154" y="340"/>
                </a:lnTo>
                <a:lnTo>
                  <a:pt x="161" y="334"/>
                </a:lnTo>
                <a:lnTo>
                  <a:pt x="172" y="325"/>
                </a:lnTo>
                <a:lnTo>
                  <a:pt x="172" y="323"/>
                </a:lnTo>
                <a:lnTo>
                  <a:pt x="172" y="321"/>
                </a:lnTo>
                <a:lnTo>
                  <a:pt x="165" y="318"/>
                </a:lnTo>
                <a:lnTo>
                  <a:pt x="161" y="318"/>
                </a:lnTo>
                <a:lnTo>
                  <a:pt x="159" y="318"/>
                </a:lnTo>
                <a:lnTo>
                  <a:pt x="156" y="320"/>
                </a:lnTo>
                <a:lnTo>
                  <a:pt x="154" y="320"/>
                </a:lnTo>
                <a:lnTo>
                  <a:pt x="143" y="307"/>
                </a:lnTo>
                <a:lnTo>
                  <a:pt x="141" y="303"/>
                </a:lnTo>
                <a:lnTo>
                  <a:pt x="141" y="300"/>
                </a:lnTo>
                <a:lnTo>
                  <a:pt x="139" y="300"/>
                </a:lnTo>
                <a:lnTo>
                  <a:pt x="134" y="298"/>
                </a:lnTo>
                <a:lnTo>
                  <a:pt x="106" y="300"/>
                </a:lnTo>
                <a:lnTo>
                  <a:pt x="106" y="305"/>
                </a:lnTo>
                <a:lnTo>
                  <a:pt x="114" y="305"/>
                </a:lnTo>
                <a:lnTo>
                  <a:pt x="125" y="307"/>
                </a:lnTo>
                <a:lnTo>
                  <a:pt x="123" y="309"/>
                </a:lnTo>
                <a:lnTo>
                  <a:pt x="117" y="311"/>
                </a:lnTo>
                <a:lnTo>
                  <a:pt x="112" y="311"/>
                </a:lnTo>
                <a:lnTo>
                  <a:pt x="68" y="296"/>
                </a:lnTo>
                <a:lnTo>
                  <a:pt x="62" y="287"/>
                </a:lnTo>
                <a:lnTo>
                  <a:pt x="62" y="285"/>
                </a:lnTo>
                <a:lnTo>
                  <a:pt x="64" y="281"/>
                </a:lnTo>
                <a:lnTo>
                  <a:pt x="75" y="272"/>
                </a:lnTo>
                <a:lnTo>
                  <a:pt x="75" y="267"/>
                </a:lnTo>
                <a:lnTo>
                  <a:pt x="73" y="268"/>
                </a:lnTo>
                <a:lnTo>
                  <a:pt x="72" y="272"/>
                </a:lnTo>
                <a:lnTo>
                  <a:pt x="62" y="279"/>
                </a:lnTo>
                <a:lnTo>
                  <a:pt x="51" y="285"/>
                </a:lnTo>
                <a:lnTo>
                  <a:pt x="37" y="287"/>
                </a:lnTo>
                <a:lnTo>
                  <a:pt x="31" y="287"/>
                </a:lnTo>
                <a:lnTo>
                  <a:pt x="28" y="287"/>
                </a:lnTo>
                <a:lnTo>
                  <a:pt x="22" y="289"/>
                </a:lnTo>
                <a:lnTo>
                  <a:pt x="13" y="292"/>
                </a:lnTo>
                <a:lnTo>
                  <a:pt x="8" y="298"/>
                </a:lnTo>
                <a:lnTo>
                  <a:pt x="8" y="300"/>
                </a:lnTo>
                <a:lnTo>
                  <a:pt x="9" y="300"/>
                </a:lnTo>
                <a:lnTo>
                  <a:pt x="15" y="296"/>
                </a:lnTo>
                <a:lnTo>
                  <a:pt x="24" y="292"/>
                </a:lnTo>
                <a:lnTo>
                  <a:pt x="28" y="292"/>
                </a:lnTo>
                <a:lnTo>
                  <a:pt x="30" y="294"/>
                </a:lnTo>
                <a:lnTo>
                  <a:pt x="37" y="309"/>
                </a:lnTo>
                <a:lnTo>
                  <a:pt x="37" y="311"/>
                </a:lnTo>
                <a:lnTo>
                  <a:pt x="30" y="314"/>
                </a:lnTo>
                <a:lnTo>
                  <a:pt x="22" y="316"/>
                </a:lnTo>
                <a:lnTo>
                  <a:pt x="15" y="314"/>
                </a:lnTo>
                <a:lnTo>
                  <a:pt x="8" y="309"/>
                </a:lnTo>
                <a:lnTo>
                  <a:pt x="2" y="300"/>
                </a:lnTo>
                <a:lnTo>
                  <a:pt x="0" y="294"/>
                </a:lnTo>
                <a:lnTo>
                  <a:pt x="2" y="285"/>
                </a:lnTo>
                <a:lnTo>
                  <a:pt x="8" y="279"/>
                </a:lnTo>
                <a:lnTo>
                  <a:pt x="17" y="279"/>
                </a:lnTo>
                <a:lnTo>
                  <a:pt x="20" y="278"/>
                </a:lnTo>
                <a:lnTo>
                  <a:pt x="31" y="270"/>
                </a:lnTo>
                <a:lnTo>
                  <a:pt x="31" y="267"/>
                </a:lnTo>
                <a:lnTo>
                  <a:pt x="39" y="261"/>
                </a:lnTo>
                <a:lnTo>
                  <a:pt x="44" y="259"/>
                </a:lnTo>
                <a:lnTo>
                  <a:pt x="48" y="261"/>
                </a:lnTo>
                <a:lnTo>
                  <a:pt x="50" y="263"/>
                </a:lnTo>
                <a:lnTo>
                  <a:pt x="50" y="257"/>
                </a:lnTo>
                <a:lnTo>
                  <a:pt x="51" y="254"/>
                </a:lnTo>
                <a:lnTo>
                  <a:pt x="61" y="245"/>
                </a:lnTo>
                <a:lnTo>
                  <a:pt x="62" y="245"/>
                </a:lnTo>
                <a:lnTo>
                  <a:pt x="73" y="245"/>
                </a:lnTo>
                <a:lnTo>
                  <a:pt x="88" y="236"/>
                </a:lnTo>
                <a:lnTo>
                  <a:pt x="101" y="208"/>
                </a:lnTo>
                <a:lnTo>
                  <a:pt x="123" y="206"/>
                </a:lnTo>
                <a:lnTo>
                  <a:pt x="132" y="204"/>
                </a:lnTo>
                <a:lnTo>
                  <a:pt x="134" y="204"/>
                </a:lnTo>
                <a:lnTo>
                  <a:pt x="136" y="208"/>
                </a:lnTo>
                <a:lnTo>
                  <a:pt x="141" y="206"/>
                </a:lnTo>
                <a:lnTo>
                  <a:pt x="150" y="204"/>
                </a:lnTo>
                <a:lnTo>
                  <a:pt x="154" y="206"/>
                </a:lnTo>
                <a:lnTo>
                  <a:pt x="156" y="208"/>
                </a:lnTo>
                <a:lnTo>
                  <a:pt x="161" y="217"/>
                </a:lnTo>
                <a:lnTo>
                  <a:pt x="161" y="221"/>
                </a:lnTo>
                <a:lnTo>
                  <a:pt x="158" y="230"/>
                </a:lnTo>
                <a:lnTo>
                  <a:pt x="154" y="236"/>
                </a:lnTo>
                <a:lnTo>
                  <a:pt x="150" y="237"/>
                </a:lnTo>
                <a:lnTo>
                  <a:pt x="154" y="237"/>
                </a:lnTo>
                <a:lnTo>
                  <a:pt x="159" y="234"/>
                </a:lnTo>
                <a:lnTo>
                  <a:pt x="161" y="228"/>
                </a:lnTo>
                <a:lnTo>
                  <a:pt x="159" y="225"/>
                </a:lnTo>
                <a:lnTo>
                  <a:pt x="159" y="223"/>
                </a:lnTo>
                <a:lnTo>
                  <a:pt x="161" y="223"/>
                </a:lnTo>
                <a:lnTo>
                  <a:pt x="168" y="228"/>
                </a:lnTo>
                <a:lnTo>
                  <a:pt x="168" y="230"/>
                </a:lnTo>
                <a:lnTo>
                  <a:pt x="168" y="234"/>
                </a:lnTo>
                <a:lnTo>
                  <a:pt x="165" y="237"/>
                </a:lnTo>
                <a:lnTo>
                  <a:pt x="158" y="241"/>
                </a:lnTo>
                <a:lnTo>
                  <a:pt x="147" y="247"/>
                </a:lnTo>
                <a:lnTo>
                  <a:pt x="136" y="248"/>
                </a:lnTo>
                <a:lnTo>
                  <a:pt x="134" y="248"/>
                </a:lnTo>
                <a:lnTo>
                  <a:pt x="130" y="247"/>
                </a:lnTo>
                <a:lnTo>
                  <a:pt x="121" y="243"/>
                </a:lnTo>
                <a:lnTo>
                  <a:pt x="119" y="239"/>
                </a:lnTo>
                <a:lnTo>
                  <a:pt x="119" y="243"/>
                </a:lnTo>
                <a:lnTo>
                  <a:pt x="130" y="248"/>
                </a:lnTo>
                <a:lnTo>
                  <a:pt x="134" y="250"/>
                </a:lnTo>
                <a:lnTo>
                  <a:pt x="152" y="247"/>
                </a:lnTo>
                <a:lnTo>
                  <a:pt x="161" y="243"/>
                </a:lnTo>
                <a:lnTo>
                  <a:pt x="165" y="252"/>
                </a:lnTo>
                <a:lnTo>
                  <a:pt x="176" y="256"/>
                </a:lnTo>
                <a:lnTo>
                  <a:pt x="179" y="257"/>
                </a:lnTo>
                <a:lnTo>
                  <a:pt x="181" y="257"/>
                </a:lnTo>
                <a:lnTo>
                  <a:pt x="179" y="256"/>
                </a:lnTo>
                <a:lnTo>
                  <a:pt x="172" y="250"/>
                </a:lnTo>
                <a:lnTo>
                  <a:pt x="165" y="245"/>
                </a:lnTo>
                <a:lnTo>
                  <a:pt x="168" y="239"/>
                </a:lnTo>
                <a:lnTo>
                  <a:pt x="170" y="237"/>
                </a:lnTo>
                <a:lnTo>
                  <a:pt x="178" y="237"/>
                </a:lnTo>
                <a:lnTo>
                  <a:pt x="189" y="247"/>
                </a:lnTo>
                <a:lnTo>
                  <a:pt x="187" y="256"/>
                </a:lnTo>
                <a:lnTo>
                  <a:pt x="185" y="261"/>
                </a:lnTo>
                <a:lnTo>
                  <a:pt x="174" y="270"/>
                </a:lnTo>
                <a:lnTo>
                  <a:pt x="167" y="278"/>
                </a:lnTo>
                <a:lnTo>
                  <a:pt x="174" y="281"/>
                </a:lnTo>
                <a:lnTo>
                  <a:pt x="178" y="281"/>
                </a:lnTo>
                <a:lnTo>
                  <a:pt x="181" y="281"/>
                </a:lnTo>
                <a:lnTo>
                  <a:pt x="187" y="272"/>
                </a:lnTo>
                <a:lnTo>
                  <a:pt x="190" y="265"/>
                </a:lnTo>
                <a:lnTo>
                  <a:pt x="207" y="250"/>
                </a:lnTo>
                <a:lnTo>
                  <a:pt x="212" y="241"/>
                </a:lnTo>
                <a:lnTo>
                  <a:pt x="222" y="232"/>
                </a:lnTo>
                <a:lnTo>
                  <a:pt x="220" y="230"/>
                </a:lnTo>
                <a:lnTo>
                  <a:pt x="211" y="239"/>
                </a:lnTo>
                <a:lnTo>
                  <a:pt x="205" y="247"/>
                </a:lnTo>
                <a:lnTo>
                  <a:pt x="205" y="248"/>
                </a:lnTo>
                <a:lnTo>
                  <a:pt x="201" y="252"/>
                </a:lnTo>
                <a:lnTo>
                  <a:pt x="200" y="254"/>
                </a:lnTo>
                <a:lnTo>
                  <a:pt x="196" y="254"/>
                </a:lnTo>
                <a:lnTo>
                  <a:pt x="196" y="248"/>
                </a:lnTo>
                <a:lnTo>
                  <a:pt x="200" y="243"/>
                </a:lnTo>
                <a:lnTo>
                  <a:pt x="203" y="232"/>
                </a:lnTo>
                <a:lnTo>
                  <a:pt x="198" y="223"/>
                </a:lnTo>
                <a:lnTo>
                  <a:pt x="198" y="221"/>
                </a:lnTo>
                <a:lnTo>
                  <a:pt x="211" y="206"/>
                </a:lnTo>
                <a:lnTo>
                  <a:pt x="223" y="195"/>
                </a:lnTo>
                <a:lnTo>
                  <a:pt x="229" y="194"/>
                </a:lnTo>
                <a:lnTo>
                  <a:pt x="240" y="194"/>
                </a:lnTo>
                <a:lnTo>
                  <a:pt x="243" y="194"/>
                </a:lnTo>
                <a:lnTo>
                  <a:pt x="245" y="192"/>
                </a:lnTo>
                <a:lnTo>
                  <a:pt x="231" y="188"/>
                </a:lnTo>
                <a:lnTo>
                  <a:pt x="223" y="190"/>
                </a:lnTo>
                <a:lnTo>
                  <a:pt x="222" y="192"/>
                </a:lnTo>
                <a:lnTo>
                  <a:pt x="216" y="197"/>
                </a:lnTo>
                <a:lnTo>
                  <a:pt x="209" y="203"/>
                </a:lnTo>
                <a:lnTo>
                  <a:pt x="205" y="203"/>
                </a:lnTo>
                <a:lnTo>
                  <a:pt x="212" y="172"/>
                </a:lnTo>
                <a:lnTo>
                  <a:pt x="214" y="172"/>
                </a:lnTo>
                <a:lnTo>
                  <a:pt x="225" y="164"/>
                </a:lnTo>
                <a:lnTo>
                  <a:pt x="234" y="159"/>
                </a:lnTo>
                <a:lnTo>
                  <a:pt x="242" y="157"/>
                </a:lnTo>
                <a:lnTo>
                  <a:pt x="245" y="159"/>
                </a:lnTo>
                <a:lnTo>
                  <a:pt x="245" y="161"/>
                </a:lnTo>
                <a:lnTo>
                  <a:pt x="245" y="162"/>
                </a:lnTo>
                <a:lnTo>
                  <a:pt x="260" y="172"/>
                </a:lnTo>
                <a:lnTo>
                  <a:pt x="265" y="172"/>
                </a:lnTo>
                <a:lnTo>
                  <a:pt x="275" y="17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46280" y="51055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0" y="2"/>
                </a:moveTo>
                <a:lnTo>
                  <a:pt x="4" y="0"/>
                </a:lnTo>
                <a:lnTo>
                  <a:pt x="9" y="0"/>
                </a:lnTo>
                <a:lnTo>
                  <a:pt x="13" y="2"/>
                </a:lnTo>
                <a:lnTo>
                  <a:pt x="17" y="4"/>
                </a:lnTo>
                <a:lnTo>
                  <a:pt x="9" y="6"/>
                </a:lnTo>
                <a:lnTo>
                  <a:pt x="0" y="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73120" y="5114880"/>
            <a:ext cx="65160" cy="22320"/>
          </a:xfrm>
          <a:custGeom>
            <a:avLst/>
            <a:gdLst/>
            <a:ahLst/>
            <a:rect l="l" t="t" r="r" b="b"/>
            <a:pathLst>
              <a:path w="39" h="16">
                <a:moveTo>
                  <a:pt x="17" y="16"/>
                </a:moveTo>
                <a:lnTo>
                  <a:pt x="15" y="15"/>
                </a:lnTo>
                <a:lnTo>
                  <a:pt x="0" y="11"/>
                </a:lnTo>
                <a:lnTo>
                  <a:pt x="2" y="5"/>
                </a:lnTo>
                <a:lnTo>
                  <a:pt x="4" y="4"/>
                </a:lnTo>
                <a:lnTo>
                  <a:pt x="11" y="5"/>
                </a:lnTo>
                <a:lnTo>
                  <a:pt x="24" y="4"/>
                </a:lnTo>
                <a:lnTo>
                  <a:pt x="29" y="0"/>
                </a:lnTo>
                <a:lnTo>
                  <a:pt x="37" y="5"/>
                </a:lnTo>
                <a:lnTo>
                  <a:pt x="39" y="11"/>
                </a:lnTo>
                <a:lnTo>
                  <a:pt x="39" y="13"/>
                </a:lnTo>
                <a:lnTo>
                  <a:pt x="29" y="13"/>
                </a:lnTo>
                <a:lnTo>
                  <a:pt x="26" y="11"/>
                </a:lnTo>
                <a:lnTo>
                  <a:pt x="29" y="9"/>
                </a:lnTo>
                <a:lnTo>
                  <a:pt x="26" y="7"/>
                </a:lnTo>
                <a:lnTo>
                  <a:pt x="20" y="9"/>
                </a:lnTo>
                <a:lnTo>
                  <a:pt x="18" y="9"/>
                </a:lnTo>
                <a:lnTo>
                  <a:pt x="18" y="11"/>
                </a:lnTo>
                <a:lnTo>
                  <a:pt x="20" y="13"/>
                </a:lnTo>
                <a:lnTo>
                  <a:pt x="24" y="15"/>
                </a:lnTo>
                <a:lnTo>
                  <a:pt x="20" y="16"/>
                </a:lnTo>
                <a:lnTo>
                  <a:pt x="17" y="1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6680" y="5130720"/>
            <a:ext cx="23760" cy="20880"/>
          </a:xfrm>
          <a:custGeom>
            <a:avLst/>
            <a:gdLst/>
            <a:ahLst/>
            <a:rect l="l" t="t" r="r" b="b"/>
            <a:pathLst>
              <a:path w="15" h="14">
                <a:moveTo>
                  <a:pt x="13" y="14"/>
                </a:moveTo>
                <a:lnTo>
                  <a:pt x="2" y="11"/>
                </a:lnTo>
                <a:lnTo>
                  <a:pt x="0" y="11"/>
                </a:lnTo>
                <a:lnTo>
                  <a:pt x="0" y="7"/>
                </a:lnTo>
                <a:lnTo>
                  <a:pt x="4" y="4"/>
                </a:lnTo>
                <a:lnTo>
                  <a:pt x="11" y="0"/>
                </a:lnTo>
                <a:lnTo>
                  <a:pt x="15" y="2"/>
                </a:lnTo>
                <a:lnTo>
                  <a:pt x="15" y="13"/>
                </a:lnTo>
                <a:lnTo>
                  <a:pt x="13" y="1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38280" y="5137200"/>
            <a:ext cx="20520" cy="30240"/>
          </a:xfrm>
          <a:custGeom>
            <a:avLst/>
            <a:gdLst/>
            <a:ahLst/>
            <a:rect l="l" t="t" r="r" b="b"/>
            <a:pathLst>
              <a:path w="13" h="20">
                <a:moveTo>
                  <a:pt x="10" y="20"/>
                </a:moveTo>
                <a:lnTo>
                  <a:pt x="2" y="11"/>
                </a:lnTo>
                <a:lnTo>
                  <a:pt x="0" y="6"/>
                </a:lnTo>
                <a:lnTo>
                  <a:pt x="0" y="4"/>
                </a:lnTo>
                <a:lnTo>
                  <a:pt x="2" y="0"/>
                </a:lnTo>
                <a:lnTo>
                  <a:pt x="4" y="0"/>
                </a:lnTo>
                <a:lnTo>
                  <a:pt x="11" y="8"/>
                </a:lnTo>
                <a:lnTo>
                  <a:pt x="13" y="15"/>
                </a:lnTo>
                <a:lnTo>
                  <a:pt x="13" y="17"/>
                </a:lnTo>
                <a:lnTo>
                  <a:pt x="10" y="2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50800" y="5149800"/>
            <a:ext cx="19080" cy="1800"/>
          </a:xfrm>
          <a:custGeom>
            <a:avLst/>
            <a:gdLst/>
            <a:ahLst/>
            <a:rect l="l" t="t" r="r" b="b"/>
            <a:pathLst>
              <a:path w="11" h="1">
                <a:moveTo>
                  <a:pt x="5" y="1"/>
                </a:moveTo>
                <a:lnTo>
                  <a:pt x="0" y="1"/>
                </a:lnTo>
                <a:lnTo>
                  <a:pt x="0" y="0"/>
                </a:lnTo>
                <a:lnTo>
                  <a:pt x="11" y="0"/>
                </a:lnTo>
                <a:lnTo>
                  <a:pt x="5" y="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96880" y="5162400"/>
            <a:ext cx="28800" cy="12960"/>
          </a:xfrm>
          <a:custGeom>
            <a:avLst/>
            <a:gdLst/>
            <a:ahLst/>
            <a:rect l="l" t="t" r="r" b="b"/>
            <a:pathLst>
              <a:path w="18" h="9">
                <a:moveTo>
                  <a:pt x="14" y="9"/>
                </a:moveTo>
                <a:lnTo>
                  <a:pt x="3" y="7"/>
                </a:lnTo>
                <a:lnTo>
                  <a:pt x="2" y="5"/>
                </a:lnTo>
                <a:lnTo>
                  <a:pt x="0" y="3"/>
                </a:lnTo>
                <a:lnTo>
                  <a:pt x="7" y="0"/>
                </a:lnTo>
                <a:lnTo>
                  <a:pt x="9" y="0"/>
                </a:lnTo>
                <a:lnTo>
                  <a:pt x="14" y="2"/>
                </a:lnTo>
                <a:lnTo>
                  <a:pt x="18" y="5"/>
                </a:lnTo>
                <a:lnTo>
                  <a:pt x="16" y="9"/>
                </a:lnTo>
                <a:lnTo>
                  <a:pt x="14" y="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38200" y="5167440"/>
            <a:ext cx="20880" cy="7920"/>
          </a:xfrm>
          <a:custGeom>
            <a:avLst/>
            <a:gdLst/>
            <a:ahLst/>
            <a:rect l="l" t="t" r="r" b="b"/>
            <a:pathLst>
              <a:path w="13" h="6">
                <a:moveTo>
                  <a:pt x="6" y="6"/>
                </a:moveTo>
                <a:lnTo>
                  <a:pt x="2" y="2"/>
                </a:lnTo>
                <a:lnTo>
                  <a:pt x="0" y="2"/>
                </a:lnTo>
                <a:lnTo>
                  <a:pt x="8" y="0"/>
                </a:lnTo>
                <a:lnTo>
                  <a:pt x="13" y="2"/>
                </a:lnTo>
                <a:lnTo>
                  <a:pt x="13" y="4"/>
                </a:lnTo>
                <a:lnTo>
                  <a:pt x="11" y="4"/>
                </a:lnTo>
                <a:lnTo>
                  <a:pt x="6" y="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79600" y="5167440"/>
            <a:ext cx="25200" cy="27000"/>
          </a:xfrm>
          <a:custGeom>
            <a:avLst/>
            <a:gdLst/>
            <a:ahLst/>
            <a:rect l="l" t="t" r="r" b="b"/>
            <a:pathLst>
              <a:path w="16" h="19">
                <a:moveTo>
                  <a:pt x="11" y="19"/>
                </a:moveTo>
                <a:lnTo>
                  <a:pt x="9" y="19"/>
                </a:lnTo>
                <a:lnTo>
                  <a:pt x="4" y="15"/>
                </a:lnTo>
                <a:lnTo>
                  <a:pt x="0" y="6"/>
                </a:lnTo>
                <a:lnTo>
                  <a:pt x="5" y="0"/>
                </a:lnTo>
                <a:lnTo>
                  <a:pt x="7" y="2"/>
                </a:lnTo>
                <a:lnTo>
                  <a:pt x="16" y="10"/>
                </a:lnTo>
                <a:lnTo>
                  <a:pt x="11" y="11"/>
                </a:lnTo>
                <a:lnTo>
                  <a:pt x="11" y="1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38280" y="5181480"/>
            <a:ext cx="11160" cy="9720"/>
          </a:xfrm>
          <a:custGeom>
            <a:avLst/>
            <a:gdLst/>
            <a:ahLst/>
            <a:rect l="l" t="t" r="r" b="b"/>
            <a:pathLst>
              <a:path w="9" h="7">
                <a:moveTo>
                  <a:pt x="3" y="7"/>
                </a:moveTo>
                <a:lnTo>
                  <a:pt x="1" y="5"/>
                </a:lnTo>
                <a:lnTo>
                  <a:pt x="0" y="1"/>
                </a:lnTo>
                <a:lnTo>
                  <a:pt x="7" y="0"/>
                </a:lnTo>
                <a:lnTo>
                  <a:pt x="9" y="1"/>
                </a:lnTo>
                <a:lnTo>
                  <a:pt x="9" y="3"/>
                </a:lnTo>
                <a:lnTo>
                  <a:pt x="3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34960" y="5181480"/>
            <a:ext cx="20880" cy="9720"/>
          </a:xfrm>
          <a:custGeom>
            <a:avLst/>
            <a:gdLst/>
            <a:ahLst/>
            <a:rect l="l" t="t" r="r" b="b"/>
            <a:pathLst>
              <a:path w="13" h="7">
                <a:moveTo>
                  <a:pt x="11" y="7"/>
                </a:moveTo>
                <a:lnTo>
                  <a:pt x="2" y="5"/>
                </a:lnTo>
                <a:lnTo>
                  <a:pt x="0" y="3"/>
                </a:lnTo>
                <a:lnTo>
                  <a:pt x="0" y="1"/>
                </a:lnTo>
                <a:lnTo>
                  <a:pt x="10" y="0"/>
                </a:lnTo>
                <a:lnTo>
                  <a:pt x="11" y="1"/>
                </a:lnTo>
                <a:lnTo>
                  <a:pt x="13" y="5"/>
                </a:lnTo>
                <a:lnTo>
                  <a:pt x="11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01920" y="5186520"/>
            <a:ext cx="31680" cy="7920"/>
          </a:xfrm>
          <a:custGeom>
            <a:avLst/>
            <a:gdLst/>
            <a:ahLst/>
            <a:rect l="l" t="t" r="r" b="b"/>
            <a:pathLst>
              <a:path w="19" h="6">
                <a:moveTo>
                  <a:pt x="11" y="6"/>
                </a:moveTo>
                <a:lnTo>
                  <a:pt x="2" y="4"/>
                </a:lnTo>
                <a:lnTo>
                  <a:pt x="0" y="4"/>
                </a:lnTo>
                <a:lnTo>
                  <a:pt x="0" y="0"/>
                </a:lnTo>
                <a:lnTo>
                  <a:pt x="17" y="0"/>
                </a:lnTo>
                <a:lnTo>
                  <a:pt x="19" y="4"/>
                </a:lnTo>
                <a:lnTo>
                  <a:pt x="17" y="6"/>
                </a:lnTo>
                <a:lnTo>
                  <a:pt x="11" y="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4880" y="5191200"/>
            <a:ext cx="20880" cy="11160"/>
          </a:xfrm>
          <a:custGeom>
            <a:avLst/>
            <a:gdLst/>
            <a:ahLst/>
            <a:rect l="l" t="t" r="r" b="b"/>
            <a:pathLst>
              <a:path w="13" h="7">
                <a:moveTo>
                  <a:pt x="4" y="7"/>
                </a:moveTo>
                <a:lnTo>
                  <a:pt x="2" y="5"/>
                </a:lnTo>
                <a:lnTo>
                  <a:pt x="0" y="5"/>
                </a:lnTo>
                <a:lnTo>
                  <a:pt x="2" y="2"/>
                </a:lnTo>
                <a:lnTo>
                  <a:pt x="6" y="0"/>
                </a:lnTo>
                <a:lnTo>
                  <a:pt x="11" y="2"/>
                </a:lnTo>
                <a:lnTo>
                  <a:pt x="13" y="5"/>
                </a:lnTo>
                <a:lnTo>
                  <a:pt x="4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82840" y="5191200"/>
            <a:ext cx="25200" cy="19080"/>
          </a:xfrm>
          <a:custGeom>
            <a:avLst/>
            <a:gdLst/>
            <a:ahLst/>
            <a:rect l="l" t="t" r="r" b="b"/>
            <a:pathLst>
              <a:path w="16" h="13">
                <a:moveTo>
                  <a:pt x="12" y="11"/>
                </a:moveTo>
                <a:lnTo>
                  <a:pt x="2" y="7"/>
                </a:lnTo>
                <a:lnTo>
                  <a:pt x="0" y="0"/>
                </a:lnTo>
                <a:lnTo>
                  <a:pt x="16" y="4"/>
                </a:lnTo>
                <a:lnTo>
                  <a:pt x="16" y="13"/>
                </a:lnTo>
                <a:lnTo>
                  <a:pt x="14" y="13"/>
                </a:lnTo>
                <a:lnTo>
                  <a:pt x="12" y="1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33600" y="5197320"/>
            <a:ext cx="20520" cy="12960"/>
          </a:xfrm>
          <a:custGeom>
            <a:avLst/>
            <a:gdLst/>
            <a:ahLst/>
            <a:rect l="l" t="t" r="r" b="b"/>
            <a:pathLst>
              <a:path w="13" h="9">
                <a:moveTo>
                  <a:pt x="5" y="7"/>
                </a:moveTo>
                <a:lnTo>
                  <a:pt x="0" y="3"/>
                </a:lnTo>
                <a:lnTo>
                  <a:pt x="11" y="0"/>
                </a:lnTo>
                <a:lnTo>
                  <a:pt x="13" y="0"/>
                </a:lnTo>
                <a:lnTo>
                  <a:pt x="13" y="1"/>
                </a:lnTo>
                <a:lnTo>
                  <a:pt x="11" y="7"/>
                </a:lnTo>
                <a:lnTo>
                  <a:pt x="9" y="9"/>
                </a:lnTo>
                <a:lnTo>
                  <a:pt x="5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82560" y="5199120"/>
            <a:ext cx="114480" cy="81000"/>
          </a:xfrm>
          <a:custGeom>
            <a:avLst/>
            <a:gdLst/>
            <a:ahLst/>
            <a:rect l="l" t="t" r="r" b="b"/>
            <a:pathLst>
              <a:path w="71" h="55">
                <a:moveTo>
                  <a:pt x="57" y="35"/>
                </a:moveTo>
                <a:lnTo>
                  <a:pt x="47" y="41"/>
                </a:lnTo>
                <a:lnTo>
                  <a:pt x="40" y="44"/>
                </a:lnTo>
                <a:lnTo>
                  <a:pt x="38" y="48"/>
                </a:lnTo>
                <a:lnTo>
                  <a:pt x="31" y="52"/>
                </a:lnTo>
                <a:lnTo>
                  <a:pt x="24" y="55"/>
                </a:lnTo>
                <a:lnTo>
                  <a:pt x="18" y="55"/>
                </a:lnTo>
                <a:lnTo>
                  <a:pt x="5" y="46"/>
                </a:lnTo>
                <a:lnTo>
                  <a:pt x="5" y="44"/>
                </a:lnTo>
                <a:lnTo>
                  <a:pt x="14" y="41"/>
                </a:lnTo>
                <a:lnTo>
                  <a:pt x="20" y="42"/>
                </a:lnTo>
                <a:lnTo>
                  <a:pt x="24" y="41"/>
                </a:lnTo>
                <a:lnTo>
                  <a:pt x="16" y="39"/>
                </a:lnTo>
                <a:lnTo>
                  <a:pt x="9" y="41"/>
                </a:lnTo>
                <a:lnTo>
                  <a:pt x="7" y="41"/>
                </a:lnTo>
                <a:lnTo>
                  <a:pt x="2" y="33"/>
                </a:lnTo>
                <a:lnTo>
                  <a:pt x="0" y="26"/>
                </a:lnTo>
                <a:lnTo>
                  <a:pt x="4" y="22"/>
                </a:lnTo>
                <a:lnTo>
                  <a:pt x="18" y="20"/>
                </a:lnTo>
                <a:lnTo>
                  <a:pt x="20" y="17"/>
                </a:lnTo>
                <a:lnTo>
                  <a:pt x="20" y="10"/>
                </a:lnTo>
                <a:lnTo>
                  <a:pt x="22" y="4"/>
                </a:lnTo>
                <a:lnTo>
                  <a:pt x="36" y="2"/>
                </a:lnTo>
                <a:lnTo>
                  <a:pt x="46" y="0"/>
                </a:lnTo>
                <a:lnTo>
                  <a:pt x="57" y="8"/>
                </a:lnTo>
                <a:lnTo>
                  <a:pt x="66" y="10"/>
                </a:lnTo>
                <a:lnTo>
                  <a:pt x="71" y="15"/>
                </a:lnTo>
                <a:lnTo>
                  <a:pt x="71" y="17"/>
                </a:lnTo>
                <a:lnTo>
                  <a:pt x="62" y="26"/>
                </a:lnTo>
                <a:lnTo>
                  <a:pt x="55" y="26"/>
                </a:lnTo>
                <a:lnTo>
                  <a:pt x="51" y="24"/>
                </a:lnTo>
                <a:lnTo>
                  <a:pt x="46" y="22"/>
                </a:lnTo>
                <a:lnTo>
                  <a:pt x="47" y="26"/>
                </a:lnTo>
                <a:lnTo>
                  <a:pt x="53" y="28"/>
                </a:lnTo>
                <a:lnTo>
                  <a:pt x="60" y="30"/>
                </a:lnTo>
                <a:lnTo>
                  <a:pt x="60" y="31"/>
                </a:lnTo>
                <a:lnTo>
                  <a:pt x="60" y="33"/>
                </a:lnTo>
                <a:lnTo>
                  <a:pt x="57" y="3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12720" y="5199120"/>
            <a:ext cx="20880" cy="14400"/>
          </a:xfrm>
          <a:custGeom>
            <a:avLst/>
            <a:gdLst/>
            <a:ahLst/>
            <a:rect l="l" t="t" r="r" b="b"/>
            <a:pathLst>
              <a:path w="13" h="10">
                <a:moveTo>
                  <a:pt x="4" y="10"/>
                </a:moveTo>
                <a:lnTo>
                  <a:pt x="2" y="10"/>
                </a:lnTo>
                <a:lnTo>
                  <a:pt x="2" y="8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5" y="2"/>
                </a:lnTo>
                <a:lnTo>
                  <a:pt x="13" y="4"/>
                </a:lnTo>
                <a:lnTo>
                  <a:pt x="13" y="6"/>
                </a:lnTo>
                <a:lnTo>
                  <a:pt x="13" y="8"/>
                </a:lnTo>
                <a:lnTo>
                  <a:pt x="4" y="1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15880" y="5202360"/>
            <a:ext cx="49320" cy="21960"/>
          </a:xfrm>
          <a:custGeom>
            <a:avLst/>
            <a:gdLst/>
            <a:ahLst/>
            <a:rect l="l" t="t" r="r" b="b"/>
            <a:pathLst>
              <a:path w="31" h="15">
                <a:moveTo>
                  <a:pt x="14" y="15"/>
                </a:moveTo>
                <a:lnTo>
                  <a:pt x="3" y="13"/>
                </a:lnTo>
                <a:lnTo>
                  <a:pt x="1" y="13"/>
                </a:lnTo>
                <a:lnTo>
                  <a:pt x="0" y="8"/>
                </a:lnTo>
                <a:lnTo>
                  <a:pt x="3" y="6"/>
                </a:lnTo>
                <a:lnTo>
                  <a:pt x="22" y="0"/>
                </a:lnTo>
                <a:lnTo>
                  <a:pt x="27" y="2"/>
                </a:lnTo>
                <a:lnTo>
                  <a:pt x="31" y="8"/>
                </a:lnTo>
                <a:lnTo>
                  <a:pt x="31" y="9"/>
                </a:lnTo>
                <a:lnTo>
                  <a:pt x="12" y="11"/>
                </a:lnTo>
                <a:lnTo>
                  <a:pt x="14" y="1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79600" y="5210280"/>
            <a:ext cx="28440" cy="17280"/>
          </a:xfrm>
          <a:custGeom>
            <a:avLst/>
            <a:gdLst/>
            <a:ahLst/>
            <a:rect l="l" t="t" r="r" b="b"/>
            <a:pathLst>
              <a:path w="18" h="11">
                <a:moveTo>
                  <a:pt x="7" y="11"/>
                </a:moveTo>
                <a:lnTo>
                  <a:pt x="2" y="9"/>
                </a:lnTo>
                <a:lnTo>
                  <a:pt x="0" y="7"/>
                </a:lnTo>
                <a:lnTo>
                  <a:pt x="0" y="0"/>
                </a:lnTo>
                <a:lnTo>
                  <a:pt x="13" y="2"/>
                </a:lnTo>
                <a:lnTo>
                  <a:pt x="16" y="3"/>
                </a:lnTo>
                <a:lnTo>
                  <a:pt x="18" y="5"/>
                </a:lnTo>
                <a:lnTo>
                  <a:pt x="16" y="9"/>
                </a:lnTo>
                <a:lnTo>
                  <a:pt x="7" y="1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1440" y="5218200"/>
            <a:ext cx="34920" cy="11160"/>
          </a:xfrm>
          <a:custGeom>
            <a:avLst/>
            <a:gdLst/>
            <a:ahLst/>
            <a:rect l="l" t="t" r="r" b="b"/>
            <a:pathLst>
              <a:path w="22" h="7">
                <a:moveTo>
                  <a:pt x="6" y="7"/>
                </a:moveTo>
                <a:lnTo>
                  <a:pt x="2" y="6"/>
                </a:lnTo>
                <a:lnTo>
                  <a:pt x="0" y="2"/>
                </a:lnTo>
                <a:lnTo>
                  <a:pt x="7" y="0"/>
                </a:lnTo>
                <a:lnTo>
                  <a:pt x="17" y="0"/>
                </a:lnTo>
                <a:lnTo>
                  <a:pt x="22" y="4"/>
                </a:lnTo>
                <a:lnTo>
                  <a:pt x="6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5680" y="5224320"/>
            <a:ext cx="34920" cy="28800"/>
          </a:xfrm>
          <a:custGeom>
            <a:avLst/>
            <a:gdLst/>
            <a:ahLst/>
            <a:rect l="l" t="t" r="r" b="b"/>
            <a:pathLst>
              <a:path w="22" h="20">
                <a:moveTo>
                  <a:pt x="7" y="20"/>
                </a:moveTo>
                <a:lnTo>
                  <a:pt x="6" y="20"/>
                </a:lnTo>
                <a:lnTo>
                  <a:pt x="0" y="13"/>
                </a:lnTo>
                <a:lnTo>
                  <a:pt x="0" y="3"/>
                </a:lnTo>
                <a:lnTo>
                  <a:pt x="2" y="2"/>
                </a:lnTo>
                <a:lnTo>
                  <a:pt x="13" y="0"/>
                </a:lnTo>
                <a:lnTo>
                  <a:pt x="17" y="2"/>
                </a:lnTo>
                <a:lnTo>
                  <a:pt x="22" y="16"/>
                </a:lnTo>
                <a:lnTo>
                  <a:pt x="11" y="18"/>
                </a:lnTo>
                <a:lnTo>
                  <a:pt x="7" y="2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3040" y="5224320"/>
            <a:ext cx="16200" cy="20880"/>
          </a:xfrm>
          <a:custGeom>
            <a:avLst/>
            <a:gdLst/>
            <a:ahLst/>
            <a:rect l="l" t="t" r="r" b="b"/>
            <a:pathLst>
              <a:path w="11" h="14">
                <a:moveTo>
                  <a:pt x="4" y="14"/>
                </a:moveTo>
                <a:lnTo>
                  <a:pt x="2" y="11"/>
                </a:lnTo>
                <a:lnTo>
                  <a:pt x="0" y="9"/>
                </a:lnTo>
                <a:lnTo>
                  <a:pt x="0" y="2"/>
                </a:lnTo>
                <a:lnTo>
                  <a:pt x="2" y="0"/>
                </a:lnTo>
                <a:lnTo>
                  <a:pt x="9" y="3"/>
                </a:lnTo>
                <a:lnTo>
                  <a:pt x="11" y="5"/>
                </a:lnTo>
                <a:lnTo>
                  <a:pt x="9" y="13"/>
                </a:lnTo>
                <a:lnTo>
                  <a:pt x="4" y="1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34960" y="5230800"/>
            <a:ext cx="82800" cy="30240"/>
          </a:xfrm>
          <a:custGeom>
            <a:avLst/>
            <a:gdLst/>
            <a:ahLst/>
            <a:rect l="l" t="t" r="r" b="b"/>
            <a:pathLst>
              <a:path w="52" h="20">
                <a:moveTo>
                  <a:pt x="15" y="20"/>
                </a:moveTo>
                <a:lnTo>
                  <a:pt x="10" y="19"/>
                </a:lnTo>
                <a:lnTo>
                  <a:pt x="4" y="15"/>
                </a:lnTo>
                <a:lnTo>
                  <a:pt x="0" y="9"/>
                </a:lnTo>
                <a:lnTo>
                  <a:pt x="0" y="4"/>
                </a:lnTo>
                <a:lnTo>
                  <a:pt x="2" y="2"/>
                </a:lnTo>
                <a:lnTo>
                  <a:pt x="17" y="0"/>
                </a:lnTo>
                <a:lnTo>
                  <a:pt x="41" y="0"/>
                </a:lnTo>
                <a:lnTo>
                  <a:pt x="46" y="4"/>
                </a:lnTo>
                <a:lnTo>
                  <a:pt x="52" y="9"/>
                </a:lnTo>
                <a:lnTo>
                  <a:pt x="39" y="11"/>
                </a:lnTo>
                <a:lnTo>
                  <a:pt x="22" y="17"/>
                </a:lnTo>
                <a:lnTo>
                  <a:pt x="15" y="2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95360" y="5234040"/>
            <a:ext cx="34920" cy="11160"/>
          </a:xfrm>
          <a:custGeom>
            <a:avLst/>
            <a:gdLst/>
            <a:ahLst/>
            <a:rect l="l" t="t" r="r" b="b"/>
            <a:pathLst>
              <a:path w="22" h="7">
                <a:moveTo>
                  <a:pt x="20" y="7"/>
                </a:moveTo>
                <a:lnTo>
                  <a:pt x="5" y="7"/>
                </a:lnTo>
                <a:lnTo>
                  <a:pt x="0" y="6"/>
                </a:lnTo>
                <a:lnTo>
                  <a:pt x="7" y="0"/>
                </a:lnTo>
                <a:lnTo>
                  <a:pt x="13" y="0"/>
                </a:lnTo>
                <a:lnTo>
                  <a:pt x="22" y="2"/>
                </a:lnTo>
                <a:lnTo>
                  <a:pt x="22" y="7"/>
                </a:lnTo>
                <a:lnTo>
                  <a:pt x="20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17680" y="5248440"/>
            <a:ext cx="33120" cy="20520"/>
          </a:xfrm>
          <a:custGeom>
            <a:avLst/>
            <a:gdLst/>
            <a:ahLst/>
            <a:rect l="l" t="t" r="r" b="b"/>
            <a:pathLst>
              <a:path w="21" h="15">
                <a:moveTo>
                  <a:pt x="13" y="15"/>
                </a:moveTo>
                <a:lnTo>
                  <a:pt x="6" y="11"/>
                </a:lnTo>
                <a:lnTo>
                  <a:pt x="0" y="4"/>
                </a:lnTo>
                <a:lnTo>
                  <a:pt x="0" y="2"/>
                </a:lnTo>
                <a:lnTo>
                  <a:pt x="2" y="2"/>
                </a:lnTo>
                <a:lnTo>
                  <a:pt x="8" y="0"/>
                </a:lnTo>
                <a:lnTo>
                  <a:pt x="10" y="0"/>
                </a:lnTo>
                <a:lnTo>
                  <a:pt x="21" y="13"/>
                </a:lnTo>
                <a:lnTo>
                  <a:pt x="13" y="1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38280" y="5249880"/>
            <a:ext cx="22320" cy="15840"/>
          </a:xfrm>
          <a:custGeom>
            <a:avLst/>
            <a:gdLst/>
            <a:ahLst/>
            <a:rect l="l" t="t" r="r" b="b"/>
            <a:pathLst>
              <a:path w="15" h="11">
                <a:moveTo>
                  <a:pt x="6" y="9"/>
                </a:moveTo>
                <a:lnTo>
                  <a:pt x="0" y="7"/>
                </a:lnTo>
                <a:lnTo>
                  <a:pt x="0" y="4"/>
                </a:lnTo>
                <a:lnTo>
                  <a:pt x="0" y="2"/>
                </a:lnTo>
                <a:lnTo>
                  <a:pt x="11" y="0"/>
                </a:lnTo>
                <a:lnTo>
                  <a:pt x="13" y="0"/>
                </a:lnTo>
                <a:lnTo>
                  <a:pt x="15" y="2"/>
                </a:lnTo>
                <a:lnTo>
                  <a:pt x="13" y="9"/>
                </a:lnTo>
                <a:lnTo>
                  <a:pt x="10" y="11"/>
                </a:lnTo>
                <a:lnTo>
                  <a:pt x="6" y="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08040" y="5256360"/>
            <a:ext cx="30240" cy="27000"/>
          </a:xfrm>
          <a:custGeom>
            <a:avLst/>
            <a:gdLst/>
            <a:ahLst/>
            <a:rect l="l" t="t" r="r" b="b"/>
            <a:pathLst>
              <a:path w="17" h="18">
                <a:moveTo>
                  <a:pt x="9" y="18"/>
                </a:moveTo>
                <a:lnTo>
                  <a:pt x="2" y="13"/>
                </a:lnTo>
                <a:lnTo>
                  <a:pt x="0" y="11"/>
                </a:lnTo>
                <a:lnTo>
                  <a:pt x="0" y="3"/>
                </a:lnTo>
                <a:lnTo>
                  <a:pt x="0" y="2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lnTo>
                  <a:pt x="17" y="13"/>
                </a:lnTo>
                <a:lnTo>
                  <a:pt x="17" y="14"/>
                </a:lnTo>
                <a:lnTo>
                  <a:pt x="15" y="18"/>
                </a:lnTo>
                <a:lnTo>
                  <a:pt x="13" y="18"/>
                </a:lnTo>
                <a:lnTo>
                  <a:pt x="9" y="1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69880" y="5256360"/>
            <a:ext cx="34920" cy="12600"/>
          </a:xfrm>
          <a:custGeom>
            <a:avLst/>
            <a:gdLst/>
            <a:ahLst/>
            <a:rect l="l" t="t" r="r" b="b"/>
            <a:pathLst>
              <a:path w="22" h="9">
                <a:moveTo>
                  <a:pt x="15" y="9"/>
                </a:moveTo>
                <a:lnTo>
                  <a:pt x="2" y="5"/>
                </a:lnTo>
                <a:lnTo>
                  <a:pt x="0" y="5"/>
                </a:lnTo>
                <a:lnTo>
                  <a:pt x="0" y="3"/>
                </a:lnTo>
                <a:lnTo>
                  <a:pt x="11" y="2"/>
                </a:lnTo>
                <a:lnTo>
                  <a:pt x="17" y="0"/>
                </a:lnTo>
                <a:lnTo>
                  <a:pt x="20" y="0"/>
                </a:lnTo>
                <a:lnTo>
                  <a:pt x="22" y="2"/>
                </a:lnTo>
                <a:lnTo>
                  <a:pt x="22" y="5"/>
                </a:lnTo>
                <a:lnTo>
                  <a:pt x="15" y="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20840" y="5256360"/>
            <a:ext cx="20520" cy="20520"/>
          </a:xfrm>
          <a:custGeom>
            <a:avLst/>
            <a:gdLst/>
            <a:ahLst/>
            <a:rect l="l" t="t" r="r" b="b"/>
            <a:pathLst>
              <a:path w="13" h="14">
                <a:moveTo>
                  <a:pt x="7" y="14"/>
                </a:moveTo>
                <a:lnTo>
                  <a:pt x="4" y="14"/>
                </a:lnTo>
                <a:lnTo>
                  <a:pt x="0" y="5"/>
                </a:lnTo>
                <a:lnTo>
                  <a:pt x="0" y="3"/>
                </a:lnTo>
                <a:lnTo>
                  <a:pt x="4" y="2"/>
                </a:lnTo>
                <a:lnTo>
                  <a:pt x="6" y="0"/>
                </a:lnTo>
                <a:lnTo>
                  <a:pt x="7" y="2"/>
                </a:lnTo>
                <a:lnTo>
                  <a:pt x="13" y="7"/>
                </a:lnTo>
                <a:lnTo>
                  <a:pt x="13" y="13"/>
                </a:lnTo>
                <a:lnTo>
                  <a:pt x="7" y="1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4680" y="5268960"/>
            <a:ext cx="68040" cy="23760"/>
          </a:xfrm>
          <a:custGeom>
            <a:avLst/>
            <a:gdLst/>
            <a:ahLst/>
            <a:rect l="l" t="t" r="r" b="b"/>
            <a:pathLst>
              <a:path w="42" h="16">
                <a:moveTo>
                  <a:pt x="7" y="16"/>
                </a:moveTo>
                <a:lnTo>
                  <a:pt x="0" y="15"/>
                </a:lnTo>
                <a:lnTo>
                  <a:pt x="0" y="11"/>
                </a:lnTo>
                <a:lnTo>
                  <a:pt x="16" y="0"/>
                </a:lnTo>
                <a:lnTo>
                  <a:pt x="20" y="0"/>
                </a:lnTo>
                <a:lnTo>
                  <a:pt x="38" y="4"/>
                </a:lnTo>
                <a:lnTo>
                  <a:pt x="42" y="9"/>
                </a:lnTo>
                <a:lnTo>
                  <a:pt x="38" y="11"/>
                </a:lnTo>
                <a:lnTo>
                  <a:pt x="31" y="13"/>
                </a:lnTo>
                <a:lnTo>
                  <a:pt x="16" y="13"/>
                </a:lnTo>
                <a:lnTo>
                  <a:pt x="7" y="1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61960" y="5288040"/>
            <a:ext cx="81000" cy="39600"/>
          </a:xfrm>
          <a:custGeom>
            <a:avLst/>
            <a:gdLst/>
            <a:ahLst/>
            <a:rect l="l" t="t" r="r" b="b"/>
            <a:pathLst>
              <a:path w="51" h="27">
                <a:moveTo>
                  <a:pt x="49" y="27"/>
                </a:moveTo>
                <a:lnTo>
                  <a:pt x="44" y="25"/>
                </a:lnTo>
                <a:lnTo>
                  <a:pt x="40" y="23"/>
                </a:lnTo>
                <a:lnTo>
                  <a:pt x="29" y="23"/>
                </a:lnTo>
                <a:lnTo>
                  <a:pt x="24" y="23"/>
                </a:lnTo>
                <a:lnTo>
                  <a:pt x="13" y="14"/>
                </a:lnTo>
                <a:lnTo>
                  <a:pt x="4" y="16"/>
                </a:lnTo>
                <a:lnTo>
                  <a:pt x="2" y="16"/>
                </a:lnTo>
                <a:lnTo>
                  <a:pt x="0" y="14"/>
                </a:lnTo>
                <a:lnTo>
                  <a:pt x="0" y="11"/>
                </a:lnTo>
                <a:lnTo>
                  <a:pt x="0" y="7"/>
                </a:lnTo>
                <a:lnTo>
                  <a:pt x="7" y="3"/>
                </a:lnTo>
                <a:lnTo>
                  <a:pt x="9" y="2"/>
                </a:lnTo>
                <a:lnTo>
                  <a:pt x="13" y="3"/>
                </a:lnTo>
                <a:lnTo>
                  <a:pt x="25" y="2"/>
                </a:lnTo>
                <a:lnTo>
                  <a:pt x="33" y="0"/>
                </a:lnTo>
                <a:lnTo>
                  <a:pt x="38" y="0"/>
                </a:lnTo>
                <a:lnTo>
                  <a:pt x="46" y="5"/>
                </a:lnTo>
                <a:lnTo>
                  <a:pt x="51" y="11"/>
                </a:lnTo>
                <a:lnTo>
                  <a:pt x="51" y="13"/>
                </a:lnTo>
                <a:lnTo>
                  <a:pt x="51" y="18"/>
                </a:lnTo>
                <a:lnTo>
                  <a:pt x="49" y="2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34960" y="5308560"/>
            <a:ext cx="20880" cy="22320"/>
          </a:xfrm>
          <a:custGeom>
            <a:avLst/>
            <a:gdLst/>
            <a:ahLst/>
            <a:rect l="l" t="t" r="r" b="b"/>
            <a:pathLst>
              <a:path w="13" h="15">
                <a:moveTo>
                  <a:pt x="8" y="15"/>
                </a:moveTo>
                <a:lnTo>
                  <a:pt x="2" y="11"/>
                </a:lnTo>
                <a:lnTo>
                  <a:pt x="0" y="9"/>
                </a:lnTo>
                <a:lnTo>
                  <a:pt x="2" y="0"/>
                </a:lnTo>
                <a:lnTo>
                  <a:pt x="6" y="0"/>
                </a:lnTo>
                <a:lnTo>
                  <a:pt x="13" y="6"/>
                </a:lnTo>
                <a:lnTo>
                  <a:pt x="11" y="15"/>
                </a:lnTo>
                <a:lnTo>
                  <a:pt x="10" y="15"/>
                </a:lnTo>
                <a:lnTo>
                  <a:pt x="8" y="1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73120" y="5318280"/>
            <a:ext cx="60480" cy="20520"/>
          </a:xfrm>
          <a:custGeom>
            <a:avLst/>
            <a:gdLst/>
            <a:ahLst/>
            <a:rect l="l" t="t" r="r" b="b"/>
            <a:pathLst>
              <a:path w="37" h="14">
                <a:moveTo>
                  <a:pt x="17" y="14"/>
                </a:moveTo>
                <a:lnTo>
                  <a:pt x="4" y="11"/>
                </a:lnTo>
                <a:lnTo>
                  <a:pt x="2" y="11"/>
                </a:lnTo>
                <a:lnTo>
                  <a:pt x="0" y="3"/>
                </a:lnTo>
                <a:lnTo>
                  <a:pt x="2" y="2"/>
                </a:lnTo>
                <a:lnTo>
                  <a:pt x="9" y="0"/>
                </a:lnTo>
                <a:lnTo>
                  <a:pt x="11" y="0"/>
                </a:lnTo>
                <a:lnTo>
                  <a:pt x="13" y="3"/>
                </a:lnTo>
                <a:lnTo>
                  <a:pt x="15" y="5"/>
                </a:lnTo>
                <a:lnTo>
                  <a:pt x="22" y="5"/>
                </a:lnTo>
                <a:lnTo>
                  <a:pt x="29" y="5"/>
                </a:lnTo>
                <a:lnTo>
                  <a:pt x="33" y="5"/>
                </a:lnTo>
                <a:lnTo>
                  <a:pt x="37" y="7"/>
                </a:lnTo>
                <a:lnTo>
                  <a:pt x="37" y="11"/>
                </a:lnTo>
                <a:lnTo>
                  <a:pt x="37" y="13"/>
                </a:lnTo>
                <a:lnTo>
                  <a:pt x="35" y="13"/>
                </a:lnTo>
                <a:lnTo>
                  <a:pt x="17" y="1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17680" y="5327640"/>
            <a:ext cx="33120" cy="19080"/>
          </a:xfrm>
          <a:custGeom>
            <a:avLst/>
            <a:gdLst/>
            <a:ahLst/>
            <a:rect l="l" t="t" r="r" b="b"/>
            <a:pathLst>
              <a:path w="21" h="13">
                <a:moveTo>
                  <a:pt x="13" y="11"/>
                </a:moveTo>
                <a:lnTo>
                  <a:pt x="4" y="7"/>
                </a:lnTo>
                <a:lnTo>
                  <a:pt x="0" y="4"/>
                </a:lnTo>
                <a:lnTo>
                  <a:pt x="0" y="2"/>
                </a:lnTo>
                <a:lnTo>
                  <a:pt x="4" y="0"/>
                </a:lnTo>
                <a:lnTo>
                  <a:pt x="13" y="0"/>
                </a:lnTo>
                <a:lnTo>
                  <a:pt x="17" y="4"/>
                </a:lnTo>
                <a:lnTo>
                  <a:pt x="21" y="11"/>
                </a:lnTo>
                <a:lnTo>
                  <a:pt x="17" y="13"/>
                </a:lnTo>
                <a:lnTo>
                  <a:pt x="13" y="1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96880" y="5338800"/>
            <a:ext cx="28800" cy="11160"/>
          </a:xfrm>
          <a:custGeom>
            <a:avLst/>
            <a:gdLst/>
            <a:ahLst/>
            <a:rect l="l" t="t" r="r" b="b"/>
            <a:pathLst>
              <a:path w="18" h="8">
                <a:moveTo>
                  <a:pt x="9" y="8"/>
                </a:moveTo>
                <a:lnTo>
                  <a:pt x="0" y="6"/>
                </a:lnTo>
                <a:lnTo>
                  <a:pt x="0" y="4"/>
                </a:lnTo>
                <a:lnTo>
                  <a:pt x="7" y="0"/>
                </a:lnTo>
                <a:lnTo>
                  <a:pt x="18" y="2"/>
                </a:lnTo>
                <a:lnTo>
                  <a:pt x="18" y="6"/>
                </a:lnTo>
                <a:lnTo>
                  <a:pt x="11" y="8"/>
                </a:lnTo>
                <a:lnTo>
                  <a:pt x="9" y="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76360" y="5346720"/>
            <a:ext cx="49320" cy="23760"/>
          </a:xfrm>
          <a:custGeom>
            <a:avLst/>
            <a:gdLst/>
            <a:ahLst/>
            <a:rect l="l" t="t" r="r" b="b"/>
            <a:pathLst>
              <a:path w="31" h="16">
                <a:moveTo>
                  <a:pt x="0" y="16"/>
                </a:moveTo>
                <a:lnTo>
                  <a:pt x="0" y="13"/>
                </a:lnTo>
                <a:lnTo>
                  <a:pt x="2" y="9"/>
                </a:lnTo>
                <a:lnTo>
                  <a:pt x="4" y="9"/>
                </a:lnTo>
                <a:lnTo>
                  <a:pt x="4" y="5"/>
                </a:lnTo>
                <a:lnTo>
                  <a:pt x="9" y="0"/>
                </a:lnTo>
                <a:lnTo>
                  <a:pt x="13" y="2"/>
                </a:lnTo>
                <a:lnTo>
                  <a:pt x="16" y="2"/>
                </a:lnTo>
                <a:lnTo>
                  <a:pt x="24" y="5"/>
                </a:lnTo>
                <a:lnTo>
                  <a:pt x="29" y="4"/>
                </a:lnTo>
                <a:lnTo>
                  <a:pt x="31" y="4"/>
                </a:lnTo>
                <a:lnTo>
                  <a:pt x="31" y="7"/>
                </a:lnTo>
                <a:lnTo>
                  <a:pt x="27" y="13"/>
                </a:lnTo>
                <a:lnTo>
                  <a:pt x="27" y="15"/>
                </a:lnTo>
                <a:lnTo>
                  <a:pt x="22" y="13"/>
                </a:lnTo>
                <a:lnTo>
                  <a:pt x="20" y="11"/>
                </a:lnTo>
                <a:lnTo>
                  <a:pt x="9" y="9"/>
                </a:lnTo>
                <a:lnTo>
                  <a:pt x="4" y="11"/>
                </a:lnTo>
                <a:lnTo>
                  <a:pt x="0" y="1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14440" y="5346720"/>
            <a:ext cx="20520" cy="23760"/>
          </a:xfrm>
          <a:custGeom>
            <a:avLst/>
            <a:gdLst/>
            <a:ahLst/>
            <a:rect l="l" t="t" r="r" b="b"/>
            <a:pathLst>
              <a:path w="13" h="16">
                <a:moveTo>
                  <a:pt x="5" y="16"/>
                </a:moveTo>
                <a:lnTo>
                  <a:pt x="0" y="11"/>
                </a:lnTo>
                <a:lnTo>
                  <a:pt x="3" y="2"/>
                </a:lnTo>
                <a:lnTo>
                  <a:pt x="9" y="0"/>
                </a:lnTo>
                <a:lnTo>
                  <a:pt x="13" y="0"/>
                </a:lnTo>
                <a:lnTo>
                  <a:pt x="9" y="5"/>
                </a:lnTo>
                <a:lnTo>
                  <a:pt x="7" y="7"/>
                </a:lnTo>
                <a:lnTo>
                  <a:pt x="5" y="9"/>
                </a:lnTo>
                <a:lnTo>
                  <a:pt x="5" y="1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33600" y="5349960"/>
            <a:ext cx="30240" cy="46080"/>
          </a:xfrm>
          <a:custGeom>
            <a:avLst/>
            <a:gdLst/>
            <a:ahLst/>
            <a:rect l="l" t="t" r="r" b="b"/>
            <a:pathLst>
              <a:path w="20" h="31">
                <a:moveTo>
                  <a:pt x="13" y="31"/>
                </a:moveTo>
                <a:lnTo>
                  <a:pt x="11" y="31"/>
                </a:lnTo>
                <a:lnTo>
                  <a:pt x="0" y="22"/>
                </a:lnTo>
                <a:lnTo>
                  <a:pt x="0" y="9"/>
                </a:lnTo>
                <a:lnTo>
                  <a:pt x="2" y="7"/>
                </a:lnTo>
                <a:lnTo>
                  <a:pt x="7" y="0"/>
                </a:lnTo>
                <a:lnTo>
                  <a:pt x="11" y="0"/>
                </a:lnTo>
                <a:lnTo>
                  <a:pt x="18" y="2"/>
                </a:lnTo>
                <a:lnTo>
                  <a:pt x="20" y="3"/>
                </a:lnTo>
                <a:lnTo>
                  <a:pt x="20" y="7"/>
                </a:lnTo>
                <a:lnTo>
                  <a:pt x="16" y="25"/>
                </a:lnTo>
                <a:lnTo>
                  <a:pt x="14" y="29"/>
                </a:lnTo>
                <a:lnTo>
                  <a:pt x="13" y="3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20920" y="5349960"/>
            <a:ext cx="48960" cy="48960"/>
          </a:xfrm>
          <a:custGeom>
            <a:avLst/>
            <a:gdLst/>
            <a:ahLst/>
            <a:rect l="l" t="t" r="r" b="b"/>
            <a:pathLst>
              <a:path w="30" h="33">
                <a:moveTo>
                  <a:pt x="6" y="33"/>
                </a:moveTo>
                <a:lnTo>
                  <a:pt x="4" y="33"/>
                </a:lnTo>
                <a:lnTo>
                  <a:pt x="0" y="29"/>
                </a:lnTo>
                <a:lnTo>
                  <a:pt x="6" y="24"/>
                </a:lnTo>
                <a:lnTo>
                  <a:pt x="4" y="13"/>
                </a:lnTo>
                <a:lnTo>
                  <a:pt x="4" y="9"/>
                </a:lnTo>
                <a:lnTo>
                  <a:pt x="6" y="5"/>
                </a:lnTo>
                <a:lnTo>
                  <a:pt x="8" y="2"/>
                </a:lnTo>
                <a:lnTo>
                  <a:pt x="11" y="0"/>
                </a:lnTo>
                <a:lnTo>
                  <a:pt x="20" y="3"/>
                </a:lnTo>
                <a:lnTo>
                  <a:pt x="22" y="5"/>
                </a:lnTo>
                <a:lnTo>
                  <a:pt x="26" y="11"/>
                </a:lnTo>
                <a:lnTo>
                  <a:pt x="30" y="20"/>
                </a:lnTo>
                <a:lnTo>
                  <a:pt x="26" y="24"/>
                </a:lnTo>
                <a:lnTo>
                  <a:pt x="11" y="33"/>
                </a:lnTo>
                <a:lnTo>
                  <a:pt x="6" y="3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82840" y="5362560"/>
            <a:ext cx="34920" cy="27000"/>
          </a:xfrm>
          <a:custGeom>
            <a:avLst/>
            <a:gdLst/>
            <a:ahLst/>
            <a:rect l="l" t="t" r="r" b="b"/>
            <a:pathLst>
              <a:path w="20" h="18">
                <a:moveTo>
                  <a:pt x="11" y="18"/>
                </a:moveTo>
                <a:lnTo>
                  <a:pt x="5" y="16"/>
                </a:lnTo>
                <a:lnTo>
                  <a:pt x="0" y="7"/>
                </a:lnTo>
                <a:lnTo>
                  <a:pt x="3" y="2"/>
                </a:lnTo>
                <a:lnTo>
                  <a:pt x="7" y="0"/>
                </a:lnTo>
                <a:lnTo>
                  <a:pt x="9" y="0"/>
                </a:lnTo>
                <a:lnTo>
                  <a:pt x="14" y="2"/>
                </a:lnTo>
                <a:lnTo>
                  <a:pt x="18" y="5"/>
                </a:lnTo>
                <a:lnTo>
                  <a:pt x="20" y="9"/>
                </a:lnTo>
                <a:lnTo>
                  <a:pt x="20" y="13"/>
                </a:lnTo>
                <a:lnTo>
                  <a:pt x="18" y="16"/>
                </a:lnTo>
                <a:lnTo>
                  <a:pt x="11" y="1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93920" y="5369040"/>
            <a:ext cx="21960" cy="27000"/>
          </a:xfrm>
          <a:custGeom>
            <a:avLst/>
            <a:gdLst/>
            <a:ahLst/>
            <a:rect l="l" t="t" r="r" b="b"/>
            <a:pathLst>
              <a:path w="15" h="18">
                <a:moveTo>
                  <a:pt x="0" y="16"/>
                </a:moveTo>
                <a:lnTo>
                  <a:pt x="0" y="12"/>
                </a:lnTo>
                <a:lnTo>
                  <a:pt x="4" y="5"/>
                </a:lnTo>
                <a:lnTo>
                  <a:pt x="5" y="3"/>
                </a:lnTo>
                <a:lnTo>
                  <a:pt x="11" y="0"/>
                </a:lnTo>
                <a:lnTo>
                  <a:pt x="15" y="1"/>
                </a:lnTo>
                <a:lnTo>
                  <a:pt x="15" y="11"/>
                </a:lnTo>
                <a:lnTo>
                  <a:pt x="11" y="16"/>
                </a:lnTo>
                <a:lnTo>
                  <a:pt x="9" y="18"/>
                </a:lnTo>
                <a:lnTo>
                  <a:pt x="7" y="18"/>
                </a:lnTo>
                <a:lnTo>
                  <a:pt x="2" y="16"/>
                </a:lnTo>
                <a:lnTo>
                  <a:pt x="0" y="1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62240" y="5373720"/>
            <a:ext cx="20520" cy="12600"/>
          </a:xfrm>
          <a:custGeom>
            <a:avLst/>
            <a:gdLst/>
            <a:ahLst/>
            <a:rect l="l" t="t" r="r" b="b"/>
            <a:pathLst>
              <a:path w="13" h="9">
                <a:moveTo>
                  <a:pt x="13" y="9"/>
                </a:moveTo>
                <a:lnTo>
                  <a:pt x="9" y="9"/>
                </a:lnTo>
                <a:lnTo>
                  <a:pt x="2" y="4"/>
                </a:lnTo>
                <a:lnTo>
                  <a:pt x="0" y="2"/>
                </a:lnTo>
                <a:lnTo>
                  <a:pt x="2" y="0"/>
                </a:lnTo>
                <a:lnTo>
                  <a:pt x="7" y="0"/>
                </a:lnTo>
                <a:lnTo>
                  <a:pt x="9" y="2"/>
                </a:lnTo>
                <a:lnTo>
                  <a:pt x="13" y="6"/>
                </a:lnTo>
                <a:lnTo>
                  <a:pt x="13" y="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82840" y="5392800"/>
            <a:ext cx="21960" cy="23760"/>
          </a:xfrm>
          <a:custGeom>
            <a:avLst/>
            <a:gdLst/>
            <a:ahLst/>
            <a:rect l="l" t="t" r="r" b="b"/>
            <a:pathLst>
              <a:path w="14" h="16">
                <a:moveTo>
                  <a:pt x="9" y="16"/>
                </a:moveTo>
                <a:lnTo>
                  <a:pt x="0" y="5"/>
                </a:lnTo>
                <a:lnTo>
                  <a:pt x="2" y="2"/>
                </a:lnTo>
                <a:lnTo>
                  <a:pt x="7" y="0"/>
                </a:lnTo>
                <a:lnTo>
                  <a:pt x="14" y="2"/>
                </a:lnTo>
                <a:lnTo>
                  <a:pt x="14" y="4"/>
                </a:lnTo>
                <a:lnTo>
                  <a:pt x="12" y="13"/>
                </a:lnTo>
                <a:lnTo>
                  <a:pt x="12" y="15"/>
                </a:lnTo>
                <a:lnTo>
                  <a:pt x="9" y="1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08040" y="5398920"/>
            <a:ext cx="38160" cy="28800"/>
          </a:xfrm>
          <a:custGeom>
            <a:avLst/>
            <a:gdLst/>
            <a:ahLst/>
            <a:rect l="l" t="t" r="r" b="b"/>
            <a:pathLst>
              <a:path w="24" h="19">
                <a:moveTo>
                  <a:pt x="4" y="19"/>
                </a:moveTo>
                <a:lnTo>
                  <a:pt x="0" y="17"/>
                </a:lnTo>
                <a:lnTo>
                  <a:pt x="0" y="13"/>
                </a:lnTo>
                <a:lnTo>
                  <a:pt x="4" y="8"/>
                </a:lnTo>
                <a:lnTo>
                  <a:pt x="6" y="6"/>
                </a:lnTo>
                <a:lnTo>
                  <a:pt x="20" y="0"/>
                </a:lnTo>
                <a:lnTo>
                  <a:pt x="22" y="4"/>
                </a:lnTo>
                <a:lnTo>
                  <a:pt x="24" y="10"/>
                </a:lnTo>
                <a:lnTo>
                  <a:pt x="20" y="8"/>
                </a:lnTo>
                <a:lnTo>
                  <a:pt x="13" y="8"/>
                </a:lnTo>
                <a:lnTo>
                  <a:pt x="11" y="13"/>
                </a:lnTo>
                <a:lnTo>
                  <a:pt x="9" y="17"/>
                </a:lnTo>
                <a:lnTo>
                  <a:pt x="4" y="1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28760" y="5398920"/>
            <a:ext cx="60480" cy="47880"/>
          </a:xfrm>
          <a:custGeom>
            <a:avLst/>
            <a:gdLst/>
            <a:ahLst/>
            <a:rect l="l" t="t" r="r" b="b"/>
            <a:pathLst>
              <a:path w="38" h="32">
                <a:moveTo>
                  <a:pt x="3" y="30"/>
                </a:moveTo>
                <a:lnTo>
                  <a:pt x="3" y="28"/>
                </a:lnTo>
                <a:lnTo>
                  <a:pt x="2" y="24"/>
                </a:lnTo>
                <a:lnTo>
                  <a:pt x="2" y="22"/>
                </a:lnTo>
                <a:lnTo>
                  <a:pt x="14" y="21"/>
                </a:lnTo>
                <a:lnTo>
                  <a:pt x="16" y="21"/>
                </a:lnTo>
                <a:lnTo>
                  <a:pt x="14" y="19"/>
                </a:lnTo>
                <a:lnTo>
                  <a:pt x="5" y="19"/>
                </a:lnTo>
                <a:lnTo>
                  <a:pt x="0" y="10"/>
                </a:lnTo>
                <a:lnTo>
                  <a:pt x="2" y="8"/>
                </a:lnTo>
                <a:lnTo>
                  <a:pt x="5" y="6"/>
                </a:lnTo>
                <a:lnTo>
                  <a:pt x="16" y="11"/>
                </a:lnTo>
                <a:lnTo>
                  <a:pt x="22" y="8"/>
                </a:lnTo>
                <a:lnTo>
                  <a:pt x="31" y="2"/>
                </a:lnTo>
                <a:lnTo>
                  <a:pt x="36" y="0"/>
                </a:lnTo>
                <a:lnTo>
                  <a:pt x="38" y="0"/>
                </a:lnTo>
                <a:lnTo>
                  <a:pt x="38" y="4"/>
                </a:lnTo>
                <a:lnTo>
                  <a:pt x="35" y="19"/>
                </a:lnTo>
                <a:lnTo>
                  <a:pt x="29" y="22"/>
                </a:lnTo>
                <a:lnTo>
                  <a:pt x="18" y="30"/>
                </a:lnTo>
                <a:lnTo>
                  <a:pt x="9" y="32"/>
                </a:lnTo>
                <a:lnTo>
                  <a:pt x="3" y="3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5680" y="5415120"/>
            <a:ext cx="23760" cy="17280"/>
          </a:xfrm>
          <a:custGeom>
            <a:avLst/>
            <a:gdLst/>
            <a:ahLst/>
            <a:rect l="l" t="t" r="r" b="b"/>
            <a:pathLst>
              <a:path w="15" h="12">
                <a:moveTo>
                  <a:pt x="13" y="12"/>
                </a:moveTo>
                <a:lnTo>
                  <a:pt x="2" y="11"/>
                </a:lnTo>
                <a:lnTo>
                  <a:pt x="0" y="9"/>
                </a:lnTo>
                <a:lnTo>
                  <a:pt x="0" y="7"/>
                </a:lnTo>
                <a:lnTo>
                  <a:pt x="4" y="1"/>
                </a:lnTo>
                <a:lnTo>
                  <a:pt x="7" y="0"/>
                </a:lnTo>
                <a:lnTo>
                  <a:pt x="11" y="3"/>
                </a:lnTo>
                <a:lnTo>
                  <a:pt x="15" y="12"/>
                </a:lnTo>
                <a:lnTo>
                  <a:pt x="13" y="1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08040" y="5430960"/>
            <a:ext cx="41400" cy="28440"/>
          </a:xfrm>
          <a:custGeom>
            <a:avLst/>
            <a:gdLst/>
            <a:ahLst/>
            <a:rect l="l" t="t" r="r" b="b"/>
            <a:pathLst>
              <a:path w="26" h="20">
                <a:moveTo>
                  <a:pt x="17" y="20"/>
                </a:moveTo>
                <a:lnTo>
                  <a:pt x="11" y="16"/>
                </a:lnTo>
                <a:lnTo>
                  <a:pt x="0" y="5"/>
                </a:lnTo>
                <a:lnTo>
                  <a:pt x="2" y="1"/>
                </a:lnTo>
                <a:lnTo>
                  <a:pt x="11" y="0"/>
                </a:lnTo>
                <a:lnTo>
                  <a:pt x="20" y="3"/>
                </a:lnTo>
                <a:lnTo>
                  <a:pt x="24" y="7"/>
                </a:lnTo>
                <a:lnTo>
                  <a:pt x="26" y="7"/>
                </a:lnTo>
                <a:lnTo>
                  <a:pt x="24" y="9"/>
                </a:lnTo>
                <a:lnTo>
                  <a:pt x="18" y="18"/>
                </a:lnTo>
                <a:lnTo>
                  <a:pt x="17" y="2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65200" y="5570640"/>
            <a:ext cx="36720" cy="21960"/>
          </a:xfrm>
          <a:custGeom>
            <a:avLst/>
            <a:gdLst/>
            <a:ahLst/>
            <a:rect l="l" t="t" r="r" b="b"/>
            <a:pathLst>
              <a:path w="23" h="15">
                <a:moveTo>
                  <a:pt x="5" y="15"/>
                </a:moveTo>
                <a:lnTo>
                  <a:pt x="0" y="11"/>
                </a:lnTo>
                <a:lnTo>
                  <a:pt x="0" y="10"/>
                </a:lnTo>
                <a:lnTo>
                  <a:pt x="3" y="2"/>
                </a:lnTo>
                <a:lnTo>
                  <a:pt x="5" y="0"/>
                </a:lnTo>
                <a:lnTo>
                  <a:pt x="18" y="0"/>
                </a:lnTo>
                <a:lnTo>
                  <a:pt x="23" y="4"/>
                </a:lnTo>
                <a:lnTo>
                  <a:pt x="13" y="13"/>
                </a:lnTo>
                <a:lnTo>
                  <a:pt x="5" y="1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24160" y="5576760"/>
            <a:ext cx="26640" cy="19080"/>
          </a:xfrm>
          <a:custGeom>
            <a:avLst/>
            <a:gdLst/>
            <a:ahLst/>
            <a:rect l="l" t="t" r="r" b="b"/>
            <a:pathLst>
              <a:path w="17" h="13">
                <a:moveTo>
                  <a:pt x="2" y="11"/>
                </a:moveTo>
                <a:lnTo>
                  <a:pt x="0" y="7"/>
                </a:lnTo>
                <a:lnTo>
                  <a:pt x="0" y="4"/>
                </a:lnTo>
                <a:lnTo>
                  <a:pt x="7" y="0"/>
                </a:lnTo>
                <a:lnTo>
                  <a:pt x="15" y="0"/>
                </a:lnTo>
                <a:lnTo>
                  <a:pt x="17" y="2"/>
                </a:lnTo>
                <a:lnTo>
                  <a:pt x="17" y="4"/>
                </a:lnTo>
                <a:lnTo>
                  <a:pt x="15" y="6"/>
                </a:lnTo>
                <a:lnTo>
                  <a:pt x="4" y="13"/>
                </a:lnTo>
                <a:lnTo>
                  <a:pt x="2" y="1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33440" y="5667480"/>
            <a:ext cx="25560" cy="14040"/>
          </a:xfrm>
          <a:custGeom>
            <a:avLst/>
            <a:gdLst/>
            <a:ahLst/>
            <a:rect l="l" t="t" r="r" b="b"/>
            <a:pathLst>
              <a:path w="17" h="9">
                <a:moveTo>
                  <a:pt x="8" y="9"/>
                </a:moveTo>
                <a:lnTo>
                  <a:pt x="2" y="6"/>
                </a:lnTo>
                <a:lnTo>
                  <a:pt x="0" y="0"/>
                </a:lnTo>
                <a:lnTo>
                  <a:pt x="4" y="0"/>
                </a:lnTo>
                <a:lnTo>
                  <a:pt x="11" y="0"/>
                </a:lnTo>
                <a:lnTo>
                  <a:pt x="17" y="6"/>
                </a:lnTo>
                <a:lnTo>
                  <a:pt x="15" y="8"/>
                </a:lnTo>
                <a:lnTo>
                  <a:pt x="8" y="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8520" y="5667480"/>
            <a:ext cx="36720" cy="25200"/>
          </a:xfrm>
          <a:custGeom>
            <a:avLst/>
            <a:gdLst/>
            <a:ahLst/>
            <a:rect l="l" t="t" r="r" b="b"/>
            <a:pathLst>
              <a:path w="23" h="17">
                <a:moveTo>
                  <a:pt x="12" y="13"/>
                </a:moveTo>
                <a:lnTo>
                  <a:pt x="12" y="11"/>
                </a:lnTo>
                <a:lnTo>
                  <a:pt x="10" y="9"/>
                </a:lnTo>
                <a:lnTo>
                  <a:pt x="1" y="8"/>
                </a:lnTo>
                <a:lnTo>
                  <a:pt x="0" y="8"/>
                </a:lnTo>
                <a:lnTo>
                  <a:pt x="3" y="4"/>
                </a:lnTo>
                <a:lnTo>
                  <a:pt x="16" y="0"/>
                </a:lnTo>
                <a:lnTo>
                  <a:pt x="20" y="4"/>
                </a:lnTo>
                <a:lnTo>
                  <a:pt x="23" y="9"/>
                </a:lnTo>
                <a:lnTo>
                  <a:pt x="20" y="13"/>
                </a:lnTo>
                <a:lnTo>
                  <a:pt x="16" y="15"/>
                </a:lnTo>
                <a:lnTo>
                  <a:pt x="10" y="17"/>
                </a:lnTo>
                <a:lnTo>
                  <a:pt x="10" y="15"/>
                </a:lnTo>
                <a:lnTo>
                  <a:pt x="12" y="1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20920" y="5681520"/>
            <a:ext cx="108000" cy="27000"/>
          </a:xfrm>
          <a:custGeom>
            <a:avLst/>
            <a:gdLst/>
            <a:ahLst/>
            <a:rect l="l" t="t" r="r" b="b"/>
            <a:pathLst>
              <a:path w="68" h="19">
                <a:moveTo>
                  <a:pt x="19" y="19"/>
                </a:moveTo>
                <a:lnTo>
                  <a:pt x="4" y="15"/>
                </a:lnTo>
                <a:lnTo>
                  <a:pt x="2" y="13"/>
                </a:lnTo>
                <a:lnTo>
                  <a:pt x="0" y="11"/>
                </a:lnTo>
                <a:lnTo>
                  <a:pt x="9" y="6"/>
                </a:lnTo>
                <a:lnTo>
                  <a:pt x="22" y="0"/>
                </a:lnTo>
                <a:lnTo>
                  <a:pt x="57" y="10"/>
                </a:lnTo>
                <a:lnTo>
                  <a:pt x="61" y="10"/>
                </a:lnTo>
                <a:lnTo>
                  <a:pt x="64" y="8"/>
                </a:lnTo>
                <a:lnTo>
                  <a:pt x="66" y="8"/>
                </a:lnTo>
                <a:lnTo>
                  <a:pt x="68" y="10"/>
                </a:lnTo>
                <a:lnTo>
                  <a:pt x="66" y="15"/>
                </a:lnTo>
                <a:lnTo>
                  <a:pt x="61" y="17"/>
                </a:lnTo>
                <a:lnTo>
                  <a:pt x="46" y="17"/>
                </a:lnTo>
                <a:lnTo>
                  <a:pt x="39" y="15"/>
                </a:lnTo>
                <a:lnTo>
                  <a:pt x="19" y="1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05000" y="5683320"/>
            <a:ext cx="69840" cy="38160"/>
          </a:xfrm>
          <a:custGeom>
            <a:avLst/>
            <a:gdLst/>
            <a:ahLst/>
            <a:rect l="l" t="t" r="r" b="b"/>
            <a:pathLst>
              <a:path w="44" h="26">
                <a:moveTo>
                  <a:pt x="37" y="26"/>
                </a:moveTo>
                <a:lnTo>
                  <a:pt x="24" y="22"/>
                </a:lnTo>
                <a:lnTo>
                  <a:pt x="22" y="20"/>
                </a:lnTo>
                <a:lnTo>
                  <a:pt x="24" y="19"/>
                </a:lnTo>
                <a:lnTo>
                  <a:pt x="18" y="17"/>
                </a:lnTo>
                <a:lnTo>
                  <a:pt x="15" y="19"/>
                </a:lnTo>
                <a:lnTo>
                  <a:pt x="11" y="22"/>
                </a:lnTo>
                <a:lnTo>
                  <a:pt x="9" y="22"/>
                </a:lnTo>
                <a:lnTo>
                  <a:pt x="4" y="22"/>
                </a:lnTo>
                <a:lnTo>
                  <a:pt x="0" y="22"/>
                </a:lnTo>
                <a:lnTo>
                  <a:pt x="6" y="15"/>
                </a:lnTo>
                <a:lnTo>
                  <a:pt x="9" y="15"/>
                </a:lnTo>
                <a:lnTo>
                  <a:pt x="22" y="11"/>
                </a:lnTo>
                <a:lnTo>
                  <a:pt x="29" y="8"/>
                </a:lnTo>
                <a:lnTo>
                  <a:pt x="37" y="2"/>
                </a:lnTo>
                <a:lnTo>
                  <a:pt x="42" y="0"/>
                </a:lnTo>
                <a:lnTo>
                  <a:pt x="44" y="0"/>
                </a:lnTo>
                <a:lnTo>
                  <a:pt x="44" y="4"/>
                </a:lnTo>
                <a:lnTo>
                  <a:pt x="44" y="22"/>
                </a:lnTo>
                <a:lnTo>
                  <a:pt x="39" y="24"/>
                </a:lnTo>
                <a:lnTo>
                  <a:pt x="37" y="2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54240" y="5711760"/>
            <a:ext cx="79200" cy="98640"/>
          </a:xfrm>
          <a:custGeom>
            <a:avLst/>
            <a:gdLst/>
            <a:ahLst/>
            <a:rect l="l" t="t" r="r" b="b"/>
            <a:pathLst>
              <a:path w="49" h="67">
                <a:moveTo>
                  <a:pt x="38" y="67"/>
                </a:moveTo>
                <a:lnTo>
                  <a:pt x="33" y="67"/>
                </a:lnTo>
                <a:lnTo>
                  <a:pt x="29" y="60"/>
                </a:lnTo>
                <a:lnTo>
                  <a:pt x="26" y="47"/>
                </a:lnTo>
                <a:lnTo>
                  <a:pt x="29" y="42"/>
                </a:lnTo>
                <a:lnTo>
                  <a:pt x="18" y="38"/>
                </a:lnTo>
                <a:lnTo>
                  <a:pt x="9" y="40"/>
                </a:lnTo>
                <a:lnTo>
                  <a:pt x="6" y="40"/>
                </a:lnTo>
                <a:lnTo>
                  <a:pt x="4" y="38"/>
                </a:lnTo>
                <a:lnTo>
                  <a:pt x="4" y="36"/>
                </a:lnTo>
                <a:lnTo>
                  <a:pt x="7" y="34"/>
                </a:lnTo>
                <a:lnTo>
                  <a:pt x="18" y="32"/>
                </a:lnTo>
                <a:lnTo>
                  <a:pt x="24" y="27"/>
                </a:lnTo>
                <a:lnTo>
                  <a:pt x="22" y="27"/>
                </a:lnTo>
                <a:lnTo>
                  <a:pt x="18" y="29"/>
                </a:lnTo>
                <a:lnTo>
                  <a:pt x="6" y="31"/>
                </a:lnTo>
                <a:lnTo>
                  <a:pt x="4" y="29"/>
                </a:lnTo>
                <a:lnTo>
                  <a:pt x="0" y="9"/>
                </a:lnTo>
                <a:lnTo>
                  <a:pt x="6" y="3"/>
                </a:lnTo>
                <a:lnTo>
                  <a:pt x="7" y="3"/>
                </a:lnTo>
                <a:lnTo>
                  <a:pt x="22" y="0"/>
                </a:lnTo>
                <a:lnTo>
                  <a:pt x="24" y="0"/>
                </a:lnTo>
                <a:lnTo>
                  <a:pt x="24" y="1"/>
                </a:lnTo>
                <a:lnTo>
                  <a:pt x="31" y="14"/>
                </a:lnTo>
                <a:lnTo>
                  <a:pt x="31" y="21"/>
                </a:lnTo>
                <a:lnTo>
                  <a:pt x="35" y="29"/>
                </a:lnTo>
                <a:lnTo>
                  <a:pt x="38" y="32"/>
                </a:lnTo>
                <a:lnTo>
                  <a:pt x="44" y="38"/>
                </a:lnTo>
                <a:lnTo>
                  <a:pt x="49" y="47"/>
                </a:lnTo>
                <a:lnTo>
                  <a:pt x="49" y="56"/>
                </a:lnTo>
                <a:lnTo>
                  <a:pt x="49" y="58"/>
                </a:lnTo>
                <a:lnTo>
                  <a:pt x="38" y="6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8240" y="5719680"/>
            <a:ext cx="66600" cy="54000"/>
          </a:xfrm>
          <a:custGeom>
            <a:avLst/>
            <a:gdLst/>
            <a:ahLst/>
            <a:rect l="l" t="t" r="r" b="b"/>
            <a:pathLst>
              <a:path w="42" h="37">
                <a:moveTo>
                  <a:pt x="22" y="37"/>
                </a:moveTo>
                <a:lnTo>
                  <a:pt x="18" y="37"/>
                </a:lnTo>
                <a:lnTo>
                  <a:pt x="5" y="16"/>
                </a:lnTo>
                <a:lnTo>
                  <a:pt x="0" y="4"/>
                </a:lnTo>
                <a:lnTo>
                  <a:pt x="0" y="2"/>
                </a:lnTo>
                <a:lnTo>
                  <a:pt x="2" y="0"/>
                </a:lnTo>
                <a:lnTo>
                  <a:pt x="20" y="4"/>
                </a:lnTo>
                <a:lnTo>
                  <a:pt x="31" y="9"/>
                </a:lnTo>
                <a:lnTo>
                  <a:pt x="42" y="11"/>
                </a:lnTo>
                <a:lnTo>
                  <a:pt x="42" y="15"/>
                </a:lnTo>
                <a:lnTo>
                  <a:pt x="40" y="29"/>
                </a:lnTo>
                <a:lnTo>
                  <a:pt x="38" y="31"/>
                </a:lnTo>
                <a:lnTo>
                  <a:pt x="35" y="31"/>
                </a:lnTo>
                <a:lnTo>
                  <a:pt x="22" y="3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05080" y="5726160"/>
            <a:ext cx="39600" cy="31680"/>
          </a:xfrm>
          <a:custGeom>
            <a:avLst/>
            <a:gdLst/>
            <a:ahLst/>
            <a:rect l="l" t="t" r="r" b="b"/>
            <a:pathLst>
              <a:path w="24" h="22">
                <a:moveTo>
                  <a:pt x="7" y="22"/>
                </a:moveTo>
                <a:lnTo>
                  <a:pt x="6" y="21"/>
                </a:lnTo>
                <a:lnTo>
                  <a:pt x="0" y="11"/>
                </a:lnTo>
                <a:lnTo>
                  <a:pt x="0" y="4"/>
                </a:lnTo>
                <a:lnTo>
                  <a:pt x="4" y="0"/>
                </a:lnTo>
                <a:lnTo>
                  <a:pt x="7" y="2"/>
                </a:lnTo>
                <a:lnTo>
                  <a:pt x="20" y="11"/>
                </a:lnTo>
                <a:lnTo>
                  <a:pt x="24" y="13"/>
                </a:lnTo>
                <a:lnTo>
                  <a:pt x="18" y="19"/>
                </a:lnTo>
                <a:lnTo>
                  <a:pt x="7" y="2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38120" y="5726160"/>
            <a:ext cx="86040" cy="84240"/>
          </a:xfrm>
          <a:custGeom>
            <a:avLst/>
            <a:gdLst/>
            <a:ahLst/>
            <a:rect l="l" t="t" r="r" b="b"/>
            <a:pathLst>
              <a:path w="53" h="57">
                <a:moveTo>
                  <a:pt x="40" y="55"/>
                </a:moveTo>
                <a:lnTo>
                  <a:pt x="29" y="50"/>
                </a:lnTo>
                <a:lnTo>
                  <a:pt x="22" y="52"/>
                </a:lnTo>
                <a:lnTo>
                  <a:pt x="11" y="50"/>
                </a:lnTo>
                <a:lnTo>
                  <a:pt x="4" y="48"/>
                </a:lnTo>
                <a:lnTo>
                  <a:pt x="2" y="46"/>
                </a:lnTo>
                <a:lnTo>
                  <a:pt x="0" y="39"/>
                </a:lnTo>
                <a:lnTo>
                  <a:pt x="2" y="37"/>
                </a:lnTo>
                <a:lnTo>
                  <a:pt x="4" y="35"/>
                </a:lnTo>
                <a:lnTo>
                  <a:pt x="11" y="30"/>
                </a:lnTo>
                <a:lnTo>
                  <a:pt x="20" y="28"/>
                </a:lnTo>
                <a:lnTo>
                  <a:pt x="24" y="35"/>
                </a:lnTo>
                <a:lnTo>
                  <a:pt x="28" y="37"/>
                </a:lnTo>
                <a:lnTo>
                  <a:pt x="31" y="33"/>
                </a:lnTo>
                <a:lnTo>
                  <a:pt x="31" y="32"/>
                </a:lnTo>
                <a:lnTo>
                  <a:pt x="28" y="30"/>
                </a:lnTo>
                <a:lnTo>
                  <a:pt x="24" y="24"/>
                </a:lnTo>
                <a:lnTo>
                  <a:pt x="22" y="21"/>
                </a:lnTo>
                <a:lnTo>
                  <a:pt x="26" y="4"/>
                </a:lnTo>
                <a:lnTo>
                  <a:pt x="28" y="2"/>
                </a:lnTo>
                <a:lnTo>
                  <a:pt x="29" y="0"/>
                </a:lnTo>
                <a:lnTo>
                  <a:pt x="33" y="4"/>
                </a:lnTo>
                <a:lnTo>
                  <a:pt x="35" y="19"/>
                </a:lnTo>
                <a:lnTo>
                  <a:pt x="44" y="28"/>
                </a:lnTo>
                <a:lnTo>
                  <a:pt x="42" y="33"/>
                </a:lnTo>
                <a:lnTo>
                  <a:pt x="42" y="44"/>
                </a:lnTo>
                <a:lnTo>
                  <a:pt x="48" y="50"/>
                </a:lnTo>
                <a:lnTo>
                  <a:pt x="49" y="48"/>
                </a:lnTo>
                <a:lnTo>
                  <a:pt x="49" y="44"/>
                </a:lnTo>
                <a:lnTo>
                  <a:pt x="53" y="46"/>
                </a:lnTo>
                <a:lnTo>
                  <a:pt x="53" y="48"/>
                </a:lnTo>
                <a:lnTo>
                  <a:pt x="51" y="54"/>
                </a:lnTo>
                <a:lnTo>
                  <a:pt x="46" y="55"/>
                </a:lnTo>
                <a:lnTo>
                  <a:pt x="42" y="57"/>
                </a:lnTo>
                <a:lnTo>
                  <a:pt x="40" y="5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24160" y="5751360"/>
            <a:ext cx="41040" cy="24120"/>
          </a:xfrm>
          <a:custGeom>
            <a:avLst/>
            <a:gdLst/>
            <a:ahLst/>
            <a:rect l="l" t="t" r="r" b="b"/>
            <a:pathLst>
              <a:path w="26" h="16">
                <a:moveTo>
                  <a:pt x="20" y="16"/>
                </a:moveTo>
                <a:lnTo>
                  <a:pt x="18" y="15"/>
                </a:lnTo>
                <a:lnTo>
                  <a:pt x="9" y="11"/>
                </a:lnTo>
                <a:lnTo>
                  <a:pt x="2" y="9"/>
                </a:lnTo>
                <a:lnTo>
                  <a:pt x="0" y="7"/>
                </a:lnTo>
                <a:lnTo>
                  <a:pt x="0" y="5"/>
                </a:lnTo>
                <a:lnTo>
                  <a:pt x="13" y="0"/>
                </a:lnTo>
                <a:lnTo>
                  <a:pt x="18" y="0"/>
                </a:lnTo>
                <a:lnTo>
                  <a:pt x="18" y="2"/>
                </a:lnTo>
                <a:lnTo>
                  <a:pt x="17" y="5"/>
                </a:lnTo>
                <a:lnTo>
                  <a:pt x="17" y="7"/>
                </a:lnTo>
                <a:lnTo>
                  <a:pt x="20" y="11"/>
                </a:lnTo>
                <a:lnTo>
                  <a:pt x="26" y="15"/>
                </a:lnTo>
                <a:lnTo>
                  <a:pt x="24" y="16"/>
                </a:lnTo>
                <a:lnTo>
                  <a:pt x="20" y="1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61960" y="5761080"/>
            <a:ext cx="30240" cy="19080"/>
          </a:xfrm>
          <a:custGeom>
            <a:avLst/>
            <a:gdLst/>
            <a:ahLst/>
            <a:rect l="l" t="t" r="r" b="b"/>
            <a:pathLst>
              <a:path w="18" h="13">
                <a:moveTo>
                  <a:pt x="16" y="13"/>
                </a:moveTo>
                <a:lnTo>
                  <a:pt x="5" y="8"/>
                </a:lnTo>
                <a:lnTo>
                  <a:pt x="0" y="4"/>
                </a:lnTo>
                <a:lnTo>
                  <a:pt x="0" y="2"/>
                </a:lnTo>
                <a:lnTo>
                  <a:pt x="2" y="0"/>
                </a:lnTo>
                <a:lnTo>
                  <a:pt x="7" y="0"/>
                </a:lnTo>
                <a:lnTo>
                  <a:pt x="16" y="6"/>
                </a:lnTo>
                <a:lnTo>
                  <a:pt x="18" y="8"/>
                </a:lnTo>
                <a:lnTo>
                  <a:pt x="16" y="1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20920" y="5767560"/>
            <a:ext cx="31680" cy="18720"/>
          </a:xfrm>
          <a:custGeom>
            <a:avLst/>
            <a:gdLst/>
            <a:ahLst/>
            <a:rect l="l" t="t" r="r" b="b"/>
            <a:pathLst>
              <a:path w="20" h="13">
                <a:moveTo>
                  <a:pt x="8" y="11"/>
                </a:move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13" y="4"/>
                </a:lnTo>
                <a:lnTo>
                  <a:pt x="20" y="7"/>
                </a:lnTo>
                <a:lnTo>
                  <a:pt x="20" y="9"/>
                </a:lnTo>
                <a:lnTo>
                  <a:pt x="19" y="9"/>
                </a:lnTo>
                <a:lnTo>
                  <a:pt x="9" y="13"/>
                </a:lnTo>
                <a:lnTo>
                  <a:pt x="8" y="1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3080" y="5770440"/>
            <a:ext cx="52200" cy="39960"/>
          </a:xfrm>
          <a:custGeom>
            <a:avLst/>
            <a:gdLst/>
            <a:ahLst/>
            <a:rect l="l" t="t" r="r" b="b"/>
            <a:pathLst>
              <a:path w="33" h="27">
                <a:moveTo>
                  <a:pt x="5" y="25"/>
                </a:moveTo>
                <a:lnTo>
                  <a:pt x="7" y="25"/>
                </a:lnTo>
                <a:lnTo>
                  <a:pt x="7" y="24"/>
                </a:lnTo>
                <a:lnTo>
                  <a:pt x="11" y="24"/>
                </a:lnTo>
                <a:lnTo>
                  <a:pt x="18" y="22"/>
                </a:lnTo>
                <a:lnTo>
                  <a:pt x="22" y="20"/>
                </a:lnTo>
                <a:lnTo>
                  <a:pt x="22" y="18"/>
                </a:lnTo>
                <a:lnTo>
                  <a:pt x="20" y="18"/>
                </a:lnTo>
                <a:lnTo>
                  <a:pt x="18" y="20"/>
                </a:lnTo>
                <a:lnTo>
                  <a:pt x="14" y="20"/>
                </a:lnTo>
                <a:lnTo>
                  <a:pt x="5" y="20"/>
                </a:lnTo>
                <a:lnTo>
                  <a:pt x="2" y="18"/>
                </a:lnTo>
                <a:lnTo>
                  <a:pt x="0" y="16"/>
                </a:lnTo>
                <a:lnTo>
                  <a:pt x="2" y="5"/>
                </a:lnTo>
                <a:lnTo>
                  <a:pt x="3" y="2"/>
                </a:lnTo>
                <a:lnTo>
                  <a:pt x="27" y="0"/>
                </a:lnTo>
                <a:lnTo>
                  <a:pt x="31" y="2"/>
                </a:lnTo>
                <a:lnTo>
                  <a:pt x="33" y="16"/>
                </a:lnTo>
                <a:lnTo>
                  <a:pt x="16" y="25"/>
                </a:lnTo>
                <a:lnTo>
                  <a:pt x="11" y="27"/>
                </a:lnTo>
                <a:lnTo>
                  <a:pt x="5" y="2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46320" y="5799240"/>
            <a:ext cx="54000" cy="23760"/>
          </a:xfrm>
          <a:custGeom>
            <a:avLst/>
            <a:gdLst/>
            <a:ahLst/>
            <a:rect l="l" t="t" r="r" b="b"/>
            <a:pathLst>
              <a:path w="34" h="16">
                <a:moveTo>
                  <a:pt x="3" y="16"/>
                </a:moveTo>
                <a:lnTo>
                  <a:pt x="1" y="16"/>
                </a:lnTo>
                <a:lnTo>
                  <a:pt x="0" y="14"/>
                </a:lnTo>
                <a:lnTo>
                  <a:pt x="0" y="7"/>
                </a:lnTo>
                <a:lnTo>
                  <a:pt x="11" y="9"/>
                </a:lnTo>
                <a:lnTo>
                  <a:pt x="14" y="9"/>
                </a:lnTo>
                <a:lnTo>
                  <a:pt x="29" y="0"/>
                </a:lnTo>
                <a:lnTo>
                  <a:pt x="33" y="2"/>
                </a:lnTo>
                <a:lnTo>
                  <a:pt x="34" y="5"/>
                </a:lnTo>
                <a:lnTo>
                  <a:pt x="34" y="7"/>
                </a:lnTo>
                <a:lnTo>
                  <a:pt x="31" y="11"/>
                </a:lnTo>
                <a:lnTo>
                  <a:pt x="14" y="14"/>
                </a:lnTo>
                <a:lnTo>
                  <a:pt x="3" y="1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63840" y="5430960"/>
            <a:ext cx="1207800" cy="895320"/>
          </a:xfrm>
          <a:custGeom>
            <a:avLst/>
            <a:gdLst/>
            <a:ahLst/>
            <a:rect l="l" t="t" r="r" b="b"/>
            <a:pathLst>
              <a:path w="755" h="612">
                <a:moveTo>
                  <a:pt x="428" y="539"/>
                </a:moveTo>
                <a:lnTo>
                  <a:pt x="420" y="537"/>
                </a:lnTo>
                <a:lnTo>
                  <a:pt x="411" y="533"/>
                </a:lnTo>
                <a:lnTo>
                  <a:pt x="404" y="533"/>
                </a:lnTo>
                <a:lnTo>
                  <a:pt x="393" y="535"/>
                </a:lnTo>
                <a:lnTo>
                  <a:pt x="380" y="541"/>
                </a:lnTo>
                <a:lnTo>
                  <a:pt x="402" y="537"/>
                </a:lnTo>
                <a:lnTo>
                  <a:pt x="415" y="539"/>
                </a:lnTo>
                <a:lnTo>
                  <a:pt x="422" y="541"/>
                </a:lnTo>
                <a:lnTo>
                  <a:pt x="439" y="539"/>
                </a:lnTo>
                <a:lnTo>
                  <a:pt x="440" y="539"/>
                </a:lnTo>
                <a:lnTo>
                  <a:pt x="448" y="546"/>
                </a:lnTo>
                <a:lnTo>
                  <a:pt x="459" y="566"/>
                </a:lnTo>
                <a:lnTo>
                  <a:pt x="470" y="577"/>
                </a:lnTo>
                <a:lnTo>
                  <a:pt x="479" y="586"/>
                </a:lnTo>
                <a:lnTo>
                  <a:pt x="486" y="592"/>
                </a:lnTo>
                <a:lnTo>
                  <a:pt x="497" y="605"/>
                </a:lnTo>
                <a:lnTo>
                  <a:pt x="499" y="606"/>
                </a:lnTo>
                <a:lnTo>
                  <a:pt x="499" y="608"/>
                </a:lnTo>
                <a:lnTo>
                  <a:pt x="495" y="612"/>
                </a:lnTo>
                <a:lnTo>
                  <a:pt x="494" y="612"/>
                </a:lnTo>
                <a:lnTo>
                  <a:pt x="494" y="606"/>
                </a:lnTo>
                <a:lnTo>
                  <a:pt x="481" y="605"/>
                </a:lnTo>
                <a:lnTo>
                  <a:pt x="457" y="603"/>
                </a:lnTo>
                <a:lnTo>
                  <a:pt x="440" y="596"/>
                </a:lnTo>
                <a:lnTo>
                  <a:pt x="417" y="590"/>
                </a:lnTo>
                <a:lnTo>
                  <a:pt x="395" y="590"/>
                </a:lnTo>
                <a:lnTo>
                  <a:pt x="344" y="575"/>
                </a:lnTo>
                <a:lnTo>
                  <a:pt x="161" y="575"/>
                </a:lnTo>
                <a:lnTo>
                  <a:pt x="157" y="568"/>
                </a:lnTo>
                <a:lnTo>
                  <a:pt x="157" y="564"/>
                </a:lnTo>
                <a:lnTo>
                  <a:pt x="155" y="563"/>
                </a:lnTo>
                <a:lnTo>
                  <a:pt x="142" y="553"/>
                </a:lnTo>
                <a:lnTo>
                  <a:pt x="139" y="552"/>
                </a:lnTo>
                <a:lnTo>
                  <a:pt x="132" y="548"/>
                </a:lnTo>
                <a:lnTo>
                  <a:pt x="124" y="546"/>
                </a:lnTo>
                <a:lnTo>
                  <a:pt x="113" y="530"/>
                </a:lnTo>
                <a:lnTo>
                  <a:pt x="119" y="526"/>
                </a:lnTo>
                <a:lnTo>
                  <a:pt x="122" y="517"/>
                </a:lnTo>
                <a:lnTo>
                  <a:pt x="121" y="510"/>
                </a:lnTo>
                <a:lnTo>
                  <a:pt x="122" y="510"/>
                </a:lnTo>
                <a:lnTo>
                  <a:pt x="128" y="502"/>
                </a:lnTo>
                <a:lnTo>
                  <a:pt x="126" y="500"/>
                </a:lnTo>
                <a:lnTo>
                  <a:pt x="115" y="495"/>
                </a:lnTo>
                <a:lnTo>
                  <a:pt x="113" y="491"/>
                </a:lnTo>
                <a:lnTo>
                  <a:pt x="113" y="489"/>
                </a:lnTo>
                <a:lnTo>
                  <a:pt x="119" y="484"/>
                </a:lnTo>
                <a:lnTo>
                  <a:pt x="124" y="482"/>
                </a:lnTo>
                <a:lnTo>
                  <a:pt x="126" y="482"/>
                </a:lnTo>
                <a:lnTo>
                  <a:pt x="128" y="466"/>
                </a:lnTo>
                <a:lnTo>
                  <a:pt x="124" y="460"/>
                </a:lnTo>
                <a:lnTo>
                  <a:pt x="119" y="455"/>
                </a:lnTo>
                <a:lnTo>
                  <a:pt x="119" y="453"/>
                </a:lnTo>
                <a:lnTo>
                  <a:pt x="122" y="447"/>
                </a:lnTo>
                <a:lnTo>
                  <a:pt x="122" y="446"/>
                </a:lnTo>
                <a:lnTo>
                  <a:pt x="115" y="442"/>
                </a:lnTo>
                <a:lnTo>
                  <a:pt x="104" y="442"/>
                </a:lnTo>
                <a:lnTo>
                  <a:pt x="100" y="442"/>
                </a:lnTo>
                <a:lnTo>
                  <a:pt x="95" y="447"/>
                </a:lnTo>
                <a:lnTo>
                  <a:pt x="91" y="447"/>
                </a:lnTo>
                <a:lnTo>
                  <a:pt x="88" y="447"/>
                </a:lnTo>
                <a:lnTo>
                  <a:pt x="82" y="444"/>
                </a:lnTo>
                <a:lnTo>
                  <a:pt x="78" y="444"/>
                </a:lnTo>
                <a:lnTo>
                  <a:pt x="64" y="447"/>
                </a:lnTo>
                <a:lnTo>
                  <a:pt x="53" y="455"/>
                </a:lnTo>
                <a:lnTo>
                  <a:pt x="46" y="458"/>
                </a:lnTo>
                <a:lnTo>
                  <a:pt x="42" y="457"/>
                </a:lnTo>
                <a:lnTo>
                  <a:pt x="38" y="455"/>
                </a:lnTo>
                <a:lnTo>
                  <a:pt x="33" y="440"/>
                </a:lnTo>
                <a:lnTo>
                  <a:pt x="31" y="433"/>
                </a:lnTo>
                <a:lnTo>
                  <a:pt x="29" y="418"/>
                </a:lnTo>
                <a:lnTo>
                  <a:pt x="29" y="415"/>
                </a:lnTo>
                <a:lnTo>
                  <a:pt x="24" y="407"/>
                </a:lnTo>
                <a:lnTo>
                  <a:pt x="22" y="407"/>
                </a:lnTo>
                <a:lnTo>
                  <a:pt x="4" y="396"/>
                </a:lnTo>
                <a:lnTo>
                  <a:pt x="4" y="396"/>
                </a:lnTo>
                <a:lnTo>
                  <a:pt x="5" y="393"/>
                </a:lnTo>
                <a:lnTo>
                  <a:pt x="7" y="389"/>
                </a:lnTo>
                <a:lnTo>
                  <a:pt x="11" y="387"/>
                </a:lnTo>
                <a:lnTo>
                  <a:pt x="11" y="383"/>
                </a:lnTo>
                <a:lnTo>
                  <a:pt x="9" y="382"/>
                </a:lnTo>
                <a:lnTo>
                  <a:pt x="2" y="378"/>
                </a:lnTo>
                <a:lnTo>
                  <a:pt x="2" y="376"/>
                </a:lnTo>
                <a:lnTo>
                  <a:pt x="4" y="371"/>
                </a:lnTo>
                <a:lnTo>
                  <a:pt x="13" y="363"/>
                </a:lnTo>
                <a:lnTo>
                  <a:pt x="13" y="363"/>
                </a:lnTo>
                <a:lnTo>
                  <a:pt x="5" y="345"/>
                </a:lnTo>
                <a:lnTo>
                  <a:pt x="0" y="341"/>
                </a:lnTo>
                <a:lnTo>
                  <a:pt x="0" y="338"/>
                </a:lnTo>
                <a:lnTo>
                  <a:pt x="11" y="318"/>
                </a:lnTo>
                <a:lnTo>
                  <a:pt x="42" y="316"/>
                </a:lnTo>
                <a:lnTo>
                  <a:pt x="47" y="314"/>
                </a:lnTo>
                <a:lnTo>
                  <a:pt x="46" y="312"/>
                </a:lnTo>
                <a:lnTo>
                  <a:pt x="40" y="312"/>
                </a:lnTo>
                <a:lnTo>
                  <a:pt x="38" y="310"/>
                </a:lnTo>
                <a:lnTo>
                  <a:pt x="38" y="309"/>
                </a:lnTo>
                <a:lnTo>
                  <a:pt x="47" y="294"/>
                </a:lnTo>
                <a:lnTo>
                  <a:pt x="57" y="285"/>
                </a:lnTo>
                <a:lnTo>
                  <a:pt x="66" y="283"/>
                </a:lnTo>
                <a:lnTo>
                  <a:pt x="73" y="283"/>
                </a:lnTo>
                <a:lnTo>
                  <a:pt x="78" y="281"/>
                </a:lnTo>
                <a:lnTo>
                  <a:pt x="97" y="268"/>
                </a:lnTo>
                <a:lnTo>
                  <a:pt x="99" y="266"/>
                </a:lnTo>
                <a:lnTo>
                  <a:pt x="99" y="261"/>
                </a:lnTo>
                <a:lnTo>
                  <a:pt x="97" y="248"/>
                </a:lnTo>
                <a:lnTo>
                  <a:pt x="93" y="239"/>
                </a:lnTo>
                <a:lnTo>
                  <a:pt x="93" y="237"/>
                </a:lnTo>
                <a:lnTo>
                  <a:pt x="95" y="235"/>
                </a:lnTo>
                <a:lnTo>
                  <a:pt x="97" y="234"/>
                </a:lnTo>
                <a:lnTo>
                  <a:pt x="111" y="230"/>
                </a:lnTo>
                <a:lnTo>
                  <a:pt x="124" y="224"/>
                </a:lnTo>
                <a:lnTo>
                  <a:pt x="122" y="210"/>
                </a:lnTo>
                <a:lnTo>
                  <a:pt x="121" y="199"/>
                </a:lnTo>
                <a:lnTo>
                  <a:pt x="113" y="192"/>
                </a:lnTo>
                <a:lnTo>
                  <a:pt x="108" y="192"/>
                </a:lnTo>
                <a:lnTo>
                  <a:pt x="102" y="188"/>
                </a:lnTo>
                <a:lnTo>
                  <a:pt x="100" y="186"/>
                </a:lnTo>
                <a:lnTo>
                  <a:pt x="100" y="182"/>
                </a:lnTo>
                <a:lnTo>
                  <a:pt x="110" y="166"/>
                </a:lnTo>
                <a:lnTo>
                  <a:pt x="117" y="157"/>
                </a:lnTo>
                <a:lnTo>
                  <a:pt x="119" y="153"/>
                </a:lnTo>
                <a:lnTo>
                  <a:pt x="122" y="144"/>
                </a:lnTo>
                <a:lnTo>
                  <a:pt x="117" y="142"/>
                </a:lnTo>
                <a:lnTo>
                  <a:pt x="119" y="139"/>
                </a:lnTo>
                <a:lnTo>
                  <a:pt x="121" y="137"/>
                </a:lnTo>
                <a:lnTo>
                  <a:pt x="126" y="135"/>
                </a:lnTo>
                <a:lnTo>
                  <a:pt x="133" y="135"/>
                </a:lnTo>
                <a:lnTo>
                  <a:pt x="135" y="135"/>
                </a:lnTo>
                <a:lnTo>
                  <a:pt x="144" y="129"/>
                </a:lnTo>
                <a:lnTo>
                  <a:pt x="150" y="122"/>
                </a:lnTo>
                <a:lnTo>
                  <a:pt x="163" y="117"/>
                </a:lnTo>
                <a:lnTo>
                  <a:pt x="164" y="117"/>
                </a:lnTo>
                <a:lnTo>
                  <a:pt x="166" y="113"/>
                </a:lnTo>
                <a:lnTo>
                  <a:pt x="164" y="109"/>
                </a:lnTo>
                <a:lnTo>
                  <a:pt x="153" y="98"/>
                </a:lnTo>
                <a:lnTo>
                  <a:pt x="157" y="78"/>
                </a:lnTo>
                <a:lnTo>
                  <a:pt x="159" y="76"/>
                </a:lnTo>
                <a:lnTo>
                  <a:pt x="166" y="75"/>
                </a:lnTo>
                <a:lnTo>
                  <a:pt x="170" y="75"/>
                </a:lnTo>
                <a:lnTo>
                  <a:pt x="183" y="65"/>
                </a:lnTo>
                <a:lnTo>
                  <a:pt x="183" y="64"/>
                </a:lnTo>
                <a:lnTo>
                  <a:pt x="183" y="51"/>
                </a:lnTo>
                <a:lnTo>
                  <a:pt x="183" y="49"/>
                </a:lnTo>
                <a:lnTo>
                  <a:pt x="177" y="40"/>
                </a:lnTo>
                <a:lnTo>
                  <a:pt x="175" y="22"/>
                </a:lnTo>
                <a:lnTo>
                  <a:pt x="174" y="20"/>
                </a:lnTo>
                <a:lnTo>
                  <a:pt x="166" y="18"/>
                </a:lnTo>
                <a:lnTo>
                  <a:pt x="161" y="12"/>
                </a:lnTo>
                <a:lnTo>
                  <a:pt x="163" y="12"/>
                </a:lnTo>
                <a:lnTo>
                  <a:pt x="172" y="11"/>
                </a:lnTo>
                <a:lnTo>
                  <a:pt x="175" y="11"/>
                </a:lnTo>
                <a:lnTo>
                  <a:pt x="181" y="3"/>
                </a:lnTo>
                <a:lnTo>
                  <a:pt x="186" y="0"/>
                </a:lnTo>
                <a:lnTo>
                  <a:pt x="576" y="0"/>
                </a:lnTo>
                <a:lnTo>
                  <a:pt x="572" y="7"/>
                </a:lnTo>
                <a:lnTo>
                  <a:pt x="572" y="16"/>
                </a:lnTo>
                <a:lnTo>
                  <a:pt x="578" y="31"/>
                </a:lnTo>
                <a:lnTo>
                  <a:pt x="581" y="40"/>
                </a:lnTo>
                <a:lnTo>
                  <a:pt x="583" y="43"/>
                </a:lnTo>
                <a:lnTo>
                  <a:pt x="594" y="54"/>
                </a:lnTo>
                <a:lnTo>
                  <a:pt x="600" y="60"/>
                </a:lnTo>
                <a:lnTo>
                  <a:pt x="623" y="73"/>
                </a:lnTo>
                <a:lnTo>
                  <a:pt x="636" y="82"/>
                </a:lnTo>
                <a:lnTo>
                  <a:pt x="651" y="95"/>
                </a:lnTo>
                <a:lnTo>
                  <a:pt x="660" y="98"/>
                </a:lnTo>
                <a:lnTo>
                  <a:pt x="667" y="100"/>
                </a:lnTo>
                <a:lnTo>
                  <a:pt x="680" y="100"/>
                </a:lnTo>
                <a:lnTo>
                  <a:pt x="693" y="100"/>
                </a:lnTo>
                <a:lnTo>
                  <a:pt x="695" y="104"/>
                </a:lnTo>
                <a:lnTo>
                  <a:pt x="707" y="104"/>
                </a:lnTo>
                <a:lnTo>
                  <a:pt x="718" y="104"/>
                </a:lnTo>
                <a:lnTo>
                  <a:pt x="724" y="102"/>
                </a:lnTo>
                <a:lnTo>
                  <a:pt x="729" y="102"/>
                </a:lnTo>
                <a:lnTo>
                  <a:pt x="739" y="104"/>
                </a:lnTo>
                <a:lnTo>
                  <a:pt x="749" y="115"/>
                </a:lnTo>
                <a:lnTo>
                  <a:pt x="755" y="128"/>
                </a:lnTo>
                <a:lnTo>
                  <a:pt x="751" y="148"/>
                </a:lnTo>
                <a:lnTo>
                  <a:pt x="749" y="153"/>
                </a:lnTo>
                <a:lnTo>
                  <a:pt x="740" y="168"/>
                </a:lnTo>
                <a:lnTo>
                  <a:pt x="737" y="170"/>
                </a:lnTo>
                <a:lnTo>
                  <a:pt x="731" y="168"/>
                </a:lnTo>
                <a:lnTo>
                  <a:pt x="726" y="168"/>
                </a:lnTo>
                <a:lnTo>
                  <a:pt x="724" y="170"/>
                </a:lnTo>
                <a:lnTo>
                  <a:pt x="718" y="173"/>
                </a:lnTo>
                <a:lnTo>
                  <a:pt x="713" y="175"/>
                </a:lnTo>
                <a:lnTo>
                  <a:pt x="706" y="175"/>
                </a:lnTo>
                <a:lnTo>
                  <a:pt x="706" y="177"/>
                </a:lnTo>
                <a:lnTo>
                  <a:pt x="707" y="177"/>
                </a:lnTo>
                <a:lnTo>
                  <a:pt x="717" y="175"/>
                </a:lnTo>
                <a:lnTo>
                  <a:pt x="731" y="170"/>
                </a:lnTo>
                <a:lnTo>
                  <a:pt x="737" y="173"/>
                </a:lnTo>
                <a:lnTo>
                  <a:pt x="739" y="173"/>
                </a:lnTo>
                <a:lnTo>
                  <a:pt x="749" y="184"/>
                </a:lnTo>
                <a:lnTo>
                  <a:pt x="749" y="188"/>
                </a:lnTo>
                <a:lnTo>
                  <a:pt x="744" y="188"/>
                </a:lnTo>
                <a:lnTo>
                  <a:pt x="737" y="186"/>
                </a:lnTo>
                <a:lnTo>
                  <a:pt x="733" y="186"/>
                </a:lnTo>
                <a:lnTo>
                  <a:pt x="731" y="188"/>
                </a:lnTo>
                <a:lnTo>
                  <a:pt x="733" y="197"/>
                </a:lnTo>
                <a:lnTo>
                  <a:pt x="731" y="201"/>
                </a:lnTo>
                <a:lnTo>
                  <a:pt x="720" y="201"/>
                </a:lnTo>
                <a:lnTo>
                  <a:pt x="696" y="219"/>
                </a:lnTo>
                <a:lnTo>
                  <a:pt x="689" y="224"/>
                </a:lnTo>
                <a:lnTo>
                  <a:pt x="684" y="230"/>
                </a:lnTo>
                <a:lnTo>
                  <a:pt x="676" y="230"/>
                </a:lnTo>
                <a:lnTo>
                  <a:pt x="665" y="234"/>
                </a:lnTo>
                <a:lnTo>
                  <a:pt x="649" y="246"/>
                </a:lnTo>
                <a:lnTo>
                  <a:pt x="638" y="248"/>
                </a:lnTo>
                <a:lnTo>
                  <a:pt x="623" y="254"/>
                </a:lnTo>
                <a:lnTo>
                  <a:pt x="620" y="257"/>
                </a:lnTo>
                <a:lnTo>
                  <a:pt x="612" y="265"/>
                </a:lnTo>
                <a:lnTo>
                  <a:pt x="609" y="270"/>
                </a:lnTo>
                <a:lnTo>
                  <a:pt x="601" y="272"/>
                </a:lnTo>
                <a:lnTo>
                  <a:pt x="594" y="277"/>
                </a:lnTo>
                <a:lnTo>
                  <a:pt x="583" y="287"/>
                </a:lnTo>
                <a:lnTo>
                  <a:pt x="576" y="290"/>
                </a:lnTo>
                <a:lnTo>
                  <a:pt x="570" y="298"/>
                </a:lnTo>
                <a:lnTo>
                  <a:pt x="570" y="299"/>
                </a:lnTo>
                <a:lnTo>
                  <a:pt x="574" y="303"/>
                </a:lnTo>
                <a:lnTo>
                  <a:pt x="572" y="305"/>
                </a:lnTo>
                <a:lnTo>
                  <a:pt x="567" y="310"/>
                </a:lnTo>
                <a:lnTo>
                  <a:pt x="556" y="319"/>
                </a:lnTo>
                <a:lnTo>
                  <a:pt x="552" y="325"/>
                </a:lnTo>
                <a:lnTo>
                  <a:pt x="552" y="325"/>
                </a:lnTo>
                <a:lnTo>
                  <a:pt x="554" y="325"/>
                </a:lnTo>
                <a:lnTo>
                  <a:pt x="563" y="323"/>
                </a:lnTo>
                <a:lnTo>
                  <a:pt x="565" y="321"/>
                </a:lnTo>
                <a:lnTo>
                  <a:pt x="567" y="318"/>
                </a:lnTo>
                <a:lnTo>
                  <a:pt x="570" y="312"/>
                </a:lnTo>
                <a:lnTo>
                  <a:pt x="572" y="312"/>
                </a:lnTo>
                <a:lnTo>
                  <a:pt x="574" y="312"/>
                </a:lnTo>
                <a:lnTo>
                  <a:pt x="567" y="338"/>
                </a:lnTo>
                <a:lnTo>
                  <a:pt x="563" y="349"/>
                </a:lnTo>
                <a:lnTo>
                  <a:pt x="561" y="360"/>
                </a:lnTo>
                <a:lnTo>
                  <a:pt x="559" y="369"/>
                </a:lnTo>
                <a:lnTo>
                  <a:pt x="556" y="374"/>
                </a:lnTo>
                <a:lnTo>
                  <a:pt x="548" y="382"/>
                </a:lnTo>
                <a:lnTo>
                  <a:pt x="530" y="391"/>
                </a:lnTo>
                <a:lnTo>
                  <a:pt x="517" y="394"/>
                </a:lnTo>
                <a:lnTo>
                  <a:pt x="510" y="396"/>
                </a:lnTo>
                <a:lnTo>
                  <a:pt x="503" y="394"/>
                </a:lnTo>
                <a:lnTo>
                  <a:pt x="495" y="391"/>
                </a:lnTo>
                <a:lnTo>
                  <a:pt x="488" y="382"/>
                </a:lnTo>
                <a:lnTo>
                  <a:pt x="479" y="376"/>
                </a:lnTo>
                <a:lnTo>
                  <a:pt x="477" y="380"/>
                </a:lnTo>
                <a:lnTo>
                  <a:pt x="470" y="382"/>
                </a:lnTo>
                <a:lnTo>
                  <a:pt x="453" y="380"/>
                </a:lnTo>
                <a:lnTo>
                  <a:pt x="442" y="382"/>
                </a:lnTo>
                <a:lnTo>
                  <a:pt x="439" y="385"/>
                </a:lnTo>
                <a:lnTo>
                  <a:pt x="439" y="385"/>
                </a:lnTo>
                <a:lnTo>
                  <a:pt x="440" y="385"/>
                </a:lnTo>
                <a:lnTo>
                  <a:pt x="448" y="383"/>
                </a:lnTo>
                <a:lnTo>
                  <a:pt x="453" y="382"/>
                </a:lnTo>
                <a:lnTo>
                  <a:pt x="472" y="383"/>
                </a:lnTo>
                <a:lnTo>
                  <a:pt x="481" y="382"/>
                </a:lnTo>
                <a:lnTo>
                  <a:pt x="484" y="383"/>
                </a:lnTo>
                <a:lnTo>
                  <a:pt x="486" y="389"/>
                </a:lnTo>
                <a:lnTo>
                  <a:pt x="488" y="391"/>
                </a:lnTo>
                <a:lnTo>
                  <a:pt x="501" y="396"/>
                </a:lnTo>
                <a:lnTo>
                  <a:pt x="501" y="398"/>
                </a:lnTo>
                <a:lnTo>
                  <a:pt x="499" y="400"/>
                </a:lnTo>
                <a:lnTo>
                  <a:pt x="495" y="402"/>
                </a:lnTo>
                <a:lnTo>
                  <a:pt x="473" y="407"/>
                </a:lnTo>
                <a:lnTo>
                  <a:pt x="457" y="413"/>
                </a:lnTo>
                <a:lnTo>
                  <a:pt x="453" y="415"/>
                </a:lnTo>
                <a:lnTo>
                  <a:pt x="446" y="420"/>
                </a:lnTo>
                <a:lnTo>
                  <a:pt x="433" y="433"/>
                </a:lnTo>
                <a:lnTo>
                  <a:pt x="430" y="440"/>
                </a:lnTo>
                <a:lnTo>
                  <a:pt x="426" y="455"/>
                </a:lnTo>
                <a:lnTo>
                  <a:pt x="426" y="466"/>
                </a:lnTo>
                <a:lnTo>
                  <a:pt x="426" y="469"/>
                </a:lnTo>
                <a:lnTo>
                  <a:pt x="417" y="477"/>
                </a:lnTo>
                <a:lnTo>
                  <a:pt x="408" y="480"/>
                </a:lnTo>
                <a:lnTo>
                  <a:pt x="400" y="488"/>
                </a:lnTo>
                <a:lnTo>
                  <a:pt x="400" y="488"/>
                </a:lnTo>
                <a:lnTo>
                  <a:pt x="402" y="488"/>
                </a:lnTo>
                <a:lnTo>
                  <a:pt x="409" y="480"/>
                </a:lnTo>
                <a:lnTo>
                  <a:pt x="420" y="477"/>
                </a:lnTo>
                <a:lnTo>
                  <a:pt x="422" y="477"/>
                </a:lnTo>
                <a:lnTo>
                  <a:pt x="424" y="480"/>
                </a:lnTo>
                <a:lnTo>
                  <a:pt x="426" y="484"/>
                </a:lnTo>
                <a:lnTo>
                  <a:pt x="426" y="489"/>
                </a:lnTo>
                <a:lnTo>
                  <a:pt x="428" y="495"/>
                </a:lnTo>
                <a:lnTo>
                  <a:pt x="435" y="511"/>
                </a:lnTo>
                <a:lnTo>
                  <a:pt x="442" y="524"/>
                </a:lnTo>
                <a:lnTo>
                  <a:pt x="444" y="532"/>
                </a:lnTo>
                <a:lnTo>
                  <a:pt x="442" y="535"/>
                </a:lnTo>
                <a:lnTo>
                  <a:pt x="439" y="533"/>
                </a:lnTo>
                <a:lnTo>
                  <a:pt x="435" y="533"/>
                </a:lnTo>
                <a:lnTo>
                  <a:pt x="433" y="535"/>
                </a:lnTo>
                <a:lnTo>
                  <a:pt x="428" y="53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51320" y="6168960"/>
            <a:ext cx="547560" cy="152640"/>
          </a:xfrm>
          <a:custGeom>
            <a:avLst/>
            <a:gdLst/>
            <a:ahLst/>
            <a:rect l="l" t="t" r="r" b="b"/>
            <a:pathLst>
              <a:path w="344" h="104">
                <a:moveTo>
                  <a:pt x="146" y="0"/>
                </a:moveTo>
                <a:lnTo>
                  <a:pt x="176" y="2"/>
                </a:lnTo>
                <a:lnTo>
                  <a:pt x="179" y="7"/>
                </a:lnTo>
                <a:lnTo>
                  <a:pt x="177" y="7"/>
                </a:lnTo>
                <a:lnTo>
                  <a:pt x="166" y="7"/>
                </a:lnTo>
                <a:lnTo>
                  <a:pt x="145" y="2"/>
                </a:lnTo>
                <a:lnTo>
                  <a:pt x="145" y="0"/>
                </a:lnTo>
                <a:lnTo>
                  <a:pt x="146" y="0"/>
                </a:lnTo>
                <a:moveTo>
                  <a:pt x="99" y="11"/>
                </a:moveTo>
                <a:lnTo>
                  <a:pt x="99" y="11"/>
                </a:lnTo>
                <a:lnTo>
                  <a:pt x="99" y="4"/>
                </a:lnTo>
                <a:lnTo>
                  <a:pt x="97" y="2"/>
                </a:lnTo>
                <a:lnTo>
                  <a:pt x="99" y="2"/>
                </a:lnTo>
                <a:lnTo>
                  <a:pt x="119" y="4"/>
                </a:lnTo>
                <a:lnTo>
                  <a:pt x="121" y="7"/>
                </a:lnTo>
                <a:lnTo>
                  <a:pt x="121" y="9"/>
                </a:lnTo>
                <a:lnTo>
                  <a:pt x="115" y="15"/>
                </a:lnTo>
                <a:lnTo>
                  <a:pt x="103" y="15"/>
                </a:lnTo>
                <a:lnTo>
                  <a:pt x="99" y="13"/>
                </a:lnTo>
                <a:lnTo>
                  <a:pt x="99" y="11"/>
                </a:lnTo>
                <a:moveTo>
                  <a:pt x="128" y="4"/>
                </a:moveTo>
                <a:lnTo>
                  <a:pt x="130" y="2"/>
                </a:lnTo>
                <a:lnTo>
                  <a:pt x="135" y="6"/>
                </a:lnTo>
                <a:lnTo>
                  <a:pt x="135" y="6"/>
                </a:lnTo>
                <a:lnTo>
                  <a:pt x="135" y="7"/>
                </a:lnTo>
                <a:lnTo>
                  <a:pt x="132" y="9"/>
                </a:lnTo>
                <a:lnTo>
                  <a:pt x="128" y="7"/>
                </a:lnTo>
                <a:lnTo>
                  <a:pt x="124" y="6"/>
                </a:lnTo>
                <a:lnTo>
                  <a:pt x="124" y="4"/>
                </a:lnTo>
                <a:lnTo>
                  <a:pt x="128" y="4"/>
                </a:lnTo>
                <a:moveTo>
                  <a:pt x="223" y="53"/>
                </a:moveTo>
                <a:lnTo>
                  <a:pt x="225" y="51"/>
                </a:lnTo>
                <a:lnTo>
                  <a:pt x="220" y="40"/>
                </a:lnTo>
                <a:lnTo>
                  <a:pt x="216" y="37"/>
                </a:lnTo>
                <a:lnTo>
                  <a:pt x="207" y="33"/>
                </a:lnTo>
                <a:lnTo>
                  <a:pt x="207" y="31"/>
                </a:lnTo>
                <a:lnTo>
                  <a:pt x="212" y="26"/>
                </a:lnTo>
                <a:lnTo>
                  <a:pt x="218" y="31"/>
                </a:lnTo>
                <a:lnTo>
                  <a:pt x="220" y="31"/>
                </a:lnTo>
                <a:lnTo>
                  <a:pt x="221" y="31"/>
                </a:lnTo>
                <a:lnTo>
                  <a:pt x="223" y="24"/>
                </a:lnTo>
                <a:lnTo>
                  <a:pt x="214" y="20"/>
                </a:lnTo>
                <a:lnTo>
                  <a:pt x="214" y="15"/>
                </a:lnTo>
                <a:lnTo>
                  <a:pt x="223" y="15"/>
                </a:lnTo>
                <a:lnTo>
                  <a:pt x="234" y="13"/>
                </a:lnTo>
                <a:lnTo>
                  <a:pt x="236" y="11"/>
                </a:lnTo>
                <a:lnTo>
                  <a:pt x="232" y="7"/>
                </a:lnTo>
                <a:lnTo>
                  <a:pt x="238" y="4"/>
                </a:lnTo>
                <a:lnTo>
                  <a:pt x="247" y="7"/>
                </a:lnTo>
                <a:lnTo>
                  <a:pt x="252" y="7"/>
                </a:lnTo>
                <a:lnTo>
                  <a:pt x="260" y="7"/>
                </a:lnTo>
                <a:lnTo>
                  <a:pt x="260" y="7"/>
                </a:lnTo>
                <a:lnTo>
                  <a:pt x="262" y="6"/>
                </a:lnTo>
                <a:lnTo>
                  <a:pt x="265" y="6"/>
                </a:lnTo>
                <a:lnTo>
                  <a:pt x="273" y="6"/>
                </a:lnTo>
                <a:lnTo>
                  <a:pt x="280" y="7"/>
                </a:lnTo>
                <a:lnTo>
                  <a:pt x="285" y="11"/>
                </a:lnTo>
                <a:lnTo>
                  <a:pt x="287" y="15"/>
                </a:lnTo>
                <a:lnTo>
                  <a:pt x="287" y="17"/>
                </a:lnTo>
                <a:lnTo>
                  <a:pt x="284" y="18"/>
                </a:lnTo>
                <a:lnTo>
                  <a:pt x="276" y="20"/>
                </a:lnTo>
                <a:lnTo>
                  <a:pt x="273" y="15"/>
                </a:lnTo>
                <a:lnTo>
                  <a:pt x="271" y="13"/>
                </a:lnTo>
                <a:lnTo>
                  <a:pt x="265" y="17"/>
                </a:lnTo>
                <a:lnTo>
                  <a:pt x="271" y="24"/>
                </a:lnTo>
                <a:lnTo>
                  <a:pt x="278" y="29"/>
                </a:lnTo>
                <a:lnTo>
                  <a:pt x="287" y="29"/>
                </a:lnTo>
                <a:lnTo>
                  <a:pt x="291" y="33"/>
                </a:lnTo>
                <a:lnTo>
                  <a:pt x="296" y="38"/>
                </a:lnTo>
                <a:lnTo>
                  <a:pt x="298" y="38"/>
                </a:lnTo>
                <a:lnTo>
                  <a:pt x="302" y="35"/>
                </a:lnTo>
                <a:lnTo>
                  <a:pt x="300" y="31"/>
                </a:lnTo>
                <a:lnTo>
                  <a:pt x="289" y="24"/>
                </a:lnTo>
                <a:lnTo>
                  <a:pt x="285" y="26"/>
                </a:lnTo>
                <a:lnTo>
                  <a:pt x="284" y="24"/>
                </a:lnTo>
                <a:lnTo>
                  <a:pt x="293" y="15"/>
                </a:lnTo>
                <a:lnTo>
                  <a:pt x="298" y="13"/>
                </a:lnTo>
                <a:lnTo>
                  <a:pt x="324" y="11"/>
                </a:lnTo>
                <a:lnTo>
                  <a:pt x="327" y="11"/>
                </a:lnTo>
                <a:lnTo>
                  <a:pt x="329" y="13"/>
                </a:lnTo>
                <a:lnTo>
                  <a:pt x="340" y="24"/>
                </a:lnTo>
                <a:lnTo>
                  <a:pt x="342" y="28"/>
                </a:lnTo>
                <a:lnTo>
                  <a:pt x="342" y="28"/>
                </a:lnTo>
                <a:lnTo>
                  <a:pt x="337" y="29"/>
                </a:lnTo>
                <a:lnTo>
                  <a:pt x="326" y="28"/>
                </a:lnTo>
                <a:lnTo>
                  <a:pt x="316" y="24"/>
                </a:lnTo>
                <a:lnTo>
                  <a:pt x="305" y="28"/>
                </a:lnTo>
                <a:lnTo>
                  <a:pt x="305" y="29"/>
                </a:lnTo>
                <a:lnTo>
                  <a:pt x="315" y="33"/>
                </a:lnTo>
                <a:lnTo>
                  <a:pt x="322" y="33"/>
                </a:lnTo>
                <a:lnTo>
                  <a:pt x="338" y="35"/>
                </a:lnTo>
                <a:lnTo>
                  <a:pt x="342" y="37"/>
                </a:lnTo>
                <a:lnTo>
                  <a:pt x="344" y="42"/>
                </a:lnTo>
                <a:lnTo>
                  <a:pt x="335" y="46"/>
                </a:lnTo>
                <a:lnTo>
                  <a:pt x="316" y="48"/>
                </a:lnTo>
                <a:lnTo>
                  <a:pt x="307" y="49"/>
                </a:lnTo>
                <a:lnTo>
                  <a:pt x="294" y="48"/>
                </a:lnTo>
                <a:lnTo>
                  <a:pt x="294" y="49"/>
                </a:lnTo>
                <a:lnTo>
                  <a:pt x="302" y="53"/>
                </a:lnTo>
                <a:lnTo>
                  <a:pt x="294" y="51"/>
                </a:lnTo>
                <a:lnTo>
                  <a:pt x="284" y="55"/>
                </a:lnTo>
                <a:lnTo>
                  <a:pt x="287" y="57"/>
                </a:lnTo>
                <a:lnTo>
                  <a:pt x="291" y="55"/>
                </a:lnTo>
                <a:lnTo>
                  <a:pt x="296" y="55"/>
                </a:lnTo>
                <a:lnTo>
                  <a:pt x="280" y="62"/>
                </a:lnTo>
                <a:lnTo>
                  <a:pt x="278" y="62"/>
                </a:lnTo>
                <a:lnTo>
                  <a:pt x="245" y="62"/>
                </a:lnTo>
                <a:lnTo>
                  <a:pt x="230" y="57"/>
                </a:lnTo>
                <a:lnTo>
                  <a:pt x="230" y="55"/>
                </a:lnTo>
                <a:lnTo>
                  <a:pt x="229" y="53"/>
                </a:lnTo>
                <a:lnTo>
                  <a:pt x="229" y="53"/>
                </a:lnTo>
                <a:lnTo>
                  <a:pt x="225" y="55"/>
                </a:lnTo>
                <a:lnTo>
                  <a:pt x="225" y="59"/>
                </a:lnTo>
                <a:lnTo>
                  <a:pt x="249" y="66"/>
                </a:lnTo>
                <a:lnTo>
                  <a:pt x="258" y="70"/>
                </a:lnTo>
                <a:lnTo>
                  <a:pt x="260" y="71"/>
                </a:lnTo>
                <a:lnTo>
                  <a:pt x="256" y="79"/>
                </a:lnTo>
                <a:lnTo>
                  <a:pt x="254" y="81"/>
                </a:lnTo>
                <a:lnTo>
                  <a:pt x="247" y="77"/>
                </a:lnTo>
                <a:lnTo>
                  <a:pt x="243" y="75"/>
                </a:lnTo>
                <a:lnTo>
                  <a:pt x="236" y="77"/>
                </a:lnTo>
                <a:lnTo>
                  <a:pt x="236" y="79"/>
                </a:lnTo>
                <a:lnTo>
                  <a:pt x="230" y="81"/>
                </a:lnTo>
                <a:lnTo>
                  <a:pt x="229" y="81"/>
                </a:lnTo>
                <a:lnTo>
                  <a:pt x="225" y="79"/>
                </a:lnTo>
                <a:lnTo>
                  <a:pt x="220" y="75"/>
                </a:lnTo>
                <a:lnTo>
                  <a:pt x="209" y="70"/>
                </a:lnTo>
                <a:lnTo>
                  <a:pt x="198" y="71"/>
                </a:lnTo>
                <a:lnTo>
                  <a:pt x="194" y="71"/>
                </a:lnTo>
                <a:lnTo>
                  <a:pt x="194" y="73"/>
                </a:lnTo>
                <a:lnTo>
                  <a:pt x="194" y="75"/>
                </a:lnTo>
                <a:lnTo>
                  <a:pt x="198" y="73"/>
                </a:lnTo>
                <a:lnTo>
                  <a:pt x="203" y="75"/>
                </a:lnTo>
                <a:lnTo>
                  <a:pt x="210" y="77"/>
                </a:lnTo>
                <a:lnTo>
                  <a:pt x="220" y="86"/>
                </a:lnTo>
                <a:lnTo>
                  <a:pt x="218" y="93"/>
                </a:lnTo>
                <a:lnTo>
                  <a:pt x="216" y="93"/>
                </a:lnTo>
                <a:lnTo>
                  <a:pt x="216" y="93"/>
                </a:lnTo>
                <a:lnTo>
                  <a:pt x="203" y="92"/>
                </a:lnTo>
                <a:lnTo>
                  <a:pt x="185" y="82"/>
                </a:lnTo>
                <a:lnTo>
                  <a:pt x="179" y="86"/>
                </a:lnTo>
                <a:lnTo>
                  <a:pt x="179" y="88"/>
                </a:lnTo>
                <a:lnTo>
                  <a:pt x="181" y="93"/>
                </a:lnTo>
                <a:lnTo>
                  <a:pt x="185" y="93"/>
                </a:lnTo>
                <a:lnTo>
                  <a:pt x="190" y="97"/>
                </a:lnTo>
                <a:lnTo>
                  <a:pt x="190" y="102"/>
                </a:lnTo>
                <a:lnTo>
                  <a:pt x="188" y="104"/>
                </a:lnTo>
                <a:lnTo>
                  <a:pt x="166" y="93"/>
                </a:lnTo>
                <a:lnTo>
                  <a:pt x="154" y="84"/>
                </a:lnTo>
                <a:lnTo>
                  <a:pt x="154" y="81"/>
                </a:lnTo>
                <a:lnTo>
                  <a:pt x="168" y="64"/>
                </a:lnTo>
                <a:lnTo>
                  <a:pt x="172" y="60"/>
                </a:lnTo>
                <a:lnTo>
                  <a:pt x="201" y="44"/>
                </a:lnTo>
                <a:lnTo>
                  <a:pt x="209" y="42"/>
                </a:lnTo>
                <a:lnTo>
                  <a:pt x="216" y="42"/>
                </a:lnTo>
                <a:lnTo>
                  <a:pt x="218" y="42"/>
                </a:lnTo>
                <a:lnTo>
                  <a:pt x="220" y="48"/>
                </a:lnTo>
                <a:lnTo>
                  <a:pt x="220" y="51"/>
                </a:lnTo>
                <a:lnTo>
                  <a:pt x="218" y="55"/>
                </a:lnTo>
                <a:lnTo>
                  <a:pt x="223" y="53"/>
                </a:lnTo>
                <a:moveTo>
                  <a:pt x="132" y="70"/>
                </a:moveTo>
                <a:lnTo>
                  <a:pt x="121" y="66"/>
                </a:lnTo>
                <a:lnTo>
                  <a:pt x="108" y="70"/>
                </a:lnTo>
                <a:lnTo>
                  <a:pt x="101" y="77"/>
                </a:lnTo>
                <a:lnTo>
                  <a:pt x="101" y="79"/>
                </a:lnTo>
                <a:lnTo>
                  <a:pt x="97" y="84"/>
                </a:lnTo>
                <a:lnTo>
                  <a:pt x="92" y="88"/>
                </a:lnTo>
                <a:lnTo>
                  <a:pt x="68" y="95"/>
                </a:lnTo>
                <a:lnTo>
                  <a:pt x="64" y="95"/>
                </a:lnTo>
                <a:lnTo>
                  <a:pt x="55" y="90"/>
                </a:lnTo>
                <a:lnTo>
                  <a:pt x="31" y="77"/>
                </a:lnTo>
                <a:lnTo>
                  <a:pt x="39" y="75"/>
                </a:lnTo>
                <a:lnTo>
                  <a:pt x="48" y="75"/>
                </a:lnTo>
                <a:lnTo>
                  <a:pt x="55" y="73"/>
                </a:lnTo>
                <a:lnTo>
                  <a:pt x="55" y="71"/>
                </a:lnTo>
                <a:lnTo>
                  <a:pt x="48" y="71"/>
                </a:lnTo>
                <a:lnTo>
                  <a:pt x="46" y="68"/>
                </a:lnTo>
                <a:lnTo>
                  <a:pt x="46" y="68"/>
                </a:lnTo>
                <a:lnTo>
                  <a:pt x="53" y="68"/>
                </a:lnTo>
                <a:lnTo>
                  <a:pt x="64" y="70"/>
                </a:lnTo>
                <a:lnTo>
                  <a:pt x="75" y="70"/>
                </a:lnTo>
                <a:lnTo>
                  <a:pt x="84" y="68"/>
                </a:lnTo>
                <a:lnTo>
                  <a:pt x="88" y="64"/>
                </a:lnTo>
                <a:lnTo>
                  <a:pt x="88" y="62"/>
                </a:lnTo>
                <a:lnTo>
                  <a:pt x="84" y="64"/>
                </a:lnTo>
                <a:lnTo>
                  <a:pt x="82" y="60"/>
                </a:lnTo>
                <a:lnTo>
                  <a:pt x="82" y="53"/>
                </a:lnTo>
                <a:lnTo>
                  <a:pt x="84" y="51"/>
                </a:lnTo>
                <a:lnTo>
                  <a:pt x="84" y="49"/>
                </a:lnTo>
                <a:lnTo>
                  <a:pt x="92" y="49"/>
                </a:lnTo>
                <a:lnTo>
                  <a:pt x="92" y="53"/>
                </a:lnTo>
                <a:lnTo>
                  <a:pt x="90" y="57"/>
                </a:lnTo>
                <a:lnTo>
                  <a:pt x="93" y="59"/>
                </a:lnTo>
                <a:lnTo>
                  <a:pt x="97" y="53"/>
                </a:lnTo>
                <a:lnTo>
                  <a:pt x="101" y="49"/>
                </a:lnTo>
                <a:lnTo>
                  <a:pt x="104" y="51"/>
                </a:lnTo>
                <a:lnTo>
                  <a:pt x="108" y="49"/>
                </a:lnTo>
                <a:lnTo>
                  <a:pt x="110" y="44"/>
                </a:lnTo>
                <a:lnTo>
                  <a:pt x="104" y="42"/>
                </a:lnTo>
                <a:lnTo>
                  <a:pt x="93" y="44"/>
                </a:lnTo>
                <a:lnTo>
                  <a:pt x="92" y="44"/>
                </a:lnTo>
                <a:lnTo>
                  <a:pt x="90" y="48"/>
                </a:lnTo>
                <a:lnTo>
                  <a:pt x="84" y="49"/>
                </a:lnTo>
                <a:lnTo>
                  <a:pt x="73" y="49"/>
                </a:lnTo>
                <a:lnTo>
                  <a:pt x="64" y="44"/>
                </a:lnTo>
                <a:lnTo>
                  <a:pt x="66" y="40"/>
                </a:lnTo>
                <a:lnTo>
                  <a:pt x="68" y="40"/>
                </a:lnTo>
                <a:lnTo>
                  <a:pt x="75" y="42"/>
                </a:lnTo>
                <a:lnTo>
                  <a:pt x="82" y="44"/>
                </a:lnTo>
                <a:lnTo>
                  <a:pt x="92" y="40"/>
                </a:lnTo>
                <a:lnTo>
                  <a:pt x="103" y="40"/>
                </a:lnTo>
                <a:lnTo>
                  <a:pt x="110" y="40"/>
                </a:lnTo>
                <a:lnTo>
                  <a:pt x="110" y="38"/>
                </a:lnTo>
                <a:lnTo>
                  <a:pt x="88" y="29"/>
                </a:lnTo>
                <a:lnTo>
                  <a:pt x="88" y="24"/>
                </a:lnTo>
                <a:lnTo>
                  <a:pt x="90" y="22"/>
                </a:lnTo>
                <a:lnTo>
                  <a:pt x="88" y="20"/>
                </a:lnTo>
                <a:lnTo>
                  <a:pt x="82" y="18"/>
                </a:lnTo>
                <a:lnTo>
                  <a:pt x="73" y="18"/>
                </a:lnTo>
                <a:lnTo>
                  <a:pt x="66" y="15"/>
                </a:lnTo>
                <a:lnTo>
                  <a:pt x="66" y="15"/>
                </a:lnTo>
                <a:lnTo>
                  <a:pt x="64" y="9"/>
                </a:lnTo>
                <a:lnTo>
                  <a:pt x="68" y="9"/>
                </a:lnTo>
                <a:lnTo>
                  <a:pt x="81" y="13"/>
                </a:lnTo>
                <a:lnTo>
                  <a:pt x="95" y="20"/>
                </a:lnTo>
                <a:lnTo>
                  <a:pt x="103" y="22"/>
                </a:lnTo>
                <a:lnTo>
                  <a:pt x="115" y="24"/>
                </a:lnTo>
                <a:lnTo>
                  <a:pt x="128" y="20"/>
                </a:lnTo>
                <a:lnTo>
                  <a:pt x="126" y="20"/>
                </a:lnTo>
                <a:lnTo>
                  <a:pt x="121" y="18"/>
                </a:lnTo>
                <a:lnTo>
                  <a:pt x="121" y="17"/>
                </a:lnTo>
                <a:lnTo>
                  <a:pt x="124" y="13"/>
                </a:lnTo>
                <a:lnTo>
                  <a:pt x="135" y="11"/>
                </a:lnTo>
                <a:lnTo>
                  <a:pt x="143" y="15"/>
                </a:lnTo>
                <a:lnTo>
                  <a:pt x="145" y="17"/>
                </a:lnTo>
                <a:lnTo>
                  <a:pt x="143" y="17"/>
                </a:lnTo>
                <a:lnTo>
                  <a:pt x="145" y="18"/>
                </a:lnTo>
                <a:lnTo>
                  <a:pt x="174" y="20"/>
                </a:lnTo>
                <a:lnTo>
                  <a:pt x="179" y="20"/>
                </a:lnTo>
                <a:lnTo>
                  <a:pt x="185" y="17"/>
                </a:lnTo>
                <a:lnTo>
                  <a:pt x="179" y="15"/>
                </a:lnTo>
                <a:lnTo>
                  <a:pt x="179" y="9"/>
                </a:lnTo>
                <a:lnTo>
                  <a:pt x="183" y="7"/>
                </a:lnTo>
                <a:lnTo>
                  <a:pt x="185" y="7"/>
                </a:lnTo>
                <a:lnTo>
                  <a:pt x="203" y="15"/>
                </a:lnTo>
                <a:lnTo>
                  <a:pt x="185" y="33"/>
                </a:lnTo>
                <a:lnTo>
                  <a:pt x="181" y="35"/>
                </a:lnTo>
                <a:lnTo>
                  <a:pt x="177" y="35"/>
                </a:lnTo>
                <a:lnTo>
                  <a:pt x="166" y="42"/>
                </a:lnTo>
                <a:lnTo>
                  <a:pt x="157" y="49"/>
                </a:lnTo>
                <a:lnTo>
                  <a:pt x="132" y="70"/>
                </a:lnTo>
                <a:moveTo>
                  <a:pt x="2" y="48"/>
                </a:moveTo>
                <a:lnTo>
                  <a:pt x="0" y="48"/>
                </a:lnTo>
                <a:lnTo>
                  <a:pt x="0" y="42"/>
                </a:lnTo>
                <a:lnTo>
                  <a:pt x="7" y="40"/>
                </a:lnTo>
                <a:lnTo>
                  <a:pt x="11" y="42"/>
                </a:lnTo>
                <a:lnTo>
                  <a:pt x="6" y="44"/>
                </a:lnTo>
                <a:lnTo>
                  <a:pt x="4" y="44"/>
                </a:lnTo>
                <a:lnTo>
                  <a:pt x="2" y="48"/>
                </a:lnTo>
                <a:moveTo>
                  <a:pt x="31" y="68"/>
                </a:moveTo>
                <a:lnTo>
                  <a:pt x="20" y="62"/>
                </a:lnTo>
                <a:lnTo>
                  <a:pt x="17" y="57"/>
                </a:lnTo>
                <a:lnTo>
                  <a:pt x="17" y="57"/>
                </a:lnTo>
                <a:lnTo>
                  <a:pt x="18" y="55"/>
                </a:lnTo>
                <a:lnTo>
                  <a:pt x="29" y="51"/>
                </a:lnTo>
                <a:lnTo>
                  <a:pt x="33" y="51"/>
                </a:lnTo>
                <a:lnTo>
                  <a:pt x="37" y="53"/>
                </a:lnTo>
                <a:lnTo>
                  <a:pt x="37" y="53"/>
                </a:lnTo>
                <a:lnTo>
                  <a:pt x="35" y="55"/>
                </a:lnTo>
                <a:lnTo>
                  <a:pt x="29" y="57"/>
                </a:lnTo>
                <a:lnTo>
                  <a:pt x="28" y="59"/>
                </a:lnTo>
                <a:lnTo>
                  <a:pt x="35" y="59"/>
                </a:lnTo>
                <a:lnTo>
                  <a:pt x="40" y="55"/>
                </a:lnTo>
                <a:lnTo>
                  <a:pt x="42" y="57"/>
                </a:lnTo>
                <a:lnTo>
                  <a:pt x="42" y="62"/>
                </a:lnTo>
                <a:lnTo>
                  <a:pt x="42" y="66"/>
                </a:lnTo>
                <a:lnTo>
                  <a:pt x="31" y="68"/>
                </a:lnTo>
                <a:moveTo>
                  <a:pt x="7" y="59"/>
                </a:moveTo>
                <a:lnTo>
                  <a:pt x="4" y="59"/>
                </a:lnTo>
                <a:lnTo>
                  <a:pt x="0" y="55"/>
                </a:lnTo>
                <a:lnTo>
                  <a:pt x="9" y="53"/>
                </a:lnTo>
                <a:lnTo>
                  <a:pt x="9" y="53"/>
                </a:lnTo>
                <a:lnTo>
                  <a:pt x="11" y="55"/>
                </a:lnTo>
                <a:lnTo>
                  <a:pt x="11" y="57"/>
                </a:lnTo>
                <a:lnTo>
                  <a:pt x="7" y="59"/>
                </a:lnTo>
                <a:moveTo>
                  <a:pt x="269" y="73"/>
                </a:moveTo>
                <a:lnTo>
                  <a:pt x="273" y="71"/>
                </a:lnTo>
                <a:lnTo>
                  <a:pt x="278" y="71"/>
                </a:lnTo>
                <a:lnTo>
                  <a:pt x="278" y="71"/>
                </a:lnTo>
                <a:lnTo>
                  <a:pt x="278" y="81"/>
                </a:lnTo>
                <a:lnTo>
                  <a:pt x="276" y="81"/>
                </a:lnTo>
                <a:lnTo>
                  <a:pt x="269" y="77"/>
                </a:lnTo>
                <a:lnTo>
                  <a:pt x="267" y="75"/>
                </a:lnTo>
                <a:lnTo>
                  <a:pt x="269" y="73"/>
                </a:lnTo>
                <a:moveTo>
                  <a:pt x="148" y="97"/>
                </a:moveTo>
                <a:lnTo>
                  <a:pt x="150" y="88"/>
                </a:lnTo>
                <a:lnTo>
                  <a:pt x="156" y="88"/>
                </a:lnTo>
                <a:lnTo>
                  <a:pt x="157" y="88"/>
                </a:lnTo>
                <a:lnTo>
                  <a:pt x="157" y="93"/>
                </a:lnTo>
                <a:lnTo>
                  <a:pt x="157" y="95"/>
                </a:lnTo>
                <a:lnTo>
                  <a:pt x="150" y="99"/>
                </a:lnTo>
                <a:lnTo>
                  <a:pt x="150" y="99"/>
                </a:lnTo>
                <a:lnTo>
                  <a:pt x="148" y="97"/>
                </a:lnTo>
              </a:path>
            </a:pathLst>
          </a:custGeom>
          <a:solidFill>
            <a:srgbClr val="ccff66"/>
          </a:solidFill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08240" y="5799240"/>
            <a:ext cx="27000" cy="3024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20"/>
                </a:moveTo>
                <a:lnTo>
                  <a:pt x="0" y="14"/>
                </a:lnTo>
                <a:lnTo>
                  <a:pt x="0" y="13"/>
                </a:lnTo>
                <a:lnTo>
                  <a:pt x="16" y="0"/>
                </a:lnTo>
                <a:lnTo>
                  <a:pt x="18" y="4"/>
                </a:lnTo>
                <a:lnTo>
                  <a:pt x="18" y="7"/>
                </a:lnTo>
                <a:lnTo>
                  <a:pt x="13" y="18"/>
                </a:lnTo>
                <a:lnTo>
                  <a:pt x="11" y="2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8120" y="5802480"/>
            <a:ext cx="34920" cy="12600"/>
          </a:xfrm>
          <a:custGeom>
            <a:avLst/>
            <a:gdLst/>
            <a:ahLst/>
            <a:rect l="l" t="t" r="r" b="b"/>
            <a:pathLst>
              <a:path w="20" h="9">
                <a:moveTo>
                  <a:pt x="4" y="9"/>
                </a:moveTo>
                <a:lnTo>
                  <a:pt x="0" y="9"/>
                </a:lnTo>
                <a:lnTo>
                  <a:pt x="0" y="7"/>
                </a:lnTo>
                <a:lnTo>
                  <a:pt x="6" y="0"/>
                </a:lnTo>
                <a:lnTo>
                  <a:pt x="13" y="0"/>
                </a:lnTo>
                <a:lnTo>
                  <a:pt x="20" y="2"/>
                </a:lnTo>
                <a:lnTo>
                  <a:pt x="11" y="7"/>
                </a:lnTo>
                <a:lnTo>
                  <a:pt x="4" y="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71520" y="5807160"/>
            <a:ext cx="163440" cy="193680"/>
          </a:xfrm>
          <a:custGeom>
            <a:avLst/>
            <a:gdLst/>
            <a:ahLst/>
            <a:rect l="l" t="t" r="r" b="b"/>
            <a:pathLst>
              <a:path w="102" h="132">
                <a:moveTo>
                  <a:pt x="29" y="79"/>
                </a:moveTo>
                <a:lnTo>
                  <a:pt x="29" y="77"/>
                </a:lnTo>
                <a:lnTo>
                  <a:pt x="18" y="66"/>
                </a:lnTo>
                <a:lnTo>
                  <a:pt x="15" y="61"/>
                </a:lnTo>
                <a:lnTo>
                  <a:pt x="15" y="57"/>
                </a:lnTo>
                <a:lnTo>
                  <a:pt x="17" y="55"/>
                </a:lnTo>
                <a:lnTo>
                  <a:pt x="20" y="55"/>
                </a:lnTo>
                <a:lnTo>
                  <a:pt x="27" y="62"/>
                </a:lnTo>
                <a:lnTo>
                  <a:pt x="31" y="62"/>
                </a:lnTo>
                <a:lnTo>
                  <a:pt x="38" y="55"/>
                </a:lnTo>
                <a:lnTo>
                  <a:pt x="40" y="53"/>
                </a:lnTo>
                <a:lnTo>
                  <a:pt x="37" y="50"/>
                </a:lnTo>
                <a:lnTo>
                  <a:pt x="38" y="50"/>
                </a:lnTo>
                <a:lnTo>
                  <a:pt x="53" y="62"/>
                </a:lnTo>
                <a:lnTo>
                  <a:pt x="57" y="59"/>
                </a:lnTo>
                <a:lnTo>
                  <a:pt x="62" y="39"/>
                </a:lnTo>
                <a:lnTo>
                  <a:pt x="51" y="31"/>
                </a:lnTo>
                <a:lnTo>
                  <a:pt x="49" y="30"/>
                </a:lnTo>
                <a:lnTo>
                  <a:pt x="40" y="15"/>
                </a:lnTo>
                <a:lnTo>
                  <a:pt x="40" y="11"/>
                </a:lnTo>
                <a:lnTo>
                  <a:pt x="60" y="2"/>
                </a:lnTo>
                <a:lnTo>
                  <a:pt x="71" y="0"/>
                </a:lnTo>
                <a:lnTo>
                  <a:pt x="90" y="2"/>
                </a:lnTo>
                <a:lnTo>
                  <a:pt x="91" y="4"/>
                </a:lnTo>
                <a:lnTo>
                  <a:pt x="93" y="20"/>
                </a:lnTo>
                <a:lnTo>
                  <a:pt x="97" y="26"/>
                </a:lnTo>
                <a:lnTo>
                  <a:pt x="97" y="39"/>
                </a:lnTo>
                <a:lnTo>
                  <a:pt x="99" y="52"/>
                </a:lnTo>
                <a:lnTo>
                  <a:pt x="99" y="61"/>
                </a:lnTo>
                <a:lnTo>
                  <a:pt x="97" y="72"/>
                </a:lnTo>
                <a:lnTo>
                  <a:pt x="95" y="75"/>
                </a:lnTo>
                <a:lnTo>
                  <a:pt x="93" y="79"/>
                </a:lnTo>
                <a:lnTo>
                  <a:pt x="91" y="83"/>
                </a:lnTo>
                <a:lnTo>
                  <a:pt x="93" y="86"/>
                </a:lnTo>
                <a:lnTo>
                  <a:pt x="90" y="90"/>
                </a:lnTo>
                <a:lnTo>
                  <a:pt x="84" y="97"/>
                </a:lnTo>
                <a:lnTo>
                  <a:pt x="84" y="99"/>
                </a:lnTo>
                <a:lnTo>
                  <a:pt x="84" y="101"/>
                </a:lnTo>
                <a:lnTo>
                  <a:pt x="86" y="101"/>
                </a:lnTo>
                <a:lnTo>
                  <a:pt x="91" y="95"/>
                </a:lnTo>
                <a:lnTo>
                  <a:pt x="91" y="92"/>
                </a:lnTo>
                <a:lnTo>
                  <a:pt x="97" y="90"/>
                </a:lnTo>
                <a:lnTo>
                  <a:pt x="101" y="95"/>
                </a:lnTo>
                <a:lnTo>
                  <a:pt x="102" y="97"/>
                </a:lnTo>
                <a:lnTo>
                  <a:pt x="102" y="101"/>
                </a:lnTo>
                <a:lnTo>
                  <a:pt x="97" y="121"/>
                </a:lnTo>
                <a:lnTo>
                  <a:pt x="90" y="126"/>
                </a:lnTo>
                <a:lnTo>
                  <a:pt x="82" y="130"/>
                </a:lnTo>
                <a:lnTo>
                  <a:pt x="80" y="132"/>
                </a:lnTo>
                <a:lnTo>
                  <a:pt x="70" y="132"/>
                </a:lnTo>
                <a:lnTo>
                  <a:pt x="60" y="128"/>
                </a:lnTo>
                <a:lnTo>
                  <a:pt x="59" y="126"/>
                </a:lnTo>
                <a:lnTo>
                  <a:pt x="62" y="123"/>
                </a:lnTo>
                <a:lnTo>
                  <a:pt x="71" y="119"/>
                </a:lnTo>
                <a:lnTo>
                  <a:pt x="73" y="119"/>
                </a:lnTo>
                <a:lnTo>
                  <a:pt x="79" y="123"/>
                </a:lnTo>
                <a:lnTo>
                  <a:pt x="77" y="121"/>
                </a:lnTo>
                <a:lnTo>
                  <a:pt x="73" y="117"/>
                </a:lnTo>
                <a:lnTo>
                  <a:pt x="71" y="117"/>
                </a:lnTo>
                <a:lnTo>
                  <a:pt x="68" y="117"/>
                </a:lnTo>
                <a:lnTo>
                  <a:pt x="60" y="123"/>
                </a:lnTo>
                <a:lnTo>
                  <a:pt x="57" y="123"/>
                </a:lnTo>
                <a:lnTo>
                  <a:pt x="55" y="119"/>
                </a:lnTo>
                <a:lnTo>
                  <a:pt x="57" y="106"/>
                </a:lnTo>
                <a:lnTo>
                  <a:pt x="53" y="95"/>
                </a:lnTo>
                <a:lnTo>
                  <a:pt x="57" y="83"/>
                </a:lnTo>
                <a:lnTo>
                  <a:pt x="66" y="77"/>
                </a:lnTo>
                <a:lnTo>
                  <a:pt x="80" y="64"/>
                </a:lnTo>
                <a:lnTo>
                  <a:pt x="77" y="64"/>
                </a:lnTo>
                <a:lnTo>
                  <a:pt x="75" y="66"/>
                </a:lnTo>
                <a:lnTo>
                  <a:pt x="70" y="70"/>
                </a:lnTo>
                <a:lnTo>
                  <a:pt x="70" y="72"/>
                </a:lnTo>
                <a:lnTo>
                  <a:pt x="70" y="73"/>
                </a:lnTo>
                <a:lnTo>
                  <a:pt x="59" y="79"/>
                </a:lnTo>
                <a:lnTo>
                  <a:pt x="51" y="83"/>
                </a:lnTo>
                <a:lnTo>
                  <a:pt x="49" y="83"/>
                </a:lnTo>
                <a:lnTo>
                  <a:pt x="49" y="79"/>
                </a:lnTo>
                <a:lnTo>
                  <a:pt x="49" y="75"/>
                </a:lnTo>
                <a:lnTo>
                  <a:pt x="46" y="79"/>
                </a:lnTo>
                <a:lnTo>
                  <a:pt x="46" y="92"/>
                </a:lnTo>
                <a:lnTo>
                  <a:pt x="49" y="95"/>
                </a:lnTo>
                <a:lnTo>
                  <a:pt x="48" y="108"/>
                </a:lnTo>
                <a:lnTo>
                  <a:pt x="44" y="117"/>
                </a:lnTo>
                <a:lnTo>
                  <a:pt x="40" y="115"/>
                </a:lnTo>
                <a:lnTo>
                  <a:pt x="33" y="114"/>
                </a:lnTo>
                <a:lnTo>
                  <a:pt x="26" y="103"/>
                </a:lnTo>
                <a:lnTo>
                  <a:pt x="17" y="92"/>
                </a:lnTo>
                <a:lnTo>
                  <a:pt x="17" y="90"/>
                </a:lnTo>
                <a:lnTo>
                  <a:pt x="20" y="86"/>
                </a:lnTo>
                <a:lnTo>
                  <a:pt x="18" y="79"/>
                </a:lnTo>
                <a:lnTo>
                  <a:pt x="15" y="75"/>
                </a:lnTo>
                <a:lnTo>
                  <a:pt x="11" y="72"/>
                </a:lnTo>
                <a:lnTo>
                  <a:pt x="7" y="72"/>
                </a:lnTo>
                <a:lnTo>
                  <a:pt x="6" y="75"/>
                </a:lnTo>
                <a:lnTo>
                  <a:pt x="4" y="75"/>
                </a:lnTo>
                <a:lnTo>
                  <a:pt x="4" y="73"/>
                </a:lnTo>
                <a:lnTo>
                  <a:pt x="2" y="68"/>
                </a:lnTo>
                <a:lnTo>
                  <a:pt x="0" y="61"/>
                </a:lnTo>
                <a:lnTo>
                  <a:pt x="6" y="57"/>
                </a:lnTo>
                <a:lnTo>
                  <a:pt x="9" y="57"/>
                </a:lnTo>
                <a:lnTo>
                  <a:pt x="15" y="64"/>
                </a:lnTo>
                <a:lnTo>
                  <a:pt x="15" y="66"/>
                </a:lnTo>
                <a:lnTo>
                  <a:pt x="18" y="72"/>
                </a:lnTo>
                <a:lnTo>
                  <a:pt x="27" y="77"/>
                </a:lnTo>
                <a:lnTo>
                  <a:pt x="29" y="7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93920" y="5813280"/>
            <a:ext cx="960480" cy="723960"/>
          </a:xfrm>
          <a:custGeom>
            <a:avLst/>
            <a:gdLst/>
            <a:ahLst/>
            <a:rect l="l" t="t" r="r" b="b"/>
            <a:pathLst>
              <a:path w="602" h="495">
                <a:moveTo>
                  <a:pt x="71" y="203"/>
                </a:moveTo>
                <a:lnTo>
                  <a:pt x="62" y="203"/>
                </a:lnTo>
                <a:lnTo>
                  <a:pt x="57" y="197"/>
                </a:lnTo>
                <a:lnTo>
                  <a:pt x="44" y="181"/>
                </a:lnTo>
                <a:lnTo>
                  <a:pt x="38" y="168"/>
                </a:lnTo>
                <a:lnTo>
                  <a:pt x="40" y="168"/>
                </a:lnTo>
                <a:lnTo>
                  <a:pt x="46" y="166"/>
                </a:lnTo>
                <a:lnTo>
                  <a:pt x="55" y="170"/>
                </a:lnTo>
                <a:lnTo>
                  <a:pt x="64" y="174"/>
                </a:lnTo>
                <a:lnTo>
                  <a:pt x="77" y="175"/>
                </a:lnTo>
                <a:lnTo>
                  <a:pt x="79" y="175"/>
                </a:lnTo>
                <a:lnTo>
                  <a:pt x="79" y="174"/>
                </a:lnTo>
                <a:lnTo>
                  <a:pt x="68" y="172"/>
                </a:lnTo>
                <a:lnTo>
                  <a:pt x="60" y="168"/>
                </a:lnTo>
                <a:lnTo>
                  <a:pt x="55" y="165"/>
                </a:lnTo>
                <a:lnTo>
                  <a:pt x="38" y="163"/>
                </a:lnTo>
                <a:lnTo>
                  <a:pt x="22" y="155"/>
                </a:lnTo>
                <a:lnTo>
                  <a:pt x="2" y="143"/>
                </a:lnTo>
                <a:lnTo>
                  <a:pt x="0" y="141"/>
                </a:lnTo>
                <a:lnTo>
                  <a:pt x="0" y="139"/>
                </a:lnTo>
                <a:lnTo>
                  <a:pt x="2" y="137"/>
                </a:lnTo>
                <a:lnTo>
                  <a:pt x="5" y="135"/>
                </a:lnTo>
                <a:lnTo>
                  <a:pt x="11" y="132"/>
                </a:lnTo>
                <a:lnTo>
                  <a:pt x="20" y="130"/>
                </a:lnTo>
                <a:lnTo>
                  <a:pt x="26" y="132"/>
                </a:lnTo>
                <a:lnTo>
                  <a:pt x="35" y="132"/>
                </a:lnTo>
                <a:lnTo>
                  <a:pt x="38" y="135"/>
                </a:lnTo>
                <a:lnTo>
                  <a:pt x="38" y="137"/>
                </a:lnTo>
                <a:lnTo>
                  <a:pt x="40" y="139"/>
                </a:lnTo>
                <a:lnTo>
                  <a:pt x="48" y="143"/>
                </a:lnTo>
                <a:lnTo>
                  <a:pt x="69" y="150"/>
                </a:lnTo>
                <a:lnTo>
                  <a:pt x="79" y="152"/>
                </a:lnTo>
                <a:lnTo>
                  <a:pt x="80" y="150"/>
                </a:lnTo>
                <a:lnTo>
                  <a:pt x="79" y="150"/>
                </a:lnTo>
                <a:lnTo>
                  <a:pt x="55" y="143"/>
                </a:lnTo>
                <a:lnTo>
                  <a:pt x="51" y="143"/>
                </a:lnTo>
                <a:lnTo>
                  <a:pt x="49" y="143"/>
                </a:lnTo>
                <a:lnTo>
                  <a:pt x="48" y="141"/>
                </a:lnTo>
                <a:lnTo>
                  <a:pt x="31" y="122"/>
                </a:lnTo>
                <a:lnTo>
                  <a:pt x="33" y="119"/>
                </a:lnTo>
                <a:lnTo>
                  <a:pt x="35" y="115"/>
                </a:lnTo>
                <a:lnTo>
                  <a:pt x="42" y="117"/>
                </a:lnTo>
                <a:lnTo>
                  <a:pt x="46" y="117"/>
                </a:lnTo>
                <a:lnTo>
                  <a:pt x="55" y="124"/>
                </a:lnTo>
                <a:lnTo>
                  <a:pt x="77" y="130"/>
                </a:lnTo>
                <a:lnTo>
                  <a:pt x="79" y="130"/>
                </a:lnTo>
                <a:lnTo>
                  <a:pt x="79" y="126"/>
                </a:lnTo>
                <a:lnTo>
                  <a:pt x="77" y="124"/>
                </a:lnTo>
                <a:lnTo>
                  <a:pt x="59" y="119"/>
                </a:lnTo>
                <a:lnTo>
                  <a:pt x="38" y="111"/>
                </a:lnTo>
                <a:lnTo>
                  <a:pt x="37" y="110"/>
                </a:lnTo>
                <a:lnTo>
                  <a:pt x="33" y="104"/>
                </a:lnTo>
                <a:lnTo>
                  <a:pt x="35" y="102"/>
                </a:lnTo>
                <a:lnTo>
                  <a:pt x="49" y="99"/>
                </a:lnTo>
                <a:lnTo>
                  <a:pt x="60" y="99"/>
                </a:lnTo>
                <a:lnTo>
                  <a:pt x="60" y="95"/>
                </a:lnTo>
                <a:lnTo>
                  <a:pt x="38" y="99"/>
                </a:lnTo>
                <a:lnTo>
                  <a:pt x="37" y="97"/>
                </a:lnTo>
                <a:lnTo>
                  <a:pt x="37" y="93"/>
                </a:lnTo>
                <a:lnTo>
                  <a:pt x="37" y="86"/>
                </a:lnTo>
                <a:lnTo>
                  <a:pt x="44" y="80"/>
                </a:lnTo>
                <a:lnTo>
                  <a:pt x="59" y="79"/>
                </a:lnTo>
                <a:lnTo>
                  <a:pt x="71" y="80"/>
                </a:lnTo>
                <a:lnTo>
                  <a:pt x="73" y="80"/>
                </a:lnTo>
                <a:lnTo>
                  <a:pt x="73" y="82"/>
                </a:lnTo>
                <a:lnTo>
                  <a:pt x="79" y="90"/>
                </a:lnTo>
                <a:lnTo>
                  <a:pt x="80" y="91"/>
                </a:lnTo>
                <a:lnTo>
                  <a:pt x="84" y="93"/>
                </a:lnTo>
                <a:lnTo>
                  <a:pt x="91" y="97"/>
                </a:lnTo>
                <a:lnTo>
                  <a:pt x="93" y="102"/>
                </a:lnTo>
                <a:lnTo>
                  <a:pt x="95" y="99"/>
                </a:lnTo>
                <a:lnTo>
                  <a:pt x="90" y="91"/>
                </a:lnTo>
                <a:lnTo>
                  <a:pt x="88" y="90"/>
                </a:lnTo>
                <a:lnTo>
                  <a:pt x="82" y="90"/>
                </a:lnTo>
                <a:lnTo>
                  <a:pt x="80" y="90"/>
                </a:lnTo>
                <a:lnTo>
                  <a:pt x="79" y="84"/>
                </a:lnTo>
                <a:lnTo>
                  <a:pt x="80" y="79"/>
                </a:lnTo>
                <a:lnTo>
                  <a:pt x="79" y="77"/>
                </a:lnTo>
                <a:lnTo>
                  <a:pt x="75" y="75"/>
                </a:lnTo>
                <a:lnTo>
                  <a:pt x="68" y="77"/>
                </a:lnTo>
                <a:lnTo>
                  <a:pt x="57" y="73"/>
                </a:lnTo>
                <a:lnTo>
                  <a:pt x="55" y="66"/>
                </a:lnTo>
                <a:lnTo>
                  <a:pt x="59" y="53"/>
                </a:lnTo>
                <a:lnTo>
                  <a:pt x="60" y="51"/>
                </a:lnTo>
                <a:lnTo>
                  <a:pt x="64" y="51"/>
                </a:lnTo>
                <a:lnTo>
                  <a:pt x="66" y="53"/>
                </a:lnTo>
                <a:lnTo>
                  <a:pt x="68" y="57"/>
                </a:lnTo>
                <a:lnTo>
                  <a:pt x="71" y="58"/>
                </a:lnTo>
                <a:lnTo>
                  <a:pt x="75" y="60"/>
                </a:lnTo>
                <a:lnTo>
                  <a:pt x="82" y="60"/>
                </a:lnTo>
                <a:lnTo>
                  <a:pt x="80" y="58"/>
                </a:lnTo>
                <a:lnTo>
                  <a:pt x="73" y="57"/>
                </a:lnTo>
                <a:lnTo>
                  <a:pt x="68" y="51"/>
                </a:lnTo>
                <a:lnTo>
                  <a:pt x="64" y="35"/>
                </a:lnTo>
                <a:lnTo>
                  <a:pt x="66" y="33"/>
                </a:lnTo>
                <a:lnTo>
                  <a:pt x="71" y="29"/>
                </a:lnTo>
                <a:lnTo>
                  <a:pt x="77" y="29"/>
                </a:lnTo>
                <a:lnTo>
                  <a:pt x="82" y="33"/>
                </a:lnTo>
                <a:lnTo>
                  <a:pt x="84" y="31"/>
                </a:lnTo>
                <a:lnTo>
                  <a:pt x="84" y="29"/>
                </a:lnTo>
                <a:lnTo>
                  <a:pt x="75" y="27"/>
                </a:lnTo>
                <a:lnTo>
                  <a:pt x="62" y="29"/>
                </a:lnTo>
                <a:lnTo>
                  <a:pt x="62" y="31"/>
                </a:lnTo>
                <a:lnTo>
                  <a:pt x="62" y="33"/>
                </a:lnTo>
                <a:lnTo>
                  <a:pt x="64" y="40"/>
                </a:lnTo>
                <a:lnTo>
                  <a:pt x="57" y="49"/>
                </a:lnTo>
                <a:lnTo>
                  <a:pt x="53" y="57"/>
                </a:lnTo>
                <a:lnTo>
                  <a:pt x="49" y="75"/>
                </a:lnTo>
                <a:lnTo>
                  <a:pt x="48" y="77"/>
                </a:lnTo>
                <a:lnTo>
                  <a:pt x="46" y="79"/>
                </a:lnTo>
                <a:lnTo>
                  <a:pt x="42" y="77"/>
                </a:lnTo>
                <a:lnTo>
                  <a:pt x="31" y="68"/>
                </a:lnTo>
                <a:lnTo>
                  <a:pt x="29" y="58"/>
                </a:lnTo>
                <a:lnTo>
                  <a:pt x="29" y="24"/>
                </a:lnTo>
                <a:lnTo>
                  <a:pt x="26" y="16"/>
                </a:lnTo>
                <a:lnTo>
                  <a:pt x="24" y="11"/>
                </a:lnTo>
                <a:lnTo>
                  <a:pt x="24" y="9"/>
                </a:lnTo>
                <a:lnTo>
                  <a:pt x="31" y="0"/>
                </a:lnTo>
                <a:lnTo>
                  <a:pt x="35" y="2"/>
                </a:lnTo>
                <a:lnTo>
                  <a:pt x="38" y="2"/>
                </a:lnTo>
                <a:lnTo>
                  <a:pt x="48" y="0"/>
                </a:lnTo>
                <a:lnTo>
                  <a:pt x="55" y="0"/>
                </a:lnTo>
                <a:lnTo>
                  <a:pt x="60" y="2"/>
                </a:lnTo>
                <a:lnTo>
                  <a:pt x="148" y="51"/>
                </a:lnTo>
                <a:lnTo>
                  <a:pt x="154" y="51"/>
                </a:lnTo>
                <a:lnTo>
                  <a:pt x="155" y="53"/>
                </a:lnTo>
                <a:lnTo>
                  <a:pt x="150" y="55"/>
                </a:lnTo>
                <a:lnTo>
                  <a:pt x="119" y="57"/>
                </a:lnTo>
                <a:lnTo>
                  <a:pt x="108" y="77"/>
                </a:lnTo>
                <a:lnTo>
                  <a:pt x="108" y="80"/>
                </a:lnTo>
                <a:lnTo>
                  <a:pt x="113" y="84"/>
                </a:lnTo>
                <a:lnTo>
                  <a:pt x="121" y="102"/>
                </a:lnTo>
                <a:lnTo>
                  <a:pt x="112" y="110"/>
                </a:lnTo>
                <a:lnTo>
                  <a:pt x="110" y="115"/>
                </a:lnTo>
                <a:lnTo>
                  <a:pt x="110" y="117"/>
                </a:lnTo>
                <a:lnTo>
                  <a:pt x="117" y="121"/>
                </a:lnTo>
                <a:lnTo>
                  <a:pt x="119" y="122"/>
                </a:lnTo>
                <a:lnTo>
                  <a:pt x="119" y="126"/>
                </a:lnTo>
                <a:lnTo>
                  <a:pt x="115" y="128"/>
                </a:lnTo>
                <a:lnTo>
                  <a:pt x="113" y="132"/>
                </a:lnTo>
                <a:lnTo>
                  <a:pt x="112" y="135"/>
                </a:lnTo>
                <a:lnTo>
                  <a:pt x="130" y="146"/>
                </a:lnTo>
                <a:lnTo>
                  <a:pt x="132" y="146"/>
                </a:lnTo>
                <a:lnTo>
                  <a:pt x="137" y="154"/>
                </a:lnTo>
                <a:lnTo>
                  <a:pt x="137" y="157"/>
                </a:lnTo>
                <a:lnTo>
                  <a:pt x="139" y="172"/>
                </a:lnTo>
                <a:lnTo>
                  <a:pt x="141" y="179"/>
                </a:lnTo>
                <a:lnTo>
                  <a:pt x="146" y="194"/>
                </a:lnTo>
                <a:lnTo>
                  <a:pt x="150" y="196"/>
                </a:lnTo>
                <a:lnTo>
                  <a:pt x="154" y="197"/>
                </a:lnTo>
                <a:lnTo>
                  <a:pt x="161" y="194"/>
                </a:lnTo>
                <a:lnTo>
                  <a:pt x="172" y="186"/>
                </a:lnTo>
                <a:lnTo>
                  <a:pt x="186" y="183"/>
                </a:lnTo>
                <a:lnTo>
                  <a:pt x="190" y="183"/>
                </a:lnTo>
                <a:lnTo>
                  <a:pt x="196" y="186"/>
                </a:lnTo>
                <a:lnTo>
                  <a:pt x="199" y="186"/>
                </a:lnTo>
                <a:lnTo>
                  <a:pt x="203" y="186"/>
                </a:lnTo>
                <a:lnTo>
                  <a:pt x="208" y="181"/>
                </a:lnTo>
                <a:lnTo>
                  <a:pt x="212" y="181"/>
                </a:lnTo>
                <a:lnTo>
                  <a:pt x="223" y="181"/>
                </a:lnTo>
                <a:lnTo>
                  <a:pt x="230" y="185"/>
                </a:lnTo>
                <a:lnTo>
                  <a:pt x="230" y="186"/>
                </a:lnTo>
                <a:lnTo>
                  <a:pt x="227" y="192"/>
                </a:lnTo>
                <a:lnTo>
                  <a:pt x="227" y="194"/>
                </a:lnTo>
                <a:lnTo>
                  <a:pt x="232" y="199"/>
                </a:lnTo>
                <a:lnTo>
                  <a:pt x="236" y="205"/>
                </a:lnTo>
                <a:lnTo>
                  <a:pt x="234" y="221"/>
                </a:lnTo>
                <a:lnTo>
                  <a:pt x="232" y="221"/>
                </a:lnTo>
                <a:lnTo>
                  <a:pt x="227" y="223"/>
                </a:lnTo>
                <a:lnTo>
                  <a:pt x="221" y="228"/>
                </a:lnTo>
                <a:lnTo>
                  <a:pt x="221" y="230"/>
                </a:lnTo>
                <a:lnTo>
                  <a:pt x="223" y="234"/>
                </a:lnTo>
                <a:lnTo>
                  <a:pt x="234" y="239"/>
                </a:lnTo>
                <a:lnTo>
                  <a:pt x="236" y="241"/>
                </a:lnTo>
                <a:lnTo>
                  <a:pt x="230" y="249"/>
                </a:lnTo>
                <a:lnTo>
                  <a:pt x="229" y="249"/>
                </a:lnTo>
                <a:lnTo>
                  <a:pt x="230" y="256"/>
                </a:lnTo>
                <a:lnTo>
                  <a:pt x="227" y="265"/>
                </a:lnTo>
                <a:lnTo>
                  <a:pt x="221" y="269"/>
                </a:lnTo>
                <a:lnTo>
                  <a:pt x="232" y="285"/>
                </a:lnTo>
                <a:lnTo>
                  <a:pt x="240" y="287"/>
                </a:lnTo>
                <a:lnTo>
                  <a:pt x="247" y="291"/>
                </a:lnTo>
                <a:lnTo>
                  <a:pt x="250" y="292"/>
                </a:lnTo>
                <a:lnTo>
                  <a:pt x="263" y="302"/>
                </a:lnTo>
                <a:lnTo>
                  <a:pt x="265" y="303"/>
                </a:lnTo>
                <a:lnTo>
                  <a:pt x="265" y="307"/>
                </a:lnTo>
                <a:lnTo>
                  <a:pt x="269" y="314"/>
                </a:lnTo>
                <a:lnTo>
                  <a:pt x="452" y="314"/>
                </a:lnTo>
                <a:lnTo>
                  <a:pt x="503" y="329"/>
                </a:lnTo>
                <a:lnTo>
                  <a:pt x="525" y="329"/>
                </a:lnTo>
                <a:lnTo>
                  <a:pt x="548" y="335"/>
                </a:lnTo>
                <a:lnTo>
                  <a:pt x="565" y="342"/>
                </a:lnTo>
                <a:lnTo>
                  <a:pt x="589" y="344"/>
                </a:lnTo>
                <a:lnTo>
                  <a:pt x="602" y="345"/>
                </a:lnTo>
                <a:lnTo>
                  <a:pt x="602" y="351"/>
                </a:lnTo>
                <a:lnTo>
                  <a:pt x="598" y="347"/>
                </a:lnTo>
                <a:lnTo>
                  <a:pt x="596" y="345"/>
                </a:lnTo>
                <a:lnTo>
                  <a:pt x="554" y="344"/>
                </a:lnTo>
                <a:lnTo>
                  <a:pt x="550" y="342"/>
                </a:lnTo>
                <a:lnTo>
                  <a:pt x="541" y="338"/>
                </a:lnTo>
                <a:lnTo>
                  <a:pt x="534" y="335"/>
                </a:lnTo>
                <a:lnTo>
                  <a:pt x="523" y="335"/>
                </a:lnTo>
                <a:lnTo>
                  <a:pt x="503" y="340"/>
                </a:lnTo>
                <a:lnTo>
                  <a:pt x="501" y="344"/>
                </a:lnTo>
                <a:lnTo>
                  <a:pt x="501" y="353"/>
                </a:lnTo>
                <a:lnTo>
                  <a:pt x="494" y="358"/>
                </a:lnTo>
                <a:lnTo>
                  <a:pt x="486" y="364"/>
                </a:lnTo>
                <a:lnTo>
                  <a:pt x="483" y="366"/>
                </a:lnTo>
                <a:lnTo>
                  <a:pt x="474" y="366"/>
                </a:lnTo>
                <a:lnTo>
                  <a:pt x="470" y="362"/>
                </a:lnTo>
                <a:lnTo>
                  <a:pt x="461" y="364"/>
                </a:lnTo>
                <a:lnTo>
                  <a:pt x="435" y="371"/>
                </a:lnTo>
                <a:lnTo>
                  <a:pt x="404" y="382"/>
                </a:lnTo>
                <a:lnTo>
                  <a:pt x="400" y="382"/>
                </a:lnTo>
                <a:lnTo>
                  <a:pt x="373" y="386"/>
                </a:lnTo>
                <a:lnTo>
                  <a:pt x="371" y="398"/>
                </a:lnTo>
                <a:lnTo>
                  <a:pt x="371" y="402"/>
                </a:lnTo>
                <a:lnTo>
                  <a:pt x="373" y="402"/>
                </a:lnTo>
                <a:lnTo>
                  <a:pt x="375" y="404"/>
                </a:lnTo>
                <a:lnTo>
                  <a:pt x="373" y="409"/>
                </a:lnTo>
                <a:lnTo>
                  <a:pt x="366" y="424"/>
                </a:lnTo>
                <a:lnTo>
                  <a:pt x="362" y="428"/>
                </a:lnTo>
                <a:lnTo>
                  <a:pt x="360" y="430"/>
                </a:lnTo>
                <a:lnTo>
                  <a:pt x="357" y="448"/>
                </a:lnTo>
                <a:lnTo>
                  <a:pt x="357" y="453"/>
                </a:lnTo>
                <a:lnTo>
                  <a:pt x="360" y="462"/>
                </a:lnTo>
                <a:lnTo>
                  <a:pt x="362" y="468"/>
                </a:lnTo>
                <a:lnTo>
                  <a:pt x="358" y="484"/>
                </a:lnTo>
                <a:lnTo>
                  <a:pt x="357" y="486"/>
                </a:lnTo>
                <a:lnTo>
                  <a:pt x="351" y="490"/>
                </a:lnTo>
                <a:lnTo>
                  <a:pt x="329" y="495"/>
                </a:lnTo>
                <a:lnTo>
                  <a:pt x="311" y="492"/>
                </a:lnTo>
                <a:lnTo>
                  <a:pt x="289" y="490"/>
                </a:lnTo>
                <a:lnTo>
                  <a:pt x="274" y="483"/>
                </a:lnTo>
                <a:lnTo>
                  <a:pt x="254" y="479"/>
                </a:lnTo>
                <a:lnTo>
                  <a:pt x="249" y="477"/>
                </a:lnTo>
                <a:lnTo>
                  <a:pt x="232" y="466"/>
                </a:lnTo>
                <a:lnTo>
                  <a:pt x="219" y="455"/>
                </a:lnTo>
                <a:lnTo>
                  <a:pt x="216" y="450"/>
                </a:lnTo>
                <a:lnTo>
                  <a:pt x="219" y="442"/>
                </a:lnTo>
                <a:lnTo>
                  <a:pt x="232" y="435"/>
                </a:lnTo>
                <a:lnTo>
                  <a:pt x="249" y="435"/>
                </a:lnTo>
                <a:lnTo>
                  <a:pt x="252" y="441"/>
                </a:lnTo>
                <a:lnTo>
                  <a:pt x="252" y="446"/>
                </a:lnTo>
                <a:lnTo>
                  <a:pt x="250" y="448"/>
                </a:lnTo>
                <a:lnTo>
                  <a:pt x="243" y="451"/>
                </a:lnTo>
                <a:lnTo>
                  <a:pt x="238" y="453"/>
                </a:lnTo>
                <a:lnTo>
                  <a:pt x="240" y="453"/>
                </a:lnTo>
                <a:lnTo>
                  <a:pt x="249" y="451"/>
                </a:lnTo>
                <a:lnTo>
                  <a:pt x="260" y="448"/>
                </a:lnTo>
                <a:lnTo>
                  <a:pt x="258" y="437"/>
                </a:lnTo>
                <a:lnTo>
                  <a:pt x="258" y="435"/>
                </a:lnTo>
                <a:lnTo>
                  <a:pt x="260" y="433"/>
                </a:lnTo>
                <a:lnTo>
                  <a:pt x="271" y="431"/>
                </a:lnTo>
                <a:lnTo>
                  <a:pt x="274" y="433"/>
                </a:lnTo>
                <a:lnTo>
                  <a:pt x="276" y="435"/>
                </a:lnTo>
                <a:lnTo>
                  <a:pt x="280" y="451"/>
                </a:lnTo>
                <a:lnTo>
                  <a:pt x="280" y="453"/>
                </a:lnTo>
                <a:lnTo>
                  <a:pt x="274" y="457"/>
                </a:lnTo>
                <a:lnTo>
                  <a:pt x="260" y="462"/>
                </a:lnTo>
                <a:lnTo>
                  <a:pt x="258" y="464"/>
                </a:lnTo>
                <a:lnTo>
                  <a:pt x="260" y="466"/>
                </a:lnTo>
                <a:lnTo>
                  <a:pt x="278" y="461"/>
                </a:lnTo>
                <a:lnTo>
                  <a:pt x="283" y="455"/>
                </a:lnTo>
                <a:lnTo>
                  <a:pt x="283" y="450"/>
                </a:lnTo>
                <a:lnTo>
                  <a:pt x="282" y="444"/>
                </a:lnTo>
                <a:lnTo>
                  <a:pt x="282" y="439"/>
                </a:lnTo>
                <a:lnTo>
                  <a:pt x="283" y="431"/>
                </a:lnTo>
                <a:lnTo>
                  <a:pt x="309" y="424"/>
                </a:lnTo>
                <a:lnTo>
                  <a:pt x="316" y="424"/>
                </a:lnTo>
                <a:lnTo>
                  <a:pt x="322" y="422"/>
                </a:lnTo>
                <a:lnTo>
                  <a:pt x="325" y="420"/>
                </a:lnTo>
                <a:lnTo>
                  <a:pt x="344" y="400"/>
                </a:lnTo>
                <a:lnTo>
                  <a:pt x="344" y="398"/>
                </a:lnTo>
                <a:lnTo>
                  <a:pt x="340" y="393"/>
                </a:lnTo>
                <a:lnTo>
                  <a:pt x="331" y="391"/>
                </a:lnTo>
                <a:lnTo>
                  <a:pt x="322" y="391"/>
                </a:lnTo>
                <a:lnTo>
                  <a:pt x="298" y="398"/>
                </a:lnTo>
                <a:lnTo>
                  <a:pt x="278" y="408"/>
                </a:lnTo>
                <a:lnTo>
                  <a:pt x="271" y="411"/>
                </a:lnTo>
                <a:lnTo>
                  <a:pt x="269" y="411"/>
                </a:lnTo>
                <a:lnTo>
                  <a:pt x="267" y="415"/>
                </a:lnTo>
                <a:lnTo>
                  <a:pt x="258" y="422"/>
                </a:lnTo>
                <a:lnTo>
                  <a:pt x="252" y="424"/>
                </a:lnTo>
                <a:lnTo>
                  <a:pt x="249" y="424"/>
                </a:lnTo>
                <a:lnTo>
                  <a:pt x="245" y="422"/>
                </a:lnTo>
                <a:lnTo>
                  <a:pt x="238" y="415"/>
                </a:lnTo>
                <a:lnTo>
                  <a:pt x="230" y="413"/>
                </a:lnTo>
                <a:lnTo>
                  <a:pt x="210" y="417"/>
                </a:lnTo>
                <a:lnTo>
                  <a:pt x="207" y="419"/>
                </a:lnTo>
                <a:lnTo>
                  <a:pt x="205" y="419"/>
                </a:lnTo>
                <a:lnTo>
                  <a:pt x="207" y="419"/>
                </a:lnTo>
                <a:lnTo>
                  <a:pt x="214" y="419"/>
                </a:lnTo>
                <a:lnTo>
                  <a:pt x="225" y="419"/>
                </a:lnTo>
                <a:lnTo>
                  <a:pt x="240" y="426"/>
                </a:lnTo>
                <a:lnTo>
                  <a:pt x="241" y="428"/>
                </a:lnTo>
                <a:lnTo>
                  <a:pt x="241" y="430"/>
                </a:lnTo>
                <a:lnTo>
                  <a:pt x="240" y="431"/>
                </a:lnTo>
                <a:lnTo>
                  <a:pt x="227" y="433"/>
                </a:lnTo>
                <a:lnTo>
                  <a:pt x="223" y="431"/>
                </a:lnTo>
                <a:lnTo>
                  <a:pt x="219" y="430"/>
                </a:lnTo>
                <a:lnTo>
                  <a:pt x="214" y="430"/>
                </a:lnTo>
                <a:lnTo>
                  <a:pt x="208" y="430"/>
                </a:lnTo>
                <a:lnTo>
                  <a:pt x="208" y="431"/>
                </a:lnTo>
                <a:lnTo>
                  <a:pt x="219" y="435"/>
                </a:lnTo>
                <a:lnTo>
                  <a:pt x="210" y="446"/>
                </a:lnTo>
                <a:lnTo>
                  <a:pt x="207" y="446"/>
                </a:lnTo>
                <a:lnTo>
                  <a:pt x="203" y="446"/>
                </a:lnTo>
                <a:lnTo>
                  <a:pt x="201" y="446"/>
                </a:lnTo>
                <a:lnTo>
                  <a:pt x="197" y="442"/>
                </a:lnTo>
                <a:lnTo>
                  <a:pt x="197" y="446"/>
                </a:lnTo>
                <a:lnTo>
                  <a:pt x="205" y="451"/>
                </a:lnTo>
                <a:lnTo>
                  <a:pt x="207" y="451"/>
                </a:lnTo>
                <a:lnTo>
                  <a:pt x="210" y="450"/>
                </a:lnTo>
                <a:lnTo>
                  <a:pt x="212" y="450"/>
                </a:lnTo>
                <a:lnTo>
                  <a:pt x="221" y="459"/>
                </a:lnTo>
                <a:lnTo>
                  <a:pt x="223" y="462"/>
                </a:lnTo>
                <a:lnTo>
                  <a:pt x="221" y="462"/>
                </a:lnTo>
                <a:lnTo>
                  <a:pt x="210" y="464"/>
                </a:lnTo>
                <a:lnTo>
                  <a:pt x="208" y="462"/>
                </a:lnTo>
                <a:lnTo>
                  <a:pt x="190" y="453"/>
                </a:lnTo>
                <a:lnTo>
                  <a:pt x="170" y="446"/>
                </a:lnTo>
                <a:lnTo>
                  <a:pt x="166" y="442"/>
                </a:lnTo>
                <a:lnTo>
                  <a:pt x="157" y="439"/>
                </a:lnTo>
                <a:lnTo>
                  <a:pt x="150" y="437"/>
                </a:lnTo>
                <a:lnTo>
                  <a:pt x="143" y="433"/>
                </a:lnTo>
                <a:lnTo>
                  <a:pt x="135" y="426"/>
                </a:lnTo>
                <a:lnTo>
                  <a:pt x="155" y="428"/>
                </a:lnTo>
                <a:lnTo>
                  <a:pt x="163" y="426"/>
                </a:lnTo>
                <a:lnTo>
                  <a:pt x="168" y="426"/>
                </a:lnTo>
                <a:lnTo>
                  <a:pt x="177" y="431"/>
                </a:lnTo>
                <a:lnTo>
                  <a:pt x="185" y="439"/>
                </a:lnTo>
                <a:lnTo>
                  <a:pt x="186" y="439"/>
                </a:lnTo>
                <a:lnTo>
                  <a:pt x="190" y="439"/>
                </a:lnTo>
                <a:lnTo>
                  <a:pt x="192" y="439"/>
                </a:lnTo>
                <a:lnTo>
                  <a:pt x="194" y="435"/>
                </a:lnTo>
                <a:lnTo>
                  <a:pt x="183" y="430"/>
                </a:lnTo>
                <a:lnTo>
                  <a:pt x="183" y="428"/>
                </a:lnTo>
                <a:lnTo>
                  <a:pt x="186" y="424"/>
                </a:lnTo>
                <a:lnTo>
                  <a:pt x="196" y="426"/>
                </a:lnTo>
                <a:lnTo>
                  <a:pt x="197" y="426"/>
                </a:lnTo>
                <a:lnTo>
                  <a:pt x="192" y="424"/>
                </a:lnTo>
                <a:lnTo>
                  <a:pt x="185" y="422"/>
                </a:lnTo>
                <a:lnTo>
                  <a:pt x="183" y="422"/>
                </a:lnTo>
                <a:lnTo>
                  <a:pt x="179" y="426"/>
                </a:lnTo>
                <a:lnTo>
                  <a:pt x="177" y="426"/>
                </a:lnTo>
                <a:lnTo>
                  <a:pt x="170" y="420"/>
                </a:lnTo>
                <a:lnTo>
                  <a:pt x="172" y="419"/>
                </a:lnTo>
                <a:lnTo>
                  <a:pt x="176" y="413"/>
                </a:lnTo>
                <a:lnTo>
                  <a:pt x="174" y="413"/>
                </a:lnTo>
                <a:lnTo>
                  <a:pt x="172" y="411"/>
                </a:lnTo>
                <a:lnTo>
                  <a:pt x="168" y="406"/>
                </a:lnTo>
                <a:lnTo>
                  <a:pt x="168" y="397"/>
                </a:lnTo>
                <a:lnTo>
                  <a:pt x="172" y="395"/>
                </a:lnTo>
                <a:lnTo>
                  <a:pt x="190" y="386"/>
                </a:lnTo>
                <a:lnTo>
                  <a:pt x="203" y="391"/>
                </a:lnTo>
                <a:lnTo>
                  <a:pt x="214" y="393"/>
                </a:lnTo>
                <a:lnTo>
                  <a:pt x="219" y="393"/>
                </a:lnTo>
                <a:lnTo>
                  <a:pt x="230" y="388"/>
                </a:lnTo>
                <a:lnTo>
                  <a:pt x="241" y="378"/>
                </a:lnTo>
                <a:lnTo>
                  <a:pt x="243" y="377"/>
                </a:lnTo>
                <a:lnTo>
                  <a:pt x="245" y="377"/>
                </a:lnTo>
                <a:lnTo>
                  <a:pt x="260" y="375"/>
                </a:lnTo>
                <a:lnTo>
                  <a:pt x="269" y="380"/>
                </a:lnTo>
                <a:lnTo>
                  <a:pt x="280" y="382"/>
                </a:lnTo>
                <a:lnTo>
                  <a:pt x="293" y="380"/>
                </a:lnTo>
                <a:lnTo>
                  <a:pt x="311" y="377"/>
                </a:lnTo>
                <a:lnTo>
                  <a:pt x="305" y="369"/>
                </a:lnTo>
                <a:lnTo>
                  <a:pt x="304" y="369"/>
                </a:lnTo>
                <a:lnTo>
                  <a:pt x="300" y="367"/>
                </a:lnTo>
                <a:lnTo>
                  <a:pt x="294" y="369"/>
                </a:lnTo>
                <a:lnTo>
                  <a:pt x="267" y="366"/>
                </a:lnTo>
                <a:lnTo>
                  <a:pt x="247" y="364"/>
                </a:lnTo>
                <a:lnTo>
                  <a:pt x="232" y="364"/>
                </a:lnTo>
                <a:lnTo>
                  <a:pt x="229" y="366"/>
                </a:lnTo>
                <a:lnTo>
                  <a:pt x="219" y="378"/>
                </a:lnTo>
                <a:lnTo>
                  <a:pt x="207" y="371"/>
                </a:lnTo>
                <a:lnTo>
                  <a:pt x="214" y="367"/>
                </a:lnTo>
                <a:lnTo>
                  <a:pt x="221" y="366"/>
                </a:lnTo>
                <a:lnTo>
                  <a:pt x="223" y="364"/>
                </a:lnTo>
                <a:lnTo>
                  <a:pt x="219" y="364"/>
                </a:lnTo>
                <a:lnTo>
                  <a:pt x="210" y="366"/>
                </a:lnTo>
                <a:lnTo>
                  <a:pt x="207" y="367"/>
                </a:lnTo>
                <a:lnTo>
                  <a:pt x="183" y="367"/>
                </a:lnTo>
                <a:lnTo>
                  <a:pt x="174" y="375"/>
                </a:lnTo>
                <a:lnTo>
                  <a:pt x="176" y="377"/>
                </a:lnTo>
                <a:lnTo>
                  <a:pt x="181" y="373"/>
                </a:lnTo>
                <a:lnTo>
                  <a:pt x="192" y="375"/>
                </a:lnTo>
                <a:lnTo>
                  <a:pt x="194" y="377"/>
                </a:lnTo>
                <a:lnTo>
                  <a:pt x="194" y="378"/>
                </a:lnTo>
                <a:lnTo>
                  <a:pt x="186" y="386"/>
                </a:lnTo>
                <a:lnTo>
                  <a:pt x="183" y="388"/>
                </a:lnTo>
                <a:lnTo>
                  <a:pt x="176" y="391"/>
                </a:lnTo>
                <a:lnTo>
                  <a:pt x="168" y="391"/>
                </a:lnTo>
                <a:lnTo>
                  <a:pt x="165" y="395"/>
                </a:lnTo>
                <a:lnTo>
                  <a:pt x="163" y="397"/>
                </a:lnTo>
                <a:lnTo>
                  <a:pt x="168" y="409"/>
                </a:lnTo>
                <a:lnTo>
                  <a:pt x="168" y="413"/>
                </a:lnTo>
                <a:lnTo>
                  <a:pt x="165" y="417"/>
                </a:lnTo>
                <a:lnTo>
                  <a:pt x="155" y="419"/>
                </a:lnTo>
                <a:lnTo>
                  <a:pt x="152" y="420"/>
                </a:lnTo>
                <a:lnTo>
                  <a:pt x="144" y="420"/>
                </a:lnTo>
                <a:lnTo>
                  <a:pt x="132" y="419"/>
                </a:lnTo>
                <a:lnTo>
                  <a:pt x="121" y="413"/>
                </a:lnTo>
                <a:lnTo>
                  <a:pt x="119" y="411"/>
                </a:lnTo>
                <a:lnTo>
                  <a:pt x="119" y="409"/>
                </a:lnTo>
                <a:lnTo>
                  <a:pt x="133" y="406"/>
                </a:lnTo>
                <a:lnTo>
                  <a:pt x="141" y="400"/>
                </a:lnTo>
                <a:lnTo>
                  <a:pt x="130" y="398"/>
                </a:lnTo>
                <a:lnTo>
                  <a:pt x="110" y="393"/>
                </a:lnTo>
                <a:lnTo>
                  <a:pt x="110" y="391"/>
                </a:lnTo>
                <a:lnTo>
                  <a:pt x="113" y="389"/>
                </a:lnTo>
                <a:lnTo>
                  <a:pt x="124" y="389"/>
                </a:lnTo>
                <a:lnTo>
                  <a:pt x="126" y="391"/>
                </a:lnTo>
                <a:lnTo>
                  <a:pt x="143" y="391"/>
                </a:lnTo>
                <a:lnTo>
                  <a:pt x="139" y="388"/>
                </a:lnTo>
                <a:lnTo>
                  <a:pt x="139" y="384"/>
                </a:lnTo>
                <a:lnTo>
                  <a:pt x="154" y="364"/>
                </a:lnTo>
                <a:lnTo>
                  <a:pt x="157" y="362"/>
                </a:lnTo>
                <a:lnTo>
                  <a:pt x="159" y="362"/>
                </a:lnTo>
                <a:lnTo>
                  <a:pt x="170" y="364"/>
                </a:lnTo>
                <a:lnTo>
                  <a:pt x="174" y="366"/>
                </a:lnTo>
                <a:lnTo>
                  <a:pt x="174" y="364"/>
                </a:lnTo>
                <a:lnTo>
                  <a:pt x="172" y="362"/>
                </a:lnTo>
                <a:lnTo>
                  <a:pt x="159" y="360"/>
                </a:lnTo>
                <a:lnTo>
                  <a:pt x="148" y="362"/>
                </a:lnTo>
                <a:lnTo>
                  <a:pt x="146" y="364"/>
                </a:lnTo>
                <a:lnTo>
                  <a:pt x="148" y="369"/>
                </a:lnTo>
                <a:lnTo>
                  <a:pt x="137" y="380"/>
                </a:lnTo>
                <a:lnTo>
                  <a:pt x="135" y="380"/>
                </a:lnTo>
                <a:lnTo>
                  <a:pt x="132" y="378"/>
                </a:lnTo>
                <a:lnTo>
                  <a:pt x="130" y="377"/>
                </a:lnTo>
                <a:lnTo>
                  <a:pt x="132" y="375"/>
                </a:lnTo>
                <a:lnTo>
                  <a:pt x="132" y="373"/>
                </a:lnTo>
                <a:lnTo>
                  <a:pt x="128" y="371"/>
                </a:lnTo>
                <a:lnTo>
                  <a:pt x="126" y="371"/>
                </a:lnTo>
                <a:lnTo>
                  <a:pt x="110" y="380"/>
                </a:lnTo>
                <a:lnTo>
                  <a:pt x="104" y="386"/>
                </a:lnTo>
                <a:lnTo>
                  <a:pt x="97" y="384"/>
                </a:lnTo>
                <a:lnTo>
                  <a:pt x="97" y="373"/>
                </a:lnTo>
                <a:lnTo>
                  <a:pt x="102" y="369"/>
                </a:lnTo>
                <a:lnTo>
                  <a:pt x="106" y="367"/>
                </a:lnTo>
                <a:lnTo>
                  <a:pt x="110" y="369"/>
                </a:lnTo>
                <a:lnTo>
                  <a:pt x="110" y="367"/>
                </a:lnTo>
                <a:lnTo>
                  <a:pt x="112" y="367"/>
                </a:lnTo>
                <a:lnTo>
                  <a:pt x="110" y="366"/>
                </a:lnTo>
                <a:lnTo>
                  <a:pt x="106" y="366"/>
                </a:lnTo>
                <a:lnTo>
                  <a:pt x="99" y="355"/>
                </a:lnTo>
                <a:lnTo>
                  <a:pt x="99" y="353"/>
                </a:lnTo>
                <a:lnTo>
                  <a:pt x="101" y="351"/>
                </a:lnTo>
                <a:lnTo>
                  <a:pt x="102" y="351"/>
                </a:lnTo>
                <a:lnTo>
                  <a:pt x="106" y="353"/>
                </a:lnTo>
                <a:lnTo>
                  <a:pt x="108" y="351"/>
                </a:lnTo>
                <a:lnTo>
                  <a:pt x="110" y="347"/>
                </a:lnTo>
                <a:lnTo>
                  <a:pt x="108" y="338"/>
                </a:lnTo>
                <a:lnTo>
                  <a:pt x="93" y="324"/>
                </a:lnTo>
                <a:lnTo>
                  <a:pt x="91" y="322"/>
                </a:lnTo>
                <a:lnTo>
                  <a:pt x="93" y="320"/>
                </a:lnTo>
                <a:lnTo>
                  <a:pt x="95" y="316"/>
                </a:lnTo>
                <a:lnTo>
                  <a:pt x="97" y="318"/>
                </a:lnTo>
                <a:lnTo>
                  <a:pt x="101" y="324"/>
                </a:lnTo>
                <a:lnTo>
                  <a:pt x="110" y="333"/>
                </a:lnTo>
                <a:lnTo>
                  <a:pt x="115" y="333"/>
                </a:lnTo>
                <a:lnTo>
                  <a:pt x="119" y="331"/>
                </a:lnTo>
                <a:lnTo>
                  <a:pt x="132" y="336"/>
                </a:lnTo>
                <a:lnTo>
                  <a:pt x="141" y="335"/>
                </a:lnTo>
                <a:lnTo>
                  <a:pt x="143" y="329"/>
                </a:lnTo>
                <a:lnTo>
                  <a:pt x="148" y="325"/>
                </a:lnTo>
                <a:lnTo>
                  <a:pt x="161" y="322"/>
                </a:lnTo>
                <a:lnTo>
                  <a:pt x="165" y="322"/>
                </a:lnTo>
                <a:lnTo>
                  <a:pt x="166" y="322"/>
                </a:lnTo>
                <a:lnTo>
                  <a:pt x="165" y="333"/>
                </a:lnTo>
                <a:lnTo>
                  <a:pt x="172" y="338"/>
                </a:lnTo>
                <a:lnTo>
                  <a:pt x="177" y="340"/>
                </a:lnTo>
                <a:lnTo>
                  <a:pt x="179" y="338"/>
                </a:lnTo>
                <a:lnTo>
                  <a:pt x="185" y="325"/>
                </a:lnTo>
                <a:lnTo>
                  <a:pt x="185" y="324"/>
                </a:lnTo>
                <a:lnTo>
                  <a:pt x="185" y="320"/>
                </a:lnTo>
                <a:lnTo>
                  <a:pt x="181" y="324"/>
                </a:lnTo>
                <a:lnTo>
                  <a:pt x="177" y="327"/>
                </a:lnTo>
                <a:lnTo>
                  <a:pt x="179" y="329"/>
                </a:lnTo>
                <a:lnTo>
                  <a:pt x="176" y="335"/>
                </a:lnTo>
                <a:lnTo>
                  <a:pt x="168" y="331"/>
                </a:lnTo>
                <a:lnTo>
                  <a:pt x="168" y="324"/>
                </a:lnTo>
                <a:lnTo>
                  <a:pt x="177" y="311"/>
                </a:lnTo>
                <a:lnTo>
                  <a:pt x="181" y="309"/>
                </a:lnTo>
                <a:lnTo>
                  <a:pt x="183" y="309"/>
                </a:lnTo>
                <a:lnTo>
                  <a:pt x="192" y="314"/>
                </a:lnTo>
                <a:lnTo>
                  <a:pt x="192" y="320"/>
                </a:lnTo>
                <a:lnTo>
                  <a:pt x="196" y="324"/>
                </a:lnTo>
                <a:lnTo>
                  <a:pt x="201" y="325"/>
                </a:lnTo>
                <a:lnTo>
                  <a:pt x="207" y="331"/>
                </a:lnTo>
                <a:lnTo>
                  <a:pt x="208" y="335"/>
                </a:lnTo>
                <a:lnTo>
                  <a:pt x="205" y="345"/>
                </a:lnTo>
                <a:lnTo>
                  <a:pt x="201" y="347"/>
                </a:lnTo>
                <a:lnTo>
                  <a:pt x="188" y="351"/>
                </a:lnTo>
                <a:lnTo>
                  <a:pt x="170" y="358"/>
                </a:lnTo>
                <a:lnTo>
                  <a:pt x="172" y="358"/>
                </a:lnTo>
                <a:lnTo>
                  <a:pt x="174" y="358"/>
                </a:lnTo>
                <a:lnTo>
                  <a:pt x="199" y="353"/>
                </a:lnTo>
                <a:lnTo>
                  <a:pt x="203" y="351"/>
                </a:lnTo>
                <a:lnTo>
                  <a:pt x="212" y="345"/>
                </a:lnTo>
                <a:lnTo>
                  <a:pt x="214" y="335"/>
                </a:lnTo>
                <a:lnTo>
                  <a:pt x="214" y="333"/>
                </a:lnTo>
                <a:lnTo>
                  <a:pt x="197" y="320"/>
                </a:lnTo>
                <a:lnTo>
                  <a:pt x="196" y="318"/>
                </a:lnTo>
                <a:lnTo>
                  <a:pt x="196" y="311"/>
                </a:lnTo>
                <a:lnTo>
                  <a:pt x="197" y="309"/>
                </a:lnTo>
                <a:lnTo>
                  <a:pt x="210" y="311"/>
                </a:lnTo>
                <a:lnTo>
                  <a:pt x="214" y="309"/>
                </a:lnTo>
                <a:lnTo>
                  <a:pt x="216" y="307"/>
                </a:lnTo>
                <a:lnTo>
                  <a:pt x="214" y="294"/>
                </a:lnTo>
                <a:lnTo>
                  <a:pt x="210" y="289"/>
                </a:lnTo>
                <a:lnTo>
                  <a:pt x="196" y="278"/>
                </a:lnTo>
                <a:lnTo>
                  <a:pt x="190" y="274"/>
                </a:lnTo>
                <a:lnTo>
                  <a:pt x="179" y="272"/>
                </a:lnTo>
                <a:lnTo>
                  <a:pt x="172" y="271"/>
                </a:lnTo>
                <a:lnTo>
                  <a:pt x="159" y="265"/>
                </a:lnTo>
                <a:lnTo>
                  <a:pt x="155" y="263"/>
                </a:lnTo>
                <a:lnTo>
                  <a:pt x="152" y="261"/>
                </a:lnTo>
                <a:lnTo>
                  <a:pt x="141" y="263"/>
                </a:lnTo>
                <a:lnTo>
                  <a:pt x="137" y="265"/>
                </a:lnTo>
                <a:lnTo>
                  <a:pt x="139" y="267"/>
                </a:lnTo>
                <a:lnTo>
                  <a:pt x="141" y="267"/>
                </a:lnTo>
                <a:lnTo>
                  <a:pt x="144" y="267"/>
                </a:lnTo>
                <a:lnTo>
                  <a:pt x="148" y="265"/>
                </a:lnTo>
                <a:lnTo>
                  <a:pt x="157" y="267"/>
                </a:lnTo>
                <a:lnTo>
                  <a:pt x="165" y="271"/>
                </a:lnTo>
                <a:lnTo>
                  <a:pt x="190" y="285"/>
                </a:lnTo>
                <a:lnTo>
                  <a:pt x="205" y="289"/>
                </a:lnTo>
                <a:lnTo>
                  <a:pt x="207" y="291"/>
                </a:lnTo>
                <a:lnTo>
                  <a:pt x="205" y="294"/>
                </a:lnTo>
                <a:lnTo>
                  <a:pt x="199" y="298"/>
                </a:lnTo>
                <a:lnTo>
                  <a:pt x="190" y="300"/>
                </a:lnTo>
                <a:lnTo>
                  <a:pt x="183" y="296"/>
                </a:lnTo>
                <a:lnTo>
                  <a:pt x="181" y="294"/>
                </a:lnTo>
                <a:lnTo>
                  <a:pt x="181" y="292"/>
                </a:lnTo>
                <a:lnTo>
                  <a:pt x="165" y="289"/>
                </a:lnTo>
                <a:lnTo>
                  <a:pt x="141" y="278"/>
                </a:lnTo>
                <a:lnTo>
                  <a:pt x="137" y="278"/>
                </a:lnTo>
                <a:lnTo>
                  <a:pt x="135" y="278"/>
                </a:lnTo>
                <a:lnTo>
                  <a:pt x="143" y="287"/>
                </a:lnTo>
                <a:lnTo>
                  <a:pt x="150" y="289"/>
                </a:lnTo>
                <a:lnTo>
                  <a:pt x="154" y="287"/>
                </a:lnTo>
                <a:lnTo>
                  <a:pt x="155" y="287"/>
                </a:lnTo>
                <a:lnTo>
                  <a:pt x="161" y="291"/>
                </a:lnTo>
                <a:lnTo>
                  <a:pt x="165" y="294"/>
                </a:lnTo>
                <a:lnTo>
                  <a:pt x="157" y="300"/>
                </a:lnTo>
                <a:lnTo>
                  <a:pt x="144" y="302"/>
                </a:lnTo>
                <a:lnTo>
                  <a:pt x="144" y="303"/>
                </a:lnTo>
                <a:lnTo>
                  <a:pt x="146" y="305"/>
                </a:lnTo>
                <a:lnTo>
                  <a:pt x="155" y="302"/>
                </a:lnTo>
                <a:lnTo>
                  <a:pt x="166" y="298"/>
                </a:lnTo>
                <a:lnTo>
                  <a:pt x="168" y="298"/>
                </a:lnTo>
                <a:lnTo>
                  <a:pt x="170" y="302"/>
                </a:lnTo>
                <a:lnTo>
                  <a:pt x="170" y="303"/>
                </a:lnTo>
                <a:lnTo>
                  <a:pt x="150" y="309"/>
                </a:lnTo>
                <a:lnTo>
                  <a:pt x="148" y="313"/>
                </a:lnTo>
                <a:lnTo>
                  <a:pt x="146" y="324"/>
                </a:lnTo>
                <a:lnTo>
                  <a:pt x="141" y="324"/>
                </a:lnTo>
                <a:lnTo>
                  <a:pt x="137" y="318"/>
                </a:lnTo>
                <a:lnTo>
                  <a:pt x="135" y="307"/>
                </a:lnTo>
                <a:lnTo>
                  <a:pt x="135" y="296"/>
                </a:lnTo>
                <a:lnTo>
                  <a:pt x="133" y="289"/>
                </a:lnTo>
                <a:lnTo>
                  <a:pt x="132" y="287"/>
                </a:lnTo>
                <a:lnTo>
                  <a:pt x="126" y="281"/>
                </a:lnTo>
                <a:lnTo>
                  <a:pt x="126" y="285"/>
                </a:lnTo>
                <a:lnTo>
                  <a:pt x="128" y="285"/>
                </a:lnTo>
                <a:lnTo>
                  <a:pt x="132" y="291"/>
                </a:lnTo>
                <a:lnTo>
                  <a:pt x="137" y="325"/>
                </a:lnTo>
                <a:lnTo>
                  <a:pt x="135" y="329"/>
                </a:lnTo>
                <a:lnTo>
                  <a:pt x="133" y="331"/>
                </a:lnTo>
                <a:lnTo>
                  <a:pt x="132" y="331"/>
                </a:lnTo>
                <a:lnTo>
                  <a:pt x="110" y="320"/>
                </a:lnTo>
                <a:lnTo>
                  <a:pt x="108" y="316"/>
                </a:lnTo>
                <a:lnTo>
                  <a:pt x="108" y="313"/>
                </a:lnTo>
                <a:lnTo>
                  <a:pt x="106" y="307"/>
                </a:lnTo>
                <a:lnTo>
                  <a:pt x="101" y="300"/>
                </a:lnTo>
                <a:lnTo>
                  <a:pt x="102" y="298"/>
                </a:lnTo>
                <a:lnTo>
                  <a:pt x="106" y="298"/>
                </a:lnTo>
                <a:lnTo>
                  <a:pt x="108" y="300"/>
                </a:lnTo>
                <a:lnTo>
                  <a:pt x="115" y="309"/>
                </a:lnTo>
                <a:lnTo>
                  <a:pt x="121" y="316"/>
                </a:lnTo>
                <a:lnTo>
                  <a:pt x="123" y="318"/>
                </a:lnTo>
                <a:lnTo>
                  <a:pt x="124" y="316"/>
                </a:lnTo>
                <a:lnTo>
                  <a:pt x="106" y="291"/>
                </a:lnTo>
                <a:lnTo>
                  <a:pt x="113" y="289"/>
                </a:lnTo>
                <a:lnTo>
                  <a:pt x="119" y="285"/>
                </a:lnTo>
                <a:lnTo>
                  <a:pt x="104" y="287"/>
                </a:lnTo>
                <a:lnTo>
                  <a:pt x="95" y="294"/>
                </a:lnTo>
                <a:lnTo>
                  <a:pt x="90" y="287"/>
                </a:lnTo>
                <a:lnTo>
                  <a:pt x="88" y="280"/>
                </a:lnTo>
                <a:lnTo>
                  <a:pt x="77" y="278"/>
                </a:lnTo>
                <a:lnTo>
                  <a:pt x="73" y="260"/>
                </a:lnTo>
                <a:lnTo>
                  <a:pt x="75" y="256"/>
                </a:lnTo>
                <a:lnTo>
                  <a:pt x="77" y="254"/>
                </a:lnTo>
                <a:lnTo>
                  <a:pt x="86" y="256"/>
                </a:lnTo>
                <a:lnTo>
                  <a:pt x="95" y="263"/>
                </a:lnTo>
                <a:lnTo>
                  <a:pt x="102" y="276"/>
                </a:lnTo>
                <a:lnTo>
                  <a:pt x="104" y="280"/>
                </a:lnTo>
                <a:lnTo>
                  <a:pt x="106" y="280"/>
                </a:lnTo>
                <a:lnTo>
                  <a:pt x="106" y="276"/>
                </a:lnTo>
                <a:lnTo>
                  <a:pt x="88" y="241"/>
                </a:lnTo>
                <a:lnTo>
                  <a:pt x="88" y="239"/>
                </a:lnTo>
                <a:lnTo>
                  <a:pt x="90" y="238"/>
                </a:lnTo>
                <a:lnTo>
                  <a:pt x="93" y="238"/>
                </a:lnTo>
                <a:lnTo>
                  <a:pt x="95" y="241"/>
                </a:lnTo>
                <a:lnTo>
                  <a:pt x="97" y="245"/>
                </a:lnTo>
                <a:lnTo>
                  <a:pt x="95" y="234"/>
                </a:lnTo>
                <a:lnTo>
                  <a:pt x="93" y="232"/>
                </a:lnTo>
                <a:lnTo>
                  <a:pt x="90" y="232"/>
                </a:lnTo>
                <a:lnTo>
                  <a:pt x="90" y="236"/>
                </a:lnTo>
                <a:lnTo>
                  <a:pt x="77" y="241"/>
                </a:lnTo>
                <a:lnTo>
                  <a:pt x="59" y="239"/>
                </a:lnTo>
                <a:lnTo>
                  <a:pt x="53" y="236"/>
                </a:lnTo>
                <a:lnTo>
                  <a:pt x="53" y="227"/>
                </a:lnTo>
                <a:lnTo>
                  <a:pt x="44" y="221"/>
                </a:lnTo>
                <a:lnTo>
                  <a:pt x="42" y="214"/>
                </a:lnTo>
                <a:lnTo>
                  <a:pt x="44" y="212"/>
                </a:lnTo>
                <a:lnTo>
                  <a:pt x="46" y="208"/>
                </a:lnTo>
                <a:lnTo>
                  <a:pt x="49" y="208"/>
                </a:lnTo>
                <a:lnTo>
                  <a:pt x="55" y="207"/>
                </a:lnTo>
                <a:lnTo>
                  <a:pt x="75" y="207"/>
                </a:lnTo>
                <a:lnTo>
                  <a:pt x="79" y="207"/>
                </a:lnTo>
                <a:lnTo>
                  <a:pt x="82" y="210"/>
                </a:lnTo>
                <a:lnTo>
                  <a:pt x="88" y="199"/>
                </a:lnTo>
                <a:lnTo>
                  <a:pt x="88" y="188"/>
                </a:lnTo>
                <a:lnTo>
                  <a:pt x="91" y="186"/>
                </a:lnTo>
                <a:lnTo>
                  <a:pt x="101" y="185"/>
                </a:lnTo>
                <a:lnTo>
                  <a:pt x="104" y="185"/>
                </a:lnTo>
                <a:lnTo>
                  <a:pt x="108" y="186"/>
                </a:lnTo>
                <a:lnTo>
                  <a:pt x="110" y="190"/>
                </a:lnTo>
                <a:lnTo>
                  <a:pt x="113" y="192"/>
                </a:lnTo>
                <a:lnTo>
                  <a:pt x="115" y="188"/>
                </a:lnTo>
                <a:lnTo>
                  <a:pt x="115" y="186"/>
                </a:lnTo>
                <a:lnTo>
                  <a:pt x="110" y="183"/>
                </a:lnTo>
                <a:lnTo>
                  <a:pt x="101" y="181"/>
                </a:lnTo>
                <a:lnTo>
                  <a:pt x="95" y="177"/>
                </a:lnTo>
                <a:lnTo>
                  <a:pt x="93" y="175"/>
                </a:lnTo>
                <a:lnTo>
                  <a:pt x="95" y="174"/>
                </a:lnTo>
                <a:lnTo>
                  <a:pt x="102" y="172"/>
                </a:lnTo>
                <a:lnTo>
                  <a:pt x="106" y="170"/>
                </a:lnTo>
                <a:lnTo>
                  <a:pt x="110" y="161"/>
                </a:lnTo>
                <a:lnTo>
                  <a:pt x="106" y="161"/>
                </a:lnTo>
                <a:lnTo>
                  <a:pt x="90" y="174"/>
                </a:lnTo>
                <a:lnTo>
                  <a:pt x="84" y="188"/>
                </a:lnTo>
                <a:lnTo>
                  <a:pt x="86" y="194"/>
                </a:lnTo>
                <a:lnTo>
                  <a:pt x="84" y="196"/>
                </a:lnTo>
                <a:lnTo>
                  <a:pt x="71" y="20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8520" y="5823000"/>
            <a:ext cx="36720" cy="28440"/>
          </a:xfrm>
          <a:custGeom>
            <a:avLst/>
            <a:gdLst/>
            <a:ahLst/>
            <a:rect l="l" t="t" r="r" b="b"/>
            <a:pathLst>
              <a:path w="23" h="19">
                <a:moveTo>
                  <a:pt x="9" y="19"/>
                </a:moveTo>
                <a:lnTo>
                  <a:pt x="0" y="0"/>
                </a:lnTo>
                <a:lnTo>
                  <a:pt x="3" y="0"/>
                </a:lnTo>
                <a:lnTo>
                  <a:pt x="10" y="2"/>
                </a:lnTo>
                <a:lnTo>
                  <a:pt x="18" y="6"/>
                </a:lnTo>
                <a:lnTo>
                  <a:pt x="21" y="9"/>
                </a:lnTo>
                <a:lnTo>
                  <a:pt x="23" y="15"/>
                </a:lnTo>
                <a:lnTo>
                  <a:pt x="23" y="17"/>
                </a:lnTo>
                <a:lnTo>
                  <a:pt x="12" y="19"/>
                </a:lnTo>
                <a:lnTo>
                  <a:pt x="9" y="1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46320" y="5829480"/>
            <a:ext cx="66600" cy="34920"/>
          </a:xfrm>
          <a:custGeom>
            <a:avLst/>
            <a:gdLst/>
            <a:ahLst/>
            <a:rect l="l" t="t" r="r" b="b"/>
            <a:pathLst>
              <a:path w="42" h="24">
                <a:moveTo>
                  <a:pt x="38" y="24"/>
                </a:moveTo>
                <a:lnTo>
                  <a:pt x="31" y="11"/>
                </a:lnTo>
                <a:lnTo>
                  <a:pt x="22" y="13"/>
                </a:lnTo>
                <a:lnTo>
                  <a:pt x="18" y="18"/>
                </a:lnTo>
                <a:lnTo>
                  <a:pt x="14" y="20"/>
                </a:lnTo>
                <a:lnTo>
                  <a:pt x="0" y="13"/>
                </a:lnTo>
                <a:lnTo>
                  <a:pt x="0" y="9"/>
                </a:lnTo>
                <a:lnTo>
                  <a:pt x="0" y="5"/>
                </a:lnTo>
                <a:lnTo>
                  <a:pt x="1" y="2"/>
                </a:lnTo>
                <a:lnTo>
                  <a:pt x="9" y="0"/>
                </a:lnTo>
                <a:lnTo>
                  <a:pt x="27" y="0"/>
                </a:lnTo>
                <a:lnTo>
                  <a:pt x="33" y="2"/>
                </a:lnTo>
                <a:lnTo>
                  <a:pt x="34" y="5"/>
                </a:lnTo>
                <a:lnTo>
                  <a:pt x="42" y="18"/>
                </a:lnTo>
                <a:lnTo>
                  <a:pt x="42" y="20"/>
                </a:lnTo>
                <a:lnTo>
                  <a:pt x="38" y="2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46320" y="5851440"/>
            <a:ext cx="54000" cy="38160"/>
          </a:xfrm>
          <a:custGeom>
            <a:avLst/>
            <a:gdLst/>
            <a:ahLst/>
            <a:rect l="l" t="t" r="r" b="b"/>
            <a:pathLst>
              <a:path w="34" h="27">
                <a:moveTo>
                  <a:pt x="12" y="27"/>
                </a:moveTo>
                <a:lnTo>
                  <a:pt x="1" y="23"/>
                </a:lnTo>
                <a:lnTo>
                  <a:pt x="0" y="22"/>
                </a:lnTo>
                <a:lnTo>
                  <a:pt x="3" y="14"/>
                </a:lnTo>
                <a:lnTo>
                  <a:pt x="9" y="12"/>
                </a:lnTo>
                <a:lnTo>
                  <a:pt x="12" y="12"/>
                </a:lnTo>
                <a:lnTo>
                  <a:pt x="18" y="9"/>
                </a:lnTo>
                <a:lnTo>
                  <a:pt x="20" y="5"/>
                </a:lnTo>
                <a:lnTo>
                  <a:pt x="25" y="0"/>
                </a:lnTo>
                <a:lnTo>
                  <a:pt x="27" y="0"/>
                </a:lnTo>
                <a:lnTo>
                  <a:pt x="29" y="0"/>
                </a:lnTo>
                <a:lnTo>
                  <a:pt x="34" y="11"/>
                </a:lnTo>
                <a:lnTo>
                  <a:pt x="31" y="14"/>
                </a:lnTo>
                <a:lnTo>
                  <a:pt x="12" y="2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11120" y="5854680"/>
            <a:ext cx="51120" cy="38160"/>
          </a:xfrm>
          <a:custGeom>
            <a:avLst/>
            <a:gdLst/>
            <a:ahLst/>
            <a:rect l="l" t="t" r="r" b="b"/>
            <a:pathLst>
              <a:path w="33" h="26">
                <a:moveTo>
                  <a:pt x="27" y="24"/>
                </a:moveTo>
                <a:lnTo>
                  <a:pt x="18" y="17"/>
                </a:lnTo>
                <a:lnTo>
                  <a:pt x="3" y="13"/>
                </a:lnTo>
                <a:lnTo>
                  <a:pt x="0" y="13"/>
                </a:lnTo>
                <a:lnTo>
                  <a:pt x="0" y="11"/>
                </a:lnTo>
                <a:lnTo>
                  <a:pt x="3" y="6"/>
                </a:lnTo>
                <a:lnTo>
                  <a:pt x="11" y="0"/>
                </a:lnTo>
                <a:lnTo>
                  <a:pt x="25" y="0"/>
                </a:lnTo>
                <a:lnTo>
                  <a:pt x="33" y="6"/>
                </a:lnTo>
                <a:lnTo>
                  <a:pt x="33" y="9"/>
                </a:lnTo>
                <a:lnTo>
                  <a:pt x="29" y="26"/>
                </a:lnTo>
                <a:lnTo>
                  <a:pt x="27" y="2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30280" y="5911920"/>
            <a:ext cx="25560" cy="30240"/>
          </a:xfrm>
          <a:custGeom>
            <a:avLst/>
            <a:gdLst/>
            <a:ahLst/>
            <a:rect l="l" t="t" r="r" b="b"/>
            <a:pathLst>
              <a:path w="16" h="20">
                <a:moveTo>
                  <a:pt x="2" y="18"/>
                </a:moveTo>
                <a:lnTo>
                  <a:pt x="0" y="5"/>
                </a:lnTo>
                <a:lnTo>
                  <a:pt x="2" y="0"/>
                </a:lnTo>
                <a:lnTo>
                  <a:pt x="11" y="5"/>
                </a:lnTo>
                <a:lnTo>
                  <a:pt x="16" y="12"/>
                </a:lnTo>
                <a:lnTo>
                  <a:pt x="3" y="20"/>
                </a:lnTo>
                <a:lnTo>
                  <a:pt x="2" y="1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57480" y="5916600"/>
            <a:ext cx="14040" cy="11160"/>
          </a:xfrm>
          <a:custGeom>
            <a:avLst/>
            <a:gdLst/>
            <a:ahLst/>
            <a:rect l="l" t="t" r="r" b="b"/>
            <a:pathLst>
              <a:path w="9" h="8">
                <a:moveTo>
                  <a:pt x="7" y="8"/>
                </a:moveTo>
                <a:lnTo>
                  <a:pt x="0" y="4"/>
                </a:lnTo>
                <a:lnTo>
                  <a:pt x="0" y="0"/>
                </a:lnTo>
                <a:lnTo>
                  <a:pt x="5" y="0"/>
                </a:lnTo>
                <a:lnTo>
                  <a:pt x="9" y="2"/>
                </a:lnTo>
                <a:lnTo>
                  <a:pt x="9" y="8"/>
                </a:lnTo>
                <a:lnTo>
                  <a:pt x="7" y="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51000" y="5938920"/>
            <a:ext cx="66600" cy="39600"/>
          </a:xfrm>
          <a:custGeom>
            <a:avLst/>
            <a:gdLst/>
            <a:ahLst/>
            <a:rect l="l" t="t" r="r" b="b"/>
            <a:pathLst>
              <a:path w="42" h="27">
                <a:moveTo>
                  <a:pt x="42" y="27"/>
                </a:moveTo>
                <a:lnTo>
                  <a:pt x="33" y="20"/>
                </a:lnTo>
                <a:lnTo>
                  <a:pt x="33" y="22"/>
                </a:lnTo>
                <a:lnTo>
                  <a:pt x="35" y="25"/>
                </a:lnTo>
                <a:lnTo>
                  <a:pt x="31" y="27"/>
                </a:lnTo>
                <a:lnTo>
                  <a:pt x="30" y="25"/>
                </a:lnTo>
                <a:lnTo>
                  <a:pt x="26" y="24"/>
                </a:lnTo>
                <a:lnTo>
                  <a:pt x="22" y="20"/>
                </a:lnTo>
                <a:lnTo>
                  <a:pt x="24" y="16"/>
                </a:lnTo>
                <a:lnTo>
                  <a:pt x="19" y="15"/>
                </a:lnTo>
                <a:lnTo>
                  <a:pt x="8" y="22"/>
                </a:lnTo>
                <a:lnTo>
                  <a:pt x="6" y="20"/>
                </a:lnTo>
                <a:lnTo>
                  <a:pt x="2" y="16"/>
                </a:lnTo>
                <a:lnTo>
                  <a:pt x="0" y="4"/>
                </a:lnTo>
                <a:lnTo>
                  <a:pt x="6" y="0"/>
                </a:lnTo>
                <a:lnTo>
                  <a:pt x="22" y="0"/>
                </a:lnTo>
                <a:lnTo>
                  <a:pt x="24" y="0"/>
                </a:lnTo>
                <a:lnTo>
                  <a:pt x="30" y="5"/>
                </a:lnTo>
                <a:lnTo>
                  <a:pt x="40" y="18"/>
                </a:lnTo>
                <a:lnTo>
                  <a:pt x="42" y="25"/>
                </a:lnTo>
                <a:lnTo>
                  <a:pt x="42" y="2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74760" y="5991120"/>
            <a:ext cx="103320" cy="63720"/>
          </a:xfrm>
          <a:custGeom>
            <a:avLst/>
            <a:gdLst/>
            <a:ahLst/>
            <a:rect l="l" t="t" r="r" b="b"/>
            <a:pathLst>
              <a:path w="64" h="43">
                <a:moveTo>
                  <a:pt x="38" y="30"/>
                </a:moveTo>
                <a:lnTo>
                  <a:pt x="25" y="41"/>
                </a:lnTo>
                <a:lnTo>
                  <a:pt x="22" y="43"/>
                </a:lnTo>
                <a:lnTo>
                  <a:pt x="13" y="43"/>
                </a:lnTo>
                <a:lnTo>
                  <a:pt x="13" y="41"/>
                </a:lnTo>
                <a:lnTo>
                  <a:pt x="15" y="39"/>
                </a:lnTo>
                <a:lnTo>
                  <a:pt x="18" y="37"/>
                </a:lnTo>
                <a:lnTo>
                  <a:pt x="25" y="30"/>
                </a:lnTo>
                <a:lnTo>
                  <a:pt x="24" y="30"/>
                </a:lnTo>
                <a:lnTo>
                  <a:pt x="16" y="32"/>
                </a:lnTo>
                <a:lnTo>
                  <a:pt x="2" y="35"/>
                </a:lnTo>
                <a:lnTo>
                  <a:pt x="0" y="35"/>
                </a:lnTo>
                <a:lnTo>
                  <a:pt x="2" y="28"/>
                </a:lnTo>
                <a:lnTo>
                  <a:pt x="5" y="17"/>
                </a:lnTo>
                <a:lnTo>
                  <a:pt x="7" y="15"/>
                </a:lnTo>
                <a:lnTo>
                  <a:pt x="11" y="15"/>
                </a:lnTo>
                <a:lnTo>
                  <a:pt x="20" y="17"/>
                </a:lnTo>
                <a:lnTo>
                  <a:pt x="18" y="19"/>
                </a:lnTo>
                <a:lnTo>
                  <a:pt x="11" y="19"/>
                </a:lnTo>
                <a:lnTo>
                  <a:pt x="11" y="21"/>
                </a:lnTo>
                <a:lnTo>
                  <a:pt x="13" y="22"/>
                </a:lnTo>
                <a:lnTo>
                  <a:pt x="24" y="24"/>
                </a:lnTo>
                <a:lnTo>
                  <a:pt x="31" y="24"/>
                </a:lnTo>
                <a:lnTo>
                  <a:pt x="29" y="17"/>
                </a:lnTo>
                <a:lnTo>
                  <a:pt x="22" y="15"/>
                </a:lnTo>
                <a:lnTo>
                  <a:pt x="7" y="8"/>
                </a:lnTo>
                <a:lnTo>
                  <a:pt x="5" y="6"/>
                </a:lnTo>
                <a:lnTo>
                  <a:pt x="5" y="4"/>
                </a:lnTo>
                <a:lnTo>
                  <a:pt x="15" y="0"/>
                </a:lnTo>
                <a:lnTo>
                  <a:pt x="31" y="2"/>
                </a:lnTo>
                <a:lnTo>
                  <a:pt x="44" y="13"/>
                </a:lnTo>
                <a:lnTo>
                  <a:pt x="38" y="17"/>
                </a:lnTo>
                <a:lnTo>
                  <a:pt x="36" y="19"/>
                </a:lnTo>
                <a:lnTo>
                  <a:pt x="57" y="17"/>
                </a:lnTo>
                <a:lnTo>
                  <a:pt x="58" y="13"/>
                </a:lnTo>
                <a:lnTo>
                  <a:pt x="57" y="13"/>
                </a:lnTo>
                <a:lnTo>
                  <a:pt x="62" y="11"/>
                </a:lnTo>
                <a:lnTo>
                  <a:pt x="64" y="13"/>
                </a:lnTo>
                <a:lnTo>
                  <a:pt x="64" y="15"/>
                </a:lnTo>
                <a:lnTo>
                  <a:pt x="64" y="19"/>
                </a:lnTo>
                <a:lnTo>
                  <a:pt x="62" y="21"/>
                </a:lnTo>
                <a:lnTo>
                  <a:pt x="38" y="3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8080" y="6041880"/>
            <a:ext cx="37800" cy="19080"/>
          </a:xfrm>
          <a:custGeom>
            <a:avLst/>
            <a:gdLst/>
            <a:ahLst/>
            <a:rect l="l" t="t" r="r" b="b"/>
            <a:pathLst>
              <a:path w="24" h="13">
                <a:moveTo>
                  <a:pt x="4" y="13"/>
                </a:moveTo>
                <a:lnTo>
                  <a:pt x="2" y="13"/>
                </a:lnTo>
                <a:lnTo>
                  <a:pt x="0" y="13"/>
                </a:lnTo>
                <a:lnTo>
                  <a:pt x="4" y="2"/>
                </a:lnTo>
                <a:lnTo>
                  <a:pt x="11" y="0"/>
                </a:lnTo>
                <a:lnTo>
                  <a:pt x="16" y="0"/>
                </a:lnTo>
                <a:lnTo>
                  <a:pt x="24" y="2"/>
                </a:lnTo>
                <a:lnTo>
                  <a:pt x="22" y="4"/>
                </a:lnTo>
                <a:lnTo>
                  <a:pt x="14" y="9"/>
                </a:lnTo>
                <a:lnTo>
                  <a:pt x="7" y="13"/>
                </a:lnTo>
                <a:lnTo>
                  <a:pt x="4" y="1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98600" y="6051600"/>
            <a:ext cx="71280" cy="61920"/>
          </a:xfrm>
          <a:custGeom>
            <a:avLst/>
            <a:gdLst/>
            <a:ahLst/>
            <a:rect l="l" t="t" r="r" b="b"/>
            <a:pathLst>
              <a:path w="45" h="42">
                <a:moveTo>
                  <a:pt x="44" y="42"/>
                </a:moveTo>
                <a:lnTo>
                  <a:pt x="40" y="36"/>
                </a:lnTo>
                <a:lnTo>
                  <a:pt x="38" y="34"/>
                </a:lnTo>
                <a:lnTo>
                  <a:pt x="33" y="36"/>
                </a:lnTo>
                <a:lnTo>
                  <a:pt x="33" y="38"/>
                </a:lnTo>
                <a:lnTo>
                  <a:pt x="23" y="36"/>
                </a:lnTo>
                <a:lnTo>
                  <a:pt x="14" y="31"/>
                </a:lnTo>
                <a:lnTo>
                  <a:pt x="9" y="23"/>
                </a:lnTo>
                <a:lnTo>
                  <a:pt x="7" y="20"/>
                </a:lnTo>
                <a:lnTo>
                  <a:pt x="9" y="18"/>
                </a:lnTo>
                <a:lnTo>
                  <a:pt x="23" y="11"/>
                </a:lnTo>
                <a:lnTo>
                  <a:pt x="22" y="11"/>
                </a:lnTo>
                <a:lnTo>
                  <a:pt x="14" y="9"/>
                </a:lnTo>
                <a:lnTo>
                  <a:pt x="9" y="9"/>
                </a:lnTo>
                <a:lnTo>
                  <a:pt x="0" y="7"/>
                </a:lnTo>
                <a:lnTo>
                  <a:pt x="0" y="5"/>
                </a:lnTo>
                <a:lnTo>
                  <a:pt x="11" y="0"/>
                </a:lnTo>
                <a:lnTo>
                  <a:pt x="29" y="7"/>
                </a:lnTo>
                <a:lnTo>
                  <a:pt x="45" y="34"/>
                </a:lnTo>
                <a:lnTo>
                  <a:pt x="45" y="36"/>
                </a:lnTo>
                <a:lnTo>
                  <a:pt x="45" y="40"/>
                </a:lnTo>
                <a:lnTo>
                  <a:pt x="44" y="4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65400" y="6056280"/>
            <a:ext cx="66600" cy="47520"/>
          </a:xfrm>
          <a:custGeom>
            <a:avLst/>
            <a:gdLst/>
            <a:ahLst/>
            <a:rect l="l" t="t" r="r" b="b"/>
            <a:pathLst>
              <a:path w="41" h="33">
                <a:moveTo>
                  <a:pt x="19" y="33"/>
                </a:moveTo>
                <a:lnTo>
                  <a:pt x="6" y="30"/>
                </a:lnTo>
                <a:lnTo>
                  <a:pt x="0" y="20"/>
                </a:lnTo>
                <a:lnTo>
                  <a:pt x="2" y="19"/>
                </a:lnTo>
                <a:lnTo>
                  <a:pt x="8" y="15"/>
                </a:lnTo>
                <a:lnTo>
                  <a:pt x="11" y="15"/>
                </a:lnTo>
                <a:lnTo>
                  <a:pt x="15" y="15"/>
                </a:lnTo>
                <a:lnTo>
                  <a:pt x="15" y="13"/>
                </a:lnTo>
                <a:lnTo>
                  <a:pt x="11" y="8"/>
                </a:lnTo>
                <a:lnTo>
                  <a:pt x="6" y="6"/>
                </a:lnTo>
                <a:lnTo>
                  <a:pt x="6" y="4"/>
                </a:lnTo>
                <a:lnTo>
                  <a:pt x="10" y="2"/>
                </a:lnTo>
                <a:lnTo>
                  <a:pt x="13" y="0"/>
                </a:lnTo>
                <a:lnTo>
                  <a:pt x="41" y="4"/>
                </a:lnTo>
                <a:lnTo>
                  <a:pt x="41" y="6"/>
                </a:lnTo>
                <a:lnTo>
                  <a:pt x="31" y="15"/>
                </a:lnTo>
                <a:lnTo>
                  <a:pt x="26" y="15"/>
                </a:lnTo>
                <a:lnTo>
                  <a:pt x="24" y="13"/>
                </a:lnTo>
                <a:lnTo>
                  <a:pt x="24" y="30"/>
                </a:lnTo>
                <a:lnTo>
                  <a:pt x="22" y="31"/>
                </a:lnTo>
                <a:lnTo>
                  <a:pt x="19" y="3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95360" y="6064200"/>
            <a:ext cx="1440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2" y="7"/>
                </a:moveTo>
                <a:lnTo>
                  <a:pt x="0" y="7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  <a:lnTo>
                  <a:pt x="9" y="2"/>
                </a:lnTo>
                <a:lnTo>
                  <a:pt x="9" y="3"/>
                </a:lnTo>
                <a:lnTo>
                  <a:pt x="7" y="5"/>
                </a:lnTo>
                <a:lnTo>
                  <a:pt x="2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28760" y="6083280"/>
            <a:ext cx="20520" cy="23760"/>
          </a:xfrm>
          <a:custGeom>
            <a:avLst/>
            <a:gdLst/>
            <a:ahLst/>
            <a:rect l="l" t="t" r="r" b="b"/>
            <a:pathLst>
              <a:path w="13" h="16">
                <a:moveTo>
                  <a:pt x="7" y="16"/>
                </a:moveTo>
                <a:lnTo>
                  <a:pt x="3" y="14"/>
                </a:lnTo>
                <a:lnTo>
                  <a:pt x="0" y="9"/>
                </a:lnTo>
                <a:lnTo>
                  <a:pt x="0" y="7"/>
                </a:lnTo>
                <a:lnTo>
                  <a:pt x="3" y="1"/>
                </a:lnTo>
                <a:lnTo>
                  <a:pt x="3" y="0"/>
                </a:lnTo>
                <a:lnTo>
                  <a:pt x="11" y="0"/>
                </a:lnTo>
                <a:lnTo>
                  <a:pt x="13" y="1"/>
                </a:lnTo>
                <a:lnTo>
                  <a:pt x="13" y="14"/>
                </a:lnTo>
                <a:lnTo>
                  <a:pt x="11" y="16"/>
                </a:lnTo>
                <a:lnTo>
                  <a:pt x="7" y="1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2520" y="6084720"/>
            <a:ext cx="46080" cy="32040"/>
          </a:xfrm>
          <a:custGeom>
            <a:avLst/>
            <a:gdLst/>
            <a:ahLst/>
            <a:rect l="l" t="t" r="r" b="b"/>
            <a:pathLst>
              <a:path w="30" h="22">
                <a:moveTo>
                  <a:pt x="26" y="22"/>
                </a:moveTo>
                <a:lnTo>
                  <a:pt x="17" y="22"/>
                </a:lnTo>
                <a:lnTo>
                  <a:pt x="4" y="19"/>
                </a:lnTo>
                <a:lnTo>
                  <a:pt x="0" y="11"/>
                </a:lnTo>
                <a:lnTo>
                  <a:pt x="2" y="6"/>
                </a:lnTo>
                <a:lnTo>
                  <a:pt x="8" y="2"/>
                </a:lnTo>
                <a:lnTo>
                  <a:pt x="15" y="0"/>
                </a:lnTo>
                <a:lnTo>
                  <a:pt x="21" y="4"/>
                </a:lnTo>
                <a:lnTo>
                  <a:pt x="30" y="15"/>
                </a:lnTo>
                <a:lnTo>
                  <a:pt x="28" y="21"/>
                </a:lnTo>
                <a:lnTo>
                  <a:pt x="28" y="22"/>
                </a:lnTo>
                <a:lnTo>
                  <a:pt x="26" y="2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52520" y="6094440"/>
            <a:ext cx="88920" cy="55440"/>
          </a:xfrm>
          <a:custGeom>
            <a:avLst/>
            <a:gdLst/>
            <a:ahLst/>
            <a:rect l="l" t="t" r="r" b="b"/>
            <a:pathLst>
              <a:path w="57" h="38">
                <a:moveTo>
                  <a:pt x="24" y="38"/>
                </a:moveTo>
                <a:lnTo>
                  <a:pt x="8" y="33"/>
                </a:lnTo>
                <a:lnTo>
                  <a:pt x="0" y="24"/>
                </a:lnTo>
                <a:lnTo>
                  <a:pt x="0" y="20"/>
                </a:lnTo>
                <a:lnTo>
                  <a:pt x="4" y="16"/>
                </a:lnTo>
                <a:lnTo>
                  <a:pt x="10" y="16"/>
                </a:lnTo>
                <a:lnTo>
                  <a:pt x="26" y="18"/>
                </a:lnTo>
                <a:lnTo>
                  <a:pt x="33" y="16"/>
                </a:lnTo>
                <a:lnTo>
                  <a:pt x="33" y="7"/>
                </a:lnTo>
                <a:lnTo>
                  <a:pt x="31" y="4"/>
                </a:lnTo>
                <a:lnTo>
                  <a:pt x="28" y="2"/>
                </a:lnTo>
                <a:lnTo>
                  <a:pt x="30" y="0"/>
                </a:lnTo>
                <a:lnTo>
                  <a:pt x="41" y="4"/>
                </a:lnTo>
                <a:lnTo>
                  <a:pt x="46" y="5"/>
                </a:lnTo>
                <a:lnTo>
                  <a:pt x="53" y="11"/>
                </a:lnTo>
                <a:lnTo>
                  <a:pt x="55" y="13"/>
                </a:lnTo>
                <a:lnTo>
                  <a:pt x="57" y="27"/>
                </a:lnTo>
                <a:lnTo>
                  <a:pt x="55" y="35"/>
                </a:lnTo>
                <a:lnTo>
                  <a:pt x="53" y="35"/>
                </a:lnTo>
                <a:lnTo>
                  <a:pt x="52" y="29"/>
                </a:lnTo>
                <a:lnTo>
                  <a:pt x="48" y="27"/>
                </a:lnTo>
                <a:lnTo>
                  <a:pt x="46" y="27"/>
                </a:lnTo>
                <a:lnTo>
                  <a:pt x="35" y="31"/>
                </a:lnTo>
                <a:lnTo>
                  <a:pt x="33" y="35"/>
                </a:lnTo>
                <a:lnTo>
                  <a:pt x="31" y="36"/>
                </a:lnTo>
                <a:lnTo>
                  <a:pt x="24" y="3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4680" y="6119640"/>
            <a:ext cx="25200" cy="49320"/>
          </a:xfrm>
          <a:custGeom>
            <a:avLst/>
            <a:gdLst/>
            <a:ahLst/>
            <a:rect l="l" t="t" r="r" b="b"/>
            <a:pathLst>
              <a:path w="16" h="33">
                <a:moveTo>
                  <a:pt x="7" y="29"/>
                </a:moveTo>
                <a:lnTo>
                  <a:pt x="2" y="11"/>
                </a:lnTo>
                <a:lnTo>
                  <a:pt x="0" y="2"/>
                </a:lnTo>
                <a:lnTo>
                  <a:pt x="2" y="2"/>
                </a:lnTo>
                <a:lnTo>
                  <a:pt x="4" y="0"/>
                </a:lnTo>
                <a:lnTo>
                  <a:pt x="5" y="4"/>
                </a:lnTo>
                <a:lnTo>
                  <a:pt x="11" y="15"/>
                </a:lnTo>
                <a:lnTo>
                  <a:pt x="16" y="28"/>
                </a:lnTo>
                <a:lnTo>
                  <a:pt x="9" y="33"/>
                </a:lnTo>
                <a:lnTo>
                  <a:pt x="7" y="31"/>
                </a:lnTo>
                <a:lnTo>
                  <a:pt x="7" y="2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05080" y="6135840"/>
            <a:ext cx="33120" cy="27000"/>
          </a:xfrm>
          <a:custGeom>
            <a:avLst/>
            <a:gdLst/>
            <a:ahLst/>
            <a:rect l="l" t="t" r="r" b="b"/>
            <a:pathLst>
              <a:path w="20" h="18">
                <a:moveTo>
                  <a:pt x="17" y="17"/>
                </a:moveTo>
                <a:lnTo>
                  <a:pt x="4" y="13"/>
                </a:lnTo>
                <a:lnTo>
                  <a:pt x="0" y="7"/>
                </a:lnTo>
                <a:lnTo>
                  <a:pt x="0" y="6"/>
                </a:lnTo>
                <a:lnTo>
                  <a:pt x="11" y="0"/>
                </a:lnTo>
                <a:lnTo>
                  <a:pt x="13" y="0"/>
                </a:lnTo>
                <a:lnTo>
                  <a:pt x="20" y="9"/>
                </a:lnTo>
                <a:lnTo>
                  <a:pt x="20" y="11"/>
                </a:lnTo>
                <a:lnTo>
                  <a:pt x="20" y="15"/>
                </a:lnTo>
                <a:lnTo>
                  <a:pt x="18" y="18"/>
                </a:lnTo>
                <a:lnTo>
                  <a:pt x="17" y="1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41360" y="6146640"/>
            <a:ext cx="27000" cy="1116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6"/>
                </a:moveTo>
                <a:lnTo>
                  <a:pt x="4" y="2"/>
                </a:lnTo>
                <a:lnTo>
                  <a:pt x="7" y="0"/>
                </a:lnTo>
                <a:lnTo>
                  <a:pt x="15" y="2"/>
                </a:lnTo>
                <a:lnTo>
                  <a:pt x="16" y="4"/>
                </a:lnTo>
                <a:lnTo>
                  <a:pt x="15" y="6"/>
                </a:lnTo>
                <a:lnTo>
                  <a:pt x="13" y="6"/>
                </a:lnTo>
                <a:lnTo>
                  <a:pt x="0" y="8"/>
                </a:lnTo>
                <a:lnTo>
                  <a:pt x="0" y="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41360" y="6161040"/>
            <a:ext cx="76320" cy="39600"/>
          </a:xfrm>
          <a:custGeom>
            <a:avLst/>
            <a:gdLst/>
            <a:ahLst/>
            <a:rect l="l" t="t" r="r" b="b"/>
            <a:pathLst>
              <a:path w="47" h="27">
                <a:moveTo>
                  <a:pt x="4" y="27"/>
                </a:moveTo>
                <a:lnTo>
                  <a:pt x="0" y="25"/>
                </a:lnTo>
                <a:lnTo>
                  <a:pt x="0" y="23"/>
                </a:lnTo>
                <a:lnTo>
                  <a:pt x="7" y="20"/>
                </a:lnTo>
                <a:lnTo>
                  <a:pt x="15" y="18"/>
                </a:lnTo>
                <a:lnTo>
                  <a:pt x="22" y="12"/>
                </a:lnTo>
                <a:lnTo>
                  <a:pt x="22" y="11"/>
                </a:lnTo>
                <a:lnTo>
                  <a:pt x="20" y="11"/>
                </a:lnTo>
                <a:lnTo>
                  <a:pt x="9" y="16"/>
                </a:lnTo>
                <a:lnTo>
                  <a:pt x="7" y="16"/>
                </a:lnTo>
                <a:lnTo>
                  <a:pt x="5" y="14"/>
                </a:lnTo>
                <a:lnTo>
                  <a:pt x="5" y="11"/>
                </a:lnTo>
                <a:lnTo>
                  <a:pt x="22" y="1"/>
                </a:lnTo>
                <a:lnTo>
                  <a:pt x="29" y="0"/>
                </a:lnTo>
                <a:lnTo>
                  <a:pt x="38" y="0"/>
                </a:lnTo>
                <a:lnTo>
                  <a:pt x="44" y="3"/>
                </a:lnTo>
                <a:lnTo>
                  <a:pt x="47" y="7"/>
                </a:lnTo>
                <a:lnTo>
                  <a:pt x="46" y="16"/>
                </a:lnTo>
                <a:lnTo>
                  <a:pt x="40" y="20"/>
                </a:lnTo>
                <a:lnTo>
                  <a:pt x="36" y="20"/>
                </a:lnTo>
                <a:lnTo>
                  <a:pt x="33" y="12"/>
                </a:lnTo>
                <a:lnTo>
                  <a:pt x="29" y="14"/>
                </a:lnTo>
                <a:lnTo>
                  <a:pt x="24" y="22"/>
                </a:lnTo>
                <a:lnTo>
                  <a:pt x="9" y="23"/>
                </a:lnTo>
                <a:lnTo>
                  <a:pt x="4" y="2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79600" y="6162840"/>
            <a:ext cx="25200" cy="25200"/>
          </a:xfrm>
          <a:custGeom>
            <a:avLst/>
            <a:gdLst/>
            <a:ahLst/>
            <a:rect l="l" t="t" r="r" b="b"/>
            <a:pathLst>
              <a:path w="16" h="17">
                <a:moveTo>
                  <a:pt x="5" y="15"/>
                </a:moveTo>
                <a:lnTo>
                  <a:pt x="2" y="15"/>
                </a:lnTo>
                <a:lnTo>
                  <a:pt x="0" y="8"/>
                </a:lnTo>
                <a:lnTo>
                  <a:pt x="2" y="2"/>
                </a:lnTo>
                <a:lnTo>
                  <a:pt x="5" y="0"/>
                </a:lnTo>
                <a:lnTo>
                  <a:pt x="13" y="2"/>
                </a:lnTo>
                <a:lnTo>
                  <a:pt x="14" y="2"/>
                </a:lnTo>
                <a:lnTo>
                  <a:pt x="16" y="10"/>
                </a:lnTo>
                <a:lnTo>
                  <a:pt x="16" y="11"/>
                </a:lnTo>
                <a:lnTo>
                  <a:pt x="7" y="17"/>
                </a:lnTo>
                <a:lnTo>
                  <a:pt x="5" y="1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12720" y="6168960"/>
            <a:ext cx="25560" cy="158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3" y="11"/>
                </a:moveTo>
                <a:lnTo>
                  <a:pt x="5" y="11"/>
                </a:lnTo>
                <a:lnTo>
                  <a:pt x="2" y="9"/>
                </a:lnTo>
                <a:lnTo>
                  <a:pt x="0" y="6"/>
                </a:lnTo>
                <a:lnTo>
                  <a:pt x="0" y="4"/>
                </a:lnTo>
                <a:lnTo>
                  <a:pt x="7" y="0"/>
                </a:lnTo>
                <a:lnTo>
                  <a:pt x="9" y="0"/>
                </a:lnTo>
                <a:lnTo>
                  <a:pt x="13" y="0"/>
                </a:lnTo>
                <a:lnTo>
                  <a:pt x="15" y="4"/>
                </a:lnTo>
                <a:lnTo>
                  <a:pt x="16" y="6"/>
                </a:lnTo>
                <a:lnTo>
                  <a:pt x="15" y="11"/>
                </a:lnTo>
                <a:lnTo>
                  <a:pt x="13" y="1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172200"/>
            <a:ext cx="50760" cy="50760"/>
          </a:xfrm>
          <a:custGeom>
            <a:avLst/>
            <a:gdLst/>
            <a:ahLst/>
            <a:rect l="l" t="t" r="r" b="b"/>
            <a:pathLst>
              <a:path w="31" h="35">
                <a:moveTo>
                  <a:pt x="2" y="35"/>
                </a:moveTo>
                <a:lnTo>
                  <a:pt x="0" y="33"/>
                </a:lnTo>
                <a:lnTo>
                  <a:pt x="0" y="26"/>
                </a:lnTo>
                <a:lnTo>
                  <a:pt x="9" y="18"/>
                </a:lnTo>
                <a:lnTo>
                  <a:pt x="11" y="7"/>
                </a:lnTo>
                <a:lnTo>
                  <a:pt x="11" y="5"/>
                </a:lnTo>
                <a:lnTo>
                  <a:pt x="11" y="2"/>
                </a:lnTo>
                <a:lnTo>
                  <a:pt x="16" y="0"/>
                </a:lnTo>
                <a:lnTo>
                  <a:pt x="18" y="0"/>
                </a:lnTo>
                <a:lnTo>
                  <a:pt x="31" y="5"/>
                </a:lnTo>
                <a:lnTo>
                  <a:pt x="31" y="9"/>
                </a:lnTo>
                <a:lnTo>
                  <a:pt x="31" y="13"/>
                </a:lnTo>
                <a:lnTo>
                  <a:pt x="29" y="13"/>
                </a:lnTo>
                <a:lnTo>
                  <a:pt x="25" y="13"/>
                </a:lnTo>
                <a:lnTo>
                  <a:pt x="23" y="13"/>
                </a:lnTo>
                <a:lnTo>
                  <a:pt x="18" y="22"/>
                </a:lnTo>
                <a:lnTo>
                  <a:pt x="18" y="26"/>
                </a:lnTo>
                <a:lnTo>
                  <a:pt x="16" y="29"/>
                </a:lnTo>
                <a:lnTo>
                  <a:pt x="2" y="3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59080" y="6172200"/>
            <a:ext cx="23760" cy="25560"/>
          </a:xfrm>
          <a:custGeom>
            <a:avLst/>
            <a:gdLst/>
            <a:ahLst/>
            <a:rect l="l" t="t" r="r" b="b"/>
            <a:pathLst>
              <a:path w="15" h="18">
                <a:moveTo>
                  <a:pt x="13" y="16"/>
                </a:moveTo>
                <a:lnTo>
                  <a:pt x="6" y="15"/>
                </a:lnTo>
                <a:lnTo>
                  <a:pt x="2" y="13"/>
                </a:lnTo>
                <a:lnTo>
                  <a:pt x="0" y="4"/>
                </a:lnTo>
                <a:lnTo>
                  <a:pt x="0" y="2"/>
                </a:lnTo>
                <a:lnTo>
                  <a:pt x="7" y="0"/>
                </a:lnTo>
                <a:lnTo>
                  <a:pt x="9" y="2"/>
                </a:lnTo>
                <a:lnTo>
                  <a:pt x="15" y="11"/>
                </a:lnTo>
                <a:lnTo>
                  <a:pt x="15" y="16"/>
                </a:lnTo>
                <a:lnTo>
                  <a:pt x="15" y="18"/>
                </a:lnTo>
                <a:lnTo>
                  <a:pt x="13" y="1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61960" y="6210360"/>
            <a:ext cx="50760" cy="36360"/>
          </a:xfrm>
          <a:custGeom>
            <a:avLst/>
            <a:gdLst/>
            <a:ahLst/>
            <a:rect l="l" t="t" r="r" b="b"/>
            <a:pathLst>
              <a:path w="31" h="25">
                <a:moveTo>
                  <a:pt x="22" y="25"/>
                </a:moveTo>
                <a:lnTo>
                  <a:pt x="18" y="23"/>
                </a:lnTo>
                <a:lnTo>
                  <a:pt x="4" y="18"/>
                </a:lnTo>
                <a:lnTo>
                  <a:pt x="0" y="16"/>
                </a:lnTo>
                <a:lnTo>
                  <a:pt x="0" y="12"/>
                </a:lnTo>
                <a:lnTo>
                  <a:pt x="2" y="12"/>
                </a:lnTo>
                <a:lnTo>
                  <a:pt x="9" y="12"/>
                </a:lnTo>
                <a:lnTo>
                  <a:pt x="15" y="7"/>
                </a:lnTo>
                <a:lnTo>
                  <a:pt x="13" y="1"/>
                </a:lnTo>
                <a:lnTo>
                  <a:pt x="15" y="0"/>
                </a:lnTo>
                <a:lnTo>
                  <a:pt x="18" y="1"/>
                </a:lnTo>
                <a:lnTo>
                  <a:pt x="31" y="21"/>
                </a:lnTo>
                <a:lnTo>
                  <a:pt x="31" y="23"/>
                </a:lnTo>
                <a:lnTo>
                  <a:pt x="27" y="23"/>
                </a:lnTo>
                <a:lnTo>
                  <a:pt x="22" y="2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5240" y="6219720"/>
            <a:ext cx="44280" cy="68400"/>
          </a:xfrm>
          <a:custGeom>
            <a:avLst/>
            <a:gdLst/>
            <a:ahLst/>
            <a:rect l="l" t="t" r="r" b="b"/>
            <a:pathLst>
              <a:path w="28" h="47">
                <a:moveTo>
                  <a:pt x="9" y="47"/>
                </a:moveTo>
                <a:lnTo>
                  <a:pt x="0" y="35"/>
                </a:lnTo>
                <a:lnTo>
                  <a:pt x="9" y="18"/>
                </a:lnTo>
                <a:lnTo>
                  <a:pt x="13" y="22"/>
                </a:lnTo>
                <a:lnTo>
                  <a:pt x="13" y="24"/>
                </a:lnTo>
                <a:lnTo>
                  <a:pt x="20" y="24"/>
                </a:lnTo>
                <a:lnTo>
                  <a:pt x="22" y="22"/>
                </a:lnTo>
                <a:lnTo>
                  <a:pt x="19" y="11"/>
                </a:lnTo>
                <a:lnTo>
                  <a:pt x="17" y="5"/>
                </a:lnTo>
                <a:lnTo>
                  <a:pt x="13" y="3"/>
                </a:lnTo>
                <a:lnTo>
                  <a:pt x="13" y="2"/>
                </a:lnTo>
                <a:lnTo>
                  <a:pt x="19" y="0"/>
                </a:lnTo>
                <a:lnTo>
                  <a:pt x="24" y="2"/>
                </a:lnTo>
                <a:lnTo>
                  <a:pt x="26" y="3"/>
                </a:lnTo>
                <a:lnTo>
                  <a:pt x="28" y="16"/>
                </a:lnTo>
                <a:lnTo>
                  <a:pt x="22" y="31"/>
                </a:lnTo>
                <a:lnTo>
                  <a:pt x="17" y="42"/>
                </a:lnTo>
                <a:lnTo>
                  <a:pt x="13" y="46"/>
                </a:lnTo>
                <a:lnTo>
                  <a:pt x="9" y="4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08040" y="6224760"/>
            <a:ext cx="3024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13" y="17"/>
                </a:moveTo>
                <a:lnTo>
                  <a:pt x="9" y="15"/>
                </a:lnTo>
                <a:lnTo>
                  <a:pt x="0" y="4"/>
                </a:lnTo>
                <a:lnTo>
                  <a:pt x="0" y="0"/>
                </a:lnTo>
                <a:lnTo>
                  <a:pt x="2" y="0"/>
                </a:lnTo>
                <a:lnTo>
                  <a:pt x="9" y="2"/>
                </a:lnTo>
                <a:lnTo>
                  <a:pt x="15" y="8"/>
                </a:lnTo>
                <a:lnTo>
                  <a:pt x="17" y="11"/>
                </a:lnTo>
                <a:lnTo>
                  <a:pt x="13" y="1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28760" y="6232680"/>
            <a:ext cx="23760" cy="27000"/>
          </a:xfrm>
          <a:custGeom>
            <a:avLst/>
            <a:gdLst/>
            <a:ahLst/>
            <a:rect l="l" t="t" r="r" b="b"/>
            <a:pathLst>
              <a:path w="14" h="18">
                <a:moveTo>
                  <a:pt x="0" y="18"/>
                </a:moveTo>
                <a:lnTo>
                  <a:pt x="0" y="16"/>
                </a:lnTo>
                <a:lnTo>
                  <a:pt x="2" y="7"/>
                </a:lnTo>
                <a:lnTo>
                  <a:pt x="3" y="4"/>
                </a:lnTo>
                <a:lnTo>
                  <a:pt x="9" y="0"/>
                </a:lnTo>
                <a:lnTo>
                  <a:pt x="14" y="2"/>
                </a:lnTo>
                <a:lnTo>
                  <a:pt x="14" y="4"/>
                </a:lnTo>
                <a:lnTo>
                  <a:pt x="14" y="7"/>
                </a:lnTo>
                <a:lnTo>
                  <a:pt x="11" y="15"/>
                </a:lnTo>
                <a:lnTo>
                  <a:pt x="3" y="18"/>
                </a:lnTo>
                <a:lnTo>
                  <a:pt x="0" y="1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20920" y="6232680"/>
            <a:ext cx="65160" cy="34920"/>
          </a:xfrm>
          <a:custGeom>
            <a:avLst/>
            <a:gdLst/>
            <a:ahLst/>
            <a:rect l="l" t="t" r="r" b="b"/>
            <a:pathLst>
              <a:path w="41" h="24">
                <a:moveTo>
                  <a:pt x="33" y="24"/>
                </a:moveTo>
                <a:lnTo>
                  <a:pt x="28" y="22"/>
                </a:lnTo>
                <a:lnTo>
                  <a:pt x="13" y="16"/>
                </a:lnTo>
                <a:lnTo>
                  <a:pt x="8" y="13"/>
                </a:lnTo>
                <a:lnTo>
                  <a:pt x="0" y="0"/>
                </a:lnTo>
                <a:lnTo>
                  <a:pt x="13" y="4"/>
                </a:lnTo>
                <a:lnTo>
                  <a:pt x="41" y="16"/>
                </a:lnTo>
                <a:lnTo>
                  <a:pt x="37" y="22"/>
                </a:lnTo>
                <a:lnTo>
                  <a:pt x="33" y="2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62240" y="6248520"/>
            <a:ext cx="42840" cy="46080"/>
          </a:xfrm>
          <a:custGeom>
            <a:avLst/>
            <a:gdLst/>
            <a:ahLst/>
            <a:rect l="l" t="t" r="r" b="b"/>
            <a:pathLst>
              <a:path w="27" h="31">
                <a:moveTo>
                  <a:pt x="2" y="31"/>
                </a:moveTo>
                <a:lnTo>
                  <a:pt x="0" y="29"/>
                </a:lnTo>
                <a:lnTo>
                  <a:pt x="0" y="27"/>
                </a:lnTo>
                <a:lnTo>
                  <a:pt x="9" y="7"/>
                </a:lnTo>
                <a:lnTo>
                  <a:pt x="13" y="0"/>
                </a:lnTo>
                <a:lnTo>
                  <a:pt x="27" y="2"/>
                </a:lnTo>
                <a:lnTo>
                  <a:pt x="27" y="4"/>
                </a:lnTo>
                <a:lnTo>
                  <a:pt x="11" y="26"/>
                </a:lnTo>
                <a:lnTo>
                  <a:pt x="2" y="3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82840" y="6259680"/>
            <a:ext cx="63360" cy="47520"/>
          </a:xfrm>
          <a:custGeom>
            <a:avLst/>
            <a:gdLst/>
            <a:ahLst/>
            <a:rect l="l" t="t" r="r" b="b"/>
            <a:pathLst>
              <a:path w="40" h="33">
                <a:moveTo>
                  <a:pt x="36" y="31"/>
                </a:moveTo>
                <a:lnTo>
                  <a:pt x="29" y="24"/>
                </a:lnTo>
                <a:lnTo>
                  <a:pt x="22" y="19"/>
                </a:lnTo>
                <a:lnTo>
                  <a:pt x="0" y="9"/>
                </a:lnTo>
                <a:lnTo>
                  <a:pt x="0" y="6"/>
                </a:lnTo>
                <a:lnTo>
                  <a:pt x="2" y="2"/>
                </a:lnTo>
                <a:lnTo>
                  <a:pt x="3" y="0"/>
                </a:lnTo>
                <a:lnTo>
                  <a:pt x="5" y="0"/>
                </a:lnTo>
                <a:lnTo>
                  <a:pt x="33" y="17"/>
                </a:lnTo>
                <a:lnTo>
                  <a:pt x="38" y="24"/>
                </a:lnTo>
                <a:lnTo>
                  <a:pt x="40" y="30"/>
                </a:lnTo>
                <a:lnTo>
                  <a:pt x="40" y="33"/>
                </a:lnTo>
                <a:lnTo>
                  <a:pt x="38" y="33"/>
                </a:lnTo>
                <a:lnTo>
                  <a:pt x="36" y="3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84200" y="6262560"/>
            <a:ext cx="39960" cy="24120"/>
          </a:xfrm>
          <a:custGeom>
            <a:avLst/>
            <a:gdLst/>
            <a:ahLst/>
            <a:rect l="l" t="t" r="r" b="b"/>
            <a:pathLst>
              <a:path w="24" h="17">
                <a:moveTo>
                  <a:pt x="2" y="15"/>
                </a:moveTo>
                <a:lnTo>
                  <a:pt x="4" y="9"/>
                </a:lnTo>
                <a:lnTo>
                  <a:pt x="19" y="0"/>
                </a:lnTo>
                <a:lnTo>
                  <a:pt x="22" y="2"/>
                </a:lnTo>
                <a:lnTo>
                  <a:pt x="24" y="4"/>
                </a:lnTo>
                <a:lnTo>
                  <a:pt x="24" y="7"/>
                </a:lnTo>
                <a:lnTo>
                  <a:pt x="22" y="9"/>
                </a:lnTo>
                <a:lnTo>
                  <a:pt x="2" y="17"/>
                </a:lnTo>
                <a:lnTo>
                  <a:pt x="0" y="17"/>
                </a:lnTo>
                <a:lnTo>
                  <a:pt x="2" y="1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34960" y="6281640"/>
            <a:ext cx="11160" cy="3240"/>
          </a:xfrm>
          <a:custGeom>
            <a:avLst/>
            <a:gdLst/>
            <a:ahLst/>
            <a:rect l="l" t="t" r="r" b="b"/>
            <a:pathLst>
              <a:path w="8" h="2">
                <a:moveTo>
                  <a:pt x="2" y="2"/>
                </a:moveTo>
                <a:lnTo>
                  <a:pt x="0" y="0"/>
                </a:lnTo>
                <a:lnTo>
                  <a:pt x="6" y="0"/>
                </a:lnTo>
                <a:lnTo>
                  <a:pt x="8" y="2"/>
                </a:lnTo>
                <a:lnTo>
                  <a:pt x="6" y="2"/>
                </a:lnTo>
                <a:lnTo>
                  <a:pt x="2" y="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4840" y="6281640"/>
            <a:ext cx="30240" cy="19080"/>
          </a:xfrm>
          <a:custGeom>
            <a:avLst/>
            <a:gdLst/>
            <a:ahLst/>
            <a:rect l="l" t="t" r="r" b="b"/>
            <a:pathLst>
              <a:path w="20" h="13">
                <a:moveTo>
                  <a:pt x="4" y="13"/>
                </a:moveTo>
                <a:lnTo>
                  <a:pt x="2" y="13"/>
                </a:lnTo>
                <a:lnTo>
                  <a:pt x="0" y="11"/>
                </a:lnTo>
                <a:lnTo>
                  <a:pt x="2" y="9"/>
                </a:lnTo>
                <a:lnTo>
                  <a:pt x="2" y="7"/>
                </a:lnTo>
                <a:lnTo>
                  <a:pt x="18" y="0"/>
                </a:lnTo>
                <a:lnTo>
                  <a:pt x="20" y="2"/>
                </a:lnTo>
                <a:lnTo>
                  <a:pt x="13" y="11"/>
                </a:lnTo>
                <a:lnTo>
                  <a:pt x="4" y="1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34960" y="6286680"/>
            <a:ext cx="73080" cy="42840"/>
          </a:xfrm>
          <a:custGeom>
            <a:avLst/>
            <a:gdLst/>
            <a:ahLst/>
            <a:rect l="l" t="t" r="r" b="b"/>
            <a:pathLst>
              <a:path w="46" h="29">
                <a:moveTo>
                  <a:pt x="26" y="29"/>
                </a:moveTo>
                <a:lnTo>
                  <a:pt x="22" y="27"/>
                </a:lnTo>
                <a:lnTo>
                  <a:pt x="19" y="21"/>
                </a:lnTo>
                <a:lnTo>
                  <a:pt x="17" y="14"/>
                </a:lnTo>
                <a:lnTo>
                  <a:pt x="19" y="14"/>
                </a:lnTo>
                <a:lnTo>
                  <a:pt x="21" y="12"/>
                </a:lnTo>
                <a:lnTo>
                  <a:pt x="30" y="16"/>
                </a:lnTo>
                <a:lnTo>
                  <a:pt x="26" y="11"/>
                </a:lnTo>
                <a:lnTo>
                  <a:pt x="22" y="9"/>
                </a:lnTo>
                <a:lnTo>
                  <a:pt x="15" y="7"/>
                </a:lnTo>
                <a:lnTo>
                  <a:pt x="4" y="7"/>
                </a:lnTo>
                <a:lnTo>
                  <a:pt x="0" y="5"/>
                </a:lnTo>
                <a:lnTo>
                  <a:pt x="0" y="3"/>
                </a:lnTo>
                <a:lnTo>
                  <a:pt x="8" y="0"/>
                </a:lnTo>
                <a:lnTo>
                  <a:pt x="11" y="0"/>
                </a:lnTo>
                <a:lnTo>
                  <a:pt x="13" y="0"/>
                </a:lnTo>
                <a:lnTo>
                  <a:pt x="28" y="9"/>
                </a:lnTo>
                <a:lnTo>
                  <a:pt x="46" y="21"/>
                </a:lnTo>
                <a:lnTo>
                  <a:pt x="46" y="23"/>
                </a:lnTo>
                <a:lnTo>
                  <a:pt x="42" y="25"/>
                </a:lnTo>
                <a:lnTo>
                  <a:pt x="30" y="29"/>
                </a:lnTo>
                <a:lnTo>
                  <a:pt x="26" y="2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86080" y="6294600"/>
            <a:ext cx="52200" cy="34920"/>
          </a:xfrm>
          <a:custGeom>
            <a:avLst/>
            <a:gdLst/>
            <a:ahLst/>
            <a:rect l="l" t="t" r="r" b="b"/>
            <a:pathLst>
              <a:path w="32" h="24">
                <a:moveTo>
                  <a:pt x="23" y="24"/>
                </a:moveTo>
                <a:lnTo>
                  <a:pt x="20" y="20"/>
                </a:lnTo>
                <a:lnTo>
                  <a:pt x="16" y="15"/>
                </a:lnTo>
                <a:lnTo>
                  <a:pt x="9" y="11"/>
                </a:lnTo>
                <a:lnTo>
                  <a:pt x="1" y="6"/>
                </a:lnTo>
                <a:lnTo>
                  <a:pt x="0" y="2"/>
                </a:lnTo>
                <a:lnTo>
                  <a:pt x="5" y="0"/>
                </a:lnTo>
                <a:lnTo>
                  <a:pt x="9" y="2"/>
                </a:lnTo>
                <a:lnTo>
                  <a:pt x="12" y="6"/>
                </a:lnTo>
                <a:lnTo>
                  <a:pt x="27" y="9"/>
                </a:lnTo>
                <a:lnTo>
                  <a:pt x="29" y="11"/>
                </a:lnTo>
                <a:lnTo>
                  <a:pt x="31" y="13"/>
                </a:lnTo>
                <a:lnTo>
                  <a:pt x="32" y="20"/>
                </a:lnTo>
                <a:lnTo>
                  <a:pt x="31" y="22"/>
                </a:lnTo>
                <a:lnTo>
                  <a:pt x="27" y="24"/>
                </a:lnTo>
                <a:lnTo>
                  <a:pt x="23" y="2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4840" y="6303960"/>
            <a:ext cx="27000" cy="14400"/>
          </a:xfrm>
          <a:custGeom>
            <a:avLst/>
            <a:gdLst/>
            <a:ahLst/>
            <a:rect l="l" t="t" r="r" b="b"/>
            <a:pathLst>
              <a:path w="18" h="10">
                <a:moveTo>
                  <a:pt x="6" y="10"/>
                </a:moveTo>
                <a:lnTo>
                  <a:pt x="0" y="7"/>
                </a:lnTo>
                <a:lnTo>
                  <a:pt x="0" y="1"/>
                </a:lnTo>
                <a:lnTo>
                  <a:pt x="16" y="0"/>
                </a:lnTo>
                <a:lnTo>
                  <a:pt x="18" y="0"/>
                </a:lnTo>
                <a:lnTo>
                  <a:pt x="18" y="1"/>
                </a:lnTo>
                <a:lnTo>
                  <a:pt x="13" y="9"/>
                </a:lnTo>
                <a:lnTo>
                  <a:pt x="6" y="1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87520" y="6329520"/>
            <a:ext cx="61920" cy="45720"/>
          </a:xfrm>
          <a:custGeom>
            <a:avLst/>
            <a:gdLst/>
            <a:ahLst/>
            <a:rect l="l" t="t" r="r" b="b"/>
            <a:pathLst>
              <a:path w="39" h="31">
                <a:moveTo>
                  <a:pt x="15" y="31"/>
                </a:moveTo>
                <a:lnTo>
                  <a:pt x="13" y="31"/>
                </a:lnTo>
                <a:lnTo>
                  <a:pt x="0" y="22"/>
                </a:lnTo>
                <a:lnTo>
                  <a:pt x="2" y="16"/>
                </a:lnTo>
                <a:lnTo>
                  <a:pt x="8" y="13"/>
                </a:lnTo>
                <a:lnTo>
                  <a:pt x="24" y="3"/>
                </a:lnTo>
                <a:lnTo>
                  <a:pt x="30" y="0"/>
                </a:lnTo>
                <a:lnTo>
                  <a:pt x="33" y="2"/>
                </a:lnTo>
                <a:lnTo>
                  <a:pt x="39" y="7"/>
                </a:lnTo>
                <a:lnTo>
                  <a:pt x="33" y="20"/>
                </a:lnTo>
                <a:lnTo>
                  <a:pt x="26" y="29"/>
                </a:lnTo>
                <a:lnTo>
                  <a:pt x="24" y="29"/>
                </a:lnTo>
                <a:lnTo>
                  <a:pt x="22" y="29"/>
                </a:lnTo>
                <a:lnTo>
                  <a:pt x="15" y="3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06480" y="6337440"/>
            <a:ext cx="520920" cy="350640"/>
          </a:xfrm>
          <a:custGeom>
            <a:avLst/>
            <a:gdLst/>
            <a:ahLst/>
            <a:rect l="l" t="t" r="r" b="b"/>
            <a:pathLst>
              <a:path w="327" h="240">
                <a:moveTo>
                  <a:pt x="272" y="205"/>
                </a:moveTo>
                <a:lnTo>
                  <a:pt x="276" y="201"/>
                </a:lnTo>
                <a:lnTo>
                  <a:pt x="272" y="196"/>
                </a:lnTo>
                <a:lnTo>
                  <a:pt x="274" y="192"/>
                </a:lnTo>
                <a:lnTo>
                  <a:pt x="281" y="192"/>
                </a:lnTo>
                <a:lnTo>
                  <a:pt x="289" y="196"/>
                </a:lnTo>
                <a:lnTo>
                  <a:pt x="290" y="194"/>
                </a:lnTo>
                <a:lnTo>
                  <a:pt x="290" y="190"/>
                </a:lnTo>
                <a:lnTo>
                  <a:pt x="263" y="181"/>
                </a:lnTo>
                <a:lnTo>
                  <a:pt x="239" y="174"/>
                </a:lnTo>
                <a:lnTo>
                  <a:pt x="236" y="170"/>
                </a:lnTo>
                <a:lnTo>
                  <a:pt x="205" y="165"/>
                </a:lnTo>
                <a:lnTo>
                  <a:pt x="190" y="159"/>
                </a:lnTo>
                <a:lnTo>
                  <a:pt x="186" y="156"/>
                </a:lnTo>
                <a:lnTo>
                  <a:pt x="179" y="141"/>
                </a:lnTo>
                <a:lnTo>
                  <a:pt x="175" y="132"/>
                </a:lnTo>
                <a:lnTo>
                  <a:pt x="175" y="128"/>
                </a:lnTo>
                <a:lnTo>
                  <a:pt x="177" y="125"/>
                </a:lnTo>
                <a:lnTo>
                  <a:pt x="201" y="115"/>
                </a:lnTo>
                <a:lnTo>
                  <a:pt x="212" y="115"/>
                </a:lnTo>
                <a:lnTo>
                  <a:pt x="216" y="115"/>
                </a:lnTo>
                <a:lnTo>
                  <a:pt x="256" y="101"/>
                </a:lnTo>
                <a:lnTo>
                  <a:pt x="258" y="99"/>
                </a:lnTo>
                <a:lnTo>
                  <a:pt x="258" y="97"/>
                </a:lnTo>
                <a:lnTo>
                  <a:pt x="256" y="88"/>
                </a:lnTo>
                <a:lnTo>
                  <a:pt x="256" y="86"/>
                </a:lnTo>
                <a:lnTo>
                  <a:pt x="252" y="84"/>
                </a:lnTo>
                <a:lnTo>
                  <a:pt x="236" y="84"/>
                </a:lnTo>
                <a:lnTo>
                  <a:pt x="205" y="86"/>
                </a:lnTo>
                <a:lnTo>
                  <a:pt x="195" y="90"/>
                </a:lnTo>
                <a:lnTo>
                  <a:pt x="192" y="92"/>
                </a:lnTo>
                <a:lnTo>
                  <a:pt x="188" y="95"/>
                </a:lnTo>
                <a:lnTo>
                  <a:pt x="173" y="99"/>
                </a:lnTo>
                <a:lnTo>
                  <a:pt x="168" y="97"/>
                </a:lnTo>
                <a:lnTo>
                  <a:pt x="152" y="88"/>
                </a:lnTo>
                <a:lnTo>
                  <a:pt x="148" y="81"/>
                </a:lnTo>
                <a:lnTo>
                  <a:pt x="148" y="73"/>
                </a:lnTo>
                <a:lnTo>
                  <a:pt x="150" y="57"/>
                </a:lnTo>
                <a:lnTo>
                  <a:pt x="152" y="53"/>
                </a:lnTo>
                <a:lnTo>
                  <a:pt x="161" y="48"/>
                </a:lnTo>
                <a:lnTo>
                  <a:pt x="159" y="51"/>
                </a:lnTo>
                <a:lnTo>
                  <a:pt x="161" y="57"/>
                </a:lnTo>
                <a:lnTo>
                  <a:pt x="163" y="57"/>
                </a:lnTo>
                <a:lnTo>
                  <a:pt x="175" y="55"/>
                </a:lnTo>
                <a:lnTo>
                  <a:pt x="181" y="51"/>
                </a:lnTo>
                <a:lnTo>
                  <a:pt x="184" y="44"/>
                </a:lnTo>
                <a:lnTo>
                  <a:pt x="183" y="42"/>
                </a:lnTo>
                <a:lnTo>
                  <a:pt x="173" y="40"/>
                </a:lnTo>
                <a:lnTo>
                  <a:pt x="168" y="37"/>
                </a:lnTo>
                <a:lnTo>
                  <a:pt x="168" y="33"/>
                </a:lnTo>
                <a:lnTo>
                  <a:pt x="166" y="33"/>
                </a:lnTo>
                <a:lnTo>
                  <a:pt x="161" y="31"/>
                </a:lnTo>
                <a:lnTo>
                  <a:pt x="153" y="31"/>
                </a:lnTo>
                <a:lnTo>
                  <a:pt x="155" y="30"/>
                </a:lnTo>
                <a:lnTo>
                  <a:pt x="159" y="28"/>
                </a:lnTo>
                <a:lnTo>
                  <a:pt x="179" y="26"/>
                </a:lnTo>
                <a:lnTo>
                  <a:pt x="183" y="28"/>
                </a:lnTo>
                <a:lnTo>
                  <a:pt x="190" y="33"/>
                </a:lnTo>
                <a:lnTo>
                  <a:pt x="194" y="37"/>
                </a:lnTo>
                <a:lnTo>
                  <a:pt x="197" y="37"/>
                </a:lnTo>
                <a:lnTo>
                  <a:pt x="201" y="37"/>
                </a:lnTo>
                <a:lnTo>
                  <a:pt x="219" y="30"/>
                </a:lnTo>
                <a:lnTo>
                  <a:pt x="223" y="28"/>
                </a:lnTo>
                <a:lnTo>
                  <a:pt x="232" y="19"/>
                </a:lnTo>
                <a:lnTo>
                  <a:pt x="232" y="15"/>
                </a:lnTo>
                <a:lnTo>
                  <a:pt x="232" y="8"/>
                </a:lnTo>
                <a:lnTo>
                  <a:pt x="236" y="6"/>
                </a:lnTo>
                <a:lnTo>
                  <a:pt x="250" y="0"/>
                </a:lnTo>
                <a:lnTo>
                  <a:pt x="256" y="6"/>
                </a:lnTo>
                <a:lnTo>
                  <a:pt x="258" y="9"/>
                </a:lnTo>
                <a:lnTo>
                  <a:pt x="269" y="19"/>
                </a:lnTo>
                <a:lnTo>
                  <a:pt x="276" y="22"/>
                </a:lnTo>
                <a:lnTo>
                  <a:pt x="278" y="22"/>
                </a:lnTo>
                <a:lnTo>
                  <a:pt x="292" y="19"/>
                </a:lnTo>
                <a:lnTo>
                  <a:pt x="305" y="13"/>
                </a:lnTo>
                <a:lnTo>
                  <a:pt x="309" y="13"/>
                </a:lnTo>
                <a:lnTo>
                  <a:pt x="320" y="15"/>
                </a:lnTo>
                <a:lnTo>
                  <a:pt x="327" y="19"/>
                </a:lnTo>
                <a:lnTo>
                  <a:pt x="325" y="225"/>
                </a:lnTo>
                <a:lnTo>
                  <a:pt x="325" y="227"/>
                </a:lnTo>
                <a:lnTo>
                  <a:pt x="325" y="234"/>
                </a:lnTo>
                <a:lnTo>
                  <a:pt x="323" y="234"/>
                </a:lnTo>
                <a:lnTo>
                  <a:pt x="322" y="234"/>
                </a:lnTo>
                <a:lnTo>
                  <a:pt x="314" y="231"/>
                </a:lnTo>
                <a:lnTo>
                  <a:pt x="301" y="225"/>
                </a:lnTo>
                <a:lnTo>
                  <a:pt x="300" y="227"/>
                </a:lnTo>
                <a:lnTo>
                  <a:pt x="305" y="231"/>
                </a:lnTo>
                <a:lnTo>
                  <a:pt x="309" y="232"/>
                </a:lnTo>
                <a:lnTo>
                  <a:pt x="312" y="234"/>
                </a:lnTo>
                <a:lnTo>
                  <a:pt x="314" y="236"/>
                </a:lnTo>
                <a:lnTo>
                  <a:pt x="309" y="238"/>
                </a:lnTo>
                <a:lnTo>
                  <a:pt x="294" y="240"/>
                </a:lnTo>
                <a:lnTo>
                  <a:pt x="280" y="240"/>
                </a:lnTo>
                <a:lnTo>
                  <a:pt x="237" y="231"/>
                </a:lnTo>
                <a:lnTo>
                  <a:pt x="227" y="229"/>
                </a:lnTo>
                <a:lnTo>
                  <a:pt x="227" y="225"/>
                </a:lnTo>
                <a:lnTo>
                  <a:pt x="230" y="221"/>
                </a:lnTo>
                <a:lnTo>
                  <a:pt x="230" y="216"/>
                </a:lnTo>
                <a:lnTo>
                  <a:pt x="221" y="220"/>
                </a:lnTo>
                <a:lnTo>
                  <a:pt x="221" y="225"/>
                </a:lnTo>
                <a:lnTo>
                  <a:pt x="219" y="227"/>
                </a:lnTo>
                <a:lnTo>
                  <a:pt x="184" y="231"/>
                </a:lnTo>
                <a:lnTo>
                  <a:pt x="170" y="232"/>
                </a:lnTo>
                <a:lnTo>
                  <a:pt x="164" y="231"/>
                </a:lnTo>
                <a:lnTo>
                  <a:pt x="163" y="229"/>
                </a:lnTo>
                <a:lnTo>
                  <a:pt x="163" y="225"/>
                </a:lnTo>
                <a:lnTo>
                  <a:pt x="172" y="218"/>
                </a:lnTo>
                <a:lnTo>
                  <a:pt x="172" y="216"/>
                </a:lnTo>
                <a:lnTo>
                  <a:pt x="163" y="221"/>
                </a:lnTo>
                <a:lnTo>
                  <a:pt x="159" y="227"/>
                </a:lnTo>
                <a:lnTo>
                  <a:pt x="155" y="229"/>
                </a:lnTo>
                <a:lnTo>
                  <a:pt x="133" y="227"/>
                </a:lnTo>
                <a:lnTo>
                  <a:pt x="122" y="231"/>
                </a:lnTo>
                <a:lnTo>
                  <a:pt x="117" y="229"/>
                </a:lnTo>
                <a:lnTo>
                  <a:pt x="113" y="229"/>
                </a:lnTo>
                <a:lnTo>
                  <a:pt x="113" y="227"/>
                </a:lnTo>
                <a:lnTo>
                  <a:pt x="119" y="223"/>
                </a:lnTo>
                <a:lnTo>
                  <a:pt x="128" y="221"/>
                </a:lnTo>
                <a:lnTo>
                  <a:pt x="144" y="216"/>
                </a:lnTo>
                <a:lnTo>
                  <a:pt x="150" y="210"/>
                </a:lnTo>
                <a:lnTo>
                  <a:pt x="150" y="209"/>
                </a:lnTo>
                <a:lnTo>
                  <a:pt x="141" y="209"/>
                </a:lnTo>
                <a:lnTo>
                  <a:pt x="133" y="214"/>
                </a:lnTo>
                <a:lnTo>
                  <a:pt x="137" y="216"/>
                </a:lnTo>
                <a:lnTo>
                  <a:pt x="133" y="218"/>
                </a:lnTo>
                <a:lnTo>
                  <a:pt x="117" y="221"/>
                </a:lnTo>
                <a:lnTo>
                  <a:pt x="108" y="221"/>
                </a:lnTo>
                <a:lnTo>
                  <a:pt x="106" y="218"/>
                </a:lnTo>
                <a:lnTo>
                  <a:pt x="111" y="218"/>
                </a:lnTo>
                <a:lnTo>
                  <a:pt x="119" y="216"/>
                </a:lnTo>
                <a:lnTo>
                  <a:pt x="120" y="214"/>
                </a:lnTo>
                <a:lnTo>
                  <a:pt x="117" y="214"/>
                </a:lnTo>
                <a:lnTo>
                  <a:pt x="109" y="216"/>
                </a:lnTo>
                <a:lnTo>
                  <a:pt x="104" y="218"/>
                </a:lnTo>
                <a:lnTo>
                  <a:pt x="97" y="223"/>
                </a:lnTo>
                <a:lnTo>
                  <a:pt x="95" y="223"/>
                </a:lnTo>
                <a:lnTo>
                  <a:pt x="93" y="223"/>
                </a:lnTo>
                <a:lnTo>
                  <a:pt x="93" y="221"/>
                </a:lnTo>
                <a:lnTo>
                  <a:pt x="99" y="218"/>
                </a:lnTo>
                <a:lnTo>
                  <a:pt x="100" y="210"/>
                </a:lnTo>
                <a:lnTo>
                  <a:pt x="100" y="209"/>
                </a:lnTo>
                <a:lnTo>
                  <a:pt x="97" y="209"/>
                </a:lnTo>
                <a:lnTo>
                  <a:pt x="93" y="209"/>
                </a:lnTo>
                <a:lnTo>
                  <a:pt x="93" y="212"/>
                </a:lnTo>
                <a:lnTo>
                  <a:pt x="91" y="212"/>
                </a:lnTo>
                <a:lnTo>
                  <a:pt x="80" y="216"/>
                </a:lnTo>
                <a:lnTo>
                  <a:pt x="71" y="214"/>
                </a:lnTo>
                <a:lnTo>
                  <a:pt x="69" y="214"/>
                </a:lnTo>
                <a:lnTo>
                  <a:pt x="69" y="212"/>
                </a:lnTo>
                <a:lnTo>
                  <a:pt x="71" y="210"/>
                </a:lnTo>
                <a:lnTo>
                  <a:pt x="73" y="209"/>
                </a:lnTo>
                <a:lnTo>
                  <a:pt x="73" y="205"/>
                </a:lnTo>
                <a:lnTo>
                  <a:pt x="66" y="200"/>
                </a:lnTo>
                <a:lnTo>
                  <a:pt x="64" y="200"/>
                </a:lnTo>
                <a:lnTo>
                  <a:pt x="58" y="203"/>
                </a:lnTo>
                <a:lnTo>
                  <a:pt x="51" y="214"/>
                </a:lnTo>
                <a:lnTo>
                  <a:pt x="51" y="216"/>
                </a:lnTo>
                <a:lnTo>
                  <a:pt x="33" y="207"/>
                </a:lnTo>
                <a:lnTo>
                  <a:pt x="27" y="209"/>
                </a:lnTo>
                <a:lnTo>
                  <a:pt x="20" y="212"/>
                </a:lnTo>
                <a:lnTo>
                  <a:pt x="9" y="212"/>
                </a:lnTo>
                <a:lnTo>
                  <a:pt x="5" y="210"/>
                </a:lnTo>
                <a:lnTo>
                  <a:pt x="2" y="203"/>
                </a:lnTo>
                <a:lnTo>
                  <a:pt x="0" y="198"/>
                </a:lnTo>
                <a:lnTo>
                  <a:pt x="2" y="194"/>
                </a:lnTo>
                <a:lnTo>
                  <a:pt x="2" y="192"/>
                </a:lnTo>
                <a:lnTo>
                  <a:pt x="9" y="194"/>
                </a:lnTo>
                <a:lnTo>
                  <a:pt x="14" y="196"/>
                </a:lnTo>
                <a:lnTo>
                  <a:pt x="16" y="201"/>
                </a:lnTo>
                <a:lnTo>
                  <a:pt x="25" y="203"/>
                </a:lnTo>
                <a:lnTo>
                  <a:pt x="33" y="205"/>
                </a:lnTo>
                <a:lnTo>
                  <a:pt x="42" y="201"/>
                </a:lnTo>
                <a:lnTo>
                  <a:pt x="31" y="194"/>
                </a:lnTo>
                <a:lnTo>
                  <a:pt x="27" y="194"/>
                </a:lnTo>
                <a:lnTo>
                  <a:pt x="22" y="194"/>
                </a:lnTo>
                <a:lnTo>
                  <a:pt x="18" y="194"/>
                </a:lnTo>
                <a:lnTo>
                  <a:pt x="16" y="192"/>
                </a:lnTo>
                <a:lnTo>
                  <a:pt x="16" y="189"/>
                </a:lnTo>
                <a:lnTo>
                  <a:pt x="22" y="187"/>
                </a:lnTo>
                <a:lnTo>
                  <a:pt x="29" y="189"/>
                </a:lnTo>
                <a:lnTo>
                  <a:pt x="29" y="190"/>
                </a:lnTo>
                <a:lnTo>
                  <a:pt x="36" y="196"/>
                </a:lnTo>
                <a:lnTo>
                  <a:pt x="44" y="198"/>
                </a:lnTo>
                <a:lnTo>
                  <a:pt x="49" y="198"/>
                </a:lnTo>
                <a:lnTo>
                  <a:pt x="51" y="196"/>
                </a:lnTo>
                <a:lnTo>
                  <a:pt x="49" y="194"/>
                </a:lnTo>
                <a:lnTo>
                  <a:pt x="44" y="194"/>
                </a:lnTo>
                <a:lnTo>
                  <a:pt x="40" y="194"/>
                </a:lnTo>
                <a:lnTo>
                  <a:pt x="38" y="190"/>
                </a:lnTo>
                <a:lnTo>
                  <a:pt x="40" y="189"/>
                </a:lnTo>
                <a:lnTo>
                  <a:pt x="42" y="189"/>
                </a:lnTo>
                <a:lnTo>
                  <a:pt x="55" y="192"/>
                </a:lnTo>
                <a:lnTo>
                  <a:pt x="62" y="190"/>
                </a:lnTo>
                <a:lnTo>
                  <a:pt x="56" y="189"/>
                </a:lnTo>
                <a:lnTo>
                  <a:pt x="64" y="185"/>
                </a:lnTo>
                <a:lnTo>
                  <a:pt x="80" y="190"/>
                </a:lnTo>
                <a:lnTo>
                  <a:pt x="100" y="194"/>
                </a:lnTo>
                <a:lnTo>
                  <a:pt x="104" y="189"/>
                </a:lnTo>
                <a:lnTo>
                  <a:pt x="102" y="183"/>
                </a:lnTo>
                <a:lnTo>
                  <a:pt x="104" y="183"/>
                </a:lnTo>
                <a:lnTo>
                  <a:pt x="111" y="179"/>
                </a:lnTo>
                <a:lnTo>
                  <a:pt x="130" y="181"/>
                </a:lnTo>
                <a:lnTo>
                  <a:pt x="135" y="183"/>
                </a:lnTo>
                <a:lnTo>
                  <a:pt x="130" y="187"/>
                </a:lnTo>
                <a:lnTo>
                  <a:pt x="126" y="192"/>
                </a:lnTo>
                <a:lnTo>
                  <a:pt x="120" y="207"/>
                </a:lnTo>
                <a:lnTo>
                  <a:pt x="124" y="203"/>
                </a:lnTo>
                <a:lnTo>
                  <a:pt x="131" y="207"/>
                </a:lnTo>
                <a:lnTo>
                  <a:pt x="126" y="201"/>
                </a:lnTo>
                <a:lnTo>
                  <a:pt x="126" y="200"/>
                </a:lnTo>
                <a:lnTo>
                  <a:pt x="130" y="192"/>
                </a:lnTo>
                <a:lnTo>
                  <a:pt x="137" y="187"/>
                </a:lnTo>
                <a:lnTo>
                  <a:pt x="139" y="187"/>
                </a:lnTo>
                <a:lnTo>
                  <a:pt x="141" y="190"/>
                </a:lnTo>
                <a:lnTo>
                  <a:pt x="163" y="200"/>
                </a:lnTo>
                <a:lnTo>
                  <a:pt x="166" y="203"/>
                </a:lnTo>
                <a:lnTo>
                  <a:pt x="170" y="203"/>
                </a:lnTo>
                <a:lnTo>
                  <a:pt x="181" y="201"/>
                </a:lnTo>
                <a:lnTo>
                  <a:pt x="170" y="196"/>
                </a:lnTo>
                <a:lnTo>
                  <a:pt x="152" y="190"/>
                </a:lnTo>
                <a:lnTo>
                  <a:pt x="144" y="185"/>
                </a:lnTo>
                <a:lnTo>
                  <a:pt x="146" y="181"/>
                </a:lnTo>
                <a:lnTo>
                  <a:pt x="142" y="178"/>
                </a:lnTo>
                <a:lnTo>
                  <a:pt x="139" y="176"/>
                </a:lnTo>
                <a:lnTo>
                  <a:pt x="128" y="174"/>
                </a:lnTo>
                <a:lnTo>
                  <a:pt x="115" y="176"/>
                </a:lnTo>
                <a:lnTo>
                  <a:pt x="111" y="174"/>
                </a:lnTo>
                <a:lnTo>
                  <a:pt x="109" y="172"/>
                </a:lnTo>
                <a:lnTo>
                  <a:pt x="106" y="163"/>
                </a:lnTo>
                <a:lnTo>
                  <a:pt x="109" y="161"/>
                </a:lnTo>
                <a:lnTo>
                  <a:pt x="119" y="167"/>
                </a:lnTo>
                <a:lnTo>
                  <a:pt x="161" y="179"/>
                </a:lnTo>
                <a:lnTo>
                  <a:pt x="181" y="190"/>
                </a:lnTo>
                <a:lnTo>
                  <a:pt x="186" y="187"/>
                </a:lnTo>
                <a:lnTo>
                  <a:pt x="188" y="185"/>
                </a:lnTo>
                <a:lnTo>
                  <a:pt x="177" y="183"/>
                </a:lnTo>
                <a:lnTo>
                  <a:pt x="175" y="181"/>
                </a:lnTo>
                <a:lnTo>
                  <a:pt x="175" y="179"/>
                </a:lnTo>
                <a:lnTo>
                  <a:pt x="184" y="174"/>
                </a:lnTo>
                <a:lnTo>
                  <a:pt x="188" y="174"/>
                </a:lnTo>
                <a:lnTo>
                  <a:pt x="194" y="176"/>
                </a:lnTo>
                <a:lnTo>
                  <a:pt x="197" y="178"/>
                </a:lnTo>
                <a:lnTo>
                  <a:pt x="206" y="190"/>
                </a:lnTo>
                <a:lnTo>
                  <a:pt x="214" y="200"/>
                </a:lnTo>
                <a:lnTo>
                  <a:pt x="214" y="201"/>
                </a:lnTo>
                <a:lnTo>
                  <a:pt x="216" y="203"/>
                </a:lnTo>
                <a:lnTo>
                  <a:pt x="217" y="201"/>
                </a:lnTo>
                <a:lnTo>
                  <a:pt x="219" y="196"/>
                </a:lnTo>
                <a:lnTo>
                  <a:pt x="208" y="181"/>
                </a:lnTo>
                <a:lnTo>
                  <a:pt x="205" y="179"/>
                </a:lnTo>
                <a:lnTo>
                  <a:pt x="206" y="178"/>
                </a:lnTo>
                <a:lnTo>
                  <a:pt x="208" y="176"/>
                </a:lnTo>
                <a:lnTo>
                  <a:pt x="214" y="178"/>
                </a:lnTo>
                <a:lnTo>
                  <a:pt x="225" y="179"/>
                </a:lnTo>
                <a:lnTo>
                  <a:pt x="228" y="183"/>
                </a:lnTo>
                <a:lnTo>
                  <a:pt x="252" y="187"/>
                </a:lnTo>
                <a:lnTo>
                  <a:pt x="265" y="192"/>
                </a:lnTo>
                <a:lnTo>
                  <a:pt x="269" y="192"/>
                </a:lnTo>
                <a:lnTo>
                  <a:pt x="269" y="196"/>
                </a:lnTo>
                <a:lnTo>
                  <a:pt x="261" y="200"/>
                </a:lnTo>
                <a:lnTo>
                  <a:pt x="256" y="203"/>
                </a:lnTo>
                <a:lnTo>
                  <a:pt x="250" y="210"/>
                </a:lnTo>
                <a:lnTo>
                  <a:pt x="252" y="214"/>
                </a:lnTo>
                <a:lnTo>
                  <a:pt x="254" y="216"/>
                </a:lnTo>
                <a:lnTo>
                  <a:pt x="254" y="212"/>
                </a:lnTo>
                <a:lnTo>
                  <a:pt x="261" y="201"/>
                </a:lnTo>
                <a:lnTo>
                  <a:pt x="263" y="201"/>
                </a:lnTo>
                <a:lnTo>
                  <a:pt x="267" y="200"/>
                </a:lnTo>
                <a:lnTo>
                  <a:pt x="269" y="200"/>
                </a:lnTo>
                <a:lnTo>
                  <a:pt x="272" y="20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89040" y="6372360"/>
            <a:ext cx="14400" cy="6120"/>
          </a:xfrm>
          <a:custGeom>
            <a:avLst/>
            <a:gdLst/>
            <a:ahLst/>
            <a:rect l="l" t="t" r="r" b="b"/>
            <a:pathLst>
              <a:path w="8" h="4">
                <a:moveTo>
                  <a:pt x="2" y="4"/>
                </a:moveTo>
                <a:lnTo>
                  <a:pt x="6" y="0"/>
                </a:lnTo>
                <a:lnTo>
                  <a:pt x="8" y="0"/>
                </a:lnTo>
                <a:lnTo>
                  <a:pt x="4" y="4"/>
                </a:lnTo>
                <a:lnTo>
                  <a:pt x="2" y="4"/>
                </a:lnTo>
                <a:lnTo>
                  <a:pt x="0" y="4"/>
                </a:lnTo>
                <a:lnTo>
                  <a:pt x="2" y="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84200" y="6375240"/>
            <a:ext cx="257400" cy="90720"/>
          </a:xfrm>
          <a:custGeom>
            <a:avLst/>
            <a:gdLst/>
            <a:ahLst/>
            <a:rect l="l" t="t" r="r" b="b"/>
            <a:pathLst>
              <a:path w="159" h="62">
                <a:moveTo>
                  <a:pt x="132" y="53"/>
                </a:moveTo>
                <a:lnTo>
                  <a:pt x="139" y="53"/>
                </a:lnTo>
                <a:lnTo>
                  <a:pt x="158" y="60"/>
                </a:lnTo>
                <a:lnTo>
                  <a:pt x="159" y="60"/>
                </a:lnTo>
                <a:lnTo>
                  <a:pt x="159" y="62"/>
                </a:lnTo>
                <a:lnTo>
                  <a:pt x="156" y="62"/>
                </a:lnTo>
                <a:lnTo>
                  <a:pt x="145" y="62"/>
                </a:lnTo>
                <a:lnTo>
                  <a:pt x="121" y="58"/>
                </a:lnTo>
                <a:lnTo>
                  <a:pt x="119" y="55"/>
                </a:lnTo>
                <a:lnTo>
                  <a:pt x="112" y="53"/>
                </a:lnTo>
                <a:lnTo>
                  <a:pt x="110" y="49"/>
                </a:lnTo>
                <a:lnTo>
                  <a:pt x="99" y="44"/>
                </a:lnTo>
                <a:lnTo>
                  <a:pt x="95" y="44"/>
                </a:lnTo>
                <a:lnTo>
                  <a:pt x="81" y="33"/>
                </a:lnTo>
                <a:lnTo>
                  <a:pt x="73" y="35"/>
                </a:lnTo>
                <a:lnTo>
                  <a:pt x="64" y="36"/>
                </a:lnTo>
                <a:lnTo>
                  <a:pt x="41" y="36"/>
                </a:lnTo>
                <a:lnTo>
                  <a:pt x="37" y="31"/>
                </a:lnTo>
                <a:lnTo>
                  <a:pt x="30" y="25"/>
                </a:lnTo>
                <a:lnTo>
                  <a:pt x="22" y="24"/>
                </a:lnTo>
                <a:lnTo>
                  <a:pt x="15" y="20"/>
                </a:lnTo>
                <a:lnTo>
                  <a:pt x="13" y="18"/>
                </a:lnTo>
                <a:lnTo>
                  <a:pt x="17" y="13"/>
                </a:lnTo>
                <a:lnTo>
                  <a:pt x="13" y="11"/>
                </a:lnTo>
                <a:lnTo>
                  <a:pt x="4" y="7"/>
                </a:lnTo>
                <a:lnTo>
                  <a:pt x="0" y="4"/>
                </a:lnTo>
                <a:lnTo>
                  <a:pt x="4" y="0"/>
                </a:lnTo>
                <a:lnTo>
                  <a:pt x="9" y="2"/>
                </a:lnTo>
                <a:lnTo>
                  <a:pt x="22" y="11"/>
                </a:lnTo>
                <a:lnTo>
                  <a:pt x="28" y="14"/>
                </a:lnTo>
                <a:lnTo>
                  <a:pt x="33" y="20"/>
                </a:lnTo>
                <a:lnTo>
                  <a:pt x="37" y="22"/>
                </a:lnTo>
                <a:lnTo>
                  <a:pt x="46" y="24"/>
                </a:lnTo>
                <a:lnTo>
                  <a:pt x="48" y="22"/>
                </a:lnTo>
                <a:lnTo>
                  <a:pt x="59" y="20"/>
                </a:lnTo>
                <a:lnTo>
                  <a:pt x="68" y="24"/>
                </a:lnTo>
                <a:lnTo>
                  <a:pt x="81" y="27"/>
                </a:lnTo>
                <a:lnTo>
                  <a:pt x="92" y="33"/>
                </a:lnTo>
                <a:lnTo>
                  <a:pt x="99" y="35"/>
                </a:lnTo>
                <a:lnTo>
                  <a:pt x="105" y="35"/>
                </a:lnTo>
                <a:lnTo>
                  <a:pt x="105" y="33"/>
                </a:lnTo>
                <a:lnTo>
                  <a:pt x="108" y="33"/>
                </a:lnTo>
                <a:lnTo>
                  <a:pt x="114" y="38"/>
                </a:lnTo>
                <a:lnTo>
                  <a:pt x="116" y="42"/>
                </a:lnTo>
                <a:lnTo>
                  <a:pt x="112" y="46"/>
                </a:lnTo>
                <a:lnTo>
                  <a:pt x="117" y="51"/>
                </a:lnTo>
                <a:lnTo>
                  <a:pt x="119" y="53"/>
                </a:lnTo>
                <a:lnTo>
                  <a:pt x="123" y="49"/>
                </a:lnTo>
                <a:lnTo>
                  <a:pt x="119" y="40"/>
                </a:lnTo>
                <a:lnTo>
                  <a:pt x="121" y="40"/>
                </a:lnTo>
                <a:lnTo>
                  <a:pt x="127" y="42"/>
                </a:lnTo>
                <a:lnTo>
                  <a:pt x="137" y="49"/>
                </a:lnTo>
                <a:lnTo>
                  <a:pt x="132" y="5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94040" y="6388200"/>
            <a:ext cx="25200" cy="11160"/>
          </a:xfrm>
          <a:custGeom>
            <a:avLst/>
            <a:gdLst/>
            <a:ahLst/>
            <a:rect l="l" t="t" r="r" b="b"/>
            <a:pathLst>
              <a:path w="16" h="7">
                <a:moveTo>
                  <a:pt x="3" y="7"/>
                </a:moveTo>
                <a:lnTo>
                  <a:pt x="0" y="7"/>
                </a:lnTo>
                <a:lnTo>
                  <a:pt x="0" y="5"/>
                </a:lnTo>
                <a:lnTo>
                  <a:pt x="12" y="0"/>
                </a:lnTo>
                <a:lnTo>
                  <a:pt x="16" y="0"/>
                </a:lnTo>
                <a:lnTo>
                  <a:pt x="14" y="2"/>
                </a:lnTo>
                <a:lnTo>
                  <a:pt x="7" y="7"/>
                </a:lnTo>
                <a:lnTo>
                  <a:pt x="3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38280" y="6394320"/>
            <a:ext cx="58680" cy="12960"/>
          </a:xfrm>
          <a:custGeom>
            <a:avLst/>
            <a:gdLst/>
            <a:ahLst/>
            <a:rect l="l" t="t" r="r" b="b"/>
            <a:pathLst>
              <a:path w="37" h="9">
                <a:moveTo>
                  <a:pt x="33" y="9"/>
                </a:moveTo>
                <a:lnTo>
                  <a:pt x="28" y="9"/>
                </a:lnTo>
                <a:lnTo>
                  <a:pt x="24" y="7"/>
                </a:lnTo>
                <a:lnTo>
                  <a:pt x="26" y="5"/>
                </a:lnTo>
                <a:lnTo>
                  <a:pt x="28" y="5"/>
                </a:lnTo>
                <a:lnTo>
                  <a:pt x="21" y="3"/>
                </a:lnTo>
                <a:lnTo>
                  <a:pt x="13" y="3"/>
                </a:lnTo>
                <a:lnTo>
                  <a:pt x="0" y="5"/>
                </a:lnTo>
                <a:lnTo>
                  <a:pt x="0" y="3"/>
                </a:lnTo>
                <a:lnTo>
                  <a:pt x="6" y="1"/>
                </a:lnTo>
                <a:lnTo>
                  <a:pt x="17" y="0"/>
                </a:lnTo>
                <a:lnTo>
                  <a:pt x="32" y="1"/>
                </a:lnTo>
                <a:lnTo>
                  <a:pt x="37" y="5"/>
                </a:lnTo>
                <a:lnTo>
                  <a:pt x="35" y="9"/>
                </a:lnTo>
                <a:lnTo>
                  <a:pt x="33" y="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61960" y="6446880"/>
            <a:ext cx="30240" cy="12600"/>
          </a:xfrm>
          <a:custGeom>
            <a:avLst/>
            <a:gdLst/>
            <a:ahLst/>
            <a:rect l="l" t="t" r="r" b="b"/>
            <a:pathLst>
              <a:path w="18" h="9">
                <a:moveTo>
                  <a:pt x="18" y="2"/>
                </a:moveTo>
                <a:lnTo>
                  <a:pt x="13" y="8"/>
                </a:lnTo>
                <a:lnTo>
                  <a:pt x="11" y="9"/>
                </a:lnTo>
                <a:lnTo>
                  <a:pt x="4" y="9"/>
                </a:lnTo>
                <a:lnTo>
                  <a:pt x="0" y="8"/>
                </a:lnTo>
                <a:lnTo>
                  <a:pt x="13" y="0"/>
                </a:lnTo>
                <a:lnTo>
                  <a:pt x="16" y="0"/>
                </a:lnTo>
                <a:lnTo>
                  <a:pt x="18" y="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8920" y="6472080"/>
            <a:ext cx="64800" cy="22320"/>
          </a:xfrm>
          <a:custGeom>
            <a:avLst/>
            <a:gdLst/>
            <a:ahLst/>
            <a:rect l="l" t="t" r="r" b="b"/>
            <a:pathLst>
              <a:path w="40" h="16">
                <a:moveTo>
                  <a:pt x="37" y="0"/>
                </a:moveTo>
                <a:lnTo>
                  <a:pt x="40" y="1"/>
                </a:lnTo>
                <a:lnTo>
                  <a:pt x="33" y="7"/>
                </a:lnTo>
                <a:lnTo>
                  <a:pt x="40" y="12"/>
                </a:lnTo>
                <a:lnTo>
                  <a:pt x="29" y="16"/>
                </a:lnTo>
                <a:lnTo>
                  <a:pt x="15" y="11"/>
                </a:lnTo>
                <a:lnTo>
                  <a:pt x="4" y="5"/>
                </a:lnTo>
                <a:lnTo>
                  <a:pt x="0" y="1"/>
                </a:lnTo>
                <a:lnTo>
                  <a:pt x="2" y="1"/>
                </a:lnTo>
                <a:lnTo>
                  <a:pt x="11" y="5"/>
                </a:lnTo>
                <a:lnTo>
                  <a:pt x="18" y="7"/>
                </a:lnTo>
                <a:lnTo>
                  <a:pt x="26" y="5"/>
                </a:lnTo>
                <a:lnTo>
                  <a:pt x="26" y="3"/>
                </a:lnTo>
                <a:lnTo>
                  <a:pt x="22" y="3"/>
                </a:lnTo>
                <a:lnTo>
                  <a:pt x="24" y="0"/>
                </a:lnTo>
                <a:lnTo>
                  <a:pt x="37" y="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58800" y="6472080"/>
            <a:ext cx="228600" cy="103320"/>
          </a:xfrm>
          <a:custGeom>
            <a:avLst/>
            <a:gdLst/>
            <a:ahLst/>
            <a:rect l="l" t="t" r="r" b="b"/>
            <a:pathLst>
              <a:path w="143" h="71">
                <a:moveTo>
                  <a:pt x="137" y="40"/>
                </a:moveTo>
                <a:lnTo>
                  <a:pt x="136" y="44"/>
                </a:lnTo>
                <a:lnTo>
                  <a:pt x="132" y="45"/>
                </a:lnTo>
                <a:lnTo>
                  <a:pt x="121" y="44"/>
                </a:lnTo>
                <a:lnTo>
                  <a:pt x="115" y="47"/>
                </a:lnTo>
                <a:lnTo>
                  <a:pt x="115" y="55"/>
                </a:lnTo>
                <a:lnTo>
                  <a:pt x="125" y="56"/>
                </a:lnTo>
                <a:lnTo>
                  <a:pt x="125" y="60"/>
                </a:lnTo>
                <a:lnTo>
                  <a:pt x="125" y="62"/>
                </a:lnTo>
                <a:lnTo>
                  <a:pt x="114" y="62"/>
                </a:lnTo>
                <a:lnTo>
                  <a:pt x="104" y="67"/>
                </a:lnTo>
                <a:lnTo>
                  <a:pt x="99" y="65"/>
                </a:lnTo>
                <a:lnTo>
                  <a:pt x="95" y="64"/>
                </a:lnTo>
                <a:lnTo>
                  <a:pt x="75" y="71"/>
                </a:lnTo>
                <a:lnTo>
                  <a:pt x="72" y="71"/>
                </a:lnTo>
                <a:lnTo>
                  <a:pt x="61" y="67"/>
                </a:lnTo>
                <a:lnTo>
                  <a:pt x="57" y="65"/>
                </a:lnTo>
                <a:lnTo>
                  <a:pt x="59" y="64"/>
                </a:lnTo>
                <a:lnTo>
                  <a:pt x="70" y="64"/>
                </a:lnTo>
                <a:lnTo>
                  <a:pt x="81" y="58"/>
                </a:lnTo>
                <a:lnTo>
                  <a:pt x="86" y="44"/>
                </a:lnTo>
                <a:lnTo>
                  <a:pt x="84" y="42"/>
                </a:lnTo>
                <a:lnTo>
                  <a:pt x="77" y="40"/>
                </a:lnTo>
                <a:lnTo>
                  <a:pt x="68" y="45"/>
                </a:lnTo>
                <a:lnTo>
                  <a:pt x="59" y="45"/>
                </a:lnTo>
                <a:lnTo>
                  <a:pt x="57" y="44"/>
                </a:lnTo>
                <a:lnTo>
                  <a:pt x="57" y="42"/>
                </a:lnTo>
                <a:lnTo>
                  <a:pt x="57" y="40"/>
                </a:lnTo>
                <a:lnTo>
                  <a:pt x="53" y="40"/>
                </a:lnTo>
                <a:lnTo>
                  <a:pt x="50" y="51"/>
                </a:lnTo>
                <a:lnTo>
                  <a:pt x="50" y="53"/>
                </a:lnTo>
                <a:lnTo>
                  <a:pt x="46" y="58"/>
                </a:lnTo>
                <a:lnTo>
                  <a:pt x="39" y="56"/>
                </a:lnTo>
                <a:lnTo>
                  <a:pt x="29" y="42"/>
                </a:lnTo>
                <a:lnTo>
                  <a:pt x="29" y="40"/>
                </a:lnTo>
                <a:lnTo>
                  <a:pt x="35" y="38"/>
                </a:lnTo>
                <a:lnTo>
                  <a:pt x="35" y="31"/>
                </a:lnTo>
                <a:lnTo>
                  <a:pt x="35" y="29"/>
                </a:lnTo>
                <a:lnTo>
                  <a:pt x="24" y="29"/>
                </a:lnTo>
                <a:lnTo>
                  <a:pt x="15" y="33"/>
                </a:lnTo>
                <a:lnTo>
                  <a:pt x="4" y="34"/>
                </a:lnTo>
                <a:lnTo>
                  <a:pt x="2" y="33"/>
                </a:lnTo>
                <a:lnTo>
                  <a:pt x="4" y="33"/>
                </a:lnTo>
                <a:lnTo>
                  <a:pt x="11" y="31"/>
                </a:lnTo>
                <a:lnTo>
                  <a:pt x="13" y="29"/>
                </a:lnTo>
                <a:lnTo>
                  <a:pt x="11" y="25"/>
                </a:lnTo>
                <a:lnTo>
                  <a:pt x="4" y="25"/>
                </a:lnTo>
                <a:lnTo>
                  <a:pt x="0" y="25"/>
                </a:lnTo>
                <a:lnTo>
                  <a:pt x="0" y="23"/>
                </a:lnTo>
                <a:lnTo>
                  <a:pt x="0" y="20"/>
                </a:lnTo>
                <a:lnTo>
                  <a:pt x="2" y="18"/>
                </a:lnTo>
                <a:lnTo>
                  <a:pt x="4" y="16"/>
                </a:lnTo>
                <a:lnTo>
                  <a:pt x="8" y="16"/>
                </a:lnTo>
                <a:lnTo>
                  <a:pt x="11" y="18"/>
                </a:lnTo>
                <a:lnTo>
                  <a:pt x="19" y="14"/>
                </a:lnTo>
                <a:lnTo>
                  <a:pt x="28" y="18"/>
                </a:lnTo>
                <a:lnTo>
                  <a:pt x="31" y="23"/>
                </a:lnTo>
                <a:lnTo>
                  <a:pt x="35" y="25"/>
                </a:lnTo>
                <a:lnTo>
                  <a:pt x="46" y="25"/>
                </a:lnTo>
                <a:lnTo>
                  <a:pt x="64" y="25"/>
                </a:lnTo>
                <a:lnTo>
                  <a:pt x="64" y="23"/>
                </a:lnTo>
                <a:lnTo>
                  <a:pt x="62" y="22"/>
                </a:lnTo>
                <a:lnTo>
                  <a:pt x="59" y="23"/>
                </a:lnTo>
                <a:lnTo>
                  <a:pt x="53" y="23"/>
                </a:lnTo>
                <a:lnTo>
                  <a:pt x="42" y="23"/>
                </a:lnTo>
                <a:lnTo>
                  <a:pt x="33" y="22"/>
                </a:lnTo>
                <a:lnTo>
                  <a:pt x="19" y="7"/>
                </a:lnTo>
                <a:lnTo>
                  <a:pt x="19" y="5"/>
                </a:lnTo>
                <a:lnTo>
                  <a:pt x="22" y="5"/>
                </a:lnTo>
                <a:lnTo>
                  <a:pt x="31" y="9"/>
                </a:lnTo>
                <a:lnTo>
                  <a:pt x="50" y="11"/>
                </a:lnTo>
                <a:lnTo>
                  <a:pt x="50" y="9"/>
                </a:lnTo>
                <a:lnTo>
                  <a:pt x="48" y="5"/>
                </a:lnTo>
                <a:lnTo>
                  <a:pt x="42" y="3"/>
                </a:lnTo>
                <a:lnTo>
                  <a:pt x="42" y="1"/>
                </a:lnTo>
                <a:lnTo>
                  <a:pt x="44" y="0"/>
                </a:lnTo>
                <a:lnTo>
                  <a:pt x="51" y="0"/>
                </a:lnTo>
                <a:lnTo>
                  <a:pt x="61" y="0"/>
                </a:lnTo>
                <a:lnTo>
                  <a:pt x="68" y="1"/>
                </a:lnTo>
                <a:lnTo>
                  <a:pt x="72" y="12"/>
                </a:lnTo>
                <a:lnTo>
                  <a:pt x="68" y="22"/>
                </a:lnTo>
                <a:lnTo>
                  <a:pt x="70" y="25"/>
                </a:lnTo>
                <a:lnTo>
                  <a:pt x="72" y="27"/>
                </a:lnTo>
                <a:lnTo>
                  <a:pt x="72" y="25"/>
                </a:lnTo>
                <a:lnTo>
                  <a:pt x="77" y="14"/>
                </a:lnTo>
                <a:lnTo>
                  <a:pt x="77" y="12"/>
                </a:lnTo>
                <a:lnTo>
                  <a:pt x="72" y="5"/>
                </a:lnTo>
                <a:lnTo>
                  <a:pt x="73" y="5"/>
                </a:lnTo>
                <a:lnTo>
                  <a:pt x="75" y="5"/>
                </a:lnTo>
                <a:lnTo>
                  <a:pt x="81" y="7"/>
                </a:lnTo>
                <a:lnTo>
                  <a:pt x="84" y="11"/>
                </a:lnTo>
                <a:lnTo>
                  <a:pt x="90" y="20"/>
                </a:lnTo>
                <a:lnTo>
                  <a:pt x="99" y="14"/>
                </a:lnTo>
                <a:lnTo>
                  <a:pt x="110" y="16"/>
                </a:lnTo>
                <a:lnTo>
                  <a:pt x="112" y="18"/>
                </a:lnTo>
                <a:lnTo>
                  <a:pt x="117" y="22"/>
                </a:lnTo>
                <a:lnTo>
                  <a:pt x="117" y="23"/>
                </a:lnTo>
                <a:lnTo>
                  <a:pt x="115" y="25"/>
                </a:lnTo>
                <a:lnTo>
                  <a:pt x="114" y="23"/>
                </a:lnTo>
                <a:lnTo>
                  <a:pt x="108" y="25"/>
                </a:lnTo>
                <a:lnTo>
                  <a:pt x="108" y="27"/>
                </a:lnTo>
                <a:lnTo>
                  <a:pt x="112" y="33"/>
                </a:lnTo>
                <a:lnTo>
                  <a:pt x="114" y="33"/>
                </a:lnTo>
                <a:lnTo>
                  <a:pt x="117" y="29"/>
                </a:lnTo>
                <a:lnTo>
                  <a:pt x="119" y="27"/>
                </a:lnTo>
                <a:lnTo>
                  <a:pt x="130" y="31"/>
                </a:lnTo>
                <a:lnTo>
                  <a:pt x="143" y="38"/>
                </a:lnTo>
                <a:lnTo>
                  <a:pt x="137" y="4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17760" y="6478560"/>
            <a:ext cx="28440" cy="19080"/>
          </a:xfrm>
          <a:custGeom>
            <a:avLst/>
            <a:gdLst/>
            <a:ahLst/>
            <a:rect l="l" t="t" r="r" b="b"/>
            <a:pathLst>
              <a:path w="18" h="13">
                <a:moveTo>
                  <a:pt x="3" y="13"/>
                </a:moveTo>
                <a:lnTo>
                  <a:pt x="1" y="13"/>
                </a:lnTo>
                <a:lnTo>
                  <a:pt x="0" y="7"/>
                </a:lnTo>
                <a:lnTo>
                  <a:pt x="1" y="0"/>
                </a:lnTo>
                <a:lnTo>
                  <a:pt x="3" y="0"/>
                </a:lnTo>
                <a:lnTo>
                  <a:pt x="18" y="6"/>
                </a:lnTo>
                <a:lnTo>
                  <a:pt x="16" y="7"/>
                </a:lnTo>
                <a:lnTo>
                  <a:pt x="3" y="1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76400" y="6492960"/>
            <a:ext cx="85680" cy="93600"/>
          </a:xfrm>
          <a:custGeom>
            <a:avLst/>
            <a:gdLst/>
            <a:ahLst/>
            <a:rect l="l" t="t" r="r" b="b"/>
            <a:pathLst>
              <a:path w="53" h="64">
                <a:moveTo>
                  <a:pt x="36" y="64"/>
                </a:moveTo>
                <a:lnTo>
                  <a:pt x="18" y="61"/>
                </a:lnTo>
                <a:lnTo>
                  <a:pt x="7" y="55"/>
                </a:lnTo>
                <a:lnTo>
                  <a:pt x="1" y="48"/>
                </a:lnTo>
                <a:lnTo>
                  <a:pt x="0" y="37"/>
                </a:lnTo>
                <a:lnTo>
                  <a:pt x="0" y="31"/>
                </a:lnTo>
                <a:lnTo>
                  <a:pt x="5" y="28"/>
                </a:lnTo>
                <a:lnTo>
                  <a:pt x="11" y="28"/>
                </a:lnTo>
                <a:lnTo>
                  <a:pt x="20" y="30"/>
                </a:lnTo>
                <a:lnTo>
                  <a:pt x="23" y="31"/>
                </a:lnTo>
                <a:lnTo>
                  <a:pt x="27" y="30"/>
                </a:lnTo>
                <a:lnTo>
                  <a:pt x="27" y="28"/>
                </a:lnTo>
                <a:lnTo>
                  <a:pt x="27" y="26"/>
                </a:lnTo>
                <a:lnTo>
                  <a:pt x="18" y="22"/>
                </a:lnTo>
                <a:lnTo>
                  <a:pt x="18" y="13"/>
                </a:lnTo>
                <a:lnTo>
                  <a:pt x="22" y="13"/>
                </a:lnTo>
                <a:lnTo>
                  <a:pt x="27" y="9"/>
                </a:lnTo>
                <a:lnTo>
                  <a:pt x="29" y="8"/>
                </a:lnTo>
                <a:lnTo>
                  <a:pt x="33" y="2"/>
                </a:lnTo>
                <a:lnTo>
                  <a:pt x="38" y="0"/>
                </a:lnTo>
                <a:lnTo>
                  <a:pt x="40" y="2"/>
                </a:lnTo>
                <a:lnTo>
                  <a:pt x="40" y="9"/>
                </a:lnTo>
                <a:lnTo>
                  <a:pt x="38" y="11"/>
                </a:lnTo>
                <a:lnTo>
                  <a:pt x="38" y="17"/>
                </a:lnTo>
                <a:lnTo>
                  <a:pt x="44" y="30"/>
                </a:lnTo>
                <a:lnTo>
                  <a:pt x="53" y="44"/>
                </a:lnTo>
                <a:lnTo>
                  <a:pt x="51" y="46"/>
                </a:lnTo>
                <a:lnTo>
                  <a:pt x="49" y="48"/>
                </a:lnTo>
                <a:lnTo>
                  <a:pt x="44" y="48"/>
                </a:lnTo>
                <a:lnTo>
                  <a:pt x="40" y="46"/>
                </a:lnTo>
                <a:lnTo>
                  <a:pt x="34" y="44"/>
                </a:lnTo>
                <a:lnTo>
                  <a:pt x="31" y="41"/>
                </a:lnTo>
                <a:lnTo>
                  <a:pt x="22" y="35"/>
                </a:lnTo>
                <a:lnTo>
                  <a:pt x="22" y="37"/>
                </a:lnTo>
                <a:lnTo>
                  <a:pt x="22" y="41"/>
                </a:lnTo>
                <a:lnTo>
                  <a:pt x="29" y="48"/>
                </a:lnTo>
                <a:lnTo>
                  <a:pt x="34" y="55"/>
                </a:lnTo>
                <a:lnTo>
                  <a:pt x="36" y="6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66880" y="6535800"/>
            <a:ext cx="92160" cy="66600"/>
          </a:xfrm>
          <a:custGeom>
            <a:avLst/>
            <a:gdLst/>
            <a:ahLst/>
            <a:rect l="l" t="t" r="r" b="b"/>
            <a:pathLst>
              <a:path w="59" h="45">
                <a:moveTo>
                  <a:pt x="57" y="7"/>
                </a:moveTo>
                <a:lnTo>
                  <a:pt x="53" y="11"/>
                </a:lnTo>
                <a:lnTo>
                  <a:pt x="55" y="12"/>
                </a:lnTo>
                <a:lnTo>
                  <a:pt x="59" y="21"/>
                </a:lnTo>
                <a:lnTo>
                  <a:pt x="51" y="29"/>
                </a:lnTo>
                <a:lnTo>
                  <a:pt x="46" y="29"/>
                </a:lnTo>
                <a:lnTo>
                  <a:pt x="42" y="27"/>
                </a:lnTo>
                <a:lnTo>
                  <a:pt x="33" y="18"/>
                </a:lnTo>
                <a:lnTo>
                  <a:pt x="33" y="14"/>
                </a:lnTo>
                <a:lnTo>
                  <a:pt x="31" y="14"/>
                </a:lnTo>
                <a:lnTo>
                  <a:pt x="29" y="14"/>
                </a:lnTo>
                <a:lnTo>
                  <a:pt x="29" y="16"/>
                </a:lnTo>
                <a:lnTo>
                  <a:pt x="33" y="25"/>
                </a:lnTo>
                <a:lnTo>
                  <a:pt x="37" y="27"/>
                </a:lnTo>
                <a:lnTo>
                  <a:pt x="40" y="29"/>
                </a:lnTo>
                <a:lnTo>
                  <a:pt x="51" y="36"/>
                </a:lnTo>
                <a:lnTo>
                  <a:pt x="49" y="38"/>
                </a:lnTo>
                <a:lnTo>
                  <a:pt x="42" y="45"/>
                </a:lnTo>
                <a:lnTo>
                  <a:pt x="40" y="45"/>
                </a:lnTo>
                <a:lnTo>
                  <a:pt x="31" y="45"/>
                </a:lnTo>
                <a:lnTo>
                  <a:pt x="29" y="43"/>
                </a:lnTo>
                <a:lnTo>
                  <a:pt x="31" y="38"/>
                </a:lnTo>
                <a:lnTo>
                  <a:pt x="6" y="21"/>
                </a:lnTo>
                <a:lnTo>
                  <a:pt x="4" y="20"/>
                </a:lnTo>
                <a:lnTo>
                  <a:pt x="0" y="7"/>
                </a:lnTo>
                <a:lnTo>
                  <a:pt x="2" y="5"/>
                </a:lnTo>
                <a:lnTo>
                  <a:pt x="7" y="5"/>
                </a:lnTo>
                <a:lnTo>
                  <a:pt x="13" y="7"/>
                </a:lnTo>
                <a:lnTo>
                  <a:pt x="16" y="11"/>
                </a:lnTo>
                <a:lnTo>
                  <a:pt x="20" y="11"/>
                </a:lnTo>
                <a:lnTo>
                  <a:pt x="26" y="0"/>
                </a:lnTo>
                <a:lnTo>
                  <a:pt x="31" y="0"/>
                </a:lnTo>
                <a:lnTo>
                  <a:pt x="59" y="5"/>
                </a:lnTo>
                <a:lnTo>
                  <a:pt x="59" y="7"/>
                </a:lnTo>
                <a:lnTo>
                  <a:pt x="57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54360" y="6546960"/>
            <a:ext cx="107640" cy="63360"/>
          </a:xfrm>
          <a:custGeom>
            <a:avLst/>
            <a:gdLst/>
            <a:ahLst/>
            <a:rect l="l" t="t" r="r" b="b"/>
            <a:pathLst>
              <a:path w="68" h="44">
                <a:moveTo>
                  <a:pt x="40" y="7"/>
                </a:moveTo>
                <a:lnTo>
                  <a:pt x="42" y="13"/>
                </a:lnTo>
                <a:lnTo>
                  <a:pt x="49" y="14"/>
                </a:lnTo>
                <a:lnTo>
                  <a:pt x="58" y="13"/>
                </a:lnTo>
                <a:lnTo>
                  <a:pt x="64" y="14"/>
                </a:lnTo>
                <a:lnTo>
                  <a:pt x="66" y="16"/>
                </a:lnTo>
                <a:lnTo>
                  <a:pt x="68" y="24"/>
                </a:lnTo>
                <a:lnTo>
                  <a:pt x="68" y="33"/>
                </a:lnTo>
                <a:lnTo>
                  <a:pt x="55" y="44"/>
                </a:lnTo>
                <a:lnTo>
                  <a:pt x="53" y="44"/>
                </a:lnTo>
                <a:lnTo>
                  <a:pt x="47" y="40"/>
                </a:lnTo>
                <a:lnTo>
                  <a:pt x="42" y="38"/>
                </a:lnTo>
                <a:lnTo>
                  <a:pt x="33" y="36"/>
                </a:lnTo>
                <a:lnTo>
                  <a:pt x="24" y="25"/>
                </a:lnTo>
                <a:lnTo>
                  <a:pt x="25" y="22"/>
                </a:lnTo>
                <a:lnTo>
                  <a:pt x="29" y="22"/>
                </a:lnTo>
                <a:lnTo>
                  <a:pt x="31" y="22"/>
                </a:lnTo>
                <a:lnTo>
                  <a:pt x="27" y="18"/>
                </a:lnTo>
                <a:lnTo>
                  <a:pt x="20" y="22"/>
                </a:lnTo>
                <a:lnTo>
                  <a:pt x="15" y="29"/>
                </a:lnTo>
                <a:lnTo>
                  <a:pt x="15" y="31"/>
                </a:lnTo>
                <a:lnTo>
                  <a:pt x="4" y="29"/>
                </a:lnTo>
                <a:lnTo>
                  <a:pt x="0" y="22"/>
                </a:lnTo>
                <a:lnTo>
                  <a:pt x="0" y="20"/>
                </a:lnTo>
                <a:lnTo>
                  <a:pt x="5" y="16"/>
                </a:lnTo>
                <a:lnTo>
                  <a:pt x="4" y="5"/>
                </a:lnTo>
                <a:lnTo>
                  <a:pt x="7" y="2"/>
                </a:lnTo>
                <a:lnTo>
                  <a:pt x="22" y="0"/>
                </a:lnTo>
                <a:lnTo>
                  <a:pt x="38" y="5"/>
                </a:lnTo>
                <a:lnTo>
                  <a:pt x="40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82560" y="6559560"/>
            <a:ext cx="46080" cy="15840"/>
          </a:xfrm>
          <a:custGeom>
            <a:avLst/>
            <a:gdLst/>
            <a:ahLst/>
            <a:rect l="l" t="t" r="r" b="b"/>
            <a:pathLst>
              <a:path w="29" h="11">
                <a:moveTo>
                  <a:pt x="18" y="11"/>
                </a:moveTo>
                <a:lnTo>
                  <a:pt x="0" y="5"/>
                </a:lnTo>
                <a:lnTo>
                  <a:pt x="0" y="4"/>
                </a:lnTo>
                <a:lnTo>
                  <a:pt x="7" y="0"/>
                </a:lnTo>
                <a:lnTo>
                  <a:pt x="20" y="0"/>
                </a:lnTo>
                <a:lnTo>
                  <a:pt x="27" y="2"/>
                </a:lnTo>
                <a:lnTo>
                  <a:pt x="29" y="7"/>
                </a:lnTo>
                <a:lnTo>
                  <a:pt x="27" y="9"/>
                </a:lnTo>
                <a:lnTo>
                  <a:pt x="18" y="1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27280" y="6566040"/>
            <a:ext cx="47520" cy="25200"/>
          </a:xfrm>
          <a:custGeom>
            <a:avLst/>
            <a:gdLst/>
            <a:ahLst/>
            <a:rect l="l" t="t" r="r" b="b"/>
            <a:pathLst>
              <a:path w="30" h="18">
                <a:moveTo>
                  <a:pt x="20" y="1"/>
                </a:moveTo>
                <a:lnTo>
                  <a:pt x="26" y="3"/>
                </a:lnTo>
                <a:lnTo>
                  <a:pt x="30" y="7"/>
                </a:lnTo>
                <a:lnTo>
                  <a:pt x="20" y="18"/>
                </a:lnTo>
                <a:lnTo>
                  <a:pt x="8" y="18"/>
                </a:lnTo>
                <a:lnTo>
                  <a:pt x="4" y="18"/>
                </a:lnTo>
                <a:lnTo>
                  <a:pt x="2" y="16"/>
                </a:lnTo>
                <a:lnTo>
                  <a:pt x="0" y="12"/>
                </a:lnTo>
                <a:lnTo>
                  <a:pt x="13" y="1"/>
                </a:lnTo>
                <a:lnTo>
                  <a:pt x="17" y="0"/>
                </a:lnTo>
                <a:lnTo>
                  <a:pt x="20" y="0"/>
                </a:lnTo>
                <a:lnTo>
                  <a:pt x="20" y="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35080" y="6575400"/>
            <a:ext cx="46080" cy="19080"/>
          </a:xfrm>
          <a:custGeom>
            <a:avLst/>
            <a:gdLst/>
            <a:ahLst/>
            <a:rect l="l" t="t" r="r" b="b"/>
            <a:pathLst>
              <a:path w="29" h="13">
                <a:moveTo>
                  <a:pt x="22" y="13"/>
                </a:moveTo>
                <a:lnTo>
                  <a:pt x="6" y="9"/>
                </a:lnTo>
                <a:lnTo>
                  <a:pt x="0" y="4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20" y="4"/>
                </a:lnTo>
                <a:lnTo>
                  <a:pt x="28" y="7"/>
                </a:lnTo>
                <a:lnTo>
                  <a:pt x="29" y="9"/>
                </a:lnTo>
                <a:lnTo>
                  <a:pt x="26" y="13"/>
                </a:lnTo>
                <a:lnTo>
                  <a:pt x="22" y="1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4040" y="6599160"/>
            <a:ext cx="36360" cy="15840"/>
          </a:xfrm>
          <a:custGeom>
            <a:avLst/>
            <a:gdLst/>
            <a:ahLst/>
            <a:rect l="l" t="t" r="r" b="b"/>
            <a:pathLst>
              <a:path w="23" h="11">
                <a:moveTo>
                  <a:pt x="9" y="11"/>
                </a:moveTo>
                <a:lnTo>
                  <a:pt x="1" y="8"/>
                </a:lnTo>
                <a:lnTo>
                  <a:pt x="0" y="2"/>
                </a:lnTo>
                <a:lnTo>
                  <a:pt x="11" y="0"/>
                </a:lnTo>
                <a:lnTo>
                  <a:pt x="23" y="2"/>
                </a:lnTo>
                <a:lnTo>
                  <a:pt x="23" y="6"/>
                </a:lnTo>
                <a:lnTo>
                  <a:pt x="16" y="8"/>
                </a:lnTo>
                <a:lnTo>
                  <a:pt x="9" y="1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90640" y="6645240"/>
            <a:ext cx="27000" cy="15840"/>
          </a:xfrm>
          <a:custGeom>
            <a:avLst/>
            <a:gdLst/>
            <a:ahLst/>
            <a:rect l="l" t="t" r="r" b="b"/>
            <a:pathLst>
              <a:path w="17" h="11">
                <a:moveTo>
                  <a:pt x="11" y="11"/>
                </a:moveTo>
                <a:lnTo>
                  <a:pt x="11" y="8"/>
                </a:lnTo>
                <a:lnTo>
                  <a:pt x="4" y="2"/>
                </a:lnTo>
                <a:lnTo>
                  <a:pt x="2" y="2"/>
                </a:lnTo>
                <a:lnTo>
                  <a:pt x="4" y="4"/>
                </a:lnTo>
                <a:lnTo>
                  <a:pt x="2" y="4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7" y="6"/>
                </a:lnTo>
                <a:lnTo>
                  <a:pt x="17" y="8"/>
                </a:lnTo>
                <a:lnTo>
                  <a:pt x="17" y="11"/>
                </a:lnTo>
                <a:lnTo>
                  <a:pt x="11" y="1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89280" y="6672240"/>
            <a:ext cx="83880" cy="19080"/>
          </a:xfrm>
          <a:custGeom>
            <a:avLst/>
            <a:gdLst/>
            <a:ahLst/>
            <a:rect l="l" t="t" r="r" b="b"/>
            <a:pathLst>
              <a:path w="53" h="13">
                <a:moveTo>
                  <a:pt x="38" y="13"/>
                </a:moveTo>
                <a:lnTo>
                  <a:pt x="31" y="11"/>
                </a:lnTo>
                <a:lnTo>
                  <a:pt x="25" y="7"/>
                </a:lnTo>
                <a:lnTo>
                  <a:pt x="13" y="13"/>
                </a:lnTo>
                <a:lnTo>
                  <a:pt x="5" y="11"/>
                </a:lnTo>
                <a:lnTo>
                  <a:pt x="0" y="5"/>
                </a:lnTo>
                <a:lnTo>
                  <a:pt x="7" y="0"/>
                </a:lnTo>
                <a:lnTo>
                  <a:pt x="25" y="2"/>
                </a:lnTo>
                <a:lnTo>
                  <a:pt x="38" y="5"/>
                </a:lnTo>
                <a:lnTo>
                  <a:pt x="40" y="5"/>
                </a:lnTo>
                <a:lnTo>
                  <a:pt x="46" y="2"/>
                </a:lnTo>
                <a:lnTo>
                  <a:pt x="49" y="5"/>
                </a:lnTo>
                <a:lnTo>
                  <a:pt x="53" y="9"/>
                </a:lnTo>
                <a:lnTo>
                  <a:pt x="38" y="1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98720" y="6672240"/>
            <a:ext cx="5544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28" y="2"/>
                </a:moveTo>
                <a:lnTo>
                  <a:pt x="31" y="2"/>
                </a:lnTo>
                <a:lnTo>
                  <a:pt x="33" y="3"/>
                </a:lnTo>
                <a:lnTo>
                  <a:pt x="31" y="5"/>
                </a:lnTo>
                <a:lnTo>
                  <a:pt x="13" y="7"/>
                </a:lnTo>
                <a:lnTo>
                  <a:pt x="8" y="7"/>
                </a:lnTo>
                <a:lnTo>
                  <a:pt x="2" y="5"/>
                </a:lnTo>
                <a:lnTo>
                  <a:pt x="0" y="3"/>
                </a:lnTo>
                <a:lnTo>
                  <a:pt x="4" y="2"/>
                </a:lnTo>
                <a:lnTo>
                  <a:pt x="15" y="0"/>
                </a:lnTo>
                <a:lnTo>
                  <a:pt x="22" y="0"/>
                </a:lnTo>
                <a:lnTo>
                  <a:pt x="28" y="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22560" y="6676920"/>
            <a:ext cx="120600" cy="25560"/>
          </a:xfrm>
          <a:custGeom>
            <a:avLst/>
            <a:gdLst/>
            <a:ahLst/>
            <a:rect l="l" t="t" r="r" b="b"/>
            <a:pathLst>
              <a:path w="75" h="17">
                <a:moveTo>
                  <a:pt x="4" y="17"/>
                </a:moveTo>
                <a:lnTo>
                  <a:pt x="4" y="13"/>
                </a:lnTo>
                <a:lnTo>
                  <a:pt x="2" y="11"/>
                </a:lnTo>
                <a:lnTo>
                  <a:pt x="0" y="11"/>
                </a:lnTo>
                <a:lnTo>
                  <a:pt x="0" y="10"/>
                </a:lnTo>
                <a:lnTo>
                  <a:pt x="2" y="2"/>
                </a:lnTo>
                <a:lnTo>
                  <a:pt x="9" y="2"/>
                </a:lnTo>
                <a:lnTo>
                  <a:pt x="26" y="0"/>
                </a:lnTo>
                <a:lnTo>
                  <a:pt x="55" y="4"/>
                </a:lnTo>
                <a:lnTo>
                  <a:pt x="71" y="8"/>
                </a:lnTo>
                <a:lnTo>
                  <a:pt x="75" y="10"/>
                </a:lnTo>
                <a:lnTo>
                  <a:pt x="73" y="10"/>
                </a:lnTo>
                <a:lnTo>
                  <a:pt x="42" y="15"/>
                </a:lnTo>
                <a:lnTo>
                  <a:pt x="18" y="17"/>
                </a:lnTo>
                <a:lnTo>
                  <a:pt x="4" y="1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59120" y="6683400"/>
            <a:ext cx="115920" cy="41400"/>
          </a:xfrm>
          <a:custGeom>
            <a:avLst/>
            <a:gdLst/>
            <a:ahLst/>
            <a:rect l="l" t="t" r="r" b="b"/>
            <a:pathLst>
              <a:path w="71" h="29">
                <a:moveTo>
                  <a:pt x="64" y="0"/>
                </a:moveTo>
                <a:lnTo>
                  <a:pt x="66" y="0"/>
                </a:lnTo>
                <a:lnTo>
                  <a:pt x="67" y="0"/>
                </a:lnTo>
                <a:lnTo>
                  <a:pt x="47" y="6"/>
                </a:lnTo>
                <a:lnTo>
                  <a:pt x="49" y="9"/>
                </a:lnTo>
                <a:lnTo>
                  <a:pt x="47" y="9"/>
                </a:lnTo>
                <a:lnTo>
                  <a:pt x="36" y="9"/>
                </a:lnTo>
                <a:lnTo>
                  <a:pt x="29" y="9"/>
                </a:lnTo>
                <a:lnTo>
                  <a:pt x="27" y="9"/>
                </a:lnTo>
                <a:lnTo>
                  <a:pt x="27" y="11"/>
                </a:lnTo>
                <a:lnTo>
                  <a:pt x="34" y="13"/>
                </a:lnTo>
                <a:lnTo>
                  <a:pt x="49" y="13"/>
                </a:lnTo>
                <a:lnTo>
                  <a:pt x="69" y="13"/>
                </a:lnTo>
                <a:lnTo>
                  <a:pt x="71" y="20"/>
                </a:lnTo>
                <a:lnTo>
                  <a:pt x="67" y="22"/>
                </a:lnTo>
                <a:lnTo>
                  <a:pt x="66" y="22"/>
                </a:lnTo>
                <a:lnTo>
                  <a:pt x="60" y="18"/>
                </a:lnTo>
                <a:lnTo>
                  <a:pt x="56" y="18"/>
                </a:lnTo>
                <a:lnTo>
                  <a:pt x="55" y="18"/>
                </a:lnTo>
                <a:lnTo>
                  <a:pt x="53" y="20"/>
                </a:lnTo>
                <a:lnTo>
                  <a:pt x="55" y="22"/>
                </a:lnTo>
                <a:lnTo>
                  <a:pt x="60" y="24"/>
                </a:lnTo>
                <a:lnTo>
                  <a:pt x="62" y="24"/>
                </a:lnTo>
                <a:lnTo>
                  <a:pt x="60" y="26"/>
                </a:lnTo>
                <a:lnTo>
                  <a:pt x="45" y="29"/>
                </a:lnTo>
                <a:lnTo>
                  <a:pt x="44" y="29"/>
                </a:lnTo>
                <a:lnTo>
                  <a:pt x="42" y="27"/>
                </a:lnTo>
                <a:lnTo>
                  <a:pt x="42" y="24"/>
                </a:lnTo>
                <a:lnTo>
                  <a:pt x="44" y="20"/>
                </a:lnTo>
                <a:lnTo>
                  <a:pt x="38" y="17"/>
                </a:lnTo>
                <a:lnTo>
                  <a:pt x="29" y="22"/>
                </a:lnTo>
                <a:lnTo>
                  <a:pt x="7" y="17"/>
                </a:lnTo>
                <a:lnTo>
                  <a:pt x="0" y="13"/>
                </a:lnTo>
                <a:lnTo>
                  <a:pt x="0" y="6"/>
                </a:lnTo>
                <a:lnTo>
                  <a:pt x="2" y="4"/>
                </a:lnTo>
                <a:lnTo>
                  <a:pt x="12" y="4"/>
                </a:lnTo>
                <a:lnTo>
                  <a:pt x="29" y="6"/>
                </a:lnTo>
                <a:lnTo>
                  <a:pt x="42" y="7"/>
                </a:lnTo>
                <a:lnTo>
                  <a:pt x="44" y="6"/>
                </a:lnTo>
                <a:lnTo>
                  <a:pt x="38" y="6"/>
                </a:lnTo>
                <a:lnTo>
                  <a:pt x="36" y="4"/>
                </a:lnTo>
                <a:lnTo>
                  <a:pt x="47" y="0"/>
                </a:lnTo>
                <a:lnTo>
                  <a:pt x="64" y="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65200" y="6683400"/>
            <a:ext cx="201960" cy="55440"/>
          </a:xfrm>
          <a:custGeom>
            <a:avLst/>
            <a:gdLst/>
            <a:ahLst/>
            <a:rect l="l" t="t" r="r" b="b"/>
            <a:pathLst>
              <a:path w="126" h="38">
                <a:moveTo>
                  <a:pt x="29" y="0"/>
                </a:moveTo>
                <a:lnTo>
                  <a:pt x="69" y="2"/>
                </a:lnTo>
                <a:lnTo>
                  <a:pt x="95" y="2"/>
                </a:lnTo>
                <a:lnTo>
                  <a:pt x="104" y="4"/>
                </a:lnTo>
                <a:lnTo>
                  <a:pt x="113" y="6"/>
                </a:lnTo>
                <a:lnTo>
                  <a:pt x="126" y="17"/>
                </a:lnTo>
                <a:lnTo>
                  <a:pt x="126" y="22"/>
                </a:lnTo>
                <a:lnTo>
                  <a:pt x="122" y="27"/>
                </a:lnTo>
                <a:lnTo>
                  <a:pt x="110" y="38"/>
                </a:lnTo>
                <a:lnTo>
                  <a:pt x="104" y="38"/>
                </a:lnTo>
                <a:lnTo>
                  <a:pt x="89" y="37"/>
                </a:lnTo>
                <a:lnTo>
                  <a:pt x="88" y="35"/>
                </a:lnTo>
                <a:lnTo>
                  <a:pt x="88" y="33"/>
                </a:lnTo>
                <a:lnTo>
                  <a:pt x="91" y="31"/>
                </a:lnTo>
                <a:lnTo>
                  <a:pt x="89" y="29"/>
                </a:lnTo>
                <a:lnTo>
                  <a:pt x="86" y="26"/>
                </a:lnTo>
                <a:lnTo>
                  <a:pt x="80" y="26"/>
                </a:lnTo>
                <a:lnTo>
                  <a:pt x="77" y="26"/>
                </a:lnTo>
                <a:lnTo>
                  <a:pt x="73" y="27"/>
                </a:lnTo>
                <a:lnTo>
                  <a:pt x="69" y="31"/>
                </a:lnTo>
                <a:lnTo>
                  <a:pt x="69" y="35"/>
                </a:lnTo>
                <a:lnTo>
                  <a:pt x="67" y="35"/>
                </a:lnTo>
                <a:lnTo>
                  <a:pt x="53" y="35"/>
                </a:lnTo>
                <a:lnTo>
                  <a:pt x="47" y="33"/>
                </a:lnTo>
                <a:lnTo>
                  <a:pt x="46" y="33"/>
                </a:lnTo>
                <a:lnTo>
                  <a:pt x="49" y="31"/>
                </a:lnTo>
                <a:lnTo>
                  <a:pt x="49" y="29"/>
                </a:lnTo>
                <a:lnTo>
                  <a:pt x="46" y="27"/>
                </a:lnTo>
                <a:lnTo>
                  <a:pt x="29" y="33"/>
                </a:lnTo>
                <a:lnTo>
                  <a:pt x="24" y="31"/>
                </a:lnTo>
                <a:lnTo>
                  <a:pt x="20" y="29"/>
                </a:lnTo>
                <a:lnTo>
                  <a:pt x="16" y="18"/>
                </a:lnTo>
                <a:lnTo>
                  <a:pt x="18" y="17"/>
                </a:lnTo>
                <a:lnTo>
                  <a:pt x="14" y="7"/>
                </a:lnTo>
                <a:lnTo>
                  <a:pt x="5" y="9"/>
                </a:lnTo>
                <a:lnTo>
                  <a:pt x="2" y="6"/>
                </a:lnTo>
                <a:lnTo>
                  <a:pt x="0" y="4"/>
                </a:lnTo>
                <a:lnTo>
                  <a:pt x="3" y="2"/>
                </a:lnTo>
                <a:lnTo>
                  <a:pt x="16" y="0"/>
                </a:lnTo>
                <a:lnTo>
                  <a:pt x="29" y="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06720" y="6684840"/>
            <a:ext cx="320400" cy="112680"/>
          </a:xfrm>
          <a:custGeom>
            <a:avLst/>
            <a:gdLst/>
            <a:ahLst/>
            <a:rect l="l" t="t" r="r" b="b"/>
            <a:pathLst>
              <a:path w="199" h="77">
                <a:moveTo>
                  <a:pt x="143" y="38"/>
                </a:moveTo>
                <a:lnTo>
                  <a:pt x="137" y="36"/>
                </a:lnTo>
                <a:lnTo>
                  <a:pt x="132" y="31"/>
                </a:lnTo>
                <a:lnTo>
                  <a:pt x="130" y="31"/>
                </a:lnTo>
                <a:lnTo>
                  <a:pt x="124" y="33"/>
                </a:lnTo>
                <a:lnTo>
                  <a:pt x="139" y="42"/>
                </a:lnTo>
                <a:lnTo>
                  <a:pt x="150" y="38"/>
                </a:lnTo>
                <a:lnTo>
                  <a:pt x="157" y="38"/>
                </a:lnTo>
                <a:lnTo>
                  <a:pt x="181" y="46"/>
                </a:lnTo>
                <a:lnTo>
                  <a:pt x="183" y="47"/>
                </a:lnTo>
                <a:lnTo>
                  <a:pt x="181" y="51"/>
                </a:lnTo>
                <a:lnTo>
                  <a:pt x="179" y="51"/>
                </a:lnTo>
                <a:lnTo>
                  <a:pt x="181" y="53"/>
                </a:lnTo>
                <a:lnTo>
                  <a:pt x="190" y="53"/>
                </a:lnTo>
                <a:lnTo>
                  <a:pt x="186" y="57"/>
                </a:lnTo>
                <a:lnTo>
                  <a:pt x="186" y="58"/>
                </a:lnTo>
                <a:lnTo>
                  <a:pt x="192" y="64"/>
                </a:lnTo>
                <a:lnTo>
                  <a:pt x="199" y="64"/>
                </a:lnTo>
                <a:lnTo>
                  <a:pt x="197" y="71"/>
                </a:lnTo>
                <a:lnTo>
                  <a:pt x="190" y="77"/>
                </a:lnTo>
                <a:lnTo>
                  <a:pt x="186" y="77"/>
                </a:lnTo>
                <a:lnTo>
                  <a:pt x="185" y="75"/>
                </a:lnTo>
                <a:lnTo>
                  <a:pt x="175" y="68"/>
                </a:lnTo>
                <a:lnTo>
                  <a:pt x="170" y="62"/>
                </a:lnTo>
                <a:lnTo>
                  <a:pt x="172" y="60"/>
                </a:lnTo>
                <a:lnTo>
                  <a:pt x="172" y="58"/>
                </a:lnTo>
                <a:lnTo>
                  <a:pt x="161" y="53"/>
                </a:lnTo>
                <a:lnTo>
                  <a:pt x="155" y="55"/>
                </a:lnTo>
                <a:lnTo>
                  <a:pt x="152" y="57"/>
                </a:lnTo>
                <a:lnTo>
                  <a:pt x="150" y="57"/>
                </a:lnTo>
                <a:lnTo>
                  <a:pt x="144" y="53"/>
                </a:lnTo>
                <a:lnTo>
                  <a:pt x="126" y="53"/>
                </a:lnTo>
                <a:lnTo>
                  <a:pt x="122" y="55"/>
                </a:lnTo>
                <a:lnTo>
                  <a:pt x="115" y="57"/>
                </a:lnTo>
                <a:lnTo>
                  <a:pt x="110" y="55"/>
                </a:lnTo>
                <a:lnTo>
                  <a:pt x="106" y="51"/>
                </a:lnTo>
                <a:lnTo>
                  <a:pt x="102" y="47"/>
                </a:lnTo>
                <a:lnTo>
                  <a:pt x="106" y="46"/>
                </a:lnTo>
                <a:lnTo>
                  <a:pt x="113" y="44"/>
                </a:lnTo>
                <a:lnTo>
                  <a:pt x="119" y="46"/>
                </a:lnTo>
                <a:lnTo>
                  <a:pt x="122" y="44"/>
                </a:lnTo>
                <a:lnTo>
                  <a:pt x="122" y="40"/>
                </a:lnTo>
                <a:lnTo>
                  <a:pt x="121" y="38"/>
                </a:lnTo>
                <a:lnTo>
                  <a:pt x="110" y="42"/>
                </a:lnTo>
                <a:lnTo>
                  <a:pt x="108" y="40"/>
                </a:lnTo>
                <a:lnTo>
                  <a:pt x="110" y="35"/>
                </a:lnTo>
                <a:lnTo>
                  <a:pt x="113" y="29"/>
                </a:lnTo>
                <a:lnTo>
                  <a:pt x="117" y="27"/>
                </a:lnTo>
                <a:lnTo>
                  <a:pt x="119" y="25"/>
                </a:lnTo>
                <a:lnTo>
                  <a:pt x="104" y="31"/>
                </a:lnTo>
                <a:lnTo>
                  <a:pt x="102" y="33"/>
                </a:lnTo>
                <a:lnTo>
                  <a:pt x="97" y="33"/>
                </a:lnTo>
                <a:lnTo>
                  <a:pt x="86" y="31"/>
                </a:lnTo>
                <a:lnTo>
                  <a:pt x="82" y="29"/>
                </a:lnTo>
                <a:lnTo>
                  <a:pt x="79" y="25"/>
                </a:lnTo>
                <a:lnTo>
                  <a:pt x="77" y="20"/>
                </a:lnTo>
                <a:lnTo>
                  <a:pt x="75" y="20"/>
                </a:lnTo>
                <a:lnTo>
                  <a:pt x="64" y="22"/>
                </a:lnTo>
                <a:lnTo>
                  <a:pt x="58" y="24"/>
                </a:lnTo>
                <a:lnTo>
                  <a:pt x="71" y="24"/>
                </a:lnTo>
                <a:lnTo>
                  <a:pt x="75" y="29"/>
                </a:lnTo>
                <a:lnTo>
                  <a:pt x="64" y="31"/>
                </a:lnTo>
                <a:lnTo>
                  <a:pt x="62" y="35"/>
                </a:lnTo>
                <a:lnTo>
                  <a:pt x="71" y="42"/>
                </a:lnTo>
                <a:lnTo>
                  <a:pt x="71" y="49"/>
                </a:lnTo>
                <a:lnTo>
                  <a:pt x="86" y="49"/>
                </a:lnTo>
                <a:lnTo>
                  <a:pt x="86" y="57"/>
                </a:lnTo>
                <a:lnTo>
                  <a:pt x="84" y="57"/>
                </a:lnTo>
                <a:lnTo>
                  <a:pt x="69" y="55"/>
                </a:lnTo>
                <a:lnTo>
                  <a:pt x="58" y="55"/>
                </a:lnTo>
                <a:lnTo>
                  <a:pt x="53" y="47"/>
                </a:lnTo>
                <a:lnTo>
                  <a:pt x="55" y="44"/>
                </a:lnTo>
                <a:lnTo>
                  <a:pt x="60" y="42"/>
                </a:lnTo>
                <a:lnTo>
                  <a:pt x="62" y="42"/>
                </a:lnTo>
                <a:lnTo>
                  <a:pt x="55" y="40"/>
                </a:lnTo>
                <a:lnTo>
                  <a:pt x="51" y="40"/>
                </a:lnTo>
                <a:lnTo>
                  <a:pt x="46" y="44"/>
                </a:lnTo>
                <a:lnTo>
                  <a:pt x="40" y="40"/>
                </a:lnTo>
                <a:lnTo>
                  <a:pt x="33" y="36"/>
                </a:lnTo>
                <a:lnTo>
                  <a:pt x="33" y="35"/>
                </a:lnTo>
                <a:lnTo>
                  <a:pt x="37" y="31"/>
                </a:lnTo>
                <a:lnTo>
                  <a:pt x="44" y="27"/>
                </a:lnTo>
                <a:lnTo>
                  <a:pt x="49" y="27"/>
                </a:lnTo>
                <a:lnTo>
                  <a:pt x="51" y="24"/>
                </a:lnTo>
                <a:lnTo>
                  <a:pt x="47" y="25"/>
                </a:lnTo>
                <a:lnTo>
                  <a:pt x="35" y="29"/>
                </a:lnTo>
                <a:lnTo>
                  <a:pt x="16" y="33"/>
                </a:lnTo>
                <a:lnTo>
                  <a:pt x="11" y="29"/>
                </a:lnTo>
                <a:lnTo>
                  <a:pt x="18" y="27"/>
                </a:lnTo>
                <a:lnTo>
                  <a:pt x="20" y="27"/>
                </a:lnTo>
                <a:lnTo>
                  <a:pt x="18" y="27"/>
                </a:lnTo>
                <a:lnTo>
                  <a:pt x="13" y="24"/>
                </a:lnTo>
                <a:lnTo>
                  <a:pt x="2" y="24"/>
                </a:lnTo>
                <a:lnTo>
                  <a:pt x="0" y="24"/>
                </a:lnTo>
                <a:lnTo>
                  <a:pt x="0" y="22"/>
                </a:lnTo>
                <a:lnTo>
                  <a:pt x="4" y="20"/>
                </a:lnTo>
                <a:lnTo>
                  <a:pt x="11" y="15"/>
                </a:lnTo>
                <a:lnTo>
                  <a:pt x="24" y="13"/>
                </a:lnTo>
                <a:lnTo>
                  <a:pt x="66" y="9"/>
                </a:lnTo>
                <a:lnTo>
                  <a:pt x="82" y="5"/>
                </a:lnTo>
                <a:lnTo>
                  <a:pt x="100" y="5"/>
                </a:lnTo>
                <a:lnTo>
                  <a:pt x="117" y="5"/>
                </a:lnTo>
                <a:lnTo>
                  <a:pt x="126" y="2"/>
                </a:lnTo>
                <a:lnTo>
                  <a:pt x="146" y="0"/>
                </a:lnTo>
                <a:lnTo>
                  <a:pt x="157" y="4"/>
                </a:lnTo>
                <a:lnTo>
                  <a:pt x="164" y="7"/>
                </a:lnTo>
                <a:lnTo>
                  <a:pt x="164" y="11"/>
                </a:lnTo>
                <a:lnTo>
                  <a:pt x="164" y="13"/>
                </a:lnTo>
                <a:lnTo>
                  <a:pt x="163" y="15"/>
                </a:lnTo>
                <a:lnTo>
                  <a:pt x="141" y="20"/>
                </a:lnTo>
                <a:lnTo>
                  <a:pt x="139" y="22"/>
                </a:lnTo>
                <a:lnTo>
                  <a:pt x="133" y="22"/>
                </a:lnTo>
                <a:lnTo>
                  <a:pt x="121" y="20"/>
                </a:lnTo>
                <a:lnTo>
                  <a:pt x="97" y="9"/>
                </a:lnTo>
                <a:lnTo>
                  <a:pt x="95" y="9"/>
                </a:lnTo>
                <a:lnTo>
                  <a:pt x="95" y="11"/>
                </a:lnTo>
                <a:lnTo>
                  <a:pt x="95" y="13"/>
                </a:lnTo>
                <a:lnTo>
                  <a:pt x="102" y="18"/>
                </a:lnTo>
                <a:lnTo>
                  <a:pt x="121" y="24"/>
                </a:lnTo>
                <a:lnTo>
                  <a:pt x="159" y="25"/>
                </a:lnTo>
                <a:lnTo>
                  <a:pt x="170" y="29"/>
                </a:lnTo>
                <a:lnTo>
                  <a:pt x="175" y="33"/>
                </a:lnTo>
                <a:lnTo>
                  <a:pt x="175" y="35"/>
                </a:lnTo>
                <a:lnTo>
                  <a:pt x="143" y="3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63920" y="6696000"/>
            <a:ext cx="42840" cy="15840"/>
          </a:xfrm>
          <a:custGeom>
            <a:avLst/>
            <a:gdLst/>
            <a:ahLst/>
            <a:rect l="l" t="t" r="r" b="b"/>
            <a:pathLst>
              <a:path w="26" h="11">
                <a:moveTo>
                  <a:pt x="6" y="0"/>
                </a:moveTo>
                <a:lnTo>
                  <a:pt x="20" y="2"/>
                </a:lnTo>
                <a:lnTo>
                  <a:pt x="22" y="4"/>
                </a:lnTo>
                <a:lnTo>
                  <a:pt x="26" y="11"/>
                </a:lnTo>
                <a:lnTo>
                  <a:pt x="24" y="11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31960" y="6721560"/>
            <a:ext cx="30240" cy="15840"/>
          </a:xfrm>
          <a:custGeom>
            <a:avLst/>
            <a:gdLst/>
            <a:ahLst/>
            <a:rect l="l" t="t" r="r" b="b"/>
            <a:pathLst>
              <a:path w="20" h="11">
                <a:moveTo>
                  <a:pt x="6" y="11"/>
                </a:moveTo>
                <a:lnTo>
                  <a:pt x="2" y="11"/>
                </a:lnTo>
                <a:lnTo>
                  <a:pt x="0" y="9"/>
                </a:lnTo>
                <a:lnTo>
                  <a:pt x="0" y="7"/>
                </a:lnTo>
                <a:lnTo>
                  <a:pt x="2" y="3"/>
                </a:lnTo>
                <a:lnTo>
                  <a:pt x="9" y="0"/>
                </a:lnTo>
                <a:lnTo>
                  <a:pt x="11" y="0"/>
                </a:lnTo>
                <a:lnTo>
                  <a:pt x="20" y="1"/>
                </a:lnTo>
                <a:lnTo>
                  <a:pt x="20" y="3"/>
                </a:lnTo>
                <a:lnTo>
                  <a:pt x="13" y="9"/>
                </a:lnTo>
                <a:lnTo>
                  <a:pt x="6" y="1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63920" y="6727680"/>
            <a:ext cx="38160" cy="16200"/>
          </a:xfrm>
          <a:custGeom>
            <a:avLst/>
            <a:gdLst/>
            <a:ahLst/>
            <a:rect l="l" t="t" r="r" b="b"/>
            <a:pathLst>
              <a:path w="24" h="11">
                <a:moveTo>
                  <a:pt x="20" y="0"/>
                </a:moveTo>
                <a:lnTo>
                  <a:pt x="22" y="2"/>
                </a:lnTo>
                <a:lnTo>
                  <a:pt x="24" y="6"/>
                </a:lnTo>
                <a:lnTo>
                  <a:pt x="22" y="9"/>
                </a:lnTo>
                <a:lnTo>
                  <a:pt x="17" y="11"/>
                </a:lnTo>
                <a:lnTo>
                  <a:pt x="2" y="9"/>
                </a:lnTo>
                <a:lnTo>
                  <a:pt x="0" y="6"/>
                </a:lnTo>
                <a:lnTo>
                  <a:pt x="4" y="2"/>
                </a:lnTo>
                <a:lnTo>
                  <a:pt x="13" y="0"/>
                </a:lnTo>
                <a:lnTo>
                  <a:pt x="20" y="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98800" y="6737400"/>
            <a:ext cx="23760" cy="12600"/>
          </a:xfrm>
          <a:custGeom>
            <a:avLst/>
            <a:gdLst/>
            <a:ahLst/>
            <a:rect l="l" t="t" r="r" b="b"/>
            <a:pathLst>
              <a:path w="15" h="9">
                <a:moveTo>
                  <a:pt x="10" y="9"/>
                </a:moveTo>
                <a:lnTo>
                  <a:pt x="0" y="1"/>
                </a:lnTo>
                <a:lnTo>
                  <a:pt x="4" y="0"/>
                </a:lnTo>
                <a:lnTo>
                  <a:pt x="13" y="0"/>
                </a:lnTo>
                <a:lnTo>
                  <a:pt x="15" y="0"/>
                </a:lnTo>
                <a:lnTo>
                  <a:pt x="10" y="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51000" y="6743880"/>
            <a:ext cx="1764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5" y="7"/>
                </a:moveTo>
                <a:lnTo>
                  <a:pt x="0" y="6"/>
                </a:lnTo>
                <a:lnTo>
                  <a:pt x="0" y="2"/>
                </a:lnTo>
                <a:lnTo>
                  <a:pt x="0" y="0"/>
                </a:lnTo>
                <a:lnTo>
                  <a:pt x="11" y="2"/>
                </a:lnTo>
                <a:lnTo>
                  <a:pt x="12" y="4"/>
                </a:lnTo>
                <a:lnTo>
                  <a:pt x="12" y="6"/>
                </a:lnTo>
                <a:lnTo>
                  <a:pt x="9" y="7"/>
                </a:lnTo>
                <a:lnTo>
                  <a:pt x="5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62040" y="6765840"/>
            <a:ext cx="25560" cy="19080"/>
          </a:xfrm>
          <a:custGeom>
            <a:avLst/>
            <a:gdLst/>
            <a:ahLst/>
            <a:rect l="l" t="t" r="r" b="b"/>
            <a:pathLst>
              <a:path w="15" h="13">
                <a:moveTo>
                  <a:pt x="2" y="13"/>
                </a:moveTo>
                <a:lnTo>
                  <a:pt x="0" y="13"/>
                </a:lnTo>
                <a:lnTo>
                  <a:pt x="0" y="11"/>
                </a:lnTo>
                <a:lnTo>
                  <a:pt x="4" y="2"/>
                </a:lnTo>
                <a:lnTo>
                  <a:pt x="6" y="0"/>
                </a:lnTo>
                <a:lnTo>
                  <a:pt x="9" y="0"/>
                </a:lnTo>
                <a:lnTo>
                  <a:pt x="15" y="3"/>
                </a:lnTo>
                <a:lnTo>
                  <a:pt x="15" y="9"/>
                </a:lnTo>
                <a:lnTo>
                  <a:pt x="7" y="11"/>
                </a:lnTo>
                <a:lnTo>
                  <a:pt x="2" y="1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6777000"/>
            <a:ext cx="47520" cy="31680"/>
          </a:xfrm>
          <a:custGeom>
            <a:avLst/>
            <a:gdLst/>
            <a:ahLst/>
            <a:rect l="l" t="t" r="r" b="b"/>
            <a:pathLst>
              <a:path w="30" h="22">
                <a:moveTo>
                  <a:pt x="21" y="22"/>
                </a:moveTo>
                <a:lnTo>
                  <a:pt x="21" y="18"/>
                </a:lnTo>
                <a:lnTo>
                  <a:pt x="15" y="17"/>
                </a:lnTo>
                <a:lnTo>
                  <a:pt x="10" y="18"/>
                </a:lnTo>
                <a:lnTo>
                  <a:pt x="0" y="17"/>
                </a:lnTo>
                <a:lnTo>
                  <a:pt x="0" y="13"/>
                </a:lnTo>
                <a:lnTo>
                  <a:pt x="0" y="9"/>
                </a:lnTo>
                <a:lnTo>
                  <a:pt x="11" y="2"/>
                </a:lnTo>
                <a:lnTo>
                  <a:pt x="21" y="0"/>
                </a:lnTo>
                <a:lnTo>
                  <a:pt x="30" y="18"/>
                </a:lnTo>
                <a:lnTo>
                  <a:pt x="30" y="20"/>
                </a:lnTo>
                <a:lnTo>
                  <a:pt x="26" y="20"/>
                </a:lnTo>
                <a:lnTo>
                  <a:pt x="21" y="2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38360" y="6802560"/>
            <a:ext cx="14400" cy="6120"/>
          </a:xfrm>
          <a:custGeom>
            <a:avLst/>
            <a:gdLst/>
            <a:ahLst/>
            <a:rect l="l" t="t" r="r" b="b"/>
            <a:pathLst>
              <a:path w="9" h="4">
                <a:moveTo>
                  <a:pt x="3" y="4"/>
                </a:moveTo>
                <a:lnTo>
                  <a:pt x="0" y="4"/>
                </a:lnTo>
                <a:lnTo>
                  <a:pt x="2" y="2"/>
                </a:lnTo>
                <a:lnTo>
                  <a:pt x="7" y="0"/>
                </a:lnTo>
                <a:lnTo>
                  <a:pt x="9" y="0"/>
                </a:lnTo>
                <a:lnTo>
                  <a:pt x="7" y="2"/>
                </a:lnTo>
                <a:lnTo>
                  <a:pt x="3" y="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49520" y="6808680"/>
            <a:ext cx="1440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5" y="11"/>
                </a:moveTo>
                <a:lnTo>
                  <a:pt x="0" y="7"/>
                </a:lnTo>
                <a:lnTo>
                  <a:pt x="0" y="4"/>
                </a:lnTo>
                <a:lnTo>
                  <a:pt x="5" y="0"/>
                </a:lnTo>
                <a:lnTo>
                  <a:pt x="9" y="2"/>
                </a:lnTo>
                <a:lnTo>
                  <a:pt x="9" y="9"/>
                </a:lnTo>
                <a:lnTo>
                  <a:pt x="9" y="11"/>
                </a:lnTo>
                <a:lnTo>
                  <a:pt x="5" y="1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46200" y="6811920"/>
            <a:ext cx="52560" cy="9720"/>
          </a:xfrm>
          <a:custGeom>
            <a:avLst/>
            <a:gdLst/>
            <a:ahLst/>
            <a:rect l="l" t="t" r="r" b="b"/>
            <a:pathLst>
              <a:path w="35" h="7">
                <a:moveTo>
                  <a:pt x="24" y="7"/>
                </a:moveTo>
                <a:lnTo>
                  <a:pt x="20" y="3"/>
                </a:lnTo>
                <a:lnTo>
                  <a:pt x="18" y="3"/>
                </a:lnTo>
                <a:lnTo>
                  <a:pt x="13" y="3"/>
                </a:lnTo>
                <a:lnTo>
                  <a:pt x="2" y="5"/>
                </a:lnTo>
                <a:lnTo>
                  <a:pt x="0" y="3"/>
                </a:lnTo>
                <a:lnTo>
                  <a:pt x="0" y="2"/>
                </a:lnTo>
                <a:lnTo>
                  <a:pt x="0" y="0"/>
                </a:lnTo>
                <a:lnTo>
                  <a:pt x="6" y="0"/>
                </a:lnTo>
                <a:lnTo>
                  <a:pt x="13" y="2"/>
                </a:lnTo>
                <a:lnTo>
                  <a:pt x="24" y="2"/>
                </a:lnTo>
                <a:lnTo>
                  <a:pt x="28" y="0"/>
                </a:lnTo>
                <a:lnTo>
                  <a:pt x="33" y="0"/>
                </a:lnTo>
                <a:lnTo>
                  <a:pt x="35" y="0"/>
                </a:lnTo>
                <a:lnTo>
                  <a:pt x="35" y="2"/>
                </a:lnTo>
                <a:lnTo>
                  <a:pt x="31" y="5"/>
                </a:lnTo>
                <a:lnTo>
                  <a:pt x="31" y="7"/>
                </a:lnTo>
                <a:lnTo>
                  <a:pt x="26" y="5"/>
                </a:lnTo>
                <a:lnTo>
                  <a:pt x="24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11360" y="6811920"/>
            <a:ext cx="31680" cy="9720"/>
          </a:xfrm>
          <a:custGeom>
            <a:avLst/>
            <a:gdLst/>
            <a:ahLst/>
            <a:rect l="l" t="t" r="r" b="b"/>
            <a:pathLst>
              <a:path w="20" h="7">
                <a:moveTo>
                  <a:pt x="17" y="7"/>
                </a:moveTo>
                <a:lnTo>
                  <a:pt x="8" y="3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17" y="2"/>
                </a:lnTo>
                <a:lnTo>
                  <a:pt x="20" y="3"/>
                </a:lnTo>
                <a:lnTo>
                  <a:pt x="20" y="7"/>
                </a:lnTo>
                <a:lnTo>
                  <a:pt x="17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22360" y="6364440"/>
            <a:ext cx="743040" cy="339480"/>
          </a:xfrm>
          <a:custGeom>
            <a:avLst/>
            <a:gdLst/>
            <a:ahLst/>
            <a:rect l="l" t="t" r="r" b="b"/>
            <a:pathLst>
              <a:path w="465" h="232">
                <a:moveTo>
                  <a:pt x="212" y="232"/>
                </a:moveTo>
                <a:lnTo>
                  <a:pt x="202" y="230"/>
                </a:lnTo>
                <a:lnTo>
                  <a:pt x="192" y="228"/>
                </a:lnTo>
                <a:lnTo>
                  <a:pt x="185" y="224"/>
                </a:lnTo>
                <a:lnTo>
                  <a:pt x="180" y="221"/>
                </a:lnTo>
                <a:lnTo>
                  <a:pt x="158" y="217"/>
                </a:lnTo>
                <a:lnTo>
                  <a:pt x="112" y="215"/>
                </a:lnTo>
                <a:lnTo>
                  <a:pt x="90" y="215"/>
                </a:lnTo>
                <a:lnTo>
                  <a:pt x="63" y="213"/>
                </a:lnTo>
                <a:lnTo>
                  <a:pt x="57" y="212"/>
                </a:lnTo>
                <a:lnTo>
                  <a:pt x="48" y="210"/>
                </a:lnTo>
                <a:lnTo>
                  <a:pt x="39" y="208"/>
                </a:lnTo>
                <a:lnTo>
                  <a:pt x="33" y="210"/>
                </a:lnTo>
                <a:lnTo>
                  <a:pt x="33" y="212"/>
                </a:lnTo>
                <a:lnTo>
                  <a:pt x="31" y="212"/>
                </a:lnTo>
                <a:lnTo>
                  <a:pt x="13" y="212"/>
                </a:lnTo>
                <a:lnTo>
                  <a:pt x="10" y="212"/>
                </a:lnTo>
                <a:lnTo>
                  <a:pt x="2" y="206"/>
                </a:lnTo>
                <a:lnTo>
                  <a:pt x="4" y="0"/>
                </a:lnTo>
                <a:lnTo>
                  <a:pt x="21" y="16"/>
                </a:lnTo>
                <a:lnTo>
                  <a:pt x="31" y="23"/>
                </a:lnTo>
                <a:lnTo>
                  <a:pt x="35" y="27"/>
                </a:lnTo>
                <a:lnTo>
                  <a:pt x="39" y="34"/>
                </a:lnTo>
                <a:lnTo>
                  <a:pt x="42" y="45"/>
                </a:lnTo>
                <a:lnTo>
                  <a:pt x="41" y="45"/>
                </a:lnTo>
                <a:lnTo>
                  <a:pt x="41" y="45"/>
                </a:lnTo>
                <a:lnTo>
                  <a:pt x="37" y="36"/>
                </a:lnTo>
                <a:lnTo>
                  <a:pt x="35" y="34"/>
                </a:lnTo>
                <a:lnTo>
                  <a:pt x="33" y="34"/>
                </a:lnTo>
                <a:lnTo>
                  <a:pt x="28" y="34"/>
                </a:lnTo>
                <a:lnTo>
                  <a:pt x="26" y="36"/>
                </a:lnTo>
                <a:lnTo>
                  <a:pt x="11" y="45"/>
                </a:lnTo>
                <a:lnTo>
                  <a:pt x="10" y="49"/>
                </a:lnTo>
                <a:lnTo>
                  <a:pt x="8" y="53"/>
                </a:lnTo>
                <a:lnTo>
                  <a:pt x="11" y="56"/>
                </a:lnTo>
                <a:lnTo>
                  <a:pt x="15" y="60"/>
                </a:lnTo>
                <a:lnTo>
                  <a:pt x="24" y="62"/>
                </a:lnTo>
                <a:lnTo>
                  <a:pt x="35" y="64"/>
                </a:lnTo>
                <a:lnTo>
                  <a:pt x="44" y="62"/>
                </a:lnTo>
                <a:lnTo>
                  <a:pt x="48" y="62"/>
                </a:lnTo>
                <a:lnTo>
                  <a:pt x="53" y="71"/>
                </a:lnTo>
                <a:lnTo>
                  <a:pt x="59" y="84"/>
                </a:lnTo>
                <a:lnTo>
                  <a:pt x="64" y="91"/>
                </a:lnTo>
                <a:lnTo>
                  <a:pt x="83" y="102"/>
                </a:lnTo>
                <a:lnTo>
                  <a:pt x="103" y="113"/>
                </a:lnTo>
                <a:lnTo>
                  <a:pt x="103" y="118"/>
                </a:lnTo>
                <a:lnTo>
                  <a:pt x="105" y="122"/>
                </a:lnTo>
                <a:lnTo>
                  <a:pt x="134" y="137"/>
                </a:lnTo>
                <a:lnTo>
                  <a:pt x="159" y="148"/>
                </a:lnTo>
                <a:lnTo>
                  <a:pt x="174" y="153"/>
                </a:lnTo>
                <a:lnTo>
                  <a:pt x="187" y="159"/>
                </a:lnTo>
                <a:lnTo>
                  <a:pt x="203" y="170"/>
                </a:lnTo>
                <a:lnTo>
                  <a:pt x="233" y="182"/>
                </a:lnTo>
                <a:lnTo>
                  <a:pt x="275" y="193"/>
                </a:lnTo>
                <a:lnTo>
                  <a:pt x="284" y="195"/>
                </a:lnTo>
                <a:lnTo>
                  <a:pt x="322" y="191"/>
                </a:lnTo>
                <a:lnTo>
                  <a:pt x="329" y="191"/>
                </a:lnTo>
                <a:lnTo>
                  <a:pt x="339" y="191"/>
                </a:lnTo>
                <a:lnTo>
                  <a:pt x="339" y="193"/>
                </a:lnTo>
                <a:lnTo>
                  <a:pt x="329" y="208"/>
                </a:lnTo>
                <a:lnTo>
                  <a:pt x="320" y="217"/>
                </a:lnTo>
                <a:lnTo>
                  <a:pt x="317" y="219"/>
                </a:lnTo>
                <a:lnTo>
                  <a:pt x="313" y="219"/>
                </a:lnTo>
                <a:lnTo>
                  <a:pt x="313" y="217"/>
                </a:lnTo>
                <a:lnTo>
                  <a:pt x="306" y="217"/>
                </a:lnTo>
                <a:lnTo>
                  <a:pt x="293" y="219"/>
                </a:lnTo>
                <a:lnTo>
                  <a:pt x="284" y="219"/>
                </a:lnTo>
                <a:lnTo>
                  <a:pt x="282" y="217"/>
                </a:lnTo>
                <a:lnTo>
                  <a:pt x="278" y="217"/>
                </a:lnTo>
                <a:lnTo>
                  <a:pt x="266" y="215"/>
                </a:lnTo>
                <a:lnTo>
                  <a:pt x="262" y="217"/>
                </a:lnTo>
                <a:lnTo>
                  <a:pt x="260" y="219"/>
                </a:lnTo>
                <a:lnTo>
                  <a:pt x="255" y="223"/>
                </a:lnTo>
                <a:lnTo>
                  <a:pt x="245" y="224"/>
                </a:lnTo>
                <a:lnTo>
                  <a:pt x="238" y="224"/>
                </a:lnTo>
                <a:lnTo>
                  <a:pt x="220" y="224"/>
                </a:lnTo>
                <a:lnTo>
                  <a:pt x="212" y="232"/>
                </a:lnTo>
                <a:moveTo>
                  <a:pt x="383" y="217"/>
                </a:moveTo>
                <a:lnTo>
                  <a:pt x="383" y="213"/>
                </a:lnTo>
                <a:lnTo>
                  <a:pt x="381" y="212"/>
                </a:lnTo>
                <a:lnTo>
                  <a:pt x="375" y="212"/>
                </a:lnTo>
                <a:lnTo>
                  <a:pt x="375" y="210"/>
                </a:lnTo>
                <a:lnTo>
                  <a:pt x="377" y="208"/>
                </a:lnTo>
                <a:lnTo>
                  <a:pt x="381" y="204"/>
                </a:lnTo>
                <a:lnTo>
                  <a:pt x="384" y="204"/>
                </a:lnTo>
                <a:lnTo>
                  <a:pt x="390" y="206"/>
                </a:lnTo>
                <a:lnTo>
                  <a:pt x="412" y="202"/>
                </a:lnTo>
                <a:lnTo>
                  <a:pt x="415" y="201"/>
                </a:lnTo>
                <a:lnTo>
                  <a:pt x="432" y="201"/>
                </a:lnTo>
                <a:lnTo>
                  <a:pt x="445" y="201"/>
                </a:lnTo>
                <a:lnTo>
                  <a:pt x="456" y="199"/>
                </a:lnTo>
                <a:lnTo>
                  <a:pt x="465" y="201"/>
                </a:lnTo>
                <a:lnTo>
                  <a:pt x="459" y="206"/>
                </a:lnTo>
                <a:lnTo>
                  <a:pt x="452" y="208"/>
                </a:lnTo>
                <a:lnTo>
                  <a:pt x="450" y="206"/>
                </a:lnTo>
                <a:lnTo>
                  <a:pt x="447" y="204"/>
                </a:lnTo>
                <a:lnTo>
                  <a:pt x="436" y="208"/>
                </a:lnTo>
                <a:lnTo>
                  <a:pt x="423" y="212"/>
                </a:lnTo>
                <a:lnTo>
                  <a:pt x="423" y="210"/>
                </a:lnTo>
                <a:lnTo>
                  <a:pt x="423" y="208"/>
                </a:lnTo>
                <a:lnTo>
                  <a:pt x="417" y="206"/>
                </a:lnTo>
                <a:lnTo>
                  <a:pt x="408" y="212"/>
                </a:lnTo>
                <a:lnTo>
                  <a:pt x="393" y="213"/>
                </a:lnTo>
                <a:lnTo>
                  <a:pt x="386" y="217"/>
                </a:lnTo>
                <a:lnTo>
                  <a:pt x="383" y="217"/>
                </a:lnTo>
                <a:moveTo>
                  <a:pt x="2" y="208"/>
                </a:moveTo>
                <a:lnTo>
                  <a:pt x="10" y="215"/>
                </a:lnTo>
                <a:lnTo>
                  <a:pt x="4" y="215"/>
                </a:lnTo>
                <a:lnTo>
                  <a:pt x="0" y="215"/>
                </a:lnTo>
                <a:lnTo>
                  <a:pt x="2" y="215"/>
                </a:lnTo>
                <a:lnTo>
                  <a:pt x="2" y="20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06720" y="2152800"/>
            <a:ext cx="125280" cy="210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3155400">
            <a:off x="2082240" y="6166440"/>
            <a:ext cx="360360" cy="149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9850400">
            <a:off x="2095560" y="4236840"/>
            <a:ext cx="361800" cy="2206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29000" y="3792600"/>
            <a:ext cx="1336680" cy="1571400"/>
          </a:xfrm>
          <a:custGeom>
            <a:avLst/>
            <a:gdLst/>
            <a:ahLst/>
            <a:rect l="l" t="t" r="r" b="b"/>
            <a:pathLst>
              <a:path w="837" h="1074">
                <a:moveTo>
                  <a:pt x="837" y="0"/>
                </a:moveTo>
                <a:lnTo>
                  <a:pt x="729" y="90"/>
                </a:lnTo>
                <a:lnTo>
                  <a:pt x="702" y="165"/>
                </a:lnTo>
                <a:lnTo>
                  <a:pt x="741" y="312"/>
                </a:lnTo>
                <a:lnTo>
                  <a:pt x="471" y="411"/>
                </a:lnTo>
                <a:lnTo>
                  <a:pt x="186" y="594"/>
                </a:lnTo>
                <a:lnTo>
                  <a:pt x="165" y="831"/>
                </a:lnTo>
                <a:lnTo>
                  <a:pt x="4" y="1013"/>
                </a:lnTo>
                <a:lnTo>
                  <a:pt x="0" y="107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49600" y="3430440"/>
            <a:ext cx="398520" cy="63720"/>
          </a:xfrm>
          <a:custGeom>
            <a:avLst/>
            <a:gdLst/>
            <a:ahLst/>
            <a:rect l="l" t="t" r="r" b="b"/>
            <a:pathLst>
              <a:path w="248" h="44">
                <a:moveTo>
                  <a:pt x="0" y="0"/>
                </a:moveTo>
                <a:lnTo>
                  <a:pt x="100" y="44"/>
                </a:lnTo>
                <a:lnTo>
                  <a:pt x="248" y="43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60440" y="3795840"/>
            <a:ext cx="1609920" cy="758520"/>
          </a:xfrm>
          <a:custGeom>
            <a:avLst/>
            <a:gdLst/>
            <a:ahLst/>
            <a:rect l="l" t="t" r="r" b="b"/>
            <a:pathLst>
              <a:path w="1008" h="518">
                <a:moveTo>
                  <a:pt x="1008" y="0"/>
                </a:moveTo>
                <a:lnTo>
                  <a:pt x="963" y="150"/>
                </a:lnTo>
                <a:lnTo>
                  <a:pt x="639" y="414"/>
                </a:lnTo>
                <a:lnTo>
                  <a:pt x="328" y="518"/>
                </a:lnTo>
                <a:lnTo>
                  <a:pt x="220" y="462"/>
                </a:lnTo>
                <a:lnTo>
                  <a:pt x="68" y="430"/>
                </a:lnTo>
                <a:lnTo>
                  <a:pt x="0" y="399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14480" y="2206800"/>
            <a:ext cx="1049400" cy="1563480"/>
          </a:xfrm>
          <a:custGeom>
            <a:avLst/>
            <a:gdLst/>
            <a:ahLst/>
            <a:rect l="l" t="t" r="r" b="b"/>
            <a:pathLst>
              <a:path w="656" h="1068">
                <a:moveTo>
                  <a:pt x="159" y="0"/>
                </a:moveTo>
                <a:lnTo>
                  <a:pt x="156" y="201"/>
                </a:lnTo>
                <a:lnTo>
                  <a:pt x="0" y="348"/>
                </a:lnTo>
                <a:lnTo>
                  <a:pt x="90" y="741"/>
                </a:lnTo>
                <a:lnTo>
                  <a:pt x="248" y="964"/>
                </a:lnTo>
                <a:lnTo>
                  <a:pt x="453" y="972"/>
                </a:lnTo>
                <a:lnTo>
                  <a:pt x="656" y="106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13240" y="3132000"/>
            <a:ext cx="600120" cy="615960"/>
          </a:xfrm>
          <a:custGeom>
            <a:avLst/>
            <a:gdLst/>
            <a:ahLst/>
            <a:rect l="l" t="t" r="r" b="b"/>
            <a:pathLst>
              <a:path w="376" h="421">
                <a:moveTo>
                  <a:pt x="376" y="0"/>
                </a:moveTo>
                <a:lnTo>
                  <a:pt x="240" y="24"/>
                </a:lnTo>
                <a:lnTo>
                  <a:pt x="108" y="60"/>
                </a:lnTo>
                <a:lnTo>
                  <a:pt x="12" y="184"/>
                </a:lnTo>
                <a:lnTo>
                  <a:pt x="0" y="280"/>
                </a:lnTo>
                <a:lnTo>
                  <a:pt x="36" y="328"/>
                </a:lnTo>
                <a:lnTo>
                  <a:pt x="218" y="421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51080" y="3646440"/>
            <a:ext cx="1289160" cy="738360"/>
          </a:xfrm>
          <a:custGeom>
            <a:avLst/>
            <a:gdLst/>
            <a:ahLst/>
            <a:rect l="l" t="t" r="r" b="b"/>
            <a:pathLst>
              <a:path w="805" h="504">
                <a:moveTo>
                  <a:pt x="0" y="504"/>
                </a:moveTo>
                <a:lnTo>
                  <a:pt x="48" y="328"/>
                </a:lnTo>
                <a:lnTo>
                  <a:pt x="196" y="52"/>
                </a:lnTo>
                <a:lnTo>
                  <a:pt x="388" y="64"/>
                </a:lnTo>
                <a:lnTo>
                  <a:pt x="805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54160" y="2214720"/>
            <a:ext cx="1000080" cy="331560"/>
          </a:xfrm>
          <a:custGeom>
            <a:avLst/>
            <a:gdLst/>
            <a:ahLst/>
            <a:rect l="l" t="t" r="r" b="b"/>
            <a:pathLst>
              <a:path w="626" h="226">
                <a:moveTo>
                  <a:pt x="0" y="182"/>
                </a:moveTo>
                <a:lnTo>
                  <a:pt x="8" y="6"/>
                </a:lnTo>
                <a:lnTo>
                  <a:pt x="208" y="122"/>
                </a:lnTo>
                <a:lnTo>
                  <a:pt x="508" y="226"/>
                </a:lnTo>
                <a:lnTo>
                  <a:pt x="626" y="0"/>
                </a:ln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75040" y="2117880"/>
            <a:ext cx="990360" cy="166680"/>
          </a:xfrm>
          <a:custGeom>
            <a:avLst/>
            <a:gdLst/>
            <a:ahLst/>
            <a:rect l="l" t="t" r="r" b="b"/>
            <a:pathLst>
              <a:path w="620" h="114">
                <a:moveTo>
                  <a:pt x="0" y="0"/>
                </a:moveTo>
                <a:lnTo>
                  <a:pt x="182" y="69"/>
                </a:lnTo>
                <a:lnTo>
                  <a:pt x="467" y="114"/>
                </a:lnTo>
                <a:lnTo>
                  <a:pt x="620" y="54"/>
                </a:ln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2880" y="3641760"/>
            <a:ext cx="500040" cy="222120"/>
          </a:xfrm>
          <a:custGeom>
            <a:avLst/>
            <a:gdLst/>
            <a:ahLst/>
            <a:rect l="l" t="t" r="r" b="b"/>
            <a:pathLst>
              <a:path w="312" h="152">
                <a:moveTo>
                  <a:pt x="0" y="0"/>
                </a:moveTo>
                <a:lnTo>
                  <a:pt x="168" y="128"/>
                </a:lnTo>
                <a:lnTo>
                  <a:pt x="312" y="152"/>
                </a:ln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7440" y="3565440"/>
            <a:ext cx="387360" cy="157320"/>
          </a:xfrm>
          <a:custGeom>
            <a:avLst/>
            <a:gdLst/>
            <a:ahLst/>
            <a:rect l="l" t="t" r="r" b="b"/>
            <a:pathLst>
              <a:path w="242" h="108">
                <a:moveTo>
                  <a:pt x="0" y="26"/>
                </a:moveTo>
                <a:lnTo>
                  <a:pt x="174" y="108"/>
                </a:lnTo>
                <a:lnTo>
                  <a:pt x="242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35200" y="3559320"/>
            <a:ext cx="52560" cy="4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38680" y="3757680"/>
            <a:ext cx="69840" cy="71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51080" y="3782880"/>
            <a:ext cx="1600200" cy="614520"/>
          </a:xfrm>
          <a:custGeom>
            <a:avLst/>
            <a:gdLst/>
            <a:ahLst/>
            <a:rect l="l" t="t" r="r" b="b"/>
            <a:pathLst>
              <a:path w="1000" h="420">
                <a:moveTo>
                  <a:pt x="1000" y="0"/>
                </a:moveTo>
                <a:lnTo>
                  <a:pt x="775" y="66"/>
                </a:lnTo>
                <a:lnTo>
                  <a:pt x="550" y="228"/>
                </a:lnTo>
                <a:lnTo>
                  <a:pt x="637" y="420"/>
                </a:lnTo>
                <a:lnTo>
                  <a:pt x="116" y="415"/>
                </a:lnTo>
                <a:lnTo>
                  <a:pt x="68" y="339"/>
                </a:lnTo>
                <a:lnTo>
                  <a:pt x="0" y="407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96960" y="4133880"/>
            <a:ext cx="654120" cy="233280"/>
          </a:xfrm>
          <a:custGeom>
            <a:avLst/>
            <a:gdLst/>
            <a:ahLst/>
            <a:rect l="l" t="t" r="r" b="b"/>
            <a:pathLst>
              <a:path w="410" h="159">
                <a:moveTo>
                  <a:pt x="0" y="81"/>
                </a:moveTo>
                <a:lnTo>
                  <a:pt x="39" y="0"/>
                </a:lnTo>
                <a:lnTo>
                  <a:pt x="258" y="87"/>
                </a:lnTo>
                <a:lnTo>
                  <a:pt x="410" y="159"/>
                </a:ln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40120" y="4240080"/>
            <a:ext cx="171360" cy="63720"/>
          </a:xfrm>
          <a:custGeom>
            <a:avLst/>
            <a:gdLst/>
            <a:ahLst/>
            <a:rect l="l" t="t" r="r" b="b"/>
            <a:pathLst>
              <a:path w="106" h="43">
                <a:moveTo>
                  <a:pt x="0" y="0"/>
                </a:moveTo>
                <a:lnTo>
                  <a:pt x="42" y="23"/>
                </a:lnTo>
                <a:lnTo>
                  <a:pt x="106" y="4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63720" y="3125880"/>
            <a:ext cx="173160" cy="46080"/>
          </a:xfrm>
          <a:custGeom>
            <a:avLst/>
            <a:gdLst/>
            <a:ahLst/>
            <a:rect l="l" t="t" r="r" b="b"/>
            <a:pathLst>
              <a:path w="108" h="32">
                <a:moveTo>
                  <a:pt x="0" y="0"/>
                </a:moveTo>
                <a:lnTo>
                  <a:pt x="108" y="32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05040" y="3032280"/>
            <a:ext cx="92160" cy="156960"/>
          </a:xfrm>
          <a:custGeom>
            <a:avLst/>
            <a:gdLst/>
            <a:ahLst/>
            <a:rect l="l" t="t" r="r" b="b"/>
            <a:pathLst>
              <a:path w="56" h="108">
                <a:moveTo>
                  <a:pt x="0" y="108"/>
                </a:moveTo>
                <a:lnTo>
                  <a:pt x="36" y="68"/>
                </a:lnTo>
                <a:lnTo>
                  <a:pt x="5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900520" y="2932200"/>
            <a:ext cx="93600" cy="93600"/>
          </a:xfrm>
          <a:custGeom>
            <a:avLst/>
            <a:gdLst/>
            <a:ahLst/>
            <a:rect l="l" t="t" r="r" b="b"/>
            <a:pathLst>
              <a:path w="60" h="64">
                <a:moveTo>
                  <a:pt x="0" y="64"/>
                </a:moveTo>
                <a:lnTo>
                  <a:pt x="6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78040" y="3164040"/>
            <a:ext cx="52560" cy="4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27280" y="3594240"/>
            <a:ext cx="54000" cy="4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84600" y="3027240"/>
            <a:ext cx="54000" cy="4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43240" y="4402080"/>
            <a:ext cx="50760" cy="4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98640" y="2689200"/>
            <a:ext cx="50760" cy="4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5800" y="4964040"/>
            <a:ext cx="50760" cy="4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57400" y="2913120"/>
            <a:ext cx="50760" cy="4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51080" y="3581280"/>
            <a:ext cx="52560" cy="428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9520" y="4287960"/>
            <a:ext cx="50760" cy="4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021040" y="2460600"/>
            <a:ext cx="54000" cy="4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833560" y="2513160"/>
            <a:ext cx="49320" cy="4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03640" y="3114720"/>
            <a:ext cx="52560" cy="4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30320" y="3586320"/>
            <a:ext cx="68400" cy="71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11480" y="2509920"/>
            <a:ext cx="69840" cy="71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178000" y="3817800"/>
            <a:ext cx="1754280" cy="2846520"/>
          </a:xfrm>
          <a:custGeom>
            <a:avLst/>
            <a:gdLst/>
            <a:ahLst/>
            <a:rect l="l" t="t" r="r" b="b"/>
            <a:pathLst>
              <a:path w="1098" h="1944">
                <a:moveTo>
                  <a:pt x="135" y="1944"/>
                </a:moveTo>
                <a:cubicBezTo>
                  <a:pt x="135" y="1937"/>
                  <a:pt x="135" y="1930"/>
                  <a:pt x="135" y="1923"/>
                </a:cubicBezTo>
                <a:lnTo>
                  <a:pt x="159" y="1809"/>
                </a:lnTo>
                <a:lnTo>
                  <a:pt x="129" y="1731"/>
                </a:lnTo>
                <a:lnTo>
                  <a:pt x="0" y="1650"/>
                </a:lnTo>
                <a:lnTo>
                  <a:pt x="30" y="1494"/>
                </a:lnTo>
                <a:lnTo>
                  <a:pt x="135" y="1446"/>
                </a:lnTo>
                <a:lnTo>
                  <a:pt x="192" y="1350"/>
                </a:lnTo>
                <a:lnTo>
                  <a:pt x="258" y="1302"/>
                </a:lnTo>
                <a:lnTo>
                  <a:pt x="252" y="1218"/>
                </a:lnTo>
                <a:lnTo>
                  <a:pt x="180" y="1164"/>
                </a:lnTo>
                <a:lnTo>
                  <a:pt x="168" y="1095"/>
                </a:lnTo>
                <a:lnTo>
                  <a:pt x="204" y="1050"/>
                </a:lnTo>
                <a:lnTo>
                  <a:pt x="291" y="975"/>
                </a:lnTo>
                <a:lnTo>
                  <a:pt x="357" y="969"/>
                </a:lnTo>
                <a:lnTo>
                  <a:pt x="390" y="912"/>
                </a:lnTo>
                <a:lnTo>
                  <a:pt x="420" y="582"/>
                </a:lnTo>
                <a:lnTo>
                  <a:pt x="699" y="405"/>
                </a:lnTo>
                <a:lnTo>
                  <a:pt x="1035" y="282"/>
                </a:lnTo>
                <a:lnTo>
                  <a:pt x="1098" y="135"/>
                </a:lnTo>
                <a:lnTo>
                  <a:pt x="106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68520" y="5342040"/>
            <a:ext cx="49320" cy="4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46480" y="4371840"/>
            <a:ext cx="49320" cy="4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7320" y="4692600"/>
            <a:ext cx="49320" cy="4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71680" y="6634080"/>
            <a:ext cx="54000" cy="4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65400" y="6226200"/>
            <a:ext cx="54000" cy="428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8120" y="4108320"/>
            <a:ext cx="54000" cy="4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89480" y="3382920"/>
            <a:ext cx="52200" cy="4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43480" y="3414600"/>
            <a:ext cx="48960" cy="428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46680" y="3467160"/>
            <a:ext cx="50760" cy="428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39760" y="2095560"/>
            <a:ext cx="52560" cy="4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16000" y="2192400"/>
            <a:ext cx="52560" cy="4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81360" y="4556160"/>
            <a:ext cx="366480" cy="155520"/>
          </a:xfrm>
          <a:custGeom>
            <a:avLst/>
            <a:gdLst/>
            <a:ahLst/>
            <a:rect l="l" t="t" r="r" b="b"/>
            <a:pathLst>
              <a:path w="229" h="106">
                <a:moveTo>
                  <a:pt x="0" y="0"/>
                </a:moveTo>
                <a:lnTo>
                  <a:pt x="165" y="86"/>
                </a:lnTo>
                <a:lnTo>
                  <a:pt x="229" y="106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57360" y="498312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96960" y="443088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13000" y="396396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4560" y="2374920"/>
            <a:ext cx="3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44640" y="417996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19320" y="33228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862280" y="40338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4880" y="3618000"/>
            <a:ext cx="2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63600" y="1971720"/>
            <a:ext cx="3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54360" y="327492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57680" y="294156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84240" y="4384800"/>
            <a:ext cx="376200" cy="369720"/>
          </a:xfrm>
          <a:custGeom>
            <a:avLst/>
            <a:gdLst/>
            <a:ahLst/>
            <a:rect l="l" t="t" r="r" b="b"/>
            <a:pathLst>
              <a:path w="234" h="252">
                <a:moveTo>
                  <a:pt x="234" y="0"/>
                </a:moveTo>
                <a:lnTo>
                  <a:pt x="234" y="66"/>
                </a:lnTo>
                <a:lnTo>
                  <a:pt x="102" y="156"/>
                </a:lnTo>
                <a:lnTo>
                  <a:pt x="36" y="204"/>
                </a:lnTo>
                <a:lnTo>
                  <a:pt x="0" y="25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0600" y="4222800"/>
            <a:ext cx="50760" cy="428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30240" y="4740120"/>
            <a:ext cx="49320" cy="4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1920960"/>
            <a:ext cx="12600" cy="291960"/>
          </a:xfrm>
          <a:custGeom>
            <a:avLst/>
            <a:gdLst/>
            <a:ahLst/>
            <a:rect l="l" t="t" r="r" b="b"/>
            <a:pathLst>
              <a:path w="8" h="184">
                <a:moveTo>
                  <a:pt x="0" y="184"/>
                </a:moveTo>
                <a:lnTo>
                  <a:pt x="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82960" y="1878120"/>
            <a:ext cx="69840" cy="71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137000" y="1379160"/>
            <a:ext cx="2233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Black"/>
              </a:rPr>
              <a:t>Gasoductos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"/>
          <p:cNvSpPr/>
          <p:nvPr/>
        </p:nvSpPr>
        <p:spPr>
          <a:xfrm>
            <a:off x="596880" y="1082520"/>
            <a:ext cx="869148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Como parte de este proyecto integral se prevé  mejorar otras instalaciones y construir nuevas, a sa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Montaje de un Tk 3000 m3 en L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Montaje de un oleoducto entre PTC Toledo-Barrosa y oleoducto principal pro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Montaje de ductos menores para adecuar transportes internos a Tks de ba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Montaje de Medidores de Caudal en cabeceras de bombeo y punto de entrega (CHALLAC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Adecuación de los sistemas de bombeo – Variadores de frecuencia en LLL y S.Barrosa - Bombas nuevas en Turbo Exp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165240" y="216000"/>
            <a:ext cx="682452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spectos técnicos – Tramos Poli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"/>
          <p:cNvSpPr/>
          <p:nvPr/>
        </p:nvSpPr>
        <p:spPr>
          <a:xfrm>
            <a:off x="722160" y="1679400"/>
            <a:ext cx="815832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Montaje de un acueducto de 29 Km entre Sierra Barrosa y Challac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Montaje de fibra óptica para completar sistema de comunicación entre todas las cabeceras de bombeo y Challacó. Esta fibra contemplará las capacidades para mejorar el sistema de comunicación telefónica y de datos de la UE Loma La Lata con la centrales de Plaza Huincul o Neuqué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682452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Black"/>
              </a:rPr>
              <a:t>Aspectos técnicos – Tramos Poliducto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204480" y="-36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 Black"/>
              </a:rPr>
              <a:t>Relación Operativa y Comercial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732960" y="1585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90000"/>
                </a:solidFill>
                <a:latin typeface="Arial Unicode MS"/>
              </a:rPr>
              <a:t>Cargadores</a:t>
            </a:r>
            <a:endParaRPr b="1" lang="en-US" sz="2800" spc="-1" strike="noStrike">
              <a:solidFill>
                <a:srgbClr val="ff9900"/>
              </a:solidFill>
              <a:latin typeface="Arial Unicode MS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Total Austral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Pan American Energy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marL="343080" indent="0" algn="just">
              <a:lnSpc>
                <a:spcPct val="10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00"/>
              </a:solidFill>
              <a:latin typeface="Arial Unicode MS"/>
            </a:endParaRPr>
          </a:p>
          <a:p>
            <a:pPr marL="343080" indent="0" algn="just">
              <a:lnSpc>
                <a:spcPct val="10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90000"/>
                </a:solidFill>
                <a:latin typeface="Arial Unicode MS"/>
              </a:rPr>
              <a:t>Transportistas</a:t>
            </a:r>
            <a:endParaRPr b="1" lang="en-US" sz="2800" spc="-1" strike="noStrike">
              <a:solidFill>
                <a:srgbClr val="ff9900"/>
              </a:solidFill>
              <a:latin typeface="Arial Unicode MS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Oldelval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Transportistas a refinería locales (por camión)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</p:txBody>
      </p:sp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204480" y="-360"/>
            <a:ext cx="701676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 Black"/>
              </a:rPr>
              <a:t>Sistemas de Gestión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14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 Unicode MS"/>
              </a:rPr>
              <a:t>Nuestra gestión ambiental está certificada bajo Norma ISO 14000 desde el año 1999.</a:t>
            </a:r>
            <a:endParaRPr b="1" lang="en-US" sz="2800" spc="-1" strike="noStrike">
              <a:solidFill>
                <a:srgbClr val="ff9900"/>
              </a:solidFill>
              <a:latin typeface="Arial Unicode MS"/>
            </a:endParaRPr>
          </a:p>
          <a:p>
            <a:pPr marL="343080" indent="-343080" algn="just">
              <a:lnSpc>
                <a:spcPct val="105000"/>
              </a:lnSpc>
              <a:spcBef>
                <a:spcPts val="14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 Unicode MS"/>
              </a:rPr>
              <a:t>Se comenzaron con las tareas de certificación de Normas OHSAS 18001/1999 (Occupational Health &amp; Safety Management Serial Specification) a fin de normar nuestra gestión de Seguridad y Salud Ocupacional.</a:t>
            </a:r>
            <a:endParaRPr b="1" lang="en-US" sz="2800" spc="-1" strike="noStrike">
              <a:solidFill>
                <a:srgbClr val="ff9900"/>
              </a:solidFill>
              <a:latin typeface="Arial Unicode MS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2866" name=""/>
          <p:cNvSpPr/>
          <p:nvPr/>
        </p:nvSpPr>
        <p:spPr>
          <a:xfrm>
            <a:off x="0" y="907920"/>
            <a:ext cx="990612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2946240" y="2060640"/>
            <a:ext cx="3165480" cy="879480"/>
          </a:xfrm>
          <a:prstGeom prst="ellipse">
            <a:avLst/>
          </a:prstGeom>
          <a:noFill/>
          <a:ln w="127080">
            <a:solidFill>
              <a:srgbClr val="ff9933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990720" y="1662120"/>
            <a:ext cx="7461000" cy="3575160"/>
          </a:xfrm>
          <a:prstGeom prst="ellipse">
            <a:avLst/>
          </a:prstGeom>
          <a:noFill/>
          <a:ln w="127080">
            <a:solidFill>
              <a:srgbClr val="ff9933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 rot="4980000">
            <a:off x="3031560" y="923400"/>
            <a:ext cx="2710800" cy="3033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7901188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7901188"/>
              </a:path>
            </a:pathLst>
          </a:custGeom>
          <a:noFill/>
          <a:ln cap="rnd" w="127080">
            <a:solidFill>
              <a:srgbClr val="ff9933"/>
            </a:solidFill>
            <a:miter/>
            <a:tail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6746760" y="2133720"/>
            <a:ext cx="2965680" cy="1152360"/>
          </a:xfrm>
          <a:prstGeom prst="rect">
            <a:avLst/>
          </a:prstGeom>
          <a:solidFill>
            <a:srgbClr val="ebc869"/>
          </a:solidFill>
          <a:ln w="255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OMISO 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TICA AMBIE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, SEGUR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6865920" y="3754440"/>
            <a:ext cx="2860560" cy="20480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LANIFIC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specto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querimientos leg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y de otro 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bjetivos y me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grama de Gest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3328920" y="3288240"/>
            <a:ext cx="3289320" cy="3287880"/>
          </a:xfrm>
          <a:prstGeom prst="rect">
            <a:avLst/>
          </a:prstGeom>
          <a:solidFill>
            <a:srgbClr val="66ccff"/>
          </a:solidFill>
          <a:ln w="50760">
            <a:solidFill>
              <a:srgbClr val="000000"/>
            </a:solidFill>
            <a:miter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MPLEMENTACION Y OPER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structura organizacional y responsabi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ntrenamiento, conciencia y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ocumentación del 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trol de Doc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trol Ope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edidas y respuestas ante Emerg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179280" y="3816360"/>
            <a:ext cx="2860920" cy="20480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ROL Y  AC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RRECT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rol y medi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 conformidades y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ciones  correctiv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even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gis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uditorías del Sist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192240" y="2276640"/>
            <a:ext cx="2366640" cy="981000"/>
          </a:xfrm>
          <a:prstGeom prst="rect">
            <a:avLst/>
          </a:prstGeom>
          <a:solidFill>
            <a:srgbClr val="ebc869"/>
          </a:solidFill>
          <a:ln w="255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ION 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A P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DIRE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2724120" y="2057400"/>
            <a:ext cx="3879720" cy="68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Swis721 Blk BT"/>
              </a:rPr>
              <a:t>M E J O R 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Swis721 Blk BT"/>
              </a:rPr>
              <a:t>C  O  N  T  I  N  U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2378160" y="135000"/>
            <a:ext cx="7527960" cy="76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MODELO DE GESTION AMBIENTAL NORMA ISO 14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Unidad Económica Loma La L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7" name=""/>
          <p:cNvGrpSpPr/>
          <p:nvPr/>
        </p:nvGrpSpPr>
        <p:grpSpPr>
          <a:xfrm>
            <a:off x="165240" y="380880"/>
            <a:ext cx="1980360" cy="762120"/>
            <a:chOff x="165240" y="380880"/>
            <a:chExt cx="1980360" cy="762120"/>
          </a:xfrm>
        </p:grpSpPr>
        <p:sp>
          <p:nvSpPr>
            <p:cNvPr id="2878" name=""/>
            <p:cNvSpPr/>
            <p:nvPr/>
          </p:nvSpPr>
          <p:spPr>
            <a:xfrm>
              <a:off x="247680" y="838080"/>
              <a:ext cx="199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9" name=""/>
            <p:cNvGrpSpPr/>
            <p:nvPr/>
          </p:nvGrpSpPr>
          <p:grpSpPr>
            <a:xfrm>
              <a:off x="165240" y="380880"/>
              <a:ext cx="1980360" cy="409680"/>
              <a:chOff x="165240" y="380880"/>
              <a:chExt cx="1980360" cy="409680"/>
            </a:xfrm>
          </p:grpSpPr>
          <p:grpSp>
            <p:nvGrpSpPr>
              <p:cNvPr id="2880" name=""/>
              <p:cNvGrpSpPr/>
              <p:nvPr/>
            </p:nvGrpSpPr>
            <p:grpSpPr>
              <a:xfrm>
                <a:off x="165240" y="380880"/>
                <a:ext cx="742320" cy="380880"/>
                <a:chOff x="165240" y="380880"/>
                <a:chExt cx="742320" cy="380880"/>
              </a:xfrm>
            </p:grpSpPr>
            <p:sp>
              <p:nvSpPr>
                <p:cNvPr id="2881" name=""/>
                <p:cNvSpPr/>
                <p:nvPr/>
              </p:nvSpPr>
              <p:spPr>
                <a:xfrm>
                  <a:off x="165240" y="380880"/>
                  <a:ext cx="624240" cy="190800"/>
                </a:xfrm>
                <a:custGeom>
                  <a:avLst/>
                  <a:gdLst/>
                  <a:ahLst/>
                  <a:rect l="l" t="t" r="r" b="b"/>
                  <a:pathLst>
                    <a:path w="12462" h="4939">
                      <a:moveTo>
                        <a:pt x="3352" y="2881"/>
                      </a:moveTo>
                      <a:lnTo>
                        <a:pt x="3461" y="2723"/>
                      </a:lnTo>
                      <a:lnTo>
                        <a:pt x="3575" y="2568"/>
                      </a:lnTo>
                      <a:lnTo>
                        <a:pt x="3694" y="2416"/>
                      </a:lnTo>
                      <a:lnTo>
                        <a:pt x="3817" y="2268"/>
                      </a:lnTo>
                      <a:lnTo>
                        <a:pt x="3945" y="2123"/>
                      </a:lnTo>
                      <a:lnTo>
                        <a:pt x="4076" y="1983"/>
                      </a:lnTo>
                      <a:lnTo>
                        <a:pt x="4211" y="1846"/>
                      </a:lnTo>
                      <a:lnTo>
                        <a:pt x="4351" y="1713"/>
                      </a:lnTo>
                      <a:lnTo>
                        <a:pt x="4494" y="1584"/>
                      </a:lnTo>
                      <a:lnTo>
                        <a:pt x="4640" y="1459"/>
                      </a:lnTo>
                      <a:lnTo>
                        <a:pt x="4791" y="1337"/>
                      </a:lnTo>
                      <a:lnTo>
                        <a:pt x="4944" y="1221"/>
                      </a:lnTo>
                      <a:lnTo>
                        <a:pt x="5100" y="1110"/>
                      </a:lnTo>
                      <a:lnTo>
                        <a:pt x="5260" y="1002"/>
                      </a:lnTo>
                      <a:lnTo>
                        <a:pt x="5422" y="900"/>
                      </a:lnTo>
                      <a:lnTo>
                        <a:pt x="5586" y="802"/>
                      </a:lnTo>
                      <a:lnTo>
                        <a:pt x="5753" y="709"/>
                      </a:lnTo>
                      <a:lnTo>
                        <a:pt x="5923" y="622"/>
                      </a:lnTo>
                      <a:lnTo>
                        <a:pt x="6094" y="539"/>
                      </a:lnTo>
                      <a:lnTo>
                        <a:pt x="6268" y="463"/>
                      </a:lnTo>
                      <a:lnTo>
                        <a:pt x="6444" y="391"/>
                      </a:lnTo>
                      <a:lnTo>
                        <a:pt x="6622" y="325"/>
                      </a:lnTo>
                      <a:lnTo>
                        <a:pt x="6800" y="265"/>
                      </a:lnTo>
                      <a:lnTo>
                        <a:pt x="6982" y="211"/>
                      </a:lnTo>
                      <a:lnTo>
                        <a:pt x="7163" y="162"/>
                      </a:lnTo>
                      <a:lnTo>
                        <a:pt x="7346" y="120"/>
                      </a:lnTo>
                      <a:lnTo>
                        <a:pt x="7530" y="84"/>
                      </a:lnTo>
                      <a:lnTo>
                        <a:pt x="7714" y="54"/>
                      </a:lnTo>
                      <a:lnTo>
                        <a:pt x="7901" y="30"/>
                      </a:lnTo>
                      <a:lnTo>
                        <a:pt x="8087" y="13"/>
                      </a:lnTo>
                      <a:lnTo>
                        <a:pt x="8273" y="4"/>
                      </a:lnTo>
                      <a:lnTo>
                        <a:pt x="8460" y="0"/>
                      </a:lnTo>
                      <a:lnTo>
                        <a:pt x="8713" y="7"/>
                      </a:lnTo>
                      <a:lnTo>
                        <a:pt x="8960" y="26"/>
                      </a:lnTo>
                      <a:lnTo>
                        <a:pt x="9201" y="57"/>
                      </a:lnTo>
                      <a:lnTo>
                        <a:pt x="9435" y="100"/>
                      </a:lnTo>
                      <a:lnTo>
                        <a:pt x="9663" y="155"/>
                      </a:lnTo>
                      <a:lnTo>
                        <a:pt x="9883" y="222"/>
                      </a:lnTo>
                      <a:lnTo>
                        <a:pt x="10096" y="300"/>
                      </a:lnTo>
                      <a:lnTo>
                        <a:pt x="10301" y="388"/>
                      </a:lnTo>
                      <a:lnTo>
                        <a:pt x="10499" y="487"/>
                      </a:lnTo>
                      <a:lnTo>
                        <a:pt x="10689" y="596"/>
                      </a:lnTo>
                      <a:lnTo>
                        <a:pt x="10871" y="715"/>
                      </a:lnTo>
                      <a:lnTo>
                        <a:pt x="11044" y="843"/>
                      </a:lnTo>
                      <a:lnTo>
                        <a:pt x="11209" y="980"/>
                      </a:lnTo>
                      <a:lnTo>
                        <a:pt x="11363" y="1128"/>
                      </a:lnTo>
                      <a:lnTo>
                        <a:pt x="11511" y="1282"/>
                      </a:lnTo>
                      <a:lnTo>
                        <a:pt x="11647" y="1446"/>
                      </a:lnTo>
                      <a:lnTo>
                        <a:pt x="11774" y="1617"/>
                      </a:lnTo>
                      <a:lnTo>
                        <a:pt x="11891" y="1796"/>
                      </a:lnTo>
                      <a:lnTo>
                        <a:pt x="11998" y="1984"/>
                      </a:lnTo>
                      <a:lnTo>
                        <a:pt x="12094" y="2177"/>
                      </a:lnTo>
                      <a:lnTo>
                        <a:pt x="12181" y="2377"/>
                      </a:lnTo>
                      <a:lnTo>
                        <a:pt x="12255" y="2584"/>
                      </a:lnTo>
                      <a:lnTo>
                        <a:pt x="12319" y="2797"/>
                      </a:lnTo>
                      <a:lnTo>
                        <a:pt x="12372" y="3015"/>
                      </a:lnTo>
                      <a:lnTo>
                        <a:pt x="12412" y="3240"/>
                      </a:lnTo>
                      <a:lnTo>
                        <a:pt x="12441" y="3469"/>
                      </a:lnTo>
                      <a:lnTo>
                        <a:pt x="12457" y="3704"/>
                      </a:lnTo>
                      <a:lnTo>
                        <a:pt x="12462" y="3944"/>
                      </a:lnTo>
                      <a:lnTo>
                        <a:pt x="12453" y="4187"/>
                      </a:lnTo>
                      <a:lnTo>
                        <a:pt x="12432" y="4433"/>
                      </a:lnTo>
                      <a:lnTo>
                        <a:pt x="12398" y="4684"/>
                      </a:lnTo>
                      <a:lnTo>
                        <a:pt x="12350" y="4939"/>
                      </a:lnTo>
                      <a:lnTo>
                        <a:pt x="11820" y="4939"/>
                      </a:lnTo>
                      <a:lnTo>
                        <a:pt x="10421" y="4939"/>
                      </a:lnTo>
                      <a:lnTo>
                        <a:pt x="8443" y="4939"/>
                      </a:lnTo>
                      <a:lnTo>
                        <a:pt x="6175" y="4939"/>
                      </a:lnTo>
                      <a:lnTo>
                        <a:pt x="3907" y="4939"/>
                      </a:lnTo>
                      <a:lnTo>
                        <a:pt x="1929" y="4939"/>
                      </a:lnTo>
                      <a:lnTo>
                        <a:pt x="531" y="4939"/>
                      </a:lnTo>
                      <a:lnTo>
                        <a:pt x="0" y="4939"/>
                      </a:lnTo>
                      <a:lnTo>
                        <a:pt x="0" y="2881"/>
                      </a:lnTo>
                      <a:lnTo>
                        <a:pt x="3352" y="2881"/>
                      </a:lnTo>
                      <a:close/>
                    </a:path>
                  </a:pathLst>
                </a:custGeom>
                <a:solidFill>
                  <a:srgbClr val="ea8e3a"/>
                </a:soli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288360" y="582120"/>
                  <a:ext cx="457200" cy="179640"/>
                </a:xfrm>
                <a:custGeom>
                  <a:avLst/>
                  <a:gdLst/>
                  <a:ahLst/>
                  <a:rect l="l" t="t" r="r" b="b"/>
                  <a:pathLst>
                    <a:path w="9126" h="4654">
                      <a:moveTo>
                        <a:pt x="9126" y="1579"/>
                      </a:moveTo>
                      <a:lnTo>
                        <a:pt x="9019" y="1746"/>
                      </a:lnTo>
                      <a:lnTo>
                        <a:pt x="8906" y="1910"/>
                      </a:lnTo>
                      <a:lnTo>
                        <a:pt x="8788" y="2071"/>
                      </a:lnTo>
                      <a:lnTo>
                        <a:pt x="8664" y="2228"/>
                      </a:lnTo>
                      <a:lnTo>
                        <a:pt x="8537" y="2382"/>
                      </a:lnTo>
                      <a:lnTo>
                        <a:pt x="8405" y="2532"/>
                      </a:lnTo>
                      <a:lnTo>
                        <a:pt x="8268" y="2678"/>
                      </a:lnTo>
                      <a:lnTo>
                        <a:pt x="8128" y="2820"/>
                      </a:lnTo>
                      <a:lnTo>
                        <a:pt x="7982" y="2958"/>
                      </a:lnTo>
                      <a:lnTo>
                        <a:pt x="7833" y="3091"/>
                      </a:lnTo>
                      <a:lnTo>
                        <a:pt x="7681" y="3220"/>
                      </a:lnTo>
                      <a:lnTo>
                        <a:pt x="7524" y="3344"/>
                      </a:lnTo>
                      <a:lnTo>
                        <a:pt x="7365" y="3463"/>
                      </a:lnTo>
                      <a:lnTo>
                        <a:pt x="7202" y="3579"/>
                      </a:lnTo>
                      <a:lnTo>
                        <a:pt x="7036" y="3688"/>
                      </a:lnTo>
                      <a:lnTo>
                        <a:pt x="6866" y="3793"/>
                      </a:lnTo>
                      <a:lnTo>
                        <a:pt x="6695" y="3892"/>
                      </a:lnTo>
                      <a:lnTo>
                        <a:pt x="6520" y="3985"/>
                      </a:lnTo>
                      <a:lnTo>
                        <a:pt x="6343" y="4074"/>
                      </a:lnTo>
                      <a:lnTo>
                        <a:pt x="6164" y="4157"/>
                      </a:lnTo>
                      <a:lnTo>
                        <a:pt x="5983" y="4233"/>
                      </a:lnTo>
                      <a:lnTo>
                        <a:pt x="5800" y="4304"/>
                      </a:lnTo>
                      <a:lnTo>
                        <a:pt x="5615" y="4368"/>
                      </a:lnTo>
                      <a:lnTo>
                        <a:pt x="5428" y="4428"/>
                      </a:lnTo>
                      <a:lnTo>
                        <a:pt x="5240" y="4479"/>
                      </a:lnTo>
                      <a:lnTo>
                        <a:pt x="5050" y="4525"/>
                      </a:lnTo>
                      <a:lnTo>
                        <a:pt x="4860" y="4564"/>
                      </a:lnTo>
                      <a:lnTo>
                        <a:pt x="4668" y="4596"/>
                      </a:lnTo>
                      <a:lnTo>
                        <a:pt x="4476" y="4621"/>
                      </a:lnTo>
                      <a:lnTo>
                        <a:pt x="4284" y="4639"/>
                      </a:lnTo>
                      <a:lnTo>
                        <a:pt x="4090" y="4650"/>
                      </a:lnTo>
                      <a:lnTo>
                        <a:pt x="3896" y="4654"/>
                      </a:lnTo>
                      <a:lnTo>
                        <a:pt x="3708" y="4651"/>
                      </a:lnTo>
                      <a:lnTo>
                        <a:pt x="3522" y="4640"/>
                      </a:lnTo>
                      <a:lnTo>
                        <a:pt x="3340" y="4622"/>
                      </a:lnTo>
                      <a:lnTo>
                        <a:pt x="3161" y="4598"/>
                      </a:lnTo>
                      <a:lnTo>
                        <a:pt x="2986" y="4567"/>
                      </a:lnTo>
                      <a:lnTo>
                        <a:pt x="2815" y="4530"/>
                      </a:lnTo>
                      <a:lnTo>
                        <a:pt x="2648" y="4486"/>
                      </a:lnTo>
                      <a:lnTo>
                        <a:pt x="2484" y="4436"/>
                      </a:lnTo>
                      <a:lnTo>
                        <a:pt x="2325" y="4380"/>
                      </a:lnTo>
                      <a:lnTo>
                        <a:pt x="2170" y="4317"/>
                      </a:lnTo>
                      <a:lnTo>
                        <a:pt x="2019" y="4249"/>
                      </a:lnTo>
                      <a:lnTo>
                        <a:pt x="1872" y="4176"/>
                      </a:lnTo>
                      <a:lnTo>
                        <a:pt x="1729" y="4095"/>
                      </a:lnTo>
                      <a:lnTo>
                        <a:pt x="1592" y="4011"/>
                      </a:lnTo>
                      <a:lnTo>
                        <a:pt x="1458" y="3921"/>
                      </a:lnTo>
                      <a:lnTo>
                        <a:pt x="1330" y="3824"/>
                      </a:lnTo>
                      <a:lnTo>
                        <a:pt x="1207" y="3724"/>
                      </a:lnTo>
                      <a:lnTo>
                        <a:pt x="1088" y="3618"/>
                      </a:lnTo>
                      <a:lnTo>
                        <a:pt x="974" y="3507"/>
                      </a:lnTo>
                      <a:lnTo>
                        <a:pt x="866" y="3392"/>
                      </a:lnTo>
                      <a:lnTo>
                        <a:pt x="763" y="3271"/>
                      </a:lnTo>
                      <a:lnTo>
                        <a:pt x="665" y="3147"/>
                      </a:lnTo>
                      <a:lnTo>
                        <a:pt x="572" y="3018"/>
                      </a:lnTo>
                      <a:lnTo>
                        <a:pt x="485" y="2885"/>
                      </a:lnTo>
                      <a:lnTo>
                        <a:pt x="404" y="2747"/>
                      </a:lnTo>
                      <a:lnTo>
                        <a:pt x="328" y="2605"/>
                      </a:lnTo>
                      <a:lnTo>
                        <a:pt x="259" y="2460"/>
                      </a:lnTo>
                      <a:lnTo>
                        <a:pt x="195" y="2311"/>
                      </a:lnTo>
                      <a:lnTo>
                        <a:pt x="137" y="2159"/>
                      </a:lnTo>
                      <a:lnTo>
                        <a:pt x="85" y="2002"/>
                      </a:lnTo>
                      <a:lnTo>
                        <a:pt x="39" y="1842"/>
                      </a:lnTo>
                      <a:lnTo>
                        <a:pt x="0" y="1680"/>
                      </a:lnTo>
                      <a:lnTo>
                        <a:pt x="3" y="1671"/>
                      </a:lnTo>
                      <a:lnTo>
                        <a:pt x="15" y="1653"/>
                      </a:lnTo>
                      <a:lnTo>
                        <a:pt x="35" y="1627"/>
                      </a:lnTo>
                      <a:lnTo>
                        <a:pt x="64" y="1594"/>
                      </a:lnTo>
                      <a:lnTo>
                        <a:pt x="101" y="1552"/>
                      </a:lnTo>
                      <a:lnTo>
                        <a:pt x="146" y="1506"/>
                      </a:lnTo>
                      <a:lnTo>
                        <a:pt x="200" y="1453"/>
                      </a:lnTo>
                      <a:lnTo>
                        <a:pt x="263" y="1395"/>
                      </a:lnTo>
                      <a:lnTo>
                        <a:pt x="334" y="1331"/>
                      </a:lnTo>
                      <a:lnTo>
                        <a:pt x="414" y="1264"/>
                      </a:lnTo>
                      <a:lnTo>
                        <a:pt x="503" y="1195"/>
                      </a:lnTo>
                      <a:lnTo>
                        <a:pt x="601" y="1121"/>
                      </a:lnTo>
                      <a:lnTo>
                        <a:pt x="707" y="1045"/>
                      </a:lnTo>
                      <a:lnTo>
                        <a:pt x="822" y="968"/>
                      </a:lnTo>
                      <a:lnTo>
                        <a:pt x="946" y="891"/>
                      </a:lnTo>
                      <a:lnTo>
                        <a:pt x="1078" y="813"/>
                      </a:lnTo>
                      <a:lnTo>
                        <a:pt x="1220" y="734"/>
                      </a:lnTo>
                      <a:lnTo>
                        <a:pt x="1370" y="657"/>
                      </a:lnTo>
                      <a:lnTo>
                        <a:pt x="1530" y="581"/>
                      </a:lnTo>
                      <a:lnTo>
                        <a:pt x="1699" y="507"/>
                      </a:lnTo>
                      <a:lnTo>
                        <a:pt x="1876" y="436"/>
                      </a:lnTo>
                      <a:lnTo>
                        <a:pt x="2063" y="368"/>
                      </a:lnTo>
                      <a:lnTo>
                        <a:pt x="2259" y="304"/>
                      </a:lnTo>
                      <a:lnTo>
                        <a:pt x="2463" y="244"/>
                      </a:lnTo>
                      <a:lnTo>
                        <a:pt x="2677" y="189"/>
                      </a:lnTo>
                      <a:lnTo>
                        <a:pt x="2901" y="141"/>
                      </a:lnTo>
                      <a:lnTo>
                        <a:pt x="3133" y="98"/>
                      </a:lnTo>
                      <a:lnTo>
                        <a:pt x="3375" y="62"/>
                      </a:lnTo>
                      <a:lnTo>
                        <a:pt x="3626" y="34"/>
                      </a:lnTo>
                      <a:lnTo>
                        <a:pt x="3886" y="14"/>
                      </a:lnTo>
                      <a:lnTo>
                        <a:pt x="4155" y="2"/>
                      </a:lnTo>
                      <a:lnTo>
                        <a:pt x="4435" y="0"/>
                      </a:lnTo>
                      <a:lnTo>
                        <a:pt x="4789" y="7"/>
                      </a:lnTo>
                      <a:lnTo>
                        <a:pt x="5125" y="23"/>
                      </a:lnTo>
                      <a:lnTo>
                        <a:pt x="5445" y="45"/>
                      </a:lnTo>
                      <a:lnTo>
                        <a:pt x="5749" y="76"/>
                      </a:lnTo>
                      <a:lnTo>
                        <a:pt x="6036" y="112"/>
                      </a:lnTo>
                      <a:lnTo>
                        <a:pt x="6307" y="154"/>
                      </a:lnTo>
                      <a:lnTo>
                        <a:pt x="6563" y="203"/>
                      </a:lnTo>
                      <a:lnTo>
                        <a:pt x="6805" y="255"/>
                      </a:lnTo>
                      <a:lnTo>
                        <a:pt x="7030" y="312"/>
                      </a:lnTo>
                      <a:lnTo>
                        <a:pt x="7243" y="373"/>
                      </a:lnTo>
                      <a:lnTo>
                        <a:pt x="7441" y="437"/>
                      </a:lnTo>
                      <a:lnTo>
                        <a:pt x="7627" y="504"/>
                      </a:lnTo>
                      <a:lnTo>
                        <a:pt x="7799" y="572"/>
                      </a:lnTo>
                      <a:lnTo>
                        <a:pt x="7959" y="643"/>
                      </a:lnTo>
                      <a:lnTo>
                        <a:pt x="8106" y="715"/>
                      </a:lnTo>
                      <a:lnTo>
                        <a:pt x="8242" y="787"/>
                      </a:lnTo>
                      <a:lnTo>
                        <a:pt x="8366" y="859"/>
                      </a:lnTo>
                      <a:lnTo>
                        <a:pt x="8479" y="931"/>
                      </a:lnTo>
                      <a:lnTo>
                        <a:pt x="8582" y="1002"/>
                      </a:lnTo>
                      <a:lnTo>
                        <a:pt x="8674" y="1071"/>
                      </a:lnTo>
                      <a:lnTo>
                        <a:pt x="8757" y="1137"/>
                      </a:lnTo>
                      <a:lnTo>
                        <a:pt x="8830" y="1202"/>
                      </a:lnTo>
                      <a:lnTo>
                        <a:pt x="8893" y="1262"/>
                      </a:lnTo>
                      <a:lnTo>
                        <a:pt x="8948" y="1321"/>
                      </a:lnTo>
                      <a:lnTo>
                        <a:pt x="8996" y="1373"/>
                      </a:lnTo>
                      <a:lnTo>
                        <a:pt x="9035" y="1421"/>
                      </a:lnTo>
                      <a:lnTo>
                        <a:pt x="9067" y="1463"/>
                      </a:lnTo>
                      <a:lnTo>
                        <a:pt x="9091" y="1500"/>
                      </a:lnTo>
                      <a:lnTo>
                        <a:pt x="9109" y="1531"/>
                      </a:lnTo>
                      <a:lnTo>
                        <a:pt x="9121" y="1554"/>
                      </a:lnTo>
                      <a:lnTo>
                        <a:pt x="9126" y="1570"/>
                      </a:lnTo>
                      <a:lnTo>
                        <a:pt x="9126" y="1579"/>
                      </a:lnTo>
                      <a:close/>
                    </a:path>
                  </a:pathLst>
                </a:custGeom>
                <a:solidFill>
                  <a:srgbClr val="dd3a37"/>
                </a:soli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283320" y="571680"/>
                  <a:ext cx="624240" cy="78480"/>
                </a:xfrm>
                <a:custGeom>
                  <a:avLst/>
                  <a:gdLst/>
                  <a:ahLst/>
                  <a:rect l="l" t="t" r="r" b="b"/>
                  <a:pathLst>
                    <a:path w="12465" h="2047">
                      <a:moveTo>
                        <a:pt x="12465" y="0"/>
                      </a:moveTo>
                      <a:lnTo>
                        <a:pt x="12465" y="1897"/>
                      </a:lnTo>
                      <a:lnTo>
                        <a:pt x="12452" y="1898"/>
                      </a:lnTo>
                      <a:lnTo>
                        <a:pt x="12418" y="1900"/>
                      </a:lnTo>
                      <a:lnTo>
                        <a:pt x="12368" y="1903"/>
                      </a:lnTo>
                      <a:lnTo>
                        <a:pt x="12310" y="1905"/>
                      </a:lnTo>
                      <a:lnTo>
                        <a:pt x="12250" y="1908"/>
                      </a:lnTo>
                      <a:lnTo>
                        <a:pt x="12193" y="1912"/>
                      </a:lnTo>
                      <a:lnTo>
                        <a:pt x="12146" y="1914"/>
                      </a:lnTo>
                      <a:lnTo>
                        <a:pt x="12115" y="1915"/>
                      </a:lnTo>
                      <a:lnTo>
                        <a:pt x="12073" y="1915"/>
                      </a:lnTo>
                      <a:lnTo>
                        <a:pt x="12031" y="1915"/>
                      </a:lnTo>
                      <a:lnTo>
                        <a:pt x="11988" y="1914"/>
                      </a:lnTo>
                      <a:lnTo>
                        <a:pt x="11947" y="1912"/>
                      </a:lnTo>
                      <a:lnTo>
                        <a:pt x="11906" y="1908"/>
                      </a:lnTo>
                      <a:lnTo>
                        <a:pt x="11868" y="1905"/>
                      </a:lnTo>
                      <a:lnTo>
                        <a:pt x="11829" y="1902"/>
                      </a:lnTo>
                      <a:lnTo>
                        <a:pt x="11796" y="1898"/>
                      </a:lnTo>
                      <a:lnTo>
                        <a:pt x="11734" y="1889"/>
                      </a:lnTo>
                      <a:lnTo>
                        <a:pt x="11687" y="1882"/>
                      </a:lnTo>
                      <a:lnTo>
                        <a:pt x="11655" y="1877"/>
                      </a:lnTo>
                      <a:lnTo>
                        <a:pt x="11644" y="1874"/>
                      </a:lnTo>
                      <a:lnTo>
                        <a:pt x="11638" y="1873"/>
                      </a:lnTo>
                      <a:lnTo>
                        <a:pt x="11619" y="1869"/>
                      </a:lnTo>
                      <a:lnTo>
                        <a:pt x="11591" y="1865"/>
                      </a:lnTo>
                      <a:lnTo>
                        <a:pt x="11555" y="1860"/>
                      </a:lnTo>
                      <a:lnTo>
                        <a:pt x="11535" y="1859"/>
                      </a:lnTo>
                      <a:lnTo>
                        <a:pt x="11513" y="1856"/>
                      </a:lnTo>
                      <a:lnTo>
                        <a:pt x="11491" y="1856"/>
                      </a:lnTo>
                      <a:lnTo>
                        <a:pt x="11468" y="1856"/>
                      </a:lnTo>
                      <a:lnTo>
                        <a:pt x="11445" y="1858"/>
                      </a:lnTo>
                      <a:lnTo>
                        <a:pt x="11422" y="1860"/>
                      </a:lnTo>
                      <a:lnTo>
                        <a:pt x="11398" y="1864"/>
                      </a:lnTo>
                      <a:lnTo>
                        <a:pt x="11376" y="1868"/>
                      </a:lnTo>
                      <a:lnTo>
                        <a:pt x="11343" y="1877"/>
                      </a:lnTo>
                      <a:lnTo>
                        <a:pt x="11303" y="1888"/>
                      </a:lnTo>
                      <a:lnTo>
                        <a:pt x="11257" y="1901"/>
                      </a:lnTo>
                      <a:lnTo>
                        <a:pt x="11205" y="1914"/>
                      </a:lnTo>
                      <a:lnTo>
                        <a:pt x="11177" y="1920"/>
                      </a:lnTo>
                      <a:lnTo>
                        <a:pt x="11149" y="1926"/>
                      </a:lnTo>
                      <a:lnTo>
                        <a:pt x="11119" y="1933"/>
                      </a:lnTo>
                      <a:lnTo>
                        <a:pt x="11089" y="1938"/>
                      </a:lnTo>
                      <a:lnTo>
                        <a:pt x="11060" y="1942"/>
                      </a:lnTo>
                      <a:lnTo>
                        <a:pt x="11029" y="1946"/>
                      </a:lnTo>
                      <a:lnTo>
                        <a:pt x="10998" y="1950"/>
                      </a:lnTo>
                      <a:lnTo>
                        <a:pt x="10967" y="1951"/>
                      </a:lnTo>
                      <a:lnTo>
                        <a:pt x="10940" y="1952"/>
                      </a:lnTo>
                      <a:lnTo>
                        <a:pt x="10912" y="1951"/>
                      </a:lnTo>
                      <a:lnTo>
                        <a:pt x="10885" y="1950"/>
                      </a:lnTo>
                      <a:lnTo>
                        <a:pt x="10858" y="1949"/>
                      </a:lnTo>
                      <a:lnTo>
                        <a:pt x="10807" y="1943"/>
                      </a:lnTo>
                      <a:lnTo>
                        <a:pt x="10757" y="1937"/>
                      </a:lnTo>
                      <a:lnTo>
                        <a:pt x="10710" y="1930"/>
                      </a:lnTo>
                      <a:lnTo>
                        <a:pt x="10667" y="1921"/>
                      </a:lnTo>
                      <a:lnTo>
                        <a:pt x="10629" y="1915"/>
                      </a:lnTo>
                      <a:lnTo>
                        <a:pt x="10595" y="1908"/>
                      </a:lnTo>
                      <a:lnTo>
                        <a:pt x="10577" y="1903"/>
                      </a:lnTo>
                      <a:lnTo>
                        <a:pt x="10556" y="1898"/>
                      </a:lnTo>
                      <a:lnTo>
                        <a:pt x="10533" y="1890"/>
                      </a:lnTo>
                      <a:lnTo>
                        <a:pt x="10510" y="1882"/>
                      </a:lnTo>
                      <a:lnTo>
                        <a:pt x="10458" y="1864"/>
                      </a:lnTo>
                      <a:lnTo>
                        <a:pt x="10401" y="1845"/>
                      </a:lnTo>
                      <a:lnTo>
                        <a:pt x="10370" y="1835"/>
                      </a:lnTo>
                      <a:lnTo>
                        <a:pt x="10338" y="1827"/>
                      </a:lnTo>
                      <a:lnTo>
                        <a:pt x="10306" y="1819"/>
                      </a:lnTo>
                      <a:lnTo>
                        <a:pt x="10272" y="1813"/>
                      </a:lnTo>
                      <a:lnTo>
                        <a:pt x="10238" y="1808"/>
                      </a:lnTo>
                      <a:lnTo>
                        <a:pt x="10203" y="1805"/>
                      </a:lnTo>
                      <a:lnTo>
                        <a:pt x="10185" y="1804"/>
                      </a:lnTo>
                      <a:lnTo>
                        <a:pt x="10166" y="1804"/>
                      </a:lnTo>
                      <a:lnTo>
                        <a:pt x="10148" y="1804"/>
                      </a:lnTo>
                      <a:lnTo>
                        <a:pt x="10130" y="1805"/>
                      </a:lnTo>
                      <a:lnTo>
                        <a:pt x="10115" y="1805"/>
                      </a:lnTo>
                      <a:lnTo>
                        <a:pt x="10092" y="1808"/>
                      </a:lnTo>
                      <a:lnTo>
                        <a:pt x="10060" y="1811"/>
                      </a:lnTo>
                      <a:lnTo>
                        <a:pt x="10023" y="1816"/>
                      </a:lnTo>
                      <a:lnTo>
                        <a:pt x="9980" y="1823"/>
                      </a:lnTo>
                      <a:lnTo>
                        <a:pt x="9933" y="1829"/>
                      </a:lnTo>
                      <a:lnTo>
                        <a:pt x="9884" y="1836"/>
                      </a:lnTo>
                      <a:lnTo>
                        <a:pt x="9833" y="1843"/>
                      </a:lnTo>
                      <a:lnTo>
                        <a:pt x="9803" y="1849"/>
                      </a:lnTo>
                      <a:lnTo>
                        <a:pt x="9773" y="1854"/>
                      </a:lnTo>
                      <a:lnTo>
                        <a:pt x="9743" y="1860"/>
                      </a:lnTo>
                      <a:lnTo>
                        <a:pt x="9715" y="1865"/>
                      </a:lnTo>
                      <a:lnTo>
                        <a:pt x="9687" y="1870"/>
                      </a:lnTo>
                      <a:lnTo>
                        <a:pt x="9660" y="1876"/>
                      </a:lnTo>
                      <a:lnTo>
                        <a:pt x="9634" y="1880"/>
                      </a:lnTo>
                      <a:lnTo>
                        <a:pt x="9611" y="1883"/>
                      </a:lnTo>
                      <a:lnTo>
                        <a:pt x="9577" y="1887"/>
                      </a:lnTo>
                      <a:lnTo>
                        <a:pt x="9546" y="1890"/>
                      </a:lnTo>
                      <a:lnTo>
                        <a:pt x="9518" y="1892"/>
                      </a:lnTo>
                      <a:lnTo>
                        <a:pt x="9492" y="1894"/>
                      </a:lnTo>
                      <a:lnTo>
                        <a:pt x="9470" y="1895"/>
                      </a:lnTo>
                      <a:lnTo>
                        <a:pt x="9449" y="1895"/>
                      </a:lnTo>
                      <a:lnTo>
                        <a:pt x="9430" y="1894"/>
                      </a:lnTo>
                      <a:lnTo>
                        <a:pt x="9413" y="1892"/>
                      </a:lnTo>
                      <a:lnTo>
                        <a:pt x="9382" y="1889"/>
                      </a:lnTo>
                      <a:lnTo>
                        <a:pt x="9357" y="1885"/>
                      </a:lnTo>
                      <a:lnTo>
                        <a:pt x="9333" y="1881"/>
                      </a:lnTo>
                      <a:lnTo>
                        <a:pt x="9308" y="1877"/>
                      </a:lnTo>
                      <a:lnTo>
                        <a:pt x="9299" y="1874"/>
                      </a:lnTo>
                      <a:lnTo>
                        <a:pt x="9290" y="1872"/>
                      </a:lnTo>
                      <a:lnTo>
                        <a:pt x="9282" y="1871"/>
                      </a:lnTo>
                      <a:lnTo>
                        <a:pt x="9273" y="1869"/>
                      </a:lnTo>
                      <a:lnTo>
                        <a:pt x="9264" y="1867"/>
                      </a:lnTo>
                      <a:lnTo>
                        <a:pt x="9255" y="1865"/>
                      </a:lnTo>
                      <a:lnTo>
                        <a:pt x="9246" y="1863"/>
                      </a:lnTo>
                      <a:lnTo>
                        <a:pt x="9235" y="1861"/>
                      </a:lnTo>
                      <a:lnTo>
                        <a:pt x="9186" y="1854"/>
                      </a:lnTo>
                      <a:lnTo>
                        <a:pt x="9143" y="1849"/>
                      </a:lnTo>
                      <a:lnTo>
                        <a:pt x="9123" y="1847"/>
                      </a:lnTo>
                      <a:lnTo>
                        <a:pt x="9103" y="1845"/>
                      </a:lnTo>
                      <a:lnTo>
                        <a:pt x="9083" y="1845"/>
                      </a:lnTo>
                      <a:lnTo>
                        <a:pt x="9062" y="1845"/>
                      </a:lnTo>
                      <a:lnTo>
                        <a:pt x="9043" y="1846"/>
                      </a:lnTo>
                      <a:lnTo>
                        <a:pt x="9023" y="1848"/>
                      </a:lnTo>
                      <a:lnTo>
                        <a:pt x="9002" y="1851"/>
                      </a:lnTo>
                      <a:lnTo>
                        <a:pt x="8980" y="1855"/>
                      </a:lnTo>
                      <a:lnTo>
                        <a:pt x="8958" y="1862"/>
                      </a:lnTo>
                      <a:lnTo>
                        <a:pt x="8933" y="1869"/>
                      </a:lnTo>
                      <a:lnTo>
                        <a:pt x="8907" y="1878"/>
                      </a:lnTo>
                      <a:lnTo>
                        <a:pt x="8879" y="1888"/>
                      </a:lnTo>
                      <a:lnTo>
                        <a:pt x="8869" y="1892"/>
                      </a:lnTo>
                      <a:lnTo>
                        <a:pt x="8852" y="1896"/>
                      </a:lnTo>
                      <a:lnTo>
                        <a:pt x="8831" y="1900"/>
                      </a:lnTo>
                      <a:lnTo>
                        <a:pt x="8806" y="1903"/>
                      </a:lnTo>
                      <a:lnTo>
                        <a:pt x="8748" y="1910"/>
                      </a:lnTo>
                      <a:lnTo>
                        <a:pt x="8680" y="1918"/>
                      </a:lnTo>
                      <a:lnTo>
                        <a:pt x="8610" y="1925"/>
                      </a:lnTo>
                      <a:lnTo>
                        <a:pt x="8541" y="1933"/>
                      </a:lnTo>
                      <a:lnTo>
                        <a:pt x="8479" y="1940"/>
                      </a:lnTo>
                      <a:lnTo>
                        <a:pt x="8428" y="1948"/>
                      </a:lnTo>
                      <a:lnTo>
                        <a:pt x="8414" y="1951"/>
                      </a:lnTo>
                      <a:lnTo>
                        <a:pt x="8401" y="1953"/>
                      </a:lnTo>
                      <a:lnTo>
                        <a:pt x="8386" y="1954"/>
                      </a:lnTo>
                      <a:lnTo>
                        <a:pt x="8372" y="1955"/>
                      </a:lnTo>
                      <a:lnTo>
                        <a:pt x="8346" y="1955"/>
                      </a:lnTo>
                      <a:lnTo>
                        <a:pt x="8319" y="1954"/>
                      </a:lnTo>
                      <a:lnTo>
                        <a:pt x="8294" y="1951"/>
                      </a:lnTo>
                      <a:lnTo>
                        <a:pt x="8268" y="1946"/>
                      </a:lnTo>
                      <a:lnTo>
                        <a:pt x="8244" y="1941"/>
                      </a:lnTo>
                      <a:lnTo>
                        <a:pt x="8220" y="1936"/>
                      </a:lnTo>
                      <a:lnTo>
                        <a:pt x="8174" y="1922"/>
                      </a:lnTo>
                      <a:lnTo>
                        <a:pt x="8131" y="1909"/>
                      </a:lnTo>
                      <a:lnTo>
                        <a:pt x="8110" y="1904"/>
                      </a:lnTo>
                      <a:lnTo>
                        <a:pt x="8090" y="1899"/>
                      </a:lnTo>
                      <a:lnTo>
                        <a:pt x="8071" y="1895"/>
                      </a:lnTo>
                      <a:lnTo>
                        <a:pt x="8053" y="1891"/>
                      </a:lnTo>
                      <a:lnTo>
                        <a:pt x="8027" y="1890"/>
                      </a:lnTo>
                      <a:lnTo>
                        <a:pt x="8002" y="1890"/>
                      </a:lnTo>
                      <a:lnTo>
                        <a:pt x="7980" y="1891"/>
                      </a:lnTo>
                      <a:lnTo>
                        <a:pt x="7959" y="1894"/>
                      </a:lnTo>
                      <a:lnTo>
                        <a:pt x="7940" y="1896"/>
                      </a:lnTo>
                      <a:lnTo>
                        <a:pt x="7922" y="1899"/>
                      </a:lnTo>
                      <a:lnTo>
                        <a:pt x="7906" y="1903"/>
                      </a:lnTo>
                      <a:lnTo>
                        <a:pt x="7891" y="1907"/>
                      </a:lnTo>
                      <a:lnTo>
                        <a:pt x="7865" y="1917"/>
                      </a:lnTo>
                      <a:lnTo>
                        <a:pt x="7843" y="1925"/>
                      </a:lnTo>
                      <a:lnTo>
                        <a:pt x="7824" y="1933"/>
                      </a:lnTo>
                      <a:lnTo>
                        <a:pt x="7809" y="1937"/>
                      </a:lnTo>
                      <a:lnTo>
                        <a:pt x="7796" y="1939"/>
                      </a:lnTo>
                      <a:lnTo>
                        <a:pt x="7782" y="1943"/>
                      </a:lnTo>
                      <a:lnTo>
                        <a:pt x="7766" y="1949"/>
                      </a:lnTo>
                      <a:lnTo>
                        <a:pt x="7749" y="1955"/>
                      </a:lnTo>
                      <a:lnTo>
                        <a:pt x="7710" y="1971"/>
                      </a:lnTo>
                      <a:lnTo>
                        <a:pt x="7666" y="1988"/>
                      </a:lnTo>
                      <a:lnTo>
                        <a:pt x="7642" y="1997"/>
                      </a:lnTo>
                      <a:lnTo>
                        <a:pt x="7617" y="2006"/>
                      </a:lnTo>
                      <a:lnTo>
                        <a:pt x="7592" y="2014"/>
                      </a:lnTo>
                      <a:lnTo>
                        <a:pt x="7565" y="2022"/>
                      </a:lnTo>
                      <a:lnTo>
                        <a:pt x="7538" y="2029"/>
                      </a:lnTo>
                      <a:lnTo>
                        <a:pt x="7510" y="2035"/>
                      </a:lnTo>
                      <a:lnTo>
                        <a:pt x="7481" y="2040"/>
                      </a:lnTo>
                      <a:lnTo>
                        <a:pt x="7453" y="2044"/>
                      </a:lnTo>
                      <a:lnTo>
                        <a:pt x="7439" y="2045"/>
                      </a:lnTo>
                      <a:lnTo>
                        <a:pt x="7424" y="2045"/>
                      </a:lnTo>
                      <a:lnTo>
                        <a:pt x="7409" y="2045"/>
                      </a:lnTo>
                      <a:lnTo>
                        <a:pt x="7395" y="2045"/>
                      </a:lnTo>
                      <a:lnTo>
                        <a:pt x="7361" y="2043"/>
                      </a:lnTo>
                      <a:lnTo>
                        <a:pt x="7322" y="2041"/>
                      </a:lnTo>
                      <a:lnTo>
                        <a:pt x="7275" y="2039"/>
                      </a:lnTo>
                      <a:lnTo>
                        <a:pt x="7220" y="2039"/>
                      </a:lnTo>
                      <a:lnTo>
                        <a:pt x="7188" y="2040"/>
                      </a:lnTo>
                      <a:lnTo>
                        <a:pt x="7153" y="2041"/>
                      </a:lnTo>
                      <a:lnTo>
                        <a:pt x="7115" y="2043"/>
                      </a:lnTo>
                      <a:lnTo>
                        <a:pt x="7075" y="2046"/>
                      </a:lnTo>
                      <a:lnTo>
                        <a:pt x="7059" y="2047"/>
                      </a:lnTo>
                      <a:lnTo>
                        <a:pt x="7041" y="2047"/>
                      </a:lnTo>
                      <a:lnTo>
                        <a:pt x="7022" y="2046"/>
                      </a:lnTo>
                      <a:lnTo>
                        <a:pt x="7001" y="2045"/>
                      </a:lnTo>
                      <a:lnTo>
                        <a:pt x="6954" y="2042"/>
                      </a:lnTo>
                      <a:lnTo>
                        <a:pt x="6904" y="2036"/>
                      </a:lnTo>
                      <a:lnTo>
                        <a:pt x="6852" y="2029"/>
                      </a:lnTo>
                      <a:lnTo>
                        <a:pt x="6801" y="2019"/>
                      </a:lnTo>
                      <a:lnTo>
                        <a:pt x="6751" y="2010"/>
                      </a:lnTo>
                      <a:lnTo>
                        <a:pt x="6705" y="1998"/>
                      </a:lnTo>
                      <a:lnTo>
                        <a:pt x="6685" y="1994"/>
                      </a:lnTo>
                      <a:lnTo>
                        <a:pt x="6654" y="1988"/>
                      </a:lnTo>
                      <a:lnTo>
                        <a:pt x="6616" y="1979"/>
                      </a:lnTo>
                      <a:lnTo>
                        <a:pt x="6571" y="1970"/>
                      </a:lnTo>
                      <a:lnTo>
                        <a:pt x="6521" y="1961"/>
                      </a:lnTo>
                      <a:lnTo>
                        <a:pt x="6468" y="1952"/>
                      </a:lnTo>
                      <a:lnTo>
                        <a:pt x="6414" y="1944"/>
                      </a:lnTo>
                      <a:lnTo>
                        <a:pt x="6360" y="1939"/>
                      </a:lnTo>
                      <a:lnTo>
                        <a:pt x="6305" y="1933"/>
                      </a:lnTo>
                      <a:lnTo>
                        <a:pt x="6249" y="1926"/>
                      </a:lnTo>
                      <a:lnTo>
                        <a:pt x="6195" y="1918"/>
                      </a:lnTo>
                      <a:lnTo>
                        <a:pt x="6143" y="1908"/>
                      </a:lnTo>
                      <a:lnTo>
                        <a:pt x="6094" y="1899"/>
                      </a:lnTo>
                      <a:lnTo>
                        <a:pt x="6052" y="1887"/>
                      </a:lnTo>
                      <a:lnTo>
                        <a:pt x="6033" y="1882"/>
                      </a:lnTo>
                      <a:lnTo>
                        <a:pt x="6016" y="1876"/>
                      </a:lnTo>
                      <a:lnTo>
                        <a:pt x="6001" y="1869"/>
                      </a:lnTo>
                      <a:lnTo>
                        <a:pt x="5988" y="1863"/>
                      </a:lnTo>
                      <a:lnTo>
                        <a:pt x="5967" y="1852"/>
                      </a:lnTo>
                      <a:lnTo>
                        <a:pt x="5944" y="1842"/>
                      </a:lnTo>
                      <a:lnTo>
                        <a:pt x="5920" y="1832"/>
                      </a:lnTo>
                      <a:lnTo>
                        <a:pt x="5894" y="1825"/>
                      </a:lnTo>
                      <a:lnTo>
                        <a:pt x="5868" y="1817"/>
                      </a:lnTo>
                      <a:lnTo>
                        <a:pt x="5841" y="1811"/>
                      </a:lnTo>
                      <a:lnTo>
                        <a:pt x="5815" y="1806"/>
                      </a:lnTo>
                      <a:lnTo>
                        <a:pt x="5788" y="1801"/>
                      </a:lnTo>
                      <a:lnTo>
                        <a:pt x="5737" y="1795"/>
                      </a:lnTo>
                      <a:lnTo>
                        <a:pt x="5692" y="1790"/>
                      </a:lnTo>
                      <a:lnTo>
                        <a:pt x="5654" y="1787"/>
                      </a:lnTo>
                      <a:lnTo>
                        <a:pt x="5624" y="1785"/>
                      </a:lnTo>
                      <a:lnTo>
                        <a:pt x="5606" y="1782"/>
                      </a:lnTo>
                      <a:lnTo>
                        <a:pt x="5588" y="1781"/>
                      </a:lnTo>
                      <a:lnTo>
                        <a:pt x="5571" y="1781"/>
                      </a:lnTo>
                      <a:lnTo>
                        <a:pt x="5553" y="1782"/>
                      </a:lnTo>
                      <a:lnTo>
                        <a:pt x="5537" y="1785"/>
                      </a:lnTo>
                      <a:lnTo>
                        <a:pt x="5520" y="1787"/>
                      </a:lnTo>
                      <a:lnTo>
                        <a:pt x="5504" y="1790"/>
                      </a:lnTo>
                      <a:lnTo>
                        <a:pt x="5488" y="1793"/>
                      </a:lnTo>
                      <a:lnTo>
                        <a:pt x="5457" y="1801"/>
                      </a:lnTo>
                      <a:lnTo>
                        <a:pt x="5425" y="1812"/>
                      </a:lnTo>
                      <a:lnTo>
                        <a:pt x="5394" y="1823"/>
                      </a:lnTo>
                      <a:lnTo>
                        <a:pt x="5365" y="1835"/>
                      </a:lnTo>
                      <a:lnTo>
                        <a:pt x="5333" y="1848"/>
                      </a:lnTo>
                      <a:lnTo>
                        <a:pt x="5302" y="1861"/>
                      </a:lnTo>
                      <a:lnTo>
                        <a:pt x="5270" y="1873"/>
                      </a:lnTo>
                      <a:lnTo>
                        <a:pt x="5238" y="1885"/>
                      </a:lnTo>
                      <a:lnTo>
                        <a:pt x="5203" y="1895"/>
                      </a:lnTo>
                      <a:lnTo>
                        <a:pt x="5168" y="1904"/>
                      </a:lnTo>
                      <a:lnTo>
                        <a:pt x="5149" y="1907"/>
                      </a:lnTo>
                      <a:lnTo>
                        <a:pt x="5131" y="1910"/>
                      </a:lnTo>
                      <a:lnTo>
                        <a:pt x="5111" y="1913"/>
                      </a:lnTo>
                      <a:lnTo>
                        <a:pt x="5091" y="1915"/>
                      </a:lnTo>
                      <a:lnTo>
                        <a:pt x="5064" y="1916"/>
                      </a:lnTo>
                      <a:lnTo>
                        <a:pt x="5037" y="1917"/>
                      </a:lnTo>
                      <a:lnTo>
                        <a:pt x="5012" y="1917"/>
                      </a:lnTo>
                      <a:lnTo>
                        <a:pt x="4988" y="1916"/>
                      </a:lnTo>
                      <a:lnTo>
                        <a:pt x="4940" y="1913"/>
                      </a:lnTo>
                      <a:lnTo>
                        <a:pt x="4895" y="1908"/>
                      </a:lnTo>
                      <a:lnTo>
                        <a:pt x="4849" y="1904"/>
                      </a:lnTo>
                      <a:lnTo>
                        <a:pt x="4806" y="1900"/>
                      </a:lnTo>
                      <a:lnTo>
                        <a:pt x="4783" y="1899"/>
                      </a:lnTo>
                      <a:lnTo>
                        <a:pt x="4761" y="1898"/>
                      </a:lnTo>
                      <a:lnTo>
                        <a:pt x="4739" y="1897"/>
                      </a:lnTo>
                      <a:lnTo>
                        <a:pt x="4716" y="1897"/>
                      </a:lnTo>
                      <a:lnTo>
                        <a:pt x="4693" y="1898"/>
                      </a:lnTo>
                      <a:lnTo>
                        <a:pt x="4668" y="1901"/>
                      </a:lnTo>
                      <a:lnTo>
                        <a:pt x="4638" y="1906"/>
                      </a:lnTo>
                      <a:lnTo>
                        <a:pt x="4608" y="1913"/>
                      </a:lnTo>
                      <a:lnTo>
                        <a:pt x="4539" y="1930"/>
                      </a:lnTo>
                      <a:lnTo>
                        <a:pt x="4465" y="1948"/>
                      </a:lnTo>
                      <a:lnTo>
                        <a:pt x="4389" y="1967"/>
                      </a:lnTo>
                      <a:lnTo>
                        <a:pt x="4315" y="1982"/>
                      </a:lnTo>
                      <a:lnTo>
                        <a:pt x="4279" y="1989"/>
                      </a:lnTo>
                      <a:lnTo>
                        <a:pt x="4246" y="1994"/>
                      </a:lnTo>
                      <a:lnTo>
                        <a:pt x="4215" y="1997"/>
                      </a:lnTo>
                      <a:lnTo>
                        <a:pt x="4186" y="1998"/>
                      </a:lnTo>
                      <a:lnTo>
                        <a:pt x="4141" y="1996"/>
                      </a:lnTo>
                      <a:lnTo>
                        <a:pt x="4096" y="1993"/>
                      </a:lnTo>
                      <a:lnTo>
                        <a:pt x="4052" y="1987"/>
                      </a:lnTo>
                      <a:lnTo>
                        <a:pt x="4008" y="1980"/>
                      </a:lnTo>
                      <a:lnTo>
                        <a:pt x="3965" y="1972"/>
                      </a:lnTo>
                      <a:lnTo>
                        <a:pt x="3923" y="1963"/>
                      </a:lnTo>
                      <a:lnTo>
                        <a:pt x="3882" y="1954"/>
                      </a:lnTo>
                      <a:lnTo>
                        <a:pt x="3843" y="1944"/>
                      </a:lnTo>
                      <a:lnTo>
                        <a:pt x="3767" y="1925"/>
                      </a:lnTo>
                      <a:lnTo>
                        <a:pt x="3698" y="1907"/>
                      </a:lnTo>
                      <a:lnTo>
                        <a:pt x="3666" y="1900"/>
                      </a:lnTo>
                      <a:lnTo>
                        <a:pt x="3637" y="1894"/>
                      </a:lnTo>
                      <a:lnTo>
                        <a:pt x="3608" y="1889"/>
                      </a:lnTo>
                      <a:lnTo>
                        <a:pt x="3582" y="1886"/>
                      </a:lnTo>
                      <a:lnTo>
                        <a:pt x="3557" y="1884"/>
                      </a:lnTo>
                      <a:lnTo>
                        <a:pt x="3532" y="1884"/>
                      </a:lnTo>
                      <a:lnTo>
                        <a:pt x="3506" y="1884"/>
                      </a:lnTo>
                      <a:lnTo>
                        <a:pt x="3480" y="1885"/>
                      </a:lnTo>
                      <a:lnTo>
                        <a:pt x="3453" y="1887"/>
                      </a:lnTo>
                      <a:lnTo>
                        <a:pt x="3426" y="1888"/>
                      </a:lnTo>
                      <a:lnTo>
                        <a:pt x="3398" y="1890"/>
                      </a:lnTo>
                      <a:lnTo>
                        <a:pt x="3368" y="1891"/>
                      </a:lnTo>
                      <a:lnTo>
                        <a:pt x="3341" y="1892"/>
                      </a:lnTo>
                      <a:lnTo>
                        <a:pt x="3315" y="1892"/>
                      </a:lnTo>
                      <a:lnTo>
                        <a:pt x="3289" y="1892"/>
                      </a:lnTo>
                      <a:lnTo>
                        <a:pt x="3266" y="1891"/>
                      </a:lnTo>
                      <a:lnTo>
                        <a:pt x="3242" y="1891"/>
                      </a:lnTo>
                      <a:lnTo>
                        <a:pt x="3219" y="1889"/>
                      </a:lnTo>
                      <a:lnTo>
                        <a:pt x="3197" y="1888"/>
                      </a:lnTo>
                      <a:lnTo>
                        <a:pt x="3176" y="1886"/>
                      </a:lnTo>
                      <a:lnTo>
                        <a:pt x="3125" y="1885"/>
                      </a:lnTo>
                      <a:lnTo>
                        <a:pt x="3076" y="1885"/>
                      </a:lnTo>
                      <a:lnTo>
                        <a:pt x="3029" y="1885"/>
                      </a:lnTo>
                      <a:lnTo>
                        <a:pt x="2982" y="1884"/>
                      </a:lnTo>
                      <a:lnTo>
                        <a:pt x="2958" y="1883"/>
                      </a:lnTo>
                      <a:lnTo>
                        <a:pt x="2934" y="1882"/>
                      </a:lnTo>
                      <a:lnTo>
                        <a:pt x="2910" y="1879"/>
                      </a:lnTo>
                      <a:lnTo>
                        <a:pt x="2885" y="1876"/>
                      </a:lnTo>
                      <a:lnTo>
                        <a:pt x="2860" y="1871"/>
                      </a:lnTo>
                      <a:lnTo>
                        <a:pt x="2834" y="1865"/>
                      </a:lnTo>
                      <a:lnTo>
                        <a:pt x="2808" y="1858"/>
                      </a:lnTo>
                      <a:lnTo>
                        <a:pt x="2781" y="1849"/>
                      </a:lnTo>
                      <a:lnTo>
                        <a:pt x="2763" y="1844"/>
                      </a:lnTo>
                      <a:lnTo>
                        <a:pt x="2742" y="1839"/>
                      </a:lnTo>
                      <a:lnTo>
                        <a:pt x="2715" y="1833"/>
                      </a:lnTo>
                      <a:lnTo>
                        <a:pt x="2687" y="1829"/>
                      </a:lnTo>
                      <a:lnTo>
                        <a:pt x="2623" y="1823"/>
                      </a:lnTo>
                      <a:lnTo>
                        <a:pt x="2553" y="1816"/>
                      </a:lnTo>
                      <a:lnTo>
                        <a:pt x="2483" y="1812"/>
                      </a:lnTo>
                      <a:lnTo>
                        <a:pt x="2418" y="1809"/>
                      </a:lnTo>
                      <a:lnTo>
                        <a:pt x="2359" y="1807"/>
                      </a:lnTo>
                      <a:lnTo>
                        <a:pt x="2315" y="1807"/>
                      </a:lnTo>
                      <a:lnTo>
                        <a:pt x="2260" y="1805"/>
                      </a:lnTo>
                      <a:lnTo>
                        <a:pt x="2200" y="1801"/>
                      </a:lnTo>
                      <a:lnTo>
                        <a:pt x="2135" y="1798"/>
                      </a:lnTo>
                      <a:lnTo>
                        <a:pt x="2068" y="1796"/>
                      </a:lnTo>
                      <a:lnTo>
                        <a:pt x="2034" y="1796"/>
                      </a:lnTo>
                      <a:lnTo>
                        <a:pt x="2000" y="1796"/>
                      </a:lnTo>
                      <a:lnTo>
                        <a:pt x="1967" y="1798"/>
                      </a:lnTo>
                      <a:lnTo>
                        <a:pt x="1933" y="1801"/>
                      </a:lnTo>
                      <a:lnTo>
                        <a:pt x="1899" y="1806"/>
                      </a:lnTo>
                      <a:lnTo>
                        <a:pt x="1866" y="1812"/>
                      </a:lnTo>
                      <a:lnTo>
                        <a:pt x="1850" y="1815"/>
                      </a:lnTo>
                      <a:lnTo>
                        <a:pt x="1833" y="1819"/>
                      </a:lnTo>
                      <a:lnTo>
                        <a:pt x="1817" y="1825"/>
                      </a:lnTo>
                      <a:lnTo>
                        <a:pt x="1802" y="1829"/>
                      </a:lnTo>
                      <a:lnTo>
                        <a:pt x="1770" y="1842"/>
                      </a:lnTo>
                      <a:lnTo>
                        <a:pt x="1739" y="1851"/>
                      </a:lnTo>
                      <a:lnTo>
                        <a:pt x="1712" y="1861"/>
                      </a:lnTo>
                      <a:lnTo>
                        <a:pt x="1687" y="1868"/>
                      </a:lnTo>
                      <a:lnTo>
                        <a:pt x="1664" y="1874"/>
                      </a:lnTo>
                      <a:lnTo>
                        <a:pt x="1643" y="1880"/>
                      </a:lnTo>
                      <a:lnTo>
                        <a:pt x="1622" y="1884"/>
                      </a:lnTo>
                      <a:lnTo>
                        <a:pt x="1602" y="1887"/>
                      </a:lnTo>
                      <a:lnTo>
                        <a:pt x="1566" y="1891"/>
                      </a:lnTo>
                      <a:lnTo>
                        <a:pt x="1529" y="1895"/>
                      </a:lnTo>
                      <a:lnTo>
                        <a:pt x="1489" y="1898"/>
                      </a:lnTo>
                      <a:lnTo>
                        <a:pt x="1445" y="1900"/>
                      </a:lnTo>
                      <a:lnTo>
                        <a:pt x="1414" y="1902"/>
                      </a:lnTo>
                      <a:lnTo>
                        <a:pt x="1385" y="1903"/>
                      </a:lnTo>
                      <a:lnTo>
                        <a:pt x="1358" y="1904"/>
                      </a:lnTo>
                      <a:lnTo>
                        <a:pt x="1330" y="1905"/>
                      </a:lnTo>
                      <a:lnTo>
                        <a:pt x="1302" y="1907"/>
                      </a:lnTo>
                      <a:lnTo>
                        <a:pt x="1271" y="1910"/>
                      </a:lnTo>
                      <a:lnTo>
                        <a:pt x="1238" y="1914"/>
                      </a:lnTo>
                      <a:lnTo>
                        <a:pt x="1201" y="1920"/>
                      </a:lnTo>
                      <a:lnTo>
                        <a:pt x="1162" y="1924"/>
                      </a:lnTo>
                      <a:lnTo>
                        <a:pt x="1125" y="1927"/>
                      </a:lnTo>
                      <a:lnTo>
                        <a:pt x="1090" y="1930"/>
                      </a:lnTo>
                      <a:lnTo>
                        <a:pt x="1056" y="1930"/>
                      </a:lnTo>
                      <a:lnTo>
                        <a:pt x="1022" y="1930"/>
                      </a:lnTo>
                      <a:lnTo>
                        <a:pt x="989" y="1930"/>
                      </a:lnTo>
                      <a:lnTo>
                        <a:pt x="957" y="1930"/>
                      </a:lnTo>
                      <a:lnTo>
                        <a:pt x="925" y="1931"/>
                      </a:lnTo>
                      <a:lnTo>
                        <a:pt x="866" y="1935"/>
                      </a:lnTo>
                      <a:lnTo>
                        <a:pt x="821" y="1939"/>
                      </a:lnTo>
                      <a:lnTo>
                        <a:pt x="781" y="1943"/>
                      </a:lnTo>
                      <a:lnTo>
                        <a:pt x="741" y="1950"/>
                      </a:lnTo>
                      <a:lnTo>
                        <a:pt x="698" y="1957"/>
                      </a:lnTo>
                      <a:lnTo>
                        <a:pt x="644" y="1967"/>
                      </a:lnTo>
                      <a:lnTo>
                        <a:pt x="575" y="1979"/>
                      </a:lnTo>
                      <a:lnTo>
                        <a:pt x="485" y="1996"/>
                      </a:lnTo>
                      <a:lnTo>
                        <a:pt x="459" y="1999"/>
                      </a:lnTo>
                      <a:lnTo>
                        <a:pt x="430" y="2001"/>
                      </a:lnTo>
                      <a:lnTo>
                        <a:pt x="400" y="2003"/>
                      </a:lnTo>
                      <a:lnTo>
                        <a:pt x="369" y="2001"/>
                      </a:lnTo>
                      <a:lnTo>
                        <a:pt x="338" y="1999"/>
                      </a:lnTo>
                      <a:lnTo>
                        <a:pt x="306" y="1996"/>
                      </a:lnTo>
                      <a:lnTo>
                        <a:pt x="275" y="1993"/>
                      </a:lnTo>
                      <a:lnTo>
                        <a:pt x="246" y="1989"/>
                      </a:lnTo>
                      <a:lnTo>
                        <a:pt x="193" y="1979"/>
                      </a:lnTo>
                      <a:lnTo>
                        <a:pt x="149" y="1971"/>
                      </a:lnTo>
                      <a:lnTo>
                        <a:pt x="120" y="1964"/>
                      </a:lnTo>
                      <a:lnTo>
                        <a:pt x="109" y="1962"/>
                      </a:lnTo>
                      <a:lnTo>
                        <a:pt x="94" y="1906"/>
                      </a:lnTo>
                      <a:lnTo>
                        <a:pt x="82" y="1849"/>
                      </a:lnTo>
                      <a:lnTo>
                        <a:pt x="69" y="1791"/>
                      </a:lnTo>
                      <a:lnTo>
                        <a:pt x="57" y="1733"/>
                      </a:lnTo>
                      <a:lnTo>
                        <a:pt x="48" y="1674"/>
                      </a:lnTo>
                      <a:lnTo>
                        <a:pt x="38" y="1615"/>
                      </a:lnTo>
                      <a:lnTo>
                        <a:pt x="30" y="1555"/>
                      </a:lnTo>
                      <a:lnTo>
                        <a:pt x="23" y="1495"/>
                      </a:lnTo>
                      <a:lnTo>
                        <a:pt x="17" y="1433"/>
                      </a:lnTo>
                      <a:lnTo>
                        <a:pt x="12" y="1372"/>
                      </a:lnTo>
                      <a:lnTo>
                        <a:pt x="8" y="1310"/>
                      </a:lnTo>
                      <a:lnTo>
                        <a:pt x="4" y="1248"/>
                      </a:lnTo>
                      <a:lnTo>
                        <a:pt x="2" y="1187"/>
                      </a:lnTo>
                      <a:lnTo>
                        <a:pt x="0" y="1123"/>
                      </a:lnTo>
                      <a:lnTo>
                        <a:pt x="0" y="1061"/>
                      </a:lnTo>
                      <a:lnTo>
                        <a:pt x="0" y="998"/>
                      </a:lnTo>
                      <a:lnTo>
                        <a:pt x="1" y="935"/>
                      </a:lnTo>
                      <a:lnTo>
                        <a:pt x="3" y="871"/>
                      </a:lnTo>
                      <a:lnTo>
                        <a:pt x="6" y="808"/>
                      </a:lnTo>
                      <a:lnTo>
                        <a:pt x="10" y="745"/>
                      </a:lnTo>
                      <a:lnTo>
                        <a:pt x="15" y="682"/>
                      </a:lnTo>
                      <a:lnTo>
                        <a:pt x="20" y="618"/>
                      </a:lnTo>
                      <a:lnTo>
                        <a:pt x="27" y="556"/>
                      </a:lnTo>
                      <a:lnTo>
                        <a:pt x="33" y="492"/>
                      </a:lnTo>
                      <a:lnTo>
                        <a:pt x="40" y="430"/>
                      </a:lnTo>
                      <a:lnTo>
                        <a:pt x="49" y="368"/>
                      </a:lnTo>
                      <a:lnTo>
                        <a:pt x="58" y="305"/>
                      </a:lnTo>
                      <a:lnTo>
                        <a:pt x="68" y="244"/>
                      </a:lnTo>
                      <a:lnTo>
                        <a:pt x="78" y="182"/>
                      </a:lnTo>
                      <a:lnTo>
                        <a:pt x="90" y="121"/>
                      </a:lnTo>
                      <a:lnTo>
                        <a:pt x="102" y="61"/>
                      </a:lnTo>
                      <a:lnTo>
                        <a:pt x="114" y="0"/>
                      </a:lnTo>
                      <a:lnTo>
                        <a:pt x="645" y="0"/>
                      </a:lnTo>
                      <a:lnTo>
                        <a:pt x="2045" y="0"/>
                      </a:lnTo>
                      <a:lnTo>
                        <a:pt x="4022" y="0"/>
                      </a:lnTo>
                      <a:lnTo>
                        <a:pt x="6290" y="0"/>
                      </a:lnTo>
                      <a:lnTo>
                        <a:pt x="8557" y="0"/>
                      </a:lnTo>
                      <a:lnTo>
                        <a:pt x="10535" y="0"/>
                      </a:lnTo>
                      <a:lnTo>
                        <a:pt x="11934" y="0"/>
                      </a:lnTo>
                      <a:lnTo>
                        <a:pt x="1246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4" name=""/>
              <p:cNvSpPr/>
              <p:nvPr/>
            </p:nvSpPr>
            <p:spPr>
              <a:xfrm>
                <a:off x="969840" y="380880"/>
                <a:ext cx="1175760" cy="166680"/>
              </a:xfrm>
              <a:custGeom>
                <a:avLst/>
                <a:gdLst/>
                <a:ahLst/>
                <a:rect l="l" t="t" r="r" b="b"/>
                <a:pathLst>
                  <a:path w="14824" h="2309">
                    <a:moveTo>
                      <a:pt x="7425" y="2251"/>
                    </a:moveTo>
                    <a:lnTo>
                      <a:pt x="7526" y="1885"/>
                    </a:lnTo>
                    <a:lnTo>
                      <a:pt x="7541" y="1885"/>
                    </a:lnTo>
                    <a:lnTo>
                      <a:pt x="7578" y="1885"/>
                    </a:lnTo>
                    <a:lnTo>
                      <a:pt x="7630" y="1885"/>
                    </a:lnTo>
                    <a:lnTo>
                      <a:pt x="7690" y="1885"/>
                    </a:lnTo>
                    <a:lnTo>
                      <a:pt x="7750" y="1885"/>
                    </a:lnTo>
                    <a:lnTo>
                      <a:pt x="7802" y="1885"/>
                    </a:lnTo>
                    <a:lnTo>
                      <a:pt x="7839" y="1885"/>
                    </a:lnTo>
                    <a:lnTo>
                      <a:pt x="7853" y="1885"/>
                    </a:lnTo>
                    <a:lnTo>
                      <a:pt x="7896" y="1881"/>
                    </a:lnTo>
                    <a:lnTo>
                      <a:pt x="7937" y="1879"/>
                    </a:lnTo>
                    <a:lnTo>
                      <a:pt x="7975" y="1875"/>
                    </a:lnTo>
                    <a:lnTo>
                      <a:pt x="8011" y="1871"/>
                    </a:lnTo>
                    <a:lnTo>
                      <a:pt x="8045" y="1867"/>
                    </a:lnTo>
                    <a:lnTo>
                      <a:pt x="8076" y="1861"/>
                    </a:lnTo>
                    <a:lnTo>
                      <a:pt x="8106" y="1855"/>
                    </a:lnTo>
                    <a:lnTo>
                      <a:pt x="8134" y="1848"/>
                    </a:lnTo>
                    <a:lnTo>
                      <a:pt x="8160" y="1840"/>
                    </a:lnTo>
                    <a:lnTo>
                      <a:pt x="8184" y="1831"/>
                    </a:lnTo>
                    <a:lnTo>
                      <a:pt x="8207" y="1821"/>
                    </a:lnTo>
                    <a:lnTo>
                      <a:pt x="8228" y="1810"/>
                    </a:lnTo>
                    <a:lnTo>
                      <a:pt x="8248" y="1799"/>
                    </a:lnTo>
                    <a:lnTo>
                      <a:pt x="8266" y="1786"/>
                    </a:lnTo>
                    <a:lnTo>
                      <a:pt x="8284" y="1771"/>
                    </a:lnTo>
                    <a:lnTo>
                      <a:pt x="8300" y="1757"/>
                    </a:lnTo>
                    <a:lnTo>
                      <a:pt x="8315" y="1741"/>
                    </a:lnTo>
                    <a:lnTo>
                      <a:pt x="8330" y="1723"/>
                    </a:lnTo>
                    <a:lnTo>
                      <a:pt x="8342" y="1704"/>
                    </a:lnTo>
                    <a:lnTo>
                      <a:pt x="8355" y="1684"/>
                    </a:lnTo>
                    <a:lnTo>
                      <a:pt x="8367" y="1662"/>
                    </a:lnTo>
                    <a:lnTo>
                      <a:pt x="8378" y="1639"/>
                    </a:lnTo>
                    <a:lnTo>
                      <a:pt x="8389" y="1615"/>
                    </a:lnTo>
                    <a:lnTo>
                      <a:pt x="8399" y="1588"/>
                    </a:lnTo>
                    <a:lnTo>
                      <a:pt x="8409" y="1561"/>
                    </a:lnTo>
                    <a:lnTo>
                      <a:pt x="8420" y="1531"/>
                    </a:lnTo>
                    <a:lnTo>
                      <a:pt x="8429" y="1500"/>
                    </a:lnTo>
                    <a:lnTo>
                      <a:pt x="8439" y="1469"/>
                    </a:lnTo>
                    <a:lnTo>
                      <a:pt x="8459" y="1398"/>
                    </a:lnTo>
                    <a:lnTo>
                      <a:pt x="8480" y="1321"/>
                    </a:lnTo>
                    <a:lnTo>
                      <a:pt x="8486" y="1295"/>
                    </a:lnTo>
                    <a:lnTo>
                      <a:pt x="8504" y="1228"/>
                    </a:lnTo>
                    <a:lnTo>
                      <a:pt x="8529" y="1134"/>
                    </a:lnTo>
                    <a:lnTo>
                      <a:pt x="8557" y="1025"/>
                    </a:lnTo>
                    <a:lnTo>
                      <a:pt x="8586" y="917"/>
                    </a:lnTo>
                    <a:lnTo>
                      <a:pt x="8610" y="823"/>
                    </a:lnTo>
                    <a:lnTo>
                      <a:pt x="8628" y="756"/>
                    </a:lnTo>
                    <a:lnTo>
                      <a:pt x="8635" y="731"/>
                    </a:lnTo>
                    <a:lnTo>
                      <a:pt x="8655" y="668"/>
                    </a:lnTo>
                    <a:lnTo>
                      <a:pt x="8678" y="608"/>
                    </a:lnTo>
                    <a:lnTo>
                      <a:pt x="8704" y="553"/>
                    </a:lnTo>
                    <a:lnTo>
                      <a:pt x="8734" y="502"/>
                    </a:lnTo>
                    <a:lnTo>
                      <a:pt x="8766" y="455"/>
                    </a:lnTo>
                    <a:lnTo>
                      <a:pt x="8800" y="410"/>
                    </a:lnTo>
                    <a:lnTo>
                      <a:pt x="8836" y="370"/>
                    </a:lnTo>
                    <a:lnTo>
                      <a:pt x="8874" y="332"/>
                    </a:lnTo>
                    <a:lnTo>
                      <a:pt x="8914" y="298"/>
                    </a:lnTo>
                    <a:lnTo>
                      <a:pt x="8954" y="267"/>
                    </a:lnTo>
                    <a:lnTo>
                      <a:pt x="8997" y="238"/>
                    </a:lnTo>
                    <a:lnTo>
                      <a:pt x="9039" y="213"/>
                    </a:lnTo>
                    <a:lnTo>
                      <a:pt x="9082" y="189"/>
                    </a:lnTo>
                    <a:lnTo>
                      <a:pt x="9125" y="169"/>
                    </a:lnTo>
                    <a:lnTo>
                      <a:pt x="9168" y="150"/>
                    </a:lnTo>
                    <a:lnTo>
                      <a:pt x="9212" y="134"/>
                    </a:lnTo>
                    <a:lnTo>
                      <a:pt x="9254" y="120"/>
                    </a:lnTo>
                    <a:lnTo>
                      <a:pt x="9295" y="108"/>
                    </a:lnTo>
                    <a:lnTo>
                      <a:pt x="9336" y="97"/>
                    </a:lnTo>
                    <a:lnTo>
                      <a:pt x="9375" y="89"/>
                    </a:lnTo>
                    <a:lnTo>
                      <a:pt x="9412" y="81"/>
                    </a:lnTo>
                    <a:lnTo>
                      <a:pt x="9448" y="75"/>
                    </a:lnTo>
                    <a:lnTo>
                      <a:pt x="9482" y="71"/>
                    </a:lnTo>
                    <a:lnTo>
                      <a:pt x="9512" y="66"/>
                    </a:lnTo>
                    <a:lnTo>
                      <a:pt x="9566" y="62"/>
                    </a:lnTo>
                    <a:lnTo>
                      <a:pt x="9607" y="60"/>
                    </a:lnTo>
                    <a:lnTo>
                      <a:pt x="9633" y="60"/>
                    </a:lnTo>
                    <a:lnTo>
                      <a:pt x="9643" y="60"/>
                    </a:lnTo>
                    <a:lnTo>
                      <a:pt x="10350" y="60"/>
                    </a:lnTo>
                    <a:lnTo>
                      <a:pt x="10252" y="423"/>
                    </a:lnTo>
                    <a:lnTo>
                      <a:pt x="10249" y="423"/>
                    </a:lnTo>
                    <a:lnTo>
                      <a:pt x="10244" y="423"/>
                    </a:lnTo>
                    <a:lnTo>
                      <a:pt x="10236" y="423"/>
                    </a:lnTo>
                    <a:lnTo>
                      <a:pt x="10227" y="423"/>
                    </a:lnTo>
                    <a:lnTo>
                      <a:pt x="10219" y="423"/>
                    </a:lnTo>
                    <a:lnTo>
                      <a:pt x="10210" y="423"/>
                    </a:lnTo>
                    <a:lnTo>
                      <a:pt x="10205" y="423"/>
                    </a:lnTo>
                    <a:lnTo>
                      <a:pt x="10203" y="423"/>
                    </a:lnTo>
                    <a:lnTo>
                      <a:pt x="10151" y="423"/>
                    </a:lnTo>
                    <a:lnTo>
                      <a:pt x="10102" y="425"/>
                    </a:lnTo>
                    <a:lnTo>
                      <a:pt x="10057" y="429"/>
                    </a:lnTo>
                    <a:lnTo>
                      <a:pt x="10013" y="436"/>
                    </a:lnTo>
                    <a:lnTo>
                      <a:pt x="9973" y="444"/>
                    </a:lnTo>
                    <a:lnTo>
                      <a:pt x="9935" y="455"/>
                    </a:lnTo>
                    <a:lnTo>
                      <a:pt x="9899" y="468"/>
                    </a:lnTo>
                    <a:lnTo>
                      <a:pt x="9866" y="480"/>
                    </a:lnTo>
                    <a:lnTo>
                      <a:pt x="9835" y="495"/>
                    </a:lnTo>
                    <a:lnTo>
                      <a:pt x="9806" y="512"/>
                    </a:lnTo>
                    <a:lnTo>
                      <a:pt x="9779" y="529"/>
                    </a:lnTo>
                    <a:lnTo>
                      <a:pt x="9755" y="546"/>
                    </a:lnTo>
                    <a:lnTo>
                      <a:pt x="9733" y="565"/>
                    </a:lnTo>
                    <a:lnTo>
                      <a:pt x="9713" y="584"/>
                    </a:lnTo>
                    <a:lnTo>
                      <a:pt x="9693" y="603"/>
                    </a:lnTo>
                    <a:lnTo>
                      <a:pt x="9677" y="623"/>
                    </a:lnTo>
                    <a:lnTo>
                      <a:pt x="9661" y="643"/>
                    </a:lnTo>
                    <a:lnTo>
                      <a:pt x="9647" y="662"/>
                    </a:lnTo>
                    <a:lnTo>
                      <a:pt x="9635" y="681"/>
                    </a:lnTo>
                    <a:lnTo>
                      <a:pt x="9624" y="700"/>
                    </a:lnTo>
                    <a:lnTo>
                      <a:pt x="9614" y="718"/>
                    </a:lnTo>
                    <a:lnTo>
                      <a:pt x="9606" y="736"/>
                    </a:lnTo>
                    <a:lnTo>
                      <a:pt x="9599" y="753"/>
                    </a:lnTo>
                    <a:lnTo>
                      <a:pt x="9593" y="768"/>
                    </a:lnTo>
                    <a:lnTo>
                      <a:pt x="9583" y="796"/>
                    </a:lnTo>
                    <a:lnTo>
                      <a:pt x="9578" y="817"/>
                    </a:lnTo>
                    <a:lnTo>
                      <a:pt x="9575" y="831"/>
                    </a:lnTo>
                    <a:lnTo>
                      <a:pt x="9574" y="835"/>
                    </a:lnTo>
                    <a:lnTo>
                      <a:pt x="9543" y="970"/>
                    </a:lnTo>
                    <a:lnTo>
                      <a:pt x="9510" y="1114"/>
                    </a:lnTo>
                    <a:lnTo>
                      <a:pt x="9493" y="1187"/>
                    </a:lnTo>
                    <a:lnTo>
                      <a:pt x="9475" y="1260"/>
                    </a:lnTo>
                    <a:lnTo>
                      <a:pt x="9457" y="1333"/>
                    </a:lnTo>
                    <a:lnTo>
                      <a:pt x="9437" y="1406"/>
                    </a:lnTo>
                    <a:lnTo>
                      <a:pt x="9427" y="1441"/>
                    </a:lnTo>
                    <a:lnTo>
                      <a:pt x="9415" y="1477"/>
                    </a:lnTo>
                    <a:lnTo>
                      <a:pt x="9403" y="1512"/>
                    </a:lnTo>
                    <a:lnTo>
                      <a:pt x="9392" y="1546"/>
                    </a:lnTo>
                    <a:lnTo>
                      <a:pt x="9379" y="1580"/>
                    </a:lnTo>
                    <a:lnTo>
                      <a:pt x="9366" y="1613"/>
                    </a:lnTo>
                    <a:lnTo>
                      <a:pt x="9352" y="1644"/>
                    </a:lnTo>
                    <a:lnTo>
                      <a:pt x="9339" y="1676"/>
                    </a:lnTo>
                    <a:lnTo>
                      <a:pt x="9324" y="1707"/>
                    </a:lnTo>
                    <a:lnTo>
                      <a:pt x="9309" y="1736"/>
                    </a:lnTo>
                    <a:lnTo>
                      <a:pt x="9293" y="1765"/>
                    </a:lnTo>
                    <a:lnTo>
                      <a:pt x="9276" y="1793"/>
                    </a:lnTo>
                    <a:lnTo>
                      <a:pt x="9258" y="1818"/>
                    </a:lnTo>
                    <a:lnTo>
                      <a:pt x="9240" y="1843"/>
                    </a:lnTo>
                    <a:lnTo>
                      <a:pt x="9221" y="1868"/>
                    </a:lnTo>
                    <a:lnTo>
                      <a:pt x="9202" y="1890"/>
                    </a:lnTo>
                    <a:lnTo>
                      <a:pt x="9177" y="1919"/>
                    </a:lnTo>
                    <a:lnTo>
                      <a:pt x="9150" y="1948"/>
                    </a:lnTo>
                    <a:lnTo>
                      <a:pt x="9124" y="1975"/>
                    </a:lnTo>
                    <a:lnTo>
                      <a:pt x="9097" y="2000"/>
                    </a:lnTo>
                    <a:lnTo>
                      <a:pt x="9071" y="2023"/>
                    </a:lnTo>
                    <a:lnTo>
                      <a:pt x="9044" y="2045"/>
                    </a:lnTo>
                    <a:lnTo>
                      <a:pt x="9018" y="2066"/>
                    </a:lnTo>
                    <a:lnTo>
                      <a:pt x="8991" y="2085"/>
                    </a:lnTo>
                    <a:lnTo>
                      <a:pt x="8964" y="2103"/>
                    </a:lnTo>
                    <a:lnTo>
                      <a:pt x="8937" y="2120"/>
                    </a:lnTo>
                    <a:lnTo>
                      <a:pt x="8910" y="2134"/>
                    </a:lnTo>
                    <a:lnTo>
                      <a:pt x="8882" y="2149"/>
                    </a:lnTo>
                    <a:lnTo>
                      <a:pt x="8855" y="2162"/>
                    </a:lnTo>
                    <a:lnTo>
                      <a:pt x="8828" y="2173"/>
                    </a:lnTo>
                    <a:lnTo>
                      <a:pt x="8801" y="2184"/>
                    </a:lnTo>
                    <a:lnTo>
                      <a:pt x="8773" y="2194"/>
                    </a:lnTo>
                    <a:lnTo>
                      <a:pt x="8746" y="2202"/>
                    </a:lnTo>
                    <a:lnTo>
                      <a:pt x="8718" y="2211"/>
                    </a:lnTo>
                    <a:lnTo>
                      <a:pt x="8691" y="2217"/>
                    </a:lnTo>
                    <a:lnTo>
                      <a:pt x="8663" y="2223"/>
                    </a:lnTo>
                    <a:lnTo>
                      <a:pt x="8636" y="2228"/>
                    </a:lnTo>
                    <a:lnTo>
                      <a:pt x="8608" y="2233"/>
                    </a:lnTo>
                    <a:lnTo>
                      <a:pt x="8581" y="2237"/>
                    </a:lnTo>
                    <a:lnTo>
                      <a:pt x="8553" y="2240"/>
                    </a:lnTo>
                    <a:lnTo>
                      <a:pt x="8498" y="2245"/>
                    </a:lnTo>
                    <a:lnTo>
                      <a:pt x="8444" y="2249"/>
                    </a:lnTo>
                    <a:lnTo>
                      <a:pt x="8390" y="2250"/>
                    </a:lnTo>
                    <a:lnTo>
                      <a:pt x="8336" y="2251"/>
                    </a:lnTo>
                    <a:lnTo>
                      <a:pt x="8297" y="2251"/>
                    </a:lnTo>
                    <a:lnTo>
                      <a:pt x="8194" y="2251"/>
                    </a:lnTo>
                    <a:lnTo>
                      <a:pt x="8048" y="2251"/>
                    </a:lnTo>
                    <a:lnTo>
                      <a:pt x="7881" y="2251"/>
                    </a:lnTo>
                    <a:lnTo>
                      <a:pt x="7713" y="2251"/>
                    </a:lnTo>
                    <a:lnTo>
                      <a:pt x="7567" y="2251"/>
                    </a:lnTo>
                    <a:lnTo>
                      <a:pt x="7464" y="2251"/>
                    </a:lnTo>
                    <a:lnTo>
                      <a:pt x="7425" y="2251"/>
                    </a:lnTo>
                    <a:close/>
                    <a:moveTo>
                      <a:pt x="5461" y="88"/>
                    </a:moveTo>
                    <a:lnTo>
                      <a:pt x="3523" y="88"/>
                    </a:lnTo>
                    <a:lnTo>
                      <a:pt x="2950" y="2219"/>
                    </a:lnTo>
                    <a:lnTo>
                      <a:pt x="4889" y="2219"/>
                    </a:lnTo>
                    <a:lnTo>
                      <a:pt x="4990" y="1834"/>
                    </a:lnTo>
                    <a:lnTo>
                      <a:pt x="4023" y="1834"/>
                    </a:lnTo>
                    <a:lnTo>
                      <a:pt x="4150" y="1368"/>
                    </a:lnTo>
                    <a:lnTo>
                      <a:pt x="5117" y="1368"/>
                    </a:lnTo>
                    <a:lnTo>
                      <a:pt x="5227" y="962"/>
                    </a:lnTo>
                    <a:lnTo>
                      <a:pt x="4257" y="962"/>
                    </a:lnTo>
                    <a:lnTo>
                      <a:pt x="4372" y="526"/>
                    </a:lnTo>
                    <a:lnTo>
                      <a:pt x="5342" y="526"/>
                    </a:lnTo>
                    <a:lnTo>
                      <a:pt x="5461" y="88"/>
                    </a:lnTo>
                    <a:close/>
                    <a:moveTo>
                      <a:pt x="1571" y="421"/>
                    </a:moveTo>
                    <a:lnTo>
                      <a:pt x="1433" y="421"/>
                    </a:lnTo>
                    <a:lnTo>
                      <a:pt x="1283" y="977"/>
                    </a:lnTo>
                    <a:lnTo>
                      <a:pt x="1298" y="977"/>
                    </a:lnTo>
                    <a:lnTo>
                      <a:pt x="1337" y="977"/>
                    </a:lnTo>
                    <a:lnTo>
                      <a:pt x="1392" y="977"/>
                    </a:lnTo>
                    <a:lnTo>
                      <a:pt x="1455" y="977"/>
                    </a:lnTo>
                    <a:lnTo>
                      <a:pt x="1519" y="977"/>
                    </a:lnTo>
                    <a:lnTo>
                      <a:pt x="1574" y="977"/>
                    </a:lnTo>
                    <a:lnTo>
                      <a:pt x="1613" y="977"/>
                    </a:lnTo>
                    <a:lnTo>
                      <a:pt x="1628" y="977"/>
                    </a:lnTo>
                    <a:lnTo>
                      <a:pt x="1661" y="974"/>
                    </a:lnTo>
                    <a:lnTo>
                      <a:pt x="1694" y="970"/>
                    </a:lnTo>
                    <a:lnTo>
                      <a:pt x="1724" y="966"/>
                    </a:lnTo>
                    <a:lnTo>
                      <a:pt x="1753" y="960"/>
                    </a:lnTo>
                    <a:lnTo>
                      <a:pt x="1778" y="951"/>
                    </a:lnTo>
                    <a:lnTo>
                      <a:pt x="1802" y="943"/>
                    </a:lnTo>
                    <a:lnTo>
                      <a:pt x="1823" y="933"/>
                    </a:lnTo>
                    <a:lnTo>
                      <a:pt x="1844" y="923"/>
                    </a:lnTo>
                    <a:lnTo>
                      <a:pt x="1863" y="911"/>
                    </a:lnTo>
                    <a:lnTo>
                      <a:pt x="1880" y="899"/>
                    </a:lnTo>
                    <a:lnTo>
                      <a:pt x="1894" y="887"/>
                    </a:lnTo>
                    <a:lnTo>
                      <a:pt x="1908" y="874"/>
                    </a:lnTo>
                    <a:lnTo>
                      <a:pt x="1921" y="860"/>
                    </a:lnTo>
                    <a:lnTo>
                      <a:pt x="1931" y="846"/>
                    </a:lnTo>
                    <a:lnTo>
                      <a:pt x="1941" y="833"/>
                    </a:lnTo>
                    <a:lnTo>
                      <a:pt x="1949" y="819"/>
                    </a:lnTo>
                    <a:lnTo>
                      <a:pt x="1957" y="805"/>
                    </a:lnTo>
                    <a:lnTo>
                      <a:pt x="1963" y="791"/>
                    </a:lnTo>
                    <a:lnTo>
                      <a:pt x="1969" y="778"/>
                    </a:lnTo>
                    <a:lnTo>
                      <a:pt x="1973" y="765"/>
                    </a:lnTo>
                    <a:lnTo>
                      <a:pt x="1979" y="740"/>
                    </a:lnTo>
                    <a:lnTo>
                      <a:pt x="1983" y="717"/>
                    </a:lnTo>
                    <a:lnTo>
                      <a:pt x="1985" y="685"/>
                    </a:lnTo>
                    <a:lnTo>
                      <a:pt x="1985" y="672"/>
                    </a:lnTo>
                    <a:lnTo>
                      <a:pt x="1984" y="647"/>
                    </a:lnTo>
                    <a:lnTo>
                      <a:pt x="1982" y="624"/>
                    </a:lnTo>
                    <a:lnTo>
                      <a:pt x="1977" y="603"/>
                    </a:lnTo>
                    <a:lnTo>
                      <a:pt x="1970" y="583"/>
                    </a:lnTo>
                    <a:lnTo>
                      <a:pt x="1960" y="565"/>
                    </a:lnTo>
                    <a:lnTo>
                      <a:pt x="1949" y="548"/>
                    </a:lnTo>
                    <a:lnTo>
                      <a:pt x="1937" y="532"/>
                    </a:lnTo>
                    <a:lnTo>
                      <a:pt x="1923" y="518"/>
                    </a:lnTo>
                    <a:lnTo>
                      <a:pt x="1908" y="506"/>
                    </a:lnTo>
                    <a:lnTo>
                      <a:pt x="1892" y="494"/>
                    </a:lnTo>
                    <a:lnTo>
                      <a:pt x="1874" y="483"/>
                    </a:lnTo>
                    <a:lnTo>
                      <a:pt x="1857" y="474"/>
                    </a:lnTo>
                    <a:lnTo>
                      <a:pt x="1838" y="464"/>
                    </a:lnTo>
                    <a:lnTo>
                      <a:pt x="1819" y="457"/>
                    </a:lnTo>
                    <a:lnTo>
                      <a:pt x="1800" y="451"/>
                    </a:lnTo>
                    <a:lnTo>
                      <a:pt x="1780" y="444"/>
                    </a:lnTo>
                    <a:lnTo>
                      <a:pt x="1761" y="440"/>
                    </a:lnTo>
                    <a:lnTo>
                      <a:pt x="1742" y="436"/>
                    </a:lnTo>
                    <a:lnTo>
                      <a:pt x="1723" y="432"/>
                    </a:lnTo>
                    <a:lnTo>
                      <a:pt x="1704" y="428"/>
                    </a:lnTo>
                    <a:lnTo>
                      <a:pt x="1669" y="424"/>
                    </a:lnTo>
                    <a:lnTo>
                      <a:pt x="1637" y="422"/>
                    </a:lnTo>
                    <a:lnTo>
                      <a:pt x="1589" y="421"/>
                    </a:lnTo>
                    <a:lnTo>
                      <a:pt x="1571" y="421"/>
                    </a:lnTo>
                    <a:close/>
                    <a:moveTo>
                      <a:pt x="2835" y="570"/>
                    </a:moveTo>
                    <a:lnTo>
                      <a:pt x="2825" y="524"/>
                    </a:lnTo>
                    <a:lnTo>
                      <a:pt x="2814" y="481"/>
                    </a:lnTo>
                    <a:lnTo>
                      <a:pt x="2799" y="441"/>
                    </a:lnTo>
                    <a:lnTo>
                      <a:pt x="2783" y="404"/>
                    </a:lnTo>
                    <a:lnTo>
                      <a:pt x="2764" y="369"/>
                    </a:lnTo>
                    <a:lnTo>
                      <a:pt x="2744" y="337"/>
                    </a:lnTo>
                    <a:lnTo>
                      <a:pt x="2721" y="308"/>
                    </a:lnTo>
                    <a:lnTo>
                      <a:pt x="2698" y="280"/>
                    </a:lnTo>
                    <a:lnTo>
                      <a:pt x="2674" y="256"/>
                    </a:lnTo>
                    <a:lnTo>
                      <a:pt x="2648" y="234"/>
                    </a:lnTo>
                    <a:lnTo>
                      <a:pt x="2622" y="214"/>
                    </a:lnTo>
                    <a:lnTo>
                      <a:pt x="2594" y="195"/>
                    </a:lnTo>
                    <a:lnTo>
                      <a:pt x="2567" y="179"/>
                    </a:lnTo>
                    <a:lnTo>
                      <a:pt x="2539" y="164"/>
                    </a:lnTo>
                    <a:lnTo>
                      <a:pt x="2512" y="150"/>
                    </a:lnTo>
                    <a:lnTo>
                      <a:pt x="2483" y="138"/>
                    </a:lnTo>
                    <a:lnTo>
                      <a:pt x="2456" y="129"/>
                    </a:lnTo>
                    <a:lnTo>
                      <a:pt x="2428" y="120"/>
                    </a:lnTo>
                    <a:lnTo>
                      <a:pt x="2402" y="113"/>
                    </a:lnTo>
                    <a:lnTo>
                      <a:pt x="2376" y="107"/>
                    </a:lnTo>
                    <a:lnTo>
                      <a:pt x="2351" y="101"/>
                    </a:lnTo>
                    <a:lnTo>
                      <a:pt x="2328" y="97"/>
                    </a:lnTo>
                    <a:lnTo>
                      <a:pt x="2305" y="94"/>
                    </a:lnTo>
                    <a:lnTo>
                      <a:pt x="2285" y="92"/>
                    </a:lnTo>
                    <a:lnTo>
                      <a:pt x="2249" y="89"/>
                    </a:lnTo>
                    <a:lnTo>
                      <a:pt x="2222" y="88"/>
                    </a:lnTo>
                    <a:lnTo>
                      <a:pt x="2204" y="88"/>
                    </a:lnTo>
                    <a:lnTo>
                      <a:pt x="2197" y="88"/>
                    </a:lnTo>
                    <a:lnTo>
                      <a:pt x="575" y="88"/>
                    </a:lnTo>
                    <a:lnTo>
                      <a:pt x="0" y="2219"/>
                    </a:lnTo>
                    <a:lnTo>
                      <a:pt x="948" y="2219"/>
                    </a:lnTo>
                    <a:lnTo>
                      <a:pt x="958" y="2182"/>
                    </a:lnTo>
                    <a:lnTo>
                      <a:pt x="985" y="2082"/>
                    </a:lnTo>
                    <a:lnTo>
                      <a:pt x="1023" y="1942"/>
                    </a:lnTo>
                    <a:lnTo>
                      <a:pt x="1066" y="1781"/>
                    </a:lnTo>
                    <a:lnTo>
                      <a:pt x="1110" y="1620"/>
                    </a:lnTo>
                    <a:lnTo>
                      <a:pt x="1148" y="1479"/>
                    </a:lnTo>
                    <a:lnTo>
                      <a:pt x="1174" y="1380"/>
                    </a:lnTo>
                    <a:lnTo>
                      <a:pt x="1185" y="1343"/>
                    </a:lnTo>
                    <a:lnTo>
                      <a:pt x="1203" y="1344"/>
                    </a:lnTo>
                    <a:lnTo>
                      <a:pt x="1223" y="1344"/>
                    </a:lnTo>
                    <a:lnTo>
                      <a:pt x="1235" y="1345"/>
                    </a:lnTo>
                    <a:lnTo>
                      <a:pt x="1246" y="1346"/>
                    </a:lnTo>
                    <a:lnTo>
                      <a:pt x="1258" y="1347"/>
                    </a:lnTo>
                    <a:lnTo>
                      <a:pt x="1271" y="1349"/>
                    </a:lnTo>
                    <a:lnTo>
                      <a:pt x="1284" y="1352"/>
                    </a:lnTo>
                    <a:lnTo>
                      <a:pt x="1297" y="1358"/>
                    </a:lnTo>
                    <a:lnTo>
                      <a:pt x="1311" y="1363"/>
                    </a:lnTo>
                    <a:lnTo>
                      <a:pt x="1324" y="1371"/>
                    </a:lnTo>
                    <a:lnTo>
                      <a:pt x="1337" y="1380"/>
                    </a:lnTo>
                    <a:lnTo>
                      <a:pt x="1351" y="1391"/>
                    </a:lnTo>
                    <a:lnTo>
                      <a:pt x="1364" y="1405"/>
                    </a:lnTo>
                    <a:lnTo>
                      <a:pt x="1377" y="1421"/>
                    </a:lnTo>
                    <a:lnTo>
                      <a:pt x="1433" y="1508"/>
                    </a:lnTo>
                    <a:lnTo>
                      <a:pt x="1486" y="1590"/>
                    </a:lnTo>
                    <a:lnTo>
                      <a:pt x="1535" y="1669"/>
                    </a:lnTo>
                    <a:lnTo>
                      <a:pt x="1581" y="1744"/>
                    </a:lnTo>
                    <a:lnTo>
                      <a:pt x="1663" y="1879"/>
                    </a:lnTo>
                    <a:lnTo>
                      <a:pt x="1730" y="1996"/>
                    </a:lnTo>
                    <a:lnTo>
                      <a:pt x="1783" y="2090"/>
                    </a:lnTo>
                    <a:lnTo>
                      <a:pt x="1822" y="2161"/>
                    </a:lnTo>
                    <a:lnTo>
                      <a:pt x="1846" y="2204"/>
                    </a:lnTo>
                    <a:lnTo>
                      <a:pt x="1853" y="2219"/>
                    </a:lnTo>
                    <a:lnTo>
                      <a:pt x="1892" y="2219"/>
                    </a:lnTo>
                    <a:lnTo>
                      <a:pt x="1996" y="2219"/>
                    </a:lnTo>
                    <a:lnTo>
                      <a:pt x="2142" y="2219"/>
                    </a:lnTo>
                    <a:lnTo>
                      <a:pt x="2311" y="2219"/>
                    </a:lnTo>
                    <a:lnTo>
                      <a:pt x="2478" y="2219"/>
                    </a:lnTo>
                    <a:lnTo>
                      <a:pt x="2625" y="2219"/>
                    </a:lnTo>
                    <a:lnTo>
                      <a:pt x="2729" y="2219"/>
                    </a:lnTo>
                    <a:lnTo>
                      <a:pt x="2768" y="2219"/>
                    </a:lnTo>
                    <a:lnTo>
                      <a:pt x="2644" y="2041"/>
                    </a:lnTo>
                    <a:lnTo>
                      <a:pt x="2539" y="1893"/>
                    </a:lnTo>
                    <a:lnTo>
                      <a:pt x="2494" y="1831"/>
                    </a:lnTo>
                    <a:lnTo>
                      <a:pt x="2451" y="1773"/>
                    </a:lnTo>
                    <a:lnTo>
                      <a:pt x="2412" y="1722"/>
                    </a:lnTo>
                    <a:lnTo>
                      <a:pt x="2375" y="1675"/>
                    </a:lnTo>
                    <a:lnTo>
                      <a:pt x="2341" y="1634"/>
                    </a:lnTo>
                    <a:lnTo>
                      <a:pt x="2308" y="1596"/>
                    </a:lnTo>
                    <a:lnTo>
                      <a:pt x="2278" y="1562"/>
                    </a:lnTo>
                    <a:lnTo>
                      <a:pt x="2248" y="1530"/>
                    </a:lnTo>
                    <a:lnTo>
                      <a:pt x="2218" y="1500"/>
                    </a:lnTo>
                    <a:lnTo>
                      <a:pt x="2189" y="1473"/>
                    </a:lnTo>
                    <a:lnTo>
                      <a:pt x="2160" y="1446"/>
                    </a:lnTo>
                    <a:lnTo>
                      <a:pt x="2130" y="1421"/>
                    </a:lnTo>
                    <a:lnTo>
                      <a:pt x="2115" y="1408"/>
                    </a:lnTo>
                    <a:lnTo>
                      <a:pt x="2100" y="1398"/>
                    </a:lnTo>
                    <a:lnTo>
                      <a:pt x="2085" y="1387"/>
                    </a:lnTo>
                    <a:lnTo>
                      <a:pt x="2070" y="1378"/>
                    </a:lnTo>
                    <a:lnTo>
                      <a:pt x="2056" y="1369"/>
                    </a:lnTo>
                    <a:lnTo>
                      <a:pt x="2042" y="1361"/>
                    </a:lnTo>
                    <a:lnTo>
                      <a:pt x="2028" y="1354"/>
                    </a:lnTo>
                    <a:lnTo>
                      <a:pt x="2015" y="1349"/>
                    </a:lnTo>
                    <a:lnTo>
                      <a:pt x="1992" y="1340"/>
                    </a:lnTo>
                    <a:lnTo>
                      <a:pt x="1974" y="1333"/>
                    </a:lnTo>
                    <a:lnTo>
                      <a:pt x="1962" y="1330"/>
                    </a:lnTo>
                    <a:lnTo>
                      <a:pt x="1958" y="1329"/>
                    </a:lnTo>
                    <a:lnTo>
                      <a:pt x="1945" y="1325"/>
                    </a:lnTo>
                    <a:lnTo>
                      <a:pt x="1936" y="1321"/>
                    </a:lnTo>
                    <a:lnTo>
                      <a:pt x="1928" y="1317"/>
                    </a:lnTo>
                    <a:lnTo>
                      <a:pt x="1924" y="1313"/>
                    </a:lnTo>
                    <a:lnTo>
                      <a:pt x="1922" y="1310"/>
                    </a:lnTo>
                    <a:lnTo>
                      <a:pt x="1922" y="1307"/>
                    </a:lnTo>
                    <a:lnTo>
                      <a:pt x="1923" y="1305"/>
                    </a:lnTo>
                    <a:lnTo>
                      <a:pt x="1925" y="1301"/>
                    </a:lnTo>
                    <a:lnTo>
                      <a:pt x="1931" y="1297"/>
                    </a:lnTo>
                    <a:lnTo>
                      <a:pt x="1940" y="1294"/>
                    </a:lnTo>
                    <a:lnTo>
                      <a:pt x="1946" y="1292"/>
                    </a:lnTo>
                    <a:lnTo>
                      <a:pt x="1949" y="1291"/>
                    </a:lnTo>
                    <a:lnTo>
                      <a:pt x="2044" y="1287"/>
                    </a:lnTo>
                    <a:lnTo>
                      <a:pt x="2132" y="1279"/>
                    </a:lnTo>
                    <a:lnTo>
                      <a:pt x="2213" y="1268"/>
                    </a:lnTo>
                    <a:lnTo>
                      <a:pt x="2287" y="1253"/>
                    </a:lnTo>
                    <a:lnTo>
                      <a:pt x="2356" y="1236"/>
                    </a:lnTo>
                    <a:lnTo>
                      <a:pt x="2420" y="1216"/>
                    </a:lnTo>
                    <a:lnTo>
                      <a:pt x="2477" y="1194"/>
                    </a:lnTo>
                    <a:lnTo>
                      <a:pt x="2529" y="1168"/>
                    </a:lnTo>
                    <a:lnTo>
                      <a:pt x="2576" y="1142"/>
                    </a:lnTo>
                    <a:lnTo>
                      <a:pt x="2619" y="1113"/>
                    </a:lnTo>
                    <a:lnTo>
                      <a:pt x="2656" y="1083"/>
                    </a:lnTo>
                    <a:lnTo>
                      <a:pt x="2690" y="1053"/>
                    </a:lnTo>
                    <a:lnTo>
                      <a:pt x="2718" y="1020"/>
                    </a:lnTo>
                    <a:lnTo>
                      <a:pt x="2744" y="987"/>
                    </a:lnTo>
                    <a:lnTo>
                      <a:pt x="2766" y="954"/>
                    </a:lnTo>
                    <a:lnTo>
                      <a:pt x="2785" y="922"/>
                    </a:lnTo>
                    <a:lnTo>
                      <a:pt x="2800" y="889"/>
                    </a:lnTo>
                    <a:lnTo>
                      <a:pt x="2813" y="856"/>
                    </a:lnTo>
                    <a:lnTo>
                      <a:pt x="2823" y="823"/>
                    </a:lnTo>
                    <a:lnTo>
                      <a:pt x="2831" y="791"/>
                    </a:lnTo>
                    <a:lnTo>
                      <a:pt x="2837" y="762"/>
                    </a:lnTo>
                    <a:lnTo>
                      <a:pt x="2840" y="732"/>
                    </a:lnTo>
                    <a:lnTo>
                      <a:pt x="2842" y="705"/>
                    </a:lnTo>
                    <a:lnTo>
                      <a:pt x="2843" y="679"/>
                    </a:lnTo>
                    <a:lnTo>
                      <a:pt x="2843" y="656"/>
                    </a:lnTo>
                    <a:lnTo>
                      <a:pt x="2843" y="635"/>
                    </a:lnTo>
                    <a:lnTo>
                      <a:pt x="2841" y="616"/>
                    </a:lnTo>
                    <a:lnTo>
                      <a:pt x="2840" y="600"/>
                    </a:lnTo>
                    <a:lnTo>
                      <a:pt x="2837" y="578"/>
                    </a:lnTo>
                    <a:lnTo>
                      <a:pt x="2835" y="570"/>
                    </a:lnTo>
                    <a:close/>
                    <a:moveTo>
                      <a:pt x="11210" y="794"/>
                    </a:moveTo>
                    <a:lnTo>
                      <a:pt x="11234" y="765"/>
                    </a:lnTo>
                    <a:lnTo>
                      <a:pt x="11259" y="738"/>
                    </a:lnTo>
                    <a:lnTo>
                      <a:pt x="11283" y="713"/>
                    </a:lnTo>
                    <a:lnTo>
                      <a:pt x="11307" y="689"/>
                    </a:lnTo>
                    <a:lnTo>
                      <a:pt x="11333" y="665"/>
                    </a:lnTo>
                    <a:lnTo>
                      <a:pt x="11359" y="644"/>
                    </a:lnTo>
                    <a:lnTo>
                      <a:pt x="11385" y="624"/>
                    </a:lnTo>
                    <a:lnTo>
                      <a:pt x="11410" y="605"/>
                    </a:lnTo>
                    <a:lnTo>
                      <a:pt x="11436" y="587"/>
                    </a:lnTo>
                    <a:lnTo>
                      <a:pt x="11463" y="571"/>
                    </a:lnTo>
                    <a:lnTo>
                      <a:pt x="11488" y="555"/>
                    </a:lnTo>
                    <a:lnTo>
                      <a:pt x="11515" y="543"/>
                    </a:lnTo>
                    <a:lnTo>
                      <a:pt x="11541" y="530"/>
                    </a:lnTo>
                    <a:lnTo>
                      <a:pt x="11567" y="519"/>
                    </a:lnTo>
                    <a:lnTo>
                      <a:pt x="11593" y="510"/>
                    </a:lnTo>
                    <a:lnTo>
                      <a:pt x="11619" y="501"/>
                    </a:lnTo>
                    <a:lnTo>
                      <a:pt x="11644" y="495"/>
                    </a:lnTo>
                    <a:lnTo>
                      <a:pt x="11668" y="490"/>
                    </a:lnTo>
                    <a:lnTo>
                      <a:pt x="11694" y="487"/>
                    </a:lnTo>
                    <a:lnTo>
                      <a:pt x="11718" y="483"/>
                    </a:lnTo>
                    <a:lnTo>
                      <a:pt x="11741" y="483"/>
                    </a:lnTo>
                    <a:lnTo>
                      <a:pt x="11765" y="483"/>
                    </a:lnTo>
                    <a:lnTo>
                      <a:pt x="11788" y="486"/>
                    </a:lnTo>
                    <a:lnTo>
                      <a:pt x="11810" y="490"/>
                    </a:lnTo>
                    <a:lnTo>
                      <a:pt x="11831" y="495"/>
                    </a:lnTo>
                    <a:lnTo>
                      <a:pt x="11853" y="501"/>
                    </a:lnTo>
                    <a:lnTo>
                      <a:pt x="11873" y="510"/>
                    </a:lnTo>
                    <a:lnTo>
                      <a:pt x="11892" y="520"/>
                    </a:lnTo>
                    <a:lnTo>
                      <a:pt x="11910" y="532"/>
                    </a:lnTo>
                    <a:lnTo>
                      <a:pt x="11928" y="545"/>
                    </a:lnTo>
                    <a:lnTo>
                      <a:pt x="11945" y="560"/>
                    </a:lnTo>
                    <a:lnTo>
                      <a:pt x="11961" y="576"/>
                    </a:lnTo>
                    <a:lnTo>
                      <a:pt x="11975" y="594"/>
                    </a:lnTo>
                    <a:lnTo>
                      <a:pt x="11988" y="614"/>
                    </a:lnTo>
                    <a:lnTo>
                      <a:pt x="12001" y="634"/>
                    </a:lnTo>
                    <a:lnTo>
                      <a:pt x="12011" y="655"/>
                    </a:lnTo>
                    <a:lnTo>
                      <a:pt x="12021" y="677"/>
                    </a:lnTo>
                    <a:lnTo>
                      <a:pt x="12028" y="700"/>
                    </a:lnTo>
                    <a:lnTo>
                      <a:pt x="12035" y="725"/>
                    </a:lnTo>
                    <a:lnTo>
                      <a:pt x="12041" y="750"/>
                    </a:lnTo>
                    <a:lnTo>
                      <a:pt x="12044" y="777"/>
                    </a:lnTo>
                    <a:lnTo>
                      <a:pt x="12047" y="803"/>
                    </a:lnTo>
                    <a:lnTo>
                      <a:pt x="12050" y="831"/>
                    </a:lnTo>
                    <a:lnTo>
                      <a:pt x="12050" y="858"/>
                    </a:lnTo>
                    <a:lnTo>
                      <a:pt x="12049" y="887"/>
                    </a:lnTo>
                    <a:lnTo>
                      <a:pt x="12046" y="916"/>
                    </a:lnTo>
                    <a:lnTo>
                      <a:pt x="12043" y="946"/>
                    </a:lnTo>
                    <a:lnTo>
                      <a:pt x="12039" y="976"/>
                    </a:lnTo>
                    <a:lnTo>
                      <a:pt x="12033" y="1006"/>
                    </a:lnTo>
                    <a:lnTo>
                      <a:pt x="12025" y="1037"/>
                    </a:lnTo>
                    <a:lnTo>
                      <a:pt x="12018" y="1068"/>
                    </a:lnTo>
                    <a:lnTo>
                      <a:pt x="12008" y="1098"/>
                    </a:lnTo>
                    <a:lnTo>
                      <a:pt x="11998" y="1130"/>
                    </a:lnTo>
                    <a:lnTo>
                      <a:pt x="11986" y="1161"/>
                    </a:lnTo>
                    <a:lnTo>
                      <a:pt x="11972" y="1192"/>
                    </a:lnTo>
                    <a:lnTo>
                      <a:pt x="11959" y="1224"/>
                    </a:lnTo>
                    <a:lnTo>
                      <a:pt x="11944" y="1255"/>
                    </a:lnTo>
                    <a:lnTo>
                      <a:pt x="11927" y="1286"/>
                    </a:lnTo>
                    <a:lnTo>
                      <a:pt x="11910" y="1317"/>
                    </a:lnTo>
                    <a:lnTo>
                      <a:pt x="11891" y="1348"/>
                    </a:lnTo>
                    <a:lnTo>
                      <a:pt x="11872" y="1378"/>
                    </a:lnTo>
                    <a:lnTo>
                      <a:pt x="11851" y="1408"/>
                    </a:lnTo>
                    <a:lnTo>
                      <a:pt x="11828" y="1437"/>
                    </a:lnTo>
                    <a:lnTo>
                      <a:pt x="11806" y="1467"/>
                    </a:lnTo>
                    <a:lnTo>
                      <a:pt x="11782" y="1494"/>
                    </a:lnTo>
                    <a:lnTo>
                      <a:pt x="11757" y="1522"/>
                    </a:lnTo>
                    <a:lnTo>
                      <a:pt x="11733" y="1547"/>
                    </a:lnTo>
                    <a:lnTo>
                      <a:pt x="11708" y="1571"/>
                    </a:lnTo>
                    <a:lnTo>
                      <a:pt x="11683" y="1594"/>
                    </a:lnTo>
                    <a:lnTo>
                      <a:pt x="11657" y="1616"/>
                    </a:lnTo>
                    <a:lnTo>
                      <a:pt x="11631" y="1636"/>
                    </a:lnTo>
                    <a:lnTo>
                      <a:pt x="11606" y="1655"/>
                    </a:lnTo>
                    <a:lnTo>
                      <a:pt x="11579" y="1673"/>
                    </a:lnTo>
                    <a:lnTo>
                      <a:pt x="11553" y="1689"/>
                    </a:lnTo>
                    <a:lnTo>
                      <a:pt x="11528" y="1704"/>
                    </a:lnTo>
                    <a:lnTo>
                      <a:pt x="11501" y="1717"/>
                    </a:lnTo>
                    <a:lnTo>
                      <a:pt x="11475" y="1730"/>
                    </a:lnTo>
                    <a:lnTo>
                      <a:pt x="11449" y="1741"/>
                    </a:lnTo>
                    <a:lnTo>
                      <a:pt x="11423" y="1750"/>
                    </a:lnTo>
                    <a:lnTo>
                      <a:pt x="11397" y="1759"/>
                    </a:lnTo>
                    <a:lnTo>
                      <a:pt x="11372" y="1765"/>
                    </a:lnTo>
                    <a:lnTo>
                      <a:pt x="11348" y="1770"/>
                    </a:lnTo>
                    <a:lnTo>
                      <a:pt x="11322" y="1773"/>
                    </a:lnTo>
                    <a:lnTo>
                      <a:pt x="11299" y="1776"/>
                    </a:lnTo>
                    <a:lnTo>
                      <a:pt x="11274" y="1777"/>
                    </a:lnTo>
                    <a:lnTo>
                      <a:pt x="11251" y="1776"/>
                    </a:lnTo>
                    <a:lnTo>
                      <a:pt x="11229" y="1773"/>
                    </a:lnTo>
                    <a:lnTo>
                      <a:pt x="11207" y="1770"/>
                    </a:lnTo>
                    <a:lnTo>
                      <a:pt x="11184" y="1765"/>
                    </a:lnTo>
                    <a:lnTo>
                      <a:pt x="11163" y="1758"/>
                    </a:lnTo>
                    <a:lnTo>
                      <a:pt x="11143" y="1749"/>
                    </a:lnTo>
                    <a:lnTo>
                      <a:pt x="11124" y="1740"/>
                    </a:lnTo>
                    <a:lnTo>
                      <a:pt x="11106" y="1728"/>
                    </a:lnTo>
                    <a:lnTo>
                      <a:pt x="11088" y="1715"/>
                    </a:lnTo>
                    <a:lnTo>
                      <a:pt x="11071" y="1700"/>
                    </a:lnTo>
                    <a:lnTo>
                      <a:pt x="11055" y="1684"/>
                    </a:lnTo>
                    <a:lnTo>
                      <a:pt x="11040" y="1666"/>
                    </a:lnTo>
                    <a:lnTo>
                      <a:pt x="11028" y="1646"/>
                    </a:lnTo>
                    <a:lnTo>
                      <a:pt x="11015" y="1626"/>
                    </a:lnTo>
                    <a:lnTo>
                      <a:pt x="11004" y="1605"/>
                    </a:lnTo>
                    <a:lnTo>
                      <a:pt x="10995" y="1582"/>
                    </a:lnTo>
                    <a:lnTo>
                      <a:pt x="10987" y="1559"/>
                    </a:lnTo>
                    <a:lnTo>
                      <a:pt x="10980" y="1534"/>
                    </a:lnTo>
                    <a:lnTo>
                      <a:pt x="10975" y="1509"/>
                    </a:lnTo>
                    <a:lnTo>
                      <a:pt x="10971" y="1483"/>
                    </a:lnTo>
                    <a:lnTo>
                      <a:pt x="10968" y="1457"/>
                    </a:lnTo>
                    <a:lnTo>
                      <a:pt x="10966" y="1430"/>
                    </a:lnTo>
                    <a:lnTo>
                      <a:pt x="10966" y="1401"/>
                    </a:lnTo>
                    <a:lnTo>
                      <a:pt x="10967" y="1372"/>
                    </a:lnTo>
                    <a:lnTo>
                      <a:pt x="10969" y="1344"/>
                    </a:lnTo>
                    <a:lnTo>
                      <a:pt x="10973" y="1314"/>
                    </a:lnTo>
                    <a:lnTo>
                      <a:pt x="10977" y="1283"/>
                    </a:lnTo>
                    <a:lnTo>
                      <a:pt x="10983" y="1254"/>
                    </a:lnTo>
                    <a:lnTo>
                      <a:pt x="10990" y="1223"/>
                    </a:lnTo>
                    <a:lnTo>
                      <a:pt x="10998" y="1192"/>
                    </a:lnTo>
                    <a:lnTo>
                      <a:pt x="11008" y="1161"/>
                    </a:lnTo>
                    <a:lnTo>
                      <a:pt x="11018" y="1130"/>
                    </a:lnTo>
                    <a:lnTo>
                      <a:pt x="11030" y="1098"/>
                    </a:lnTo>
                    <a:lnTo>
                      <a:pt x="11043" y="1068"/>
                    </a:lnTo>
                    <a:lnTo>
                      <a:pt x="11057" y="1036"/>
                    </a:lnTo>
                    <a:lnTo>
                      <a:pt x="11072" y="1004"/>
                    </a:lnTo>
                    <a:lnTo>
                      <a:pt x="11088" y="973"/>
                    </a:lnTo>
                    <a:lnTo>
                      <a:pt x="11106" y="943"/>
                    </a:lnTo>
                    <a:lnTo>
                      <a:pt x="11125" y="912"/>
                    </a:lnTo>
                    <a:lnTo>
                      <a:pt x="11144" y="881"/>
                    </a:lnTo>
                    <a:lnTo>
                      <a:pt x="11165" y="852"/>
                    </a:lnTo>
                    <a:lnTo>
                      <a:pt x="11187" y="822"/>
                    </a:lnTo>
                    <a:lnTo>
                      <a:pt x="11210" y="794"/>
                    </a:lnTo>
                    <a:close/>
                    <a:moveTo>
                      <a:pt x="10108" y="1526"/>
                    </a:moveTo>
                    <a:lnTo>
                      <a:pt x="10099" y="1469"/>
                    </a:lnTo>
                    <a:lnTo>
                      <a:pt x="10095" y="1410"/>
                    </a:lnTo>
                    <a:lnTo>
                      <a:pt x="10094" y="1352"/>
                    </a:lnTo>
                    <a:lnTo>
                      <a:pt x="10096" y="1295"/>
                    </a:lnTo>
                    <a:lnTo>
                      <a:pt x="10102" y="1237"/>
                    </a:lnTo>
                    <a:lnTo>
                      <a:pt x="10112" y="1179"/>
                    </a:lnTo>
                    <a:lnTo>
                      <a:pt x="10124" y="1121"/>
                    </a:lnTo>
                    <a:lnTo>
                      <a:pt x="10141" y="1063"/>
                    </a:lnTo>
                    <a:lnTo>
                      <a:pt x="10160" y="1006"/>
                    </a:lnTo>
                    <a:lnTo>
                      <a:pt x="10184" y="950"/>
                    </a:lnTo>
                    <a:lnTo>
                      <a:pt x="10209" y="894"/>
                    </a:lnTo>
                    <a:lnTo>
                      <a:pt x="10238" y="839"/>
                    </a:lnTo>
                    <a:lnTo>
                      <a:pt x="10268" y="785"/>
                    </a:lnTo>
                    <a:lnTo>
                      <a:pt x="10302" y="732"/>
                    </a:lnTo>
                    <a:lnTo>
                      <a:pt x="10339" y="679"/>
                    </a:lnTo>
                    <a:lnTo>
                      <a:pt x="10378" y="628"/>
                    </a:lnTo>
                    <a:lnTo>
                      <a:pt x="10420" y="578"/>
                    </a:lnTo>
                    <a:lnTo>
                      <a:pt x="10463" y="529"/>
                    </a:lnTo>
                    <a:lnTo>
                      <a:pt x="10509" y="482"/>
                    </a:lnTo>
                    <a:lnTo>
                      <a:pt x="10558" y="437"/>
                    </a:lnTo>
                    <a:lnTo>
                      <a:pt x="10607" y="392"/>
                    </a:lnTo>
                    <a:lnTo>
                      <a:pt x="10659" y="350"/>
                    </a:lnTo>
                    <a:lnTo>
                      <a:pt x="10713" y="310"/>
                    </a:lnTo>
                    <a:lnTo>
                      <a:pt x="10768" y="271"/>
                    </a:lnTo>
                    <a:lnTo>
                      <a:pt x="10825" y="235"/>
                    </a:lnTo>
                    <a:lnTo>
                      <a:pt x="10885" y="200"/>
                    </a:lnTo>
                    <a:lnTo>
                      <a:pt x="10945" y="167"/>
                    </a:lnTo>
                    <a:lnTo>
                      <a:pt x="11007" y="137"/>
                    </a:lnTo>
                    <a:lnTo>
                      <a:pt x="11069" y="110"/>
                    </a:lnTo>
                    <a:lnTo>
                      <a:pt x="11133" y="86"/>
                    </a:lnTo>
                    <a:lnTo>
                      <a:pt x="11198" y="62"/>
                    </a:lnTo>
                    <a:lnTo>
                      <a:pt x="11264" y="43"/>
                    </a:lnTo>
                    <a:lnTo>
                      <a:pt x="11341" y="29"/>
                    </a:lnTo>
                    <a:lnTo>
                      <a:pt x="11416" y="18"/>
                    </a:lnTo>
                    <a:lnTo>
                      <a:pt x="11492" y="9"/>
                    </a:lnTo>
                    <a:lnTo>
                      <a:pt x="11566" y="3"/>
                    </a:lnTo>
                    <a:lnTo>
                      <a:pt x="11639" y="0"/>
                    </a:lnTo>
                    <a:lnTo>
                      <a:pt x="11711" y="0"/>
                    </a:lnTo>
                    <a:lnTo>
                      <a:pt x="11781" y="2"/>
                    </a:lnTo>
                    <a:lnTo>
                      <a:pt x="11851" y="6"/>
                    </a:lnTo>
                    <a:lnTo>
                      <a:pt x="11918" y="14"/>
                    </a:lnTo>
                    <a:lnTo>
                      <a:pt x="11984" y="23"/>
                    </a:lnTo>
                    <a:lnTo>
                      <a:pt x="12049" y="36"/>
                    </a:lnTo>
                    <a:lnTo>
                      <a:pt x="12112" y="51"/>
                    </a:lnTo>
                    <a:lnTo>
                      <a:pt x="12173" y="68"/>
                    </a:lnTo>
                    <a:lnTo>
                      <a:pt x="12233" y="88"/>
                    </a:lnTo>
                    <a:lnTo>
                      <a:pt x="12290" y="110"/>
                    </a:lnTo>
                    <a:lnTo>
                      <a:pt x="12346" y="134"/>
                    </a:lnTo>
                    <a:lnTo>
                      <a:pt x="12400" y="162"/>
                    </a:lnTo>
                    <a:lnTo>
                      <a:pt x="12451" y="190"/>
                    </a:lnTo>
                    <a:lnTo>
                      <a:pt x="12501" y="222"/>
                    </a:lnTo>
                    <a:lnTo>
                      <a:pt x="12547" y="256"/>
                    </a:lnTo>
                    <a:lnTo>
                      <a:pt x="12592" y="292"/>
                    </a:lnTo>
                    <a:lnTo>
                      <a:pt x="12634" y="330"/>
                    </a:lnTo>
                    <a:lnTo>
                      <a:pt x="12674" y="370"/>
                    </a:lnTo>
                    <a:lnTo>
                      <a:pt x="12711" y="413"/>
                    </a:lnTo>
                    <a:lnTo>
                      <a:pt x="12746" y="457"/>
                    </a:lnTo>
                    <a:lnTo>
                      <a:pt x="12777" y="504"/>
                    </a:lnTo>
                    <a:lnTo>
                      <a:pt x="12807" y="552"/>
                    </a:lnTo>
                    <a:lnTo>
                      <a:pt x="12832" y="602"/>
                    </a:lnTo>
                    <a:lnTo>
                      <a:pt x="12855" y="655"/>
                    </a:lnTo>
                    <a:lnTo>
                      <a:pt x="12876" y="710"/>
                    </a:lnTo>
                    <a:lnTo>
                      <a:pt x="12893" y="766"/>
                    </a:lnTo>
                    <a:lnTo>
                      <a:pt x="12905" y="824"/>
                    </a:lnTo>
                    <a:lnTo>
                      <a:pt x="12913" y="882"/>
                    </a:lnTo>
                    <a:lnTo>
                      <a:pt x="12916" y="940"/>
                    </a:lnTo>
                    <a:lnTo>
                      <a:pt x="12916" y="998"/>
                    </a:lnTo>
                    <a:lnTo>
                      <a:pt x="12913" y="1056"/>
                    </a:lnTo>
                    <a:lnTo>
                      <a:pt x="12906" y="1114"/>
                    </a:lnTo>
                    <a:lnTo>
                      <a:pt x="12897" y="1171"/>
                    </a:lnTo>
                    <a:lnTo>
                      <a:pt x="12885" y="1228"/>
                    </a:lnTo>
                    <a:lnTo>
                      <a:pt x="12869" y="1285"/>
                    </a:lnTo>
                    <a:lnTo>
                      <a:pt x="12851" y="1341"/>
                    </a:lnTo>
                    <a:lnTo>
                      <a:pt x="12830" y="1397"/>
                    </a:lnTo>
                    <a:lnTo>
                      <a:pt x="12806" y="1451"/>
                    </a:lnTo>
                    <a:lnTo>
                      <a:pt x="12779" y="1505"/>
                    </a:lnTo>
                    <a:lnTo>
                      <a:pt x="12750" y="1558"/>
                    </a:lnTo>
                    <a:lnTo>
                      <a:pt x="12717" y="1609"/>
                    </a:lnTo>
                    <a:lnTo>
                      <a:pt x="12682" y="1660"/>
                    </a:lnTo>
                    <a:lnTo>
                      <a:pt x="12644" y="1710"/>
                    </a:lnTo>
                    <a:lnTo>
                      <a:pt x="12603" y="1759"/>
                    </a:lnTo>
                    <a:lnTo>
                      <a:pt x="12561" y="1806"/>
                    </a:lnTo>
                    <a:lnTo>
                      <a:pt x="12516" y="1852"/>
                    </a:lnTo>
                    <a:lnTo>
                      <a:pt x="12468" y="1895"/>
                    </a:lnTo>
                    <a:lnTo>
                      <a:pt x="12417" y="1939"/>
                    </a:lnTo>
                    <a:lnTo>
                      <a:pt x="12365" y="1979"/>
                    </a:lnTo>
                    <a:lnTo>
                      <a:pt x="12310" y="2018"/>
                    </a:lnTo>
                    <a:lnTo>
                      <a:pt x="12253" y="2055"/>
                    </a:lnTo>
                    <a:lnTo>
                      <a:pt x="12194" y="2090"/>
                    </a:lnTo>
                    <a:lnTo>
                      <a:pt x="12131" y="2123"/>
                    </a:lnTo>
                    <a:lnTo>
                      <a:pt x="12068" y="2154"/>
                    </a:lnTo>
                    <a:lnTo>
                      <a:pt x="12002" y="2183"/>
                    </a:lnTo>
                    <a:lnTo>
                      <a:pt x="11934" y="2208"/>
                    </a:lnTo>
                    <a:lnTo>
                      <a:pt x="11864" y="2233"/>
                    </a:lnTo>
                    <a:lnTo>
                      <a:pt x="11792" y="2254"/>
                    </a:lnTo>
                    <a:lnTo>
                      <a:pt x="11718" y="2273"/>
                    </a:lnTo>
                    <a:lnTo>
                      <a:pt x="11647" y="2285"/>
                    </a:lnTo>
                    <a:lnTo>
                      <a:pt x="11577" y="2294"/>
                    </a:lnTo>
                    <a:lnTo>
                      <a:pt x="11507" y="2302"/>
                    </a:lnTo>
                    <a:lnTo>
                      <a:pt x="11438" y="2307"/>
                    </a:lnTo>
                    <a:lnTo>
                      <a:pt x="11369" y="2309"/>
                    </a:lnTo>
                    <a:lnTo>
                      <a:pt x="11301" y="2309"/>
                    </a:lnTo>
                    <a:lnTo>
                      <a:pt x="11233" y="2307"/>
                    </a:lnTo>
                    <a:lnTo>
                      <a:pt x="11166" y="2303"/>
                    </a:lnTo>
                    <a:lnTo>
                      <a:pt x="11102" y="2296"/>
                    </a:lnTo>
                    <a:lnTo>
                      <a:pt x="11037" y="2287"/>
                    </a:lnTo>
                    <a:lnTo>
                      <a:pt x="10974" y="2275"/>
                    </a:lnTo>
                    <a:lnTo>
                      <a:pt x="10911" y="2261"/>
                    </a:lnTo>
                    <a:lnTo>
                      <a:pt x="10851" y="2245"/>
                    </a:lnTo>
                    <a:lnTo>
                      <a:pt x="10793" y="2227"/>
                    </a:lnTo>
                    <a:lnTo>
                      <a:pt x="10734" y="2207"/>
                    </a:lnTo>
                    <a:lnTo>
                      <a:pt x="10679" y="2184"/>
                    </a:lnTo>
                    <a:lnTo>
                      <a:pt x="10625" y="2159"/>
                    </a:lnTo>
                    <a:lnTo>
                      <a:pt x="10573" y="2132"/>
                    </a:lnTo>
                    <a:lnTo>
                      <a:pt x="10524" y="2103"/>
                    </a:lnTo>
                    <a:lnTo>
                      <a:pt x="10476" y="2071"/>
                    </a:lnTo>
                    <a:lnTo>
                      <a:pt x="10430" y="2037"/>
                    </a:lnTo>
                    <a:lnTo>
                      <a:pt x="10387" y="2001"/>
                    </a:lnTo>
                    <a:lnTo>
                      <a:pt x="10346" y="1963"/>
                    </a:lnTo>
                    <a:lnTo>
                      <a:pt x="10308" y="1923"/>
                    </a:lnTo>
                    <a:lnTo>
                      <a:pt x="10273" y="1881"/>
                    </a:lnTo>
                    <a:lnTo>
                      <a:pt x="10240" y="1837"/>
                    </a:lnTo>
                    <a:lnTo>
                      <a:pt x="10210" y="1790"/>
                    </a:lnTo>
                    <a:lnTo>
                      <a:pt x="10184" y="1742"/>
                    </a:lnTo>
                    <a:lnTo>
                      <a:pt x="10159" y="1691"/>
                    </a:lnTo>
                    <a:lnTo>
                      <a:pt x="10139" y="1638"/>
                    </a:lnTo>
                    <a:lnTo>
                      <a:pt x="10121" y="1583"/>
                    </a:lnTo>
                    <a:lnTo>
                      <a:pt x="10108" y="1526"/>
                    </a:lnTo>
                    <a:close/>
                    <a:moveTo>
                      <a:pt x="13619" y="88"/>
                    </a:moveTo>
                    <a:lnTo>
                      <a:pt x="13044" y="2219"/>
                    </a:lnTo>
                    <a:lnTo>
                      <a:pt x="14723" y="2219"/>
                    </a:lnTo>
                    <a:lnTo>
                      <a:pt x="14824" y="1834"/>
                    </a:lnTo>
                    <a:lnTo>
                      <a:pt x="14113" y="1834"/>
                    </a:lnTo>
                    <a:lnTo>
                      <a:pt x="14585" y="88"/>
                    </a:lnTo>
                    <a:lnTo>
                      <a:pt x="13619" y="88"/>
                    </a:lnTo>
                    <a:close/>
                    <a:moveTo>
                      <a:pt x="6908" y="469"/>
                    </a:moveTo>
                    <a:lnTo>
                      <a:pt x="6796" y="469"/>
                    </a:lnTo>
                    <a:lnTo>
                      <a:pt x="6618" y="1123"/>
                    </a:lnTo>
                    <a:lnTo>
                      <a:pt x="6630" y="1123"/>
                    </a:lnTo>
                    <a:lnTo>
                      <a:pt x="6661" y="1123"/>
                    </a:lnTo>
                    <a:lnTo>
                      <a:pt x="6704" y="1123"/>
                    </a:lnTo>
                    <a:lnTo>
                      <a:pt x="6754" y="1123"/>
                    </a:lnTo>
                    <a:lnTo>
                      <a:pt x="6804" y="1123"/>
                    </a:lnTo>
                    <a:lnTo>
                      <a:pt x="6847" y="1123"/>
                    </a:lnTo>
                    <a:lnTo>
                      <a:pt x="6878" y="1123"/>
                    </a:lnTo>
                    <a:lnTo>
                      <a:pt x="6888" y="1123"/>
                    </a:lnTo>
                    <a:lnTo>
                      <a:pt x="6929" y="1119"/>
                    </a:lnTo>
                    <a:lnTo>
                      <a:pt x="6966" y="1114"/>
                    </a:lnTo>
                    <a:lnTo>
                      <a:pt x="7000" y="1107"/>
                    </a:lnTo>
                    <a:lnTo>
                      <a:pt x="7031" y="1099"/>
                    </a:lnTo>
                    <a:lnTo>
                      <a:pt x="7061" y="1090"/>
                    </a:lnTo>
                    <a:lnTo>
                      <a:pt x="7087" y="1079"/>
                    </a:lnTo>
                    <a:lnTo>
                      <a:pt x="7113" y="1068"/>
                    </a:lnTo>
                    <a:lnTo>
                      <a:pt x="7135" y="1055"/>
                    </a:lnTo>
                    <a:lnTo>
                      <a:pt x="7156" y="1041"/>
                    </a:lnTo>
                    <a:lnTo>
                      <a:pt x="7175" y="1027"/>
                    </a:lnTo>
                    <a:lnTo>
                      <a:pt x="7191" y="1013"/>
                    </a:lnTo>
                    <a:lnTo>
                      <a:pt x="7207" y="998"/>
                    </a:lnTo>
                    <a:lnTo>
                      <a:pt x="7220" y="982"/>
                    </a:lnTo>
                    <a:lnTo>
                      <a:pt x="7233" y="967"/>
                    </a:lnTo>
                    <a:lnTo>
                      <a:pt x="7243" y="951"/>
                    </a:lnTo>
                    <a:lnTo>
                      <a:pt x="7252" y="935"/>
                    </a:lnTo>
                    <a:lnTo>
                      <a:pt x="7259" y="919"/>
                    </a:lnTo>
                    <a:lnTo>
                      <a:pt x="7266" y="904"/>
                    </a:lnTo>
                    <a:lnTo>
                      <a:pt x="7272" y="889"/>
                    </a:lnTo>
                    <a:lnTo>
                      <a:pt x="7276" y="874"/>
                    </a:lnTo>
                    <a:lnTo>
                      <a:pt x="7280" y="860"/>
                    </a:lnTo>
                    <a:lnTo>
                      <a:pt x="7282" y="846"/>
                    </a:lnTo>
                    <a:lnTo>
                      <a:pt x="7284" y="834"/>
                    </a:lnTo>
                    <a:lnTo>
                      <a:pt x="7287" y="821"/>
                    </a:lnTo>
                    <a:lnTo>
                      <a:pt x="7288" y="785"/>
                    </a:lnTo>
                    <a:lnTo>
                      <a:pt x="7287" y="770"/>
                    </a:lnTo>
                    <a:lnTo>
                      <a:pt x="7285" y="742"/>
                    </a:lnTo>
                    <a:lnTo>
                      <a:pt x="7283" y="714"/>
                    </a:lnTo>
                    <a:lnTo>
                      <a:pt x="7278" y="689"/>
                    </a:lnTo>
                    <a:lnTo>
                      <a:pt x="7272" y="665"/>
                    </a:lnTo>
                    <a:lnTo>
                      <a:pt x="7263" y="643"/>
                    </a:lnTo>
                    <a:lnTo>
                      <a:pt x="7253" y="623"/>
                    </a:lnTo>
                    <a:lnTo>
                      <a:pt x="7241" y="605"/>
                    </a:lnTo>
                    <a:lnTo>
                      <a:pt x="7228" y="588"/>
                    </a:lnTo>
                    <a:lnTo>
                      <a:pt x="7215" y="572"/>
                    </a:lnTo>
                    <a:lnTo>
                      <a:pt x="7200" y="558"/>
                    </a:lnTo>
                    <a:lnTo>
                      <a:pt x="7185" y="545"/>
                    </a:lnTo>
                    <a:lnTo>
                      <a:pt x="7168" y="533"/>
                    </a:lnTo>
                    <a:lnTo>
                      <a:pt x="7151" y="524"/>
                    </a:lnTo>
                    <a:lnTo>
                      <a:pt x="7134" y="514"/>
                    </a:lnTo>
                    <a:lnTo>
                      <a:pt x="7116" y="506"/>
                    </a:lnTo>
                    <a:lnTo>
                      <a:pt x="7098" y="499"/>
                    </a:lnTo>
                    <a:lnTo>
                      <a:pt x="7081" y="493"/>
                    </a:lnTo>
                    <a:lnTo>
                      <a:pt x="7063" y="488"/>
                    </a:lnTo>
                    <a:lnTo>
                      <a:pt x="7046" y="483"/>
                    </a:lnTo>
                    <a:lnTo>
                      <a:pt x="7029" y="479"/>
                    </a:lnTo>
                    <a:lnTo>
                      <a:pt x="6996" y="474"/>
                    </a:lnTo>
                    <a:lnTo>
                      <a:pt x="6968" y="471"/>
                    </a:lnTo>
                    <a:lnTo>
                      <a:pt x="6924" y="469"/>
                    </a:lnTo>
                    <a:lnTo>
                      <a:pt x="6908" y="469"/>
                    </a:lnTo>
                    <a:close/>
                    <a:moveTo>
                      <a:pt x="5950" y="88"/>
                    </a:moveTo>
                    <a:lnTo>
                      <a:pt x="5376" y="2219"/>
                    </a:lnTo>
                    <a:lnTo>
                      <a:pt x="6324" y="2219"/>
                    </a:lnTo>
                    <a:lnTo>
                      <a:pt x="6331" y="2190"/>
                    </a:lnTo>
                    <a:lnTo>
                      <a:pt x="6351" y="2115"/>
                    </a:lnTo>
                    <a:lnTo>
                      <a:pt x="6380" y="2009"/>
                    </a:lnTo>
                    <a:lnTo>
                      <a:pt x="6412" y="1888"/>
                    </a:lnTo>
                    <a:lnTo>
                      <a:pt x="6444" y="1766"/>
                    </a:lnTo>
                    <a:lnTo>
                      <a:pt x="6472" y="1660"/>
                    </a:lnTo>
                    <a:lnTo>
                      <a:pt x="6491" y="1585"/>
                    </a:lnTo>
                    <a:lnTo>
                      <a:pt x="6500" y="1557"/>
                    </a:lnTo>
                    <a:lnTo>
                      <a:pt x="6788" y="1541"/>
                    </a:lnTo>
                    <a:lnTo>
                      <a:pt x="7014" y="1526"/>
                    </a:lnTo>
                    <a:lnTo>
                      <a:pt x="7188" y="1514"/>
                    </a:lnTo>
                    <a:lnTo>
                      <a:pt x="7313" y="1504"/>
                    </a:lnTo>
                    <a:lnTo>
                      <a:pt x="7399" y="1495"/>
                    </a:lnTo>
                    <a:lnTo>
                      <a:pt x="7451" y="1489"/>
                    </a:lnTo>
                    <a:lnTo>
                      <a:pt x="7477" y="1486"/>
                    </a:lnTo>
                    <a:lnTo>
                      <a:pt x="7483" y="1483"/>
                    </a:lnTo>
                    <a:lnTo>
                      <a:pt x="7566" y="1469"/>
                    </a:lnTo>
                    <a:lnTo>
                      <a:pt x="7643" y="1451"/>
                    </a:lnTo>
                    <a:lnTo>
                      <a:pt x="7713" y="1430"/>
                    </a:lnTo>
                    <a:lnTo>
                      <a:pt x="7778" y="1406"/>
                    </a:lnTo>
                    <a:lnTo>
                      <a:pt x="7837" y="1380"/>
                    </a:lnTo>
                    <a:lnTo>
                      <a:pt x="7891" y="1351"/>
                    </a:lnTo>
                    <a:lnTo>
                      <a:pt x="7940" y="1321"/>
                    </a:lnTo>
                    <a:lnTo>
                      <a:pt x="7983" y="1289"/>
                    </a:lnTo>
                    <a:lnTo>
                      <a:pt x="8022" y="1255"/>
                    </a:lnTo>
                    <a:lnTo>
                      <a:pt x="8057" y="1220"/>
                    </a:lnTo>
                    <a:lnTo>
                      <a:pt x="8088" y="1184"/>
                    </a:lnTo>
                    <a:lnTo>
                      <a:pt x="8115" y="1147"/>
                    </a:lnTo>
                    <a:lnTo>
                      <a:pt x="8138" y="1110"/>
                    </a:lnTo>
                    <a:lnTo>
                      <a:pt x="8158" y="1072"/>
                    </a:lnTo>
                    <a:lnTo>
                      <a:pt x="8175" y="1034"/>
                    </a:lnTo>
                    <a:lnTo>
                      <a:pt x="8189" y="997"/>
                    </a:lnTo>
                    <a:lnTo>
                      <a:pt x="8199" y="960"/>
                    </a:lnTo>
                    <a:lnTo>
                      <a:pt x="8208" y="923"/>
                    </a:lnTo>
                    <a:lnTo>
                      <a:pt x="8214" y="888"/>
                    </a:lnTo>
                    <a:lnTo>
                      <a:pt x="8219" y="853"/>
                    </a:lnTo>
                    <a:lnTo>
                      <a:pt x="8222" y="820"/>
                    </a:lnTo>
                    <a:lnTo>
                      <a:pt x="8223" y="788"/>
                    </a:lnTo>
                    <a:lnTo>
                      <a:pt x="8223" y="759"/>
                    </a:lnTo>
                    <a:lnTo>
                      <a:pt x="8222" y="731"/>
                    </a:lnTo>
                    <a:lnTo>
                      <a:pt x="8220" y="706"/>
                    </a:lnTo>
                    <a:lnTo>
                      <a:pt x="8217" y="683"/>
                    </a:lnTo>
                    <a:lnTo>
                      <a:pt x="8215" y="663"/>
                    </a:lnTo>
                    <a:lnTo>
                      <a:pt x="8212" y="646"/>
                    </a:lnTo>
                    <a:lnTo>
                      <a:pt x="8208" y="623"/>
                    </a:lnTo>
                    <a:lnTo>
                      <a:pt x="8206" y="616"/>
                    </a:lnTo>
                    <a:lnTo>
                      <a:pt x="8195" y="565"/>
                    </a:lnTo>
                    <a:lnTo>
                      <a:pt x="8180" y="518"/>
                    </a:lnTo>
                    <a:lnTo>
                      <a:pt x="8162" y="475"/>
                    </a:lnTo>
                    <a:lnTo>
                      <a:pt x="8140" y="434"/>
                    </a:lnTo>
                    <a:lnTo>
                      <a:pt x="8116" y="397"/>
                    </a:lnTo>
                    <a:lnTo>
                      <a:pt x="8088" y="362"/>
                    </a:lnTo>
                    <a:lnTo>
                      <a:pt x="8058" y="329"/>
                    </a:lnTo>
                    <a:lnTo>
                      <a:pt x="8027" y="300"/>
                    </a:lnTo>
                    <a:lnTo>
                      <a:pt x="7993" y="273"/>
                    </a:lnTo>
                    <a:lnTo>
                      <a:pt x="7958" y="249"/>
                    </a:lnTo>
                    <a:lnTo>
                      <a:pt x="7921" y="226"/>
                    </a:lnTo>
                    <a:lnTo>
                      <a:pt x="7884" y="206"/>
                    </a:lnTo>
                    <a:lnTo>
                      <a:pt x="7845" y="187"/>
                    </a:lnTo>
                    <a:lnTo>
                      <a:pt x="7805" y="171"/>
                    </a:lnTo>
                    <a:lnTo>
                      <a:pt x="7766" y="158"/>
                    </a:lnTo>
                    <a:lnTo>
                      <a:pt x="7727" y="145"/>
                    </a:lnTo>
                    <a:lnTo>
                      <a:pt x="7688" y="133"/>
                    </a:lnTo>
                    <a:lnTo>
                      <a:pt x="7650" y="124"/>
                    </a:lnTo>
                    <a:lnTo>
                      <a:pt x="7612" y="116"/>
                    </a:lnTo>
                    <a:lnTo>
                      <a:pt x="7575" y="109"/>
                    </a:lnTo>
                    <a:lnTo>
                      <a:pt x="7540" y="104"/>
                    </a:lnTo>
                    <a:lnTo>
                      <a:pt x="7506" y="99"/>
                    </a:lnTo>
                    <a:lnTo>
                      <a:pt x="7475" y="95"/>
                    </a:lnTo>
                    <a:lnTo>
                      <a:pt x="7445" y="93"/>
                    </a:lnTo>
                    <a:lnTo>
                      <a:pt x="7393" y="90"/>
                    </a:lnTo>
                    <a:lnTo>
                      <a:pt x="7354" y="88"/>
                    </a:lnTo>
                    <a:lnTo>
                      <a:pt x="7329" y="88"/>
                    </a:lnTo>
                    <a:lnTo>
                      <a:pt x="7320" y="88"/>
                    </a:lnTo>
                    <a:lnTo>
                      <a:pt x="595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969840" y="623880"/>
                <a:ext cx="742680" cy="166680"/>
              </a:xfrm>
              <a:custGeom>
                <a:avLst/>
                <a:gdLst/>
                <a:ahLst/>
                <a:rect l="l" t="t" r="r" b="b"/>
                <a:pathLst>
                  <a:path w="8525" h="2129">
                    <a:moveTo>
                      <a:pt x="4308" y="975"/>
                    </a:moveTo>
                    <a:lnTo>
                      <a:pt x="4308" y="398"/>
                    </a:lnTo>
                    <a:lnTo>
                      <a:pt x="4325" y="398"/>
                    </a:lnTo>
                    <a:lnTo>
                      <a:pt x="4370" y="398"/>
                    </a:lnTo>
                    <a:lnTo>
                      <a:pt x="4432" y="398"/>
                    </a:lnTo>
                    <a:lnTo>
                      <a:pt x="4504" y="398"/>
                    </a:lnTo>
                    <a:lnTo>
                      <a:pt x="4576" y="398"/>
                    </a:lnTo>
                    <a:lnTo>
                      <a:pt x="4639" y="398"/>
                    </a:lnTo>
                    <a:lnTo>
                      <a:pt x="4683" y="398"/>
                    </a:lnTo>
                    <a:lnTo>
                      <a:pt x="4700" y="398"/>
                    </a:lnTo>
                    <a:lnTo>
                      <a:pt x="4727" y="398"/>
                    </a:lnTo>
                    <a:lnTo>
                      <a:pt x="4754" y="399"/>
                    </a:lnTo>
                    <a:lnTo>
                      <a:pt x="4779" y="401"/>
                    </a:lnTo>
                    <a:lnTo>
                      <a:pt x="4804" y="402"/>
                    </a:lnTo>
                    <a:lnTo>
                      <a:pt x="4827" y="405"/>
                    </a:lnTo>
                    <a:lnTo>
                      <a:pt x="4849" y="408"/>
                    </a:lnTo>
                    <a:lnTo>
                      <a:pt x="4872" y="411"/>
                    </a:lnTo>
                    <a:lnTo>
                      <a:pt x="4892" y="416"/>
                    </a:lnTo>
                    <a:lnTo>
                      <a:pt x="4912" y="421"/>
                    </a:lnTo>
                    <a:lnTo>
                      <a:pt x="4930" y="426"/>
                    </a:lnTo>
                    <a:lnTo>
                      <a:pt x="4948" y="432"/>
                    </a:lnTo>
                    <a:lnTo>
                      <a:pt x="4965" y="439"/>
                    </a:lnTo>
                    <a:lnTo>
                      <a:pt x="4981" y="445"/>
                    </a:lnTo>
                    <a:lnTo>
                      <a:pt x="4995" y="453"/>
                    </a:lnTo>
                    <a:lnTo>
                      <a:pt x="5009" y="461"/>
                    </a:lnTo>
                    <a:lnTo>
                      <a:pt x="5022" y="469"/>
                    </a:lnTo>
                    <a:lnTo>
                      <a:pt x="5035" y="479"/>
                    </a:lnTo>
                    <a:lnTo>
                      <a:pt x="5046" y="489"/>
                    </a:lnTo>
                    <a:lnTo>
                      <a:pt x="5057" y="499"/>
                    </a:lnTo>
                    <a:lnTo>
                      <a:pt x="5066" y="510"/>
                    </a:lnTo>
                    <a:lnTo>
                      <a:pt x="5075" y="521"/>
                    </a:lnTo>
                    <a:lnTo>
                      <a:pt x="5083" y="533"/>
                    </a:lnTo>
                    <a:lnTo>
                      <a:pt x="5091" y="546"/>
                    </a:lnTo>
                    <a:lnTo>
                      <a:pt x="5097" y="558"/>
                    </a:lnTo>
                    <a:lnTo>
                      <a:pt x="5102" y="571"/>
                    </a:lnTo>
                    <a:lnTo>
                      <a:pt x="5108" y="586"/>
                    </a:lnTo>
                    <a:lnTo>
                      <a:pt x="5111" y="600"/>
                    </a:lnTo>
                    <a:lnTo>
                      <a:pt x="5115" y="614"/>
                    </a:lnTo>
                    <a:lnTo>
                      <a:pt x="5117" y="630"/>
                    </a:lnTo>
                    <a:lnTo>
                      <a:pt x="5119" y="646"/>
                    </a:lnTo>
                    <a:lnTo>
                      <a:pt x="5120" y="662"/>
                    </a:lnTo>
                    <a:lnTo>
                      <a:pt x="5120" y="679"/>
                    </a:lnTo>
                    <a:lnTo>
                      <a:pt x="5120" y="696"/>
                    </a:lnTo>
                    <a:lnTo>
                      <a:pt x="5118" y="713"/>
                    </a:lnTo>
                    <a:lnTo>
                      <a:pt x="5116" y="729"/>
                    </a:lnTo>
                    <a:lnTo>
                      <a:pt x="5113" y="745"/>
                    </a:lnTo>
                    <a:lnTo>
                      <a:pt x="5109" y="761"/>
                    </a:lnTo>
                    <a:lnTo>
                      <a:pt x="5103" y="775"/>
                    </a:lnTo>
                    <a:lnTo>
                      <a:pt x="5097" y="789"/>
                    </a:lnTo>
                    <a:lnTo>
                      <a:pt x="5090" y="803"/>
                    </a:lnTo>
                    <a:lnTo>
                      <a:pt x="5081" y="817"/>
                    </a:lnTo>
                    <a:lnTo>
                      <a:pt x="5072" y="829"/>
                    </a:lnTo>
                    <a:lnTo>
                      <a:pt x="5062" y="842"/>
                    </a:lnTo>
                    <a:lnTo>
                      <a:pt x="5050" y="854"/>
                    </a:lnTo>
                    <a:lnTo>
                      <a:pt x="5039" y="865"/>
                    </a:lnTo>
                    <a:lnTo>
                      <a:pt x="5026" y="876"/>
                    </a:lnTo>
                    <a:lnTo>
                      <a:pt x="5011" y="886"/>
                    </a:lnTo>
                    <a:lnTo>
                      <a:pt x="4996" y="896"/>
                    </a:lnTo>
                    <a:lnTo>
                      <a:pt x="4981" y="905"/>
                    </a:lnTo>
                    <a:lnTo>
                      <a:pt x="4965" y="914"/>
                    </a:lnTo>
                    <a:lnTo>
                      <a:pt x="4947" y="922"/>
                    </a:lnTo>
                    <a:lnTo>
                      <a:pt x="4928" y="930"/>
                    </a:lnTo>
                    <a:lnTo>
                      <a:pt x="4909" y="937"/>
                    </a:lnTo>
                    <a:lnTo>
                      <a:pt x="4887" y="944"/>
                    </a:lnTo>
                    <a:lnTo>
                      <a:pt x="4866" y="950"/>
                    </a:lnTo>
                    <a:lnTo>
                      <a:pt x="4844" y="955"/>
                    </a:lnTo>
                    <a:lnTo>
                      <a:pt x="4821" y="959"/>
                    </a:lnTo>
                    <a:lnTo>
                      <a:pt x="4796" y="964"/>
                    </a:lnTo>
                    <a:lnTo>
                      <a:pt x="4771" y="968"/>
                    </a:lnTo>
                    <a:lnTo>
                      <a:pt x="4745" y="970"/>
                    </a:lnTo>
                    <a:lnTo>
                      <a:pt x="4718" y="972"/>
                    </a:lnTo>
                    <a:lnTo>
                      <a:pt x="4690" y="974"/>
                    </a:lnTo>
                    <a:lnTo>
                      <a:pt x="4662" y="975"/>
                    </a:lnTo>
                    <a:lnTo>
                      <a:pt x="4632" y="975"/>
                    </a:lnTo>
                    <a:lnTo>
                      <a:pt x="4618" y="975"/>
                    </a:lnTo>
                    <a:lnTo>
                      <a:pt x="4581" y="975"/>
                    </a:lnTo>
                    <a:lnTo>
                      <a:pt x="4529" y="975"/>
                    </a:lnTo>
                    <a:lnTo>
                      <a:pt x="4470" y="975"/>
                    </a:lnTo>
                    <a:lnTo>
                      <a:pt x="4411" y="975"/>
                    </a:lnTo>
                    <a:lnTo>
                      <a:pt x="4359" y="975"/>
                    </a:lnTo>
                    <a:lnTo>
                      <a:pt x="4322" y="975"/>
                    </a:lnTo>
                    <a:lnTo>
                      <a:pt x="4308" y="975"/>
                    </a:lnTo>
                    <a:close/>
                    <a:moveTo>
                      <a:pt x="3411" y="2129"/>
                    </a:moveTo>
                    <a:lnTo>
                      <a:pt x="4384" y="2129"/>
                    </a:lnTo>
                    <a:lnTo>
                      <a:pt x="4381" y="2124"/>
                    </a:lnTo>
                    <a:lnTo>
                      <a:pt x="4372" y="2110"/>
                    </a:lnTo>
                    <a:lnTo>
                      <a:pt x="4366" y="2099"/>
                    </a:lnTo>
                    <a:lnTo>
                      <a:pt x="4360" y="2087"/>
                    </a:lnTo>
                    <a:lnTo>
                      <a:pt x="4353" y="2072"/>
                    </a:lnTo>
                    <a:lnTo>
                      <a:pt x="4346" y="2054"/>
                    </a:lnTo>
                    <a:lnTo>
                      <a:pt x="4339" y="2035"/>
                    </a:lnTo>
                    <a:lnTo>
                      <a:pt x="4331" y="2012"/>
                    </a:lnTo>
                    <a:lnTo>
                      <a:pt x="4325" y="1989"/>
                    </a:lnTo>
                    <a:lnTo>
                      <a:pt x="4320" y="1963"/>
                    </a:lnTo>
                    <a:lnTo>
                      <a:pt x="4315" y="1935"/>
                    </a:lnTo>
                    <a:lnTo>
                      <a:pt x="4311" y="1904"/>
                    </a:lnTo>
                    <a:lnTo>
                      <a:pt x="4308" y="1873"/>
                    </a:lnTo>
                    <a:lnTo>
                      <a:pt x="4308" y="1838"/>
                    </a:lnTo>
                    <a:lnTo>
                      <a:pt x="4308" y="1818"/>
                    </a:lnTo>
                    <a:lnTo>
                      <a:pt x="4308" y="1765"/>
                    </a:lnTo>
                    <a:lnTo>
                      <a:pt x="4308" y="1690"/>
                    </a:lnTo>
                    <a:lnTo>
                      <a:pt x="4308" y="1604"/>
                    </a:lnTo>
                    <a:lnTo>
                      <a:pt x="4308" y="1518"/>
                    </a:lnTo>
                    <a:lnTo>
                      <a:pt x="4308" y="1443"/>
                    </a:lnTo>
                    <a:lnTo>
                      <a:pt x="4308" y="1390"/>
                    </a:lnTo>
                    <a:lnTo>
                      <a:pt x="4308" y="1370"/>
                    </a:lnTo>
                    <a:lnTo>
                      <a:pt x="4333" y="1370"/>
                    </a:lnTo>
                    <a:lnTo>
                      <a:pt x="4397" y="1370"/>
                    </a:lnTo>
                    <a:lnTo>
                      <a:pt x="4489" y="1370"/>
                    </a:lnTo>
                    <a:lnTo>
                      <a:pt x="4594" y="1370"/>
                    </a:lnTo>
                    <a:lnTo>
                      <a:pt x="4699" y="1370"/>
                    </a:lnTo>
                    <a:lnTo>
                      <a:pt x="4791" y="1370"/>
                    </a:lnTo>
                    <a:lnTo>
                      <a:pt x="4856" y="1370"/>
                    </a:lnTo>
                    <a:lnTo>
                      <a:pt x="4880" y="1370"/>
                    </a:lnTo>
                    <a:lnTo>
                      <a:pt x="4949" y="1369"/>
                    </a:lnTo>
                    <a:lnTo>
                      <a:pt x="5014" y="1366"/>
                    </a:lnTo>
                    <a:lnTo>
                      <a:pt x="5077" y="1361"/>
                    </a:lnTo>
                    <a:lnTo>
                      <a:pt x="5137" y="1354"/>
                    </a:lnTo>
                    <a:lnTo>
                      <a:pt x="5194" y="1345"/>
                    </a:lnTo>
                    <a:lnTo>
                      <a:pt x="5250" y="1334"/>
                    </a:lnTo>
                    <a:lnTo>
                      <a:pt x="5301" y="1321"/>
                    </a:lnTo>
                    <a:lnTo>
                      <a:pt x="5351" y="1308"/>
                    </a:lnTo>
                    <a:lnTo>
                      <a:pt x="5399" y="1292"/>
                    </a:lnTo>
                    <a:lnTo>
                      <a:pt x="5444" y="1275"/>
                    </a:lnTo>
                    <a:lnTo>
                      <a:pt x="5487" y="1257"/>
                    </a:lnTo>
                    <a:lnTo>
                      <a:pt x="5527" y="1237"/>
                    </a:lnTo>
                    <a:lnTo>
                      <a:pt x="5565" y="1216"/>
                    </a:lnTo>
                    <a:lnTo>
                      <a:pt x="5600" y="1193"/>
                    </a:lnTo>
                    <a:lnTo>
                      <a:pt x="5634" y="1170"/>
                    </a:lnTo>
                    <a:lnTo>
                      <a:pt x="5665" y="1146"/>
                    </a:lnTo>
                    <a:lnTo>
                      <a:pt x="5694" y="1120"/>
                    </a:lnTo>
                    <a:lnTo>
                      <a:pt x="5721" y="1094"/>
                    </a:lnTo>
                    <a:lnTo>
                      <a:pt x="5746" y="1066"/>
                    </a:lnTo>
                    <a:lnTo>
                      <a:pt x="5768" y="1039"/>
                    </a:lnTo>
                    <a:lnTo>
                      <a:pt x="5790" y="1010"/>
                    </a:lnTo>
                    <a:lnTo>
                      <a:pt x="5808" y="981"/>
                    </a:lnTo>
                    <a:lnTo>
                      <a:pt x="5825" y="951"/>
                    </a:lnTo>
                    <a:lnTo>
                      <a:pt x="5839" y="920"/>
                    </a:lnTo>
                    <a:lnTo>
                      <a:pt x="5852" y="890"/>
                    </a:lnTo>
                    <a:lnTo>
                      <a:pt x="5864" y="859"/>
                    </a:lnTo>
                    <a:lnTo>
                      <a:pt x="5873" y="828"/>
                    </a:lnTo>
                    <a:lnTo>
                      <a:pt x="5881" y="796"/>
                    </a:lnTo>
                    <a:lnTo>
                      <a:pt x="5886" y="765"/>
                    </a:lnTo>
                    <a:lnTo>
                      <a:pt x="5890" y="734"/>
                    </a:lnTo>
                    <a:lnTo>
                      <a:pt x="5892" y="702"/>
                    </a:lnTo>
                    <a:lnTo>
                      <a:pt x="5893" y="671"/>
                    </a:lnTo>
                    <a:lnTo>
                      <a:pt x="5893" y="639"/>
                    </a:lnTo>
                    <a:lnTo>
                      <a:pt x="5891" y="607"/>
                    </a:lnTo>
                    <a:lnTo>
                      <a:pt x="5888" y="575"/>
                    </a:lnTo>
                    <a:lnTo>
                      <a:pt x="5883" y="544"/>
                    </a:lnTo>
                    <a:lnTo>
                      <a:pt x="5876" y="512"/>
                    </a:lnTo>
                    <a:lnTo>
                      <a:pt x="5869" y="481"/>
                    </a:lnTo>
                    <a:lnTo>
                      <a:pt x="5859" y="452"/>
                    </a:lnTo>
                    <a:lnTo>
                      <a:pt x="5849" y="421"/>
                    </a:lnTo>
                    <a:lnTo>
                      <a:pt x="5836" y="392"/>
                    </a:lnTo>
                    <a:lnTo>
                      <a:pt x="5821" y="363"/>
                    </a:lnTo>
                    <a:lnTo>
                      <a:pt x="5805" y="335"/>
                    </a:lnTo>
                    <a:lnTo>
                      <a:pt x="5787" y="308"/>
                    </a:lnTo>
                    <a:lnTo>
                      <a:pt x="5767" y="281"/>
                    </a:lnTo>
                    <a:lnTo>
                      <a:pt x="5745" y="256"/>
                    </a:lnTo>
                    <a:lnTo>
                      <a:pt x="5721" y="230"/>
                    </a:lnTo>
                    <a:lnTo>
                      <a:pt x="5694" y="206"/>
                    </a:lnTo>
                    <a:lnTo>
                      <a:pt x="5667" y="184"/>
                    </a:lnTo>
                    <a:lnTo>
                      <a:pt x="5636" y="162"/>
                    </a:lnTo>
                    <a:lnTo>
                      <a:pt x="5603" y="141"/>
                    </a:lnTo>
                    <a:lnTo>
                      <a:pt x="5567" y="121"/>
                    </a:lnTo>
                    <a:lnTo>
                      <a:pt x="5530" y="103"/>
                    </a:lnTo>
                    <a:lnTo>
                      <a:pt x="5490" y="86"/>
                    </a:lnTo>
                    <a:lnTo>
                      <a:pt x="5447" y="71"/>
                    </a:lnTo>
                    <a:lnTo>
                      <a:pt x="5402" y="57"/>
                    </a:lnTo>
                    <a:lnTo>
                      <a:pt x="5353" y="44"/>
                    </a:lnTo>
                    <a:lnTo>
                      <a:pt x="5304" y="32"/>
                    </a:lnTo>
                    <a:lnTo>
                      <a:pt x="5250" y="23"/>
                    </a:lnTo>
                    <a:lnTo>
                      <a:pt x="5193" y="14"/>
                    </a:lnTo>
                    <a:lnTo>
                      <a:pt x="5134" y="8"/>
                    </a:lnTo>
                    <a:lnTo>
                      <a:pt x="5073" y="4"/>
                    </a:lnTo>
                    <a:lnTo>
                      <a:pt x="5007" y="1"/>
                    </a:lnTo>
                    <a:lnTo>
                      <a:pt x="4939" y="0"/>
                    </a:lnTo>
                    <a:lnTo>
                      <a:pt x="4874" y="0"/>
                    </a:lnTo>
                    <a:lnTo>
                      <a:pt x="4701" y="0"/>
                    </a:lnTo>
                    <a:lnTo>
                      <a:pt x="4455" y="0"/>
                    </a:lnTo>
                    <a:lnTo>
                      <a:pt x="4175" y="0"/>
                    </a:lnTo>
                    <a:lnTo>
                      <a:pt x="3894" y="0"/>
                    </a:lnTo>
                    <a:lnTo>
                      <a:pt x="3649" y="0"/>
                    </a:lnTo>
                    <a:lnTo>
                      <a:pt x="3477" y="0"/>
                    </a:lnTo>
                    <a:lnTo>
                      <a:pt x="3411" y="0"/>
                    </a:lnTo>
                    <a:lnTo>
                      <a:pt x="3414" y="5"/>
                    </a:lnTo>
                    <a:lnTo>
                      <a:pt x="3423" y="19"/>
                    </a:lnTo>
                    <a:lnTo>
                      <a:pt x="3428" y="29"/>
                    </a:lnTo>
                    <a:lnTo>
                      <a:pt x="3435" y="42"/>
                    </a:lnTo>
                    <a:lnTo>
                      <a:pt x="3442" y="57"/>
                    </a:lnTo>
                    <a:lnTo>
                      <a:pt x="3449" y="75"/>
                    </a:lnTo>
                    <a:lnTo>
                      <a:pt x="3456" y="94"/>
                    </a:lnTo>
                    <a:lnTo>
                      <a:pt x="3463" y="115"/>
                    </a:lnTo>
                    <a:lnTo>
                      <a:pt x="3469" y="139"/>
                    </a:lnTo>
                    <a:lnTo>
                      <a:pt x="3475" y="166"/>
                    </a:lnTo>
                    <a:lnTo>
                      <a:pt x="3480" y="193"/>
                    </a:lnTo>
                    <a:lnTo>
                      <a:pt x="3484" y="224"/>
                    </a:lnTo>
                    <a:lnTo>
                      <a:pt x="3486" y="256"/>
                    </a:lnTo>
                    <a:lnTo>
                      <a:pt x="3487" y="291"/>
                    </a:lnTo>
                    <a:lnTo>
                      <a:pt x="3487" y="357"/>
                    </a:lnTo>
                    <a:lnTo>
                      <a:pt x="3487" y="532"/>
                    </a:lnTo>
                    <a:lnTo>
                      <a:pt x="3487" y="781"/>
                    </a:lnTo>
                    <a:lnTo>
                      <a:pt x="3487" y="1064"/>
                    </a:lnTo>
                    <a:lnTo>
                      <a:pt x="3487" y="1348"/>
                    </a:lnTo>
                    <a:lnTo>
                      <a:pt x="3487" y="1597"/>
                    </a:lnTo>
                    <a:lnTo>
                      <a:pt x="3487" y="1771"/>
                    </a:lnTo>
                    <a:lnTo>
                      <a:pt x="3487" y="1838"/>
                    </a:lnTo>
                    <a:lnTo>
                      <a:pt x="3486" y="1873"/>
                    </a:lnTo>
                    <a:lnTo>
                      <a:pt x="3484" y="1904"/>
                    </a:lnTo>
                    <a:lnTo>
                      <a:pt x="3480" y="1935"/>
                    </a:lnTo>
                    <a:lnTo>
                      <a:pt x="3475" y="1963"/>
                    </a:lnTo>
                    <a:lnTo>
                      <a:pt x="3469" y="1989"/>
                    </a:lnTo>
                    <a:lnTo>
                      <a:pt x="3463" y="2012"/>
                    </a:lnTo>
                    <a:lnTo>
                      <a:pt x="3456" y="2035"/>
                    </a:lnTo>
                    <a:lnTo>
                      <a:pt x="3449" y="2054"/>
                    </a:lnTo>
                    <a:lnTo>
                      <a:pt x="3442" y="2072"/>
                    </a:lnTo>
                    <a:lnTo>
                      <a:pt x="3435" y="2087"/>
                    </a:lnTo>
                    <a:lnTo>
                      <a:pt x="3428" y="2099"/>
                    </a:lnTo>
                    <a:lnTo>
                      <a:pt x="3423" y="2110"/>
                    </a:lnTo>
                    <a:lnTo>
                      <a:pt x="3414" y="2124"/>
                    </a:lnTo>
                    <a:lnTo>
                      <a:pt x="3411" y="2129"/>
                    </a:lnTo>
                    <a:close/>
                    <a:moveTo>
                      <a:pt x="6212" y="1838"/>
                    </a:moveTo>
                    <a:lnTo>
                      <a:pt x="6212" y="1771"/>
                    </a:lnTo>
                    <a:lnTo>
                      <a:pt x="6212" y="1597"/>
                    </a:lnTo>
                    <a:lnTo>
                      <a:pt x="6212" y="1348"/>
                    </a:lnTo>
                    <a:lnTo>
                      <a:pt x="6212" y="1064"/>
                    </a:lnTo>
                    <a:lnTo>
                      <a:pt x="6212" y="781"/>
                    </a:lnTo>
                    <a:lnTo>
                      <a:pt x="6212" y="532"/>
                    </a:lnTo>
                    <a:lnTo>
                      <a:pt x="6212" y="357"/>
                    </a:lnTo>
                    <a:lnTo>
                      <a:pt x="6212" y="291"/>
                    </a:lnTo>
                    <a:lnTo>
                      <a:pt x="6211" y="256"/>
                    </a:lnTo>
                    <a:lnTo>
                      <a:pt x="6209" y="224"/>
                    </a:lnTo>
                    <a:lnTo>
                      <a:pt x="6205" y="193"/>
                    </a:lnTo>
                    <a:lnTo>
                      <a:pt x="6200" y="166"/>
                    </a:lnTo>
                    <a:lnTo>
                      <a:pt x="6194" y="139"/>
                    </a:lnTo>
                    <a:lnTo>
                      <a:pt x="6188" y="115"/>
                    </a:lnTo>
                    <a:lnTo>
                      <a:pt x="6181" y="94"/>
                    </a:lnTo>
                    <a:lnTo>
                      <a:pt x="6174" y="75"/>
                    </a:lnTo>
                    <a:lnTo>
                      <a:pt x="6167" y="57"/>
                    </a:lnTo>
                    <a:lnTo>
                      <a:pt x="6160" y="42"/>
                    </a:lnTo>
                    <a:lnTo>
                      <a:pt x="6154" y="29"/>
                    </a:lnTo>
                    <a:lnTo>
                      <a:pt x="6148" y="19"/>
                    </a:lnTo>
                    <a:lnTo>
                      <a:pt x="6139" y="5"/>
                    </a:lnTo>
                    <a:lnTo>
                      <a:pt x="6136" y="0"/>
                    </a:lnTo>
                    <a:lnTo>
                      <a:pt x="8525" y="0"/>
                    </a:lnTo>
                    <a:lnTo>
                      <a:pt x="8525" y="525"/>
                    </a:lnTo>
                    <a:lnTo>
                      <a:pt x="8521" y="521"/>
                    </a:lnTo>
                    <a:lnTo>
                      <a:pt x="8506" y="513"/>
                    </a:lnTo>
                    <a:lnTo>
                      <a:pt x="8495" y="507"/>
                    </a:lnTo>
                    <a:lnTo>
                      <a:pt x="8482" y="500"/>
                    </a:lnTo>
                    <a:lnTo>
                      <a:pt x="8468" y="493"/>
                    </a:lnTo>
                    <a:lnTo>
                      <a:pt x="8451" y="486"/>
                    </a:lnTo>
                    <a:lnTo>
                      <a:pt x="8431" y="479"/>
                    </a:lnTo>
                    <a:lnTo>
                      <a:pt x="8409" y="472"/>
                    </a:lnTo>
                    <a:lnTo>
                      <a:pt x="8385" y="465"/>
                    </a:lnTo>
                    <a:lnTo>
                      <a:pt x="8360" y="460"/>
                    </a:lnTo>
                    <a:lnTo>
                      <a:pt x="8331" y="455"/>
                    </a:lnTo>
                    <a:lnTo>
                      <a:pt x="8301" y="452"/>
                    </a:lnTo>
                    <a:lnTo>
                      <a:pt x="8269" y="448"/>
                    </a:lnTo>
                    <a:lnTo>
                      <a:pt x="8235" y="447"/>
                    </a:lnTo>
                    <a:lnTo>
                      <a:pt x="8183" y="447"/>
                    </a:lnTo>
                    <a:lnTo>
                      <a:pt x="8046" y="447"/>
                    </a:lnTo>
                    <a:lnTo>
                      <a:pt x="7855" y="447"/>
                    </a:lnTo>
                    <a:lnTo>
                      <a:pt x="7633" y="447"/>
                    </a:lnTo>
                    <a:lnTo>
                      <a:pt x="7413" y="447"/>
                    </a:lnTo>
                    <a:lnTo>
                      <a:pt x="7221" y="447"/>
                    </a:lnTo>
                    <a:lnTo>
                      <a:pt x="7085" y="447"/>
                    </a:lnTo>
                    <a:lnTo>
                      <a:pt x="7033" y="447"/>
                    </a:lnTo>
                    <a:lnTo>
                      <a:pt x="7033" y="922"/>
                    </a:lnTo>
                    <a:lnTo>
                      <a:pt x="7073" y="922"/>
                    </a:lnTo>
                    <a:lnTo>
                      <a:pt x="7177" y="922"/>
                    </a:lnTo>
                    <a:lnTo>
                      <a:pt x="7324" y="922"/>
                    </a:lnTo>
                    <a:lnTo>
                      <a:pt x="7492" y="922"/>
                    </a:lnTo>
                    <a:lnTo>
                      <a:pt x="7662" y="922"/>
                    </a:lnTo>
                    <a:lnTo>
                      <a:pt x="7809" y="922"/>
                    </a:lnTo>
                    <a:lnTo>
                      <a:pt x="7913" y="922"/>
                    </a:lnTo>
                    <a:lnTo>
                      <a:pt x="7953" y="922"/>
                    </a:lnTo>
                    <a:lnTo>
                      <a:pt x="7987" y="921"/>
                    </a:lnTo>
                    <a:lnTo>
                      <a:pt x="8020" y="920"/>
                    </a:lnTo>
                    <a:lnTo>
                      <a:pt x="8049" y="917"/>
                    </a:lnTo>
                    <a:lnTo>
                      <a:pt x="8078" y="914"/>
                    </a:lnTo>
                    <a:lnTo>
                      <a:pt x="8103" y="911"/>
                    </a:lnTo>
                    <a:lnTo>
                      <a:pt x="8128" y="907"/>
                    </a:lnTo>
                    <a:lnTo>
                      <a:pt x="8149" y="901"/>
                    </a:lnTo>
                    <a:lnTo>
                      <a:pt x="8168" y="897"/>
                    </a:lnTo>
                    <a:lnTo>
                      <a:pt x="8201" y="888"/>
                    </a:lnTo>
                    <a:lnTo>
                      <a:pt x="8224" y="879"/>
                    </a:lnTo>
                    <a:lnTo>
                      <a:pt x="8238" y="874"/>
                    </a:lnTo>
                    <a:lnTo>
                      <a:pt x="8243" y="871"/>
                    </a:lnTo>
                    <a:lnTo>
                      <a:pt x="8243" y="1370"/>
                    </a:lnTo>
                    <a:lnTo>
                      <a:pt x="8238" y="1368"/>
                    </a:lnTo>
                    <a:lnTo>
                      <a:pt x="8224" y="1363"/>
                    </a:lnTo>
                    <a:lnTo>
                      <a:pt x="8201" y="1354"/>
                    </a:lnTo>
                    <a:lnTo>
                      <a:pt x="8168" y="1345"/>
                    </a:lnTo>
                    <a:lnTo>
                      <a:pt x="8149" y="1339"/>
                    </a:lnTo>
                    <a:lnTo>
                      <a:pt x="8128" y="1335"/>
                    </a:lnTo>
                    <a:lnTo>
                      <a:pt x="8103" y="1331"/>
                    </a:lnTo>
                    <a:lnTo>
                      <a:pt x="8078" y="1327"/>
                    </a:lnTo>
                    <a:lnTo>
                      <a:pt x="8049" y="1324"/>
                    </a:lnTo>
                    <a:lnTo>
                      <a:pt x="8020" y="1321"/>
                    </a:lnTo>
                    <a:lnTo>
                      <a:pt x="7987" y="1319"/>
                    </a:lnTo>
                    <a:lnTo>
                      <a:pt x="7953" y="1319"/>
                    </a:lnTo>
                    <a:lnTo>
                      <a:pt x="7913" y="1319"/>
                    </a:lnTo>
                    <a:lnTo>
                      <a:pt x="7809" y="1319"/>
                    </a:lnTo>
                    <a:lnTo>
                      <a:pt x="7662" y="1319"/>
                    </a:lnTo>
                    <a:lnTo>
                      <a:pt x="7492" y="1319"/>
                    </a:lnTo>
                    <a:lnTo>
                      <a:pt x="7324" y="1319"/>
                    </a:lnTo>
                    <a:lnTo>
                      <a:pt x="7177" y="1319"/>
                    </a:lnTo>
                    <a:lnTo>
                      <a:pt x="7073" y="1319"/>
                    </a:lnTo>
                    <a:lnTo>
                      <a:pt x="7033" y="1319"/>
                    </a:lnTo>
                    <a:lnTo>
                      <a:pt x="7033" y="1341"/>
                    </a:lnTo>
                    <a:lnTo>
                      <a:pt x="7033" y="1400"/>
                    </a:lnTo>
                    <a:lnTo>
                      <a:pt x="7033" y="1483"/>
                    </a:lnTo>
                    <a:lnTo>
                      <a:pt x="7033" y="1579"/>
                    </a:lnTo>
                    <a:lnTo>
                      <a:pt x="7033" y="1674"/>
                    </a:lnTo>
                    <a:lnTo>
                      <a:pt x="7033" y="1756"/>
                    </a:lnTo>
                    <a:lnTo>
                      <a:pt x="7033" y="1816"/>
                    </a:lnTo>
                    <a:lnTo>
                      <a:pt x="7033" y="1838"/>
                    </a:lnTo>
                    <a:lnTo>
                      <a:pt x="7034" y="1873"/>
                    </a:lnTo>
                    <a:lnTo>
                      <a:pt x="7036" y="1904"/>
                    </a:lnTo>
                    <a:lnTo>
                      <a:pt x="7040" y="1935"/>
                    </a:lnTo>
                    <a:lnTo>
                      <a:pt x="7045" y="1963"/>
                    </a:lnTo>
                    <a:lnTo>
                      <a:pt x="7051" y="1989"/>
                    </a:lnTo>
                    <a:lnTo>
                      <a:pt x="7057" y="2012"/>
                    </a:lnTo>
                    <a:lnTo>
                      <a:pt x="7063" y="2035"/>
                    </a:lnTo>
                    <a:lnTo>
                      <a:pt x="7071" y="2054"/>
                    </a:lnTo>
                    <a:lnTo>
                      <a:pt x="7078" y="2072"/>
                    </a:lnTo>
                    <a:lnTo>
                      <a:pt x="7085" y="2087"/>
                    </a:lnTo>
                    <a:lnTo>
                      <a:pt x="7091" y="2099"/>
                    </a:lnTo>
                    <a:lnTo>
                      <a:pt x="7097" y="2110"/>
                    </a:lnTo>
                    <a:lnTo>
                      <a:pt x="7106" y="2124"/>
                    </a:lnTo>
                    <a:lnTo>
                      <a:pt x="7109" y="2129"/>
                    </a:lnTo>
                    <a:lnTo>
                      <a:pt x="6136" y="2129"/>
                    </a:lnTo>
                    <a:lnTo>
                      <a:pt x="6139" y="2124"/>
                    </a:lnTo>
                    <a:lnTo>
                      <a:pt x="6148" y="2110"/>
                    </a:lnTo>
                    <a:lnTo>
                      <a:pt x="6154" y="2099"/>
                    </a:lnTo>
                    <a:lnTo>
                      <a:pt x="6160" y="2087"/>
                    </a:lnTo>
                    <a:lnTo>
                      <a:pt x="6167" y="2072"/>
                    </a:lnTo>
                    <a:lnTo>
                      <a:pt x="6174" y="2054"/>
                    </a:lnTo>
                    <a:lnTo>
                      <a:pt x="6181" y="2035"/>
                    </a:lnTo>
                    <a:lnTo>
                      <a:pt x="6188" y="2012"/>
                    </a:lnTo>
                    <a:lnTo>
                      <a:pt x="6194" y="1989"/>
                    </a:lnTo>
                    <a:lnTo>
                      <a:pt x="6200" y="1963"/>
                    </a:lnTo>
                    <a:lnTo>
                      <a:pt x="6205" y="1935"/>
                    </a:lnTo>
                    <a:lnTo>
                      <a:pt x="6209" y="1904"/>
                    </a:lnTo>
                    <a:lnTo>
                      <a:pt x="6211" y="1873"/>
                    </a:lnTo>
                    <a:lnTo>
                      <a:pt x="6212" y="1838"/>
                    </a:lnTo>
                    <a:close/>
                    <a:moveTo>
                      <a:pt x="1241" y="1838"/>
                    </a:moveTo>
                    <a:lnTo>
                      <a:pt x="1241" y="1080"/>
                    </a:lnTo>
                    <a:lnTo>
                      <a:pt x="1212" y="1053"/>
                    </a:lnTo>
                    <a:lnTo>
                      <a:pt x="1133" y="980"/>
                    </a:lnTo>
                    <a:lnTo>
                      <a:pt x="1019" y="874"/>
                    </a:lnTo>
                    <a:lnTo>
                      <a:pt x="883" y="748"/>
                    </a:lnTo>
                    <a:lnTo>
                      <a:pt x="737" y="613"/>
                    </a:lnTo>
                    <a:lnTo>
                      <a:pt x="598" y="484"/>
                    </a:lnTo>
                    <a:lnTo>
                      <a:pt x="478" y="372"/>
                    </a:lnTo>
                    <a:lnTo>
                      <a:pt x="390" y="291"/>
                    </a:lnTo>
                    <a:lnTo>
                      <a:pt x="352" y="256"/>
                    </a:lnTo>
                    <a:lnTo>
                      <a:pt x="315" y="224"/>
                    </a:lnTo>
                    <a:lnTo>
                      <a:pt x="279" y="193"/>
                    </a:lnTo>
                    <a:lnTo>
                      <a:pt x="243" y="166"/>
                    </a:lnTo>
                    <a:lnTo>
                      <a:pt x="209" y="139"/>
                    </a:lnTo>
                    <a:lnTo>
                      <a:pt x="177" y="115"/>
                    </a:lnTo>
                    <a:lnTo>
                      <a:pt x="148" y="94"/>
                    </a:lnTo>
                    <a:lnTo>
                      <a:pt x="119" y="75"/>
                    </a:lnTo>
                    <a:lnTo>
                      <a:pt x="70" y="42"/>
                    </a:lnTo>
                    <a:lnTo>
                      <a:pt x="32" y="19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1069" y="0"/>
                    </a:lnTo>
                    <a:lnTo>
                      <a:pt x="1071" y="5"/>
                    </a:lnTo>
                    <a:lnTo>
                      <a:pt x="1077" y="19"/>
                    </a:lnTo>
                    <a:lnTo>
                      <a:pt x="1089" y="42"/>
                    </a:lnTo>
                    <a:lnTo>
                      <a:pt x="1109" y="75"/>
                    </a:lnTo>
                    <a:lnTo>
                      <a:pt x="1123" y="94"/>
                    </a:lnTo>
                    <a:lnTo>
                      <a:pt x="1138" y="115"/>
                    </a:lnTo>
                    <a:lnTo>
                      <a:pt x="1157" y="139"/>
                    </a:lnTo>
                    <a:lnTo>
                      <a:pt x="1178" y="166"/>
                    </a:lnTo>
                    <a:lnTo>
                      <a:pt x="1202" y="193"/>
                    </a:lnTo>
                    <a:lnTo>
                      <a:pt x="1230" y="224"/>
                    </a:lnTo>
                    <a:lnTo>
                      <a:pt x="1261" y="256"/>
                    </a:lnTo>
                    <a:lnTo>
                      <a:pt x="1294" y="291"/>
                    </a:lnTo>
                    <a:lnTo>
                      <a:pt x="1320" y="315"/>
                    </a:lnTo>
                    <a:lnTo>
                      <a:pt x="1365" y="357"/>
                    </a:lnTo>
                    <a:lnTo>
                      <a:pt x="1424" y="412"/>
                    </a:lnTo>
                    <a:lnTo>
                      <a:pt x="1487" y="473"/>
                    </a:lnTo>
                    <a:lnTo>
                      <a:pt x="1549" y="531"/>
                    </a:lnTo>
                    <a:lnTo>
                      <a:pt x="1603" y="581"/>
                    </a:lnTo>
                    <a:lnTo>
                      <a:pt x="1640" y="616"/>
                    </a:lnTo>
                    <a:lnTo>
                      <a:pt x="1653" y="628"/>
                    </a:lnTo>
                    <a:lnTo>
                      <a:pt x="1666" y="617"/>
                    </a:lnTo>
                    <a:lnTo>
                      <a:pt x="1700" y="585"/>
                    </a:lnTo>
                    <a:lnTo>
                      <a:pt x="1748" y="538"/>
                    </a:lnTo>
                    <a:lnTo>
                      <a:pt x="1806" y="483"/>
                    </a:lnTo>
                    <a:lnTo>
                      <a:pt x="1866" y="425"/>
                    </a:lnTo>
                    <a:lnTo>
                      <a:pt x="1923" y="370"/>
                    </a:lnTo>
                    <a:lnTo>
                      <a:pt x="1972" y="322"/>
                    </a:lnTo>
                    <a:lnTo>
                      <a:pt x="2006" y="291"/>
                    </a:lnTo>
                    <a:lnTo>
                      <a:pt x="2041" y="256"/>
                    </a:lnTo>
                    <a:lnTo>
                      <a:pt x="2073" y="224"/>
                    </a:lnTo>
                    <a:lnTo>
                      <a:pt x="2100" y="193"/>
                    </a:lnTo>
                    <a:lnTo>
                      <a:pt x="2125" y="166"/>
                    </a:lnTo>
                    <a:lnTo>
                      <a:pt x="2146" y="139"/>
                    </a:lnTo>
                    <a:lnTo>
                      <a:pt x="2165" y="115"/>
                    </a:lnTo>
                    <a:lnTo>
                      <a:pt x="2181" y="94"/>
                    </a:lnTo>
                    <a:lnTo>
                      <a:pt x="2195" y="75"/>
                    </a:lnTo>
                    <a:lnTo>
                      <a:pt x="2215" y="42"/>
                    </a:lnTo>
                    <a:lnTo>
                      <a:pt x="2226" y="19"/>
                    </a:lnTo>
                    <a:lnTo>
                      <a:pt x="2233" y="5"/>
                    </a:lnTo>
                    <a:lnTo>
                      <a:pt x="2235" y="0"/>
                    </a:lnTo>
                    <a:lnTo>
                      <a:pt x="3304" y="0"/>
                    </a:lnTo>
                    <a:lnTo>
                      <a:pt x="3296" y="5"/>
                    </a:lnTo>
                    <a:lnTo>
                      <a:pt x="3271" y="19"/>
                    </a:lnTo>
                    <a:lnTo>
                      <a:pt x="3234" y="42"/>
                    </a:lnTo>
                    <a:lnTo>
                      <a:pt x="3186" y="75"/>
                    </a:lnTo>
                    <a:lnTo>
                      <a:pt x="3157" y="94"/>
                    </a:lnTo>
                    <a:lnTo>
                      <a:pt x="3126" y="115"/>
                    </a:lnTo>
                    <a:lnTo>
                      <a:pt x="3095" y="139"/>
                    </a:lnTo>
                    <a:lnTo>
                      <a:pt x="3061" y="166"/>
                    </a:lnTo>
                    <a:lnTo>
                      <a:pt x="3026" y="193"/>
                    </a:lnTo>
                    <a:lnTo>
                      <a:pt x="2989" y="224"/>
                    </a:lnTo>
                    <a:lnTo>
                      <a:pt x="2952" y="256"/>
                    </a:lnTo>
                    <a:lnTo>
                      <a:pt x="2915" y="291"/>
                    </a:lnTo>
                    <a:lnTo>
                      <a:pt x="2878" y="325"/>
                    </a:lnTo>
                    <a:lnTo>
                      <a:pt x="2781" y="413"/>
                    </a:lnTo>
                    <a:lnTo>
                      <a:pt x="2645" y="540"/>
                    </a:lnTo>
                    <a:lnTo>
                      <a:pt x="2488" y="685"/>
                    </a:lnTo>
                    <a:lnTo>
                      <a:pt x="2332" y="830"/>
                    </a:lnTo>
                    <a:lnTo>
                      <a:pt x="2196" y="956"/>
                    </a:lnTo>
                    <a:lnTo>
                      <a:pt x="2099" y="1046"/>
                    </a:lnTo>
                    <a:lnTo>
                      <a:pt x="2062" y="1080"/>
                    </a:lnTo>
                    <a:lnTo>
                      <a:pt x="2062" y="1112"/>
                    </a:lnTo>
                    <a:lnTo>
                      <a:pt x="2062" y="1199"/>
                    </a:lnTo>
                    <a:lnTo>
                      <a:pt x="2062" y="1319"/>
                    </a:lnTo>
                    <a:lnTo>
                      <a:pt x="2062" y="1459"/>
                    </a:lnTo>
                    <a:lnTo>
                      <a:pt x="2062" y="1598"/>
                    </a:lnTo>
                    <a:lnTo>
                      <a:pt x="2062" y="1719"/>
                    </a:lnTo>
                    <a:lnTo>
                      <a:pt x="2062" y="1805"/>
                    </a:lnTo>
                    <a:lnTo>
                      <a:pt x="2062" y="1838"/>
                    </a:lnTo>
                    <a:lnTo>
                      <a:pt x="2063" y="1873"/>
                    </a:lnTo>
                    <a:lnTo>
                      <a:pt x="2065" y="1904"/>
                    </a:lnTo>
                    <a:lnTo>
                      <a:pt x="2070" y="1935"/>
                    </a:lnTo>
                    <a:lnTo>
                      <a:pt x="2075" y="1963"/>
                    </a:lnTo>
                    <a:lnTo>
                      <a:pt x="2080" y="1989"/>
                    </a:lnTo>
                    <a:lnTo>
                      <a:pt x="2087" y="2012"/>
                    </a:lnTo>
                    <a:lnTo>
                      <a:pt x="2094" y="2035"/>
                    </a:lnTo>
                    <a:lnTo>
                      <a:pt x="2100" y="2054"/>
                    </a:lnTo>
                    <a:lnTo>
                      <a:pt x="2108" y="2072"/>
                    </a:lnTo>
                    <a:lnTo>
                      <a:pt x="2115" y="2087"/>
                    </a:lnTo>
                    <a:lnTo>
                      <a:pt x="2121" y="2099"/>
                    </a:lnTo>
                    <a:lnTo>
                      <a:pt x="2127" y="2110"/>
                    </a:lnTo>
                    <a:lnTo>
                      <a:pt x="2135" y="2124"/>
                    </a:lnTo>
                    <a:lnTo>
                      <a:pt x="2138" y="2129"/>
                    </a:lnTo>
                    <a:lnTo>
                      <a:pt x="1165" y="2129"/>
                    </a:lnTo>
                    <a:lnTo>
                      <a:pt x="1168" y="2124"/>
                    </a:lnTo>
                    <a:lnTo>
                      <a:pt x="1177" y="2110"/>
                    </a:lnTo>
                    <a:lnTo>
                      <a:pt x="1183" y="2099"/>
                    </a:lnTo>
                    <a:lnTo>
                      <a:pt x="1190" y="2087"/>
                    </a:lnTo>
                    <a:lnTo>
                      <a:pt x="1196" y="2072"/>
                    </a:lnTo>
                    <a:lnTo>
                      <a:pt x="1203" y="2054"/>
                    </a:lnTo>
                    <a:lnTo>
                      <a:pt x="1211" y="2035"/>
                    </a:lnTo>
                    <a:lnTo>
                      <a:pt x="1217" y="2012"/>
                    </a:lnTo>
                    <a:lnTo>
                      <a:pt x="1223" y="1989"/>
                    </a:lnTo>
                    <a:lnTo>
                      <a:pt x="1230" y="1963"/>
                    </a:lnTo>
                    <a:lnTo>
                      <a:pt x="1234" y="1935"/>
                    </a:lnTo>
                    <a:lnTo>
                      <a:pt x="1238" y="1904"/>
                    </a:lnTo>
                    <a:lnTo>
                      <a:pt x="1240" y="1873"/>
                    </a:lnTo>
                    <a:lnTo>
                      <a:pt x="1241" y="18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strips dir="rd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01676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 Black"/>
              </a:rPr>
              <a:t>Situaciones de conflicto potenciales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9900"/>
                </a:solidFill>
                <a:latin typeface="Arial Unicode MS"/>
              </a:rPr>
              <a:t>Paros gremiales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9900"/>
                </a:solidFill>
                <a:latin typeface="Arial Unicode MS"/>
              </a:rPr>
              <a:t>Comunidades Mapuches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9900"/>
                </a:solidFill>
                <a:latin typeface="Arial Unicode MS"/>
              </a:rPr>
              <a:t>Superficiarios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9900"/>
                </a:solidFill>
                <a:latin typeface="Arial Unicode MS"/>
              </a:rPr>
              <a:t>Fuerza Mayor (factores climáticos, etc.)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</p:spTree>
  </p:cSld>
  <p:transition spd="slow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/>
          <p:nvPr/>
        </p:nvSpPr>
        <p:spPr>
          <a:xfrm>
            <a:off x="0" y="3514680"/>
            <a:ext cx="9906120" cy="2867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0" y="1077840"/>
            <a:ext cx="9906120" cy="26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685800" y="2882880"/>
            <a:ext cx="8420040" cy="15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 Black"/>
              </a:rPr>
              <a:t>Unidad Económica</a:t>
            </a:r>
            <a:br>
              <a:rPr sz="3600"/>
            </a:br>
            <a:br>
              <a:rPr sz="1600"/>
            </a:br>
            <a:r>
              <a:rPr b="1" lang="es-AR" sz="5400" spc="-1" strike="noStrike">
                <a:solidFill>
                  <a:srgbClr val="ffffff"/>
                </a:solidFill>
                <a:latin typeface="Arial Black"/>
              </a:rPr>
              <a:t>LOMA LA LA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rcRect l="3654" t="0" r="30075" b="0"/>
          <a:stretch/>
        </p:blipFill>
        <p:spPr>
          <a:xfrm>
            <a:off x="100080" y="138240"/>
            <a:ext cx="5817960" cy="6583320"/>
          </a:xfrm>
          <a:prstGeom prst="rect">
            <a:avLst/>
          </a:prstGeom>
          <a:ln w="3240">
            <a:solidFill>
              <a:srgbClr val="0066ff"/>
            </a:solidFill>
            <a:miter/>
          </a:ln>
        </p:spPr>
      </p:pic>
      <p:sp>
        <p:nvSpPr>
          <p:cNvPr id="379" name=""/>
          <p:cNvSpPr/>
          <p:nvPr/>
        </p:nvSpPr>
        <p:spPr>
          <a:xfrm rot="180000">
            <a:off x="4838760" y="175104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21300000">
            <a:off x="3211200" y="514008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21540000">
            <a:off x="1930320" y="437652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21540000">
            <a:off x="1918440" y="439380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21540000">
            <a:off x="1930320" y="439380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21540000">
            <a:off x="1945080" y="4393800"/>
            <a:ext cx="54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21540000">
            <a:off x="1971720" y="439236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19980000">
            <a:off x="1932120" y="510696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19980000">
            <a:off x="1946880" y="510228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180000">
            <a:off x="4838760" y="175104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9200000">
            <a:off x="3111120" y="2298240"/>
            <a:ext cx="82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21540000">
            <a:off x="4189320" y="529092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21540000">
            <a:off x="4188960" y="5310000"/>
            <a:ext cx="54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21300000">
            <a:off x="1499760" y="441468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780000">
            <a:off x="1725480" y="332856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21300000">
            <a:off x="1663560" y="405432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21540000">
            <a:off x="1131840" y="492876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13160" y="907920"/>
            <a:ext cx="1295640" cy="73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700" spc="-1" strike="noStrike">
                <a:solidFill>
                  <a:srgbClr val="000000"/>
                </a:solidFill>
                <a:latin typeface="Arial Unicode MS"/>
              </a:rPr>
              <a:t>Bandurr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700" spc="-1" strike="noStrike">
                <a:solidFill>
                  <a:srgbClr val="000000"/>
                </a:solidFill>
                <a:latin typeface="Arial Unicode MS"/>
              </a:rPr>
              <a:t>931.2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700" spc="-1" strike="noStrike">
                <a:solidFill>
                  <a:srgbClr val="000000"/>
                </a:solidFill>
                <a:latin typeface="Arial Unicode MS"/>
              </a:rPr>
              <a:t>27.28% Repsol (Operador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700" spc="-1" strike="noStrike">
                <a:solidFill>
                  <a:srgbClr val="000000"/>
                </a:solidFill>
                <a:latin typeface="Arial Unicode MS"/>
              </a:rPr>
              <a:t>27.28% Wintersh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700" spc="-1" strike="noStrike">
                <a:solidFill>
                  <a:srgbClr val="000000"/>
                </a:solidFill>
                <a:latin typeface="Arial Unicode MS"/>
              </a:rPr>
              <a:t>27.28% Tot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700" spc="-1" strike="noStrike">
                <a:solidFill>
                  <a:srgbClr val="000000"/>
                </a:solidFill>
                <a:latin typeface="Arial Unicode MS"/>
              </a:rPr>
              <a:t>18.19% Pan Americ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4459320" y="1679040"/>
            <a:ext cx="14400" cy="304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70040" y="10080"/>
            <a:ext cx="1187640" cy="802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 Unicode MS"/>
              </a:rPr>
              <a:t>Aguada San Roq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1039.7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34.11% Repso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24.71% Total (Operador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24.71% Wintersh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16.47% Pan Americ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448080" y="819000"/>
            <a:ext cx="0" cy="525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60440" y="260280"/>
            <a:ext cx="75564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00"/>
                </a:solidFill>
                <a:latin typeface="Arial Unicode MS"/>
              </a:rPr>
              <a:t>Sauzalit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</a:rPr>
              <a:t>442.1 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</a:rPr>
              <a:t>1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</a:rPr>
              <a:t>Repso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2080800" y="836640"/>
            <a:ext cx="358920" cy="2160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8360" y="2430720"/>
            <a:ext cx="1100160" cy="70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Unicode MS"/>
              </a:rPr>
              <a:t>Aguada Picha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</a:rPr>
              <a:t>1371 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</a:rPr>
              <a:t>27.28% Repso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</a:rPr>
              <a:t>27.28% Wintersh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</a:rPr>
              <a:t>27.28% Tot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</a:rPr>
              <a:t>18.19% Pan Americ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263600" y="2795760"/>
            <a:ext cx="503280" cy="7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8360" y="3402000"/>
            <a:ext cx="1101960" cy="39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 Unicode MS"/>
              </a:rPr>
              <a:t>Rincón del Mangrul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181.7 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1263240" y="3616200"/>
            <a:ext cx="988920" cy="223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0160" y="4614480"/>
            <a:ext cx="811080" cy="2962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Cerro Band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249.7 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894960" y="4775040"/>
            <a:ext cx="482760" cy="17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8360" y="5116320"/>
            <a:ext cx="895320" cy="39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 Unicode MS"/>
              </a:rPr>
              <a:t>Portezuelo Min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170.17 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049040" y="5300640"/>
            <a:ext cx="90180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152800" y="4324320"/>
            <a:ext cx="603000" cy="39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 Unicode MS"/>
              </a:rPr>
              <a:t>Octógo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72.3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40080" y="4653000"/>
            <a:ext cx="144360" cy="144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2120" y="5637240"/>
            <a:ext cx="852480" cy="62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 Unicode MS"/>
              </a:rPr>
              <a:t>Piedra Chenq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377.8 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100 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Repso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039320" y="5999040"/>
            <a:ext cx="871560" cy="223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64080" y="4590720"/>
            <a:ext cx="895320" cy="39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 Unicode MS"/>
              </a:rPr>
              <a:t>Loma La La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700" spc="-1" strike="noStrike">
                <a:solidFill>
                  <a:srgbClr val="000000"/>
                </a:solidFill>
                <a:latin typeface="Arial Unicode MS"/>
              </a:rPr>
              <a:t>Sierra Barros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1989 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3902040" y="4270320"/>
            <a:ext cx="0" cy="3016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686480" y="2801520"/>
            <a:ext cx="982440" cy="2962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 Unicode MS"/>
              </a:rPr>
              <a:t>Loma Campa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67.5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242960" y="2952720"/>
            <a:ext cx="46692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37000" y="5089320"/>
            <a:ext cx="1100160" cy="49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700" spc="-1" strike="noStrike">
                <a:solidFill>
                  <a:srgbClr val="000000"/>
                </a:solidFill>
                <a:latin typeface="Arial Unicode MS"/>
              </a:rPr>
              <a:t>Lindero Atravesad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700" spc="-1" strike="noStrike">
                <a:solidFill>
                  <a:srgbClr val="000000"/>
                </a:solidFill>
                <a:latin typeface="Arial Unicode MS"/>
              </a:rPr>
              <a:t>511.5 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700" spc="-1" strike="noStrike">
                <a:solidFill>
                  <a:srgbClr val="000000"/>
                </a:solidFill>
                <a:latin typeface="Arial Unicode MS"/>
              </a:rPr>
              <a:t>37.5% Repso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700" spc="-1" strike="noStrike">
                <a:solidFill>
                  <a:srgbClr val="000000"/>
                </a:solidFill>
                <a:latin typeface="Arial Unicode MS"/>
              </a:rPr>
              <a:t>62.5% Pan Americ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4800240" y="4065120"/>
            <a:ext cx="3240" cy="102564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9980000">
            <a:off x="7359120" y="645120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706400" y="6272280"/>
            <a:ext cx="252720" cy="10008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706400" y="6480000"/>
            <a:ext cx="252720" cy="1000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82800" y="6480000"/>
            <a:ext cx="250920" cy="100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87480" y="6273720"/>
            <a:ext cx="250920" cy="1000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70080" y="6186600"/>
            <a:ext cx="280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Exploración - Asociación opera Repsol YP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53880" y="6392880"/>
            <a:ext cx="25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Explotación - Asociación opera Terc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923840" y="619920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Explot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19160" y="640548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Expl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2160000">
            <a:off x="6316560" y="645948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9980000">
            <a:off x="7359120" y="660348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8360" y="3811680"/>
            <a:ext cx="1224000" cy="43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Unicode MS"/>
              </a:rPr>
              <a:t>Meseta Buena Esperanz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</a:rPr>
              <a:t>303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</a:rPr>
              <a:t>75% Pione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</a:rPr>
              <a:t>25% Repso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363680" y="4076640"/>
            <a:ext cx="117648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8360" y="1888920"/>
            <a:ext cx="708120" cy="39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Unicode MS"/>
              </a:rPr>
              <a:t>Cerro Are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</a:rPr>
              <a:t>864.6 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851040" y="2095200"/>
            <a:ext cx="357120" cy="32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351480" y="5890680"/>
            <a:ext cx="3081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Mapa de situación y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descripción de activos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243480" y="1785960"/>
          <a:ext cx="2971800" cy="2631960"/>
        </p:xfrm>
        <a:graphic>
          <a:graphicData uri="http://schemas.openxmlformats.org/drawingml/2006/table">
            <a:tbl>
              <a:tblPr/>
              <a:tblGrid>
                <a:gridCol w="297180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uperfici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.481,47 km² </a:t>
                      </a:r>
                      <a:r>
                        <a:rPr b="1" i="1" lang="es-AR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Operad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.922,20 km² </a:t>
                      </a:r>
                      <a:r>
                        <a:rPr b="1" i="1" lang="es-AR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No Operad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icio Producció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.9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505320" y="0"/>
            <a:ext cx="3810960" cy="6859440"/>
            <a:chOff x="3505320" y="0"/>
            <a:chExt cx="3810960" cy="6859440"/>
          </a:xfrm>
        </p:grpSpPr>
        <p:grpSp>
          <p:nvGrpSpPr>
            <p:cNvPr id="439" name=""/>
            <p:cNvGrpSpPr/>
            <p:nvPr/>
          </p:nvGrpSpPr>
          <p:grpSpPr>
            <a:xfrm>
              <a:off x="3505320" y="0"/>
              <a:ext cx="3660840" cy="6859440"/>
              <a:chOff x="3505320" y="0"/>
              <a:chExt cx="3660840" cy="685944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3505320" y="0"/>
                <a:ext cx="3660840" cy="6858000"/>
                <a:chOff x="3505320" y="0"/>
                <a:chExt cx="3660840" cy="685800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3554280" y="0"/>
                  <a:ext cx="3611880" cy="6858000"/>
                </a:xfrm>
                <a:prstGeom prst="rect">
                  <a:avLst/>
                </a:prstGeom>
                <a:solidFill>
                  <a:srgbClr val="008000">
                    <a:alpha val="4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591000" y="2271600"/>
                  <a:ext cx="3556440" cy="30708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1400" spc="-1" strike="noStrike">
                      <a:solidFill>
                        <a:srgbClr val="ffffff"/>
                      </a:solidFill>
                      <a:latin typeface="Arial"/>
                    </a:rPr>
                    <a:t>Midstre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719520" y="3073320"/>
                  <a:ext cx="595440" cy="416160"/>
                </a:xfrm>
                <a:prstGeom prst="bevel">
                  <a:avLst>
                    <a:gd name="adj" fmla="val 4111"/>
                  </a:avLst>
                </a:prstGeom>
                <a:solidFill>
                  <a:srgbClr val="ffcc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1200" spc="-1" strike="noStrike">
                      <a:solidFill>
                        <a:srgbClr val="ffffff"/>
                      </a:solidFill>
                      <a:latin typeface="Arial"/>
                    </a:rPr>
                    <a:t>Ami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527720" y="3068640"/>
                  <a:ext cx="576000" cy="415800"/>
                </a:xfrm>
                <a:prstGeom prst="bevel">
                  <a:avLst>
                    <a:gd name="adj" fmla="val 4111"/>
                  </a:avLst>
                </a:prstGeom>
                <a:solidFill>
                  <a:srgbClr val="ffcc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1200" spc="-1" strike="noStrike">
                      <a:solidFill>
                        <a:srgbClr val="ffffff"/>
                      </a:solidFill>
                      <a:latin typeface="Arial"/>
                    </a:rPr>
                    <a:t>LT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505320" y="3235320"/>
                  <a:ext cx="209520" cy="127080"/>
                </a:xfrm>
                <a:prstGeom prst="rightArrow">
                  <a:avLst>
                    <a:gd name="adj1" fmla="val 23806"/>
                    <a:gd name="adj2" fmla="val 53339"/>
                  </a:avLst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314960" y="3224160"/>
                  <a:ext cx="209520" cy="127080"/>
                </a:xfrm>
                <a:prstGeom prst="rightArrow">
                  <a:avLst>
                    <a:gd name="adj1" fmla="val 23806"/>
                    <a:gd name="adj2" fmla="val 53339"/>
                  </a:avLst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5400000">
                  <a:off x="5458680" y="3415320"/>
                  <a:ext cx="290520" cy="165240"/>
                </a:xfrm>
                <a:prstGeom prst="rightArrow">
                  <a:avLst>
                    <a:gd name="adj1" fmla="val 26926"/>
                    <a:gd name="adj2" fmla="val 44198"/>
                  </a:avLst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059880" y="3071880"/>
                  <a:ext cx="1100160" cy="415800"/>
                </a:xfrm>
                <a:prstGeom prst="bevel">
                  <a:avLst>
                    <a:gd name="adj" fmla="val 4111"/>
                  </a:avLst>
                </a:pr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1800" spc="-1" strike="noStrike">
                      <a:solidFill>
                        <a:srgbClr val="ffffff"/>
                      </a:solidFill>
                      <a:latin typeface="Arial"/>
                    </a:rPr>
                    <a:t>MEG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214960" y="3646440"/>
                  <a:ext cx="771480" cy="287280"/>
                </a:xfrm>
                <a:prstGeom prst="bevel">
                  <a:avLst>
                    <a:gd name="adj" fmla="val 4111"/>
                  </a:avLst>
                </a:prstGeom>
                <a:solidFill>
                  <a:srgbClr val="ff99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800" spc="-1" strike="noStrike">
                      <a:solidFill>
                        <a:srgbClr val="ffffff"/>
                      </a:solidFill>
                      <a:latin typeface="Arial"/>
                    </a:rPr>
                    <a:t>Turboexpansió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113440" y="3227400"/>
                  <a:ext cx="942840" cy="127080"/>
                </a:xfrm>
                <a:prstGeom prst="rightArrow">
                  <a:avLst>
                    <a:gd name="adj1" fmla="val 25000"/>
                    <a:gd name="adj2" fmla="val 81131"/>
                  </a:avLst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200000">
                  <a:off x="5416920" y="3017520"/>
                  <a:ext cx="369720" cy="5220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200000">
                  <a:off x="6513840" y="3595320"/>
                  <a:ext cx="264960" cy="7164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3" name=""/>
              <p:cNvSpPr/>
              <p:nvPr/>
            </p:nvSpPr>
            <p:spPr>
              <a:xfrm>
                <a:off x="4471920" y="6126120"/>
                <a:ext cx="9730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000" spc="-1" strike="noStrike">
                    <a:solidFill>
                      <a:srgbClr val="ffffff"/>
                    </a:solidFill>
                    <a:latin typeface="Arial"/>
                  </a:rPr>
                  <a:t>3 Plantas L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000" spc="-1" strike="noStrike">
                    <a:solidFill>
                      <a:srgbClr val="ffffff"/>
                    </a:solidFill>
                    <a:latin typeface="Arial"/>
                  </a:rPr>
                  <a:t>1 Dew Poi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200" spc="-1" strike="noStrike">
                    <a:solidFill>
                      <a:srgbClr val="ffffff"/>
                    </a:solidFill>
                    <a:latin typeface="Arial"/>
                  </a:rPr>
                  <a:t>37Mm</a:t>
                </a:r>
                <a:r>
                  <a:rPr b="1" i="1" lang="es-AR" sz="1200" spc="-1" strike="noStrike" baseline="30000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i="1" lang="es-AR" sz="1200" spc="-1" strike="noStrike">
                    <a:solidFill>
                      <a:srgbClr val="ffffff"/>
                    </a:solidFill>
                    <a:latin typeface="Arial"/>
                  </a:rPr>
                  <a:t>/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69760" y="6126120"/>
                <a:ext cx="9928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000" spc="-1" strike="noStrike">
                    <a:solidFill>
                      <a:srgbClr val="ffffff"/>
                    </a:solidFill>
                    <a:latin typeface="Arial"/>
                  </a:rPr>
                  <a:t>Planta Amin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200" spc="-1" strike="noStrike">
                    <a:solidFill>
                      <a:srgbClr val="ffffff"/>
                    </a:solidFill>
                    <a:latin typeface="Arial"/>
                  </a:rPr>
                  <a:t>10Mm</a:t>
                </a:r>
                <a:r>
                  <a:rPr b="1" i="1" lang="es-AR" sz="1200" spc="-1" strike="noStrike" baseline="30000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i="1" lang="es-AR" sz="1200" spc="-1" strike="noStrike">
                    <a:solidFill>
                      <a:srgbClr val="ffffff"/>
                    </a:solidFill>
                    <a:latin typeface="Arial"/>
                  </a:rPr>
                  <a:t>/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460840" y="6110280"/>
                <a:ext cx="7124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000" spc="-1" strike="noStrike">
                    <a:solidFill>
                      <a:srgbClr val="ffffff"/>
                    </a:solidFill>
                    <a:latin typeface="Arial"/>
                  </a:rPr>
                  <a:t>Turboe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200" spc="-1" strike="noStrike">
                    <a:solidFill>
                      <a:srgbClr val="ffffff"/>
                    </a:solidFill>
                    <a:latin typeface="Arial"/>
                  </a:rPr>
                  <a:t>6Mm</a:t>
                </a:r>
                <a:r>
                  <a:rPr b="1" i="1" lang="es-AR" sz="1200" spc="-1" strike="noStrike" baseline="30000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i="1" lang="es-AR" sz="1200" spc="-1" strike="noStrike">
                    <a:solidFill>
                      <a:srgbClr val="ffffff"/>
                    </a:solidFill>
                    <a:latin typeface="Arial"/>
                  </a:rPr>
                  <a:t>/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227280" y="6102360"/>
                <a:ext cx="797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000" spc="-1" strike="noStrike">
                    <a:solidFill>
                      <a:srgbClr val="ffffff"/>
                    </a:solidFill>
                    <a:latin typeface="Arial"/>
                  </a:rPr>
                  <a:t>MEG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200" spc="-1" strike="noStrike">
                    <a:solidFill>
                      <a:srgbClr val="ffffff"/>
                    </a:solidFill>
                    <a:latin typeface="Arial"/>
                  </a:rPr>
                  <a:t>41Mm</a:t>
                </a:r>
                <a:r>
                  <a:rPr b="1" i="1" lang="es-AR" sz="1200" spc="-1" strike="noStrike" baseline="30000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i="1" lang="es-AR" sz="1200" spc="-1" strike="noStrike">
                    <a:solidFill>
                      <a:srgbClr val="ffffff"/>
                    </a:solidFill>
                    <a:latin typeface="Arial"/>
                  </a:rPr>
                  <a:t>/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6001560" y="3782880"/>
              <a:ext cx="1313280" cy="525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6200000">
              <a:off x="7052760" y="3519000"/>
              <a:ext cx="484200" cy="428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5560" y="0"/>
            <a:ext cx="3465360" cy="6858000"/>
            <a:chOff x="25560" y="0"/>
            <a:chExt cx="3465360" cy="6858000"/>
          </a:xfrm>
        </p:grpSpPr>
        <p:sp>
          <p:nvSpPr>
            <p:cNvPr id="460" name=""/>
            <p:cNvSpPr/>
            <p:nvPr/>
          </p:nvSpPr>
          <p:spPr>
            <a:xfrm>
              <a:off x="1201680" y="0"/>
              <a:ext cx="1406520" cy="6858000"/>
            </a:xfrm>
            <a:prstGeom prst="rect">
              <a:avLst/>
            </a:prstGeom>
            <a:solidFill>
              <a:srgbClr val="ff00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54120" y="3076560"/>
              <a:ext cx="703440" cy="181080"/>
            </a:xfrm>
            <a:prstGeom prst="bevel">
              <a:avLst>
                <a:gd name="adj" fmla="val 4111"/>
              </a:avLst>
            </a:prstGeom>
            <a:solidFill>
              <a:srgbClr val="ff33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ffffff"/>
                  </a:solidFill>
                  <a:latin typeface="Arial"/>
                </a:rPr>
                <a:t>US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560" y="2268360"/>
              <a:ext cx="3465360" cy="3070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1400" spc="-1" strike="noStrike">
                  <a:solidFill>
                    <a:srgbClr val="ffffff"/>
                  </a:solidFill>
                  <a:latin typeface="Arial"/>
                </a:rPr>
                <a:t>Up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68520" y="3294000"/>
              <a:ext cx="690480" cy="181080"/>
            </a:xfrm>
            <a:prstGeom prst="bevel">
              <a:avLst>
                <a:gd name="adj" fmla="val 4111"/>
              </a:avLst>
            </a:prstGeom>
            <a:solidFill>
              <a:srgbClr val="ff33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1000" spc="-1" strike="noStrike">
                  <a:solidFill>
                    <a:srgbClr val="ffffff"/>
                  </a:solidFill>
                  <a:latin typeface="Arial"/>
                </a:rPr>
                <a:t>Bateri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22200" y="3110040"/>
              <a:ext cx="324000" cy="133200"/>
            </a:xfrm>
            <a:prstGeom prst="rightArrow">
              <a:avLst>
                <a:gd name="adj1" fmla="val 23806"/>
                <a:gd name="adj2" fmla="val 78694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78080" y="3111480"/>
              <a:ext cx="324000" cy="133200"/>
            </a:xfrm>
            <a:prstGeom prst="rightArrow">
              <a:avLst>
                <a:gd name="adj1" fmla="val 23806"/>
                <a:gd name="adj2" fmla="val 78694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224000" y="3327480"/>
              <a:ext cx="323640" cy="133200"/>
            </a:xfrm>
            <a:prstGeom prst="rightArrow">
              <a:avLst>
                <a:gd name="adj1" fmla="val 23806"/>
                <a:gd name="adj2" fmla="val 78606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76880" y="6099120"/>
              <a:ext cx="54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14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1400" spc="-1" strike="noStrike">
                  <a:solidFill>
                    <a:srgbClr val="ffffff"/>
                  </a:solidFill>
                  <a:latin typeface="Arial"/>
                </a:rPr>
                <a:t>U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0" y="0"/>
            <a:ext cx="1193760" cy="6858000"/>
            <a:chOff x="0" y="0"/>
            <a:chExt cx="1193760" cy="6858000"/>
          </a:xfrm>
        </p:grpSpPr>
        <p:sp>
          <p:nvSpPr>
            <p:cNvPr id="469" name=""/>
            <p:cNvSpPr/>
            <p:nvPr/>
          </p:nvSpPr>
          <p:spPr>
            <a:xfrm>
              <a:off x="0" y="0"/>
              <a:ext cx="1193760" cy="6858000"/>
            </a:xfrm>
            <a:prstGeom prst="rect">
              <a:avLst/>
            </a:prstGeom>
            <a:solidFill>
              <a:srgbClr val="ffff00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560" y="3081240"/>
              <a:ext cx="1141200" cy="416160"/>
            </a:xfrm>
            <a:prstGeom prst="bevel">
              <a:avLst>
                <a:gd name="adj" fmla="val 4111"/>
              </a:avLst>
            </a:prstGeom>
            <a:solidFill>
              <a:srgbClr val="ff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2000" spc="-1" strike="noStrike">
                  <a:solidFill>
                    <a:srgbClr val="000000"/>
                  </a:solidFill>
                  <a:latin typeface="Arial"/>
                </a:rPr>
                <a:t>Poz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8680" y="6049800"/>
              <a:ext cx="677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1400" spc="-1" strike="noStrike">
                  <a:solidFill>
                    <a:srgbClr val="ffffff"/>
                  </a:solidFill>
                  <a:latin typeface="Arial"/>
                </a:rPr>
                <a:t>33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1400" spc="-1" strike="noStrike">
                  <a:solidFill>
                    <a:srgbClr val="ffffff"/>
                  </a:solidFill>
                  <a:latin typeface="Arial"/>
                </a:rPr>
                <a:t>Poz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 rot="5400000">
            <a:off x="4971600" y="4401720"/>
            <a:ext cx="1225440" cy="311400"/>
          </a:xfrm>
          <a:prstGeom prst="rightArrow">
            <a:avLst>
              <a:gd name="adj1" fmla="val 23685"/>
              <a:gd name="adj2" fmla="val 41812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03880" y="1646280"/>
            <a:ext cx="261720" cy="2412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AR" sz="1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5400000">
            <a:off x="1080720" y="4027680"/>
            <a:ext cx="1333440" cy="311040"/>
          </a:xfrm>
          <a:prstGeom prst="rightArrow">
            <a:avLst>
              <a:gd name="adj1" fmla="val 23472"/>
              <a:gd name="adj2" fmla="val 5206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1278000"/>
            <a:ext cx="9906120" cy="615960"/>
          </a:xfrm>
          <a:prstGeom prst="rightArrow">
            <a:avLst>
              <a:gd name="adj1" fmla="val 52574"/>
              <a:gd name="adj2" fmla="val 8517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95240" y="1254240"/>
            <a:ext cx="497160" cy="4572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8160" y="1603440"/>
            <a:ext cx="498600" cy="4586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1573200"/>
            <a:ext cx="496800" cy="45864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AR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1254240"/>
            <a:ext cx="496800" cy="45720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s-AR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560" y="890640"/>
            <a:ext cx="4950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AR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19040" y="731880"/>
            <a:ext cx="496800" cy="45864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AR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31920" y="1830240"/>
            <a:ext cx="496800" cy="45900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s-AR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4360" y="1374840"/>
            <a:ext cx="39060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27040" y="1454040"/>
            <a:ext cx="370080" cy="34128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AR" sz="1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s-AR" sz="1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54320" y="482112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Condens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Petrol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5400000">
            <a:off x="1454400" y="4024800"/>
            <a:ext cx="1339920" cy="312840"/>
          </a:xfrm>
          <a:prstGeom prst="rightArrow">
            <a:avLst>
              <a:gd name="adj1" fmla="val 23472"/>
              <a:gd name="adj2" fmla="val 53796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15640" y="48927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Agu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889280" y="1244520"/>
            <a:ext cx="144360" cy="131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AR" sz="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AR" sz="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622600" y="0"/>
            <a:ext cx="934920" cy="6858000"/>
            <a:chOff x="2622600" y="0"/>
            <a:chExt cx="934920" cy="6858000"/>
          </a:xfrm>
        </p:grpSpPr>
        <p:sp>
          <p:nvSpPr>
            <p:cNvPr id="490" name=""/>
            <p:cNvSpPr/>
            <p:nvPr/>
          </p:nvSpPr>
          <p:spPr>
            <a:xfrm>
              <a:off x="2622600" y="0"/>
              <a:ext cx="934920" cy="6858000"/>
            </a:xfrm>
            <a:prstGeom prst="rect">
              <a:avLst/>
            </a:prstGeom>
            <a:solidFill>
              <a:srgbClr val="0099ff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73360" y="3071880"/>
              <a:ext cx="843120" cy="415800"/>
            </a:xfrm>
            <a:prstGeom prst="bevel">
              <a:avLst>
                <a:gd name="adj" fmla="val 4111"/>
              </a:avLst>
            </a:prstGeom>
            <a:solidFill>
              <a:srgbClr val="0000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1200" spc="-1" strike="noStrike">
                  <a:solidFill>
                    <a:srgbClr val="ffffff"/>
                  </a:solidFill>
                  <a:latin typeface="Arial"/>
                </a:rPr>
                <a:t>Compre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657520" y="6103800"/>
              <a:ext cx="77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1400" spc="-1" strike="noStrike">
                  <a:solidFill>
                    <a:srgbClr val="ffffff"/>
                  </a:solidFill>
                  <a:latin typeface="Arial"/>
                </a:rPr>
                <a:t>100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1400" spc="-1" strike="noStrike">
                  <a:solidFill>
                    <a:srgbClr val="ffffff"/>
                  </a:solidFill>
                  <a:latin typeface="Arial"/>
                </a:rPr>
                <a:t>H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 rot="5400000">
            <a:off x="3357000" y="4028760"/>
            <a:ext cx="1339920" cy="311400"/>
          </a:xfrm>
          <a:prstGeom prst="rightArrow">
            <a:avLst>
              <a:gd name="adj1" fmla="val 23472"/>
              <a:gd name="adj2" fmla="val 54045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41840" y="481968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Diox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Carbo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46600" y="1714680"/>
            <a:ext cx="212760" cy="19656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s-AR" sz="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5400000">
            <a:off x="3970080" y="4011480"/>
            <a:ext cx="1314360" cy="311040"/>
          </a:xfrm>
          <a:prstGeom prst="rightArrow">
            <a:avLst>
              <a:gd name="adj1" fmla="val 23685"/>
              <a:gd name="adj2" fmla="val 44898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21440" y="481320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Gasoli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492800" y="1657440"/>
            <a:ext cx="212400" cy="1969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200" spc="-1" strike="noStrike" baseline="-25000">
                <a:solidFill>
                  <a:srgbClr val="000000"/>
                </a:solidFill>
                <a:latin typeface="Arial"/>
              </a:rPr>
              <a:t>5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289840" y="5106960"/>
            <a:ext cx="58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Prop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But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Gasoli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665680" y="1459080"/>
            <a:ext cx="262080" cy="2412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89720" y="1620720"/>
            <a:ext cx="261720" cy="2415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905120" y="2814480"/>
            <a:ext cx="4803480" cy="260640"/>
            <a:chOff x="1905120" y="2814480"/>
            <a:chExt cx="4803480" cy="260640"/>
          </a:xfrm>
        </p:grpSpPr>
        <p:sp>
          <p:nvSpPr>
            <p:cNvPr id="503" name=""/>
            <p:cNvSpPr/>
            <p:nvPr/>
          </p:nvSpPr>
          <p:spPr>
            <a:xfrm rot="16200000">
              <a:off x="2960640" y="2943000"/>
              <a:ext cx="217440" cy="428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1905120" y="2814480"/>
              <a:ext cx="4803480" cy="260640"/>
              <a:chOff x="1905120" y="2814480"/>
              <a:chExt cx="4803480" cy="260640"/>
            </a:xfrm>
          </p:grpSpPr>
          <p:sp>
            <p:nvSpPr>
              <p:cNvPr id="505" name=""/>
              <p:cNvSpPr/>
              <p:nvPr/>
            </p:nvSpPr>
            <p:spPr>
              <a:xfrm>
                <a:off x="1905120" y="2814480"/>
                <a:ext cx="4759200" cy="4320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6200000">
                <a:off x="1819080" y="2944800"/>
                <a:ext cx="217440" cy="4284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5400000">
                <a:off x="6540480" y="2897280"/>
                <a:ext cx="209520" cy="126720"/>
              </a:xfrm>
              <a:prstGeom prst="rightArrow">
                <a:avLst>
                  <a:gd name="adj1" fmla="val 23806"/>
                  <a:gd name="adj2" fmla="val 5349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8" name=""/>
          <p:cNvSpPr/>
          <p:nvPr/>
        </p:nvSpPr>
        <p:spPr>
          <a:xfrm>
            <a:off x="6319800" y="1622520"/>
            <a:ext cx="262080" cy="2412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AR" sz="1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5400000">
            <a:off x="5987880" y="4363920"/>
            <a:ext cx="1312920" cy="312480"/>
          </a:xfrm>
          <a:prstGeom prst="rightArrow">
            <a:avLst>
              <a:gd name="adj1" fmla="val 23472"/>
              <a:gd name="adj2" fmla="val 33691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366240" y="5130720"/>
            <a:ext cx="58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Et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Prop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But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Gasoli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740640" y="1457280"/>
            <a:ext cx="261720" cy="2412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47040" y="1636560"/>
            <a:ext cx="261720" cy="2415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49920" y="1276200"/>
            <a:ext cx="262080" cy="24156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78120" y="1300320"/>
            <a:ext cx="192240" cy="176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40040" y="1387440"/>
            <a:ext cx="39060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2360" y="1338120"/>
            <a:ext cx="160200" cy="14616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02200" y="1481040"/>
            <a:ext cx="160200" cy="1461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44960" y="1639800"/>
            <a:ext cx="160200" cy="1476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5400000">
            <a:off x="4328280" y="4012560"/>
            <a:ext cx="1309680" cy="311040"/>
          </a:xfrm>
          <a:prstGeom prst="rightArrow">
            <a:avLst>
              <a:gd name="adj1" fmla="val 23685"/>
              <a:gd name="adj2" fmla="val 44738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784040" y="481644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Agu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43280" y="1200240"/>
            <a:ext cx="262080" cy="2412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AR" sz="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AR" sz="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705120" y="1670040"/>
            <a:ext cx="157320" cy="1461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44800" y="1236600"/>
            <a:ext cx="193680" cy="17784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518000" y="1308240"/>
            <a:ext cx="190440" cy="176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48240" y="1389240"/>
            <a:ext cx="39060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34080" y="1339920"/>
            <a:ext cx="160200" cy="14616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910040" y="1476360"/>
            <a:ext cx="160560" cy="1461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53160" y="1641600"/>
            <a:ext cx="160200" cy="1476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22840" y="1282680"/>
            <a:ext cx="96840" cy="889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89360" y="1755720"/>
            <a:ext cx="93600" cy="8568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62640" y="1716120"/>
            <a:ext cx="79200" cy="7308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76960" y="1303200"/>
            <a:ext cx="190440" cy="176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400720" y="1397160"/>
            <a:ext cx="39060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673600" y="1360440"/>
            <a:ext cx="160560" cy="14616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56400" y="1541520"/>
            <a:ext cx="79200" cy="7308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692680" y="1662120"/>
            <a:ext cx="82800" cy="7632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48320" y="1731960"/>
            <a:ext cx="93600" cy="8568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392880" y="1335240"/>
            <a:ext cx="190440" cy="176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16640" y="1409760"/>
            <a:ext cx="39060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21560" y="1417680"/>
            <a:ext cx="79200" cy="7308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772320" y="1528920"/>
            <a:ext cx="79200" cy="7272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715080" y="1668600"/>
            <a:ext cx="82440" cy="759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8120" y="1744560"/>
            <a:ext cx="93600" cy="8568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352000" y="1351080"/>
            <a:ext cx="190440" cy="176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375760" y="1425600"/>
            <a:ext cx="39024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680320" y="1433520"/>
            <a:ext cx="81000" cy="7308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731080" y="1544760"/>
            <a:ext cx="79560" cy="7308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674200" y="1684440"/>
            <a:ext cx="82440" cy="759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516880" y="1760400"/>
            <a:ext cx="93600" cy="8604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677960" y="1303200"/>
            <a:ext cx="190440" cy="176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862280" y="1731960"/>
            <a:ext cx="183960" cy="16992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739880" y="1390680"/>
            <a:ext cx="39060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33640" y="1341360"/>
            <a:ext cx="158760" cy="14616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01680" y="1484280"/>
            <a:ext cx="160560" cy="1461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044800" y="1643040"/>
            <a:ext cx="160200" cy="1476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03520" y="1673280"/>
            <a:ext cx="158760" cy="1461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903840" y="1760400"/>
            <a:ext cx="93600" cy="8604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58480" y="317160"/>
            <a:ext cx="5924520" cy="399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Black"/>
              </a:rPr>
              <a:t>Procesamiento del Gas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"/>
          <p:cNvSpPr/>
          <p:nvPr/>
        </p:nvSpPr>
        <p:spPr>
          <a:xfrm>
            <a:off x="1862280" y="1225440"/>
            <a:ext cx="193680" cy="17784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7172280" y="2263680"/>
            <a:ext cx="2733480" cy="2518200"/>
            <a:chOff x="7172280" y="2263680"/>
            <a:chExt cx="2733480" cy="2518200"/>
          </a:xfrm>
        </p:grpSpPr>
        <p:sp>
          <p:nvSpPr>
            <p:cNvPr id="561" name=""/>
            <p:cNvSpPr/>
            <p:nvPr/>
          </p:nvSpPr>
          <p:spPr>
            <a:xfrm>
              <a:off x="7172280" y="3201840"/>
              <a:ext cx="285120" cy="155880"/>
            </a:xfrm>
            <a:prstGeom prst="rightArrow">
              <a:avLst>
                <a:gd name="adj1" fmla="val 23806"/>
                <a:gd name="adj2" fmla="val 59174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7178040" y="2263680"/>
              <a:ext cx="2727720" cy="2518200"/>
              <a:chOff x="7178040" y="2263680"/>
              <a:chExt cx="2727720" cy="2518200"/>
            </a:xfrm>
          </p:grpSpPr>
          <p:sp>
            <p:nvSpPr>
              <p:cNvPr id="563" name=""/>
              <p:cNvSpPr/>
              <p:nvPr/>
            </p:nvSpPr>
            <p:spPr>
              <a:xfrm>
                <a:off x="7178040" y="2263680"/>
                <a:ext cx="2727720" cy="3070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400" spc="-1" strike="noStrike">
                    <a:solidFill>
                      <a:srgbClr val="ffffff"/>
                    </a:solidFill>
                    <a:latin typeface="Arial"/>
                  </a:rPr>
                  <a:t>Upstrea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466760" y="3063960"/>
                <a:ext cx="1140840" cy="415800"/>
              </a:xfrm>
              <a:prstGeom prst="bevel">
                <a:avLst>
                  <a:gd name="adj" fmla="val 4111"/>
                </a:avLst>
              </a:prstGeom>
              <a:solidFill>
                <a:srgbClr val="ffcc0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200" spc="-1" strike="noStrike">
                    <a:solidFill>
                      <a:srgbClr val="000000"/>
                    </a:solidFill>
                    <a:latin typeface="Arial"/>
                  </a:rPr>
                  <a:t>Transpor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89840" y="3065400"/>
                <a:ext cx="1015560" cy="416160"/>
              </a:xfrm>
              <a:prstGeom prst="bevel">
                <a:avLst>
                  <a:gd name="adj" fmla="val 4111"/>
                </a:avLst>
              </a:prstGeom>
              <a:solidFill>
                <a:srgbClr val="ffcc0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200" spc="-1" strike="noStrike">
                    <a:solidFill>
                      <a:srgbClr val="000000"/>
                    </a:solidFill>
                    <a:latin typeface="Arial"/>
                  </a:rPr>
                  <a:t>Distribu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6200000">
                <a:off x="8336880" y="3147840"/>
                <a:ext cx="81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200" spc="-1" strike="noStrike">
                    <a:solidFill>
                      <a:srgbClr val="ffffff"/>
                    </a:solidFill>
                    <a:latin typeface="Arial"/>
                  </a:rPr>
                  <a:t>City G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707240" y="3890880"/>
                <a:ext cx="607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600" spc="-1" strike="noStrike">
                    <a:solidFill>
                      <a:srgbClr val="ffffff"/>
                    </a:solidFill>
                    <a:latin typeface="Arial"/>
                  </a:rPr>
                  <a:t>TG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600" spc="-1" strike="noStrike">
                    <a:solidFill>
                      <a:srgbClr val="ffffff"/>
                    </a:solidFill>
                    <a:latin typeface="Arial"/>
                  </a:rPr>
                  <a:t>TG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934480" y="3835440"/>
                <a:ext cx="924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400" spc="-1" strike="noStrike">
                    <a:solidFill>
                      <a:srgbClr val="ffffff"/>
                    </a:solidFill>
                    <a:latin typeface="Arial"/>
                  </a:rPr>
                  <a:t>Metrog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400" spc="-1" strike="noStrike">
                    <a:solidFill>
                      <a:srgbClr val="ffffff"/>
                    </a:solidFill>
                    <a:latin typeface="Arial"/>
                  </a:rPr>
                  <a:t>GasB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400" spc="-1" strike="noStrike">
                    <a:solidFill>
                      <a:srgbClr val="ffffff"/>
                    </a:solidFill>
                    <a:latin typeface="Arial"/>
                  </a:rPr>
                  <a:t>Camuzz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400" spc="-1" strike="noStrike">
                    <a:solidFill>
                      <a:srgbClr val="ffffff"/>
                    </a:solidFill>
                    <a:latin typeface="Arial"/>
                  </a:rPr>
                  <a:t>otr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9" name=""/>
          <p:cNvSpPr/>
          <p:nvPr/>
        </p:nvSpPr>
        <p:spPr>
          <a:xfrm>
            <a:off x="668160" y="1009800"/>
            <a:ext cx="498600" cy="45720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72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29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74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29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76" dur="2000" fill="hold"/>
                                        <p:tgtEl>
                                          <p:spTgt spid="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29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78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29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80" dur="20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29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82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29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84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29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86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5 3.7037E-007 C -0.00305 0.00602 -0.00978 0.01227 -0.01635 0.025 C -0.02292 0.03773 -0.03221 0.05926 -0.03606 0.07708 C -0.0399 0.09491 -0.03942 0.11319 -0.0399 0.13264 C -0.04039 0.15208 -0.04007 0.17153 -0.03894 0.19444 C -0.03782 0.21736 -0.03574 0.24861 -0.03269 0.27014 C -0.02965 0.29167 -0.0274 0.30648 -0.02067 0.32431 C -0.01394 0.34213 0.0032 0.36829 0.00769 0.37708 E">
                                      <p:cBhvr>
                                        <p:cTn id="167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8 0.0037 C 0.01426 0.01458 0.0274 0.02546 0.03653 0.04675 C 0.04567 0.06805 0.05176 0.10416 0.0556 0.13125 C 0.05945 0.15833 0.06009 0.18055 0.05961 0.20972 C 0.05913 0.23888 0.05993 0.27175 0.05288 0.30578 C 0.04583 0.33981 0.03157 0.37662 0.01746 0.41342 E">
                                      <p:cBhvr>
                                        <p:cTn id="169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69231E-007 -2.59259E-006 C 0.00641 0.00764 0.01298 0.01551 0.01779 0.02778 C 0.0226 0.04005 0.02564 0.05348 0.02885 0.07362 C 0.03205 0.09375 0.0351 0.12431 0.03702 0.14931 C 0.03894 0.17431 0.0407 0.20209 0.04038 0.22431 C 0.04006 0.24653 0.0367 0.26783 0.03461 0.28334 C 0.03253 0.29885 0.03253 0.30718 0.02788 0.31737 C 0.02324 0.32755 0.01522 0.33588 0.00721 0.34445 E">
                                      <p:cBhvr>
                                        <p:cTn id="261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561 0.0125 -0.01105 0.02523 -0.01538 0.03796 C -0.01971 0.0507 -0.02323 0.0632 -0.02628 0.07685 C -0.02932 0.09051 -0.03141 0.10486 -0.03333 0.12037 C -0.03525 0.13588 -0.0367 0.15139 -0.03782 0.16945 C -0.03894 0.1875 -0.04054 0.20903 -0.04038 0.22871 C -0.04022 0.24838 -0.04022 0.2669 -0.03718 0.28704 C -0.03413 0.30718 -0.029 0.33264 -0.02243 0.35 C -0.01586 0.36736 -0.00208 0.38496 0.00193 0.39167 E">
                                      <p:cBhvr>
                                        <p:cTn id="336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02 0.01713 0.0242 0.03449 0.03206 0.06019 C 0.03991 0.08588 0.04311 0.12523 0.0468 0.15371 C 0.05049 0.18218 0.05337 0.20533 0.05385 0.23056 C 0.05433 0.25579 0.05241 0.28264 0.05 0.30556 C 0.0476 0.32847 0.04263 0.35162 0.03975 0.36852 C 0.03686 0.38542 0.03622 0.3919 0.0327 0.40648 C 0.02917 0.42107 0.02388 0.4382 0.01859 0.45556 E">
                                      <p:cBhvr>
                                        <p:cTn id="338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137 0.01805 -0.02259 0.03611 -0.02948 0.05926 C -0.03637 0.08241 -0.03894 0.11227 -0.04166 0.13889 C -0.04439 0.16551 -0.04855 0.18843 -0.04615 0.21944 C -0.04375 0.25046 -0.03381 0.29861 -0.02692 0.325 C -0.02003 0.35139 -0.01121 0.36505 -0.00512 0.37778 C 0.00097 0.39051 0.00113 0.39606 0.00962 0.40093 E">
                                      <p:cBhvr>
                                        <p:cTn id="416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41 0.01227 0.01298 0.02477 0.01795 0.03704 C 0.02292 0.04931 0.02644 0.06134 0.02949 0.07315 C 0.03253 0.08495 0.03494 0.09167 0.03654 0.10741 C 0.03814 0.12315 0.03958 0.14606 0.0391 0.16759 C 0.03862 0.18912 0.0367 0.21412 0.03333 0.23611 C 0.02997 0.2581 0.02484 0.27708 0.01923 0.3 C 0.01362 0.32292 0.00545 0.35532 0 0.37315 C -0.00545 0.39097 -0.01106 0.40116 -0.01346 0.40648 E">
                                      <p:cBhvr>
                                        <p:cTn id="418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89 0.01968 0.01394 0.03959 0.01859 0.05741 C 0.02323 0.07523 0.025 0.0882 0.02756 0.10648 C 0.03012 0.12477 0.03253 0.1463 0.03397 0.1676 C 0.03541 0.18889 0.03621 0.21459 0.03653 0.23426 C 0.03686 0.25394 0.03718 0.26736 0.03589 0.28611 C 0.03461 0.30486 0.03205 0.32963 0.02884 0.34723 C 0.02564 0.36482 0.02163 0.37986 0.01666 0.39167 C 0.01169 0.40348 0.00176 0.41436 -0.00129 0.41852 E">
                                      <p:cBhvr>
                                        <p:cTn id="420" dur="2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69 0.01343 -0.01538 0.02708 -0.02115 0.04167 C -0.02692 0.05625 -0.03061 0.07037 -0.03461 0.08704 C -0.03862 0.10371 -0.04263 0.12384 -0.04551 0.14167 C -0.0484 0.15949 -0.05128 0.17755 -0.05192 0.19445 C -0.05256 0.21134 -0.05208 0.22523 -0.04936 0.24259 C -0.04663 0.25996 -0.04086 0.28102 -0.0359 0.29908 C -0.03093 0.31713 -0.02388 0.33704 -0.01923 0.35093 C -0.01458 0.36482 -0.01266 0.37384 -0.00769 0.38241 C -0.00272 0.39097 0.00401 0.39676 0.0109 0.40278 E">
                                      <p:cBhvr>
                                        <p:cTn id="494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05 0.01597 0.01426 0.03218 0.01859 0.04537 C 0.02291 0.05856 0.02356 0.06389 0.02628 0.0787 C 0.029 0.09352 0.03317 0.11782 0.03525 0.13426 C 0.03734 0.15069 0.0383 0.15949 0.0391 0.17685 C 0.0399 0.19421 0.04134 0.21968 0.04038 0.23796 C 0.03942 0.25625 0.03622 0.27083 0.03333 0.28704 C 0.03045 0.30324 0.02644 0.31968 0.02307 0.33518 C 0.01971 0.35069 0.01618 0.36829 0.01346 0.37963 C 0.01073 0.39097 0.00913 0.39699 0.00641 0.4037 C 0.00368 0.41042 0.00048 0.41481 -0.00257 0.41944 E">
                                      <p:cBhvr>
                                        <p:cTn id="496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37 0.01667 0.01474 0.03357 0.01987 0.05648 C 0.025 0.0794 0.02837 0.11412 0.03077 0.13704 C 0.03317 0.15996 0.03349 0.17685 0.03397 0.19445 C 0.03446 0.21204 0.03574 0.22338 0.03333 0.24259 C 0.03093 0.26181 0.02388 0.29375 0.01923 0.31019 C 0.01458 0.32662 0.0101 0.33079 0.00577 0.34074 C 0.00144 0.3507 -0.00272 0.35972 -0.00705 0.36945 C -0.01138 0.37917 -0.01603 0.38912 -0.02051 0.39908 E">
                                      <p:cBhvr>
                                        <p:cTn id="498" dur="2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57 0.01574 -0.01298 0.03171 -0.01795 0.04722 C -0.02292 0.06273 -0.0258 0.07477 -0.03013 0.09352 C -0.03445 0.11227 -0.0407 0.13866 -0.04359 0.16018 C -0.04647 0.18171 -0.04663 0.19861 -0.04743 0.22222 C -0.04824 0.24583 -0.04968 0.28009 -0.04872 0.30185 C -0.04776 0.32361 -0.04583 0.33403 -0.04167 0.35278 C -0.0375 0.37153 -0.02676 0.4037 -0.02372 0.41389 E">
                                      <p:cBhvr>
                                        <p:cTn id="500" dur="2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558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29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560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29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562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29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564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path" presetID="29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566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76200" y="365040"/>
            <a:ext cx="70596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 Black"/>
              </a:rPr>
              <a:t>Sistema General de Distribución de Gas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"/>
          <p:cNvSpPr/>
          <p:nvPr/>
        </p:nvSpPr>
        <p:spPr>
          <a:xfrm>
            <a:off x="4506840" y="5227560"/>
            <a:ext cx="4381560" cy="180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370400" y="1720800"/>
            <a:ext cx="4298760" cy="1023840"/>
          </a:xfrm>
          <a:custGeom>
            <a:avLst/>
            <a:gdLst/>
            <a:ahLst/>
            <a:rect l="l" t="t" r="r" b="b"/>
            <a:pathLst>
              <a:path w="2708" h="645">
                <a:moveTo>
                  <a:pt x="0" y="189"/>
                </a:moveTo>
                <a:lnTo>
                  <a:pt x="336" y="189"/>
                </a:lnTo>
                <a:lnTo>
                  <a:pt x="1126" y="645"/>
                </a:lnTo>
                <a:lnTo>
                  <a:pt x="2321" y="34"/>
                </a:lnTo>
                <a:lnTo>
                  <a:pt x="2708" y="0"/>
                </a:lnTo>
              </a:path>
            </a:pathLst>
          </a:custGeom>
          <a:noFill/>
          <a:ln w="2844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40200" y="966960"/>
            <a:ext cx="1479600" cy="2154240"/>
          </a:xfrm>
          <a:custGeom>
            <a:avLst/>
            <a:gdLst/>
            <a:ahLst/>
            <a:rect l="l" t="t" r="r" b="b"/>
            <a:pathLst>
              <a:path w="932" h="1357">
                <a:moveTo>
                  <a:pt x="932" y="1357"/>
                </a:moveTo>
                <a:lnTo>
                  <a:pt x="924" y="36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99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214880" y="5059440"/>
            <a:ext cx="312840" cy="307800"/>
          </a:xfrm>
          <a:custGeom>
            <a:avLst/>
            <a:gdLst/>
            <a:ahLst/>
            <a:rect l="l" t="t" r="r" b="b"/>
            <a:pathLst>
              <a:path w="219" h="238">
                <a:moveTo>
                  <a:pt x="0" y="0"/>
                </a:moveTo>
                <a:lnTo>
                  <a:pt x="0" y="237"/>
                </a:lnTo>
                <a:lnTo>
                  <a:pt x="218" y="177"/>
                </a:lnTo>
                <a:lnTo>
                  <a:pt x="218" y="58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06320" y="5850000"/>
            <a:ext cx="18576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6320" y="5850000"/>
            <a:ext cx="18576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960480" y="2803680"/>
            <a:ext cx="6222960" cy="2604960"/>
          </a:xfrm>
          <a:custGeom>
            <a:avLst/>
            <a:gdLst/>
            <a:ahLst/>
            <a:rect l="l" t="t" r="r" b="b"/>
            <a:pathLst>
              <a:path w="4357" h="2010">
                <a:moveTo>
                  <a:pt x="44" y="331"/>
                </a:moveTo>
                <a:lnTo>
                  <a:pt x="45" y="337"/>
                </a:lnTo>
                <a:lnTo>
                  <a:pt x="47" y="344"/>
                </a:lnTo>
                <a:lnTo>
                  <a:pt x="50" y="352"/>
                </a:lnTo>
                <a:lnTo>
                  <a:pt x="57" y="359"/>
                </a:lnTo>
                <a:lnTo>
                  <a:pt x="63" y="366"/>
                </a:lnTo>
                <a:lnTo>
                  <a:pt x="70" y="372"/>
                </a:lnTo>
                <a:lnTo>
                  <a:pt x="76" y="376"/>
                </a:lnTo>
                <a:lnTo>
                  <a:pt x="83" y="377"/>
                </a:lnTo>
                <a:lnTo>
                  <a:pt x="83" y="422"/>
                </a:lnTo>
                <a:lnTo>
                  <a:pt x="99" y="438"/>
                </a:lnTo>
                <a:lnTo>
                  <a:pt x="106" y="439"/>
                </a:lnTo>
                <a:lnTo>
                  <a:pt x="111" y="440"/>
                </a:lnTo>
                <a:lnTo>
                  <a:pt x="116" y="443"/>
                </a:lnTo>
                <a:lnTo>
                  <a:pt x="122" y="447"/>
                </a:lnTo>
                <a:lnTo>
                  <a:pt x="125" y="452"/>
                </a:lnTo>
                <a:lnTo>
                  <a:pt x="128" y="458"/>
                </a:lnTo>
                <a:lnTo>
                  <a:pt x="132" y="464"/>
                </a:lnTo>
                <a:lnTo>
                  <a:pt x="132" y="469"/>
                </a:lnTo>
                <a:lnTo>
                  <a:pt x="179" y="469"/>
                </a:lnTo>
                <a:lnTo>
                  <a:pt x="179" y="453"/>
                </a:lnTo>
                <a:lnTo>
                  <a:pt x="277" y="453"/>
                </a:lnTo>
                <a:lnTo>
                  <a:pt x="277" y="438"/>
                </a:lnTo>
                <a:lnTo>
                  <a:pt x="282" y="435"/>
                </a:lnTo>
                <a:lnTo>
                  <a:pt x="288" y="434"/>
                </a:lnTo>
                <a:lnTo>
                  <a:pt x="294" y="433"/>
                </a:lnTo>
                <a:lnTo>
                  <a:pt x="302" y="433"/>
                </a:lnTo>
                <a:lnTo>
                  <a:pt x="311" y="434"/>
                </a:lnTo>
                <a:lnTo>
                  <a:pt x="321" y="435"/>
                </a:lnTo>
                <a:lnTo>
                  <a:pt x="332" y="436"/>
                </a:lnTo>
                <a:lnTo>
                  <a:pt x="343" y="438"/>
                </a:lnTo>
                <a:lnTo>
                  <a:pt x="353" y="440"/>
                </a:lnTo>
                <a:lnTo>
                  <a:pt x="362" y="441"/>
                </a:lnTo>
                <a:lnTo>
                  <a:pt x="372" y="442"/>
                </a:lnTo>
                <a:lnTo>
                  <a:pt x="381" y="442"/>
                </a:lnTo>
                <a:lnTo>
                  <a:pt x="389" y="442"/>
                </a:lnTo>
                <a:lnTo>
                  <a:pt x="396" y="442"/>
                </a:lnTo>
                <a:lnTo>
                  <a:pt x="402" y="440"/>
                </a:lnTo>
                <a:lnTo>
                  <a:pt x="406" y="438"/>
                </a:lnTo>
                <a:lnTo>
                  <a:pt x="406" y="422"/>
                </a:lnTo>
                <a:lnTo>
                  <a:pt x="438" y="422"/>
                </a:lnTo>
                <a:lnTo>
                  <a:pt x="487" y="377"/>
                </a:lnTo>
                <a:lnTo>
                  <a:pt x="487" y="345"/>
                </a:lnTo>
                <a:lnTo>
                  <a:pt x="503" y="345"/>
                </a:lnTo>
                <a:lnTo>
                  <a:pt x="503" y="315"/>
                </a:lnTo>
                <a:lnTo>
                  <a:pt x="519" y="315"/>
                </a:lnTo>
                <a:lnTo>
                  <a:pt x="526" y="304"/>
                </a:lnTo>
                <a:lnTo>
                  <a:pt x="532" y="292"/>
                </a:lnTo>
                <a:lnTo>
                  <a:pt x="541" y="282"/>
                </a:lnTo>
                <a:lnTo>
                  <a:pt x="551" y="274"/>
                </a:lnTo>
                <a:lnTo>
                  <a:pt x="562" y="265"/>
                </a:lnTo>
                <a:lnTo>
                  <a:pt x="577" y="259"/>
                </a:lnTo>
                <a:lnTo>
                  <a:pt x="595" y="255"/>
                </a:lnTo>
                <a:lnTo>
                  <a:pt x="616" y="254"/>
                </a:lnTo>
                <a:lnTo>
                  <a:pt x="633" y="239"/>
                </a:lnTo>
                <a:lnTo>
                  <a:pt x="633" y="238"/>
                </a:lnTo>
                <a:lnTo>
                  <a:pt x="635" y="234"/>
                </a:lnTo>
                <a:lnTo>
                  <a:pt x="639" y="228"/>
                </a:lnTo>
                <a:lnTo>
                  <a:pt x="641" y="222"/>
                </a:lnTo>
                <a:lnTo>
                  <a:pt x="643" y="214"/>
                </a:lnTo>
                <a:lnTo>
                  <a:pt x="647" y="207"/>
                </a:lnTo>
                <a:lnTo>
                  <a:pt x="648" y="199"/>
                </a:lnTo>
                <a:lnTo>
                  <a:pt x="649" y="192"/>
                </a:lnTo>
                <a:lnTo>
                  <a:pt x="657" y="191"/>
                </a:lnTo>
                <a:lnTo>
                  <a:pt x="667" y="185"/>
                </a:lnTo>
                <a:lnTo>
                  <a:pt x="677" y="178"/>
                </a:lnTo>
                <a:lnTo>
                  <a:pt x="687" y="168"/>
                </a:lnTo>
                <a:lnTo>
                  <a:pt x="699" y="159"/>
                </a:lnTo>
                <a:lnTo>
                  <a:pt x="707" y="149"/>
                </a:lnTo>
                <a:lnTo>
                  <a:pt x="712" y="139"/>
                </a:lnTo>
                <a:lnTo>
                  <a:pt x="713" y="133"/>
                </a:lnTo>
                <a:lnTo>
                  <a:pt x="747" y="133"/>
                </a:lnTo>
                <a:lnTo>
                  <a:pt x="747" y="102"/>
                </a:lnTo>
                <a:lnTo>
                  <a:pt x="763" y="87"/>
                </a:lnTo>
                <a:lnTo>
                  <a:pt x="771" y="86"/>
                </a:lnTo>
                <a:lnTo>
                  <a:pt x="779" y="82"/>
                </a:lnTo>
                <a:lnTo>
                  <a:pt x="790" y="78"/>
                </a:lnTo>
                <a:lnTo>
                  <a:pt x="801" y="71"/>
                </a:lnTo>
                <a:lnTo>
                  <a:pt x="812" y="67"/>
                </a:lnTo>
                <a:lnTo>
                  <a:pt x="821" y="61"/>
                </a:lnTo>
                <a:lnTo>
                  <a:pt x="826" y="58"/>
                </a:lnTo>
                <a:lnTo>
                  <a:pt x="827" y="57"/>
                </a:lnTo>
                <a:lnTo>
                  <a:pt x="843" y="57"/>
                </a:lnTo>
                <a:lnTo>
                  <a:pt x="860" y="87"/>
                </a:lnTo>
                <a:lnTo>
                  <a:pt x="861" y="82"/>
                </a:lnTo>
                <a:lnTo>
                  <a:pt x="865" y="79"/>
                </a:lnTo>
                <a:lnTo>
                  <a:pt x="870" y="75"/>
                </a:lnTo>
                <a:lnTo>
                  <a:pt x="878" y="73"/>
                </a:lnTo>
                <a:lnTo>
                  <a:pt x="886" y="72"/>
                </a:lnTo>
                <a:lnTo>
                  <a:pt x="893" y="71"/>
                </a:lnTo>
                <a:lnTo>
                  <a:pt x="902" y="71"/>
                </a:lnTo>
                <a:lnTo>
                  <a:pt x="908" y="71"/>
                </a:lnTo>
                <a:lnTo>
                  <a:pt x="926" y="57"/>
                </a:lnTo>
                <a:lnTo>
                  <a:pt x="926" y="41"/>
                </a:lnTo>
                <a:lnTo>
                  <a:pt x="941" y="41"/>
                </a:lnTo>
                <a:lnTo>
                  <a:pt x="941" y="26"/>
                </a:lnTo>
                <a:lnTo>
                  <a:pt x="957" y="10"/>
                </a:lnTo>
                <a:lnTo>
                  <a:pt x="990" y="10"/>
                </a:lnTo>
                <a:lnTo>
                  <a:pt x="995" y="8"/>
                </a:lnTo>
                <a:lnTo>
                  <a:pt x="1006" y="5"/>
                </a:lnTo>
                <a:lnTo>
                  <a:pt x="1023" y="4"/>
                </a:lnTo>
                <a:lnTo>
                  <a:pt x="1047" y="2"/>
                </a:lnTo>
                <a:lnTo>
                  <a:pt x="1075" y="1"/>
                </a:lnTo>
                <a:lnTo>
                  <a:pt x="1103" y="0"/>
                </a:lnTo>
                <a:lnTo>
                  <a:pt x="1138" y="0"/>
                </a:lnTo>
                <a:lnTo>
                  <a:pt x="1173" y="0"/>
                </a:lnTo>
                <a:lnTo>
                  <a:pt x="1208" y="0"/>
                </a:lnTo>
                <a:lnTo>
                  <a:pt x="1244" y="0"/>
                </a:lnTo>
                <a:lnTo>
                  <a:pt x="1278" y="1"/>
                </a:lnTo>
                <a:lnTo>
                  <a:pt x="1310" y="2"/>
                </a:lnTo>
                <a:lnTo>
                  <a:pt x="1338" y="4"/>
                </a:lnTo>
                <a:lnTo>
                  <a:pt x="1362" y="5"/>
                </a:lnTo>
                <a:lnTo>
                  <a:pt x="1381" y="8"/>
                </a:lnTo>
                <a:lnTo>
                  <a:pt x="1393" y="10"/>
                </a:lnTo>
                <a:lnTo>
                  <a:pt x="1393" y="26"/>
                </a:lnTo>
                <a:lnTo>
                  <a:pt x="1426" y="26"/>
                </a:lnTo>
                <a:lnTo>
                  <a:pt x="1442" y="41"/>
                </a:lnTo>
                <a:lnTo>
                  <a:pt x="1442" y="57"/>
                </a:lnTo>
                <a:lnTo>
                  <a:pt x="1459" y="57"/>
                </a:lnTo>
                <a:lnTo>
                  <a:pt x="1459" y="71"/>
                </a:lnTo>
                <a:lnTo>
                  <a:pt x="1476" y="71"/>
                </a:lnTo>
                <a:lnTo>
                  <a:pt x="1490" y="87"/>
                </a:lnTo>
                <a:lnTo>
                  <a:pt x="1490" y="96"/>
                </a:lnTo>
                <a:lnTo>
                  <a:pt x="1490" y="105"/>
                </a:lnTo>
                <a:lnTo>
                  <a:pt x="1489" y="114"/>
                </a:lnTo>
                <a:lnTo>
                  <a:pt x="1488" y="124"/>
                </a:lnTo>
                <a:lnTo>
                  <a:pt x="1487" y="133"/>
                </a:lnTo>
                <a:lnTo>
                  <a:pt x="1486" y="144"/>
                </a:lnTo>
                <a:lnTo>
                  <a:pt x="1485" y="153"/>
                </a:lnTo>
                <a:lnTo>
                  <a:pt x="1484" y="163"/>
                </a:lnTo>
                <a:lnTo>
                  <a:pt x="1481" y="172"/>
                </a:lnTo>
                <a:lnTo>
                  <a:pt x="1480" y="183"/>
                </a:lnTo>
                <a:lnTo>
                  <a:pt x="1479" y="192"/>
                </a:lnTo>
                <a:lnTo>
                  <a:pt x="1478" y="202"/>
                </a:lnTo>
                <a:lnTo>
                  <a:pt x="1477" y="212"/>
                </a:lnTo>
                <a:lnTo>
                  <a:pt x="1476" y="221"/>
                </a:lnTo>
                <a:lnTo>
                  <a:pt x="1476" y="230"/>
                </a:lnTo>
                <a:lnTo>
                  <a:pt x="1476" y="239"/>
                </a:lnTo>
                <a:lnTo>
                  <a:pt x="1481" y="241"/>
                </a:lnTo>
                <a:lnTo>
                  <a:pt x="1489" y="249"/>
                </a:lnTo>
                <a:lnTo>
                  <a:pt x="1497" y="259"/>
                </a:lnTo>
                <a:lnTo>
                  <a:pt x="1503" y="272"/>
                </a:lnTo>
                <a:lnTo>
                  <a:pt x="1507" y="284"/>
                </a:lnTo>
                <a:lnTo>
                  <a:pt x="1512" y="297"/>
                </a:lnTo>
                <a:lnTo>
                  <a:pt x="1512" y="307"/>
                </a:lnTo>
                <a:lnTo>
                  <a:pt x="1506" y="315"/>
                </a:lnTo>
                <a:lnTo>
                  <a:pt x="1490" y="315"/>
                </a:lnTo>
                <a:lnTo>
                  <a:pt x="1490" y="377"/>
                </a:lnTo>
                <a:lnTo>
                  <a:pt x="1506" y="377"/>
                </a:lnTo>
                <a:lnTo>
                  <a:pt x="1513" y="389"/>
                </a:lnTo>
                <a:lnTo>
                  <a:pt x="1520" y="402"/>
                </a:lnTo>
                <a:lnTo>
                  <a:pt x="1528" y="415"/>
                </a:lnTo>
                <a:lnTo>
                  <a:pt x="1538" y="427"/>
                </a:lnTo>
                <a:lnTo>
                  <a:pt x="1550" y="438"/>
                </a:lnTo>
                <a:lnTo>
                  <a:pt x="1564" y="446"/>
                </a:lnTo>
                <a:lnTo>
                  <a:pt x="1583" y="452"/>
                </a:lnTo>
                <a:lnTo>
                  <a:pt x="1604" y="453"/>
                </a:lnTo>
                <a:lnTo>
                  <a:pt x="1620" y="469"/>
                </a:lnTo>
                <a:lnTo>
                  <a:pt x="1620" y="483"/>
                </a:lnTo>
                <a:lnTo>
                  <a:pt x="1637" y="499"/>
                </a:lnTo>
                <a:lnTo>
                  <a:pt x="1647" y="499"/>
                </a:lnTo>
                <a:lnTo>
                  <a:pt x="1659" y="500"/>
                </a:lnTo>
                <a:lnTo>
                  <a:pt x="1672" y="501"/>
                </a:lnTo>
                <a:lnTo>
                  <a:pt x="1686" y="503"/>
                </a:lnTo>
                <a:lnTo>
                  <a:pt x="1700" y="505"/>
                </a:lnTo>
                <a:lnTo>
                  <a:pt x="1717" y="507"/>
                </a:lnTo>
                <a:lnTo>
                  <a:pt x="1732" y="509"/>
                </a:lnTo>
                <a:lnTo>
                  <a:pt x="1749" y="511"/>
                </a:lnTo>
                <a:lnTo>
                  <a:pt x="1764" y="513"/>
                </a:lnTo>
                <a:lnTo>
                  <a:pt x="1780" y="516"/>
                </a:lnTo>
                <a:lnTo>
                  <a:pt x="1793" y="517"/>
                </a:lnTo>
                <a:lnTo>
                  <a:pt x="1809" y="517"/>
                </a:lnTo>
                <a:lnTo>
                  <a:pt x="1819" y="518"/>
                </a:lnTo>
                <a:lnTo>
                  <a:pt x="1829" y="517"/>
                </a:lnTo>
                <a:lnTo>
                  <a:pt x="1839" y="516"/>
                </a:lnTo>
                <a:lnTo>
                  <a:pt x="1847" y="513"/>
                </a:lnTo>
                <a:lnTo>
                  <a:pt x="1847" y="499"/>
                </a:lnTo>
                <a:lnTo>
                  <a:pt x="1879" y="499"/>
                </a:lnTo>
                <a:lnTo>
                  <a:pt x="1880" y="490"/>
                </a:lnTo>
                <a:lnTo>
                  <a:pt x="1881" y="485"/>
                </a:lnTo>
                <a:lnTo>
                  <a:pt x="1883" y="484"/>
                </a:lnTo>
                <a:lnTo>
                  <a:pt x="1888" y="484"/>
                </a:lnTo>
                <a:lnTo>
                  <a:pt x="1890" y="484"/>
                </a:lnTo>
                <a:lnTo>
                  <a:pt x="1892" y="482"/>
                </a:lnTo>
                <a:lnTo>
                  <a:pt x="1895" y="478"/>
                </a:lnTo>
                <a:lnTo>
                  <a:pt x="1895" y="469"/>
                </a:lnTo>
                <a:lnTo>
                  <a:pt x="1913" y="469"/>
                </a:lnTo>
                <a:lnTo>
                  <a:pt x="1932" y="469"/>
                </a:lnTo>
                <a:lnTo>
                  <a:pt x="1954" y="470"/>
                </a:lnTo>
                <a:lnTo>
                  <a:pt x="1979" y="470"/>
                </a:lnTo>
                <a:lnTo>
                  <a:pt x="2005" y="471"/>
                </a:lnTo>
                <a:lnTo>
                  <a:pt x="2032" y="471"/>
                </a:lnTo>
                <a:lnTo>
                  <a:pt x="2061" y="471"/>
                </a:lnTo>
                <a:lnTo>
                  <a:pt x="2089" y="470"/>
                </a:lnTo>
                <a:lnTo>
                  <a:pt x="2117" y="469"/>
                </a:lnTo>
                <a:lnTo>
                  <a:pt x="2146" y="467"/>
                </a:lnTo>
                <a:lnTo>
                  <a:pt x="2172" y="465"/>
                </a:lnTo>
                <a:lnTo>
                  <a:pt x="2196" y="460"/>
                </a:lnTo>
                <a:lnTo>
                  <a:pt x="2220" y="456"/>
                </a:lnTo>
                <a:lnTo>
                  <a:pt x="2240" y="451"/>
                </a:lnTo>
                <a:lnTo>
                  <a:pt x="2257" y="444"/>
                </a:lnTo>
                <a:lnTo>
                  <a:pt x="2272" y="436"/>
                </a:lnTo>
                <a:lnTo>
                  <a:pt x="2333" y="391"/>
                </a:lnTo>
                <a:lnTo>
                  <a:pt x="2383" y="458"/>
                </a:lnTo>
                <a:lnTo>
                  <a:pt x="2397" y="407"/>
                </a:lnTo>
                <a:lnTo>
                  <a:pt x="2408" y="415"/>
                </a:lnTo>
                <a:lnTo>
                  <a:pt x="2416" y="428"/>
                </a:lnTo>
                <a:lnTo>
                  <a:pt x="2423" y="443"/>
                </a:lnTo>
                <a:lnTo>
                  <a:pt x="2429" y="459"/>
                </a:lnTo>
                <a:lnTo>
                  <a:pt x="2434" y="474"/>
                </a:lnTo>
                <a:lnTo>
                  <a:pt x="2441" y="487"/>
                </a:lnTo>
                <a:lnTo>
                  <a:pt x="2450" y="496"/>
                </a:lnTo>
                <a:lnTo>
                  <a:pt x="2460" y="499"/>
                </a:lnTo>
                <a:lnTo>
                  <a:pt x="2505" y="539"/>
                </a:lnTo>
                <a:lnTo>
                  <a:pt x="2559" y="550"/>
                </a:lnTo>
                <a:lnTo>
                  <a:pt x="2615" y="539"/>
                </a:lnTo>
                <a:lnTo>
                  <a:pt x="2615" y="591"/>
                </a:lnTo>
                <a:lnTo>
                  <a:pt x="2640" y="544"/>
                </a:lnTo>
                <a:lnTo>
                  <a:pt x="2648" y="582"/>
                </a:lnTo>
                <a:lnTo>
                  <a:pt x="2682" y="582"/>
                </a:lnTo>
                <a:lnTo>
                  <a:pt x="2672" y="636"/>
                </a:lnTo>
                <a:lnTo>
                  <a:pt x="2726" y="613"/>
                </a:lnTo>
                <a:lnTo>
                  <a:pt x="2748" y="645"/>
                </a:lnTo>
                <a:lnTo>
                  <a:pt x="2759" y="645"/>
                </a:lnTo>
                <a:lnTo>
                  <a:pt x="2764" y="647"/>
                </a:lnTo>
                <a:lnTo>
                  <a:pt x="2768" y="648"/>
                </a:lnTo>
                <a:lnTo>
                  <a:pt x="2771" y="649"/>
                </a:lnTo>
                <a:lnTo>
                  <a:pt x="2773" y="652"/>
                </a:lnTo>
                <a:lnTo>
                  <a:pt x="2777" y="653"/>
                </a:lnTo>
                <a:lnTo>
                  <a:pt x="2783" y="654"/>
                </a:lnTo>
                <a:lnTo>
                  <a:pt x="2793" y="655"/>
                </a:lnTo>
                <a:lnTo>
                  <a:pt x="2793" y="664"/>
                </a:lnTo>
                <a:lnTo>
                  <a:pt x="2797" y="668"/>
                </a:lnTo>
                <a:lnTo>
                  <a:pt x="2799" y="670"/>
                </a:lnTo>
                <a:lnTo>
                  <a:pt x="2804" y="671"/>
                </a:lnTo>
                <a:lnTo>
                  <a:pt x="2807" y="672"/>
                </a:lnTo>
                <a:lnTo>
                  <a:pt x="2812" y="673"/>
                </a:lnTo>
                <a:lnTo>
                  <a:pt x="2814" y="677"/>
                </a:lnTo>
                <a:lnTo>
                  <a:pt x="2815" y="686"/>
                </a:lnTo>
                <a:lnTo>
                  <a:pt x="2825" y="686"/>
                </a:lnTo>
                <a:lnTo>
                  <a:pt x="2833" y="684"/>
                </a:lnTo>
                <a:lnTo>
                  <a:pt x="2839" y="679"/>
                </a:lnTo>
                <a:lnTo>
                  <a:pt x="2843" y="676"/>
                </a:lnTo>
                <a:lnTo>
                  <a:pt x="2846" y="672"/>
                </a:lnTo>
                <a:lnTo>
                  <a:pt x="2850" y="668"/>
                </a:lnTo>
                <a:lnTo>
                  <a:pt x="2853" y="665"/>
                </a:lnTo>
                <a:lnTo>
                  <a:pt x="2859" y="665"/>
                </a:lnTo>
                <a:lnTo>
                  <a:pt x="2859" y="660"/>
                </a:lnTo>
                <a:lnTo>
                  <a:pt x="2862" y="655"/>
                </a:lnTo>
                <a:lnTo>
                  <a:pt x="2866" y="652"/>
                </a:lnTo>
                <a:lnTo>
                  <a:pt x="2869" y="649"/>
                </a:lnTo>
                <a:lnTo>
                  <a:pt x="2875" y="647"/>
                </a:lnTo>
                <a:lnTo>
                  <a:pt x="2881" y="646"/>
                </a:lnTo>
                <a:lnTo>
                  <a:pt x="2887" y="645"/>
                </a:lnTo>
                <a:lnTo>
                  <a:pt x="2892" y="645"/>
                </a:lnTo>
                <a:lnTo>
                  <a:pt x="2892" y="633"/>
                </a:lnTo>
                <a:lnTo>
                  <a:pt x="2891" y="620"/>
                </a:lnTo>
                <a:lnTo>
                  <a:pt x="2888" y="608"/>
                </a:lnTo>
                <a:lnTo>
                  <a:pt x="2887" y="597"/>
                </a:lnTo>
                <a:lnTo>
                  <a:pt x="2885" y="586"/>
                </a:lnTo>
                <a:lnTo>
                  <a:pt x="2885" y="576"/>
                </a:lnTo>
                <a:lnTo>
                  <a:pt x="2888" y="567"/>
                </a:lnTo>
                <a:lnTo>
                  <a:pt x="2892" y="560"/>
                </a:lnTo>
                <a:lnTo>
                  <a:pt x="2904" y="508"/>
                </a:lnTo>
                <a:lnTo>
                  <a:pt x="2904" y="507"/>
                </a:lnTo>
                <a:lnTo>
                  <a:pt x="2904" y="503"/>
                </a:lnTo>
                <a:lnTo>
                  <a:pt x="2905" y="496"/>
                </a:lnTo>
                <a:lnTo>
                  <a:pt x="2908" y="488"/>
                </a:lnTo>
                <a:lnTo>
                  <a:pt x="2913" y="481"/>
                </a:lnTo>
                <a:lnTo>
                  <a:pt x="2918" y="474"/>
                </a:lnTo>
                <a:lnTo>
                  <a:pt x="2927" y="469"/>
                </a:lnTo>
                <a:lnTo>
                  <a:pt x="2937" y="468"/>
                </a:lnTo>
                <a:lnTo>
                  <a:pt x="2971" y="458"/>
                </a:lnTo>
                <a:lnTo>
                  <a:pt x="3025" y="458"/>
                </a:lnTo>
                <a:lnTo>
                  <a:pt x="3038" y="436"/>
                </a:lnTo>
                <a:lnTo>
                  <a:pt x="3083" y="427"/>
                </a:lnTo>
                <a:lnTo>
                  <a:pt x="3092" y="416"/>
                </a:lnTo>
                <a:lnTo>
                  <a:pt x="3148" y="416"/>
                </a:lnTo>
                <a:lnTo>
                  <a:pt x="3182" y="394"/>
                </a:lnTo>
                <a:lnTo>
                  <a:pt x="3236" y="436"/>
                </a:lnTo>
                <a:lnTo>
                  <a:pt x="3292" y="436"/>
                </a:lnTo>
                <a:lnTo>
                  <a:pt x="3294" y="438"/>
                </a:lnTo>
                <a:lnTo>
                  <a:pt x="3299" y="439"/>
                </a:lnTo>
                <a:lnTo>
                  <a:pt x="3305" y="440"/>
                </a:lnTo>
                <a:lnTo>
                  <a:pt x="3313" y="442"/>
                </a:lnTo>
                <a:lnTo>
                  <a:pt x="3323" y="443"/>
                </a:lnTo>
                <a:lnTo>
                  <a:pt x="3332" y="443"/>
                </a:lnTo>
                <a:lnTo>
                  <a:pt x="3340" y="441"/>
                </a:lnTo>
                <a:lnTo>
                  <a:pt x="3347" y="436"/>
                </a:lnTo>
                <a:lnTo>
                  <a:pt x="3402" y="416"/>
                </a:lnTo>
                <a:lnTo>
                  <a:pt x="3411" y="411"/>
                </a:lnTo>
                <a:lnTo>
                  <a:pt x="3415" y="411"/>
                </a:lnTo>
                <a:lnTo>
                  <a:pt x="3415" y="413"/>
                </a:lnTo>
                <a:lnTo>
                  <a:pt x="3414" y="416"/>
                </a:lnTo>
                <a:lnTo>
                  <a:pt x="3413" y="418"/>
                </a:lnTo>
                <a:lnTo>
                  <a:pt x="3413" y="420"/>
                </a:lnTo>
                <a:lnTo>
                  <a:pt x="3416" y="419"/>
                </a:lnTo>
                <a:lnTo>
                  <a:pt x="3425" y="416"/>
                </a:lnTo>
                <a:lnTo>
                  <a:pt x="3492" y="427"/>
                </a:lnTo>
                <a:lnTo>
                  <a:pt x="3547" y="416"/>
                </a:lnTo>
                <a:lnTo>
                  <a:pt x="3580" y="416"/>
                </a:lnTo>
                <a:lnTo>
                  <a:pt x="3603" y="405"/>
                </a:lnTo>
                <a:lnTo>
                  <a:pt x="3603" y="420"/>
                </a:lnTo>
                <a:lnTo>
                  <a:pt x="3636" y="416"/>
                </a:lnTo>
                <a:lnTo>
                  <a:pt x="3681" y="427"/>
                </a:lnTo>
                <a:lnTo>
                  <a:pt x="3714" y="458"/>
                </a:lnTo>
                <a:lnTo>
                  <a:pt x="3714" y="464"/>
                </a:lnTo>
                <a:lnTo>
                  <a:pt x="3713" y="460"/>
                </a:lnTo>
                <a:lnTo>
                  <a:pt x="3712" y="452"/>
                </a:lnTo>
                <a:lnTo>
                  <a:pt x="3712" y="440"/>
                </a:lnTo>
                <a:lnTo>
                  <a:pt x="3711" y="428"/>
                </a:lnTo>
                <a:lnTo>
                  <a:pt x="3710" y="419"/>
                </a:lnTo>
                <a:lnTo>
                  <a:pt x="3708" y="417"/>
                </a:lnTo>
                <a:lnTo>
                  <a:pt x="3708" y="422"/>
                </a:lnTo>
                <a:lnTo>
                  <a:pt x="3715" y="423"/>
                </a:lnTo>
                <a:lnTo>
                  <a:pt x="3723" y="426"/>
                </a:lnTo>
                <a:lnTo>
                  <a:pt x="3732" y="428"/>
                </a:lnTo>
                <a:lnTo>
                  <a:pt x="3740" y="430"/>
                </a:lnTo>
                <a:lnTo>
                  <a:pt x="3749" y="432"/>
                </a:lnTo>
                <a:lnTo>
                  <a:pt x="3759" y="435"/>
                </a:lnTo>
                <a:lnTo>
                  <a:pt x="3766" y="438"/>
                </a:lnTo>
                <a:lnTo>
                  <a:pt x="3774" y="438"/>
                </a:lnTo>
                <a:lnTo>
                  <a:pt x="3776" y="448"/>
                </a:lnTo>
                <a:lnTo>
                  <a:pt x="3784" y="456"/>
                </a:lnTo>
                <a:lnTo>
                  <a:pt x="3794" y="461"/>
                </a:lnTo>
                <a:lnTo>
                  <a:pt x="3808" y="465"/>
                </a:lnTo>
                <a:lnTo>
                  <a:pt x="3820" y="467"/>
                </a:lnTo>
                <a:lnTo>
                  <a:pt x="3834" y="468"/>
                </a:lnTo>
                <a:lnTo>
                  <a:pt x="3846" y="469"/>
                </a:lnTo>
                <a:lnTo>
                  <a:pt x="3854" y="469"/>
                </a:lnTo>
                <a:lnTo>
                  <a:pt x="3854" y="483"/>
                </a:lnTo>
                <a:lnTo>
                  <a:pt x="3888" y="483"/>
                </a:lnTo>
                <a:lnTo>
                  <a:pt x="3888" y="499"/>
                </a:lnTo>
                <a:lnTo>
                  <a:pt x="3951" y="499"/>
                </a:lnTo>
                <a:lnTo>
                  <a:pt x="3955" y="508"/>
                </a:lnTo>
                <a:lnTo>
                  <a:pt x="3964" y="516"/>
                </a:lnTo>
                <a:lnTo>
                  <a:pt x="3977" y="523"/>
                </a:lnTo>
                <a:lnTo>
                  <a:pt x="3992" y="529"/>
                </a:lnTo>
                <a:lnTo>
                  <a:pt x="4005" y="535"/>
                </a:lnTo>
                <a:lnTo>
                  <a:pt x="4019" y="541"/>
                </a:lnTo>
                <a:lnTo>
                  <a:pt x="4028" y="549"/>
                </a:lnTo>
                <a:lnTo>
                  <a:pt x="4031" y="560"/>
                </a:lnTo>
                <a:lnTo>
                  <a:pt x="4038" y="560"/>
                </a:lnTo>
                <a:lnTo>
                  <a:pt x="4048" y="562"/>
                </a:lnTo>
                <a:lnTo>
                  <a:pt x="4060" y="565"/>
                </a:lnTo>
                <a:lnTo>
                  <a:pt x="4070" y="569"/>
                </a:lnTo>
                <a:lnTo>
                  <a:pt x="4080" y="573"/>
                </a:lnTo>
                <a:lnTo>
                  <a:pt x="4088" y="578"/>
                </a:lnTo>
                <a:lnTo>
                  <a:pt x="4094" y="584"/>
                </a:lnTo>
                <a:lnTo>
                  <a:pt x="4097" y="589"/>
                </a:lnTo>
                <a:lnTo>
                  <a:pt x="4202" y="468"/>
                </a:lnTo>
                <a:lnTo>
                  <a:pt x="4220" y="452"/>
                </a:lnTo>
                <a:lnTo>
                  <a:pt x="4236" y="436"/>
                </a:lnTo>
                <a:lnTo>
                  <a:pt x="4252" y="421"/>
                </a:lnTo>
                <a:lnTo>
                  <a:pt x="4263" y="407"/>
                </a:lnTo>
                <a:lnTo>
                  <a:pt x="4274" y="393"/>
                </a:lnTo>
                <a:lnTo>
                  <a:pt x="4284" y="380"/>
                </a:lnTo>
                <a:lnTo>
                  <a:pt x="4293" y="368"/>
                </a:lnTo>
                <a:lnTo>
                  <a:pt x="4300" y="356"/>
                </a:lnTo>
                <a:lnTo>
                  <a:pt x="4307" y="348"/>
                </a:lnTo>
                <a:lnTo>
                  <a:pt x="4312" y="339"/>
                </a:lnTo>
                <a:lnTo>
                  <a:pt x="4317" y="332"/>
                </a:lnTo>
                <a:lnTo>
                  <a:pt x="4319" y="328"/>
                </a:lnTo>
                <a:lnTo>
                  <a:pt x="4322" y="325"/>
                </a:lnTo>
                <a:lnTo>
                  <a:pt x="4323" y="325"/>
                </a:lnTo>
                <a:lnTo>
                  <a:pt x="4324" y="327"/>
                </a:lnTo>
                <a:lnTo>
                  <a:pt x="4324" y="331"/>
                </a:lnTo>
                <a:lnTo>
                  <a:pt x="4347" y="353"/>
                </a:lnTo>
                <a:lnTo>
                  <a:pt x="4269" y="488"/>
                </a:lnTo>
                <a:lnTo>
                  <a:pt x="4202" y="560"/>
                </a:lnTo>
                <a:lnTo>
                  <a:pt x="4179" y="634"/>
                </a:lnTo>
                <a:lnTo>
                  <a:pt x="4274" y="651"/>
                </a:lnTo>
                <a:lnTo>
                  <a:pt x="4274" y="666"/>
                </a:lnTo>
                <a:lnTo>
                  <a:pt x="4324" y="666"/>
                </a:lnTo>
                <a:lnTo>
                  <a:pt x="4324" y="681"/>
                </a:lnTo>
                <a:lnTo>
                  <a:pt x="4356" y="681"/>
                </a:lnTo>
                <a:lnTo>
                  <a:pt x="4356" y="696"/>
                </a:lnTo>
                <a:lnTo>
                  <a:pt x="4356" y="709"/>
                </a:lnTo>
                <a:lnTo>
                  <a:pt x="4356" y="722"/>
                </a:lnTo>
                <a:lnTo>
                  <a:pt x="4356" y="735"/>
                </a:lnTo>
                <a:lnTo>
                  <a:pt x="4356" y="747"/>
                </a:lnTo>
                <a:lnTo>
                  <a:pt x="4356" y="758"/>
                </a:lnTo>
                <a:lnTo>
                  <a:pt x="4353" y="769"/>
                </a:lnTo>
                <a:lnTo>
                  <a:pt x="4353" y="781"/>
                </a:lnTo>
                <a:lnTo>
                  <a:pt x="4352" y="792"/>
                </a:lnTo>
                <a:lnTo>
                  <a:pt x="4351" y="804"/>
                </a:lnTo>
                <a:lnTo>
                  <a:pt x="4350" y="816"/>
                </a:lnTo>
                <a:lnTo>
                  <a:pt x="4349" y="828"/>
                </a:lnTo>
                <a:lnTo>
                  <a:pt x="4347" y="840"/>
                </a:lnTo>
                <a:lnTo>
                  <a:pt x="4345" y="852"/>
                </a:lnTo>
                <a:lnTo>
                  <a:pt x="4343" y="866"/>
                </a:lnTo>
                <a:lnTo>
                  <a:pt x="4340" y="880"/>
                </a:lnTo>
                <a:lnTo>
                  <a:pt x="4333" y="899"/>
                </a:lnTo>
                <a:lnTo>
                  <a:pt x="4325" y="919"/>
                </a:lnTo>
                <a:lnTo>
                  <a:pt x="4318" y="937"/>
                </a:lnTo>
                <a:lnTo>
                  <a:pt x="4309" y="956"/>
                </a:lnTo>
                <a:lnTo>
                  <a:pt x="4299" y="974"/>
                </a:lnTo>
                <a:lnTo>
                  <a:pt x="4289" y="992"/>
                </a:lnTo>
                <a:lnTo>
                  <a:pt x="4279" y="1009"/>
                </a:lnTo>
                <a:lnTo>
                  <a:pt x="4267" y="1025"/>
                </a:lnTo>
                <a:lnTo>
                  <a:pt x="4255" y="1041"/>
                </a:lnTo>
                <a:lnTo>
                  <a:pt x="4244" y="1058"/>
                </a:lnTo>
                <a:lnTo>
                  <a:pt x="4230" y="1074"/>
                </a:lnTo>
                <a:lnTo>
                  <a:pt x="4218" y="1090"/>
                </a:lnTo>
                <a:lnTo>
                  <a:pt x="4203" y="1105"/>
                </a:lnTo>
                <a:lnTo>
                  <a:pt x="4191" y="1121"/>
                </a:lnTo>
                <a:lnTo>
                  <a:pt x="4176" y="1136"/>
                </a:lnTo>
                <a:lnTo>
                  <a:pt x="4162" y="1151"/>
                </a:lnTo>
                <a:lnTo>
                  <a:pt x="4148" y="1166"/>
                </a:lnTo>
                <a:lnTo>
                  <a:pt x="4132" y="1180"/>
                </a:lnTo>
                <a:lnTo>
                  <a:pt x="4117" y="1195"/>
                </a:lnTo>
                <a:lnTo>
                  <a:pt x="4103" y="1209"/>
                </a:lnTo>
                <a:lnTo>
                  <a:pt x="4088" y="1225"/>
                </a:lnTo>
                <a:lnTo>
                  <a:pt x="4073" y="1240"/>
                </a:lnTo>
                <a:lnTo>
                  <a:pt x="4058" y="1255"/>
                </a:lnTo>
                <a:lnTo>
                  <a:pt x="4044" y="1270"/>
                </a:lnTo>
                <a:lnTo>
                  <a:pt x="4028" y="1285"/>
                </a:lnTo>
                <a:lnTo>
                  <a:pt x="4013" y="1301"/>
                </a:lnTo>
                <a:lnTo>
                  <a:pt x="4000" y="1317"/>
                </a:lnTo>
                <a:lnTo>
                  <a:pt x="3987" y="1333"/>
                </a:lnTo>
                <a:lnTo>
                  <a:pt x="3974" y="1349"/>
                </a:lnTo>
                <a:lnTo>
                  <a:pt x="3960" y="1366"/>
                </a:lnTo>
                <a:lnTo>
                  <a:pt x="3948" y="1382"/>
                </a:lnTo>
                <a:lnTo>
                  <a:pt x="3935" y="1399"/>
                </a:lnTo>
                <a:lnTo>
                  <a:pt x="3917" y="1399"/>
                </a:lnTo>
                <a:lnTo>
                  <a:pt x="3897" y="1402"/>
                </a:lnTo>
                <a:lnTo>
                  <a:pt x="3878" y="1406"/>
                </a:lnTo>
                <a:lnTo>
                  <a:pt x="3856" y="1411"/>
                </a:lnTo>
                <a:lnTo>
                  <a:pt x="3837" y="1417"/>
                </a:lnTo>
                <a:lnTo>
                  <a:pt x="3816" y="1423"/>
                </a:lnTo>
                <a:lnTo>
                  <a:pt x="3794" y="1431"/>
                </a:lnTo>
                <a:lnTo>
                  <a:pt x="3774" y="1437"/>
                </a:lnTo>
                <a:lnTo>
                  <a:pt x="3753" y="1444"/>
                </a:lnTo>
                <a:lnTo>
                  <a:pt x="3730" y="1451"/>
                </a:lnTo>
                <a:lnTo>
                  <a:pt x="3710" y="1458"/>
                </a:lnTo>
                <a:lnTo>
                  <a:pt x="3689" y="1463"/>
                </a:lnTo>
                <a:lnTo>
                  <a:pt x="3669" y="1469"/>
                </a:lnTo>
                <a:lnTo>
                  <a:pt x="3649" y="1472"/>
                </a:lnTo>
                <a:lnTo>
                  <a:pt x="3630" y="1475"/>
                </a:lnTo>
                <a:lnTo>
                  <a:pt x="3611" y="1475"/>
                </a:lnTo>
                <a:lnTo>
                  <a:pt x="3599" y="1476"/>
                </a:lnTo>
                <a:lnTo>
                  <a:pt x="3583" y="1476"/>
                </a:lnTo>
                <a:lnTo>
                  <a:pt x="3561" y="1477"/>
                </a:lnTo>
                <a:lnTo>
                  <a:pt x="3538" y="1479"/>
                </a:lnTo>
                <a:lnTo>
                  <a:pt x="3509" y="1482"/>
                </a:lnTo>
                <a:lnTo>
                  <a:pt x="3479" y="1484"/>
                </a:lnTo>
                <a:lnTo>
                  <a:pt x="3449" y="1485"/>
                </a:lnTo>
                <a:lnTo>
                  <a:pt x="3416" y="1486"/>
                </a:lnTo>
                <a:lnTo>
                  <a:pt x="3385" y="1488"/>
                </a:lnTo>
                <a:lnTo>
                  <a:pt x="3355" y="1489"/>
                </a:lnTo>
                <a:lnTo>
                  <a:pt x="3324" y="1489"/>
                </a:lnTo>
                <a:lnTo>
                  <a:pt x="3297" y="1488"/>
                </a:lnTo>
                <a:lnTo>
                  <a:pt x="3273" y="1486"/>
                </a:lnTo>
                <a:lnTo>
                  <a:pt x="3253" y="1484"/>
                </a:lnTo>
                <a:lnTo>
                  <a:pt x="3235" y="1481"/>
                </a:lnTo>
                <a:lnTo>
                  <a:pt x="3223" y="1475"/>
                </a:lnTo>
                <a:lnTo>
                  <a:pt x="3223" y="1460"/>
                </a:lnTo>
                <a:lnTo>
                  <a:pt x="3126" y="1460"/>
                </a:lnTo>
                <a:lnTo>
                  <a:pt x="3128" y="1459"/>
                </a:lnTo>
                <a:lnTo>
                  <a:pt x="3129" y="1452"/>
                </a:lnTo>
                <a:lnTo>
                  <a:pt x="3129" y="1444"/>
                </a:lnTo>
                <a:lnTo>
                  <a:pt x="3127" y="1432"/>
                </a:lnTo>
                <a:lnTo>
                  <a:pt x="3125" y="1418"/>
                </a:lnTo>
                <a:lnTo>
                  <a:pt x="3121" y="1402"/>
                </a:lnTo>
                <a:lnTo>
                  <a:pt x="3117" y="1385"/>
                </a:lnTo>
                <a:lnTo>
                  <a:pt x="3112" y="1368"/>
                </a:lnTo>
                <a:lnTo>
                  <a:pt x="3105" y="1350"/>
                </a:lnTo>
                <a:lnTo>
                  <a:pt x="3101" y="1334"/>
                </a:lnTo>
                <a:lnTo>
                  <a:pt x="3093" y="1319"/>
                </a:lnTo>
                <a:lnTo>
                  <a:pt x="3087" y="1305"/>
                </a:lnTo>
                <a:lnTo>
                  <a:pt x="3079" y="1293"/>
                </a:lnTo>
                <a:lnTo>
                  <a:pt x="3074" y="1284"/>
                </a:lnTo>
                <a:lnTo>
                  <a:pt x="3067" y="1278"/>
                </a:lnTo>
                <a:lnTo>
                  <a:pt x="3061" y="1276"/>
                </a:lnTo>
                <a:lnTo>
                  <a:pt x="3061" y="1245"/>
                </a:lnTo>
                <a:lnTo>
                  <a:pt x="3050" y="1245"/>
                </a:lnTo>
                <a:lnTo>
                  <a:pt x="3038" y="1245"/>
                </a:lnTo>
                <a:lnTo>
                  <a:pt x="3022" y="1244"/>
                </a:lnTo>
                <a:lnTo>
                  <a:pt x="3005" y="1243"/>
                </a:lnTo>
                <a:lnTo>
                  <a:pt x="2986" y="1241"/>
                </a:lnTo>
                <a:lnTo>
                  <a:pt x="2966" y="1240"/>
                </a:lnTo>
                <a:lnTo>
                  <a:pt x="2945" y="1238"/>
                </a:lnTo>
                <a:lnTo>
                  <a:pt x="2924" y="1237"/>
                </a:lnTo>
                <a:lnTo>
                  <a:pt x="2902" y="1233"/>
                </a:lnTo>
                <a:lnTo>
                  <a:pt x="2882" y="1231"/>
                </a:lnTo>
                <a:lnTo>
                  <a:pt x="2861" y="1229"/>
                </a:lnTo>
                <a:lnTo>
                  <a:pt x="2842" y="1226"/>
                </a:lnTo>
                <a:lnTo>
                  <a:pt x="2825" y="1224"/>
                </a:lnTo>
                <a:lnTo>
                  <a:pt x="2809" y="1221"/>
                </a:lnTo>
                <a:lnTo>
                  <a:pt x="2797" y="1218"/>
                </a:lnTo>
                <a:lnTo>
                  <a:pt x="2786" y="1216"/>
                </a:lnTo>
                <a:lnTo>
                  <a:pt x="2786" y="1200"/>
                </a:lnTo>
                <a:lnTo>
                  <a:pt x="2703" y="1200"/>
                </a:lnTo>
                <a:lnTo>
                  <a:pt x="2703" y="1191"/>
                </a:lnTo>
                <a:lnTo>
                  <a:pt x="2701" y="1187"/>
                </a:lnTo>
                <a:lnTo>
                  <a:pt x="2699" y="1185"/>
                </a:lnTo>
                <a:lnTo>
                  <a:pt x="2697" y="1185"/>
                </a:lnTo>
                <a:lnTo>
                  <a:pt x="2694" y="1185"/>
                </a:lnTo>
                <a:lnTo>
                  <a:pt x="2692" y="1182"/>
                </a:lnTo>
                <a:lnTo>
                  <a:pt x="2689" y="1178"/>
                </a:lnTo>
                <a:lnTo>
                  <a:pt x="2689" y="1170"/>
                </a:lnTo>
                <a:lnTo>
                  <a:pt x="2683" y="1169"/>
                </a:lnTo>
                <a:lnTo>
                  <a:pt x="2675" y="1168"/>
                </a:lnTo>
                <a:lnTo>
                  <a:pt x="2669" y="1165"/>
                </a:lnTo>
                <a:lnTo>
                  <a:pt x="2664" y="1162"/>
                </a:lnTo>
                <a:lnTo>
                  <a:pt x="2658" y="1160"/>
                </a:lnTo>
                <a:lnTo>
                  <a:pt x="2651" y="1157"/>
                </a:lnTo>
                <a:lnTo>
                  <a:pt x="2646" y="1155"/>
                </a:lnTo>
                <a:lnTo>
                  <a:pt x="2640" y="1155"/>
                </a:lnTo>
                <a:lnTo>
                  <a:pt x="2656" y="1125"/>
                </a:lnTo>
                <a:lnTo>
                  <a:pt x="2672" y="1109"/>
                </a:lnTo>
                <a:lnTo>
                  <a:pt x="2721" y="1109"/>
                </a:lnTo>
                <a:lnTo>
                  <a:pt x="2720" y="1105"/>
                </a:lnTo>
                <a:lnTo>
                  <a:pt x="2716" y="1095"/>
                </a:lnTo>
                <a:lnTo>
                  <a:pt x="2712" y="1079"/>
                </a:lnTo>
                <a:lnTo>
                  <a:pt x="2711" y="1063"/>
                </a:lnTo>
                <a:lnTo>
                  <a:pt x="2710" y="1047"/>
                </a:lnTo>
                <a:lnTo>
                  <a:pt x="2713" y="1032"/>
                </a:lnTo>
                <a:lnTo>
                  <a:pt x="2722" y="1021"/>
                </a:lnTo>
                <a:lnTo>
                  <a:pt x="2737" y="1018"/>
                </a:lnTo>
                <a:lnTo>
                  <a:pt x="2728" y="1018"/>
                </a:lnTo>
                <a:lnTo>
                  <a:pt x="2715" y="1016"/>
                </a:lnTo>
                <a:lnTo>
                  <a:pt x="2699" y="1015"/>
                </a:lnTo>
                <a:lnTo>
                  <a:pt x="2683" y="1013"/>
                </a:lnTo>
                <a:lnTo>
                  <a:pt x="2667" y="1010"/>
                </a:lnTo>
                <a:lnTo>
                  <a:pt x="2654" y="1005"/>
                </a:lnTo>
                <a:lnTo>
                  <a:pt x="2643" y="997"/>
                </a:lnTo>
                <a:lnTo>
                  <a:pt x="2640" y="987"/>
                </a:lnTo>
                <a:lnTo>
                  <a:pt x="2672" y="987"/>
                </a:lnTo>
                <a:lnTo>
                  <a:pt x="2673" y="979"/>
                </a:lnTo>
                <a:lnTo>
                  <a:pt x="2674" y="973"/>
                </a:lnTo>
                <a:lnTo>
                  <a:pt x="2676" y="971"/>
                </a:lnTo>
                <a:lnTo>
                  <a:pt x="2681" y="971"/>
                </a:lnTo>
                <a:lnTo>
                  <a:pt x="2683" y="971"/>
                </a:lnTo>
                <a:lnTo>
                  <a:pt x="2685" y="969"/>
                </a:lnTo>
                <a:lnTo>
                  <a:pt x="2688" y="964"/>
                </a:lnTo>
                <a:lnTo>
                  <a:pt x="2689" y="956"/>
                </a:lnTo>
                <a:lnTo>
                  <a:pt x="2697" y="956"/>
                </a:lnTo>
                <a:lnTo>
                  <a:pt x="2705" y="955"/>
                </a:lnTo>
                <a:lnTo>
                  <a:pt x="2712" y="955"/>
                </a:lnTo>
                <a:lnTo>
                  <a:pt x="2720" y="954"/>
                </a:lnTo>
                <a:lnTo>
                  <a:pt x="2726" y="953"/>
                </a:lnTo>
                <a:lnTo>
                  <a:pt x="2734" y="951"/>
                </a:lnTo>
                <a:lnTo>
                  <a:pt x="2738" y="950"/>
                </a:lnTo>
                <a:lnTo>
                  <a:pt x="2746" y="950"/>
                </a:lnTo>
                <a:lnTo>
                  <a:pt x="2752" y="949"/>
                </a:lnTo>
                <a:lnTo>
                  <a:pt x="2757" y="948"/>
                </a:lnTo>
                <a:lnTo>
                  <a:pt x="2764" y="948"/>
                </a:lnTo>
                <a:lnTo>
                  <a:pt x="2771" y="949"/>
                </a:lnTo>
                <a:lnTo>
                  <a:pt x="2777" y="950"/>
                </a:lnTo>
                <a:lnTo>
                  <a:pt x="2786" y="951"/>
                </a:lnTo>
                <a:lnTo>
                  <a:pt x="2793" y="954"/>
                </a:lnTo>
                <a:lnTo>
                  <a:pt x="2802" y="956"/>
                </a:lnTo>
                <a:lnTo>
                  <a:pt x="2802" y="950"/>
                </a:lnTo>
                <a:lnTo>
                  <a:pt x="2799" y="944"/>
                </a:lnTo>
                <a:lnTo>
                  <a:pt x="2797" y="939"/>
                </a:lnTo>
                <a:lnTo>
                  <a:pt x="2791" y="935"/>
                </a:lnTo>
                <a:lnTo>
                  <a:pt x="2787" y="931"/>
                </a:lnTo>
                <a:lnTo>
                  <a:pt x="2781" y="928"/>
                </a:lnTo>
                <a:lnTo>
                  <a:pt x="2776" y="926"/>
                </a:lnTo>
                <a:lnTo>
                  <a:pt x="2770" y="925"/>
                </a:lnTo>
                <a:lnTo>
                  <a:pt x="2802" y="910"/>
                </a:lnTo>
                <a:lnTo>
                  <a:pt x="2802" y="895"/>
                </a:lnTo>
                <a:lnTo>
                  <a:pt x="2851" y="880"/>
                </a:lnTo>
                <a:lnTo>
                  <a:pt x="2851" y="848"/>
                </a:lnTo>
                <a:lnTo>
                  <a:pt x="2866" y="848"/>
                </a:lnTo>
                <a:lnTo>
                  <a:pt x="2866" y="789"/>
                </a:lnTo>
                <a:lnTo>
                  <a:pt x="2864" y="787"/>
                </a:lnTo>
                <a:lnTo>
                  <a:pt x="2864" y="780"/>
                </a:lnTo>
                <a:lnTo>
                  <a:pt x="2866" y="773"/>
                </a:lnTo>
                <a:lnTo>
                  <a:pt x="2869" y="763"/>
                </a:lnTo>
                <a:lnTo>
                  <a:pt x="2872" y="754"/>
                </a:lnTo>
                <a:lnTo>
                  <a:pt x="2872" y="747"/>
                </a:lnTo>
                <a:lnTo>
                  <a:pt x="2868" y="740"/>
                </a:lnTo>
                <a:lnTo>
                  <a:pt x="2859" y="738"/>
                </a:lnTo>
                <a:lnTo>
                  <a:pt x="2786" y="773"/>
                </a:lnTo>
                <a:lnTo>
                  <a:pt x="2786" y="789"/>
                </a:lnTo>
                <a:lnTo>
                  <a:pt x="2770" y="789"/>
                </a:lnTo>
                <a:lnTo>
                  <a:pt x="2770" y="804"/>
                </a:lnTo>
                <a:lnTo>
                  <a:pt x="2753" y="819"/>
                </a:lnTo>
                <a:lnTo>
                  <a:pt x="2735" y="819"/>
                </a:lnTo>
                <a:lnTo>
                  <a:pt x="2718" y="820"/>
                </a:lnTo>
                <a:lnTo>
                  <a:pt x="2703" y="820"/>
                </a:lnTo>
                <a:lnTo>
                  <a:pt x="2694" y="821"/>
                </a:lnTo>
                <a:lnTo>
                  <a:pt x="2685" y="823"/>
                </a:lnTo>
                <a:lnTo>
                  <a:pt x="2677" y="825"/>
                </a:lnTo>
                <a:lnTo>
                  <a:pt x="2672" y="826"/>
                </a:lnTo>
                <a:lnTo>
                  <a:pt x="2667" y="827"/>
                </a:lnTo>
                <a:lnTo>
                  <a:pt x="2660" y="829"/>
                </a:lnTo>
                <a:lnTo>
                  <a:pt x="2656" y="830"/>
                </a:lnTo>
                <a:lnTo>
                  <a:pt x="2649" y="831"/>
                </a:lnTo>
                <a:lnTo>
                  <a:pt x="2642" y="832"/>
                </a:lnTo>
                <a:lnTo>
                  <a:pt x="2632" y="833"/>
                </a:lnTo>
                <a:lnTo>
                  <a:pt x="2621" y="834"/>
                </a:lnTo>
                <a:lnTo>
                  <a:pt x="2608" y="835"/>
                </a:lnTo>
                <a:lnTo>
                  <a:pt x="2591" y="835"/>
                </a:lnTo>
                <a:lnTo>
                  <a:pt x="2593" y="840"/>
                </a:lnTo>
                <a:lnTo>
                  <a:pt x="2594" y="847"/>
                </a:lnTo>
                <a:lnTo>
                  <a:pt x="2596" y="856"/>
                </a:lnTo>
                <a:lnTo>
                  <a:pt x="2599" y="866"/>
                </a:lnTo>
                <a:lnTo>
                  <a:pt x="2603" y="877"/>
                </a:lnTo>
                <a:lnTo>
                  <a:pt x="2605" y="887"/>
                </a:lnTo>
                <a:lnTo>
                  <a:pt x="2606" y="898"/>
                </a:lnTo>
                <a:lnTo>
                  <a:pt x="2607" y="910"/>
                </a:lnTo>
                <a:lnTo>
                  <a:pt x="2602" y="910"/>
                </a:lnTo>
                <a:lnTo>
                  <a:pt x="2593" y="912"/>
                </a:lnTo>
                <a:lnTo>
                  <a:pt x="2584" y="915"/>
                </a:lnTo>
                <a:lnTo>
                  <a:pt x="2576" y="918"/>
                </a:lnTo>
                <a:lnTo>
                  <a:pt x="2565" y="921"/>
                </a:lnTo>
                <a:lnTo>
                  <a:pt x="2556" y="923"/>
                </a:lnTo>
                <a:lnTo>
                  <a:pt x="2550" y="925"/>
                </a:lnTo>
                <a:lnTo>
                  <a:pt x="2542" y="925"/>
                </a:lnTo>
                <a:lnTo>
                  <a:pt x="2551" y="926"/>
                </a:lnTo>
                <a:lnTo>
                  <a:pt x="2551" y="928"/>
                </a:lnTo>
                <a:lnTo>
                  <a:pt x="2546" y="931"/>
                </a:lnTo>
                <a:lnTo>
                  <a:pt x="2540" y="933"/>
                </a:lnTo>
                <a:lnTo>
                  <a:pt x="2529" y="935"/>
                </a:lnTo>
                <a:lnTo>
                  <a:pt x="2520" y="938"/>
                </a:lnTo>
                <a:lnTo>
                  <a:pt x="2514" y="939"/>
                </a:lnTo>
                <a:lnTo>
                  <a:pt x="2511" y="941"/>
                </a:lnTo>
                <a:lnTo>
                  <a:pt x="2512" y="946"/>
                </a:lnTo>
                <a:lnTo>
                  <a:pt x="2516" y="950"/>
                </a:lnTo>
                <a:lnTo>
                  <a:pt x="2523" y="954"/>
                </a:lnTo>
                <a:lnTo>
                  <a:pt x="2527" y="958"/>
                </a:lnTo>
                <a:lnTo>
                  <a:pt x="2533" y="962"/>
                </a:lnTo>
                <a:lnTo>
                  <a:pt x="2538" y="969"/>
                </a:lnTo>
                <a:lnTo>
                  <a:pt x="2541" y="976"/>
                </a:lnTo>
                <a:lnTo>
                  <a:pt x="2542" y="987"/>
                </a:lnTo>
                <a:lnTo>
                  <a:pt x="2537" y="987"/>
                </a:lnTo>
                <a:lnTo>
                  <a:pt x="2531" y="987"/>
                </a:lnTo>
                <a:lnTo>
                  <a:pt x="2523" y="988"/>
                </a:lnTo>
                <a:lnTo>
                  <a:pt x="2515" y="989"/>
                </a:lnTo>
                <a:lnTo>
                  <a:pt x="2506" y="990"/>
                </a:lnTo>
                <a:lnTo>
                  <a:pt x="2497" y="992"/>
                </a:lnTo>
                <a:lnTo>
                  <a:pt x="2488" y="993"/>
                </a:lnTo>
                <a:lnTo>
                  <a:pt x="2479" y="995"/>
                </a:lnTo>
                <a:lnTo>
                  <a:pt x="2468" y="996"/>
                </a:lnTo>
                <a:lnTo>
                  <a:pt x="2460" y="997"/>
                </a:lnTo>
                <a:lnTo>
                  <a:pt x="2451" y="998"/>
                </a:lnTo>
                <a:lnTo>
                  <a:pt x="2442" y="999"/>
                </a:lnTo>
                <a:lnTo>
                  <a:pt x="2436" y="1000"/>
                </a:lnTo>
                <a:lnTo>
                  <a:pt x="2427" y="1001"/>
                </a:lnTo>
                <a:lnTo>
                  <a:pt x="2421" y="1001"/>
                </a:lnTo>
                <a:lnTo>
                  <a:pt x="2414" y="1001"/>
                </a:lnTo>
                <a:lnTo>
                  <a:pt x="2397" y="1018"/>
                </a:lnTo>
                <a:lnTo>
                  <a:pt x="2397" y="1033"/>
                </a:lnTo>
                <a:lnTo>
                  <a:pt x="2383" y="1047"/>
                </a:lnTo>
                <a:lnTo>
                  <a:pt x="2363" y="1050"/>
                </a:lnTo>
                <a:lnTo>
                  <a:pt x="2355" y="1057"/>
                </a:lnTo>
                <a:lnTo>
                  <a:pt x="2354" y="1066"/>
                </a:lnTo>
                <a:lnTo>
                  <a:pt x="2358" y="1078"/>
                </a:lnTo>
                <a:lnTo>
                  <a:pt x="2365" y="1090"/>
                </a:lnTo>
                <a:lnTo>
                  <a:pt x="2372" y="1100"/>
                </a:lnTo>
                <a:lnTo>
                  <a:pt x="2380" y="1106"/>
                </a:lnTo>
                <a:lnTo>
                  <a:pt x="2383" y="1109"/>
                </a:lnTo>
                <a:lnTo>
                  <a:pt x="2494" y="1109"/>
                </a:lnTo>
                <a:lnTo>
                  <a:pt x="2494" y="1170"/>
                </a:lnTo>
                <a:lnTo>
                  <a:pt x="2430" y="1230"/>
                </a:lnTo>
                <a:lnTo>
                  <a:pt x="2423" y="1230"/>
                </a:lnTo>
                <a:lnTo>
                  <a:pt x="2414" y="1230"/>
                </a:lnTo>
                <a:lnTo>
                  <a:pt x="2403" y="1231"/>
                </a:lnTo>
                <a:lnTo>
                  <a:pt x="2391" y="1233"/>
                </a:lnTo>
                <a:lnTo>
                  <a:pt x="2378" y="1234"/>
                </a:lnTo>
                <a:lnTo>
                  <a:pt x="2365" y="1237"/>
                </a:lnTo>
                <a:lnTo>
                  <a:pt x="2351" y="1239"/>
                </a:lnTo>
                <a:lnTo>
                  <a:pt x="2336" y="1242"/>
                </a:lnTo>
                <a:lnTo>
                  <a:pt x="2324" y="1245"/>
                </a:lnTo>
                <a:lnTo>
                  <a:pt x="2310" y="1247"/>
                </a:lnTo>
                <a:lnTo>
                  <a:pt x="2299" y="1252"/>
                </a:lnTo>
                <a:lnTo>
                  <a:pt x="2290" y="1256"/>
                </a:lnTo>
                <a:lnTo>
                  <a:pt x="2281" y="1260"/>
                </a:lnTo>
                <a:lnTo>
                  <a:pt x="2273" y="1266"/>
                </a:lnTo>
                <a:lnTo>
                  <a:pt x="2270" y="1270"/>
                </a:lnTo>
                <a:lnTo>
                  <a:pt x="2268" y="1276"/>
                </a:lnTo>
                <a:lnTo>
                  <a:pt x="2220" y="1276"/>
                </a:lnTo>
                <a:lnTo>
                  <a:pt x="2220" y="1292"/>
                </a:lnTo>
                <a:lnTo>
                  <a:pt x="2154" y="1322"/>
                </a:lnTo>
                <a:lnTo>
                  <a:pt x="2154" y="1353"/>
                </a:lnTo>
                <a:lnTo>
                  <a:pt x="2139" y="1353"/>
                </a:lnTo>
                <a:lnTo>
                  <a:pt x="2139" y="1383"/>
                </a:lnTo>
                <a:lnTo>
                  <a:pt x="2123" y="1383"/>
                </a:lnTo>
                <a:lnTo>
                  <a:pt x="2123" y="1414"/>
                </a:lnTo>
                <a:lnTo>
                  <a:pt x="2107" y="1414"/>
                </a:lnTo>
                <a:lnTo>
                  <a:pt x="2107" y="1460"/>
                </a:lnTo>
                <a:lnTo>
                  <a:pt x="2089" y="1460"/>
                </a:lnTo>
                <a:lnTo>
                  <a:pt x="2089" y="1505"/>
                </a:lnTo>
                <a:lnTo>
                  <a:pt x="2107" y="1505"/>
                </a:lnTo>
                <a:lnTo>
                  <a:pt x="2107" y="1536"/>
                </a:lnTo>
                <a:lnTo>
                  <a:pt x="2089" y="1536"/>
                </a:lnTo>
                <a:lnTo>
                  <a:pt x="2084" y="1544"/>
                </a:lnTo>
                <a:lnTo>
                  <a:pt x="2079" y="1552"/>
                </a:lnTo>
                <a:lnTo>
                  <a:pt x="2075" y="1560"/>
                </a:lnTo>
                <a:lnTo>
                  <a:pt x="2072" y="1567"/>
                </a:lnTo>
                <a:lnTo>
                  <a:pt x="2070" y="1575"/>
                </a:lnTo>
                <a:lnTo>
                  <a:pt x="2066" y="1581"/>
                </a:lnTo>
                <a:lnTo>
                  <a:pt x="2064" y="1588"/>
                </a:lnTo>
                <a:lnTo>
                  <a:pt x="2061" y="1594"/>
                </a:lnTo>
                <a:lnTo>
                  <a:pt x="2058" y="1601"/>
                </a:lnTo>
                <a:lnTo>
                  <a:pt x="2053" y="1607"/>
                </a:lnTo>
                <a:lnTo>
                  <a:pt x="2049" y="1614"/>
                </a:lnTo>
                <a:lnTo>
                  <a:pt x="2044" y="1619"/>
                </a:lnTo>
                <a:lnTo>
                  <a:pt x="2037" y="1625"/>
                </a:lnTo>
                <a:lnTo>
                  <a:pt x="2030" y="1631"/>
                </a:lnTo>
                <a:lnTo>
                  <a:pt x="2020" y="1637"/>
                </a:lnTo>
                <a:lnTo>
                  <a:pt x="2009" y="1643"/>
                </a:lnTo>
                <a:lnTo>
                  <a:pt x="2009" y="1657"/>
                </a:lnTo>
                <a:lnTo>
                  <a:pt x="1863" y="1657"/>
                </a:lnTo>
                <a:lnTo>
                  <a:pt x="1847" y="1673"/>
                </a:lnTo>
                <a:lnTo>
                  <a:pt x="1847" y="1680"/>
                </a:lnTo>
                <a:lnTo>
                  <a:pt x="1845" y="1686"/>
                </a:lnTo>
                <a:lnTo>
                  <a:pt x="1845" y="1696"/>
                </a:lnTo>
                <a:lnTo>
                  <a:pt x="1844" y="1705"/>
                </a:lnTo>
                <a:lnTo>
                  <a:pt x="1843" y="1716"/>
                </a:lnTo>
                <a:lnTo>
                  <a:pt x="1843" y="1727"/>
                </a:lnTo>
                <a:lnTo>
                  <a:pt x="1842" y="1737"/>
                </a:lnTo>
                <a:lnTo>
                  <a:pt x="1840" y="1749"/>
                </a:lnTo>
                <a:lnTo>
                  <a:pt x="1839" y="1760"/>
                </a:lnTo>
                <a:lnTo>
                  <a:pt x="1839" y="1772"/>
                </a:lnTo>
                <a:lnTo>
                  <a:pt x="1839" y="1783"/>
                </a:lnTo>
                <a:lnTo>
                  <a:pt x="1839" y="1793"/>
                </a:lnTo>
                <a:lnTo>
                  <a:pt x="1840" y="1804"/>
                </a:lnTo>
                <a:lnTo>
                  <a:pt x="1842" y="1812"/>
                </a:lnTo>
                <a:lnTo>
                  <a:pt x="1844" y="1820"/>
                </a:lnTo>
                <a:lnTo>
                  <a:pt x="1847" y="1826"/>
                </a:lnTo>
                <a:lnTo>
                  <a:pt x="1863" y="1826"/>
                </a:lnTo>
                <a:lnTo>
                  <a:pt x="1863" y="1901"/>
                </a:lnTo>
                <a:lnTo>
                  <a:pt x="1604" y="1963"/>
                </a:lnTo>
                <a:lnTo>
                  <a:pt x="1604" y="1978"/>
                </a:lnTo>
                <a:lnTo>
                  <a:pt x="1589" y="1985"/>
                </a:lnTo>
                <a:lnTo>
                  <a:pt x="1569" y="1990"/>
                </a:lnTo>
                <a:lnTo>
                  <a:pt x="1549" y="1992"/>
                </a:lnTo>
                <a:lnTo>
                  <a:pt x="1526" y="1993"/>
                </a:lnTo>
                <a:lnTo>
                  <a:pt x="1503" y="1992"/>
                </a:lnTo>
                <a:lnTo>
                  <a:pt x="1478" y="1990"/>
                </a:lnTo>
                <a:lnTo>
                  <a:pt x="1452" y="1988"/>
                </a:lnTo>
                <a:lnTo>
                  <a:pt x="1426" y="1986"/>
                </a:lnTo>
                <a:lnTo>
                  <a:pt x="1400" y="1984"/>
                </a:lnTo>
                <a:lnTo>
                  <a:pt x="1374" y="1980"/>
                </a:lnTo>
                <a:lnTo>
                  <a:pt x="1350" y="1979"/>
                </a:lnTo>
                <a:lnTo>
                  <a:pt x="1327" y="1978"/>
                </a:lnTo>
                <a:lnTo>
                  <a:pt x="1304" y="1979"/>
                </a:lnTo>
                <a:lnTo>
                  <a:pt x="1283" y="1981"/>
                </a:lnTo>
                <a:lnTo>
                  <a:pt x="1264" y="1986"/>
                </a:lnTo>
                <a:lnTo>
                  <a:pt x="1249" y="1993"/>
                </a:lnTo>
                <a:lnTo>
                  <a:pt x="1249" y="2009"/>
                </a:lnTo>
                <a:lnTo>
                  <a:pt x="1150" y="2009"/>
                </a:lnTo>
                <a:lnTo>
                  <a:pt x="1150" y="1993"/>
                </a:lnTo>
                <a:lnTo>
                  <a:pt x="1119" y="1993"/>
                </a:lnTo>
                <a:lnTo>
                  <a:pt x="1119" y="1978"/>
                </a:lnTo>
                <a:lnTo>
                  <a:pt x="1070" y="1978"/>
                </a:lnTo>
                <a:lnTo>
                  <a:pt x="1069" y="1976"/>
                </a:lnTo>
                <a:lnTo>
                  <a:pt x="1062" y="1971"/>
                </a:lnTo>
                <a:lnTo>
                  <a:pt x="1054" y="1964"/>
                </a:lnTo>
                <a:lnTo>
                  <a:pt x="1044" y="1955"/>
                </a:lnTo>
                <a:lnTo>
                  <a:pt x="1033" y="1947"/>
                </a:lnTo>
                <a:lnTo>
                  <a:pt x="1023" y="1939"/>
                </a:lnTo>
                <a:lnTo>
                  <a:pt x="1013" y="1934"/>
                </a:lnTo>
                <a:lnTo>
                  <a:pt x="1006" y="1932"/>
                </a:lnTo>
                <a:lnTo>
                  <a:pt x="1006" y="1923"/>
                </a:lnTo>
                <a:lnTo>
                  <a:pt x="1004" y="1919"/>
                </a:lnTo>
                <a:lnTo>
                  <a:pt x="1000" y="1917"/>
                </a:lnTo>
                <a:lnTo>
                  <a:pt x="998" y="1916"/>
                </a:lnTo>
                <a:lnTo>
                  <a:pt x="996" y="1916"/>
                </a:lnTo>
                <a:lnTo>
                  <a:pt x="992" y="1914"/>
                </a:lnTo>
                <a:lnTo>
                  <a:pt x="991" y="1910"/>
                </a:lnTo>
                <a:lnTo>
                  <a:pt x="990" y="1901"/>
                </a:lnTo>
                <a:lnTo>
                  <a:pt x="983" y="1901"/>
                </a:lnTo>
                <a:lnTo>
                  <a:pt x="976" y="1901"/>
                </a:lnTo>
                <a:lnTo>
                  <a:pt x="967" y="1900"/>
                </a:lnTo>
                <a:lnTo>
                  <a:pt x="958" y="1899"/>
                </a:lnTo>
                <a:lnTo>
                  <a:pt x="948" y="1897"/>
                </a:lnTo>
                <a:lnTo>
                  <a:pt x="939" y="1896"/>
                </a:lnTo>
                <a:lnTo>
                  <a:pt x="929" y="1894"/>
                </a:lnTo>
                <a:lnTo>
                  <a:pt x="919" y="1892"/>
                </a:lnTo>
                <a:lnTo>
                  <a:pt x="909" y="1889"/>
                </a:lnTo>
                <a:lnTo>
                  <a:pt x="900" y="1887"/>
                </a:lnTo>
                <a:lnTo>
                  <a:pt x="891" y="1885"/>
                </a:lnTo>
                <a:lnTo>
                  <a:pt x="882" y="1882"/>
                </a:lnTo>
                <a:lnTo>
                  <a:pt x="875" y="1879"/>
                </a:lnTo>
                <a:lnTo>
                  <a:pt x="869" y="1877"/>
                </a:lnTo>
                <a:lnTo>
                  <a:pt x="864" y="1874"/>
                </a:lnTo>
                <a:lnTo>
                  <a:pt x="860" y="1872"/>
                </a:lnTo>
                <a:lnTo>
                  <a:pt x="860" y="1856"/>
                </a:lnTo>
                <a:lnTo>
                  <a:pt x="827" y="1856"/>
                </a:lnTo>
                <a:lnTo>
                  <a:pt x="827" y="1842"/>
                </a:lnTo>
                <a:lnTo>
                  <a:pt x="763" y="1842"/>
                </a:lnTo>
                <a:lnTo>
                  <a:pt x="763" y="1826"/>
                </a:lnTo>
                <a:lnTo>
                  <a:pt x="730" y="1826"/>
                </a:lnTo>
                <a:lnTo>
                  <a:pt x="730" y="1810"/>
                </a:lnTo>
                <a:lnTo>
                  <a:pt x="698" y="1810"/>
                </a:lnTo>
                <a:lnTo>
                  <a:pt x="698" y="1795"/>
                </a:lnTo>
                <a:lnTo>
                  <a:pt x="666" y="1795"/>
                </a:lnTo>
                <a:lnTo>
                  <a:pt x="649" y="1781"/>
                </a:lnTo>
                <a:lnTo>
                  <a:pt x="649" y="1765"/>
                </a:lnTo>
                <a:lnTo>
                  <a:pt x="633" y="1765"/>
                </a:lnTo>
                <a:lnTo>
                  <a:pt x="616" y="1749"/>
                </a:lnTo>
                <a:lnTo>
                  <a:pt x="616" y="1719"/>
                </a:lnTo>
                <a:lnTo>
                  <a:pt x="601" y="1719"/>
                </a:lnTo>
                <a:lnTo>
                  <a:pt x="601" y="1673"/>
                </a:lnTo>
                <a:lnTo>
                  <a:pt x="586" y="1673"/>
                </a:lnTo>
                <a:lnTo>
                  <a:pt x="586" y="1612"/>
                </a:lnTo>
                <a:lnTo>
                  <a:pt x="568" y="1612"/>
                </a:lnTo>
                <a:lnTo>
                  <a:pt x="568" y="1604"/>
                </a:lnTo>
                <a:lnTo>
                  <a:pt x="565" y="1593"/>
                </a:lnTo>
                <a:lnTo>
                  <a:pt x="563" y="1580"/>
                </a:lnTo>
                <a:lnTo>
                  <a:pt x="561" y="1566"/>
                </a:lnTo>
                <a:lnTo>
                  <a:pt x="558" y="1551"/>
                </a:lnTo>
                <a:lnTo>
                  <a:pt x="554" y="1538"/>
                </a:lnTo>
                <a:lnTo>
                  <a:pt x="553" y="1528"/>
                </a:lnTo>
                <a:lnTo>
                  <a:pt x="552" y="1520"/>
                </a:lnTo>
                <a:lnTo>
                  <a:pt x="536" y="1520"/>
                </a:lnTo>
                <a:lnTo>
                  <a:pt x="536" y="1512"/>
                </a:lnTo>
                <a:lnTo>
                  <a:pt x="535" y="1502"/>
                </a:lnTo>
                <a:lnTo>
                  <a:pt x="534" y="1490"/>
                </a:lnTo>
                <a:lnTo>
                  <a:pt x="532" y="1477"/>
                </a:lnTo>
                <a:lnTo>
                  <a:pt x="527" y="1464"/>
                </a:lnTo>
                <a:lnTo>
                  <a:pt x="522" y="1454"/>
                </a:lnTo>
                <a:lnTo>
                  <a:pt x="513" y="1447"/>
                </a:lnTo>
                <a:lnTo>
                  <a:pt x="503" y="1445"/>
                </a:lnTo>
                <a:lnTo>
                  <a:pt x="502" y="1432"/>
                </a:lnTo>
                <a:lnTo>
                  <a:pt x="501" y="1415"/>
                </a:lnTo>
                <a:lnTo>
                  <a:pt x="499" y="1398"/>
                </a:lnTo>
                <a:lnTo>
                  <a:pt x="496" y="1378"/>
                </a:lnTo>
                <a:lnTo>
                  <a:pt x="493" y="1356"/>
                </a:lnTo>
                <a:lnTo>
                  <a:pt x="489" y="1333"/>
                </a:lnTo>
                <a:lnTo>
                  <a:pt x="486" y="1309"/>
                </a:lnTo>
                <a:lnTo>
                  <a:pt x="483" y="1285"/>
                </a:lnTo>
                <a:lnTo>
                  <a:pt x="480" y="1263"/>
                </a:lnTo>
                <a:lnTo>
                  <a:pt x="477" y="1239"/>
                </a:lnTo>
                <a:lnTo>
                  <a:pt x="476" y="1217"/>
                </a:lnTo>
                <a:lnTo>
                  <a:pt x="476" y="1196"/>
                </a:lnTo>
                <a:lnTo>
                  <a:pt x="476" y="1178"/>
                </a:lnTo>
                <a:lnTo>
                  <a:pt x="478" y="1163"/>
                </a:lnTo>
                <a:lnTo>
                  <a:pt x="482" y="1150"/>
                </a:lnTo>
                <a:lnTo>
                  <a:pt x="487" y="1139"/>
                </a:lnTo>
                <a:lnTo>
                  <a:pt x="503" y="1139"/>
                </a:lnTo>
                <a:lnTo>
                  <a:pt x="503" y="1109"/>
                </a:lnTo>
                <a:lnTo>
                  <a:pt x="519" y="1109"/>
                </a:lnTo>
                <a:lnTo>
                  <a:pt x="522" y="1102"/>
                </a:lnTo>
                <a:lnTo>
                  <a:pt x="518" y="1090"/>
                </a:lnTo>
                <a:lnTo>
                  <a:pt x="511" y="1078"/>
                </a:lnTo>
                <a:lnTo>
                  <a:pt x="502" y="1065"/>
                </a:lnTo>
                <a:lnTo>
                  <a:pt x="490" y="1053"/>
                </a:lnTo>
                <a:lnTo>
                  <a:pt x="482" y="1042"/>
                </a:lnTo>
                <a:lnTo>
                  <a:pt x="474" y="1036"/>
                </a:lnTo>
                <a:lnTo>
                  <a:pt x="472" y="1033"/>
                </a:lnTo>
                <a:lnTo>
                  <a:pt x="472" y="971"/>
                </a:lnTo>
                <a:lnTo>
                  <a:pt x="454" y="971"/>
                </a:lnTo>
                <a:lnTo>
                  <a:pt x="451" y="967"/>
                </a:lnTo>
                <a:lnTo>
                  <a:pt x="450" y="960"/>
                </a:lnTo>
                <a:lnTo>
                  <a:pt x="449" y="953"/>
                </a:lnTo>
                <a:lnTo>
                  <a:pt x="448" y="943"/>
                </a:lnTo>
                <a:lnTo>
                  <a:pt x="447" y="931"/>
                </a:lnTo>
                <a:lnTo>
                  <a:pt x="447" y="919"/>
                </a:lnTo>
                <a:lnTo>
                  <a:pt x="448" y="906"/>
                </a:lnTo>
                <a:lnTo>
                  <a:pt x="449" y="893"/>
                </a:lnTo>
                <a:lnTo>
                  <a:pt x="449" y="880"/>
                </a:lnTo>
                <a:lnTo>
                  <a:pt x="450" y="866"/>
                </a:lnTo>
                <a:lnTo>
                  <a:pt x="451" y="853"/>
                </a:lnTo>
                <a:lnTo>
                  <a:pt x="452" y="840"/>
                </a:lnTo>
                <a:lnTo>
                  <a:pt x="452" y="830"/>
                </a:lnTo>
                <a:lnTo>
                  <a:pt x="454" y="820"/>
                </a:lnTo>
                <a:lnTo>
                  <a:pt x="454" y="812"/>
                </a:lnTo>
                <a:lnTo>
                  <a:pt x="454" y="804"/>
                </a:lnTo>
                <a:lnTo>
                  <a:pt x="448" y="804"/>
                </a:lnTo>
                <a:lnTo>
                  <a:pt x="440" y="804"/>
                </a:lnTo>
                <a:lnTo>
                  <a:pt x="432" y="805"/>
                </a:lnTo>
                <a:lnTo>
                  <a:pt x="424" y="806"/>
                </a:lnTo>
                <a:lnTo>
                  <a:pt x="417" y="808"/>
                </a:lnTo>
                <a:lnTo>
                  <a:pt x="411" y="810"/>
                </a:lnTo>
                <a:lnTo>
                  <a:pt x="407" y="815"/>
                </a:lnTo>
                <a:lnTo>
                  <a:pt x="406" y="819"/>
                </a:lnTo>
                <a:lnTo>
                  <a:pt x="405" y="814"/>
                </a:lnTo>
                <a:lnTo>
                  <a:pt x="398" y="808"/>
                </a:lnTo>
                <a:lnTo>
                  <a:pt x="389" y="803"/>
                </a:lnTo>
                <a:lnTo>
                  <a:pt x="380" y="799"/>
                </a:lnTo>
                <a:lnTo>
                  <a:pt x="369" y="794"/>
                </a:lnTo>
                <a:lnTo>
                  <a:pt x="359" y="791"/>
                </a:lnTo>
                <a:lnTo>
                  <a:pt x="349" y="789"/>
                </a:lnTo>
                <a:lnTo>
                  <a:pt x="343" y="789"/>
                </a:lnTo>
                <a:lnTo>
                  <a:pt x="336" y="789"/>
                </a:lnTo>
                <a:lnTo>
                  <a:pt x="330" y="791"/>
                </a:lnTo>
                <a:lnTo>
                  <a:pt x="324" y="794"/>
                </a:lnTo>
                <a:lnTo>
                  <a:pt x="318" y="796"/>
                </a:lnTo>
                <a:lnTo>
                  <a:pt x="311" y="800"/>
                </a:lnTo>
                <a:lnTo>
                  <a:pt x="307" y="802"/>
                </a:lnTo>
                <a:lnTo>
                  <a:pt x="300" y="804"/>
                </a:lnTo>
                <a:lnTo>
                  <a:pt x="293" y="804"/>
                </a:lnTo>
                <a:lnTo>
                  <a:pt x="277" y="819"/>
                </a:lnTo>
                <a:lnTo>
                  <a:pt x="277" y="910"/>
                </a:lnTo>
                <a:lnTo>
                  <a:pt x="263" y="925"/>
                </a:lnTo>
                <a:lnTo>
                  <a:pt x="197" y="925"/>
                </a:lnTo>
                <a:lnTo>
                  <a:pt x="197" y="941"/>
                </a:lnTo>
                <a:lnTo>
                  <a:pt x="99" y="941"/>
                </a:lnTo>
                <a:lnTo>
                  <a:pt x="99" y="925"/>
                </a:lnTo>
                <a:lnTo>
                  <a:pt x="18" y="910"/>
                </a:lnTo>
                <a:lnTo>
                  <a:pt x="18" y="864"/>
                </a:lnTo>
                <a:lnTo>
                  <a:pt x="2" y="864"/>
                </a:lnTo>
                <a:lnTo>
                  <a:pt x="1" y="855"/>
                </a:lnTo>
                <a:lnTo>
                  <a:pt x="0" y="845"/>
                </a:lnTo>
                <a:lnTo>
                  <a:pt x="0" y="836"/>
                </a:lnTo>
                <a:lnTo>
                  <a:pt x="1" y="826"/>
                </a:lnTo>
                <a:lnTo>
                  <a:pt x="3" y="816"/>
                </a:lnTo>
                <a:lnTo>
                  <a:pt x="5" y="805"/>
                </a:lnTo>
                <a:lnTo>
                  <a:pt x="9" y="794"/>
                </a:lnTo>
                <a:lnTo>
                  <a:pt x="12" y="783"/>
                </a:lnTo>
                <a:lnTo>
                  <a:pt x="16" y="773"/>
                </a:lnTo>
                <a:lnTo>
                  <a:pt x="20" y="762"/>
                </a:lnTo>
                <a:lnTo>
                  <a:pt x="23" y="752"/>
                </a:lnTo>
                <a:lnTo>
                  <a:pt x="28" y="742"/>
                </a:lnTo>
                <a:lnTo>
                  <a:pt x="30" y="733"/>
                </a:lnTo>
                <a:lnTo>
                  <a:pt x="32" y="726"/>
                </a:lnTo>
                <a:lnTo>
                  <a:pt x="33" y="718"/>
                </a:lnTo>
                <a:lnTo>
                  <a:pt x="35" y="712"/>
                </a:lnTo>
                <a:lnTo>
                  <a:pt x="50" y="697"/>
                </a:lnTo>
                <a:lnTo>
                  <a:pt x="62" y="696"/>
                </a:lnTo>
                <a:lnTo>
                  <a:pt x="72" y="690"/>
                </a:lnTo>
                <a:lnTo>
                  <a:pt x="81" y="683"/>
                </a:lnTo>
                <a:lnTo>
                  <a:pt x="89" y="674"/>
                </a:lnTo>
                <a:lnTo>
                  <a:pt x="97" y="665"/>
                </a:lnTo>
                <a:lnTo>
                  <a:pt x="102" y="659"/>
                </a:lnTo>
                <a:lnTo>
                  <a:pt x="110" y="653"/>
                </a:lnTo>
                <a:lnTo>
                  <a:pt x="115" y="651"/>
                </a:lnTo>
                <a:lnTo>
                  <a:pt x="115" y="620"/>
                </a:lnTo>
                <a:lnTo>
                  <a:pt x="132" y="620"/>
                </a:lnTo>
                <a:lnTo>
                  <a:pt x="135" y="612"/>
                </a:lnTo>
                <a:lnTo>
                  <a:pt x="135" y="602"/>
                </a:lnTo>
                <a:lnTo>
                  <a:pt x="133" y="589"/>
                </a:lnTo>
                <a:lnTo>
                  <a:pt x="127" y="576"/>
                </a:lnTo>
                <a:lnTo>
                  <a:pt x="122" y="564"/>
                </a:lnTo>
                <a:lnTo>
                  <a:pt x="114" y="554"/>
                </a:lnTo>
                <a:lnTo>
                  <a:pt x="107" y="546"/>
                </a:lnTo>
                <a:lnTo>
                  <a:pt x="99" y="544"/>
                </a:lnTo>
                <a:lnTo>
                  <a:pt x="100" y="533"/>
                </a:lnTo>
                <a:lnTo>
                  <a:pt x="102" y="524"/>
                </a:lnTo>
                <a:lnTo>
                  <a:pt x="106" y="516"/>
                </a:lnTo>
                <a:lnTo>
                  <a:pt x="108" y="509"/>
                </a:lnTo>
                <a:lnTo>
                  <a:pt x="110" y="504"/>
                </a:lnTo>
                <a:lnTo>
                  <a:pt x="113" y="501"/>
                </a:lnTo>
                <a:lnTo>
                  <a:pt x="115" y="499"/>
                </a:lnTo>
                <a:lnTo>
                  <a:pt x="115" y="483"/>
                </a:lnTo>
                <a:lnTo>
                  <a:pt x="83" y="469"/>
                </a:lnTo>
                <a:lnTo>
                  <a:pt x="83" y="438"/>
                </a:lnTo>
                <a:lnTo>
                  <a:pt x="50" y="438"/>
                </a:lnTo>
                <a:lnTo>
                  <a:pt x="35" y="422"/>
                </a:lnTo>
                <a:lnTo>
                  <a:pt x="35" y="377"/>
                </a:lnTo>
                <a:lnTo>
                  <a:pt x="18" y="377"/>
                </a:lnTo>
                <a:lnTo>
                  <a:pt x="19" y="371"/>
                </a:lnTo>
                <a:lnTo>
                  <a:pt x="19" y="365"/>
                </a:lnTo>
                <a:lnTo>
                  <a:pt x="21" y="359"/>
                </a:lnTo>
                <a:lnTo>
                  <a:pt x="24" y="354"/>
                </a:lnTo>
                <a:lnTo>
                  <a:pt x="28" y="348"/>
                </a:lnTo>
                <a:lnTo>
                  <a:pt x="32" y="342"/>
                </a:lnTo>
                <a:lnTo>
                  <a:pt x="37" y="337"/>
                </a:lnTo>
                <a:lnTo>
                  <a:pt x="44" y="331"/>
                </a:lnTo>
              </a:path>
            </a:pathLst>
          </a:custGeom>
          <a:solidFill>
            <a:srgbClr val="a8ffff"/>
          </a:solidFill>
          <a:ln cap="rnd" w="1260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520" y="1531800"/>
            <a:ext cx="7170480" cy="2121120"/>
          </a:xfrm>
          <a:custGeom>
            <a:avLst/>
            <a:gdLst/>
            <a:ahLst/>
            <a:rect l="l" t="t" r="r" b="b"/>
            <a:pathLst>
              <a:path w="5022" h="1635">
                <a:moveTo>
                  <a:pt x="254" y="1464"/>
                </a:moveTo>
                <a:lnTo>
                  <a:pt x="320" y="1349"/>
                </a:lnTo>
                <a:lnTo>
                  <a:pt x="320" y="1339"/>
                </a:lnTo>
                <a:lnTo>
                  <a:pt x="324" y="1331"/>
                </a:lnTo>
                <a:lnTo>
                  <a:pt x="332" y="1324"/>
                </a:lnTo>
                <a:lnTo>
                  <a:pt x="341" y="1319"/>
                </a:lnTo>
                <a:lnTo>
                  <a:pt x="348" y="1315"/>
                </a:lnTo>
                <a:lnTo>
                  <a:pt x="352" y="1309"/>
                </a:lnTo>
                <a:lnTo>
                  <a:pt x="350" y="1304"/>
                </a:lnTo>
                <a:lnTo>
                  <a:pt x="343" y="1297"/>
                </a:lnTo>
                <a:lnTo>
                  <a:pt x="367" y="1251"/>
                </a:lnTo>
                <a:lnTo>
                  <a:pt x="382" y="1213"/>
                </a:lnTo>
                <a:lnTo>
                  <a:pt x="394" y="1179"/>
                </a:lnTo>
                <a:lnTo>
                  <a:pt x="398" y="1151"/>
                </a:lnTo>
                <a:lnTo>
                  <a:pt x="401" y="1127"/>
                </a:lnTo>
                <a:lnTo>
                  <a:pt x="401" y="1108"/>
                </a:lnTo>
                <a:lnTo>
                  <a:pt x="401" y="1090"/>
                </a:lnTo>
                <a:lnTo>
                  <a:pt x="402" y="1075"/>
                </a:lnTo>
                <a:lnTo>
                  <a:pt x="406" y="1063"/>
                </a:lnTo>
                <a:lnTo>
                  <a:pt x="414" y="1050"/>
                </a:lnTo>
                <a:lnTo>
                  <a:pt x="427" y="1038"/>
                </a:lnTo>
                <a:lnTo>
                  <a:pt x="448" y="1026"/>
                </a:lnTo>
                <a:lnTo>
                  <a:pt x="476" y="1012"/>
                </a:lnTo>
                <a:lnTo>
                  <a:pt x="516" y="996"/>
                </a:lnTo>
                <a:lnTo>
                  <a:pt x="567" y="976"/>
                </a:lnTo>
                <a:lnTo>
                  <a:pt x="630" y="955"/>
                </a:lnTo>
                <a:lnTo>
                  <a:pt x="630" y="882"/>
                </a:lnTo>
                <a:lnTo>
                  <a:pt x="632" y="880"/>
                </a:lnTo>
                <a:lnTo>
                  <a:pt x="634" y="879"/>
                </a:lnTo>
                <a:lnTo>
                  <a:pt x="639" y="878"/>
                </a:lnTo>
                <a:lnTo>
                  <a:pt x="645" y="876"/>
                </a:lnTo>
                <a:lnTo>
                  <a:pt x="651" y="873"/>
                </a:lnTo>
                <a:lnTo>
                  <a:pt x="657" y="870"/>
                </a:lnTo>
                <a:lnTo>
                  <a:pt x="666" y="866"/>
                </a:lnTo>
                <a:lnTo>
                  <a:pt x="673" y="861"/>
                </a:lnTo>
                <a:lnTo>
                  <a:pt x="681" y="855"/>
                </a:lnTo>
                <a:lnTo>
                  <a:pt x="688" y="846"/>
                </a:lnTo>
                <a:lnTo>
                  <a:pt x="694" y="837"/>
                </a:lnTo>
                <a:lnTo>
                  <a:pt x="700" y="825"/>
                </a:lnTo>
                <a:lnTo>
                  <a:pt x="704" y="811"/>
                </a:lnTo>
                <a:lnTo>
                  <a:pt x="707" y="793"/>
                </a:lnTo>
                <a:lnTo>
                  <a:pt x="708" y="775"/>
                </a:lnTo>
                <a:lnTo>
                  <a:pt x="707" y="752"/>
                </a:lnTo>
                <a:lnTo>
                  <a:pt x="763" y="693"/>
                </a:lnTo>
                <a:lnTo>
                  <a:pt x="703" y="651"/>
                </a:lnTo>
                <a:lnTo>
                  <a:pt x="712" y="646"/>
                </a:lnTo>
                <a:lnTo>
                  <a:pt x="721" y="641"/>
                </a:lnTo>
                <a:lnTo>
                  <a:pt x="727" y="638"/>
                </a:lnTo>
                <a:lnTo>
                  <a:pt x="735" y="637"/>
                </a:lnTo>
                <a:lnTo>
                  <a:pt x="742" y="635"/>
                </a:lnTo>
                <a:lnTo>
                  <a:pt x="746" y="634"/>
                </a:lnTo>
                <a:lnTo>
                  <a:pt x="752" y="633"/>
                </a:lnTo>
                <a:lnTo>
                  <a:pt x="759" y="633"/>
                </a:lnTo>
                <a:lnTo>
                  <a:pt x="763" y="632"/>
                </a:lnTo>
                <a:lnTo>
                  <a:pt x="769" y="631"/>
                </a:lnTo>
                <a:lnTo>
                  <a:pt x="773" y="629"/>
                </a:lnTo>
                <a:lnTo>
                  <a:pt x="781" y="628"/>
                </a:lnTo>
                <a:lnTo>
                  <a:pt x="787" y="626"/>
                </a:lnTo>
                <a:lnTo>
                  <a:pt x="795" y="623"/>
                </a:lnTo>
                <a:lnTo>
                  <a:pt x="803" y="619"/>
                </a:lnTo>
                <a:lnTo>
                  <a:pt x="813" y="613"/>
                </a:lnTo>
                <a:lnTo>
                  <a:pt x="813" y="603"/>
                </a:lnTo>
                <a:lnTo>
                  <a:pt x="866" y="603"/>
                </a:lnTo>
                <a:lnTo>
                  <a:pt x="867" y="598"/>
                </a:lnTo>
                <a:lnTo>
                  <a:pt x="868" y="595"/>
                </a:lnTo>
                <a:lnTo>
                  <a:pt x="869" y="594"/>
                </a:lnTo>
                <a:lnTo>
                  <a:pt x="872" y="594"/>
                </a:lnTo>
                <a:lnTo>
                  <a:pt x="874" y="594"/>
                </a:lnTo>
                <a:lnTo>
                  <a:pt x="876" y="593"/>
                </a:lnTo>
                <a:lnTo>
                  <a:pt x="876" y="589"/>
                </a:lnTo>
                <a:lnTo>
                  <a:pt x="877" y="584"/>
                </a:lnTo>
                <a:lnTo>
                  <a:pt x="909" y="584"/>
                </a:lnTo>
                <a:lnTo>
                  <a:pt x="909" y="579"/>
                </a:lnTo>
                <a:lnTo>
                  <a:pt x="911" y="575"/>
                </a:lnTo>
                <a:lnTo>
                  <a:pt x="912" y="574"/>
                </a:lnTo>
                <a:lnTo>
                  <a:pt x="915" y="574"/>
                </a:lnTo>
                <a:lnTo>
                  <a:pt x="916" y="574"/>
                </a:lnTo>
                <a:lnTo>
                  <a:pt x="918" y="572"/>
                </a:lnTo>
                <a:lnTo>
                  <a:pt x="919" y="569"/>
                </a:lnTo>
                <a:lnTo>
                  <a:pt x="919" y="563"/>
                </a:lnTo>
                <a:lnTo>
                  <a:pt x="924" y="563"/>
                </a:lnTo>
                <a:lnTo>
                  <a:pt x="928" y="562"/>
                </a:lnTo>
                <a:lnTo>
                  <a:pt x="931" y="560"/>
                </a:lnTo>
                <a:lnTo>
                  <a:pt x="937" y="558"/>
                </a:lnTo>
                <a:lnTo>
                  <a:pt x="940" y="556"/>
                </a:lnTo>
                <a:lnTo>
                  <a:pt x="944" y="555"/>
                </a:lnTo>
                <a:lnTo>
                  <a:pt x="947" y="554"/>
                </a:lnTo>
                <a:lnTo>
                  <a:pt x="952" y="554"/>
                </a:lnTo>
                <a:lnTo>
                  <a:pt x="952" y="533"/>
                </a:lnTo>
                <a:lnTo>
                  <a:pt x="952" y="528"/>
                </a:lnTo>
                <a:lnTo>
                  <a:pt x="955" y="521"/>
                </a:lnTo>
                <a:lnTo>
                  <a:pt x="959" y="512"/>
                </a:lnTo>
                <a:lnTo>
                  <a:pt x="965" y="504"/>
                </a:lnTo>
                <a:lnTo>
                  <a:pt x="971" y="496"/>
                </a:lnTo>
                <a:lnTo>
                  <a:pt x="979" y="489"/>
                </a:lnTo>
                <a:lnTo>
                  <a:pt x="986" y="484"/>
                </a:lnTo>
                <a:lnTo>
                  <a:pt x="995" y="482"/>
                </a:lnTo>
                <a:lnTo>
                  <a:pt x="1005" y="472"/>
                </a:lnTo>
                <a:lnTo>
                  <a:pt x="1016" y="461"/>
                </a:lnTo>
                <a:lnTo>
                  <a:pt x="1016" y="442"/>
                </a:lnTo>
                <a:lnTo>
                  <a:pt x="1017" y="441"/>
                </a:lnTo>
                <a:lnTo>
                  <a:pt x="1021" y="436"/>
                </a:lnTo>
                <a:lnTo>
                  <a:pt x="1025" y="432"/>
                </a:lnTo>
                <a:lnTo>
                  <a:pt x="1032" y="425"/>
                </a:lnTo>
                <a:lnTo>
                  <a:pt x="1038" y="419"/>
                </a:lnTo>
                <a:lnTo>
                  <a:pt x="1043" y="412"/>
                </a:lnTo>
                <a:lnTo>
                  <a:pt x="1047" y="407"/>
                </a:lnTo>
                <a:lnTo>
                  <a:pt x="1048" y="403"/>
                </a:lnTo>
                <a:lnTo>
                  <a:pt x="1059" y="392"/>
                </a:lnTo>
                <a:lnTo>
                  <a:pt x="1091" y="382"/>
                </a:lnTo>
                <a:lnTo>
                  <a:pt x="1091" y="372"/>
                </a:lnTo>
                <a:lnTo>
                  <a:pt x="1100" y="367"/>
                </a:lnTo>
                <a:lnTo>
                  <a:pt x="1110" y="363"/>
                </a:lnTo>
                <a:lnTo>
                  <a:pt x="1120" y="359"/>
                </a:lnTo>
                <a:lnTo>
                  <a:pt x="1130" y="356"/>
                </a:lnTo>
                <a:lnTo>
                  <a:pt x="1143" y="353"/>
                </a:lnTo>
                <a:lnTo>
                  <a:pt x="1156" y="351"/>
                </a:lnTo>
                <a:lnTo>
                  <a:pt x="1169" y="350"/>
                </a:lnTo>
                <a:lnTo>
                  <a:pt x="1182" y="346"/>
                </a:lnTo>
                <a:lnTo>
                  <a:pt x="1197" y="345"/>
                </a:lnTo>
                <a:lnTo>
                  <a:pt x="1210" y="343"/>
                </a:lnTo>
                <a:lnTo>
                  <a:pt x="1224" y="341"/>
                </a:lnTo>
                <a:lnTo>
                  <a:pt x="1238" y="338"/>
                </a:lnTo>
                <a:lnTo>
                  <a:pt x="1250" y="335"/>
                </a:lnTo>
                <a:lnTo>
                  <a:pt x="1260" y="331"/>
                </a:lnTo>
                <a:lnTo>
                  <a:pt x="1272" y="327"/>
                </a:lnTo>
                <a:lnTo>
                  <a:pt x="1282" y="322"/>
                </a:lnTo>
                <a:lnTo>
                  <a:pt x="1282" y="312"/>
                </a:lnTo>
                <a:lnTo>
                  <a:pt x="1303" y="312"/>
                </a:lnTo>
                <a:lnTo>
                  <a:pt x="1303" y="302"/>
                </a:lnTo>
                <a:lnTo>
                  <a:pt x="1311" y="299"/>
                </a:lnTo>
                <a:lnTo>
                  <a:pt x="1321" y="297"/>
                </a:lnTo>
                <a:lnTo>
                  <a:pt x="1332" y="294"/>
                </a:lnTo>
                <a:lnTo>
                  <a:pt x="1344" y="293"/>
                </a:lnTo>
                <a:lnTo>
                  <a:pt x="1356" y="292"/>
                </a:lnTo>
                <a:lnTo>
                  <a:pt x="1369" y="292"/>
                </a:lnTo>
                <a:lnTo>
                  <a:pt x="1380" y="292"/>
                </a:lnTo>
                <a:lnTo>
                  <a:pt x="1393" y="292"/>
                </a:lnTo>
                <a:lnTo>
                  <a:pt x="1406" y="292"/>
                </a:lnTo>
                <a:lnTo>
                  <a:pt x="1418" y="292"/>
                </a:lnTo>
                <a:lnTo>
                  <a:pt x="1429" y="291"/>
                </a:lnTo>
                <a:lnTo>
                  <a:pt x="1440" y="290"/>
                </a:lnTo>
                <a:lnTo>
                  <a:pt x="1450" y="289"/>
                </a:lnTo>
                <a:lnTo>
                  <a:pt x="1460" y="288"/>
                </a:lnTo>
                <a:lnTo>
                  <a:pt x="1467" y="285"/>
                </a:lnTo>
                <a:lnTo>
                  <a:pt x="1475" y="281"/>
                </a:lnTo>
                <a:lnTo>
                  <a:pt x="1475" y="272"/>
                </a:lnTo>
                <a:lnTo>
                  <a:pt x="1496" y="272"/>
                </a:lnTo>
                <a:lnTo>
                  <a:pt x="1496" y="261"/>
                </a:lnTo>
                <a:lnTo>
                  <a:pt x="1528" y="261"/>
                </a:lnTo>
                <a:lnTo>
                  <a:pt x="1528" y="251"/>
                </a:lnTo>
                <a:lnTo>
                  <a:pt x="1538" y="247"/>
                </a:lnTo>
                <a:lnTo>
                  <a:pt x="1548" y="243"/>
                </a:lnTo>
                <a:lnTo>
                  <a:pt x="1558" y="240"/>
                </a:lnTo>
                <a:lnTo>
                  <a:pt x="1571" y="239"/>
                </a:lnTo>
                <a:lnTo>
                  <a:pt x="1582" y="238"/>
                </a:lnTo>
                <a:lnTo>
                  <a:pt x="1596" y="237"/>
                </a:lnTo>
                <a:lnTo>
                  <a:pt x="1609" y="237"/>
                </a:lnTo>
                <a:lnTo>
                  <a:pt x="1624" y="238"/>
                </a:lnTo>
                <a:lnTo>
                  <a:pt x="1639" y="239"/>
                </a:lnTo>
                <a:lnTo>
                  <a:pt x="1653" y="240"/>
                </a:lnTo>
                <a:lnTo>
                  <a:pt x="1669" y="242"/>
                </a:lnTo>
                <a:lnTo>
                  <a:pt x="1684" y="245"/>
                </a:lnTo>
                <a:lnTo>
                  <a:pt x="1700" y="248"/>
                </a:lnTo>
                <a:lnTo>
                  <a:pt x="1715" y="251"/>
                </a:lnTo>
                <a:lnTo>
                  <a:pt x="1732" y="254"/>
                </a:lnTo>
                <a:lnTo>
                  <a:pt x="1749" y="258"/>
                </a:lnTo>
                <a:lnTo>
                  <a:pt x="1764" y="261"/>
                </a:lnTo>
                <a:lnTo>
                  <a:pt x="1781" y="265"/>
                </a:lnTo>
                <a:lnTo>
                  <a:pt x="1798" y="268"/>
                </a:lnTo>
                <a:lnTo>
                  <a:pt x="1814" y="273"/>
                </a:lnTo>
                <a:lnTo>
                  <a:pt x="1830" y="276"/>
                </a:lnTo>
                <a:lnTo>
                  <a:pt x="1844" y="280"/>
                </a:lnTo>
                <a:lnTo>
                  <a:pt x="1861" y="284"/>
                </a:lnTo>
                <a:lnTo>
                  <a:pt x="1876" y="287"/>
                </a:lnTo>
                <a:lnTo>
                  <a:pt x="1889" y="290"/>
                </a:lnTo>
                <a:lnTo>
                  <a:pt x="1904" y="293"/>
                </a:lnTo>
                <a:lnTo>
                  <a:pt x="1918" y="296"/>
                </a:lnTo>
                <a:lnTo>
                  <a:pt x="1931" y="298"/>
                </a:lnTo>
                <a:lnTo>
                  <a:pt x="1944" y="300"/>
                </a:lnTo>
                <a:lnTo>
                  <a:pt x="1956" y="301"/>
                </a:lnTo>
                <a:lnTo>
                  <a:pt x="1966" y="302"/>
                </a:lnTo>
                <a:lnTo>
                  <a:pt x="1976" y="302"/>
                </a:lnTo>
                <a:lnTo>
                  <a:pt x="1988" y="292"/>
                </a:lnTo>
                <a:lnTo>
                  <a:pt x="1988" y="288"/>
                </a:lnTo>
                <a:lnTo>
                  <a:pt x="1992" y="284"/>
                </a:lnTo>
                <a:lnTo>
                  <a:pt x="1996" y="277"/>
                </a:lnTo>
                <a:lnTo>
                  <a:pt x="2000" y="273"/>
                </a:lnTo>
                <a:lnTo>
                  <a:pt x="2006" y="268"/>
                </a:lnTo>
                <a:lnTo>
                  <a:pt x="2010" y="264"/>
                </a:lnTo>
                <a:lnTo>
                  <a:pt x="2015" y="262"/>
                </a:lnTo>
                <a:lnTo>
                  <a:pt x="2020" y="261"/>
                </a:lnTo>
                <a:lnTo>
                  <a:pt x="2020" y="258"/>
                </a:lnTo>
                <a:lnTo>
                  <a:pt x="2022" y="254"/>
                </a:lnTo>
                <a:lnTo>
                  <a:pt x="2023" y="250"/>
                </a:lnTo>
                <a:lnTo>
                  <a:pt x="2025" y="247"/>
                </a:lnTo>
                <a:lnTo>
                  <a:pt x="2027" y="242"/>
                </a:lnTo>
                <a:lnTo>
                  <a:pt x="2028" y="239"/>
                </a:lnTo>
                <a:lnTo>
                  <a:pt x="2031" y="235"/>
                </a:lnTo>
                <a:lnTo>
                  <a:pt x="2031" y="232"/>
                </a:lnTo>
                <a:lnTo>
                  <a:pt x="2041" y="222"/>
                </a:lnTo>
                <a:lnTo>
                  <a:pt x="2052" y="222"/>
                </a:lnTo>
                <a:lnTo>
                  <a:pt x="2052" y="211"/>
                </a:lnTo>
                <a:lnTo>
                  <a:pt x="2063" y="211"/>
                </a:lnTo>
                <a:lnTo>
                  <a:pt x="2063" y="201"/>
                </a:lnTo>
                <a:lnTo>
                  <a:pt x="2073" y="190"/>
                </a:lnTo>
                <a:lnTo>
                  <a:pt x="2243" y="181"/>
                </a:lnTo>
                <a:lnTo>
                  <a:pt x="2317" y="181"/>
                </a:lnTo>
                <a:lnTo>
                  <a:pt x="2317" y="171"/>
                </a:lnTo>
                <a:lnTo>
                  <a:pt x="2372" y="171"/>
                </a:lnTo>
                <a:lnTo>
                  <a:pt x="2374" y="166"/>
                </a:lnTo>
                <a:lnTo>
                  <a:pt x="2382" y="163"/>
                </a:lnTo>
                <a:lnTo>
                  <a:pt x="2392" y="160"/>
                </a:lnTo>
                <a:lnTo>
                  <a:pt x="2405" y="157"/>
                </a:lnTo>
                <a:lnTo>
                  <a:pt x="2418" y="155"/>
                </a:lnTo>
                <a:lnTo>
                  <a:pt x="2430" y="152"/>
                </a:lnTo>
                <a:lnTo>
                  <a:pt x="2441" y="151"/>
                </a:lnTo>
                <a:lnTo>
                  <a:pt x="2447" y="150"/>
                </a:lnTo>
                <a:lnTo>
                  <a:pt x="2447" y="140"/>
                </a:lnTo>
                <a:lnTo>
                  <a:pt x="2452" y="139"/>
                </a:lnTo>
                <a:lnTo>
                  <a:pt x="2461" y="137"/>
                </a:lnTo>
                <a:lnTo>
                  <a:pt x="2473" y="137"/>
                </a:lnTo>
                <a:lnTo>
                  <a:pt x="2487" y="137"/>
                </a:lnTo>
                <a:lnTo>
                  <a:pt x="2502" y="138"/>
                </a:lnTo>
                <a:lnTo>
                  <a:pt x="2519" y="139"/>
                </a:lnTo>
                <a:lnTo>
                  <a:pt x="2537" y="140"/>
                </a:lnTo>
                <a:lnTo>
                  <a:pt x="2555" y="142"/>
                </a:lnTo>
                <a:lnTo>
                  <a:pt x="2573" y="144"/>
                </a:lnTo>
                <a:lnTo>
                  <a:pt x="2592" y="145"/>
                </a:lnTo>
                <a:lnTo>
                  <a:pt x="2609" y="146"/>
                </a:lnTo>
                <a:lnTo>
                  <a:pt x="2625" y="148"/>
                </a:lnTo>
                <a:lnTo>
                  <a:pt x="2639" y="149"/>
                </a:lnTo>
                <a:lnTo>
                  <a:pt x="2654" y="150"/>
                </a:lnTo>
                <a:lnTo>
                  <a:pt x="2663" y="150"/>
                </a:lnTo>
                <a:lnTo>
                  <a:pt x="2671" y="150"/>
                </a:lnTo>
                <a:lnTo>
                  <a:pt x="2672" y="147"/>
                </a:lnTo>
                <a:lnTo>
                  <a:pt x="2677" y="145"/>
                </a:lnTo>
                <a:lnTo>
                  <a:pt x="2682" y="143"/>
                </a:lnTo>
                <a:lnTo>
                  <a:pt x="2688" y="142"/>
                </a:lnTo>
                <a:lnTo>
                  <a:pt x="2696" y="140"/>
                </a:lnTo>
                <a:lnTo>
                  <a:pt x="2702" y="140"/>
                </a:lnTo>
                <a:lnTo>
                  <a:pt x="2709" y="140"/>
                </a:lnTo>
                <a:lnTo>
                  <a:pt x="2714" y="140"/>
                </a:lnTo>
                <a:lnTo>
                  <a:pt x="2714" y="146"/>
                </a:lnTo>
                <a:lnTo>
                  <a:pt x="2715" y="149"/>
                </a:lnTo>
                <a:lnTo>
                  <a:pt x="2716" y="150"/>
                </a:lnTo>
                <a:lnTo>
                  <a:pt x="2720" y="150"/>
                </a:lnTo>
                <a:lnTo>
                  <a:pt x="2722" y="150"/>
                </a:lnTo>
                <a:lnTo>
                  <a:pt x="2723" y="152"/>
                </a:lnTo>
                <a:lnTo>
                  <a:pt x="2724" y="155"/>
                </a:lnTo>
                <a:lnTo>
                  <a:pt x="2724" y="161"/>
                </a:lnTo>
                <a:lnTo>
                  <a:pt x="2738" y="161"/>
                </a:lnTo>
                <a:lnTo>
                  <a:pt x="2754" y="164"/>
                </a:lnTo>
                <a:lnTo>
                  <a:pt x="2774" y="169"/>
                </a:lnTo>
                <a:lnTo>
                  <a:pt x="2794" y="174"/>
                </a:lnTo>
                <a:lnTo>
                  <a:pt x="2816" y="181"/>
                </a:lnTo>
                <a:lnTo>
                  <a:pt x="2839" y="187"/>
                </a:lnTo>
                <a:lnTo>
                  <a:pt x="2863" y="196"/>
                </a:lnTo>
                <a:lnTo>
                  <a:pt x="2888" y="204"/>
                </a:lnTo>
                <a:lnTo>
                  <a:pt x="2911" y="214"/>
                </a:lnTo>
                <a:lnTo>
                  <a:pt x="2933" y="223"/>
                </a:lnTo>
                <a:lnTo>
                  <a:pt x="2956" y="233"/>
                </a:lnTo>
                <a:lnTo>
                  <a:pt x="2975" y="241"/>
                </a:lnTo>
                <a:lnTo>
                  <a:pt x="2994" y="250"/>
                </a:lnTo>
                <a:lnTo>
                  <a:pt x="3010" y="259"/>
                </a:lnTo>
                <a:lnTo>
                  <a:pt x="3023" y="265"/>
                </a:lnTo>
                <a:lnTo>
                  <a:pt x="3034" y="272"/>
                </a:lnTo>
                <a:lnTo>
                  <a:pt x="3034" y="281"/>
                </a:lnTo>
                <a:lnTo>
                  <a:pt x="3054" y="281"/>
                </a:lnTo>
                <a:lnTo>
                  <a:pt x="3055" y="287"/>
                </a:lnTo>
                <a:lnTo>
                  <a:pt x="3061" y="291"/>
                </a:lnTo>
                <a:lnTo>
                  <a:pt x="3065" y="296"/>
                </a:lnTo>
                <a:lnTo>
                  <a:pt x="3073" y="298"/>
                </a:lnTo>
                <a:lnTo>
                  <a:pt x="3083" y="300"/>
                </a:lnTo>
                <a:lnTo>
                  <a:pt x="3092" y="302"/>
                </a:lnTo>
                <a:lnTo>
                  <a:pt x="3105" y="303"/>
                </a:lnTo>
                <a:lnTo>
                  <a:pt x="3116" y="304"/>
                </a:lnTo>
                <a:lnTo>
                  <a:pt x="3129" y="305"/>
                </a:lnTo>
                <a:lnTo>
                  <a:pt x="3141" y="305"/>
                </a:lnTo>
                <a:lnTo>
                  <a:pt x="3152" y="306"/>
                </a:lnTo>
                <a:lnTo>
                  <a:pt x="3163" y="306"/>
                </a:lnTo>
                <a:lnTo>
                  <a:pt x="3174" y="309"/>
                </a:lnTo>
                <a:lnTo>
                  <a:pt x="3182" y="309"/>
                </a:lnTo>
                <a:lnTo>
                  <a:pt x="3188" y="310"/>
                </a:lnTo>
                <a:lnTo>
                  <a:pt x="3193" y="312"/>
                </a:lnTo>
                <a:lnTo>
                  <a:pt x="3193" y="322"/>
                </a:lnTo>
                <a:lnTo>
                  <a:pt x="3201" y="325"/>
                </a:lnTo>
                <a:lnTo>
                  <a:pt x="3206" y="328"/>
                </a:lnTo>
                <a:lnTo>
                  <a:pt x="3214" y="330"/>
                </a:lnTo>
                <a:lnTo>
                  <a:pt x="3221" y="332"/>
                </a:lnTo>
                <a:lnTo>
                  <a:pt x="3229" y="333"/>
                </a:lnTo>
                <a:lnTo>
                  <a:pt x="3236" y="336"/>
                </a:lnTo>
                <a:lnTo>
                  <a:pt x="3244" y="337"/>
                </a:lnTo>
                <a:lnTo>
                  <a:pt x="3252" y="338"/>
                </a:lnTo>
                <a:lnTo>
                  <a:pt x="3260" y="340"/>
                </a:lnTo>
                <a:lnTo>
                  <a:pt x="3267" y="341"/>
                </a:lnTo>
                <a:lnTo>
                  <a:pt x="3273" y="343"/>
                </a:lnTo>
                <a:lnTo>
                  <a:pt x="3280" y="346"/>
                </a:lnTo>
                <a:lnTo>
                  <a:pt x="3286" y="350"/>
                </a:lnTo>
                <a:lnTo>
                  <a:pt x="3292" y="352"/>
                </a:lnTo>
                <a:lnTo>
                  <a:pt x="3297" y="357"/>
                </a:lnTo>
                <a:lnTo>
                  <a:pt x="3301" y="363"/>
                </a:lnTo>
                <a:lnTo>
                  <a:pt x="3312" y="363"/>
                </a:lnTo>
                <a:lnTo>
                  <a:pt x="3315" y="366"/>
                </a:lnTo>
                <a:lnTo>
                  <a:pt x="3321" y="368"/>
                </a:lnTo>
                <a:lnTo>
                  <a:pt x="3324" y="370"/>
                </a:lnTo>
                <a:lnTo>
                  <a:pt x="3327" y="372"/>
                </a:lnTo>
                <a:lnTo>
                  <a:pt x="3332" y="375"/>
                </a:lnTo>
                <a:lnTo>
                  <a:pt x="3335" y="376"/>
                </a:lnTo>
                <a:lnTo>
                  <a:pt x="3340" y="379"/>
                </a:lnTo>
                <a:lnTo>
                  <a:pt x="3344" y="382"/>
                </a:lnTo>
                <a:lnTo>
                  <a:pt x="3344" y="392"/>
                </a:lnTo>
                <a:lnTo>
                  <a:pt x="3376" y="392"/>
                </a:lnTo>
                <a:lnTo>
                  <a:pt x="3376" y="403"/>
                </a:lnTo>
                <a:lnTo>
                  <a:pt x="3378" y="404"/>
                </a:lnTo>
                <a:lnTo>
                  <a:pt x="3384" y="406"/>
                </a:lnTo>
                <a:lnTo>
                  <a:pt x="3388" y="408"/>
                </a:lnTo>
                <a:lnTo>
                  <a:pt x="3396" y="408"/>
                </a:lnTo>
                <a:lnTo>
                  <a:pt x="3403" y="410"/>
                </a:lnTo>
                <a:lnTo>
                  <a:pt x="3412" y="412"/>
                </a:lnTo>
                <a:lnTo>
                  <a:pt x="3422" y="414"/>
                </a:lnTo>
                <a:lnTo>
                  <a:pt x="3430" y="415"/>
                </a:lnTo>
                <a:lnTo>
                  <a:pt x="3440" y="417"/>
                </a:lnTo>
                <a:lnTo>
                  <a:pt x="3450" y="418"/>
                </a:lnTo>
                <a:lnTo>
                  <a:pt x="3458" y="419"/>
                </a:lnTo>
                <a:lnTo>
                  <a:pt x="3467" y="420"/>
                </a:lnTo>
                <a:lnTo>
                  <a:pt x="3476" y="420"/>
                </a:lnTo>
                <a:lnTo>
                  <a:pt x="3482" y="421"/>
                </a:lnTo>
                <a:lnTo>
                  <a:pt x="3489" y="422"/>
                </a:lnTo>
                <a:lnTo>
                  <a:pt x="3493" y="422"/>
                </a:lnTo>
                <a:lnTo>
                  <a:pt x="3495" y="429"/>
                </a:lnTo>
                <a:lnTo>
                  <a:pt x="3498" y="434"/>
                </a:lnTo>
                <a:lnTo>
                  <a:pt x="3504" y="439"/>
                </a:lnTo>
                <a:lnTo>
                  <a:pt x="3509" y="442"/>
                </a:lnTo>
                <a:lnTo>
                  <a:pt x="3515" y="445"/>
                </a:lnTo>
                <a:lnTo>
                  <a:pt x="3521" y="449"/>
                </a:lnTo>
                <a:lnTo>
                  <a:pt x="3523" y="455"/>
                </a:lnTo>
                <a:lnTo>
                  <a:pt x="3526" y="461"/>
                </a:lnTo>
                <a:lnTo>
                  <a:pt x="3536" y="472"/>
                </a:lnTo>
                <a:lnTo>
                  <a:pt x="3546" y="472"/>
                </a:lnTo>
                <a:lnTo>
                  <a:pt x="3558" y="482"/>
                </a:lnTo>
                <a:lnTo>
                  <a:pt x="3558" y="503"/>
                </a:lnTo>
                <a:lnTo>
                  <a:pt x="3566" y="505"/>
                </a:lnTo>
                <a:lnTo>
                  <a:pt x="3570" y="509"/>
                </a:lnTo>
                <a:lnTo>
                  <a:pt x="3575" y="516"/>
                </a:lnTo>
                <a:lnTo>
                  <a:pt x="3579" y="523"/>
                </a:lnTo>
                <a:lnTo>
                  <a:pt x="3583" y="531"/>
                </a:lnTo>
                <a:lnTo>
                  <a:pt x="3587" y="537"/>
                </a:lnTo>
                <a:lnTo>
                  <a:pt x="3593" y="542"/>
                </a:lnTo>
                <a:lnTo>
                  <a:pt x="3600" y="543"/>
                </a:lnTo>
                <a:lnTo>
                  <a:pt x="3601" y="550"/>
                </a:lnTo>
                <a:lnTo>
                  <a:pt x="3602" y="559"/>
                </a:lnTo>
                <a:lnTo>
                  <a:pt x="3604" y="567"/>
                </a:lnTo>
                <a:lnTo>
                  <a:pt x="3606" y="574"/>
                </a:lnTo>
                <a:lnTo>
                  <a:pt x="3609" y="581"/>
                </a:lnTo>
                <a:lnTo>
                  <a:pt x="3610" y="588"/>
                </a:lnTo>
                <a:lnTo>
                  <a:pt x="3611" y="596"/>
                </a:lnTo>
                <a:lnTo>
                  <a:pt x="3611" y="603"/>
                </a:lnTo>
                <a:lnTo>
                  <a:pt x="3613" y="605"/>
                </a:lnTo>
                <a:lnTo>
                  <a:pt x="3619" y="609"/>
                </a:lnTo>
                <a:lnTo>
                  <a:pt x="3624" y="613"/>
                </a:lnTo>
                <a:lnTo>
                  <a:pt x="3633" y="620"/>
                </a:lnTo>
                <a:lnTo>
                  <a:pt x="3639" y="626"/>
                </a:lnTo>
                <a:lnTo>
                  <a:pt x="3647" y="634"/>
                </a:lnTo>
                <a:lnTo>
                  <a:pt x="3652" y="640"/>
                </a:lnTo>
                <a:lnTo>
                  <a:pt x="3653" y="645"/>
                </a:lnTo>
                <a:lnTo>
                  <a:pt x="3661" y="646"/>
                </a:lnTo>
                <a:lnTo>
                  <a:pt x="3672" y="649"/>
                </a:lnTo>
                <a:lnTo>
                  <a:pt x="3687" y="654"/>
                </a:lnTo>
                <a:lnTo>
                  <a:pt x="3700" y="661"/>
                </a:lnTo>
                <a:lnTo>
                  <a:pt x="3715" y="667"/>
                </a:lnTo>
                <a:lnTo>
                  <a:pt x="3727" y="674"/>
                </a:lnTo>
                <a:lnTo>
                  <a:pt x="3736" y="679"/>
                </a:lnTo>
                <a:lnTo>
                  <a:pt x="3740" y="683"/>
                </a:lnTo>
                <a:lnTo>
                  <a:pt x="3744" y="684"/>
                </a:lnTo>
                <a:lnTo>
                  <a:pt x="3751" y="685"/>
                </a:lnTo>
                <a:lnTo>
                  <a:pt x="3758" y="687"/>
                </a:lnTo>
                <a:lnTo>
                  <a:pt x="3764" y="689"/>
                </a:lnTo>
                <a:lnTo>
                  <a:pt x="3770" y="693"/>
                </a:lnTo>
                <a:lnTo>
                  <a:pt x="3776" y="697"/>
                </a:lnTo>
                <a:lnTo>
                  <a:pt x="3779" y="700"/>
                </a:lnTo>
                <a:lnTo>
                  <a:pt x="3780" y="703"/>
                </a:lnTo>
                <a:lnTo>
                  <a:pt x="3789" y="704"/>
                </a:lnTo>
                <a:lnTo>
                  <a:pt x="3799" y="706"/>
                </a:lnTo>
                <a:lnTo>
                  <a:pt x="3807" y="711"/>
                </a:lnTo>
                <a:lnTo>
                  <a:pt x="3819" y="715"/>
                </a:lnTo>
                <a:lnTo>
                  <a:pt x="3829" y="719"/>
                </a:lnTo>
                <a:lnTo>
                  <a:pt x="3839" y="725"/>
                </a:lnTo>
                <a:lnTo>
                  <a:pt x="3847" y="729"/>
                </a:lnTo>
                <a:lnTo>
                  <a:pt x="3856" y="734"/>
                </a:lnTo>
                <a:lnTo>
                  <a:pt x="3856" y="743"/>
                </a:lnTo>
                <a:lnTo>
                  <a:pt x="3861" y="748"/>
                </a:lnTo>
                <a:lnTo>
                  <a:pt x="3868" y="751"/>
                </a:lnTo>
                <a:lnTo>
                  <a:pt x="3877" y="755"/>
                </a:lnTo>
                <a:lnTo>
                  <a:pt x="3887" y="760"/>
                </a:lnTo>
                <a:lnTo>
                  <a:pt x="3896" y="765"/>
                </a:lnTo>
                <a:lnTo>
                  <a:pt x="3903" y="772"/>
                </a:lnTo>
                <a:lnTo>
                  <a:pt x="3907" y="777"/>
                </a:lnTo>
                <a:lnTo>
                  <a:pt x="3909" y="785"/>
                </a:lnTo>
                <a:lnTo>
                  <a:pt x="3914" y="785"/>
                </a:lnTo>
                <a:lnTo>
                  <a:pt x="3919" y="788"/>
                </a:lnTo>
                <a:lnTo>
                  <a:pt x="3924" y="790"/>
                </a:lnTo>
                <a:lnTo>
                  <a:pt x="3932" y="794"/>
                </a:lnTo>
                <a:lnTo>
                  <a:pt x="3937" y="798"/>
                </a:lnTo>
                <a:lnTo>
                  <a:pt x="3943" y="801"/>
                </a:lnTo>
                <a:lnTo>
                  <a:pt x="3947" y="804"/>
                </a:lnTo>
                <a:lnTo>
                  <a:pt x="3952" y="804"/>
                </a:lnTo>
                <a:lnTo>
                  <a:pt x="3953" y="809"/>
                </a:lnTo>
                <a:lnTo>
                  <a:pt x="3955" y="813"/>
                </a:lnTo>
                <a:lnTo>
                  <a:pt x="3956" y="814"/>
                </a:lnTo>
                <a:lnTo>
                  <a:pt x="3958" y="814"/>
                </a:lnTo>
                <a:lnTo>
                  <a:pt x="3960" y="814"/>
                </a:lnTo>
                <a:lnTo>
                  <a:pt x="3962" y="816"/>
                </a:lnTo>
                <a:lnTo>
                  <a:pt x="3962" y="818"/>
                </a:lnTo>
                <a:lnTo>
                  <a:pt x="3963" y="825"/>
                </a:lnTo>
                <a:lnTo>
                  <a:pt x="3970" y="825"/>
                </a:lnTo>
                <a:lnTo>
                  <a:pt x="3978" y="827"/>
                </a:lnTo>
                <a:lnTo>
                  <a:pt x="3988" y="830"/>
                </a:lnTo>
                <a:lnTo>
                  <a:pt x="3999" y="834"/>
                </a:lnTo>
                <a:lnTo>
                  <a:pt x="4012" y="839"/>
                </a:lnTo>
                <a:lnTo>
                  <a:pt x="4025" y="844"/>
                </a:lnTo>
                <a:lnTo>
                  <a:pt x="4039" y="851"/>
                </a:lnTo>
                <a:lnTo>
                  <a:pt x="4053" y="857"/>
                </a:lnTo>
                <a:lnTo>
                  <a:pt x="4065" y="864"/>
                </a:lnTo>
                <a:lnTo>
                  <a:pt x="4079" y="870"/>
                </a:lnTo>
                <a:lnTo>
                  <a:pt x="4091" y="878"/>
                </a:lnTo>
                <a:lnTo>
                  <a:pt x="4102" y="884"/>
                </a:lnTo>
                <a:lnTo>
                  <a:pt x="4112" y="891"/>
                </a:lnTo>
                <a:lnTo>
                  <a:pt x="4121" y="896"/>
                </a:lnTo>
                <a:lnTo>
                  <a:pt x="4128" y="901"/>
                </a:lnTo>
                <a:lnTo>
                  <a:pt x="4134" y="905"/>
                </a:lnTo>
                <a:lnTo>
                  <a:pt x="4134" y="916"/>
                </a:lnTo>
                <a:lnTo>
                  <a:pt x="4165" y="925"/>
                </a:lnTo>
                <a:lnTo>
                  <a:pt x="4167" y="932"/>
                </a:lnTo>
                <a:lnTo>
                  <a:pt x="4168" y="935"/>
                </a:lnTo>
                <a:lnTo>
                  <a:pt x="4169" y="936"/>
                </a:lnTo>
                <a:lnTo>
                  <a:pt x="4171" y="936"/>
                </a:lnTo>
                <a:lnTo>
                  <a:pt x="4172" y="936"/>
                </a:lnTo>
                <a:lnTo>
                  <a:pt x="4176" y="937"/>
                </a:lnTo>
                <a:lnTo>
                  <a:pt x="4176" y="941"/>
                </a:lnTo>
                <a:lnTo>
                  <a:pt x="4177" y="946"/>
                </a:lnTo>
                <a:lnTo>
                  <a:pt x="4181" y="947"/>
                </a:lnTo>
                <a:lnTo>
                  <a:pt x="4189" y="950"/>
                </a:lnTo>
                <a:lnTo>
                  <a:pt x="4198" y="955"/>
                </a:lnTo>
                <a:lnTo>
                  <a:pt x="4207" y="961"/>
                </a:lnTo>
                <a:lnTo>
                  <a:pt x="4216" y="968"/>
                </a:lnTo>
                <a:lnTo>
                  <a:pt x="4223" y="975"/>
                </a:lnTo>
                <a:lnTo>
                  <a:pt x="4229" y="981"/>
                </a:lnTo>
                <a:lnTo>
                  <a:pt x="4231" y="985"/>
                </a:lnTo>
                <a:lnTo>
                  <a:pt x="4251" y="985"/>
                </a:lnTo>
                <a:lnTo>
                  <a:pt x="4255" y="993"/>
                </a:lnTo>
                <a:lnTo>
                  <a:pt x="4260" y="998"/>
                </a:lnTo>
                <a:lnTo>
                  <a:pt x="4269" y="1005"/>
                </a:lnTo>
                <a:lnTo>
                  <a:pt x="4281" y="1009"/>
                </a:lnTo>
                <a:lnTo>
                  <a:pt x="4290" y="1013"/>
                </a:lnTo>
                <a:lnTo>
                  <a:pt x="4301" y="1018"/>
                </a:lnTo>
                <a:lnTo>
                  <a:pt x="4310" y="1022"/>
                </a:lnTo>
                <a:lnTo>
                  <a:pt x="4316" y="1025"/>
                </a:lnTo>
                <a:lnTo>
                  <a:pt x="4316" y="1035"/>
                </a:lnTo>
                <a:lnTo>
                  <a:pt x="4337" y="1035"/>
                </a:lnTo>
                <a:lnTo>
                  <a:pt x="4337" y="1046"/>
                </a:lnTo>
                <a:lnTo>
                  <a:pt x="4359" y="1046"/>
                </a:lnTo>
                <a:lnTo>
                  <a:pt x="4359" y="1056"/>
                </a:lnTo>
                <a:lnTo>
                  <a:pt x="4379" y="1056"/>
                </a:lnTo>
                <a:lnTo>
                  <a:pt x="4380" y="1058"/>
                </a:lnTo>
                <a:lnTo>
                  <a:pt x="4386" y="1060"/>
                </a:lnTo>
                <a:lnTo>
                  <a:pt x="4390" y="1065"/>
                </a:lnTo>
                <a:lnTo>
                  <a:pt x="4398" y="1071"/>
                </a:lnTo>
                <a:lnTo>
                  <a:pt x="4404" y="1076"/>
                </a:lnTo>
                <a:lnTo>
                  <a:pt x="4412" y="1081"/>
                </a:lnTo>
                <a:lnTo>
                  <a:pt x="4419" y="1085"/>
                </a:lnTo>
                <a:lnTo>
                  <a:pt x="4423" y="1086"/>
                </a:lnTo>
                <a:lnTo>
                  <a:pt x="4423" y="1107"/>
                </a:lnTo>
                <a:lnTo>
                  <a:pt x="4428" y="1108"/>
                </a:lnTo>
                <a:lnTo>
                  <a:pt x="4433" y="1110"/>
                </a:lnTo>
                <a:lnTo>
                  <a:pt x="4441" y="1113"/>
                </a:lnTo>
                <a:lnTo>
                  <a:pt x="4449" y="1116"/>
                </a:lnTo>
                <a:lnTo>
                  <a:pt x="4455" y="1121"/>
                </a:lnTo>
                <a:lnTo>
                  <a:pt x="4459" y="1124"/>
                </a:lnTo>
                <a:lnTo>
                  <a:pt x="4465" y="1126"/>
                </a:lnTo>
                <a:lnTo>
                  <a:pt x="4466" y="1126"/>
                </a:lnTo>
                <a:lnTo>
                  <a:pt x="4466" y="1137"/>
                </a:lnTo>
                <a:lnTo>
                  <a:pt x="4498" y="1147"/>
                </a:lnTo>
                <a:lnTo>
                  <a:pt x="4508" y="1156"/>
                </a:lnTo>
                <a:lnTo>
                  <a:pt x="4509" y="1161"/>
                </a:lnTo>
                <a:lnTo>
                  <a:pt x="4510" y="1167"/>
                </a:lnTo>
                <a:lnTo>
                  <a:pt x="4511" y="1174"/>
                </a:lnTo>
                <a:lnTo>
                  <a:pt x="4514" y="1180"/>
                </a:lnTo>
                <a:lnTo>
                  <a:pt x="4518" y="1187"/>
                </a:lnTo>
                <a:lnTo>
                  <a:pt x="4521" y="1192"/>
                </a:lnTo>
                <a:lnTo>
                  <a:pt x="4525" y="1195"/>
                </a:lnTo>
                <a:lnTo>
                  <a:pt x="4529" y="1198"/>
                </a:lnTo>
                <a:lnTo>
                  <a:pt x="4529" y="1217"/>
                </a:lnTo>
                <a:lnTo>
                  <a:pt x="4540" y="1226"/>
                </a:lnTo>
                <a:lnTo>
                  <a:pt x="4551" y="1226"/>
                </a:lnTo>
                <a:lnTo>
                  <a:pt x="4551" y="1236"/>
                </a:lnTo>
                <a:lnTo>
                  <a:pt x="4562" y="1236"/>
                </a:lnTo>
                <a:lnTo>
                  <a:pt x="4562" y="1246"/>
                </a:lnTo>
                <a:lnTo>
                  <a:pt x="4572" y="1246"/>
                </a:lnTo>
                <a:lnTo>
                  <a:pt x="4572" y="1256"/>
                </a:lnTo>
                <a:lnTo>
                  <a:pt x="4583" y="1256"/>
                </a:lnTo>
                <a:lnTo>
                  <a:pt x="4583" y="1267"/>
                </a:lnTo>
                <a:lnTo>
                  <a:pt x="4594" y="1267"/>
                </a:lnTo>
                <a:lnTo>
                  <a:pt x="4603" y="1277"/>
                </a:lnTo>
                <a:lnTo>
                  <a:pt x="4603" y="1296"/>
                </a:lnTo>
                <a:lnTo>
                  <a:pt x="4614" y="1307"/>
                </a:lnTo>
                <a:lnTo>
                  <a:pt x="4622" y="1308"/>
                </a:lnTo>
                <a:lnTo>
                  <a:pt x="4626" y="1310"/>
                </a:lnTo>
                <a:lnTo>
                  <a:pt x="4631" y="1314"/>
                </a:lnTo>
                <a:lnTo>
                  <a:pt x="4633" y="1317"/>
                </a:lnTo>
                <a:lnTo>
                  <a:pt x="4634" y="1321"/>
                </a:lnTo>
                <a:lnTo>
                  <a:pt x="4635" y="1324"/>
                </a:lnTo>
                <a:lnTo>
                  <a:pt x="4635" y="1327"/>
                </a:lnTo>
                <a:lnTo>
                  <a:pt x="4647" y="1327"/>
                </a:lnTo>
                <a:lnTo>
                  <a:pt x="4647" y="1329"/>
                </a:lnTo>
                <a:lnTo>
                  <a:pt x="4650" y="1332"/>
                </a:lnTo>
                <a:lnTo>
                  <a:pt x="4652" y="1337"/>
                </a:lnTo>
                <a:lnTo>
                  <a:pt x="4657" y="1343"/>
                </a:lnTo>
                <a:lnTo>
                  <a:pt x="4661" y="1351"/>
                </a:lnTo>
                <a:lnTo>
                  <a:pt x="4664" y="1357"/>
                </a:lnTo>
                <a:lnTo>
                  <a:pt x="4667" y="1362"/>
                </a:lnTo>
                <a:lnTo>
                  <a:pt x="4667" y="1368"/>
                </a:lnTo>
                <a:lnTo>
                  <a:pt x="4678" y="1378"/>
                </a:lnTo>
                <a:lnTo>
                  <a:pt x="4688" y="1388"/>
                </a:lnTo>
                <a:lnTo>
                  <a:pt x="4710" y="1388"/>
                </a:lnTo>
                <a:lnTo>
                  <a:pt x="4711" y="1392"/>
                </a:lnTo>
                <a:lnTo>
                  <a:pt x="4713" y="1396"/>
                </a:lnTo>
                <a:lnTo>
                  <a:pt x="4717" y="1399"/>
                </a:lnTo>
                <a:lnTo>
                  <a:pt x="4722" y="1403"/>
                </a:lnTo>
                <a:lnTo>
                  <a:pt x="4727" y="1405"/>
                </a:lnTo>
                <a:lnTo>
                  <a:pt x="4733" y="1407"/>
                </a:lnTo>
                <a:lnTo>
                  <a:pt x="4738" y="1408"/>
                </a:lnTo>
                <a:lnTo>
                  <a:pt x="4743" y="1408"/>
                </a:lnTo>
                <a:lnTo>
                  <a:pt x="4743" y="1414"/>
                </a:lnTo>
                <a:lnTo>
                  <a:pt x="4744" y="1417"/>
                </a:lnTo>
                <a:lnTo>
                  <a:pt x="4745" y="1419"/>
                </a:lnTo>
                <a:lnTo>
                  <a:pt x="4748" y="1419"/>
                </a:lnTo>
                <a:lnTo>
                  <a:pt x="4751" y="1419"/>
                </a:lnTo>
                <a:lnTo>
                  <a:pt x="4752" y="1420"/>
                </a:lnTo>
                <a:lnTo>
                  <a:pt x="4753" y="1423"/>
                </a:lnTo>
                <a:lnTo>
                  <a:pt x="4753" y="1429"/>
                </a:lnTo>
                <a:lnTo>
                  <a:pt x="4785" y="1438"/>
                </a:lnTo>
                <a:lnTo>
                  <a:pt x="4785" y="1448"/>
                </a:lnTo>
                <a:lnTo>
                  <a:pt x="4790" y="1452"/>
                </a:lnTo>
                <a:lnTo>
                  <a:pt x="4798" y="1457"/>
                </a:lnTo>
                <a:lnTo>
                  <a:pt x="4807" y="1460"/>
                </a:lnTo>
                <a:lnTo>
                  <a:pt x="4817" y="1464"/>
                </a:lnTo>
                <a:lnTo>
                  <a:pt x="4827" y="1468"/>
                </a:lnTo>
                <a:lnTo>
                  <a:pt x="4836" y="1472"/>
                </a:lnTo>
                <a:lnTo>
                  <a:pt x="4843" y="1475"/>
                </a:lnTo>
                <a:lnTo>
                  <a:pt x="4849" y="1478"/>
                </a:lnTo>
                <a:lnTo>
                  <a:pt x="4849" y="1489"/>
                </a:lnTo>
                <a:lnTo>
                  <a:pt x="4858" y="1493"/>
                </a:lnTo>
                <a:lnTo>
                  <a:pt x="4869" y="1497"/>
                </a:lnTo>
                <a:lnTo>
                  <a:pt x="4880" y="1499"/>
                </a:lnTo>
                <a:lnTo>
                  <a:pt x="4893" y="1502"/>
                </a:lnTo>
                <a:lnTo>
                  <a:pt x="4904" y="1507"/>
                </a:lnTo>
                <a:lnTo>
                  <a:pt x="4914" y="1510"/>
                </a:lnTo>
                <a:lnTo>
                  <a:pt x="4926" y="1514"/>
                </a:lnTo>
                <a:lnTo>
                  <a:pt x="4935" y="1519"/>
                </a:lnTo>
                <a:lnTo>
                  <a:pt x="4935" y="1528"/>
                </a:lnTo>
                <a:lnTo>
                  <a:pt x="4947" y="1537"/>
                </a:lnTo>
                <a:lnTo>
                  <a:pt x="4958" y="1540"/>
                </a:lnTo>
                <a:lnTo>
                  <a:pt x="4965" y="1539"/>
                </a:lnTo>
                <a:lnTo>
                  <a:pt x="4972" y="1535"/>
                </a:lnTo>
                <a:lnTo>
                  <a:pt x="4975" y="1526"/>
                </a:lnTo>
                <a:lnTo>
                  <a:pt x="4978" y="1516"/>
                </a:lnTo>
                <a:lnTo>
                  <a:pt x="4980" y="1502"/>
                </a:lnTo>
                <a:lnTo>
                  <a:pt x="4980" y="1489"/>
                </a:lnTo>
                <a:lnTo>
                  <a:pt x="4980" y="1474"/>
                </a:lnTo>
                <a:lnTo>
                  <a:pt x="4979" y="1458"/>
                </a:lnTo>
                <a:lnTo>
                  <a:pt x="4978" y="1442"/>
                </a:lnTo>
                <a:lnTo>
                  <a:pt x="4977" y="1427"/>
                </a:lnTo>
                <a:lnTo>
                  <a:pt x="4977" y="1414"/>
                </a:lnTo>
                <a:lnTo>
                  <a:pt x="4975" y="1403"/>
                </a:lnTo>
                <a:lnTo>
                  <a:pt x="4977" y="1394"/>
                </a:lnTo>
                <a:lnTo>
                  <a:pt x="4978" y="1388"/>
                </a:lnTo>
                <a:lnTo>
                  <a:pt x="4989" y="1388"/>
                </a:lnTo>
                <a:lnTo>
                  <a:pt x="4989" y="1368"/>
                </a:lnTo>
                <a:lnTo>
                  <a:pt x="4999" y="1357"/>
                </a:lnTo>
                <a:lnTo>
                  <a:pt x="5021" y="1347"/>
                </a:lnTo>
                <a:lnTo>
                  <a:pt x="5016" y="1346"/>
                </a:lnTo>
                <a:lnTo>
                  <a:pt x="5012" y="1345"/>
                </a:lnTo>
                <a:lnTo>
                  <a:pt x="5005" y="1344"/>
                </a:lnTo>
                <a:lnTo>
                  <a:pt x="4999" y="1342"/>
                </a:lnTo>
                <a:lnTo>
                  <a:pt x="4992" y="1341"/>
                </a:lnTo>
                <a:lnTo>
                  <a:pt x="4988" y="1339"/>
                </a:lnTo>
                <a:lnTo>
                  <a:pt x="4983" y="1337"/>
                </a:lnTo>
                <a:lnTo>
                  <a:pt x="4978" y="1337"/>
                </a:lnTo>
                <a:lnTo>
                  <a:pt x="4977" y="1332"/>
                </a:lnTo>
                <a:lnTo>
                  <a:pt x="4977" y="1329"/>
                </a:lnTo>
                <a:lnTo>
                  <a:pt x="4974" y="1327"/>
                </a:lnTo>
                <a:lnTo>
                  <a:pt x="4973" y="1327"/>
                </a:lnTo>
                <a:lnTo>
                  <a:pt x="4971" y="1327"/>
                </a:lnTo>
                <a:lnTo>
                  <a:pt x="4970" y="1326"/>
                </a:lnTo>
                <a:lnTo>
                  <a:pt x="4969" y="1322"/>
                </a:lnTo>
                <a:lnTo>
                  <a:pt x="4966" y="1317"/>
                </a:lnTo>
                <a:lnTo>
                  <a:pt x="4963" y="1317"/>
                </a:lnTo>
                <a:lnTo>
                  <a:pt x="4960" y="1316"/>
                </a:lnTo>
                <a:lnTo>
                  <a:pt x="4956" y="1314"/>
                </a:lnTo>
                <a:lnTo>
                  <a:pt x="4951" y="1313"/>
                </a:lnTo>
                <a:lnTo>
                  <a:pt x="4947" y="1310"/>
                </a:lnTo>
                <a:lnTo>
                  <a:pt x="4944" y="1308"/>
                </a:lnTo>
                <a:lnTo>
                  <a:pt x="4938" y="1308"/>
                </a:lnTo>
                <a:lnTo>
                  <a:pt x="4935" y="1307"/>
                </a:lnTo>
                <a:lnTo>
                  <a:pt x="4935" y="1287"/>
                </a:lnTo>
                <a:lnTo>
                  <a:pt x="4923" y="1287"/>
                </a:lnTo>
                <a:lnTo>
                  <a:pt x="4923" y="1267"/>
                </a:lnTo>
                <a:lnTo>
                  <a:pt x="4919" y="1266"/>
                </a:lnTo>
                <a:lnTo>
                  <a:pt x="4914" y="1265"/>
                </a:lnTo>
                <a:lnTo>
                  <a:pt x="4913" y="1264"/>
                </a:lnTo>
                <a:lnTo>
                  <a:pt x="4913" y="1262"/>
                </a:lnTo>
                <a:lnTo>
                  <a:pt x="4913" y="1259"/>
                </a:lnTo>
                <a:lnTo>
                  <a:pt x="4912" y="1258"/>
                </a:lnTo>
                <a:lnTo>
                  <a:pt x="4909" y="1257"/>
                </a:lnTo>
                <a:lnTo>
                  <a:pt x="4902" y="1256"/>
                </a:lnTo>
                <a:lnTo>
                  <a:pt x="4902" y="1253"/>
                </a:lnTo>
                <a:lnTo>
                  <a:pt x="4901" y="1249"/>
                </a:lnTo>
                <a:lnTo>
                  <a:pt x="4900" y="1245"/>
                </a:lnTo>
                <a:lnTo>
                  <a:pt x="4897" y="1241"/>
                </a:lnTo>
                <a:lnTo>
                  <a:pt x="4895" y="1238"/>
                </a:lnTo>
                <a:lnTo>
                  <a:pt x="4894" y="1233"/>
                </a:lnTo>
                <a:lnTo>
                  <a:pt x="4893" y="1230"/>
                </a:lnTo>
                <a:lnTo>
                  <a:pt x="4893" y="1226"/>
                </a:lnTo>
                <a:lnTo>
                  <a:pt x="4870" y="1226"/>
                </a:lnTo>
                <a:lnTo>
                  <a:pt x="4867" y="1219"/>
                </a:lnTo>
                <a:lnTo>
                  <a:pt x="4858" y="1212"/>
                </a:lnTo>
                <a:lnTo>
                  <a:pt x="4843" y="1204"/>
                </a:lnTo>
                <a:lnTo>
                  <a:pt x="4829" y="1195"/>
                </a:lnTo>
                <a:lnTo>
                  <a:pt x="4813" y="1187"/>
                </a:lnTo>
                <a:lnTo>
                  <a:pt x="4798" y="1178"/>
                </a:lnTo>
                <a:lnTo>
                  <a:pt x="4789" y="1167"/>
                </a:lnTo>
                <a:lnTo>
                  <a:pt x="4785" y="1156"/>
                </a:lnTo>
                <a:lnTo>
                  <a:pt x="4700" y="1147"/>
                </a:lnTo>
                <a:lnTo>
                  <a:pt x="4700" y="1137"/>
                </a:lnTo>
                <a:lnTo>
                  <a:pt x="4678" y="1137"/>
                </a:lnTo>
                <a:lnTo>
                  <a:pt x="4677" y="1133"/>
                </a:lnTo>
                <a:lnTo>
                  <a:pt x="4676" y="1129"/>
                </a:lnTo>
                <a:lnTo>
                  <a:pt x="4674" y="1126"/>
                </a:lnTo>
                <a:lnTo>
                  <a:pt x="4671" y="1123"/>
                </a:lnTo>
                <a:lnTo>
                  <a:pt x="4668" y="1121"/>
                </a:lnTo>
                <a:lnTo>
                  <a:pt x="4665" y="1118"/>
                </a:lnTo>
                <a:lnTo>
                  <a:pt x="4661" y="1117"/>
                </a:lnTo>
                <a:lnTo>
                  <a:pt x="4657" y="1116"/>
                </a:lnTo>
                <a:lnTo>
                  <a:pt x="4647" y="1107"/>
                </a:lnTo>
                <a:lnTo>
                  <a:pt x="4647" y="1096"/>
                </a:lnTo>
                <a:lnTo>
                  <a:pt x="4635" y="1096"/>
                </a:lnTo>
                <a:lnTo>
                  <a:pt x="4635" y="1086"/>
                </a:lnTo>
                <a:lnTo>
                  <a:pt x="4625" y="1086"/>
                </a:lnTo>
                <a:lnTo>
                  <a:pt x="4625" y="1076"/>
                </a:lnTo>
                <a:lnTo>
                  <a:pt x="4614" y="1076"/>
                </a:lnTo>
                <a:lnTo>
                  <a:pt x="4603" y="1066"/>
                </a:lnTo>
                <a:lnTo>
                  <a:pt x="4602" y="1062"/>
                </a:lnTo>
                <a:lnTo>
                  <a:pt x="4602" y="1059"/>
                </a:lnTo>
                <a:lnTo>
                  <a:pt x="4600" y="1056"/>
                </a:lnTo>
                <a:lnTo>
                  <a:pt x="4598" y="1052"/>
                </a:lnTo>
                <a:lnTo>
                  <a:pt x="4595" y="1050"/>
                </a:lnTo>
                <a:lnTo>
                  <a:pt x="4590" y="1048"/>
                </a:lnTo>
                <a:lnTo>
                  <a:pt x="4587" y="1047"/>
                </a:lnTo>
                <a:lnTo>
                  <a:pt x="4583" y="1046"/>
                </a:lnTo>
                <a:lnTo>
                  <a:pt x="4580" y="1037"/>
                </a:lnTo>
                <a:lnTo>
                  <a:pt x="4571" y="1027"/>
                </a:lnTo>
                <a:lnTo>
                  <a:pt x="4559" y="1018"/>
                </a:lnTo>
                <a:lnTo>
                  <a:pt x="4546" y="1008"/>
                </a:lnTo>
                <a:lnTo>
                  <a:pt x="4531" y="999"/>
                </a:lnTo>
                <a:lnTo>
                  <a:pt x="4520" y="993"/>
                </a:lnTo>
                <a:lnTo>
                  <a:pt x="4511" y="987"/>
                </a:lnTo>
                <a:lnTo>
                  <a:pt x="4508" y="985"/>
                </a:lnTo>
                <a:lnTo>
                  <a:pt x="4466" y="985"/>
                </a:lnTo>
                <a:lnTo>
                  <a:pt x="4466" y="975"/>
                </a:lnTo>
                <a:lnTo>
                  <a:pt x="4423" y="965"/>
                </a:lnTo>
                <a:lnTo>
                  <a:pt x="4423" y="955"/>
                </a:lnTo>
                <a:lnTo>
                  <a:pt x="4390" y="946"/>
                </a:lnTo>
                <a:lnTo>
                  <a:pt x="4389" y="940"/>
                </a:lnTo>
                <a:lnTo>
                  <a:pt x="4387" y="933"/>
                </a:lnTo>
                <a:lnTo>
                  <a:pt x="4382" y="928"/>
                </a:lnTo>
                <a:lnTo>
                  <a:pt x="4378" y="923"/>
                </a:lnTo>
                <a:lnTo>
                  <a:pt x="4373" y="920"/>
                </a:lnTo>
                <a:lnTo>
                  <a:pt x="4368" y="917"/>
                </a:lnTo>
                <a:lnTo>
                  <a:pt x="4363" y="916"/>
                </a:lnTo>
                <a:lnTo>
                  <a:pt x="4359" y="916"/>
                </a:lnTo>
                <a:lnTo>
                  <a:pt x="4359" y="905"/>
                </a:lnTo>
                <a:lnTo>
                  <a:pt x="4316" y="884"/>
                </a:lnTo>
                <a:lnTo>
                  <a:pt x="4316" y="875"/>
                </a:lnTo>
                <a:lnTo>
                  <a:pt x="4310" y="871"/>
                </a:lnTo>
                <a:lnTo>
                  <a:pt x="4301" y="867"/>
                </a:lnTo>
                <a:lnTo>
                  <a:pt x="4290" y="863"/>
                </a:lnTo>
                <a:lnTo>
                  <a:pt x="4281" y="857"/>
                </a:lnTo>
                <a:lnTo>
                  <a:pt x="4269" y="851"/>
                </a:lnTo>
                <a:lnTo>
                  <a:pt x="4260" y="843"/>
                </a:lnTo>
                <a:lnTo>
                  <a:pt x="4255" y="834"/>
                </a:lnTo>
                <a:lnTo>
                  <a:pt x="4251" y="825"/>
                </a:lnTo>
                <a:lnTo>
                  <a:pt x="4231" y="825"/>
                </a:lnTo>
                <a:lnTo>
                  <a:pt x="4231" y="804"/>
                </a:lnTo>
                <a:lnTo>
                  <a:pt x="4220" y="804"/>
                </a:lnTo>
                <a:lnTo>
                  <a:pt x="4220" y="785"/>
                </a:lnTo>
                <a:lnTo>
                  <a:pt x="4208" y="785"/>
                </a:lnTo>
                <a:lnTo>
                  <a:pt x="4208" y="764"/>
                </a:lnTo>
                <a:lnTo>
                  <a:pt x="4203" y="764"/>
                </a:lnTo>
                <a:lnTo>
                  <a:pt x="4195" y="763"/>
                </a:lnTo>
                <a:lnTo>
                  <a:pt x="4186" y="761"/>
                </a:lnTo>
                <a:lnTo>
                  <a:pt x="4176" y="758"/>
                </a:lnTo>
                <a:lnTo>
                  <a:pt x="4165" y="755"/>
                </a:lnTo>
                <a:lnTo>
                  <a:pt x="4154" y="751"/>
                </a:lnTo>
                <a:lnTo>
                  <a:pt x="4143" y="748"/>
                </a:lnTo>
                <a:lnTo>
                  <a:pt x="4132" y="743"/>
                </a:lnTo>
                <a:lnTo>
                  <a:pt x="4119" y="740"/>
                </a:lnTo>
                <a:lnTo>
                  <a:pt x="4107" y="737"/>
                </a:lnTo>
                <a:lnTo>
                  <a:pt x="4094" y="734"/>
                </a:lnTo>
                <a:lnTo>
                  <a:pt x="4082" y="730"/>
                </a:lnTo>
                <a:lnTo>
                  <a:pt x="4072" y="727"/>
                </a:lnTo>
                <a:lnTo>
                  <a:pt x="4059" y="726"/>
                </a:lnTo>
                <a:lnTo>
                  <a:pt x="4048" y="724"/>
                </a:lnTo>
                <a:lnTo>
                  <a:pt x="4038" y="724"/>
                </a:lnTo>
                <a:lnTo>
                  <a:pt x="4037" y="718"/>
                </a:lnTo>
                <a:lnTo>
                  <a:pt x="4037" y="715"/>
                </a:lnTo>
                <a:lnTo>
                  <a:pt x="4034" y="714"/>
                </a:lnTo>
                <a:lnTo>
                  <a:pt x="4031" y="714"/>
                </a:lnTo>
                <a:lnTo>
                  <a:pt x="4030" y="714"/>
                </a:lnTo>
                <a:lnTo>
                  <a:pt x="4029" y="713"/>
                </a:lnTo>
                <a:lnTo>
                  <a:pt x="4028" y="710"/>
                </a:lnTo>
                <a:lnTo>
                  <a:pt x="4027" y="703"/>
                </a:lnTo>
                <a:lnTo>
                  <a:pt x="4016" y="702"/>
                </a:lnTo>
                <a:lnTo>
                  <a:pt x="4008" y="698"/>
                </a:lnTo>
                <a:lnTo>
                  <a:pt x="4001" y="690"/>
                </a:lnTo>
                <a:lnTo>
                  <a:pt x="3995" y="683"/>
                </a:lnTo>
                <a:lnTo>
                  <a:pt x="3988" y="677"/>
                </a:lnTo>
                <a:lnTo>
                  <a:pt x="3982" y="671"/>
                </a:lnTo>
                <a:lnTo>
                  <a:pt x="3973" y="666"/>
                </a:lnTo>
                <a:lnTo>
                  <a:pt x="3963" y="664"/>
                </a:lnTo>
                <a:lnTo>
                  <a:pt x="3952" y="654"/>
                </a:lnTo>
                <a:lnTo>
                  <a:pt x="3952" y="650"/>
                </a:lnTo>
                <a:lnTo>
                  <a:pt x="3951" y="646"/>
                </a:lnTo>
                <a:lnTo>
                  <a:pt x="3951" y="640"/>
                </a:lnTo>
                <a:lnTo>
                  <a:pt x="3950" y="635"/>
                </a:lnTo>
                <a:lnTo>
                  <a:pt x="3947" y="631"/>
                </a:lnTo>
                <a:lnTo>
                  <a:pt x="3943" y="626"/>
                </a:lnTo>
                <a:lnTo>
                  <a:pt x="3937" y="624"/>
                </a:lnTo>
                <a:lnTo>
                  <a:pt x="3930" y="624"/>
                </a:lnTo>
                <a:lnTo>
                  <a:pt x="3920" y="613"/>
                </a:lnTo>
                <a:lnTo>
                  <a:pt x="3909" y="603"/>
                </a:lnTo>
                <a:lnTo>
                  <a:pt x="3909" y="597"/>
                </a:lnTo>
                <a:lnTo>
                  <a:pt x="3906" y="592"/>
                </a:lnTo>
                <a:lnTo>
                  <a:pt x="3901" y="588"/>
                </a:lnTo>
                <a:lnTo>
                  <a:pt x="3897" y="586"/>
                </a:lnTo>
                <a:lnTo>
                  <a:pt x="3892" y="585"/>
                </a:lnTo>
                <a:lnTo>
                  <a:pt x="3887" y="584"/>
                </a:lnTo>
                <a:lnTo>
                  <a:pt x="3882" y="584"/>
                </a:lnTo>
                <a:lnTo>
                  <a:pt x="3877" y="584"/>
                </a:lnTo>
                <a:lnTo>
                  <a:pt x="3877" y="579"/>
                </a:lnTo>
                <a:lnTo>
                  <a:pt x="3875" y="575"/>
                </a:lnTo>
                <a:lnTo>
                  <a:pt x="3874" y="574"/>
                </a:lnTo>
                <a:lnTo>
                  <a:pt x="3872" y="574"/>
                </a:lnTo>
                <a:lnTo>
                  <a:pt x="3870" y="574"/>
                </a:lnTo>
                <a:lnTo>
                  <a:pt x="3868" y="572"/>
                </a:lnTo>
                <a:lnTo>
                  <a:pt x="3867" y="569"/>
                </a:lnTo>
                <a:lnTo>
                  <a:pt x="3867" y="563"/>
                </a:lnTo>
                <a:lnTo>
                  <a:pt x="3862" y="563"/>
                </a:lnTo>
                <a:lnTo>
                  <a:pt x="3858" y="562"/>
                </a:lnTo>
                <a:lnTo>
                  <a:pt x="3855" y="560"/>
                </a:lnTo>
                <a:lnTo>
                  <a:pt x="3849" y="558"/>
                </a:lnTo>
                <a:lnTo>
                  <a:pt x="3846" y="556"/>
                </a:lnTo>
                <a:lnTo>
                  <a:pt x="3842" y="555"/>
                </a:lnTo>
                <a:lnTo>
                  <a:pt x="3839" y="554"/>
                </a:lnTo>
                <a:lnTo>
                  <a:pt x="3833" y="554"/>
                </a:lnTo>
                <a:lnTo>
                  <a:pt x="3833" y="547"/>
                </a:lnTo>
                <a:lnTo>
                  <a:pt x="3832" y="544"/>
                </a:lnTo>
                <a:lnTo>
                  <a:pt x="3831" y="543"/>
                </a:lnTo>
                <a:lnTo>
                  <a:pt x="3829" y="543"/>
                </a:lnTo>
                <a:lnTo>
                  <a:pt x="3827" y="543"/>
                </a:lnTo>
                <a:lnTo>
                  <a:pt x="3825" y="542"/>
                </a:lnTo>
                <a:lnTo>
                  <a:pt x="3823" y="538"/>
                </a:lnTo>
                <a:lnTo>
                  <a:pt x="3823" y="533"/>
                </a:lnTo>
                <a:lnTo>
                  <a:pt x="3816" y="532"/>
                </a:lnTo>
                <a:lnTo>
                  <a:pt x="3810" y="528"/>
                </a:lnTo>
                <a:lnTo>
                  <a:pt x="3803" y="523"/>
                </a:lnTo>
                <a:lnTo>
                  <a:pt x="3796" y="518"/>
                </a:lnTo>
                <a:lnTo>
                  <a:pt x="3790" y="512"/>
                </a:lnTo>
                <a:lnTo>
                  <a:pt x="3786" y="507"/>
                </a:lnTo>
                <a:lnTo>
                  <a:pt x="3778" y="505"/>
                </a:lnTo>
                <a:lnTo>
                  <a:pt x="3770" y="503"/>
                </a:lnTo>
                <a:lnTo>
                  <a:pt x="3761" y="493"/>
                </a:lnTo>
                <a:lnTo>
                  <a:pt x="3751" y="482"/>
                </a:lnTo>
                <a:lnTo>
                  <a:pt x="3750" y="478"/>
                </a:lnTo>
                <a:lnTo>
                  <a:pt x="3747" y="472"/>
                </a:lnTo>
                <a:lnTo>
                  <a:pt x="3743" y="465"/>
                </a:lnTo>
                <a:lnTo>
                  <a:pt x="3740" y="458"/>
                </a:lnTo>
                <a:lnTo>
                  <a:pt x="3735" y="452"/>
                </a:lnTo>
                <a:lnTo>
                  <a:pt x="3732" y="447"/>
                </a:lnTo>
                <a:lnTo>
                  <a:pt x="3728" y="443"/>
                </a:lnTo>
                <a:lnTo>
                  <a:pt x="3728" y="442"/>
                </a:lnTo>
                <a:lnTo>
                  <a:pt x="3717" y="442"/>
                </a:lnTo>
                <a:lnTo>
                  <a:pt x="3717" y="441"/>
                </a:lnTo>
                <a:lnTo>
                  <a:pt x="3717" y="439"/>
                </a:lnTo>
                <a:lnTo>
                  <a:pt x="3716" y="435"/>
                </a:lnTo>
                <a:lnTo>
                  <a:pt x="3715" y="432"/>
                </a:lnTo>
                <a:lnTo>
                  <a:pt x="3713" y="428"/>
                </a:lnTo>
                <a:lnTo>
                  <a:pt x="3709" y="425"/>
                </a:lnTo>
                <a:lnTo>
                  <a:pt x="3704" y="422"/>
                </a:lnTo>
                <a:lnTo>
                  <a:pt x="3697" y="422"/>
                </a:lnTo>
                <a:lnTo>
                  <a:pt x="3697" y="415"/>
                </a:lnTo>
                <a:lnTo>
                  <a:pt x="3692" y="408"/>
                </a:lnTo>
                <a:lnTo>
                  <a:pt x="3689" y="404"/>
                </a:lnTo>
                <a:lnTo>
                  <a:pt x="3684" y="400"/>
                </a:lnTo>
                <a:lnTo>
                  <a:pt x="3679" y="396"/>
                </a:lnTo>
                <a:lnTo>
                  <a:pt x="3674" y="394"/>
                </a:lnTo>
                <a:lnTo>
                  <a:pt x="3670" y="393"/>
                </a:lnTo>
                <a:lnTo>
                  <a:pt x="3664" y="392"/>
                </a:lnTo>
                <a:lnTo>
                  <a:pt x="3664" y="382"/>
                </a:lnTo>
                <a:lnTo>
                  <a:pt x="3662" y="382"/>
                </a:lnTo>
                <a:lnTo>
                  <a:pt x="3658" y="381"/>
                </a:lnTo>
                <a:lnTo>
                  <a:pt x="3654" y="380"/>
                </a:lnTo>
                <a:lnTo>
                  <a:pt x="3650" y="378"/>
                </a:lnTo>
                <a:lnTo>
                  <a:pt x="3647" y="374"/>
                </a:lnTo>
                <a:lnTo>
                  <a:pt x="3645" y="369"/>
                </a:lnTo>
                <a:lnTo>
                  <a:pt x="3644" y="363"/>
                </a:lnTo>
                <a:lnTo>
                  <a:pt x="3633" y="352"/>
                </a:lnTo>
                <a:lnTo>
                  <a:pt x="3600" y="342"/>
                </a:lnTo>
                <a:lnTo>
                  <a:pt x="3600" y="331"/>
                </a:lnTo>
                <a:lnTo>
                  <a:pt x="3594" y="329"/>
                </a:lnTo>
                <a:lnTo>
                  <a:pt x="3585" y="326"/>
                </a:lnTo>
                <a:lnTo>
                  <a:pt x="3575" y="324"/>
                </a:lnTo>
                <a:lnTo>
                  <a:pt x="3562" y="322"/>
                </a:lnTo>
                <a:lnTo>
                  <a:pt x="3550" y="320"/>
                </a:lnTo>
                <a:lnTo>
                  <a:pt x="3541" y="317"/>
                </a:lnTo>
                <a:lnTo>
                  <a:pt x="3531" y="315"/>
                </a:lnTo>
                <a:lnTo>
                  <a:pt x="3526" y="312"/>
                </a:lnTo>
                <a:lnTo>
                  <a:pt x="3526" y="302"/>
                </a:lnTo>
                <a:lnTo>
                  <a:pt x="3462" y="302"/>
                </a:lnTo>
                <a:lnTo>
                  <a:pt x="3456" y="293"/>
                </a:lnTo>
                <a:lnTo>
                  <a:pt x="3452" y="284"/>
                </a:lnTo>
                <a:lnTo>
                  <a:pt x="3446" y="273"/>
                </a:lnTo>
                <a:lnTo>
                  <a:pt x="3441" y="263"/>
                </a:lnTo>
                <a:lnTo>
                  <a:pt x="3437" y="252"/>
                </a:lnTo>
                <a:lnTo>
                  <a:pt x="3432" y="243"/>
                </a:lnTo>
                <a:lnTo>
                  <a:pt x="3430" y="236"/>
                </a:lnTo>
                <a:lnTo>
                  <a:pt x="3429" y="232"/>
                </a:lnTo>
                <a:lnTo>
                  <a:pt x="3419" y="222"/>
                </a:lnTo>
                <a:lnTo>
                  <a:pt x="3397" y="222"/>
                </a:lnTo>
                <a:lnTo>
                  <a:pt x="3397" y="211"/>
                </a:lnTo>
                <a:lnTo>
                  <a:pt x="3365" y="211"/>
                </a:lnTo>
                <a:lnTo>
                  <a:pt x="3365" y="201"/>
                </a:lnTo>
                <a:lnTo>
                  <a:pt x="3312" y="201"/>
                </a:lnTo>
                <a:lnTo>
                  <a:pt x="3312" y="211"/>
                </a:lnTo>
                <a:lnTo>
                  <a:pt x="3307" y="213"/>
                </a:lnTo>
                <a:lnTo>
                  <a:pt x="3301" y="213"/>
                </a:lnTo>
                <a:lnTo>
                  <a:pt x="3296" y="214"/>
                </a:lnTo>
                <a:lnTo>
                  <a:pt x="3287" y="214"/>
                </a:lnTo>
                <a:lnTo>
                  <a:pt x="3280" y="213"/>
                </a:lnTo>
                <a:lnTo>
                  <a:pt x="3271" y="212"/>
                </a:lnTo>
                <a:lnTo>
                  <a:pt x="3262" y="211"/>
                </a:lnTo>
                <a:lnTo>
                  <a:pt x="3253" y="210"/>
                </a:lnTo>
                <a:lnTo>
                  <a:pt x="3244" y="208"/>
                </a:lnTo>
                <a:lnTo>
                  <a:pt x="3235" y="207"/>
                </a:lnTo>
                <a:lnTo>
                  <a:pt x="3227" y="206"/>
                </a:lnTo>
                <a:lnTo>
                  <a:pt x="3218" y="203"/>
                </a:lnTo>
                <a:lnTo>
                  <a:pt x="3210" y="202"/>
                </a:lnTo>
                <a:lnTo>
                  <a:pt x="3204" y="201"/>
                </a:lnTo>
                <a:lnTo>
                  <a:pt x="3197" y="201"/>
                </a:lnTo>
                <a:lnTo>
                  <a:pt x="3193" y="201"/>
                </a:lnTo>
                <a:lnTo>
                  <a:pt x="3183" y="190"/>
                </a:lnTo>
                <a:lnTo>
                  <a:pt x="3183" y="181"/>
                </a:lnTo>
                <a:lnTo>
                  <a:pt x="3171" y="171"/>
                </a:lnTo>
                <a:lnTo>
                  <a:pt x="3168" y="171"/>
                </a:lnTo>
                <a:lnTo>
                  <a:pt x="3162" y="170"/>
                </a:lnTo>
                <a:lnTo>
                  <a:pt x="3156" y="169"/>
                </a:lnTo>
                <a:lnTo>
                  <a:pt x="3150" y="168"/>
                </a:lnTo>
                <a:lnTo>
                  <a:pt x="3142" y="166"/>
                </a:lnTo>
                <a:lnTo>
                  <a:pt x="3135" y="165"/>
                </a:lnTo>
                <a:lnTo>
                  <a:pt x="3127" y="163"/>
                </a:lnTo>
                <a:lnTo>
                  <a:pt x="3118" y="162"/>
                </a:lnTo>
                <a:lnTo>
                  <a:pt x="3112" y="161"/>
                </a:lnTo>
                <a:lnTo>
                  <a:pt x="3103" y="160"/>
                </a:lnTo>
                <a:lnTo>
                  <a:pt x="3097" y="159"/>
                </a:lnTo>
                <a:lnTo>
                  <a:pt x="3089" y="158"/>
                </a:lnTo>
                <a:lnTo>
                  <a:pt x="3081" y="158"/>
                </a:lnTo>
                <a:lnTo>
                  <a:pt x="3075" y="158"/>
                </a:lnTo>
                <a:lnTo>
                  <a:pt x="3071" y="160"/>
                </a:lnTo>
                <a:lnTo>
                  <a:pt x="3065" y="161"/>
                </a:lnTo>
                <a:lnTo>
                  <a:pt x="3065" y="171"/>
                </a:lnTo>
                <a:lnTo>
                  <a:pt x="3053" y="175"/>
                </a:lnTo>
                <a:lnTo>
                  <a:pt x="3039" y="174"/>
                </a:lnTo>
                <a:lnTo>
                  <a:pt x="3027" y="170"/>
                </a:lnTo>
                <a:lnTo>
                  <a:pt x="3013" y="162"/>
                </a:lnTo>
                <a:lnTo>
                  <a:pt x="3001" y="156"/>
                </a:lnTo>
                <a:lnTo>
                  <a:pt x="2988" y="148"/>
                </a:lnTo>
                <a:lnTo>
                  <a:pt x="2977" y="142"/>
                </a:lnTo>
                <a:lnTo>
                  <a:pt x="2969" y="140"/>
                </a:lnTo>
                <a:lnTo>
                  <a:pt x="2969" y="136"/>
                </a:lnTo>
                <a:lnTo>
                  <a:pt x="2967" y="133"/>
                </a:lnTo>
                <a:lnTo>
                  <a:pt x="2963" y="127"/>
                </a:lnTo>
                <a:lnTo>
                  <a:pt x="2958" y="122"/>
                </a:lnTo>
                <a:lnTo>
                  <a:pt x="2953" y="118"/>
                </a:lnTo>
                <a:lnTo>
                  <a:pt x="2947" y="114"/>
                </a:lnTo>
                <a:lnTo>
                  <a:pt x="2942" y="112"/>
                </a:lnTo>
                <a:lnTo>
                  <a:pt x="2938" y="111"/>
                </a:lnTo>
                <a:lnTo>
                  <a:pt x="2929" y="101"/>
                </a:lnTo>
                <a:lnTo>
                  <a:pt x="2929" y="81"/>
                </a:lnTo>
                <a:lnTo>
                  <a:pt x="2917" y="81"/>
                </a:lnTo>
                <a:lnTo>
                  <a:pt x="2917" y="41"/>
                </a:lnTo>
                <a:lnTo>
                  <a:pt x="2906" y="31"/>
                </a:lnTo>
                <a:lnTo>
                  <a:pt x="2896" y="20"/>
                </a:lnTo>
                <a:lnTo>
                  <a:pt x="2891" y="19"/>
                </a:lnTo>
                <a:lnTo>
                  <a:pt x="2885" y="18"/>
                </a:lnTo>
                <a:lnTo>
                  <a:pt x="2878" y="17"/>
                </a:lnTo>
                <a:lnTo>
                  <a:pt x="2869" y="15"/>
                </a:lnTo>
                <a:lnTo>
                  <a:pt x="2860" y="14"/>
                </a:lnTo>
                <a:lnTo>
                  <a:pt x="2853" y="11"/>
                </a:lnTo>
                <a:lnTo>
                  <a:pt x="2846" y="10"/>
                </a:lnTo>
                <a:lnTo>
                  <a:pt x="2842" y="10"/>
                </a:lnTo>
                <a:lnTo>
                  <a:pt x="2842" y="0"/>
                </a:lnTo>
                <a:lnTo>
                  <a:pt x="2789" y="0"/>
                </a:lnTo>
                <a:lnTo>
                  <a:pt x="2789" y="10"/>
                </a:lnTo>
                <a:lnTo>
                  <a:pt x="2776" y="17"/>
                </a:lnTo>
                <a:lnTo>
                  <a:pt x="2760" y="21"/>
                </a:lnTo>
                <a:lnTo>
                  <a:pt x="2743" y="24"/>
                </a:lnTo>
                <a:lnTo>
                  <a:pt x="2725" y="27"/>
                </a:lnTo>
                <a:lnTo>
                  <a:pt x="2706" y="27"/>
                </a:lnTo>
                <a:lnTo>
                  <a:pt x="2685" y="27"/>
                </a:lnTo>
                <a:lnTo>
                  <a:pt x="2664" y="27"/>
                </a:lnTo>
                <a:lnTo>
                  <a:pt x="2644" y="26"/>
                </a:lnTo>
                <a:lnTo>
                  <a:pt x="2621" y="24"/>
                </a:lnTo>
                <a:lnTo>
                  <a:pt x="2600" y="23"/>
                </a:lnTo>
                <a:lnTo>
                  <a:pt x="2580" y="23"/>
                </a:lnTo>
                <a:lnTo>
                  <a:pt x="2558" y="24"/>
                </a:lnTo>
                <a:lnTo>
                  <a:pt x="2539" y="27"/>
                </a:lnTo>
                <a:lnTo>
                  <a:pt x="2521" y="30"/>
                </a:lnTo>
                <a:lnTo>
                  <a:pt x="2504" y="34"/>
                </a:lnTo>
                <a:lnTo>
                  <a:pt x="2489" y="41"/>
                </a:lnTo>
                <a:lnTo>
                  <a:pt x="2489" y="50"/>
                </a:lnTo>
                <a:lnTo>
                  <a:pt x="2425" y="50"/>
                </a:lnTo>
                <a:lnTo>
                  <a:pt x="2425" y="60"/>
                </a:lnTo>
                <a:lnTo>
                  <a:pt x="2416" y="63"/>
                </a:lnTo>
                <a:lnTo>
                  <a:pt x="2405" y="66"/>
                </a:lnTo>
                <a:lnTo>
                  <a:pt x="2392" y="67"/>
                </a:lnTo>
                <a:lnTo>
                  <a:pt x="2377" y="67"/>
                </a:lnTo>
                <a:lnTo>
                  <a:pt x="2363" y="65"/>
                </a:lnTo>
                <a:lnTo>
                  <a:pt x="2347" y="63"/>
                </a:lnTo>
                <a:lnTo>
                  <a:pt x="2330" y="61"/>
                </a:lnTo>
                <a:lnTo>
                  <a:pt x="2313" y="58"/>
                </a:lnTo>
                <a:lnTo>
                  <a:pt x="2296" y="56"/>
                </a:lnTo>
                <a:lnTo>
                  <a:pt x="2279" y="53"/>
                </a:lnTo>
                <a:lnTo>
                  <a:pt x="2262" y="49"/>
                </a:lnTo>
                <a:lnTo>
                  <a:pt x="2247" y="47"/>
                </a:lnTo>
                <a:lnTo>
                  <a:pt x="2233" y="44"/>
                </a:lnTo>
                <a:lnTo>
                  <a:pt x="2220" y="43"/>
                </a:lnTo>
                <a:lnTo>
                  <a:pt x="2209" y="42"/>
                </a:lnTo>
                <a:lnTo>
                  <a:pt x="2201" y="41"/>
                </a:lnTo>
                <a:lnTo>
                  <a:pt x="2194" y="41"/>
                </a:lnTo>
                <a:lnTo>
                  <a:pt x="2188" y="42"/>
                </a:lnTo>
                <a:lnTo>
                  <a:pt x="2181" y="42"/>
                </a:lnTo>
                <a:lnTo>
                  <a:pt x="2173" y="42"/>
                </a:lnTo>
                <a:lnTo>
                  <a:pt x="2165" y="43"/>
                </a:lnTo>
                <a:lnTo>
                  <a:pt x="2157" y="44"/>
                </a:lnTo>
                <a:lnTo>
                  <a:pt x="2150" y="45"/>
                </a:lnTo>
                <a:lnTo>
                  <a:pt x="2141" y="46"/>
                </a:lnTo>
                <a:lnTo>
                  <a:pt x="2134" y="46"/>
                </a:lnTo>
                <a:lnTo>
                  <a:pt x="2125" y="47"/>
                </a:lnTo>
                <a:lnTo>
                  <a:pt x="2118" y="48"/>
                </a:lnTo>
                <a:lnTo>
                  <a:pt x="2111" y="48"/>
                </a:lnTo>
                <a:lnTo>
                  <a:pt x="2103" y="50"/>
                </a:lnTo>
                <a:lnTo>
                  <a:pt x="2096" y="50"/>
                </a:lnTo>
                <a:lnTo>
                  <a:pt x="2090" y="50"/>
                </a:lnTo>
                <a:lnTo>
                  <a:pt x="2085" y="50"/>
                </a:lnTo>
                <a:lnTo>
                  <a:pt x="2073" y="60"/>
                </a:lnTo>
                <a:lnTo>
                  <a:pt x="2073" y="81"/>
                </a:lnTo>
                <a:lnTo>
                  <a:pt x="1999" y="111"/>
                </a:lnTo>
                <a:lnTo>
                  <a:pt x="1999" y="121"/>
                </a:lnTo>
                <a:lnTo>
                  <a:pt x="1966" y="121"/>
                </a:lnTo>
                <a:lnTo>
                  <a:pt x="1966" y="131"/>
                </a:lnTo>
                <a:lnTo>
                  <a:pt x="1903" y="131"/>
                </a:lnTo>
                <a:lnTo>
                  <a:pt x="1903" y="140"/>
                </a:lnTo>
                <a:lnTo>
                  <a:pt x="1888" y="146"/>
                </a:lnTo>
                <a:lnTo>
                  <a:pt x="1871" y="149"/>
                </a:lnTo>
                <a:lnTo>
                  <a:pt x="1856" y="150"/>
                </a:lnTo>
                <a:lnTo>
                  <a:pt x="1839" y="148"/>
                </a:lnTo>
                <a:lnTo>
                  <a:pt x="1819" y="145"/>
                </a:lnTo>
                <a:lnTo>
                  <a:pt x="1801" y="142"/>
                </a:lnTo>
                <a:lnTo>
                  <a:pt x="1783" y="136"/>
                </a:lnTo>
                <a:lnTo>
                  <a:pt x="1764" y="131"/>
                </a:lnTo>
                <a:lnTo>
                  <a:pt x="1746" y="125"/>
                </a:lnTo>
                <a:lnTo>
                  <a:pt x="1727" y="121"/>
                </a:lnTo>
                <a:lnTo>
                  <a:pt x="1710" y="117"/>
                </a:lnTo>
                <a:lnTo>
                  <a:pt x="1693" y="113"/>
                </a:lnTo>
                <a:lnTo>
                  <a:pt x="1677" y="112"/>
                </a:lnTo>
                <a:lnTo>
                  <a:pt x="1661" y="112"/>
                </a:lnTo>
                <a:lnTo>
                  <a:pt x="1647" y="116"/>
                </a:lnTo>
                <a:lnTo>
                  <a:pt x="1634" y="121"/>
                </a:lnTo>
                <a:lnTo>
                  <a:pt x="1634" y="131"/>
                </a:lnTo>
                <a:lnTo>
                  <a:pt x="1615" y="131"/>
                </a:lnTo>
                <a:lnTo>
                  <a:pt x="1615" y="140"/>
                </a:lnTo>
                <a:lnTo>
                  <a:pt x="1571" y="140"/>
                </a:lnTo>
                <a:lnTo>
                  <a:pt x="1571" y="150"/>
                </a:lnTo>
                <a:lnTo>
                  <a:pt x="1549" y="150"/>
                </a:lnTo>
                <a:lnTo>
                  <a:pt x="1549" y="161"/>
                </a:lnTo>
                <a:lnTo>
                  <a:pt x="1544" y="161"/>
                </a:lnTo>
                <a:lnTo>
                  <a:pt x="1537" y="162"/>
                </a:lnTo>
                <a:lnTo>
                  <a:pt x="1527" y="164"/>
                </a:lnTo>
                <a:lnTo>
                  <a:pt x="1518" y="165"/>
                </a:lnTo>
                <a:lnTo>
                  <a:pt x="1509" y="168"/>
                </a:lnTo>
                <a:lnTo>
                  <a:pt x="1498" y="169"/>
                </a:lnTo>
                <a:lnTo>
                  <a:pt x="1491" y="170"/>
                </a:lnTo>
                <a:lnTo>
                  <a:pt x="1485" y="171"/>
                </a:lnTo>
                <a:lnTo>
                  <a:pt x="1485" y="181"/>
                </a:lnTo>
                <a:lnTo>
                  <a:pt x="1478" y="184"/>
                </a:lnTo>
                <a:lnTo>
                  <a:pt x="1470" y="185"/>
                </a:lnTo>
                <a:lnTo>
                  <a:pt x="1459" y="186"/>
                </a:lnTo>
                <a:lnTo>
                  <a:pt x="1447" y="186"/>
                </a:lnTo>
                <a:lnTo>
                  <a:pt x="1433" y="186"/>
                </a:lnTo>
                <a:lnTo>
                  <a:pt x="1421" y="186"/>
                </a:lnTo>
                <a:lnTo>
                  <a:pt x="1409" y="187"/>
                </a:lnTo>
                <a:lnTo>
                  <a:pt x="1400" y="190"/>
                </a:lnTo>
                <a:lnTo>
                  <a:pt x="1400" y="201"/>
                </a:lnTo>
                <a:lnTo>
                  <a:pt x="1367" y="201"/>
                </a:lnTo>
                <a:lnTo>
                  <a:pt x="1367" y="211"/>
                </a:lnTo>
                <a:lnTo>
                  <a:pt x="1361" y="214"/>
                </a:lnTo>
                <a:lnTo>
                  <a:pt x="1351" y="215"/>
                </a:lnTo>
                <a:lnTo>
                  <a:pt x="1338" y="215"/>
                </a:lnTo>
                <a:lnTo>
                  <a:pt x="1325" y="215"/>
                </a:lnTo>
                <a:lnTo>
                  <a:pt x="1311" y="216"/>
                </a:lnTo>
                <a:lnTo>
                  <a:pt x="1298" y="217"/>
                </a:lnTo>
                <a:lnTo>
                  <a:pt x="1288" y="219"/>
                </a:lnTo>
                <a:lnTo>
                  <a:pt x="1282" y="222"/>
                </a:lnTo>
                <a:lnTo>
                  <a:pt x="1282" y="232"/>
                </a:lnTo>
                <a:lnTo>
                  <a:pt x="1260" y="232"/>
                </a:lnTo>
                <a:lnTo>
                  <a:pt x="1260" y="241"/>
                </a:lnTo>
                <a:lnTo>
                  <a:pt x="1230" y="241"/>
                </a:lnTo>
                <a:lnTo>
                  <a:pt x="1230" y="251"/>
                </a:lnTo>
                <a:lnTo>
                  <a:pt x="1225" y="253"/>
                </a:lnTo>
                <a:lnTo>
                  <a:pt x="1220" y="254"/>
                </a:lnTo>
                <a:lnTo>
                  <a:pt x="1214" y="255"/>
                </a:lnTo>
                <a:lnTo>
                  <a:pt x="1207" y="255"/>
                </a:lnTo>
                <a:lnTo>
                  <a:pt x="1200" y="256"/>
                </a:lnTo>
                <a:lnTo>
                  <a:pt x="1191" y="256"/>
                </a:lnTo>
                <a:lnTo>
                  <a:pt x="1184" y="256"/>
                </a:lnTo>
                <a:lnTo>
                  <a:pt x="1177" y="256"/>
                </a:lnTo>
                <a:lnTo>
                  <a:pt x="1168" y="256"/>
                </a:lnTo>
                <a:lnTo>
                  <a:pt x="1161" y="256"/>
                </a:lnTo>
                <a:lnTo>
                  <a:pt x="1153" y="256"/>
                </a:lnTo>
                <a:lnTo>
                  <a:pt x="1146" y="256"/>
                </a:lnTo>
                <a:lnTo>
                  <a:pt x="1138" y="258"/>
                </a:lnTo>
                <a:lnTo>
                  <a:pt x="1134" y="259"/>
                </a:lnTo>
                <a:lnTo>
                  <a:pt x="1127" y="260"/>
                </a:lnTo>
                <a:lnTo>
                  <a:pt x="1122" y="261"/>
                </a:lnTo>
                <a:lnTo>
                  <a:pt x="1122" y="272"/>
                </a:lnTo>
                <a:lnTo>
                  <a:pt x="1081" y="281"/>
                </a:lnTo>
                <a:lnTo>
                  <a:pt x="1081" y="312"/>
                </a:lnTo>
                <a:lnTo>
                  <a:pt x="1075" y="312"/>
                </a:lnTo>
                <a:lnTo>
                  <a:pt x="1068" y="313"/>
                </a:lnTo>
                <a:lnTo>
                  <a:pt x="1058" y="314"/>
                </a:lnTo>
                <a:lnTo>
                  <a:pt x="1048" y="315"/>
                </a:lnTo>
                <a:lnTo>
                  <a:pt x="1035" y="317"/>
                </a:lnTo>
                <a:lnTo>
                  <a:pt x="1022" y="318"/>
                </a:lnTo>
                <a:lnTo>
                  <a:pt x="1008" y="320"/>
                </a:lnTo>
                <a:lnTo>
                  <a:pt x="995" y="323"/>
                </a:lnTo>
                <a:lnTo>
                  <a:pt x="981" y="326"/>
                </a:lnTo>
                <a:lnTo>
                  <a:pt x="968" y="328"/>
                </a:lnTo>
                <a:lnTo>
                  <a:pt x="954" y="330"/>
                </a:lnTo>
                <a:lnTo>
                  <a:pt x="942" y="333"/>
                </a:lnTo>
                <a:lnTo>
                  <a:pt x="930" y="336"/>
                </a:lnTo>
                <a:lnTo>
                  <a:pt x="921" y="338"/>
                </a:lnTo>
                <a:lnTo>
                  <a:pt x="915" y="340"/>
                </a:lnTo>
                <a:lnTo>
                  <a:pt x="909" y="342"/>
                </a:lnTo>
                <a:lnTo>
                  <a:pt x="909" y="352"/>
                </a:lnTo>
                <a:lnTo>
                  <a:pt x="903" y="354"/>
                </a:lnTo>
                <a:lnTo>
                  <a:pt x="895" y="357"/>
                </a:lnTo>
                <a:lnTo>
                  <a:pt x="886" y="362"/>
                </a:lnTo>
                <a:lnTo>
                  <a:pt x="876" y="367"/>
                </a:lnTo>
                <a:lnTo>
                  <a:pt x="865" y="374"/>
                </a:lnTo>
                <a:lnTo>
                  <a:pt x="852" y="378"/>
                </a:lnTo>
                <a:lnTo>
                  <a:pt x="842" y="381"/>
                </a:lnTo>
                <a:lnTo>
                  <a:pt x="834" y="382"/>
                </a:lnTo>
                <a:lnTo>
                  <a:pt x="823" y="392"/>
                </a:lnTo>
                <a:lnTo>
                  <a:pt x="823" y="403"/>
                </a:lnTo>
                <a:lnTo>
                  <a:pt x="813" y="403"/>
                </a:lnTo>
                <a:lnTo>
                  <a:pt x="813" y="412"/>
                </a:lnTo>
                <a:lnTo>
                  <a:pt x="802" y="412"/>
                </a:lnTo>
                <a:lnTo>
                  <a:pt x="802" y="422"/>
                </a:lnTo>
                <a:lnTo>
                  <a:pt x="790" y="432"/>
                </a:lnTo>
                <a:lnTo>
                  <a:pt x="787" y="432"/>
                </a:lnTo>
                <a:lnTo>
                  <a:pt x="783" y="434"/>
                </a:lnTo>
                <a:lnTo>
                  <a:pt x="779" y="435"/>
                </a:lnTo>
                <a:lnTo>
                  <a:pt x="777" y="439"/>
                </a:lnTo>
                <a:lnTo>
                  <a:pt x="773" y="441"/>
                </a:lnTo>
                <a:lnTo>
                  <a:pt x="772" y="444"/>
                </a:lnTo>
                <a:lnTo>
                  <a:pt x="771" y="448"/>
                </a:lnTo>
                <a:lnTo>
                  <a:pt x="770" y="452"/>
                </a:lnTo>
                <a:lnTo>
                  <a:pt x="760" y="461"/>
                </a:lnTo>
                <a:lnTo>
                  <a:pt x="737" y="461"/>
                </a:lnTo>
                <a:lnTo>
                  <a:pt x="736" y="466"/>
                </a:lnTo>
                <a:lnTo>
                  <a:pt x="733" y="470"/>
                </a:lnTo>
                <a:lnTo>
                  <a:pt x="727" y="473"/>
                </a:lnTo>
                <a:lnTo>
                  <a:pt x="723" y="478"/>
                </a:lnTo>
                <a:lnTo>
                  <a:pt x="717" y="481"/>
                </a:lnTo>
                <a:lnTo>
                  <a:pt x="710" y="485"/>
                </a:lnTo>
                <a:lnTo>
                  <a:pt x="707" y="490"/>
                </a:lnTo>
                <a:lnTo>
                  <a:pt x="706" y="493"/>
                </a:lnTo>
                <a:lnTo>
                  <a:pt x="684" y="493"/>
                </a:lnTo>
                <a:lnTo>
                  <a:pt x="683" y="497"/>
                </a:lnTo>
                <a:lnTo>
                  <a:pt x="683" y="503"/>
                </a:lnTo>
                <a:lnTo>
                  <a:pt x="681" y="508"/>
                </a:lnTo>
                <a:lnTo>
                  <a:pt x="680" y="515"/>
                </a:lnTo>
                <a:lnTo>
                  <a:pt x="677" y="521"/>
                </a:lnTo>
                <a:lnTo>
                  <a:pt x="675" y="528"/>
                </a:lnTo>
                <a:lnTo>
                  <a:pt x="674" y="535"/>
                </a:lnTo>
                <a:lnTo>
                  <a:pt x="673" y="543"/>
                </a:lnTo>
                <a:lnTo>
                  <a:pt x="669" y="544"/>
                </a:lnTo>
                <a:lnTo>
                  <a:pt x="662" y="548"/>
                </a:lnTo>
                <a:lnTo>
                  <a:pt x="655" y="554"/>
                </a:lnTo>
                <a:lnTo>
                  <a:pt x="646" y="558"/>
                </a:lnTo>
                <a:lnTo>
                  <a:pt x="636" y="563"/>
                </a:lnTo>
                <a:lnTo>
                  <a:pt x="626" y="569"/>
                </a:lnTo>
                <a:lnTo>
                  <a:pt x="617" y="572"/>
                </a:lnTo>
                <a:lnTo>
                  <a:pt x="608" y="574"/>
                </a:lnTo>
                <a:lnTo>
                  <a:pt x="602" y="575"/>
                </a:lnTo>
                <a:lnTo>
                  <a:pt x="593" y="576"/>
                </a:lnTo>
                <a:lnTo>
                  <a:pt x="586" y="579"/>
                </a:lnTo>
                <a:lnTo>
                  <a:pt x="577" y="580"/>
                </a:lnTo>
                <a:lnTo>
                  <a:pt x="569" y="581"/>
                </a:lnTo>
                <a:lnTo>
                  <a:pt x="562" y="583"/>
                </a:lnTo>
                <a:lnTo>
                  <a:pt x="553" y="584"/>
                </a:lnTo>
                <a:lnTo>
                  <a:pt x="545" y="585"/>
                </a:lnTo>
                <a:lnTo>
                  <a:pt x="537" y="587"/>
                </a:lnTo>
                <a:lnTo>
                  <a:pt x="528" y="588"/>
                </a:lnTo>
                <a:lnTo>
                  <a:pt x="521" y="590"/>
                </a:lnTo>
                <a:lnTo>
                  <a:pt x="512" y="593"/>
                </a:lnTo>
                <a:lnTo>
                  <a:pt x="505" y="596"/>
                </a:lnTo>
                <a:lnTo>
                  <a:pt x="497" y="598"/>
                </a:lnTo>
                <a:lnTo>
                  <a:pt x="489" y="601"/>
                </a:lnTo>
                <a:lnTo>
                  <a:pt x="482" y="605"/>
                </a:lnTo>
                <a:lnTo>
                  <a:pt x="449" y="651"/>
                </a:lnTo>
                <a:lnTo>
                  <a:pt x="447" y="654"/>
                </a:lnTo>
                <a:lnTo>
                  <a:pt x="446" y="659"/>
                </a:lnTo>
                <a:lnTo>
                  <a:pt x="445" y="665"/>
                </a:lnTo>
                <a:lnTo>
                  <a:pt x="443" y="674"/>
                </a:lnTo>
                <a:lnTo>
                  <a:pt x="441" y="682"/>
                </a:lnTo>
                <a:lnTo>
                  <a:pt x="440" y="692"/>
                </a:lnTo>
                <a:lnTo>
                  <a:pt x="440" y="702"/>
                </a:lnTo>
                <a:lnTo>
                  <a:pt x="439" y="714"/>
                </a:lnTo>
                <a:lnTo>
                  <a:pt x="439" y="725"/>
                </a:lnTo>
                <a:lnTo>
                  <a:pt x="438" y="736"/>
                </a:lnTo>
                <a:lnTo>
                  <a:pt x="438" y="745"/>
                </a:lnTo>
                <a:lnTo>
                  <a:pt x="437" y="755"/>
                </a:lnTo>
                <a:lnTo>
                  <a:pt x="436" y="763"/>
                </a:lnTo>
                <a:lnTo>
                  <a:pt x="433" y="769"/>
                </a:lnTo>
                <a:lnTo>
                  <a:pt x="432" y="775"/>
                </a:lnTo>
                <a:lnTo>
                  <a:pt x="431" y="777"/>
                </a:lnTo>
                <a:lnTo>
                  <a:pt x="398" y="840"/>
                </a:lnTo>
                <a:lnTo>
                  <a:pt x="396" y="841"/>
                </a:lnTo>
                <a:lnTo>
                  <a:pt x="391" y="842"/>
                </a:lnTo>
                <a:lnTo>
                  <a:pt x="385" y="845"/>
                </a:lnTo>
                <a:lnTo>
                  <a:pt x="378" y="850"/>
                </a:lnTo>
                <a:lnTo>
                  <a:pt x="369" y="854"/>
                </a:lnTo>
                <a:lnTo>
                  <a:pt x="360" y="859"/>
                </a:lnTo>
                <a:lnTo>
                  <a:pt x="350" y="864"/>
                </a:lnTo>
                <a:lnTo>
                  <a:pt x="341" y="870"/>
                </a:lnTo>
                <a:lnTo>
                  <a:pt x="331" y="876"/>
                </a:lnTo>
                <a:lnTo>
                  <a:pt x="320" y="881"/>
                </a:lnTo>
                <a:lnTo>
                  <a:pt x="311" y="886"/>
                </a:lnTo>
                <a:lnTo>
                  <a:pt x="303" y="891"/>
                </a:lnTo>
                <a:lnTo>
                  <a:pt x="296" y="895"/>
                </a:lnTo>
                <a:lnTo>
                  <a:pt x="290" y="898"/>
                </a:lnTo>
                <a:lnTo>
                  <a:pt x="284" y="899"/>
                </a:lnTo>
                <a:lnTo>
                  <a:pt x="281" y="901"/>
                </a:lnTo>
                <a:lnTo>
                  <a:pt x="153" y="1382"/>
                </a:lnTo>
                <a:lnTo>
                  <a:pt x="153" y="1386"/>
                </a:lnTo>
                <a:lnTo>
                  <a:pt x="151" y="1395"/>
                </a:lnTo>
                <a:lnTo>
                  <a:pt x="145" y="1407"/>
                </a:lnTo>
                <a:lnTo>
                  <a:pt x="137" y="1422"/>
                </a:lnTo>
                <a:lnTo>
                  <a:pt x="126" y="1439"/>
                </a:lnTo>
                <a:lnTo>
                  <a:pt x="115" y="1459"/>
                </a:lnTo>
                <a:lnTo>
                  <a:pt x="101" y="1480"/>
                </a:lnTo>
                <a:lnTo>
                  <a:pt x="88" y="1499"/>
                </a:lnTo>
                <a:lnTo>
                  <a:pt x="74" y="1521"/>
                </a:lnTo>
                <a:lnTo>
                  <a:pt x="59" y="1540"/>
                </a:lnTo>
                <a:lnTo>
                  <a:pt x="46" y="1559"/>
                </a:lnTo>
                <a:lnTo>
                  <a:pt x="33" y="1576"/>
                </a:lnTo>
                <a:lnTo>
                  <a:pt x="21" y="1589"/>
                </a:lnTo>
                <a:lnTo>
                  <a:pt x="11" y="1601"/>
                </a:lnTo>
                <a:lnTo>
                  <a:pt x="4" y="1607"/>
                </a:lnTo>
                <a:lnTo>
                  <a:pt x="0" y="1611"/>
                </a:lnTo>
                <a:lnTo>
                  <a:pt x="2" y="1612"/>
                </a:lnTo>
                <a:lnTo>
                  <a:pt x="9" y="1613"/>
                </a:lnTo>
                <a:lnTo>
                  <a:pt x="18" y="1615"/>
                </a:lnTo>
                <a:lnTo>
                  <a:pt x="29" y="1617"/>
                </a:lnTo>
                <a:lnTo>
                  <a:pt x="42" y="1619"/>
                </a:lnTo>
                <a:lnTo>
                  <a:pt x="57" y="1622"/>
                </a:lnTo>
                <a:lnTo>
                  <a:pt x="72" y="1624"/>
                </a:lnTo>
                <a:lnTo>
                  <a:pt x="88" y="1626"/>
                </a:lnTo>
                <a:lnTo>
                  <a:pt x="101" y="1628"/>
                </a:lnTo>
                <a:lnTo>
                  <a:pt x="116" y="1630"/>
                </a:lnTo>
                <a:lnTo>
                  <a:pt x="128" y="1631"/>
                </a:lnTo>
                <a:lnTo>
                  <a:pt x="140" y="1632"/>
                </a:lnTo>
                <a:lnTo>
                  <a:pt x="149" y="1634"/>
                </a:lnTo>
                <a:lnTo>
                  <a:pt x="153" y="1634"/>
                </a:lnTo>
                <a:lnTo>
                  <a:pt x="157" y="1632"/>
                </a:lnTo>
                <a:lnTo>
                  <a:pt x="153" y="1631"/>
                </a:lnTo>
                <a:lnTo>
                  <a:pt x="153" y="1629"/>
                </a:lnTo>
                <a:lnTo>
                  <a:pt x="157" y="1624"/>
                </a:lnTo>
                <a:lnTo>
                  <a:pt x="162" y="1616"/>
                </a:lnTo>
                <a:lnTo>
                  <a:pt x="170" y="1605"/>
                </a:lnTo>
                <a:lnTo>
                  <a:pt x="178" y="1594"/>
                </a:lnTo>
                <a:lnTo>
                  <a:pt x="188" y="1580"/>
                </a:lnTo>
                <a:lnTo>
                  <a:pt x="198" y="1566"/>
                </a:lnTo>
                <a:lnTo>
                  <a:pt x="210" y="1551"/>
                </a:lnTo>
                <a:lnTo>
                  <a:pt x="219" y="1536"/>
                </a:lnTo>
                <a:lnTo>
                  <a:pt x="229" y="1521"/>
                </a:lnTo>
                <a:lnTo>
                  <a:pt x="239" y="1507"/>
                </a:lnTo>
                <a:lnTo>
                  <a:pt x="246" y="1495"/>
                </a:lnTo>
                <a:lnTo>
                  <a:pt x="253" y="1484"/>
                </a:lnTo>
                <a:lnTo>
                  <a:pt x="255" y="1474"/>
                </a:lnTo>
                <a:lnTo>
                  <a:pt x="256" y="1469"/>
                </a:lnTo>
                <a:lnTo>
                  <a:pt x="254" y="1464"/>
                </a:lnTo>
              </a:path>
            </a:pathLst>
          </a:custGeom>
          <a:solidFill>
            <a:srgbClr val="5bffff"/>
          </a:solidFill>
          <a:ln cap="rnd" w="1260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276800" y="5222880"/>
            <a:ext cx="69840" cy="77760"/>
          </a:xfrm>
          <a:custGeom>
            <a:avLst/>
            <a:gdLst/>
            <a:ahLst/>
            <a:rect l="l" t="t" r="r" b="b"/>
            <a:pathLst>
              <a:path w="49" h="61">
                <a:moveTo>
                  <a:pt x="0" y="0"/>
                </a:moveTo>
                <a:lnTo>
                  <a:pt x="0" y="60"/>
                </a:lnTo>
                <a:lnTo>
                  <a:pt x="48" y="44"/>
                </a:lnTo>
                <a:lnTo>
                  <a:pt x="48" y="15"/>
                </a:lnTo>
                <a:lnTo>
                  <a:pt x="0" y="0"/>
                </a:lnTo>
              </a:path>
            </a:pathLst>
          </a:custGeom>
          <a:solidFill>
            <a:srgbClr val="66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76800" y="5126040"/>
            <a:ext cx="69840" cy="81000"/>
          </a:xfrm>
          <a:custGeom>
            <a:avLst/>
            <a:gdLst/>
            <a:ahLst/>
            <a:rect l="l" t="t" r="r" b="b"/>
            <a:pathLst>
              <a:path w="49" h="61">
                <a:moveTo>
                  <a:pt x="0" y="0"/>
                </a:moveTo>
                <a:lnTo>
                  <a:pt x="0" y="60"/>
                </a:lnTo>
                <a:lnTo>
                  <a:pt x="48" y="44"/>
                </a:lnTo>
                <a:lnTo>
                  <a:pt x="48" y="15"/>
                </a:lnTo>
                <a:lnTo>
                  <a:pt x="0" y="0"/>
                </a:lnTo>
              </a:path>
            </a:pathLst>
          </a:custGeom>
          <a:solidFill>
            <a:srgbClr val="66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392720" y="5168880"/>
            <a:ext cx="65160" cy="81000"/>
          </a:xfrm>
          <a:custGeom>
            <a:avLst/>
            <a:gdLst/>
            <a:ahLst/>
            <a:rect l="l" t="t" r="r" b="b"/>
            <a:pathLst>
              <a:path w="46" h="61">
                <a:moveTo>
                  <a:pt x="0" y="0"/>
                </a:moveTo>
                <a:lnTo>
                  <a:pt x="0" y="60"/>
                </a:lnTo>
                <a:lnTo>
                  <a:pt x="45" y="44"/>
                </a:lnTo>
                <a:lnTo>
                  <a:pt x="45" y="15"/>
                </a:lnTo>
                <a:lnTo>
                  <a:pt x="0" y="0"/>
                </a:lnTo>
              </a:path>
            </a:pathLst>
          </a:custGeom>
          <a:solidFill>
            <a:srgbClr val="66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35400" y="5165640"/>
            <a:ext cx="41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344840" y="5165640"/>
            <a:ext cx="28800" cy="93600"/>
          </a:xfrm>
          <a:custGeom>
            <a:avLst/>
            <a:gdLst/>
            <a:ahLst/>
            <a:rect l="l" t="t" r="r" b="b"/>
            <a:pathLst>
              <a:path w="20" h="74">
                <a:moveTo>
                  <a:pt x="0" y="0"/>
                </a:moveTo>
                <a:lnTo>
                  <a:pt x="19" y="0"/>
                </a:lnTo>
                <a:lnTo>
                  <a:pt x="19" y="73"/>
                </a:lnTo>
                <a:lnTo>
                  <a:pt x="0" y="73"/>
                </a:lnTo>
              </a:path>
            </a:pathLst>
          </a:custGeom>
          <a:solidFill>
            <a:srgbClr val="66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368960" y="5210280"/>
            <a:ext cx="23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56080" y="5208480"/>
            <a:ext cx="3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4235040" y="5257800"/>
            <a:ext cx="41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503360" y="5972040"/>
            <a:ext cx="28440" cy="25560"/>
          </a:xfrm>
          <a:custGeom>
            <a:avLst/>
            <a:gdLst/>
            <a:ahLst/>
            <a:rect l="l" t="t" r="r" b="b"/>
            <a:pathLst>
              <a:path w="20" h="18">
                <a:moveTo>
                  <a:pt x="9" y="0"/>
                </a:moveTo>
                <a:lnTo>
                  <a:pt x="12" y="1"/>
                </a:lnTo>
                <a:lnTo>
                  <a:pt x="13" y="1"/>
                </a:lnTo>
                <a:lnTo>
                  <a:pt x="19" y="4"/>
                </a:lnTo>
                <a:lnTo>
                  <a:pt x="19" y="8"/>
                </a:lnTo>
                <a:lnTo>
                  <a:pt x="19" y="10"/>
                </a:lnTo>
                <a:lnTo>
                  <a:pt x="13" y="13"/>
                </a:lnTo>
                <a:lnTo>
                  <a:pt x="12" y="14"/>
                </a:lnTo>
                <a:lnTo>
                  <a:pt x="9" y="17"/>
                </a:lnTo>
                <a:lnTo>
                  <a:pt x="4" y="14"/>
                </a:lnTo>
                <a:lnTo>
                  <a:pt x="1" y="13"/>
                </a:lnTo>
                <a:lnTo>
                  <a:pt x="0" y="10"/>
                </a:lnTo>
                <a:lnTo>
                  <a:pt x="0" y="8"/>
                </a:lnTo>
                <a:lnTo>
                  <a:pt x="0" y="4"/>
                </a:lnTo>
                <a:lnTo>
                  <a:pt x="1" y="1"/>
                </a:lnTo>
                <a:lnTo>
                  <a:pt x="4" y="1"/>
                </a:lnTo>
                <a:lnTo>
                  <a:pt x="9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03360" y="5972040"/>
            <a:ext cx="28440" cy="27000"/>
          </a:xfrm>
          <a:custGeom>
            <a:avLst/>
            <a:gdLst/>
            <a:ahLst/>
            <a:rect l="l" t="t" r="r" b="b"/>
            <a:pathLst>
              <a:path w="20" h="20">
                <a:moveTo>
                  <a:pt x="9" y="0"/>
                </a:moveTo>
                <a:lnTo>
                  <a:pt x="12" y="1"/>
                </a:lnTo>
                <a:lnTo>
                  <a:pt x="14" y="2"/>
                </a:lnTo>
                <a:lnTo>
                  <a:pt x="19" y="5"/>
                </a:lnTo>
                <a:lnTo>
                  <a:pt x="19" y="9"/>
                </a:lnTo>
                <a:lnTo>
                  <a:pt x="19" y="12"/>
                </a:lnTo>
                <a:lnTo>
                  <a:pt x="14" y="15"/>
                </a:lnTo>
                <a:lnTo>
                  <a:pt x="12" y="17"/>
                </a:lnTo>
                <a:lnTo>
                  <a:pt x="9" y="19"/>
                </a:lnTo>
                <a:lnTo>
                  <a:pt x="4" y="17"/>
                </a:lnTo>
                <a:lnTo>
                  <a:pt x="2" y="15"/>
                </a:lnTo>
                <a:lnTo>
                  <a:pt x="0" y="12"/>
                </a:lnTo>
                <a:lnTo>
                  <a:pt x="0" y="9"/>
                </a:lnTo>
                <a:lnTo>
                  <a:pt x="0" y="5"/>
                </a:lnTo>
                <a:lnTo>
                  <a:pt x="2" y="2"/>
                </a:lnTo>
                <a:lnTo>
                  <a:pt x="4" y="1"/>
                </a:lnTo>
                <a:lnTo>
                  <a:pt x="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80000" y="4994280"/>
            <a:ext cx="654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NEUBA 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49040" y="4300560"/>
            <a:ext cx="92556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GASODU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NEUBA 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024800" y="6267600"/>
            <a:ext cx="11041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ORDILLERA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044960" y="5848200"/>
            <a:ext cx="806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.HUINCU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42640" y="6083280"/>
            <a:ext cx="648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ZAPA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295840" y="1773360"/>
            <a:ext cx="6865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NEUBA I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270320" y="1936800"/>
            <a:ext cx="28800" cy="2520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0"/>
                </a:lnTo>
                <a:lnTo>
                  <a:pt x="19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270320" y="1936800"/>
            <a:ext cx="28800" cy="2520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18"/>
                </a:lnTo>
                <a:lnTo>
                  <a:pt x="19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89400" y="1936800"/>
            <a:ext cx="28440" cy="2520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0"/>
                </a:lnTo>
                <a:lnTo>
                  <a:pt x="19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89400" y="1936800"/>
            <a:ext cx="28440" cy="2520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18"/>
                </a:lnTo>
                <a:lnTo>
                  <a:pt x="19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07040" y="1936800"/>
            <a:ext cx="27000" cy="2520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0"/>
                </a:lnTo>
                <a:lnTo>
                  <a:pt x="19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307040" y="1936800"/>
            <a:ext cx="27000" cy="2520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18"/>
                </a:lnTo>
                <a:lnTo>
                  <a:pt x="19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322880" y="1936800"/>
            <a:ext cx="27000" cy="25200"/>
          </a:xfrm>
          <a:custGeom>
            <a:avLst/>
            <a:gdLst/>
            <a:ahLst/>
            <a:rect l="l" t="t" r="r" b="b"/>
            <a:pathLst>
              <a:path w="19" h="19">
                <a:moveTo>
                  <a:pt x="0" y="0"/>
                </a:moveTo>
                <a:lnTo>
                  <a:pt x="18" y="0"/>
                </a:lnTo>
                <a:lnTo>
                  <a:pt x="18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322880" y="1936800"/>
            <a:ext cx="27000" cy="25200"/>
          </a:xfrm>
          <a:custGeom>
            <a:avLst/>
            <a:gdLst/>
            <a:ahLst/>
            <a:rect l="l" t="t" r="r" b="b"/>
            <a:pathLst>
              <a:path w="19" h="19">
                <a:moveTo>
                  <a:pt x="0" y="0"/>
                </a:moveTo>
                <a:lnTo>
                  <a:pt x="18" y="18"/>
                </a:lnTo>
                <a:lnTo>
                  <a:pt x="18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341960" y="1936800"/>
            <a:ext cx="29880" cy="2520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0"/>
                </a:lnTo>
                <a:lnTo>
                  <a:pt x="19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341960" y="1936800"/>
            <a:ext cx="29880" cy="2520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18"/>
                </a:lnTo>
                <a:lnTo>
                  <a:pt x="19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361040" y="1936800"/>
            <a:ext cx="28440" cy="2520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0"/>
                </a:moveTo>
                <a:lnTo>
                  <a:pt x="20" y="0"/>
                </a:lnTo>
                <a:lnTo>
                  <a:pt x="20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361040" y="1936800"/>
            <a:ext cx="28440" cy="2520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0"/>
                </a:moveTo>
                <a:lnTo>
                  <a:pt x="20" y="18"/>
                </a:lnTo>
                <a:lnTo>
                  <a:pt x="2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376880" y="1936800"/>
            <a:ext cx="28440" cy="2520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0"/>
                </a:moveTo>
                <a:lnTo>
                  <a:pt x="20" y="0"/>
                </a:lnTo>
                <a:lnTo>
                  <a:pt x="20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376880" y="1936800"/>
            <a:ext cx="28440" cy="2520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0"/>
                </a:moveTo>
                <a:lnTo>
                  <a:pt x="20" y="18"/>
                </a:lnTo>
                <a:lnTo>
                  <a:pt x="2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167360" y="1792440"/>
            <a:ext cx="323280" cy="253440"/>
            <a:chOff x="4167360" y="1792440"/>
            <a:chExt cx="323280" cy="253440"/>
          </a:xfrm>
        </p:grpSpPr>
        <p:sp>
          <p:nvSpPr>
            <p:cNvPr id="610" name=""/>
            <p:cNvSpPr/>
            <p:nvPr/>
          </p:nvSpPr>
          <p:spPr>
            <a:xfrm>
              <a:off x="4366080" y="1792440"/>
              <a:ext cx="28440" cy="244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9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19" y="13"/>
                  </a:lnTo>
                  <a:lnTo>
                    <a:pt x="15" y="13"/>
                  </a:lnTo>
                  <a:lnTo>
                    <a:pt x="12" y="18"/>
                  </a:lnTo>
                  <a:lnTo>
                    <a:pt x="9" y="18"/>
                  </a:lnTo>
                  <a:lnTo>
                    <a:pt x="4" y="18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66080" y="1792440"/>
              <a:ext cx="35640" cy="24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12" y="0"/>
                  </a:moveTo>
                  <a:lnTo>
                    <a:pt x="16" y="1"/>
                  </a:lnTo>
                  <a:lnTo>
                    <a:pt x="20" y="1"/>
                  </a:lnTo>
                  <a:lnTo>
                    <a:pt x="24" y="4"/>
                  </a:lnTo>
                  <a:lnTo>
                    <a:pt x="24" y="9"/>
                  </a:lnTo>
                  <a:lnTo>
                    <a:pt x="24" y="12"/>
                  </a:lnTo>
                  <a:lnTo>
                    <a:pt x="20" y="13"/>
                  </a:lnTo>
                  <a:lnTo>
                    <a:pt x="16" y="15"/>
                  </a:lnTo>
                  <a:lnTo>
                    <a:pt x="12" y="18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4"/>
                  </a:lnTo>
                  <a:lnTo>
                    <a:pt x="3" y="1"/>
                  </a:lnTo>
                  <a:lnTo>
                    <a:pt x="6" y="1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07400" y="1801440"/>
              <a:ext cx="29880" cy="230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8" y="0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307400" y="1801440"/>
              <a:ext cx="37080" cy="230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0" y="0"/>
                  </a:moveTo>
                  <a:lnTo>
                    <a:pt x="16" y="1"/>
                  </a:lnTo>
                  <a:lnTo>
                    <a:pt x="20" y="1"/>
                  </a:lnTo>
                  <a:lnTo>
                    <a:pt x="25" y="5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0" y="14"/>
                  </a:lnTo>
                  <a:lnTo>
                    <a:pt x="16" y="17"/>
                  </a:lnTo>
                  <a:lnTo>
                    <a:pt x="10" y="17"/>
                  </a:lnTo>
                  <a:lnTo>
                    <a:pt x="7" y="17"/>
                  </a:lnTo>
                  <a:lnTo>
                    <a:pt x="3" y="14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1"/>
                  </a:lnTo>
                  <a:lnTo>
                    <a:pt x="7" y="1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50160" y="1807920"/>
              <a:ext cx="27000" cy="244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8" y="5"/>
                  </a:lnTo>
                  <a:lnTo>
                    <a:pt x="18" y="11"/>
                  </a:lnTo>
                  <a:lnTo>
                    <a:pt x="14" y="18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" y="5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50160" y="1807920"/>
              <a:ext cx="31320" cy="244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0" y="0"/>
                  </a:moveTo>
                  <a:lnTo>
                    <a:pt x="13" y="1"/>
                  </a:lnTo>
                  <a:lnTo>
                    <a:pt x="17" y="1"/>
                  </a:lnTo>
                  <a:lnTo>
                    <a:pt x="21" y="5"/>
                  </a:lnTo>
                  <a:lnTo>
                    <a:pt x="21" y="9"/>
                  </a:lnTo>
                  <a:lnTo>
                    <a:pt x="21" y="13"/>
                  </a:lnTo>
                  <a:lnTo>
                    <a:pt x="17" y="15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3" y="1"/>
                  </a:lnTo>
                  <a:lnTo>
                    <a:pt x="6" y="1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365000" y="1793880"/>
              <a:ext cx="28440" cy="228960"/>
            </a:xfrm>
            <a:custGeom>
              <a:avLst/>
              <a:gdLst/>
              <a:ahLst/>
              <a:rect l="l" t="t" r="r" b="b"/>
              <a:pathLst>
                <a:path w="20" h="177">
                  <a:moveTo>
                    <a:pt x="0" y="0"/>
                  </a:moveTo>
                  <a:lnTo>
                    <a:pt x="19" y="0"/>
                  </a:lnTo>
                  <a:lnTo>
                    <a:pt x="19" y="176"/>
                  </a:lnTo>
                  <a:lnTo>
                    <a:pt x="0" y="17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365000" y="1793880"/>
              <a:ext cx="34200" cy="236880"/>
            </a:xfrm>
            <a:custGeom>
              <a:avLst/>
              <a:gdLst/>
              <a:ahLst/>
              <a:rect l="l" t="t" r="r" b="b"/>
              <a:pathLst>
                <a:path w="24" h="183">
                  <a:moveTo>
                    <a:pt x="0" y="0"/>
                  </a:moveTo>
                  <a:lnTo>
                    <a:pt x="23" y="0"/>
                  </a:lnTo>
                  <a:lnTo>
                    <a:pt x="23" y="182"/>
                  </a:lnTo>
                  <a:lnTo>
                    <a:pt x="0" y="18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305960" y="1802520"/>
              <a:ext cx="29880" cy="228240"/>
            </a:xfrm>
            <a:custGeom>
              <a:avLst/>
              <a:gdLst/>
              <a:ahLst/>
              <a:rect l="l" t="t" r="r" b="b"/>
              <a:pathLst>
                <a:path w="21" h="176">
                  <a:moveTo>
                    <a:pt x="0" y="0"/>
                  </a:moveTo>
                  <a:lnTo>
                    <a:pt x="20" y="0"/>
                  </a:lnTo>
                  <a:lnTo>
                    <a:pt x="20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05960" y="1802520"/>
              <a:ext cx="37080" cy="236880"/>
            </a:xfrm>
            <a:custGeom>
              <a:avLst/>
              <a:gdLst/>
              <a:ahLst/>
              <a:rect l="l" t="t" r="r" b="b"/>
              <a:pathLst>
                <a:path w="26" h="183">
                  <a:moveTo>
                    <a:pt x="0" y="0"/>
                  </a:moveTo>
                  <a:lnTo>
                    <a:pt x="25" y="0"/>
                  </a:lnTo>
                  <a:lnTo>
                    <a:pt x="25" y="182"/>
                  </a:lnTo>
                  <a:lnTo>
                    <a:pt x="0" y="18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250160" y="1809360"/>
              <a:ext cx="27000" cy="228960"/>
            </a:xfrm>
            <a:custGeom>
              <a:avLst/>
              <a:gdLst/>
              <a:ahLst/>
              <a:rect l="l" t="t" r="r" b="b"/>
              <a:pathLst>
                <a:path w="19" h="177">
                  <a:moveTo>
                    <a:pt x="0" y="0"/>
                  </a:moveTo>
                  <a:lnTo>
                    <a:pt x="18" y="0"/>
                  </a:lnTo>
                  <a:lnTo>
                    <a:pt x="18" y="176"/>
                  </a:lnTo>
                  <a:lnTo>
                    <a:pt x="0" y="17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250160" y="1809360"/>
              <a:ext cx="31320" cy="236520"/>
            </a:xfrm>
            <a:custGeom>
              <a:avLst/>
              <a:gdLst/>
              <a:ahLst/>
              <a:rect l="l" t="t" r="r" b="b"/>
              <a:pathLst>
                <a:path w="22" h="183">
                  <a:moveTo>
                    <a:pt x="0" y="0"/>
                  </a:moveTo>
                  <a:lnTo>
                    <a:pt x="21" y="0"/>
                  </a:lnTo>
                  <a:lnTo>
                    <a:pt x="21" y="182"/>
                  </a:lnTo>
                  <a:lnTo>
                    <a:pt x="0" y="18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368960" y="1793880"/>
              <a:ext cx="29880" cy="2412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0" y="0"/>
                  </a:moveTo>
                  <a:lnTo>
                    <a:pt x="13" y="0"/>
                  </a:lnTo>
                  <a:lnTo>
                    <a:pt x="16" y="5"/>
                  </a:lnTo>
                  <a:lnTo>
                    <a:pt x="20" y="5"/>
                  </a:lnTo>
                  <a:lnTo>
                    <a:pt x="20" y="11"/>
                  </a:lnTo>
                  <a:lnTo>
                    <a:pt x="16" y="11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4" y="18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5"/>
                  </a:lnTo>
                  <a:lnTo>
                    <a:pt x="4" y="0"/>
                  </a:lnTo>
                  <a:lnTo>
                    <a:pt x="1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09200" y="1802520"/>
              <a:ext cx="3132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0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7" y="5"/>
                  </a:lnTo>
                  <a:lnTo>
                    <a:pt x="21" y="5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1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251600" y="1809360"/>
              <a:ext cx="27000" cy="241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9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18" y="11"/>
                  </a:lnTo>
                  <a:lnTo>
                    <a:pt x="14" y="11"/>
                  </a:lnTo>
                  <a:lnTo>
                    <a:pt x="12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66080" y="1793880"/>
              <a:ext cx="28440" cy="227880"/>
            </a:xfrm>
            <a:custGeom>
              <a:avLst/>
              <a:gdLst/>
              <a:ahLst/>
              <a:rect l="l" t="t" r="r" b="b"/>
              <a:pathLst>
                <a:path w="20" h="176">
                  <a:moveTo>
                    <a:pt x="0" y="0"/>
                  </a:moveTo>
                  <a:lnTo>
                    <a:pt x="19" y="0"/>
                  </a:lnTo>
                  <a:lnTo>
                    <a:pt x="19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305960" y="1802520"/>
              <a:ext cx="29880" cy="226800"/>
            </a:xfrm>
            <a:custGeom>
              <a:avLst/>
              <a:gdLst/>
              <a:ahLst/>
              <a:rect l="l" t="t" r="r" b="b"/>
              <a:pathLst>
                <a:path w="21" h="175">
                  <a:moveTo>
                    <a:pt x="0" y="0"/>
                  </a:moveTo>
                  <a:lnTo>
                    <a:pt x="20" y="0"/>
                  </a:lnTo>
                  <a:lnTo>
                    <a:pt x="20" y="174"/>
                  </a:lnTo>
                  <a:lnTo>
                    <a:pt x="0" y="174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50160" y="1809360"/>
              <a:ext cx="27000" cy="22788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8" y="0"/>
                  </a:lnTo>
                  <a:lnTo>
                    <a:pt x="18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372200" y="1798560"/>
              <a:ext cx="3132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9" y="17"/>
                  </a:moveTo>
                  <a:lnTo>
                    <a:pt x="15" y="17"/>
                  </a:lnTo>
                  <a:lnTo>
                    <a:pt x="21" y="17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9" y="17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13160" y="1806480"/>
              <a:ext cx="31320" cy="230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9" y="17"/>
                  </a:moveTo>
                  <a:lnTo>
                    <a:pt x="15" y="17"/>
                  </a:lnTo>
                  <a:lnTo>
                    <a:pt x="21" y="17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9" y="17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256280" y="1820880"/>
              <a:ext cx="28440" cy="144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9" y="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368960" y="1793880"/>
              <a:ext cx="29880" cy="227880"/>
            </a:xfrm>
            <a:custGeom>
              <a:avLst/>
              <a:gdLst/>
              <a:ahLst/>
              <a:rect l="l" t="t" r="r" b="b"/>
              <a:pathLst>
                <a:path w="21" h="176">
                  <a:moveTo>
                    <a:pt x="0" y="0"/>
                  </a:moveTo>
                  <a:lnTo>
                    <a:pt x="20" y="0"/>
                  </a:lnTo>
                  <a:lnTo>
                    <a:pt x="20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09200" y="1802520"/>
              <a:ext cx="31320" cy="226800"/>
            </a:xfrm>
            <a:custGeom>
              <a:avLst/>
              <a:gdLst/>
              <a:ahLst/>
              <a:rect l="l" t="t" r="r" b="b"/>
              <a:pathLst>
                <a:path w="22" h="175">
                  <a:moveTo>
                    <a:pt x="0" y="0"/>
                  </a:moveTo>
                  <a:lnTo>
                    <a:pt x="21" y="0"/>
                  </a:lnTo>
                  <a:lnTo>
                    <a:pt x="21" y="174"/>
                  </a:lnTo>
                  <a:lnTo>
                    <a:pt x="0" y="174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251600" y="1809360"/>
              <a:ext cx="27000" cy="22788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8" y="0"/>
                  </a:lnTo>
                  <a:lnTo>
                    <a:pt x="18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404960" y="2008800"/>
              <a:ext cx="37080" cy="2412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4"/>
                  </a:moveTo>
                  <a:lnTo>
                    <a:pt x="6" y="4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1" y="4"/>
                  </a:lnTo>
                  <a:lnTo>
                    <a:pt x="15" y="4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0" y="5"/>
                  </a:lnTo>
                  <a:lnTo>
                    <a:pt x="25" y="7"/>
                  </a:lnTo>
                  <a:lnTo>
                    <a:pt x="25" y="18"/>
                  </a:lnTo>
                  <a:lnTo>
                    <a:pt x="0" y="18"/>
                  </a:lnTo>
                  <a:lnTo>
                    <a:pt x="0" y="4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04960" y="2008800"/>
              <a:ext cx="45720" cy="255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4"/>
                  </a:moveTo>
                  <a:lnTo>
                    <a:pt x="8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9" y="5"/>
                  </a:lnTo>
                  <a:lnTo>
                    <a:pt x="19" y="2"/>
                  </a:lnTo>
                  <a:lnTo>
                    <a:pt x="25" y="2"/>
                  </a:lnTo>
                  <a:lnTo>
                    <a:pt x="25" y="6"/>
                  </a:lnTo>
                  <a:lnTo>
                    <a:pt x="31" y="7"/>
                  </a:lnTo>
                  <a:lnTo>
                    <a:pt x="31" y="19"/>
                  </a:lnTo>
                  <a:lnTo>
                    <a:pt x="0" y="19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373280" y="1967400"/>
              <a:ext cx="31320" cy="63360"/>
            </a:xfrm>
            <a:custGeom>
              <a:avLst/>
              <a:gdLst/>
              <a:ahLst/>
              <a:rect l="l" t="t" r="r" b="b"/>
              <a:pathLst>
                <a:path w="22" h="49">
                  <a:moveTo>
                    <a:pt x="0" y="0"/>
                  </a:moveTo>
                  <a:lnTo>
                    <a:pt x="5" y="4"/>
                  </a:lnTo>
                  <a:lnTo>
                    <a:pt x="5" y="10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21" y="10"/>
                  </a:lnTo>
                  <a:lnTo>
                    <a:pt x="21" y="43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73280" y="1967400"/>
              <a:ext cx="38520" cy="72000"/>
            </a:xfrm>
            <a:custGeom>
              <a:avLst/>
              <a:gdLst/>
              <a:ahLst/>
              <a:rect l="l" t="t" r="r" b="b"/>
              <a:pathLst>
                <a:path w="27" h="56">
                  <a:moveTo>
                    <a:pt x="0" y="0"/>
                  </a:moveTo>
                  <a:lnTo>
                    <a:pt x="8" y="4"/>
                  </a:lnTo>
                  <a:lnTo>
                    <a:pt x="8" y="11"/>
                  </a:lnTo>
                  <a:lnTo>
                    <a:pt x="19" y="14"/>
                  </a:lnTo>
                  <a:lnTo>
                    <a:pt x="19" y="10"/>
                  </a:lnTo>
                  <a:lnTo>
                    <a:pt x="26" y="11"/>
                  </a:lnTo>
                  <a:lnTo>
                    <a:pt x="26" y="50"/>
                  </a:lnTo>
                  <a:lnTo>
                    <a:pt x="0" y="5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373280" y="1990440"/>
              <a:ext cx="31320" cy="38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0"/>
                  </a:moveTo>
                  <a:lnTo>
                    <a:pt x="21" y="4"/>
                  </a:lnTo>
                  <a:lnTo>
                    <a:pt x="21" y="27"/>
                  </a:lnTo>
                  <a:lnTo>
                    <a:pt x="15" y="29"/>
                  </a:lnTo>
                  <a:lnTo>
                    <a:pt x="15" y="5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73280" y="1990440"/>
              <a:ext cx="31320" cy="478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0"/>
                  </a:moveTo>
                  <a:lnTo>
                    <a:pt x="21" y="5"/>
                  </a:lnTo>
                  <a:lnTo>
                    <a:pt x="21" y="34"/>
                  </a:lnTo>
                  <a:lnTo>
                    <a:pt x="14" y="36"/>
                  </a:lnTo>
                  <a:lnTo>
                    <a:pt x="14" y="6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201560" y="1924560"/>
              <a:ext cx="135720" cy="111240"/>
            </a:xfrm>
            <a:custGeom>
              <a:avLst/>
              <a:gdLst/>
              <a:ahLst/>
              <a:rect l="l" t="t" r="r" b="b"/>
              <a:pathLst>
                <a:path w="95" h="86">
                  <a:moveTo>
                    <a:pt x="0" y="18"/>
                  </a:moveTo>
                  <a:lnTo>
                    <a:pt x="94" y="0"/>
                  </a:lnTo>
                  <a:lnTo>
                    <a:pt x="94" y="85"/>
                  </a:lnTo>
                  <a:lnTo>
                    <a:pt x="0" y="85"/>
                  </a:lnTo>
                  <a:lnTo>
                    <a:pt x="0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01560" y="1924560"/>
              <a:ext cx="147240" cy="119160"/>
            </a:xfrm>
            <a:custGeom>
              <a:avLst/>
              <a:gdLst/>
              <a:ahLst/>
              <a:rect l="l" t="t" r="r" b="b"/>
              <a:pathLst>
                <a:path w="103" h="92">
                  <a:moveTo>
                    <a:pt x="0" y="19"/>
                  </a:moveTo>
                  <a:lnTo>
                    <a:pt x="102" y="0"/>
                  </a:lnTo>
                  <a:lnTo>
                    <a:pt x="102" y="91"/>
                  </a:lnTo>
                  <a:lnTo>
                    <a:pt x="0" y="91"/>
                  </a:lnTo>
                  <a:lnTo>
                    <a:pt x="0" y="1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46280" y="1924560"/>
              <a:ext cx="29520" cy="110160"/>
            </a:xfrm>
            <a:custGeom>
              <a:avLst/>
              <a:gdLst/>
              <a:ahLst/>
              <a:rect l="l" t="t" r="r" b="b"/>
              <a:pathLst>
                <a:path w="21" h="85">
                  <a:moveTo>
                    <a:pt x="12" y="0"/>
                  </a:moveTo>
                  <a:lnTo>
                    <a:pt x="12" y="4"/>
                  </a:lnTo>
                  <a:lnTo>
                    <a:pt x="0" y="0"/>
                  </a:lnTo>
                  <a:lnTo>
                    <a:pt x="0" y="84"/>
                  </a:lnTo>
                  <a:lnTo>
                    <a:pt x="12" y="81"/>
                  </a:lnTo>
                  <a:lnTo>
                    <a:pt x="12" y="17"/>
                  </a:lnTo>
                  <a:lnTo>
                    <a:pt x="20" y="19"/>
                  </a:lnTo>
                  <a:lnTo>
                    <a:pt x="20" y="3"/>
                  </a:lnTo>
                  <a:lnTo>
                    <a:pt x="12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46280" y="1924560"/>
              <a:ext cx="39600" cy="11772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17" y="0"/>
                  </a:moveTo>
                  <a:lnTo>
                    <a:pt x="17" y="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17" y="87"/>
                  </a:lnTo>
                  <a:lnTo>
                    <a:pt x="17" y="18"/>
                  </a:lnTo>
                  <a:lnTo>
                    <a:pt x="27" y="20"/>
                  </a:lnTo>
                  <a:lnTo>
                    <a:pt x="27" y="3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67440" y="1932120"/>
              <a:ext cx="28440" cy="6228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9" y="0"/>
                  </a:moveTo>
                  <a:lnTo>
                    <a:pt x="19" y="45"/>
                  </a:lnTo>
                  <a:lnTo>
                    <a:pt x="0" y="47"/>
                  </a:lnTo>
                  <a:lnTo>
                    <a:pt x="0" y="3"/>
                  </a:lnTo>
                  <a:lnTo>
                    <a:pt x="19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267440" y="1932120"/>
              <a:ext cx="28440" cy="71280"/>
            </a:xfrm>
            <a:custGeom>
              <a:avLst/>
              <a:gdLst/>
              <a:ahLst/>
              <a:rect l="l" t="t" r="r" b="b"/>
              <a:pathLst>
                <a:path w="20" h="55">
                  <a:moveTo>
                    <a:pt x="19" y="0"/>
                  </a:moveTo>
                  <a:lnTo>
                    <a:pt x="19" y="52"/>
                  </a:lnTo>
                  <a:lnTo>
                    <a:pt x="0" y="54"/>
                  </a:lnTo>
                  <a:lnTo>
                    <a:pt x="0" y="3"/>
                  </a:lnTo>
                  <a:lnTo>
                    <a:pt x="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67440" y="2002320"/>
              <a:ext cx="28440" cy="230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2" y="0"/>
                  </a:lnTo>
                  <a:lnTo>
                    <a:pt x="19" y="17"/>
                  </a:lnTo>
                  <a:lnTo>
                    <a:pt x="5" y="1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67440" y="2002320"/>
              <a:ext cx="29880" cy="230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14" y="0"/>
                  </a:lnTo>
                  <a:lnTo>
                    <a:pt x="20" y="17"/>
                  </a:lnTo>
                  <a:lnTo>
                    <a:pt x="6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287600" y="1932120"/>
              <a:ext cx="1080" cy="78840"/>
            </a:xfrm>
            <a:custGeom>
              <a:avLst/>
              <a:gdLst/>
              <a:ahLst/>
              <a:rect l="l" t="t" r="r" b="b"/>
              <a:pathLst>
                <a:path w="1" h="61">
                  <a:moveTo>
                    <a:pt x="0" y="0"/>
                  </a:moveTo>
                  <a:lnTo>
                    <a:pt x="0" y="1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87600" y="1932120"/>
              <a:ext cx="29520" cy="87840"/>
            </a:xfrm>
            <a:custGeom>
              <a:avLst/>
              <a:gdLst/>
              <a:ahLst/>
              <a:rect l="l" t="t" r="r" b="b"/>
              <a:pathLst>
                <a:path w="21" h="68">
                  <a:moveTo>
                    <a:pt x="0" y="0"/>
                  </a:moveTo>
                  <a:lnTo>
                    <a:pt x="20" y="1"/>
                  </a:lnTo>
                  <a:lnTo>
                    <a:pt x="20" y="6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36120" y="1941120"/>
              <a:ext cx="29880" cy="69840"/>
            </a:xfrm>
            <a:custGeom>
              <a:avLst/>
              <a:gdLst/>
              <a:ahLst/>
              <a:rect l="l" t="t" r="r" b="b"/>
              <a:pathLst>
                <a:path w="21" h="54">
                  <a:moveTo>
                    <a:pt x="0" y="0"/>
                  </a:moveTo>
                  <a:lnTo>
                    <a:pt x="0" y="41"/>
                  </a:lnTo>
                  <a:lnTo>
                    <a:pt x="20" y="5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236120" y="1941120"/>
              <a:ext cx="29880" cy="7884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0" y="0"/>
                  </a:moveTo>
                  <a:lnTo>
                    <a:pt x="0" y="46"/>
                  </a:lnTo>
                  <a:lnTo>
                    <a:pt x="20" y="60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217400" y="1941120"/>
              <a:ext cx="28440" cy="5580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2"/>
                  </a:moveTo>
                  <a:lnTo>
                    <a:pt x="19" y="0"/>
                  </a:lnTo>
                  <a:lnTo>
                    <a:pt x="19" y="40"/>
                  </a:lnTo>
                  <a:lnTo>
                    <a:pt x="0" y="42"/>
                  </a:lnTo>
                  <a:lnTo>
                    <a:pt x="0" y="2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17400" y="1941120"/>
              <a:ext cx="28440" cy="64800"/>
            </a:xfrm>
            <a:custGeom>
              <a:avLst/>
              <a:gdLst/>
              <a:ahLst/>
              <a:rect l="l" t="t" r="r" b="b"/>
              <a:pathLst>
                <a:path w="20" h="50">
                  <a:moveTo>
                    <a:pt x="0" y="2"/>
                  </a:moveTo>
                  <a:lnTo>
                    <a:pt x="19" y="0"/>
                  </a:lnTo>
                  <a:lnTo>
                    <a:pt x="19" y="47"/>
                  </a:lnTo>
                  <a:lnTo>
                    <a:pt x="0" y="49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15960" y="2002320"/>
              <a:ext cx="28440" cy="230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2"/>
                  </a:moveTo>
                  <a:lnTo>
                    <a:pt x="11" y="0"/>
                  </a:lnTo>
                  <a:lnTo>
                    <a:pt x="19" y="17"/>
                  </a:lnTo>
                  <a:lnTo>
                    <a:pt x="5" y="17"/>
                  </a:lnTo>
                  <a:lnTo>
                    <a:pt x="0" y="2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215960" y="2002320"/>
              <a:ext cx="37080" cy="230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8" y="17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10280" y="1969560"/>
              <a:ext cx="32760" cy="23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12" y="0"/>
                  </a:lnTo>
                  <a:lnTo>
                    <a:pt x="22" y="17"/>
                  </a:lnTo>
                  <a:lnTo>
                    <a:pt x="7" y="1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310280" y="1969560"/>
              <a:ext cx="37080" cy="244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0"/>
                  </a:moveTo>
                  <a:lnTo>
                    <a:pt x="15" y="0"/>
                  </a:lnTo>
                  <a:lnTo>
                    <a:pt x="25" y="18"/>
                  </a:lnTo>
                  <a:lnTo>
                    <a:pt x="8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310280" y="1924560"/>
              <a:ext cx="32760" cy="4140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0" y="31"/>
                  </a:moveTo>
                  <a:lnTo>
                    <a:pt x="22" y="28"/>
                  </a:lnTo>
                  <a:lnTo>
                    <a:pt x="22" y="0"/>
                  </a:lnTo>
                  <a:lnTo>
                    <a:pt x="0" y="2"/>
                  </a:lnTo>
                  <a:lnTo>
                    <a:pt x="0" y="31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310280" y="1924560"/>
              <a:ext cx="32760" cy="4932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0" y="37"/>
                  </a:moveTo>
                  <a:lnTo>
                    <a:pt x="22" y="34"/>
                  </a:lnTo>
                  <a:lnTo>
                    <a:pt x="22" y="0"/>
                  </a:lnTo>
                  <a:lnTo>
                    <a:pt x="0" y="2"/>
                  </a:lnTo>
                  <a:lnTo>
                    <a:pt x="0" y="3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333320" y="1924560"/>
              <a:ext cx="1080" cy="63360"/>
            </a:xfrm>
            <a:custGeom>
              <a:avLst/>
              <a:gdLst/>
              <a:ahLst/>
              <a:rect l="l" t="t" r="r" b="b"/>
              <a:pathLst>
                <a:path w="1" h="49">
                  <a:moveTo>
                    <a:pt x="0" y="0"/>
                  </a:moveTo>
                  <a:lnTo>
                    <a:pt x="0" y="30"/>
                  </a:lnTo>
                  <a:lnTo>
                    <a:pt x="0" y="48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333320" y="1924560"/>
              <a:ext cx="29520" cy="712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0"/>
                  </a:moveTo>
                  <a:lnTo>
                    <a:pt x="0" y="34"/>
                  </a:lnTo>
                  <a:lnTo>
                    <a:pt x="20" y="54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260240" y="1937520"/>
              <a:ext cx="31320" cy="309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1"/>
                  </a:moveTo>
                  <a:lnTo>
                    <a:pt x="21" y="0"/>
                  </a:lnTo>
                  <a:lnTo>
                    <a:pt x="21" y="23"/>
                  </a:lnTo>
                  <a:lnTo>
                    <a:pt x="0" y="23"/>
                  </a:lnTo>
                  <a:lnTo>
                    <a:pt x="0" y="1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60240" y="1937520"/>
              <a:ext cx="31320" cy="38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1"/>
                  </a:moveTo>
                  <a:lnTo>
                    <a:pt x="21" y="0"/>
                  </a:lnTo>
                  <a:lnTo>
                    <a:pt x="21" y="29"/>
                  </a:lnTo>
                  <a:lnTo>
                    <a:pt x="0" y="29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260240" y="1974960"/>
              <a:ext cx="31320" cy="244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9" y="0"/>
                  </a:lnTo>
                  <a:lnTo>
                    <a:pt x="21" y="18"/>
                  </a:lnTo>
                  <a:lnTo>
                    <a:pt x="9" y="1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260240" y="1974960"/>
              <a:ext cx="31320" cy="244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9" y="0"/>
                  </a:lnTo>
                  <a:lnTo>
                    <a:pt x="21" y="18"/>
                  </a:lnTo>
                  <a:lnTo>
                    <a:pt x="9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273200" y="1937520"/>
              <a:ext cx="28440" cy="51480"/>
            </a:xfrm>
            <a:custGeom>
              <a:avLst/>
              <a:gdLst/>
              <a:ahLst/>
              <a:rect l="l" t="t" r="r" b="b"/>
              <a:pathLst>
                <a:path w="20" h="40">
                  <a:moveTo>
                    <a:pt x="19" y="39"/>
                  </a:moveTo>
                  <a:lnTo>
                    <a:pt x="19" y="2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9" y="39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73200" y="1937520"/>
              <a:ext cx="28440" cy="5940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9" y="45"/>
                  </a:moveTo>
                  <a:lnTo>
                    <a:pt x="19" y="2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9" y="4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211640" y="1977840"/>
              <a:ext cx="29880" cy="244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7" y="18"/>
                  </a:moveTo>
                  <a:lnTo>
                    <a:pt x="20" y="18"/>
                  </a:lnTo>
                  <a:lnTo>
                    <a:pt x="10" y="0"/>
                  </a:lnTo>
                  <a:lnTo>
                    <a:pt x="0" y="0"/>
                  </a:lnTo>
                  <a:lnTo>
                    <a:pt x="7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11640" y="1977840"/>
              <a:ext cx="29880" cy="244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8" y="18"/>
                  </a:moveTo>
                  <a:lnTo>
                    <a:pt x="20" y="18"/>
                  </a:lnTo>
                  <a:lnTo>
                    <a:pt x="10" y="0"/>
                  </a:lnTo>
                  <a:lnTo>
                    <a:pt x="0" y="0"/>
                  </a:lnTo>
                  <a:lnTo>
                    <a:pt x="8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211640" y="1953000"/>
              <a:ext cx="29880" cy="230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7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"/>
                  </a:lnTo>
                  <a:lnTo>
                    <a:pt x="0" y="17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11640" y="1953000"/>
              <a:ext cx="29880" cy="255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9"/>
                  </a:moveTo>
                  <a:lnTo>
                    <a:pt x="16" y="19"/>
                  </a:lnTo>
                  <a:lnTo>
                    <a:pt x="20" y="0"/>
                  </a:lnTo>
                  <a:lnTo>
                    <a:pt x="0" y="1"/>
                  </a:lnTo>
                  <a:lnTo>
                    <a:pt x="0" y="1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224600" y="1953000"/>
              <a:ext cx="1080" cy="37440"/>
            </a:xfrm>
            <a:custGeom>
              <a:avLst/>
              <a:gdLst/>
              <a:ahLst/>
              <a:rect l="l" t="t" r="r" b="b"/>
              <a:pathLst>
                <a:path w="1" h="29">
                  <a:moveTo>
                    <a:pt x="0" y="0"/>
                  </a:moveTo>
                  <a:lnTo>
                    <a:pt x="0" y="16"/>
                  </a:lnTo>
                  <a:lnTo>
                    <a:pt x="0" y="2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224600" y="1953000"/>
              <a:ext cx="31320" cy="464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0"/>
                  </a:moveTo>
                  <a:lnTo>
                    <a:pt x="0" y="19"/>
                  </a:lnTo>
                  <a:lnTo>
                    <a:pt x="21" y="35"/>
                  </a:lnTo>
                  <a:lnTo>
                    <a:pt x="16" y="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167360" y="1973880"/>
              <a:ext cx="54360" cy="60480"/>
            </a:xfrm>
            <a:custGeom>
              <a:avLst/>
              <a:gdLst/>
              <a:ahLst/>
              <a:rect l="l" t="t" r="r" b="b"/>
              <a:pathLst>
                <a:path w="38" h="47">
                  <a:moveTo>
                    <a:pt x="0" y="46"/>
                  </a:moveTo>
                  <a:lnTo>
                    <a:pt x="37" y="46"/>
                  </a:lnTo>
                  <a:lnTo>
                    <a:pt x="37" y="0"/>
                  </a:lnTo>
                  <a:lnTo>
                    <a:pt x="14" y="1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46"/>
                  </a:lnTo>
                </a:path>
              </a:pathLst>
            </a:custGeom>
            <a:solidFill>
              <a:srgbClr val="604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167360" y="1973880"/>
              <a:ext cx="64440" cy="6840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0" y="52"/>
                  </a:moveTo>
                  <a:lnTo>
                    <a:pt x="44" y="52"/>
                  </a:lnTo>
                  <a:lnTo>
                    <a:pt x="44" y="0"/>
                  </a:lnTo>
                  <a:lnTo>
                    <a:pt x="16" y="1"/>
                  </a:lnTo>
                  <a:lnTo>
                    <a:pt x="16" y="37"/>
                  </a:lnTo>
                  <a:lnTo>
                    <a:pt x="0" y="41"/>
                  </a:lnTo>
                  <a:lnTo>
                    <a:pt x="0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30880" y="1998360"/>
              <a:ext cx="1080" cy="3096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0" y="4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23"/>
                  </a:lnTo>
                  <a:lnTo>
                    <a:pt x="0" y="4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30880" y="1998360"/>
              <a:ext cx="28440" cy="3996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0" y="5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43320" y="202824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96240" y="202824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60240" y="202824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77520" y="202824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24600" y="202824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04440" y="202824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70240" y="2021760"/>
              <a:ext cx="158760" cy="23040"/>
            </a:xfrm>
            <a:custGeom>
              <a:avLst/>
              <a:gdLst/>
              <a:ahLst/>
              <a:rect l="l" t="t" r="r" b="b"/>
              <a:pathLst>
                <a:path w="111" h="18">
                  <a:moveTo>
                    <a:pt x="0" y="12"/>
                  </a:moveTo>
                  <a:lnTo>
                    <a:pt x="5" y="0"/>
                  </a:lnTo>
                  <a:lnTo>
                    <a:pt x="107" y="0"/>
                  </a:lnTo>
                  <a:lnTo>
                    <a:pt x="11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97760" y="1991880"/>
              <a:ext cx="28440" cy="4536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0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9" y="2"/>
                  </a:lnTo>
                  <a:lnTo>
                    <a:pt x="9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34"/>
                  </a:lnTo>
                  <a:lnTo>
                    <a:pt x="0" y="5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97760" y="1991880"/>
              <a:ext cx="28440" cy="5292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6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55000" y="2004840"/>
              <a:ext cx="2844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3"/>
                  </a:moveTo>
                  <a:lnTo>
                    <a:pt x="1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17"/>
                  </a:lnTo>
                  <a:lnTo>
                    <a:pt x="19" y="17"/>
                  </a:lnTo>
                  <a:lnTo>
                    <a:pt x="19" y="3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57880" y="2004840"/>
              <a:ext cx="32760" cy="2844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4"/>
                  </a:moveTo>
                  <a:lnTo>
                    <a:pt x="0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62120" y="2017800"/>
              <a:ext cx="2844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62120" y="2009880"/>
              <a:ext cx="28440" cy="244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8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62120" y="2009880"/>
              <a:ext cx="28440" cy="244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62120" y="2002320"/>
              <a:ext cx="28440" cy="230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62120" y="2002320"/>
              <a:ext cx="28440" cy="230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62120" y="1994400"/>
              <a:ext cx="28440" cy="244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8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62120" y="1993320"/>
              <a:ext cx="28440" cy="241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193280" y="1956960"/>
              <a:ext cx="125640" cy="234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87" y="0"/>
                  </a:moveTo>
                  <a:lnTo>
                    <a:pt x="87" y="9"/>
                  </a:lnTo>
                  <a:lnTo>
                    <a:pt x="1" y="17"/>
                  </a:lnTo>
                  <a:lnTo>
                    <a:pt x="0" y="9"/>
                  </a:lnTo>
                  <a:lnTo>
                    <a:pt x="87" y="0"/>
                  </a:lnTo>
                </a:path>
              </a:pathLst>
            </a:custGeom>
            <a:solidFill>
              <a:srgbClr val="a08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193280" y="1956960"/>
              <a:ext cx="137160" cy="23400"/>
            </a:xfrm>
            <a:custGeom>
              <a:avLst/>
              <a:gdLst/>
              <a:ahLst/>
              <a:rect l="l" t="t" r="r" b="b"/>
              <a:pathLst>
                <a:path w="96" h="18">
                  <a:moveTo>
                    <a:pt x="95" y="0"/>
                  </a:moveTo>
                  <a:lnTo>
                    <a:pt x="95" y="9"/>
                  </a:lnTo>
                  <a:lnTo>
                    <a:pt x="1" y="17"/>
                  </a:lnTo>
                  <a:lnTo>
                    <a:pt x="0" y="9"/>
                  </a:lnTo>
                  <a:lnTo>
                    <a:pt x="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246200" y="1937520"/>
              <a:ext cx="29520" cy="255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0" y="0"/>
                  </a:moveTo>
                  <a:lnTo>
                    <a:pt x="20" y="3"/>
                  </a:lnTo>
                  <a:lnTo>
                    <a:pt x="20" y="8"/>
                  </a:lnTo>
                  <a:lnTo>
                    <a:pt x="10" y="8"/>
                  </a:lnTo>
                  <a:lnTo>
                    <a:pt x="5" y="17"/>
                  </a:lnTo>
                  <a:lnTo>
                    <a:pt x="0" y="19"/>
                  </a:lnTo>
                  <a:lnTo>
                    <a:pt x="1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246200" y="1937520"/>
              <a:ext cx="29520" cy="3492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0" y="0"/>
                  </a:moveTo>
                  <a:lnTo>
                    <a:pt x="20" y="4"/>
                  </a:lnTo>
                  <a:lnTo>
                    <a:pt x="20" y="11"/>
                  </a:lnTo>
                  <a:lnTo>
                    <a:pt x="10" y="11"/>
                  </a:lnTo>
                  <a:lnTo>
                    <a:pt x="5" y="24"/>
                  </a:lnTo>
                  <a:lnTo>
                    <a:pt x="0" y="26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236120" y="1937520"/>
              <a:ext cx="29880" cy="255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9" y="2"/>
                  </a:moveTo>
                  <a:lnTo>
                    <a:pt x="20" y="0"/>
                  </a:lnTo>
                  <a:lnTo>
                    <a:pt x="9" y="17"/>
                  </a:lnTo>
                  <a:lnTo>
                    <a:pt x="0" y="19"/>
                  </a:lnTo>
                  <a:lnTo>
                    <a:pt x="9" y="2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236120" y="1937520"/>
              <a:ext cx="29880" cy="3492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9" y="2"/>
                  </a:moveTo>
                  <a:lnTo>
                    <a:pt x="20" y="0"/>
                  </a:lnTo>
                  <a:lnTo>
                    <a:pt x="9" y="24"/>
                  </a:lnTo>
                  <a:lnTo>
                    <a:pt x="0" y="26"/>
                  </a:lnTo>
                  <a:lnTo>
                    <a:pt x="9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290480" y="1925640"/>
              <a:ext cx="28440" cy="334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9" y="2"/>
                  </a:moveTo>
                  <a:lnTo>
                    <a:pt x="19" y="0"/>
                  </a:lnTo>
                  <a:lnTo>
                    <a:pt x="9" y="23"/>
                  </a:lnTo>
                  <a:lnTo>
                    <a:pt x="0" y="25"/>
                  </a:lnTo>
                  <a:lnTo>
                    <a:pt x="9" y="2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290480" y="1925640"/>
              <a:ext cx="31320" cy="4284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0" y="2"/>
                  </a:moveTo>
                  <a:lnTo>
                    <a:pt x="21" y="0"/>
                  </a:lnTo>
                  <a:lnTo>
                    <a:pt x="10" y="30"/>
                  </a:lnTo>
                  <a:lnTo>
                    <a:pt x="0" y="32"/>
                  </a:lnTo>
                  <a:lnTo>
                    <a:pt x="1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304880" y="1927080"/>
              <a:ext cx="29520" cy="309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9" y="0"/>
                  </a:moveTo>
                  <a:lnTo>
                    <a:pt x="0" y="23"/>
                  </a:lnTo>
                  <a:lnTo>
                    <a:pt x="3" y="20"/>
                  </a:lnTo>
                  <a:lnTo>
                    <a:pt x="9" y="10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304880" y="1927080"/>
              <a:ext cx="29520" cy="3996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9" y="0"/>
                  </a:moveTo>
                  <a:lnTo>
                    <a:pt x="0" y="30"/>
                  </a:lnTo>
                  <a:lnTo>
                    <a:pt x="4" y="26"/>
                  </a:lnTo>
                  <a:lnTo>
                    <a:pt x="9" y="14"/>
                  </a:lnTo>
                  <a:lnTo>
                    <a:pt x="20" y="13"/>
                  </a:lnTo>
                  <a:lnTo>
                    <a:pt x="20" y="5"/>
                  </a:lnTo>
                  <a:lnTo>
                    <a:pt x="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98680" y="1977840"/>
              <a:ext cx="38520" cy="2448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0" y="11"/>
                  </a:moveTo>
                  <a:lnTo>
                    <a:pt x="22" y="18"/>
                  </a:lnTo>
                  <a:lnTo>
                    <a:pt x="26" y="5"/>
                  </a:lnTo>
                  <a:lnTo>
                    <a:pt x="2" y="0"/>
                  </a:lnTo>
                  <a:lnTo>
                    <a:pt x="0" y="11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98680" y="1982520"/>
              <a:ext cx="48600" cy="2340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5"/>
                  </a:moveTo>
                  <a:lnTo>
                    <a:pt x="29" y="0"/>
                  </a:lnTo>
                  <a:lnTo>
                    <a:pt x="33" y="10"/>
                  </a:lnTo>
                  <a:lnTo>
                    <a:pt x="2" y="17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93280" y="1983960"/>
              <a:ext cx="28440" cy="5292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19" y="40"/>
                  </a:moveTo>
                  <a:lnTo>
                    <a:pt x="19" y="0"/>
                  </a:lnTo>
                  <a:lnTo>
                    <a:pt x="0" y="2"/>
                  </a:lnTo>
                  <a:lnTo>
                    <a:pt x="0" y="40"/>
                  </a:lnTo>
                  <a:lnTo>
                    <a:pt x="19" y="40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197240" y="1983960"/>
              <a:ext cx="28440" cy="6048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0" y="46"/>
                  </a:moveTo>
                  <a:lnTo>
                    <a:pt x="0" y="0"/>
                  </a:lnTo>
                  <a:lnTo>
                    <a:pt x="19" y="2"/>
                  </a:lnTo>
                  <a:lnTo>
                    <a:pt x="19" y="46"/>
                  </a:lnTo>
                  <a:lnTo>
                    <a:pt x="0" y="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234680" y="1982520"/>
              <a:ext cx="28440" cy="5580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19" y="42"/>
                  </a:moveTo>
                  <a:lnTo>
                    <a:pt x="19" y="0"/>
                  </a:lnTo>
                  <a:lnTo>
                    <a:pt x="0" y="2"/>
                  </a:lnTo>
                  <a:lnTo>
                    <a:pt x="0" y="42"/>
                  </a:lnTo>
                  <a:lnTo>
                    <a:pt x="19" y="42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241880" y="1982520"/>
              <a:ext cx="29520" cy="6336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0" y="48"/>
                  </a:moveTo>
                  <a:lnTo>
                    <a:pt x="0" y="0"/>
                  </a:lnTo>
                  <a:lnTo>
                    <a:pt x="20" y="2"/>
                  </a:lnTo>
                  <a:lnTo>
                    <a:pt x="20" y="48"/>
                  </a:lnTo>
                  <a:lnTo>
                    <a:pt x="0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241880" y="1976040"/>
              <a:ext cx="51120" cy="244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9"/>
                  </a:moveTo>
                  <a:lnTo>
                    <a:pt x="30" y="18"/>
                  </a:lnTo>
                  <a:lnTo>
                    <a:pt x="35" y="0"/>
                  </a:lnTo>
                  <a:lnTo>
                    <a:pt x="2" y="0"/>
                  </a:lnTo>
                  <a:lnTo>
                    <a:pt x="0" y="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241880" y="1978920"/>
              <a:ext cx="59760" cy="2448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9"/>
                  </a:moveTo>
                  <a:lnTo>
                    <a:pt x="35" y="0"/>
                  </a:lnTo>
                  <a:lnTo>
                    <a:pt x="41" y="13"/>
                  </a:lnTo>
                  <a:lnTo>
                    <a:pt x="3" y="18"/>
                  </a:lnTo>
                  <a:lnTo>
                    <a:pt x="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290480" y="1978920"/>
              <a:ext cx="28440" cy="5940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9" y="45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0" y="45"/>
                  </a:lnTo>
                  <a:lnTo>
                    <a:pt x="19" y="45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294800" y="1978920"/>
              <a:ext cx="31320" cy="6696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51"/>
                  </a:moveTo>
                  <a:lnTo>
                    <a:pt x="0" y="0"/>
                  </a:lnTo>
                  <a:lnTo>
                    <a:pt x="21" y="3"/>
                  </a:lnTo>
                  <a:lnTo>
                    <a:pt x="21" y="51"/>
                  </a:lnTo>
                  <a:lnTo>
                    <a:pt x="0" y="5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3033360" y="985680"/>
            <a:ext cx="64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LL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(TOTA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25760" y="1370160"/>
            <a:ext cx="7048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GU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ICHA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(TOTA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507840" y="1778040"/>
            <a:ext cx="7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LA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L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24800" y="1246320"/>
            <a:ext cx="1085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ENTRO OES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5873760" y="3079800"/>
            <a:ext cx="191880" cy="237600"/>
            <a:chOff x="5873760" y="3079800"/>
            <a:chExt cx="191880" cy="237600"/>
          </a:xfrm>
        </p:grpSpPr>
        <p:sp>
          <p:nvSpPr>
            <p:cNvPr id="721" name=""/>
            <p:cNvSpPr/>
            <p:nvPr/>
          </p:nvSpPr>
          <p:spPr>
            <a:xfrm>
              <a:off x="5873760" y="3178440"/>
              <a:ext cx="80280" cy="138960"/>
            </a:xfrm>
            <a:custGeom>
              <a:avLst/>
              <a:gdLst/>
              <a:ahLst/>
              <a:rect l="l" t="t" r="r" b="b"/>
              <a:pathLst>
                <a:path w="57" h="107">
                  <a:moveTo>
                    <a:pt x="4" y="103"/>
                  </a:moveTo>
                  <a:lnTo>
                    <a:pt x="10" y="106"/>
                  </a:lnTo>
                  <a:lnTo>
                    <a:pt x="56" y="4"/>
                  </a:lnTo>
                  <a:lnTo>
                    <a:pt x="45" y="0"/>
                  </a:lnTo>
                  <a:lnTo>
                    <a:pt x="0" y="101"/>
                  </a:lnTo>
                  <a:lnTo>
                    <a:pt x="4" y="103"/>
                  </a:lnTo>
                </a:path>
              </a:pathLst>
            </a:custGeom>
            <a:solidFill>
              <a:srgbClr val="000000"/>
            </a:solidFill>
            <a:ln cap="rnd"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963400" y="3180240"/>
              <a:ext cx="30600" cy="134280"/>
            </a:xfrm>
            <a:custGeom>
              <a:avLst/>
              <a:gdLst/>
              <a:ahLst/>
              <a:rect l="l" t="t" r="r" b="b"/>
              <a:pathLst>
                <a:path w="22" h="103">
                  <a:moveTo>
                    <a:pt x="7" y="102"/>
                  </a:moveTo>
                  <a:lnTo>
                    <a:pt x="21" y="10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02"/>
                  </a:lnTo>
                  <a:lnTo>
                    <a:pt x="7" y="102"/>
                  </a:lnTo>
                </a:path>
              </a:pathLst>
            </a:custGeom>
            <a:solidFill>
              <a:srgbClr val="000000"/>
            </a:solidFill>
            <a:ln cap="rnd"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983560" y="3178440"/>
              <a:ext cx="82080" cy="138960"/>
            </a:xfrm>
            <a:custGeom>
              <a:avLst/>
              <a:gdLst/>
              <a:ahLst/>
              <a:rect l="l" t="t" r="r" b="b"/>
              <a:pathLst>
                <a:path w="58" h="107">
                  <a:moveTo>
                    <a:pt x="51" y="103"/>
                  </a:moveTo>
                  <a:lnTo>
                    <a:pt x="57" y="10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44" y="106"/>
                  </a:lnTo>
                  <a:lnTo>
                    <a:pt x="51" y="103"/>
                  </a:lnTo>
                </a:path>
              </a:pathLst>
            </a:custGeom>
            <a:solidFill>
              <a:srgbClr val="000000"/>
            </a:solidFill>
            <a:ln cap="rnd"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910840" y="3113640"/>
              <a:ext cx="43200" cy="62280"/>
            </a:xfrm>
            <a:custGeom>
              <a:avLst/>
              <a:gdLst/>
              <a:ahLst/>
              <a:rect l="l" t="t" r="r" b="b"/>
              <a:pathLst>
                <a:path w="30" h="47">
                  <a:moveTo>
                    <a:pt x="20" y="33"/>
                  </a:moveTo>
                  <a:lnTo>
                    <a:pt x="29" y="31"/>
                  </a:lnTo>
                  <a:lnTo>
                    <a:pt x="6" y="0"/>
                  </a:lnTo>
                  <a:lnTo>
                    <a:pt x="0" y="5"/>
                  </a:lnTo>
                  <a:lnTo>
                    <a:pt x="20" y="36"/>
                  </a:lnTo>
                  <a:lnTo>
                    <a:pt x="29" y="35"/>
                  </a:lnTo>
                  <a:lnTo>
                    <a:pt x="20" y="36"/>
                  </a:lnTo>
                  <a:lnTo>
                    <a:pt x="25" y="46"/>
                  </a:lnTo>
                  <a:lnTo>
                    <a:pt x="29" y="35"/>
                  </a:lnTo>
                  <a:lnTo>
                    <a:pt x="20" y="33"/>
                  </a:lnTo>
                </a:path>
              </a:pathLst>
            </a:custGeom>
            <a:solidFill>
              <a:srgbClr val="000000"/>
            </a:solidFill>
            <a:ln cap="rnd"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947920" y="3093120"/>
              <a:ext cx="29160" cy="6624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20" y="14"/>
                  </a:moveTo>
                  <a:lnTo>
                    <a:pt x="10" y="14"/>
                  </a:lnTo>
                  <a:lnTo>
                    <a:pt x="0" y="46"/>
                  </a:lnTo>
                  <a:lnTo>
                    <a:pt x="6" y="50"/>
                  </a:lnTo>
                  <a:lnTo>
                    <a:pt x="20" y="19"/>
                  </a:lnTo>
                  <a:lnTo>
                    <a:pt x="10" y="19"/>
                  </a:lnTo>
                  <a:lnTo>
                    <a:pt x="20" y="14"/>
                  </a:lnTo>
                  <a:lnTo>
                    <a:pt x="14" y="0"/>
                  </a:lnTo>
                  <a:lnTo>
                    <a:pt x="10" y="14"/>
                  </a:lnTo>
                  <a:lnTo>
                    <a:pt x="20" y="14"/>
                  </a:lnTo>
                </a:path>
              </a:pathLst>
            </a:custGeom>
            <a:solidFill>
              <a:srgbClr val="000000"/>
            </a:solidFill>
            <a:ln cap="rnd"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963400" y="3115080"/>
              <a:ext cx="30600" cy="604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11" y="30"/>
                  </a:moveTo>
                  <a:lnTo>
                    <a:pt x="21" y="32"/>
                  </a:lnTo>
                  <a:lnTo>
                    <a:pt x="9" y="0"/>
                  </a:lnTo>
                  <a:lnTo>
                    <a:pt x="0" y="4"/>
                  </a:lnTo>
                  <a:lnTo>
                    <a:pt x="11" y="34"/>
                  </a:lnTo>
                  <a:lnTo>
                    <a:pt x="21" y="36"/>
                  </a:lnTo>
                  <a:lnTo>
                    <a:pt x="11" y="34"/>
                  </a:lnTo>
                  <a:lnTo>
                    <a:pt x="14" y="45"/>
                  </a:lnTo>
                  <a:lnTo>
                    <a:pt x="21" y="36"/>
                  </a:lnTo>
                  <a:lnTo>
                    <a:pt x="11" y="30"/>
                  </a:lnTo>
                </a:path>
              </a:pathLst>
            </a:custGeom>
            <a:solidFill>
              <a:srgbClr val="000000"/>
            </a:solidFill>
            <a:ln cap="rnd"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985000" y="3113640"/>
              <a:ext cx="44640" cy="4860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24" y="3"/>
                  </a:moveTo>
                  <a:lnTo>
                    <a:pt x="21" y="0"/>
                  </a:lnTo>
                  <a:lnTo>
                    <a:pt x="0" y="30"/>
                  </a:lnTo>
                  <a:lnTo>
                    <a:pt x="7" y="37"/>
                  </a:lnTo>
                  <a:lnTo>
                    <a:pt x="30" y="5"/>
                  </a:lnTo>
                  <a:lnTo>
                    <a:pt x="24" y="3"/>
                  </a:lnTo>
                </a:path>
              </a:pathLst>
            </a:custGeom>
            <a:solidFill>
              <a:srgbClr val="000000"/>
            </a:solidFill>
            <a:ln cap="rnd"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874840" y="3079800"/>
              <a:ext cx="77400" cy="5328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47" y="4"/>
                  </a:moveTo>
                  <a:lnTo>
                    <a:pt x="45" y="0"/>
                  </a:lnTo>
                  <a:lnTo>
                    <a:pt x="0" y="31"/>
                  </a:lnTo>
                  <a:lnTo>
                    <a:pt x="6" y="40"/>
                  </a:lnTo>
                  <a:lnTo>
                    <a:pt x="53" y="9"/>
                  </a:lnTo>
                  <a:lnTo>
                    <a:pt x="47" y="4"/>
                  </a:lnTo>
                </a:path>
              </a:pathLst>
            </a:custGeom>
            <a:solidFill>
              <a:srgbClr val="000000"/>
            </a:solidFill>
            <a:ln cap="rnd"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929560" y="3079800"/>
              <a:ext cx="77040" cy="5328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48" y="4"/>
                  </a:moveTo>
                  <a:lnTo>
                    <a:pt x="45" y="0"/>
                  </a:lnTo>
                  <a:lnTo>
                    <a:pt x="0" y="31"/>
                  </a:lnTo>
                  <a:lnTo>
                    <a:pt x="6" y="40"/>
                  </a:lnTo>
                  <a:lnTo>
                    <a:pt x="53" y="9"/>
                  </a:lnTo>
                  <a:lnTo>
                    <a:pt x="48" y="4"/>
                  </a:lnTo>
                </a:path>
              </a:pathLst>
            </a:custGeom>
            <a:solidFill>
              <a:srgbClr val="000000"/>
            </a:solidFill>
            <a:ln cap="rnd"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985000" y="3079800"/>
              <a:ext cx="75600" cy="5328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46" y="4"/>
                  </a:moveTo>
                  <a:lnTo>
                    <a:pt x="43" y="0"/>
                  </a:lnTo>
                  <a:lnTo>
                    <a:pt x="0" y="31"/>
                  </a:lnTo>
                  <a:lnTo>
                    <a:pt x="5" y="40"/>
                  </a:lnTo>
                  <a:lnTo>
                    <a:pt x="51" y="9"/>
                  </a:lnTo>
                  <a:lnTo>
                    <a:pt x="46" y="4"/>
                  </a:lnTo>
                </a:path>
              </a:pathLst>
            </a:custGeom>
            <a:solidFill>
              <a:srgbClr val="000000"/>
            </a:solidFill>
            <a:ln cap="rnd"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190960" y="3968640"/>
            <a:ext cx="1523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ff"/>
                </a:solidFill>
                <a:latin typeface="Arial"/>
              </a:rPr>
              <a:t>LAGO LOS BARRE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582520" y="3767040"/>
            <a:ext cx="101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ff"/>
                </a:solidFill>
                <a:latin typeface="Arial"/>
              </a:rPr>
              <a:t>LAG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ff"/>
                </a:solidFill>
                <a:latin typeface="Arial"/>
              </a:rPr>
              <a:t>MARI MENU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963720" y="2987640"/>
            <a:ext cx="96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ORTEZUE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058440" y="3017880"/>
            <a:ext cx="75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NEUQU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rot="18300000">
            <a:off x="743760" y="2550960"/>
            <a:ext cx="989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ff"/>
                </a:solidFill>
                <a:latin typeface="Arial"/>
              </a:rPr>
              <a:t>RIO NEUQU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rot="1980000">
            <a:off x="6876720" y="3338640"/>
            <a:ext cx="290520" cy="918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4051440" y="5373720"/>
            <a:ext cx="179280" cy="393840"/>
          </a:xfrm>
          <a:prstGeom prst="line">
            <a:avLst/>
          </a:prstGeom>
          <a:ln w="2556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3395520" y="5721480"/>
            <a:ext cx="362160" cy="17280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612160" y="5619600"/>
            <a:ext cx="861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OCTOGO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963960" y="5981760"/>
            <a:ext cx="324000" cy="318960"/>
          </a:xfrm>
          <a:prstGeom prst="line">
            <a:avLst/>
          </a:prstGeom>
          <a:ln w="25560">
            <a:solidFill>
              <a:srgbClr val="ffcc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4035600" y="4822920"/>
            <a:ext cx="97920" cy="412200"/>
            <a:chOff x="4035600" y="4822920"/>
            <a:chExt cx="97920" cy="412200"/>
          </a:xfrm>
        </p:grpSpPr>
        <p:sp>
          <p:nvSpPr>
            <p:cNvPr id="742" name=""/>
            <p:cNvSpPr/>
            <p:nvPr/>
          </p:nvSpPr>
          <p:spPr>
            <a:xfrm>
              <a:off x="4104360" y="5175720"/>
              <a:ext cx="23760" cy="374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16" y="2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104360" y="5175720"/>
              <a:ext cx="23760" cy="374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16" y="2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09760" y="5175720"/>
              <a:ext cx="23760" cy="374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0"/>
                  </a:moveTo>
                  <a:lnTo>
                    <a:pt x="16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109760" y="5175720"/>
              <a:ext cx="23760" cy="374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0"/>
                  </a:moveTo>
                  <a:lnTo>
                    <a:pt x="0" y="28"/>
                  </a:lnTo>
                  <a:lnTo>
                    <a:pt x="16" y="23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102920" y="5182200"/>
              <a:ext cx="23760" cy="3636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0"/>
                  </a:moveTo>
                  <a:lnTo>
                    <a:pt x="16" y="0"/>
                  </a:lnTo>
                  <a:lnTo>
                    <a:pt x="16" y="27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036680" y="5197680"/>
              <a:ext cx="23760" cy="374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0"/>
                  </a:moveTo>
                  <a:lnTo>
                    <a:pt x="16" y="28"/>
                  </a:lnTo>
                  <a:lnTo>
                    <a:pt x="16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087440" y="4822920"/>
              <a:ext cx="23760" cy="3600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6" y="0"/>
                  </a:moveTo>
                  <a:lnTo>
                    <a:pt x="10" y="0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6" y="12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0" y="27"/>
                  </a:lnTo>
                  <a:lnTo>
                    <a:pt x="6" y="27"/>
                  </a:lnTo>
                  <a:lnTo>
                    <a:pt x="3" y="2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7440" y="4822920"/>
              <a:ext cx="23760" cy="3600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7" y="0"/>
                  </a:moveTo>
                  <a:lnTo>
                    <a:pt x="10" y="1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6" y="12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0" y="22"/>
                  </a:lnTo>
                  <a:lnTo>
                    <a:pt x="7" y="27"/>
                  </a:lnTo>
                  <a:lnTo>
                    <a:pt x="4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063680" y="483156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6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6" y="17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6" y="29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63680" y="483156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6" y="0"/>
                  </a:moveTo>
                  <a:lnTo>
                    <a:pt x="10" y="0"/>
                  </a:lnTo>
                  <a:lnTo>
                    <a:pt x="12" y="1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7"/>
                  </a:lnTo>
                  <a:lnTo>
                    <a:pt x="12" y="24"/>
                  </a:lnTo>
                  <a:lnTo>
                    <a:pt x="10" y="29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087440" y="4826520"/>
              <a:ext cx="23760" cy="374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7" y="0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8"/>
                  </a:lnTo>
                  <a:lnTo>
                    <a:pt x="16" y="8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1" y="28"/>
                  </a:lnTo>
                  <a:lnTo>
                    <a:pt x="7" y="28"/>
                  </a:lnTo>
                  <a:lnTo>
                    <a:pt x="4" y="28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063680" y="4833000"/>
              <a:ext cx="23760" cy="39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8" y="0"/>
                  </a:moveTo>
                  <a:lnTo>
                    <a:pt x="9" y="0"/>
                  </a:lnTo>
                  <a:lnTo>
                    <a:pt x="12" y="0"/>
                  </a:lnTo>
                  <a:lnTo>
                    <a:pt x="13" y="8"/>
                  </a:lnTo>
                  <a:lnTo>
                    <a:pt x="16" y="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3" y="30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8"/>
                  </a:lnTo>
                  <a:lnTo>
                    <a:pt x="1" y="0"/>
                  </a:lnTo>
                  <a:lnTo>
                    <a:pt x="3" y="0"/>
                  </a:lnTo>
                  <a:lnTo>
                    <a:pt x="8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087440" y="4839480"/>
              <a:ext cx="2376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7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087440" y="4833000"/>
              <a:ext cx="23760" cy="39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5" y="30"/>
                  </a:moveTo>
                  <a:lnTo>
                    <a:pt x="8" y="30"/>
                  </a:lnTo>
                  <a:lnTo>
                    <a:pt x="11" y="30"/>
                  </a:lnTo>
                  <a:lnTo>
                    <a:pt x="16" y="3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5" y="3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063680" y="4840560"/>
              <a:ext cx="23760" cy="3636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8" y="27"/>
                  </a:moveTo>
                  <a:lnTo>
                    <a:pt x="11" y="27"/>
                  </a:lnTo>
                  <a:lnTo>
                    <a:pt x="16" y="27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8" y="27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67640" y="5034960"/>
              <a:ext cx="23760" cy="98280"/>
            </a:xfrm>
            <a:custGeom>
              <a:avLst/>
              <a:gdLst/>
              <a:ahLst/>
              <a:rect l="l" t="t" r="r" b="b"/>
              <a:pathLst>
                <a:path w="17" h="76">
                  <a:moveTo>
                    <a:pt x="16" y="0"/>
                  </a:moveTo>
                  <a:lnTo>
                    <a:pt x="16" y="75"/>
                  </a:lnTo>
                  <a:lnTo>
                    <a:pt x="0" y="75"/>
                  </a:lnTo>
                  <a:lnTo>
                    <a:pt x="0" y="3"/>
                  </a:lnTo>
                  <a:lnTo>
                    <a:pt x="16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067640" y="5034960"/>
              <a:ext cx="23760" cy="113760"/>
            </a:xfrm>
            <a:custGeom>
              <a:avLst/>
              <a:gdLst/>
              <a:ahLst/>
              <a:rect l="l" t="t" r="r" b="b"/>
              <a:pathLst>
                <a:path w="17" h="88">
                  <a:moveTo>
                    <a:pt x="16" y="0"/>
                  </a:moveTo>
                  <a:lnTo>
                    <a:pt x="16" y="87"/>
                  </a:lnTo>
                  <a:lnTo>
                    <a:pt x="0" y="87"/>
                  </a:lnTo>
                  <a:lnTo>
                    <a:pt x="0" y="3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74840" y="5034960"/>
              <a:ext cx="1440" cy="1252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74840" y="5034960"/>
              <a:ext cx="23760" cy="140760"/>
            </a:xfrm>
            <a:custGeom>
              <a:avLst/>
              <a:gdLst/>
              <a:ahLst/>
              <a:rect l="l" t="t" r="r" b="b"/>
              <a:pathLst>
                <a:path w="17" h="109">
                  <a:moveTo>
                    <a:pt x="0" y="0"/>
                  </a:moveTo>
                  <a:lnTo>
                    <a:pt x="16" y="0"/>
                  </a:lnTo>
                  <a:lnTo>
                    <a:pt x="16" y="108"/>
                  </a:lnTo>
                  <a:lnTo>
                    <a:pt x="0" y="86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057920" y="5045040"/>
              <a:ext cx="23760" cy="114840"/>
            </a:xfrm>
            <a:custGeom>
              <a:avLst/>
              <a:gdLst/>
              <a:ahLst/>
              <a:rect l="l" t="t" r="r" b="b"/>
              <a:pathLst>
                <a:path w="17" h="89">
                  <a:moveTo>
                    <a:pt x="0" y="0"/>
                  </a:moveTo>
                  <a:lnTo>
                    <a:pt x="0" y="68"/>
                  </a:lnTo>
                  <a:lnTo>
                    <a:pt x="16" y="88"/>
                  </a:lnTo>
                  <a:lnTo>
                    <a:pt x="16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057920" y="5045040"/>
              <a:ext cx="23760" cy="130320"/>
            </a:xfrm>
            <a:custGeom>
              <a:avLst/>
              <a:gdLst/>
              <a:ahLst/>
              <a:rect l="l" t="t" r="r" b="b"/>
              <a:pathLst>
                <a:path w="17" h="101">
                  <a:moveTo>
                    <a:pt x="0" y="0"/>
                  </a:moveTo>
                  <a:lnTo>
                    <a:pt x="0" y="77"/>
                  </a:lnTo>
                  <a:lnTo>
                    <a:pt x="16" y="100"/>
                  </a:lnTo>
                  <a:lnTo>
                    <a:pt x="16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052160" y="5047920"/>
              <a:ext cx="23760" cy="9180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0" y="3"/>
                  </a:moveTo>
                  <a:lnTo>
                    <a:pt x="16" y="0"/>
                  </a:lnTo>
                  <a:lnTo>
                    <a:pt x="16" y="66"/>
                  </a:lnTo>
                  <a:lnTo>
                    <a:pt x="0" y="70"/>
                  </a:lnTo>
                  <a:lnTo>
                    <a:pt x="0" y="3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52160" y="5047920"/>
              <a:ext cx="23760" cy="103320"/>
            </a:xfrm>
            <a:custGeom>
              <a:avLst/>
              <a:gdLst/>
              <a:ahLst/>
              <a:rect l="l" t="t" r="r" b="b"/>
              <a:pathLst>
                <a:path w="17" h="80">
                  <a:moveTo>
                    <a:pt x="0" y="3"/>
                  </a:moveTo>
                  <a:lnTo>
                    <a:pt x="16" y="0"/>
                  </a:lnTo>
                  <a:lnTo>
                    <a:pt x="16" y="75"/>
                  </a:lnTo>
                  <a:lnTo>
                    <a:pt x="0" y="79"/>
                  </a:lnTo>
                  <a:lnTo>
                    <a:pt x="0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064760" y="5043960"/>
              <a:ext cx="23760" cy="4896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0" y="1"/>
                  </a:moveTo>
                  <a:lnTo>
                    <a:pt x="16" y="0"/>
                  </a:lnTo>
                  <a:lnTo>
                    <a:pt x="16" y="37"/>
                  </a:lnTo>
                  <a:lnTo>
                    <a:pt x="0" y="37"/>
                  </a:lnTo>
                  <a:lnTo>
                    <a:pt x="0" y="1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064760" y="5043960"/>
              <a:ext cx="23760" cy="619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0" y="1"/>
                  </a:moveTo>
                  <a:lnTo>
                    <a:pt x="16" y="0"/>
                  </a:lnTo>
                  <a:lnTo>
                    <a:pt x="16" y="47"/>
                  </a:lnTo>
                  <a:lnTo>
                    <a:pt x="0" y="47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064760" y="510336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9" y="0"/>
                  </a:lnTo>
                  <a:lnTo>
                    <a:pt x="16" y="29"/>
                  </a:lnTo>
                  <a:lnTo>
                    <a:pt x="7" y="29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064760" y="510336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8" y="0"/>
                  </a:lnTo>
                  <a:lnTo>
                    <a:pt x="16" y="29"/>
                  </a:lnTo>
                  <a:lnTo>
                    <a:pt x="7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070520" y="5043960"/>
              <a:ext cx="23760" cy="8100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6" y="62"/>
                  </a:moveTo>
                  <a:lnTo>
                    <a:pt x="16" y="1"/>
                  </a:lnTo>
                  <a:lnTo>
                    <a:pt x="0" y="0"/>
                  </a:lnTo>
                  <a:lnTo>
                    <a:pt x="0" y="39"/>
                  </a:lnTo>
                  <a:lnTo>
                    <a:pt x="16" y="62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070520" y="5043960"/>
              <a:ext cx="23760" cy="95400"/>
            </a:xfrm>
            <a:custGeom>
              <a:avLst/>
              <a:gdLst/>
              <a:ahLst/>
              <a:rect l="l" t="t" r="r" b="b"/>
              <a:pathLst>
                <a:path w="17" h="74">
                  <a:moveTo>
                    <a:pt x="16" y="73"/>
                  </a:moveTo>
                  <a:lnTo>
                    <a:pt x="16" y="1"/>
                  </a:lnTo>
                  <a:lnTo>
                    <a:pt x="0" y="0"/>
                  </a:lnTo>
                  <a:lnTo>
                    <a:pt x="0" y="47"/>
                  </a:lnTo>
                  <a:lnTo>
                    <a:pt x="16" y="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049640" y="5107320"/>
              <a:ext cx="23760" cy="38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5" y="29"/>
                  </a:moveTo>
                  <a:lnTo>
                    <a:pt x="16" y="29"/>
                  </a:lnTo>
                  <a:lnTo>
                    <a:pt x="8" y="0"/>
                  </a:lnTo>
                  <a:lnTo>
                    <a:pt x="0" y="0"/>
                  </a:lnTo>
                  <a:lnTo>
                    <a:pt x="5" y="2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049640" y="5107320"/>
              <a:ext cx="23760" cy="38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6" y="29"/>
                  </a:moveTo>
                  <a:lnTo>
                    <a:pt x="16" y="29"/>
                  </a:lnTo>
                  <a:lnTo>
                    <a:pt x="8" y="0"/>
                  </a:lnTo>
                  <a:lnTo>
                    <a:pt x="0" y="0"/>
                  </a:lnTo>
                  <a:lnTo>
                    <a:pt x="6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049640" y="5064480"/>
              <a:ext cx="23760" cy="3636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7"/>
                  </a:moveTo>
                  <a:lnTo>
                    <a:pt x="16" y="27"/>
                  </a:lnTo>
                  <a:lnTo>
                    <a:pt x="16" y="0"/>
                  </a:lnTo>
                  <a:lnTo>
                    <a:pt x="0" y="1"/>
                  </a:lnTo>
                  <a:lnTo>
                    <a:pt x="0" y="27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049640" y="5064480"/>
              <a:ext cx="23760" cy="4392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33"/>
                  </a:moveTo>
                  <a:lnTo>
                    <a:pt x="13" y="33"/>
                  </a:lnTo>
                  <a:lnTo>
                    <a:pt x="16" y="0"/>
                  </a:lnTo>
                  <a:lnTo>
                    <a:pt x="0" y="3"/>
                  </a:lnTo>
                  <a:lnTo>
                    <a:pt x="0" y="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053600" y="5067360"/>
              <a:ext cx="1080" cy="59400"/>
            </a:xfrm>
            <a:custGeom>
              <a:avLst/>
              <a:gdLst/>
              <a:ahLst/>
              <a:rect l="l" t="t" r="r" b="b"/>
              <a:pathLst>
                <a:path w="1" h="46">
                  <a:moveTo>
                    <a:pt x="0" y="0"/>
                  </a:moveTo>
                  <a:lnTo>
                    <a:pt x="0" y="25"/>
                  </a:lnTo>
                  <a:lnTo>
                    <a:pt x="0" y="45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053600" y="5067360"/>
              <a:ext cx="23760" cy="7488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0" y="0"/>
                  </a:moveTo>
                  <a:lnTo>
                    <a:pt x="0" y="30"/>
                  </a:lnTo>
                  <a:lnTo>
                    <a:pt x="16" y="57"/>
                  </a:lnTo>
                  <a:lnTo>
                    <a:pt x="16" y="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043880" y="5073840"/>
              <a:ext cx="23760" cy="38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6" y="0"/>
                  </a:moveTo>
                  <a:lnTo>
                    <a:pt x="16" y="16"/>
                  </a:lnTo>
                  <a:lnTo>
                    <a:pt x="0" y="29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a08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043880" y="5073840"/>
              <a:ext cx="23760" cy="38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6" y="0"/>
                  </a:moveTo>
                  <a:lnTo>
                    <a:pt x="16" y="16"/>
                  </a:lnTo>
                  <a:lnTo>
                    <a:pt x="0" y="29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061880" y="5043960"/>
              <a:ext cx="23760" cy="3960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8" y="0"/>
                  </a:moveTo>
                  <a:lnTo>
                    <a:pt x="16" y="3"/>
                  </a:lnTo>
                  <a:lnTo>
                    <a:pt x="16" y="11"/>
                  </a:lnTo>
                  <a:lnTo>
                    <a:pt x="9" y="12"/>
                  </a:lnTo>
                  <a:lnTo>
                    <a:pt x="5" y="26"/>
                  </a:lnTo>
                  <a:lnTo>
                    <a:pt x="0" y="30"/>
                  </a:lnTo>
                  <a:lnTo>
                    <a:pt x="8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61880" y="5043960"/>
              <a:ext cx="23760" cy="525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8" y="0"/>
                  </a:moveTo>
                  <a:lnTo>
                    <a:pt x="16" y="4"/>
                  </a:lnTo>
                  <a:lnTo>
                    <a:pt x="16" y="16"/>
                  </a:lnTo>
                  <a:lnTo>
                    <a:pt x="8" y="17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056480" y="5042520"/>
              <a:ext cx="23760" cy="410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8" y="3"/>
                  </a:moveTo>
                  <a:lnTo>
                    <a:pt x="16" y="0"/>
                  </a:lnTo>
                  <a:lnTo>
                    <a:pt x="6" y="31"/>
                  </a:lnTo>
                  <a:lnTo>
                    <a:pt x="0" y="31"/>
                  </a:lnTo>
                  <a:lnTo>
                    <a:pt x="8" y="3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056480" y="5042520"/>
              <a:ext cx="23760" cy="5400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8" y="3"/>
                  </a:moveTo>
                  <a:lnTo>
                    <a:pt x="16" y="0"/>
                  </a:lnTo>
                  <a:lnTo>
                    <a:pt x="6" y="41"/>
                  </a:lnTo>
                  <a:lnTo>
                    <a:pt x="0" y="41"/>
                  </a:lnTo>
                  <a:lnTo>
                    <a:pt x="8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045320" y="5107320"/>
              <a:ext cx="23760" cy="38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17"/>
                  </a:moveTo>
                  <a:lnTo>
                    <a:pt x="14" y="29"/>
                  </a:lnTo>
                  <a:lnTo>
                    <a:pt x="16" y="0"/>
                  </a:lnTo>
                  <a:lnTo>
                    <a:pt x="1" y="0"/>
                  </a:lnTo>
                  <a:lnTo>
                    <a:pt x="0" y="17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045320" y="5114880"/>
              <a:ext cx="23760" cy="3636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7"/>
                  </a:moveTo>
                  <a:lnTo>
                    <a:pt x="14" y="0"/>
                  </a:lnTo>
                  <a:lnTo>
                    <a:pt x="16" y="27"/>
                  </a:lnTo>
                  <a:lnTo>
                    <a:pt x="1" y="2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059360" y="5104800"/>
              <a:ext cx="23760" cy="39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15"/>
                  </a:moveTo>
                  <a:lnTo>
                    <a:pt x="14" y="30"/>
                  </a:lnTo>
                  <a:lnTo>
                    <a:pt x="16" y="0"/>
                  </a:lnTo>
                  <a:lnTo>
                    <a:pt x="1" y="0"/>
                  </a:lnTo>
                  <a:lnTo>
                    <a:pt x="0" y="15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059360" y="5111280"/>
              <a:ext cx="23760" cy="374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13"/>
                  </a:moveTo>
                  <a:lnTo>
                    <a:pt x="13" y="0"/>
                  </a:lnTo>
                  <a:lnTo>
                    <a:pt x="16" y="19"/>
                  </a:lnTo>
                  <a:lnTo>
                    <a:pt x="1" y="28"/>
                  </a:lnTo>
                  <a:lnTo>
                    <a:pt x="0" y="1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087440" y="4822920"/>
              <a:ext cx="23760" cy="371160"/>
            </a:xfrm>
            <a:custGeom>
              <a:avLst/>
              <a:gdLst/>
              <a:ahLst/>
              <a:rect l="l" t="t" r="r" b="b"/>
              <a:pathLst>
                <a:path w="17" h="287">
                  <a:moveTo>
                    <a:pt x="0" y="0"/>
                  </a:moveTo>
                  <a:lnTo>
                    <a:pt x="16" y="0"/>
                  </a:lnTo>
                  <a:lnTo>
                    <a:pt x="16" y="286"/>
                  </a:lnTo>
                  <a:lnTo>
                    <a:pt x="0" y="28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87440" y="4822920"/>
              <a:ext cx="23760" cy="384120"/>
            </a:xfrm>
            <a:custGeom>
              <a:avLst/>
              <a:gdLst/>
              <a:ahLst/>
              <a:rect l="l" t="t" r="r" b="b"/>
              <a:pathLst>
                <a:path w="17" h="297">
                  <a:moveTo>
                    <a:pt x="0" y="0"/>
                  </a:moveTo>
                  <a:lnTo>
                    <a:pt x="16" y="0"/>
                  </a:lnTo>
                  <a:lnTo>
                    <a:pt x="16" y="296"/>
                  </a:lnTo>
                  <a:lnTo>
                    <a:pt x="0" y="296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087440" y="4822920"/>
              <a:ext cx="23760" cy="367200"/>
            </a:xfrm>
            <a:custGeom>
              <a:avLst/>
              <a:gdLst/>
              <a:ahLst/>
              <a:rect l="l" t="t" r="r" b="b"/>
              <a:pathLst>
                <a:path w="17" h="284">
                  <a:moveTo>
                    <a:pt x="0" y="0"/>
                  </a:moveTo>
                  <a:lnTo>
                    <a:pt x="16" y="0"/>
                  </a:lnTo>
                  <a:lnTo>
                    <a:pt x="16" y="283"/>
                  </a:lnTo>
                  <a:lnTo>
                    <a:pt x="0" y="283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061880" y="4833000"/>
              <a:ext cx="23760" cy="372600"/>
            </a:xfrm>
            <a:custGeom>
              <a:avLst/>
              <a:gdLst/>
              <a:ahLst/>
              <a:rect l="l" t="t" r="r" b="b"/>
              <a:pathLst>
                <a:path w="17" h="288">
                  <a:moveTo>
                    <a:pt x="0" y="0"/>
                  </a:moveTo>
                  <a:lnTo>
                    <a:pt x="16" y="0"/>
                  </a:lnTo>
                  <a:lnTo>
                    <a:pt x="16" y="287"/>
                  </a:lnTo>
                  <a:lnTo>
                    <a:pt x="0" y="28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061880" y="4833000"/>
              <a:ext cx="23760" cy="385560"/>
            </a:xfrm>
            <a:custGeom>
              <a:avLst/>
              <a:gdLst/>
              <a:ahLst/>
              <a:rect l="l" t="t" r="r" b="b"/>
              <a:pathLst>
                <a:path w="17" h="298">
                  <a:moveTo>
                    <a:pt x="0" y="0"/>
                  </a:moveTo>
                  <a:lnTo>
                    <a:pt x="16" y="0"/>
                  </a:lnTo>
                  <a:lnTo>
                    <a:pt x="16" y="297"/>
                  </a:lnTo>
                  <a:lnTo>
                    <a:pt x="0" y="29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63680" y="4833000"/>
              <a:ext cx="23760" cy="369720"/>
            </a:xfrm>
            <a:custGeom>
              <a:avLst/>
              <a:gdLst/>
              <a:ahLst/>
              <a:rect l="l" t="t" r="r" b="b"/>
              <a:pathLst>
                <a:path w="17" h="286">
                  <a:moveTo>
                    <a:pt x="0" y="0"/>
                  </a:moveTo>
                  <a:lnTo>
                    <a:pt x="16" y="0"/>
                  </a:lnTo>
                  <a:lnTo>
                    <a:pt x="16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92840" y="4822920"/>
              <a:ext cx="23760" cy="367200"/>
            </a:xfrm>
            <a:custGeom>
              <a:avLst/>
              <a:gdLst/>
              <a:ahLst/>
              <a:rect l="l" t="t" r="r" b="b"/>
              <a:pathLst>
                <a:path w="17" h="284">
                  <a:moveTo>
                    <a:pt x="0" y="0"/>
                  </a:moveTo>
                  <a:lnTo>
                    <a:pt x="16" y="0"/>
                  </a:lnTo>
                  <a:lnTo>
                    <a:pt x="16" y="283"/>
                  </a:lnTo>
                  <a:lnTo>
                    <a:pt x="0" y="283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063680" y="4833000"/>
              <a:ext cx="23760" cy="369720"/>
            </a:xfrm>
            <a:custGeom>
              <a:avLst/>
              <a:gdLst/>
              <a:ahLst/>
              <a:rect l="l" t="t" r="r" b="b"/>
              <a:pathLst>
                <a:path w="17" h="286">
                  <a:moveTo>
                    <a:pt x="0" y="0"/>
                  </a:moveTo>
                  <a:lnTo>
                    <a:pt x="16" y="0"/>
                  </a:lnTo>
                  <a:lnTo>
                    <a:pt x="16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076280" y="5149800"/>
              <a:ext cx="23760" cy="374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6"/>
                  </a:moveTo>
                  <a:lnTo>
                    <a:pt x="4" y="6"/>
                  </a:lnTo>
                  <a:lnTo>
                    <a:pt x="4" y="1"/>
                  </a:lnTo>
                  <a:lnTo>
                    <a:pt x="8" y="0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3" y="8"/>
                  </a:lnTo>
                  <a:lnTo>
                    <a:pt x="16" y="11"/>
                  </a:lnTo>
                  <a:lnTo>
                    <a:pt x="16" y="28"/>
                  </a:lnTo>
                  <a:lnTo>
                    <a:pt x="0" y="28"/>
                  </a:lnTo>
                  <a:lnTo>
                    <a:pt x="0" y="6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76280" y="5149800"/>
              <a:ext cx="23760" cy="39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6"/>
                  </a:moveTo>
                  <a:lnTo>
                    <a:pt x="4" y="6"/>
                  </a:lnTo>
                  <a:lnTo>
                    <a:pt x="4" y="1"/>
                  </a:lnTo>
                  <a:lnTo>
                    <a:pt x="7" y="0"/>
                  </a:lnTo>
                  <a:lnTo>
                    <a:pt x="7" y="6"/>
                  </a:lnTo>
                  <a:lnTo>
                    <a:pt x="9" y="8"/>
                  </a:lnTo>
                  <a:lnTo>
                    <a:pt x="9" y="3"/>
                  </a:lnTo>
                  <a:lnTo>
                    <a:pt x="13" y="3"/>
                  </a:lnTo>
                  <a:lnTo>
                    <a:pt x="13" y="10"/>
                  </a:lnTo>
                  <a:lnTo>
                    <a:pt x="16" y="11"/>
                  </a:lnTo>
                  <a:lnTo>
                    <a:pt x="16" y="30"/>
                  </a:lnTo>
                  <a:lnTo>
                    <a:pt x="0" y="30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087440" y="5055480"/>
              <a:ext cx="23760" cy="144720"/>
            </a:xfrm>
            <a:custGeom>
              <a:avLst/>
              <a:gdLst/>
              <a:ahLst/>
              <a:rect l="l" t="t" r="r" b="b"/>
              <a:pathLst>
                <a:path w="17" h="112">
                  <a:moveTo>
                    <a:pt x="0" y="0"/>
                  </a:moveTo>
                  <a:lnTo>
                    <a:pt x="5" y="8"/>
                  </a:lnTo>
                  <a:lnTo>
                    <a:pt x="5" y="22"/>
                  </a:lnTo>
                  <a:lnTo>
                    <a:pt x="11" y="27"/>
                  </a:lnTo>
                  <a:lnTo>
                    <a:pt x="11" y="19"/>
                  </a:lnTo>
                  <a:lnTo>
                    <a:pt x="16" y="24"/>
                  </a:lnTo>
                  <a:lnTo>
                    <a:pt x="16" y="101"/>
                  </a:lnTo>
                  <a:lnTo>
                    <a:pt x="0" y="111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087440" y="5055480"/>
              <a:ext cx="23760" cy="157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5" y="9"/>
                  </a:lnTo>
                  <a:lnTo>
                    <a:pt x="5" y="24"/>
                  </a:lnTo>
                  <a:lnTo>
                    <a:pt x="12" y="31"/>
                  </a:lnTo>
                  <a:lnTo>
                    <a:pt x="12" y="21"/>
                  </a:lnTo>
                  <a:lnTo>
                    <a:pt x="16" y="26"/>
                  </a:lnTo>
                  <a:lnTo>
                    <a:pt x="16" y="109"/>
                  </a:lnTo>
                  <a:lnTo>
                    <a:pt x="0" y="12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092840" y="5124240"/>
              <a:ext cx="23760" cy="5940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lnTo>
                    <a:pt x="16" y="4"/>
                  </a:lnTo>
                  <a:lnTo>
                    <a:pt x="16" y="41"/>
                  </a:lnTo>
                  <a:lnTo>
                    <a:pt x="11" y="45"/>
                  </a:lnTo>
                  <a:lnTo>
                    <a:pt x="11" y="6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092840" y="5124240"/>
              <a:ext cx="23760" cy="7488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0" y="0"/>
                  </a:moveTo>
                  <a:lnTo>
                    <a:pt x="16" y="6"/>
                  </a:lnTo>
                  <a:lnTo>
                    <a:pt x="16" y="53"/>
                  </a:lnTo>
                  <a:lnTo>
                    <a:pt x="10" y="57"/>
                  </a:lnTo>
                  <a:lnTo>
                    <a:pt x="10" y="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46760" y="5024520"/>
              <a:ext cx="30960" cy="17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0" y="29"/>
                  </a:moveTo>
                  <a:lnTo>
                    <a:pt x="21" y="0"/>
                  </a:lnTo>
                  <a:lnTo>
                    <a:pt x="21" y="135"/>
                  </a:lnTo>
                  <a:lnTo>
                    <a:pt x="0" y="135"/>
                  </a:lnTo>
                  <a:lnTo>
                    <a:pt x="0" y="2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046760" y="5024520"/>
              <a:ext cx="33480" cy="188640"/>
            </a:xfrm>
            <a:custGeom>
              <a:avLst/>
              <a:gdLst/>
              <a:ahLst/>
              <a:rect l="l" t="t" r="r" b="b"/>
              <a:pathLst>
                <a:path w="24" h="146">
                  <a:moveTo>
                    <a:pt x="0" y="30"/>
                  </a:moveTo>
                  <a:lnTo>
                    <a:pt x="23" y="0"/>
                  </a:lnTo>
                  <a:lnTo>
                    <a:pt x="23" y="145"/>
                  </a:lnTo>
                  <a:lnTo>
                    <a:pt x="0" y="145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078800" y="5024520"/>
              <a:ext cx="23760" cy="178560"/>
            </a:xfrm>
            <a:custGeom>
              <a:avLst/>
              <a:gdLst/>
              <a:ahLst/>
              <a:rect l="l" t="t" r="r" b="b"/>
              <a:pathLst>
                <a:path w="17" h="138">
                  <a:moveTo>
                    <a:pt x="10" y="0"/>
                  </a:moveTo>
                  <a:lnTo>
                    <a:pt x="10" y="6"/>
                  </a:lnTo>
                  <a:lnTo>
                    <a:pt x="0" y="0"/>
                  </a:lnTo>
                  <a:lnTo>
                    <a:pt x="0" y="137"/>
                  </a:lnTo>
                  <a:lnTo>
                    <a:pt x="10" y="132"/>
                  </a:lnTo>
                  <a:lnTo>
                    <a:pt x="10" y="27"/>
                  </a:lnTo>
                  <a:lnTo>
                    <a:pt x="16" y="30"/>
                  </a:lnTo>
                  <a:lnTo>
                    <a:pt x="16" y="3"/>
                  </a:lnTo>
                  <a:lnTo>
                    <a:pt x="1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078800" y="5024520"/>
              <a:ext cx="23760" cy="191520"/>
            </a:xfrm>
            <a:custGeom>
              <a:avLst/>
              <a:gdLst/>
              <a:ahLst/>
              <a:rect l="l" t="t" r="r" b="b"/>
              <a:pathLst>
                <a:path w="17" h="148">
                  <a:moveTo>
                    <a:pt x="10" y="0"/>
                  </a:moveTo>
                  <a:lnTo>
                    <a:pt x="10" y="6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10" y="142"/>
                  </a:lnTo>
                  <a:lnTo>
                    <a:pt x="10" y="29"/>
                  </a:lnTo>
                  <a:lnTo>
                    <a:pt x="16" y="32"/>
                  </a:lnTo>
                  <a:lnTo>
                    <a:pt x="16" y="3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067640" y="5147280"/>
              <a:ext cx="23760" cy="3636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0"/>
                  </a:moveTo>
                  <a:lnTo>
                    <a:pt x="10" y="0"/>
                  </a:lnTo>
                  <a:lnTo>
                    <a:pt x="16" y="27"/>
                  </a:lnTo>
                  <a:lnTo>
                    <a:pt x="4" y="2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067640" y="5147280"/>
              <a:ext cx="23760" cy="3636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0"/>
                  </a:moveTo>
                  <a:lnTo>
                    <a:pt x="11" y="0"/>
                  </a:lnTo>
                  <a:lnTo>
                    <a:pt x="16" y="27"/>
                  </a:lnTo>
                  <a:lnTo>
                    <a:pt x="5" y="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050720" y="5148720"/>
              <a:ext cx="23760" cy="3600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0"/>
                  </a:moveTo>
                  <a:lnTo>
                    <a:pt x="9" y="0"/>
                  </a:lnTo>
                  <a:lnTo>
                    <a:pt x="16" y="27"/>
                  </a:lnTo>
                  <a:lnTo>
                    <a:pt x="4" y="2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50720" y="5148720"/>
              <a:ext cx="23760" cy="3600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0"/>
                  </a:moveTo>
                  <a:lnTo>
                    <a:pt x="9" y="0"/>
                  </a:lnTo>
                  <a:lnTo>
                    <a:pt x="16" y="27"/>
                  </a:lnTo>
                  <a:lnTo>
                    <a:pt x="5" y="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035600" y="5099400"/>
              <a:ext cx="23760" cy="99720"/>
            </a:xfrm>
            <a:custGeom>
              <a:avLst/>
              <a:gdLst/>
              <a:ahLst/>
              <a:rect l="l" t="t" r="r" b="b"/>
              <a:pathLst>
                <a:path w="17" h="77">
                  <a:moveTo>
                    <a:pt x="0" y="76"/>
                  </a:moveTo>
                  <a:lnTo>
                    <a:pt x="16" y="76"/>
                  </a:lnTo>
                  <a:lnTo>
                    <a:pt x="16" y="0"/>
                  </a:lnTo>
                  <a:lnTo>
                    <a:pt x="6" y="1"/>
                  </a:lnTo>
                  <a:lnTo>
                    <a:pt x="6" y="57"/>
                  </a:lnTo>
                  <a:lnTo>
                    <a:pt x="0" y="61"/>
                  </a:lnTo>
                  <a:lnTo>
                    <a:pt x="0" y="76"/>
                  </a:lnTo>
                </a:path>
              </a:pathLst>
            </a:custGeom>
            <a:solidFill>
              <a:srgbClr val="604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035600" y="5099400"/>
              <a:ext cx="23760" cy="112680"/>
            </a:xfrm>
            <a:custGeom>
              <a:avLst/>
              <a:gdLst/>
              <a:ahLst/>
              <a:rect l="l" t="t" r="r" b="b"/>
              <a:pathLst>
                <a:path w="17" h="87">
                  <a:moveTo>
                    <a:pt x="0" y="86"/>
                  </a:moveTo>
                  <a:lnTo>
                    <a:pt x="16" y="86"/>
                  </a:lnTo>
                  <a:lnTo>
                    <a:pt x="16" y="0"/>
                  </a:lnTo>
                  <a:lnTo>
                    <a:pt x="6" y="1"/>
                  </a:lnTo>
                  <a:lnTo>
                    <a:pt x="6" y="64"/>
                  </a:lnTo>
                  <a:lnTo>
                    <a:pt x="0" y="69"/>
                  </a:lnTo>
                  <a:lnTo>
                    <a:pt x="0" y="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01480" y="5148720"/>
              <a:ext cx="1080" cy="5148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6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39"/>
                  </a:lnTo>
                  <a:lnTo>
                    <a:pt x="0" y="6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101480" y="5148720"/>
              <a:ext cx="23760" cy="64440"/>
            </a:xfrm>
            <a:custGeom>
              <a:avLst/>
              <a:gdLst/>
              <a:ahLst/>
              <a:rect l="l" t="t" r="r" b="b"/>
              <a:pathLst>
                <a:path w="17" h="50">
                  <a:moveTo>
                    <a:pt x="0" y="8"/>
                  </a:moveTo>
                  <a:lnTo>
                    <a:pt x="0" y="6"/>
                  </a:lnTo>
                  <a:lnTo>
                    <a:pt x="1" y="3"/>
                  </a:lnTo>
                  <a:lnTo>
                    <a:pt x="4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49"/>
                  </a:lnTo>
                  <a:lnTo>
                    <a:pt x="0" y="49"/>
                  </a:lnTo>
                  <a:lnTo>
                    <a:pt x="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04532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04532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29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05216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05216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29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05648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05648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29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06368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06368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29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069080" y="5188680"/>
              <a:ext cx="2340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069080" y="5188680"/>
              <a:ext cx="2340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29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07484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07484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29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08060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08060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29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08600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08600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29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060800" y="5188680"/>
              <a:ext cx="0" cy="25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077720" y="5188680"/>
              <a:ext cx="0" cy="25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064760" y="5188680"/>
              <a:ext cx="0" cy="25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071960" y="5188680"/>
              <a:ext cx="0" cy="25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053600" y="5188680"/>
              <a:ext cx="0" cy="25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046760" y="5188680"/>
              <a:ext cx="0" cy="25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083480" y="5188680"/>
              <a:ext cx="0" cy="25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038120" y="5178600"/>
              <a:ext cx="50400" cy="3744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8"/>
                  </a:moveTo>
                  <a:lnTo>
                    <a:pt x="1" y="0"/>
                  </a:lnTo>
                  <a:lnTo>
                    <a:pt x="34" y="0"/>
                  </a:lnTo>
                  <a:lnTo>
                    <a:pt x="35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087440" y="5186520"/>
              <a:ext cx="23760" cy="38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29"/>
                  </a:moveTo>
                  <a:lnTo>
                    <a:pt x="16" y="29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9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087440" y="5186520"/>
              <a:ext cx="23760" cy="38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29"/>
                  </a:moveTo>
                  <a:lnTo>
                    <a:pt x="16" y="29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094640" y="5186520"/>
              <a:ext cx="23760" cy="38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6" y="0"/>
                  </a:moveTo>
                  <a:lnTo>
                    <a:pt x="16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095720" y="5186520"/>
              <a:ext cx="23760" cy="38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0" y="29"/>
                  </a:lnTo>
                  <a:lnTo>
                    <a:pt x="16" y="29"/>
                  </a:lnTo>
                  <a:lnTo>
                    <a:pt x="16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105800" y="5159160"/>
              <a:ext cx="23760" cy="39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5"/>
                  </a:moveTo>
                  <a:lnTo>
                    <a:pt x="16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30"/>
                  </a:lnTo>
                  <a:lnTo>
                    <a:pt x="16" y="30"/>
                  </a:lnTo>
                  <a:lnTo>
                    <a:pt x="16" y="5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08680" y="5159160"/>
              <a:ext cx="23760" cy="464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0" y="6"/>
                  </a:moveTo>
                  <a:lnTo>
                    <a:pt x="0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7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35"/>
                  </a:lnTo>
                  <a:lnTo>
                    <a:pt x="0" y="35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087440" y="5192640"/>
              <a:ext cx="23760" cy="374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16" y="2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087440" y="5192640"/>
              <a:ext cx="23760" cy="374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16" y="2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043880" y="5116680"/>
              <a:ext cx="23760" cy="88920"/>
            </a:xfrm>
            <a:custGeom>
              <a:avLst/>
              <a:gdLst/>
              <a:ahLst/>
              <a:rect l="l" t="t" r="r" b="b"/>
              <a:pathLst>
                <a:path w="17" h="69">
                  <a:moveTo>
                    <a:pt x="16" y="68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0" y="68"/>
                  </a:lnTo>
                  <a:lnTo>
                    <a:pt x="16" y="68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045320" y="5116680"/>
              <a:ext cx="23760" cy="101880"/>
            </a:xfrm>
            <a:custGeom>
              <a:avLst/>
              <a:gdLst/>
              <a:ahLst/>
              <a:rect l="l" t="t" r="r" b="b"/>
              <a:pathLst>
                <a:path w="17" h="79">
                  <a:moveTo>
                    <a:pt x="0" y="78"/>
                  </a:moveTo>
                  <a:lnTo>
                    <a:pt x="0" y="0"/>
                  </a:lnTo>
                  <a:lnTo>
                    <a:pt x="16" y="4"/>
                  </a:lnTo>
                  <a:lnTo>
                    <a:pt x="16" y="78"/>
                  </a:lnTo>
                  <a:lnTo>
                    <a:pt x="0" y="7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056480" y="5114880"/>
              <a:ext cx="23760" cy="90360"/>
            </a:xfrm>
            <a:custGeom>
              <a:avLst/>
              <a:gdLst/>
              <a:ahLst/>
              <a:rect l="l" t="t" r="r" b="b"/>
              <a:pathLst>
                <a:path w="17" h="70">
                  <a:moveTo>
                    <a:pt x="16" y="69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0" y="69"/>
                  </a:lnTo>
                  <a:lnTo>
                    <a:pt x="16" y="69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059360" y="5114880"/>
              <a:ext cx="23760" cy="103320"/>
            </a:xfrm>
            <a:custGeom>
              <a:avLst/>
              <a:gdLst/>
              <a:ahLst/>
              <a:rect l="l" t="t" r="r" b="b"/>
              <a:pathLst>
                <a:path w="17" h="80">
                  <a:moveTo>
                    <a:pt x="0" y="79"/>
                  </a:moveTo>
                  <a:lnTo>
                    <a:pt x="0" y="0"/>
                  </a:lnTo>
                  <a:lnTo>
                    <a:pt x="16" y="4"/>
                  </a:lnTo>
                  <a:lnTo>
                    <a:pt x="16" y="79"/>
                  </a:lnTo>
                  <a:lnTo>
                    <a:pt x="0" y="7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076280" y="5111280"/>
              <a:ext cx="23760" cy="94320"/>
            </a:xfrm>
            <a:custGeom>
              <a:avLst/>
              <a:gdLst/>
              <a:ahLst/>
              <a:rect l="l" t="t" r="r" b="b"/>
              <a:pathLst>
                <a:path w="17" h="73">
                  <a:moveTo>
                    <a:pt x="16" y="72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0" y="72"/>
                  </a:lnTo>
                  <a:lnTo>
                    <a:pt x="16" y="72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077720" y="5111280"/>
              <a:ext cx="23760" cy="107280"/>
            </a:xfrm>
            <a:custGeom>
              <a:avLst/>
              <a:gdLst/>
              <a:ahLst/>
              <a:rect l="l" t="t" r="r" b="b"/>
              <a:pathLst>
                <a:path w="17" h="83">
                  <a:moveTo>
                    <a:pt x="0" y="82"/>
                  </a:moveTo>
                  <a:lnTo>
                    <a:pt x="0" y="0"/>
                  </a:lnTo>
                  <a:lnTo>
                    <a:pt x="16" y="4"/>
                  </a:lnTo>
                  <a:lnTo>
                    <a:pt x="16" y="82"/>
                  </a:lnTo>
                  <a:lnTo>
                    <a:pt x="0" y="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 rot="7680000">
            <a:off x="948960" y="3305160"/>
            <a:ext cx="236520" cy="103320"/>
          </a:xfrm>
          <a:prstGeom prst="rect">
            <a:avLst/>
          </a:prstGeom>
          <a:solidFill>
            <a:srgbClr val="00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1565280" y="5983200"/>
            <a:ext cx="2386080" cy="0"/>
          </a:xfrm>
          <a:prstGeom prst="line">
            <a:avLst/>
          </a:prstGeom>
          <a:ln w="25560">
            <a:solidFill>
              <a:srgbClr val="ffcc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249640" y="6365880"/>
            <a:ext cx="1364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ORTEZUELO MI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3522600" y="6159600"/>
            <a:ext cx="247680" cy="18864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 flipV="1">
            <a:off x="3409920" y="5721480"/>
            <a:ext cx="558720" cy="2664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3535200" y="5968800"/>
            <a:ext cx="433440" cy="3682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3970440" y="5368680"/>
            <a:ext cx="257040" cy="609480"/>
          </a:xfrm>
          <a:prstGeom prst="line">
            <a:avLst/>
          </a:prstGeom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95760" y="1000080"/>
            <a:ext cx="2527560" cy="2225880"/>
          </a:xfrm>
          <a:custGeom>
            <a:avLst/>
            <a:gdLst/>
            <a:ahLst/>
            <a:rect l="l" t="t" r="r" b="b"/>
            <a:pathLst>
              <a:path w="1632" h="1502">
                <a:moveTo>
                  <a:pt x="0" y="1502"/>
                </a:moveTo>
                <a:lnTo>
                  <a:pt x="283" y="1267"/>
                </a:lnTo>
                <a:lnTo>
                  <a:pt x="288" y="1123"/>
                </a:lnTo>
                <a:lnTo>
                  <a:pt x="1526" y="393"/>
                </a:lnTo>
                <a:lnTo>
                  <a:pt x="1632" y="0"/>
                </a:lnTo>
              </a:path>
            </a:pathLst>
          </a:custGeom>
          <a:noFill/>
          <a:ln w="25560">
            <a:solidFill>
              <a:srgbClr val="99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2289240" y="1370160"/>
            <a:ext cx="307440" cy="290160"/>
            <a:chOff x="2289240" y="1370160"/>
            <a:chExt cx="307440" cy="290160"/>
          </a:xfrm>
        </p:grpSpPr>
        <p:sp>
          <p:nvSpPr>
            <p:cNvPr id="860" name=""/>
            <p:cNvSpPr/>
            <p:nvPr/>
          </p:nvSpPr>
          <p:spPr>
            <a:xfrm>
              <a:off x="2505600" y="1370160"/>
              <a:ext cx="29160" cy="262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7" y="0"/>
                  </a:moveTo>
                  <a:lnTo>
                    <a:pt x="12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4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505600" y="1370160"/>
              <a:ext cx="30600" cy="280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8" y="0"/>
                  </a:moveTo>
                  <a:lnTo>
                    <a:pt x="13" y="1"/>
                  </a:lnTo>
                  <a:lnTo>
                    <a:pt x="15" y="3"/>
                  </a:lnTo>
                  <a:lnTo>
                    <a:pt x="17" y="6"/>
                  </a:lnTo>
                  <a:lnTo>
                    <a:pt x="20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3" y="20"/>
                  </a:lnTo>
                  <a:lnTo>
                    <a:pt x="8" y="20"/>
                  </a:lnTo>
                  <a:lnTo>
                    <a:pt x="5" y="20"/>
                  </a:lnTo>
                  <a:lnTo>
                    <a:pt x="3" y="16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477880" y="1406880"/>
              <a:ext cx="3060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9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21" y="5"/>
                  </a:lnTo>
                  <a:lnTo>
                    <a:pt x="21" y="10"/>
                  </a:lnTo>
                  <a:lnTo>
                    <a:pt x="16" y="17"/>
                  </a:lnTo>
                  <a:lnTo>
                    <a:pt x="12" y="17"/>
                  </a:lnTo>
                  <a:lnTo>
                    <a:pt x="9" y="17"/>
                  </a:lnTo>
                  <a:lnTo>
                    <a:pt x="5" y="17"/>
                  </a:lnTo>
                  <a:lnTo>
                    <a:pt x="2" y="1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477880" y="1406880"/>
              <a:ext cx="33840" cy="234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0" y="0"/>
                  </a:moveTo>
                  <a:lnTo>
                    <a:pt x="15" y="1"/>
                  </a:lnTo>
                  <a:lnTo>
                    <a:pt x="18" y="1"/>
                  </a:lnTo>
                  <a:lnTo>
                    <a:pt x="23" y="5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18" y="14"/>
                  </a:lnTo>
                  <a:lnTo>
                    <a:pt x="15" y="14"/>
                  </a:lnTo>
                  <a:lnTo>
                    <a:pt x="10" y="17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1"/>
                  </a:lnTo>
                  <a:lnTo>
                    <a:pt x="7" y="1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426760" y="1412640"/>
              <a:ext cx="29160" cy="248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8" y="0"/>
                  </a:moveTo>
                  <a:lnTo>
                    <a:pt x="13" y="0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1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426760" y="141264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9" y="0"/>
                  </a:moveTo>
                  <a:lnTo>
                    <a:pt x="14" y="1"/>
                  </a:lnTo>
                  <a:lnTo>
                    <a:pt x="17" y="1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21" y="12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9" y="17"/>
                  </a:lnTo>
                  <a:lnTo>
                    <a:pt x="5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1"/>
                  </a:lnTo>
                  <a:lnTo>
                    <a:pt x="5" y="1"/>
                  </a:lnTo>
                  <a:lnTo>
                    <a:pt x="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366280" y="1421640"/>
              <a:ext cx="30600" cy="2340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9" y="0"/>
                  </a:moveTo>
                  <a:lnTo>
                    <a:pt x="12" y="0"/>
                  </a:lnTo>
                  <a:lnTo>
                    <a:pt x="17" y="0"/>
                  </a:lnTo>
                  <a:lnTo>
                    <a:pt x="21" y="9"/>
                  </a:lnTo>
                  <a:lnTo>
                    <a:pt x="21" y="18"/>
                  </a:lnTo>
                  <a:lnTo>
                    <a:pt x="17" y="18"/>
                  </a:lnTo>
                  <a:lnTo>
                    <a:pt x="12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366280" y="1421640"/>
              <a:ext cx="33840" cy="2340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0" y="0"/>
                  </a:moveTo>
                  <a:lnTo>
                    <a:pt x="15" y="0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3" y="9"/>
                  </a:lnTo>
                  <a:lnTo>
                    <a:pt x="23" y="13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18"/>
                  </a:lnTo>
                  <a:lnTo>
                    <a:pt x="7" y="18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4"/>
                  </a:lnTo>
                  <a:lnTo>
                    <a:pt x="3" y="2"/>
                  </a:lnTo>
                  <a:lnTo>
                    <a:pt x="7" y="0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476080" y="1408320"/>
              <a:ext cx="30960" cy="216360"/>
            </a:xfrm>
            <a:custGeom>
              <a:avLst/>
              <a:gdLst/>
              <a:ahLst/>
              <a:rect l="l" t="t" r="r" b="b"/>
              <a:pathLst>
                <a:path w="22" h="167">
                  <a:moveTo>
                    <a:pt x="0" y="0"/>
                  </a:moveTo>
                  <a:lnTo>
                    <a:pt x="21" y="0"/>
                  </a:lnTo>
                  <a:lnTo>
                    <a:pt x="21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476080" y="1408320"/>
              <a:ext cx="33840" cy="223920"/>
            </a:xfrm>
            <a:custGeom>
              <a:avLst/>
              <a:gdLst/>
              <a:ahLst/>
              <a:rect l="l" t="t" r="r" b="b"/>
              <a:pathLst>
                <a:path w="24" h="173">
                  <a:moveTo>
                    <a:pt x="0" y="0"/>
                  </a:moveTo>
                  <a:lnTo>
                    <a:pt x="23" y="0"/>
                  </a:lnTo>
                  <a:lnTo>
                    <a:pt x="23" y="172"/>
                  </a:lnTo>
                  <a:lnTo>
                    <a:pt x="0" y="17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423520" y="1414080"/>
              <a:ext cx="29160" cy="216720"/>
            </a:xfrm>
            <a:custGeom>
              <a:avLst/>
              <a:gdLst/>
              <a:ahLst/>
              <a:rect l="l" t="t" r="r" b="b"/>
              <a:pathLst>
                <a:path w="21" h="167">
                  <a:moveTo>
                    <a:pt x="0" y="0"/>
                  </a:moveTo>
                  <a:lnTo>
                    <a:pt x="20" y="0"/>
                  </a:lnTo>
                  <a:lnTo>
                    <a:pt x="20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423520" y="1414080"/>
              <a:ext cx="32400" cy="224280"/>
            </a:xfrm>
            <a:custGeom>
              <a:avLst/>
              <a:gdLst/>
              <a:ahLst/>
              <a:rect l="l" t="t" r="r" b="b"/>
              <a:pathLst>
                <a:path w="23" h="173">
                  <a:moveTo>
                    <a:pt x="0" y="0"/>
                  </a:moveTo>
                  <a:lnTo>
                    <a:pt x="22" y="0"/>
                  </a:lnTo>
                  <a:lnTo>
                    <a:pt x="22" y="172"/>
                  </a:lnTo>
                  <a:lnTo>
                    <a:pt x="0" y="17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366280" y="1424520"/>
              <a:ext cx="30600" cy="213840"/>
            </a:xfrm>
            <a:custGeom>
              <a:avLst/>
              <a:gdLst/>
              <a:ahLst/>
              <a:rect l="l" t="t" r="r" b="b"/>
              <a:pathLst>
                <a:path w="22" h="166">
                  <a:moveTo>
                    <a:pt x="0" y="0"/>
                  </a:moveTo>
                  <a:lnTo>
                    <a:pt x="21" y="0"/>
                  </a:lnTo>
                  <a:lnTo>
                    <a:pt x="21" y="165"/>
                  </a:lnTo>
                  <a:lnTo>
                    <a:pt x="0" y="16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66280" y="1424520"/>
              <a:ext cx="33840" cy="222480"/>
            </a:xfrm>
            <a:custGeom>
              <a:avLst/>
              <a:gdLst/>
              <a:ahLst/>
              <a:rect l="l" t="t" r="r" b="b"/>
              <a:pathLst>
                <a:path w="24" h="173">
                  <a:moveTo>
                    <a:pt x="0" y="0"/>
                  </a:moveTo>
                  <a:lnTo>
                    <a:pt x="23" y="0"/>
                  </a:lnTo>
                  <a:lnTo>
                    <a:pt x="23" y="172"/>
                  </a:lnTo>
                  <a:lnTo>
                    <a:pt x="0" y="17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482560" y="1408320"/>
              <a:ext cx="2772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9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9" y="8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9" y="17"/>
                  </a:lnTo>
                  <a:lnTo>
                    <a:pt x="5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426760" y="1414080"/>
              <a:ext cx="29160" cy="248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9" y="0"/>
                  </a:moveTo>
                  <a:lnTo>
                    <a:pt x="13" y="0"/>
                  </a:lnTo>
                  <a:lnTo>
                    <a:pt x="16" y="5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3" y="17"/>
                  </a:lnTo>
                  <a:lnTo>
                    <a:pt x="9" y="17"/>
                  </a:lnTo>
                  <a:lnTo>
                    <a:pt x="5" y="17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5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371320" y="1424520"/>
              <a:ext cx="2880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9" y="0"/>
                  </a:moveTo>
                  <a:lnTo>
                    <a:pt x="13" y="0"/>
                  </a:lnTo>
                  <a:lnTo>
                    <a:pt x="16" y="0"/>
                  </a:lnTo>
                  <a:lnTo>
                    <a:pt x="20" y="8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9" y="17"/>
                  </a:lnTo>
                  <a:lnTo>
                    <a:pt x="4" y="17"/>
                  </a:lnTo>
                  <a:lnTo>
                    <a:pt x="1" y="17"/>
                  </a:lnTo>
                  <a:lnTo>
                    <a:pt x="0" y="8"/>
                  </a:lnTo>
                  <a:lnTo>
                    <a:pt x="1" y="0"/>
                  </a:ln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477880" y="1408320"/>
              <a:ext cx="30600" cy="216360"/>
            </a:xfrm>
            <a:custGeom>
              <a:avLst/>
              <a:gdLst/>
              <a:ahLst/>
              <a:rect l="l" t="t" r="r" b="b"/>
              <a:pathLst>
                <a:path w="22" h="167">
                  <a:moveTo>
                    <a:pt x="0" y="0"/>
                  </a:moveTo>
                  <a:lnTo>
                    <a:pt x="21" y="0"/>
                  </a:lnTo>
                  <a:lnTo>
                    <a:pt x="21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423520" y="1414080"/>
              <a:ext cx="29160" cy="216720"/>
            </a:xfrm>
            <a:custGeom>
              <a:avLst/>
              <a:gdLst/>
              <a:ahLst/>
              <a:rect l="l" t="t" r="r" b="b"/>
              <a:pathLst>
                <a:path w="21" h="167">
                  <a:moveTo>
                    <a:pt x="0" y="0"/>
                  </a:moveTo>
                  <a:lnTo>
                    <a:pt x="20" y="0"/>
                  </a:lnTo>
                  <a:lnTo>
                    <a:pt x="20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66280" y="1424520"/>
              <a:ext cx="30600" cy="212040"/>
            </a:xfrm>
            <a:custGeom>
              <a:avLst/>
              <a:gdLst/>
              <a:ahLst/>
              <a:rect l="l" t="t" r="r" b="b"/>
              <a:pathLst>
                <a:path w="22" h="165">
                  <a:moveTo>
                    <a:pt x="0" y="0"/>
                  </a:moveTo>
                  <a:lnTo>
                    <a:pt x="21" y="0"/>
                  </a:lnTo>
                  <a:lnTo>
                    <a:pt x="21" y="164"/>
                  </a:lnTo>
                  <a:lnTo>
                    <a:pt x="0" y="164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485440" y="1411560"/>
              <a:ext cx="27720" cy="234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8" y="17"/>
                  </a:moveTo>
                  <a:lnTo>
                    <a:pt x="12" y="17"/>
                  </a:lnTo>
                  <a:lnTo>
                    <a:pt x="18" y="17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8" y="17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428560" y="1418760"/>
              <a:ext cx="3060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9" y="18"/>
                  </a:moveTo>
                  <a:lnTo>
                    <a:pt x="14" y="18"/>
                  </a:lnTo>
                  <a:lnTo>
                    <a:pt x="20" y="18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9" y="18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373840" y="1433520"/>
              <a:ext cx="29160" cy="108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11" y="0"/>
                  </a:moveTo>
                  <a:lnTo>
                    <a:pt x="19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482560" y="1408320"/>
              <a:ext cx="27720" cy="216360"/>
            </a:xfrm>
            <a:custGeom>
              <a:avLst/>
              <a:gdLst/>
              <a:ahLst/>
              <a:rect l="l" t="t" r="r" b="b"/>
              <a:pathLst>
                <a:path w="20" h="167">
                  <a:moveTo>
                    <a:pt x="0" y="0"/>
                  </a:moveTo>
                  <a:lnTo>
                    <a:pt x="19" y="0"/>
                  </a:lnTo>
                  <a:lnTo>
                    <a:pt x="19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428560" y="1414080"/>
              <a:ext cx="28800" cy="216720"/>
            </a:xfrm>
            <a:custGeom>
              <a:avLst/>
              <a:gdLst/>
              <a:ahLst/>
              <a:rect l="l" t="t" r="r" b="b"/>
              <a:pathLst>
                <a:path w="21" h="167">
                  <a:moveTo>
                    <a:pt x="0" y="0"/>
                  </a:moveTo>
                  <a:lnTo>
                    <a:pt x="20" y="0"/>
                  </a:lnTo>
                  <a:lnTo>
                    <a:pt x="20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371320" y="1424520"/>
              <a:ext cx="28800" cy="212040"/>
            </a:xfrm>
            <a:custGeom>
              <a:avLst/>
              <a:gdLst/>
              <a:ahLst/>
              <a:rect l="l" t="t" r="r" b="b"/>
              <a:pathLst>
                <a:path w="21" h="165">
                  <a:moveTo>
                    <a:pt x="0" y="0"/>
                  </a:moveTo>
                  <a:lnTo>
                    <a:pt x="20" y="0"/>
                  </a:lnTo>
                  <a:lnTo>
                    <a:pt x="20" y="164"/>
                  </a:lnTo>
                  <a:lnTo>
                    <a:pt x="0" y="164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514960" y="1611720"/>
              <a:ext cx="35280" cy="2196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4"/>
                  </a:moveTo>
                  <a:lnTo>
                    <a:pt x="5" y="4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19" y="4"/>
                  </a:lnTo>
                  <a:lnTo>
                    <a:pt x="24" y="6"/>
                  </a:lnTo>
                  <a:lnTo>
                    <a:pt x="24" y="17"/>
                  </a:lnTo>
                  <a:lnTo>
                    <a:pt x="0" y="17"/>
                  </a:lnTo>
                  <a:lnTo>
                    <a:pt x="0" y="4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514960" y="1611720"/>
              <a:ext cx="47520" cy="219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4"/>
                  </a:moveTo>
                  <a:lnTo>
                    <a:pt x="8" y="4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27" y="2"/>
                  </a:lnTo>
                  <a:lnTo>
                    <a:pt x="27" y="5"/>
                  </a:lnTo>
                  <a:lnTo>
                    <a:pt x="33" y="7"/>
                  </a:lnTo>
                  <a:lnTo>
                    <a:pt x="33" y="17"/>
                  </a:lnTo>
                  <a:lnTo>
                    <a:pt x="0" y="17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486880" y="1571760"/>
              <a:ext cx="27720" cy="6048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0" y="0"/>
                  </a:moveTo>
                  <a:lnTo>
                    <a:pt x="5" y="3"/>
                  </a:lnTo>
                  <a:lnTo>
                    <a:pt x="5" y="8"/>
                  </a:lnTo>
                  <a:lnTo>
                    <a:pt x="12" y="11"/>
                  </a:lnTo>
                  <a:lnTo>
                    <a:pt x="12" y="8"/>
                  </a:lnTo>
                  <a:lnTo>
                    <a:pt x="18" y="9"/>
                  </a:lnTo>
                  <a:lnTo>
                    <a:pt x="18" y="41"/>
                  </a:lnTo>
                  <a:lnTo>
                    <a:pt x="0" y="45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486880" y="1571760"/>
              <a:ext cx="37080" cy="6768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lnTo>
                    <a:pt x="7" y="3"/>
                  </a:lnTo>
                  <a:lnTo>
                    <a:pt x="7" y="9"/>
                  </a:lnTo>
                  <a:lnTo>
                    <a:pt x="18" y="13"/>
                  </a:lnTo>
                  <a:lnTo>
                    <a:pt x="18" y="9"/>
                  </a:lnTo>
                  <a:lnTo>
                    <a:pt x="24" y="10"/>
                  </a:lnTo>
                  <a:lnTo>
                    <a:pt x="24" y="47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486880" y="1594080"/>
              <a:ext cx="27720" cy="352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0" y="0"/>
                  </a:moveTo>
                  <a:lnTo>
                    <a:pt x="18" y="3"/>
                  </a:lnTo>
                  <a:lnTo>
                    <a:pt x="18" y="26"/>
                  </a:lnTo>
                  <a:lnTo>
                    <a:pt x="12" y="26"/>
                  </a:lnTo>
                  <a:lnTo>
                    <a:pt x="12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486880" y="1594080"/>
              <a:ext cx="27720" cy="4248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0" y="0"/>
                  </a:moveTo>
                  <a:lnTo>
                    <a:pt x="18" y="4"/>
                  </a:lnTo>
                  <a:lnTo>
                    <a:pt x="18" y="32"/>
                  </a:lnTo>
                  <a:lnTo>
                    <a:pt x="11" y="32"/>
                  </a:lnTo>
                  <a:lnTo>
                    <a:pt x="11" y="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323080" y="1530720"/>
              <a:ext cx="128160" cy="10296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0" y="17"/>
                  </a:moveTo>
                  <a:lnTo>
                    <a:pt x="89" y="0"/>
                  </a:lnTo>
                  <a:lnTo>
                    <a:pt x="89" y="79"/>
                  </a:lnTo>
                  <a:lnTo>
                    <a:pt x="0" y="79"/>
                  </a:lnTo>
                  <a:lnTo>
                    <a:pt x="0" y="17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23080" y="1530720"/>
              <a:ext cx="140400" cy="111960"/>
            </a:xfrm>
            <a:custGeom>
              <a:avLst/>
              <a:gdLst/>
              <a:ahLst/>
              <a:rect l="l" t="t" r="r" b="b"/>
              <a:pathLst>
                <a:path w="99" h="87">
                  <a:moveTo>
                    <a:pt x="0" y="18"/>
                  </a:moveTo>
                  <a:lnTo>
                    <a:pt x="98" y="0"/>
                  </a:lnTo>
                  <a:lnTo>
                    <a:pt x="98" y="86"/>
                  </a:lnTo>
                  <a:lnTo>
                    <a:pt x="0" y="86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459160" y="1529280"/>
              <a:ext cx="30600" cy="10440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12" y="1"/>
                  </a:moveTo>
                  <a:lnTo>
                    <a:pt x="12" y="4"/>
                  </a:lnTo>
                  <a:lnTo>
                    <a:pt x="0" y="0"/>
                  </a:lnTo>
                  <a:lnTo>
                    <a:pt x="0" y="80"/>
                  </a:lnTo>
                  <a:lnTo>
                    <a:pt x="14" y="77"/>
                  </a:lnTo>
                  <a:lnTo>
                    <a:pt x="14" y="18"/>
                  </a:lnTo>
                  <a:lnTo>
                    <a:pt x="21" y="19"/>
                  </a:lnTo>
                  <a:lnTo>
                    <a:pt x="21" y="3"/>
                  </a:lnTo>
                  <a:lnTo>
                    <a:pt x="12" y="1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459160" y="1529280"/>
              <a:ext cx="40320" cy="113400"/>
            </a:xfrm>
            <a:custGeom>
              <a:avLst/>
              <a:gdLst/>
              <a:ahLst/>
              <a:rect l="l" t="t" r="r" b="b"/>
              <a:pathLst>
                <a:path w="28" h="88">
                  <a:moveTo>
                    <a:pt x="16" y="1"/>
                  </a:moveTo>
                  <a:lnTo>
                    <a:pt x="16" y="4"/>
                  </a:lnTo>
                  <a:lnTo>
                    <a:pt x="0" y="0"/>
                  </a:lnTo>
                  <a:lnTo>
                    <a:pt x="0" y="87"/>
                  </a:lnTo>
                  <a:lnTo>
                    <a:pt x="18" y="84"/>
                  </a:lnTo>
                  <a:lnTo>
                    <a:pt x="18" y="19"/>
                  </a:lnTo>
                  <a:lnTo>
                    <a:pt x="27" y="20"/>
                  </a:lnTo>
                  <a:lnTo>
                    <a:pt x="27" y="3"/>
                  </a:lnTo>
                  <a:lnTo>
                    <a:pt x="16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85000" y="1538280"/>
              <a:ext cx="30600" cy="586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20" y="0"/>
                  </a:moveTo>
                  <a:lnTo>
                    <a:pt x="20" y="45"/>
                  </a:lnTo>
                  <a:lnTo>
                    <a:pt x="0" y="45"/>
                  </a:lnTo>
                  <a:lnTo>
                    <a:pt x="0" y="2"/>
                  </a:lnTo>
                  <a:lnTo>
                    <a:pt x="20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385000" y="1538280"/>
              <a:ext cx="30600" cy="65880"/>
            </a:xfrm>
            <a:custGeom>
              <a:avLst/>
              <a:gdLst/>
              <a:ahLst/>
              <a:rect l="l" t="t" r="r" b="b"/>
              <a:pathLst>
                <a:path w="21" h="52">
                  <a:moveTo>
                    <a:pt x="20" y="0"/>
                  </a:moveTo>
                  <a:lnTo>
                    <a:pt x="20" y="51"/>
                  </a:lnTo>
                  <a:lnTo>
                    <a:pt x="0" y="51"/>
                  </a:lnTo>
                  <a:lnTo>
                    <a:pt x="0" y="2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86800" y="1603080"/>
              <a:ext cx="3060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14" y="0"/>
                  </a:lnTo>
                  <a:lnTo>
                    <a:pt x="20" y="18"/>
                  </a:lnTo>
                  <a:lnTo>
                    <a:pt x="4" y="1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386800" y="1603080"/>
              <a:ext cx="3060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"/>
                  </a:moveTo>
                  <a:lnTo>
                    <a:pt x="14" y="0"/>
                  </a:lnTo>
                  <a:lnTo>
                    <a:pt x="20" y="18"/>
                  </a:lnTo>
                  <a:lnTo>
                    <a:pt x="5" y="18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401920" y="1538280"/>
              <a:ext cx="30600" cy="73440"/>
            </a:xfrm>
            <a:custGeom>
              <a:avLst/>
              <a:gdLst/>
              <a:ahLst/>
              <a:rect l="l" t="t" r="r" b="b"/>
              <a:pathLst>
                <a:path w="22" h="58">
                  <a:moveTo>
                    <a:pt x="21" y="0"/>
                  </a:moveTo>
                  <a:lnTo>
                    <a:pt x="0" y="1"/>
                  </a:lnTo>
                  <a:lnTo>
                    <a:pt x="0" y="57"/>
                  </a:lnTo>
                  <a:lnTo>
                    <a:pt x="21" y="46"/>
                  </a:lnTo>
                  <a:lnTo>
                    <a:pt x="21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403360" y="1538280"/>
              <a:ext cx="30600" cy="82440"/>
            </a:xfrm>
            <a:custGeom>
              <a:avLst/>
              <a:gdLst/>
              <a:ahLst/>
              <a:rect l="l" t="t" r="r" b="b"/>
              <a:pathLst>
                <a:path w="22" h="64">
                  <a:moveTo>
                    <a:pt x="0" y="0"/>
                  </a:moveTo>
                  <a:lnTo>
                    <a:pt x="21" y="1"/>
                  </a:lnTo>
                  <a:lnTo>
                    <a:pt x="21" y="63"/>
                  </a:lnTo>
                  <a:lnTo>
                    <a:pt x="0" y="5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357280" y="1546920"/>
              <a:ext cx="29160" cy="6480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0" y="0"/>
                  </a:moveTo>
                  <a:lnTo>
                    <a:pt x="0" y="39"/>
                  </a:lnTo>
                  <a:lnTo>
                    <a:pt x="20" y="50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357280" y="1546920"/>
              <a:ext cx="29160" cy="7380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0" y="0"/>
                  </a:moveTo>
                  <a:lnTo>
                    <a:pt x="0" y="44"/>
                  </a:lnTo>
                  <a:lnTo>
                    <a:pt x="20" y="56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338560" y="1546920"/>
              <a:ext cx="27720" cy="5148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2"/>
                  </a:moveTo>
                  <a:lnTo>
                    <a:pt x="19" y="0"/>
                  </a:lnTo>
                  <a:lnTo>
                    <a:pt x="19" y="38"/>
                  </a:lnTo>
                  <a:lnTo>
                    <a:pt x="0" y="40"/>
                  </a:lnTo>
                  <a:lnTo>
                    <a:pt x="0" y="2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338560" y="1546920"/>
              <a:ext cx="27720" cy="6156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0" y="2"/>
                  </a:moveTo>
                  <a:lnTo>
                    <a:pt x="19" y="0"/>
                  </a:lnTo>
                  <a:lnTo>
                    <a:pt x="19" y="45"/>
                  </a:lnTo>
                  <a:lnTo>
                    <a:pt x="0" y="47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337120" y="1605960"/>
              <a:ext cx="2772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2" y="0"/>
                  </a:lnTo>
                  <a:lnTo>
                    <a:pt x="19" y="17"/>
                  </a:lnTo>
                  <a:lnTo>
                    <a:pt x="6" y="1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337120" y="1605960"/>
              <a:ext cx="32040" cy="23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14" y="0"/>
                  </a:lnTo>
                  <a:lnTo>
                    <a:pt x="22" y="17"/>
                  </a:lnTo>
                  <a:lnTo>
                    <a:pt x="7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428560" y="1573560"/>
              <a:ext cx="2880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"/>
                  </a:moveTo>
                  <a:lnTo>
                    <a:pt x="11" y="0"/>
                  </a:lnTo>
                  <a:lnTo>
                    <a:pt x="20" y="17"/>
                  </a:lnTo>
                  <a:lnTo>
                    <a:pt x="5" y="17"/>
                  </a:lnTo>
                  <a:lnTo>
                    <a:pt x="0" y="1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428560" y="1573560"/>
              <a:ext cx="32040" cy="23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1"/>
                  </a:moveTo>
                  <a:lnTo>
                    <a:pt x="14" y="0"/>
                  </a:lnTo>
                  <a:lnTo>
                    <a:pt x="22" y="17"/>
                  </a:lnTo>
                  <a:lnTo>
                    <a:pt x="7" y="17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28560" y="1530720"/>
              <a:ext cx="28800" cy="3780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28"/>
                  </a:moveTo>
                  <a:lnTo>
                    <a:pt x="20" y="26"/>
                  </a:lnTo>
                  <a:lnTo>
                    <a:pt x="20" y="0"/>
                  </a:lnTo>
                  <a:lnTo>
                    <a:pt x="0" y="2"/>
                  </a:lnTo>
                  <a:lnTo>
                    <a:pt x="0" y="28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428560" y="1530720"/>
              <a:ext cx="28800" cy="4680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0" y="35"/>
                  </a:moveTo>
                  <a:lnTo>
                    <a:pt x="20" y="33"/>
                  </a:lnTo>
                  <a:lnTo>
                    <a:pt x="20" y="0"/>
                  </a:lnTo>
                  <a:lnTo>
                    <a:pt x="0" y="2"/>
                  </a:lnTo>
                  <a:lnTo>
                    <a:pt x="0" y="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448360" y="1530720"/>
              <a:ext cx="1080" cy="57240"/>
            </a:xfrm>
            <a:custGeom>
              <a:avLst/>
              <a:gdLst/>
              <a:ahLst/>
              <a:rect l="l" t="t" r="r" b="b"/>
              <a:pathLst>
                <a:path w="1" h="44">
                  <a:moveTo>
                    <a:pt x="0" y="0"/>
                  </a:moveTo>
                  <a:lnTo>
                    <a:pt x="0" y="29"/>
                  </a:lnTo>
                  <a:lnTo>
                    <a:pt x="0" y="4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448360" y="1530720"/>
              <a:ext cx="27720" cy="65880"/>
            </a:xfrm>
            <a:custGeom>
              <a:avLst/>
              <a:gdLst/>
              <a:ahLst/>
              <a:rect l="l" t="t" r="r" b="b"/>
              <a:pathLst>
                <a:path w="20" h="51">
                  <a:moveTo>
                    <a:pt x="0" y="0"/>
                  </a:moveTo>
                  <a:lnTo>
                    <a:pt x="0" y="33"/>
                  </a:lnTo>
                  <a:lnTo>
                    <a:pt x="19" y="50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78880" y="1542600"/>
              <a:ext cx="28800" cy="280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0" y="2"/>
                  </a:moveTo>
                  <a:lnTo>
                    <a:pt x="20" y="0"/>
                  </a:lnTo>
                  <a:lnTo>
                    <a:pt x="20" y="21"/>
                  </a:lnTo>
                  <a:lnTo>
                    <a:pt x="0" y="21"/>
                  </a:lnTo>
                  <a:lnTo>
                    <a:pt x="0" y="2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378880" y="1542600"/>
              <a:ext cx="28800" cy="3816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2"/>
                  </a:moveTo>
                  <a:lnTo>
                    <a:pt x="20" y="0"/>
                  </a:lnTo>
                  <a:lnTo>
                    <a:pt x="20" y="28"/>
                  </a:lnTo>
                  <a:lnTo>
                    <a:pt x="0" y="28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378880" y="1579320"/>
              <a:ext cx="2880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10" y="0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378880" y="1579320"/>
              <a:ext cx="2880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10" y="0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394360" y="1542600"/>
              <a:ext cx="360" cy="5004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3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0" y="37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394360" y="1542600"/>
              <a:ext cx="27720" cy="5616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19" y="43"/>
                  </a:moveTo>
                  <a:lnTo>
                    <a:pt x="19" y="2"/>
                  </a:lnTo>
                  <a:lnTo>
                    <a:pt x="0" y="0"/>
                  </a:lnTo>
                  <a:lnTo>
                    <a:pt x="0" y="27"/>
                  </a:lnTo>
                  <a:lnTo>
                    <a:pt x="19" y="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33880" y="1582200"/>
              <a:ext cx="2772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9" y="17"/>
                  </a:moveTo>
                  <a:lnTo>
                    <a:pt x="19" y="17"/>
                  </a:lnTo>
                  <a:lnTo>
                    <a:pt x="11" y="0"/>
                  </a:lnTo>
                  <a:lnTo>
                    <a:pt x="0" y="0"/>
                  </a:lnTo>
                  <a:lnTo>
                    <a:pt x="9" y="17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33880" y="1582200"/>
              <a:ext cx="2772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6" y="17"/>
                  </a:moveTo>
                  <a:lnTo>
                    <a:pt x="19" y="1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6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333880" y="1557360"/>
              <a:ext cx="2772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7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"/>
                  </a:lnTo>
                  <a:lnTo>
                    <a:pt x="0" y="17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333880" y="1557360"/>
              <a:ext cx="27720" cy="266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9"/>
                  </a:moveTo>
                  <a:lnTo>
                    <a:pt x="15" y="19"/>
                  </a:lnTo>
                  <a:lnTo>
                    <a:pt x="19" y="0"/>
                  </a:lnTo>
                  <a:lnTo>
                    <a:pt x="0" y="1"/>
                  </a:lnTo>
                  <a:lnTo>
                    <a:pt x="0" y="1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345040" y="1557360"/>
              <a:ext cx="27720" cy="3672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9" y="0"/>
                  </a:moveTo>
                  <a:lnTo>
                    <a:pt x="19" y="15"/>
                  </a:lnTo>
                  <a:lnTo>
                    <a:pt x="0" y="27"/>
                  </a:lnTo>
                  <a:lnTo>
                    <a:pt x="0" y="3"/>
                  </a:lnTo>
                  <a:lnTo>
                    <a:pt x="1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346120" y="1557360"/>
              <a:ext cx="29160" cy="439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0"/>
                  </a:moveTo>
                  <a:lnTo>
                    <a:pt x="0" y="18"/>
                  </a:lnTo>
                  <a:lnTo>
                    <a:pt x="20" y="33"/>
                  </a:lnTo>
                  <a:lnTo>
                    <a:pt x="20" y="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289240" y="1577880"/>
              <a:ext cx="52560" cy="543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42"/>
                  </a:moveTo>
                  <a:lnTo>
                    <a:pt x="36" y="42"/>
                  </a:lnTo>
                  <a:lnTo>
                    <a:pt x="36" y="0"/>
                  </a:lnTo>
                  <a:lnTo>
                    <a:pt x="13" y="1"/>
                  </a:lnTo>
                  <a:lnTo>
                    <a:pt x="13" y="31"/>
                  </a:lnTo>
                  <a:lnTo>
                    <a:pt x="0" y="33"/>
                  </a:lnTo>
                  <a:lnTo>
                    <a:pt x="0" y="42"/>
                  </a:lnTo>
                </a:path>
              </a:pathLst>
            </a:custGeom>
            <a:solidFill>
              <a:srgbClr val="604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289240" y="1577880"/>
              <a:ext cx="60120" cy="6300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0" y="49"/>
                  </a:moveTo>
                  <a:lnTo>
                    <a:pt x="42" y="49"/>
                  </a:lnTo>
                  <a:lnTo>
                    <a:pt x="42" y="0"/>
                  </a:lnTo>
                  <a:lnTo>
                    <a:pt x="15" y="1"/>
                  </a:lnTo>
                  <a:lnTo>
                    <a:pt x="15" y="37"/>
                  </a:lnTo>
                  <a:lnTo>
                    <a:pt x="0" y="39"/>
                  </a:lnTo>
                  <a:lnTo>
                    <a:pt x="0" y="4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539800" y="1598760"/>
              <a:ext cx="1440" cy="3240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0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4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539800" y="1598760"/>
              <a:ext cx="30600" cy="3960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5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19840" y="1629360"/>
              <a:ext cx="2916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319840" y="1629360"/>
              <a:ext cx="2916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338560" y="1629360"/>
              <a:ext cx="2772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338560" y="1629360"/>
              <a:ext cx="2772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352600" y="1629360"/>
              <a:ext cx="3204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352600" y="1629360"/>
              <a:ext cx="3204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371320" y="1629360"/>
              <a:ext cx="2880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0"/>
                  </a:lnTo>
                  <a:lnTo>
                    <a:pt x="20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371320" y="1629360"/>
              <a:ext cx="2880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389320" y="1629360"/>
              <a:ext cx="2772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389320" y="1629360"/>
              <a:ext cx="2772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03360" y="1629360"/>
              <a:ext cx="3060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03360" y="1629360"/>
              <a:ext cx="3060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22080" y="1629360"/>
              <a:ext cx="2916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0"/>
                  </a:lnTo>
                  <a:lnTo>
                    <a:pt x="20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22080" y="1629360"/>
              <a:ext cx="2916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39360" y="1629360"/>
              <a:ext cx="3060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39360" y="1629360"/>
              <a:ext cx="3060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361600" y="162936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14520" y="162936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378880" y="162936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395800" y="162936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346120" y="162936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27760" y="162936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28560" y="162936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48360" y="162936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292120" y="1623600"/>
              <a:ext cx="149760" cy="21960"/>
            </a:xfrm>
            <a:custGeom>
              <a:avLst/>
              <a:gdLst/>
              <a:ahLst/>
              <a:rect l="l" t="t" r="r" b="b"/>
              <a:pathLst>
                <a:path w="105" h="18">
                  <a:moveTo>
                    <a:pt x="0" y="17"/>
                  </a:moveTo>
                  <a:lnTo>
                    <a:pt x="5" y="0"/>
                  </a:lnTo>
                  <a:lnTo>
                    <a:pt x="101" y="0"/>
                  </a:lnTo>
                  <a:lnTo>
                    <a:pt x="104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07400" y="1595520"/>
              <a:ext cx="28800" cy="396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0" y="5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30"/>
                  </a:lnTo>
                  <a:lnTo>
                    <a:pt x="0" y="30"/>
                  </a:lnTo>
                  <a:lnTo>
                    <a:pt x="0" y="5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07400" y="1595520"/>
              <a:ext cx="28800" cy="4824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0" y="6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76080" y="1632600"/>
              <a:ext cx="30960" cy="21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7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76080" y="1632600"/>
              <a:ext cx="30960" cy="21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7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94800" y="1632600"/>
              <a:ext cx="3060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0"/>
                  </a:moveTo>
                  <a:lnTo>
                    <a:pt x="20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040" y="1632600"/>
              <a:ext cx="2916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0" y="17"/>
                  </a:lnTo>
                  <a:lnTo>
                    <a:pt x="20" y="17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66080" y="1608840"/>
              <a:ext cx="2916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1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17"/>
                  </a:lnTo>
                  <a:lnTo>
                    <a:pt x="20" y="1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67880" y="1608840"/>
              <a:ext cx="28800" cy="2340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2"/>
                  </a:moveTo>
                  <a:lnTo>
                    <a:pt x="0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74640" y="1635480"/>
              <a:ext cx="3060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0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74640" y="1635480"/>
              <a:ext cx="3060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18"/>
                  </a:lnTo>
                  <a:lnTo>
                    <a:pt x="2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74640" y="1627920"/>
              <a:ext cx="3060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7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74640" y="1627920"/>
              <a:ext cx="3060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74640" y="1618920"/>
              <a:ext cx="30600" cy="2340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0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74640" y="1620720"/>
              <a:ext cx="30600" cy="2340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18"/>
                  </a:lnTo>
                  <a:lnTo>
                    <a:pt x="2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74640" y="1611720"/>
              <a:ext cx="3060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7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74640" y="1611720"/>
              <a:ext cx="3060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474640" y="1603080"/>
              <a:ext cx="3060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0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474640" y="1605960"/>
              <a:ext cx="3060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474640" y="1596960"/>
              <a:ext cx="30600" cy="248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7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474640" y="1595520"/>
              <a:ext cx="3060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316960" y="1561680"/>
              <a:ext cx="117360" cy="23400"/>
            </a:xfrm>
            <a:custGeom>
              <a:avLst/>
              <a:gdLst/>
              <a:ahLst/>
              <a:rect l="l" t="t" r="r" b="b"/>
              <a:pathLst>
                <a:path w="83" h="18">
                  <a:moveTo>
                    <a:pt x="82" y="0"/>
                  </a:moveTo>
                  <a:lnTo>
                    <a:pt x="82" y="10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82" y="0"/>
                  </a:lnTo>
                </a:path>
              </a:pathLst>
            </a:custGeom>
            <a:solidFill>
              <a:srgbClr val="a08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316960" y="1561680"/>
              <a:ext cx="126720" cy="23400"/>
            </a:xfrm>
            <a:custGeom>
              <a:avLst/>
              <a:gdLst/>
              <a:ahLst/>
              <a:rect l="l" t="t" r="r" b="b"/>
              <a:pathLst>
                <a:path w="89" h="18">
                  <a:moveTo>
                    <a:pt x="88" y="0"/>
                  </a:moveTo>
                  <a:lnTo>
                    <a:pt x="88" y="9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64840" y="1543680"/>
              <a:ext cx="3060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9" y="0"/>
                  </a:moveTo>
                  <a:lnTo>
                    <a:pt x="21" y="2"/>
                  </a:lnTo>
                  <a:lnTo>
                    <a:pt x="21" y="7"/>
                  </a:lnTo>
                  <a:lnTo>
                    <a:pt x="12" y="7"/>
                  </a:lnTo>
                  <a:lnTo>
                    <a:pt x="7" y="15"/>
                  </a:lnTo>
                  <a:lnTo>
                    <a:pt x="0" y="17"/>
                  </a:lnTo>
                  <a:lnTo>
                    <a:pt x="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364840" y="1543680"/>
              <a:ext cx="30600" cy="324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9" y="0"/>
                  </a:moveTo>
                  <a:lnTo>
                    <a:pt x="21" y="3"/>
                  </a:lnTo>
                  <a:lnTo>
                    <a:pt x="21" y="10"/>
                  </a:lnTo>
                  <a:lnTo>
                    <a:pt x="11" y="10"/>
                  </a:lnTo>
                  <a:lnTo>
                    <a:pt x="5" y="22"/>
                  </a:lnTo>
                  <a:lnTo>
                    <a:pt x="0" y="24"/>
                  </a:lnTo>
                  <a:lnTo>
                    <a:pt x="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357280" y="1543680"/>
              <a:ext cx="2916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9" y="1"/>
                  </a:moveTo>
                  <a:lnTo>
                    <a:pt x="20" y="0"/>
                  </a:lnTo>
                  <a:lnTo>
                    <a:pt x="9" y="17"/>
                  </a:lnTo>
                  <a:lnTo>
                    <a:pt x="0" y="17"/>
                  </a:lnTo>
                  <a:lnTo>
                    <a:pt x="9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357280" y="1543680"/>
              <a:ext cx="29160" cy="324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9" y="2"/>
                  </a:moveTo>
                  <a:lnTo>
                    <a:pt x="20" y="0"/>
                  </a:lnTo>
                  <a:lnTo>
                    <a:pt x="9" y="24"/>
                  </a:lnTo>
                  <a:lnTo>
                    <a:pt x="0" y="24"/>
                  </a:lnTo>
                  <a:lnTo>
                    <a:pt x="9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406600" y="1533960"/>
              <a:ext cx="29160" cy="277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0" y="1"/>
                  </a:moveTo>
                  <a:lnTo>
                    <a:pt x="19" y="0"/>
                  </a:lnTo>
                  <a:lnTo>
                    <a:pt x="9" y="21"/>
                  </a:lnTo>
                  <a:lnTo>
                    <a:pt x="0" y="21"/>
                  </a:lnTo>
                  <a:lnTo>
                    <a:pt x="10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06600" y="1533960"/>
              <a:ext cx="29160" cy="3492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0" y="1"/>
                  </a:moveTo>
                  <a:lnTo>
                    <a:pt x="19" y="0"/>
                  </a:lnTo>
                  <a:lnTo>
                    <a:pt x="9" y="27"/>
                  </a:lnTo>
                  <a:lnTo>
                    <a:pt x="0" y="27"/>
                  </a:lnTo>
                  <a:lnTo>
                    <a:pt x="1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418840" y="1533960"/>
              <a:ext cx="30600" cy="277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0" y="0"/>
                  </a:moveTo>
                  <a:lnTo>
                    <a:pt x="0" y="21"/>
                  </a:lnTo>
                  <a:lnTo>
                    <a:pt x="7" y="18"/>
                  </a:lnTo>
                  <a:lnTo>
                    <a:pt x="10" y="9"/>
                  </a:lnTo>
                  <a:lnTo>
                    <a:pt x="20" y="8"/>
                  </a:lnTo>
                  <a:lnTo>
                    <a:pt x="20" y="3"/>
                  </a:lnTo>
                  <a:lnTo>
                    <a:pt x="1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418840" y="1533960"/>
              <a:ext cx="30600" cy="3492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1" y="0"/>
                  </a:moveTo>
                  <a:lnTo>
                    <a:pt x="0" y="27"/>
                  </a:lnTo>
                  <a:lnTo>
                    <a:pt x="6" y="24"/>
                  </a:lnTo>
                  <a:lnTo>
                    <a:pt x="11" y="12"/>
                  </a:lnTo>
                  <a:lnTo>
                    <a:pt x="20" y="11"/>
                  </a:lnTo>
                  <a:lnTo>
                    <a:pt x="20" y="4"/>
                  </a:lnTo>
                  <a:lnTo>
                    <a:pt x="1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442240" y="1631160"/>
              <a:ext cx="3096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7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42240" y="1631160"/>
              <a:ext cx="32400" cy="23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17"/>
                  </a:moveTo>
                  <a:lnTo>
                    <a:pt x="22" y="17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71400" y="1631160"/>
              <a:ext cx="2772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0"/>
                  </a:moveTo>
                  <a:lnTo>
                    <a:pt x="19" y="17"/>
                  </a:lnTo>
                  <a:lnTo>
                    <a:pt x="0" y="17"/>
                  </a:lnTo>
                  <a:lnTo>
                    <a:pt x="0" y="2"/>
                  </a:lnTo>
                  <a:lnTo>
                    <a:pt x="1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73200" y="1631160"/>
              <a:ext cx="2880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0" y="17"/>
                  </a:lnTo>
                  <a:lnTo>
                    <a:pt x="20" y="14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319840" y="1582200"/>
              <a:ext cx="38520" cy="2196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0" y="10"/>
                  </a:moveTo>
                  <a:lnTo>
                    <a:pt x="21" y="17"/>
                  </a:lnTo>
                  <a:lnTo>
                    <a:pt x="25" y="5"/>
                  </a:lnTo>
                  <a:lnTo>
                    <a:pt x="2" y="0"/>
                  </a:lnTo>
                  <a:lnTo>
                    <a:pt x="0" y="1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319840" y="1585440"/>
              <a:ext cx="46080" cy="248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5"/>
                  </a:moveTo>
                  <a:lnTo>
                    <a:pt x="26" y="0"/>
                  </a:lnTo>
                  <a:lnTo>
                    <a:pt x="31" y="11"/>
                  </a:lnTo>
                  <a:lnTo>
                    <a:pt x="2" y="18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316960" y="1586520"/>
              <a:ext cx="27720" cy="4860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19" y="37"/>
                  </a:moveTo>
                  <a:lnTo>
                    <a:pt x="19" y="0"/>
                  </a:lnTo>
                  <a:lnTo>
                    <a:pt x="0" y="2"/>
                  </a:lnTo>
                  <a:lnTo>
                    <a:pt x="0" y="37"/>
                  </a:lnTo>
                  <a:lnTo>
                    <a:pt x="19" y="37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319840" y="1586520"/>
              <a:ext cx="29160" cy="5724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44"/>
                  </a:moveTo>
                  <a:lnTo>
                    <a:pt x="0" y="0"/>
                  </a:lnTo>
                  <a:lnTo>
                    <a:pt x="19" y="2"/>
                  </a:lnTo>
                  <a:lnTo>
                    <a:pt x="19" y="44"/>
                  </a:lnTo>
                  <a:lnTo>
                    <a:pt x="0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2600" y="1584000"/>
              <a:ext cx="32040" cy="5436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1" y="41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0" y="41"/>
                  </a:lnTo>
                  <a:lnTo>
                    <a:pt x="21" y="41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61600" y="1584000"/>
              <a:ext cx="30600" cy="63000"/>
            </a:xfrm>
            <a:custGeom>
              <a:avLst/>
              <a:gdLst/>
              <a:ahLst/>
              <a:rect l="l" t="t" r="r" b="b"/>
              <a:pathLst>
                <a:path w="22" h="49">
                  <a:moveTo>
                    <a:pt x="0" y="48"/>
                  </a:moveTo>
                  <a:lnTo>
                    <a:pt x="0" y="0"/>
                  </a:lnTo>
                  <a:lnTo>
                    <a:pt x="21" y="3"/>
                  </a:lnTo>
                  <a:lnTo>
                    <a:pt x="21" y="48"/>
                  </a:lnTo>
                  <a:lnTo>
                    <a:pt x="0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361600" y="1581120"/>
              <a:ext cx="46080" cy="219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8"/>
                  </a:moveTo>
                  <a:lnTo>
                    <a:pt x="28" y="17"/>
                  </a:lnTo>
                  <a:lnTo>
                    <a:pt x="33" y="0"/>
                  </a:lnTo>
                  <a:lnTo>
                    <a:pt x="2" y="0"/>
                  </a:lnTo>
                  <a:lnTo>
                    <a:pt x="0" y="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61600" y="1584000"/>
              <a:ext cx="56880" cy="2340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0" y="4"/>
                  </a:moveTo>
                  <a:lnTo>
                    <a:pt x="34" y="0"/>
                  </a:lnTo>
                  <a:lnTo>
                    <a:pt x="40" y="13"/>
                  </a:lnTo>
                  <a:lnTo>
                    <a:pt x="3" y="18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06600" y="1584000"/>
              <a:ext cx="29160" cy="5436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19" y="42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0" y="42"/>
                  </a:lnTo>
                  <a:lnTo>
                    <a:pt x="19" y="42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14520" y="1584000"/>
              <a:ext cx="26280" cy="63000"/>
            </a:xfrm>
            <a:custGeom>
              <a:avLst/>
              <a:gdLst/>
              <a:ahLst/>
              <a:rect l="l" t="t" r="r" b="b"/>
              <a:pathLst>
                <a:path w="19" h="50">
                  <a:moveTo>
                    <a:pt x="0" y="49"/>
                  </a:moveTo>
                  <a:lnTo>
                    <a:pt x="0" y="0"/>
                  </a:lnTo>
                  <a:lnTo>
                    <a:pt x="18" y="3"/>
                  </a:lnTo>
                  <a:lnTo>
                    <a:pt x="18" y="49"/>
                  </a:lnTo>
                  <a:lnTo>
                    <a:pt x="0" y="4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2622600" y="863640"/>
            <a:ext cx="504360" cy="418680"/>
            <a:chOff x="2622600" y="863640"/>
            <a:chExt cx="504360" cy="418680"/>
          </a:xfrm>
        </p:grpSpPr>
        <p:sp>
          <p:nvSpPr>
            <p:cNvPr id="1000" name=""/>
            <p:cNvSpPr/>
            <p:nvPr/>
          </p:nvSpPr>
          <p:spPr>
            <a:xfrm>
              <a:off x="2933640" y="863640"/>
              <a:ext cx="4788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3" y="0"/>
                  </a:moveTo>
                  <a:lnTo>
                    <a:pt x="20" y="0"/>
                  </a:lnTo>
                  <a:lnTo>
                    <a:pt x="28" y="0"/>
                  </a:lnTo>
                  <a:lnTo>
                    <a:pt x="33" y="14"/>
                  </a:lnTo>
                  <a:lnTo>
                    <a:pt x="33" y="28"/>
                  </a:lnTo>
                  <a:lnTo>
                    <a:pt x="28" y="28"/>
                  </a:lnTo>
                  <a:lnTo>
                    <a:pt x="20" y="28"/>
                  </a:lnTo>
                  <a:lnTo>
                    <a:pt x="13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33640" y="863640"/>
              <a:ext cx="51120" cy="37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15" y="0"/>
                  </a:moveTo>
                  <a:lnTo>
                    <a:pt x="22" y="0"/>
                  </a:lnTo>
                  <a:lnTo>
                    <a:pt x="30" y="3"/>
                  </a:lnTo>
                  <a:lnTo>
                    <a:pt x="35" y="7"/>
                  </a:lnTo>
                  <a:lnTo>
                    <a:pt x="35" y="14"/>
                  </a:lnTo>
                  <a:lnTo>
                    <a:pt x="35" y="21"/>
                  </a:lnTo>
                  <a:lnTo>
                    <a:pt x="30" y="24"/>
                  </a:lnTo>
                  <a:lnTo>
                    <a:pt x="22" y="28"/>
                  </a:lnTo>
                  <a:lnTo>
                    <a:pt x="15" y="28"/>
                  </a:lnTo>
                  <a:lnTo>
                    <a:pt x="9" y="28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3" y="3"/>
                  </a:lnTo>
                  <a:lnTo>
                    <a:pt x="9" y="0"/>
                  </a:lnTo>
                  <a:lnTo>
                    <a:pt x="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5440" y="875520"/>
              <a:ext cx="4608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0"/>
                  </a:moveTo>
                  <a:lnTo>
                    <a:pt x="19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32" y="14"/>
                  </a:lnTo>
                  <a:lnTo>
                    <a:pt x="27" y="29"/>
                  </a:lnTo>
                  <a:lnTo>
                    <a:pt x="25" y="29"/>
                  </a:lnTo>
                  <a:lnTo>
                    <a:pt x="19" y="29"/>
                  </a:lnTo>
                  <a:lnTo>
                    <a:pt x="16" y="29"/>
                  </a:lnTo>
                  <a:lnTo>
                    <a:pt x="7" y="29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3" y="0"/>
                  </a:lnTo>
                  <a:lnTo>
                    <a:pt x="7" y="0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45440" y="875520"/>
              <a:ext cx="52560" cy="3816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7" y="0"/>
                  </a:moveTo>
                  <a:lnTo>
                    <a:pt x="24" y="0"/>
                  </a:lnTo>
                  <a:lnTo>
                    <a:pt x="29" y="3"/>
                  </a:lnTo>
                  <a:lnTo>
                    <a:pt x="33" y="10"/>
                  </a:lnTo>
                  <a:lnTo>
                    <a:pt x="36" y="14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29"/>
                  </a:lnTo>
                  <a:lnTo>
                    <a:pt x="17" y="29"/>
                  </a:lnTo>
                  <a:lnTo>
                    <a:pt x="9" y="29"/>
                  </a:lnTo>
                  <a:lnTo>
                    <a:pt x="5" y="25"/>
                  </a:lnTo>
                  <a:lnTo>
                    <a:pt x="1" y="21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5" y="3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51120" y="887400"/>
              <a:ext cx="4788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1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28" y="9"/>
                  </a:lnTo>
                  <a:lnTo>
                    <a:pt x="33" y="18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0" y="29"/>
                  </a:lnTo>
                  <a:lnTo>
                    <a:pt x="11" y="29"/>
                  </a:lnTo>
                  <a:lnTo>
                    <a:pt x="7" y="29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751120" y="887400"/>
              <a:ext cx="54000" cy="38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16" y="0"/>
                  </a:moveTo>
                  <a:lnTo>
                    <a:pt x="23" y="0"/>
                  </a:lnTo>
                  <a:lnTo>
                    <a:pt x="30" y="1"/>
                  </a:lnTo>
                  <a:lnTo>
                    <a:pt x="34" y="9"/>
                  </a:lnTo>
                  <a:lnTo>
                    <a:pt x="37" y="14"/>
                  </a:lnTo>
                  <a:lnTo>
                    <a:pt x="34" y="18"/>
                  </a:lnTo>
                  <a:lnTo>
                    <a:pt x="30" y="21"/>
                  </a:lnTo>
                  <a:lnTo>
                    <a:pt x="23" y="25"/>
                  </a:lnTo>
                  <a:lnTo>
                    <a:pt x="16" y="29"/>
                  </a:lnTo>
                  <a:lnTo>
                    <a:pt x="9" y="25"/>
                  </a:lnTo>
                  <a:lnTo>
                    <a:pt x="5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5" y="1"/>
                  </a:lnTo>
                  <a:lnTo>
                    <a:pt x="9" y="0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928960" y="866520"/>
              <a:ext cx="51120" cy="357840"/>
            </a:xfrm>
            <a:custGeom>
              <a:avLst/>
              <a:gdLst/>
              <a:ahLst/>
              <a:rect l="l" t="t" r="r" b="b"/>
              <a:pathLst>
                <a:path w="36" h="275">
                  <a:moveTo>
                    <a:pt x="0" y="0"/>
                  </a:moveTo>
                  <a:lnTo>
                    <a:pt x="35" y="0"/>
                  </a:lnTo>
                  <a:lnTo>
                    <a:pt x="35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28960" y="866520"/>
              <a:ext cx="52560" cy="371520"/>
            </a:xfrm>
            <a:custGeom>
              <a:avLst/>
              <a:gdLst/>
              <a:ahLst/>
              <a:rect l="l" t="t" r="r" b="b"/>
              <a:pathLst>
                <a:path w="37" h="286">
                  <a:moveTo>
                    <a:pt x="0" y="0"/>
                  </a:moveTo>
                  <a:lnTo>
                    <a:pt x="36" y="0"/>
                  </a:lnTo>
                  <a:lnTo>
                    <a:pt x="36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42200" y="878400"/>
              <a:ext cx="44640" cy="356400"/>
            </a:xfrm>
            <a:custGeom>
              <a:avLst/>
              <a:gdLst/>
              <a:ahLst/>
              <a:rect l="l" t="t" r="r" b="b"/>
              <a:pathLst>
                <a:path w="32" h="275">
                  <a:moveTo>
                    <a:pt x="0" y="0"/>
                  </a:moveTo>
                  <a:lnTo>
                    <a:pt x="31" y="0"/>
                  </a:lnTo>
                  <a:lnTo>
                    <a:pt x="31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42200" y="878400"/>
              <a:ext cx="52560" cy="371520"/>
            </a:xfrm>
            <a:custGeom>
              <a:avLst/>
              <a:gdLst/>
              <a:ahLst/>
              <a:rect l="l" t="t" r="r" b="b"/>
              <a:pathLst>
                <a:path w="37" h="286">
                  <a:moveTo>
                    <a:pt x="0" y="0"/>
                  </a:moveTo>
                  <a:lnTo>
                    <a:pt x="36" y="0"/>
                  </a:lnTo>
                  <a:lnTo>
                    <a:pt x="36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747880" y="890280"/>
              <a:ext cx="49320" cy="356400"/>
            </a:xfrm>
            <a:custGeom>
              <a:avLst/>
              <a:gdLst/>
              <a:ahLst/>
              <a:rect l="l" t="t" r="r" b="b"/>
              <a:pathLst>
                <a:path w="35" h="275">
                  <a:moveTo>
                    <a:pt x="0" y="0"/>
                  </a:moveTo>
                  <a:lnTo>
                    <a:pt x="34" y="0"/>
                  </a:lnTo>
                  <a:lnTo>
                    <a:pt x="34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47880" y="890280"/>
              <a:ext cx="54000" cy="371160"/>
            </a:xfrm>
            <a:custGeom>
              <a:avLst/>
              <a:gdLst/>
              <a:ahLst/>
              <a:rect l="l" t="t" r="r" b="b"/>
              <a:pathLst>
                <a:path w="38" h="286">
                  <a:moveTo>
                    <a:pt x="0" y="0"/>
                  </a:moveTo>
                  <a:lnTo>
                    <a:pt x="37" y="0"/>
                  </a:lnTo>
                  <a:lnTo>
                    <a:pt x="37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38320" y="866520"/>
              <a:ext cx="46440" cy="367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4" y="0"/>
                  </a:moveTo>
                  <a:lnTo>
                    <a:pt x="22" y="0"/>
                  </a:lnTo>
                  <a:lnTo>
                    <a:pt x="26" y="0"/>
                  </a:lnTo>
                  <a:lnTo>
                    <a:pt x="31" y="14"/>
                  </a:lnTo>
                  <a:lnTo>
                    <a:pt x="26" y="28"/>
                  </a:lnTo>
                  <a:lnTo>
                    <a:pt x="22" y="28"/>
                  </a:lnTo>
                  <a:lnTo>
                    <a:pt x="14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46880" y="878400"/>
              <a:ext cx="4788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5" y="0"/>
                  </a:moveTo>
                  <a:lnTo>
                    <a:pt x="22" y="0"/>
                  </a:lnTo>
                  <a:lnTo>
                    <a:pt x="28" y="0"/>
                  </a:lnTo>
                  <a:lnTo>
                    <a:pt x="33" y="14"/>
                  </a:lnTo>
                  <a:lnTo>
                    <a:pt x="33" y="28"/>
                  </a:lnTo>
                  <a:lnTo>
                    <a:pt x="28" y="28"/>
                  </a:lnTo>
                  <a:lnTo>
                    <a:pt x="22" y="28"/>
                  </a:lnTo>
                  <a:lnTo>
                    <a:pt x="15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5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752200" y="890280"/>
              <a:ext cx="49320" cy="3816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14" y="0"/>
                  </a:moveTo>
                  <a:lnTo>
                    <a:pt x="23" y="0"/>
                  </a:lnTo>
                  <a:lnTo>
                    <a:pt x="27" y="0"/>
                  </a:lnTo>
                  <a:lnTo>
                    <a:pt x="29" y="14"/>
                  </a:lnTo>
                  <a:lnTo>
                    <a:pt x="34" y="14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3" y="29"/>
                  </a:lnTo>
                  <a:lnTo>
                    <a:pt x="14" y="29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928960" y="866520"/>
              <a:ext cx="51120" cy="354960"/>
            </a:xfrm>
            <a:custGeom>
              <a:avLst/>
              <a:gdLst/>
              <a:ahLst/>
              <a:rect l="l" t="t" r="r" b="b"/>
              <a:pathLst>
                <a:path w="36" h="273">
                  <a:moveTo>
                    <a:pt x="0" y="0"/>
                  </a:moveTo>
                  <a:lnTo>
                    <a:pt x="35" y="0"/>
                  </a:lnTo>
                  <a:lnTo>
                    <a:pt x="35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42200" y="878400"/>
              <a:ext cx="44640" cy="354960"/>
            </a:xfrm>
            <a:custGeom>
              <a:avLst/>
              <a:gdLst/>
              <a:ahLst/>
              <a:rect l="l" t="t" r="r" b="b"/>
              <a:pathLst>
                <a:path w="32" h="273">
                  <a:moveTo>
                    <a:pt x="0" y="0"/>
                  </a:moveTo>
                  <a:lnTo>
                    <a:pt x="31" y="0"/>
                  </a:lnTo>
                  <a:lnTo>
                    <a:pt x="31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47880" y="890280"/>
              <a:ext cx="49320" cy="354960"/>
            </a:xfrm>
            <a:custGeom>
              <a:avLst/>
              <a:gdLst/>
              <a:ahLst/>
              <a:rect l="l" t="t" r="r" b="b"/>
              <a:pathLst>
                <a:path w="35" h="274">
                  <a:moveTo>
                    <a:pt x="0" y="0"/>
                  </a:moveTo>
                  <a:lnTo>
                    <a:pt x="34" y="0"/>
                  </a:lnTo>
                  <a:lnTo>
                    <a:pt x="34" y="273"/>
                  </a:lnTo>
                  <a:lnTo>
                    <a:pt x="0" y="273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39760" y="881280"/>
              <a:ext cx="50760" cy="1440"/>
            </a:xfrm>
            <a:custGeom>
              <a:avLst/>
              <a:gdLst/>
              <a:ahLst/>
              <a:rect l="l" t="t" r="r" b="b"/>
              <a:pathLst>
                <a:path w="35" h="1">
                  <a:moveTo>
                    <a:pt x="16" y="0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48680" y="881280"/>
              <a:ext cx="49320" cy="399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6" y="29"/>
                  </a:moveTo>
                  <a:lnTo>
                    <a:pt x="24" y="29"/>
                  </a:lnTo>
                  <a:lnTo>
                    <a:pt x="33" y="29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7" y="29"/>
                  </a:lnTo>
                  <a:lnTo>
                    <a:pt x="16" y="29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758680" y="893520"/>
              <a:ext cx="49320" cy="381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6" y="29"/>
                  </a:moveTo>
                  <a:lnTo>
                    <a:pt x="24" y="29"/>
                  </a:lnTo>
                  <a:lnTo>
                    <a:pt x="33" y="29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7" y="29"/>
                  </a:lnTo>
                  <a:lnTo>
                    <a:pt x="16" y="29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38320" y="866520"/>
              <a:ext cx="46440" cy="354960"/>
            </a:xfrm>
            <a:custGeom>
              <a:avLst/>
              <a:gdLst/>
              <a:ahLst/>
              <a:rect l="l" t="t" r="r" b="b"/>
              <a:pathLst>
                <a:path w="32" h="273">
                  <a:moveTo>
                    <a:pt x="0" y="0"/>
                  </a:moveTo>
                  <a:lnTo>
                    <a:pt x="31" y="0"/>
                  </a:lnTo>
                  <a:lnTo>
                    <a:pt x="31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846880" y="878400"/>
              <a:ext cx="47880" cy="354960"/>
            </a:xfrm>
            <a:custGeom>
              <a:avLst/>
              <a:gdLst/>
              <a:ahLst/>
              <a:rect l="l" t="t" r="r" b="b"/>
              <a:pathLst>
                <a:path w="34" h="273">
                  <a:moveTo>
                    <a:pt x="0" y="0"/>
                  </a:moveTo>
                  <a:lnTo>
                    <a:pt x="33" y="0"/>
                  </a:lnTo>
                  <a:lnTo>
                    <a:pt x="33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752200" y="890280"/>
              <a:ext cx="49320" cy="354960"/>
            </a:xfrm>
            <a:custGeom>
              <a:avLst/>
              <a:gdLst/>
              <a:ahLst/>
              <a:rect l="l" t="t" r="r" b="b"/>
              <a:pathLst>
                <a:path w="35" h="274">
                  <a:moveTo>
                    <a:pt x="0" y="0"/>
                  </a:moveTo>
                  <a:lnTo>
                    <a:pt x="34" y="0"/>
                  </a:lnTo>
                  <a:lnTo>
                    <a:pt x="34" y="273"/>
                  </a:lnTo>
                  <a:lnTo>
                    <a:pt x="0" y="273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92680" y="1202400"/>
              <a:ext cx="57240" cy="367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7"/>
                  </a:moveTo>
                  <a:lnTo>
                    <a:pt x="11" y="7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9" y="7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32" y="5"/>
                  </a:lnTo>
                  <a:lnTo>
                    <a:pt x="32" y="7"/>
                  </a:lnTo>
                  <a:lnTo>
                    <a:pt x="39" y="10"/>
                  </a:lnTo>
                  <a:lnTo>
                    <a:pt x="39" y="28"/>
                  </a:lnTo>
                  <a:lnTo>
                    <a:pt x="0" y="28"/>
                  </a:lnTo>
                  <a:lnTo>
                    <a:pt x="0" y="7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92680" y="1202400"/>
              <a:ext cx="73800" cy="367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7"/>
                  </a:moveTo>
                  <a:lnTo>
                    <a:pt x="16" y="7"/>
                  </a:lnTo>
                  <a:lnTo>
                    <a:pt x="16" y="1"/>
                  </a:lnTo>
                  <a:lnTo>
                    <a:pt x="26" y="0"/>
                  </a:lnTo>
                  <a:lnTo>
                    <a:pt x="26" y="7"/>
                  </a:lnTo>
                  <a:lnTo>
                    <a:pt x="32" y="8"/>
                  </a:lnTo>
                  <a:lnTo>
                    <a:pt x="32" y="5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51" y="12"/>
                  </a:lnTo>
                  <a:lnTo>
                    <a:pt x="51" y="28"/>
                  </a:lnTo>
                  <a:lnTo>
                    <a:pt x="0" y="28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43000" y="1135440"/>
              <a:ext cx="49320" cy="99360"/>
            </a:xfrm>
            <a:custGeom>
              <a:avLst/>
              <a:gdLst/>
              <a:ahLst/>
              <a:rect l="l" t="t" r="r" b="b"/>
              <a:pathLst>
                <a:path w="34" h="77">
                  <a:moveTo>
                    <a:pt x="0" y="0"/>
                  </a:moveTo>
                  <a:lnTo>
                    <a:pt x="9" y="5"/>
                  </a:lnTo>
                  <a:lnTo>
                    <a:pt x="9" y="16"/>
                  </a:lnTo>
                  <a:lnTo>
                    <a:pt x="24" y="19"/>
                  </a:lnTo>
                  <a:lnTo>
                    <a:pt x="24" y="14"/>
                  </a:lnTo>
                  <a:lnTo>
                    <a:pt x="33" y="16"/>
                  </a:lnTo>
                  <a:lnTo>
                    <a:pt x="33" y="70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43000" y="1135440"/>
              <a:ext cx="58320" cy="114480"/>
            </a:xfrm>
            <a:custGeom>
              <a:avLst/>
              <a:gdLst/>
              <a:ahLst/>
              <a:rect l="l" t="t" r="r" b="b"/>
              <a:pathLst>
                <a:path w="41" h="88">
                  <a:moveTo>
                    <a:pt x="0" y="0"/>
                  </a:moveTo>
                  <a:lnTo>
                    <a:pt x="12" y="5"/>
                  </a:lnTo>
                  <a:lnTo>
                    <a:pt x="12" y="18"/>
                  </a:lnTo>
                  <a:lnTo>
                    <a:pt x="31" y="23"/>
                  </a:lnTo>
                  <a:lnTo>
                    <a:pt x="31" y="16"/>
                  </a:lnTo>
                  <a:lnTo>
                    <a:pt x="40" y="18"/>
                  </a:lnTo>
                  <a:lnTo>
                    <a:pt x="40" y="79"/>
                  </a:ln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43000" y="1173960"/>
              <a:ext cx="49320" cy="590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0" y="0"/>
                  </a:moveTo>
                  <a:lnTo>
                    <a:pt x="33" y="5"/>
                  </a:lnTo>
                  <a:lnTo>
                    <a:pt x="33" y="42"/>
                  </a:lnTo>
                  <a:lnTo>
                    <a:pt x="24" y="44"/>
                  </a:lnTo>
                  <a:lnTo>
                    <a:pt x="24" y="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43000" y="1173960"/>
              <a:ext cx="49320" cy="727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0"/>
                  </a:moveTo>
                  <a:lnTo>
                    <a:pt x="33" y="7"/>
                  </a:lnTo>
                  <a:lnTo>
                    <a:pt x="33" y="53"/>
                  </a:lnTo>
                  <a:lnTo>
                    <a:pt x="22" y="55"/>
                  </a:lnTo>
                  <a:lnTo>
                    <a:pt x="22" y="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675160" y="1068480"/>
              <a:ext cx="210600" cy="174960"/>
            </a:xfrm>
            <a:custGeom>
              <a:avLst/>
              <a:gdLst/>
              <a:ahLst/>
              <a:rect l="l" t="t" r="r" b="b"/>
              <a:pathLst>
                <a:path w="148" h="134">
                  <a:moveTo>
                    <a:pt x="0" y="30"/>
                  </a:moveTo>
                  <a:lnTo>
                    <a:pt x="147" y="0"/>
                  </a:lnTo>
                  <a:lnTo>
                    <a:pt x="147" y="133"/>
                  </a:lnTo>
                  <a:lnTo>
                    <a:pt x="0" y="133"/>
                  </a:lnTo>
                  <a:lnTo>
                    <a:pt x="0" y="3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675160" y="1068480"/>
              <a:ext cx="228960" cy="187200"/>
            </a:xfrm>
            <a:custGeom>
              <a:avLst/>
              <a:gdLst/>
              <a:ahLst/>
              <a:rect l="l" t="t" r="r" b="b"/>
              <a:pathLst>
                <a:path w="161" h="144">
                  <a:moveTo>
                    <a:pt x="0" y="32"/>
                  </a:moveTo>
                  <a:lnTo>
                    <a:pt x="160" y="0"/>
                  </a:lnTo>
                  <a:lnTo>
                    <a:pt x="160" y="143"/>
                  </a:lnTo>
                  <a:lnTo>
                    <a:pt x="0" y="143"/>
                  </a:lnTo>
                  <a:lnTo>
                    <a:pt x="0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899440" y="1068480"/>
              <a:ext cx="47880" cy="170640"/>
            </a:xfrm>
            <a:custGeom>
              <a:avLst/>
              <a:gdLst/>
              <a:ahLst/>
              <a:rect l="l" t="t" r="r" b="b"/>
              <a:pathLst>
                <a:path w="34" h="131">
                  <a:moveTo>
                    <a:pt x="20" y="0"/>
                  </a:moveTo>
                  <a:lnTo>
                    <a:pt x="20" y="7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22" y="126"/>
                  </a:lnTo>
                  <a:lnTo>
                    <a:pt x="22" y="28"/>
                  </a:lnTo>
                  <a:lnTo>
                    <a:pt x="33" y="30"/>
                  </a:lnTo>
                  <a:lnTo>
                    <a:pt x="33" y="5"/>
                  </a:lnTo>
                  <a:lnTo>
                    <a:pt x="2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899440" y="1068480"/>
              <a:ext cx="64800" cy="185400"/>
            </a:xfrm>
            <a:custGeom>
              <a:avLst/>
              <a:gdLst/>
              <a:ahLst/>
              <a:rect l="l" t="t" r="r" b="b"/>
              <a:pathLst>
                <a:path w="46" h="142">
                  <a:moveTo>
                    <a:pt x="27" y="0"/>
                  </a:moveTo>
                  <a:lnTo>
                    <a:pt x="27" y="7"/>
                  </a:lnTo>
                  <a:lnTo>
                    <a:pt x="0" y="0"/>
                  </a:lnTo>
                  <a:lnTo>
                    <a:pt x="0" y="141"/>
                  </a:lnTo>
                  <a:lnTo>
                    <a:pt x="30" y="137"/>
                  </a:lnTo>
                  <a:lnTo>
                    <a:pt x="30" y="30"/>
                  </a:lnTo>
                  <a:lnTo>
                    <a:pt x="45" y="32"/>
                  </a:lnTo>
                  <a:lnTo>
                    <a:pt x="45" y="5"/>
                  </a:lnTo>
                  <a:lnTo>
                    <a:pt x="2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74160" y="1080360"/>
              <a:ext cx="46080" cy="99360"/>
            </a:xfrm>
            <a:custGeom>
              <a:avLst/>
              <a:gdLst/>
              <a:ahLst/>
              <a:rect l="l" t="t" r="r" b="b"/>
              <a:pathLst>
                <a:path w="33" h="76">
                  <a:moveTo>
                    <a:pt x="32" y="0"/>
                  </a:moveTo>
                  <a:lnTo>
                    <a:pt x="32" y="73"/>
                  </a:lnTo>
                  <a:lnTo>
                    <a:pt x="0" y="75"/>
                  </a:lnTo>
                  <a:lnTo>
                    <a:pt x="0" y="3"/>
                  </a:lnTo>
                  <a:lnTo>
                    <a:pt x="32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74160" y="1080360"/>
              <a:ext cx="46080" cy="112680"/>
            </a:xfrm>
            <a:custGeom>
              <a:avLst/>
              <a:gdLst/>
              <a:ahLst/>
              <a:rect l="l" t="t" r="r" b="b"/>
              <a:pathLst>
                <a:path w="33" h="87">
                  <a:moveTo>
                    <a:pt x="32" y="0"/>
                  </a:moveTo>
                  <a:lnTo>
                    <a:pt x="32" y="84"/>
                  </a:lnTo>
                  <a:lnTo>
                    <a:pt x="0" y="86"/>
                  </a:lnTo>
                  <a:lnTo>
                    <a:pt x="0" y="3"/>
                  </a:lnTo>
                  <a:lnTo>
                    <a:pt x="3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75600" y="1193400"/>
              <a:ext cx="4968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24" y="0"/>
                  </a:lnTo>
                  <a:lnTo>
                    <a:pt x="33" y="29"/>
                  </a:lnTo>
                  <a:lnTo>
                    <a:pt x="7" y="29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5600" y="1193400"/>
              <a:ext cx="4968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24" y="0"/>
                  </a:lnTo>
                  <a:lnTo>
                    <a:pt x="33" y="29"/>
                  </a:lnTo>
                  <a:lnTo>
                    <a:pt x="9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09800" y="1080360"/>
              <a:ext cx="44640" cy="123120"/>
            </a:xfrm>
            <a:custGeom>
              <a:avLst/>
              <a:gdLst/>
              <a:ahLst/>
              <a:rect l="l" t="t" r="r" b="b"/>
              <a:pathLst>
                <a:path w="32" h="95">
                  <a:moveTo>
                    <a:pt x="31" y="0"/>
                  </a:moveTo>
                  <a:lnTo>
                    <a:pt x="0" y="1"/>
                  </a:lnTo>
                  <a:lnTo>
                    <a:pt x="0" y="94"/>
                  </a:lnTo>
                  <a:lnTo>
                    <a:pt x="31" y="74"/>
                  </a:lnTo>
                  <a:lnTo>
                    <a:pt x="31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811240" y="1080360"/>
              <a:ext cx="46080" cy="137880"/>
            </a:xfrm>
            <a:custGeom>
              <a:avLst/>
              <a:gdLst/>
              <a:ahLst/>
              <a:rect l="l" t="t" r="r" b="b"/>
              <a:pathLst>
                <a:path w="33" h="106">
                  <a:moveTo>
                    <a:pt x="0" y="0"/>
                  </a:moveTo>
                  <a:lnTo>
                    <a:pt x="32" y="1"/>
                  </a:lnTo>
                  <a:lnTo>
                    <a:pt x="32" y="105"/>
                  </a:ln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30960" y="1095120"/>
              <a:ext cx="1080" cy="10836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65"/>
                  </a:lnTo>
                  <a:lnTo>
                    <a:pt x="0" y="8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30960" y="1095120"/>
              <a:ext cx="46080" cy="123120"/>
            </a:xfrm>
            <a:custGeom>
              <a:avLst/>
              <a:gdLst/>
              <a:ahLst/>
              <a:rect l="l" t="t" r="r" b="b"/>
              <a:pathLst>
                <a:path w="33" h="95">
                  <a:moveTo>
                    <a:pt x="0" y="0"/>
                  </a:moveTo>
                  <a:lnTo>
                    <a:pt x="0" y="74"/>
                  </a:lnTo>
                  <a:lnTo>
                    <a:pt x="32" y="94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698200" y="1095120"/>
              <a:ext cx="46080" cy="87480"/>
            </a:xfrm>
            <a:custGeom>
              <a:avLst/>
              <a:gdLst/>
              <a:ahLst/>
              <a:rect l="l" t="t" r="r" b="b"/>
              <a:pathLst>
                <a:path w="33" h="67">
                  <a:moveTo>
                    <a:pt x="0" y="3"/>
                  </a:moveTo>
                  <a:lnTo>
                    <a:pt x="32" y="0"/>
                  </a:lnTo>
                  <a:lnTo>
                    <a:pt x="32" y="66"/>
                  </a:lnTo>
                  <a:lnTo>
                    <a:pt x="0" y="66"/>
                  </a:lnTo>
                  <a:lnTo>
                    <a:pt x="0" y="3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698200" y="1095120"/>
              <a:ext cx="46080" cy="10080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0" y="3"/>
                  </a:moveTo>
                  <a:lnTo>
                    <a:pt x="32" y="0"/>
                  </a:lnTo>
                  <a:lnTo>
                    <a:pt x="32" y="77"/>
                  </a:lnTo>
                  <a:lnTo>
                    <a:pt x="0" y="77"/>
                  </a:lnTo>
                  <a:lnTo>
                    <a:pt x="0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698200" y="1193400"/>
              <a:ext cx="4608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19" y="0"/>
                  </a:lnTo>
                  <a:lnTo>
                    <a:pt x="32" y="29"/>
                  </a:lnTo>
                  <a:lnTo>
                    <a:pt x="9" y="29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698200" y="1193400"/>
              <a:ext cx="54000" cy="38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0" y="1"/>
                  </a:moveTo>
                  <a:lnTo>
                    <a:pt x="23" y="0"/>
                  </a:lnTo>
                  <a:lnTo>
                    <a:pt x="37" y="29"/>
                  </a:lnTo>
                  <a:lnTo>
                    <a:pt x="11" y="29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848680" y="1141200"/>
              <a:ext cx="49320" cy="385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0"/>
                  </a:moveTo>
                  <a:lnTo>
                    <a:pt x="19" y="0"/>
                  </a:lnTo>
                  <a:lnTo>
                    <a:pt x="33" y="28"/>
                  </a:lnTo>
                  <a:lnTo>
                    <a:pt x="9" y="2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848680" y="1141200"/>
              <a:ext cx="5256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0"/>
                  </a:moveTo>
                  <a:lnTo>
                    <a:pt x="21" y="0"/>
                  </a:lnTo>
                  <a:lnTo>
                    <a:pt x="35" y="28"/>
                  </a:lnTo>
                  <a:lnTo>
                    <a:pt x="12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848680" y="1069920"/>
              <a:ext cx="49320" cy="6084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46"/>
                  </a:moveTo>
                  <a:lnTo>
                    <a:pt x="33" y="44"/>
                  </a:lnTo>
                  <a:lnTo>
                    <a:pt x="33" y="0"/>
                  </a:lnTo>
                  <a:lnTo>
                    <a:pt x="0" y="3"/>
                  </a:lnTo>
                  <a:lnTo>
                    <a:pt x="0" y="46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848680" y="1069920"/>
              <a:ext cx="49320" cy="74160"/>
            </a:xfrm>
            <a:custGeom>
              <a:avLst/>
              <a:gdLst/>
              <a:ahLst/>
              <a:rect l="l" t="t" r="r" b="b"/>
              <a:pathLst>
                <a:path w="34" h="57">
                  <a:moveTo>
                    <a:pt x="0" y="56"/>
                  </a:moveTo>
                  <a:lnTo>
                    <a:pt x="33" y="54"/>
                  </a:lnTo>
                  <a:lnTo>
                    <a:pt x="33" y="0"/>
                  </a:lnTo>
                  <a:lnTo>
                    <a:pt x="0" y="3"/>
                  </a:lnTo>
                  <a:lnTo>
                    <a:pt x="0" y="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879640" y="1068480"/>
              <a:ext cx="1080" cy="96480"/>
            </a:xfrm>
            <a:custGeom>
              <a:avLst/>
              <a:gdLst/>
              <a:ahLst/>
              <a:rect l="l" t="t" r="r" b="b"/>
              <a:pathLst>
                <a:path w="1" h="74">
                  <a:moveTo>
                    <a:pt x="0" y="0"/>
                  </a:moveTo>
                  <a:lnTo>
                    <a:pt x="0" y="48"/>
                  </a:lnTo>
                  <a:lnTo>
                    <a:pt x="0" y="7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879640" y="1068480"/>
              <a:ext cx="46080" cy="11124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0" y="0"/>
                  </a:moveTo>
                  <a:lnTo>
                    <a:pt x="0" y="55"/>
                  </a:lnTo>
                  <a:lnTo>
                    <a:pt x="32" y="84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769480" y="1089360"/>
              <a:ext cx="46080" cy="45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1"/>
                  </a:moveTo>
                  <a:lnTo>
                    <a:pt x="32" y="0"/>
                  </a:lnTo>
                  <a:lnTo>
                    <a:pt x="32" y="35"/>
                  </a:lnTo>
                  <a:lnTo>
                    <a:pt x="0" y="35"/>
                  </a:lnTo>
                  <a:lnTo>
                    <a:pt x="0" y="1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69480" y="1089360"/>
              <a:ext cx="46080" cy="6048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0" y="1"/>
                  </a:moveTo>
                  <a:lnTo>
                    <a:pt x="32" y="0"/>
                  </a:lnTo>
                  <a:lnTo>
                    <a:pt x="32" y="46"/>
                  </a:lnTo>
                  <a:lnTo>
                    <a:pt x="0" y="46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69480" y="1148760"/>
              <a:ext cx="46080" cy="367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17" y="0"/>
                  </a:lnTo>
                  <a:lnTo>
                    <a:pt x="32" y="28"/>
                  </a:lnTo>
                  <a:lnTo>
                    <a:pt x="11" y="2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769480" y="1148760"/>
              <a:ext cx="46080" cy="367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16" y="0"/>
                  </a:lnTo>
                  <a:lnTo>
                    <a:pt x="32" y="28"/>
                  </a:lnTo>
                  <a:lnTo>
                    <a:pt x="13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86400" y="1089360"/>
              <a:ext cx="49320" cy="8136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34" y="62"/>
                  </a:moveTo>
                  <a:lnTo>
                    <a:pt x="34" y="3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4" y="62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786400" y="1089360"/>
              <a:ext cx="49320" cy="9468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4" y="73"/>
                  </a:moveTo>
                  <a:lnTo>
                    <a:pt x="34" y="3"/>
                  </a:lnTo>
                  <a:lnTo>
                    <a:pt x="0" y="0"/>
                  </a:lnTo>
                  <a:lnTo>
                    <a:pt x="0" y="47"/>
                  </a:lnTo>
                  <a:lnTo>
                    <a:pt x="34" y="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89200" y="1154880"/>
              <a:ext cx="4752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1" y="29"/>
                  </a:moveTo>
                  <a:lnTo>
                    <a:pt x="32" y="29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1" y="2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689200" y="1154880"/>
              <a:ext cx="4752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3" y="29"/>
                  </a:moveTo>
                  <a:lnTo>
                    <a:pt x="32" y="2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13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689200" y="1113120"/>
              <a:ext cx="47520" cy="385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32" y="28"/>
                  </a:lnTo>
                  <a:lnTo>
                    <a:pt x="32" y="0"/>
                  </a:lnTo>
                  <a:lnTo>
                    <a:pt x="0" y="1"/>
                  </a:lnTo>
                  <a:lnTo>
                    <a:pt x="0" y="28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89200" y="1113120"/>
              <a:ext cx="47520" cy="428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2"/>
                  </a:moveTo>
                  <a:lnTo>
                    <a:pt x="27" y="32"/>
                  </a:lnTo>
                  <a:lnTo>
                    <a:pt x="32" y="0"/>
                  </a:lnTo>
                  <a:lnTo>
                    <a:pt x="0" y="1"/>
                  </a:lnTo>
                  <a:lnTo>
                    <a:pt x="0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10440" y="1113120"/>
              <a:ext cx="46440" cy="5940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32" y="0"/>
                  </a:moveTo>
                  <a:lnTo>
                    <a:pt x="32" y="26"/>
                  </a:lnTo>
                  <a:lnTo>
                    <a:pt x="0" y="44"/>
                  </a:lnTo>
                  <a:lnTo>
                    <a:pt x="0" y="5"/>
                  </a:lnTo>
                  <a:lnTo>
                    <a:pt x="32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712240" y="1113120"/>
              <a:ext cx="47520" cy="727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0"/>
                  </a:moveTo>
                  <a:lnTo>
                    <a:pt x="0" y="31"/>
                  </a:lnTo>
                  <a:lnTo>
                    <a:pt x="33" y="5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22600" y="1145880"/>
              <a:ext cx="80280" cy="93600"/>
            </a:xfrm>
            <a:custGeom>
              <a:avLst/>
              <a:gdLst/>
              <a:ahLst/>
              <a:rect l="l" t="t" r="r" b="b"/>
              <a:pathLst>
                <a:path w="56" h="72">
                  <a:moveTo>
                    <a:pt x="0" y="71"/>
                  </a:moveTo>
                  <a:lnTo>
                    <a:pt x="55" y="71"/>
                  </a:lnTo>
                  <a:lnTo>
                    <a:pt x="55" y="0"/>
                  </a:lnTo>
                  <a:lnTo>
                    <a:pt x="21" y="1"/>
                  </a:lnTo>
                  <a:lnTo>
                    <a:pt x="21" y="53"/>
                  </a:lnTo>
                  <a:lnTo>
                    <a:pt x="0" y="55"/>
                  </a:lnTo>
                  <a:lnTo>
                    <a:pt x="0" y="71"/>
                  </a:lnTo>
                </a:path>
              </a:pathLst>
            </a:custGeom>
            <a:solidFill>
              <a:srgbClr val="604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622600" y="1145880"/>
              <a:ext cx="99000" cy="10836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0" y="82"/>
                  </a:moveTo>
                  <a:lnTo>
                    <a:pt x="68" y="82"/>
                  </a:lnTo>
                  <a:lnTo>
                    <a:pt x="68" y="0"/>
                  </a:lnTo>
                  <a:lnTo>
                    <a:pt x="25" y="1"/>
                  </a:lnTo>
                  <a:lnTo>
                    <a:pt x="25" y="60"/>
                  </a:lnTo>
                  <a:lnTo>
                    <a:pt x="0" y="64"/>
                  </a:lnTo>
                  <a:lnTo>
                    <a:pt x="0" y="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031200" y="1184400"/>
              <a:ext cx="1080" cy="4860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5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36"/>
                  </a:lnTo>
                  <a:lnTo>
                    <a:pt x="0" y="5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031200" y="1184400"/>
              <a:ext cx="51120" cy="6228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0" y="7"/>
                  </a:moveTo>
                  <a:lnTo>
                    <a:pt x="0" y="5"/>
                  </a:lnTo>
                  <a:lnTo>
                    <a:pt x="4" y="1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28" y="1"/>
                  </a:lnTo>
                  <a:lnTo>
                    <a:pt x="35" y="3"/>
                  </a:lnTo>
                  <a:lnTo>
                    <a:pt x="35" y="5"/>
                  </a:lnTo>
                  <a:lnTo>
                    <a:pt x="35" y="7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47"/>
                  </a:lnTo>
                  <a:lnTo>
                    <a:pt x="0" y="4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667240" y="1231920"/>
              <a:ext cx="5076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667240" y="1231920"/>
              <a:ext cx="5076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98200" y="1231920"/>
              <a:ext cx="4608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0"/>
                  </a:lnTo>
                  <a:lnTo>
                    <a:pt x="32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698200" y="1231920"/>
              <a:ext cx="4608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29"/>
                  </a:lnTo>
                  <a:lnTo>
                    <a:pt x="32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724480" y="1231920"/>
              <a:ext cx="4788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0"/>
                  </a:lnTo>
                  <a:lnTo>
                    <a:pt x="32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724480" y="1231920"/>
              <a:ext cx="4788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29"/>
                  </a:lnTo>
                  <a:lnTo>
                    <a:pt x="32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752200" y="123192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752200" y="123192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80640" y="123192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780640" y="123192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09800" y="1231920"/>
              <a:ext cx="44640" cy="38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31" y="0"/>
                  </a:lnTo>
                  <a:lnTo>
                    <a:pt x="31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809800" y="1231920"/>
              <a:ext cx="44640" cy="38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837880" y="1231920"/>
              <a:ext cx="4788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0"/>
                  </a:lnTo>
                  <a:lnTo>
                    <a:pt x="33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837880" y="1231920"/>
              <a:ext cx="4788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29"/>
                  </a:lnTo>
                  <a:lnTo>
                    <a:pt x="33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67400" y="1231920"/>
              <a:ext cx="4932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0"/>
                  </a:lnTo>
                  <a:lnTo>
                    <a:pt x="33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67400" y="1231920"/>
              <a:ext cx="4932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29"/>
                  </a:lnTo>
                  <a:lnTo>
                    <a:pt x="33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38520" y="123192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823840" y="123192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769480" y="123192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795760" y="123192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712240" y="123192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684160" y="123192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48680" y="123192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879640" y="123192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626920" y="1223280"/>
              <a:ext cx="244800" cy="38160"/>
            </a:xfrm>
            <a:custGeom>
              <a:avLst/>
              <a:gdLst/>
              <a:ahLst/>
              <a:rect l="l" t="t" r="r" b="b"/>
              <a:pathLst>
                <a:path w="172" h="30">
                  <a:moveTo>
                    <a:pt x="0" y="29"/>
                  </a:moveTo>
                  <a:lnTo>
                    <a:pt x="11" y="0"/>
                  </a:lnTo>
                  <a:lnTo>
                    <a:pt x="171" y="0"/>
                  </a:lnTo>
                  <a:lnTo>
                    <a:pt x="171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980440" y="1177200"/>
              <a:ext cx="47520" cy="6804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0" y="8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6" y="0"/>
                  </a:lnTo>
                  <a:lnTo>
                    <a:pt x="33" y="1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16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52"/>
                  </a:lnTo>
                  <a:lnTo>
                    <a:pt x="0" y="8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80440" y="1177200"/>
              <a:ext cx="47520" cy="7992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0" y="10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3" y="1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28" y="5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24" y="10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7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2"/>
                  </a:lnTo>
                  <a:lnTo>
                    <a:pt x="3" y="61"/>
                  </a:lnTo>
                  <a:lnTo>
                    <a:pt x="0" y="61"/>
                  </a:lnTo>
                  <a:lnTo>
                    <a:pt x="0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28960" y="1236240"/>
              <a:ext cx="5112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8"/>
                  </a:moveTo>
                  <a:lnTo>
                    <a:pt x="35" y="28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928960" y="1236240"/>
              <a:ext cx="5112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8"/>
                  </a:moveTo>
                  <a:lnTo>
                    <a:pt x="35" y="28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955240" y="1236240"/>
              <a:ext cx="49320" cy="385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0"/>
                  </a:moveTo>
                  <a:lnTo>
                    <a:pt x="33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3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963160" y="123624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0" y="28"/>
                  </a:lnTo>
                  <a:lnTo>
                    <a:pt x="34" y="24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072960" y="119628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34" y="3"/>
                  </a:moveTo>
                  <a:lnTo>
                    <a:pt x="34" y="1"/>
                  </a:lnTo>
                  <a:lnTo>
                    <a:pt x="16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"/>
                  </a:lnTo>
                  <a:lnTo>
                    <a:pt x="16" y="1"/>
                  </a:lnTo>
                  <a:lnTo>
                    <a:pt x="16" y="3"/>
                  </a:lnTo>
                  <a:lnTo>
                    <a:pt x="16" y="29"/>
                  </a:lnTo>
                  <a:lnTo>
                    <a:pt x="34" y="29"/>
                  </a:lnTo>
                  <a:lnTo>
                    <a:pt x="34" y="3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082680" y="1196280"/>
              <a:ext cx="44280" cy="428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5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31" y="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14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32"/>
                  </a:lnTo>
                  <a:lnTo>
                    <a:pt x="0" y="32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924640" y="1245600"/>
              <a:ext cx="4932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0"/>
                  </a:lnTo>
                  <a:lnTo>
                    <a:pt x="34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927520" y="1245600"/>
              <a:ext cx="4932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927520" y="1230480"/>
              <a:ext cx="4932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28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927520" y="1230480"/>
              <a:ext cx="4932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924640" y="121536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0"/>
                  </a:lnTo>
                  <a:lnTo>
                    <a:pt x="34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927520" y="121716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927520" y="1203840"/>
              <a:ext cx="49320" cy="3996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0"/>
                  </a:moveTo>
                  <a:lnTo>
                    <a:pt x="34" y="30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927520" y="1203840"/>
              <a:ext cx="49320" cy="3996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0"/>
                  </a:moveTo>
                  <a:lnTo>
                    <a:pt x="34" y="30"/>
                  </a:lnTo>
                  <a:lnTo>
                    <a:pt x="34" y="0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924640" y="119340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927520" y="119340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927520" y="1181520"/>
              <a:ext cx="4932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28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927520" y="117828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659680" y="1120320"/>
              <a:ext cx="194760" cy="38520"/>
            </a:xfrm>
            <a:custGeom>
              <a:avLst/>
              <a:gdLst/>
              <a:ahLst/>
              <a:rect l="l" t="t" r="r" b="b"/>
              <a:pathLst>
                <a:path w="137" h="30">
                  <a:moveTo>
                    <a:pt x="136" y="0"/>
                  </a:moveTo>
                  <a:lnTo>
                    <a:pt x="136" y="18"/>
                  </a:lnTo>
                  <a:lnTo>
                    <a:pt x="1" y="29"/>
                  </a:lnTo>
                  <a:lnTo>
                    <a:pt x="0" y="18"/>
                  </a:lnTo>
                  <a:lnTo>
                    <a:pt x="136" y="0"/>
                  </a:lnTo>
                </a:path>
              </a:pathLst>
            </a:custGeom>
            <a:solidFill>
              <a:srgbClr val="a08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659680" y="1120320"/>
              <a:ext cx="213480" cy="38520"/>
            </a:xfrm>
            <a:custGeom>
              <a:avLst/>
              <a:gdLst/>
              <a:ahLst/>
              <a:rect l="l" t="t" r="r" b="b"/>
              <a:pathLst>
                <a:path w="150" h="30">
                  <a:moveTo>
                    <a:pt x="149" y="0"/>
                  </a:moveTo>
                  <a:lnTo>
                    <a:pt x="149" y="18"/>
                  </a:lnTo>
                  <a:lnTo>
                    <a:pt x="1" y="29"/>
                  </a:lnTo>
                  <a:lnTo>
                    <a:pt x="0" y="16"/>
                  </a:lnTo>
                  <a:lnTo>
                    <a:pt x="1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747880" y="1089360"/>
              <a:ext cx="49320" cy="414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9" y="0"/>
                  </a:moveTo>
                  <a:lnTo>
                    <a:pt x="34" y="5"/>
                  </a:lnTo>
                  <a:lnTo>
                    <a:pt x="34" y="13"/>
                  </a:lnTo>
                  <a:lnTo>
                    <a:pt x="19" y="15"/>
                  </a:lnTo>
                  <a:lnTo>
                    <a:pt x="8" y="30"/>
                  </a:lnTo>
                  <a:lnTo>
                    <a:pt x="0" y="32"/>
                  </a:lnTo>
                  <a:lnTo>
                    <a:pt x="1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747880" y="1089360"/>
              <a:ext cx="49320" cy="5472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17" y="0"/>
                  </a:moveTo>
                  <a:lnTo>
                    <a:pt x="34" y="7"/>
                  </a:lnTo>
                  <a:lnTo>
                    <a:pt x="34" y="18"/>
                  </a:lnTo>
                  <a:lnTo>
                    <a:pt x="17" y="20"/>
                  </a:lnTo>
                  <a:lnTo>
                    <a:pt x="8" y="40"/>
                  </a:lnTo>
                  <a:lnTo>
                    <a:pt x="0" y="42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730960" y="1089360"/>
              <a:ext cx="46080" cy="414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1"/>
                  </a:moveTo>
                  <a:lnTo>
                    <a:pt x="32" y="0"/>
                  </a:lnTo>
                  <a:lnTo>
                    <a:pt x="11" y="32"/>
                  </a:lnTo>
                  <a:lnTo>
                    <a:pt x="0" y="32"/>
                  </a:lnTo>
                  <a:lnTo>
                    <a:pt x="17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730960" y="1089360"/>
              <a:ext cx="46080" cy="5472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16" y="3"/>
                  </a:moveTo>
                  <a:lnTo>
                    <a:pt x="32" y="0"/>
                  </a:lnTo>
                  <a:lnTo>
                    <a:pt x="13" y="42"/>
                  </a:lnTo>
                  <a:lnTo>
                    <a:pt x="0" y="42"/>
                  </a:lnTo>
                  <a:lnTo>
                    <a:pt x="16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811240" y="1074600"/>
              <a:ext cx="46080" cy="45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1"/>
                  </a:moveTo>
                  <a:lnTo>
                    <a:pt x="32" y="0"/>
                  </a:lnTo>
                  <a:lnTo>
                    <a:pt x="16" y="33"/>
                  </a:lnTo>
                  <a:lnTo>
                    <a:pt x="0" y="35"/>
                  </a:lnTo>
                  <a:lnTo>
                    <a:pt x="17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811240" y="1074600"/>
              <a:ext cx="46080" cy="6048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17" y="1"/>
                  </a:moveTo>
                  <a:lnTo>
                    <a:pt x="32" y="0"/>
                  </a:lnTo>
                  <a:lnTo>
                    <a:pt x="16" y="44"/>
                  </a:lnTo>
                  <a:lnTo>
                    <a:pt x="0" y="46"/>
                  </a:lnTo>
                  <a:lnTo>
                    <a:pt x="17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834640" y="1074600"/>
              <a:ext cx="49320" cy="442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9" y="0"/>
                  </a:moveTo>
                  <a:lnTo>
                    <a:pt x="0" y="33"/>
                  </a:lnTo>
                  <a:lnTo>
                    <a:pt x="12" y="29"/>
                  </a:lnTo>
                  <a:lnTo>
                    <a:pt x="19" y="15"/>
                  </a:lnTo>
                  <a:lnTo>
                    <a:pt x="33" y="13"/>
                  </a:lnTo>
                  <a:lnTo>
                    <a:pt x="33" y="6"/>
                  </a:lnTo>
                  <a:lnTo>
                    <a:pt x="1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834640" y="1074600"/>
              <a:ext cx="49320" cy="5760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17" y="0"/>
                  </a:moveTo>
                  <a:lnTo>
                    <a:pt x="0" y="44"/>
                  </a:lnTo>
                  <a:lnTo>
                    <a:pt x="9" y="40"/>
                  </a:lnTo>
                  <a:lnTo>
                    <a:pt x="17" y="21"/>
                  </a:lnTo>
                  <a:lnTo>
                    <a:pt x="33" y="19"/>
                  </a:lnTo>
                  <a:lnTo>
                    <a:pt x="33" y="8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874960" y="1235160"/>
              <a:ext cx="47520" cy="36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28"/>
                  </a:moveTo>
                  <a:lnTo>
                    <a:pt x="33" y="28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874960" y="1235160"/>
              <a:ext cx="47520" cy="36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28"/>
                  </a:moveTo>
                  <a:lnTo>
                    <a:pt x="33" y="28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919960" y="1235160"/>
              <a:ext cx="1080" cy="36720"/>
            </a:xfrm>
            <a:custGeom>
              <a:avLst/>
              <a:gdLst/>
              <a:ahLst/>
              <a:rect l="l" t="t" r="r" b="b"/>
              <a:pathLst>
                <a:path w="1" h="29">
                  <a:moveTo>
                    <a:pt x="0" y="0"/>
                  </a:moveTo>
                  <a:lnTo>
                    <a:pt x="0" y="2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919960" y="1235160"/>
              <a:ext cx="47520" cy="367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0" y="28"/>
                  </a:lnTo>
                  <a:lnTo>
                    <a:pt x="32" y="28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667240" y="1151640"/>
              <a:ext cx="63360" cy="41400"/>
            </a:xfrm>
            <a:custGeom>
              <a:avLst/>
              <a:gdLst/>
              <a:ahLst/>
              <a:rect l="l" t="t" r="r" b="b"/>
              <a:pathLst>
                <a:path w="44" h="31">
                  <a:moveTo>
                    <a:pt x="0" y="9"/>
                  </a:moveTo>
                  <a:lnTo>
                    <a:pt x="38" y="30"/>
                  </a:lnTo>
                  <a:lnTo>
                    <a:pt x="43" y="0"/>
                  </a:lnTo>
                  <a:lnTo>
                    <a:pt x="3" y="0"/>
                  </a:lnTo>
                  <a:lnTo>
                    <a:pt x="0" y="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667240" y="1160640"/>
              <a:ext cx="77040" cy="37080"/>
            </a:xfrm>
            <a:custGeom>
              <a:avLst/>
              <a:gdLst/>
              <a:ahLst/>
              <a:rect l="l" t="t" r="r" b="b"/>
              <a:pathLst>
                <a:path w="54" h="29">
                  <a:moveTo>
                    <a:pt x="0" y="17"/>
                  </a:moveTo>
                  <a:lnTo>
                    <a:pt x="48" y="0"/>
                  </a:lnTo>
                  <a:lnTo>
                    <a:pt x="53" y="28"/>
                  </a:lnTo>
                  <a:lnTo>
                    <a:pt x="5" y="28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659680" y="1162440"/>
              <a:ext cx="46080" cy="83160"/>
            </a:xfrm>
            <a:custGeom>
              <a:avLst/>
              <a:gdLst/>
              <a:ahLst/>
              <a:rect l="l" t="t" r="r" b="b"/>
              <a:pathLst>
                <a:path w="33" h="64">
                  <a:moveTo>
                    <a:pt x="32" y="63"/>
                  </a:moveTo>
                  <a:lnTo>
                    <a:pt x="32" y="0"/>
                  </a:lnTo>
                  <a:lnTo>
                    <a:pt x="0" y="3"/>
                  </a:lnTo>
                  <a:lnTo>
                    <a:pt x="0" y="63"/>
                  </a:lnTo>
                  <a:lnTo>
                    <a:pt x="32" y="63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667240" y="1162440"/>
              <a:ext cx="50760" cy="9468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72"/>
                  </a:moveTo>
                  <a:lnTo>
                    <a:pt x="0" y="0"/>
                  </a:lnTo>
                  <a:lnTo>
                    <a:pt x="34" y="3"/>
                  </a:lnTo>
                  <a:lnTo>
                    <a:pt x="34" y="72"/>
                  </a:lnTo>
                  <a:lnTo>
                    <a:pt x="0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729160" y="1160640"/>
              <a:ext cx="46080" cy="8604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31" y="66"/>
                  </a:moveTo>
                  <a:lnTo>
                    <a:pt x="31" y="0"/>
                  </a:lnTo>
                  <a:lnTo>
                    <a:pt x="0" y="3"/>
                  </a:lnTo>
                  <a:lnTo>
                    <a:pt x="0" y="66"/>
                  </a:lnTo>
                  <a:lnTo>
                    <a:pt x="31" y="66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735640" y="1160640"/>
              <a:ext cx="46080" cy="10080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0" y="77"/>
                  </a:moveTo>
                  <a:lnTo>
                    <a:pt x="0" y="0"/>
                  </a:lnTo>
                  <a:lnTo>
                    <a:pt x="32" y="3"/>
                  </a:lnTo>
                  <a:lnTo>
                    <a:pt x="32" y="77"/>
                  </a:lnTo>
                  <a:lnTo>
                    <a:pt x="0" y="7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738520" y="1150200"/>
              <a:ext cx="77040" cy="38520"/>
            </a:xfrm>
            <a:custGeom>
              <a:avLst/>
              <a:gdLst/>
              <a:ahLst/>
              <a:rect l="l" t="t" r="r" b="b"/>
              <a:pathLst>
                <a:path w="55" h="30">
                  <a:moveTo>
                    <a:pt x="0" y="18"/>
                  </a:moveTo>
                  <a:lnTo>
                    <a:pt x="45" y="29"/>
                  </a:lnTo>
                  <a:lnTo>
                    <a:pt x="54" y="9"/>
                  </a:lnTo>
                  <a:lnTo>
                    <a:pt x="3" y="0"/>
                  </a:lnTo>
                  <a:lnTo>
                    <a:pt x="0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738520" y="1157760"/>
              <a:ext cx="94320" cy="38160"/>
            </a:xfrm>
            <a:custGeom>
              <a:avLst/>
              <a:gdLst/>
              <a:ahLst/>
              <a:rect l="l" t="t" r="r" b="b"/>
              <a:pathLst>
                <a:path w="67" h="30">
                  <a:moveTo>
                    <a:pt x="0" y="9"/>
                  </a:moveTo>
                  <a:lnTo>
                    <a:pt x="55" y="0"/>
                  </a:lnTo>
                  <a:lnTo>
                    <a:pt x="66" y="18"/>
                  </a:lnTo>
                  <a:lnTo>
                    <a:pt x="3" y="29"/>
                  </a:lnTo>
                  <a:lnTo>
                    <a:pt x="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811240" y="1154880"/>
              <a:ext cx="46080" cy="91800"/>
            </a:xfrm>
            <a:custGeom>
              <a:avLst/>
              <a:gdLst/>
              <a:ahLst/>
              <a:rect l="l" t="t" r="r" b="b"/>
              <a:pathLst>
                <a:path w="33" h="71">
                  <a:moveTo>
                    <a:pt x="32" y="70"/>
                  </a:moveTo>
                  <a:lnTo>
                    <a:pt x="32" y="0"/>
                  </a:lnTo>
                  <a:lnTo>
                    <a:pt x="0" y="5"/>
                  </a:lnTo>
                  <a:lnTo>
                    <a:pt x="0" y="70"/>
                  </a:lnTo>
                  <a:lnTo>
                    <a:pt x="32" y="70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819160" y="1154880"/>
              <a:ext cx="49320" cy="106560"/>
            </a:xfrm>
            <a:custGeom>
              <a:avLst/>
              <a:gdLst/>
              <a:ahLst/>
              <a:rect l="l" t="t" r="r" b="b"/>
              <a:pathLst>
                <a:path w="35" h="82">
                  <a:moveTo>
                    <a:pt x="0" y="81"/>
                  </a:moveTo>
                  <a:lnTo>
                    <a:pt x="0" y="0"/>
                  </a:lnTo>
                  <a:lnTo>
                    <a:pt x="34" y="5"/>
                  </a:lnTo>
                  <a:lnTo>
                    <a:pt x="34" y="81"/>
                  </a:lnTo>
                  <a:lnTo>
                    <a:pt x="0" y="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4379760" y="3170160"/>
            <a:ext cx="502920" cy="418680"/>
            <a:chOff x="4379760" y="3170160"/>
            <a:chExt cx="502920" cy="418680"/>
          </a:xfrm>
        </p:grpSpPr>
        <p:sp>
          <p:nvSpPr>
            <p:cNvPr id="1138" name=""/>
            <p:cNvSpPr/>
            <p:nvPr/>
          </p:nvSpPr>
          <p:spPr>
            <a:xfrm>
              <a:off x="4689720" y="3170160"/>
              <a:ext cx="4788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3" y="0"/>
                  </a:moveTo>
                  <a:lnTo>
                    <a:pt x="20" y="0"/>
                  </a:lnTo>
                  <a:lnTo>
                    <a:pt x="28" y="0"/>
                  </a:lnTo>
                  <a:lnTo>
                    <a:pt x="33" y="14"/>
                  </a:lnTo>
                  <a:lnTo>
                    <a:pt x="33" y="28"/>
                  </a:lnTo>
                  <a:lnTo>
                    <a:pt x="28" y="28"/>
                  </a:lnTo>
                  <a:lnTo>
                    <a:pt x="20" y="28"/>
                  </a:lnTo>
                  <a:lnTo>
                    <a:pt x="13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689720" y="3170160"/>
              <a:ext cx="51120" cy="37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15" y="0"/>
                  </a:moveTo>
                  <a:lnTo>
                    <a:pt x="22" y="0"/>
                  </a:lnTo>
                  <a:lnTo>
                    <a:pt x="30" y="3"/>
                  </a:lnTo>
                  <a:lnTo>
                    <a:pt x="35" y="7"/>
                  </a:lnTo>
                  <a:lnTo>
                    <a:pt x="35" y="14"/>
                  </a:lnTo>
                  <a:lnTo>
                    <a:pt x="35" y="21"/>
                  </a:lnTo>
                  <a:lnTo>
                    <a:pt x="30" y="24"/>
                  </a:lnTo>
                  <a:lnTo>
                    <a:pt x="22" y="28"/>
                  </a:lnTo>
                  <a:lnTo>
                    <a:pt x="15" y="28"/>
                  </a:lnTo>
                  <a:lnTo>
                    <a:pt x="9" y="28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3" y="3"/>
                  </a:lnTo>
                  <a:lnTo>
                    <a:pt x="9" y="0"/>
                  </a:lnTo>
                  <a:lnTo>
                    <a:pt x="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601880" y="3182040"/>
              <a:ext cx="4608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0"/>
                  </a:moveTo>
                  <a:lnTo>
                    <a:pt x="19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32" y="14"/>
                  </a:lnTo>
                  <a:lnTo>
                    <a:pt x="27" y="29"/>
                  </a:lnTo>
                  <a:lnTo>
                    <a:pt x="25" y="29"/>
                  </a:lnTo>
                  <a:lnTo>
                    <a:pt x="19" y="29"/>
                  </a:lnTo>
                  <a:lnTo>
                    <a:pt x="16" y="29"/>
                  </a:lnTo>
                  <a:lnTo>
                    <a:pt x="7" y="29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3" y="0"/>
                  </a:lnTo>
                  <a:lnTo>
                    <a:pt x="7" y="0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601880" y="3182040"/>
              <a:ext cx="52200" cy="3816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7" y="0"/>
                  </a:moveTo>
                  <a:lnTo>
                    <a:pt x="24" y="0"/>
                  </a:lnTo>
                  <a:lnTo>
                    <a:pt x="29" y="3"/>
                  </a:lnTo>
                  <a:lnTo>
                    <a:pt x="33" y="10"/>
                  </a:lnTo>
                  <a:lnTo>
                    <a:pt x="36" y="14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29"/>
                  </a:lnTo>
                  <a:lnTo>
                    <a:pt x="17" y="29"/>
                  </a:lnTo>
                  <a:lnTo>
                    <a:pt x="9" y="29"/>
                  </a:lnTo>
                  <a:lnTo>
                    <a:pt x="5" y="25"/>
                  </a:lnTo>
                  <a:lnTo>
                    <a:pt x="1" y="21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5" y="3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507920" y="3193920"/>
              <a:ext cx="4788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1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28" y="9"/>
                  </a:lnTo>
                  <a:lnTo>
                    <a:pt x="33" y="18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0" y="29"/>
                  </a:lnTo>
                  <a:lnTo>
                    <a:pt x="11" y="29"/>
                  </a:lnTo>
                  <a:lnTo>
                    <a:pt x="7" y="29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507920" y="3193920"/>
              <a:ext cx="53640" cy="38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16" y="0"/>
                  </a:moveTo>
                  <a:lnTo>
                    <a:pt x="23" y="0"/>
                  </a:lnTo>
                  <a:lnTo>
                    <a:pt x="30" y="1"/>
                  </a:lnTo>
                  <a:lnTo>
                    <a:pt x="34" y="9"/>
                  </a:lnTo>
                  <a:lnTo>
                    <a:pt x="37" y="14"/>
                  </a:lnTo>
                  <a:lnTo>
                    <a:pt x="34" y="18"/>
                  </a:lnTo>
                  <a:lnTo>
                    <a:pt x="30" y="21"/>
                  </a:lnTo>
                  <a:lnTo>
                    <a:pt x="23" y="25"/>
                  </a:lnTo>
                  <a:lnTo>
                    <a:pt x="16" y="29"/>
                  </a:lnTo>
                  <a:lnTo>
                    <a:pt x="9" y="25"/>
                  </a:lnTo>
                  <a:lnTo>
                    <a:pt x="5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5" y="1"/>
                  </a:lnTo>
                  <a:lnTo>
                    <a:pt x="9" y="0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685400" y="3173040"/>
              <a:ext cx="51120" cy="357840"/>
            </a:xfrm>
            <a:custGeom>
              <a:avLst/>
              <a:gdLst/>
              <a:ahLst/>
              <a:rect l="l" t="t" r="r" b="b"/>
              <a:pathLst>
                <a:path w="36" h="275">
                  <a:moveTo>
                    <a:pt x="0" y="0"/>
                  </a:moveTo>
                  <a:lnTo>
                    <a:pt x="35" y="0"/>
                  </a:lnTo>
                  <a:lnTo>
                    <a:pt x="35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85400" y="3173040"/>
              <a:ext cx="52200" cy="371520"/>
            </a:xfrm>
            <a:custGeom>
              <a:avLst/>
              <a:gdLst/>
              <a:ahLst/>
              <a:rect l="l" t="t" r="r" b="b"/>
              <a:pathLst>
                <a:path w="37" h="286">
                  <a:moveTo>
                    <a:pt x="0" y="0"/>
                  </a:moveTo>
                  <a:lnTo>
                    <a:pt x="36" y="0"/>
                  </a:lnTo>
                  <a:lnTo>
                    <a:pt x="36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99000" y="3184920"/>
              <a:ext cx="44640" cy="356400"/>
            </a:xfrm>
            <a:custGeom>
              <a:avLst/>
              <a:gdLst/>
              <a:ahLst/>
              <a:rect l="l" t="t" r="r" b="b"/>
              <a:pathLst>
                <a:path w="32" h="275">
                  <a:moveTo>
                    <a:pt x="0" y="0"/>
                  </a:moveTo>
                  <a:lnTo>
                    <a:pt x="31" y="0"/>
                  </a:lnTo>
                  <a:lnTo>
                    <a:pt x="31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599000" y="3184920"/>
              <a:ext cx="52200" cy="371520"/>
            </a:xfrm>
            <a:custGeom>
              <a:avLst/>
              <a:gdLst/>
              <a:ahLst/>
              <a:rect l="l" t="t" r="r" b="b"/>
              <a:pathLst>
                <a:path w="37" h="286">
                  <a:moveTo>
                    <a:pt x="0" y="0"/>
                  </a:moveTo>
                  <a:lnTo>
                    <a:pt x="36" y="0"/>
                  </a:lnTo>
                  <a:lnTo>
                    <a:pt x="36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504680" y="3196800"/>
              <a:ext cx="49320" cy="356400"/>
            </a:xfrm>
            <a:custGeom>
              <a:avLst/>
              <a:gdLst/>
              <a:ahLst/>
              <a:rect l="l" t="t" r="r" b="b"/>
              <a:pathLst>
                <a:path w="35" h="275">
                  <a:moveTo>
                    <a:pt x="0" y="0"/>
                  </a:moveTo>
                  <a:lnTo>
                    <a:pt x="34" y="0"/>
                  </a:lnTo>
                  <a:lnTo>
                    <a:pt x="34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504680" y="3196800"/>
              <a:ext cx="53640" cy="371160"/>
            </a:xfrm>
            <a:custGeom>
              <a:avLst/>
              <a:gdLst/>
              <a:ahLst/>
              <a:rect l="l" t="t" r="r" b="b"/>
              <a:pathLst>
                <a:path w="38" h="286">
                  <a:moveTo>
                    <a:pt x="0" y="0"/>
                  </a:moveTo>
                  <a:lnTo>
                    <a:pt x="37" y="0"/>
                  </a:lnTo>
                  <a:lnTo>
                    <a:pt x="37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94400" y="3173040"/>
              <a:ext cx="46440" cy="367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4" y="0"/>
                  </a:moveTo>
                  <a:lnTo>
                    <a:pt x="22" y="0"/>
                  </a:lnTo>
                  <a:lnTo>
                    <a:pt x="26" y="0"/>
                  </a:lnTo>
                  <a:lnTo>
                    <a:pt x="31" y="14"/>
                  </a:lnTo>
                  <a:lnTo>
                    <a:pt x="26" y="28"/>
                  </a:lnTo>
                  <a:lnTo>
                    <a:pt x="22" y="28"/>
                  </a:lnTo>
                  <a:lnTo>
                    <a:pt x="14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603320" y="3184920"/>
              <a:ext cx="4788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5" y="0"/>
                  </a:moveTo>
                  <a:lnTo>
                    <a:pt x="22" y="0"/>
                  </a:lnTo>
                  <a:lnTo>
                    <a:pt x="28" y="0"/>
                  </a:lnTo>
                  <a:lnTo>
                    <a:pt x="33" y="14"/>
                  </a:lnTo>
                  <a:lnTo>
                    <a:pt x="33" y="28"/>
                  </a:lnTo>
                  <a:lnTo>
                    <a:pt x="28" y="28"/>
                  </a:lnTo>
                  <a:lnTo>
                    <a:pt x="22" y="28"/>
                  </a:lnTo>
                  <a:lnTo>
                    <a:pt x="15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5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509000" y="3196800"/>
              <a:ext cx="49320" cy="3816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14" y="0"/>
                  </a:moveTo>
                  <a:lnTo>
                    <a:pt x="23" y="0"/>
                  </a:lnTo>
                  <a:lnTo>
                    <a:pt x="27" y="0"/>
                  </a:lnTo>
                  <a:lnTo>
                    <a:pt x="29" y="14"/>
                  </a:lnTo>
                  <a:lnTo>
                    <a:pt x="34" y="14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3" y="29"/>
                  </a:lnTo>
                  <a:lnTo>
                    <a:pt x="14" y="29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685400" y="3173040"/>
              <a:ext cx="51120" cy="354960"/>
            </a:xfrm>
            <a:custGeom>
              <a:avLst/>
              <a:gdLst/>
              <a:ahLst/>
              <a:rect l="l" t="t" r="r" b="b"/>
              <a:pathLst>
                <a:path w="36" h="273">
                  <a:moveTo>
                    <a:pt x="0" y="0"/>
                  </a:moveTo>
                  <a:lnTo>
                    <a:pt x="35" y="0"/>
                  </a:lnTo>
                  <a:lnTo>
                    <a:pt x="35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599000" y="3184920"/>
              <a:ext cx="44640" cy="354960"/>
            </a:xfrm>
            <a:custGeom>
              <a:avLst/>
              <a:gdLst/>
              <a:ahLst/>
              <a:rect l="l" t="t" r="r" b="b"/>
              <a:pathLst>
                <a:path w="32" h="273">
                  <a:moveTo>
                    <a:pt x="0" y="0"/>
                  </a:moveTo>
                  <a:lnTo>
                    <a:pt x="31" y="0"/>
                  </a:lnTo>
                  <a:lnTo>
                    <a:pt x="31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504680" y="3196800"/>
              <a:ext cx="49320" cy="354960"/>
            </a:xfrm>
            <a:custGeom>
              <a:avLst/>
              <a:gdLst/>
              <a:ahLst/>
              <a:rect l="l" t="t" r="r" b="b"/>
              <a:pathLst>
                <a:path w="35" h="274">
                  <a:moveTo>
                    <a:pt x="0" y="0"/>
                  </a:moveTo>
                  <a:lnTo>
                    <a:pt x="34" y="0"/>
                  </a:lnTo>
                  <a:lnTo>
                    <a:pt x="34" y="273"/>
                  </a:lnTo>
                  <a:lnTo>
                    <a:pt x="0" y="273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696200" y="3187800"/>
              <a:ext cx="50760" cy="1440"/>
            </a:xfrm>
            <a:custGeom>
              <a:avLst/>
              <a:gdLst/>
              <a:ahLst/>
              <a:rect l="l" t="t" r="r" b="b"/>
              <a:pathLst>
                <a:path w="35" h="1">
                  <a:moveTo>
                    <a:pt x="16" y="0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605120" y="3187800"/>
              <a:ext cx="49320" cy="399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6" y="29"/>
                  </a:moveTo>
                  <a:lnTo>
                    <a:pt x="24" y="29"/>
                  </a:lnTo>
                  <a:lnTo>
                    <a:pt x="33" y="29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7" y="29"/>
                  </a:lnTo>
                  <a:lnTo>
                    <a:pt x="16" y="29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515480" y="3200040"/>
              <a:ext cx="49320" cy="381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6" y="29"/>
                  </a:moveTo>
                  <a:lnTo>
                    <a:pt x="24" y="29"/>
                  </a:lnTo>
                  <a:lnTo>
                    <a:pt x="33" y="29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7" y="29"/>
                  </a:lnTo>
                  <a:lnTo>
                    <a:pt x="16" y="29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694400" y="3173040"/>
              <a:ext cx="46440" cy="354960"/>
            </a:xfrm>
            <a:custGeom>
              <a:avLst/>
              <a:gdLst/>
              <a:ahLst/>
              <a:rect l="l" t="t" r="r" b="b"/>
              <a:pathLst>
                <a:path w="32" h="273">
                  <a:moveTo>
                    <a:pt x="0" y="0"/>
                  </a:moveTo>
                  <a:lnTo>
                    <a:pt x="31" y="0"/>
                  </a:lnTo>
                  <a:lnTo>
                    <a:pt x="31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03320" y="3184920"/>
              <a:ext cx="47880" cy="354960"/>
            </a:xfrm>
            <a:custGeom>
              <a:avLst/>
              <a:gdLst/>
              <a:ahLst/>
              <a:rect l="l" t="t" r="r" b="b"/>
              <a:pathLst>
                <a:path w="34" h="273">
                  <a:moveTo>
                    <a:pt x="0" y="0"/>
                  </a:moveTo>
                  <a:lnTo>
                    <a:pt x="33" y="0"/>
                  </a:lnTo>
                  <a:lnTo>
                    <a:pt x="33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509000" y="3196800"/>
              <a:ext cx="49320" cy="354960"/>
            </a:xfrm>
            <a:custGeom>
              <a:avLst/>
              <a:gdLst/>
              <a:ahLst/>
              <a:rect l="l" t="t" r="r" b="b"/>
              <a:pathLst>
                <a:path w="35" h="274">
                  <a:moveTo>
                    <a:pt x="0" y="0"/>
                  </a:moveTo>
                  <a:lnTo>
                    <a:pt x="34" y="0"/>
                  </a:lnTo>
                  <a:lnTo>
                    <a:pt x="34" y="273"/>
                  </a:lnTo>
                  <a:lnTo>
                    <a:pt x="0" y="273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748760" y="3508920"/>
              <a:ext cx="56880" cy="367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7"/>
                  </a:moveTo>
                  <a:lnTo>
                    <a:pt x="11" y="7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9" y="7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32" y="5"/>
                  </a:lnTo>
                  <a:lnTo>
                    <a:pt x="32" y="7"/>
                  </a:lnTo>
                  <a:lnTo>
                    <a:pt x="39" y="10"/>
                  </a:lnTo>
                  <a:lnTo>
                    <a:pt x="39" y="28"/>
                  </a:lnTo>
                  <a:lnTo>
                    <a:pt x="0" y="28"/>
                  </a:lnTo>
                  <a:lnTo>
                    <a:pt x="0" y="7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748760" y="3508920"/>
              <a:ext cx="73800" cy="367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7"/>
                  </a:moveTo>
                  <a:lnTo>
                    <a:pt x="16" y="7"/>
                  </a:lnTo>
                  <a:lnTo>
                    <a:pt x="16" y="1"/>
                  </a:lnTo>
                  <a:lnTo>
                    <a:pt x="26" y="0"/>
                  </a:lnTo>
                  <a:lnTo>
                    <a:pt x="26" y="7"/>
                  </a:lnTo>
                  <a:lnTo>
                    <a:pt x="32" y="8"/>
                  </a:lnTo>
                  <a:lnTo>
                    <a:pt x="32" y="5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51" y="12"/>
                  </a:lnTo>
                  <a:lnTo>
                    <a:pt x="51" y="28"/>
                  </a:lnTo>
                  <a:lnTo>
                    <a:pt x="0" y="28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699440" y="3441960"/>
              <a:ext cx="49320" cy="99360"/>
            </a:xfrm>
            <a:custGeom>
              <a:avLst/>
              <a:gdLst/>
              <a:ahLst/>
              <a:rect l="l" t="t" r="r" b="b"/>
              <a:pathLst>
                <a:path w="34" h="77">
                  <a:moveTo>
                    <a:pt x="0" y="0"/>
                  </a:moveTo>
                  <a:lnTo>
                    <a:pt x="9" y="5"/>
                  </a:lnTo>
                  <a:lnTo>
                    <a:pt x="9" y="16"/>
                  </a:lnTo>
                  <a:lnTo>
                    <a:pt x="24" y="19"/>
                  </a:lnTo>
                  <a:lnTo>
                    <a:pt x="24" y="14"/>
                  </a:lnTo>
                  <a:lnTo>
                    <a:pt x="33" y="16"/>
                  </a:lnTo>
                  <a:lnTo>
                    <a:pt x="33" y="70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699440" y="3441960"/>
              <a:ext cx="58320" cy="114480"/>
            </a:xfrm>
            <a:custGeom>
              <a:avLst/>
              <a:gdLst/>
              <a:ahLst/>
              <a:rect l="l" t="t" r="r" b="b"/>
              <a:pathLst>
                <a:path w="41" h="88">
                  <a:moveTo>
                    <a:pt x="0" y="0"/>
                  </a:moveTo>
                  <a:lnTo>
                    <a:pt x="12" y="5"/>
                  </a:lnTo>
                  <a:lnTo>
                    <a:pt x="12" y="18"/>
                  </a:lnTo>
                  <a:lnTo>
                    <a:pt x="31" y="23"/>
                  </a:lnTo>
                  <a:lnTo>
                    <a:pt x="31" y="16"/>
                  </a:lnTo>
                  <a:lnTo>
                    <a:pt x="40" y="18"/>
                  </a:lnTo>
                  <a:lnTo>
                    <a:pt x="40" y="79"/>
                  </a:ln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699440" y="3480480"/>
              <a:ext cx="49320" cy="590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0" y="0"/>
                  </a:moveTo>
                  <a:lnTo>
                    <a:pt x="33" y="5"/>
                  </a:lnTo>
                  <a:lnTo>
                    <a:pt x="33" y="42"/>
                  </a:lnTo>
                  <a:lnTo>
                    <a:pt x="24" y="44"/>
                  </a:lnTo>
                  <a:lnTo>
                    <a:pt x="24" y="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699440" y="3480480"/>
              <a:ext cx="49320" cy="727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0"/>
                  </a:moveTo>
                  <a:lnTo>
                    <a:pt x="33" y="7"/>
                  </a:lnTo>
                  <a:lnTo>
                    <a:pt x="33" y="53"/>
                  </a:lnTo>
                  <a:lnTo>
                    <a:pt x="22" y="55"/>
                  </a:lnTo>
                  <a:lnTo>
                    <a:pt x="22" y="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431960" y="3375000"/>
              <a:ext cx="209880" cy="174960"/>
            </a:xfrm>
            <a:custGeom>
              <a:avLst/>
              <a:gdLst/>
              <a:ahLst/>
              <a:rect l="l" t="t" r="r" b="b"/>
              <a:pathLst>
                <a:path w="148" h="134">
                  <a:moveTo>
                    <a:pt x="0" y="30"/>
                  </a:moveTo>
                  <a:lnTo>
                    <a:pt x="147" y="0"/>
                  </a:lnTo>
                  <a:lnTo>
                    <a:pt x="147" y="133"/>
                  </a:lnTo>
                  <a:lnTo>
                    <a:pt x="0" y="133"/>
                  </a:lnTo>
                  <a:lnTo>
                    <a:pt x="0" y="3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431960" y="3375000"/>
              <a:ext cx="228240" cy="187200"/>
            </a:xfrm>
            <a:custGeom>
              <a:avLst/>
              <a:gdLst/>
              <a:ahLst/>
              <a:rect l="l" t="t" r="r" b="b"/>
              <a:pathLst>
                <a:path w="161" h="144">
                  <a:moveTo>
                    <a:pt x="0" y="32"/>
                  </a:moveTo>
                  <a:lnTo>
                    <a:pt x="160" y="0"/>
                  </a:lnTo>
                  <a:lnTo>
                    <a:pt x="160" y="143"/>
                  </a:lnTo>
                  <a:lnTo>
                    <a:pt x="0" y="143"/>
                  </a:lnTo>
                  <a:lnTo>
                    <a:pt x="0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655880" y="3375000"/>
              <a:ext cx="47880" cy="170640"/>
            </a:xfrm>
            <a:custGeom>
              <a:avLst/>
              <a:gdLst/>
              <a:ahLst/>
              <a:rect l="l" t="t" r="r" b="b"/>
              <a:pathLst>
                <a:path w="34" h="131">
                  <a:moveTo>
                    <a:pt x="20" y="0"/>
                  </a:moveTo>
                  <a:lnTo>
                    <a:pt x="20" y="7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22" y="126"/>
                  </a:lnTo>
                  <a:lnTo>
                    <a:pt x="22" y="28"/>
                  </a:lnTo>
                  <a:lnTo>
                    <a:pt x="33" y="30"/>
                  </a:lnTo>
                  <a:lnTo>
                    <a:pt x="33" y="5"/>
                  </a:lnTo>
                  <a:lnTo>
                    <a:pt x="2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655880" y="3375000"/>
              <a:ext cx="64440" cy="185400"/>
            </a:xfrm>
            <a:custGeom>
              <a:avLst/>
              <a:gdLst/>
              <a:ahLst/>
              <a:rect l="l" t="t" r="r" b="b"/>
              <a:pathLst>
                <a:path w="46" h="142">
                  <a:moveTo>
                    <a:pt x="27" y="0"/>
                  </a:moveTo>
                  <a:lnTo>
                    <a:pt x="27" y="7"/>
                  </a:lnTo>
                  <a:lnTo>
                    <a:pt x="0" y="0"/>
                  </a:lnTo>
                  <a:lnTo>
                    <a:pt x="0" y="141"/>
                  </a:lnTo>
                  <a:lnTo>
                    <a:pt x="30" y="137"/>
                  </a:lnTo>
                  <a:lnTo>
                    <a:pt x="30" y="30"/>
                  </a:lnTo>
                  <a:lnTo>
                    <a:pt x="45" y="32"/>
                  </a:lnTo>
                  <a:lnTo>
                    <a:pt x="45" y="5"/>
                  </a:lnTo>
                  <a:lnTo>
                    <a:pt x="2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530960" y="3386880"/>
              <a:ext cx="46080" cy="99360"/>
            </a:xfrm>
            <a:custGeom>
              <a:avLst/>
              <a:gdLst/>
              <a:ahLst/>
              <a:rect l="l" t="t" r="r" b="b"/>
              <a:pathLst>
                <a:path w="33" h="76">
                  <a:moveTo>
                    <a:pt x="32" y="0"/>
                  </a:moveTo>
                  <a:lnTo>
                    <a:pt x="32" y="73"/>
                  </a:lnTo>
                  <a:lnTo>
                    <a:pt x="0" y="75"/>
                  </a:lnTo>
                  <a:lnTo>
                    <a:pt x="0" y="3"/>
                  </a:lnTo>
                  <a:lnTo>
                    <a:pt x="32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530960" y="3386880"/>
              <a:ext cx="46080" cy="112680"/>
            </a:xfrm>
            <a:custGeom>
              <a:avLst/>
              <a:gdLst/>
              <a:ahLst/>
              <a:rect l="l" t="t" r="r" b="b"/>
              <a:pathLst>
                <a:path w="33" h="87">
                  <a:moveTo>
                    <a:pt x="32" y="0"/>
                  </a:moveTo>
                  <a:lnTo>
                    <a:pt x="32" y="84"/>
                  </a:lnTo>
                  <a:lnTo>
                    <a:pt x="0" y="86"/>
                  </a:lnTo>
                  <a:lnTo>
                    <a:pt x="0" y="3"/>
                  </a:lnTo>
                  <a:lnTo>
                    <a:pt x="3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532400" y="3499920"/>
              <a:ext cx="4968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24" y="0"/>
                  </a:lnTo>
                  <a:lnTo>
                    <a:pt x="33" y="29"/>
                  </a:lnTo>
                  <a:lnTo>
                    <a:pt x="7" y="29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532400" y="3499920"/>
              <a:ext cx="4968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24" y="0"/>
                  </a:lnTo>
                  <a:lnTo>
                    <a:pt x="33" y="29"/>
                  </a:lnTo>
                  <a:lnTo>
                    <a:pt x="9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566240" y="3386880"/>
              <a:ext cx="44640" cy="123120"/>
            </a:xfrm>
            <a:custGeom>
              <a:avLst/>
              <a:gdLst/>
              <a:ahLst/>
              <a:rect l="l" t="t" r="r" b="b"/>
              <a:pathLst>
                <a:path w="32" h="95">
                  <a:moveTo>
                    <a:pt x="31" y="0"/>
                  </a:moveTo>
                  <a:lnTo>
                    <a:pt x="0" y="1"/>
                  </a:lnTo>
                  <a:lnTo>
                    <a:pt x="0" y="94"/>
                  </a:lnTo>
                  <a:lnTo>
                    <a:pt x="31" y="74"/>
                  </a:lnTo>
                  <a:lnTo>
                    <a:pt x="31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568040" y="3386880"/>
              <a:ext cx="46080" cy="137880"/>
            </a:xfrm>
            <a:custGeom>
              <a:avLst/>
              <a:gdLst/>
              <a:ahLst/>
              <a:rect l="l" t="t" r="r" b="b"/>
              <a:pathLst>
                <a:path w="33" h="106">
                  <a:moveTo>
                    <a:pt x="0" y="0"/>
                  </a:moveTo>
                  <a:lnTo>
                    <a:pt x="32" y="1"/>
                  </a:lnTo>
                  <a:lnTo>
                    <a:pt x="32" y="105"/>
                  </a:ln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487760" y="3401640"/>
              <a:ext cx="1080" cy="10836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65"/>
                  </a:lnTo>
                  <a:lnTo>
                    <a:pt x="0" y="8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487760" y="3401640"/>
              <a:ext cx="46080" cy="123120"/>
            </a:xfrm>
            <a:custGeom>
              <a:avLst/>
              <a:gdLst/>
              <a:ahLst/>
              <a:rect l="l" t="t" r="r" b="b"/>
              <a:pathLst>
                <a:path w="33" h="95">
                  <a:moveTo>
                    <a:pt x="0" y="0"/>
                  </a:moveTo>
                  <a:lnTo>
                    <a:pt x="0" y="74"/>
                  </a:lnTo>
                  <a:lnTo>
                    <a:pt x="32" y="94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455360" y="3401640"/>
              <a:ext cx="46080" cy="87480"/>
            </a:xfrm>
            <a:custGeom>
              <a:avLst/>
              <a:gdLst/>
              <a:ahLst/>
              <a:rect l="l" t="t" r="r" b="b"/>
              <a:pathLst>
                <a:path w="33" h="67">
                  <a:moveTo>
                    <a:pt x="0" y="3"/>
                  </a:moveTo>
                  <a:lnTo>
                    <a:pt x="32" y="0"/>
                  </a:lnTo>
                  <a:lnTo>
                    <a:pt x="32" y="66"/>
                  </a:lnTo>
                  <a:lnTo>
                    <a:pt x="0" y="66"/>
                  </a:lnTo>
                  <a:lnTo>
                    <a:pt x="0" y="3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455360" y="3401640"/>
              <a:ext cx="46080" cy="10080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0" y="3"/>
                  </a:moveTo>
                  <a:lnTo>
                    <a:pt x="32" y="0"/>
                  </a:lnTo>
                  <a:lnTo>
                    <a:pt x="32" y="77"/>
                  </a:lnTo>
                  <a:lnTo>
                    <a:pt x="0" y="77"/>
                  </a:lnTo>
                  <a:lnTo>
                    <a:pt x="0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455360" y="3499920"/>
              <a:ext cx="4608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19" y="0"/>
                  </a:lnTo>
                  <a:lnTo>
                    <a:pt x="32" y="29"/>
                  </a:lnTo>
                  <a:lnTo>
                    <a:pt x="9" y="29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455360" y="3499920"/>
              <a:ext cx="53640" cy="38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0" y="1"/>
                  </a:moveTo>
                  <a:lnTo>
                    <a:pt x="23" y="0"/>
                  </a:lnTo>
                  <a:lnTo>
                    <a:pt x="37" y="29"/>
                  </a:lnTo>
                  <a:lnTo>
                    <a:pt x="11" y="29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605120" y="3447720"/>
              <a:ext cx="49320" cy="385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0"/>
                  </a:moveTo>
                  <a:lnTo>
                    <a:pt x="19" y="0"/>
                  </a:lnTo>
                  <a:lnTo>
                    <a:pt x="33" y="28"/>
                  </a:lnTo>
                  <a:lnTo>
                    <a:pt x="9" y="2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605120" y="3447720"/>
              <a:ext cx="5220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0"/>
                  </a:moveTo>
                  <a:lnTo>
                    <a:pt x="21" y="0"/>
                  </a:lnTo>
                  <a:lnTo>
                    <a:pt x="35" y="28"/>
                  </a:lnTo>
                  <a:lnTo>
                    <a:pt x="12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605120" y="3376440"/>
              <a:ext cx="49320" cy="6084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46"/>
                  </a:moveTo>
                  <a:lnTo>
                    <a:pt x="33" y="44"/>
                  </a:lnTo>
                  <a:lnTo>
                    <a:pt x="33" y="0"/>
                  </a:lnTo>
                  <a:lnTo>
                    <a:pt x="0" y="3"/>
                  </a:lnTo>
                  <a:lnTo>
                    <a:pt x="0" y="46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605120" y="3376440"/>
              <a:ext cx="49320" cy="74160"/>
            </a:xfrm>
            <a:custGeom>
              <a:avLst/>
              <a:gdLst/>
              <a:ahLst/>
              <a:rect l="l" t="t" r="r" b="b"/>
              <a:pathLst>
                <a:path w="34" h="57">
                  <a:moveTo>
                    <a:pt x="0" y="56"/>
                  </a:moveTo>
                  <a:lnTo>
                    <a:pt x="33" y="54"/>
                  </a:lnTo>
                  <a:lnTo>
                    <a:pt x="33" y="0"/>
                  </a:lnTo>
                  <a:lnTo>
                    <a:pt x="0" y="3"/>
                  </a:lnTo>
                  <a:lnTo>
                    <a:pt x="0" y="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636080" y="3375000"/>
              <a:ext cx="1080" cy="96480"/>
            </a:xfrm>
            <a:custGeom>
              <a:avLst/>
              <a:gdLst/>
              <a:ahLst/>
              <a:rect l="l" t="t" r="r" b="b"/>
              <a:pathLst>
                <a:path w="1" h="74">
                  <a:moveTo>
                    <a:pt x="0" y="0"/>
                  </a:moveTo>
                  <a:lnTo>
                    <a:pt x="0" y="48"/>
                  </a:lnTo>
                  <a:lnTo>
                    <a:pt x="0" y="7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36080" y="3375000"/>
              <a:ext cx="46080" cy="11124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0" y="0"/>
                  </a:moveTo>
                  <a:lnTo>
                    <a:pt x="0" y="55"/>
                  </a:lnTo>
                  <a:lnTo>
                    <a:pt x="32" y="84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526280" y="3395880"/>
              <a:ext cx="46080" cy="45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1"/>
                  </a:moveTo>
                  <a:lnTo>
                    <a:pt x="32" y="0"/>
                  </a:lnTo>
                  <a:lnTo>
                    <a:pt x="32" y="35"/>
                  </a:lnTo>
                  <a:lnTo>
                    <a:pt x="0" y="35"/>
                  </a:lnTo>
                  <a:lnTo>
                    <a:pt x="0" y="1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526280" y="3395880"/>
              <a:ext cx="46080" cy="6048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0" y="1"/>
                  </a:moveTo>
                  <a:lnTo>
                    <a:pt x="32" y="0"/>
                  </a:lnTo>
                  <a:lnTo>
                    <a:pt x="32" y="46"/>
                  </a:lnTo>
                  <a:lnTo>
                    <a:pt x="0" y="46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26280" y="3455280"/>
              <a:ext cx="46080" cy="367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17" y="0"/>
                  </a:lnTo>
                  <a:lnTo>
                    <a:pt x="32" y="28"/>
                  </a:lnTo>
                  <a:lnTo>
                    <a:pt x="11" y="2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26280" y="3455280"/>
              <a:ext cx="46080" cy="367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16" y="0"/>
                  </a:lnTo>
                  <a:lnTo>
                    <a:pt x="32" y="28"/>
                  </a:lnTo>
                  <a:lnTo>
                    <a:pt x="13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543200" y="3395880"/>
              <a:ext cx="49320" cy="8136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34" y="62"/>
                  </a:moveTo>
                  <a:lnTo>
                    <a:pt x="34" y="3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4" y="62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543200" y="3395880"/>
              <a:ext cx="49320" cy="9468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4" y="73"/>
                  </a:moveTo>
                  <a:lnTo>
                    <a:pt x="34" y="3"/>
                  </a:lnTo>
                  <a:lnTo>
                    <a:pt x="0" y="0"/>
                  </a:lnTo>
                  <a:lnTo>
                    <a:pt x="0" y="47"/>
                  </a:lnTo>
                  <a:lnTo>
                    <a:pt x="34" y="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446000" y="3461400"/>
              <a:ext cx="4752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1" y="29"/>
                  </a:moveTo>
                  <a:lnTo>
                    <a:pt x="32" y="29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1" y="2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446000" y="3461400"/>
              <a:ext cx="4752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3" y="29"/>
                  </a:moveTo>
                  <a:lnTo>
                    <a:pt x="32" y="2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13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446000" y="3419640"/>
              <a:ext cx="47520" cy="385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32" y="28"/>
                  </a:lnTo>
                  <a:lnTo>
                    <a:pt x="32" y="0"/>
                  </a:lnTo>
                  <a:lnTo>
                    <a:pt x="0" y="1"/>
                  </a:lnTo>
                  <a:lnTo>
                    <a:pt x="0" y="28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446000" y="3419640"/>
              <a:ext cx="47520" cy="428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2"/>
                  </a:moveTo>
                  <a:lnTo>
                    <a:pt x="27" y="32"/>
                  </a:lnTo>
                  <a:lnTo>
                    <a:pt x="32" y="0"/>
                  </a:lnTo>
                  <a:lnTo>
                    <a:pt x="0" y="1"/>
                  </a:lnTo>
                  <a:lnTo>
                    <a:pt x="0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467600" y="3419640"/>
              <a:ext cx="46440" cy="5940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32" y="0"/>
                  </a:moveTo>
                  <a:lnTo>
                    <a:pt x="32" y="26"/>
                  </a:lnTo>
                  <a:lnTo>
                    <a:pt x="0" y="44"/>
                  </a:lnTo>
                  <a:lnTo>
                    <a:pt x="0" y="5"/>
                  </a:lnTo>
                  <a:lnTo>
                    <a:pt x="32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69400" y="3419640"/>
              <a:ext cx="47520" cy="727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0"/>
                  </a:moveTo>
                  <a:lnTo>
                    <a:pt x="0" y="31"/>
                  </a:lnTo>
                  <a:lnTo>
                    <a:pt x="33" y="5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379760" y="3452400"/>
              <a:ext cx="79920" cy="93600"/>
            </a:xfrm>
            <a:custGeom>
              <a:avLst/>
              <a:gdLst/>
              <a:ahLst/>
              <a:rect l="l" t="t" r="r" b="b"/>
              <a:pathLst>
                <a:path w="56" h="72">
                  <a:moveTo>
                    <a:pt x="0" y="71"/>
                  </a:moveTo>
                  <a:lnTo>
                    <a:pt x="55" y="71"/>
                  </a:lnTo>
                  <a:lnTo>
                    <a:pt x="55" y="0"/>
                  </a:lnTo>
                  <a:lnTo>
                    <a:pt x="21" y="1"/>
                  </a:lnTo>
                  <a:lnTo>
                    <a:pt x="21" y="53"/>
                  </a:lnTo>
                  <a:lnTo>
                    <a:pt x="0" y="55"/>
                  </a:lnTo>
                  <a:lnTo>
                    <a:pt x="0" y="71"/>
                  </a:lnTo>
                </a:path>
              </a:pathLst>
            </a:custGeom>
            <a:solidFill>
              <a:srgbClr val="604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379760" y="3452400"/>
              <a:ext cx="98640" cy="10836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0" y="82"/>
                  </a:moveTo>
                  <a:lnTo>
                    <a:pt x="68" y="82"/>
                  </a:lnTo>
                  <a:lnTo>
                    <a:pt x="68" y="0"/>
                  </a:lnTo>
                  <a:lnTo>
                    <a:pt x="25" y="1"/>
                  </a:lnTo>
                  <a:lnTo>
                    <a:pt x="25" y="60"/>
                  </a:lnTo>
                  <a:lnTo>
                    <a:pt x="0" y="64"/>
                  </a:lnTo>
                  <a:lnTo>
                    <a:pt x="0" y="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787280" y="3490920"/>
              <a:ext cx="1080" cy="4860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5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36"/>
                  </a:lnTo>
                  <a:lnTo>
                    <a:pt x="0" y="5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787280" y="3490920"/>
              <a:ext cx="51120" cy="6228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0" y="7"/>
                  </a:moveTo>
                  <a:lnTo>
                    <a:pt x="0" y="5"/>
                  </a:lnTo>
                  <a:lnTo>
                    <a:pt x="4" y="1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28" y="1"/>
                  </a:lnTo>
                  <a:lnTo>
                    <a:pt x="35" y="3"/>
                  </a:lnTo>
                  <a:lnTo>
                    <a:pt x="35" y="5"/>
                  </a:lnTo>
                  <a:lnTo>
                    <a:pt x="35" y="7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47"/>
                  </a:lnTo>
                  <a:lnTo>
                    <a:pt x="0" y="4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424400" y="3538440"/>
              <a:ext cx="5076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424400" y="3538440"/>
              <a:ext cx="5076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55360" y="3538440"/>
              <a:ext cx="4608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0"/>
                  </a:lnTo>
                  <a:lnTo>
                    <a:pt x="32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455360" y="3538440"/>
              <a:ext cx="4608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29"/>
                  </a:lnTo>
                  <a:lnTo>
                    <a:pt x="32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481640" y="3538440"/>
              <a:ext cx="4788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0"/>
                  </a:lnTo>
                  <a:lnTo>
                    <a:pt x="32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481640" y="3538440"/>
              <a:ext cx="4788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29"/>
                  </a:lnTo>
                  <a:lnTo>
                    <a:pt x="32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509000" y="353844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509000" y="353844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537080" y="353844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537080" y="353844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66240" y="3538440"/>
              <a:ext cx="44640" cy="38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31" y="0"/>
                  </a:lnTo>
                  <a:lnTo>
                    <a:pt x="31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66240" y="3538440"/>
              <a:ext cx="44640" cy="38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94320" y="3538440"/>
              <a:ext cx="4788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0"/>
                  </a:lnTo>
                  <a:lnTo>
                    <a:pt x="33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94320" y="3538440"/>
              <a:ext cx="4788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29"/>
                  </a:lnTo>
                  <a:lnTo>
                    <a:pt x="33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623840" y="3538440"/>
              <a:ext cx="4932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0"/>
                  </a:lnTo>
                  <a:lnTo>
                    <a:pt x="33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23840" y="3538440"/>
              <a:ext cx="4932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29"/>
                  </a:lnTo>
                  <a:lnTo>
                    <a:pt x="33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495680" y="353844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80280" y="353844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26280" y="353844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52560" y="353844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9400" y="353844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441320" y="353844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605120" y="353844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636080" y="353844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384080" y="3529800"/>
              <a:ext cx="244080" cy="38160"/>
            </a:xfrm>
            <a:custGeom>
              <a:avLst/>
              <a:gdLst/>
              <a:ahLst/>
              <a:rect l="l" t="t" r="r" b="b"/>
              <a:pathLst>
                <a:path w="172" h="30">
                  <a:moveTo>
                    <a:pt x="0" y="29"/>
                  </a:moveTo>
                  <a:lnTo>
                    <a:pt x="11" y="0"/>
                  </a:lnTo>
                  <a:lnTo>
                    <a:pt x="171" y="0"/>
                  </a:lnTo>
                  <a:lnTo>
                    <a:pt x="171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36520" y="3483720"/>
              <a:ext cx="47520" cy="6804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0" y="8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6" y="0"/>
                  </a:lnTo>
                  <a:lnTo>
                    <a:pt x="33" y="1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16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52"/>
                  </a:lnTo>
                  <a:lnTo>
                    <a:pt x="0" y="8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736520" y="3483720"/>
              <a:ext cx="47520" cy="7992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0" y="10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3" y="1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28" y="5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24" y="10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7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2"/>
                  </a:lnTo>
                  <a:lnTo>
                    <a:pt x="3" y="61"/>
                  </a:lnTo>
                  <a:lnTo>
                    <a:pt x="0" y="61"/>
                  </a:lnTo>
                  <a:lnTo>
                    <a:pt x="0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685400" y="3542760"/>
              <a:ext cx="5112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8"/>
                  </a:moveTo>
                  <a:lnTo>
                    <a:pt x="35" y="28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685400" y="3542760"/>
              <a:ext cx="5112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8"/>
                  </a:moveTo>
                  <a:lnTo>
                    <a:pt x="35" y="28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711680" y="3542760"/>
              <a:ext cx="49320" cy="385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0"/>
                  </a:moveTo>
                  <a:lnTo>
                    <a:pt x="33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3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719240" y="354276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0" y="28"/>
                  </a:lnTo>
                  <a:lnTo>
                    <a:pt x="34" y="24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829040" y="350280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34" y="3"/>
                  </a:moveTo>
                  <a:lnTo>
                    <a:pt x="34" y="1"/>
                  </a:lnTo>
                  <a:lnTo>
                    <a:pt x="16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"/>
                  </a:lnTo>
                  <a:lnTo>
                    <a:pt x="16" y="1"/>
                  </a:lnTo>
                  <a:lnTo>
                    <a:pt x="16" y="3"/>
                  </a:lnTo>
                  <a:lnTo>
                    <a:pt x="16" y="29"/>
                  </a:lnTo>
                  <a:lnTo>
                    <a:pt x="34" y="29"/>
                  </a:lnTo>
                  <a:lnTo>
                    <a:pt x="34" y="3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838400" y="3502800"/>
              <a:ext cx="44280" cy="428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5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31" y="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14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32"/>
                  </a:lnTo>
                  <a:lnTo>
                    <a:pt x="0" y="32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680720" y="3552120"/>
              <a:ext cx="4932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0"/>
                  </a:lnTo>
                  <a:lnTo>
                    <a:pt x="34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683960" y="3552120"/>
              <a:ext cx="4932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683960" y="3537000"/>
              <a:ext cx="4932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28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683960" y="3537000"/>
              <a:ext cx="4932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680720" y="352188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0"/>
                  </a:lnTo>
                  <a:lnTo>
                    <a:pt x="34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683960" y="352368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83960" y="3510360"/>
              <a:ext cx="49320" cy="3996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0"/>
                  </a:moveTo>
                  <a:lnTo>
                    <a:pt x="34" y="30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83960" y="3510360"/>
              <a:ext cx="49320" cy="3996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0"/>
                  </a:moveTo>
                  <a:lnTo>
                    <a:pt x="34" y="30"/>
                  </a:lnTo>
                  <a:lnTo>
                    <a:pt x="34" y="0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80720" y="349992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83960" y="349992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83960" y="3488040"/>
              <a:ext cx="4932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28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83960" y="348480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416840" y="3426840"/>
              <a:ext cx="194040" cy="38520"/>
            </a:xfrm>
            <a:custGeom>
              <a:avLst/>
              <a:gdLst/>
              <a:ahLst/>
              <a:rect l="l" t="t" r="r" b="b"/>
              <a:pathLst>
                <a:path w="137" h="30">
                  <a:moveTo>
                    <a:pt x="136" y="0"/>
                  </a:moveTo>
                  <a:lnTo>
                    <a:pt x="136" y="18"/>
                  </a:lnTo>
                  <a:lnTo>
                    <a:pt x="1" y="29"/>
                  </a:lnTo>
                  <a:lnTo>
                    <a:pt x="0" y="18"/>
                  </a:lnTo>
                  <a:lnTo>
                    <a:pt x="136" y="0"/>
                  </a:lnTo>
                </a:path>
              </a:pathLst>
            </a:custGeom>
            <a:solidFill>
              <a:srgbClr val="a08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416840" y="3426840"/>
              <a:ext cx="212760" cy="38520"/>
            </a:xfrm>
            <a:custGeom>
              <a:avLst/>
              <a:gdLst/>
              <a:ahLst/>
              <a:rect l="l" t="t" r="r" b="b"/>
              <a:pathLst>
                <a:path w="150" h="30">
                  <a:moveTo>
                    <a:pt x="149" y="0"/>
                  </a:moveTo>
                  <a:lnTo>
                    <a:pt x="149" y="18"/>
                  </a:lnTo>
                  <a:lnTo>
                    <a:pt x="1" y="29"/>
                  </a:lnTo>
                  <a:lnTo>
                    <a:pt x="0" y="16"/>
                  </a:lnTo>
                  <a:lnTo>
                    <a:pt x="1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04680" y="3395880"/>
              <a:ext cx="49320" cy="414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9" y="0"/>
                  </a:moveTo>
                  <a:lnTo>
                    <a:pt x="34" y="5"/>
                  </a:lnTo>
                  <a:lnTo>
                    <a:pt x="34" y="13"/>
                  </a:lnTo>
                  <a:lnTo>
                    <a:pt x="19" y="15"/>
                  </a:lnTo>
                  <a:lnTo>
                    <a:pt x="8" y="30"/>
                  </a:lnTo>
                  <a:lnTo>
                    <a:pt x="0" y="32"/>
                  </a:lnTo>
                  <a:lnTo>
                    <a:pt x="1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04680" y="3395880"/>
              <a:ext cx="49320" cy="5472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17" y="0"/>
                  </a:moveTo>
                  <a:lnTo>
                    <a:pt x="34" y="7"/>
                  </a:lnTo>
                  <a:lnTo>
                    <a:pt x="34" y="18"/>
                  </a:lnTo>
                  <a:lnTo>
                    <a:pt x="17" y="20"/>
                  </a:lnTo>
                  <a:lnTo>
                    <a:pt x="8" y="40"/>
                  </a:lnTo>
                  <a:lnTo>
                    <a:pt x="0" y="42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487760" y="3395880"/>
              <a:ext cx="46080" cy="414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1"/>
                  </a:moveTo>
                  <a:lnTo>
                    <a:pt x="32" y="0"/>
                  </a:lnTo>
                  <a:lnTo>
                    <a:pt x="11" y="32"/>
                  </a:lnTo>
                  <a:lnTo>
                    <a:pt x="0" y="32"/>
                  </a:lnTo>
                  <a:lnTo>
                    <a:pt x="17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487760" y="3395880"/>
              <a:ext cx="46080" cy="5472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16" y="3"/>
                  </a:moveTo>
                  <a:lnTo>
                    <a:pt x="32" y="0"/>
                  </a:lnTo>
                  <a:lnTo>
                    <a:pt x="13" y="42"/>
                  </a:lnTo>
                  <a:lnTo>
                    <a:pt x="0" y="42"/>
                  </a:lnTo>
                  <a:lnTo>
                    <a:pt x="16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568040" y="3381120"/>
              <a:ext cx="46080" cy="45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1"/>
                  </a:moveTo>
                  <a:lnTo>
                    <a:pt x="32" y="0"/>
                  </a:lnTo>
                  <a:lnTo>
                    <a:pt x="16" y="33"/>
                  </a:lnTo>
                  <a:lnTo>
                    <a:pt x="0" y="35"/>
                  </a:lnTo>
                  <a:lnTo>
                    <a:pt x="17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568040" y="3381120"/>
              <a:ext cx="46080" cy="6048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17" y="1"/>
                  </a:moveTo>
                  <a:lnTo>
                    <a:pt x="32" y="0"/>
                  </a:lnTo>
                  <a:lnTo>
                    <a:pt x="16" y="44"/>
                  </a:lnTo>
                  <a:lnTo>
                    <a:pt x="0" y="46"/>
                  </a:lnTo>
                  <a:lnTo>
                    <a:pt x="17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591080" y="3381120"/>
              <a:ext cx="49320" cy="442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9" y="0"/>
                  </a:moveTo>
                  <a:lnTo>
                    <a:pt x="0" y="33"/>
                  </a:lnTo>
                  <a:lnTo>
                    <a:pt x="12" y="29"/>
                  </a:lnTo>
                  <a:lnTo>
                    <a:pt x="19" y="15"/>
                  </a:lnTo>
                  <a:lnTo>
                    <a:pt x="33" y="13"/>
                  </a:lnTo>
                  <a:lnTo>
                    <a:pt x="33" y="6"/>
                  </a:lnTo>
                  <a:lnTo>
                    <a:pt x="1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591080" y="3381120"/>
              <a:ext cx="49320" cy="5760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17" y="0"/>
                  </a:moveTo>
                  <a:lnTo>
                    <a:pt x="0" y="44"/>
                  </a:lnTo>
                  <a:lnTo>
                    <a:pt x="9" y="40"/>
                  </a:lnTo>
                  <a:lnTo>
                    <a:pt x="17" y="21"/>
                  </a:lnTo>
                  <a:lnTo>
                    <a:pt x="33" y="19"/>
                  </a:lnTo>
                  <a:lnTo>
                    <a:pt x="33" y="8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31400" y="3541680"/>
              <a:ext cx="47520" cy="36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28"/>
                  </a:moveTo>
                  <a:lnTo>
                    <a:pt x="33" y="28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31400" y="3541680"/>
              <a:ext cx="47520" cy="36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28"/>
                  </a:moveTo>
                  <a:lnTo>
                    <a:pt x="33" y="28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76400" y="3541680"/>
              <a:ext cx="1080" cy="36720"/>
            </a:xfrm>
            <a:custGeom>
              <a:avLst/>
              <a:gdLst/>
              <a:ahLst/>
              <a:rect l="l" t="t" r="r" b="b"/>
              <a:pathLst>
                <a:path w="1" h="29">
                  <a:moveTo>
                    <a:pt x="0" y="0"/>
                  </a:moveTo>
                  <a:lnTo>
                    <a:pt x="0" y="2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76400" y="3541680"/>
              <a:ext cx="47520" cy="367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0" y="28"/>
                  </a:lnTo>
                  <a:lnTo>
                    <a:pt x="32" y="28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424400" y="3458160"/>
              <a:ext cx="63360" cy="41400"/>
            </a:xfrm>
            <a:custGeom>
              <a:avLst/>
              <a:gdLst/>
              <a:ahLst/>
              <a:rect l="l" t="t" r="r" b="b"/>
              <a:pathLst>
                <a:path w="44" h="31">
                  <a:moveTo>
                    <a:pt x="0" y="9"/>
                  </a:moveTo>
                  <a:lnTo>
                    <a:pt x="38" y="30"/>
                  </a:lnTo>
                  <a:lnTo>
                    <a:pt x="43" y="0"/>
                  </a:lnTo>
                  <a:lnTo>
                    <a:pt x="3" y="0"/>
                  </a:lnTo>
                  <a:lnTo>
                    <a:pt x="0" y="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424400" y="3467160"/>
              <a:ext cx="77040" cy="37080"/>
            </a:xfrm>
            <a:custGeom>
              <a:avLst/>
              <a:gdLst/>
              <a:ahLst/>
              <a:rect l="l" t="t" r="r" b="b"/>
              <a:pathLst>
                <a:path w="54" h="29">
                  <a:moveTo>
                    <a:pt x="0" y="17"/>
                  </a:moveTo>
                  <a:lnTo>
                    <a:pt x="48" y="0"/>
                  </a:lnTo>
                  <a:lnTo>
                    <a:pt x="53" y="28"/>
                  </a:lnTo>
                  <a:lnTo>
                    <a:pt x="5" y="28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416840" y="3468960"/>
              <a:ext cx="46080" cy="83160"/>
            </a:xfrm>
            <a:custGeom>
              <a:avLst/>
              <a:gdLst/>
              <a:ahLst/>
              <a:rect l="l" t="t" r="r" b="b"/>
              <a:pathLst>
                <a:path w="33" h="64">
                  <a:moveTo>
                    <a:pt x="32" y="63"/>
                  </a:moveTo>
                  <a:lnTo>
                    <a:pt x="32" y="0"/>
                  </a:lnTo>
                  <a:lnTo>
                    <a:pt x="0" y="3"/>
                  </a:lnTo>
                  <a:lnTo>
                    <a:pt x="0" y="63"/>
                  </a:lnTo>
                  <a:lnTo>
                    <a:pt x="32" y="63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424400" y="3468960"/>
              <a:ext cx="50760" cy="9468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72"/>
                  </a:moveTo>
                  <a:lnTo>
                    <a:pt x="0" y="0"/>
                  </a:lnTo>
                  <a:lnTo>
                    <a:pt x="34" y="3"/>
                  </a:lnTo>
                  <a:lnTo>
                    <a:pt x="34" y="72"/>
                  </a:lnTo>
                  <a:lnTo>
                    <a:pt x="0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485960" y="3467160"/>
              <a:ext cx="46080" cy="8604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31" y="66"/>
                  </a:moveTo>
                  <a:lnTo>
                    <a:pt x="31" y="0"/>
                  </a:lnTo>
                  <a:lnTo>
                    <a:pt x="0" y="3"/>
                  </a:lnTo>
                  <a:lnTo>
                    <a:pt x="0" y="66"/>
                  </a:lnTo>
                  <a:lnTo>
                    <a:pt x="31" y="66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492440" y="3467160"/>
              <a:ext cx="46080" cy="10080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0" y="77"/>
                  </a:moveTo>
                  <a:lnTo>
                    <a:pt x="0" y="0"/>
                  </a:lnTo>
                  <a:lnTo>
                    <a:pt x="32" y="3"/>
                  </a:lnTo>
                  <a:lnTo>
                    <a:pt x="32" y="77"/>
                  </a:lnTo>
                  <a:lnTo>
                    <a:pt x="0" y="7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495680" y="3456720"/>
              <a:ext cx="77040" cy="38520"/>
            </a:xfrm>
            <a:custGeom>
              <a:avLst/>
              <a:gdLst/>
              <a:ahLst/>
              <a:rect l="l" t="t" r="r" b="b"/>
              <a:pathLst>
                <a:path w="55" h="30">
                  <a:moveTo>
                    <a:pt x="0" y="18"/>
                  </a:moveTo>
                  <a:lnTo>
                    <a:pt x="45" y="29"/>
                  </a:lnTo>
                  <a:lnTo>
                    <a:pt x="54" y="9"/>
                  </a:lnTo>
                  <a:lnTo>
                    <a:pt x="3" y="0"/>
                  </a:lnTo>
                  <a:lnTo>
                    <a:pt x="0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495680" y="3464280"/>
              <a:ext cx="93960" cy="38160"/>
            </a:xfrm>
            <a:custGeom>
              <a:avLst/>
              <a:gdLst/>
              <a:ahLst/>
              <a:rect l="l" t="t" r="r" b="b"/>
              <a:pathLst>
                <a:path w="67" h="30">
                  <a:moveTo>
                    <a:pt x="0" y="9"/>
                  </a:moveTo>
                  <a:lnTo>
                    <a:pt x="55" y="0"/>
                  </a:lnTo>
                  <a:lnTo>
                    <a:pt x="66" y="18"/>
                  </a:lnTo>
                  <a:lnTo>
                    <a:pt x="3" y="29"/>
                  </a:lnTo>
                  <a:lnTo>
                    <a:pt x="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68040" y="3461400"/>
              <a:ext cx="46080" cy="91800"/>
            </a:xfrm>
            <a:custGeom>
              <a:avLst/>
              <a:gdLst/>
              <a:ahLst/>
              <a:rect l="l" t="t" r="r" b="b"/>
              <a:pathLst>
                <a:path w="33" h="71">
                  <a:moveTo>
                    <a:pt x="32" y="70"/>
                  </a:moveTo>
                  <a:lnTo>
                    <a:pt x="32" y="0"/>
                  </a:lnTo>
                  <a:lnTo>
                    <a:pt x="0" y="5"/>
                  </a:lnTo>
                  <a:lnTo>
                    <a:pt x="0" y="70"/>
                  </a:lnTo>
                  <a:lnTo>
                    <a:pt x="32" y="70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575600" y="3461400"/>
              <a:ext cx="49320" cy="106560"/>
            </a:xfrm>
            <a:custGeom>
              <a:avLst/>
              <a:gdLst/>
              <a:ahLst/>
              <a:rect l="l" t="t" r="r" b="b"/>
              <a:pathLst>
                <a:path w="35" h="82">
                  <a:moveTo>
                    <a:pt x="0" y="81"/>
                  </a:moveTo>
                  <a:lnTo>
                    <a:pt x="0" y="0"/>
                  </a:lnTo>
                  <a:lnTo>
                    <a:pt x="34" y="5"/>
                  </a:lnTo>
                  <a:lnTo>
                    <a:pt x="34" y="81"/>
                  </a:lnTo>
                  <a:lnTo>
                    <a:pt x="0" y="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"/>
          <p:cNvSpPr/>
          <p:nvPr/>
        </p:nvSpPr>
        <p:spPr>
          <a:xfrm>
            <a:off x="4277160" y="2940120"/>
            <a:ext cx="526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MEG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561840" y="5149800"/>
            <a:ext cx="591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LTS S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736880" y="1052640"/>
            <a:ext cx="7308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ACIF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4794120" y="2946240"/>
            <a:ext cx="703080" cy="378000"/>
            <a:chOff x="4794120" y="2946240"/>
            <a:chExt cx="703080" cy="378000"/>
          </a:xfrm>
        </p:grpSpPr>
        <p:sp>
          <p:nvSpPr>
            <p:cNvPr id="1279" name=""/>
            <p:cNvSpPr/>
            <p:nvPr/>
          </p:nvSpPr>
          <p:spPr>
            <a:xfrm>
              <a:off x="5398200" y="3053880"/>
              <a:ext cx="89640" cy="2376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31" y="0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6" y="9"/>
                  </a:lnTo>
                  <a:lnTo>
                    <a:pt x="58" y="9"/>
                  </a:lnTo>
                  <a:lnTo>
                    <a:pt x="62" y="9"/>
                  </a:lnTo>
                  <a:lnTo>
                    <a:pt x="58" y="9"/>
                  </a:lnTo>
                  <a:lnTo>
                    <a:pt x="56" y="18"/>
                  </a:lnTo>
                  <a:lnTo>
                    <a:pt x="52" y="18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1" y="18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398200" y="3053880"/>
              <a:ext cx="99000" cy="23760"/>
            </a:xfrm>
            <a:custGeom>
              <a:avLst/>
              <a:gdLst/>
              <a:ahLst/>
              <a:rect l="l" t="t" r="r" b="b"/>
              <a:pathLst>
                <a:path w="70" h="19">
                  <a:moveTo>
                    <a:pt x="34" y="0"/>
                  </a:moveTo>
                  <a:lnTo>
                    <a:pt x="40" y="0"/>
                  </a:lnTo>
                  <a:lnTo>
                    <a:pt x="47" y="2"/>
                  </a:lnTo>
                  <a:lnTo>
                    <a:pt x="53" y="2"/>
                  </a:lnTo>
                  <a:lnTo>
                    <a:pt x="58" y="2"/>
                  </a:lnTo>
                  <a:lnTo>
                    <a:pt x="63" y="4"/>
                  </a:lnTo>
                  <a:lnTo>
                    <a:pt x="65" y="4"/>
                  </a:lnTo>
                  <a:lnTo>
                    <a:pt x="69" y="6"/>
                  </a:lnTo>
                  <a:lnTo>
                    <a:pt x="69" y="9"/>
                  </a:lnTo>
                  <a:lnTo>
                    <a:pt x="65" y="11"/>
                  </a:lnTo>
                  <a:lnTo>
                    <a:pt x="63" y="13"/>
                  </a:lnTo>
                  <a:lnTo>
                    <a:pt x="58" y="13"/>
                  </a:lnTo>
                  <a:lnTo>
                    <a:pt x="53" y="15"/>
                  </a:lnTo>
                  <a:lnTo>
                    <a:pt x="47" y="15"/>
                  </a:lnTo>
                  <a:lnTo>
                    <a:pt x="40" y="18"/>
                  </a:lnTo>
                  <a:lnTo>
                    <a:pt x="34" y="18"/>
                  </a:lnTo>
                  <a:lnTo>
                    <a:pt x="26" y="18"/>
                  </a:lnTo>
                  <a:lnTo>
                    <a:pt x="20" y="15"/>
                  </a:lnTo>
                  <a:lnTo>
                    <a:pt x="14" y="15"/>
                  </a:lnTo>
                  <a:lnTo>
                    <a:pt x="9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9" y="2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398200" y="3060000"/>
              <a:ext cx="89640" cy="228600"/>
            </a:xfrm>
            <a:custGeom>
              <a:avLst/>
              <a:gdLst/>
              <a:ahLst/>
              <a:rect l="l" t="t" r="r" b="b"/>
              <a:pathLst>
                <a:path w="63" h="177">
                  <a:moveTo>
                    <a:pt x="31" y="0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2" y="2"/>
                  </a:lnTo>
                  <a:lnTo>
                    <a:pt x="56" y="3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2" y="8"/>
                  </a:lnTo>
                  <a:lnTo>
                    <a:pt x="62" y="167"/>
                  </a:lnTo>
                  <a:lnTo>
                    <a:pt x="62" y="169"/>
                  </a:lnTo>
                  <a:lnTo>
                    <a:pt x="58" y="170"/>
                  </a:lnTo>
                  <a:lnTo>
                    <a:pt x="56" y="171"/>
                  </a:lnTo>
                  <a:lnTo>
                    <a:pt x="52" y="173"/>
                  </a:lnTo>
                  <a:lnTo>
                    <a:pt x="48" y="174"/>
                  </a:lnTo>
                  <a:lnTo>
                    <a:pt x="42" y="174"/>
                  </a:lnTo>
                  <a:lnTo>
                    <a:pt x="36" y="176"/>
                  </a:lnTo>
                  <a:lnTo>
                    <a:pt x="31" y="176"/>
                  </a:lnTo>
                  <a:lnTo>
                    <a:pt x="24" y="176"/>
                  </a:lnTo>
                  <a:lnTo>
                    <a:pt x="18" y="174"/>
                  </a:lnTo>
                  <a:lnTo>
                    <a:pt x="12" y="174"/>
                  </a:lnTo>
                  <a:lnTo>
                    <a:pt x="8" y="173"/>
                  </a:lnTo>
                  <a:lnTo>
                    <a:pt x="4" y="171"/>
                  </a:lnTo>
                  <a:lnTo>
                    <a:pt x="2" y="170"/>
                  </a:lnTo>
                  <a:lnTo>
                    <a:pt x="0" y="169"/>
                  </a:lnTo>
                  <a:lnTo>
                    <a:pt x="0" y="167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8" y="2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398200" y="3060000"/>
              <a:ext cx="99000" cy="237600"/>
            </a:xfrm>
            <a:custGeom>
              <a:avLst/>
              <a:gdLst/>
              <a:ahLst/>
              <a:rect l="l" t="t" r="r" b="b"/>
              <a:pathLst>
                <a:path w="70" h="184">
                  <a:moveTo>
                    <a:pt x="34" y="0"/>
                  </a:moveTo>
                  <a:lnTo>
                    <a:pt x="40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8" y="2"/>
                  </a:lnTo>
                  <a:lnTo>
                    <a:pt x="63" y="3"/>
                  </a:lnTo>
                  <a:lnTo>
                    <a:pt x="65" y="4"/>
                  </a:lnTo>
                  <a:lnTo>
                    <a:pt x="69" y="6"/>
                  </a:lnTo>
                  <a:lnTo>
                    <a:pt x="69" y="8"/>
                  </a:lnTo>
                  <a:lnTo>
                    <a:pt x="69" y="174"/>
                  </a:lnTo>
                  <a:lnTo>
                    <a:pt x="69" y="176"/>
                  </a:lnTo>
                  <a:lnTo>
                    <a:pt x="65" y="177"/>
                  </a:lnTo>
                  <a:lnTo>
                    <a:pt x="63" y="178"/>
                  </a:lnTo>
                  <a:lnTo>
                    <a:pt x="58" y="180"/>
                  </a:lnTo>
                  <a:lnTo>
                    <a:pt x="53" y="181"/>
                  </a:lnTo>
                  <a:lnTo>
                    <a:pt x="47" y="181"/>
                  </a:lnTo>
                  <a:lnTo>
                    <a:pt x="40" y="183"/>
                  </a:lnTo>
                  <a:lnTo>
                    <a:pt x="34" y="183"/>
                  </a:lnTo>
                  <a:lnTo>
                    <a:pt x="26" y="183"/>
                  </a:lnTo>
                  <a:lnTo>
                    <a:pt x="20" y="181"/>
                  </a:lnTo>
                  <a:lnTo>
                    <a:pt x="14" y="181"/>
                  </a:lnTo>
                  <a:lnTo>
                    <a:pt x="9" y="180"/>
                  </a:lnTo>
                  <a:lnTo>
                    <a:pt x="4" y="178"/>
                  </a:lnTo>
                  <a:lnTo>
                    <a:pt x="2" y="177"/>
                  </a:lnTo>
                  <a:lnTo>
                    <a:pt x="0" y="176"/>
                  </a:lnTo>
                  <a:lnTo>
                    <a:pt x="0" y="174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9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401440" y="3060000"/>
              <a:ext cx="86760" cy="228600"/>
            </a:xfrm>
            <a:custGeom>
              <a:avLst/>
              <a:gdLst/>
              <a:ahLst/>
              <a:rect l="l" t="t" r="r" b="b"/>
              <a:pathLst>
                <a:path w="60" h="176">
                  <a:moveTo>
                    <a:pt x="30" y="0"/>
                  </a:moveTo>
                  <a:lnTo>
                    <a:pt x="34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3" y="3"/>
                  </a:lnTo>
                  <a:lnTo>
                    <a:pt x="55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59" y="167"/>
                  </a:lnTo>
                  <a:lnTo>
                    <a:pt x="56" y="168"/>
                  </a:lnTo>
                  <a:lnTo>
                    <a:pt x="55" y="170"/>
                  </a:lnTo>
                  <a:lnTo>
                    <a:pt x="53" y="171"/>
                  </a:lnTo>
                  <a:lnTo>
                    <a:pt x="50" y="172"/>
                  </a:lnTo>
                  <a:lnTo>
                    <a:pt x="45" y="173"/>
                  </a:lnTo>
                  <a:lnTo>
                    <a:pt x="40" y="175"/>
                  </a:lnTo>
                  <a:lnTo>
                    <a:pt x="34" y="175"/>
                  </a:lnTo>
                  <a:lnTo>
                    <a:pt x="30" y="175"/>
                  </a:lnTo>
                  <a:lnTo>
                    <a:pt x="23" y="175"/>
                  </a:lnTo>
                  <a:lnTo>
                    <a:pt x="17" y="175"/>
                  </a:lnTo>
                  <a:lnTo>
                    <a:pt x="13" y="173"/>
                  </a:lnTo>
                  <a:lnTo>
                    <a:pt x="7" y="172"/>
                  </a:lnTo>
                  <a:lnTo>
                    <a:pt x="4" y="171"/>
                  </a:lnTo>
                  <a:lnTo>
                    <a:pt x="2" y="170"/>
                  </a:lnTo>
                  <a:lnTo>
                    <a:pt x="1" y="168"/>
                  </a:lnTo>
                  <a:lnTo>
                    <a:pt x="0" y="16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7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410440" y="3053880"/>
              <a:ext cx="46440" cy="237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5" y="0"/>
                  </a:moveTo>
                  <a:lnTo>
                    <a:pt x="22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18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2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410440" y="3060000"/>
              <a:ext cx="46440" cy="228600"/>
            </a:xfrm>
            <a:custGeom>
              <a:avLst/>
              <a:gdLst/>
              <a:ahLst/>
              <a:rect l="l" t="t" r="r" b="b"/>
              <a:pathLst>
                <a:path w="32" h="176">
                  <a:moveTo>
                    <a:pt x="0" y="0"/>
                  </a:moveTo>
                  <a:lnTo>
                    <a:pt x="31" y="0"/>
                  </a:lnTo>
                  <a:lnTo>
                    <a:pt x="31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150520" y="3055320"/>
              <a:ext cx="239760" cy="237600"/>
            </a:xfrm>
            <a:custGeom>
              <a:avLst/>
              <a:gdLst/>
              <a:ahLst/>
              <a:rect l="l" t="t" r="r" b="b"/>
              <a:pathLst>
                <a:path w="167" h="185">
                  <a:moveTo>
                    <a:pt x="48" y="8"/>
                  </a:moveTo>
                  <a:lnTo>
                    <a:pt x="56" y="5"/>
                  </a:lnTo>
                  <a:lnTo>
                    <a:pt x="62" y="3"/>
                  </a:lnTo>
                  <a:lnTo>
                    <a:pt x="71" y="1"/>
                  </a:lnTo>
                  <a:lnTo>
                    <a:pt x="81" y="0"/>
                  </a:lnTo>
                  <a:lnTo>
                    <a:pt x="92" y="0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2" y="4"/>
                  </a:lnTo>
                  <a:lnTo>
                    <a:pt x="118" y="7"/>
                  </a:lnTo>
                  <a:lnTo>
                    <a:pt x="122" y="8"/>
                  </a:lnTo>
                  <a:lnTo>
                    <a:pt x="120" y="18"/>
                  </a:lnTo>
                  <a:lnTo>
                    <a:pt x="120" y="29"/>
                  </a:lnTo>
                  <a:lnTo>
                    <a:pt x="120" y="40"/>
                  </a:lnTo>
                  <a:lnTo>
                    <a:pt x="120" y="47"/>
                  </a:lnTo>
                  <a:lnTo>
                    <a:pt x="120" y="55"/>
                  </a:lnTo>
                  <a:lnTo>
                    <a:pt x="122" y="60"/>
                  </a:lnTo>
                  <a:lnTo>
                    <a:pt x="122" y="67"/>
                  </a:lnTo>
                  <a:lnTo>
                    <a:pt x="123" y="71"/>
                  </a:lnTo>
                  <a:lnTo>
                    <a:pt x="124" y="76"/>
                  </a:lnTo>
                  <a:lnTo>
                    <a:pt x="125" y="80"/>
                  </a:lnTo>
                  <a:lnTo>
                    <a:pt x="126" y="84"/>
                  </a:lnTo>
                  <a:lnTo>
                    <a:pt x="132" y="93"/>
                  </a:lnTo>
                  <a:lnTo>
                    <a:pt x="135" y="103"/>
                  </a:lnTo>
                  <a:lnTo>
                    <a:pt x="142" y="114"/>
                  </a:lnTo>
                  <a:lnTo>
                    <a:pt x="148" y="127"/>
                  </a:lnTo>
                  <a:lnTo>
                    <a:pt x="154" y="138"/>
                  </a:lnTo>
                  <a:lnTo>
                    <a:pt x="158" y="144"/>
                  </a:lnTo>
                  <a:lnTo>
                    <a:pt x="166" y="152"/>
                  </a:lnTo>
                  <a:lnTo>
                    <a:pt x="166" y="175"/>
                  </a:lnTo>
                  <a:lnTo>
                    <a:pt x="155" y="178"/>
                  </a:lnTo>
                  <a:lnTo>
                    <a:pt x="144" y="179"/>
                  </a:lnTo>
                  <a:lnTo>
                    <a:pt x="130" y="182"/>
                  </a:lnTo>
                  <a:lnTo>
                    <a:pt x="112" y="184"/>
                  </a:lnTo>
                  <a:lnTo>
                    <a:pt x="93" y="184"/>
                  </a:lnTo>
                  <a:lnTo>
                    <a:pt x="69" y="184"/>
                  </a:lnTo>
                  <a:lnTo>
                    <a:pt x="49" y="182"/>
                  </a:lnTo>
                  <a:lnTo>
                    <a:pt x="30" y="181"/>
                  </a:lnTo>
                  <a:lnTo>
                    <a:pt x="16" y="179"/>
                  </a:lnTo>
                  <a:lnTo>
                    <a:pt x="9" y="178"/>
                  </a:lnTo>
                  <a:lnTo>
                    <a:pt x="0" y="174"/>
                  </a:lnTo>
                  <a:lnTo>
                    <a:pt x="0" y="152"/>
                  </a:lnTo>
                  <a:lnTo>
                    <a:pt x="4" y="148"/>
                  </a:lnTo>
                  <a:lnTo>
                    <a:pt x="7" y="140"/>
                  </a:lnTo>
                  <a:lnTo>
                    <a:pt x="13" y="136"/>
                  </a:lnTo>
                  <a:lnTo>
                    <a:pt x="20" y="124"/>
                  </a:lnTo>
                  <a:lnTo>
                    <a:pt x="24" y="115"/>
                  </a:lnTo>
                  <a:lnTo>
                    <a:pt x="30" y="107"/>
                  </a:lnTo>
                  <a:lnTo>
                    <a:pt x="36" y="96"/>
                  </a:lnTo>
                  <a:lnTo>
                    <a:pt x="40" y="87"/>
                  </a:lnTo>
                  <a:lnTo>
                    <a:pt x="44" y="75"/>
                  </a:lnTo>
                  <a:lnTo>
                    <a:pt x="47" y="64"/>
                  </a:lnTo>
                  <a:lnTo>
                    <a:pt x="49" y="54"/>
                  </a:lnTo>
                  <a:lnTo>
                    <a:pt x="50" y="45"/>
                  </a:lnTo>
                  <a:lnTo>
                    <a:pt x="52" y="34"/>
                  </a:lnTo>
                  <a:lnTo>
                    <a:pt x="52" y="25"/>
                  </a:lnTo>
                  <a:lnTo>
                    <a:pt x="50" y="16"/>
                  </a:lnTo>
                  <a:lnTo>
                    <a:pt x="48" y="8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150520" y="3055320"/>
              <a:ext cx="252000" cy="246600"/>
            </a:xfrm>
            <a:custGeom>
              <a:avLst/>
              <a:gdLst/>
              <a:ahLst/>
              <a:rect l="l" t="t" r="r" b="b"/>
              <a:pathLst>
                <a:path w="177" h="191">
                  <a:moveTo>
                    <a:pt x="52" y="8"/>
                  </a:moveTo>
                  <a:lnTo>
                    <a:pt x="59" y="5"/>
                  </a:lnTo>
                  <a:lnTo>
                    <a:pt x="67" y="3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1" y="1"/>
                  </a:lnTo>
                  <a:lnTo>
                    <a:pt x="119" y="4"/>
                  </a:lnTo>
                  <a:lnTo>
                    <a:pt x="126" y="7"/>
                  </a:lnTo>
                  <a:lnTo>
                    <a:pt x="129" y="8"/>
                  </a:lnTo>
                  <a:lnTo>
                    <a:pt x="127" y="19"/>
                  </a:lnTo>
                  <a:lnTo>
                    <a:pt x="127" y="30"/>
                  </a:lnTo>
                  <a:lnTo>
                    <a:pt x="127" y="41"/>
                  </a:lnTo>
                  <a:lnTo>
                    <a:pt x="127" y="49"/>
                  </a:lnTo>
                  <a:lnTo>
                    <a:pt x="127" y="57"/>
                  </a:lnTo>
                  <a:lnTo>
                    <a:pt x="129" y="62"/>
                  </a:lnTo>
                  <a:lnTo>
                    <a:pt x="129" y="69"/>
                  </a:lnTo>
                  <a:lnTo>
                    <a:pt x="130" y="73"/>
                  </a:lnTo>
                  <a:lnTo>
                    <a:pt x="132" y="79"/>
                  </a:lnTo>
                  <a:lnTo>
                    <a:pt x="134" y="83"/>
                  </a:lnTo>
                  <a:lnTo>
                    <a:pt x="135" y="87"/>
                  </a:lnTo>
                  <a:lnTo>
                    <a:pt x="140" y="96"/>
                  </a:lnTo>
                  <a:lnTo>
                    <a:pt x="144" y="106"/>
                  </a:lnTo>
                  <a:lnTo>
                    <a:pt x="151" y="118"/>
                  </a:lnTo>
                  <a:lnTo>
                    <a:pt x="156" y="131"/>
                  </a:lnTo>
                  <a:lnTo>
                    <a:pt x="164" y="143"/>
                  </a:lnTo>
                  <a:lnTo>
                    <a:pt x="168" y="149"/>
                  </a:lnTo>
                  <a:lnTo>
                    <a:pt x="176" y="157"/>
                  </a:lnTo>
                  <a:lnTo>
                    <a:pt x="176" y="181"/>
                  </a:lnTo>
                  <a:lnTo>
                    <a:pt x="165" y="184"/>
                  </a:lnTo>
                  <a:lnTo>
                    <a:pt x="153" y="185"/>
                  </a:lnTo>
                  <a:lnTo>
                    <a:pt x="137" y="188"/>
                  </a:lnTo>
                  <a:lnTo>
                    <a:pt x="119" y="190"/>
                  </a:lnTo>
                  <a:lnTo>
                    <a:pt x="97" y="190"/>
                  </a:lnTo>
                  <a:lnTo>
                    <a:pt x="73" y="190"/>
                  </a:lnTo>
                  <a:lnTo>
                    <a:pt x="53" y="188"/>
                  </a:lnTo>
                  <a:lnTo>
                    <a:pt x="31" y="187"/>
                  </a:lnTo>
                  <a:lnTo>
                    <a:pt x="18" y="185"/>
                  </a:lnTo>
                  <a:lnTo>
                    <a:pt x="9" y="184"/>
                  </a:lnTo>
                  <a:lnTo>
                    <a:pt x="0" y="180"/>
                  </a:lnTo>
                  <a:lnTo>
                    <a:pt x="0" y="157"/>
                  </a:lnTo>
                  <a:lnTo>
                    <a:pt x="4" y="153"/>
                  </a:lnTo>
                  <a:lnTo>
                    <a:pt x="8" y="145"/>
                  </a:lnTo>
                  <a:lnTo>
                    <a:pt x="14" y="140"/>
                  </a:lnTo>
                  <a:lnTo>
                    <a:pt x="21" y="128"/>
                  </a:lnTo>
                  <a:lnTo>
                    <a:pt x="27" y="119"/>
                  </a:lnTo>
                  <a:lnTo>
                    <a:pt x="31" y="110"/>
                  </a:lnTo>
                  <a:lnTo>
                    <a:pt x="38" y="99"/>
                  </a:lnTo>
                  <a:lnTo>
                    <a:pt x="42" y="90"/>
                  </a:lnTo>
                  <a:lnTo>
                    <a:pt x="47" y="77"/>
                  </a:lnTo>
                  <a:lnTo>
                    <a:pt x="51" y="66"/>
                  </a:lnTo>
                  <a:lnTo>
                    <a:pt x="53" y="56"/>
                  </a:lnTo>
                  <a:lnTo>
                    <a:pt x="54" y="46"/>
                  </a:lnTo>
                  <a:lnTo>
                    <a:pt x="55" y="35"/>
                  </a:lnTo>
                  <a:lnTo>
                    <a:pt x="55" y="26"/>
                  </a:lnTo>
                  <a:lnTo>
                    <a:pt x="54" y="17"/>
                  </a:lnTo>
                  <a:lnTo>
                    <a:pt x="52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150520" y="3055320"/>
              <a:ext cx="187200" cy="237600"/>
            </a:xfrm>
            <a:custGeom>
              <a:avLst/>
              <a:gdLst/>
              <a:ahLst/>
              <a:rect l="l" t="t" r="r" b="b"/>
              <a:pathLst>
                <a:path w="131" h="185">
                  <a:moveTo>
                    <a:pt x="48" y="8"/>
                  </a:moveTo>
                  <a:lnTo>
                    <a:pt x="55" y="5"/>
                  </a:lnTo>
                  <a:lnTo>
                    <a:pt x="62" y="3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04" y="10"/>
                  </a:lnTo>
                  <a:lnTo>
                    <a:pt x="104" y="18"/>
                  </a:lnTo>
                  <a:lnTo>
                    <a:pt x="101" y="28"/>
                  </a:lnTo>
                  <a:lnTo>
                    <a:pt x="101" y="39"/>
                  </a:lnTo>
                  <a:lnTo>
                    <a:pt x="100" y="47"/>
                  </a:lnTo>
                  <a:lnTo>
                    <a:pt x="100" y="57"/>
                  </a:lnTo>
                  <a:lnTo>
                    <a:pt x="100" y="67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5" y="91"/>
                  </a:lnTo>
                  <a:lnTo>
                    <a:pt x="105" y="96"/>
                  </a:lnTo>
                  <a:lnTo>
                    <a:pt x="106" y="105"/>
                  </a:lnTo>
                  <a:lnTo>
                    <a:pt x="107" y="111"/>
                  </a:lnTo>
                  <a:lnTo>
                    <a:pt x="108" y="117"/>
                  </a:lnTo>
                  <a:lnTo>
                    <a:pt x="110" y="125"/>
                  </a:lnTo>
                  <a:lnTo>
                    <a:pt x="113" y="131"/>
                  </a:lnTo>
                  <a:lnTo>
                    <a:pt x="118" y="140"/>
                  </a:lnTo>
                  <a:lnTo>
                    <a:pt x="123" y="152"/>
                  </a:lnTo>
                  <a:lnTo>
                    <a:pt x="126" y="160"/>
                  </a:lnTo>
                  <a:lnTo>
                    <a:pt x="130" y="165"/>
                  </a:lnTo>
                  <a:lnTo>
                    <a:pt x="130" y="182"/>
                  </a:lnTo>
                  <a:lnTo>
                    <a:pt x="112" y="184"/>
                  </a:lnTo>
                  <a:lnTo>
                    <a:pt x="92" y="184"/>
                  </a:lnTo>
                  <a:lnTo>
                    <a:pt x="70" y="184"/>
                  </a:lnTo>
                  <a:lnTo>
                    <a:pt x="49" y="182"/>
                  </a:lnTo>
                  <a:lnTo>
                    <a:pt x="30" y="181"/>
                  </a:lnTo>
                  <a:lnTo>
                    <a:pt x="17" y="179"/>
                  </a:lnTo>
                  <a:lnTo>
                    <a:pt x="9" y="178"/>
                  </a:lnTo>
                  <a:lnTo>
                    <a:pt x="0" y="174"/>
                  </a:lnTo>
                  <a:lnTo>
                    <a:pt x="0" y="152"/>
                  </a:lnTo>
                  <a:lnTo>
                    <a:pt x="4" y="148"/>
                  </a:lnTo>
                  <a:lnTo>
                    <a:pt x="8" y="140"/>
                  </a:lnTo>
                  <a:lnTo>
                    <a:pt x="13" y="136"/>
                  </a:lnTo>
                  <a:lnTo>
                    <a:pt x="20" y="124"/>
                  </a:lnTo>
                  <a:lnTo>
                    <a:pt x="26" y="115"/>
                  </a:lnTo>
                  <a:lnTo>
                    <a:pt x="30" y="107"/>
                  </a:lnTo>
                  <a:lnTo>
                    <a:pt x="35" y="96"/>
                  </a:lnTo>
                  <a:lnTo>
                    <a:pt x="39" y="87"/>
                  </a:lnTo>
                  <a:lnTo>
                    <a:pt x="45" y="75"/>
                  </a:lnTo>
                  <a:lnTo>
                    <a:pt x="47" y="64"/>
                  </a:lnTo>
                  <a:lnTo>
                    <a:pt x="49" y="54"/>
                  </a:lnTo>
                  <a:lnTo>
                    <a:pt x="52" y="45"/>
                  </a:lnTo>
                  <a:lnTo>
                    <a:pt x="53" y="34"/>
                  </a:lnTo>
                  <a:lnTo>
                    <a:pt x="53" y="25"/>
                  </a:lnTo>
                  <a:lnTo>
                    <a:pt x="52" y="16"/>
                  </a:lnTo>
                  <a:lnTo>
                    <a:pt x="48" y="8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150520" y="3055320"/>
              <a:ext cx="196560" cy="246600"/>
            </a:xfrm>
            <a:custGeom>
              <a:avLst/>
              <a:gdLst/>
              <a:ahLst/>
              <a:rect l="l" t="t" r="r" b="b"/>
              <a:pathLst>
                <a:path w="138" h="191">
                  <a:moveTo>
                    <a:pt x="51" y="8"/>
                  </a:moveTo>
                  <a:lnTo>
                    <a:pt x="58" y="5"/>
                  </a:lnTo>
                  <a:lnTo>
                    <a:pt x="66" y="3"/>
                  </a:lnTo>
                  <a:lnTo>
                    <a:pt x="76" y="1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103" y="1"/>
                  </a:lnTo>
                  <a:lnTo>
                    <a:pt x="110" y="1"/>
                  </a:lnTo>
                  <a:lnTo>
                    <a:pt x="109" y="10"/>
                  </a:lnTo>
                  <a:lnTo>
                    <a:pt x="109" y="19"/>
                  </a:lnTo>
                  <a:lnTo>
                    <a:pt x="107" y="29"/>
                  </a:lnTo>
                  <a:lnTo>
                    <a:pt x="107" y="40"/>
                  </a:lnTo>
                  <a:lnTo>
                    <a:pt x="106" y="49"/>
                  </a:lnTo>
                  <a:lnTo>
                    <a:pt x="106" y="59"/>
                  </a:lnTo>
                  <a:lnTo>
                    <a:pt x="106" y="69"/>
                  </a:lnTo>
                  <a:lnTo>
                    <a:pt x="109" y="77"/>
                  </a:lnTo>
                  <a:lnTo>
                    <a:pt x="109" y="85"/>
                  </a:lnTo>
                  <a:lnTo>
                    <a:pt x="110" y="94"/>
                  </a:lnTo>
                  <a:lnTo>
                    <a:pt x="110" y="99"/>
                  </a:lnTo>
                  <a:lnTo>
                    <a:pt x="111" y="108"/>
                  </a:lnTo>
                  <a:lnTo>
                    <a:pt x="113" y="115"/>
                  </a:lnTo>
                  <a:lnTo>
                    <a:pt x="114" y="121"/>
                  </a:lnTo>
                  <a:lnTo>
                    <a:pt x="116" y="129"/>
                  </a:lnTo>
                  <a:lnTo>
                    <a:pt x="119" y="135"/>
                  </a:lnTo>
                  <a:lnTo>
                    <a:pt x="123" y="145"/>
                  </a:lnTo>
                  <a:lnTo>
                    <a:pt x="130" y="157"/>
                  </a:lnTo>
                  <a:lnTo>
                    <a:pt x="133" y="165"/>
                  </a:lnTo>
                  <a:lnTo>
                    <a:pt x="137" y="170"/>
                  </a:lnTo>
                  <a:lnTo>
                    <a:pt x="137" y="188"/>
                  </a:lnTo>
                  <a:lnTo>
                    <a:pt x="117" y="190"/>
                  </a:lnTo>
                  <a:lnTo>
                    <a:pt x="96" y="190"/>
                  </a:lnTo>
                  <a:lnTo>
                    <a:pt x="73" y="190"/>
                  </a:lnTo>
                  <a:lnTo>
                    <a:pt x="52" y="188"/>
                  </a:lnTo>
                  <a:lnTo>
                    <a:pt x="31" y="187"/>
                  </a:lnTo>
                  <a:lnTo>
                    <a:pt x="18" y="185"/>
                  </a:lnTo>
                  <a:lnTo>
                    <a:pt x="9" y="184"/>
                  </a:lnTo>
                  <a:lnTo>
                    <a:pt x="0" y="180"/>
                  </a:lnTo>
                  <a:lnTo>
                    <a:pt x="0" y="157"/>
                  </a:lnTo>
                  <a:lnTo>
                    <a:pt x="4" y="153"/>
                  </a:lnTo>
                  <a:lnTo>
                    <a:pt x="7" y="145"/>
                  </a:lnTo>
                  <a:lnTo>
                    <a:pt x="14" y="140"/>
                  </a:lnTo>
                  <a:lnTo>
                    <a:pt x="21" y="128"/>
                  </a:lnTo>
                  <a:lnTo>
                    <a:pt x="26" y="119"/>
                  </a:lnTo>
                  <a:lnTo>
                    <a:pt x="31" y="110"/>
                  </a:lnTo>
                  <a:lnTo>
                    <a:pt x="38" y="99"/>
                  </a:lnTo>
                  <a:lnTo>
                    <a:pt x="41" y="90"/>
                  </a:lnTo>
                  <a:lnTo>
                    <a:pt x="47" y="77"/>
                  </a:lnTo>
                  <a:lnTo>
                    <a:pt x="50" y="66"/>
                  </a:lnTo>
                  <a:lnTo>
                    <a:pt x="52" y="56"/>
                  </a:lnTo>
                  <a:lnTo>
                    <a:pt x="53" y="46"/>
                  </a:lnTo>
                  <a:lnTo>
                    <a:pt x="55" y="35"/>
                  </a:lnTo>
                  <a:lnTo>
                    <a:pt x="55" y="26"/>
                  </a:lnTo>
                  <a:lnTo>
                    <a:pt x="53" y="17"/>
                  </a:lnTo>
                  <a:lnTo>
                    <a:pt x="51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347440" y="2946240"/>
              <a:ext cx="36720" cy="2196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3" y="0"/>
                  </a:moveTo>
                  <a:lnTo>
                    <a:pt x="17" y="0"/>
                  </a:lnTo>
                  <a:lnTo>
                    <a:pt x="21" y="2"/>
                  </a:lnTo>
                  <a:lnTo>
                    <a:pt x="22" y="4"/>
                  </a:lnTo>
                  <a:lnTo>
                    <a:pt x="25" y="9"/>
                  </a:lnTo>
                  <a:lnTo>
                    <a:pt x="22" y="11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4"/>
                  </a:lnTo>
                  <a:lnTo>
                    <a:pt x="3" y="2"/>
                  </a:lnTo>
                  <a:lnTo>
                    <a:pt x="6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347440" y="2946240"/>
              <a:ext cx="47520" cy="219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17" y="0"/>
                  </a:moveTo>
                  <a:lnTo>
                    <a:pt x="21" y="0"/>
                  </a:lnTo>
                  <a:lnTo>
                    <a:pt x="27" y="1"/>
                  </a:lnTo>
                  <a:lnTo>
                    <a:pt x="29" y="4"/>
                  </a:lnTo>
                  <a:lnTo>
                    <a:pt x="32" y="8"/>
                  </a:lnTo>
                  <a:lnTo>
                    <a:pt x="29" y="11"/>
                  </a:lnTo>
                  <a:lnTo>
                    <a:pt x="27" y="13"/>
                  </a:lnTo>
                  <a:lnTo>
                    <a:pt x="21" y="14"/>
                  </a:lnTo>
                  <a:lnTo>
                    <a:pt x="17" y="17"/>
                  </a:lnTo>
                  <a:lnTo>
                    <a:pt x="9" y="14"/>
                  </a:lnTo>
                  <a:lnTo>
                    <a:pt x="4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1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342400" y="2953440"/>
              <a:ext cx="37080" cy="330480"/>
            </a:xfrm>
            <a:custGeom>
              <a:avLst/>
              <a:gdLst/>
              <a:ahLst/>
              <a:rect l="l" t="t" r="r" b="b"/>
              <a:pathLst>
                <a:path w="27" h="256">
                  <a:moveTo>
                    <a:pt x="0" y="0"/>
                  </a:moveTo>
                  <a:lnTo>
                    <a:pt x="26" y="0"/>
                  </a:lnTo>
                  <a:lnTo>
                    <a:pt x="26" y="255"/>
                  </a:lnTo>
                  <a:lnTo>
                    <a:pt x="0" y="25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342400" y="2953440"/>
              <a:ext cx="47880" cy="338040"/>
            </a:xfrm>
            <a:custGeom>
              <a:avLst/>
              <a:gdLst/>
              <a:ahLst/>
              <a:rect l="l" t="t" r="r" b="b"/>
              <a:pathLst>
                <a:path w="33" h="262">
                  <a:moveTo>
                    <a:pt x="0" y="0"/>
                  </a:moveTo>
                  <a:lnTo>
                    <a:pt x="32" y="0"/>
                  </a:lnTo>
                  <a:lnTo>
                    <a:pt x="32" y="261"/>
                  </a:lnTo>
                  <a:lnTo>
                    <a:pt x="0" y="26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336280" y="2949120"/>
              <a:ext cx="33840" cy="234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2" y="0"/>
                  </a:moveTo>
                  <a:lnTo>
                    <a:pt x="15" y="0"/>
                  </a:lnTo>
                  <a:lnTo>
                    <a:pt x="18" y="2"/>
                  </a:lnTo>
                  <a:lnTo>
                    <a:pt x="20" y="5"/>
                  </a:lnTo>
                  <a:lnTo>
                    <a:pt x="23" y="8"/>
                  </a:lnTo>
                  <a:lnTo>
                    <a:pt x="20" y="10"/>
                  </a:lnTo>
                  <a:lnTo>
                    <a:pt x="18" y="13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6" y="17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344200" y="2953440"/>
              <a:ext cx="33840" cy="331920"/>
            </a:xfrm>
            <a:custGeom>
              <a:avLst/>
              <a:gdLst/>
              <a:ahLst/>
              <a:rect l="l" t="t" r="r" b="b"/>
              <a:pathLst>
                <a:path w="25" h="257">
                  <a:moveTo>
                    <a:pt x="0" y="0"/>
                  </a:moveTo>
                  <a:lnTo>
                    <a:pt x="24" y="0"/>
                  </a:lnTo>
                  <a:lnTo>
                    <a:pt x="24" y="256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350320" y="2966760"/>
              <a:ext cx="29160" cy="317160"/>
            </a:xfrm>
            <a:custGeom>
              <a:avLst/>
              <a:gdLst/>
              <a:ahLst/>
              <a:rect l="l" t="t" r="r" b="b"/>
              <a:pathLst>
                <a:path w="21" h="245">
                  <a:moveTo>
                    <a:pt x="0" y="0"/>
                  </a:moveTo>
                  <a:lnTo>
                    <a:pt x="20" y="0"/>
                  </a:lnTo>
                  <a:lnTo>
                    <a:pt x="20" y="244"/>
                  </a:lnTo>
                  <a:lnTo>
                    <a:pt x="0" y="244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794120" y="3272400"/>
              <a:ext cx="30960" cy="2340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1" y="0"/>
                  </a:moveTo>
                  <a:lnTo>
                    <a:pt x="0" y="3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8"/>
                  </a:lnTo>
                  <a:lnTo>
                    <a:pt x="7" y="18"/>
                  </a:lnTo>
                  <a:lnTo>
                    <a:pt x="7" y="10"/>
                  </a:lnTo>
                  <a:lnTo>
                    <a:pt x="21" y="10"/>
                  </a:lnTo>
                  <a:lnTo>
                    <a:pt x="21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794120" y="3272400"/>
              <a:ext cx="33840" cy="29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4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3" y="23"/>
                  </a:lnTo>
                  <a:lnTo>
                    <a:pt x="9" y="23"/>
                  </a:lnTo>
                  <a:lnTo>
                    <a:pt x="9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402880" y="3262320"/>
              <a:ext cx="55800" cy="262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5"/>
                  </a:moveTo>
                  <a:lnTo>
                    <a:pt x="10" y="5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30" y="2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38" y="19"/>
                  </a:lnTo>
                  <a:lnTo>
                    <a:pt x="0" y="19"/>
                  </a:lnTo>
                  <a:lnTo>
                    <a:pt x="0" y="5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402880" y="3262320"/>
              <a:ext cx="63360" cy="3528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0" y="6"/>
                  </a:moveTo>
                  <a:lnTo>
                    <a:pt x="12" y="6"/>
                  </a:lnTo>
                  <a:lnTo>
                    <a:pt x="12" y="1"/>
                  </a:lnTo>
                  <a:lnTo>
                    <a:pt x="21" y="0"/>
                  </a:lnTo>
                  <a:lnTo>
                    <a:pt x="21" y="6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35" y="3"/>
                  </a:lnTo>
                  <a:lnTo>
                    <a:pt x="35" y="8"/>
                  </a:lnTo>
                  <a:lnTo>
                    <a:pt x="44" y="10"/>
                  </a:lnTo>
                  <a:lnTo>
                    <a:pt x="44" y="26"/>
                  </a:lnTo>
                  <a:lnTo>
                    <a:pt x="0" y="26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355000" y="3202920"/>
              <a:ext cx="47520" cy="95760"/>
            </a:xfrm>
            <a:custGeom>
              <a:avLst/>
              <a:gdLst/>
              <a:ahLst/>
              <a:rect l="l" t="t" r="r" b="b"/>
              <a:pathLst>
                <a:path w="34" h="74">
                  <a:moveTo>
                    <a:pt x="0" y="0"/>
                  </a:moveTo>
                  <a:lnTo>
                    <a:pt x="11" y="5"/>
                  </a:lnTo>
                  <a:lnTo>
                    <a:pt x="11" y="15"/>
                  </a:lnTo>
                  <a:lnTo>
                    <a:pt x="24" y="18"/>
                  </a:lnTo>
                  <a:lnTo>
                    <a:pt x="24" y="13"/>
                  </a:lnTo>
                  <a:lnTo>
                    <a:pt x="33" y="15"/>
                  </a:lnTo>
                  <a:lnTo>
                    <a:pt x="33" y="66"/>
                  </a:lnTo>
                  <a:lnTo>
                    <a:pt x="0" y="73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355000" y="3202920"/>
              <a:ext cx="55440" cy="10332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0" y="0"/>
                  </a:moveTo>
                  <a:lnTo>
                    <a:pt x="13" y="5"/>
                  </a:lnTo>
                  <a:lnTo>
                    <a:pt x="13" y="16"/>
                  </a:lnTo>
                  <a:lnTo>
                    <a:pt x="29" y="20"/>
                  </a:lnTo>
                  <a:lnTo>
                    <a:pt x="29" y="14"/>
                  </a:lnTo>
                  <a:lnTo>
                    <a:pt x="39" y="16"/>
                  </a:lnTo>
                  <a:lnTo>
                    <a:pt x="39" y="71"/>
                  </a:lnTo>
                  <a:lnTo>
                    <a:pt x="0" y="7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355000" y="3238200"/>
              <a:ext cx="29160" cy="5616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0" y="0"/>
                  </a:moveTo>
                  <a:lnTo>
                    <a:pt x="20" y="5"/>
                  </a:lnTo>
                  <a:lnTo>
                    <a:pt x="20" y="43"/>
                  </a:lnTo>
                  <a:lnTo>
                    <a:pt x="12" y="43"/>
                  </a:lnTo>
                  <a:lnTo>
                    <a:pt x="12" y="6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355000" y="3238200"/>
              <a:ext cx="29160" cy="6336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0" y="0"/>
                  </a:moveTo>
                  <a:lnTo>
                    <a:pt x="20" y="6"/>
                  </a:lnTo>
                  <a:lnTo>
                    <a:pt x="20" y="49"/>
                  </a:lnTo>
                  <a:lnTo>
                    <a:pt x="12" y="49"/>
                  </a:lnTo>
                  <a:lnTo>
                    <a:pt x="12" y="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108760" y="3142440"/>
              <a:ext cx="199440" cy="159120"/>
            </a:xfrm>
            <a:custGeom>
              <a:avLst/>
              <a:gdLst/>
              <a:ahLst/>
              <a:rect l="l" t="t" r="r" b="b"/>
              <a:pathLst>
                <a:path w="139" h="124">
                  <a:moveTo>
                    <a:pt x="0" y="26"/>
                  </a:moveTo>
                  <a:lnTo>
                    <a:pt x="138" y="0"/>
                  </a:lnTo>
                  <a:lnTo>
                    <a:pt x="138" y="123"/>
                  </a:lnTo>
                  <a:lnTo>
                    <a:pt x="0" y="123"/>
                  </a:lnTo>
                  <a:lnTo>
                    <a:pt x="0" y="26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108760" y="3142440"/>
              <a:ext cx="208800" cy="169560"/>
            </a:xfrm>
            <a:custGeom>
              <a:avLst/>
              <a:gdLst/>
              <a:ahLst/>
              <a:rect l="l" t="t" r="r" b="b"/>
              <a:pathLst>
                <a:path w="146" h="131">
                  <a:moveTo>
                    <a:pt x="0" y="28"/>
                  </a:moveTo>
                  <a:lnTo>
                    <a:pt x="145" y="0"/>
                  </a:lnTo>
                  <a:lnTo>
                    <a:pt x="145" y="130"/>
                  </a:lnTo>
                  <a:lnTo>
                    <a:pt x="0" y="13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314680" y="3142440"/>
              <a:ext cx="49320" cy="159120"/>
            </a:xfrm>
            <a:custGeom>
              <a:avLst/>
              <a:gdLst/>
              <a:ahLst/>
              <a:rect l="l" t="t" r="r" b="b"/>
              <a:pathLst>
                <a:path w="34" h="123">
                  <a:moveTo>
                    <a:pt x="19" y="0"/>
                  </a:moveTo>
                  <a:lnTo>
                    <a:pt x="19" y="6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22" y="118"/>
                  </a:lnTo>
                  <a:lnTo>
                    <a:pt x="22" y="26"/>
                  </a:lnTo>
                  <a:lnTo>
                    <a:pt x="33" y="28"/>
                  </a:lnTo>
                  <a:lnTo>
                    <a:pt x="33" y="4"/>
                  </a:lnTo>
                  <a:lnTo>
                    <a:pt x="1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314680" y="3142440"/>
              <a:ext cx="58680" cy="167760"/>
            </a:xfrm>
            <a:custGeom>
              <a:avLst/>
              <a:gdLst/>
              <a:ahLst/>
              <a:rect l="l" t="t" r="r" b="b"/>
              <a:pathLst>
                <a:path w="41" h="130">
                  <a:moveTo>
                    <a:pt x="24" y="0"/>
                  </a:moveTo>
                  <a:lnTo>
                    <a:pt x="24" y="6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25" y="125"/>
                  </a:lnTo>
                  <a:lnTo>
                    <a:pt x="25" y="28"/>
                  </a:lnTo>
                  <a:lnTo>
                    <a:pt x="40" y="29"/>
                  </a:lnTo>
                  <a:lnTo>
                    <a:pt x="40" y="4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201640" y="3152520"/>
              <a:ext cx="32400" cy="9288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21" y="0"/>
                  </a:moveTo>
                  <a:lnTo>
                    <a:pt x="21" y="69"/>
                  </a:lnTo>
                  <a:lnTo>
                    <a:pt x="0" y="71"/>
                  </a:lnTo>
                  <a:lnTo>
                    <a:pt x="0" y="3"/>
                  </a:lnTo>
                  <a:lnTo>
                    <a:pt x="21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201640" y="3152520"/>
              <a:ext cx="33840" cy="10188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23" y="0"/>
                  </a:moveTo>
                  <a:lnTo>
                    <a:pt x="23" y="75"/>
                  </a:lnTo>
                  <a:lnTo>
                    <a:pt x="0" y="77"/>
                  </a:lnTo>
                  <a:lnTo>
                    <a:pt x="0" y="3"/>
                  </a:lnTo>
                  <a:lnTo>
                    <a:pt x="2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201640" y="3252960"/>
              <a:ext cx="33840" cy="2376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1"/>
                  </a:moveTo>
                  <a:lnTo>
                    <a:pt x="17" y="0"/>
                  </a:lnTo>
                  <a:lnTo>
                    <a:pt x="23" y="15"/>
                  </a:lnTo>
                  <a:lnTo>
                    <a:pt x="7" y="18"/>
                  </a:lnTo>
                  <a:lnTo>
                    <a:pt x="0" y="1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201640" y="3252960"/>
              <a:ext cx="43560" cy="2376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"/>
                  </a:moveTo>
                  <a:lnTo>
                    <a:pt x="21" y="0"/>
                  </a:lnTo>
                  <a:lnTo>
                    <a:pt x="29" y="16"/>
                  </a:lnTo>
                  <a:lnTo>
                    <a:pt x="9" y="18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34040" y="3152520"/>
              <a:ext cx="29160" cy="114840"/>
            </a:xfrm>
            <a:custGeom>
              <a:avLst/>
              <a:gdLst/>
              <a:ahLst/>
              <a:rect l="l" t="t" r="r" b="b"/>
              <a:pathLst>
                <a:path w="20" h="89">
                  <a:moveTo>
                    <a:pt x="0" y="0"/>
                  </a:moveTo>
                  <a:lnTo>
                    <a:pt x="19" y="0"/>
                  </a:lnTo>
                  <a:lnTo>
                    <a:pt x="19" y="88"/>
                  </a:lnTo>
                  <a:lnTo>
                    <a:pt x="0" y="70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234040" y="3152520"/>
              <a:ext cx="29160" cy="124200"/>
            </a:xfrm>
            <a:custGeom>
              <a:avLst/>
              <a:gdLst/>
              <a:ahLst/>
              <a:rect l="l" t="t" r="r" b="b"/>
              <a:pathLst>
                <a:path w="20" h="96">
                  <a:moveTo>
                    <a:pt x="0" y="0"/>
                  </a:moveTo>
                  <a:lnTo>
                    <a:pt x="19" y="0"/>
                  </a:lnTo>
                  <a:lnTo>
                    <a:pt x="19" y="95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158440" y="3166200"/>
              <a:ext cx="29160" cy="103320"/>
            </a:xfrm>
            <a:custGeom>
              <a:avLst/>
              <a:gdLst/>
              <a:ahLst/>
              <a:rect l="l" t="t" r="r" b="b"/>
              <a:pathLst>
                <a:path w="20" h="80">
                  <a:moveTo>
                    <a:pt x="0" y="0"/>
                  </a:moveTo>
                  <a:lnTo>
                    <a:pt x="0" y="62"/>
                  </a:lnTo>
                  <a:lnTo>
                    <a:pt x="19" y="79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58440" y="3166200"/>
              <a:ext cx="29160" cy="111960"/>
            </a:xfrm>
            <a:custGeom>
              <a:avLst/>
              <a:gdLst/>
              <a:ahLst/>
              <a:rect l="l" t="t" r="r" b="b"/>
              <a:pathLst>
                <a:path w="20" h="87">
                  <a:moveTo>
                    <a:pt x="0" y="0"/>
                  </a:moveTo>
                  <a:lnTo>
                    <a:pt x="0" y="68"/>
                  </a:lnTo>
                  <a:lnTo>
                    <a:pt x="19" y="86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128920" y="3167280"/>
              <a:ext cx="30600" cy="84240"/>
            </a:xfrm>
            <a:custGeom>
              <a:avLst/>
              <a:gdLst/>
              <a:ahLst/>
              <a:rect l="l" t="t" r="r" b="b"/>
              <a:pathLst>
                <a:path w="22" h="65">
                  <a:moveTo>
                    <a:pt x="0" y="3"/>
                  </a:moveTo>
                  <a:lnTo>
                    <a:pt x="21" y="0"/>
                  </a:lnTo>
                  <a:lnTo>
                    <a:pt x="21" y="62"/>
                  </a:lnTo>
                  <a:lnTo>
                    <a:pt x="0" y="64"/>
                  </a:lnTo>
                  <a:lnTo>
                    <a:pt x="0" y="3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128920" y="3167280"/>
              <a:ext cx="32040" cy="914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3"/>
                  </a:moveTo>
                  <a:lnTo>
                    <a:pt x="22" y="0"/>
                  </a:lnTo>
                  <a:lnTo>
                    <a:pt x="22" y="69"/>
                  </a:lnTo>
                  <a:lnTo>
                    <a:pt x="0" y="71"/>
                  </a:lnTo>
                  <a:lnTo>
                    <a:pt x="0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127120" y="3252960"/>
              <a:ext cx="41760" cy="237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1"/>
                  </a:moveTo>
                  <a:lnTo>
                    <a:pt x="16" y="0"/>
                  </a:lnTo>
                  <a:lnTo>
                    <a:pt x="27" y="18"/>
                  </a:lnTo>
                  <a:lnTo>
                    <a:pt x="9" y="18"/>
                  </a:lnTo>
                  <a:lnTo>
                    <a:pt x="0" y="1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127120" y="3252960"/>
              <a:ext cx="51120" cy="2484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1"/>
                  </a:moveTo>
                  <a:lnTo>
                    <a:pt x="20" y="0"/>
                  </a:lnTo>
                  <a:lnTo>
                    <a:pt x="34" y="19"/>
                  </a:lnTo>
                  <a:lnTo>
                    <a:pt x="12" y="19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266440" y="3210120"/>
              <a:ext cx="38880" cy="2376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0"/>
                  </a:moveTo>
                  <a:lnTo>
                    <a:pt x="15" y="0"/>
                  </a:lnTo>
                  <a:lnTo>
                    <a:pt x="25" y="18"/>
                  </a:lnTo>
                  <a:lnTo>
                    <a:pt x="8" y="1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266440" y="3210120"/>
              <a:ext cx="47880" cy="33840"/>
            </a:xfrm>
            <a:custGeom>
              <a:avLst/>
              <a:gdLst/>
              <a:ahLst/>
              <a:rect l="l" t="t" r="r" b="b"/>
              <a:pathLst>
                <a:path w="33" h="26">
                  <a:moveTo>
                    <a:pt x="0" y="0"/>
                  </a:moveTo>
                  <a:lnTo>
                    <a:pt x="20" y="0"/>
                  </a:lnTo>
                  <a:lnTo>
                    <a:pt x="32" y="25"/>
                  </a:lnTo>
                  <a:lnTo>
                    <a:pt x="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266440" y="3142440"/>
              <a:ext cx="28080" cy="601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0" y="45"/>
                  </a:moveTo>
                  <a:lnTo>
                    <a:pt x="19" y="42"/>
                  </a:lnTo>
                  <a:lnTo>
                    <a:pt x="19" y="0"/>
                  </a:lnTo>
                  <a:lnTo>
                    <a:pt x="0" y="3"/>
                  </a:lnTo>
                  <a:lnTo>
                    <a:pt x="0" y="45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266440" y="3142440"/>
              <a:ext cx="29160" cy="6912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0" y="52"/>
                  </a:moveTo>
                  <a:lnTo>
                    <a:pt x="20" y="49"/>
                  </a:lnTo>
                  <a:lnTo>
                    <a:pt x="20" y="0"/>
                  </a:lnTo>
                  <a:lnTo>
                    <a:pt x="0" y="3"/>
                  </a:lnTo>
                  <a:lnTo>
                    <a:pt x="0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295960" y="3142440"/>
              <a:ext cx="29160" cy="91080"/>
            </a:xfrm>
            <a:custGeom>
              <a:avLst/>
              <a:gdLst/>
              <a:ahLst/>
              <a:rect l="l" t="t" r="r" b="b"/>
              <a:pathLst>
                <a:path w="21" h="71">
                  <a:moveTo>
                    <a:pt x="0" y="0"/>
                  </a:moveTo>
                  <a:lnTo>
                    <a:pt x="0" y="46"/>
                  </a:lnTo>
                  <a:lnTo>
                    <a:pt x="20" y="70"/>
                  </a:lnTo>
                  <a:lnTo>
                    <a:pt x="20" y="2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295960" y="3142440"/>
              <a:ext cx="29160" cy="10152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0" y="50"/>
                  </a:lnTo>
                  <a:lnTo>
                    <a:pt x="20" y="77"/>
                  </a:lnTo>
                  <a:lnTo>
                    <a:pt x="2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193720" y="3161520"/>
              <a:ext cx="29160" cy="4572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0" y="1"/>
                  </a:moveTo>
                  <a:lnTo>
                    <a:pt x="19" y="0"/>
                  </a:lnTo>
                  <a:lnTo>
                    <a:pt x="19" y="34"/>
                  </a:lnTo>
                  <a:lnTo>
                    <a:pt x="0" y="34"/>
                  </a:lnTo>
                  <a:lnTo>
                    <a:pt x="0" y="1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193720" y="3161520"/>
              <a:ext cx="29160" cy="5580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1"/>
                  </a:moveTo>
                  <a:lnTo>
                    <a:pt x="19" y="0"/>
                  </a:lnTo>
                  <a:lnTo>
                    <a:pt x="19" y="41"/>
                  </a:lnTo>
                  <a:lnTo>
                    <a:pt x="0" y="41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93720" y="3214800"/>
              <a:ext cx="2916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0" y="0"/>
                  </a:lnTo>
                  <a:lnTo>
                    <a:pt x="19" y="17"/>
                  </a:lnTo>
                  <a:lnTo>
                    <a:pt x="9" y="1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193720" y="3214800"/>
              <a:ext cx="38520" cy="306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0"/>
                  </a:moveTo>
                  <a:lnTo>
                    <a:pt x="14" y="0"/>
                  </a:lnTo>
                  <a:lnTo>
                    <a:pt x="26" y="23"/>
                  </a:lnTo>
                  <a:lnTo>
                    <a:pt x="13" y="2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212440" y="3161520"/>
              <a:ext cx="29160" cy="75240"/>
            </a:xfrm>
            <a:custGeom>
              <a:avLst/>
              <a:gdLst/>
              <a:ahLst/>
              <a:rect l="l" t="t" r="r" b="b"/>
              <a:pathLst>
                <a:path w="21" h="58">
                  <a:moveTo>
                    <a:pt x="20" y="57"/>
                  </a:moveTo>
                  <a:lnTo>
                    <a:pt x="20" y="2"/>
                  </a:lnTo>
                  <a:lnTo>
                    <a:pt x="0" y="0"/>
                  </a:lnTo>
                  <a:lnTo>
                    <a:pt x="0" y="37"/>
                  </a:lnTo>
                  <a:lnTo>
                    <a:pt x="20" y="57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212440" y="3161520"/>
              <a:ext cx="29160" cy="8388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20" y="64"/>
                  </a:moveTo>
                  <a:lnTo>
                    <a:pt x="20" y="2"/>
                  </a:lnTo>
                  <a:lnTo>
                    <a:pt x="0" y="0"/>
                  </a:lnTo>
                  <a:lnTo>
                    <a:pt x="0" y="42"/>
                  </a:lnTo>
                  <a:lnTo>
                    <a:pt x="20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124240" y="3217680"/>
              <a:ext cx="32040" cy="266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7" y="18"/>
                  </a:moveTo>
                  <a:lnTo>
                    <a:pt x="22" y="18"/>
                  </a:lnTo>
                  <a:lnTo>
                    <a:pt x="12" y="0"/>
                  </a:lnTo>
                  <a:lnTo>
                    <a:pt x="0" y="0"/>
                  </a:lnTo>
                  <a:lnTo>
                    <a:pt x="7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124240" y="3217680"/>
              <a:ext cx="33840" cy="30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8" y="22"/>
                  </a:moveTo>
                  <a:lnTo>
                    <a:pt x="24" y="2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8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122440" y="3180600"/>
              <a:ext cx="29160" cy="324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23"/>
                  </a:moveTo>
                  <a:lnTo>
                    <a:pt x="20" y="23"/>
                  </a:lnTo>
                  <a:lnTo>
                    <a:pt x="20" y="0"/>
                  </a:lnTo>
                  <a:lnTo>
                    <a:pt x="0" y="2"/>
                  </a:lnTo>
                  <a:lnTo>
                    <a:pt x="0" y="23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122440" y="3180600"/>
              <a:ext cx="29160" cy="3816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29"/>
                  </a:moveTo>
                  <a:lnTo>
                    <a:pt x="16" y="29"/>
                  </a:lnTo>
                  <a:lnTo>
                    <a:pt x="20" y="0"/>
                  </a:lnTo>
                  <a:lnTo>
                    <a:pt x="0" y="2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144400" y="3182400"/>
              <a:ext cx="27720" cy="5724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0" y="0"/>
                  </a:moveTo>
                  <a:lnTo>
                    <a:pt x="0" y="24"/>
                  </a:lnTo>
                  <a:lnTo>
                    <a:pt x="19" y="43"/>
                  </a:lnTo>
                  <a:lnTo>
                    <a:pt x="19" y="5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144400" y="3182400"/>
              <a:ext cx="27720" cy="66240"/>
            </a:xfrm>
            <a:custGeom>
              <a:avLst/>
              <a:gdLst/>
              <a:ahLst/>
              <a:rect l="l" t="t" r="r" b="b"/>
              <a:pathLst>
                <a:path w="20" h="51">
                  <a:moveTo>
                    <a:pt x="0" y="0"/>
                  </a:moveTo>
                  <a:lnTo>
                    <a:pt x="0" y="28"/>
                  </a:lnTo>
                  <a:lnTo>
                    <a:pt x="19" y="50"/>
                  </a:lnTo>
                  <a:lnTo>
                    <a:pt x="19" y="6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061960" y="3160080"/>
              <a:ext cx="43560" cy="14004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7" y="0"/>
                  </a:moveTo>
                  <a:lnTo>
                    <a:pt x="7" y="12"/>
                  </a:lnTo>
                  <a:lnTo>
                    <a:pt x="0" y="9"/>
                  </a:lnTo>
                  <a:lnTo>
                    <a:pt x="0" y="108"/>
                  </a:lnTo>
                  <a:lnTo>
                    <a:pt x="30" y="106"/>
                  </a:lnTo>
                  <a:lnTo>
                    <a:pt x="30" y="12"/>
                  </a:lnTo>
                  <a:lnTo>
                    <a:pt x="7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061960" y="3160080"/>
              <a:ext cx="54360" cy="147600"/>
            </a:xfrm>
            <a:custGeom>
              <a:avLst/>
              <a:gdLst/>
              <a:ahLst/>
              <a:rect l="l" t="t" r="r" b="b"/>
              <a:pathLst>
                <a:path w="38" h="115">
                  <a:moveTo>
                    <a:pt x="10" y="0"/>
                  </a:moveTo>
                  <a:lnTo>
                    <a:pt x="10" y="13"/>
                  </a:lnTo>
                  <a:lnTo>
                    <a:pt x="0" y="10"/>
                  </a:lnTo>
                  <a:lnTo>
                    <a:pt x="0" y="114"/>
                  </a:lnTo>
                  <a:lnTo>
                    <a:pt x="37" y="112"/>
                  </a:lnTo>
                  <a:lnTo>
                    <a:pt x="37" y="13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052960" y="3160080"/>
              <a:ext cx="32040" cy="223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1" y="0"/>
                  </a:moveTo>
                  <a:lnTo>
                    <a:pt x="0" y="2"/>
                  </a:lnTo>
                  <a:lnTo>
                    <a:pt x="0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052960" y="3160080"/>
              <a:ext cx="32040" cy="2484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21" y="0"/>
                  </a:moveTo>
                  <a:lnTo>
                    <a:pt x="0" y="3"/>
                  </a:lnTo>
                  <a:lnTo>
                    <a:pt x="0" y="19"/>
                  </a:lnTo>
                  <a:lnTo>
                    <a:pt x="21" y="19"/>
                  </a:lnTo>
                  <a:lnTo>
                    <a:pt x="2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838760" y="3102480"/>
              <a:ext cx="139320" cy="200880"/>
            </a:xfrm>
            <a:custGeom>
              <a:avLst/>
              <a:gdLst/>
              <a:ahLst/>
              <a:rect l="l" t="t" r="r" b="b"/>
              <a:pathLst>
                <a:path w="97" h="156">
                  <a:moveTo>
                    <a:pt x="0" y="28"/>
                  </a:moveTo>
                  <a:lnTo>
                    <a:pt x="96" y="0"/>
                  </a:lnTo>
                  <a:lnTo>
                    <a:pt x="96" y="155"/>
                  </a:lnTo>
                  <a:lnTo>
                    <a:pt x="0" y="151"/>
                  </a:lnTo>
                  <a:lnTo>
                    <a:pt x="0" y="2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838760" y="3102480"/>
              <a:ext cx="150120" cy="210960"/>
            </a:xfrm>
            <a:custGeom>
              <a:avLst/>
              <a:gdLst/>
              <a:ahLst/>
              <a:rect l="l" t="t" r="r" b="b"/>
              <a:pathLst>
                <a:path w="105" h="163">
                  <a:moveTo>
                    <a:pt x="0" y="29"/>
                  </a:moveTo>
                  <a:lnTo>
                    <a:pt x="104" y="0"/>
                  </a:lnTo>
                  <a:lnTo>
                    <a:pt x="104" y="162"/>
                  </a:lnTo>
                  <a:lnTo>
                    <a:pt x="0" y="158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989240" y="3104280"/>
              <a:ext cx="61560" cy="199080"/>
            </a:xfrm>
            <a:custGeom>
              <a:avLst/>
              <a:gdLst/>
              <a:ahLst/>
              <a:rect l="l" t="t" r="r" b="b"/>
              <a:pathLst>
                <a:path w="44" h="155">
                  <a:moveTo>
                    <a:pt x="0" y="0"/>
                  </a:moveTo>
                  <a:lnTo>
                    <a:pt x="5" y="2"/>
                  </a:lnTo>
                  <a:lnTo>
                    <a:pt x="16" y="1"/>
                  </a:lnTo>
                  <a:lnTo>
                    <a:pt x="25" y="3"/>
                  </a:lnTo>
                  <a:lnTo>
                    <a:pt x="25" y="8"/>
                  </a:lnTo>
                  <a:lnTo>
                    <a:pt x="43" y="15"/>
                  </a:lnTo>
                  <a:lnTo>
                    <a:pt x="43" y="148"/>
                  </a:lnTo>
                  <a:lnTo>
                    <a:pt x="0" y="154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989240" y="3104280"/>
              <a:ext cx="75600" cy="209520"/>
            </a:xfrm>
            <a:custGeom>
              <a:avLst/>
              <a:gdLst/>
              <a:ahLst/>
              <a:rect l="l" t="t" r="r" b="b"/>
              <a:pathLst>
                <a:path w="53" h="162">
                  <a:moveTo>
                    <a:pt x="0" y="0"/>
                  </a:moveTo>
                  <a:lnTo>
                    <a:pt x="6" y="2"/>
                  </a:lnTo>
                  <a:lnTo>
                    <a:pt x="19" y="1"/>
                  </a:lnTo>
                  <a:lnTo>
                    <a:pt x="31" y="3"/>
                  </a:lnTo>
                  <a:lnTo>
                    <a:pt x="31" y="8"/>
                  </a:lnTo>
                  <a:lnTo>
                    <a:pt x="52" y="16"/>
                  </a:lnTo>
                  <a:lnTo>
                    <a:pt x="52" y="155"/>
                  </a:lnTo>
                  <a:lnTo>
                    <a:pt x="0" y="16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085360" y="3166200"/>
              <a:ext cx="2808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0" y="9"/>
                  </a:lnTo>
                  <a:lnTo>
                    <a:pt x="19" y="17"/>
                  </a:lnTo>
                  <a:lnTo>
                    <a:pt x="19" y="9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085360" y="3166200"/>
              <a:ext cx="2808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0" y="9"/>
                  </a:lnTo>
                  <a:lnTo>
                    <a:pt x="19" y="17"/>
                  </a:lnTo>
                  <a:lnTo>
                    <a:pt x="19" y="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825080" y="3171960"/>
              <a:ext cx="27720" cy="1281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2"/>
                  </a:moveTo>
                  <a:lnTo>
                    <a:pt x="18" y="0"/>
                  </a:lnTo>
                  <a:lnTo>
                    <a:pt x="18" y="99"/>
                  </a:lnTo>
                  <a:lnTo>
                    <a:pt x="0" y="99"/>
                  </a:lnTo>
                  <a:lnTo>
                    <a:pt x="0" y="2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825080" y="3171960"/>
              <a:ext cx="27720" cy="135360"/>
            </a:xfrm>
            <a:custGeom>
              <a:avLst/>
              <a:gdLst/>
              <a:ahLst/>
              <a:rect l="l" t="t" r="r" b="b"/>
              <a:pathLst>
                <a:path w="19" h="106">
                  <a:moveTo>
                    <a:pt x="0" y="2"/>
                  </a:moveTo>
                  <a:lnTo>
                    <a:pt x="18" y="0"/>
                  </a:lnTo>
                  <a:lnTo>
                    <a:pt x="18" y="105"/>
                  </a:lnTo>
                  <a:lnTo>
                    <a:pt x="0" y="105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845240" y="3171960"/>
              <a:ext cx="27720" cy="129600"/>
            </a:xfrm>
            <a:custGeom>
              <a:avLst/>
              <a:gdLst/>
              <a:ahLst/>
              <a:rect l="l" t="t" r="r" b="b"/>
              <a:pathLst>
                <a:path w="20" h="101">
                  <a:moveTo>
                    <a:pt x="0" y="0"/>
                  </a:moveTo>
                  <a:lnTo>
                    <a:pt x="19" y="0"/>
                  </a:lnTo>
                  <a:lnTo>
                    <a:pt x="19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845240" y="3171960"/>
              <a:ext cx="27720" cy="138600"/>
            </a:xfrm>
            <a:custGeom>
              <a:avLst/>
              <a:gdLst/>
              <a:ahLst/>
              <a:rect l="l" t="t" r="r" b="b"/>
              <a:pathLst>
                <a:path w="20" h="108">
                  <a:moveTo>
                    <a:pt x="0" y="0"/>
                  </a:moveTo>
                  <a:lnTo>
                    <a:pt x="19" y="0"/>
                  </a:lnTo>
                  <a:lnTo>
                    <a:pt x="19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843440" y="3176280"/>
              <a:ext cx="28080" cy="237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9" y="17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849920" y="3176280"/>
              <a:ext cx="30600" cy="237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843440" y="3189960"/>
              <a:ext cx="28080" cy="262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9" y="18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49920" y="3189960"/>
              <a:ext cx="30600" cy="262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0"/>
                  </a:lnTo>
                  <a:lnTo>
                    <a:pt x="21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843440" y="3210120"/>
              <a:ext cx="28080" cy="2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9" y="17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849920" y="3210120"/>
              <a:ext cx="30600" cy="223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843440" y="3224880"/>
              <a:ext cx="28080" cy="237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9" y="17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849920" y="3224880"/>
              <a:ext cx="30600" cy="237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867200" y="3120120"/>
              <a:ext cx="2916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0"/>
                  </a:move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868280" y="312012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0" y="18"/>
                  </a:lnTo>
                  <a:lnTo>
                    <a:pt x="21" y="15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922640" y="3104280"/>
              <a:ext cx="29160" cy="262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0"/>
                  </a:moveTo>
                  <a:lnTo>
                    <a:pt x="20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924440" y="3104280"/>
              <a:ext cx="29160" cy="262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0" y="18"/>
                  </a:lnTo>
                  <a:lnTo>
                    <a:pt x="14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894920" y="3114360"/>
              <a:ext cx="2916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0"/>
                  </a:move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897800" y="3114360"/>
              <a:ext cx="27720" cy="234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0" y="17"/>
                  </a:lnTo>
                  <a:lnTo>
                    <a:pt x="18" y="14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958280" y="3098160"/>
              <a:ext cx="30600" cy="21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1" y="0"/>
                  </a:moveTo>
                  <a:lnTo>
                    <a:pt x="21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958280" y="3098160"/>
              <a:ext cx="32040" cy="21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0" y="17"/>
                  </a:lnTo>
                  <a:lnTo>
                    <a:pt x="15" y="12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034240" y="3162960"/>
              <a:ext cx="32040" cy="140040"/>
            </a:xfrm>
            <a:custGeom>
              <a:avLst/>
              <a:gdLst/>
              <a:ahLst/>
              <a:rect l="l" t="t" r="r" b="b"/>
              <a:pathLst>
                <a:path w="23" h="109">
                  <a:moveTo>
                    <a:pt x="0" y="0"/>
                  </a:moveTo>
                  <a:lnTo>
                    <a:pt x="22" y="6"/>
                  </a:lnTo>
                  <a:lnTo>
                    <a:pt x="22" y="104"/>
                  </a:ln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034240" y="3162960"/>
              <a:ext cx="39960" cy="150480"/>
            </a:xfrm>
            <a:custGeom>
              <a:avLst/>
              <a:gdLst/>
              <a:ahLst/>
              <a:rect l="l" t="t" r="r" b="b"/>
              <a:pathLst>
                <a:path w="29" h="116">
                  <a:moveTo>
                    <a:pt x="0" y="0"/>
                  </a:moveTo>
                  <a:lnTo>
                    <a:pt x="28" y="6"/>
                  </a:lnTo>
                  <a:lnTo>
                    <a:pt x="28" y="111"/>
                  </a:lnTo>
                  <a:lnTo>
                    <a:pt x="0" y="11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015520" y="3162960"/>
              <a:ext cx="30600" cy="140040"/>
            </a:xfrm>
            <a:custGeom>
              <a:avLst/>
              <a:gdLst/>
              <a:ahLst/>
              <a:rect l="l" t="t" r="r" b="b"/>
              <a:pathLst>
                <a:path w="21" h="109">
                  <a:moveTo>
                    <a:pt x="20" y="0"/>
                  </a:moveTo>
                  <a:lnTo>
                    <a:pt x="20" y="108"/>
                  </a:lnTo>
                  <a:lnTo>
                    <a:pt x="0" y="105"/>
                  </a:lnTo>
                  <a:lnTo>
                    <a:pt x="0" y="3"/>
                  </a:lnTo>
                  <a:lnTo>
                    <a:pt x="2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015520" y="3162960"/>
              <a:ext cx="30600" cy="15048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20" y="0"/>
                  </a:moveTo>
                  <a:lnTo>
                    <a:pt x="20" y="115"/>
                  </a:lnTo>
                  <a:lnTo>
                    <a:pt x="0" y="112"/>
                  </a:lnTo>
                  <a:lnTo>
                    <a:pt x="0" y="3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040360" y="3183840"/>
              <a:ext cx="29160" cy="237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048280" y="3183840"/>
              <a:ext cx="32040" cy="2376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22" y="0"/>
                  </a:lnTo>
                  <a:lnTo>
                    <a:pt x="22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040360" y="3201480"/>
              <a:ext cx="2916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048280" y="3201480"/>
              <a:ext cx="32040" cy="2196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22" y="0"/>
                  </a:lnTo>
                  <a:lnTo>
                    <a:pt x="22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040360" y="3217680"/>
              <a:ext cx="29160" cy="2232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048280" y="3217680"/>
              <a:ext cx="32040" cy="223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22" y="0"/>
                  </a:lnTo>
                  <a:lnTo>
                    <a:pt x="22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040360" y="3231000"/>
              <a:ext cx="29160" cy="237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048280" y="3231000"/>
              <a:ext cx="32040" cy="2376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22" y="0"/>
                  </a:lnTo>
                  <a:lnTo>
                    <a:pt x="22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058720" y="3213360"/>
              <a:ext cx="80640" cy="8676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0" y="67"/>
                  </a:moveTo>
                  <a:lnTo>
                    <a:pt x="55" y="67"/>
                  </a:lnTo>
                  <a:lnTo>
                    <a:pt x="55" y="0"/>
                  </a:lnTo>
                  <a:lnTo>
                    <a:pt x="22" y="2"/>
                  </a:lnTo>
                  <a:lnTo>
                    <a:pt x="22" y="50"/>
                  </a:lnTo>
                  <a:lnTo>
                    <a:pt x="0" y="54"/>
                  </a:lnTo>
                  <a:lnTo>
                    <a:pt x="0" y="67"/>
                  </a:lnTo>
                </a:path>
              </a:pathLst>
            </a:custGeom>
            <a:solidFill>
              <a:srgbClr val="604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058720" y="3213360"/>
              <a:ext cx="91440" cy="94320"/>
            </a:xfrm>
            <a:custGeom>
              <a:avLst/>
              <a:gdLst/>
              <a:ahLst/>
              <a:rect l="l" t="t" r="r" b="b"/>
              <a:pathLst>
                <a:path w="64" h="74">
                  <a:moveTo>
                    <a:pt x="0" y="73"/>
                  </a:moveTo>
                  <a:lnTo>
                    <a:pt x="63" y="73"/>
                  </a:lnTo>
                  <a:lnTo>
                    <a:pt x="63" y="0"/>
                  </a:lnTo>
                  <a:lnTo>
                    <a:pt x="23" y="2"/>
                  </a:lnTo>
                  <a:lnTo>
                    <a:pt x="23" y="54"/>
                  </a:lnTo>
                  <a:lnTo>
                    <a:pt x="0" y="59"/>
                  </a:lnTo>
                  <a:lnTo>
                    <a:pt x="0" y="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38880" y="3247560"/>
              <a:ext cx="27720" cy="4716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0" y="6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36"/>
                  </a:lnTo>
                  <a:lnTo>
                    <a:pt x="0" y="6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38880" y="3247560"/>
              <a:ext cx="27720" cy="54360"/>
            </a:xfrm>
            <a:custGeom>
              <a:avLst/>
              <a:gdLst/>
              <a:ahLst/>
              <a:rect l="l" t="t" r="r" b="b"/>
              <a:pathLst>
                <a:path w="19" h="43">
                  <a:moveTo>
                    <a:pt x="0" y="7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5"/>
                  </a:lnTo>
                  <a:lnTo>
                    <a:pt x="1" y="8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103720" y="3291480"/>
              <a:ext cx="2916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103720" y="3291480"/>
              <a:ext cx="2916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128920" y="329148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28920" y="329148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56640" y="3291480"/>
              <a:ext cx="2916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156640" y="3291480"/>
              <a:ext cx="2916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179680" y="3291480"/>
              <a:ext cx="2916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179680" y="3291480"/>
              <a:ext cx="2916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205960" y="3291480"/>
              <a:ext cx="3096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05960" y="3291480"/>
              <a:ext cx="3096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234040" y="3291480"/>
              <a:ext cx="2772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234040" y="3291480"/>
              <a:ext cx="2772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257440" y="3291480"/>
              <a:ext cx="26280" cy="24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18" y="0"/>
                  </a:lnTo>
                  <a:lnTo>
                    <a:pt x="18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257440" y="3291480"/>
              <a:ext cx="26280" cy="24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18" y="17"/>
                  </a:lnTo>
                  <a:lnTo>
                    <a:pt x="18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280480" y="329148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280480" y="329148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167440" y="329148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243400" y="329148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193720" y="329148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215680" y="329148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144400" y="329148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117760" y="329148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269680" y="329148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294520" y="329148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066640" y="3279960"/>
              <a:ext cx="222840" cy="21960"/>
            </a:xfrm>
            <a:custGeom>
              <a:avLst/>
              <a:gdLst/>
              <a:ahLst/>
              <a:rect l="l" t="t" r="r" b="b"/>
              <a:pathLst>
                <a:path w="156" h="18">
                  <a:moveTo>
                    <a:pt x="0" y="14"/>
                  </a:moveTo>
                  <a:lnTo>
                    <a:pt x="9" y="0"/>
                  </a:lnTo>
                  <a:lnTo>
                    <a:pt x="152" y="0"/>
                  </a:lnTo>
                  <a:lnTo>
                    <a:pt x="155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389200" y="3238200"/>
              <a:ext cx="30600" cy="64800"/>
            </a:xfrm>
            <a:custGeom>
              <a:avLst/>
              <a:gdLst/>
              <a:ahLst/>
              <a:rect l="l" t="t" r="r" b="b"/>
              <a:pathLst>
                <a:path w="22" h="51">
                  <a:moveTo>
                    <a:pt x="0" y="8"/>
                  </a:moveTo>
                  <a:lnTo>
                    <a:pt x="0" y="5"/>
                  </a:lnTo>
                  <a:lnTo>
                    <a:pt x="2" y="3"/>
                  </a:lnTo>
                  <a:lnTo>
                    <a:pt x="2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6" y="2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2" y="3"/>
                  </a:lnTo>
                  <a:lnTo>
                    <a:pt x="9" y="3"/>
                  </a:lnTo>
                  <a:lnTo>
                    <a:pt x="5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9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8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389200" y="3238200"/>
              <a:ext cx="30600" cy="75240"/>
            </a:xfrm>
            <a:custGeom>
              <a:avLst/>
              <a:gdLst/>
              <a:ahLst/>
              <a:rect l="l" t="t" r="r" b="b"/>
              <a:pathLst>
                <a:path w="22" h="58">
                  <a:moveTo>
                    <a:pt x="0" y="9"/>
                  </a:move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15" y="9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5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10"/>
                  </a:lnTo>
                  <a:lnTo>
                    <a:pt x="2" y="57"/>
                  </a:lnTo>
                  <a:lnTo>
                    <a:pt x="0" y="57"/>
                  </a:lnTo>
                  <a:lnTo>
                    <a:pt x="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342400" y="3292920"/>
              <a:ext cx="28080" cy="237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7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342400" y="3292920"/>
              <a:ext cx="30960" cy="237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7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371920" y="3294720"/>
              <a:ext cx="1440" cy="2340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0"/>
                  </a:moveTo>
                  <a:lnTo>
                    <a:pt x="0" y="17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371920" y="3294720"/>
              <a:ext cx="32400" cy="23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0" y="17"/>
                  </a:lnTo>
                  <a:lnTo>
                    <a:pt x="22" y="14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465160" y="3248640"/>
              <a:ext cx="1080" cy="3096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0" y="3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23"/>
                  </a:lnTo>
                  <a:lnTo>
                    <a:pt x="0" y="3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465160" y="3248640"/>
              <a:ext cx="30600" cy="3960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4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340960" y="3300480"/>
              <a:ext cx="27720" cy="237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340960" y="3300480"/>
              <a:ext cx="27720" cy="237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340960" y="3288600"/>
              <a:ext cx="27720" cy="2376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8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340960" y="3288600"/>
              <a:ext cx="27720" cy="2376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340960" y="3273840"/>
              <a:ext cx="27720" cy="2376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0"/>
                  </a:lnTo>
                  <a:lnTo>
                    <a:pt x="19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340960" y="3276720"/>
              <a:ext cx="2772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340960" y="3263400"/>
              <a:ext cx="2772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7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340960" y="3263400"/>
              <a:ext cx="2772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340960" y="3251880"/>
              <a:ext cx="2772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340960" y="3254760"/>
              <a:ext cx="27720" cy="2340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340960" y="3244320"/>
              <a:ext cx="2772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7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340960" y="3242880"/>
              <a:ext cx="27720" cy="2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817160" y="3188160"/>
              <a:ext cx="461880" cy="79560"/>
            </a:xfrm>
            <a:custGeom>
              <a:avLst/>
              <a:gdLst/>
              <a:ahLst/>
              <a:rect l="l" t="t" r="r" b="b"/>
              <a:pathLst>
                <a:path w="323" h="61">
                  <a:moveTo>
                    <a:pt x="322" y="0"/>
                  </a:moveTo>
                  <a:lnTo>
                    <a:pt x="322" y="10"/>
                  </a:lnTo>
                  <a:lnTo>
                    <a:pt x="196" y="20"/>
                  </a:lnTo>
                  <a:lnTo>
                    <a:pt x="166" y="57"/>
                  </a:lnTo>
                  <a:lnTo>
                    <a:pt x="0" y="60"/>
                  </a:lnTo>
                  <a:lnTo>
                    <a:pt x="0" y="53"/>
                  </a:lnTo>
                  <a:lnTo>
                    <a:pt x="155" y="48"/>
                  </a:lnTo>
                  <a:lnTo>
                    <a:pt x="188" y="9"/>
                  </a:lnTo>
                  <a:lnTo>
                    <a:pt x="322" y="0"/>
                  </a:lnTo>
                </a:path>
              </a:pathLst>
            </a:custGeom>
            <a:solidFill>
              <a:srgbClr val="a08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817160" y="3188160"/>
              <a:ext cx="472320" cy="88560"/>
            </a:xfrm>
            <a:custGeom>
              <a:avLst/>
              <a:gdLst/>
              <a:ahLst/>
              <a:rect l="l" t="t" r="r" b="b"/>
              <a:pathLst>
                <a:path w="330" h="68">
                  <a:moveTo>
                    <a:pt x="329" y="0"/>
                  </a:moveTo>
                  <a:lnTo>
                    <a:pt x="329" y="12"/>
                  </a:lnTo>
                  <a:lnTo>
                    <a:pt x="200" y="23"/>
                  </a:lnTo>
                  <a:lnTo>
                    <a:pt x="170" y="6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158" y="53"/>
                  </a:lnTo>
                  <a:lnTo>
                    <a:pt x="193" y="10"/>
                  </a:lnTo>
                  <a:lnTo>
                    <a:pt x="32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173920" y="3160080"/>
              <a:ext cx="29160" cy="3996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0" y="0"/>
                  </a:moveTo>
                  <a:lnTo>
                    <a:pt x="20" y="4"/>
                  </a:lnTo>
                  <a:lnTo>
                    <a:pt x="20" y="12"/>
                  </a:lnTo>
                  <a:lnTo>
                    <a:pt x="10" y="13"/>
                  </a:lnTo>
                  <a:lnTo>
                    <a:pt x="5" y="28"/>
                  </a:lnTo>
                  <a:lnTo>
                    <a:pt x="0" y="30"/>
                  </a:lnTo>
                  <a:lnTo>
                    <a:pt x="1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173920" y="3160080"/>
              <a:ext cx="35280" cy="4752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2" y="0"/>
                  </a:moveTo>
                  <a:lnTo>
                    <a:pt x="24" y="5"/>
                  </a:lnTo>
                  <a:lnTo>
                    <a:pt x="24" y="15"/>
                  </a:lnTo>
                  <a:lnTo>
                    <a:pt x="13" y="16"/>
                  </a:lnTo>
                  <a:lnTo>
                    <a:pt x="8" y="34"/>
                  </a:lnTo>
                  <a:lnTo>
                    <a:pt x="0" y="36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156640" y="3160080"/>
              <a:ext cx="29160" cy="4284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9" y="2"/>
                  </a:moveTo>
                  <a:lnTo>
                    <a:pt x="19" y="0"/>
                  </a:lnTo>
                  <a:lnTo>
                    <a:pt x="7" y="29"/>
                  </a:lnTo>
                  <a:lnTo>
                    <a:pt x="0" y="31"/>
                  </a:lnTo>
                  <a:lnTo>
                    <a:pt x="9" y="2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156640" y="3160080"/>
              <a:ext cx="38520" cy="5184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13" y="3"/>
                  </a:moveTo>
                  <a:lnTo>
                    <a:pt x="25" y="0"/>
                  </a:lnTo>
                  <a:lnTo>
                    <a:pt x="10" y="36"/>
                  </a:lnTo>
                  <a:lnTo>
                    <a:pt x="0" y="38"/>
                  </a:lnTo>
                  <a:lnTo>
                    <a:pt x="13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234040" y="3145320"/>
              <a:ext cx="30600" cy="5004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1" y="3"/>
                  </a:moveTo>
                  <a:lnTo>
                    <a:pt x="21" y="0"/>
                  </a:lnTo>
                  <a:lnTo>
                    <a:pt x="10" y="35"/>
                  </a:lnTo>
                  <a:lnTo>
                    <a:pt x="0" y="37"/>
                  </a:lnTo>
                  <a:lnTo>
                    <a:pt x="11" y="3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234040" y="3145320"/>
              <a:ext cx="39960" cy="5724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15" y="3"/>
                  </a:moveTo>
                  <a:lnTo>
                    <a:pt x="28" y="0"/>
                  </a:lnTo>
                  <a:lnTo>
                    <a:pt x="14" y="41"/>
                  </a:lnTo>
                  <a:lnTo>
                    <a:pt x="0" y="43"/>
                  </a:lnTo>
                  <a:lnTo>
                    <a:pt x="15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257440" y="3145320"/>
              <a:ext cx="29160" cy="4572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8" y="0"/>
                  </a:moveTo>
                  <a:lnTo>
                    <a:pt x="0" y="34"/>
                  </a:lnTo>
                  <a:lnTo>
                    <a:pt x="5" y="30"/>
                  </a:lnTo>
                  <a:lnTo>
                    <a:pt x="10" y="15"/>
                  </a:lnTo>
                  <a:lnTo>
                    <a:pt x="19" y="14"/>
                  </a:lnTo>
                  <a:lnTo>
                    <a:pt x="19" y="5"/>
                  </a:lnTo>
                  <a:lnTo>
                    <a:pt x="8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257440" y="3145320"/>
              <a:ext cx="38520" cy="561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3" y="0"/>
                  </a:moveTo>
                  <a:lnTo>
                    <a:pt x="0" y="41"/>
                  </a:lnTo>
                  <a:lnTo>
                    <a:pt x="7" y="36"/>
                  </a:lnTo>
                  <a:lnTo>
                    <a:pt x="14" y="19"/>
                  </a:lnTo>
                  <a:lnTo>
                    <a:pt x="26" y="18"/>
                  </a:lnTo>
                  <a:lnTo>
                    <a:pt x="26" y="6"/>
                  </a:lnTo>
                  <a:lnTo>
                    <a:pt x="1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289840" y="3291480"/>
              <a:ext cx="33840" cy="248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17"/>
                  </a:moveTo>
                  <a:lnTo>
                    <a:pt x="24" y="17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89840" y="3291480"/>
              <a:ext cx="46440" cy="262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19"/>
                  </a:moveTo>
                  <a:lnTo>
                    <a:pt x="32" y="19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34840" y="3291480"/>
              <a:ext cx="2916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0" y="17"/>
                  </a:lnTo>
                  <a:lnTo>
                    <a:pt x="19" y="17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334840" y="3291480"/>
              <a:ext cx="29160" cy="262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lnTo>
                    <a:pt x="0" y="19"/>
                  </a:lnTo>
                  <a:lnTo>
                    <a:pt x="19" y="19"/>
                  </a:lnTo>
                  <a:lnTo>
                    <a:pt x="19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103720" y="3220560"/>
              <a:ext cx="58680" cy="248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0" y="18"/>
                  </a:moveTo>
                  <a:lnTo>
                    <a:pt x="35" y="18"/>
                  </a:lnTo>
                  <a:lnTo>
                    <a:pt x="40" y="0"/>
                  </a:lnTo>
                  <a:lnTo>
                    <a:pt x="3" y="0"/>
                  </a:lnTo>
                  <a:lnTo>
                    <a:pt x="0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103720" y="3222360"/>
              <a:ext cx="68040" cy="248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0" y="6"/>
                  </a:moveTo>
                  <a:lnTo>
                    <a:pt x="40" y="0"/>
                  </a:lnTo>
                  <a:lnTo>
                    <a:pt x="46" y="13"/>
                  </a:lnTo>
                  <a:lnTo>
                    <a:pt x="3" y="18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099400" y="3228120"/>
              <a:ext cx="29160" cy="7812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20" y="60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0" y="60"/>
                  </a:lnTo>
                  <a:lnTo>
                    <a:pt x="20" y="60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103720" y="3228120"/>
              <a:ext cx="29160" cy="8856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0" y="67"/>
                  </a:moveTo>
                  <a:lnTo>
                    <a:pt x="0" y="0"/>
                  </a:lnTo>
                  <a:lnTo>
                    <a:pt x="19" y="4"/>
                  </a:lnTo>
                  <a:lnTo>
                    <a:pt x="19" y="67"/>
                  </a:lnTo>
                  <a:lnTo>
                    <a:pt x="0" y="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160960" y="3224880"/>
              <a:ext cx="28080" cy="81360"/>
            </a:xfrm>
            <a:custGeom>
              <a:avLst/>
              <a:gdLst/>
              <a:ahLst/>
              <a:rect l="l" t="t" r="r" b="b"/>
              <a:pathLst>
                <a:path w="20" h="63">
                  <a:moveTo>
                    <a:pt x="19" y="62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0" y="62"/>
                  </a:lnTo>
                  <a:lnTo>
                    <a:pt x="19" y="62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164200" y="3224880"/>
              <a:ext cx="30600" cy="91440"/>
            </a:xfrm>
            <a:custGeom>
              <a:avLst/>
              <a:gdLst/>
              <a:ahLst/>
              <a:rect l="l" t="t" r="r" b="b"/>
              <a:pathLst>
                <a:path w="21" h="70">
                  <a:moveTo>
                    <a:pt x="0" y="69"/>
                  </a:moveTo>
                  <a:lnTo>
                    <a:pt x="0" y="0"/>
                  </a:lnTo>
                  <a:lnTo>
                    <a:pt x="20" y="3"/>
                  </a:lnTo>
                  <a:lnTo>
                    <a:pt x="20" y="69"/>
                  </a:lnTo>
                  <a:lnTo>
                    <a:pt x="0" y="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164200" y="3219120"/>
              <a:ext cx="77400" cy="1080"/>
            </a:xfrm>
            <a:custGeom>
              <a:avLst/>
              <a:gdLst/>
              <a:ahLst/>
              <a:rect l="l" t="t" r="r" b="b"/>
              <a:pathLst>
                <a:path w="54" h="1">
                  <a:moveTo>
                    <a:pt x="0" y="0"/>
                  </a:moveTo>
                  <a:lnTo>
                    <a:pt x="46" y="0"/>
                  </a:lnTo>
                  <a:lnTo>
                    <a:pt x="53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164200" y="3219120"/>
              <a:ext cx="88200" cy="262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9"/>
                  </a:moveTo>
                  <a:lnTo>
                    <a:pt x="52" y="0"/>
                  </a:lnTo>
                  <a:lnTo>
                    <a:pt x="60" y="11"/>
                  </a:lnTo>
                  <a:lnTo>
                    <a:pt x="5" y="18"/>
                  </a:lnTo>
                  <a:lnTo>
                    <a:pt x="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240160" y="3219120"/>
              <a:ext cx="29160" cy="86760"/>
            </a:xfrm>
            <a:custGeom>
              <a:avLst/>
              <a:gdLst/>
              <a:ahLst/>
              <a:rect l="l" t="t" r="r" b="b"/>
              <a:pathLst>
                <a:path w="21" h="67">
                  <a:moveTo>
                    <a:pt x="20" y="66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0" y="66"/>
                  </a:lnTo>
                  <a:lnTo>
                    <a:pt x="20" y="66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41960" y="3219120"/>
              <a:ext cx="29160" cy="97200"/>
            </a:xfrm>
            <a:custGeom>
              <a:avLst/>
              <a:gdLst/>
              <a:ahLst/>
              <a:rect l="l" t="t" r="r" b="b"/>
              <a:pathLst>
                <a:path w="21" h="74">
                  <a:moveTo>
                    <a:pt x="0" y="73"/>
                  </a:moveTo>
                  <a:lnTo>
                    <a:pt x="0" y="0"/>
                  </a:lnTo>
                  <a:lnTo>
                    <a:pt x="20" y="4"/>
                  </a:lnTo>
                  <a:lnTo>
                    <a:pt x="20" y="73"/>
                  </a:lnTo>
                  <a:lnTo>
                    <a:pt x="0" y="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826520" y="3288600"/>
              <a:ext cx="27720" cy="24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826520" y="3288600"/>
              <a:ext cx="27720" cy="24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849920" y="328860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0"/>
                  </a:lnTo>
                  <a:lnTo>
                    <a:pt x="21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849920" y="328860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18"/>
                  </a:lnTo>
                  <a:lnTo>
                    <a:pt x="21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872960" y="328860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0"/>
                  </a:lnTo>
                  <a:lnTo>
                    <a:pt x="21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872960" y="328860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18"/>
                  </a:lnTo>
                  <a:lnTo>
                    <a:pt x="21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901040" y="3288600"/>
              <a:ext cx="26280" cy="24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901040" y="3288600"/>
              <a:ext cx="26280" cy="24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924440" y="3288600"/>
              <a:ext cx="2916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0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924440" y="3288600"/>
              <a:ext cx="2916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18"/>
                  </a:lnTo>
                  <a:lnTo>
                    <a:pt x="2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947480" y="328860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0"/>
                  </a:lnTo>
                  <a:lnTo>
                    <a:pt x="21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947480" y="328860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18"/>
                  </a:lnTo>
                  <a:lnTo>
                    <a:pt x="21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969440" y="3288600"/>
              <a:ext cx="30600" cy="248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0"/>
                  </a:lnTo>
                  <a:lnTo>
                    <a:pt x="19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969440" y="3288600"/>
              <a:ext cx="30600" cy="248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995720" y="3288600"/>
              <a:ext cx="2916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0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995720" y="3288600"/>
              <a:ext cx="2916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18"/>
                  </a:lnTo>
                  <a:lnTo>
                    <a:pt x="2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885560" y="328860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958280" y="328860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913280" y="328860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935240" y="328860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865400" y="328860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840560" y="328860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984560" y="328860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009400" y="328860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8" name=""/>
          <p:cNvSpPr/>
          <p:nvPr/>
        </p:nvSpPr>
        <p:spPr>
          <a:xfrm>
            <a:off x="4732200" y="272412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LANTA TUR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EXPA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726080" y="3317760"/>
            <a:ext cx="355680" cy="1897200"/>
          </a:xfrm>
          <a:custGeom>
            <a:avLst/>
            <a:gdLst/>
            <a:ahLst/>
            <a:rect l="l" t="t" r="r" b="b"/>
            <a:pathLst>
              <a:path w="223" h="1195">
                <a:moveTo>
                  <a:pt x="223" y="0"/>
                </a:moveTo>
                <a:lnTo>
                  <a:pt x="112" y="369"/>
                </a:lnTo>
                <a:lnTo>
                  <a:pt x="0" y="498"/>
                </a:lnTo>
                <a:lnTo>
                  <a:pt x="0" y="1195"/>
                </a:ln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218760" y="5295960"/>
            <a:ext cx="2106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2" marL="1143000" algn="ctr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OMPRE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738680" y="1270080"/>
            <a:ext cx="477720" cy="177840"/>
          </a:xfrm>
          <a:prstGeom prst="line">
            <a:avLst/>
          </a:prstGeom>
          <a:ln w="255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 flipV="1">
            <a:off x="3020760" y="1341360"/>
            <a:ext cx="1028520" cy="42696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 flipV="1">
            <a:off x="2521080" y="1766520"/>
            <a:ext cx="1412640" cy="4428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5" name=""/>
          <p:cNvGrpSpPr/>
          <p:nvPr/>
        </p:nvGrpSpPr>
        <p:grpSpPr>
          <a:xfrm>
            <a:off x="28440" y="76320"/>
            <a:ext cx="9751320" cy="6607440"/>
            <a:chOff x="28440" y="76320"/>
            <a:chExt cx="9751320" cy="6607440"/>
          </a:xfrm>
        </p:grpSpPr>
        <p:sp>
          <p:nvSpPr>
            <p:cNvPr id="1486" name=""/>
            <p:cNvSpPr/>
            <p:nvPr/>
          </p:nvSpPr>
          <p:spPr>
            <a:xfrm>
              <a:off x="4021200" y="1622160"/>
              <a:ext cx="1246320" cy="87408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MEG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067280" y="3704040"/>
              <a:ext cx="693360" cy="44892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Turb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550880" y="358560"/>
              <a:ext cx="623160" cy="26208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LTS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545120" y="748080"/>
              <a:ext cx="623160" cy="26208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LTS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881280" y="748080"/>
              <a:ext cx="623160" cy="26208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Ami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527840" y="4398840"/>
              <a:ext cx="623160" cy="40320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L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Barro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2" name=""/>
            <p:cNvGrpSpPr/>
            <p:nvPr/>
          </p:nvGrpSpPr>
          <p:grpSpPr>
            <a:xfrm>
              <a:off x="3374640" y="1908360"/>
              <a:ext cx="415440" cy="306000"/>
              <a:chOff x="3374640" y="1908360"/>
              <a:chExt cx="415440" cy="306000"/>
            </a:xfrm>
          </p:grpSpPr>
          <p:sp>
            <p:nvSpPr>
              <p:cNvPr id="1493" name=""/>
              <p:cNvSpPr/>
              <p:nvPr/>
            </p:nvSpPr>
            <p:spPr>
              <a:xfrm>
                <a:off x="3374640" y="1951920"/>
                <a:ext cx="415440" cy="2185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ffff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790080" y="1908360"/>
                <a:ext cx="0" cy="3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374640" y="1908360"/>
                <a:ext cx="0" cy="3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96" name=""/>
            <p:cNvCxnSpPr>
              <a:stCxn id="1493" idx="3"/>
              <a:endCxn id="1486" idx="0"/>
            </p:cNvCxnSpPr>
            <p:nvPr/>
          </p:nvCxnSpPr>
          <p:spPr>
            <a:xfrm flipV="1">
              <a:off x="3789720" y="2058840"/>
              <a:ext cx="231480" cy="2520"/>
            </a:xfrm>
            <a:prstGeom prst="straightConnector1">
              <a:avLst/>
            </a:prstGeom>
            <a:ln w="25560">
              <a:solidFill>
                <a:srgbClr val="ffff00"/>
              </a:solidFill>
              <a:miter/>
            </a:ln>
          </p:spPr>
        </p:cxnSp>
        <p:sp>
          <p:nvSpPr>
            <p:cNvPr id="1497" name=""/>
            <p:cNvSpPr/>
            <p:nvPr/>
          </p:nvSpPr>
          <p:spPr>
            <a:xfrm>
              <a:off x="5498640" y="1950120"/>
              <a:ext cx="415440" cy="2181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914440" y="190656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498640" y="190656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0" name=""/>
            <p:cNvCxnSpPr>
              <a:stCxn id="1497" idx="1"/>
              <a:endCxn id="1486" idx="1"/>
            </p:cNvCxnSpPr>
            <p:nvPr/>
          </p:nvCxnSpPr>
          <p:spPr>
            <a:xfrm flipH="1">
              <a:off x="5267160" y="2059200"/>
              <a:ext cx="231480" cy="1080"/>
            </a:xfrm>
            <a:prstGeom prst="straightConnector1">
              <a:avLst/>
            </a:prstGeom>
            <a:ln w="25560">
              <a:solidFill>
                <a:srgbClr val="ffff00"/>
              </a:solidFill>
              <a:miter/>
            </a:ln>
          </p:spPr>
        </p:cxnSp>
        <p:sp>
          <p:nvSpPr>
            <p:cNvPr id="1501" name=""/>
            <p:cNvSpPr/>
            <p:nvPr/>
          </p:nvSpPr>
          <p:spPr>
            <a:xfrm>
              <a:off x="5313960" y="1157040"/>
              <a:ext cx="1846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2" name=""/>
            <p:cNvCxnSpPr>
              <a:stCxn id="1503" idx="3"/>
              <a:endCxn id="1497" idx="3"/>
            </p:cNvCxnSpPr>
            <p:nvPr/>
          </p:nvCxnSpPr>
          <p:spPr>
            <a:xfrm>
              <a:off x="5442480" y="1364400"/>
              <a:ext cx="471960" cy="695520"/>
            </a:xfrm>
            <a:prstGeom prst="bentConnector3">
              <a:avLst>
                <a:gd name="adj1" fmla="val 129312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504" name=""/>
            <p:cNvCxnSpPr>
              <a:stCxn id="1503" idx="1"/>
              <a:endCxn id="1486" idx="2"/>
            </p:cNvCxnSpPr>
            <p:nvPr/>
          </p:nvCxnSpPr>
          <p:spPr>
            <a:xfrm flipV="1" rot="10800000">
              <a:off x="4643640" y="1363320"/>
              <a:ext cx="623520" cy="25812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tailEnd len="sm" type="triangle" w="sm"/>
            </a:ln>
          </p:spPr>
        </p:cxnSp>
        <p:sp>
          <p:nvSpPr>
            <p:cNvPr id="1505" name=""/>
            <p:cNvSpPr/>
            <p:nvPr/>
          </p:nvSpPr>
          <p:spPr>
            <a:xfrm>
              <a:off x="5355360" y="1244520"/>
              <a:ext cx="0" cy="70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360040" y="1421280"/>
              <a:ext cx="0" cy="698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267880" y="1304280"/>
              <a:ext cx="174600" cy="1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00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263920" y="1244520"/>
              <a:ext cx="0" cy="246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452560" y="1244520"/>
              <a:ext cx="0" cy="246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9" name=""/>
            <p:cNvCxnSpPr>
              <a:endCxn id="1487" idx="0"/>
            </p:cNvCxnSpPr>
            <p:nvPr/>
          </p:nvCxnSpPr>
          <p:spPr>
            <a:xfrm flipV="1">
              <a:off x="3951720" y="3928680"/>
              <a:ext cx="115920" cy="144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510" name=""/>
            <p:cNvSpPr/>
            <p:nvPr/>
          </p:nvSpPr>
          <p:spPr>
            <a:xfrm>
              <a:off x="7345800" y="1535040"/>
              <a:ext cx="415440" cy="2181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Tahoma"/>
                </a:rPr>
                <a:t>39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761240" y="149112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345800" y="149112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3" name=""/>
            <p:cNvGrpSpPr/>
            <p:nvPr/>
          </p:nvGrpSpPr>
          <p:grpSpPr>
            <a:xfrm>
              <a:off x="7345800" y="1906560"/>
              <a:ext cx="415440" cy="306000"/>
              <a:chOff x="7345800" y="1906560"/>
              <a:chExt cx="415440" cy="306000"/>
            </a:xfrm>
          </p:grpSpPr>
          <p:sp>
            <p:nvSpPr>
              <p:cNvPr id="1514" name=""/>
              <p:cNvSpPr/>
              <p:nvPr/>
            </p:nvSpPr>
            <p:spPr>
              <a:xfrm>
                <a:off x="7345800" y="1950120"/>
                <a:ext cx="415440" cy="21852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ffff00"/>
                    </a:solidFill>
                    <a:latin typeface="Tahoma"/>
                  </a:rPr>
                  <a:t>8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761240" y="1906560"/>
                <a:ext cx="0" cy="3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345800" y="1906560"/>
                <a:ext cx="0" cy="3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517" name=""/>
            <p:cNvCxnSpPr>
              <a:stCxn id="1487" idx="1"/>
            </p:cNvCxnSpPr>
            <p:nvPr/>
          </p:nvCxnSpPr>
          <p:spPr>
            <a:xfrm>
              <a:off x="4760640" y="3929040"/>
              <a:ext cx="2585160" cy="144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518" name=""/>
            <p:cNvSpPr/>
            <p:nvPr/>
          </p:nvSpPr>
          <p:spPr>
            <a:xfrm>
              <a:off x="8469000" y="2665080"/>
              <a:ext cx="1093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Tahoma"/>
                </a:rPr>
                <a:t>Polidu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Tahoma"/>
                </a:rPr>
                <a:t>[Bahía Blanca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9" name=""/>
            <p:cNvCxnSpPr>
              <a:stCxn id="1520" idx="3"/>
              <a:endCxn id="1518" idx="1"/>
            </p:cNvCxnSpPr>
            <p:nvPr/>
          </p:nvCxnSpPr>
          <p:spPr>
            <a:xfrm>
              <a:off x="5221800" y="2812320"/>
              <a:ext cx="3247920" cy="108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1521" name=""/>
            <p:cNvSpPr/>
            <p:nvPr/>
          </p:nvSpPr>
          <p:spPr>
            <a:xfrm>
              <a:off x="5135040" y="2692440"/>
              <a:ext cx="0" cy="698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139720" y="2867040"/>
              <a:ext cx="0" cy="702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044680" y="2752560"/>
              <a:ext cx="1767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9900"/>
                  </a:solidFill>
                  <a:latin typeface="Tahoma"/>
                </a:rPr>
                <a:t>R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044680" y="2692440"/>
              <a:ext cx="0" cy="2448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211000" y="2692440"/>
              <a:ext cx="0" cy="2448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5" name=""/>
            <p:cNvCxnSpPr>
              <a:stCxn id="1486" idx="3"/>
              <a:endCxn id="1520" idx="1"/>
            </p:cNvCxnSpPr>
            <p:nvPr/>
          </p:nvCxnSpPr>
          <p:spPr>
            <a:xfrm flipH="1" rot="16200000">
              <a:off x="4685400" y="2454120"/>
              <a:ext cx="316440" cy="40068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</a:ln>
          </p:spPr>
        </p:cxnSp>
        <p:sp>
          <p:nvSpPr>
            <p:cNvPr id="1526" name=""/>
            <p:cNvSpPr/>
            <p:nvPr/>
          </p:nvSpPr>
          <p:spPr>
            <a:xfrm>
              <a:off x="8533800" y="2027520"/>
              <a:ext cx="1245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COII [TG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7" name=""/>
            <p:cNvCxnSpPr>
              <a:stCxn id="1514" idx="3"/>
              <a:endCxn id="1526" idx="1"/>
            </p:cNvCxnSpPr>
            <p:nvPr/>
          </p:nvCxnSpPr>
          <p:spPr>
            <a:xfrm>
              <a:off x="7761240" y="2059200"/>
              <a:ext cx="722520" cy="1080"/>
            </a:xfrm>
            <a:prstGeom prst="straightConnector1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528" name=""/>
            <p:cNvSpPr/>
            <p:nvPr/>
          </p:nvSpPr>
          <p:spPr>
            <a:xfrm>
              <a:off x="8529120" y="3895200"/>
              <a:ext cx="11667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COI [TG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9" name=""/>
            <p:cNvCxnSpPr>
              <a:stCxn id="1530" idx="3"/>
              <a:endCxn id="1528" idx="1"/>
            </p:cNvCxnSpPr>
            <p:nvPr/>
          </p:nvCxnSpPr>
          <p:spPr>
            <a:xfrm>
              <a:off x="7659000" y="3928680"/>
              <a:ext cx="829800" cy="1080"/>
            </a:xfrm>
            <a:prstGeom prst="straightConnector1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531" name=""/>
            <p:cNvSpPr/>
            <p:nvPr/>
          </p:nvSpPr>
          <p:spPr>
            <a:xfrm>
              <a:off x="8438760" y="351000"/>
              <a:ext cx="106020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Neuba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[TGS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2" name=""/>
            <p:cNvCxnSpPr>
              <a:stCxn id="1514" idx="1"/>
              <a:endCxn id="1497" idx="3"/>
            </p:cNvCxnSpPr>
            <p:nvPr/>
          </p:nvCxnSpPr>
          <p:spPr>
            <a:xfrm rot="10800000">
              <a:off x="5913720" y="2058840"/>
              <a:ext cx="14320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3" name=""/>
            <p:cNvCxnSpPr>
              <a:stCxn id="1510" idx="1"/>
              <a:endCxn id="1497" idx="3"/>
            </p:cNvCxnSpPr>
            <p:nvPr/>
          </p:nvCxnSpPr>
          <p:spPr>
            <a:xfrm flipV="1" rot="10800000">
              <a:off x="5913720" y="1643040"/>
              <a:ext cx="1432080" cy="415800"/>
            </a:xfrm>
            <a:prstGeom prst="bentConnector3">
              <a:avLst>
                <a:gd name="adj1" fmla="val 19336"/>
              </a:avLst>
            </a:prstGeom>
            <a:ln w="25560">
              <a:solidFill>
                <a:srgbClr val="ffff00"/>
              </a:solidFill>
              <a:miter/>
            </a:ln>
          </p:spPr>
        </p:cxnSp>
        <p:sp>
          <p:nvSpPr>
            <p:cNvPr id="1534" name=""/>
            <p:cNvSpPr/>
            <p:nvPr/>
          </p:nvSpPr>
          <p:spPr>
            <a:xfrm>
              <a:off x="3000600" y="365760"/>
              <a:ext cx="0" cy="70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005280" y="542160"/>
              <a:ext cx="0" cy="70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913120" y="425880"/>
              <a:ext cx="174600" cy="1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900" spc="-1" strike="noStrike">
                  <a:solidFill>
                    <a:srgbClr val="ffff00"/>
                  </a:solidFill>
                  <a:latin typeface="Tahoma"/>
                </a:rPr>
                <a:t>8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909160" y="365760"/>
              <a:ext cx="0" cy="246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097800" y="365760"/>
              <a:ext cx="0" cy="246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9" name=""/>
            <p:cNvCxnSpPr>
              <a:stCxn id="1488" idx="0"/>
              <a:endCxn id="1536" idx="1"/>
            </p:cNvCxnSpPr>
            <p:nvPr/>
          </p:nvCxnSpPr>
          <p:spPr>
            <a:xfrm flipV="1">
              <a:off x="2174400" y="486000"/>
              <a:ext cx="739440" cy="396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540" name=""/>
            <p:cNvCxnSpPr>
              <a:stCxn id="1490" idx="0"/>
              <a:endCxn id="1489" idx="0"/>
            </p:cNvCxnSpPr>
            <p:nvPr/>
          </p:nvCxnSpPr>
          <p:spPr>
            <a:xfrm>
              <a:off x="1504800" y="878760"/>
              <a:ext cx="40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1" name=""/>
            <p:cNvCxnSpPr>
              <a:endCxn id="1531" idx="1"/>
            </p:cNvCxnSpPr>
            <p:nvPr/>
          </p:nvCxnSpPr>
          <p:spPr>
            <a:xfrm>
              <a:off x="3097800" y="486000"/>
              <a:ext cx="5402880" cy="1440"/>
            </a:xfrm>
            <a:prstGeom prst="bentConnector3">
              <a:avLst>
                <a:gd name="adj1" fmla="val 49996"/>
              </a:avLst>
            </a:prstGeom>
            <a:ln w="25560">
              <a:solidFill>
                <a:srgbClr val="ff0000"/>
              </a:solidFill>
              <a:prstDash val="dash"/>
              <a:miter/>
            </a:ln>
          </p:spPr>
        </p:cxnSp>
        <p:sp>
          <p:nvSpPr>
            <p:cNvPr id="1542" name=""/>
            <p:cNvSpPr/>
            <p:nvPr/>
          </p:nvSpPr>
          <p:spPr>
            <a:xfrm>
              <a:off x="1474200" y="3163320"/>
              <a:ext cx="693360" cy="44892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El Port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3" name=""/>
            <p:cNvCxnSpPr>
              <a:stCxn id="1489" idx="1"/>
              <a:endCxn id="1493" idx="1"/>
            </p:cNvCxnSpPr>
            <p:nvPr/>
          </p:nvCxnSpPr>
          <p:spPr>
            <a:xfrm>
              <a:off x="2168640" y="878760"/>
              <a:ext cx="1206720" cy="1182240"/>
            </a:xfrm>
            <a:prstGeom prst="bentConnector3">
              <a:avLst>
                <a:gd name="adj1" fmla="val 12175"/>
              </a:avLst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544" name=""/>
            <p:cNvSpPr/>
            <p:nvPr/>
          </p:nvSpPr>
          <p:spPr>
            <a:xfrm>
              <a:off x="122760" y="3208680"/>
              <a:ext cx="772200" cy="611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G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Pacifí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[Chile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5" name=""/>
            <p:cNvCxnSpPr>
              <a:stCxn id="1546" idx="1"/>
              <a:endCxn id="1544" idx="3"/>
            </p:cNvCxnSpPr>
            <p:nvPr/>
          </p:nvCxnSpPr>
          <p:spPr>
            <a:xfrm rot="10800000">
              <a:off x="835560" y="3385440"/>
              <a:ext cx="199800" cy="3240"/>
            </a:xfrm>
            <a:prstGeom prst="bentConnector3">
              <a:avLst>
                <a:gd name="adj1" fmla="val 49638"/>
              </a:avLst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547" name=""/>
            <p:cNvSpPr/>
            <p:nvPr/>
          </p:nvSpPr>
          <p:spPr>
            <a:xfrm flipH="1">
              <a:off x="3467160" y="2735280"/>
              <a:ext cx="1382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145200" y="3398040"/>
              <a:ext cx="0" cy="5245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427480" y="3309840"/>
              <a:ext cx="300960" cy="15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00"/>
                  </a:solidFill>
                  <a:latin typeface="Tahoma"/>
                </a:rPr>
                <a:t>300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728440" y="327780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427480" y="327780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035360" y="3309840"/>
              <a:ext cx="300960" cy="15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00"/>
                  </a:solidFill>
                  <a:latin typeface="Tahoma"/>
                </a:rPr>
                <a:t>30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336320" y="327780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035360" y="327780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396960" y="3306240"/>
              <a:ext cx="300960" cy="15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00"/>
                  </a:solidFill>
                  <a:latin typeface="Tahoma"/>
                </a:rPr>
                <a:t>23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697920" y="327420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396960" y="327420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7" name=""/>
            <p:cNvCxnSpPr>
              <a:stCxn id="1549" idx="3"/>
              <a:endCxn id="1554" idx="1"/>
            </p:cNvCxnSpPr>
            <p:nvPr/>
          </p:nvCxnSpPr>
          <p:spPr>
            <a:xfrm flipV="1">
              <a:off x="2728080" y="3384720"/>
              <a:ext cx="669240" cy="3960"/>
            </a:xfrm>
            <a:prstGeom prst="straightConnector1">
              <a:avLst/>
            </a:prstGeom>
            <a:ln w="25560">
              <a:solidFill>
                <a:srgbClr val="ffff00"/>
              </a:solidFill>
              <a:miter/>
            </a:ln>
          </p:spPr>
        </p:cxnSp>
        <p:sp>
          <p:nvSpPr>
            <p:cNvPr id="1558" name=""/>
            <p:cNvSpPr/>
            <p:nvPr/>
          </p:nvSpPr>
          <p:spPr>
            <a:xfrm>
              <a:off x="6145200" y="3523680"/>
              <a:ext cx="0" cy="22392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9" name=""/>
            <p:cNvCxnSpPr>
              <a:stCxn id="1542" idx="0"/>
              <a:endCxn id="1542" idx="1"/>
            </p:cNvCxnSpPr>
            <p:nvPr/>
          </p:nvCxnSpPr>
          <p:spPr>
            <a:xfrm flipH="1" flipV="1" rot="10800000">
              <a:off x="1473840" y="3387600"/>
              <a:ext cx="694080" cy="1440"/>
            </a:xfrm>
            <a:prstGeom prst="bentConnector5">
              <a:avLst>
                <a:gd name="adj1" fmla="val -11624"/>
                <a:gd name="adj2" fmla="val -39000000"/>
                <a:gd name="adj3" fmla="val 112298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560" name=""/>
            <p:cNvCxnSpPr>
              <a:stCxn id="1546" idx="3"/>
              <a:endCxn id="1542" idx="2"/>
            </p:cNvCxnSpPr>
            <p:nvPr/>
          </p:nvCxnSpPr>
          <p:spPr>
            <a:xfrm flipV="1">
              <a:off x="1336320" y="3387600"/>
              <a:ext cx="137880" cy="1440"/>
            </a:xfrm>
            <a:prstGeom prst="straightConnector1">
              <a:avLst/>
            </a:prstGeom>
            <a:ln w="25560">
              <a:solidFill>
                <a:srgbClr val="ffff00"/>
              </a:solidFill>
              <a:miter/>
            </a:ln>
          </p:spPr>
        </p:cxnSp>
        <p:cxnSp>
          <p:nvCxnSpPr>
            <p:cNvPr id="1561" name=""/>
            <p:cNvCxnSpPr>
              <a:stCxn id="1549" idx="1"/>
              <a:endCxn id="1542" idx="3"/>
            </p:cNvCxnSpPr>
            <p:nvPr/>
          </p:nvCxnSpPr>
          <p:spPr>
            <a:xfrm flipH="1" flipV="1">
              <a:off x="2166840" y="3387600"/>
              <a:ext cx="260280" cy="1440"/>
            </a:xfrm>
            <a:prstGeom prst="straightConnector1">
              <a:avLst/>
            </a:prstGeom>
            <a:ln w="25560">
              <a:solidFill>
                <a:srgbClr val="ffff00"/>
              </a:solidFill>
              <a:miter/>
            </a:ln>
          </p:spPr>
        </p:cxnSp>
        <p:sp>
          <p:nvSpPr>
            <p:cNvPr id="1562" name=""/>
            <p:cNvSpPr/>
            <p:nvPr/>
          </p:nvSpPr>
          <p:spPr>
            <a:xfrm flipH="1">
              <a:off x="1741320" y="3033720"/>
              <a:ext cx="184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683320" y="3929040"/>
              <a:ext cx="2307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055560" y="2729880"/>
              <a:ext cx="1846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5" name=""/>
            <p:cNvCxnSpPr>
              <a:stCxn id="1564" idx="2"/>
              <a:endCxn id="1554" idx="3"/>
            </p:cNvCxnSpPr>
            <p:nvPr/>
          </p:nvCxnSpPr>
          <p:spPr>
            <a:xfrm rot="5400000">
              <a:off x="4659840" y="1897920"/>
              <a:ext cx="525240" cy="2450520"/>
            </a:xfrm>
            <a:prstGeom prst="bentConnector2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sp>
          <p:nvSpPr>
            <p:cNvPr id="1566" name=""/>
            <p:cNvSpPr/>
            <p:nvPr/>
          </p:nvSpPr>
          <p:spPr>
            <a:xfrm>
              <a:off x="6149160" y="2059560"/>
              <a:ext cx="0" cy="6829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4991040" y="3389040"/>
              <a:ext cx="1382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8" name=""/>
            <p:cNvCxnSpPr>
              <a:stCxn id="1493" idx="1"/>
              <a:endCxn id="1554" idx="3"/>
            </p:cNvCxnSpPr>
            <p:nvPr/>
          </p:nvCxnSpPr>
          <p:spPr>
            <a:xfrm flipH="1" flipV="1" rot="10800000">
              <a:off x="3374280" y="2061000"/>
              <a:ext cx="324000" cy="1324800"/>
            </a:xfrm>
            <a:prstGeom prst="bentConnector5">
              <a:avLst>
                <a:gd name="adj1" fmla="val -42825"/>
                <a:gd name="adj2" fmla="val 51155"/>
                <a:gd name="adj3" fmla="val 142825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569" name=""/>
            <p:cNvCxnSpPr>
              <a:stCxn id="1510" idx="3"/>
              <a:endCxn id="1531" idx="1"/>
            </p:cNvCxnSpPr>
            <p:nvPr/>
          </p:nvCxnSpPr>
          <p:spPr>
            <a:xfrm flipV="1">
              <a:off x="7760880" y="486360"/>
              <a:ext cx="739080" cy="115776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570" name=""/>
            <p:cNvCxnSpPr>
              <a:stCxn id="1489" idx="2"/>
              <a:endCxn id="1488" idx="1"/>
            </p:cNvCxnSpPr>
            <p:nvPr/>
          </p:nvCxnSpPr>
          <p:spPr>
            <a:xfrm flipV="1">
              <a:off x="2168280" y="489240"/>
              <a:ext cx="6120" cy="390240"/>
            </a:xfrm>
            <a:prstGeom prst="bentConnector3">
              <a:avLst>
                <a:gd name="adj1" fmla="val 2500000"/>
              </a:avLst>
            </a:prstGeom>
            <a:ln w="25560">
              <a:solidFill>
                <a:srgbClr val="ffff00"/>
              </a:solidFill>
              <a:miter/>
            </a:ln>
          </p:spPr>
        </p:cxnSp>
        <p:grpSp>
          <p:nvGrpSpPr>
            <p:cNvPr id="1571" name=""/>
            <p:cNvGrpSpPr/>
            <p:nvPr/>
          </p:nvGrpSpPr>
          <p:grpSpPr>
            <a:xfrm>
              <a:off x="7345800" y="2278080"/>
              <a:ext cx="415440" cy="306000"/>
              <a:chOff x="7345800" y="2278080"/>
              <a:chExt cx="415440" cy="306000"/>
            </a:xfrm>
          </p:grpSpPr>
          <p:sp>
            <p:nvSpPr>
              <p:cNvPr id="1572" name=""/>
              <p:cNvSpPr/>
              <p:nvPr/>
            </p:nvSpPr>
            <p:spPr>
              <a:xfrm>
                <a:off x="7345800" y="2321640"/>
                <a:ext cx="415440" cy="21852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ffff00"/>
                    </a:solidFill>
                    <a:latin typeface="Tahoma"/>
                  </a:rPr>
                  <a:t>8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761240" y="2278080"/>
                <a:ext cx="0" cy="3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345800" y="2278080"/>
                <a:ext cx="0" cy="3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575" name=""/>
            <p:cNvCxnSpPr>
              <a:stCxn id="1572" idx="3"/>
              <a:endCxn id="1576" idx="0"/>
            </p:cNvCxnSpPr>
            <p:nvPr/>
          </p:nvCxnSpPr>
          <p:spPr>
            <a:xfrm>
              <a:off x="7760880" y="2431080"/>
              <a:ext cx="277560" cy="32112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576" name=""/>
            <p:cNvSpPr/>
            <p:nvPr/>
          </p:nvSpPr>
          <p:spPr>
            <a:xfrm>
              <a:off x="7945920" y="2751480"/>
              <a:ext cx="1846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7" name=""/>
            <p:cNvCxnSpPr>
              <a:stCxn id="1528" idx="1"/>
              <a:endCxn id="1576" idx="2"/>
            </p:cNvCxnSpPr>
            <p:nvPr/>
          </p:nvCxnSpPr>
          <p:spPr>
            <a:xfrm rot="10800000">
              <a:off x="8037720" y="2881800"/>
              <a:ext cx="450720" cy="104688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578" name=""/>
            <p:cNvCxnSpPr>
              <a:stCxn id="1572" idx="1"/>
              <a:endCxn id="1514" idx="1"/>
            </p:cNvCxnSpPr>
            <p:nvPr/>
          </p:nvCxnSpPr>
          <p:spPr>
            <a:xfrm flipH="1" rot="10800000">
              <a:off x="7345440" y="2058840"/>
              <a:ext cx="1440" cy="371880"/>
            </a:xfrm>
            <a:prstGeom prst="bentConnector3">
              <a:avLst>
                <a:gd name="adj1" fmla="val -28800000"/>
              </a:avLst>
            </a:prstGeom>
            <a:ln w="25560">
              <a:solidFill>
                <a:srgbClr val="ffff00"/>
              </a:solidFill>
              <a:miter/>
            </a:ln>
          </p:spPr>
        </p:cxnSp>
        <p:sp>
          <p:nvSpPr>
            <p:cNvPr id="1579" name=""/>
            <p:cNvSpPr/>
            <p:nvPr/>
          </p:nvSpPr>
          <p:spPr>
            <a:xfrm>
              <a:off x="8038440" y="3048480"/>
              <a:ext cx="0" cy="2181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499960" y="793800"/>
              <a:ext cx="9712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Cent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Puer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1" name=""/>
            <p:cNvCxnSpPr>
              <a:stCxn id="1582" idx="3"/>
              <a:endCxn id="1580" idx="1"/>
            </p:cNvCxnSpPr>
            <p:nvPr/>
          </p:nvCxnSpPr>
          <p:spPr>
            <a:xfrm flipV="1">
              <a:off x="8222400" y="974880"/>
              <a:ext cx="277560" cy="25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582" name=""/>
            <p:cNvSpPr/>
            <p:nvPr/>
          </p:nvSpPr>
          <p:spPr>
            <a:xfrm>
              <a:off x="8038440" y="912240"/>
              <a:ext cx="18432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3" name=""/>
            <p:cNvCxnSpPr>
              <a:stCxn id="1582" idx="1"/>
              <a:endCxn id="1584" idx="3"/>
            </p:cNvCxnSpPr>
            <p:nvPr/>
          </p:nvCxnSpPr>
          <p:spPr>
            <a:xfrm flipH="1">
              <a:off x="7684560" y="977040"/>
              <a:ext cx="35388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585" name=""/>
            <p:cNvCxnSpPr>
              <a:stCxn id="1586" idx="0"/>
              <a:endCxn id="1587" idx="2"/>
            </p:cNvCxnSpPr>
            <p:nvPr/>
          </p:nvCxnSpPr>
          <p:spPr>
            <a:xfrm flipH="1" flipV="1" rot="5400000">
              <a:off x="6892920" y="3047040"/>
              <a:ext cx="350280" cy="1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588" name=""/>
            <p:cNvCxnSpPr>
              <a:stCxn id="1572" idx="1"/>
              <a:endCxn id="1587" idx="0"/>
            </p:cNvCxnSpPr>
            <p:nvPr/>
          </p:nvCxnSpPr>
          <p:spPr>
            <a:xfrm flipV="1" rot="10800000">
              <a:off x="7067880" y="2429640"/>
              <a:ext cx="277560" cy="31176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589" name=""/>
            <p:cNvSpPr/>
            <p:nvPr/>
          </p:nvSpPr>
          <p:spPr>
            <a:xfrm>
              <a:off x="8524440" y="4646520"/>
              <a:ext cx="98100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Neuba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[TGS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555320" y="4649400"/>
              <a:ext cx="0" cy="7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561080" y="4843440"/>
              <a:ext cx="0" cy="770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453440" y="4715640"/>
              <a:ext cx="22104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00"/>
                  </a:solidFill>
                  <a:latin typeface="Tahoma"/>
                </a:rPr>
                <a:t>8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455240" y="464940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661880" y="464940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5" name=""/>
            <p:cNvCxnSpPr>
              <a:stCxn id="1592" idx="3"/>
              <a:endCxn id="1589" idx="1"/>
            </p:cNvCxnSpPr>
            <p:nvPr/>
          </p:nvCxnSpPr>
          <p:spPr>
            <a:xfrm>
              <a:off x="7674480" y="4781880"/>
              <a:ext cx="916200" cy="1080"/>
            </a:xfrm>
            <a:prstGeom prst="straightConnector1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596" name=""/>
            <p:cNvCxnSpPr>
              <a:endCxn id="1592" idx="1"/>
            </p:cNvCxnSpPr>
            <p:nvPr/>
          </p:nvCxnSpPr>
          <p:spPr>
            <a:xfrm>
              <a:off x="6606360" y="4272480"/>
              <a:ext cx="847080" cy="510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597" name=""/>
            <p:cNvSpPr/>
            <p:nvPr/>
          </p:nvSpPr>
          <p:spPr>
            <a:xfrm>
              <a:off x="6029640" y="4055400"/>
              <a:ext cx="300960" cy="1573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00"/>
                  </a:solidFill>
                  <a:latin typeface="Tahoma"/>
                </a:rPr>
                <a:t>42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330600" y="402372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029640" y="402372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172200" y="4307040"/>
              <a:ext cx="0" cy="7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177960" y="4501080"/>
              <a:ext cx="0" cy="770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069960" y="4373280"/>
              <a:ext cx="22140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27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072120" y="430704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278760" y="430704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5" name=""/>
            <p:cNvCxnSpPr>
              <a:stCxn id="1597" idx="3"/>
              <a:endCxn id="1602" idx="3"/>
            </p:cNvCxnSpPr>
            <p:nvPr/>
          </p:nvCxnSpPr>
          <p:spPr>
            <a:xfrm flipH="1">
              <a:off x="6290640" y="4134600"/>
              <a:ext cx="39960" cy="305640"/>
            </a:xfrm>
            <a:prstGeom prst="bentConnector3">
              <a:avLst>
                <a:gd name="adj1" fmla="val -687272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06" name=""/>
            <p:cNvCxnSpPr>
              <a:stCxn id="1597" idx="1"/>
              <a:endCxn id="1602" idx="1"/>
            </p:cNvCxnSpPr>
            <p:nvPr/>
          </p:nvCxnSpPr>
          <p:spPr>
            <a:xfrm flipH="1" flipV="1" rot="10800000">
              <a:off x="6029640" y="4133880"/>
              <a:ext cx="40680" cy="305640"/>
            </a:xfrm>
            <a:prstGeom prst="bentConnector3">
              <a:avLst>
                <a:gd name="adj1" fmla="val -619642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607" name=""/>
            <p:cNvSpPr/>
            <p:nvPr/>
          </p:nvSpPr>
          <p:spPr>
            <a:xfrm>
              <a:off x="6375960" y="4444560"/>
              <a:ext cx="138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5821920" y="4138200"/>
              <a:ext cx="138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9" name=""/>
            <p:cNvCxnSpPr>
              <a:stCxn id="1487" idx="2"/>
            </p:cNvCxnSpPr>
            <p:nvPr/>
          </p:nvCxnSpPr>
          <p:spPr>
            <a:xfrm>
              <a:off x="4761000" y="3928680"/>
              <a:ext cx="1015200" cy="343800"/>
            </a:xfrm>
            <a:prstGeom prst="bentConnector3">
              <a:avLst>
                <a:gd name="adj1" fmla="val 35154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610" name=""/>
            <p:cNvSpPr/>
            <p:nvPr/>
          </p:nvSpPr>
          <p:spPr>
            <a:xfrm>
              <a:off x="122400" y="4032000"/>
              <a:ext cx="78876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Reinye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870560" y="3929040"/>
              <a:ext cx="0" cy="7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875960" y="4122720"/>
              <a:ext cx="0" cy="7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768320" y="3995640"/>
              <a:ext cx="22104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34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770120" y="392904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977120" y="392904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16" name=""/>
            <p:cNvCxnSpPr>
              <a:stCxn id="1491" idx="0"/>
              <a:endCxn id="1613" idx="3"/>
            </p:cNvCxnSpPr>
            <p:nvPr/>
          </p:nvCxnSpPr>
          <p:spPr>
            <a:xfrm flipH="1" flipV="1">
              <a:off x="1988640" y="4061520"/>
              <a:ext cx="162360" cy="539280"/>
            </a:xfrm>
            <a:prstGeom prst="bentConnector3">
              <a:avLst>
                <a:gd name="adj1" fmla="val -85555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17" name=""/>
            <p:cNvCxnSpPr>
              <a:stCxn id="1610" idx="3"/>
              <a:endCxn id="1613" idx="1"/>
            </p:cNvCxnSpPr>
            <p:nvPr/>
          </p:nvCxnSpPr>
          <p:spPr>
            <a:xfrm>
              <a:off x="852120" y="4061520"/>
              <a:ext cx="916200" cy="108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headEnd len="med" type="triangle" w="med"/>
            </a:ln>
          </p:spPr>
        </p:cxnSp>
        <p:cxnSp>
          <p:nvCxnSpPr>
            <p:cNvPr id="1618" name=""/>
            <p:cNvCxnSpPr>
              <a:stCxn id="1619" idx="2"/>
              <a:endCxn id="1487" idx="3"/>
            </p:cNvCxnSpPr>
            <p:nvPr/>
          </p:nvCxnSpPr>
          <p:spPr>
            <a:xfrm flipH="1" rot="16200000">
              <a:off x="3258720" y="3120120"/>
              <a:ext cx="480600" cy="113760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619" name=""/>
            <p:cNvSpPr/>
            <p:nvPr/>
          </p:nvSpPr>
          <p:spPr>
            <a:xfrm>
              <a:off x="2838240" y="3317760"/>
              <a:ext cx="18432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20" name=""/>
            <p:cNvCxnSpPr>
              <a:stCxn id="1619" idx="0"/>
            </p:cNvCxnSpPr>
            <p:nvPr/>
          </p:nvCxnSpPr>
          <p:spPr>
            <a:xfrm flipV="1" rot="16200000">
              <a:off x="2084400" y="2472120"/>
              <a:ext cx="1073160" cy="618120"/>
            </a:xfrm>
            <a:prstGeom prst="bentConnector3">
              <a:avLst>
                <a:gd name="adj1" fmla="val 100402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621" name=""/>
            <p:cNvSpPr/>
            <p:nvPr/>
          </p:nvSpPr>
          <p:spPr>
            <a:xfrm>
              <a:off x="1019880" y="1491120"/>
              <a:ext cx="554040" cy="17460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San Roqu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019880" y="1841040"/>
              <a:ext cx="554040" cy="17460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Picha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23" name=""/>
            <p:cNvCxnSpPr>
              <a:stCxn id="1621" idx="0"/>
              <a:endCxn id="1624" idx="1"/>
            </p:cNvCxnSpPr>
            <p:nvPr/>
          </p:nvCxnSpPr>
          <p:spPr>
            <a:xfrm>
              <a:off x="1573560" y="1578240"/>
              <a:ext cx="179640" cy="25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25" name=""/>
            <p:cNvCxnSpPr>
              <a:stCxn id="1622" idx="0"/>
              <a:endCxn id="1626" idx="1"/>
            </p:cNvCxnSpPr>
            <p:nvPr/>
          </p:nvCxnSpPr>
          <p:spPr>
            <a:xfrm>
              <a:off x="1573560" y="1927800"/>
              <a:ext cx="179640" cy="25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27" name=""/>
            <p:cNvCxnSpPr/>
            <p:nvPr/>
          </p:nvCxnSpPr>
          <p:spPr>
            <a:xfrm flipV="1">
              <a:off x="1827720" y="1577880"/>
              <a:ext cx="484200" cy="25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628" name=""/>
            <p:cNvCxnSpPr/>
            <p:nvPr/>
          </p:nvCxnSpPr>
          <p:spPr>
            <a:xfrm flipV="1">
              <a:off x="1823040" y="1927440"/>
              <a:ext cx="484560" cy="25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624" name=""/>
            <p:cNvSpPr/>
            <p:nvPr/>
          </p:nvSpPr>
          <p:spPr>
            <a:xfrm>
              <a:off x="1753200" y="1501200"/>
              <a:ext cx="300960" cy="15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00"/>
                  </a:solidFill>
                  <a:latin typeface="Tahoma"/>
                </a:rPr>
                <a:t>555-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054160" y="146952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753200" y="146952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753200" y="1850760"/>
              <a:ext cx="300960" cy="15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00"/>
                  </a:solidFill>
                  <a:latin typeface="Tahoma"/>
                </a:rPr>
                <a:t>555-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054160" y="181908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753200" y="181908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35080" y="256572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35080" y="274248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35080" y="199944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35080" y="217440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35080" y="182448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35080" y="163152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52360" y="81396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52360" y="98856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52360" y="42192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52360" y="63900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360" y="25092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52360" y="7632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35080" y="125640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35080" y="143100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47" name=""/>
            <p:cNvCxnSpPr>
              <a:stCxn id="1639" idx="5"/>
              <a:endCxn id="1642" idx="5"/>
            </p:cNvCxnSpPr>
            <p:nvPr/>
          </p:nvCxnSpPr>
          <p:spPr>
            <a:xfrm flipV="1">
              <a:off x="356400" y="703440"/>
              <a:ext cx="1440" cy="175320"/>
            </a:xfrm>
            <a:prstGeom prst="bentConnector3">
              <a:avLst>
                <a:gd name="adj1" fmla="val 180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48" name=""/>
            <p:cNvCxnSpPr>
              <a:stCxn id="1640" idx="5"/>
              <a:endCxn id="1639" idx="5"/>
            </p:cNvCxnSpPr>
            <p:nvPr/>
          </p:nvCxnSpPr>
          <p:spPr>
            <a:xfrm flipV="1">
              <a:off x="356400" y="878400"/>
              <a:ext cx="1440" cy="175320"/>
            </a:xfrm>
            <a:prstGeom prst="bentConnector3">
              <a:avLst>
                <a:gd name="adj1" fmla="val 180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49" name=""/>
            <p:cNvCxnSpPr>
              <a:stCxn id="1490" idx="1"/>
              <a:endCxn id="1639" idx="5"/>
            </p:cNvCxnSpPr>
            <p:nvPr/>
          </p:nvCxnSpPr>
          <p:spPr>
            <a:xfrm rot="10800000">
              <a:off x="355680" y="878400"/>
              <a:ext cx="525600" cy="108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50" name=""/>
            <p:cNvCxnSpPr>
              <a:stCxn id="1641" idx="5"/>
              <a:endCxn id="1643" idx="5"/>
            </p:cNvCxnSpPr>
            <p:nvPr/>
          </p:nvCxnSpPr>
          <p:spPr>
            <a:xfrm flipV="1">
              <a:off x="356400" y="316080"/>
              <a:ext cx="1440" cy="171360"/>
            </a:xfrm>
            <a:prstGeom prst="bentConnector3">
              <a:avLst>
                <a:gd name="adj1" fmla="val 337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51" name=""/>
            <p:cNvCxnSpPr>
              <a:stCxn id="1652" idx="1"/>
              <a:endCxn id="1644" idx="5"/>
            </p:cNvCxnSpPr>
            <p:nvPr/>
          </p:nvCxnSpPr>
          <p:spPr>
            <a:xfrm rot="10800000">
              <a:off x="355680" y="140760"/>
              <a:ext cx="1195200" cy="284400"/>
            </a:xfrm>
            <a:prstGeom prst="bentConnector3">
              <a:avLst>
                <a:gd name="adj1" fmla="val 48538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53" name=""/>
            <p:cNvCxnSpPr>
              <a:stCxn id="1488" idx="2"/>
              <a:endCxn id="1643" idx="5"/>
            </p:cNvCxnSpPr>
            <p:nvPr/>
          </p:nvCxnSpPr>
          <p:spPr>
            <a:xfrm rot="10800000">
              <a:off x="355680" y="315720"/>
              <a:ext cx="1195200" cy="173520"/>
            </a:xfrm>
            <a:prstGeom prst="bentConnector3">
              <a:avLst>
                <a:gd name="adj1" fmla="val 72762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54" name=""/>
            <p:cNvCxnSpPr>
              <a:stCxn id="1636" idx="5"/>
              <a:endCxn id="1637" idx="5"/>
            </p:cNvCxnSpPr>
            <p:nvPr/>
          </p:nvCxnSpPr>
          <p:spPr>
            <a:xfrm flipV="1">
              <a:off x="338400" y="1889280"/>
              <a:ext cx="1800" cy="350280"/>
            </a:xfrm>
            <a:prstGeom prst="bentConnector3">
              <a:avLst>
                <a:gd name="adj1" fmla="val 180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55" name=""/>
            <p:cNvCxnSpPr>
              <a:stCxn id="1636" idx="5"/>
              <a:endCxn id="1635" idx="5"/>
            </p:cNvCxnSpPr>
            <p:nvPr/>
          </p:nvCxnSpPr>
          <p:spPr>
            <a:xfrm flipV="1">
              <a:off x="338400" y="2064240"/>
              <a:ext cx="1800" cy="175320"/>
            </a:xfrm>
            <a:prstGeom prst="bentConnector3">
              <a:avLst>
                <a:gd name="adj1" fmla="val 180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56" name=""/>
            <p:cNvCxnSpPr>
              <a:stCxn id="1493" idx="1"/>
              <a:endCxn id="1636" idx="5"/>
            </p:cNvCxnSpPr>
            <p:nvPr/>
          </p:nvCxnSpPr>
          <p:spPr>
            <a:xfrm flipV="1" rot="10800000">
              <a:off x="338040" y="2060280"/>
              <a:ext cx="3036240" cy="178920"/>
            </a:xfrm>
            <a:prstGeom prst="bentConnector3">
              <a:avLst>
                <a:gd name="adj1" fmla="val 14656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57" name=""/>
            <p:cNvCxnSpPr>
              <a:stCxn id="1658" idx="1"/>
              <a:endCxn id="1638" idx="5"/>
            </p:cNvCxnSpPr>
            <p:nvPr/>
          </p:nvCxnSpPr>
          <p:spPr>
            <a:xfrm rot="10800000">
              <a:off x="338040" y="1696320"/>
              <a:ext cx="311760" cy="108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659" name=""/>
            <p:cNvSpPr/>
            <p:nvPr/>
          </p:nvSpPr>
          <p:spPr>
            <a:xfrm>
              <a:off x="558360" y="819000"/>
              <a:ext cx="18432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0" name=""/>
            <p:cNvCxnSpPr>
              <a:stCxn id="1633" idx="5"/>
              <a:endCxn id="1619" idx="0"/>
            </p:cNvCxnSpPr>
            <p:nvPr/>
          </p:nvCxnSpPr>
          <p:spPr>
            <a:xfrm>
              <a:off x="338760" y="2630880"/>
              <a:ext cx="2592000" cy="68724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61" name=""/>
            <p:cNvCxnSpPr>
              <a:stCxn id="1634" idx="5"/>
              <a:endCxn id="1633" idx="5"/>
            </p:cNvCxnSpPr>
            <p:nvPr/>
          </p:nvCxnSpPr>
          <p:spPr>
            <a:xfrm flipV="1">
              <a:off x="338400" y="2630520"/>
              <a:ext cx="1800" cy="17748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662" name=""/>
            <p:cNvSpPr/>
            <p:nvPr/>
          </p:nvSpPr>
          <p:spPr>
            <a:xfrm>
              <a:off x="5631480" y="5119200"/>
              <a:ext cx="923040" cy="18468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Tahoma"/>
                </a:rPr>
                <a:t>Central P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631480" y="5647320"/>
              <a:ext cx="923040" cy="17460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Tahoma"/>
                </a:rPr>
                <a:t>Refinería P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631480" y="5933520"/>
              <a:ext cx="923040" cy="17460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Tahoma"/>
                </a:rPr>
                <a:t>Metan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76120" y="5852520"/>
              <a:ext cx="623160" cy="40320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Plan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T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301600" y="6090840"/>
              <a:ext cx="143352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Cordiller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[TGS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7" name=""/>
            <p:cNvCxnSpPr>
              <a:stCxn id="1668" idx="3"/>
              <a:endCxn id="1666" idx="1"/>
            </p:cNvCxnSpPr>
            <p:nvPr/>
          </p:nvCxnSpPr>
          <p:spPr>
            <a:xfrm>
              <a:off x="3109320" y="6055200"/>
              <a:ext cx="5288400" cy="172440"/>
            </a:xfrm>
            <a:prstGeom prst="bentConnector3">
              <a:avLst>
                <a:gd name="adj1" fmla="val 13091"/>
              </a:avLst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669" name=""/>
            <p:cNvSpPr/>
            <p:nvPr/>
          </p:nvSpPr>
          <p:spPr>
            <a:xfrm>
              <a:off x="2989800" y="5922360"/>
              <a:ext cx="0" cy="7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995920" y="6116400"/>
              <a:ext cx="0" cy="7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887920" y="5988960"/>
              <a:ext cx="2210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36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890080" y="592236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096720" y="592236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3" name=""/>
            <p:cNvCxnSpPr>
              <a:stCxn id="1665" idx="0"/>
              <a:endCxn id="1668" idx="1"/>
            </p:cNvCxnSpPr>
            <p:nvPr/>
          </p:nvCxnSpPr>
          <p:spPr>
            <a:xfrm>
              <a:off x="2699280" y="6054480"/>
              <a:ext cx="189000" cy="144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674" name=""/>
            <p:cNvSpPr/>
            <p:nvPr/>
          </p:nvSpPr>
          <p:spPr>
            <a:xfrm>
              <a:off x="5319720" y="510840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324760" y="526284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238000" y="5161320"/>
              <a:ext cx="176760" cy="1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500" spc="-1" strike="noStrike">
                  <a:solidFill>
                    <a:srgbClr val="ffff00"/>
                  </a:solidFill>
                  <a:latin typeface="Tahoma"/>
                </a:rPr>
                <a:t>34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240160" y="5108400"/>
              <a:ext cx="0" cy="216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405400" y="5108400"/>
              <a:ext cx="0" cy="216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320800" y="563112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325480" y="5785920"/>
              <a:ext cx="0" cy="61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239080" y="5684040"/>
              <a:ext cx="177120" cy="1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500" spc="-1" strike="noStrike">
                  <a:solidFill>
                    <a:srgbClr val="ffff00"/>
                  </a:solidFill>
                  <a:latin typeface="Tahoma"/>
                </a:rPr>
                <a:t>40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240880" y="5631120"/>
              <a:ext cx="0" cy="216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406480" y="5631120"/>
              <a:ext cx="0" cy="216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320800" y="591336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325480" y="606816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239080" y="5966280"/>
              <a:ext cx="177120" cy="1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500" spc="-1" strike="noStrike">
                  <a:solidFill>
                    <a:srgbClr val="ffff00"/>
                  </a:solidFill>
                  <a:latin typeface="Tahoma"/>
                </a:rPr>
                <a:t>40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240880" y="5913360"/>
              <a:ext cx="0" cy="216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406480" y="5913360"/>
              <a:ext cx="0" cy="216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9" name=""/>
            <p:cNvCxnSpPr>
              <a:stCxn id="1676" idx="3"/>
              <a:endCxn id="1662" idx="0"/>
            </p:cNvCxnSpPr>
            <p:nvPr/>
          </p:nvCxnSpPr>
          <p:spPr>
            <a:xfrm flipV="1">
              <a:off x="5414760" y="5211720"/>
              <a:ext cx="228600" cy="2160"/>
            </a:xfrm>
            <a:prstGeom prst="bentConnector3">
              <a:avLst>
                <a:gd name="adj1" fmla="val 47160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690" name=""/>
            <p:cNvCxnSpPr>
              <a:stCxn id="1681" idx="3"/>
              <a:endCxn id="1663" idx="0"/>
            </p:cNvCxnSpPr>
            <p:nvPr/>
          </p:nvCxnSpPr>
          <p:spPr>
            <a:xfrm flipV="1">
              <a:off x="5416200" y="5734080"/>
              <a:ext cx="227520" cy="2520"/>
            </a:xfrm>
            <a:prstGeom prst="bentConnector3">
              <a:avLst>
                <a:gd name="adj1" fmla="val 47385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691" name=""/>
            <p:cNvCxnSpPr>
              <a:stCxn id="1686" idx="3"/>
              <a:endCxn id="1664" idx="0"/>
            </p:cNvCxnSpPr>
            <p:nvPr/>
          </p:nvCxnSpPr>
          <p:spPr>
            <a:xfrm>
              <a:off x="5416200" y="6019200"/>
              <a:ext cx="216000" cy="2160"/>
            </a:xfrm>
            <a:prstGeom prst="bentConnector3">
              <a:avLst>
                <a:gd name="adj1" fmla="val 49916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692" name=""/>
            <p:cNvSpPr/>
            <p:nvPr/>
          </p:nvSpPr>
          <p:spPr>
            <a:xfrm>
              <a:off x="3003480" y="4905000"/>
              <a:ext cx="0" cy="7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009240" y="5099400"/>
              <a:ext cx="0" cy="7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901600" y="4971600"/>
              <a:ext cx="22104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24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903400" y="4905000"/>
              <a:ext cx="0" cy="27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110400" y="4905000"/>
              <a:ext cx="0" cy="27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7" name=""/>
            <p:cNvCxnSpPr>
              <a:stCxn id="1694" idx="1"/>
              <a:endCxn id="1491" idx="1"/>
            </p:cNvCxnSpPr>
            <p:nvPr/>
          </p:nvCxnSpPr>
          <p:spPr>
            <a:xfrm rot="10800000">
              <a:off x="2150280" y="4600440"/>
              <a:ext cx="750960" cy="43740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98" name=""/>
            <p:cNvCxnSpPr>
              <a:stCxn id="1699" idx="1"/>
              <a:endCxn id="1694" idx="3"/>
            </p:cNvCxnSpPr>
            <p:nvPr/>
          </p:nvCxnSpPr>
          <p:spPr>
            <a:xfrm flipH="1" rot="10800000">
              <a:off x="1585080" y="5037480"/>
              <a:ext cx="1537920" cy="1017720"/>
            </a:xfrm>
            <a:prstGeom prst="bentConnector5">
              <a:avLst>
                <a:gd name="adj1" fmla="val -8990"/>
                <a:gd name="adj2" fmla="val 31387"/>
                <a:gd name="adj3" fmla="val 108990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00" name=""/>
            <p:cNvSpPr/>
            <p:nvPr/>
          </p:nvSpPr>
          <p:spPr>
            <a:xfrm>
              <a:off x="173160" y="5988240"/>
              <a:ext cx="676080" cy="291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Octógo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ffffff"/>
                  </a:solidFill>
                  <a:latin typeface="Tahoma"/>
                </a:rPr>
                <a:t>(Media)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01" name=""/>
            <p:cNvCxnSpPr>
              <a:stCxn id="1699" idx="1"/>
              <a:endCxn id="1700" idx="3"/>
            </p:cNvCxnSpPr>
            <p:nvPr/>
          </p:nvCxnSpPr>
          <p:spPr>
            <a:xfrm rot="10800000">
              <a:off x="791280" y="6051960"/>
              <a:ext cx="794160" cy="3240"/>
            </a:xfrm>
            <a:prstGeom prst="bentConnector3">
              <a:avLst>
                <a:gd name="adj1" fmla="val 49931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02" name=""/>
            <p:cNvSpPr/>
            <p:nvPr/>
          </p:nvSpPr>
          <p:spPr>
            <a:xfrm>
              <a:off x="126360" y="5300280"/>
              <a:ext cx="72936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Portezuel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56240" y="5596200"/>
              <a:ext cx="6091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Cerr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Bande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009440" y="522288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014120" y="537768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927720" y="5275800"/>
              <a:ext cx="176760" cy="1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00"/>
                  </a:solidFill>
                  <a:latin typeface="Tahoma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929520" y="5222880"/>
              <a:ext cx="0" cy="216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094760" y="5222880"/>
              <a:ext cx="0" cy="216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09" name=""/>
            <p:cNvCxnSpPr>
              <a:stCxn id="1702" idx="3"/>
              <a:endCxn id="1706" idx="1"/>
            </p:cNvCxnSpPr>
            <p:nvPr/>
          </p:nvCxnSpPr>
          <p:spPr>
            <a:xfrm flipV="1">
              <a:off x="797760" y="5328360"/>
              <a:ext cx="130320" cy="1440"/>
            </a:xfrm>
            <a:prstGeom prst="bentConnector3">
              <a:avLst>
                <a:gd name="adj1" fmla="val 49584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10" name=""/>
            <p:cNvSpPr/>
            <p:nvPr/>
          </p:nvSpPr>
          <p:spPr>
            <a:xfrm>
              <a:off x="1009440" y="557280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014120" y="572760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927720" y="5625720"/>
              <a:ext cx="176760" cy="1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00"/>
                  </a:solidFill>
                  <a:latin typeface="Tahoma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929520" y="5572800"/>
              <a:ext cx="0" cy="216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094760" y="5572800"/>
              <a:ext cx="0" cy="216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5" name=""/>
            <p:cNvCxnSpPr>
              <a:stCxn id="1703" idx="3"/>
              <a:endCxn id="1712" idx="1"/>
            </p:cNvCxnSpPr>
            <p:nvPr/>
          </p:nvCxnSpPr>
          <p:spPr>
            <a:xfrm>
              <a:off x="713520" y="5676120"/>
              <a:ext cx="214200" cy="2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16" name=""/>
            <p:cNvCxnSpPr>
              <a:stCxn id="1712" idx="3"/>
              <a:endCxn id="1706" idx="3"/>
            </p:cNvCxnSpPr>
            <p:nvPr/>
          </p:nvCxnSpPr>
          <p:spPr>
            <a:xfrm flipV="1">
              <a:off x="1104120" y="5328000"/>
              <a:ext cx="1800" cy="35028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17" name=""/>
            <p:cNvCxnSpPr>
              <a:stCxn id="1699" idx="1"/>
              <a:endCxn id="1712" idx="3"/>
            </p:cNvCxnSpPr>
            <p:nvPr/>
          </p:nvCxnSpPr>
          <p:spPr>
            <a:xfrm rot="10800000">
              <a:off x="1103760" y="5677560"/>
              <a:ext cx="481680" cy="377640"/>
            </a:xfrm>
            <a:prstGeom prst="bentConnector3">
              <a:avLst>
                <a:gd name="adj1" fmla="val 49962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18" name=""/>
            <p:cNvSpPr/>
            <p:nvPr/>
          </p:nvSpPr>
          <p:spPr>
            <a:xfrm>
              <a:off x="173160" y="6269400"/>
              <a:ext cx="676080" cy="291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Octógo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ffffff"/>
                  </a:solidFill>
                  <a:latin typeface="Tahoma"/>
                </a:rPr>
                <a:t>(Baja)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667160" y="594972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2200" y="610452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585440" y="6002640"/>
              <a:ext cx="177120" cy="1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4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587600" y="5949720"/>
              <a:ext cx="0" cy="216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753200" y="5949720"/>
              <a:ext cx="0" cy="216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3" name=""/>
            <p:cNvCxnSpPr>
              <a:stCxn id="1699" idx="3"/>
              <a:endCxn id="1665" idx="1"/>
            </p:cNvCxnSpPr>
            <p:nvPr/>
          </p:nvCxnSpPr>
          <p:spPr>
            <a:xfrm flipV="1">
              <a:off x="1762560" y="6054120"/>
              <a:ext cx="313920" cy="144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24" name=""/>
            <p:cNvSpPr/>
            <p:nvPr/>
          </p:nvSpPr>
          <p:spPr>
            <a:xfrm>
              <a:off x="1667160" y="622836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672200" y="638316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585440" y="6281280"/>
              <a:ext cx="177120" cy="1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9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587600" y="6228360"/>
              <a:ext cx="0" cy="216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753200" y="6228360"/>
              <a:ext cx="0" cy="216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9" name=""/>
            <p:cNvCxnSpPr>
              <a:stCxn id="1726" idx="1"/>
              <a:endCxn id="1718" idx="3"/>
            </p:cNvCxnSpPr>
            <p:nvPr/>
          </p:nvCxnSpPr>
          <p:spPr>
            <a:xfrm rot="10800000">
              <a:off x="791280" y="6332400"/>
              <a:ext cx="794160" cy="1440"/>
            </a:xfrm>
            <a:prstGeom prst="bentConnector3">
              <a:avLst>
                <a:gd name="adj1" fmla="val 49931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30" name=""/>
            <p:cNvCxnSpPr>
              <a:stCxn id="1726" idx="3"/>
              <a:endCxn id="1665" idx="2"/>
            </p:cNvCxnSpPr>
            <p:nvPr/>
          </p:nvCxnSpPr>
          <p:spPr>
            <a:xfrm flipV="1">
              <a:off x="1762560" y="6054120"/>
              <a:ext cx="313920" cy="280080"/>
            </a:xfrm>
            <a:prstGeom prst="bentConnector3">
              <a:avLst>
                <a:gd name="adj1" fmla="val 49942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31" name=""/>
            <p:cNvSpPr/>
            <p:nvPr/>
          </p:nvSpPr>
          <p:spPr>
            <a:xfrm>
              <a:off x="4482720" y="4971600"/>
              <a:ext cx="22140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38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482720" y="5146560"/>
              <a:ext cx="2214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38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482720" y="5321520"/>
              <a:ext cx="2214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38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998160" y="5496120"/>
              <a:ext cx="692280" cy="10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de Arroyito   43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492440" y="5671080"/>
              <a:ext cx="2214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43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492440" y="5846040"/>
              <a:ext cx="2214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43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67760" y="4366800"/>
              <a:ext cx="65484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Casque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38" name=""/>
            <p:cNvCxnSpPr>
              <a:stCxn id="1491" idx="2"/>
              <a:endCxn id="1737" idx="3"/>
            </p:cNvCxnSpPr>
            <p:nvPr/>
          </p:nvCxnSpPr>
          <p:spPr>
            <a:xfrm rot="10800000">
              <a:off x="765360" y="4394520"/>
              <a:ext cx="762480" cy="206280"/>
            </a:xfrm>
            <a:prstGeom prst="bentConnector3">
              <a:avLst>
                <a:gd name="adj1" fmla="val 41662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39" name=""/>
            <p:cNvCxnSpPr>
              <a:stCxn id="1731" idx="1"/>
              <a:endCxn id="1694" idx="3"/>
            </p:cNvCxnSpPr>
            <p:nvPr/>
          </p:nvCxnSpPr>
          <p:spPr>
            <a:xfrm rot="10800000">
              <a:off x="3121920" y="5037480"/>
              <a:ext cx="1360800" cy="108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40" name=""/>
            <p:cNvCxnSpPr>
              <a:stCxn id="1694" idx="3"/>
              <a:endCxn id="1735" idx="1"/>
            </p:cNvCxnSpPr>
            <p:nvPr/>
          </p:nvCxnSpPr>
          <p:spPr>
            <a:xfrm>
              <a:off x="3122640" y="5038200"/>
              <a:ext cx="1370160" cy="699840"/>
            </a:xfrm>
            <a:prstGeom prst="bentConnector3">
              <a:avLst>
                <a:gd name="adj1" fmla="val 49986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41" name=""/>
            <p:cNvCxnSpPr>
              <a:stCxn id="1742" idx="1"/>
              <a:endCxn id="1712" idx="3"/>
            </p:cNvCxnSpPr>
            <p:nvPr/>
          </p:nvCxnSpPr>
          <p:spPr>
            <a:xfrm flipV="1" rot="10800000">
              <a:off x="1103760" y="5429520"/>
              <a:ext cx="2063160" cy="248040"/>
            </a:xfrm>
            <a:prstGeom prst="bentConnector3">
              <a:avLst>
                <a:gd name="adj1" fmla="val 88324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42" name=""/>
            <p:cNvSpPr/>
            <p:nvPr/>
          </p:nvSpPr>
          <p:spPr>
            <a:xfrm>
              <a:off x="3166920" y="5365080"/>
              <a:ext cx="1846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3" name=""/>
            <p:cNvCxnSpPr>
              <a:stCxn id="1732" idx="1"/>
              <a:endCxn id="1742" idx="3"/>
            </p:cNvCxnSpPr>
            <p:nvPr/>
          </p:nvCxnSpPr>
          <p:spPr>
            <a:xfrm flipV="1" rot="10800000">
              <a:off x="3351240" y="5212800"/>
              <a:ext cx="1131480" cy="218160"/>
            </a:xfrm>
            <a:prstGeom prst="bentConnector3">
              <a:avLst>
                <a:gd name="adj1" fmla="val 85200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44" name=""/>
            <p:cNvSpPr/>
            <p:nvPr/>
          </p:nvSpPr>
          <p:spPr>
            <a:xfrm>
              <a:off x="3513240" y="5671080"/>
              <a:ext cx="1846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5" name=""/>
            <p:cNvCxnSpPr>
              <a:stCxn id="1744" idx="2"/>
              <a:endCxn id="1668" idx="3"/>
            </p:cNvCxnSpPr>
            <p:nvPr/>
          </p:nvCxnSpPr>
          <p:spPr>
            <a:xfrm rot="5400000">
              <a:off x="3230280" y="5679720"/>
              <a:ext cx="253440" cy="49716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46" name=""/>
            <p:cNvCxnSpPr>
              <a:stCxn id="1744" idx="0"/>
              <a:endCxn id="1733" idx="1"/>
            </p:cNvCxnSpPr>
            <p:nvPr/>
          </p:nvCxnSpPr>
          <p:spPr>
            <a:xfrm flipH="1" flipV="1" rot="5400000">
              <a:off x="3902400" y="5090760"/>
              <a:ext cx="283680" cy="87768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47" name=""/>
            <p:cNvCxnSpPr>
              <a:stCxn id="1736" idx="1"/>
              <a:endCxn id="1668" idx="3"/>
            </p:cNvCxnSpPr>
            <p:nvPr/>
          </p:nvCxnSpPr>
          <p:spPr>
            <a:xfrm flipV="1" rot="10800000">
              <a:off x="3108600" y="5912280"/>
              <a:ext cx="1383840" cy="143280"/>
            </a:xfrm>
            <a:prstGeom prst="bentConnector3">
              <a:avLst>
                <a:gd name="adj1" fmla="val 49986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48" name=""/>
            <p:cNvCxnSpPr>
              <a:stCxn id="1731" idx="3"/>
              <a:endCxn id="1732" idx="3"/>
            </p:cNvCxnSpPr>
            <p:nvPr/>
          </p:nvCxnSpPr>
          <p:spPr>
            <a:xfrm>
              <a:off x="4704120" y="5037840"/>
              <a:ext cx="1440" cy="17532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49" name=""/>
            <p:cNvCxnSpPr>
              <a:stCxn id="1733" idx="3"/>
              <a:endCxn id="1732" idx="3"/>
            </p:cNvCxnSpPr>
            <p:nvPr/>
          </p:nvCxnSpPr>
          <p:spPr>
            <a:xfrm flipV="1">
              <a:off x="4704120" y="5212440"/>
              <a:ext cx="1440" cy="17532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50" name=""/>
            <p:cNvCxnSpPr>
              <a:stCxn id="1676" idx="1"/>
              <a:endCxn id="1732" idx="3"/>
            </p:cNvCxnSpPr>
            <p:nvPr/>
          </p:nvCxnSpPr>
          <p:spPr>
            <a:xfrm rot="10800000">
              <a:off x="4703400" y="5212440"/>
              <a:ext cx="534240" cy="1440"/>
            </a:xfrm>
            <a:prstGeom prst="bentConnector3">
              <a:avLst>
                <a:gd name="adj1" fmla="val 49898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51" name=""/>
            <p:cNvCxnSpPr>
              <a:stCxn id="1735" idx="3"/>
              <a:endCxn id="1734" idx="3"/>
            </p:cNvCxnSpPr>
            <p:nvPr/>
          </p:nvCxnSpPr>
          <p:spPr>
            <a:xfrm flipH="1" flipV="1">
              <a:off x="4690440" y="5546880"/>
              <a:ext cx="23760" cy="190800"/>
            </a:xfrm>
            <a:prstGeom prst="bentConnector3">
              <a:avLst>
                <a:gd name="adj1" fmla="val -6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52" name=""/>
            <p:cNvCxnSpPr>
              <a:stCxn id="1736" idx="3"/>
              <a:endCxn id="1735" idx="3"/>
            </p:cNvCxnSpPr>
            <p:nvPr/>
          </p:nvCxnSpPr>
          <p:spPr>
            <a:xfrm flipV="1">
              <a:off x="4713840" y="5736960"/>
              <a:ext cx="1440" cy="17532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53" name=""/>
            <p:cNvCxnSpPr>
              <a:stCxn id="1681" idx="1"/>
              <a:endCxn id="1735" idx="3"/>
            </p:cNvCxnSpPr>
            <p:nvPr/>
          </p:nvCxnSpPr>
          <p:spPr>
            <a:xfrm flipV="1" rot="10800000">
              <a:off x="4713120" y="5736240"/>
              <a:ext cx="525600" cy="1440"/>
            </a:xfrm>
            <a:prstGeom prst="bentConnector3">
              <a:avLst>
                <a:gd name="adj1" fmla="val 49965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54" name=""/>
            <p:cNvCxnSpPr>
              <a:stCxn id="1681" idx="1"/>
              <a:endCxn id="1686" idx="1"/>
            </p:cNvCxnSpPr>
            <p:nvPr/>
          </p:nvCxnSpPr>
          <p:spPr>
            <a:xfrm flipH="1" flipV="1" rot="10800000">
              <a:off x="5238000" y="5736240"/>
              <a:ext cx="1800" cy="2829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55" name=""/>
            <p:cNvSpPr/>
            <p:nvPr/>
          </p:nvSpPr>
          <p:spPr>
            <a:xfrm flipH="1">
              <a:off x="2266200" y="5736600"/>
              <a:ext cx="2307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259440" y="5321520"/>
              <a:ext cx="0" cy="2181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110680" y="5430600"/>
              <a:ext cx="2307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928680" y="5387040"/>
              <a:ext cx="2307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928680" y="5212080"/>
              <a:ext cx="2307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928680" y="5037120"/>
              <a:ext cx="2307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928680" y="5911560"/>
              <a:ext cx="2307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928680" y="4600080"/>
              <a:ext cx="2307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63" name=""/>
            <p:cNvCxnSpPr>
              <a:stCxn id="1592" idx="1"/>
              <a:endCxn id="1491" idx="3"/>
            </p:cNvCxnSpPr>
            <p:nvPr/>
          </p:nvCxnSpPr>
          <p:spPr>
            <a:xfrm rot="10800000">
              <a:off x="2150280" y="4600440"/>
              <a:ext cx="5302800" cy="181800"/>
            </a:xfrm>
            <a:prstGeom prst="bentConnector3">
              <a:avLst>
                <a:gd name="adj1" fmla="val 49996"/>
              </a:avLst>
            </a:prstGeom>
            <a:ln w="25560">
              <a:solidFill>
                <a:srgbClr val="ffff00"/>
              </a:solidFill>
              <a:miter/>
            </a:ln>
          </p:spPr>
        </p:cxnSp>
        <p:sp>
          <p:nvSpPr>
            <p:cNvPr id="1764" name=""/>
            <p:cNvSpPr/>
            <p:nvPr/>
          </p:nvSpPr>
          <p:spPr>
            <a:xfrm>
              <a:off x="6653160" y="1589760"/>
              <a:ext cx="18432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65" name=""/>
            <p:cNvCxnSpPr>
              <a:stCxn id="1584" idx="1"/>
              <a:endCxn id="1503" idx="3"/>
            </p:cNvCxnSpPr>
            <p:nvPr/>
          </p:nvCxnSpPr>
          <p:spPr>
            <a:xfrm flipV="1" rot="10800000">
              <a:off x="5442120" y="977040"/>
              <a:ext cx="2021760" cy="387360"/>
            </a:xfrm>
            <a:prstGeom prst="bentConnector3">
              <a:avLst>
                <a:gd name="adj1" fmla="val 69866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587" name=""/>
            <p:cNvSpPr/>
            <p:nvPr/>
          </p:nvSpPr>
          <p:spPr>
            <a:xfrm>
              <a:off x="6976080" y="2742480"/>
              <a:ext cx="1846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7119360" y="3308040"/>
              <a:ext cx="741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6934680" y="3312720"/>
              <a:ext cx="73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79320" y="3223440"/>
              <a:ext cx="1767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6935040" y="3222360"/>
              <a:ext cx="258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6935040" y="3380040"/>
              <a:ext cx="258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0" name=""/>
            <p:cNvCxnSpPr>
              <a:stCxn id="1530" idx="1"/>
              <a:endCxn id="1586" idx="2"/>
            </p:cNvCxnSpPr>
            <p:nvPr/>
          </p:nvCxnSpPr>
          <p:spPr>
            <a:xfrm rot="10800000">
              <a:off x="7066800" y="3397320"/>
              <a:ext cx="370800" cy="53136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71" name=""/>
            <p:cNvSpPr/>
            <p:nvPr/>
          </p:nvSpPr>
          <p:spPr>
            <a:xfrm flipH="1">
              <a:off x="6701040" y="3308040"/>
              <a:ext cx="741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6516360" y="3312720"/>
              <a:ext cx="741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560640" y="3223440"/>
              <a:ext cx="17712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6516000" y="3222360"/>
              <a:ext cx="2588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16000" y="3380040"/>
              <a:ext cx="2588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554880" y="2742480"/>
              <a:ext cx="1846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7" name=""/>
            <p:cNvCxnSpPr>
              <a:stCxn id="1773" idx="0"/>
              <a:endCxn id="1776" idx="2"/>
            </p:cNvCxnSpPr>
            <p:nvPr/>
          </p:nvCxnSpPr>
          <p:spPr>
            <a:xfrm flipV="1" rot="16200000">
              <a:off x="6472800" y="3046680"/>
              <a:ext cx="350280" cy="2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78" name=""/>
            <p:cNvSpPr/>
            <p:nvPr/>
          </p:nvSpPr>
          <p:spPr>
            <a:xfrm>
              <a:off x="6554880" y="1999440"/>
              <a:ext cx="1846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9" name=""/>
            <p:cNvCxnSpPr>
              <a:stCxn id="1778" idx="2"/>
              <a:endCxn id="1776" idx="0"/>
            </p:cNvCxnSpPr>
            <p:nvPr/>
          </p:nvCxnSpPr>
          <p:spPr>
            <a:xfrm flipV="1" rot="10800000">
              <a:off x="6646680" y="2130120"/>
              <a:ext cx="1080" cy="61236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80" name=""/>
            <p:cNvSpPr/>
            <p:nvPr/>
          </p:nvSpPr>
          <p:spPr>
            <a:xfrm>
              <a:off x="6052680" y="3485520"/>
              <a:ext cx="1846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81" name=""/>
            <p:cNvCxnSpPr>
              <a:stCxn id="1780" idx="3"/>
              <a:endCxn id="1773" idx="2"/>
            </p:cNvCxnSpPr>
            <p:nvPr/>
          </p:nvCxnSpPr>
          <p:spPr>
            <a:xfrm flipV="1">
              <a:off x="6237360" y="3397680"/>
              <a:ext cx="412200" cy="15336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82" name=""/>
            <p:cNvCxnSpPr>
              <a:stCxn id="1780" idx="1"/>
              <a:endCxn id="1487" idx="4"/>
            </p:cNvCxnSpPr>
            <p:nvPr/>
          </p:nvCxnSpPr>
          <p:spPr>
            <a:xfrm flipV="1" rot="10800000">
              <a:off x="4760280" y="3549960"/>
              <a:ext cx="1292400" cy="37836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83" name=""/>
            <p:cNvSpPr/>
            <p:nvPr/>
          </p:nvSpPr>
          <p:spPr>
            <a:xfrm rot="16200000">
              <a:off x="5191920" y="3835080"/>
              <a:ext cx="174600" cy="184680"/>
            </a:xfrm>
            <a:custGeom>
              <a:avLst/>
              <a:gdLst>
                <a:gd name="textAreaLeft" fmla="*/ 38160 w 174600"/>
                <a:gd name="textAreaRight" fmla="*/ 136440 w 174600"/>
                <a:gd name="textAreaTop" fmla="*/ 40680 h 184680"/>
                <a:gd name="textAreaBottom" fmla="*/ 144000 h 18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068600" y="3485520"/>
              <a:ext cx="0" cy="2181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099120" y="974160"/>
              <a:ext cx="2307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rot="16200000">
              <a:off x="4857120" y="3835080"/>
              <a:ext cx="174600" cy="184320"/>
            </a:xfrm>
            <a:custGeom>
              <a:avLst/>
              <a:gdLst>
                <a:gd name="textAreaLeft" fmla="*/ 38160 w 174600"/>
                <a:gd name="textAreaRight" fmla="*/ 136440 w 174600"/>
                <a:gd name="textAreaTop" fmla="*/ 40320 h 184320"/>
                <a:gd name="textAreaBottom" fmla="*/ 144000 h 1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2832120" y="3387240"/>
              <a:ext cx="41544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28520" y="4573800"/>
              <a:ext cx="66852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Triángul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8440" y="4759560"/>
              <a:ext cx="93348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Aguada Tole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0" name=""/>
            <p:cNvCxnSpPr>
              <a:stCxn id="1491" idx="4"/>
              <a:endCxn id="1788" idx="3"/>
            </p:cNvCxnSpPr>
            <p:nvPr/>
          </p:nvCxnSpPr>
          <p:spPr>
            <a:xfrm flipV="1" rot="10800000">
              <a:off x="739440" y="4600800"/>
              <a:ext cx="788400" cy="2160"/>
            </a:xfrm>
            <a:prstGeom prst="bentConnector3">
              <a:avLst>
                <a:gd name="adj1" fmla="val 49931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91" name=""/>
            <p:cNvCxnSpPr>
              <a:stCxn id="1491" idx="5"/>
              <a:endCxn id="1789" idx="3"/>
            </p:cNvCxnSpPr>
            <p:nvPr/>
          </p:nvCxnSpPr>
          <p:spPr>
            <a:xfrm flipV="1" rot="10800000">
              <a:off x="892080" y="4600800"/>
              <a:ext cx="635400" cy="1879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00"/>
              </a:solidFill>
              <a:miter/>
              <a:headEnd len="med" type="triangle" w="med"/>
            </a:ln>
          </p:spPr>
        </p:cxnSp>
        <p:sp>
          <p:nvSpPr>
            <p:cNvPr id="1792" name=""/>
            <p:cNvSpPr/>
            <p:nvPr/>
          </p:nvSpPr>
          <p:spPr>
            <a:xfrm rot="16200000">
              <a:off x="2502360" y="1966680"/>
              <a:ext cx="174600" cy="184320"/>
            </a:xfrm>
            <a:custGeom>
              <a:avLst/>
              <a:gdLst>
                <a:gd name="textAreaLeft" fmla="*/ 38160 w 174600"/>
                <a:gd name="textAreaRight" fmla="*/ 136440 w 174600"/>
                <a:gd name="textAreaTop" fmla="*/ 40320 h 184320"/>
                <a:gd name="textAreaBottom" fmla="*/ 144000 h 1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3" name=""/>
            <p:cNvCxnSpPr>
              <a:stCxn id="1645" idx="5"/>
              <a:endCxn id="1659" idx="2"/>
            </p:cNvCxnSpPr>
            <p:nvPr/>
          </p:nvCxnSpPr>
          <p:spPr>
            <a:xfrm flipV="1">
              <a:off x="338400" y="949680"/>
              <a:ext cx="311760" cy="37188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94" name=""/>
            <p:cNvSpPr/>
            <p:nvPr/>
          </p:nvSpPr>
          <p:spPr>
            <a:xfrm rot="16200000">
              <a:off x="400320" y="2761920"/>
              <a:ext cx="131040" cy="92160"/>
            </a:xfrm>
            <a:custGeom>
              <a:avLst/>
              <a:gdLst>
                <a:gd name="textAreaLeft" fmla="*/ 28800 w 131040"/>
                <a:gd name="textAreaRight" fmla="*/ 102240 w 131040"/>
                <a:gd name="textAreaTop" fmla="*/ 20160 h 92160"/>
                <a:gd name="textAreaBottom" fmla="*/ 72000 h 9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550880" y="381960"/>
              <a:ext cx="92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5" name=""/>
            <p:cNvCxnSpPr>
              <a:stCxn id="1796" idx="1"/>
              <a:endCxn id="1659" idx="0"/>
            </p:cNvCxnSpPr>
            <p:nvPr/>
          </p:nvCxnSpPr>
          <p:spPr>
            <a:xfrm flipV="1" rot="10800000">
              <a:off x="649800" y="547560"/>
              <a:ext cx="894960" cy="27108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96" name=""/>
            <p:cNvSpPr/>
            <p:nvPr/>
          </p:nvSpPr>
          <p:spPr>
            <a:xfrm>
              <a:off x="1545120" y="496800"/>
              <a:ext cx="7488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7" name=""/>
            <p:cNvCxnSpPr>
              <a:stCxn id="1798" idx="0"/>
              <a:endCxn id="1799" idx="2"/>
            </p:cNvCxnSpPr>
            <p:nvPr/>
          </p:nvCxnSpPr>
          <p:spPr>
            <a:xfrm flipV="1" rot="16200000">
              <a:off x="255600" y="1716120"/>
              <a:ext cx="669960" cy="300600"/>
            </a:xfrm>
            <a:prstGeom prst="bentConnector3">
              <a:avLst>
                <a:gd name="adj1" fmla="val 91397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98" name=""/>
            <p:cNvSpPr/>
            <p:nvPr/>
          </p:nvSpPr>
          <p:spPr>
            <a:xfrm>
              <a:off x="648720" y="2201400"/>
              <a:ext cx="18468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0" name=""/>
            <p:cNvCxnSpPr>
              <a:stCxn id="1619" idx="0"/>
              <a:endCxn id="1798" idx="2"/>
            </p:cNvCxnSpPr>
            <p:nvPr/>
          </p:nvCxnSpPr>
          <p:spPr>
            <a:xfrm flipV="1" rot="16200000">
              <a:off x="1320840" y="1708200"/>
              <a:ext cx="1029600" cy="2189880"/>
            </a:xfrm>
            <a:prstGeom prst="bentConnector3">
              <a:avLst>
                <a:gd name="adj1" fmla="val 78733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658" name=""/>
            <p:cNvSpPr/>
            <p:nvPr/>
          </p:nvSpPr>
          <p:spPr>
            <a:xfrm>
              <a:off x="650520" y="1636920"/>
              <a:ext cx="132840" cy="1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1" name=""/>
            <p:cNvCxnSpPr>
              <a:stCxn id="1658" idx="3"/>
              <a:endCxn id="1802" idx="2"/>
            </p:cNvCxnSpPr>
            <p:nvPr/>
          </p:nvCxnSpPr>
          <p:spPr>
            <a:xfrm flipV="1">
              <a:off x="783360" y="950040"/>
              <a:ext cx="40680" cy="74736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802" name=""/>
            <p:cNvSpPr/>
            <p:nvPr/>
          </p:nvSpPr>
          <p:spPr>
            <a:xfrm>
              <a:off x="731160" y="819000"/>
              <a:ext cx="1846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3" name=""/>
            <p:cNvCxnSpPr>
              <a:stCxn id="1796" idx="2"/>
              <a:endCxn id="1802" idx="0"/>
            </p:cNvCxnSpPr>
            <p:nvPr/>
          </p:nvCxnSpPr>
          <p:spPr>
            <a:xfrm rot="5400000">
              <a:off x="1093320" y="330480"/>
              <a:ext cx="218880" cy="759600"/>
            </a:xfrm>
            <a:prstGeom prst="bentConnector3">
              <a:avLst>
                <a:gd name="adj1" fmla="val 3822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804" name=""/>
            <p:cNvCxnSpPr>
              <a:stCxn id="1658" idx="3"/>
              <a:endCxn id="1805" idx="0"/>
            </p:cNvCxnSpPr>
            <p:nvPr/>
          </p:nvCxnSpPr>
          <p:spPr>
            <a:xfrm>
              <a:off x="783360" y="1697040"/>
              <a:ext cx="40680" cy="51048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806" name=""/>
            <p:cNvCxnSpPr/>
            <p:nvPr/>
          </p:nvCxnSpPr>
          <p:spPr>
            <a:xfrm>
              <a:off x="2682000" y="731520"/>
              <a:ext cx="647280" cy="1080"/>
            </a:xfrm>
            <a:prstGeom prst="bentConnector2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</p:cxnSp>
        <p:grpSp>
          <p:nvGrpSpPr>
            <p:cNvPr id="1807" name=""/>
            <p:cNvGrpSpPr/>
            <p:nvPr/>
          </p:nvGrpSpPr>
          <p:grpSpPr>
            <a:xfrm>
              <a:off x="2843640" y="627840"/>
              <a:ext cx="311400" cy="229320"/>
              <a:chOff x="2843640" y="627840"/>
              <a:chExt cx="311400" cy="229320"/>
            </a:xfrm>
          </p:grpSpPr>
          <p:sp>
            <p:nvSpPr>
              <p:cNvPr id="1808" name=""/>
              <p:cNvSpPr/>
              <p:nvPr/>
            </p:nvSpPr>
            <p:spPr>
              <a:xfrm>
                <a:off x="2843640" y="660240"/>
                <a:ext cx="311400" cy="1638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ffff00"/>
                    </a:solidFill>
                    <a:latin typeface="Tahoma"/>
                  </a:rPr>
                  <a:t>8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155040" y="627840"/>
                <a:ext cx="0" cy="22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843640" y="627840"/>
                <a:ext cx="0" cy="22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11" name=""/>
            <p:cNvCxnSpPr/>
            <p:nvPr/>
          </p:nvCxnSpPr>
          <p:spPr>
            <a:xfrm flipV="1" rot="10800000">
              <a:off x="3327840" y="480240"/>
              <a:ext cx="1080" cy="262800"/>
            </a:xfrm>
            <a:prstGeom prst="bentConnector2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812" name=""/>
            <p:cNvCxnSpPr/>
            <p:nvPr/>
          </p:nvCxnSpPr>
          <p:spPr>
            <a:xfrm flipV="1" rot="10800000">
              <a:off x="2664000" y="480240"/>
              <a:ext cx="1080" cy="262800"/>
            </a:xfrm>
            <a:prstGeom prst="bentConnector2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</p:cxnSp>
        <p:sp>
          <p:nvSpPr>
            <p:cNvPr id="1813" name=""/>
            <p:cNvSpPr/>
            <p:nvPr/>
          </p:nvSpPr>
          <p:spPr>
            <a:xfrm>
              <a:off x="7539840" y="3795840"/>
              <a:ext cx="0" cy="7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545600" y="3990240"/>
              <a:ext cx="0" cy="770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437960" y="3862440"/>
              <a:ext cx="22104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00"/>
                  </a:solidFill>
                  <a:latin typeface="Tahoma"/>
                </a:rPr>
                <a:t>1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440120" y="379584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646760" y="379584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rot="16200000">
              <a:off x="400320" y="2583360"/>
              <a:ext cx="131040" cy="92160"/>
            </a:xfrm>
            <a:custGeom>
              <a:avLst/>
              <a:gdLst>
                <a:gd name="textAreaLeft" fmla="*/ 28800 w 131040"/>
                <a:gd name="textAreaRight" fmla="*/ 102240 w 131040"/>
                <a:gd name="textAreaTop" fmla="*/ 20160 h 92160"/>
                <a:gd name="textAreaBottom" fmla="*/ 72000 h 9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31160" y="2206800"/>
              <a:ext cx="18468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8" name=""/>
            <p:cNvCxnSpPr>
              <a:stCxn id="1792" idx="1"/>
              <a:endCxn id="1805" idx="2"/>
            </p:cNvCxnSpPr>
            <p:nvPr/>
          </p:nvCxnSpPr>
          <p:spPr>
            <a:xfrm flipH="1">
              <a:off x="822960" y="2058120"/>
              <a:ext cx="1857960" cy="236520"/>
            </a:xfrm>
            <a:prstGeom prst="bentConnector4">
              <a:avLst>
                <a:gd name="adj1" fmla="val -13352"/>
                <a:gd name="adj2" fmla="val 132317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819" name=""/>
            <p:cNvCxnSpPr>
              <a:stCxn id="1646" idx="5"/>
              <a:endCxn id="1645" idx="5"/>
            </p:cNvCxnSpPr>
            <p:nvPr/>
          </p:nvCxnSpPr>
          <p:spPr>
            <a:xfrm flipV="1">
              <a:off x="338400" y="1321200"/>
              <a:ext cx="1800" cy="175320"/>
            </a:xfrm>
            <a:prstGeom prst="bentConnector3">
              <a:avLst>
                <a:gd name="adj1" fmla="val 326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820" name=""/>
            <p:cNvSpPr/>
            <p:nvPr/>
          </p:nvSpPr>
          <p:spPr>
            <a:xfrm rot="16200000">
              <a:off x="373320" y="220212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rot="16200000">
              <a:off x="375480" y="201636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rot="16200000">
              <a:off x="375480" y="184140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rot="16200000">
              <a:off x="383040" y="165564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rot="16200000">
              <a:off x="383040" y="144792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rot="16200000">
              <a:off x="387000" y="127332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rot="16200000">
              <a:off x="390960" y="101088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rot="16200000">
              <a:off x="394560" y="66132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rot="16200000">
              <a:off x="394560" y="83592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rot="16200000">
              <a:off x="402480" y="44280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rot="16200000">
              <a:off x="402480" y="26784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rot="16200000">
              <a:off x="402480" y="9324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852440" y="3879000"/>
              <a:ext cx="184320" cy="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600" spc="-1" strike="noStrike">
                  <a:solidFill>
                    <a:srgbClr val="ffffff"/>
                  </a:solidFill>
                  <a:latin typeface="Tahoma"/>
                </a:rPr>
                <a:t>TB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175360" y="3879000"/>
              <a:ext cx="184680" cy="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600" spc="-1" strike="noStrike">
                  <a:solidFill>
                    <a:srgbClr val="ffffff"/>
                  </a:solidFill>
                  <a:latin typeface="Tahoma"/>
                </a:rPr>
                <a:t>T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497680" y="1868400"/>
              <a:ext cx="184320" cy="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ffffff"/>
                  </a:solidFill>
                  <a:latin typeface="Tahoma"/>
                </a:rPr>
                <a:t>Booste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562160" y="837360"/>
              <a:ext cx="0" cy="7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567920" y="1031400"/>
              <a:ext cx="0" cy="7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463880" y="911160"/>
              <a:ext cx="22104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00"/>
                  </a:solidFill>
                  <a:latin typeface="Tahoma"/>
                </a:rPr>
                <a:t>8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462080" y="83736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68720" y="83736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8" name=""/>
            <p:cNvCxnSpPr>
              <a:stCxn id="1584" idx="1"/>
              <a:endCxn id="1778" idx="0"/>
            </p:cNvCxnSpPr>
            <p:nvPr/>
          </p:nvCxnSpPr>
          <p:spPr>
            <a:xfrm flipV="1" rot="10800000">
              <a:off x="6646680" y="977040"/>
              <a:ext cx="817200" cy="102240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839" name=""/>
            <p:cNvCxnSpPr/>
            <p:nvPr/>
          </p:nvCxnSpPr>
          <p:spPr>
            <a:xfrm rot="10800000">
              <a:off x="755640" y="6521760"/>
              <a:ext cx="567000" cy="1440"/>
            </a:xfrm>
            <a:prstGeom prst="bentConnector3">
              <a:avLst>
                <a:gd name="adj1" fmla="val 49872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840" name=""/>
            <p:cNvCxnSpPr/>
            <p:nvPr/>
          </p:nvCxnSpPr>
          <p:spPr>
            <a:xfrm rot="5400000">
              <a:off x="1228680" y="6428160"/>
              <a:ext cx="189000" cy="1800"/>
            </a:xfrm>
            <a:prstGeom prst="bentConnector3">
              <a:avLst>
                <a:gd name="adj1" fmla="val 49618"/>
              </a:avLst>
            </a:prstGeom>
            <a:ln w="9360">
              <a:solidFill>
                <a:srgbClr val="ffff00"/>
              </a:solidFill>
              <a:miter/>
              <a:headEnd len="med" type="arrow" w="med"/>
            </a:ln>
          </p:spPr>
        </p:cxnSp>
        <p:sp>
          <p:nvSpPr>
            <p:cNvPr id="1841" name=""/>
            <p:cNvSpPr/>
            <p:nvPr/>
          </p:nvSpPr>
          <p:spPr>
            <a:xfrm>
              <a:off x="36000" y="6468120"/>
              <a:ext cx="70056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Pluspetr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2" name="" descr=""/>
          <p:cNvPicPr/>
          <p:nvPr/>
        </p:nvPicPr>
        <p:blipFill>
          <a:blip r:embed="rId1"/>
          <a:srcRect l="29582" t="0" r="11808" b="17170"/>
          <a:stretch/>
        </p:blipFill>
        <p:spPr>
          <a:xfrm>
            <a:off x="660240" y="971640"/>
            <a:ext cx="8310600" cy="5772240"/>
          </a:xfrm>
          <a:prstGeom prst="rect">
            <a:avLst/>
          </a:prstGeom>
          <a:ln w="0">
            <a:noFill/>
          </a:ln>
        </p:spPr>
      </p:pic>
      <p:sp>
        <p:nvSpPr>
          <p:cNvPr id="1843" name=""/>
          <p:cNvSpPr/>
          <p:nvPr/>
        </p:nvSpPr>
        <p:spPr>
          <a:xfrm>
            <a:off x="7000920" y="4965840"/>
            <a:ext cx="147600" cy="68040"/>
          </a:xfrm>
          <a:custGeom>
            <a:avLst/>
            <a:gdLst/>
            <a:ahLst/>
            <a:rect l="l" t="t" r="r" b="b"/>
            <a:pathLst>
              <a:path w="60" h="32">
                <a:moveTo>
                  <a:pt x="0" y="32"/>
                </a:moveTo>
                <a:lnTo>
                  <a:pt x="60" y="0"/>
                </a:lnTo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2320" bIns="223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7097760" y="4950000"/>
            <a:ext cx="65160" cy="56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764240" y="284328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375080" y="2733840"/>
            <a:ext cx="189000" cy="11880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324680" y="267336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120760" y="3089160"/>
            <a:ext cx="65160" cy="572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6411960" y="4165560"/>
            <a:ext cx="146160" cy="142920"/>
          </a:xfrm>
          <a:custGeom>
            <a:avLst/>
            <a:gdLst/>
            <a:ahLst/>
            <a:rect l="l" t="t" r="r" b="b"/>
            <a:pathLst>
              <a:path w="60" h="68">
                <a:moveTo>
                  <a:pt x="0" y="68"/>
                </a:moveTo>
                <a:lnTo>
                  <a:pt x="6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6942240" y="4863960"/>
            <a:ext cx="109440" cy="152640"/>
          </a:xfrm>
          <a:custGeom>
            <a:avLst/>
            <a:gdLst/>
            <a:ahLst/>
            <a:rect l="l" t="t" r="r" b="b"/>
            <a:pathLst>
              <a:path w="44" h="72">
                <a:moveTo>
                  <a:pt x="0" y="72"/>
                </a:moveTo>
                <a:lnTo>
                  <a:pt x="44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351480" y="3035160"/>
            <a:ext cx="462240" cy="1230480"/>
          </a:xfrm>
          <a:custGeom>
            <a:avLst/>
            <a:gdLst/>
            <a:ahLst/>
            <a:rect l="l" t="t" r="r" b="b"/>
            <a:pathLst>
              <a:path w="188" h="584">
                <a:moveTo>
                  <a:pt x="104" y="0"/>
                </a:moveTo>
                <a:lnTo>
                  <a:pt x="188" y="168"/>
                </a:lnTo>
                <a:lnTo>
                  <a:pt x="112" y="280"/>
                </a:lnTo>
                <a:lnTo>
                  <a:pt x="92" y="424"/>
                </a:lnTo>
                <a:lnTo>
                  <a:pt x="0" y="584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340160" y="3149640"/>
            <a:ext cx="3390840" cy="2633760"/>
          </a:xfrm>
          <a:custGeom>
            <a:avLst/>
            <a:gdLst/>
            <a:ahLst/>
            <a:rect l="l" t="t" r="r" b="b"/>
            <a:pathLst>
              <a:path w="1971" h="1659">
                <a:moveTo>
                  <a:pt x="0" y="0"/>
                </a:moveTo>
                <a:lnTo>
                  <a:pt x="724" y="368"/>
                </a:lnTo>
                <a:lnTo>
                  <a:pt x="1169" y="709"/>
                </a:lnTo>
                <a:lnTo>
                  <a:pt x="1352" y="884"/>
                </a:lnTo>
                <a:lnTo>
                  <a:pt x="1690" y="1181"/>
                </a:lnTo>
                <a:lnTo>
                  <a:pt x="1931" y="1457"/>
                </a:lnTo>
                <a:lnTo>
                  <a:pt x="1971" y="1659"/>
                </a:lnTo>
                <a:lnTo>
                  <a:pt x="1925" y="1659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575760" y="368136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4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200200" y="33638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77800" y="6095880"/>
            <a:ext cx="1733760" cy="45900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Emb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erros Colo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155600" y="2133720"/>
            <a:ext cx="114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unidad Paynem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842240" y="5181480"/>
            <a:ext cx="133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unidad Kaxipayi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1155600" y="2362320"/>
            <a:ext cx="1568520" cy="2286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0" y="144"/>
                </a:moveTo>
                <a:lnTo>
                  <a:pt x="672" y="144"/>
                </a:lnTo>
                <a:lnTo>
                  <a:pt x="91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 flipH="1">
            <a:off x="7759080" y="5334120"/>
            <a:ext cx="1485720" cy="30456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0" y="144"/>
                </a:moveTo>
                <a:lnTo>
                  <a:pt x="672" y="144"/>
                </a:lnTo>
                <a:lnTo>
                  <a:pt x="91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622760" y="2133720"/>
            <a:ext cx="1932120" cy="860400"/>
          </a:xfrm>
          <a:custGeom>
            <a:avLst/>
            <a:gdLst/>
            <a:ahLst/>
            <a:rect l="l" t="t" r="r" b="b"/>
            <a:pathLst>
              <a:path w="784" h="408">
                <a:moveTo>
                  <a:pt x="0" y="0"/>
                </a:moveTo>
                <a:lnTo>
                  <a:pt x="68" y="48"/>
                </a:lnTo>
                <a:lnTo>
                  <a:pt x="344" y="144"/>
                </a:lnTo>
                <a:lnTo>
                  <a:pt x="572" y="296"/>
                </a:lnTo>
                <a:lnTo>
                  <a:pt x="784" y="408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097240" y="20304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93680" y="179280"/>
            <a:ext cx="7099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Black"/>
              </a:rPr>
              <a:t>Gasoductos de Cap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3" name=""/>
          <p:cNvGrpSpPr/>
          <p:nvPr/>
        </p:nvGrpSpPr>
        <p:grpSpPr>
          <a:xfrm>
            <a:off x="6934320" y="2819520"/>
            <a:ext cx="3075480" cy="1752480"/>
            <a:chOff x="6934320" y="2819520"/>
            <a:chExt cx="3075480" cy="1752480"/>
          </a:xfrm>
        </p:grpSpPr>
        <p:sp>
          <p:nvSpPr>
            <p:cNvPr id="1864" name=""/>
            <p:cNvSpPr/>
            <p:nvPr/>
          </p:nvSpPr>
          <p:spPr>
            <a:xfrm>
              <a:off x="7429320" y="4191120"/>
              <a:ext cx="577800" cy="380880"/>
            </a:xfrm>
            <a:prstGeom prst="ellipse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886160" y="2819520"/>
              <a:ext cx="183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asod. F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uera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Serv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icio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8405280" y="3657600"/>
              <a:ext cx="160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(Corr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osión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ntern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>
              <a:off x="7923960" y="3809880"/>
              <a:ext cx="659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6934320" y="3048120"/>
              <a:ext cx="1237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9" name=""/>
          <p:cNvGrpSpPr/>
          <p:nvPr/>
        </p:nvGrpSpPr>
        <p:grpSpPr>
          <a:xfrm>
            <a:off x="2663280" y="4115520"/>
            <a:ext cx="5195160" cy="1894680"/>
            <a:chOff x="2663280" y="4115520"/>
            <a:chExt cx="5195160" cy="1894680"/>
          </a:xfrm>
        </p:grpSpPr>
        <p:sp>
          <p:nvSpPr>
            <p:cNvPr id="1870" name=""/>
            <p:cNvSpPr/>
            <p:nvPr/>
          </p:nvSpPr>
          <p:spPr>
            <a:xfrm rot="2391600">
              <a:off x="6933960" y="5029200"/>
              <a:ext cx="907920" cy="38088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663280" y="5638680"/>
              <a:ext cx="22687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ambio de tram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bido a corr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osión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Int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wer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rot="2142000">
              <a:off x="6017040" y="4264200"/>
              <a:ext cx="558720" cy="15228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rot="4468800">
              <a:off x="6549840" y="4402800"/>
              <a:ext cx="455760" cy="18396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4457160" y="4343400"/>
              <a:ext cx="16509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4622040" y="4647960"/>
              <a:ext cx="20638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V="1">
              <a:off x="4622040" y="5257440"/>
              <a:ext cx="2642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7" name=""/>
          <p:cNvGrpSpPr/>
          <p:nvPr/>
        </p:nvGrpSpPr>
        <p:grpSpPr>
          <a:xfrm>
            <a:off x="1585800" y="1216080"/>
            <a:ext cx="6378840" cy="5132160"/>
            <a:chOff x="1585800" y="1216080"/>
            <a:chExt cx="6378840" cy="5132160"/>
          </a:xfrm>
        </p:grpSpPr>
        <p:sp>
          <p:nvSpPr>
            <p:cNvPr id="1878" name=""/>
            <p:cNvSpPr/>
            <p:nvPr/>
          </p:nvSpPr>
          <p:spPr>
            <a:xfrm>
              <a:off x="3396240" y="1216080"/>
              <a:ext cx="1122840" cy="909720"/>
            </a:xfrm>
            <a:custGeom>
              <a:avLst/>
              <a:gdLst/>
              <a:ahLst/>
              <a:rect l="l" t="t" r="r" b="b"/>
              <a:pathLst>
                <a:path w="456" h="432">
                  <a:moveTo>
                    <a:pt x="8" y="0"/>
                  </a:moveTo>
                  <a:lnTo>
                    <a:pt x="0" y="80"/>
                  </a:lnTo>
                  <a:lnTo>
                    <a:pt x="8" y="88"/>
                  </a:lnTo>
                  <a:lnTo>
                    <a:pt x="16" y="104"/>
                  </a:lnTo>
                  <a:lnTo>
                    <a:pt x="56" y="168"/>
                  </a:lnTo>
                  <a:lnTo>
                    <a:pt x="120" y="232"/>
                  </a:lnTo>
                  <a:lnTo>
                    <a:pt x="272" y="296"/>
                  </a:lnTo>
                  <a:lnTo>
                    <a:pt x="368" y="368"/>
                  </a:lnTo>
                  <a:lnTo>
                    <a:pt x="456" y="43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146120" y="2825640"/>
              <a:ext cx="269640" cy="58680"/>
            </a:xfrm>
            <a:custGeom>
              <a:avLst/>
              <a:gdLst/>
              <a:ahLst/>
              <a:rect l="l" t="t" r="r" b="b"/>
              <a:pathLst>
                <a:path w="110" h="28">
                  <a:moveTo>
                    <a:pt x="0" y="15"/>
                  </a:moveTo>
                  <a:lnTo>
                    <a:pt x="33" y="28"/>
                  </a:lnTo>
                  <a:lnTo>
                    <a:pt x="65" y="18"/>
                  </a:lnTo>
                  <a:lnTo>
                    <a:pt x="11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2960" bIns="12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106520" y="3124080"/>
              <a:ext cx="144360" cy="12960"/>
            </a:xfrm>
            <a:custGeom>
              <a:avLst/>
              <a:gdLst/>
              <a:ahLst/>
              <a:rect l="l" t="t" r="r" b="b"/>
              <a:pathLst>
                <a:path w="84" h="8">
                  <a:moveTo>
                    <a:pt x="84" y="4"/>
                  </a:moveTo>
                  <a:lnTo>
                    <a:pt x="52" y="0"/>
                  </a:lnTo>
                  <a:lnTo>
                    <a:pt x="28" y="0"/>
                  </a:lnTo>
                  <a:lnTo>
                    <a:pt x="0" y="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1" name=""/>
            <p:cNvGrpSpPr/>
            <p:nvPr/>
          </p:nvGrpSpPr>
          <p:grpSpPr>
            <a:xfrm>
              <a:off x="1585800" y="1828800"/>
              <a:ext cx="6378840" cy="4519440"/>
              <a:chOff x="1585800" y="1828800"/>
              <a:chExt cx="6378840" cy="4519440"/>
            </a:xfrm>
          </p:grpSpPr>
          <p:grpSp>
            <p:nvGrpSpPr>
              <p:cNvPr id="1882" name=""/>
              <p:cNvGrpSpPr/>
              <p:nvPr/>
            </p:nvGrpSpPr>
            <p:grpSpPr>
              <a:xfrm>
                <a:off x="1585800" y="2817720"/>
                <a:ext cx="2499840" cy="1111320"/>
                <a:chOff x="1585800" y="2817720"/>
                <a:chExt cx="2499840" cy="1111320"/>
              </a:xfrm>
            </p:grpSpPr>
            <p:sp>
              <p:nvSpPr>
                <p:cNvPr id="1883" name=""/>
                <p:cNvSpPr/>
                <p:nvPr/>
              </p:nvSpPr>
              <p:spPr>
                <a:xfrm>
                  <a:off x="1939680" y="2817720"/>
                  <a:ext cx="2106000" cy="319320"/>
                </a:xfrm>
                <a:custGeom>
                  <a:avLst/>
                  <a:gdLst/>
                  <a:ahLst/>
                  <a:rect l="l" t="t" r="r" b="b"/>
                  <a:pathLst>
                    <a:path w="856" h="152">
                      <a:moveTo>
                        <a:pt x="0" y="152"/>
                      </a:moveTo>
                      <a:lnTo>
                        <a:pt x="128" y="140"/>
                      </a:lnTo>
                      <a:lnTo>
                        <a:pt x="220" y="140"/>
                      </a:lnTo>
                      <a:lnTo>
                        <a:pt x="432" y="136"/>
                      </a:lnTo>
                      <a:lnTo>
                        <a:pt x="580" y="132"/>
                      </a:lnTo>
                      <a:lnTo>
                        <a:pt x="672" y="104"/>
                      </a:lnTo>
                      <a:lnTo>
                        <a:pt x="748" y="68"/>
                      </a:lnTo>
                      <a:lnTo>
                        <a:pt x="856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2211480" y="2876400"/>
                  <a:ext cx="1874160" cy="297000"/>
                </a:xfrm>
                <a:custGeom>
                  <a:avLst/>
                  <a:gdLst/>
                  <a:ahLst/>
                  <a:rect l="l" t="t" r="r" b="b"/>
                  <a:pathLst>
                    <a:path w="762" h="141">
                      <a:moveTo>
                        <a:pt x="0" y="141"/>
                      </a:moveTo>
                      <a:lnTo>
                        <a:pt x="34" y="140"/>
                      </a:lnTo>
                      <a:lnTo>
                        <a:pt x="126" y="140"/>
                      </a:lnTo>
                      <a:lnTo>
                        <a:pt x="338" y="136"/>
                      </a:lnTo>
                      <a:lnTo>
                        <a:pt x="486" y="132"/>
                      </a:lnTo>
                      <a:lnTo>
                        <a:pt x="578" y="104"/>
                      </a:lnTo>
                      <a:lnTo>
                        <a:pt x="654" y="68"/>
                      </a:lnTo>
                      <a:lnTo>
                        <a:pt x="762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1585800" y="3111480"/>
                  <a:ext cx="591480" cy="817560"/>
                </a:xfrm>
                <a:custGeom>
                  <a:avLst/>
                  <a:gdLst/>
                  <a:ahLst/>
                  <a:rect l="l" t="t" r="r" b="b"/>
                  <a:pathLst>
                    <a:path w="240" h="388">
                      <a:moveTo>
                        <a:pt x="0" y="388"/>
                      </a:moveTo>
                      <a:lnTo>
                        <a:pt x="96" y="356"/>
                      </a:lnTo>
                      <a:lnTo>
                        <a:pt x="152" y="308"/>
                      </a:lnTo>
                      <a:lnTo>
                        <a:pt x="196" y="256"/>
                      </a:lnTo>
                      <a:lnTo>
                        <a:pt x="224" y="168"/>
                      </a:lnTo>
                      <a:lnTo>
                        <a:pt x="240" y="124"/>
                      </a:lnTo>
                      <a:lnTo>
                        <a:pt x="240" y="68"/>
                      </a:lnTo>
                      <a:lnTo>
                        <a:pt x="232" y="24"/>
                      </a:lnTo>
                      <a:lnTo>
                        <a:pt x="236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1951920" y="3174840"/>
                  <a:ext cx="1702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1951920" y="3211560"/>
                  <a:ext cx="175320" cy="79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 flipV="1">
                  <a:off x="1831680" y="3678840"/>
                  <a:ext cx="205200" cy="1767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9" name=""/>
              <p:cNvGrpSpPr/>
              <p:nvPr/>
            </p:nvGrpSpPr>
            <p:grpSpPr>
              <a:xfrm>
                <a:off x="2223720" y="1828800"/>
                <a:ext cx="5740920" cy="4519440"/>
                <a:chOff x="2223720" y="1828800"/>
                <a:chExt cx="5740920" cy="4519440"/>
              </a:xfrm>
            </p:grpSpPr>
            <p:grpSp>
              <p:nvGrpSpPr>
                <p:cNvPr id="1890" name=""/>
                <p:cNvGrpSpPr/>
                <p:nvPr/>
              </p:nvGrpSpPr>
              <p:grpSpPr>
                <a:xfrm>
                  <a:off x="2223720" y="2843280"/>
                  <a:ext cx="5740920" cy="3504960"/>
                  <a:chOff x="2223720" y="2843280"/>
                  <a:chExt cx="5740920" cy="3504960"/>
                </a:xfrm>
              </p:grpSpPr>
              <p:sp>
                <p:nvSpPr>
                  <p:cNvPr id="1891" name=""/>
                  <p:cNvSpPr/>
                  <p:nvPr/>
                </p:nvSpPr>
                <p:spPr>
                  <a:xfrm>
                    <a:off x="6606360" y="3011400"/>
                    <a:ext cx="1358280" cy="19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932">
                        <a:moveTo>
                          <a:pt x="220" y="932"/>
                        </a:moveTo>
                        <a:lnTo>
                          <a:pt x="412" y="876"/>
                        </a:lnTo>
                        <a:lnTo>
                          <a:pt x="552" y="816"/>
                        </a:lnTo>
                        <a:lnTo>
                          <a:pt x="416" y="620"/>
                        </a:lnTo>
                        <a:lnTo>
                          <a:pt x="420" y="560"/>
                        </a:lnTo>
                        <a:lnTo>
                          <a:pt x="460" y="496"/>
                        </a:lnTo>
                        <a:lnTo>
                          <a:pt x="300" y="384"/>
                        </a:lnTo>
                        <a:lnTo>
                          <a:pt x="172" y="24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2" name=""/>
                  <p:cNvSpPr/>
                  <p:nvPr/>
                </p:nvSpPr>
                <p:spPr>
                  <a:xfrm>
                    <a:off x="7370640" y="3840480"/>
                    <a:ext cx="294120" cy="1677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93" name=""/>
                  <p:cNvGrpSpPr/>
                  <p:nvPr/>
                </p:nvGrpSpPr>
                <p:grpSpPr>
                  <a:xfrm>
                    <a:off x="2223720" y="2843280"/>
                    <a:ext cx="5484240" cy="3504960"/>
                    <a:chOff x="2223720" y="2843280"/>
                    <a:chExt cx="5484240" cy="3504960"/>
                  </a:xfrm>
                </p:grpSpPr>
                <p:sp>
                  <p:nvSpPr>
                    <p:cNvPr id="1894" name=""/>
                    <p:cNvSpPr/>
                    <p:nvPr/>
                  </p:nvSpPr>
                  <p:spPr>
                    <a:xfrm>
                      <a:off x="7491600" y="5792760"/>
                      <a:ext cx="89280" cy="55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64">
                          <a:moveTo>
                            <a:pt x="11" y="264"/>
                          </a:moveTo>
                          <a:lnTo>
                            <a:pt x="0" y="152"/>
                          </a:lnTo>
                          <a:lnTo>
                            <a:pt x="8" y="84"/>
                          </a:lnTo>
                          <a:lnTo>
                            <a:pt x="36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5" name=""/>
                    <p:cNvSpPr/>
                    <p:nvPr/>
                  </p:nvSpPr>
                  <p:spPr>
                    <a:xfrm flipV="1">
                      <a:off x="7480800" y="5870880"/>
                      <a:ext cx="59400" cy="3099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96" name=""/>
                    <p:cNvGrpSpPr/>
                    <p:nvPr/>
                  </p:nvGrpSpPr>
                  <p:grpSpPr>
                    <a:xfrm>
                      <a:off x="2223720" y="2843280"/>
                      <a:ext cx="5484240" cy="3160440"/>
                      <a:chOff x="2223720" y="2843280"/>
                      <a:chExt cx="5484240" cy="3160440"/>
                    </a:xfrm>
                  </p:grpSpPr>
                  <p:sp>
                    <p:nvSpPr>
                      <p:cNvPr id="1897" name=""/>
                      <p:cNvSpPr/>
                      <p:nvPr/>
                    </p:nvSpPr>
                    <p:spPr>
                      <a:xfrm>
                        <a:off x="2223720" y="3168720"/>
                        <a:ext cx="5484240" cy="264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90" h="1669">
                            <a:moveTo>
                              <a:pt x="0" y="28"/>
                            </a:moveTo>
                            <a:lnTo>
                              <a:pt x="385" y="23"/>
                            </a:lnTo>
                            <a:lnTo>
                              <a:pt x="1187" y="0"/>
                            </a:lnTo>
                            <a:lnTo>
                              <a:pt x="1942" y="395"/>
                            </a:lnTo>
                            <a:lnTo>
                              <a:pt x="2749" y="1064"/>
                            </a:lnTo>
                            <a:lnTo>
                              <a:pt x="3161" y="1520"/>
                            </a:lnTo>
                            <a:lnTo>
                              <a:pt x="3190" y="1669"/>
                            </a:lnTo>
                            <a:lnTo>
                              <a:pt x="3150" y="1669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8" name=""/>
                      <p:cNvSpPr/>
                      <p:nvPr/>
                    </p:nvSpPr>
                    <p:spPr>
                      <a:xfrm>
                        <a:off x="3064320" y="2843280"/>
                        <a:ext cx="1060560" cy="9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1" h="454">
                            <a:moveTo>
                              <a:pt x="0" y="454"/>
                            </a:moveTo>
                            <a:lnTo>
                              <a:pt x="19" y="416"/>
                            </a:lnTo>
                            <a:lnTo>
                              <a:pt x="47" y="352"/>
                            </a:lnTo>
                            <a:lnTo>
                              <a:pt x="107" y="308"/>
                            </a:lnTo>
                            <a:lnTo>
                              <a:pt x="175" y="280"/>
                            </a:lnTo>
                            <a:lnTo>
                              <a:pt x="235" y="244"/>
                            </a:lnTo>
                            <a:lnTo>
                              <a:pt x="327" y="216"/>
                            </a:lnTo>
                            <a:lnTo>
                              <a:pt x="391" y="112"/>
                            </a:lnTo>
                            <a:lnTo>
                              <a:pt x="431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9" name=""/>
                      <p:cNvSpPr/>
                      <p:nvPr/>
                    </p:nvSpPr>
                    <p:spPr>
                      <a:xfrm>
                        <a:off x="4489560" y="4916520"/>
                        <a:ext cx="3035880" cy="100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4" h="476">
                            <a:moveTo>
                              <a:pt x="0" y="0"/>
                            </a:moveTo>
                            <a:lnTo>
                              <a:pt x="84" y="16"/>
                            </a:lnTo>
                            <a:lnTo>
                              <a:pt x="248" y="120"/>
                            </a:lnTo>
                            <a:lnTo>
                              <a:pt x="296" y="248"/>
                            </a:lnTo>
                            <a:lnTo>
                              <a:pt x="536" y="456"/>
                            </a:lnTo>
                            <a:lnTo>
                              <a:pt x="708" y="476"/>
                            </a:lnTo>
                            <a:lnTo>
                              <a:pt x="1189" y="439"/>
                            </a:lnTo>
                            <a:lnTo>
                              <a:pt x="1234" y="397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0" name=""/>
                      <p:cNvSpPr/>
                      <p:nvPr/>
                    </p:nvSpPr>
                    <p:spPr>
                      <a:xfrm>
                        <a:off x="5287320" y="5770440"/>
                        <a:ext cx="2281320" cy="231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27" h="110">
                            <a:moveTo>
                              <a:pt x="0" y="110"/>
                            </a:moveTo>
                            <a:lnTo>
                              <a:pt x="136" y="102"/>
                            </a:lnTo>
                            <a:lnTo>
                              <a:pt x="228" y="102"/>
                            </a:lnTo>
                            <a:lnTo>
                              <a:pt x="403" y="94"/>
                            </a:lnTo>
                            <a:lnTo>
                              <a:pt x="580" y="82"/>
                            </a:lnTo>
                            <a:lnTo>
                              <a:pt x="687" y="75"/>
                            </a:lnTo>
                            <a:lnTo>
                              <a:pt x="877" y="57"/>
                            </a:lnTo>
                            <a:lnTo>
                              <a:pt x="927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1" name=""/>
                      <p:cNvSpPr/>
                      <p:nvPr/>
                    </p:nvSpPr>
                    <p:spPr>
                      <a:xfrm>
                        <a:off x="4114440" y="2851200"/>
                        <a:ext cx="532800" cy="2014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" h="956">
                            <a:moveTo>
                              <a:pt x="124" y="956"/>
                            </a:moveTo>
                            <a:lnTo>
                              <a:pt x="216" y="704"/>
                            </a:lnTo>
                            <a:lnTo>
                              <a:pt x="212" y="564"/>
                            </a:lnTo>
                            <a:lnTo>
                              <a:pt x="136" y="476"/>
                            </a:lnTo>
                            <a:lnTo>
                              <a:pt x="52" y="392"/>
                            </a:lnTo>
                            <a:lnTo>
                              <a:pt x="12" y="340"/>
                            </a:lnTo>
                            <a:lnTo>
                              <a:pt x="0" y="272"/>
                            </a:lnTo>
                            <a:lnTo>
                              <a:pt x="0" y="156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2" name=""/>
                      <p:cNvSpPr/>
                      <p:nvPr/>
                    </p:nvSpPr>
                    <p:spPr>
                      <a:xfrm flipV="1">
                        <a:off x="4479120" y="4426200"/>
                        <a:ext cx="120600" cy="2916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3" name=""/>
                      <p:cNvSpPr/>
                      <p:nvPr/>
                    </p:nvSpPr>
                    <p:spPr>
                      <a:xfrm>
                        <a:off x="4742640" y="4970160"/>
                        <a:ext cx="294480" cy="1674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4" name=""/>
                      <p:cNvSpPr/>
                      <p:nvPr/>
                    </p:nvSpPr>
                    <p:spPr>
                      <a:xfrm flipV="1">
                        <a:off x="5498640" y="5972040"/>
                        <a:ext cx="337320" cy="316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5" name=""/>
                      <p:cNvSpPr/>
                      <p:nvPr/>
                    </p:nvSpPr>
                    <p:spPr>
                      <a:xfrm>
                        <a:off x="5680080" y="3896640"/>
                        <a:ext cx="276840" cy="19512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6" name=""/>
                      <p:cNvSpPr/>
                      <p:nvPr/>
                    </p:nvSpPr>
                    <p:spPr>
                      <a:xfrm flipH="1" flipV="1">
                        <a:off x="4291560" y="3713040"/>
                        <a:ext cx="247320" cy="2314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7" name=""/>
                      <p:cNvSpPr/>
                      <p:nvPr/>
                    </p:nvSpPr>
                    <p:spPr>
                      <a:xfrm flipV="1">
                        <a:off x="3001320" y="3195720"/>
                        <a:ext cx="338760" cy="90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8" name=""/>
                      <p:cNvSpPr/>
                      <p:nvPr/>
                    </p:nvSpPr>
                    <p:spPr>
                      <a:xfrm flipV="1">
                        <a:off x="3373200" y="3341520"/>
                        <a:ext cx="297000" cy="1620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09" name=""/>
                <p:cNvGrpSpPr/>
                <p:nvPr/>
              </p:nvGrpSpPr>
              <p:grpSpPr>
                <a:xfrm>
                  <a:off x="3380760" y="1828800"/>
                  <a:ext cx="4386240" cy="4013280"/>
                  <a:chOff x="3380760" y="1828800"/>
                  <a:chExt cx="4386240" cy="4013280"/>
                </a:xfrm>
              </p:grpSpPr>
              <p:sp>
                <p:nvSpPr>
                  <p:cNvPr id="1910" name=""/>
                  <p:cNvSpPr/>
                  <p:nvPr/>
                </p:nvSpPr>
                <p:spPr>
                  <a:xfrm>
                    <a:off x="3384000" y="1828800"/>
                    <a:ext cx="622440" cy="135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852">
                        <a:moveTo>
                          <a:pt x="0" y="852"/>
                        </a:moveTo>
                        <a:lnTo>
                          <a:pt x="2" y="660"/>
                        </a:lnTo>
                        <a:lnTo>
                          <a:pt x="56" y="555"/>
                        </a:lnTo>
                        <a:lnTo>
                          <a:pt x="95" y="432"/>
                        </a:lnTo>
                        <a:lnTo>
                          <a:pt x="167" y="285"/>
                        </a:lnTo>
                        <a:lnTo>
                          <a:pt x="236" y="204"/>
                        </a:lnTo>
                        <a:lnTo>
                          <a:pt x="362" y="0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>
                    <a:off x="6596280" y="4191120"/>
                    <a:ext cx="1170720" cy="165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76" h="784">
                        <a:moveTo>
                          <a:pt x="404" y="784"/>
                        </a:moveTo>
                        <a:lnTo>
                          <a:pt x="476" y="784"/>
                        </a:lnTo>
                        <a:lnTo>
                          <a:pt x="456" y="664"/>
                        </a:lnTo>
                        <a:lnTo>
                          <a:pt x="204" y="360"/>
                        </a:lnTo>
                        <a:lnTo>
                          <a:pt x="144" y="252"/>
                        </a:lnTo>
                        <a:lnTo>
                          <a:pt x="88" y="192"/>
                        </a:lnTo>
                        <a:lnTo>
                          <a:pt x="52" y="128"/>
                        </a:lnTo>
                        <a:lnTo>
                          <a:pt x="32" y="6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 flipH="1">
                    <a:off x="3380760" y="2717280"/>
                    <a:ext cx="94320" cy="169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>
                    <a:off x="6732000" y="4445640"/>
                    <a:ext cx="77040" cy="178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 spd="slow">
    <p:strips dir="r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4" name="" descr=""/>
          <p:cNvPicPr/>
          <p:nvPr/>
        </p:nvPicPr>
        <p:blipFill>
          <a:blip r:embed="rId1"/>
          <a:srcRect l="29582" t="0" r="11808" b="17170"/>
          <a:stretch/>
        </p:blipFill>
        <p:spPr>
          <a:xfrm>
            <a:off x="660240" y="971640"/>
            <a:ext cx="8310600" cy="5772240"/>
          </a:xfrm>
          <a:prstGeom prst="rect">
            <a:avLst/>
          </a:prstGeom>
          <a:ln w="0">
            <a:noFill/>
          </a:ln>
        </p:spPr>
      </p:pic>
      <p:sp>
        <p:nvSpPr>
          <p:cNvPr id="1915" name=""/>
          <p:cNvSpPr/>
          <p:nvPr/>
        </p:nvSpPr>
        <p:spPr>
          <a:xfrm>
            <a:off x="7000920" y="4965840"/>
            <a:ext cx="147600" cy="68040"/>
          </a:xfrm>
          <a:custGeom>
            <a:avLst/>
            <a:gdLst/>
            <a:ahLst/>
            <a:rect l="l" t="t" r="r" b="b"/>
            <a:pathLst>
              <a:path w="60" h="32">
                <a:moveTo>
                  <a:pt x="0" y="32"/>
                </a:moveTo>
                <a:lnTo>
                  <a:pt x="60" y="0"/>
                </a:lnTo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2320" bIns="223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097760" y="4950000"/>
            <a:ext cx="65160" cy="56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764240" y="284328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4375080" y="2733840"/>
            <a:ext cx="189000" cy="11880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324680" y="267336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120760" y="3089160"/>
            <a:ext cx="65160" cy="572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flipV="1">
            <a:off x="6400800" y="4118040"/>
            <a:ext cx="157320" cy="47520"/>
          </a:xfrm>
          <a:custGeom>
            <a:avLst/>
            <a:gdLst/>
            <a:ahLst/>
            <a:rect l="l" t="t" r="r" b="b"/>
            <a:pathLst>
              <a:path w="60" h="68">
                <a:moveTo>
                  <a:pt x="0" y="68"/>
                </a:moveTo>
                <a:lnTo>
                  <a:pt x="6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6942240" y="4863960"/>
            <a:ext cx="109440" cy="152640"/>
          </a:xfrm>
          <a:custGeom>
            <a:avLst/>
            <a:gdLst/>
            <a:ahLst/>
            <a:rect l="l" t="t" r="r" b="b"/>
            <a:pathLst>
              <a:path w="44" h="72">
                <a:moveTo>
                  <a:pt x="0" y="72"/>
                </a:moveTo>
                <a:lnTo>
                  <a:pt x="44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6351480" y="3035160"/>
            <a:ext cx="462240" cy="1230480"/>
          </a:xfrm>
          <a:custGeom>
            <a:avLst/>
            <a:gdLst/>
            <a:ahLst/>
            <a:rect l="l" t="t" r="r" b="b"/>
            <a:pathLst>
              <a:path w="188" h="584">
                <a:moveTo>
                  <a:pt x="104" y="0"/>
                </a:moveTo>
                <a:lnTo>
                  <a:pt x="188" y="168"/>
                </a:lnTo>
                <a:lnTo>
                  <a:pt x="112" y="280"/>
                </a:lnTo>
                <a:lnTo>
                  <a:pt x="92" y="424"/>
                </a:lnTo>
                <a:lnTo>
                  <a:pt x="0" y="584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4340160" y="3149640"/>
            <a:ext cx="3390840" cy="2633760"/>
          </a:xfrm>
          <a:custGeom>
            <a:avLst/>
            <a:gdLst/>
            <a:ahLst/>
            <a:rect l="l" t="t" r="r" b="b"/>
            <a:pathLst>
              <a:path w="1971" h="1659">
                <a:moveTo>
                  <a:pt x="0" y="0"/>
                </a:moveTo>
                <a:lnTo>
                  <a:pt x="724" y="368"/>
                </a:lnTo>
                <a:lnTo>
                  <a:pt x="1169" y="709"/>
                </a:lnTo>
                <a:lnTo>
                  <a:pt x="1352" y="884"/>
                </a:lnTo>
                <a:lnTo>
                  <a:pt x="1690" y="1181"/>
                </a:lnTo>
                <a:lnTo>
                  <a:pt x="1931" y="1457"/>
                </a:lnTo>
                <a:lnTo>
                  <a:pt x="1971" y="1659"/>
                </a:lnTo>
                <a:lnTo>
                  <a:pt x="1925" y="1659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575760" y="368136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4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200200" y="33638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577800" y="6095880"/>
            <a:ext cx="1733760" cy="45900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Emb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erros Colo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155600" y="2133720"/>
            <a:ext cx="114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unidad Paynem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842240" y="5181480"/>
            <a:ext cx="133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unidad Kaxipayi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155600" y="2362320"/>
            <a:ext cx="1568520" cy="2286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0" y="144"/>
                </a:moveTo>
                <a:lnTo>
                  <a:pt x="672" y="144"/>
                </a:lnTo>
                <a:lnTo>
                  <a:pt x="91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 flipH="1">
            <a:off x="7759080" y="5334120"/>
            <a:ext cx="1485720" cy="30456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0" y="144"/>
                </a:moveTo>
                <a:lnTo>
                  <a:pt x="672" y="144"/>
                </a:lnTo>
                <a:lnTo>
                  <a:pt x="91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622760" y="2133720"/>
            <a:ext cx="1932120" cy="860400"/>
          </a:xfrm>
          <a:custGeom>
            <a:avLst/>
            <a:gdLst/>
            <a:ahLst/>
            <a:rect l="l" t="t" r="r" b="b"/>
            <a:pathLst>
              <a:path w="784" h="408">
                <a:moveTo>
                  <a:pt x="0" y="0"/>
                </a:moveTo>
                <a:lnTo>
                  <a:pt x="68" y="48"/>
                </a:lnTo>
                <a:lnTo>
                  <a:pt x="344" y="144"/>
                </a:lnTo>
                <a:lnTo>
                  <a:pt x="572" y="296"/>
                </a:lnTo>
                <a:lnTo>
                  <a:pt x="784" y="408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097240" y="20304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3397320" y="1216080"/>
            <a:ext cx="1122120" cy="909720"/>
          </a:xfrm>
          <a:custGeom>
            <a:avLst/>
            <a:gdLst/>
            <a:ahLst/>
            <a:rect l="l" t="t" r="r" b="b"/>
            <a:pathLst>
              <a:path w="456" h="432">
                <a:moveTo>
                  <a:pt x="8" y="0"/>
                </a:moveTo>
                <a:lnTo>
                  <a:pt x="0" y="80"/>
                </a:lnTo>
                <a:lnTo>
                  <a:pt x="8" y="88"/>
                </a:lnTo>
                <a:lnTo>
                  <a:pt x="16" y="104"/>
                </a:lnTo>
                <a:lnTo>
                  <a:pt x="56" y="168"/>
                </a:lnTo>
                <a:lnTo>
                  <a:pt x="120" y="232"/>
                </a:lnTo>
                <a:lnTo>
                  <a:pt x="272" y="296"/>
                </a:lnTo>
                <a:lnTo>
                  <a:pt x="368" y="368"/>
                </a:lnTo>
                <a:lnTo>
                  <a:pt x="456" y="43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4146480" y="2825640"/>
            <a:ext cx="270000" cy="58680"/>
          </a:xfrm>
          <a:custGeom>
            <a:avLst/>
            <a:gdLst/>
            <a:ahLst/>
            <a:rect l="l" t="t" r="r" b="b"/>
            <a:pathLst>
              <a:path w="110" h="28">
                <a:moveTo>
                  <a:pt x="0" y="15"/>
                </a:moveTo>
                <a:lnTo>
                  <a:pt x="33" y="28"/>
                </a:lnTo>
                <a:lnTo>
                  <a:pt x="65" y="18"/>
                </a:lnTo>
                <a:lnTo>
                  <a:pt x="11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2960" bIns="12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106880" y="3124080"/>
            <a:ext cx="144360" cy="12960"/>
          </a:xfrm>
          <a:custGeom>
            <a:avLst/>
            <a:gdLst/>
            <a:ahLst/>
            <a:rect l="l" t="t" r="r" b="b"/>
            <a:pathLst>
              <a:path w="84" h="8">
                <a:moveTo>
                  <a:pt x="84" y="4"/>
                </a:moveTo>
                <a:lnTo>
                  <a:pt x="52" y="0"/>
                </a:lnTo>
                <a:lnTo>
                  <a:pt x="28" y="0"/>
                </a:lnTo>
                <a:lnTo>
                  <a:pt x="0" y="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2760" bIns="-32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1585800" y="2817720"/>
            <a:ext cx="2500200" cy="1111320"/>
            <a:chOff x="1585800" y="2817720"/>
            <a:chExt cx="2500200" cy="1111320"/>
          </a:xfrm>
        </p:grpSpPr>
        <p:sp>
          <p:nvSpPr>
            <p:cNvPr id="1938" name=""/>
            <p:cNvSpPr/>
            <p:nvPr/>
          </p:nvSpPr>
          <p:spPr>
            <a:xfrm>
              <a:off x="1939680" y="2817720"/>
              <a:ext cx="2106360" cy="319320"/>
            </a:xfrm>
            <a:custGeom>
              <a:avLst/>
              <a:gdLst/>
              <a:ahLst/>
              <a:rect l="l" t="t" r="r" b="b"/>
              <a:pathLst>
                <a:path w="856" h="152">
                  <a:moveTo>
                    <a:pt x="0" y="152"/>
                  </a:moveTo>
                  <a:lnTo>
                    <a:pt x="128" y="140"/>
                  </a:lnTo>
                  <a:lnTo>
                    <a:pt x="220" y="140"/>
                  </a:lnTo>
                  <a:lnTo>
                    <a:pt x="432" y="136"/>
                  </a:lnTo>
                  <a:lnTo>
                    <a:pt x="580" y="132"/>
                  </a:lnTo>
                  <a:lnTo>
                    <a:pt x="672" y="104"/>
                  </a:lnTo>
                  <a:lnTo>
                    <a:pt x="748" y="68"/>
                  </a:lnTo>
                  <a:lnTo>
                    <a:pt x="856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211480" y="2876400"/>
              <a:ext cx="1874520" cy="297000"/>
            </a:xfrm>
            <a:custGeom>
              <a:avLst/>
              <a:gdLst/>
              <a:ahLst/>
              <a:rect l="l" t="t" r="r" b="b"/>
              <a:pathLst>
                <a:path w="762" h="141">
                  <a:moveTo>
                    <a:pt x="0" y="141"/>
                  </a:moveTo>
                  <a:lnTo>
                    <a:pt x="34" y="140"/>
                  </a:lnTo>
                  <a:lnTo>
                    <a:pt x="126" y="140"/>
                  </a:lnTo>
                  <a:lnTo>
                    <a:pt x="338" y="136"/>
                  </a:lnTo>
                  <a:lnTo>
                    <a:pt x="486" y="132"/>
                  </a:lnTo>
                  <a:lnTo>
                    <a:pt x="578" y="104"/>
                  </a:lnTo>
                  <a:lnTo>
                    <a:pt x="654" y="68"/>
                  </a:lnTo>
                  <a:lnTo>
                    <a:pt x="76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585800" y="3111480"/>
              <a:ext cx="591480" cy="817560"/>
            </a:xfrm>
            <a:custGeom>
              <a:avLst/>
              <a:gdLst/>
              <a:ahLst/>
              <a:rect l="l" t="t" r="r" b="b"/>
              <a:pathLst>
                <a:path w="240" h="388">
                  <a:moveTo>
                    <a:pt x="0" y="388"/>
                  </a:moveTo>
                  <a:lnTo>
                    <a:pt x="96" y="356"/>
                  </a:lnTo>
                  <a:lnTo>
                    <a:pt x="152" y="308"/>
                  </a:lnTo>
                  <a:lnTo>
                    <a:pt x="196" y="256"/>
                  </a:lnTo>
                  <a:lnTo>
                    <a:pt x="224" y="168"/>
                  </a:lnTo>
                  <a:lnTo>
                    <a:pt x="240" y="124"/>
                  </a:lnTo>
                  <a:lnTo>
                    <a:pt x="240" y="68"/>
                  </a:lnTo>
                  <a:lnTo>
                    <a:pt x="232" y="24"/>
                  </a:lnTo>
                  <a:lnTo>
                    <a:pt x="236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951920" y="3174840"/>
              <a:ext cx="170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951920" y="3211560"/>
              <a:ext cx="175320" cy="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V="1">
              <a:off x="1831680" y="3678840"/>
              <a:ext cx="205200" cy="176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4" name=""/>
          <p:cNvSpPr/>
          <p:nvPr/>
        </p:nvSpPr>
        <p:spPr>
          <a:xfrm>
            <a:off x="7493040" y="5792760"/>
            <a:ext cx="88920" cy="555480"/>
          </a:xfrm>
          <a:custGeom>
            <a:avLst/>
            <a:gdLst/>
            <a:ahLst/>
            <a:rect l="l" t="t" r="r" b="b"/>
            <a:pathLst>
              <a:path w="36" h="264">
                <a:moveTo>
                  <a:pt x="11" y="264"/>
                </a:moveTo>
                <a:lnTo>
                  <a:pt x="0" y="152"/>
                </a:lnTo>
                <a:lnTo>
                  <a:pt x="8" y="84"/>
                </a:lnTo>
                <a:lnTo>
                  <a:pt x="36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V="1">
            <a:off x="7482240" y="5870880"/>
            <a:ext cx="59400" cy="309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24080" y="3168720"/>
            <a:ext cx="2162160" cy="44280"/>
          </a:xfrm>
          <a:custGeom>
            <a:avLst/>
            <a:gdLst/>
            <a:ahLst/>
            <a:rect l="l" t="t" r="r" b="b"/>
            <a:pathLst>
              <a:path w="1257" h="28">
                <a:moveTo>
                  <a:pt x="0" y="28"/>
                </a:moveTo>
                <a:lnTo>
                  <a:pt x="385" y="23"/>
                </a:lnTo>
                <a:lnTo>
                  <a:pt x="1187" y="0"/>
                </a:lnTo>
                <a:lnTo>
                  <a:pt x="1257" y="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440" bIns="-1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065400" y="2843280"/>
            <a:ext cx="1060560" cy="955440"/>
          </a:xfrm>
          <a:custGeom>
            <a:avLst/>
            <a:gdLst/>
            <a:ahLst/>
            <a:rect l="l" t="t" r="r" b="b"/>
            <a:pathLst>
              <a:path w="431" h="454">
                <a:moveTo>
                  <a:pt x="0" y="454"/>
                </a:moveTo>
                <a:lnTo>
                  <a:pt x="19" y="416"/>
                </a:lnTo>
                <a:lnTo>
                  <a:pt x="47" y="352"/>
                </a:lnTo>
                <a:lnTo>
                  <a:pt x="107" y="308"/>
                </a:lnTo>
                <a:lnTo>
                  <a:pt x="175" y="280"/>
                </a:lnTo>
                <a:lnTo>
                  <a:pt x="235" y="244"/>
                </a:lnTo>
                <a:lnTo>
                  <a:pt x="327" y="216"/>
                </a:lnTo>
                <a:lnTo>
                  <a:pt x="391" y="112"/>
                </a:lnTo>
                <a:lnTo>
                  <a:pt x="431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491000" y="4916520"/>
            <a:ext cx="3036960" cy="1001520"/>
          </a:xfrm>
          <a:custGeom>
            <a:avLst/>
            <a:gdLst/>
            <a:ahLst/>
            <a:rect l="l" t="t" r="r" b="b"/>
            <a:pathLst>
              <a:path w="1234" h="476">
                <a:moveTo>
                  <a:pt x="0" y="0"/>
                </a:moveTo>
                <a:lnTo>
                  <a:pt x="84" y="16"/>
                </a:lnTo>
                <a:lnTo>
                  <a:pt x="248" y="120"/>
                </a:lnTo>
                <a:lnTo>
                  <a:pt x="296" y="248"/>
                </a:lnTo>
                <a:lnTo>
                  <a:pt x="536" y="456"/>
                </a:lnTo>
                <a:lnTo>
                  <a:pt x="708" y="476"/>
                </a:lnTo>
                <a:lnTo>
                  <a:pt x="1189" y="439"/>
                </a:lnTo>
                <a:lnTo>
                  <a:pt x="1234" y="39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5288040" y="5770440"/>
            <a:ext cx="2282760" cy="231840"/>
          </a:xfrm>
          <a:custGeom>
            <a:avLst/>
            <a:gdLst/>
            <a:ahLst/>
            <a:rect l="l" t="t" r="r" b="b"/>
            <a:pathLst>
              <a:path w="927" h="110">
                <a:moveTo>
                  <a:pt x="0" y="110"/>
                </a:moveTo>
                <a:lnTo>
                  <a:pt x="136" y="102"/>
                </a:lnTo>
                <a:lnTo>
                  <a:pt x="228" y="102"/>
                </a:lnTo>
                <a:lnTo>
                  <a:pt x="403" y="94"/>
                </a:lnTo>
                <a:lnTo>
                  <a:pt x="580" y="82"/>
                </a:lnTo>
                <a:lnTo>
                  <a:pt x="687" y="75"/>
                </a:lnTo>
                <a:lnTo>
                  <a:pt x="877" y="57"/>
                </a:lnTo>
                <a:lnTo>
                  <a:pt x="927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4114800" y="2851200"/>
            <a:ext cx="533520" cy="2014560"/>
          </a:xfrm>
          <a:custGeom>
            <a:avLst/>
            <a:gdLst/>
            <a:ahLst/>
            <a:rect l="l" t="t" r="r" b="b"/>
            <a:pathLst>
              <a:path w="216" h="956">
                <a:moveTo>
                  <a:pt x="124" y="956"/>
                </a:moveTo>
                <a:lnTo>
                  <a:pt x="216" y="704"/>
                </a:lnTo>
                <a:lnTo>
                  <a:pt x="212" y="564"/>
                </a:lnTo>
                <a:lnTo>
                  <a:pt x="136" y="476"/>
                </a:lnTo>
                <a:lnTo>
                  <a:pt x="52" y="392"/>
                </a:lnTo>
                <a:lnTo>
                  <a:pt x="12" y="340"/>
                </a:lnTo>
                <a:lnTo>
                  <a:pt x="0" y="272"/>
                </a:lnTo>
                <a:lnTo>
                  <a:pt x="0" y="1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4479840" y="4426200"/>
            <a:ext cx="120600" cy="2916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743720" y="4970160"/>
            <a:ext cx="294480" cy="167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 flipV="1">
            <a:off x="5500440" y="5972040"/>
            <a:ext cx="337320" cy="31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H="1" flipV="1">
            <a:off x="4292280" y="3713040"/>
            <a:ext cx="247320" cy="231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flipV="1">
            <a:off x="3002400" y="3195720"/>
            <a:ext cx="338760" cy="9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flipV="1">
            <a:off x="3374280" y="3341520"/>
            <a:ext cx="297360" cy="16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193680" y="179280"/>
            <a:ext cx="7099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Black"/>
              </a:rPr>
              <a:t>Gasoductos de Cap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 Black"/>
              </a:rPr>
              <a:t>Aspectos Técnicos Gasoductos de Captación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Poseen protección catódica con corriente impresa, con registro de relevamiento de potenciales.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Poseen inyección de inhibidor de corrosión.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Poseen lanzadera y receptora de scrappers (finaliza montaje en 2005 / 6, excepto gasoductos de BP).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Se trabaja en un programa de pasaje de scrapper instrumentado en el marco de la aplicación de un Plan de Integridad de Ductos (en base al Código ASME B.31.8 S).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13:12:12Z</dcterms:created>
  <dc:creator>Adriana ARAUJO</dc:creator>
  <dc:description/>
  <dc:language>en-US</dc:language>
  <cp:lastModifiedBy>yadm3167</cp:lastModifiedBy>
  <dcterms:modified xsi:type="dcterms:W3CDTF">2005-12-20T20:07:56Z</dcterms:modified>
  <cp:revision>285</cp:revision>
  <dc:subject>Institucional Loma La Lata</dc:subject>
  <dc:title>Institucional Loma La Lata</dc:title>
</cp:coreProperties>
</file>