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C20-F773-4369-8BEB-BB5A3D02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E71-97BA-4F25-9456-E447DD55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2B7-F794-48C3-904F-185713F0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D3A-5AF8-450A-BAB7-CA266D42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3536-9F9A-48EF-BC1D-9B0136B3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AD6A-23E1-4E54-9F5E-29644000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149E-A8F8-4D2B-96F8-A4658EC5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ABA7-190A-4BCB-837D-40567ED6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BDE3-04D5-4BEC-B231-CD56DC2A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D7D1-C7BF-482E-9D7C-BC7FF4CB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E313-235D-433F-ACA8-0706F223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18C-AE13-4A31-975B-F4C7B815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DF6F-F905-4C03-8693-6A6791A8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6DEC-BDDE-46AB-AD2E-DAE2F970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3CF0-9C1B-4F9E-BD42-7B54AC86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46E2-B403-45ED-B62B-B2BA355D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216E-C75B-48B9-BCD9-2623E669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C9E-52E7-467B-B8EC-02CC4A7E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656-681C-442A-AA8C-733D3AAE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27D-D455-4DD2-BC82-F561C9BC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DA5-C555-4A27-A4B9-D7784386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D5B-2A25-458E-91E2-3DC5CA23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2CB-7AA5-469D-8B26-EB83C511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658-915E-474A-809B-CCD7CF46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4BA3-7FAF-4692-ACE8-FA7A388C456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F8BE-AD9B-4A64-B6A7-388A551C31D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557000"/>
            <a:ext cx="719928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Yacimiento  Catriel Oeste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92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Catriel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Pcia. de Rio N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4581360"/>
            <a:ext cx="59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:  CIC Sucursal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Yacimiento CATRIEL OES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ducción media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230 m3/d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6600"/>
                </a:solidFill>
                <a:latin typeface="Arial"/>
              </a:rPr>
              <a:t>Punto de Transferencia: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epción crudo por Repsol YPF a través de Unidad LACT (ubicada en el límite de la Planta de Tratamiento Catriel Oeste con la Playa de Tratamiento y Recepción de Crudo de Repsol YPF Catriel Oe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ransporte de Catriel Oeste a Medanito lo realiza Repsol YPF, siendo entregado en ese punto a Old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ldelval se encarga de su transporte a Puerto Ro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6:37:33Z</dcterms:created>
  <dc:creator>xsundblad</dc:creator>
  <dc:description/>
  <dc:language>en-US</dc:language>
  <cp:lastModifiedBy>xsundblad</cp:lastModifiedBy>
  <dcterms:modified xsi:type="dcterms:W3CDTF">2005-12-29T12:31:43Z</dcterms:modified>
  <cp:revision>10</cp:revision>
  <dc:subject/>
  <dc:title>Yacimiento  KM 8</dc:title>
</cp:coreProperties>
</file>