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7D5-95CC-4B55-B866-05A731A0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622-B179-4B22-8774-113122A5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45D-F1D7-40F7-8573-F11BB9F3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4F89-EF50-4570-9B7B-E7DA383C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4C39-3FDD-47EA-AC37-5A3FB08A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467C-7A85-4E60-8A17-FFDF6762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3BA9-11B9-4F35-B717-6738656E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CAE8-D052-4BDA-9903-3DED43B8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C737-615B-4D26-B83F-748A6E0C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C48C-F5A2-4DFB-AD02-3C37B3F4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915C-C92B-47FC-AFB1-DD04E810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02A-CE4D-4359-B893-E017291A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0B4B-026B-45A5-ACB6-576A325F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3C76-31BB-4DAF-A2F2-FB2B15CC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0578-C01F-46E0-88B3-C0399554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C745-84FB-4839-84CE-2660FAC1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2C58-2F8F-438D-85C5-0E07EF37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C35B-8353-4E7C-930B-8F0CB9BD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327-C8C8-4DD8-94AF-197D0B0A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457C-8EF3-4D47-991B-923FFC8F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934-9930-4A33-A8B3-877F09C8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711-1FF3-4C04-A446-497DC663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5B0-E67A-4CE8-8940-43BF4358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06C-8DE4-4DAA-9F4A-9EA5EDC3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9272-5C30-487D-8242-92A46F1199D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D246-20B3-4CB3-B56C-428B2E29E8E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1557000"/>
            <a:ext cx="719928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Yacimiento  Catriel Oeste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4292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Catriel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Pcia. de Rio Neg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4000" y="4581360"/>
            <a:ext cx="590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dor:  CIC Sucursal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Yacimiento CATRIEL OES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ducción media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230 m3/d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6600"/>
                </a:solidFill>
                <a:latin typeface="Arial"/>
              </a:rPr>
              <a:t>Punto de Transferencia: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epción crudo por Repsol YPF a través de Unidad LACT (ubicada en el límite de la Planta de Tratamiento Catriel Oeste con la Playa de Tratamiento y Recepción de Crudo de Repsol YPF Catriel Oes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transporte de Catriel Oeste a Medanito lo realiza Repsol YPF, siendo entregado en ese punto a Old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ldelval se encarga de su transporte a Puerto Ros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16:37:33Z</dcterms:created>
  <dc:creator>xsundblad</dc:creator>
  <dc:description/>
  <dc:language>en-US</dc:language>
  <cp:lastModifiedBy>xsundblad</cp:lastModifiedBy>
  <dcterms:modified xsi:type="dcterms:W3CDTF">2005-12-29T12:31:43Z</dcterms:modified>
  <cp:revision>10</cp:revision>
  <dc:subject/>
  <dc:title>Yacimiento  KM 8</dc:title>
</cp:coreProperties>
</file>